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108D-B465-478E-954B-3530596CCF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алентность и степень окис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тор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лев Илья ученик 11МИ класса МОУ лицея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робот Светлана Сергеевна, учитель химии МОУ лицея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E23E-B79A-430E-876E-ACF66D225B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характеризует состояние атома в молекуле. Иногда её называют окислительным числом. При определении этого понятия условно предполагают, что в молекуле валентные электроны одних атомов перешли к другим атомам; таким образом, молекулы состоят только из положительно и отрицательно заряженных ионов. В действительности же в большинстве случаев происходит не полная отдача электронного облака от одного атома к другому. Степень окисления – это условный заряд атома в молекуле, вычисленный исходя из предположения, что молекула состоит только из ионов (обозначается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определять и так : степень окисления – это тот электрический заряд, который возник бы на атоме, если бы электронные пары, которыми он связан с другими атомами в молекуле, были бы смещены к более электроотрицательным атомам, а электронные пары, принадлежащие одинаковым атомам, были бы между ними подел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4306-1E24-4681-AB4C-A67FC6DBA8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иведённых определений следует, что степень окисления выражает величину электрического заряда и основывается на предположении о принадлежности электронов в каждой связи в молекуле или ионе более электроотрицательным ато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может иметь отрицательное, положительное и нулевое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е значение степени окисления будет у тех атомов, которые приняли электроны от других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значение степени окисления имеют атомы, отдающие свои  электроны другим ато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степень окисления может быть выражена дробным числ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BCE9-0EEE-4629-BBAB-C2E2408B4D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АК ОПРЕДЕЛЕЛИТЬ 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начение степени окисления определяется числом  электронов, смещенных от атома данного элемента к атому другого элемент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Нужно помнить, что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степень окисления как у свободных атомов, так и у атомов, входящих в состав неполярных молекул, например: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 и т.д. равна нулю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в соединениях сумма значений степеней окисления равна нулю. Это позволяет вычислить степень окисления данного химического элемента, если известны степени окисления других химических элементов в данном соединени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4915-1F4D-43EC-A52E-A3FA17C69D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степень окисления хрома в дихромате к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 x  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. Составляем следующее управление, в котором неизвестную степень окисления хрома обозначаем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  т.к.  в соединен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– два атома хрома, то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+1) * 2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. Решаем это урав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+1) * 2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+ 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14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14 -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. Следовательно, степень окисления хрома в этом соединении равна +6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амоконтроля правильности нахождения степени окисления нужно подсчитать общую сумму положительных и отрицательных степеней окисления. Если оно равно 0, то формула составлена прави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+1) * 2 + (+6)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0AF3-1207-4897-A5DD-FBDAB45765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ЧЁМ ОТЛИЧИЯ 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м понятия «степень окисления» и «валентность», а точнее, разграничим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если абсолютные значения степени окисления и валентности совпадают, их нельзя отождест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, характеризующая число химических связ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меть з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не может равняться нулю (по определени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не может быть дробным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имеет определённый предел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имеет зн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элемента может быть равна ну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может быть дробным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атомов химических элементов можно определять в любых веществ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44C0-D8E3-435A-AD1C-D599D05362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ПИСОК  ЛИТЕРАТУР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.С. Габриелян, Г.Г. Лысова, А.Г. Введенская. Настольная книга учителя.Химия, 11 класс: В 2 ч. Ч.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  Дрофа, 200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.А. Кудрявцев, Составление химических уравнений,М.: «Высшая школа»,  199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.П. Хомченко, К..И. Севастьянова ,Окислительно-восстановительные реакции,М.: «Просвещение», 198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Л.С. Гузей, В.В. Сорокин, Окислительно-восстановительные реакции, М.: Изд-во МГУ, 199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2E00-A71B-4312-B66B-EF325D1DE2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равствуйте, сегодня я расскажу вам о таких понятиях в химии, как валентность и степень окисления, а также о том чем они друг от друга отлич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E286-461C-4886-9864-DC37CA6FAF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ХИМИЯ:ВАЛЕНТНОСТЬ И 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 Unicode MS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АЛЕНТНОСТЬ – 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определить вален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– а это ч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определить степень окис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они между собой различ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927A-6843-471F-B1B2-A3877106F2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АЛ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– свойство атома данного элемента присоединять элементы или замещать определённое число атомов другого элемента. Под валентностью химического элемента также понимают способность его атомов образовывать химические связи в соединениях. Количественно валентность определяется числом химических связей, образованных ато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AAEE-C6E1-4E81-8007-070172D77D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– сложное понятие. Оно формировалось одновременно с понятием химической связи. Первоначально валентность элементов измеряли по водороду (валентность которого принимали за единицу), т.е. по числу атомов водорода, присоединяемых или замещаемых атомом данного элемента. Если элемент не образует соединения с водородом, но соединяются с кислородом, валентность элемента определяли по его кислородным соединениям (принимая валентность кислорода равную дву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алентность элемента определяют по отношению к другим элементам, валентность которых известна. Валентность можно выразить и другими способами, например числом химических связей, образуемых атомом одного элемента (ковалентностью), или числом атомов, непосредственно окружающих данный атом (координационное числ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FB9A-4812-496A-AECC-69D45D317C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днее валентность стали подразделять на положительную и отрицательную. Числовое значение положительной валентности элемента равно числу отданных атомом электронов, а отрицательной валентности – числу электронов, которые атом должен присоединить для завершения внешнего энергетического уровня. Стоит отметить что валентность не имеет ничего общего с электрическим зар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ременем понятие валентности расширилось, оно стало указывать и природу химических связей между атомами в их соединении. В соединениях с ионной (или электровалентной) связью валентность равна числу электронов, отданных или присоединённых атомом при превращении его в ион. В соединениях с ковалентной связью валентность определяется числом электронов, которые атом отдаёт для образования общих электронных п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95AF-CC8F-4194-9945-6A556CFC51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которых элементов валентность – величина постоянная. Например, натрий во всех соединениях одновалентен, цинк – двухвалентен, лантан – трехвалентен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ая валентность элементов в основном определяется номером группы переодической системы, а низшая вычитанием из 8 номера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F692-4CE9-4A3F-B2E0-C98A2D45F3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определить валентность по готовой формуле рассмотрим на данных пример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2 O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). Обозначим валентность известного эле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). Определяем общее число единиц валентности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* 5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). Подставим его под химическими знаками атомов элементов арабской цифр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). Разделим это число на число атомов элемента, валентность которого нам извест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0 / 2 = 5 (в нашем пример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). Поставить частное (5) римской цифрой над искомым элементом как его валент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  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6ECF-37D6-43E6-8A49-7196C0DFC7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ределим валентность элементов в солях кислородсодержащих кисл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). Определим число атомов кислорода (если символ стоит в скобках, то его индекс нужно умножить на цифру, стоящую за скобкам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 *3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). Вычислим общее число единиц валентности для атомов кисл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2 * 2 =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). Вычислим общее число единиц валентности для атомов металла (здесь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* 3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). Отнимем от общего числа единиц валентности кислорода общее число единиц валентности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4 – 6 =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). Определим число атомов неметал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 * 3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). Разделим число, полученное в п.4 на число, полученное в п.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8 / 3 = 6 (это валентность неметал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A6FF-0249-4468-A212-78653DC6AA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A24-EC85-4F33-8126-4EEF81CA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C368-8270-4765-9EB8-B438EA14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E1B-0EDE-43A0-83DC-CCC6DF6D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F4A-5BD7-4449-81EA-6A7D62F6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F9A-EDE5-4589-8FB3-209D9542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5C02-8D9B-4EB4-A2B0-9502B306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82B-4C25-4D26-9869-2865C21F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5DA-925D-49D9-AC63-FF4738BC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A74-B634-43B9-AB43-2E271A01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FB4-9C0A-43FD-8B3C-1DE5ABB5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66B-9717-4ECC-8A79-2B8990FC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7427-B546-4450-AD71-9AA72C3B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1C51-0397-4684-83B9-3E53915323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" Target="slide5.xml"/><Relationship Id="rId5" Type="http://schemas.openxmlformats.org/officeDocument/2006/relationships/slide" Target="slide16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da2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алентность и степень окис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38862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олев Илья ученик 11МИ класса МОУ лицея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робот Светлана Сергеевна, учитель химии МОУ лицея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468360" y="189000"/>
            <a:ext cx="45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410080" y="762120"/>
            <a:ext cx="35290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характеризует состояние атома в молекуле. Иногда её называют окислительным числом. При определении этого понятия условно предполагают, что в молекуле валентные электроны одних атомов перешли к другим атомам; таким образом, молекулы состоят только из положительно и отрицательно заряженных ионов. В действительности же в большинстве случаев происходит не полная отдача электронного облака от одного атома к другому. Степень окисления – это условный заряд атома в молекуле, вычисленный исходя из предположения, что молекула состоит только из ионов (обозначаетс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определять и так : степень окисления – это тот электрический заряд, который возник бы на атоме, если бы электронные пары, которыми он связан с другими атомами в молекуле, были бы смещены к более электроотрицательным атомам, а электронные пары, принадлежащие одинаковым атомам, были бы между ними поде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468360" y="189000"/>
            <a:ext cx="45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334120" y="457200"/>
            <a:ext cx="3528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 приведённых определений следует, что степень окисления выражает величину электрического заряда и основывается на предположении о принадлежности электронов в каждой связи в молекуле или ионе более электроотрицательным атом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может иметь отрицательное, положительное и нулевое знач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ицательное значение степени окисления будет у тех атомов, которые приняли электроны от других атом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жительное значение степени окисления имеют атомы, отдающие свои  электроны другим атом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же степень окисления может быть выражена дробным числ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50920" y="18900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ОПРЕДЕЛЕЛИТЬ СТЕПЕНЬ ОК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64000" y="620640"/>
            <a:ext cx="3529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ение степени окисления определяется числом  электронов, смещенных от атома данного элемента к атому другого элем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помнить, ч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тепень окисления как у свободных атомов, так и у атомов, входящих в состав неполярных молекул, например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т.д. равна ну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в соединениях сумма значений степеней окисления равна нулю. Это позволяет вычислить степень окисления данного химического элемента, если известны степени окисления других химических элементов в данном соедин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79280" y="260280"/>
            <a:ext cx="8713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ить степень окисления хрома в дихромате к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 x  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. Составляем следующее управление, в котором неизвестную степень окисления хрома обозначае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  т.к.  в соединен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 – два атома хрома, то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+1) * 2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. Решаем это урав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+1) * 2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 + 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– 14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14 -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. Следовательно, степень окисления хрома в этом соединении равна +6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амоконтроля правильности нахождения степени окисления нужно подсчитать общую сумму положительных и отрицательных степеней окисления. Если оно равно 0, то формула составлена правиль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+1) * 2 + (+6)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"/>
          <p:cNvPicPr/>
          <p:nvPr/>
        </p:nvPicPr>
        <p:blipFill>
          <a:blip r:embed="rId1"/>
          <a:stretch/>
        </p:blipFill>
        <p:spPr>
          <a:xfrm>
            <a:off x="971640" y="2133720"/>
            <a:ext cx="6443640" cy="4724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2438280" y="152280"/>
            <a:ext cx="4465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ЧЁМ ОТЛИЧИЯ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50920" y="1989000"/>
            <a:ext cx="23050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, характеризующая число химических связе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иметь зн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не может равняться нулю (по определ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не может быть дробным чис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имеет определённый предел приме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227640" y="1927080"/>
            <a:ext cx="23050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имеет зна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элемента может быть равна ну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может быть дробным чис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атомов химических элементов можно определять в любых веществ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24000" y="1143000"/>
            <a:ext cx="88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м понятия «степень окисления» и «валентность», а точнее, разграничим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если абсолютные значения степени окисления и валентности совпадают, их нельзя отождест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715000" y="6019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80880" y="781200"/>
            <a:ext cx="815184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.С. Габриелян, Г.Г. Лысова, А.Г. Введенская. Настольная книга учителя.Химия, 11 класс: В 2 ч. Ч.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:  Дрофа, 200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А.А. Кудрявцев, Составление химических уравнений,М.: «Высшая школа»,  199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Г.П. Хомченко, К..И. Севастьянова ,Окислительно-восстановительные реакции,М.: «Просвещение», 198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Л.С. Гузей, В.В. Сорокин, Окислительно-восстановительные реакции, М.: Изд-во МГУ, 199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x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28600" y="2286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ЧЕШЬ УЙТИ ?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5651640" y="836640"/>
            <a:ext cx="309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равствуйте, сегодня я расскажу вам о таких понятиях в химии, как валентность и степень окисления, а также о том чем они друг от друга отлич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54" name="Freeform 11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916360" y="2565360"/>
            <a:ext cx="34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627280" y="1413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АЛЕНТНОСТЬ – что это та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26836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ТЕПЕНЬ ОКИСЛЕНИЯ – а это ч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2700360" y="1773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АК определить валентнос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24000" y="57340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268360" y="24922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АК определить степень окисл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2340000" y="28526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ЧЕМ они между собой различ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826920" y="0"/>
            <a:ext cx="784872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Georgia"/>
              </a:rPr>
              <a:t>ХИМИЯ:ВАЛЕНТНОСТЬ И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 Unicode MS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12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775040" y="4533840"/>
            <a:ext cx="4368960" cy="23241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24000" y="33336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АЛЕ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64000" y="1125360"/>
            <a:ext cx="34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ентность – свойство атома данного элемента присоединять элементы или замещать определённое число атомов другого элемента. Под валентностью химического элемента также понимают способность его атомов образовывать химические связи в соединениях. Количественно валентность определяется числом химических связей, образованных ато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5292720" y="765000"/>
            <a:ext cx="3527280" cy="58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– сложное понятие. Оно формировалось одновременно с понятием химической связи. Первоначально валентность элементов измеряли по водороду (валентность которого принимали за единицу), т.е. по числу атомов водорода, присоединяемых или замещаемых атомом данного элемента. Если элемент не образует соединения с водородом, но соединяются с кислородом, валентность элемента определяли по его кислородным соединениям (принимая валентность кислорода равную двум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валентность элемента определяют по отношению к другим элементам, валентность которых известна. Валентность можно выразить и другими способами, например числом химических связей, образуемых атомом одного элемента (ковалентностью), или числом атомов, непосредственно окружающих данный атом (координационное числ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5292720" y="765000"/>
            <a:ext cx="35272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днее валентность стали подразделять на положительную и отрицательную. Числовое значение положительной валентности элемента равно числу отданных атомом электронов, а отрицательной валентности – числу электронов, которые атом должен присоединить для завершения внешнего энергетического уровня. Стоит отметить что валентность не имеет ничего общего с электрическим заряд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 временем понятие валентности расширилось, оно стало указывать и природу химических связей между атомами в их соединении. В соединениях с ионной (или электровалентной) связью валентность равна числу электронов, отданных или присоединённых атомом при превращении его в ион. В соединениях с ковалентной связью валентность определяется числом электронов, которые атом отдаёт для образования общих электронных па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81" name="Freeform 8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5219640" y="836640"/>
            <a:ext cx="3745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некоторых элементов валентность – величина постоянная. Например, натрий во всех соединениях одновалентен, цинк – двухвалентен, лантан – трехвалентен и т.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ая валентность элементов в основном определяется номером группы переодической системы, а низшая вычитанием из 8 номер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87" name="Freeform 8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11280" y="404640"/>
            <a:ext cx="7705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ак определить валентность по готовой формуле рассмотрим на данных пример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2 O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. Обозначим валентность известного элеме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. Определяем общее число единиц валентности атом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* 5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). Подставим его под химическими знаками атомов элементов арабской цифр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). Разделим это число на число атомов элемента, валентность которого нам извест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0 / 2 = 5 (в нашем пример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). Поставить частное (5) римской цифрой над искомым элементом как его валентно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 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92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11280" y="404640"/>
            <a:ext cx="77058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пределим валентность элементов в солях кислородсодержащих кисло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. Определим число атомов кислорода (если символ стоит в скобках, то его индекс нужно умножить на цифру, стоящую за скобками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 *3 =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. Вычислим общее число единиц валентности для атомов кислор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2 * 2 =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). Вычислим общее число единиц валентности для атомов металла (здесь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* 3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). Отнимем от общего числа единиц валентности кислорода общее число единиц валентности мета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4 – 6 =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). Определим число атомов неметал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 * 3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6). Разделим число, полученное в п.4 на число, полученное в п.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8 / 3 = 6 (это валентность неметал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06:09:13Z</dcterms:created>
  <dc:creator>Илья</dc:creator>
  <dc:description/>
  <dc:language>en-US</dc:language>
  <cp:lastModifiedBy>LEGION</cp:lastModifiedBy>
  <dcterms:modified xsi:type="dcterms:W3CDTF">2015-05-01T09:58:16Z</dcterms:modified>
  <cp:revision>34</cp:revision>
  <dc:subject/>
  <dc:title>Валентность и степень окисления</dc:title>
</cp:coreProperties>
</file>