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33B0-A1DF-4A7C-9141-CB2F78AA65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втор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олев Илья ученик 11МИ класса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уководитель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робот Светлана Сергеевна, учитель химии МОУ лицея №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CE74-3FF9-4DB4-BBF8-CCD2493EBA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13A-1B08-4DBE-9211-751FED03F7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иметь отрицательное, положительное и нулевое 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же степень окисления может быть выражена дробным числ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8120-2492-4D4E-9349-1A0843E44D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К ОПРЕДЕЛЕЛИТЬ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ужно помнить, что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 и т.д. равна нулю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4DCA-52C4-405C-955B-26F3BB4207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тепень окисления хрома в дихромате ка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 x  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а  т.к.  в соединени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– два атома хрома, то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Решаем это урав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+1) * 2 +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+ 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– 14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4 - 2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Следовательно, степень окисления хрома в этом соединении равна +6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1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6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2 Cr2 O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+1) * 2 + (+6) * 2 + (-2) * 7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786F-9D9E-4754-8A1F-9CA58EAB7B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ВЫВ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ЧЁМ ОТЛИЧИЯ 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, характеризующая число химических связе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меть зн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равняться нулю (по определени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не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имеет определённый предел при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имеет зн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элемента может быть равна ну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может быть дробным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атомов химических элементов можно определять в любых веществ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7550-A5FA-49A1-B072-06AF8CA0F4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ПИСОК  ЛИТЕРАТУР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  Дрофа, 200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А.А. Кудрявцев, Составление химических уравнений,М.: «Высшая школа»,  199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Л.С. Гузей, В.В. Сорокин, Окислительно-восстановительные реакции, М.: Изд-во МГУ, 199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C53D-077A-477D-849D-7DBB443737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8D370-C7EA-48E8-AB44-C7ED419945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Georgia"/>
              </a:rPr>
              <a:t>ХИМИЯ:ВАЛЕНТНОСТЬ И СТЕПЕНЬ ОКИС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 Unicode MS"/>
              </a:rPr>
              <a:t>СОДЕРЖ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АЛЕНТНОСТЬ – что это так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валентнос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ЕПЕНЬ ОКИСЛЕНИЯ – а это ч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 определить степень окисл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М они между собой различаю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57CE-D025-4D02-B599-24BFFE118D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АЛЕН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DE9C-40AF-4FAA-9F57-011AE3F9D2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20FA-4AF8-4B0D-83FB-21F778B15B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6389-DF82-4F8D-95B8-9200B89A54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ОСОБЫ ОПРЕДЕЛЕНИЯ ВАЛЕ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7962-E087-4A57-B969-23CF0EBB8C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пределить валентность по готовой формуле рассмотрим на данных пример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2 O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бозначим валентность известного эле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Определяем общее число единиц валентности атом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5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Подставим его под химическими знаками атомов элементов арабской цифр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Разделим это число на число атомов элемента, валентность которого нам извест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0 / 2 = 5 (в нашем пример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Поставить частное (5) римской цифрой над искомым элементом как ег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  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C475-72AB-4C16-A15C-AD829D43E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имер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ределим валентность элементов в солях кислородсодержащих кисло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 *3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). Вычислим общее число единиц валентности для атомов кисл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2 * 2 =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3). Вычислим общее число единиц валентности для атомов металла (здесь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Al 2 (SO4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 * 3 =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24 – 6 = 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5). Определим число атомов неметал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 * 3 =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6). Разделим число, полученное в п.4 на число, полученное в п.5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8 / 3 = 6 (это валентность неметал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10EA-70B5-4D76-915F-D73E48D03B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5B8-FEE2-422D-AD45-DFB3A0565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3CE-CF22-4A87-8B84-B4596372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7CB-8318-431B-B88E-392652F3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120C-182F-48C6-89D1-1290B83A4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E5D-4611-45B7-B88F-325EFBE8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4F30-7EF6-4CC3-AF11-9D7A6B3C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D910-695F-4527-BC10-501F164E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318-A153-4E2D-9F63-9F06A57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3B43-4E60-4031-8012-30DE9D06E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3F1-57ED-4115-B520-2B88045A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EFFF-950F-4E62-BCFC-D967A6B6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289-FC43-4149-97F6-9A2B1C36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D71A7-8E61-4EA3-87FF-5156149F45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0.xml"/><Relationship Id="rId4" Type="http://schemas.openxmlformats.org/officeDocument/2006/relationships/slide" Target="slide5.xml"/><Relationship Id="rId5" Type="http://schemas.openxmlformats.org/officeDocument/2006/relationships/slide" Target="slide16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5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2da2f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алентность и степень окисл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3886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олев Илья ученик 11МИ класса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уководител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робот Светлана Сергеевна, учитель химии МОУ лицея №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410080" y="762120"/>
            <a:ext cx="352908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характеризует состояние атома в молекуле. Иногда её называют окислительным числом. При определении этого понятия условно предполагают, что в молекуле валентные электроны одних атомов перешли к другим атомам; таким образом, молекулы состоят только из положительно и отрицательно заряженных ионов. В действительности же в большинстве случаев происходит не полная отдача электронного облака от одного атома к другому. Степень окисления – это условный заряд атома в молекуле, вычисленный исходя из предположения, что молекула состоит только из ионов (обозначается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но определять и так : степень окисления – это тот электрический заряд, который возник бы на атоме, если бы электронные пары, которыми он связан с другими атомами в молекуле, были бы смещены к более электроотрицательным атомам, а электронные пары, принадлежащие одинаковым атомам, были бы между ними подел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468360" y="189000"/>
            <a:ext cx="453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ТЕПЕНЬ ОКИС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334120" y="457200"/>
            <a:ext cx="3528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з приведённых определений следует, что степень окисления выражает величину электрического заряда и основывается на предположении о принадлежности электронов в каждой связи в молекуле или ионе более электроотрицательны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иметь отрицательное, положительное и нулевое значе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рицательное значение степени окисления будет у тех атомов, которые приняли электроны от других атом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ожительное значение степени окисления имеют атомы, отдающие свои  электроны другим атом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же степень окисления может быть выражена дробным числ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6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189000"/>
            <a:ext cx="619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АК ОПРЕДЕЛЕЛИТЬ СТЕПЕНЬ ОКИС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5364000" y="620640"/>
            <a:ext cx="3529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чение степени окисления определяется числом  электронов, смещенных от атома данного элемента к атому другого элеме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помнить, ч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тепень окисления как у свободных атомов, так и у атомов, входящих в состав неполярных молекул, например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и т.д. равна нул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 соединениях сумма значений степеней окисления равна нулю. Это позволяет вычислить степень окисления данного химического элемента, если известны степени окисления других химических элементов в данном соедине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79280" y="260280"/>
            <a:ext cx="8713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ить степень окисления хрома в дихромате кал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 x  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). Составляем следующее управление, в котором неизвестную степень окисления хрома обозначаем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  т.к.  в соединен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 – два атома хрома, то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). Решаем это уравн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+1) * 2 +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 + 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– 14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4 -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). Следовательно, степень окисления хрома в этом соединении равна +6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амоконтроля правильности нахождения степени окисления нужно подсчитать общую сумму положительных и отрицательных степеней окисления. Если оно равно 0, то формула составлена правиль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1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+6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2 Cr2 O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+1) * 2 + (+6) * 2 + (-2) * 7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"/>
          <p:cNvPicPr/>
          <p:nvPr/>
        </p:nvPicPr>
        <p:blipFill>
          <a:blip r:embed="rId1"/>
          <a:stretch/>
        </p:blipFill>
        <p:spPr>
          <a:xfrm>
            <a:off x="971640" y="2133720"/>
            <a:ext cx="6443640" cy="47242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2438280" y="152280"/>
            <a:ext cx="44658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ЫВ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ЧЁМ ОТЛИЧИЯ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50920" y="1989000"/>
            <a:ext cx="230508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, характеризующая число химических связей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ж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иметь з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равняться нулю (по определ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не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имеет определённый предел примен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227640" y="1927080"/>
            <a:ext cx="230508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имеет зна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элемента может быть равна нул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может быть дробным числ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епень окисления атомов химических элементов можно определять в любых веществ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324000" y="1143000"/>
            <a:ext cx="88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м понятия «степень окисления» и «валентность», а точнее, разгранич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если абсолютные значения степени окисления и валентности совпадают, их нельзя отождествля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5715000" y="6019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380880" y="781200"/>
            <a:ext cx="8151840" cy="41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СОК  ЛИТЕР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О.С. Габриелян, Г.Г. Лысова, А.Г. Введенская. Настольная книга учителя.Химия, 11 класс: В 2 ч. Ч.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.:  Дрофа, 200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А.А. Кудрявцев, Составление химических уравнений,М.: «Высшая школа»,  199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Г.П. Хомченко, К..И. Севастьянова ,Окислительно-восстановительные реакции,М.: «Просвещение», 198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Л.С. Гузей, В.В. Сорокин, Окислительно-восстановительные реакции, М.: Изд-во МГУ, 199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i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228600" y="22860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ХОЧЕШЬ УЙТИ ?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5651640" y="836640"/>
            <a:ext cx="309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дравствуйте, сегодня я расскажу вам о таких понятиях в химии, как валентность и степень окисления, а также о том чем они друг от друга отлича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54" name="Freeform 11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4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2916360" y="2565360"/>
            <a:ext cx="345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627280" y="141300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АЛЕНТНОСТЬ – что это тако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26836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СТЕПЕНЬ ОКИСЛЕНИЯ – а это ч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2700360" y="177336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КАК определить валентнос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24000" y="573408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Ы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2268360" y="24922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АК определить степень окисл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340000" y="2852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ЧЕМ они между собой различаютс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826920" y="0"/>
            <a:ext cx="784872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Georgia"/>
              </a:rPr>
              <a:t>ХИМИЯ:ВАЛЕНТНОСТЬ И СТЕПЕНЬ ОК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 Unicode MS"/>
              </a:rPr>
              <a:t>СОДЕРЖ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7" descr="12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775040" y="4533840"/>
            <a:ext cx="4368960" cy="232416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24000" y="33336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ВАЛЕ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5364000" y="1125360"/>
            <a:ext cx="34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лентность – свойство атома данного элемента присоединять элементы или замещать определённое число атомов другого элемента. Под валентностью химического элемента также понимают способность его атомов образовывать химические связи в соединениях. Количественно валентность определяется числом химических связей, образованных ато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292720" y="765000"/>
            <a:ext cx="3527280" cy="58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лентность – сложное понятие. Оно формировалось одновременно с понятием химической связи. Первоначально валентность элементов измеряли по водороду (валентность которого принимали за единицу), т.е. по числу атомов водорода, присоединяемых или замещаемых атомом данного элемента. Если элемент не образует соединения с водородом, но соединяются с кислородом, валентность элемента определяли по его кислородным соединениям (принимая валентность кислорода равную двум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того, валентность элемента определяют по отношению к другим элементам, валентность которых известна. Валентность можно выразить и другими способами, например числом химических связей, образуемых атомом одного элемента (ковалентностью), или числом атомов, непосредственно окружающих данный атом (координационное число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5292720" y="765000"/>
            <a:ext cx="35272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зднее валентность стали подразделять на положительную и отрицательную. Числовое значение положительной валентности элемента равно числу отданных атомом электронов, а отрицательной валентности – числу электронов, которые атом должен присоединить для завершения внешнего энергетического уровня. Стоит отметить что валентность не имеет ничего общего с электрическим заряд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 временем понятие валентности расширилось, оно стало указывать и природу химических связей между атомами в их соединении. В соединениях с ионной (или электровалентной) связью валентность равна числу электронов, отданных или присоединённых атомом при превращении его в ион. В соединениях с ковалентной связью валентность определяется числом электронов, которые атом отдаёт для образования общих электронных па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probirk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5219640" y="836640"/>
            <a:ext cx="374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некоторых элементов валентность – величина постоянная. Например, натрий во всех соединениях одновалентен, цинк – двухвалентен, лантан – трехвалентен и т.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шая валентность элементов в основном определяется номером группы переодической системы, а низшая вычитанием из 8 номер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0920" y="404640"/>
            <a:ext cx="48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ПОСОБЫ ОПРЕДЕЛЕНИЯ ВАЛ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87" name="Freeform 8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611280" y="404640"/>
            <a:ext cx="77058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ак определить валентность по готовой формуле рассмотрим на данных примера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2 O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бозначим валентность известного элемен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Определяем общее число единиц валентности ато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5 =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Подставим его под химическими знаками атомов элементов арабской цифр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Разделим это число на число атомов элемента, валентность которого нам извест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0 / 2 = 5 (в нашем пример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Поставить частное (5) римской цифрой над искомым элементом как его валентнос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 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162920" y="0"/>
            <a:ext cx="1073160" cy="615960"/>
          </a:xfrm>
          <a:prstGeom prst="rect">
            <a:avLst/>
          </a:prstGeom>
          <a:ln w="0">
            <a:noFill/>
          </a:ln>
        </p:spPr>
      </p:pic>
      <p:sp>
        <p:nvSpPr>
          <p:cNvPr id="92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FNON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611280" y="404640"/>
            <a:ext cx="77058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ример 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Определим валентность элементов в солях кислородсодержащих кисло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). Определим число атомов кислорода (если символ стоит в скобках, то его индекс нужно умножить на цифру, стоящую за скобками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 *3 =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). Вычислим общее число единиц валентности для атомов кислор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2 * 2 =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3). Вычислим общее число единиц валентности для атомов металла (здесь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l 2 (SO4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 * 3 =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4). Отнимем от общего числа единиц валентности кислорода общее число единиц валентности метал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24 – 6 =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5). Определим число атомов неметалл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 * 3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6). Разделим число, полученное в п.4 на число, полученное в п.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18 / 3 = 6 (это валентность неметалл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15000" y="5410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В 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5">
            <a:hlinkClick r:id="" action="ppaction://hlinkshowjump?jump=previousslide"/>
          </p:cNvPr>
          <p:cNvSpPr/>
          <p:nvPr/>
        </p:nvSpPr>
        <p:spPr>
          <a:xfrm flipH="1">
            <a:off x="6019920" y="41400"/>
            <a:ext cx="984240" cy="533160"/>
          </a:xfrm>
          <a:custGeom>
            <a:avLst/>
            <a:gdLst>
              <a:gd name="textAreaLeft" fmla="*/ 360 w 984240"/>
              <a:gd name="textAreaRight" fmla="*/ 984960 w 98424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240" h="336">
                <a:moveTo>
                  <a:pt x="930" y="0"/>
                </a:moveTo>
                <a:lnTo>
                  <a:pt x="930" y="84"/>
                </a:lnTo>
                <a:lnTo>
                  <a:pt x="0" y="84"/>
                </a:lnTo>
                <a:lnTo>
                  <a:pt x="0" y="252"/>
                </a:lnTo>
                <a:lnTo>
                  <a:pt x="930" y="252"/>
                </a:lnTo>
                <a:lnTo>
                  <a:pt x="930" y="336"/>
                </a:lnTo>
                <a:lnTo>
                  <a:pt x="1240" y="168"/>
                </a:lnTo>
                <a:lnTo>
                  <a:pt x="93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06:09:13Z</dcterms:created>
  <dc:creator>Илья</dc:creator>
  <dc:description/>
  <dc:language>en-US</dc:language>
  <cp:lastModifiedBy>LEGION</cp:lastModifiedBy>
  <dcterms:modified xsi:type="dcterms:W3CDTF">2015-05-01T09:58:16Z</dcterms:modified>
  <cp:revision>34</cp:revision>
  <dc:subject/>
  <dc:title>Валентность и степень окисления</dc:title>
</cp:coreProperties>
</file>