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5738-F534-41B1-A96B-801358A48C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лев Илья ученик 11МИ класса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обот Светлана Сергеевна, учитель химии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1EB4-9232-4D68-96CD-A748DE2C55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A49C-927C-4222-8DCD-245A56865E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иметь отрицательное, положительное и нулево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степень окисления может быть выражена дробным числ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6846-CF59-468A-8F83-F1890E8F2B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К ОПРЕДЕЛЕЛИТЬ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ужно помнить, что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и т.д. равна нулю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837D-87BB-46B5-84F9-383D297E25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тепень окисления хрома в дихромате к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 x  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  т.к.  в соедин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– два атома хрома, 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Решаем это урав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14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4 -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Следовательно, степень окисления хрома в этом соединении равна +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+1) * 2 + (+6)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C223-6059-4147-86F9-5E95B90E75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ЧЁМ ОТЛИЧИЯ 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, характеризующая число химических связ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ть 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равняться нулю (по определен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имеет определённый предел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имеет зн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элемента может быть равна ну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атомов химических элементов можно определять в любых вещест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6F42-F7BD-4FCF-BC84-8E5824D4C0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ИСОК  ЛИТЕРАТУР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  Дрофа, 200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.А. Кудрявцев, Составление химических уравнений,М.: «Высшая школа»,  199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.С. Гузей, В.В. Сорокин, Окислительно-восстановительные реакции, М.: Изд-во МГУ, 199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D032-B4CF-4424-AA0B-BCDD2BAB38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D5B8-1E92-4318-B3AC-DD2FEBA898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ХИМИЯ:ВАЛЕНТНОСТЬ И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Unicode MS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АЛЕНТНОСТЬ – 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вален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– а это ч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степень окис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они между собой раз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1274-227F-41A4-8BAD-231B23E586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АЛ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D8CE-773C-4F59-BFCF-2DFCF5DDF9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F31C-5AC6-4814-A9F1-B44E30AE75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E453-0324-4BE5-B78D-6F9E751CBA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4915-6783-4A07-A877-A8BEDC47F4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пределить валентность по готовой формуле рассмотрим на данных пример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2 O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бозначим валентность известного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Определяем общее число единиц валентност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5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Подставим его под химическими знаками атомов элементов арабской циф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Разделим это число на число атомов элемента, валентность которого нам извест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0 / 2 = 5 (в нашем пример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Поставить частное (5) римской цифрой над искомым элементом как ег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 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C868-91A4-4067-A57D-4A028FB1C2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ределим валентность элементов в солях кислородсодержащих кисл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 *3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Вычислим общее число единиц валентности для атомов кисл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2 * 2 =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Вычислим общее число единиц валентности для атомов металла (здесь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3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4 – 6 =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Определим число атомов неметал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 * 3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). Разделим число, полученное в п.4 на число, полученное в п.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/ 3 = 6 (это валентность неметал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3917-7129-4689-A0F1-FF34D66DE7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1E3-BB8E-4339-BE92-9BB596E9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822-C1F4-49EB-8531-D290C6CD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DB9-3FFB-40EC-A621-E652E336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0B9-A196-463D-BC61-496A9E6E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CCD-A006-4B0F-A70E-E92AA0CA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DC9-0878-492A-BD40-1436F158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286-F1B2-4E90-AC1F-AF81AD36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CB2-B49A-4C27-95E7-B7C2BEF2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312-5D63-4432-8BE2-452BEFAC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9D4-9EE1-4178-B0BA-E229AC83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573-21C5-442D-B3C5-F0F4E3EC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16B-0589-4F03-A6B6-60038304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6AF6-C554-45B6-B6A9-8B20C6C1C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5.xml"/><Relationship Id="rId5" Type="http://schemas.openxmlformats.org/officeDocument/2006/relationships/slide" Target="slide16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a2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лев Илья ученик 11МИ класса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робот Светлана Сергеевна, учитель химии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410080" y="762120"/>
            <a:ext cx="3529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4120" y="457200"/>
            <a:ext cx="3528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иметь отрицательное, положительное и нулев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степень окисления может быть выражена дробным чи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0920" y="189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ОПРЕДЕЛЕЛИТЬ СТЕПЕНЬ ОК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64000" y="620640"/>
            <a:ext cx="3529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помнить, ч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т.д. равна ну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79280" y="26028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ть степень окисления хрома в дихромате к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 x  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  т.к.  в соедин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– два атома хрома, т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. Решаем это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 + 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– 1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4 -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. Следовательно, степень окисления хрома в этом соединении равна +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+1) * 2 + (+6)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971640" y="2133720"/>
            <a:ext cx="64436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438280" y="152280"/>
            <a:ext cx="4465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 ОТЛИЧИЯ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989000"/>
            <a:ext cx="2305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, характеризующая число химических связе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иметь з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равняться нулю (по определ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имеет определённый предел приме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227640" y="1927080"/>
            <a:ext cx="23050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имеет зн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элемента может быть равна ну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атомов химических элементов можно определять в любых веществ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1143000"/>
            <a:ext cx="88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1500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80880" y="781200"/>
            <a:ext cx="815184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 Дрофа, 200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А.А. Кудрявцев, Составление химических уравнений,М.: «Высшая школа»,  199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Л.С. Гузей, В.В. Сорокин, Окислительно-восстановительные реакции, М.: Изд-во МГУ, 199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28600" y="2286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ЧЕШЬ УЙТИ ?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5651640" y="83664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54" name="Freeform 11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627280" y="1413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АЛЕНТНОСТЬ – что э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6836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ТЕПЕНЬ ОКИСЛЕНИЯ – а это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700360" y="1773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К определить валент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4000" y="57340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68360" y="2492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АК определить степень окис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340000" y="2852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 они между собой раз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26920" y="0"/>
            <a:ext cx="7848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Georgia"/>
              </a:rPr>
              <a:t>ХИМИЯ:ВАЛЕНТНОСТЬ И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 Unicode MS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75040" y="4533840"/>
            <a:ext cx="4368960" cy="23241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33336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64000" y="112536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292720" y="765000"/>
            <a:ext cx="352728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292720" y="765000"/>
            <a:ext cx="3527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219640" y="836640"/>
            <a:ext cx="374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7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1280" y="404640"/>
            <a:ext cx="7705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к определить валентность по готовой формуле рассмотрим на данных пример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2 O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бозначим валентность известного эле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Определяем общее число единиц валентности ато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5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одставим его под химическими знаками атомов элементов арабской цифр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Разделим это число на число атомов элемента, валентность которого нам извест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0 / 2 = 5 (в нашем приме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Поставить частное (5) римской цифрой над искомым элементом как его валент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 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11280" y="404640"/>
            <a:ext cx="7705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ределим валентность элементов в солях кислородсодержащих кисло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 *3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Вычислим общее число единиц валентности для атомов кислор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2 * 2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Вычислим общее число единиц валентности для атомов металла (здес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3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4 – 6 =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Определим число атомов неметал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* 3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). Разделим число, полученное в п.4 на число, полученное в п.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8 / 3 = 6 (это валентность неметал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6:09:13Z</dcterms:created>
  <dc:creator>Илья</dc:creator>
  <dc:description/>
  <dc:language>en-US</dc:language>
  <cp:lastModifiedBy>LEGION</cp:lastModifiedBy>
  <dcterms:modified xsi:type="dcterms:W3CDTF">2015-05-01T09:58:16Z</dcterms:modified>
  <cp:revision>34</cp:revision>
  <dc:subject/>
  <dc:title>Валентность и степень окисления</dc:title>
</cp:coreProperties>
</file>