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2.wmf" ContentType="image/x-wmf"/>
  <Override PartName="/ppt/media/image29.jpeg" ContentType="image/jpeg"/>
  <Override PartName="/ppt/media/image5.png" ContentType="image/png"/>
  <Override PartName="/ppt/media/image8.jpeg" ContentType="image/jpeg"/>
  <Override PartName="/ppt/media/image13.wmf" ContentType="image/x-wmf"/>
  <Override PartName="/ppt/media/image30.png" ContentType="image/png"/>
  <Override PartName="/ppt/media/image6.png" ContentType="image/png"/>
  <Override PartName="/ppt/media/image28.png" ContentType="image/png"/>
  <Override PartName="/ppt/media/image31.wmf" ContentType="image/x-wmf"/>
  <Override PartName="/ppt/media/image7.jpeg" ContentType="image/jpeg"/>
  <Override PartName="/ppt/media/image11.png" ContentType="image/png"/>
  <Override PartName="/ppt/media/image9.jpeg" ContentType="image/jpeg"/>
  <Override PartName="/ppt/media/image23.wmf" ContentType="image/x-wmf"/>
  <Override PartName="/ppt/media/image12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wmf" ContentType="image/x-wmf"/>
  <Override PartName="/ppt/media/image25.wmf" ContentType="image/x-wmf"/>
  <Override PartName="/ppt/media/image10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78A4-E664-4076-B05C-DCD865FA7E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лекулы в Космос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40AA-BB38-4E66-A139-F62C7C3D07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уктура 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87EB-19B3-417D-878D-ABC2552602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ные нашли в космос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громное облако спир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вездочеты нашли в космосе рай дл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ьяниц — гигантскую массу чистого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ир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Они наткнулись на таинственное облако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зея в свои телескопы на далеко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везд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рез несколько месяцев исследован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и поняли, что таинственный объек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ит достаточно спирта, чтоб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готовить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00 триллионов триллион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нт пива. Это составляет 300000 пин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жедневно для каждого жителя Земли 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ующий миллиард лет... Облако находится близ молодой звезд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34.3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звездии Орла... Тепло этой звезды производит больше спирта, чем все пивные и ликеро-водочные заводы Земли, вместе взятые.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180D-F5E6-4222-A3FC-1713EDC057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ранить в прохладном, защищенном от света мест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е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колозвездные оболоч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лекулярные обла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6CDF-B1F8-47DA-8154-0135D50344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рта Млечного Пути в линии молекулы С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2DB5-FB13-4E90-94B8-570B4104B8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Области звездообраз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</a:rPr>
              <a:t>Гигантские молекулярные облак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–3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мер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100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</a:rPr>
              <a:t>Молекулярные облак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–3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размер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1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</a:rPr>
              <a:t>Плотные ядр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–3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размер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0.1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E33D-CB35-4DFE-A101-B4D2D46958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держание некоторых молекул в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MC-1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о отношению к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A7DF-E4F6-42DA-944E-F571F8C0DE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творится на кухн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5A3B-F3D6-42F0-AB86-244D2945D4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еззвездное ядр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15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532E-879D-4400-BA28-2B37558B2B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обраться в событиях, происходящих в молекулярных облаках, по наблюдениям молекул невозможно без моделирования химических процессов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17C9-ADD2-430B-BD92-8360816AA6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Широко простирает химия руки свои в дела человеческие. Куда ни посмотрим, куда ни оглянемся, везде обращаются перед очами нашими успехи ее прилежания.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8D60-64C2-4E29-A780-FCD0E46258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s are among the most fundamental building blocks of the universe, and yet the processes by which they are formed are not understoo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4310-9787-4F8E-B5C6-0F66CC0EA4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работает межзвездный химический реактор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E5BB-9DBC-463D-A260-9F1C38A5ED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иды газофазных химических реа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йтраль-нейтральные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акции с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он-молекулярные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акции диссоциативной рекомбин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то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8459-C558-4B7E-B2BB-A887DC9ADC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йтраль-нейтральные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D552-DA89-40E5-A20C-E7483267574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он-молекулярные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сокие скорости при низких температур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8B18-FCEF-454C-85BF-1B012E5811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акции с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 + CRP = H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e + CRP = 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H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1.3·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6.0·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~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148D-28CE-488D-96E6-6B184BC565C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акции диссоциативной рекомбин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88E7-3C89-408E-A706-547DA76282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то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C08B-3A5E-43A6-9911-AC170E10D8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имические базы д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UMIST95 (University of Manches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коло 400 компонентов и 3864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кции, в том числ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 реакций с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03 ион-молекулярных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9 фотореакций, индуцированных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94 нейтраль-нейтральных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33 реакции диссоциативной рекомбин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50 фотореа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New Standard Model (Ohio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коло 400 компонентов и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203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кции, в том числ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 реакций с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35 ион-молекулярных реа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35 фотореакций, индуцированных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9 нейтраль-нейтральных реа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04 реакции диссоциативной рекомбин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72 фото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Herbst &amp; Clemperer (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1973</a:t>
            </a: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7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понентов и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0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кций (5 наблюдаемых молеку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Bettens &amp; Herbst (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1995</a:t>
            </a: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коло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00 компонентов и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000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2F3E-146E-40C1-992C-10F621DAAE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имия усложняет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E2FF-23F8-46E2-A423-AFFDE4D110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Молекулярный водород в газовой фазе почти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не образуется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хчастичные столкнове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+ H + H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ен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ень медленная реакц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H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H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ень медленная реакц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1BAB-FD28-4A8D-8304-66174397E7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Звезды представляют собой один из самых фундаментальных элементов Вселенной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тем не менее процессы, в результате которых они образуются, нам непонятн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CEA7-AC83-4DD4-9A8C-DE22003377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азование молекулярного водорода на пы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томы водорода прилипают к пылин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мещаясь по поверхности пылинки, атомы сталкиваются друг с другом и образуют молекул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нергия, выделившаяся при образовании молекул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отрывает ее от пылин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CE3F-D130-4E62-883E-18814F9CAC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верхностные химические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молекулярного водо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молекул, насыщенных водород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гомогенных молекул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простейших органических 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46B4-D5BF-479F-A8B4-C1A707C63B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верхностные реакции с участием С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ечные продук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альдеги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ано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но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метиловый эфи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уравьиная кисло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09D9-6C61-4AB5-BA32-56B1D8ADFC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сорб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пловая десорбция (энергия связ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сорбция космическими лучами (температура нагрев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тодесорбция (вероятность отрыв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имическая десорб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01E5-4EA6-4165-9C95-C7EE8C0548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щая картина звездообраз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ярное облако распадается на несколько гравитационно связанных ядер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которых изначально силам притяжения противодействуют тепловое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гнитное и турбулентное давление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ти ядра в течение некоторого времени пребывают в стационарном состоянии, а затем в результате амбиполярной диффузии, диссипации турбулентности или под воздействием внешнего импульс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ановятся гравитационно неустойчивыми и коллапсируют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4673-91F5-48F1-9ED4-4BF802CC50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Что и зачем моделироват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плотности, температуры, магнитного по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следование поля скорост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возраста («химические часы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тная связь с динами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схождение жиз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3431-1B9B-4FB4-AD0D-2139D54485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ределение плотности и температ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FF84-39FE-461A-9332-1A0CFC78DF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гнитные по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вая поляризация (эффект Зееман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оская поляризация (эффект Голдрайка -Килафис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3D93-8728-4C0C-A333-9BD866D12F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рмирование линий в коллапсирующем обла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тически толстые линии в коллапсирующем облаке имеют характерную двугорбую форму с неравной высотой п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6F3B-7069-41CB-B445-47B5841560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знаки коллапса в наблюден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фили линий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335 (Choi et al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5)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лошные линии — наблюдения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Zhou et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93)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штриховые линии — модель с относительным содержанием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 5.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 максимальной скоростью коллапса на расстоянии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3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пс от центра облак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C581-7F1C-42AC-ACDD-25A3DEAF47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cc"/>
                </a:solidFill>
                <a:latin typeface="Times New Roman"/>
              </a:rPr>
              <a:t>Почему звезды образуются так медленно</a:t>
            </a:r>
            <a:r>
              <a:rPr b="1" lang="en-US" sz="1600" spc="-1" strike="noStrike">
                <a:solidFill>
                  <a:srgbClr val="3366cc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поставление динамического времени и массы гигантских молекулярных облаков дает оценку скорости звездообразования в Галактик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сс Солнца в го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еальное значение не превышает 15 масс Солнца в г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cc"/>
                </a:solidFill>
                <a:latin typeface="Times New Roman"/>
              </a:rPr>
              <a:t>Почему звезды образуются так быстро</a:t>
            </a:r>
            <a:r>
              <a:rPr b="1" lang="en-US" sz="1600" spc="-1" strike="noStrike">
                <a:solidFill>
                  <a:srgbClr val="3366cc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близительно половина плотных ядер содержит точечные инфракрасные источник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тозвезд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ктически нет молекулярных облаков, в которых звездообразование еще не началось. Практически нет молекулярных облаков, в которых звездообразование уже закончилос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F31D-7D60-45DF-B140-94D0ACFF99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знаки коллапса в наблюден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73A1-FE93-4DC7-8D41-7C6AC255B0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имические ча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AA0A-A006-48BC-849E-7A10F2AE8C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грев и охлаж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Нагре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тодиссоциация молекулярного водо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тоионизация нейтрального угле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тоэлектрическая эмиссия с поверхности пыли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молекулярного водорода на поверхности пыли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грев в результате ионизации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Охлаж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хлаждение в молекулярных лин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846D-F48E-474E-8CE0-DA419F0A5A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исхождение жиз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ческие молекулы в молекулярных облак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ческие молекулы в кометах и метеорит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C88C-5E2B-457A-BCB3-90F0D8CCCC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пех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Palatino-Roman"/>
              </a:rPr>
              <a:t>Корректно воспроизведены содержания основных молекул (CO) и большинства второстепенных 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Palatino-Roman"/>
              </a:rPr>
              <a:t>Объяснено наличие в молекулярных облаках радикалов, ионов и изомеров, а также ненасыщенных органических молекул (несмотря на изобилие водород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Palatino-Roman"/>
              </a:rPr>
              <a:t>Объяснено повышенное содержание молекул, содержащих дейтер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DAFC-93A4-40FB-B817-212368DDC9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спекти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тальная информация о распределении молекул в областях звездообраз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галактическая астрохимия (в частности, на больших красных смещениях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B893-F9E8-4B44-B8E2-9107B414CB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Вещество, из которого образуются звезды,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практически невидимо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е, что происходит в молекулярных облаках, в частности, в протозвездных объектах, — происходит с молекулярным водород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 его линии в областях звездообразования слишком слаб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EBC0-FC0F-4658-9231-E49A2EDED8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лекулярный водород — основная, но не единственная молекула</a:t>
            </a: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A7AD-AADC-4A31-B125-4B91FA0C87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жзвездное пространство не пусто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ршель (светлые туманности состоят из светящейся жидкост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ве (Каптейн, Барнард — неравномерность поглощени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юмплер (пыль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тманн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4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звездное поглощ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Юэн, Парселл (1951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 21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 молекул в Космосе нет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зкая темпера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зкая пло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ссоциирующие излу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641F-2C66-4BEA-B34F-DB870666F2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лекулы в Космосе есть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30-е гг. 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, CN, C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линии поглощени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0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 гг. 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, 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радиолин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ше время — 137 молекул, не считая изотопомеров (с изотопомерами 2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лектронные переходы (видимый све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лебательные переходы (И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ращательные переходы (радио, субм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ым на возможность наблюдения молекул в радиодиапазоне указал И.С. Шкловск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4906-FCF6-4FA9-8BDB-6C33347073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Список известных межзвездных и околозвездных молеку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cv.nrao.edu/~awootten/allmol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двух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AlF AlCl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 CH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N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P CS CSi HCl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KCl NH NO NS NaCl OH PN SO 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SiN SiO SiS HF 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трех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S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CN HCO HCO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CS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OC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S HNC HNO MgCN MgNC N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NaCN OCS 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-Si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N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Si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четырех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-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l-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S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? HCCN HCNH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NCO HNCS HOCO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O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N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S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N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Si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пят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Si l-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-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N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C HCOOH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N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CN HN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Si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OH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шест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N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C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SH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H+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O HCON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l-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сем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CN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HCO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N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-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OH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?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восьм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HCOO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OOH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OHCH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девят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N (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десят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? (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O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N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OOH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одиннадцати атомов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тринадцати атомов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C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CDE7-19A4-4E00-A641-18A8BDD214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28B5B-99C1-4F58-BE42-84F06AA166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B8036-74DB-45C2-BBEF-A91D0E305B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38CA9-4B17-4FB7-AC87-9087786783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CB951-008A-446A-A95E-046AAE8B6A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03E3C-A963-4016-AE3F-014DE04BC3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77A13-3B7C-427E-A075-86AE8B20EA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74538-56F1-4400-865B-7B948E3A5C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C26DD-29CA-4E97-9A15-FBB12ECADA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423F6-6D5E-4CD1-8BE7-780FDD9C2A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F16D7-FEFF-49D5-8272-1F8C6755F9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76298-1758-48D4-9C32-98B14BC30C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59EB0-FAEA-4BF6-B262-5E5D937D82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58152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3317-D265-4A81-92F1-32939B0C9E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ижний колонтитул 3"/>
          <p:cNvSpPr/>
          <p:nvPr/>
        </p:nvSpPr>
        <p:spPr>
          <a:xfrm>
            <a:off x="0" y="6426360"/>
            <a:ext cx="289548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446040"/>
            <a:ext cx="7778880" cy="1425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лекулы в Космос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3067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. З. Виб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ститут астрономии Р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H2CO"/>
          <p:cNvPicPr/>
          <p:nvPr/>
        </p:nvPicPr>
        <p:blipFill>
          <a:blip r:embed="rId1"/>
          <a:stretch/>
        </p:blipFill>
        <p:spPr>
          <a:xfrm>
            <a:off x="3203640" y="3911760"/>
            <a:ext cx="2735280" cy="25635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2628360" y="2152800"/>
            <a:ext cx="4341240" cy="76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Times New Roman"/>
              </a:rPr>
              <a:t>АСТРОХИМ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руктура молеку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C3H2"/>
          <p:cNvPicPr/>
          <p:nvPr/>
        </p:nvPicPr>
        <p:blipFill>
          <a:blip r:embed="rId1"/>
          <a:stretch/>
        </p:blipFill>
        <p:spPr>
          <a:xfrm>
            <a:off x="152280" y="1143000"/>
            <a:ext cx="2671920" cy="2527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Ethanol"/>
          <p:cNvPicPr/>
          <p:nvPr/>
        </p:nvPicPr>
        <p:blipFill>
          <a:blip r:embed="rId2"/>
          <a:stretch/>
        </p:blipFill>
        <p:spPr>
          <a:xfrm>
            <a:off x="5943600" y="838080"/>
            <a:ext cx="2727360" cy="2413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H2CO"/>
          <p:cNvPicPr/>
          <p:nvPr/>
        </p:nvPicPr>
        <p:blipFill>
          <a:blip r:embed="rId3"/>
          <a:stretch/>
        </p:blipFill>
        <p:spPr>
          <a:xfrm>
            <a:off x="457200" y="3886200"/>
            <a:ext cx="2192400" cy="2054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HC7N"/>
          <p:cNvPicPr/>
          <p:nvPr/>
        </p:nvPicPr>
        <p:blipFill>
          <a:blip r:embed="rId4"/>
          <a:stretch/>
        </p:blipFill>
        <p:spPr>
          <a:xfrm>
            <a:off x="2971800" y="1219320"/>
            <a:ext cx="2759040" cy="2928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PAH"/>
          <p:cNvPicPr/>
          <p:nvPr/>
        </p:nvPicPr>
        <p:blipFill>
          <a:blip r:embed="rId5"/>
          <a:stretch/>
        </p:blipFill>
        <p:spPr>
          <a:xfrm>
            <a:off x="6248520" y="3352680"/>
            <a:ext cx="2630520" cy="3281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HCN"/>
          <p:cNvPicPr/>
          <p:nvPr/>
        </p:nvPicPr>
        <p:blipFill>
          <a:blip r:embed="rId6"/>
          <a:stretch/>
        </p:blipFill>
        <p:spPr>
          <a:xfrm>
            <a:off x="2971800" y="426708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1996560" y="1295280"/>
            <a:ext cx="78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3209760" y="1447920"/>
            <a:ext cx="91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618840" y="3962520"/>
            <a:ext cx="91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3355920" y="44197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C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5960160" y="9144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6251040" y="6172200"/>
            <a:ext cx="8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ижний колонтитул 1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" descr="boffins"/>
          <p:cNvPicPr/>
          <p:nvPr/>
        </p:nvPicPr>
        <p:blipFill>
          <a:blip r:embed="rId1"/>
          <a:stretch/>
        </p:blipFill>
        <p:spPr>
          <a:xfrm>
            <a:off x="380880" y="0"/>
            <a:ext cx="4019760" cy="62485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4708440" y="192240"/>
            <a:ext cx="43275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ные нашли в космос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громное облако спир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вездочеты нашли в космосе рай для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ьяниц — гигантскую массу чистого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пир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Они наткнулись на таинственное облак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лазея в свои телескопы на далеко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везд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рез несколько месяцев исследовани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ни поняли, что таинственный объек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держит достаточно спирта, чтоб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готовить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00 триллионов триллионов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нт пива. Это составляет 300000 пин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жедневно для каждого жителя Земли 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едующий миллиард лет... Облако находится близ молодой звезд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34.3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озвездии Орла... Тепло этой звезды производит больше спирта, чем все пивные и ликеро-водочные заводы Земли, вместе взятые.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ранить в прохладном, защищенном от света мест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08000" y="2420640"/>
            <a:ext cx="532944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е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колозвездные оболоч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лекулярные обла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рта Млечного Пути в линии молекулы С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2035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ижний колонтитул 4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Области звездообраз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Гигантские молекулярные обла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–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ме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100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Молекулярные обла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–3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разме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1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лотные ядр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–3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разме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0.1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rcRect l="0" t="0" r="0" b="670"/>
          <a:stretch/>
        </p:blipFill>
        <p:spPr>
          <a:xfrm>
            <a:off x="0" y="2492280"/>
            <a:ext cx="9144000" cy="25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держание некоторых молекул в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MC-1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по отношению к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85800" y="1371600"/>
          <a:ext cx="7772400" cy="40845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–10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–1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–17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O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–4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–10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–10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–4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–4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7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Text Box 66"/>
          <p:cNvSpPr/>
          <p:nvPr/>
        </p:nvSpPr>
        <p:spPr>
          <a:xfrm>
            <a:off x="2499840" y="5756400"/>
            <a:ext cx="29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лекул очень мало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творится на кухне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6"/>
          <p:cNvGraphicFramePr/>
          <p:nvPr/>
        </p:nvGraphicFramePr>
        <p:xfrm>
          <a:off x="1143000" y="762120"/>
          <a:ext cx="6858000" cy="53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6858000" cy="53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" name="Group 12"/>
          <p:cNvGrpSpPr/>
          <p:nvPr/>
        </p:nvGrpSpPr>
        <p:grpSpPr>
          <a:xfrm>
            <a:off x="3348000" y="2781360"/>
            <a:ext cx="863640" cy="360360"/>
            <a:chOff x="3348000" y="2781360"/>
            <a:chExt cx="863640" cy="360360"/>
          </a:xfrm>
        </p:grpSpPr>
        <p:sp>
          <p:nvSpPr>
            <p:cNvPr id="122" name="AutoShape 7"/>
            <p:cNvSpPr/>
            <p:nvPr/>
          </p:nvSpPr>
          <p:spPr>
            <a:xfrm>
              <a:off x="3348000" y="2997360"/>
              <a:ext cx="144360" cy="144360"/>
            </a:xfrm>
            <a:prstGeom prst="irregularSeal1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AutoShape 8"/>
            <p:cNvSpPr/>
            <p:nvPr/>
          </p:nvSpPr>
          <p:spPr>
            <a:xfrm>
              <a:off x="3564000" y="2924280"/>
              <a:ext cx="144360" cy="144360"/>
            </a:xfrm>
            <a:prstGeom prst="irregularSeal1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AutoShape 9"/>
            <p:cNvSpPr/>
            <p:nvPr/>
          </p:nvSpPr>
          <p:spPr>
            <a:xfrm>
              <a:off x="3851280" y="2997360"/>
              <a:ext cx="144360" cy="144360"/>
            </a:xfrm>
            <a:prstGeom prst="irregularSeal1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AutoShape 10"/>
            <p:cNvSpPr/>
            <p:nvPr/>
          </p:nvSpPr>
          <p:spPr>
            <a:xfrm>
              <a:off x="4067280" y="2997360"/>
              <a:ext cx="144360" cy="144360"/>
            </a:xfrm>
            <a:prstGeom prst="irregularSeal1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AutoShape 11"/>
            <p:cNvSpPr/>
            <p:nvPr/>
          </p:nvSpPr>
          <p:spPr>
            <a:xfrm>
              <a:off x="3780000" y="2781360"/>
              <a:ext cx="144360" cy="144360"/>
            </a:xfrm>
            <a:prstGeom prst="irregularSeal1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19"/>
          <p:cNvGrpSpPr/>
          <p:nvPr/>
        </p:nvGrpSpPr>
        <p:grpSpPr>
          <a:xfrm>
            <a:off x="2987640" y="3500280"/>
            <a:ext cx="3745080" cy="649440"/>
            <a:chOff x="2987640" y="3500280"/>
            <a:chExt cx="3745080" cy="649440"/>
          </a:xfrm>
        </p:grpSpPr>
        <p:sp>
          <p:nvSpPr>
            <p:cNvPr id="128" name="AutoShape 13"/>
            <p:cNvSpPr/>
            <p:nvPr/>
          </p:nvSpPr>
          <p:spPr>
            <a:xfrm>
              <a:off x="2987640" y="3645000"/>
              <a:ext cx="144360" cy="14436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AutoShape 14"/>
            <p:cNvSpPr/>
            <p:nvPr/>
          </p:nvSpPr>
          <p:spPr>
            <a:xfrm>
              <a:off x="3708360" y="3716280"/>
              <a:ext cx="144360" cy="14436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AutoShape 15"/>
            <p:cNvSpPr/>
            <p:nvPr/>
          </p:nvSpPr>
          <p:spPr>
            <a:xfrm>
              <a:off x="3924360" y="4005360"/>
              <a:ext cx="144360" cy="14436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AutoShape 16"/>
            <p:cNvSpPr/>
            <p:nvPr/>
          </p:nvSpPr>
          <p:spPr>
            <a:xfrm>
              <a:off x="4932360" y="3500280"/>
              <a:ext cx="144360" cy="14472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AutoShape 17"/>
            <p:cNvSpPr/>
            <p:nvPr/>
          </p:nvSpPr>
          <p:spPr>
            <a:xfrm>
              <a:off x="5508720" y="4005360"/>
              <a:ext cx="144360" cy="14436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AutoShape 18"/>
            <p:cNvSpPr/>
            <p:nvPr/>
          </p:nvSpPr>
          <p:spPr>
            <a:xfrm>
              <a:off x="6588000" y="3500280"/>
              <a:ext cx="144720" cy="14472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AutoShape 20"/>
          <p:cNvSpPr/>
          <p:nvPr/>
        </p:nvSpPr>
        <p:spPr>
          <a:xfrm>
            <a:off x="2556000" y="1341360"/>
            <a:ext cx="14436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21"/>
          <p:cNvSpPr/>
          <p:nvPr/>
        </p:nvSpPr>
        <p:spPr>
          <a:xfrm>
            <a:off x="2771640" y="2060640"/>
            <a:ext cx="14472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22"/>
          <p:cNvSpPr/>
          <p:nvPr/>
        </p:nvSpPr>
        <p:spPr>
          <a:xfrm>
            <a:off x="3780000" y="1052640"/>
            <a:ext cx="14436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23"/>
          <p:cNvSpPr/>
          <p:nvPr/>
        </p:nvSpPr>
        <p:spPr>
          <a:xfrm>
            <a:off x="4427640" y="1628640"/>
            <a:ext cx="14436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24"/>
          <p:cNvSpPr/>
          <p:nvPr/>
        </p:nvSpPr>
        <p:spPr>
          <a:xfrm>
            <a:off x="6084720" y="2492280"/>
            <a:ext cx="14472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25"/>
          <p:cNvSpPr/>
          <p:nvPr/>
        </p:nvSpPr>
        <p:spPr>
          <a:xfrm>
            <a:off x="5076720" y="1197000"/>
            <a:ext cx="14472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26"/>
          <p:cNvSpPr/>
          <p:nvPr/>
        </p:nvSpPr>
        <p:spPr>
          <a:xfrm>
            <a:off x="4284720" y="1052640"/>
            <a:ext cx="14436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27"/>
          <p:cNvSpPr/>
          <p:nvPr/>
        </p:nvSpPr>
        <p:spPr>
          <a:xfrm>
            <a:off x="6300720" y="1413000"/>
            <a:ext cx="14436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ижний колонтитул 1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" descr="New-1"/>
          <p:cNvPicPr/>
          <p:nvPr/>
        </p:nvPicPr>
        <p:blipFill>
          <a:blip r:embed="rId1"/>
          <a:stretch/>
        </p:blipFill>
        <p:spPr>
          <a:xfrm>
            <a:off x="533520" y="762120"/>
            <a:ext cx="8129520" cy="541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5330880" y="6248520"/>
            <a:ext cx="26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Tafalla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t al.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2002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4648320" y="518148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4420440" y="525780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5 000 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6553080" y="5181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6550200" y="525780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0.1 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звездное ядр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15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равномерное содержание молеку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зобраться в событиях, происходящих в молекулярных облаках, по наблюдениям молекул невозможно без моделирования химических процессов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ижний колонтитул 1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09480" y="2057400"/>
            <a:ext cx="7848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Широко простирает химия руки свои в дела человеческие. Куда ни посмотрим, куда ни оглянемся, везде обращаются перед очами нашими успехи ее прилежания.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17524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. В. Ломоно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rs are among the most fundamental building blocks of the universe, and yet the processes by which they are formed are not understoo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284360" y="5444640"/>
            <a:ext cx="4267080" cy="9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ek Ward-Thomp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January 4,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работает межзвездный химический реактор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029"/>
          <p:cNvSpPr/>
          <p:nvPr/>
        </p:nvSpPr>
        <p:spPr>
          <a:xfrm>
            <a:off x="380160" y="5334120"/>
            <a:ext cx="8318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жзвездная химия сильно отличается от земной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иды газофазных химических реакц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1072800" y="1905120"/>
            <a:ext cx="6828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йтраль-нейтральные реа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акции с космическими луч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он-молекулярные реа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акции диссоциативной рекомбин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тореа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йтраль-нейтральные реа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5790960" cy="14000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519480" y="1108080"/>
            <a:ext cx="39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здание химических связ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2"/>
          <a:stretch/>
        </p:blipFill>
        <p:spPr>
          <a:xfrm>
            <a:off x="304920" y="3429000"/>
            <a:ext cx="5790960" cy="14000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457560" y="3429000"/>
            <a:ext cx="52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распределение химических связ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он-молекулярные реа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9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790960" cy="1400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5790960" cy="14000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1"/>
          <p:cNvSpPr/>
          <p:nvPr/>
        </p:nvSpPr>
        <p:spPr>
          <a:xfrm>
            <a:off x="381240" y="1752480"/>
            <a:ext cx="52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распределение химических связ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916200" y="365760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мен заряд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6324480" y="1752480"/>
            <a:ext cx="263376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сокие скорости при низких температур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акции с космическими луч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5790960" cy="13906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444240" y="95580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акции ион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304920" y="2590920"/>
            <a:ext cx="32763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 + CRP = H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e + CRP = 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H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4724280" y="2819520"/>
            <a:ext cx="3124440" cy="27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3·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6.0·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~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акции диссоциативной рекомбина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5790960" cy="1390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967760" y="2413080"/>
            <a:ext cx="365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рыв химических связ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отореа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790960" cy="1400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"/>
          <p:cNvPicPr/>
          <p:nvPr/>
        </p:nvPicPr>
        <p:blipFill>
          <a:blip r:embed="rId2"/>
          <a:stretch/>
        </p:blipFill>
        <p:spPr>
          <a:xfrm>
            <a:off x="1676520" y="2895480"/>
            <a:ext cx="5790960" cy="14004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7"/>
          <p:cNvSpPr/>
          <p:nvPr/>
        </p:nvSpPr>
        <p:spPr>
          <a:xfrm>
            <a:off x="1891800" y="1488960"/>
            <a:ext cx="365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рыв химических связ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имические базы данны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UMIST95 (University of Manches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коло 400 компонентов и 3864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акции, в том числ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0 реакций с космическими луч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803 ион-молекулярных реак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9 фотореакций, индуцированных космическими луч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94 нейтраль-нейтральных реак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33 реакции диссоциативной рекомбин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50 фотореак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New Standard Model (Ohio State Univers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коло 400 компонентов 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203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акции, в том числ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9 реакций с космическими луч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935 ион-молекулярных реак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35 фотореакций, индуцированных космическими луч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09 нейтраль-нейтральных реак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04 реакции диссоциативной рекомбин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72 фотореак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Herbst &amp; Clemperer (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1973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7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мпонентов 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0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акций (5 наблюдаемых молекул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Bettens &amp; Herbst (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1995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коло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00 компонентов 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000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ак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имия усложняетс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Object 4"/>
          <p:cNvGraphicFramePr/>
          <p:nvPr/>
        </p:nvGraphicFramePr>
        <p:xfrm>
          <a:off x="457200" y="1676520"/>
          <a:ext cx="8238960" cy="34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238960" cy="34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AutoShape 6"/>
          <p:cNvSpPr/>
          <p:nvPr/>
        </p:nvSpPr>
        <p:spPr>
          <a:xfrm>
            <a:off x="4343400" y="32004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4343400" y="41148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8"/>
          <p:cNvSpPr/>
          <p:nvPr/>
        </p:nvSpPr>
        <p:spPr>
          <a:xfrm>
            <a:off x="4343400" y="2209680"/>
            <a:ext cx="380880" cy="38124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Молекулярный водород в газовой фазе почти</a:t>
            </a: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не образуется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2210400" y="2133720"/>
            <a:ext cx="448776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хчастичные столкнов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+ H + 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чен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чень медленная реакц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чень медленная реакц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09480" y="2057400"/>
            <a:ext cx="7848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Звезды представляют собой один из самых фундаментальных элементов Вселенно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тем не менее процессы, в результате которых они образуются, нам непонятны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7524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ре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р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мпс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 январ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разование молекулярного водорода на пы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5486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томы водорода прилипают к пылинк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мещаясь по поверхности пылинки, атомы сталкиваются друг с другом и образуют молекул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нергия, выделившаяся при образовании молекулы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отрывает ее от пылин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6172200" y="1371600"/>
            <a:ext cx="266688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верхностные химические реа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ние молекулярного водор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ние молекул, насыщенных водоро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ние гомогенных молекул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ние простейших органических молеку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верхностные реакции с участием С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3657600" y="609480"/>
          <a:ext cx="449568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609480"/>
                    <a:ext cx="44956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Text Box 5"/>
          <p:cNvSpPr/>
          <p:nvPr/>
        </p:nvSpPr>
        <p:spPr>
          <a:xfrm>
            <a:off x="155160" y="2438280"/>
            <a:ext cx="3129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ечные продукт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льдеги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тано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ано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метиловый эфи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равьиная кисл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сорбц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пловая десорбция (энергия связ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сорбция космическими лучами (температура нагрев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тодесорбция (вероятность отрыв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имическая десорб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Нижний колонтитул 1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rcRect l="27630" t="17341" r="39301" b="37967"/>
          <a:stretch/>
        </p:blipFill>
        <p:spPr>
          <a:xfrm>
            <a:off x="5557680" y="0"/>
            <a:ext cx="358632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3"/>
          <p:cNvSpPr/>
          <p:nvPr/>
        </p:nvSpPr>
        <p:spPr>
          <a:xfrm>
            <a:off x="0" y="1905120"/>
            <a:ext cx="5410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лекулярное облако распадается на несколько гравитационно связанных ядер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которых изначально силам притяжения противодействуют теплово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гнитное и турбулентное давлени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и ядра в течение некоторого времени пребывают в стационарном состоянии, а затем в результате амбиполярной диффузии, диссипации турбулентности или под воздействием внешнего импульс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ановятся гравитационно неустойчивыми и коллапсируют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54100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бщая картина звездообразо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Что и зачем моделироват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903960" y="1773360"/>
            <a:ext cx="768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ение плотности, температуры, магнитного по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следование поля скорос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ение возраста («химические часы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тная связь с динамик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схождение жиз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ение плотности и температ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rcRect l="11721" t="11458" r="7032" b="11458"/>
          <a:stretch/>
        </p:blipFill>
        <p:spPr>
          <a:xfrm>
            <a:off x="611280" y="620640"/>
            <a:ext cx="79246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агнитные пол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уговая поляризация (эффект Зееман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оская поляризация (эффект Голдрайка -Килафис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ормирование линий в коллапсирующем облак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4" descr="infall1"/>
          <p:cNvPicPr/>
          <p:nvPr/>
        </p:nvPicPr>
        <p:blipFill>
          <a:blip r:embed="rId1"/>
          <a:stretch/>
        </p:blipFill>
        <p:spPr>
          <a:xfrm>
            <a:off x="1523880" y="1600200"/>
            <a:ext cx="6058080" cy="41148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5"/>
          <p:cNvSpPr/>
          <p:nvPr/>
        </p:nvSpPr>
        <p:spPr>
          <a:xfrm>
            <a:off x="457200" y="571500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тически толстые линии в коллапсирующем облаке имеют характерную двугорбую форму с неравной высотой п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знаки коллапса в наблюдения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3" descr="B335"/>
          <p:cNvPicPr/>
          <p:nvPr/>
        </p:nvPicPr>
        <p:blipFill>
          <a:blip r:embed="rId1"/>
          <a:stretch/>
        </p:blipFill>
        <p:spPr>
          <a:xfrm>
            <a:off x="1143000" y="1066680"/>
            <a:ext cx="6980400" cy="388332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914400" y="4952880"/>
            <a:ext cx="784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фили линий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335 (Choi et al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5)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плошные линии — наблюдения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Zhou et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93)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штриховые линии — модель с относительным содержанием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 5.5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максимальной скоростью коллапса на расстояни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пс от центра облак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80880" y="1447920"/>
            <a:ext cx="8305920" cy="36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66cc"/>
                </a:solidFill>
                <a:latin typeface="Times New Roman"/>
              </a:rPr>
              <a:t>Почему звезды образуются так медленно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поставление динамического времени и массы гигантских молекулярных облаков дает оценку скорости звездообразования в Галактик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сс Солнца в го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Реальное значение не превышает 15 масс Солнца в го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66cc"/>
                </a:solidFill>
                <a:latin typeface="Times New Roman"/>
              </a:rPr>
              <a:t>Почему звезды образуются так быстро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близительно половина плотных ядер содержит точечные инфракрасные источник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тозвезд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ктически нет молекулярных облаков, в которых звездообразование еще не началось. Практически нет молекулярных облаков, в которых звездообразование уже закончилос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знаки коллапса в наблюдения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1064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имические час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грев и охлажд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гре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тодиссоциация молекулярного водор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тоионизация нейтрального углер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тоэлектрическая эмиссия с поверхности пыли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ование молекулярного водорода на поверхности пыли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грев в результате ионизации космическими луч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Охлажд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хлаждение в молекулярных лини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исхождение жизн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220760" y="2590920"/>
            <a:ext cx="668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ческие молекулы в молекулярных облак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ческие молекулы в кометах и метеорит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спех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-Roman"/>
              </a:rPr>
              <a:t>Корректно воспроизведены содержания основных молекул (CO) и большинства второстепенных молеку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-Roman"/>
              </a:rPr>
              <a:t>Объяснено наличие в молекулярных облаках радикалов, ионов и изомеров, а также ненасыщенных органических молекул (несмотря на изобилие водород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-Roman"/>
              </a:rPr>
              <a:t>Объяснено повышенное содержание молекул, содержащих дейтер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ерспектив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тальная информация о распределении молекул в областях звездообраз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егалактическая астрохимия (в частности, на больших красных смещениях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ещество, из которого образуются звезды,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актически невидимо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250920" y="22050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е, что происходит в молекулярных облаках, в частности, в протозвездных объектах, — происходит с молекулярным водород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68580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чем проблем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395280" y="3573360"/>
            <a:ext cx="8201160" cy="24465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622800" y="3581280"/>
            <a:ext cx="2952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инии Н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 ИК-области спект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152280" y="60958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 его линии в областях звездообразования слишком слаб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362320"/>
            <a:ext cx="784872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лекулярный водород — основная, но не единственная молекула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49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о молекул в Космосе нет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2268360" y="4365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зкая температу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зкая плот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ссоциирующие излу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333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жзвездное пространство не пусто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39640" y="155736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ршель (светлые туманности состоят из светящейся жидкост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уве (Каптейн, Барнард — неравномерность поглощени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юмплер (пыл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артманн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0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звездное поглощени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Юэн, Парселл (1951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 2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5558760" y="6165720"/>
            <a:ext cx="35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..хотя они есть в комет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597960" y="41400"/>
            <a:ext cx="39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До сороковых годов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XX </a:t>
            </a: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лекулы в Космосе есть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686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930-е гг. —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, CN, C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линии поглощ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60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 гг. —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,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радиолини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ше время — 137 молекул, не считая изотопомеров (с изотопомерами 2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6443640" y="3213000"/>
            <a:ext cx="2165400" cy="32148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543240" y="3213000"/>
            <a:ext cx="488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ые переходы (видимый све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лебательные переходы (ИК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ащательные переходы (радио, субмм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669960" y="4537080"/>
            <a:ext cx="519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м на возможность наблюдения молекул в радиодиапазоне указал И.С. Шкловс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0" y="0"/>
            <a:ext cx="914400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Список известных межзвездных и околозвездных молеку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cv.nrao.edu/~awootten/allmols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двух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AlF AlCl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 CH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N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P CS CSi HCl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KCl NH NO NS NaCl OH PN SO 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SiN SiO SiS HF 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трех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S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CN HCO HCO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CS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OC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S HNC HNO MgCN MgNC N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NaCN OCS 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-Si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N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6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SiC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четырех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-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l-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S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? HCCN HCNH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NCO HNCS HOCO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O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N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S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N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Si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пят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Si l-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-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N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C HCOOH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N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CN HN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Si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OH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шест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N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C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SH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H+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O HCON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l-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сем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CN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HCO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N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-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OH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восьм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HCOO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OOH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OHCH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девят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N (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десят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? (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O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N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OOH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одиннадцати атомов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тринадцати атомов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C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 rot="19089600">
            <a:off x="4724640" y="4571280"/>
            <a:ext cx="413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зобилие радикалов и ненасыщенных водородом молеку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3T15:10:08Z</dcterms:created>
  <dc:creator>Dmitri Wiebe</dc:creator>
  <dc:description/>
  <dc:language>en-US</dc:language>
  <cp:lastModifiedBy>LEGION</cp:lastModifiedBy>
  <dcterms:modified xsi:type="dcterms:W3CDTF">2015-05-01T10:59:33Z</dcterms:modified>
  <cp:revision>100</cp:revision>
  <dc:subject/>
  <dc:title>Химия звездообразования</dc:title>
</cp:coreProperties>
</file>