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2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13.wmf" ContentType="image/x-wmf"/>
  <Override PartName="/ppt/media/image30.png" ContentType="image/png"/>
  <Override PartName="/ppt/media/image6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11.png" ContentType="image/png"/>
  <Override PartName="/ppt/media/image9.jpeg" ContentType="image/jpeg"/>
  <Override PartName="/ppt/media/image23.wmf" ContentType="image/x-wmf"/>
  <Override PartName="/ppt/media/image1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25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D1EC-12A6-4CBA-B9DD-5394E809B3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ы в Космос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90AB-6EE6-4D37-A20D-0EF650B743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D82B-DBC2-4E23-859B-6E0A954C19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ные нашли в космос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ромное облако спир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вездочеты нашли в космосе рай дл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ьяниц — гигантскую массу чист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р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ни наткнулись на таинственное облак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зея в свои телескопы на далек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везд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з несколько месяцев исследова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поняли, что таинственный объек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ит достаточно спирта, чтоб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готовить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00 триллионов триллион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нт пива. Это составляет 300000 пин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жедневно для каждого жителя Земли 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ующий миллиард лет... Облако находится близ молодой звезд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34.3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звездии Орла... Тепло этой звезды производит больше спирта, чем все пивные и ликеро-водочные заводы Земли, вместе взятые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769B-E08B-4118-AF67-6C62FFA9A6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ранить в прохладном, защищенном от света мест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звездные оболо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ярные обл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2816-63A7-46C0-BC99-EC73859312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та Млечного Пути в линии молекулы 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9808-5FBD-45EF-AA35-53AB705E62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бласти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Гигантские молекулярные облак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0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Молекулярные облак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Плотные ядр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0.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BDD0-0564-4ECD-893B-2F037ABD0B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некоторых молекул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MC-1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отношению к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2017-EFFE-4464-AB46-2C1A89C856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ворится на кухн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2590-B28C-4451-840D-D3AC9F162E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еззвездное ядр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15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DFE7-A812-424C-B18D-34FD59AF35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обраться в событиях, происходящих в молекулярных облаках, по наблюдениям молекул невозможно без моделирования химических процессов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2973-DFEA-4239-A2AC-67BC5236A4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Широко простирает химия руки свои в дела человеческие. Куда ни посмотрим, куда ни оглянемся, везде обращаются перед очами нашими успехи ее прилежания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B2EF-524D-4CF2-9D3C-8E38AF64C8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s are among the most fundamental building blocks of the universe, and yet the processes by which they are formed are not understoo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8381-2C15-49B1-A560-C550FB7B57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ботает межзвездный химический реактор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ADD9-F698-42AA-B82A-00D5DE27B6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газофазных химически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йтраль-нейтраль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кции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он-молекуляр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5761-DF53-4947-80A1-F02B27DE98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йтраль-нейтраль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2E4F-F040-432C-9B6E-05B1E5B2A7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он-молекуляр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ие скорости при низких температур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ADCF-67D1-405C-A739-05F2E17956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кции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 + CRP = H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e + CRP = 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.3·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6.0·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~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EA42-8B0D-4485-8AED-D36467E785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81B4-05B9-402F-A3D3-1498D9C463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ABC2-3326-4CC3-88DC-6EE90C149C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 базы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UMIST95 (University of Manches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400 компонентов и 386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 реакций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03 ион-молекулярных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9 фотореакций, индуцированных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4 нейтраль-нейтральных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33 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0 фото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New Standard Model (Ohio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400 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203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 реакций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35 ион-молекулярны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5 фотореакций, индуцированных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9 нейтраль-нейтральны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4 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2 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Herbst &amp; Clemperer (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973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7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й (5 наблюдаемых молеку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Bettens &amp; Herbst (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995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00 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00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3A57-1223-4542-A51E-635A5FC734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я усложняе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5825-4C74-4641-996F-3FC929931C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олекулярный водород в газовой фазе почти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е образуе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хчастичные столкнове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+ H 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1C91-842C-474F-B743-2E8B41D727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Звезды представляют собой один из самых фундаментальных элементов Вселенно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тем не менее процессы, в результате которых они образуются, нам непонятн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3413-28FA-4DEC-BB09-C114F0DED8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ование молекулярного водорода на пы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томы водорода прилипают к пыли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щаясь по поверхности пылинки, атомы сталкиваются друг с другом и образуют молекул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ергия, выделившаяся при образовании молекул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отрывает ее от пыли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40D7-28E7-4C40-A671-6E4650C06F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рхностные химически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, насыщенных водород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гомогенных молекул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простейших органических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2377-FE1B-4395-A94F-D89E0F1A1F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рхностные реакции с участием 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ечные продук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ьдеги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ан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н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метиловый эфи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7CD1-5119-4B39-94B9-D4FDD57AC3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сорб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ловая десорбция (энергия связ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сорбция космическими лучами (температура нагре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десорбция (вероятность отры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мическая десорб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DBEF-852E-4D0F-8CE0-79FDC54417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щая картина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ярное облако распадается на несколько гравитационно связанных яде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которых изначально силам притяжения противодействуют теплово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гнитное и турбулентное давлени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ти ядра в течение некоторого времени пребывают в стационарном состоянии, а затем в результате амбиполярной диффузии, диссипации турбулентности или под воздействием внешнего импульс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ановятся гравитационно неустойчивыми и коллапсируют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C9B4-BBA6-440F-99E4-25D0D8EA18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Что и зачем моделиро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лотности, температуры, магнитного п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е поля скор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возраста («химические часы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тная связь с динами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ждение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7BC1-188D-46A9-9255-F8AC49D2C3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плотности и темпера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5DD1-B05B-4780-92AD-FB55BA1FB6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гнитные п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вая поляризация (эффект Зееман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оская поляризация (эффект Голдрайка -Килафис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3487-2105-41C0-BD9B-8C273E83B7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ние линий в коллапсирующем обла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чески толстые линии в коллапсирующем облаке имеют характерную двугорбую форму с неравной высотой п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478D-E660-4C44-A28E-5B583D18D3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или линий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335 (Choi et al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)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лошные линии — наблюдения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hou et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3)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триховые линии — модель с относительным содержание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.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максимальной скоростью коллапса на расстоянии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с от центра облак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C2EC-6505-477E-B04E-D48877AF67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медленно</a:t>
            </a: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поставление динамического времени и массы гигантских молекулярных облаков дает оценку скорости звездообразования в Галактик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с Солнца в го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альное значение не превышает 15 масс Солнца в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быстро</a:t>
            </a: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лизительно половина плотных ядер содержит точечные инфракрасные источник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звезд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нет молекулярных облаков, в которых звездообразование еще не началось. Практически нет молекулярных облаков, в которых звездообразование уже закончило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B34F-AB30-4ADD-9E58-F70129CFB0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1908-54C1-4170-A1CC-31E487D789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 ча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DD3A-0FE9-4D6C-BB7A-5F5BD1633B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грев и охлаж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Нагр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диссоциация молекулярного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ионизация нейтрального угле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электрическая эмиссия с поверхности пыли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 на поверхности пыли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ев в результате ионизации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Охлаж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лаждение в молекулярных ли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21ED-5637-4F16-AC57-D52E3A9CBA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схождение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ческие молекулы в молекулярных облак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ческие молекулы в кометах и метеорит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1B4D-B503-4BB7-8ACE-559FD2EDB3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пех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Корректно воспроизведены содержания основных молекул (CO) и большинства второстепенных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Объяснено наличие в молекулярных облаках радикалов, ионов и изомеров, а также ненасыщенных органических молекул (несмотря на изобилие водород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Объяснено повышенное содержание молекул, содержащих дейтер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2AB7-C84A-437A-A262-C88975827B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альная информация о распределении молекул в областях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галактическая астрохимия (в частности, на больших красных смещениях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A787-EF96-4F65-A24E-6A301B9F3F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Вещество, из которого образуются звезды,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рактически невидимо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, что происходит в молекулярных облаках, в частности, в протозвездных объектах, — происходит с молекулярным водоро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 его линии в областях звездообразования слишком сла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1ECF-9B9A-4852-97D0-04BAC0979D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ярный водород — основная, но не единственная молекула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8D09-18DF-483C-A633-3250E88B19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звездное пространство не пуст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ршель (светлые туманности состоят из светящейся жидк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ве (Каптейн, Барнард — неравномерность поглощ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юмплер (пы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тманн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звездное поглощ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эн, Парселл (1951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2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 молекул в Космосе нет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темп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пло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социирующие изл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9F31-3FA0-4B82-B185-378A21C4FF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ы в Космосе есть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30-е гг. 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, CN, C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линии поглощ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гг. 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, 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радиолин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е время — 137 молекул, не считая изотопомеров (с изотопомерами 2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лектронные переходы (видимый све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ебательные переходы (И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щательные переходы (радио, субм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м на возможность наблюдения молекул в радиодиапазоне указал И.С. Шкловск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0C5B-4E57-4FC1-979E-86E1AFEF18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Список известных межзвездных и околозвездных молеку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v.nrao.edu/~awootten/allmol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ву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AlF AlCl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 C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N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P CS CSi HCl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KCl NH NO NS NaCl OH PN SO 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N SiO SiS HF 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тре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N HCO H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S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OC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HNC HNO MgCN MgNC N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aCN OCS 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-Si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четыре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l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? HCCN HCN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NCO HNCS HO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S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п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i l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 HCOOH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N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N HN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шес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H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H+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O HCO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l-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сем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CN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O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O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восьм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OO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O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OHCH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ев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(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ес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? (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OO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одиннадцати атомо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тринадцати атомов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C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2C54-49CB-450E-BFE3-69B4396B79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FF87A-D8FC-48E9-A18B-11DC28189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EDE69-E49A-4B1A-A785-77D058B87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57D26-279A-44CC-9544-B8A4C9E81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C7F9C-B2F0-4841-9893-D200009E55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F140D-C462-4C28-96D9-A0A71B64EE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637C9-6DFA-4FF8-81AC-7B1A2063D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96086-95C0-4162-8026-0D5873D74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CB0A8-54B8-4A4A-B732-BDC65FD95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2145-D921-4879-B6FC-005C93B7E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251BB-634B-46DA-9AD2-F3A738ED5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E97AD-5CCA-4079-8466-FC28E3CC6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1C004-7757-4072-A8B5-070E72DD7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8152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E563-3645-4E71-9722-A67271A7E3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ижний колонтитул 3"/>
          <p:cNvSpPr/>
          <p:nvPr/>
        </p:nvSpPr>
        <p:spPr>
          <a:xfrm>
            <a:off x="0" y="6426360"/>
            <a:ext cx="28954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46040"/>
            <a:ext cx="7778880" cy="1425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лекулы в Космос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06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. З. Ви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итут астрономии Р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H2CO"/>
          <p:cNvPicPr/>
          <p:nvPr/>
        </p:nvPicPr>
        <p:blipFill>
          <a:blip r:embed="rId1"/>
          <a:stretch/>
        </p:blipFill>
        <p:spPr>
          <a:xfrm>
            <a:off x="3203640" y="3911760"/>
            <a:ext cx="2735280" cy="2563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628360" y="2152800"/>
            <a:ext cx="434124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АСТРОХИМ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уктура молеку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C3H2"/>
          <p:cNvPicPr/>
          <p:nvPr/>
        </p:nvPicPr>
        <p:blipFill>
          <a:blip r:embed="rId1"/>
          <a:stretch/>
        </p:blipFill>
        <p:spPr>
          <a:xfrm>
            <a:off x="152280" y="1143000"/>
            <a:ext cx="2671920" cy="252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Ethanol"/>
          <p:cNvPicPr/>
          <p:nvPr/>
        </p:nvPicPr>
        <p:blipFill>
          <a:blip r:embed="rId2"/>
          <a:stretch/>
        </p:blipFill>
        <p:spPr>
          <a:xfrm>
            <a:off x="5943600" y="838080"/>
            <a:ext cx="2727360" cy="241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H2CO"/>
          <p:cNvPicPr/>
          <p:nvPr/>
        </p:nvPicPr>
        <p:blipFill>
          <a:blip r:embed="rId3"/>
          <a:stretch/>
        </p:blipFill>
        <p:spPr>
          <a:xfrm>
            <a:off x="457200" y="3886200"/>
            <a:ext cx="2192400" cy="2054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C7N"/>
          <p:cNvPicPr/>
          <p:nvPr/>
        </p:nvPicPr>
        <p:blipFill>
          <a:blip r:embed="rId4"/>
          <a:stretch/>
        </p:blipFill>
        <p:spPr>
          <a:xfrm>
            <a:off x="2971800" y="1219320"/>
            <a:ext cx="2759040" cy="292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AH"/>
          <p:cNvPicPr/>
          <p:nvPr/>
        </p:nvPicPr>
        <p:blipFill>
          <a:blip r:embed="rId5"/>
          <a:stretch/>
        </p:blipFill>
        <p:spPr>
          <a:xfrm>
            <a:off x="6248520" y="3352680"/>
            <a:ext cx="2630520" cy="3281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CN"/>
          <p:cNvPicPr/>
          <p:nvPr/>
        </p:nvPicPr>
        <p:blipFill>
          <a:blip r:embed="rId6"/>
          <a:stretch/>
        </p:blipFill>
        <p:spPr>
          <a:xfrm>
            <a:off x="2971800" y="426708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1996560" y="1295280"/>
            <a:ext cx="78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209760" y="144792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18840" y="396252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355920" y="44197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960160" y="914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251040" y="61722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boffins"/>
          <p:cNvPicPr/>
          <p:nvPr/>
        </p:nvPicPr>
        <p:blipFill>
          <a:blip r:embed="rId1"/>
          <a:stretch/>
        </p:blipFill>
        <p:spPr>
          <a:xfrm>
            <a:off x="380880" y="0"/>
            <a:ext cx="4019760" cy="6248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708440" y="192240"/>
            <a:ext cx="43275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ые нашли в космо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омное облако спи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вездочеты нашли в космосе рай дл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ьяниц — гигантскую массу чист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ир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Они наткнулись на таинственное облак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азея в свои телескопы на далек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везд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ез несколько месяцев исследован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и поняли, что таинственный объек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держит достаточно спирта, чтоб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готови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00 триллионов триллион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нт пива. Это составляет 300000 пин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жедневно для каждого жителя Земли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дующий миллиард лет... Облако находится близ молодой звезд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34.3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звездии Орла... Тепло этой звезды производит больше спирта, чем все пивные и ликеро-водочные заводы Земли, вместе взятые.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ранить в прохладном, защищенном от света мест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8000" y="2420640"/>
            <a:ext cx="532944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е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олозвездные оболоч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ярные обл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рта Млечного Пути в линии молекулы С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03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4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ласти звезд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игантские молекулярные обла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олекулярные обла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лотные ядр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0.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0" t="0" r="0" b="670"/>
          <a:stretch/>
        </p:blipFill>
        <p:spPr>
          <a:xfrm>
            <a:off x="0" y="2492280"/>
            <a:ext cx="914400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ние некоторых молекул 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MC-1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по отношению к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1371600"/>
          <a:ext cx="7772400" cy="40845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–1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–17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O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7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66"/>
          <p:cNvSpPr/>
          <p:nvPr/>
        </p:nvSpPr>
        <p:spPr>
          <a:xfrm>
            <a:off x="2499840" y="575640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лекул очень мало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ворится на кухн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1143000" y="762120"/>
          <a:ext cx="68580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68580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Group 12"/>
          <p:cNvGrpSpPr/>
          <p:nvPr/>
        </p:nvGrpSpPr>
        <p:grpSpPr>
          <a:xfrm>
            <a:off x="3348000" y="2781360"/>
            <a:ext cx="863640" cy="360360"/>
            <a:chOff x="3348000" y="2781360"/>
            <a:chExt cx="863640" cy="360360"/>
          </a:xfrm>
        </p:grpSpPr>
        <p:sp>
          <p:nvSpPr>
            <p:cNvPr id="122" name="AutoShape 7"/>
            <p:cNvSpPr/>
            <p:nvPr/>
          </p:nvSpPr>
          <p:spPr>
            <a:xfrm>
              <a:off x="334800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AutoShape 8"/>
            <p:cNvSpPr/>
            <p:nvPr/>
          </p:nvSpPr>
          <p:spPr>
            <a:xfrm>
              <a:off x="3564000" y="292428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AutoShape 9"/>
            <p:cNvSpPr/>
            <p:nvPr/>
          </p:nvSpPr>
          <p:spPr>
            <a:xfrm>
              <a:off x="385128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0"/>
            <p:cNvSpPr/>
            <p:nvPr/>
          </p:nvSpPr>
          <p:spPr>
            <a:xfrm>
              <a:off x="406728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>
              <a:off x="3780000" y="2781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19"/>
          <p:cNvGrpSpPr/>
          <p:nvPr/>
        </p:nvGrpSpPr>
        <p:grpSpPr>
          <a:xfrm>
            <a:off x="2987640" y="3500280"/>
            <a:ext cx="3745080" cy="649440"/>
            <a:chOff x="2987640" y="3500280"/>
            <a:chExt cx="3745080" cy="649440"/>
          </a:xfrm>
        </p:grpSpPr>
        <p:sp>
          <p:nvSpPr>
            <p:cNvPr id="128" name="AutoShape 13"/>
            <p:cNvSpPr/>
            <p:nvPr/>
          </p:nvSpPr>
          <p:spPr>
            <a:xfrm>
              <a:off x="2987640" y="364500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14"/>
            <p:cNvSpPr/>
            <p:nvPr/>
          </p:nvSpPr>
          <p:spPr>
            <a:xfrm>
              <a:off x="3708360" y="371628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15"/>
            <p:cNvSpPr/>
            <p:nvPr/>
          </p:nvSpPr>
          <p:spPr>
            <a:xfrm>
              <a:off x="3924360" y="400536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16"/>
            <p:cNvSpPr/>
            <p:nvPr/>
          </p:nvSpPr>
          <p:spPr>
            <a:xfrm>
              <a:off x="4932360" y="3500280"/>
              <a:ext cx="144360" cy="14472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5508720" y="400536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>
              <a:off x="6588000" y="3500280"/>
              <a:ext cx="144720" cy="14472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AutoShape 20"/>
          <p:cNvSpPr/>
          <p:nvPr/>
        </p:nvSpPr>
        <p:spPr>
          <a:xfrm>
            <a:off x="2556000" y="134136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21"/>
          <p:cNvSpPr/>
          <p:nvPr/>
        </p:nvSpPr>
        <p:spPr>
          <a:xfrm>
            <a:off x="2771640" y="206064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3780000" y="1052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3"/>
          <p:cNvSpPr/>
          <p:nvPr/>
        </p:nvSpPr>
        <p:spPr>
          <a:xfrm>
            <a:off x="4427640" y="1628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4"/>
          <p:cNvSpPr/>
          <p:nvPr/>
        </p:nvSpPr>
        <p:spPr>
          <a:xfrm>
            <a:off x="6084720" y="249228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5"/>
          <p:cNvSpPr/>
          <p:nvPr/>
        </p:nvSpPr>
        <p:spPr>
          <a:xfrm>
            <a:off x="5076720" y="119700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6"/>
          <p:cNvSpPr/>
          <p:nvPr/>
        </p:nvSpPr>
        <p:spPr>
          <a:xfrm>
            <a:off x="4284720" y="1052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27"/>
          <p:cNvSpPr/>
          <p:nvPr/>
        </p:nvSpPr>
        <p:spPr>
          <a:xfrm>
            <a:off x="6300720" y="141300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New-1"/>
          <p:cNvPicPr/>
          <p:nvPr/>
        </p:nvPicPr>
        <p:blipFill>
          <a:blip r:embed="rId1"/>
          <a:stretch/>
        </p:blipFill>
        <p:spPr>
          <a:xfrm>
            <a:off x="533520" y="762120"/>
            <a:ext cx="8129520" cy="541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5330880" y="6248520"/>
            <a:ext cx="26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Tafall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t al.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2002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4648320" y="51814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420440" y="525780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5 000 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6553080" y="5181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550200" y="52578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.1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звездное ядр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15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равномерное содержание молеку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обраться в событиях, происходящих в молекулярных облаках, по наблюдениям молекул невозможно без моделирования химических процессов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09480" y="205740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Широко простирает химия руки свои в дела человеческие. Куда ни посмотрим, куда ни оглянемся, везде обращаются перед очами нашими успехи ее прилежания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. В. Ломоно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s are among the most fundamental building blocks of the universe, and yet the processes by which they are formed are not understoo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284360" y="5444640"/>
            <a:ext cx="42670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ek Ward-Thom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January 4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работает межзвездный химический реактор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29"/>
          <p:cNvSpPr/>
          <p:nvPr/>
        </p:nvSpPr>
        <p:spPr>
          <a:xfrm>
            <a:off x="380160" y="5334120"/>
            <a:ext cx="8318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жзвездная химия сильно отличается от земной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ы газофазных химических реакц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1072800" y="1905120"/>
            <a:ext cx="682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йтраль-нейтральные 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с космическими луч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он-молекулярные 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диссоциативной рекомбин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то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йтраль-нейтральны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519480" y="110808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457560" y="342900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распределе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он-молекулярны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790960" cy="1400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1"/>
          <p:cNvSpPr/>
          <p:nvPr/>
        </p:nvSpPr>
        <p:spPr>
          <a:xfrm>
            <a:off x="381240" y="175248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распределе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916200" y="365760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мен заря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6324480" y="1752480"/>
            <a:ext cx="263376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кие скорости при низких температур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акции с космическими луч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5790960" cy="13906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444240" y="9558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акции ио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04920" y="2590920"/>
            <a:ext cx="3276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 + CRP = 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e + CRP =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724280" y="2819520"/>
            <a:ext cx="3124440" cy="27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3·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.0·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~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акции диссоциативной рекомбин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790960" cy="139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967760" y="241308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ыв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то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90960" cy="1400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5790960" cy="14004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1891800" y="148896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ыв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имические базы данны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UMIST95 (University of Manches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400 компонентов и 3864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 реакций с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803 ион-молекулярных 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9 фотореакций, индуцированных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94 нейтраль-нейтральных 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33 реакции диссоциативной рекомбин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0 фото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New Standard Model (Ohio State Univers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400 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203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 реакций с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935 ион-молекулярных 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35 фотореакций, индуцированных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9 нейтраль-нейтральных 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04 реакции диссоциативной рекомбин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72 фото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erbst &amp; Clemperer (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1973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7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й (5 наблюдаемых молеку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ettens &amp; Herbst (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1995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0 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00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имия усложняет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4"/>
          <p:cNvGraphicFramePr/>
          <p:nvPr/>
        </p:nvGraphicFramePr>
        <p:xfrm>
          <a:off x="457200" y="1676520"/>
          <a:ext cx="823896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23896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AutoShape 6"/>
          <p:cNvSpPr/>
          <p:nvPr/>
        </p:nvSpPr>
        <p:spPr>
          <a:xfrm>
            <a:off x="4343400" y="3200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343400" y="41148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4343400" y="2209680"/>
            <a:ext cx="380880" cy="38124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Молекулярный водород в газовой фазе почти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образуется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210400" y="2133720"/>
            <a:ext cx="44877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хчастичные столкнов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+ H 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09480" y="205740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Звезды представляют собой один из самых фундаментальных элементов Вселенно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ем не менее процессы, в результате которых они образуются, нам непонятны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р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мпс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январ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азование молекулярного водорода на пы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омы водорода прилипают к пылин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мещаясь по поверхности пылинки, атомы сталкиваются друг с другом и образуют молеку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ергия, выделившаяся при образовании молекул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трывает ее от пылин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6172200" y="1371600"/>
            <a:ext cx="266688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верхностные химически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молекул, насыщенных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гомогенных молекул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простейших органических молеку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ерхностные реакции с участием С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657600" y="609480"/>
          <a:ext cx="44956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609480"/>
                    <a:ext cx="44956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 Box 5"/>
          <p:cNvSpPr/>
          <p:nvPr/>
        </p:nvSpPr>
        <p:spPr>
          <a:xfrm>
            <a:off x="155160" y="2438280"/>
            <a:ext cx="3129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чные продук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ьдег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ан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н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метиловый эфи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сорб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вая десорбция (энергия свя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орбция космическими лучами (температура нагре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десорбция (вероятность отры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имическая десорб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rcRect l="27630" t="17341" r="39301" b="37967"/>
          <a:stretch/>
        </p:blipFill>
        <p:spPr>
          <a:xfrm>
            <a:off x="5557680" y="0"/>
            <a:ext cx="358632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0" y="190512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ярное облако распадается на несколько гравитационно связанных яде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которых изначально силам притяжения противодействуют теплово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гнитное и турбулентное давле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и ядра в течение некоторого времени пребывают в стационарном состоянии, а затем в результате амбиполярной диффузии, диссипации турбулентности или под воздействием внешнего импульс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новятся гравитационно неустойчивыми и коллапсирую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щая картина звездо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Что и зачем моделирова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903960" y="1773360"/>
            <a:ext cx="768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лотности, температуры, магнитного п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ние поля скор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возраста («химические часы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тная связь с динами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схождение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 плотности и темпе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rcRect l="11721" t="11458" r="7032" b="11458"/>
          <a:stretch/>
        </p:blipFill>
        <p:spPr>
          <a:xfrm>
            <a:off x="611280" y="620640"/>
            <a:ext cx="7924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гнитные по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говая поляризация (эффект Зееман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ская поляризация (эффект Голдрайка -Килафис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рмирование линий в коллапсирующем обла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infall1"/>
          <p:cNvPicPr/>
          <p:nvPr/>
        </p:nvPicPr>
        <p:blipFill>
          <a:blip r:embed="rId1"/>
          <a:stretch/>
        </p:blipFill>
        <p:spPr>
          <a:xfrm>
            <a:off x="1523880" y="1600200"/>
            <a:ext cx="6058080" cy="4114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457200" y="571500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чески толстые линии в коллапсирующем облаке имеют характерную двугорбую форму с неравной высотой п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3" descr="B335"/>
          <p:cNvPicPr/>
          <p:nvPr/>
        </p:nvPicPr>
        <p:blipFill>
          <a:blip r:embed="rId1"/>
          <a:stretch/>
        </p:blipFill>
        <p:spPr>
          <a:xfrm>
            <a:off x="1143000" y="1066680"/>
            <a:ext cx="6980400" cy="38833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495288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или лини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335 (Choi et al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)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лошные линии — наблюдени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hou e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3)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триховые линии — модель с относительным содержание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.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максимальной скоростью коллапса на расстояни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с от центра облак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80880" y="1447920"/>
            <a:ext cx="830592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медленно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поставление динамического времени и массы гигантских молекулярных облаков дает оценку скорости звездообразования в Галакти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сс Солнца в г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альное значение не превышает 15 масс Солнца в г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быстро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близительно половина плотных ядер содержит точечные инфракрасные источни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тозвезд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ктически нет молекулярных облаков, в которых звездообразование еще не началось. Практически нет молекулярных облаков, в которых звездообразование уже закончилос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имические ча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грев и охлаж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гр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диссоциация молекулярного вод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ионизация нейтрального 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электрическая эмиссия с поверхности пыли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 на поверхности пыли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ев в результате ионизации космическими луч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хлаж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лаждение в молекулярных ли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исхождение жиз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220760" y="2590920"/>
            <a:ext cx="66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ческие молекулы в молекулярных обла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ческие молекулы в кометах и метеорит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пех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Корректно воспроизведены содержания основных молекул (CO) и большинства второстепенных молеку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Объяснено наличие в молекулярных облаках радикалов, ионов и изомеров, а также ненасыщенных органических молекул (несмотря на изобилие водород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Объяснено повышенное содержание молекул, содержащих дейтер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альная информация о распределении молекул в областях звезд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галактическая астрохимия (в частности, на больших красных смещения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о, из которого образуются звезды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актически невидим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50920" y="22050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, что происходит в молекулярных облаках, в частности, в протозвездных объектах, — происходит с молекулярным водород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858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проблем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8201160" cy="2446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622800" y="3581280"/>
            <a:ext cx="295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нии 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ИК-области спек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52280" y="6095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его линии в областях звездообразования слишком слаб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ярный водород — основная, но не единственная молеку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49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 молекул в Космосе нет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268360" y="4365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ая темпера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ая пло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социирующие изл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333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жзвездное пространство не пусто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9640" y="155736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шель (светлые туманности состоят из светящейся жидко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уве (Каптейн, Барнард — неравномерность поглоще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юмплер (пыл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тман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звездное поглощ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эн, Парселл (1951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 2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558760" y="616572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..хотя они есть в коме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597960" y="41400"/>
            <a:ext cx="39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До сороковых годов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X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ы в Космосе есть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686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30-е гг.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, CN, C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линии поглощ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0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 гг.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радиолини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е время — 137 молекул, не считая изотопомеров (с изотопомерами 2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443640" y="3213000"/>
            <a:ext cx="2165400" cy="3214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43240" y="3213000"/>
            <a:ext cx="488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ые переходы (видимый све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ебательные переходы (И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ащательные переходы (радио, субм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69960" y="45370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м на возможность наблюдения молекул в радиодиапазоне указал И.С. Шклов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0"/>
            <a:ext cx="91440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Список известных межзвездных и околозвездных молеку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v.nrao.edu/~awootten/allmols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ву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AlF AlCl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 C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N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P CS CSi HCl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KCl NH NO NS NaCl OH PN SO 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N SiO SiS HF 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тре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N HCO H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S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OC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HNC HNO MgCN MgNC N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aCN OCS 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-Si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четыре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l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HCCN HCN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NCO HNCS HO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S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п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i l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 HCOOH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N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N HN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шес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H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H+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O HCO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l-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сем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CN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O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O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восьм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OO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O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HCH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ев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(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ес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? (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OO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одиннадцати атомо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тринадцати атомов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C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 rot="19089600">
            <a:off x="4724640" y="4571280"/>
            <a:ext cx="413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зобилие радикалов и ненасыщенных водородом молек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5:10:08Z</dcterms:created>
  <dc:creator>Dmitri Wiebe</dc:creator>
  <dc:description/>
  <dc:language>en-US</dc:language>
  <cp:lastModifiedBy>LEGION</cp:lastModifiedBy>
  <dcterms:modified xsi:type="dcterms:W3CDTF">2015-05-01T10:59:33Z</dcterms:modified>
  <cp:revision>100</cp:revision>
  <dc:subject/>
  <dc:title>Химия звездообразования</dc:title>
</cp:coreProperties>
</file>