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2.wmf" ContentType="image/x-wmf"/>
  <Override PartName="/ppt/media/image29.jpeg" ContentType="image/jpeg"/>
  <Override PartName="/ppt/media/image5.png" ContentType="image/png"/>
  <Override PartName="/ppt/media/image8.jpeg" ContentType="image/jpeg"/>
  <Override PartName="/ppt/media/image13.wmf" ContentType="image/x-wmf"/>
  <Override PartName="/ppt/media/image30.png" ContentType="image/png"/>
  <Override PartName="/ppt/media/image6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1.png" ContentType="image/png"/>
  <Override PartName="/ppt/media/image9.jpeg" ContentType="image/jpeg"/>
  <Override PartName="/ppt/media/image23.wmf" ContentType="image/x-wmf"/>
  <Override PartName="/ppt/media/image12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wmf" ContentType="image/x-wmf"/>
  <Override PartName="/ppt/media/image25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3EA9-C3EB-4C06-A6FA-3A5A6AC50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0CE1-6A81-42B5-95F8-29851B2678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957B-1163-4842-92BD-843B44F7860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C1E0-C352-42BA-AF6F-1A13598D96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00FB-0279-48B4-9A67-5B422D93A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43ED-8273-4DCD-98D4-E4889A82F1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D7CB-736A-41F4-94B9-1F3F94B55D5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AB8D-687C-48D3-BFC2-6A0CBD0F7F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5A86-E95D-4918-A388-C2A3D2ED520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BE7E3-BDD5-4971-B450-932D008245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18C8-3068-4DA7-9289-8517CFEE21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9644-BE4A-4B78-9913-CE2F9D17A2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9524F-7502-4C42-B81F-B367510289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9CC1-0545-4E89-BEBF-B9C65C1CDA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BCAB-9776-49EC-A97F-A50FC337B1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D95E-0836-4950-B9B7-54B28C172C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5F48-F7C4-4810-A901-5C120E3827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1272-E5E3-4EC0-B1DB-037D9B3A22D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3578-7C09-4854-AEA4-93502D43A69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AE27-DE18-42D7-93CD-FE34BDE57B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8D97-6864-4C9B-8C19-D395E8CC96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B010-4891-4EA5-85BD-CB5CC88EEF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1200"/>
            </a:b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0559-7D2F-4C8C-9D3A-CE9CF65ED61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35A6-F0EA-47CA-84EC-FCF74C72549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DF05-8D05-41D0-9FE8-0B4872A362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EC9D-E34E-4DA8-9F41-B0E7868C9C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DBD8-98F8-46F6-96A4-E298E0469EC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0417-71C7-437C-9D7F-800A703856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7DFB-610A-4086-BFEA-27DF0F98186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41B4-1236-4392-86B9-F833D23148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7A77-9DC0-42D2-9211-0F79680B9D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B1A1-2D2C-46D8-8474-BADB72E89A9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6C6F-0743-4770-ADC4-9A6E047186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12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76A-CC4F-4D79-9263-725CCC7AF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16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F2A46-90A5-4BC6-B0A6-A8AD5B47A2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323B-B914-4A05-886B-9CA6BEE3A7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B309-51A2-4FA8-8C98-0F3EE0F5C3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3C51-7004-4457-A275-4063E7D008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E466-667B-4861-8EE7-54E459E89F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270E-9F0D-4740-BBEA-0E37F422E1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5BD1-0BCC-43AB-84A0-681F2880285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581D-3C89-48BB-ACB9-23B608C62A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9079-1ADC-46B1-9BB3-F841CCC347F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0C53-309A-46CD-81AE-9C437D6041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1EAF-F14F-4A2F-91F6-1445D8AA93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0F77-BC71-48B7-A51E-2CA29BF5C92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BC016-E6EA-4E7E-8A94-C472053B9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AB03-3E0F-4678-BF7E-5DF60E299F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B3AB4-A8E7-4265-90F1-5684A3F8A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C24BA-0937-429E-9DC1-0FAFBB026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A2888-CBCB-4E51-99D1-5EA1F9BFD9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568A4-7D66-4AD0-A5C1-8E14AA2128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A75F-22E5-41E3-B9CA-380ECBE70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795AD-7588-48DF-87F3-D54D7820EC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CE21B-3F8D-4D5C-B499-B20DE5CA7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E4896-A099-42D6-A598-964DA9390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0A219-9FFA-4EAF-BAA8-F8E042710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0290-7623-4A08-AC71-47F72AB87F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581520"/>
            <a:ext cx="2895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812-CC5C-4C48-8B94-AFF1A5FC1C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3"/>
          <p:cNvSpPr/>
          <p:nvPr/>
        </p:nvSpPr>
        <p:spPr>
          <a:xfrm>
            <a:off x="0" y="6426360"/>
            <a:ext cx="28954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46040"/>
            <a:ext cx="7778880" cy="1425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лекулы в Косм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067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. З. Виб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титут астрономии Р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H2CO"/>
          <p:cNvPicPr/>
          <p:nvPr/>
        </p:nvPicPr>
        <p:blipFill>
          <a:blip r:embed="rId1"/>
          <a:stretch/>
        </p:blipFill>
        <p:spPr>
          <a:xfrm>
            <a:off x="3203640" y="3911760"/>
            <a:ext cx="2735280" cy="2563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628360" y="2152800"/>
            <a:ext cx="43412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00"/>
                </a:solidFill>
                <a:latin typeface="Times New Roman"/>
              </a:rPr>
              <a:t>АСТРОХИМ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уктура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C3H2"/>
          <p:cNvPicPr/>
          <p:nvPr/>
        </p:nvPicPr>
        <p:blipFill>
          <a:blip r:embed="rId1"/>
          <a:stretch/>
        </p:blipFill>
        <p:spPr>
          <a:xfrm>
            <a:off x="152280" y="1143000"/>
            <a:ext cx="2671920" cy="2527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Ethanol"/>
          <p:cNvPicPr/>
          <p:nvPr/>
        </p:nvPicPr>
        <p:blipFill>
          <a:blip r:embed="rId2"/>
          <a:stretch/>
        </p:blipFill>
        <p:spPr>
          <a:xfrm>
            <a:off x="5943600" y="838080"/>
            <a:ext cx="2727360" cy="24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H2CO"/>
          <p:cNvPicPr/>
          <p:nvPr/>
        </p:nvPicPr>
        <p:blipFill>
          <a:blip r:embed="rId3"/>
          <a:stretch/>
        </p:blipFill>
        <p:spPr>
          <a:xfrm>
            <a:off x="457200" y="3886200"/>
            <a:ext cx="2192400" cy="2054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HC7N"/>
          <p:cNvPicPr/>
          <p:nvPr/>
        </p:nvPicPr>
        <p:blipFill>
          <a:blip r:embed="rId4"/>
          <a:stretch/>
        </p:blipFill>
        <p:spPr>
          <a:xfrm>
            <a:off x="2971800" y="1219320"/>
            <a:ext cx="2759040" cy="2928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AH"/>
          <p:cNvPicPr/>
          <p:nvPr/>
        </p:nvPicPr>
        <p:blipFill>
          <a:blip r:embed="rId5"/>
          <a:stretch/>
        </p:blipFill>
        <p:spPr>
          <a:xfrm>
            <a:off x="6248520" y="3352680"/>
            <a:ext cx="2630520" cy="328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CN"/>
          <p:cNvPicPr/>
          <p:nvPr/>
        </p:nvPicPr>
        <p:blipFill>
          <a:blip r:embed="rId6"/>
          <a:stretch/>
        </p:blipFill>
        <p:spPr>
          <a:xfrm>
            <a:off x="2971800" y="4267080"/>
            <a:ext cx="3124080" cy="23432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1996560" y="1295280"/>
            <a:ext cx="78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209760" y="14479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618840" y="3962520"/>
            <a:ext cx="91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3355920" y="44197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5960160" y="91440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6251040" y="6172200"/>
            <a:ext cx="8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2" descr="boffins"/>
          <p:cNvPicPr/>
          <p:nvPr/>
        </p:nvPicPr>
        <p:blipFill>
          <a:blip r:embed="rId1"/>
          <a:stretch/>
        </p:blipFill>
        <p:spPr>
          <a:xfrm>
            <a:off x="380880" y="0"/>
            <a:ext cx="4019760" cy="6248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4708440" y="192240"/>
            <a:ext cx="4327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ные нашли в космо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громное облако спи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вездочеты нашли в космосе рай дл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ьяниц — гигантскую массу чист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ир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Они наткнулись на таинственное облак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зея в свои телескопы на дале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везд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з несколько месяцев исследований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и поняли, что таинственный объек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держит достаточно спирта, чтобы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готовить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00 триллионов триллион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нт пива. Это составляет 300000 пинт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дневно для каждого жителя Земли н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едующий миллиард лет... Облако находится близ молодой звезды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34.3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звездии Орла... Тепло этой звезды производит больше спирта, чем все пивные и ликеро-водочные заводы Земли, вместе взятые.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ранить в прохладном, защищенном от света мест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2420640"/>
            <a:ext cx="532944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е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колозвездные оболоч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лекулярные обла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рта Млечного Пути в линии молекулы С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2"/>
          <a:stretch/>
        </p:blipFill>
        <p:spPr>
          <a:xfrm>
            <a:off x="0" y="4149720"/>
            <a:ext cx="91440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4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бласти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Гигантские 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0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Молекулярные облак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лотные ядр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лотност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–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разме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~ 0.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rcRect l="0" t="0" r="0" b="670"/>
          <a:stretch/>
        </p:blipFill>
        <p:spPr>
          <a:xfrm>
            <a:off x="0" y="2492280"/>
            <a:ext cx="9144000" cy="258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одержание некоторых молекул 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MC-1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(по отношению к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85800" y="1371600"/>
          <a:ext cx="7772400" cy="4084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–1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–1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O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–10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CS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–4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7·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–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Text Box 66"/>
          <p:cNvSpPr/>
          <p:nvPr/>
        </p:nvSpPr>
        <p:spPr>
          <a:xfrm>
            <a:off x="2499840" y="5756400"/>
            <a:ext cx="297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лекул очень мало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творится на кухне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6"/>
          <p:cNvGraphicFramePr/>
          <p:nvPr/>
        </p:nvGraphicFramePr>
        <p:xfrm>
          <a:off x="1143000" y="762120"/>
          <a:ext cx="6858000" cy="53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6858000" cy="53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Group 12"/>
          <p:cNvGrpSpPr/>
          <p:nvPr/>
        </p:nvGrpSpPr>
        <p:grpSpPr>
          <a:xfrm>
            <a:off x="3348000" y="2781360"/>
            <a:ext cx="863640" cy="360360"/>
            <a:chOff x="3348000" y="2781360"/>
            <a:chExt cx="863640" cy="360360"/>
          </a:xfrm>
        </p:grpSpPr>
        <p:sp>
          <p:nvSpPr>
            <p:cNvPr id="122" name="AutoShape 7"/>
            <p:cNvSpPr/>
            <p:nvPr/>
          </p:nvSpPr>
          <p:spPr>
            <a:xfrm>
              <a:off x="334800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AutoShape 8"/>
            <p:cNvSpPr/>
            <p:nvPr/>
          </p:nvSpPr>
          <p:spPr>
            <a:xfrm>
              <a:off x="3564000" y="292428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utoShape 9"/>
            <p:cNvSpPr/>
            <p:nvPr/>
          </p:nvSpPr>
          <p:spPr>
            <a:xfrm>
              <a:off x="3851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AutoShape 10"/>
            <p:cNvSpPr/>
            <p:nvPr/>
          </p:nvSpPr>
          <p:spPr>
            <a:xfrm>
              <a:off x="4067280" y="2997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AutoShape 11"/>
            <p:cNvSpPr/>
            <p:nvPr/>
          </p:nvSpPr>
          <p:spPr>
            <a:xfrm>
              <a:off x="3780000" y="2781360"/>
              <a:ext cx="144360" cy="144360"/>
            </a:xfrm>
            <a:prstGeom prst="irregularSeal1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19"/>
          <p:cNvGrpSpPr/>
          <p:nvPr/>
        </p:nvGrpSpPr>
        <p:grpSpPr>
          <a:xfrm>
            <a:off x="2987640" y="3500280"/>
            <a:ext cx="3745080" cy="649440"/>
            <a:chOff x="2987640" y="3500280"/>
            <a:chExt cx="3745080" cy="649440"/>
          </a:xfrm>
        </p:grpSpPr>
        <p:sp>
          <p:nvSpPr>
            <p:cNvPr id="128" name="AutoShape 13"/>
            <p:cNvSpPr/>
            <p:nvPr/>
          </p:nvSpPr>
          <p:spPr>
            <a:xfrm>
              <a:off x="2987640" y="364500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14"/>
            <p:cNvSpPr/>
            <p:nvPr/>
          </p:nvSpPr>
          <p:spPr>
            <a:xfrm>
              <a:off x="3708360" y="371628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15"/>
            <p:cNvSpPr/>
            <p:nvPr/>
          </p:nvSpPr>
          <p:spPr>
            <a:xfrm>
              <a:off x="392436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16"/>
            <p:cNvSpPr/>
            <p:nvPr/>
          </p:nvSpPr>
          <p:spPr>
            <a:xfrm>
              <a:off x="4932360" y="3500280"/>
              <a:ext cx="14436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17"/>
            <p:cNvSpPr/>
            <p:nvPr/>
          </p:nvSpPr>
          <p:spPr>
            <a:xfrm>
              <a:off x="5508720" y="4005360"/>
              <a:ext cx="144360" cy="14436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18"/>
            <p:cNvSpPr/>
            <p:nvPr/>
          </p:nvSpPr>
          <p:spPr>
            <a:xfrm>
              <a:off x="6588000" y="3500280"/>
              <a:ext cx="144720" cy="144720"/>
            </a:xfrm>
            <a:prstGeom prst="irregularSeal1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AutoShape 20"/>
          <p:cNvSpPr/>
          <p:nvPr/>
        </p:nvSpPr>
        <p:spPr>
          <a:xfrm>
            <a:off x="2556000" y="134136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21"/>
          <p:cNvSpPr/>
          <p:nvPr/>
        </p:nvSpPr>
        <p:spPr>
          <a:xfrm>
            <a:off x="2771640" y="206064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22"/>
          <p:cNvSpPr/>
          <p:nvPr/>
        </p:nvSpPr>
        <p:spPr>
          <a:xfrm>
            <a:off x="378000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23"/>
          <p:cNvSpPr/>
          <p:nvPr/>
        </p:nvSpPr>
        <p:spPr>
          <a:xfrm>
            <a:off x="4427640" y="1628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4"/>
          <p:cNvSpPr/>
          <p:nvPr/>
        </p:nvSpPr>
        <p:spPr>
          <a:xfrm>
            <a:off x="6084720" y="249228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5"/>
          <p:cNvSpPr/>
          <p:nvPr/>
        </p:nvSpPr>
        <p:spPr>
          <a:xfrm>
            <a:off x="5076720" y="1197000"/>
            <a:ext cx="14472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6"/>
          <p:cNvSpPr/>
          <p:nvPr/>
        </p:nvSpPr>
        <p:spPr>
          <a:xfrm>
            <a:off x="4284720" y="105264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27"/>
          <p:cNvSpPr/>
          <p:nvPr/>
        </p:nvSpPr>
        <p:spPr>
          <a:xfrm>
            <a:off x="6300720" y="1413000"/>
            <a:ext cx="144360" cy="142920"/>
          </a:xfrm>
          <a:prstGeom prst="irregularSeal1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New-1"/>
          <p:cNvPicPr/>
          <p:nvPr/>
        </p:nvPicPr>
        <p:blipFill>
          <a:blip r:embed="rId1"/>
          <a:stretch/>
        </p:blipFill>
        <p:spPr>
          <a:xfrm>
            <a:off x="533520" y="762120"/>
            <a:ext cx="8129520" cy="541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5330880" y="6248520"/>
            <a:ext cx="26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afall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t al.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2002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648320" y="5181480"/>
            <a:ext cx="5331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20440" y="5257800"/>
            <a:ext cx="10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5 000 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6553080" y="5181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6550200" y="52578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0.1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ззвездное ядр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15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равномерное содержание молеку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обраться в событиях, происходящих в молекулярных облаках, по наблюдениям молекул невозможно без моделирования химических процессов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Широко простирает химия руки свои в дела человеческие. Куда ни посмотрим, куда ни оглянемся, везде обращаются перед очами нашими успехи ее прилежания.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. В. Ломоно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s are among the most fundamental building blocks of the universe, and yet the processes by which they are formed are not understood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284360" y="5444640"/>
            <a:ext cx="4267080" cy="9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rek Ward-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January 4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ак работает межзвездный химический реактор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029"/>
          <p:cNvSpPr/>
          <p:nvPr/>
        </p:nvSpPr>
        <p:spPr>
          <a:xfrm>
            <a:off x="380160" y="5334120"/>
            <a:ext cx="8318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ежзвездная химия сильно отличается от земно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ды газофазных химических реакц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1072800" y="1905120"/>
            <a:ext cx="682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йтраль-нейтраль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 космическими луч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он-молекулярные 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диссоциативной рекомбин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тореа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йтраль-нейтраль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519480" y="110808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зда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457560" y="342900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он-молекулярны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5790960" cy="14000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381240" y="1752480"/>
            <a:ext cx="52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распределение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916200" y="365760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мен заряд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6324480" y="1752480"/>
            <a:ext cx="26337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сокие скорости при низких температур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с космическими луча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5"/>
          <p:cNvSpPr/>
          <p:nvPr/>
        </p:nvSpPr>
        <p:spPr>
          <a:xfrm>
            <a:off x="444240" y="9558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акции иониз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04920" y="2590920"/>
            <a:ext cx="32763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e + CRP = 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CRP = H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4724280" y="2819520"/>
            <a:ext cx="3124440" cy="27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.3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.0·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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~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акции диссоциативной рекомбин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90960" cy="13906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967760" y="241308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то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90960" cy="1400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5790960" cy="14004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7"/>
          <p:cNvSpPr/>
          <p:nvPr/>
        </p:nvSpPr>
        <p:spPr>
          <a:xfrm>
            <a:off x="1891800" y="148896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рыв химических связ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ческие базы дан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UMIST95 (University of Manches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3864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0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803 ион-молекуляр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9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94 нейтраль-нейтральных 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33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0 фото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ew Standard Model (Ohio State Universit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4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4203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и, в том числ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9 реакций с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935 ион-молекуляр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35 фотореакций, индуцированных космическими луч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09 нейтраль-нейтральных 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04 реакции диссоциативной рекомбин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72 фотореак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Herbst &amp; Clemperer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73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7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 (5 наблюдаемых молекул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Bettens &amp; Herbst (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1995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коло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00 компонентов и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0000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ак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Химия усложняетс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4"/>
          <p:cNvGraphicFramePr/>
          <p:nvPr/>
        </p:nvGraphicFramePr>
        <p:xfrm>
          <a:off x="457200" y="1676520"/>
          <a:ext cx="8238960" cy="34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38960" cy="34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AutoShape 6"/>
          <p:cNvSpPr/>
          <p:nvPr/>
        </p:nvSpPr>
        <p:spPr>
          <a:xfrm>
            <a:off x="4343400" y="32004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343400" y="4114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8"/>
          <p:cNvSpPr/>
          <p:nvPr/>
        </p:nvSpPr>
        <p:spPr>
          <a:xfrm>
            <a:off x="4343400" y="2209680"/>
            <a:ext cx="380880" cy="3812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Молекулярный водород в газовой фазе почти</a:t>
            </a:r>
            <a:br>
              <a:rPr sz="3600"/>
            </a:b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образуется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10400" y="2133720"/>
            <a:ext cx="4487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хчастичные столкнов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H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медленная реакц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2057400"/>
            <a:ext cx="7848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Звезды представляют собой один из самых фундаментальных элементов Вселенно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тем не менее процессы, в результате которых они образуются, нам непонятны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7524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ре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р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мпс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январ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разование молекулярного водорода на пы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омы водорода прилипают к пылинк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мещаясь по поверхности пылинки, атомы сталкиваются друг с другом и образуют молекулу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ергия, выделившаяся при образовании молекул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отрывает ее от пылин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6172200" y="1371600"/>
            <a:ext cx="266688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верхностные химические реак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молекул, насыщенных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гомогенных молекул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зование простейших органических молеку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верхностные реакции с участием С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3657600" y="609480"/>
          <a:ext cx="44956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609480"/>
                    <a:ext cx="4495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Text Box 5"/>
          <p:cNvSpPr/>
          <p:nvPr/>
        </p:nvSpPr>
        <p:spPr>
          <a:xfrm>
            <a:off x="155160" y="2438280"/>
            <a:ext cx="312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ечные продукт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льдеги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ано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метиловый эфи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уравьиная кисл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сорбц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264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ая десорбция (энергия связ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сорбция космическими лучами (температура нагре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есорбция (вероятность отрыв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имическая десорб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ижний колонтитул 1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rcRect l="27630" t="17341" r="39301" b="37967"/>
          <a:stretch/>
        </p:blipFill>
        <p:spPr>
          <a:xfrm>
            <a:off x="5557680" y="0"/>
            <a:ext cx="358632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0" y="190512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екулярное облако распадается на несколько гравитационно связанных ядер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оторых изначально силам притяжения противодействуют теплово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гнитное и турбулентное давление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и ядра в течение некоторого времени пребывают в стационарном состоянии, а затем в результате амбиполярной диффузии, диссипации турбулентности или под воздействием внешнего импульс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ановятся гравитационно неустойчивыми и коллапсируют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щая картина звездообраз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Что и зачем моделировать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903960" y="1773360"/>
            <a:ext cx="7683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плотности, температуры, магнитного п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следование поля скор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ение возраста («химические часы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тная связь с динами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исхождение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ределение плотности и темпера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rcRect l="11721" t="11458" r="7032" b="11458"/>
          <a:stretch/>
        </p:blipFill>
        <p:spPr>
          <a:xfrm>
            <a:off x="611280" y="62064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гнитные пол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уговая поляризация (эффект Зееман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ская поляризация (эффект Голдрайка -Килафис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ирование линий в коллапсирующем обла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infall1"/>
          <p:cNvPicPr/>
          <p:nvPr/>
        </p:nvPicPr>
        <p:blipFill>
          <a:blip r:embed="rId1"/>
          <a:stretch/>
        </p:blipFill>
        <p:spPr>
          <a:xfrm>
            <a:off x="1523880" y="1600200"/>
            <a:ext cx="605808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457200" y="571500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тически толстые линии в коллапсирующем облаке имеют характерную двугорбую форму с неравной высотой п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3" descr="B335"/>
          <p:cNvPicPr/>
          <p:nvPr/>
        </p:nvPicPr>
        <p:blipFill>
          <a:blip r:embed="rId1"/>
          <a:stretch/>
        </p:blipFill>
        <p:spPr>
          <a:xfrm>
            <a:off x="1143000" y="1066680"/>
            <a:ext cx="6980400" cy="388332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"/>
          <p:cNvSpPr/>
          <p:nvPr/>
        </p:nvSpPr>
        <p:spPr>
          <a:xfrm>
            <a:off x="914400" y="4952880"/>
            <a:ext cx="78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и линий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335 (Choi et al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5).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плошные линии — наблюдения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Zhou et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93),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штриховые линии — модель с относительным содержание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.5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максимальной скоростью коллапса на расстояни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3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пс от центра облак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80880" y="1447920"/>
            <a:ext cx="830592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медленн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поставление динамического времени и массы гигантских молекулярных облаков дает оценку скорости звездообразования в Галакт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асс Солнца в го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Реальное значение не превышает 15 масс Солнца в 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3366cc"/>
                </a:solidFill>
                <a:latin typeface="Times New Roman"/>
              </a:rPr>
              <a:t>Почему звезды образуются так быстро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близительно половина плотных ядер содержит точечные инфракрасные источни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тозвезд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ктически нет молекулярных облаков, в которых звездообразование еще не началось. Практически нет молекулярных облаков, в которых звездообразование уже закончилос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знаки коллапса в наблюдения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имические час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46748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грев и охлаж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агр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диссоциация молекулярного вод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ионизация нейтрального угле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тоэлектрическая эмиссия с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зование молекулярного водорода на поверхности пылин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грев в результате ионизации космическими луч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Охлажд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хлаждение в молекулярных ли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исхождение жизн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220760" y="2590920"/>
            <a:ext cx="668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молекулярных облак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ческие молекулы в кометах и метеорит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спех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Корректно воспроизведены содержания основных молекул (CO) и большинства второстепенных молеку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наличие в молекулярных облаках радикалов, ионов и изомеров, а также ненасыщенных органических молекул (несмотря на изобилие водород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Palatino-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-Roman"/>
              </a:rPr>
              <a:t>Объяснено повышенное содержание молекул, содержащих дейтер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ерспектив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альная информация о распределении молекул в областях звездо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галактическая астрохимия (в частности, на больших красных смещениях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052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ещество, из которого образуются звезды,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ктически невидимо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250920" y="22050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е, что происходит в молекулярных облаках, в частности, в протозвездных объектах, — происходит с молекулярным водород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685800" y="2286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чем проблем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95280" y="3573360"/>
            <a:ext cx="8201160" cy="24465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622800" y="3581280"/>
            <a:ext cx="2952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инии Н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 ИК-области спек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52280" y="60958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его линии в областях звездообразования слишком слаб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23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ярный водород — основная, но не единственная молекула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349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о молекул в Космосе нет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2268360" y="4365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темп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ая плот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ссоциирующие изл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3336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звездное пространство не пуст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39640" y="155736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ершель (светлые туманности состоят из светящейся жидкост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уве (Каптейн, Барнард — неравномерность поглощени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юмплер (пыль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тманн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ежзвездное поглощени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Юэн, Парселл (1951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 21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558760" y="616572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..хотя они есть в комет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597960" y="41400"/>
            <a:ext cx="39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До сороковых годов </a:t>
            </a: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0" lang="ru-RU" sz="2400" spc="-1" strike="noStrike">
                <a:solidFill>
                  <a:srgbClr val="00ff00"/>
                </a:solidFill>
                <a:latin typeface="Times New Roman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ижний колонтитул 3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лекулы в Космосе есть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-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, CN, C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линии поглощ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60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 гг. —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радиолин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ше время — 137 молекул, не считая изотопомеров (с изотопомерами 2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443640" y="3213000"/>
            <a:ext cx="2165400" cy="32148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543240" y="3213000"/>
            <a:ext cx="488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ые переходы (видимый све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ебательные переходы (И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ащательные переходы (радио, субмм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69960" y="45370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м на возможность наблюдения молекул в радиодиапазоне указал И.С. Шкловск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ижний колонтитул 2"/>
          <p:cNvSpPr/>
          <p:nvPr/>
        </p:nvSpPr>
        <p:spPr>
          <a:xfrm>
            <a:off x="0" y="6581880"/>
            <a:ext cx="28954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0" y="0"/>
            <a:ext cx="914400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Список известных межзвездных и околозвездных молеку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3333cc"/>
                </a:solidFill>
                <a:uFillTx/>
                <a:latin typeface="Times New Roman"/>
              </a:rPr>
              <a:t>http://www.cv.nrao.edu/~awootten/allmols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ву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AlF AlCl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 C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P CS CSi HCl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KCl NH NO NS NaCl OH PN SO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N SiO SiS HF 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N HCO H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S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OC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HNC HNO MgCN MgNC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aCN OCS 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 baseline="30000">
                <a:solidFill>
                  <a:srgbClr val="ff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четырех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HCCN HCN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NCO HNCS HOC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S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п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i l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HCOO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N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N HN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Si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H</a:t>
            </a:r>
            <a:r>
              <a:rPr b="1" lang="ru-RU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шес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C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S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H+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 HCO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l-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се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CN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N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-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OH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восьм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HCOO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OH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OHCH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в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N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десяти ато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? (CH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CO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H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COOH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одиннадцати атом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екулы из тринадцати атомов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HC</a:t>
            </a:r>
            <a:r>
              <a:rPr b="1" lang="ru-RU" sz="1600" spc="-1" strike="noStrike" baseline="-25000">
                <a:solidFill>
                  <a:srgbClr val="ff0000"/>
                </a:solidFill>
                <a:latin typeface="Times New Roman"/>
              </a:rPr>
              <a:t>11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 rot="19089600">
            <a:off x="4724640" y="457128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Изобилие радикалов и ненасыщенных водородом молеку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3T15:10:08Z</dcterms:created>
  <dc:creator>Dmitri Wiebe</dc:creator>
  <dc:description/>
  <dc:language>en-US</dc:language>
  <cp:lastModifiedBy>LEGION</cp:lastModifiedBy>
  <dcterms:modified xsi:type="dcterms:W3CDTF">2015-05-01T10:59:33Z</dcterms:modified>
  <cp:revision>100</cp:revision>
  <dc:subject/>
  <dc:title>Химия звездообразования</dc:title>
</cp:coreProperties>
</file>