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58FA-C45F-4AAD-9BC2-4C11C92A5E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ИПЫ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Цели: Дать понятия ионной, ковалентной, металлической, водородной хим.связ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лицей №18 учитель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линина Л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1946-56EA-4DB7-8FBE-15767E2FD5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11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00E5-774E-4A14-B94D-BD71DF2E41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ВИДЫ КОВАЛЕН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ПОЛЯРНАЯ                               НЕПО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12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2791-4EC4-42DE-A857-761B22A91C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полярной и неполяр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05AB-9436-448D-ADFC-30CF94C188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валентная полярная связь образуется между атомами различных неметалло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Схема образования ковалентной полярной связ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+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6043-A25D-43AC-B85F-FC2EECDD95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МАЗ(С), КРЕМНИЙ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КВАРЦ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состоят из атомов, связанных друг с другом в бесконечный трехмерный карк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ный каркас обладает высокой пр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ы твердые, тугоплавкие, без запаха, в воде нераствори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1585-5A64-4D09-89C4-42245F9B08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 УЗЛАХ – НАХОДЯТСЯ МОЛЕКУ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УДЕРЖИВАЮТСЯ СЛАБЫМИ МЕЖМОЛЕКУЛЯРНЫМИ С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ЕЩЕСТВА ЛЕГКОПЛАВКИ, ЧАСТО ИМЕЮТ ЗАП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817D-B60F-4B84-A971-53C8FCDEF6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79F4-94CA-435C-B27C-A8F09B388B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DD0E-F526-4A81-9C91-A60AABAFBF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EB29-BD90-4323-B9A6-83E9FDC798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 имеет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0BCE-3419-4460-8CAC-76B0218351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3C18-4D33-428A-914A-D80FDDFB45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0CAD-0DCC-4522-8976-B0DC6DC6ED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66AD-25C0-4FF4-AB4C-112036EF1A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периоде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группе      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возра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САМЫЙ электроотрицательный элемент ф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2970-6FDA-45D0-AD89-FEE8196AE0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8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8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7AE3-1FFA-48DB-8729-FB0CADDD7A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61FE-E8E0-40C4-BEEB-F067B11493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8B2-2280-48E1-8152-5A87668720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Medium"/>
              </a:rPr>
              <a:t>Физически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C467-CD73-4224-AC5F-D6F5C50445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7FD-B939-40DB-B439-17B005DA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0A2-D23F-49B0-BB31-23C40908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DCF-182B-4366-B6B9-C5C2EA5D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556-1016-49BA-823A-CEC216EC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0356-E741-4EA8-94AF-47FD40D1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FE3E-9A53-4701-95C8-21EB76FE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6DE0-9A30-4897-B326-45DB50C3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DEAA-BB85-435F-AD56-84DA7FD1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B880-CB47-4BC3-B5C6-C211DD36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4C1C-45BC-47E4-96C2-1BAA5939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490C-C1C3-412A-8440-2A137D81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A4F-CB57-486A-B4D8-4DB5BFE9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119F-E5FC-4269-AA50-9D9A92AD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7D66-A344-4862-95CE-A17B7E3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5AB1-EBAA-4E9D-A53D-B23D2766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8D45-12EA-4F7E-9F38-00FAE4B9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DAA2-22C2-4218-8256-3D145296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20A-1F87-4185-B88A-AC312B5A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BDF-4D6F-4B67-B14B-E3542C5D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1D0-37A3-4ABA-A27B-BA8D5A5E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C96-EE1E-4F6E-AAB1-350034AC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5B7-47BF-477F-8D36-95A962FB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883-7244-4932-9AA3-06E4E195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6C9-805E-4BD5-A5BE-64465B09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642-AC19-4C59-AC03-CDCB3C0202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02A2-C802-46C3-A03B-C0D7A573FD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ae8"/>
                </a:solidFill>
                <a:latin typeface="Arial"/>
              </a:rPr>
              <a:t>ТИПЫ ХИМИЧЕСКОЙ СВЯЗ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Цели: Дать понятия ионной, ковалентной, металлической, водородной хим.связ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МОУ лицей №18 учитель хим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Калинин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ВИДЫ КОВАЛЕНТ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ПОЛЯРНАЯ                               НЕПО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36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479600">
            <a:off x="2050560" y="1413000"/>
            <a:ext cx="648000" cy="1368360"/>
          </a:xfrm>
          <a:custGeom>
            <a:avLst/>
            <a:gdLst>
              <a:gd name="textAreaLeft" fmla="*/ 86760 w 648000"/>
              <a:gd name="textAreaRight" fmla="*/ 561240 w 648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20900400">
            <a:off x="5435280" y="155700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908000" y="357336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6804000" y="357336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разование полярной и неполярной связ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image3"/>
          <p:cNvPicPr/>
          <p:nvPr/>
        </p:nvPicPr>
        <p:blipFill>
          <a:blip r:embed="rId1"/>
          <a:stretch/>
        </p:blipFill>
        <p:spPr>
          <a:xfrm>
            <a:off x="684360" y="1484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валентная полярная связь образуется между атомами различных неметаллов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Схема образования ковалентной полярной связи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+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=H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ольга"/>
          <p:cNvPicPr/>
          <p:nvPr/>
        </p:nvPicPr>
        <p:blipFill>
          <a:blip r:embed="rId1"/>
          <a:stretch/>
        </p:blipFill>
        <p:spPr>
          <a:xfrm>
            <a:off x="1116000" y="4653000"/>
            <a:ext cx="6912000" cy="19587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МАЗ(С), КРЕМНИЙ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КВАРЦ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состоят из атомов, связанных друг с другом в бесконечный трехмерный карк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омный каркас обладает высокой пр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сталлы твердые, тугоплавкие, без запаха, в воде нерастворим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99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УЗЛАХ – НАХОДЯТСЯ МОЛЕКУ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ДЕРЖИВАЮТСЯ СЛАБЫМИ МЕЖМОЛЕКУЛЯРНЫМИ СИ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ЩЕСТВА ЛЕГКОПЛАВКИ, ЧАСТО ИМЕЮТ ЗАП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00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ОДОРОД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66ff33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image3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38890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8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88e4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image3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Механизм образования водородной связи имеет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ольга1"/>
          <p:cNvPicPr/>
          <p:nvPr/>
        </p:nvPicPr>
        <p:blipFill>
          <a:blip r:embed="rId1"/>
          <a:stretch/>
        </p:blipFill>
        <p:spPr>
          <a:xfrm>
            <a:off x="1258920" y="3284640"/>
            <a:ext cx="7488360" cy="3573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6a84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33cc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af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периоде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группе      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возраст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АМЫЙ электроотрицательный элемент ф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067280" y="35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851280" y="386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16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e1ff"/>
                </a:solidFill>
                <a:latin typeface="Franklin Gothic Medium"/>
              </a:rPr>
              <a:t>Физические свой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2:53:37Z</dcterms:created>
  <dc:creator>Ludmila</dc:creator>
  <dc:description/>
  <dc:language>en-US</dc:language>
  <cp:lastModifiedBy>LEGION</cp:lastModifiedBy>
  <dcterms:modified xsi:type="dcterms:W3CDTF">2015-05-01T11:00:51Z</dcterms:modified>
  <cp:revision>11</cp:revision>
  <dc:subject/>
  <dc:title>ТИПЫ ХИМИЧЕСКОЙ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