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EFB0-8C25-49CB-93DD-6E473134B00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ТИПЫ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Цели: Дать понятия ионной, ковалентной, металлической, водородной хим.связ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аучить определять и записывать схемы образования ионной и ковалентной связи для двухатомных молеку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МОУ лицей №18 учитель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алинина Л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C48E-47BC-4100-9C35-8D977A32B4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Bookman Old Style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Bookman Old Style"/>
              </a:rPr>
              <a:t>наиболее общий вид химической связи, возникающий за счет образования общей электронной пары</a:t>
            </a:r>
            <a:r>
              <a:rPr b="0" lang="ru-RU" sz="1200" spc="-1" strike="noStrike">
                <a:solidFill>
                  <a:srgbClr val="ff00ff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Bookman Old Style"/>
              </a:rPr>
              <a:t>обменный механизм -</a:t>
            </a:r>
            <a:r>
              <a:rPr b="0" lang="ru-RU" sz="1200" spc="-1" strike="noStrike">
                <a:solidFill>
                  <a:srgbClr val="ff00ff"/>
                </a:solidFill>
                <a:latin typeface="Bookman Old Style"/>
              </a:rPr>
              <a:t> когда каждый из взаимодействующих атомов поставляет по одному электрон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Bookman Old Style"/>
              </a:rPr>
              <a:t>донорно-акцепторный механизм -</a:t>
            </a:r>
            <a:r>
              <a:rPr b="0" lang="ru-RU" sz="1200" spc="-1" strike="noStrike">
                <a:solidFill>
                  <a:srgbClr val="ff00ff"/>
                </a:solidFill>
                <a:latin typeface="Bookman Old Style"/>
              </a:rPr>
              <a:t> электронная пара передается в общее пользование одним атомом (донором) другому атому (акцептору).</a:t>
            </a:r>
            <a:r>
              <a:rPr b="0" lang="ru-RU" sz="1100" spc="-1" strike="noStrike">
                <a:solidFill>
                  <a:srgbClr val="ff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A370-385B-465E-8F6F-CE4CDCD19B0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Impact"/>
              </a:rPr>
              <a:t>              </a:t>
            </a: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ВИДЫ КОВАЛЕНТН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</a:t>
            </a: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ПОЛЯРНАЯ                               НЕПОЛЯ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     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HCl, H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O            </a:t>
            </a:r>
            <a:r>
              <a:rPr b="1" lang="ru-RU" sz="1200" spc="-1" strike="noStrike">
                <a:solidFill>
                  <a:srgbClr val="000099"/>
                </a:solidFill>
                <a:latin typeface="Impact"/>
              </a:rPr>
              <a:t>                            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  H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, Cl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, N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FD28-90BD-43CB-B78C-F3B1506C96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полярной и неполярн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9E89-2A24-4DCE-921E-21129E83E6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валентная полярная связь образуется между атомами различных неметаллов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Схема образования ковалентной полярной связи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•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•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+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=H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C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••             •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D023-B39C-43E0-AB01-EEC98EC1C2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ВЕЩЕСТВА С АТОМНОЙ КРИСТАЛЛИЧЕСКОЙ РЕШЕТК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МАЗ(С), КРЕМНИЙ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, КВАРЦ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и состоят из атомов, связанных друг с другом в бесконечный трехмерный карк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омный каркас обладает высокой проч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сталлы твердые, тугоплавкие, без запаха, в воде нераствори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EB21-5652-420C-BC16-2E7D7B6F7F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Medium"/>
              </a:rPr>
              <a:t>ВЕЩЕСТВА С МОЛЕКУЛЯРНОЙ КРИСТАЛЛИЧЕСКОЙ РЕШЕТК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В УЗЛАХ – НАХОДЯТСЯ МОЛЕКУ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УДЕРЖИВАЮТСЯ СЛАБЫМИ МЕЖМОЛЕКУЛЯРНЫМИ СИ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ВЕЩЕСТВА ЛЕГКОПЛАВКИ, ЧАСТО ИМЕЮТ ЗАП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ПРИ КОМНАТНОЙ ТЕМПЕРАТУРЕ ПРЕДСТАВЛЯЮТ СОБОЙ ЖИДКОСТИ (ВОДА,БРОМ), ГАЗЫ (КИСЛОРОД, АЗОТ) ИЛИ ЛЕГКОПЛАВКИЕ ТВЕРДЫЕ ВЕЩЕСТВА (ИОД, СЕРА)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7C18-3C1B-43BD-BAF3-5E6864CA7A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Garamond"/>
              </a:rPr>
              <a:t>вид химической связи ти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Garamond"/>
              </a:rPr>
              <a:t>      </a:t>
            </a:r>
            <a:r>
              <a:rPr b="1" lang="ru-RU" sz="1200" spc="-1" strike="noStrike">
                <a:solidFill>
                  <a:srgbClr val="ff3300"/>
                </a:solidFill>
                <a:latin typeface="Garamond"/>
              </a:rPr>
              <a:t>А — Н...А —  Н ,образуется в результате взаимодействия атома водорода, связанного ковалентной связью с электроотрицательным атомом А (N, O, S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5D85-F2FF-480F-8CAD-A72A280534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Garamond"/>
              </a:rPr>
              <a:t>Образование межмолекулярной водородной связи.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C370-B7B9-4492-B8C3-DFAA90A7723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Impact"/>
              </a:rPr>
              <a:t>Образование внутримолекулярной водородной связи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4048-7D46-4B96-918E-4D1DA4FD82A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 имеет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ично электростатический, частично донорно-акцепторный характер. Примеры межмолекулярной водородной связ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2FCB-3DDC-4BC4-A991-D475024E5E0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6a848"/>
                </a:solidFill>
                <a:latin typeface="Bookman Old Style"/>
              </a:rPr>
              <a:t>А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Na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Mg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F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  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Cl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 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Impact"/>
              </a:rPr>
              <a:t>число протонов и электронов одинаковое количество, атом нейтрален.</a:t>
            </a: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EAB7-8FCC-42A8-99ED-6C31E57018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Bookman Old Style"/>
              </a:rPr>
              <a:t>И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Na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1+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Mg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+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F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Cl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Число протонов и электронов разное – это и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3C9A-217E-4F0D-84C1-41891563B6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Impact"/>
              </a:rPr>
              <a:t>ИОНЫ – заряженные частицы, которые образуются в результате присоединения или отдачи электр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Franklin Gothic Medium"/>
              </a:rPr>
              <a:t>Если е - отдаются – ион заряжается положи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Franklin Gothic Medium"/>
              </a:rPr>
              <a:t>Если е - присоединяются – ион заряжается отриц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0046-234F-4C65-9C14-551010A6E5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ЛЕКТРООТРИЦАТ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ЭО атома, условная величина, характеризующая способность атома в молекуле притягивать элек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ЭО в периоде </a:t>
            </a:r>
            <a:r>
              <a:rPr b="1" lang="ru-RU" sz="1200" spc="-1" strike="noStrike" baseline="30000">
                <a:solidFill>
                  <a:srgbClr val="00ff00"/>
                </a:solidFill>
                <a:latin typeface="Calibri"/>
              </a:rPr>
              <a:t>увели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ЭО в группе       </a:t>
            </a:r>
            <a:r>
              <a:rPr b="1" lang="ru-RU" sz="1200" spc="-1" strike="noStrike" baseline="30000">
                <a:solidFill>
                  <a:srgbClr val="00ff00"/>
                </a:solidFill>
                <a:latin typeface="Calibri"/>
              </a:rPr>
              <a:t>возрас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САМЫЙ электроотрицательный элемент ф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1ED4-7295-4BB6-B870-280DDB4A9E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Franklin Gothic Medium"/>
              </a:rPr>
              <a:t>Ионная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образовавшаяся электронная пара полностью принадлежит более электроотрицательному ат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ИОННАЯ СВЯЗЬ, образуемая в результате электростатического притя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Например: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 и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Cl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,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Li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+ 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  и 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F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baseline="-25000">
                <a:solidFill>
                  <a:srgbClr val="ff0066"/>
                </a:solidFill>
                <a:latin typeface="Arial Black"/>
              </a:rPr>
              <a:t>                                                                 </a:t>
            </a:r>
            <a:r>
              <a:rPr b="1" lang="ru-RU" sz="800" spc="-1" strike="noStrike" baseline="-25000">
                <a:solidFill>
                  <a:srgbClr val="ff0066"/>
                </a:solidFill>
                <a:latin typeface="Franklin Gothic Medium"/>
                <a:ea typeface="Times New Roman"/>
              </a:rPr>
              <a:t>••</a:t>
            </a:r>
            <a:r>
              <a:rPr b="0" lang="ru-RU" sz="800" spc="-1" strike="noStrike">
                <a:solidFill>
                  <a:srgbClr val="ff0066"/>
                </a:solidFill>
                <a:latin typeface="Franklin Gothic Medium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en-US" sz="1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 + Cl</a:t>
            </a:r>
            <a:r>
              <a:rPr b="1" lang="en-US" sz="1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 = Na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(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:Cl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: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Impact"/>
              </a:rPr>
              <a:t>                                          </a:t>
            </a:r>
            <a:r>
              <a:rPr b="0" lang="en-US" sz="8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r>
              <a:rPr b="0" lang="ru-RU" sz="8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 </a:t>
            </a:r>
            <a:r>
              <a:rPr b="0" lang="en-US" sz="8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6BFE-A893-45AB-8471-6F7BD3B3A2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Franklin Gothic Medium"/>
              </a:rPr>
              <a:t>Физические свойства веществ с ионным типом связи: твердые, тугоплавкие, не имеющие запаха, часто хорошо растворимые в в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Franklin Gothic Medium"/>
              </a:rPr>
              <a:t>Вещества с ионном связью, образуют ионную кристаллическую решет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51C0-175F-47E8-B32D-8FAAC174E1B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Franklin Gothic Medium"/>
              </a:rPr>
              <a:t>Металлическая связ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ff66"/>
                </a:solidFill>
                <a:latin typeface="Comic Sans MS"/>
              </a:rPr>
              <a:t>возникает в результате движения свободных электронов, которые достаточно свободно движутся в решетке металлов, электростатически взаимодействуя с положительно заряженными ионами.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6BBF-894B-4A9F-B926-810B84C459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Franklin Gothic Medium"/>
              </a:rPr>
              <a:t>Физические свой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Валентные электроны принадлежат одновременно всем атомам металла, свободно перемещаясь по всему кристалл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Образуя единое электронное облако («электронный газ»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Электроны обладают свойствами волны, они «размазаны» по всему куску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В этом типе связи электроны обусловливают высокую тепло- и электропроводность, металлический бле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E5FF-E90D-4042-BF6E-8E527F17D8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EBFF-E8F1-448E-B232-A6EF2F6E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C255-5DDE-4FCA-9E26-05E2D7E3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3D7B-531E-4693-8D15-75D8A0C3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FAAC-C0F6-451B-A0C4-15D99F77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9F1B-62C9-436E-A37B-39B53472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1B5F-CA7D-4405-8324-40388DE9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F76B-102F-4478-8D44-34362C82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9D7E-431F-4404-A269-D0CDA119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5BB1-C859-4754-9D82-7818BD95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C8F1-E21E-4EDE-9F3A-853119B2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276E-7390-4BDA-8877-2D40B6EF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1165-EB55-49AC-8AF8-32A86278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57B5-2586-47B7-9DE0-D98D2EFD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3DE2-56AF-4E63-B554-641E95A9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4D0E-05E2-4D80-9B9D-34040704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FB8B-863B-4958-BBF7-116D5C5B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9791-A81D-496F-B9D7-F73F1958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523B-799C-47FA-8671-57631289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346C-B960-4E62-97BB-1A66DC7E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E6A6-033F-4F47-A3E9-C3CA7B5D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19D7-482A-4D2E-8BC1-5AB9232D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07B3-7E2D-4F44-B6D6-29909F0E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68C-FC68-4C9C-9346-AB8F7054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EB27-91A6-4260-822E-CDA542D7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77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7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1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1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1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1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2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2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2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2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53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73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1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1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1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1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7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55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56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7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8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9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60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75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7BF2-4482-44F0-97F6-70E0F12767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71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72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73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7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7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7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7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7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8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8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8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84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85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8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8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8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8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9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9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9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9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94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95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96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97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98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99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00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01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02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03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104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10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0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0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0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0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1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1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1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1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1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11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116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117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118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119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120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121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22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123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4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125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126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127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128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29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130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131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132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133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134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7D4E-AD2B-4F62-B8B4-57A7BEAE425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8a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36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ae8"/>
                </a:solidFill>
                <a:latin typeface="Arial"/>
              </a:rPr>
              <a:t>ТИПЫ ХИМИЧЕСКОЙ СВЯЗ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Цели: Дать понятия ионной, ковалентной, металлической, водородной хим.связя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Научить определять и записывать схемы образования ионной и ковалентной связи для двухатомных молеку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МОУ лицей №18 учитель хим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Калинин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cc"/>
                </a:solidFill>
                <a:latin typeface="Bookman Old Style"/>
              </a:rPr>
              <a:t>Ковалентная связ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ookman Old Style"/>
              </a:rPr>
              <a:t>наиболее общий вид химической связи, возникающий за счет образования общей электронной пары</a:t>
            </a:r>
            <a:r>
              <a:rPr b="0" lang="ru-RU" sz="2800" spc="-1" strike="noStrike">
                <a:solidFill>
                  <a:srgbClr val="ff00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ookman Old Style"/>
              </a:rPr>
              <a:t>обменный механизм -</a:t>
            </a:r>
            <a:r>
              <a:rPr b="0" lang="ru-RU" sz="2800" spc="-1" strike="noStrike">
                <a:solidFill>
                  <a:srgbClr val="ff00ff"/>
                </a:solidFill>
                <a:latin typeface="Bookman Old Style"/>
              </a:rPr>
              <a:t> когда каждый из взаимодействующих атомов поставляет по одному электрон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ookman Old Style"/>
              </a:rPr>
              <a:t>донорно-акцепторный механизм -</a:t>
            </a:r>
            <a:r>
              <a:rPr b="0" lang="ru-RU" sz="2800" spc="-1" strike="noStrike">
                <a:solidFill>
                  <a:srgbClr val="ff00ff"/>
                </a:solidFill>
                <a:latin typeface="Bookman Old Style"/>
              </a:rPr>
              <a:t> электронная пара передается в общее пользование одним атомом (донором) другому атому (акцептору).</a:t>
            </a: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8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Impact"/>
              </a:rPr>
              <a:t>              </a:t>
            </a: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ВИДЫ КОВАЛЕНТНОЙ СВЯЗ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</a:t>
            </a: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ПОЛЯРНАЯ                               НЕПОЛЯР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     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HCl, 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O            </a:t>
            </a:r>
            <a:r>
              <a:rPr b="1" lang="ru-RU" sz="3600" spc="-1" strike="noStrike">
                <a:solidFill>
                  <a:srgbClr val="000099"/>
                </a:solidFill>
                <a:latin typeface="Impact"/>
              </a:rPr>
              <a:t>                            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  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, Cl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, N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 rot="1479600">
            <a:off x="2050560" y="1413000"/>
            <a:ext cx="648000" cy="1368360"/>
          </a:xfrm>
          <a:custGeom>
            <a:avLst/>
            <a:gdLst>
              <a:gd name="textAreaLeft" fmla="*/ 86760 w 648000"/>
              <a:gd name="textAreaRight" fmla="*/ 561240 w 64800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 rot="20900400">
            <a:off x="5435280" y="1557000"/>
            <a:ext cx="792000" cy="1224000"/>
          </a:xfrm>
          <a:custGeom>
            <a:avLst/>
            <a:gdLst>
              <a:gd name="textAreaLeft" fmla="*/ 105840 w 792000"/>
              <a:gd name="textAreaRight" fmla="*/ 686160 w 792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8"/>
          <p:cNvSpPr/>
          <p:nvPr/>
        </p:nvSpPr>
        <p:spPr>
          <a:xfrm>
            <a:off x="1908000" y="3573360"/>
            <a:ext cx="287640" cy="647640"/>
          </a:xfrm>
          <a:prstGeom prst="downArrow">
            <a:avLst>
              <a:gd name="adj1" fmla="val 50000"/>
              <a:gd name="adj2" fmla="val 56289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6804000" y="3573360"/>
            <a:ext cx="289080" cy="647640"/>
          </a:xfrm>
          <a:prstGeom prst="downArrow">
            <a:avLst>
              <a:gd name="adj1" fmla="val 50000"/>
              <a:gd name="adj2" fmla="val 56009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бразование полярной и неполярной связ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Picture 4" descr="image3"/>
          <p:cNvPicPr/>
          <p:nvPr/>
        </p:nvPicPr>
        <p:blipFill>
          <a:blip r:embed="rId1"/>
          <a:stretch/>
        </p:blipFill>
        <p:spPr>
          <a:xfrm>
            <a:off x="684360" y="1484280"/>
            <a:ext cx="8064360" cy="4608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Ковалентная полярная связь образуется между атомами различных неметаллов.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Схема образования ковалентной полярной связи: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             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••          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••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  <a:ea typeface="Arial"/>
              </a:rPr>
              <a:t>*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  +  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•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l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=H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Cl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                  ••             ••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Picture 4" descr="ольга"/>
          <p:cNvPicPr/>
          <p:nvPr/>
        </p:nvPicPr>
        <p:blipFill>
          <a:blip r:embed="rId1"/>
          <a:stretch/>
        </p:blipFill>
        <p:spPr>
          <a:xfrm>
            <a:off x="1116000" y="4653000"/>
            <a:ext cx="6912000" cy="195876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ВЕЩЕСТВА С АТОМНОЙ КРИСТАЛЛИЧЕСКОЙ РЕШЕТКОЙ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МАЗ(С), КРЕМНИЙ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, КВАРЦ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и состоят из атомов, связанных друг с другом в бесконечный трехмерный карка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томный каркас обладает высокой прочн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сталлы твердые, тугоплавкие, без запаха, в воде нерастворимы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99"/>
                </a:solidFill>
                <a:latin typeface="Franklin Gothic Medium"/>
              </a:rPr>
              <a:t>ВЕЩЕСТВА С МОЛЕКУЛЯРНОЙ КРИСТАЛЛИЧЕСКОЙ РЕШЕТКО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477647"/>
              </a:gs>
              <a:gs pos="50000">
                <a:srgbClr val="99ff99"/>
              </a:gs>
              <a:gs pos="100000">
                <a:srgbClr val="477647"/>
              </a:gs>
            </a:gsLst>
            <a:lin ang="5400000"/>
          </a:gradFill>
          <a:ln w="9360">
            <a:solidFill>
              <a:srgbClr val="99ff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В УЗЛАХ – НАХОДЯТСЯ МОЛЕКУЛ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УДЕРЖИВАЮТСЯ СЛАБЫМИ МЕЖМОЛЕКУЛЯРНЫМИ СИЛ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ВЕЩЕСТВА ЛЕГКОПЛАВКИ, ЧАСТО ИМЕЮТ ЗАП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ПРИ КОМНАТНОЙ ТЕМПЕРАТУРЕ ПРЕДСТАВЛЯЮТ СОБОЙ ЖИДКОСТИ (ВОДА,БРОМ), ГАЗЫ (КИСЛОРОД, АЗОТ) ИЛИ ЛЕГКОПЛАВКИЕ ТВЕРДЫЕ ВЕЩЕСТВА (ИОД, СЕРА)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ffcc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00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ОДОРОДНАЯ СВЯЗ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вид химической связи тип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      </a:t>
            </a: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А — Н...А —  Н ,образуется в результате взаимодействия атома водорода, связанного ковалентной связью с электроотрицательным атомом А (N, O, S и др.)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66ff33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Garamond"/>
              </a:rPr>
              <a:t>Образование межмолекулярной водородной связи.</a:t>
            </a: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Picture 4" descr="image3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388908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8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afe1ff"/>
              </a:gs>
              <a:gs pos="50000">
                <a:srgbClr val="0088e4"/>
              </a:gs>
              <a:gs pos="100000">
                <a:srgbClr val="afe1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Impact"/>
              </a:rPr>
              <a:t>Образование внутримолекулярной водородной связи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4" name="Picture 4" descr="image3"/>
          <p:cNvPicPr/>
          <p:nvPr/>
        </p:nvPicPr>
        <p:blipFill>
          <a:blip r:embed="rId1"/>
          <a:stretch/>
        </p:blipFill>
        <p:spPr>
          <a:xfrm>
            <a:off x="395280" y="1773360"/>
            <a:ext cx="8353440" cy="381636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Механизм образования водородной связи имеет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частично электростатический, частично донорно-акцепторный характер. Примеры межмолекулярной водородной связи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7" name="Picture 4" descr="ольга1"/>
          <p:cNvPicPr/>
          <p:nvPr/>
        </p:nvPicPr>
        <p:blipFill>
          <a:blip r:embed="rId1"/>
          <a:stretch/>
        </p:blipFill>
        <p:spPr>
          <a:xfrm>
            <a:off x="1258920" y="3284640"/>
            <a:ext cx="7488360" cy="357336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6a848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6a848"/>
                </a:solidFill>
                <a:latin typeface="Bookman Old Style"/>
              </a:rPr>
              <a:t>АТО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Na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Mg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F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  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Cl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 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66"/>
                </a:solidFill>
                <a:latin typeface="Impact"/>
              </a:rPr>
              <a:t>число протонов и электронов одинаковое количество, атом нейтрален.</a:t>
            </a:r>
            <a:r>
              <a:rPr b="0" lang="ru-RU" sz="3200" spc="-1" strike="noStrike">
                <a:solidFill>
                  <a:srgbClr val="66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ff33cc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Bookman Old Style"/>
              </a:rPr>
              <a:t>ИО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Na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1+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Mg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+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F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Cl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Число протонов и электронов разное – это и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afe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8893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ИОНЫ – заряженные частицы, которые образуются в результате присоединения или отдачи электрон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Если е - отдаются – ион заряжается положи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Если е - присоединяются – ион заряжается отрица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99ff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ЭЛЕКТРООТРИЦАТЕЛЬ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О атома, условная величина, характеризующая способность атома в молекуле притягивать электр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О в периоде </a:t>
            </a:r>
            <a:r>
              <a:rPr b="1" lang="ru-RU" sz="3200" spc="-1" strike="noStrike" baseline="30000">
                <a:solidFill>
                  <a:srgbClr val="00ff00"/>
                </a:solidFill>
                <a:latin typeface="Arial"/>
              </a:rPr>
              <a:t>увеличив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О в группе       </a:t>
            </a:r>
            <a:r>
              <a:rPr b="1" lang="ru-RU" sz="3200" spc="-1" strike="noStrike" baseline="30000">
                <a:solidFill>
                  <a:srgbClr val="00ff00"/>
                </a:solidFill>
                <a:latin typeface="Arial"/>
              </a:rPr>
              <a:t>возраст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САМЫЙ электроотрицательный элемент фт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4067280" y="3500280"/>
            <a:ext cx="2376360" cy="216000"/>
          </a:xfrm>
          <a:prstGeom prst="rightArrow">
            <a:avLst>
              <a:gd name="adj1" fmla="val 50000"/>
              <a:gd name="adj2" fmla="val 27504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3851280" y="386064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c9fcb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Franklin Gothic Medium"/>
              </a:rPr>
              <a:t>Ионная связ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образовавшаяся электронная пара полностью принадлежит более электроотрицательному атом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ИОННАЯ СВЯЗЬ, образуемая в результате электростатического притяж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Например: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 и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Cl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,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Li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+ 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  и 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F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-25000">
                <a:solidFill>
                  <a:srgbClr val="ff0066"/>
                </a:solidFill>
                <a:latin typeface="Arial Black"/>
              </a:rPr>
              <a:t>                                                                 </a:t>
            </a:r>
            <a:r>
              <a:rPr b="1" lang="ru-RU" sz="1600" spc="-1" strike="noStrike" baseline="-25000">
                <a:solidFill>
                  <a:srgbClr val="ff0066"/>
                </a:solidFill>
                <a:latin typeface="Franklin Gothic Medium"/>
                <a:ea typeface="Times New Roman"/>
              </a:rPr>
              <a:t>••</a:t>
            </a:r>
            <a:r>
              <a:rPr b="0" lang="ru-RU" sz="1600" spc="-1" strike="noStrike">
                <a:solidFill>
                  <a:srgbClr val="ff0066"/>
                </a:solidFill>
                <a:latin typeface="Franklin Gothic Medium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en-US" sz="3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 + Cl</a:t>
            </a:r>
            <a:r>
              <a:rPr b="1" lang="en-US" sz="3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 = Na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:Cl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: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Impact"/>
              </a:rPr>
              <a:t>                                          </a:t>
            </a:r>
            <a:r>
              <a:rPr b="0" lang="en-US" sz="16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r>
              <a:rPr b="0" lang="ru-RU" sz="16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 </a:t>
            </a:r>
            <a:r>
              <a:rPr b="0" lang="en-US" sz="16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Franklin Gothic Medium"/>
              </a:rPr>
              <a:t>Физические свойства веществ с ионным типом связи: твердые, тугоплавкие, не имеющие запаха, часто хорошо растворимые в вод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Franklin Gothic Medium"/>
              </a:rPr>
              <a:t>Вещества с ионном связью, образуют ионную кристаллическую решетк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3d4a8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Franklin Gothic Medium"/>
              </a:rPr>
              <a:t>Металлическая связ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ff66"/>
                </a:solidFill>
                <a:latin typeface="Comic Sans MS"/>
              </a:rPr>
              <a:t>возникает в результате движения свободных электронов, которые достаточно свободно движутся в решетке металлов, электростатически взаимодействуя с положительно заряженными ионами.</a:t>
            </a:r>
            <a:r>
              <a:rPr b="0" i="1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1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239" dur="1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a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fe1ff"/>
                </a:solidFill>
                <a:latin typeface="Franklin Gothic Medium"/>
              </a:rPr>
              <a:t>Физические свойств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Валентные электроны принадлежат одновременно всем атомам металла, свободно перемещаясь по всему кристалл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Образуя единое электронное облако («электронный газ»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Электроны обладают свойствами волны, они «размазаны» по всему куску метал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В этом типе связи электроны обусловливают высокую тепло- и электропроводность, металлический бле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22:53:37Z</dcterms:created>
  <dc:creator>Ludmila</dc:creator>
  <dc:description/>
  <dc:language>en-US</dc:language>
  <cp:lastModifiedBy>LEGION</cp:lastModifiedBy>
  <dcterms:modified xsi:type="dcterms:W3CDTF">2015-05-01T11:00:51Z</dcterms:modified>
  <cp:revision>11</cp:revision>
  <dc:subject/>
  <dc:title>ТИПЫ ХИМИЧЕСКОЙ СВЯЗ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