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59C3-A43C-4916-9BE9-7EEF505F2B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ЛЕКЦИЯ №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ядов. Общая характеристика токсического действия. Формирование токсического эффекта. Физико-химические характеристики токсических веществ. Применение при решении вопросов биохимической и аналитической токсик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д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о, вызывающее отравление или смерть при попадании в организ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бсолютных ядов в природе не существует, то есть нет таких химических веществ, которые способны приводить к отравлению при любых условиях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оксикация (отравление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intoxicatio; ин- + греч. toxikon яд) -  патологическое  состояние,  вызванное общим  действием на  организм токсических веществ эндогенного или экзогенного происхожд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7C70-11F0-4E17-AC26-6A18F3F82C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заимодействие химических веществ с рецепторами токс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цептор токс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Пауль Эрлих 1900 г) – это химически активная группировка, в норме участвующая в метаболизме клетки, к которой способна присоединится молекула ксенобиот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ханизм - лиганд-рецептор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8337-8A4B-43FA-9165-7B94D7D111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аксимальный ответ на токсическое воздейст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пределяетс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ростью и механизмом связывания токсиканта с рецепто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яя активность токсикант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N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- способность давать токсический эффект (ответ организм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при минимальном заполнении рецепторов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ы токсикантов, взаимодействующих с рецеп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агонисты (ингибирует действие нативных субстратов (эндогенных соединений), блокируя их связывание с рецепторами 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онис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ые агонисты (активируют рецепторы, взаимодействуя с ними, и дают токсический эффект, равный или превышающий эффект нативного субстрата).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оксикомиметики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6AED-765E-4FBF-A730-3F733C6116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матическая зависимость между ответом и дозой (концентрацией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вет при дозе токсикант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аксимально возможный ответ на воздейств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за токсиканта, вызывающая ответ, равный половине максималь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2474-B8AB-4D6F-8183-D2C923027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ОСТЬ КСЕН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BE78-76B5-4982-863F-BA200ACB37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изико-химические характеристики токсиканта и биологической среды, влияющие на механизмы токс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. Влияние растворимости ксенобиотика в биологических средах на его токсич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коэффициент распределен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. Корреляция структуры ксенобиотика и его токсичности. Топологические индек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E831-0885-4603-9C73-A7C1200F7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B3AB-96DF-4C31-8890-77FAF7D62E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ECEB-2827-40F8-8725-3843B5D26A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E6A6-76A7-4412-BB0C-3AFE5BBF07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равление – это «химическая трав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еское действие химического вещества зависит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дозы (токсичес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х и химических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й применения (путь введения, наличие и качество пищи в желудк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организма человека (пол, возраст, болезнь, вес, генетические факторы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утствия других веществ, вместе с которыми вводится яд в организм. При этом действие ядов может усилиться – проявляется синергизм (например, барбитураты или алкалоиды с алкоголем), или ослабля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BA30-AA56-41FE-9160-5A2C02F648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я веществ, вызывающих отравле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рг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орган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акт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ые яды: органические растворители (дихлорэтан, четыреххлористый углерод), топливо(пропан, бутан), красители (анилин, индофеноловые соединения), хладоагенты (фреоны), химические реагенты (метанол, уксусный ангидрид), пластификаторы (диметилфтала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тициды –инсектициды, зооциды, фунгициды, бактерицид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арственные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ые токсиканты – пищевые добавки, средства санитарии, личной гигиены, средства ухода за одеждой, мебелью, автомобилям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 растительные и животные я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евые отравляющие вещества (зарин, иприт, фосген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Гигиен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вычайно токс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введении в желудо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 мг/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 -15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ренн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1 -500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00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3C97-7C21-4C8F-99E5-8DBFE93E16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Токсиколог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аниды и синильная кислота, угарный газ, этанол, этиленглик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токсическое действие (гипоксические судороги, отек мозга,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учие яды (хлорпроизводные углеводородов, уксусная кислота, арсин, пары металлической рту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жно-резорбтивное действие с общетоксическими яв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органические инсектициды (карбофос), алкалоиды (никот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вно-паралитическое действие (бронхоспазм, удушье, судороги и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ческие и психотроп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тропное действие (нарушение психической актив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сиды азота, фосг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ушающее действие (токсический отек легки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пикрин (трихлорнитрометан), пары кислот и щелоч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зоточивое и раздражающее действие (раздражение слизистых оболоч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6D4D-685D-4E3F-AB94-7997FC9228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лассификация по «избирательной токсичности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 «избирательной токс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ердечные яды» - Кардиотоксическое действие (нарушение ритма и проводимости сердца, токсическая дистрофия миокар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ечные гликозиды, трициклические антидепрессанты, растительные яды, животные яды, соли бария и ка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рвные яды» - Нейротоксическое действие (нарушение психической активности, токсическая кома,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фармакологические средства (наркотики, транквилизаторы, снотворные), фосфорорганические соединения, угарный газ, алкоголь и его суррог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ченочные яды» - Гепатотоксическое действие (токсическая гепатопат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ированные углеводороды, ядовитые грибы, фенолы и альдеги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чечные яды» - Нефротоксическое действие (токсическая нефропат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я тяжелых металлов, этиленгликоль, щавелевая кис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ровяные яды» - Гематоксическое действие (гемолиз, метгемоглобинем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илин и его производные, нитриты, мышьяковистый вод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Желудочно-кишечные яды» - Гастроэнтеротоксическое действие (токсический гастроэнтер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ые кислоты и щелочи, соединения тяжелых металлов и мышья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DCB9-92F4-4D3A-B802-5C6D35706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Классификация веществ, вызывающих отравление при ХТ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ксические вещества органи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дистилляцией («летучие яды»)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нильная кислота, спирты, этиленгликоль, алкилгалогениды (хлороформ, хлоралгидрат, четыреххлористый углерод, дихл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н), формальдегид, ацетон, фенол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кисл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экстракцией и сорбци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екарственные средства (барбитураты, алкалоиды, синтетические лекарственные вещества – 1,4-бензодиазепины, производные фенотиазина, фенилалкиламин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тические вещества (каннабиноиды, эфедро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стициды (ФОС, хлорорганические – гептахлор, гексахлорциклогексан, производные карбаминовой кислоты – севин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Токсикологические вещества неоргани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минерализацией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«металлические яды» - соединения Ва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экстракцией водой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ислоты (серная, азотная, соляная), щелочи (гидроксиды натрия, калия, аммония), нитраты и нитр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требующих особых методов изолирован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единения ф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веществ, не требующих особых методов изолирован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редные пары и газы, оксид угле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4CC2-86E8-4D4D-AD4B-17947720B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вещества, введенное или попавшее в организм (отнесенное как правило, единице массы тела человека или животного) и дающее определенный токсический эфф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  токсическ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- доза, вызывающая  в  организме патологические  изменения,  не  приводящие  к  смертельному  исходу. Токсические дозы занимают диапазон доз от минимальной токсической до минимальной смертель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 токсическая минимальна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T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то пороговая  доза  в отношении эффекта, выходящего за пределы нормальных физиологических реа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смертельная минималь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L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за, вызывающая за  фиксированный  период времени гибель единичных, наиболее  чувствительных подопытных животных; принимается за нижний предел дозы смертель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г/кг, мкг/кг,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ь/кг (СИ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ный (общий, ненаправленный) судебно-химический анализ проводится обязательно на вещества 1,2 групп из веществ органической природы и 1 группу из веществ неорганической прир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.е. на группы «летучих», «лекарственных» и «металлических» ядов и пестици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3A67-2B8C-404F-B88D-C102BA0DBF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токсического эффекта включает 4 стад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вка токсиканта к органу- миш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с эндогенными молекулами –мишенями и другими рецепторами токсич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ирование нарушений в структуре и/или функционировании клет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ительные процессы на молекулярном, клеточном и тканевом уровн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трансформация ксенобиотика с образованием токсичных продуктов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етаболической активност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етальным синтез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трансформация, сопровождающаяся снижением содержания токсиканта в организме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оксикац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D935-291C-4DCA-8841-B68E95E4E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шени для токсика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актически все эндогенные соедин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молекулы, находящиеся либо на поверхности, либо внутри отдельных типов клеток (чаще всего это внутриклеточные фермен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уклеиновые кислоты (особенно Д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ел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леточные мемб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Ферменты (мишень в основном для токсического метаболита), т.к. сам фермент ответственен за синтез этого метабол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молекулярном уровне токсичность – это химическое взаимодействие между токсикантом и молекулой-мише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754A-8723-4649-B4E3-1BF9A7C796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C7D-149E-40AA-B4A0-5DDF482F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9CE-D6D1-465B-B7FD-36BF4653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C7E-D275-4D3C-BB4D-82660F18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B03C-966E-4E76-9E8D-FC8A841D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C73-993C-48F3-A743-6E647501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5B1-EAFC-4AC7-B745-41A8C681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D401-05CB-4412-8887-DB8AD01B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F05-E85D-4AE2-9047-9B3AE30D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005-E2AF-44CE-A56C-2B72DD9B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DBA2-8D1E-4AA6-930B-BD87D84D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440-82AA-4B0E-B518-4C417340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44C-7BE8-476B-A952-8D74D88A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bb7"/>
            </a:gs>
            <a:gs pos="50000">
              <a:srgbClr val="def6f1"/>
            </a:gs>
            <a:gs pos="100000">
              <a:srgbClr val="a9bb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C39D-CD41-4397-AB2B-B4BEA1F950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52280" y="39672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ЕКЦИЯ №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фикация ядов. Общая характеристика токсического действия. Формирование токсического эффекта. Физико-химические характеристики токсических веществ. Применение при решении вопросов биохимической и аналитической токсиколо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11280" y="2564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д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о, вызывающее отравление или смерть при попадании в организ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84360" y="4652640"/>
            <a:ext cx="86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оксикация (отравление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intoxicatio; ин- + греч. toxikon яд) -  патологическое  состояние,  вызванное общим  действием на  организм токсических веществ эндогенного или экзогенного происхож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24000" y="3428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бсолютных ядов в природе не существует, то есть нет таких химических веществ, которые способны приводить к отравлению при любых условия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87640" y="475560"/>
            <a:ext cx="83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заимодействие химических веществ с рецепторами токс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704320" y="522864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ханизм - лиганд-рецепто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79280" y="364464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цептор токс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ауль Эрлих 1900 г) – это химически активная группировка, в норме участвующая в метаболизме клетки, к которой способна присоединится молекула ксенобиот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1556640"/>
            <a:ext cx="50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Оккупационная» 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103640" y="1556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557080" y="2204280"/>
            <a:ext cx="43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специфические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987280" y="105264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00720" y="119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5796000" y="105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539640" y="10947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ксимальный токсический эффект наблюдается при полном заполнении рецепторов токсика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08000" y="38952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Оккупационная» 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24000" y="198828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x + R ↔ Tox –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900000" y="2852640"/>
                <a:ext cx="1943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ox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ox</m:t>
                        </m:r>
                        <m:r>
                          <m:t xml:space="preserve">]</m:t>
                        </m:r>
                        <m:r>
                          <m:t xml:space="preserve">⋅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Rectangle 6"/>
          <p:cNvSpPr/>
          <p:nvPr/>
        </p:nvSpPr>
        <p:spPr>
          <a:xfrm>
            <a:off x="179280" y="42134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– константа равновес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ox]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вновесная концентрация токсиканта (молекулы, иона, радикал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R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вновесная концентрация рецептора (молекулярного, клеточн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ox-R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вновесная концентрация продукта взаимо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4211640" y="2205000"/>
            <a:ext cx="4675320" cy="17748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979640" y="3322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24000" y="112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ксимальный ответ на токсическое воздей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ределяетс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оростью и механизмом связывания токсиканта с рецепто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39640" y="3380040"/>
            <a:ext cx="813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ы токсикантов, взаимодействующих с рецептор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агонисты (ингибирует действие нативных субстратов (эндогенных соединений), блокируя их связывание с рецепторами 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онис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чные агонисты (активируют рецепторы, взаимодействуя с ними, и дают токсический эффект, равный или превышающий эффект нативного субстрата).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оксикомиметики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8360" y="2095920"/>
            <a:ext cx="81374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яя активность токсикант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/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- способность давать токсический эффект (ответ организ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и минимальном заполнении рецептор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52960" y="475560"/>
            <a:ext cx="83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ая зависимость между ответом и дозой (концентрацией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348000" y="1197000"/>
                <a:ext cx="20876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Rectangle 5"/>
          <p:cNvSpPr/>
          <p:nvPr/>
        </p:nvSpPr>
        <p:spPr>
          <a:xfrm>
            <a:off x="179280" y="2448720"/>
            <a:ext cx="86407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вет при дозе токсикан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ксимально возможный ответ на воздейст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оза токсиканта, вызывающая ответ, равный половине максим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7"/>
              <p:cNvSpPr txBox="1"/>
              <p:nvPr/>
            </p:nvSpPr>
            <p:spPr>
              <a:xfrm>
                <a:off x="468360" y="3860640"/>
                <a:ext cx="21715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7" name="Object 8"/>
          <p:cNvGraphicFramePr/>
          <p:nvPr/>
        </p:nvGraphicFramePr>
        <p:xfrm>
          <a:off x="4067280" y="3789360"/>
          <a:ext cx="326700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3789360"/>
                    <a:ext cx="326700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79280" y="2349360"/>
            <a:ext cx="8640720" cy="395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56000" y="333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КСИЧНОСТЬ КСЕНОБИ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148360" y="47242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дсорбционные св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932360" y="1197000"/>
            <a:ext cx="36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свойства биологическо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H="1">
            <a:off x="2627280" y="765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508720" y="7650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39640" y="249228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ойчивость вещества –энергия Гибб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39640" y="321300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ницаемость клеточных мемб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95280" y="400536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слотно-основные св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5219640" y="2421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твор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219640" y="29242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пофи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076720" y="364500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ффузионная способ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95280" y="458136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003640" y="414972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ная акти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250920" y="1197000"/>
            <a:ext cx="36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свойства ксеноби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24000" y="544500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ность к электрической диссоциации (иониз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643280" y="530064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ность к комплексообразов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1476360" y="198900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5940360" y="19162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971640" y="333000"/>
            <a:ext cx="739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характеристики токсиканта и биологической среды, влияющие на механизмы токс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1412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Влияние растворимости ксенобиотика в биологических средах на его токс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75560" y="2204280"/>
            <a:ext cx="74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83840" y="2761920"/>
            <a:ext cx="767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эффициент распредел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68360" y="3265200"/>
            <a:ext cx="748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39640" y="4076280"/>
            <a:ext cx="828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-181080" y="566064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Корреляция структуры ксенобиотика и его токсичности. Топологические индек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00000" y="32472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6048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838080" y="1133640"/>
            <a:ext cx="7467840" cy="50385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900000" y="169560"/>
            <a:ext cx="748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12920" y="3846240"/>
            <a:ext cx="158436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14 - 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179280" y="1700280"/>
                <a:ext cx="3924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ионизированнаяформа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неионизированнаяфориа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4788000" y="1700280"/>
                <a:ext cx="41050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неионизированнаяформа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ионизированнаяфориа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Rectangle 8"/>
          <p:cNvSpPr/>
          <p:nvPr/>
        </p:nvSpPr>
        <p:spPr>
          <a:xfrm>
            <a:off x="1333440" y="9802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кисло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797440" y="9802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новани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341000" y="134064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↔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2"/>
              <p:cNvSpPr txBox="1"/>
              <p:nvPr/>
            </p:nvSpPr>
            <p:spPr>
              <a:xfrm>
                <a:off x="971640" y="3573360"/>
                <a:ext cx="2160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13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4"/>
              <p:cNvSpPr txBox="1"/>
              <p:nvPr/>
            </p:nvSpPr>
            <p:spPr>
              <a:xfrm>
                <a:off x="971640" y="4365720"/>
                <a:ext cx="2162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Rectangle 15"/>
          <p:cNvSpPr/>
          <p:nvPr/>
        </p:nvSpPr>
        <p:spPr>
          <a:xfrm>
            <a:off x="402480" y="5281200"/>
            <a:ext cx="150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Н= 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053800" y="529992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[HA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6024240" y="13406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↔ В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9"/>
              <p:cNvSpPr txBox="1"/>
              <p:nvPr/>
            </p:nvSpPr>
            <p:spPr>
              <a:xfrm>
                <a:off x="6156360" y="3500280"/>
                <a:ext cx="2087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0"/>
              <p:cNvSpPr txBox="1"/>
              <p:nvPr/>
            </p:nvSpPr>
            <p:spPr>
              <a:xfrm>
                <a:off x="6012000" y="4221000"/>
                <a:ext cx="23907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Rectangle 21"/>
          <p:cNvSpPr/>
          <p:nvPr/>
        </p:nvSpPr>
        <p:spPr>
          <a:xfrm>
            <a:off x="5587200" y="5281200"/>
            <a:ext cx="106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Н= 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6881760" y="529992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3"/>
              <p:cNvSpPr txBox="1"/>
              <p:nvPr/>
            </p:nvSpPr>
            <p:spPr>
              <a:xfrm>
                <a:off x="684360" y="5734080"/>
                <a:ext cx="2171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4"/>
              <p:cNvSpPr txBox="1"/>
              <p:nvPr/>
            </p:nvSpPr>
            <p:spPr>
              <a:xfrm>
                <a:off x="6084720" y="5661000"/>
                <a:ext cx="2133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Rectangle 25"/>
          <p:cNvSpPr/>
          <p:nvPr/>
        </p:nvSpPr>
        <p:spPr>
          <a:xfrm>
            <a:off x="375480" y="6490440"/>
            <a:ext cx="87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ча ( рН 4,8-7,4), плазма крови (рН 7,35-7,45) желудочный сок (рН 1,5-1,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6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038840" cy="1032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4038480" cy="1015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79280" y="228600"/>
            <a:ext cx="8785440" cy="63691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000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468360" y="47592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39640" y="3285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ксическое действие химического вещества зависит 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дозы (токсическо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их и химических свой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й применения (путь введения, наличие и качество пищи в желудк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е организма человека (пол, возраст, болезнь, вес, генетические факторы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утствия других веществ, вместе с которыми вводится яд в организм. При этом действие ядов может усилиться – проявляется синергизм (например, барбитураты или алкалоиды с алкоголем), или ослабля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28600" y="838080"/>
          <a:ext cx="87487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7487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4"/>
          <p:cNvSpPr/>
          <p:nvPr/>
        </p:nvSpPr>
        <p:spPr>
          <a:xfrm>
            <a:off x="324000" y="32472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равление – это «химическая трав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412640" y="259560"/>
            <a:ext cx="62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ификация веществ, вызывающих отравл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907920"/>
            <a:ext cx="482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им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рган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органическ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500720" y="836640"/>
            <a:ext cx="48258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Практ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мышленные яды: органические растворители (дихлорэтан, четыреххлористый углерод), топливо(пропан, бутан), красители (анилин, индофеноловые соединения), хладоагенты (фреоны), химические реагенты (метанол, уксусный ангидрид), пластификаторы (диметилфтала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стициды –инсектициды, зооциды, фунгициды, бактерициды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карственные 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товые токсиканты – пищевые добавки, средства санитарии, личной гигиены, средства ухода за одеждой, мебелью, автомобилями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ологические растительные и животные 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евые отравляющие вещества (зарин, иприт, фосген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2565360"/>
            <a:ext cx="4826160" cy="35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Гигиен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вычайно токсич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 введении в желудо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 мг/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 -15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1 -500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500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68360" y="476280"/>
            <a:ext cx="482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Токсиколог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981000"/>
          <a:ext cx="8229600" cy="507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аниды и синильная кислота, угарный газ, этанол, этиленглик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токсическое действие (гипоксические судороги, отек мозга,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учие яды (хлорпроизводные углеводородов, уксусная кислота, арсин, пары металлической рту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но-резорбтивное действие с общетоксическими явлен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органические инсектициды (карбофос), алкалоиды (никоти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вно-паралитическое действие (бронхоспазм, удушье, судороги и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котические и психотроп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тропное действие (нарушение психической активнос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азота, фосг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ушающее действие (токсический отек легки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пикрин (трихлорнитрометан), пары кислот и щелоч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зоточивое и раздражающее действие (раздражение слизистых оболоч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124000" y="189000"/>
            <a:ext cx="56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Классификация по «избирательной токсичности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620640"/>
          <a:ext cx="8697960" cy="5727600"/>
        </p:xfrm>
        <a:graphic>
          <a:graphicData uri="http://schemas.openxmlformats.org/drawingml/2006/table">
            <a:tbl>
              <a:tblPr/>
              <a:tblGrid>
                <a:gridCol w="4349880"/>
                <a:gridCol w="4348080"/>
              </a:tblGrid>
              <a:tr h="50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«избирательной токсич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рдечные яды» - Кардиотоксическое действие (нарушение ритма и проводимости сердца, токсическая дистрофия миокар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дечные гликозиды, трициклические антидепрессанты, растительные яды, животные яды, соли бария и к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рвные яды» - Нейротоксическое действие (нарушение психической активности, токсическая кома,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фармакологические средства (наркотики, транквилизаторы, снотворные), фосфорорганические соединения, угарный газ, алкоголь и его суррог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еченочные яды» - Гепатотоксическое действие (токсическая гепатопа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ированные углеводороды, ядовитые грибы, фенолы и альдег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чечные яды» - Нефротоксическое действие (токсическая нефропа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я тяжелых металлов, этиленгликоль, щавелев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овяные яды» - Гематоксическое действие (гемолиз, метгемоглобинем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лин и его производные, нитриты, мышьяковистый вод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Желудочно-кишечные яды» - Гастроэнтеротоксическое действие (токсический гастроэнтери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нтрированные кислоты и щелочи, соединения тяжелых металлов и мышья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051560" y="332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Классификация веществ, вызывающих отравление при Х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90792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ксические вещества органической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-4830840" y="29257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Rectangle 5"/>
          <p:cNvSpPr/>
          <p:nvPr/>
        </p:nvSpPr>
        <p:spPr>
          <a:xfrm>
            <a:off x="324000" y="1344960"/>
            <a:ext cx="4390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дистилляцией («летучие яды»)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нильная кислота, спирты, этиленгликоль, алкилгалогениды (хлороформ, хлоралгидрат, четыреххлористый углерод, дихл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н), формальдегид, ацетон, фенол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кис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экстракцией и сорбц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екарственные средства (барбитураты, алкалоиды, синтетические лекарственные вещества – 1,4-бензодиазепины, производные фенотиазина, фенилалкиламин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тические вещества (каннабиноиды, эфедрон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стициды (ФОС, хлорорганические – гептахлор, гексахлорциклогексан, производные карбаминовой кислоты – севин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606920" y="1709280"/>
            <a:ext cx="4537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минерализацией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металлические яды» - соединения Ва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экстракцией водой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ислоты (серная, азотная, соляная), щелочи (гидроксиды натрия, калия, аммония), нитраты и нитр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требующих особых методов изолир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единения ф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веществ, не требующих особых методов изолир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редные пары и газы, оксид угле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5292720" y="981000"/>
            <a:ext cx="44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Токсикологические вещества неорганической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79280" y="5590800"/>
            <a:ext cx="856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ный (общий, ненаправленный) судебно-химический анализ проводится обязательно на вещества 1,2 групп из веществ органической природы и 1 группу из веществ неорганической прир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.е. на группы «летучих», «лекарственных» и «металлических» ядов и пестици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79280" y="189720"/>
            <a:ext cx="84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количество вещества, введенное или попавшее в организм (отнесенное как правило, единице массы тела человека или животного) и дающее определенный токсический эфф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79280" y="1052640"/>
            <a:ext cx="874872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 токсическ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- доза, вызывающая  в  организме патологические  изменения,  не  приводящие  к  смертельному  исходу. Токсические дозы занимают диапазон доз от минимальной токсической до минимальной смертель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токсическая минималь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T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это пороговая  доза  в отношении эффекта, выходящего за пределы нормальных физиологических реак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смертельная минималь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оза, вызывающая за  фиксированный  период времени гибель единичных, наиболее  чувствительных подопытных животных; принимается за нижний предел дозы смертель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79280" y="3628440"/>
            <a:ext cx="8498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смертельная средня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оза, вызывающая за фиксированный период времени гибель 50% подопытны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50920" y="4276080"/>
            <a:ext cx="8353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смертельная абсолютная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оза, вызывающая за фиксированный период времени гибель не менее, чем 99% подопытны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5013360"/>
            <a:ext cx="9504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р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г/кг, мкг/кг,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ль/кг (СИ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4360" y="4708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токсического эффекта включает 4 стад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вка токсиканта к органу- миш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е с эндогенными молекулами –мишенями и другими рецепторами токс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ициирование нарушений в структуре и/или функционировании клет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овительные процессы на молекулярном, клеточном и тканевом уров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50920" y="4371480"/>
            <a:ext cx="856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рансформация ксенобиотика с образованием токсичных продуктов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аболической актив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тальным синте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24000" y="5444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рансформация, сопровождающаяся снижением содержания токсиканта в организме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токсика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68360" y="27792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шени для токсика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актически все эндогенные соеди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молекулы, находящиеся либо на поверхности, либо внутри отдельных типов клеток (чаще всего это внутриклеточные фермент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уклеиновые кислоты (особенно Д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леточные мемб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Ферменты (мишень в основном для токсического метаболита), т.к. сам фермент ответственен за синтез этого метабол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олекулярном уровне токсичность – это химическое взаимодействие между токсикантом и молекулой-мише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6:56:29Z</dcterms:created>
  <dc:creator>Home</dc:creator>
  <dc:description/>
  <dc:language>en-US</dc:language>
  <cp:lastModifiedBy>LEGION</cp:lastModifiedBy>
  <dcterms:modified xsi:type="dcterms:W3CDTF">2015-05-01T11:04:07Z</dcterms:modified>
  <cp:revision>81</cp:revision>
  <dc:subject/>
  <dc:title>Лекция 1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