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38F7-6BCD-4ADC-8BED-EE78F0C5A9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1054-3512-408B-854A-7923A0C3C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F158-2FA2-4619-831F-E5744C3DF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99F6-0D31-49E0-BC06-329851D819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D7D8-03FA-438D-9D6B-F577FD9306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8A87-059D-448B-A6FD-022851020F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069D-443D-4339-88C0-8D4FB346B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0CDB-CF86-4C65-B6F5-3AA4AFD00F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34CF-FE3D-4E7D-9C12-D611A4CA86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B05D-8AEE-4721-A7C7-F54AC3B2AE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C955-B3ED-4C11-97DE-6D6E07BA4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9439-7F55-4FCD-842D-F56B86587F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аниды и синильная кислота, угарный газ, этанол, этиленглик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токсическое действие (гипоксические судороги, отек мозг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учие яды (хлорпроизводные углеводородов, уксусная кислота, арсин, пары металлической рту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жно-резорбтивное действие с общетоксическими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органические инсектициды (карбофос), алкалоиды (никот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вно-паралитическое действие (бронхоспазм, удушье, судороги и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е и психотроп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тропное действие (нарушение психической актив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сиды азота, фос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ушающее действие (токсический отек легки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пикрин (трихлорнитрометан), пары кислот и щелоч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зоточивое и раздражающее действие (раздражение слизистых оболоч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C693-385C-4A4B-8054-D735AA177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 «избирательной токс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ердечные яды» - Кардиотоксическое действие (нарушение ритма и проводимости сердца, токсическая дистрофия миокар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ечные гликозиды, трициклические антидепрессанты, растительные яды, животные яды, соли бария и к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рвные яды» - Нейротоксическое действие (нарушение психической активности, токсическая ком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ченочные яды» - Гепатотоксическое действие (токсическая гепат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ированные углеводороды, ядовитые грибы, фенолы и альдеги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чечные яды» - Нефротоксическое действие (токсическая нефр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я тяжелых металлов, этиленгликоль, щавелевая кис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ровяные яды» - Гематоксическое действие (гемолиз, метгемоглобинем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илин и его производные, нитриты, мышьяковистый вод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Желудочно-кишечные яды» - Гастроэнтеротоксическое действие (токсический гастроэнте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ые кислоты и щелочи, соединения тяжелых металлов и мышья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73FE-5679-496D-A1FC-E54E223F2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4559-7484-4946-A024-E1D79D032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8105-A5FC-4779-A387-0A07DDB667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E3EA-4CB8-4653-9245-A23140C32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26A5-8842-4DF2-A1F6-A9CD2A7A7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D58-FAD2-4287-8583-5C430B42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028-EB57-45DB-9F78-1D1A383B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88F-65BC-43A5-9883-8967DFC2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886-4AB6-4E09-872F-CE50C85C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DBD-105A-49E0-B2DF-ECFD9140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4B0-4686-44BB-939A-818872AA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023-5C39-4CD2-9A27-A4E05499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9E4-2A87-45E1-A24B-BF42C73C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257-E4E3-4574-B3A1-374449B3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82A-0C16-47BF-A388-7BF9F4CD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DD8-5304-4444-A9B3-3ADB9396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67F-A2E9-4FBA-8955-E9FDEC61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bb7"/>
            </a:gs>
            <a:gs pos="50000">
              <a:srgbClr val="def6f1"/>
            </a:gs>
            <a:gs pos="100000">
              <a:srgbClr val="a9bb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FC94-669D-4007-967C-BB97BE83A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52280" y="39672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11280" y="2564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4360" y="4652640"/>
            <a:ext cx="86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4000" y="3428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87640" y="47556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704320" y="522864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79280" y="364464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1556640"/>
            <a:ext cx="50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103640" y="1556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557080" y="220428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специфические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987280" y="105264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00720" y="119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5796000" y="105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539640" y="10947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токсический эффект наблюдается при полном заполнении рецепторов токсика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08000" y="38952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24000" y="198828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x + R ↔ Tox –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900000" y="2852640"/>
                <a:ext cx="1943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Rectangle 6"/>
          <p:cNvSpPr/>
          <p:nvPr/>
        </p:nvSpPr>
        <p:spPr>
          <a:xfrm>
            <a:off x="179280" y="42134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– константа равновес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]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новесная концентрация токсиканта (молекулы, иона, радикал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рецептора (молекулярного, клеточн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-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продукта взаимо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4211640" y="2205000"/>
            <a:ext cx="4675320" cy="17748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979640" y="3322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24000" y="112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39640" y="3380040"/>
            <a:ext cx="813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2095920"/>
            <a:ext cx="81374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52960" y="475560"/>
            <a:ext cx="83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348000" y="1197000"/>
                <a:ext cx="20876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5"/>
          <p:cNvSpPr/>
          <p:nvPr/>
        </p:nvSpPr>
        <p:spPr>
          <a:xfrm>
            <a:off x="179280" y="2448720"/>
            <a:ext cx="86407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468360" y="3860640"/>
                <a:ext cx="21715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7" name="Object 8"/>
          <p:cNvGraphicFramePr/>
          <p:nvPr/>
        </p:nvGraphicFramePr>
        <p:xfrm>
          <a:off x="4067280" y="3789360"/>
          <a:ext cx="326700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3789360"/>
                    <a:ext cx="326700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79280" y="2349360"/>
            <a:ext cx="8640720" cy="395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56000" y="333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148360" y="47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дсорбцион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3236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биологическ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H="1">
            <a:off x="2627280" y="765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508720" y="765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39640" y="249228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ость вещества –энергия Гибб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39640" y="321300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ницаемость клеточных мемб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400536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слотно-основ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219640" y="2421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вор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219640" y="29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пофи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076720" y="364500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ффузионная способ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95280" y="458136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003640" y="414972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ная акт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25092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24000" y="544500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электрической диссоциации (иониз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43280" y="530064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комплексообразов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1476360" y="198900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5940360" y="19162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971640" y="333000"/>
            <a:ext cx="739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1412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75560" y="2204280"/>
            <a:ext cx="74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83840" y="2761920"/>
            <a:ext cx="767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68360" y="326520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39640" y="4076280"/>
            <a:ext cx="82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-181080" y="566064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32472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6048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838080" y="1133640"/>
            <a:ext cx="7467840" cy="5038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900000" y="16956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12920" y="3846240"/>
            <a:ext cx="158436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14 - 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179280" y="1700280"/>
                <a:ext cx="392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4788000" y="1700280"/>
                <a:ext cx="41050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8"/>
          <p:cNvSpPr/>
          <p:nvPr/>
        </p:nvSpPr>
        <p:spPr>
          <a:xfrm>
            <a:off x="1333440" y="9802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исло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797440" y="9802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ани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341000" y="134064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↔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2"/>
              <p:cNvSpPr txBox="1"/>
              <p:nvPr/>
            </p:nvSpPr>
            <p:spPr>
              <a:xfrm>
                <a:off x="971640" y="3573360"/>
                <a:ext cx="2160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13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4"/>
              <p:cNvSpPr txBox="1"/>
              <p:nvPr/>
            </p:nvSpPr>
            <p:spPr>
              <a:xfrm>
                <a:off x="971640" y="4365720"/>
                <a:ext cx="2162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Rectangle 15"/>
          <p:cNvSpPr/>
          <p:nvPr/>
        </p:nvSpPr>
        <p:spPr>
          <a:xfrm>
            <a:off x="402480" y="5281200"/>
            <a:ext cx="150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053800" y="52999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HA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024240" y="13406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↔ В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9"/>
              <p:cNvSpPr txBox="1"/>
              <p:nvPr/>
            </p:nvSpPr>
            <p:spPr>
              <a:xfrm>
                <a:off x="6156360" y="3500280"/>
                <a:ext cx="2087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0"/>
              <p:cNvSpPr txBox="1"/>
              <p:nvPr/>
            </p:nvSpPr>
            <p:spPr>
              <a:xfrm>
                <a:off x="6012000" y="4221000"/>
                <a:ext cx="23907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21"/>
          <p:cNvSpPr/>
          <p:nvPr/>
        </p:nvSpPr>
        <p:spPr>
          <a:xfrm>
            <a:off x="5587200" y="5281200"/>
            <a:ext cx="106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6881760" y="529992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3"/>
              <p:cNvSpPr txBox="1"/>
              <p:nvPr/>
            </p:nvSpPr>
            <p:spPr>
              <a:xfrm>
                <a:off x="684360" y="5734080"/>
                <a:ext cx="2171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4"/>
              <p:cNvSpPr txBox="1"/>
              <p:nvPr/>
            </p:nvSpPr>
            <p:spPr>
              <a:xfrm>
                <a:off x="6084720" y="5661000"/>
                <a:ext cx="2133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25"/>
          <p:cNvSpPr/>
          <p:nvPr/>
        </p:nvSpPr>
        <p:spPr>
          <a:xfrm>
            <a:off x="375480" y="6490440"/>
            <a:ext cx="87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ча ( рН 4,8-7,4), плазма крови (рН 7,35-7,45) желудочный сок (рН 1,5-1,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6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038840" cy="1032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4038480" cy="1015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79280" y="228600"/>
            <a:ext cx="8785440" cy="6369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000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468360" y="47592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39640" y="3285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28600" y="838080"/>
          <a:ext cx="87487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48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4"/>
          <p:cNvSpPr/>
          <p:nvPr/>
        </p:nvSpPr>
        <p:spPr>
          <a:xfrm>
            <a:off x="324000" y="3247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412640" y="259560"/>
            <a:ext cx="62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907920"/>
            <a:ext cx="482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500720" y="836640"/>
            <a:ext cx="48258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2565360"/>
            <a:ext cx="4826160" cy="35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68360" y="476280"/>
            <a:ext cx="482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981000"/>
          <a:ext cx="8229600" cy="507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аниды и синильная кислота, угарный газ, этанол, этиленглик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токсическое действие (гипоксические судороги, отек мозг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учие яды (хлорпроизводные углеводородов, уксусная кислота, арсин, пары металлической рту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но-резорбтивное действие с общетоксическими явлен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органические инсектициды (карбофос), алкалоиды (никоти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но-паралитическое действие (бронхоспазм, удушье, судороги и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котические и психотроп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тропное действие (нарушение психической актив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азота, фос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ушающее действие (токсический отек легки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пикрин (трихлорнитрометан), пары кислот и щелоч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зоточивое и раздражающее действие (раздражение слизистых оболоч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124000" y="18900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620640"/>
          <a:ext cx="8697960" cy="5727600"/>
        </p:xfrm>
        <a:graphic>
          <a:graphicData uri="http://schemas.openxmlformats.org/drawingml/2006/table">
            <a:tbl>
              <a:tblPr/>
              <a:tblGrid>
                <a:gridCol w="4349880"/>
                <a:gridCol w="434808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«избирательной токсич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рдечные яды» - Кардиотоксическое действие (нарушение ритма и проводимости сердца, токсическая дистрофия миокар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дечные гликозиды, трициклические антидепрессанты, растительные яды, животные яды, соли бария и к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рвные яды» - Нейротоксическое действие (нарушение психической активности, токсическая ком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еченочные яды» - Гепатотоксическое действие (токсическая гепат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рованные углеводороды, ядовитые грибы, фенолы и альдег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чечные яды» - Нефротоксическое действие (токсическая нефр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я тяжелых металлов, этиленгликоль, щавел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овяные яды» - Гематоксическое действие (гемолиз, метгемоглобинем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лин и его производные, нитриты, мышьяковистый вод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Желудочно-кишечные яды» - Гастроэнтеротоксическое действие (токсический гастроэнтер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ированные кислоты и щелочи, соединения тяжелых металлов и мышья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051560" y="332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90792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-4830840" y="29257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Rectangle 5"/>
          <p:cNvSpPr/>
          <p:nvPr/>
        </p:nvSpPr>
        <p:spPr>
          <a:xfrm>
            <a:off x="324000" y="1344960"/>
            <a:ext cx="4390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606920" y="1709280"/>
            <a:ext cx="4537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5292720" y="981000"/>
            <a:ext cx="44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79280" y="5590800"/>
            <a:ext cx="856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189720"/>
            <a:ext cx="84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79280" y="1052640"/>
            <a:ext cx="87487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79280" y="3628440"/>
            <a:ext cx="8498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фиксированный период времени гибель 50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50920" y="4276080"/>
            <a:ext cx="8353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абсолютная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оза, вызывающая за фиксированный период времени гибель не менее, чем 99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5013360"/>
            <a:ext cx="9504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4360" y="4708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0920" y="4371480"/>
            <a:ext cx="85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24000" y="544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68360" y="27792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6:56:29Z</dcterms:created>
  <dc:creator>Home</dc:creator>
  <dc:description/>
  <dc:language>en-US</dc:language>
  <cp:lastModifiedBy>LEGION</cp:lastModifiedBy>
  <dcterms:modified xsi:type="dcterms:W3CDTF">2015-05-01T11:04:07Z</dcterms:modified>
  <cp:revision>81</cp:revision>
  <dc:subject/>
  <dc:title>Лекция 1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