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27.gif" ContentType="image/gif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4.gif" ContentType="image/gif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8.gif" ContentType="image/gif"/>
  <Override PartName="/ppt/media/image3.png" ContentType="image/png"/>
  <Override PartName="/ppt/media/image26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F35B-0E63-4921-884B-C4415718C0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Простые и сложные веще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Звонарёва Т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Учитель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У л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Г. Электрогор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1FDB-96F9-4151-8E6F-A12C9175CC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C3FD-3550-43DB-BBAA-08F1D05A4F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и 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A10E-6824-409F-9A3D-7350794585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верьте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Под какими буквами на схемах обозначены простые веще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О</a:t>
            </a:r>
            <a:r>
              <a:rPr b="1" lang="ru-RU" sz="1200" spc="-1" strike="noStrike" baseline="-25000">
                <a:solidFill>
                  <a:srgbClr val="663300"/>
                </a:solidFill>
                <a:latin typeface="Calibri"/>
              </a:rPr>
              <a:t>2 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                        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О</a:t>
            </a:r>
            <a:r>
              <a:rPr b="1" lang="ru-RU" sz="1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200" spc="-1" strike="noStrike">
                <a:solidFill>
                  <a:srgbClr val="663300"/>
                </a:solidFill>
                <a:latin typeface="Calibri"/>
              </a:rPr>
              <a:t>N</a:t>
            </a:r>
            <a:r>
              <a:rPr b="1" lang="en-US" sz="1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          Б                          В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                            Д                       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17FE-487B-4459-9D66-A98B9015B9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7236-EBB8-4C8F-ADC1-F6C4CA1803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гадайте загад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еня не едят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И без меня  мало едя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2DF8-1C7C-44FD-83B3-8DB56C7C8C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48D0-7D65-4590-AB50-85CC36F2BE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5FD6-876A-415B-A545-2D314ACB10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верьте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Разделите перечисленные названия веществ на 2 группы: неорганические вещества и органическ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Вода, кислород, жиры, медь, водород, белки, поваренная соль, угле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C018-6C6A-446D-AD89-C78CF47536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 уксусной кислоте прикасаться опас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95B4-167B-4A2B-97A9-76FE26F7BC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Учебник с. 55-5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Вопросы:1,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0AD2-BA9D-4F54-8DAF-A290B4343F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Допиш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Тела состоят из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2.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 Мельчайшая частица вещества, сохраняющая его свойства это 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Молекулы состоят из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 Определённый вид атомов называется 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. 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ы одного и того же вещества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1. Наименьшая частица вещества называется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2. Молекулы одного и того же вещества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3. Молекулы делятся на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4. Химический элемент это -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5.Тела состоят из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316A-627A-46F2-80DB-8DFAEBD266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рове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2. Молек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 Ато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 Химическим элеме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 Одинак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Молек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2.Одинак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А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Одинаковый вид ато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E7E7-8A25-45D9-928E-A018DCF783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арисуй схе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кисл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оз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5661-C453-4348-B286-33204155B0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Вещество состоящее из атомов одного вида называется прост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500C-28AB-4143-97F1-C26FEC1852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а, состоящие из атомов одного 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</a:t>
            </a:r>
            <a:r>
              <a:rPr b="1" lang="ru-RU" sz="1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О + 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3AEA-71A2-4F21-A233-CF84F5CC39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8A22-0E71-4598-8B02-DE4CC7191D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о состоящее из разных видов атомов называется слож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B082-9E72-47D1-9A84-F0CFD359E5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- вещества, состоящие из атомов разны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C7BE-6B8B-48AB-8D12-170F81961F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4FC0-964A-45C1-AB83-12C1685E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8785-C3C8-445B-86FC-7195A686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BB2F-B2C6-4433-9D72-1277A457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9947-8DD5-41CB-AE67-F1E192ED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5B06-E5FB-4EC9-82AE-E4AD611E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D9AC-2AFE-4E59-8C11-A2180ED1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6247-738E-4CB7-BE83-3914C95B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F590-2EB6-477A-A618-B5FC3962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0AC8-5F60-4BD4-ACA2-63E3F5E7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5D15-3539-4363-BB92-9F9B925E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7BD3-3731-4535-8942-9D0B4A23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5725-86CA-486A-9B46-5079517D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7D41-985E-48A1-A784-E7D435694EC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77EA-88D2-4457-8C0B-2930C98A1F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7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0456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mic Sans MS"/>
              </a:rPr>
              <a:t>Простые и сложные веществ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626920" y="4739760"/>
            <a:ext cx="4753080" cy="17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Звонарёва Т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МОУ лиц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Г. Электрогор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User.PHILKA\Рабочий стол\мама\анимации\Учителя и ученики ІІ\132.gif"/>
          <p:cNvPicPr/>
          <p:nvPr/>
        </p:nvPicPr>
        <p:blipFill>
          <a:blip r:embed="rId1"/>
          <a:stretch/>
        </p:blipFill>
        <p:spPr>
          <a:xfrm>
            <a:off x="6948360" y="4456080"/>
            <a:ext cx="1854360" cy="161136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Сложны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447920" y="1600200"/>
          <a:ext cx="7238880" cy="480996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жн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глекислый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юк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разн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3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Простые и сложные веществ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447920" y="1600200"/>
          <a:ext cx="7238880" cy="480996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сло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з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одинаков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жн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глекислый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юк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разн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3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4"/>
          <p:cNvSpPr/>
          <p:nvPr/>
        </p:nvSpPr>
        <p:spPr>
          <a:xfrm>
            <a:off x="6858000" y="2666880"/>
            <a:ext cx="167652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3"/>
          <p:cNvSpPr/>
          <p:nvPr/>
        </p:nvSpPr>
        <p:spPr>
          <a:xfrm>
            <a:off x="3886200" y="26668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2"/>
          <p:cNvSpPr/>
          <p:nvPr/>
        </p:nvSpPr>
        <p:spPr>
          <a:xfrm>
            <a:off x="1676520" y="2666880"/>
            <a:ext cx="160020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1523520" y="1600200"/>
            <a:ext cx="7162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од какими буквами на схемах обозначены простые вещест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О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 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                 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СО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N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                   Б                          В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                            Д                        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Овал 4"/>
          <p:cNvGrpSpPr/>
          <p:nvPr/>
        </p:nvGrpSpPr>
        <p:grpSpPr>
          <a:xfrm>
            <a:off x="1773360" y="2792520"/>
            <a:ext cx="720720" cy="718920"/>
            <a:chOff x="1773360" y="2792520"/>
            <a:chExt cx="720720" cy="718920"/>
          </a:xfrm>
        </p:grpSpPr>
        <p:pic>
          <p:nvPicPr>
            <p:cNvPr id="141" name="Овал 4" descr=""/>
            <p:cNvPicPr/>
            <p:nvPr/>
          </p:nvPicPr>
          <p:blipFill>
            <a:blip r:embed="rId2"/>
            <a:stretch/>
          </p:blipFill>
          <p:spPr>
            <a:xfrm>
              <a:off x="1773360" y="27925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917720" y="2908440"/>
              <a:ext cx="431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Овал 5"/>
          <p:cNvGrpSpPr/>
          <p:nvPr/>
        </p:nvGrpSpPr>
        <p:grpSpPr>
          <a:xfrm>
            <a:off x="2157480" y="2792520"/>
            <a:ext cx="718920" cy="718920"/>
            <a:chOff x="2157480" y="2792520"/>
            <a:chExt cx="718920" cy="718920"/>
          </a:xfrm>
        </p:grpSpPr>
        <p:pic>
          <p:nvPicPr>
            <p:cNvPr id="144" name="Овал 5" descr=""/>
            <p:cNvPicPr/>
            <p:nvPr/>
          </p:nvPicPr>
          <p:blipFill>
            <a:blip r:embed="rId3"/>
            <a:stretch/>
          </p:blipFill>
          <p:spPr>
            <a:xfrm>
              <a:off x="2157480" y="27925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98600" y="2908440"/>
              <a:ext cx="43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Овал 8"/>
          <p:cNvGrpSpPr/>
          <p:nvPr/>
        </p:nvGrpSpPr>
        <p:grpSpPr>
          <a:xfrm>
            <a:off x="4900680" y="3017880"/>
            <a:ext cx="718920" cy="718920"/>
            <a:chOff x="4900680" y="3017880"/>
            <a:chExt cx="718920" cy="718920"/>
          </a:xfrm>
        </p:grpSpPr>
        <p:pic>
          <p:nvPicPr>
            <p:cNvPr id="147" name="Овал 8" descr=""/>
            <p:cNvPicPr/>
            <p:nvPr/>
          </p:nvPicPr>
          <p:blipFill>
            <a:blip r:embed="rId4"/>
            <a:stretch/>
          </p:blipFill>
          <p:spPr>
            <a:xfrm>
              <a:off x="4900680" y="301788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41800" y="3137040"/>
              <a:ext cx="43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Овал 9"/>
          <p:cNvGrpSpPr/>
          <p:nvPr/>
        </p:nvGrpSpPr>
        <p:grpSpPr>
          <a:xfrm>
            <a:off x="4138560" y="3017880"/>
            <a:ext cx="719280" cy="718920"/>
            <a:chOff x="4138560" y="3017880"/>
            <a:chExt cx="719280" cy="718920"/>
          </a:xfrm>
        </p:grpSpPr>
        <p:pic>
          <p:nvPicPr>
            <p:cNvPr id="150" name="Овал 9" descr=""/>
            <p:cNvPicPr/>
            <p:nvPr/>
          </p:nvPicPr>
          <p:blipFill>
            <a:blip r:embed="rId5"/>
            <a:stretch/>
          </p:blipFill>
          <p:spPr>
            <a:xfrm>
              <a:off x="4138560" y="3017880"/>
              <a:ext cx="7192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280040" y="3137040"/>
              <a:ext cx="431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Овал 7"/>
          <p:cNvGrpSpPr/>
          <p:nvPr/>
        </p:nvGrpSpPr>
        <p:grpSpPr>
          <a:xfrm>
            <a:off x="4516560" y="2712960"/>
            <a:ext cx="652320" cy="658800"/>
            <a:chOff x="4516560" y="2712960"/>
            <a:chExt cx="652320" cy="658800"/>
          </a:xfrm>
        </p:grpSpPr>
        <p:pic>
          <p:nvPicPr>
            <p:cNvPr id="153" name="Овал 7" descr=""/>
            <p:cNvPicPr/>
            <p:nvPr/>
          </p:nvPicPr>
          <p:blipFill>
            <a:blip r:embed="rId6"/>
            <a:stretch/>
          </p:blipFill>
          <p:spPr>
            <a:xfrm>
              <a:off x="4516560" y="2712960"/>
              <a:ext cx="65232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651200" y="2822400"/>
              <a:ext cx="385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Овал 10"/>
          <p:cNvGrpSpPr/>
          <p:nvPr/>
        </p:nvGrpSpPr>
        <p:grpSpPr>
          <a:xfrm>
            <a:off x="7412040" y="2792520"/>
            <a:ext cx="652320" cy="652320"/>
            <a:chOff x="7412040" y="2792520"/>
            <a:chExt cx="652320" cy="652320"/>
          </a:xfrm>
        </p:grpSpPr>
        <p:pic>
          <p:nvPicPr>
            <p:cNvPr id="156" name="Овал 10" descr=""/>
            <p:cNvPicPr/>
            <p:nvPr/>
          </p:nvPicPr>
          <p:blipFill>
            <a:blip r:embed="rId7"/>
            <a:stretch/>
          </p:blipFill>
          <p:spPr>
            <a:xfrm>
              <a:off x="7412040" y="2792520"/>
              <a:ext cx="65232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547040" y="2898720"/>
              <a:ext cx="385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Овал 11"/>
          <p:cNvGrpSpPr/>
          <p:nvPr/>
        </p:nvGrpSpPr>
        <p:grpSpPr>
          <a:xfrm>
            <a:off x="7034040" y="2792520"/>
            <a:ext cx="652680" cy="652320"/>
            <a:chOff x="7034040" y="2792520"/>
            <a:chExt cx="652680" cy="652320"/>
          </a:xfrm>
        </p:grpSpPr>
        <p:pic>
          <p:nvPicPr>
            <p:cNvPr id="159" name="Овал 11" descr=""/>
            <p:cNvPicPr/>
            <p:nvPr/>
          </p:nvPicPr>
          <p:blipFill>
            <a:blip r:embed="rId8"/>
            <a:stretch/>
          </p:blipFill>
          <p:spPr>
            <a:xfrm>
              <a:off x="7034040" y="2792520"/>
              <a:ext cx="65268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165800" y="2898720"/>
              <a:ext cx="385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Прямоугольник 15"/>
          <p:cNvSpPr/>
          <p:nvPr/>
        </p:nvSpPr>
        <p:spPr>
          <a:xfrm>
            <a:off x="1676520" y="4648320"/>
            <a:ext cx="198108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         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Овал 16"/>
          <p:cNvGrpSpPr/>
          <p:nvPr/>
        </p:nvGrpSpPr>
        <p:grpSpPr>
          <a:xfrm>
            <a:off x="1700280" y="4925880"/>
            <a:ext cx="641160" cy="652680"/>
            <a:chOff x="1700280" y="4925880"/>
            <a:chExt cx="641160" cy="652680"/>
          </a:xfrm>
        </p:grpSpPr>
        <p:pic>
          <p:nvPicPr>
            <p:cNvPr id="163" name="Овал 16" descr=""/>
            <p:cNvPicPr/>
            <p:nvPr/>
          </p:nvPicPr>
          <p:blipFill>
            <a:blip r:embed="rId9"/>
            <a:stretch/>
          </p:blipFill>
          <p:spPr>
            <a:xfrm>
              <a:off x="1700280" y="4925880"/>
              <a:ext cx="64116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830240" y="5030640"/>
              <a:ext cx="37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Овал 17"/>
          <p:cNvGrpSpPr/>
          <p:nvPr/>
        </p:nvGrpSpPr>
        <p:grpSpPr>
          <a:xfrm>
            <a:off x="2230560" y="4694400"/>
            <a:ext cx="1025280" cy="1023840"/>
            <a:chOff x="2230560" y="4694400"/>
            <a:chExt cx="1025280" cy="1023840"/>
          </a:xfrm>
        </p:grpSpPr>
        <p:pic>
          <p:nvPicPr>
            <p:cNvPr id="166" name="Овал 17" descr=""/>
            <p:cNvPicPr/>
            <p:nvPr/>
          </p:nvPicPr>
          <p:blipFill>
            <a:blip r:embed="rId10"/>
            <a:stretch/>
          </p:blipFill>
          <p:spPr>
            <a:xfrm>
              <a:off x="2230560" y="4694400"/>
              <a:ext cx="10252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419200" y="4857840"/>
              <a:ext cx="6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Прямоугольник 18"/>
          <p:cNvSpPr/>
          <p:nvPr/>
        </p:nvSpPr>
        <p:spPr>
          <a:xfrm>
            <a:off x="4038480" y="4648320"/>
            <a:ext cx="167652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Н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Овал 19"/>
          <p:cNvGrpSpPr/>
          <p:nvPr/>
        </p:nvGrpSpPr>
        <p:grpSpPr>
          <a:xfrm>
            <a:off x="4595760" y="4925880"/>
            <a:ext cx="641520" cy="652680"/>
            <a:chOff x="4595760" y="4925880"/>
            <a:chExt cx="641520" cy="652680"/>
          </a:xfrm>
        </p:grpSpPr>
        <p:pic>
          <p:nvPicPr>
            <p:cNvPr id="170" name="Овал 19" descr=""/>
            <p:cNvPicPr/>
            <p:nvPr/>
          </p:nvPicPr>
          <p:blipFill>
            <a:blip r:embed="rId11"/>
            <a:stretch/>
          </p:blipFill>
          <p:spPr>
            <a:xfrm>
              <a:off x="4595760" y="4925880"/>
              <a:ext cx="64152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726080" y="5030640"/>
              <a:ext cx="3776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Овал 20"/>
          <p:cNvGrpSpPr/>
          <p:nvPr/>
        </p:nvGrpSpPr>
        <p:grpSpPr>
          <a:xfrm>
            <a:off x="4138560" y="4925880"/>
            <a:ext cx="641520" cy="652680"/>
            <a:chOff x="4138560" y="4925880"/>
            <a:chExt cx="641520" cy="652680"/>
          </a:xfrm>
        </p:grpSpPr>
        <p:pic>
          <p:nvPicPr>
            <p:cNvPr id="173" name="Овал 20" descr=""/>
            <p:cNvPicPr/>
            <p:nvPr/>
          </p:nvPicPr>
          <p:blipFill>
            <a:blip r:embed="rId12"/>
            <a:stretch/>
          </p:blipFill>
          <p:spPr>
            <a:xfrm>
              <a:off x="4138560" y="4925880"/>
              <a:ext cx="64152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4268880" y="5030640"/>
              <a:ext cx="3776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Прямоугольник 21"/>
          <p:cNvSpPr/>
          <p:nvPr/>
        </p:nvSpPr>
        <p:spPr>
          <a:xfrm>
            <a:off x="6324480" y="4648320"/>
            <a:ext cx="213372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Cl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Овал 22"/>
          <p:cNvGrpSpPr/>
          <p:nvPr/>
        </p:nvGrpSpPr>
        <p:grpSpPr>
          <a:xfrm>
            <a:off x="7107120" y="4694400"/>
            <a:ext cx="1025640" cy="1023840"/>
            <a:chOff x="7107120" y="4694400"/>
            <a:chExt cx="1025640" cy="1023840"/>
          </a:xfrm>
        </p:grpSpPr>
        <p:pic>
          <p:nvPicPr>
            <p:cNvPr id="177" name="Овал 22" descr=""/>
            <p:cNvPicPr/>
            <p:nvPr/>
          </p:nvPicPr>
          <p:blipFill>
            <a:blip r:embed="rId13"/>
            <a:stretch/>
          </p:blipFill>
          <p:spPr>
            <a:xfrm>
              <a:off x="7107120" y="4694400"/>
              <a:ext cx="1025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296120" y="485784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Овал 23"/>
          <p:cNvGrpSpPr/>
          <p:nvPr/>
        </p:nvGrpSpPr>
        <p:grpSpPr>
          <a:xfrm>
            <a:off x="6497640" y="4694400"/>
            <a:ext cx="1025640" cy="1023840"/>
            <a:chOff x="6497640" y="4694400"/>
            <a:chExt cx="1025640" cy="1023840"/>
          </a:xfrm>
        </p:grpSpPr>
        <p:pic>
          <p:nvPicPr>
            <p:cNvPr id="180" name="Овал 23" descr=""/>
            <p:cNvPicPr/>
            <p:nvPr/>
          </p:nvPicPr>
          <p:blipFill>
            <a:blip r:embed="rId14"/>
            <a:stretch/>
          </p:blipFill>
          <p:spPr>
            <a:xfrm>
              <a:off x="6497640" y="4694400"/>
              <a:ext cx="1025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686640" y="485784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4" descr="мальчик думает"/>
          <p:cNvPicPr/>
          <p:nvPr/>
        </p:nvPicPr>
        <p:blipFill>
          <a:blip r:embed="rId15"/>
          <a:stretch/>
        </p:blipFill>
        <p:spPr>
          <a:xfrm>
            <a:off x="7715160" y="357120"/>
            <a:ext cx="1285920" cy="18684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pic>
        <p:nvPicPr>
          <p:cNvPr id="185" name="Содержимое 4" descr=""/>
          <p:cNvPicPr/>
          <p:nvPr/>
        </p:nvPicPr>
        <p:blipFill>
          <a:blip r:embed="rId2"/>
          <a:stretch/>
        </p:blipFill>
        <p:spPr>
          <a:xfrm>
            <a:off x="1962000" y="1268280"/>
            <a:ext cx="6755040" cy="544356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5"/>
          <p:cNvSpPr/>
          <p:nvPr/>
        </p:nvSpPr>
        <p:spPr>
          <a:xfrm>
            <a:off x="0" y="3808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Угадайте загадк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Меня не едят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И без меня  мало едя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1008[1]"/>
          <p:cNvPicPr/>
          <p:nvPr/>
        </p:nvPicPr>
        <p:blipFill>
          <a:blip r:embed="rId1"/>
          <a:stretch/>
        </p:blipFill>
        <p:spPr>
          <a:xfrm>
            <a:off x="5562720" y="13716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457200" y="4047840"/>
            <a:ext cx="373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Я бел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В чести у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В рот попал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Там и пропа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sugar[1]"/>
          <p:cNvPicPr/>
          <p:nvPr/>
        </p:nvPicPr>
        <p:blipFill>
          <a:blip r:embed="rId2"/>
          <a:stretch/>
        </p:blipFill>
        <p:spPr>
          <a:xfrm>
            <a:off x="4724280" y="4191120"/>
            <a:ext cx="3251160" cy="24048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Неорганически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Содержимое 4" descr="121161_1.jpg"/>
          <p:cNvPicPr/>
          <p:nvPr/>
        </p:nvPicPr>
        <p:blipFill>
          <a:blip r:embed="rId1"/>
          <a:stretch/>
        </p:blipFill>
        <p:spPr>
          <a:xfrm>
            <a:off x="4648320" y="2606760"/>
            <a:ext cx="4038480" cy="2512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1008[1]"/>
          <p:cNvPicPr/>
          <p:nvPr/>
        </p:nvPicPr>
        <p:blipFill>
          <a:blip r:embed="rId2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Органически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suhfru01[1]"/>
          <p:cNvPicPr/>
          <p:nvPr/>
        </p:nvPicPr>
        <p:blipFill>
          <a:blip r:embed="rId1"/>
          <a:stretch/>
        </p:blipFill>
        <p:spPr>
          <a:xfrm>
            <a:off x="291960" y="2781360"/>
            <a:ext cx="3857760" cy="2592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1__7_[1]"/>
          <p:cNvPicPr/>
          <p:nvPr/>
        </p:nvPicPr>
        <p:blipFill>
          <a:blip r:embed="rId2"/>
          <a:stretch/>
        </p:blipFill>
        <p:spPr>
          <a:xfrm>
            <a:off x="4427640" y="2205000"/>
            <a:ext cx="4371840" cy="33591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584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1042560" y="2204640"/>
            <a:ext cx="723924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Разделите перечисленные названия веществ на 2 группы: неорганические вещества и органически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Вода, кислород, жиры, медь, водород, белки, поваренная соль, углев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мальчик думает"/>
          <p:cNvPicPr/>
          <p:nvPr/>
        </p:nvPicPr>
        <p:blipFill>
          <a:blip r:embed="rId2"/>
          <a:stretch/>
        </p:blipFill>
        <p:spPr>
          <a:xfrm>
            <a:off x="7572240" y="0"/>
            <a:ext cx="1571760" cy="228456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omic Sans MS"/>
              </a:rPr>
              <a:t>К уксусной кислоте прикасаться опасно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4" descr="500[1]"/>
          <p:cNvPicPr/>
          <p:nvPr/>
        </p:nvPicPr>
        <p:blipFill>
          <a:blip r:embed="rId1"/>
          <a:stretch/>
        </p:blipFill>
        <p:spPr>
          <a:xfrm>
            <a:off x="1401840" y="2438280"/>
            <a:ext cx="2504880" cy="3581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01_3[1]"/>
          <p:cNvPicPr/>
          <p:nvPr/>
        </p:nvPicPr>
        <p:blipFill>
          <a:blip r:embed="rId2"/>
          <a:stretch/>
        </p:blipFill>
        <p:spPr>
          <a:xfrm>
            <a:off x="4800600" y="1905120"/>
            <a:ext cx="2857680" cy="410508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Домашнее задание: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Учебник с. 55-5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опросы:1,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Колокольчики"/>
          <p:cNvPicPr/>
          <p:nvPr/>
        </p:nvPicPr>
        <p:blipFill>
          <a:blip r:embed="rId1"/>
          <a:stretch/>
        </p:blipFill>
        <p:spPr>
          <a:xfrm>
            <a:off x="3276720" y="3657600"/>
            <a:ext cx="3267000" cy="279864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Допиши предлож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285920"/>
            <a:ext cx="4495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1.Тела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2.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 Мельчайшая частица вещества, сохраняющая его свойства это 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3.Молекулы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4. Определённый вид атомов называется 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5.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.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Молекулы одного и того же веществ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14520" y="1285920"/>
            <a:ext cx="50720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1. Наименьшая частица вещества называет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2. Молекулы одного и того же веществ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3. Молекулы делятся н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4. Химический элемент это 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5.Тела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Documents and Settings\User.PHILKA\Рабочий стол\мама\анимации\Учителя и ученики ІІ\141.gif"/>
          <p:cNvPicPr/>
          <p:nvPr/>
        </p:nvPicPr>
        <p:blipFill>
          <a:blip r:embed="rId1"/>
          <a:stretch/>
        </p:blipFill>
        <p:spPr>
          <a:xfrm>
            <a:off x="142920" y="142920"/>
            <a:ext cx="857160" cy="11890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Провер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1571760"/>
            <a:ext cx="4352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1. Вещест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2. Молеку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3. Ато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4. Химическим элемент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5. Одинаков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1.Молеку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2.Одинаков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3.Ато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4.Одинаковый вид ато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5.Вещест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User.PHILKA\Рабочий стол\мама\анимации\Учителя и ученики ІІ\141.gif"/>
          <p:cNvPicPr/>
          <p:nvPr/>
        </p:nvPicPr>
        <p:blipFill>
          <a:blip r:embed="rId1"/>
          <a:stretch/>
        </p:blipFill>
        <p:spPr>
          <a:xfrm>
            <a:off x="3000240" y="1928880"/>
            <a:ext cx="1866960" cy="25905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mic Sans MS"/>
              </a:rPr>
              <a:t>Нарисуй схему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в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кислор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озо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Разнообразие вещест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292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ещество состоящее из атомов одного вида называется прост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857160" y="1600200"/>
            <a:ext cx="323856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вещества, состоящие из атомов одного ви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</a:t>
            </a:r>
            <a:r>
              <a:rPr b="1" lang="ru-RU" sz="3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О + 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Группа 18"/>
          <p:cNvGrpSpPr/>
          <p:nvPr/>
        </p:nvGrpSpPr>
        <p:grpSpPr>
          <a:xfrm>
            <a:off x="1905120" y="3048120"/>
            <a:ext cx="5679360" cy="1720800"/>
            <a:chOff x="1905120" y="3048120"/>
            <a:chExt cx="5679360" cy="1720800"/>
          </a:xfrm>
        </p:grpSpPr>
        <p:grpSp>
          <p:nvGrpSpPr>
            <p:cNvPr id="72" name="Овал 15"/>
            <p:cNvGrpSpPr/>
            <p:nvPr/>
          </p:nvGrpSpPr>
          <p:grpSpPr>
            <a:xfrm>
              <a:off x="1905120" y="3119760"/>
              <a:ext cx="821520" cy="820440"/>
              <a:chOff x="1905120" y="3119760"/>
              <a:chExt cx="821520" cy="820440"/>
            </a:xfrm>
          </p:grpSpPr>
          <p:pic>
            <p:nvPicPr>
              <p:cNvPr id="73" name="Овал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5120" y="3119760"/>
                <a:ext cx="821520" cy="82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2061000" y="3256200"/>
                <a:ext cx="5043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Овал 16"/>
            <p:cNvGrpSpPr/>
            <p:nvPr/>
          </p:nvGrpSpPr>
          <p:grpSpPr>
            <a:xfrm>
              <a:off x="2503080" y="3119760"/>
              <a:ext cx="827640" cy="820440"/>
              <a:chOff x="2503080" y="3119760"/>
              <a:chExt cx="827640" cy="820440"/>
            </a:xfrm>
          </p:grpSpPr>
          <p:pic>
            <p:nvPicPr>
              <p:cNvPr id="76" name="Овал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2503080" y="3119760"/>
                <a:ext cx="827640" cy="82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2664720" y="3256200"/>
                <a:ext cx="5043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TextBox 17"/>
            <p:cNvSpPr/>
            <p:nvPr/>
          </p:nvSpPr>
          <p:spPr>
            <a:xfrm>
              <a:off x="1954080" y="4126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Молекул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Прямая со стрелкой 7"/>
            <p:cNvCxnSpPr/>
            <p:nvPr/>
          </p:nvCxnSpPr>
          <p:spPr>
            <a:xfrm>
              <a:off x="3542040" y="3452040"/>
              <a:ext cx="963360" cy="1080"/>
            </a:xfrm>
            <a:prstGeom prst="straightConnector1">
              <a:avLst/>
            </a:prstGeom>
            <a:ln w="25560">
              <a:solidFill>
                <a:srgbClr val="f79646"/>
              </a:solidFill>
              <a:miter/>
              <a:tailEnd len="med" type="arrow" w="med"/>
            </a:ln>
          </p:spPr>
        </p:cxnSp>
        <p:sp>
          <p:nvSpPr>
            <p:cNvPr id="80" name="Плюс 8"/>
            <p:cNvSpPr/>
            <p:nvPr/>
          </p:nvSpPr>
          <p:spPr>
            <a:xfrm>
              <a:off x="5731920" y="3227760"/>
              <a:ext cx="464040" cy="460080"/>
            </a:xfrm>
            <a:custGeom>
              <a:avLst/>
              <a:gdLst/>
              <a:ahLst/>
              <a:rect l="l" t="t" r="r" b="b"/>
              <a:pathLst>
                <a:path w="468347" h="468373">
                  <a:moveTo>
                    <a:pt x="62079" y="179109"/>
                  </a:moveTo>
                  <a:lnTo>
                    <a:pt x="179096" y="179109"/>
                  </a:lnTo>
                  <a:lnTo>
                    <a:pt x="179096" y="62083"/>
                  </a:lnTo>
                  <a:lnTo>
                    <a:pt x="289251" y="62083"/>
                  </a:lnTo>
                  <a:lnTo>
                    <a:pt x="289251" y="179109"/>
                  </a:lnTo>
                  <a:lnTo>
                    <a:pt x="406268" y="179109"/>
                  </a:lnTo>
                  <a:lnTo>
                    <a:pt x="406268" y="289264"/>
                  </a:lnTo>
                  <a:lnTo>
                    <a:pt x="289251" y="289264"/>
                  </a:lnTo>
                  <a:lnTo>
                    <a:pt x="289251" y="406290"/>
                  </a:lnTo>
                  <a:lnTo>
                    <a:pt x="179096" y="406290"/>
                  </a:lnTo>
                  <a:lnTo>
                    <a:pt x="179096" y="289264"/>
                  </a:lnTo>
                  <a:lnTo>
                    <a:pt x="62079" y="289264"/>
                  </a:lnTo>
                  <a:lnTo>
                    <a:pt x="62079" y="179109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Овал 13"/>
            <p:cNvGrpSpPr/>
            <p:nvPr/>
          </p:nvGrpSpPr>
          <p:grpSpPr>
            <a:xfrm>
              <a:off x="4768560" y="3048120"/>
              <a:ext cx="827640" cy="814680"/>
              <a:chOff x="4768560" y="3048120"/>
              <a:chExt cx="827640" cy="814680"/>
            </a:xfrm>
          </p:grpSpPr>
          <p:pic>
            <p:nvPicPr>
              <p:cNvPr id="82" name="Овал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768560" y="3048120"/>
                <a:ext cx="827640" cy="81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4930200" y="3181680"/>
                <a:ext cx="50436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TextBox 14"/>
            <p:cNvSpPr/>
            <p:nvPr/>
          </p:nvSpPr>
          <p:spPr>
            <a:xfrm>
              <a:off x="4597200" y="408888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Овал 11"/>
            <p:cNvGrpSpPr/>
            <p:nvPr/>
          </p:nvGrpSpPr>
          <p:grpSpPr>
            <a:xfrm>
              <a:off x="6429960" y="3048120"/>
              <a:ext cx="827640" cy="814680"/>
              <a:chOff x="6429960" y="3048120"/>
              <a:chExt cx="827640" cy="814680"/>
            </a:xfrm>
          </p:grpSpPr>
          <p:pic>
            <p:nvPicPr>
              <p:cNvPr id="86" name="Овал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6429960" y="3048120"/>
                <a:ext cx="827640" cy="81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6591240" y="3181680"/>
                <a:ext cx="50436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Box 12"/>
            <p:cNvSpPr/>
            <p:nvPr/>
          </p:nvSpPr>
          <p:spPr>
            <a:xfrm>
              <a:off x="6333840" y="4126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9" name="Прямая со стрелкой 21"/>
          <p:cNvCxnSpPr/>
          <p:nvPr/>
        </p:nvCxnSpPr>
        <p:spPr>
          <a:xfrm>
            <a:off x="3276720" y="5334120"/>
            <a:ext cx="38160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осты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47920" y="1600200"/>
          <a:ext cx="7238880" cy="438480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8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сло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з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одинаков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Разнообразие вещест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292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Вещество состоящее из разных видов атомов называется сложн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857160" y="1600200"/>
            <a:ext cx="3238560" cy="45259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- вещества, состоящие из атомов разных элем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Группа 23"/>
          <p:cNvGrpSpPr/>
          <p:nvPr/>
        </p:nvGrpSpPr>
        <p:grpSpPr>
          <a:xfrm>
            <a:off x="1447920" y="3352680"/>
            <a:ext cx="6802200" cy="1569240"/>
            <a:chOff x="1447920" y="3352680"/>
            <a:chExt cx="6802200" cy="1569240"/>
          </a:xfrm>
        </p:grpSpPr>
        <p:cxnSp>
          <p:nvCxnSpPr>
            <p:cNvPr id="101" name="Прямая со стрелкой 24"/>
            <p:cNvCxnSpPr/>
            <p:nvPr/>
          </p:nvCxnSpPr>
          <p:spPr>
            <a:xfrm>
              <a:off x="3124080" y="3755880"/>
              <a:ext cx="972000" cy="1080"/>
            </a:xfrm>
            <a:prstGeom prst="straightConnector1">
              <a:avLst/>
            </a:prstGeom>
            <a:ln w="38160">
              <a:solidFill>
                <a:srgbClr val="f79646"/>
              </a:solidFill>
              <a:miter/>
              <a:tailEnd len="med" type="triangle" w="med"/>
            </a:ln>
          </p:spPr>
        </p:cxnSp>
        <p:sp>
          <p:nvSpPr>
            <p:cNvPr id="102" name="Плюс 25"/>
            <p:cNvSpPr/>
            <p:nvPr/>
          </p:nvSpPr>
          <p:spPr>
            <a:xfrm>
              <a:off x="5257800" y="3531960"/>
              <a:ext cx="468000" cy="459360"/>
            </a:xfrm>
            <a:custGeom>
              <a:avLst/>
              <a:gdLst/>
              <a:ahLst/>
              <a:rect l="l" t="t" r="r" b="b"/>
              <a:pathLst>
                <a:path w="468278" h="468378">
                  <a:moveTo>
                    <a:pt x="62070" y="179120"/>
                  </a:moveTo>
                  <a:lnTo>
                    <a:pt x="179070" y="179120"/>
                  </a:lnTo>
                  <a:lnTo>
                    <a:pt x="179070" y="62084"/>
                  </a:lnTo>
                  <a:lnTo>
                    <a:pt x="289208" y="62084"/>
                  </a:lnTo>
                  <a:lnTo>
                    <a:pt x="289208" y="179120"/>
                  </a:lnTo>
                  <a:lnTo>
                    <a:pt x="406208" y="179120"/>
                  </a:lnTo>
                  <a:lnTo>
                    <a:pt x="406208" y="289258"/>
                  </a:lnTo>
                  <a:lnTo>
                    <a:pt x="289208" y="289258"/>
                  </a:lnTo>
                  <a:lnTo>
                    <a:pt x="289208" y="406294"/>
                  </a:lnTo>
                  <a:lnTo>
                    <a:pt x="179070" y="406294"/>
                  </a:lnTo>
                  <a:lnTo>
                    <a:pt x="179070" y="289258"/>
                  </a:lnTo>
                  <a:lnTo>
                    <a:pt x="62070" y="289258"/>
                  </a:lnTo>
                  <a:lnTo>
                    <a:pt x="62070" y="17912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люс 26"/>
            <p:cNvSpPr/>
            <p:nvPr/>
          </p:nvSpPr>
          <p:spPr>
            <a:xfrm>
              <a:off x="6705720" y="3531960"/>
              <a:ext cx="468000" cy="459360"/>
            </a:xfrm>
            <a:custGeom>
              <a:avLst/>
              <a:gdLst/>
              <a:ahLst/>
              <a:rect l="l" t="t" r="r" b="b"/>
              <a:pathLst>
                <a:path w="468278" h="468378">
                  <a:moveTo>
                    <a:pt x="62070" y="179120"/>
                  </a:moveTo>
                  <a:lnTo>
                    <a:pt x="179070" y="179120"/>
                  </a:lnTo>
                  <a:lnTo>
                    <a:pt x="179070" y="62084"/>
                  </a:lnTo>
                  <a:lnTo>
                    <a:pt x="289208" y="62084"/>
                  </a:lnTo>
                  <a:lnTo>
                    <a:pt x="289208" y="179120"/>
                  </a:lnTo>
                  <a:lnTo>
                    <a:pt x="406208" y="179120"/>
                  </a:lnTo>
                  <a:lnTo>
                    <a:pt x="406208" y="289258"/>
                  </a:lnTo>
                  <a:lnTo>
                    <a:pt x="289208" y="289258"/>
                  </a:lnTo>
                  <a:lnTo>
                    <a:pt x="289208" y="406294"/>
                  </a:lnTo>
                  <a:lnTo>
                    <a:pt x="179070" y="406294"/>
                  </a:lnTo>
                  <a:lnTo>
                    <a:pt x="179070" y="289258"/>
                  </a:lnTo>
                  <a:lnTo>
                    <a:pt x="62070" y="289258"/>
                  </a:lnTo>
                  <a:lnTo>
                    <a:pt x="62070" y="17912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Овал 27"/>
            <p:cNvGrpSpPr/>
            <p:nvPr/>
          </p:nvGrpSpPr>
          <p:grpSpPr>
            <a:xfrm>
              <a:off x="1548360" y="3723480"/>
              <a:ext cx="640080" cy="645840"/>
              <a:chOff x="1548360" y="3723480"/>
              <a:chExt cx="640080" cy="645840"/>
            </a:xfrm>
          </p:grpSpPr>
          <p:pic>
            <p:nvPicPr>
              <p:cNvPr id="105" name="Овал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8360" y="3723480"/>
                <a:ext cx="64008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1678320" y="383292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Овал 28"/>
            <p:cNvGrpSpPr/>
            <p:nvPr/>
          </p:nvGrpSpPr>
          <p:grpSpPr>
            <a:xfrm>
              <a:off x="2383560" y="3723480"/>
              <a:ext cx="646200" cy="645840"/>
              <a:chOff x="2383560" y="3723480"/>
              <a:chExt cx="646200" cy="645840"/>
            </a:xfrm>
          </p:grpSpPr>
          <p:pic>
            <p:nvPicPr>
              <p:cNvPr id="108" name="Овал 28" descr=""/>
              <p:cNvPicPr/>
              <p:nvPr/>
            </p:nvPicPr>
            <p:blipFill>
              <a:blip r:embed="rId3"/>
              <a:stretch/>
            </p:blipFill>
            <p:spPr>
              <a:xfrm>
                <a:off x="2383560" y="3723480"/>
                <a:ext cx="64620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2516400" y="383292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Овал 29"/>
            <p:cNvGrpSpPr/>
            <p:nvPr/>
          </p:nvGrpSpPr>
          <p:grpSpPr>
            <a:xfrm>
              <a:off x="1853280" y="3352680"/>
              <a:ext cx="829080" cy="813240"/>
              <a:chOff x="1853280" y="3352680"/>
              <a:chExt cx="829080" cy="813240"/>
            </a:xfrm>
          </p:grpSpPr>
          <p:pic>
            <p:nvPicPr>
              <p:cNvPr id="111" name="Овал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1853280" y="3352680"/>
                <a:ext cx="829080" cy="81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2010600" y="3485880"/>
                <a:ext cx="50904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Box 30"/>
            <p:cNvSpPr/>
            <p:nvPr/>
          </p:nvSpPr>
          <p:spPr>
            <a:xfrm>
              <a:off x="1447920" y="4429080"/>
              <a:ext cx="17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Молекула в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Овал 31"/>
            <p:cNvGrpSpPr/>
            <p:nvPr/>
          </p:nvGrpSpPr>
          <p:grpSpPr>
            <a:xfrm>
              <a:off x="4291560" y="3352680"/>
              <a:ext cx="829080" cy="813240"/>
              <a:chOff x="4291560" y="3352680"/>
              <a:chExt cx="829080" cy="813240"/>
            </a:xfrm>
          </p:grpSpPr>
          <p:pic>
            <p:nvPicPr>
              <p:cNvPr id="115" name="Овал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4291560" y="3352680"/>
                <a:ext cx="829080" cy="81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4448880" y="3485880"/>
                <a:ext cx="50904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Box 32"/>
            <p:cNvSpPr/>
            <p:nvPr/>
          </p:nvSpPr>
          <p:spPr>
            <a:xfrm>
              <a:off x="4042440" y="4279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Овал 33"/>
            <p:cNvGrpSpPr/>
            <p:nvPr/>
          </p:nvGrpSpPr>
          <p:grpSpPr>
            <a:xfrm>
              <a:off x="5888880" y="3424320"/>
              <a:ext cx="646200" cy="645840"/>
              <a:chOff x="5888880" y="3424320"/>
              <a:chExt cx="646200" cy="645840"/>
            </a:xfrm>
          </p:grpSpPr>
          <p:pic>
            <p:nvPicPr>
              <p:cNvPr id="119" name="Овал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5888880" y="3424320"/>
                <a:ext cx="64620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6022080" y="353376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TextBox 34"/>
            <p:cNvSpPr/>
            <p:nvPr/>
          </p:nvSpPr>
          <p:spPr>
            <a:xfrm>
              <a:off x="5638320" y="4279320"/>
              <a:ext cx="116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вод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Овал 35"/>
            <p:cNvGrpSpPr/>
            <p:nvPr/>
          </p:nvGrpSpPr>
          <p:grpSpPr>
            <a:xfrm>
              <a:off x="7339680" y="3424320"/>
              <a:ext cx="640080" cy="645840"/>
              <a:chOff x="7339680" y="3424320"/>
              <a:chExt cx="640080" cy="645840"/>
            </a:xfrm>
          </p:grpSpPr>
          <p:pic>
            <p:nvPicPr>
              <p:cNvPr id="123" name="Овал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7339680" y="3424320"/>
                <a:ext cx="64008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7470000" y="353376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TextBox 36"/>
            <p:cNvSpPr/>
            <p:nvPr/>
          </p:nvSpPr>
          <p:spPr>
            <a:xfrm>
              <a:off x="7086240" y="4279320"/>
              <a:ext cx="116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вод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37"/>
          <p:cNvSpPr/>
          <p:nvPr/>
        </p:nvSpPr>
        <p:spPr>
          <a:xfrm>
            <a:off x="2535840" y="5486400"/>
            <a:ext cx="357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</a:t>
            </a:r>
            <a:r>
              <a:rPr b="1" lang="ru-RU" sz="3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        О + Н + 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Прямая со стрелкой 39"/>
          <p:cNvCxnSpPr/>
          <p:nvPr/>
        </p:nvCxnSpPr>
        <p:spPr>
          <a:xfrm>
            <a:off x="3504960" y="5791320"/>
            <a:ext cx="53388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8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1:05:09Z</dcterms:created>
  <dc:creator>www.PHILka.RU</dc:creator>
  <dc:description/>
  <dc:language>en-US</dc:language>
  <cp:lastModifiedBy>LEGION</cp:lastModifiedBy>
  <dcterms:modified xsi:type="dcterms:W3CDTF">2015-05-01T11:04:41Z</dcterms:modified>
  <cp:revision>26</cp:revision>
  <dc:subject/>
  <dc:title>Простые и сложные вещества</dc:title>
</cp:coreProperties>
</file>