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7.gif" ContentType="image/gif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4.gif" ContentType="image/gif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8.gif" ContentType="image/gif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ECEE-FF9E-44E2-B6E0-BBDB788550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D8B2-1EBA-48EB-9922-A629A83A67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8AC5-E390-40D0-8EEF-23D862E127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FC27-1912-4F4D-9ABA-2BC229A46B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7412-5171-48CE-BE2E-35CFA56ACE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A881-6159-4A1F-A815-4F807189A3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адайте зага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D1B9-BC84-4488-AE38-6A77997FF2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1E2F-A328-41A9-A329-2734C1ADC9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92ED-0EB8-41AF-8F0E-3AE2B9F49E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3C80-C5A7-499C-8611-2C5894B365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 уксусной кислоте прикасаться опас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2AA8-7AFB-46CC-8FC9-CD56A474C7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B4C6-7037-4A2F-B43A-846ED87674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Допиш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3B11-5F49-4156-967A-C5BB680EC0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DAE9-669B-446A-9FA0-6451107E48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арисуй сх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A3F8-09EF-4A85-B334-3E18960010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917D-24AD-4D56-B0CE-562BC889B4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1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A9C7-6023-4C87-BF7E-22ED151750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FC92-8345-4F24-86CF-6EB28C09F3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F7E7-F29E-44F9-BECD-087E830895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48ED-6388-442E-9DD1-0D62BB3808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972-16F6-4609-B19E-36DCF130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512-C8A7-469B-B6E9-B63C77AC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2A0-613E-4BAF-8373-98FD8AB7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B9B-4AA7-4732-AF12-58653A62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D80-65C7-4BA2-BB5D-5AEB28C6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311-1621-4E30-87BE-679CA75C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015-80A3-4C40-9C02-C1B8A799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CD2-5461-4B98-8F82-38AEABE9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B39-14A0-4D76-AC00-97B0F622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852-8B12-419D-B7DB-B47BCF29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61D-0910-4D3E-BAA4-2E063987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654-F93C-4CD3-8B19-5638BB6A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DE7A-5D74-4B54-9C71-E0A84549D9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4EA2-2C52-46EA-B4AF-DF6E82FF5B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26920" y="4739760"/>
            <a:ext cx="475308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.PHILKA\Рабочий стол\мама\анимации\Учителя и ученики ІІ\132.gif"/>
          <p:cNvPicPr/>
          <p:nvPr/>
        </p:nvPicPr>
        <p:blipFill>
          <a:blip r:embed="rId1"/>
          <a:stretch/>
        </p:blipFill>
        <p:spPr>
          <a:xfrm>
            <a:off x="6948360" y="4456080"/>
            <a:ext cx="1854360" cy="1611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4"/>
          <p:cNvSpPr/>
          <p:nvPr/>
        </p:nvSpPr>
        <p:spPr>
          <a:xfrm>
            <a:off x="6858000" y="2666880"/>
            <a:ext cx="16765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3886200" y="26668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676520" y="2666880"/>
            <a:ext cx="160020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23520" y="16002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Овал 4"/>
          <p:cNvGrpSpPr/>
          <p:nvPr/>
        </p:nvGrpSpPr>
        <p:grpSpPr>
          <a:xfrm>
            <a:off x="1773360" y="2792520"/>
            <a:ext cx="720720" cy="718920"/>
            <a:chOff x="1773360" y="2792520"/>
            <a:chExt cx="720720" cy="718920"/>
          </a:xfrm>
        </p:grpSpPr>
        <p:pic>
          <p:nvPicPr>
            <p:cNvPr id="141" name="Овал 4" descr=""/>
            <p:cNvPicPr/>
            <p:nvPr/>
          </p:nvPicPr>
          <p:blipFill>
            <a:blip r:embed="rId2"/>
            <a:stretch/>
          </p:blipFill>
          <p:spPr>
            <a:xfrm>
              <a:off x="1773360" y="27925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917720" y="29084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Овал 5"/>
          <p:cNvGrpSpPr/>
          <p:nvPr/>
        </p:nvGrpSpPr>
        <p:grpSpPr>
          <a:xfrm>
            <a:off x="2157480" y="2792520"/>
            <a:ext cx="718920" cy="718920"/>
            <a:chOff x="2157480" y="2792520"/>
            <a:chExt cx="718920" cy="718920"/>
          </a:xfrm>
        </p:grpSpPr>
        <p:pic>
          <p:nvPicPr>
            <p:cNvPr id="144" name="Овал 5" descr=""/>
            <p:cNvPicPr/>
            <p:nvPr/>
          </p:nvPicPr>
          <p:blipFill>
            <a:blip r:embed="rId3"/>
            <a:stretch/>
          </p:blipFill>
          <p:spPr>
            <a:xfrm>
              <a:off x="2157480" y="27925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98600" y="29084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Овал 8"/>
          <p:cNvGrpSpPr/>
          <p:nvPr/>
        </p:nvGrpSpPr>
        <p:grpSpPr>
          <a:xfrm>
            <a:off x="4900680" y="3017880"/>
            <a:ext cx="718920" cy="718920"/>
            <a:chOff x="4900680" y="3017880"/>
            <a:chExt cx="718920" cy="718920"/>
          </a:xfrm>
        </p:grpSpPr>
        <p:pic>
          <p:nvPicPr>
            <p:cNvPr id="147" name="Овал 8" descr=""/>
            <p:cNvPicPr/>
            <p:nvPr/>
          </p:nvPicPr>
          <p:blipFill>
            <a:blip r:embed="rId4"/>
            <a:stretch/>
          </p:blipFill>
          <p:spPr>
            <a:xfrm>
              <a:off x="4900680" y="301788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41800" y="31370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138560" y="3017880"/>
            <a:ext cx="719280" cy="718920"/>
            <a:chOff x="4138560" y="3017880"/>
            <a:chExt cx="719280" cy="718920"/>
          </a:xfrm>
        </p:grpSpPr>
        <p:pic>
          <p:nvPicPr>
            <p:cNvPr id="150" name="Овал 9" descr=""/>
            <p:cNvPicPr/>
            <p:nvPr/>
          </p:nvPicPr>
          <p:blipFill>
            <a:blip r:embed="rId5"/>
            <a:stretch/>
          </p:blipFill>
          <p:spPr>
            <a:xfrm>
              <a:off x="4138560" y="3017880"/>
              <a:ext cx="719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80040" y="31370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4516560" y="2712960"/>
            <a:ext cx="652320" cy="658800"/>
            <a:chOff x="4516560" y="2712960"/>
            <a:chExt cx="652320" cy="658800"/>
          </a:xfrm>
        </p:grpSpPr>
        <p:pic>
          <p:nvPicPr>
            <p:cNvPr id="153" name="Овал 7" descr=""/>
            <p:cNvPicPr/>
            <p:nvPr/>
          </p:nvPicPr>
          <p:blipFill>
            <a:blip r:embed="rId6"/>
            <a:stretch/>
          </p:blipFill>
          <p:spPr>
            <a:xfrm>
              <a:off x="4516560" y="2712960"/>
              <a:ext cx="652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51200" y="282240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0"/>
          <p:cNvGrpSpPr/>
          <p:nvPr/>
        </p:nvGrpSpPr>
        <p:grpSpPr>
          <a:xfrm>
            <a:off x="7412040" y="2792520"/>
            <a:ext cx="652320" cy="652320"/>
            <a:chOff x="7412040" y="2792520"/>
            <a:chExt cx="652320" cy="652320"/>
          </a:xfrm>
        </p:grpSpPr>
        <p:pic>
          <p:nvPicPr>
            <p:cNvPr id="156" name="Овал 10" descr=""/>
            <p:cNvPicPr/>
            <p:nvPr/>
          </p:nvPicPr>
          <p:blipFill>
            <a:blip r:embed="rId7"/>
            <a:stretch/>
          </p:blipFill>
          <p:spPr>
            <a:xfrm>
              <a:off x="7412040" y="2792520"/>
              <a:ext cx="6523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547040" y="2898720"/>
              <a:ext cx="385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Овал 11"/>
          <p:cNvGrpSpPr/>
          <p:nvPr/>
        </p:nvGrpSpPr>
        <p:grpSpPr>
          <a:xfrm>
            <a:off x="7034040" y="2792520"/>
            <a:ext cx="652680" cy="652320"/>
            <a:chOff x="7034040" y="2792520"/>
            <a:chExt cx="652680" cy="652320"/>
          </a:xfrm>
        </p:grpSpPr>
        <p:pic>
          <p:nvPicPr>
            <p:cNvPr id="159" name="Овал 11" descr=""/>
            <p:cNvPicPr/>
            <p:nvPr/>
          </p:nvPicPr>
          <p:blipFill>
            <a:blip r:embed="rId8"/>
            <a:stretch/>
          </p:blipFill>
          <p:spPr>
            <a:xfrm>
              <a:off x="7034040" y="2792520"/>
              <a:ext cx="6526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65800" y="289872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15"/>
          <p:cNvSpPr/>
          <p:nvPr/>
        </p:nvSpPr>
        <p:spPr>
          <a:xfrm>
            <a:off x="1676520" y="4648320"/>
            <a:ext cx="198108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Овал 16"/>
          <p:cNvGrpSpPr/>
          <p:nvPr/>
        </p:nvGrpSpPr>
        <p:grpSpPr>
          <a:xfrm>
            <a:off x="1700280" y="4925880"/>
            <a:ext cx="641160" cy="652680"/>
            <a:chOff x="1700280" y="4925880"/>
            <a:chExt cx="641160" cy="652680"/>
          </a:xfrm>
        </p:grpSpPr>
        <p:pic>
          <p:nvPicPr>
            <p:cNvPr id="163" name="Овал 16" descr=""/>
            <p:cNvPicPr/>
            <p:nvPr/>
          </p:nvPicPr>
          <p:blipFill>
            <a:blip r:embed="rId9"/>
            <a:stretch/>
          </p:blipFill>
          <p:spPr>
            <a:xfrm>
              <a:off x="1700280" y="4925880"/>
              <a:ext cx="6411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830240" y="5030640"/>
              <a:ext cx="37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Овал 17"/>
          <p:cNvGrpSpPr/>
          <p:nvPr/>
        </p:nvGrpSpPr>
        <p:grpSpPr>
          <a:xfrm>
            <a:off x="2230560" y="4694400"/>
            <a:ext cx="1025280" cy="1023840"/>
            <a:chOff x="2230560" y="4694400"/>
            <a:chExt cx="1025280" cy="1023840"/>
          </a:xfrm>
        </p:grpSpPr>
        <p:pic>
          <p:nvPicPr>
            <p:cNvPr id="166" name="Овал 17" descr=""/>
            <p:cNvPicPr/>
            <p:nvPr/>
          </p:nvPicPr>
          <p:blipFill>
            <a:blip r:embed="rId10"/>
            <a:stretch/>
          </p:blipFill>
          <p:spPr>
            <a:xfrm>
              <a:off x="2230560" y="4694400"/>
              <a:ext cx="102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9200" y="485784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Прямоугольник 18"/>
          <p:cNvSpPr/>
          <p:nvPr/>
        </p:nvSpPr>
        <p:spPr>
          <a:xfrm>
            <a:off x="4038480" y="4648320"/>
            <a:ext cx="16765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Овал 19"/>
          <p:cNvGrpSpPr/>
          <p:nvPr/>
        </p:nvGrpSpPr>
        <p:grpSpPr>
          <a:xfrm>
            <a:off x="4595760" y="4925880"/>
            <a:ext cx="641520" cy="652680"/>
            <a:chOff x="4595760" y="4925880"/>
            <a:chExt cx="641520" cy="652680"/>
          </a:xfrm>
        </p:grpSpPr>
        <p:pic>
          <p:nvPicPr>
            <p:cNvPr id="170" name="Овал 19" descr=""/>
            <p:cNvPicPr/>
            <p:nvPr/>
          </p:nvPicPr>
          <p:blipFill>
            <a:blip r:embed="rId11"/>
            <a:stretch/>
          </p:blipFill>
          <p:spPr>
            <a:xfrm>
              <a:off x="45957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7260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20"/>
          <p:cNvGrpSpPr/>
          <p:nvPr/>
        </p:nvGrpSpPr>
        <p:grpSpPr>
          <a:xfrm>
            <a:off x="4138560" y="4925880"/>
            <a:ext cx="641520" cy="652680"/>
            <a:chOff x="4138560" y="4925880"/>
            <a:chExt cx="641520" cy="652680"/>
          </a:xfrm>
        </p:grpSpPr>
        <p:pic>
          <p:nvPicPr>
            <p:cNvPr id="173" name="Овал 20" descr=""/>
            <p:cNvPicPr/>
            <p:nvPr/>
          </p:nvPicPr>
          <p:blipFill>
            <a:blip r:embed="rId12"/>
            <a:stretch/>
          </p:blipFill>
          <p:spPr>
            <a:xfrm>
              <a:off x="41385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688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21"/>
          <p:cNvSpPr/>
          <p:nvPr/>
        </p:nvSpPr>
        <p:spPr>
          <a:xfrm>
            <a:off x="6324480" y="4648320"/>
            <a:ext cx="21337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Cl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Овал 22"/>
          <p:cNvGrpSpPr/>
          <p:nvPr/>
        </p:nvGrpSpPr>
        <p:grpSpPr>
          <a:xfrm>
            <a:off x="7107120" y="4694400"/>
            <a:ext cx="1025640" cy="1023840"/>
            <a:chOff x="7107120" y="4694400"/>
            <a:chExt cx="1025640" cy="1023840"/>
          </a:xfrm>
        </p:grpSpPr>
        <p:pic>
          <p:nvPicPr>
            <p:cNvPr id="177" name="Овал 22" descr=""/>
            <p:cNvPicPr/>
            <p:nvPr/>
          </p:nvPicPr>
          <p:blipFill>
            <a:blip r:embed="rId13"/>
            <a:stretch/>
          </p:blipFill>
          <p:spPr>
            <a:xfrm>
              <a:off x="710712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9612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23"/>
          <p:cNvGrpSpPr/>
          <p:nvPr/>
        </p:nvGrpSpPr>
        <p:grpSpPr>
          <a:xfrm>
            <a:off x="6497640" y="4694400"/>
            <a:ext cx="1025640" cy="1023840"/>
            <a:chOff x="6497640" y="4694400"/>
            <a:chExt cx="1025640" cy="1023840"/>
          </a:xfrm>
        </p:grpSpPr>
        <p:pic>
          <p:nvPicPr>
            <p:cNvPr id="180" name="Овал 23" descr=""/>
            <p:cNvPicPr/>
            <p:nvPr/>
          </p:nvPicPr>
          <p:blipFill>
            <a:blip r:embed="rId14"/>
            <a:stretch/>
          </p:blipFill>
          <p:spPr>
            <a:xfrm>
              <a:off x="649764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8664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" descr="мальчик думает"/>
          <p:cNvPicPr/>
          <p:nvPr/>
        </p:nvPicPr>
        <p:blipFill>
          <a:blip r:embed="rId15"/>
          <a:stretch/>
        </p:blipFill>
        <p:spPr>
          <a:xfrm>
            <a:off x="7715160" y="357120"/>
            <a:ext cx="1285920" cy="18684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4" descr=""/>
          <p:cNvPicPr/>
          <p:nvPr/>
        </p:nvPicPr>
        <p:blipFill>
          <a:blip r:embed="rId2"/>
          <a:stretch/>
        </p:blipFill>
        <p:spPr>
          <a:xfrm>
            <a:off x="1962000" y="1268280"/>
            <a:ext cx="6755040" cy="54435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0" y="3808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Угадайте загад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1008[1]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457200" y="404784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Я бел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чести у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рот попал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Там и проп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sugar[1]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Не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Содержимое 4" descr="121161_1.jpg"/>
          <p:cNvPicPr/>
          <p:nvPr/>
        </p:nvPicPr>
        <p:blipFill>
          <a:blip r:embed="rId1"/>
          <a:stretch/>
        </p:blipFill>
        <p:spPr>
          <a:xfrm>
            <a:off x="4648320" y="2606760"/>
            <a:ext cx="4038480" cy="2512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008[1]"/>
          <p:cNvPicPr/>
          <p:nvPr/>
        </p:nvPicPr>
        <p:blipFill>
          <a:blip r:embed="rId2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suhfru01[1]"/>
          <p:cNvPicPr/>
          <p:nvPr/>
        </p:nvPicPr>
        <p:blipFill>
          <a:blip r:embed="rId1"/>
          <a:stretch/>
        </p:blipFill>
        <p:spPr>
          <a:xfrm>
            <a:off x="291960" y="2781360"/>
            <a:ext cx="385776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__7_[1]"/>
          <p:cNvPicPr/>
          <p:nvPr/>
        </p:nvPicPr>
        <p:blipFill>
          <a:blip r:embed="rId2"/>
          <a:stretch/>
        </p:blipFill>
        <p:spPr>
          <a:xfrm>
            <a:off x="4427640" y="2205000"/>
            <a:ext cx="4371840" cy="3359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8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042560" y="2204640"/>
            <a:ext cx="72392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мальчик думает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22845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К уксусной кислоте прикасаться опасн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500[1]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01_3[1]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Колокольчики"/>
          <p:cNvPicPr/>
          <p:nvPr/>
        </p:nvPicPr>
        <p:blipFill>
          <a:blip r:embed="rId1"/>
          <a:stretch/>
        </p:blipFill>
        <p:spPr>
          <a:xfrm>
            <a:off x="3276720" y="3657600"/>
            <a:ext cx="3267000" cy="27986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Допиши 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28592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14520" y="1285920"/>
            <a:ext cx="5072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142920" y="142920"/>
            <a:ext cx="857160" cy="1189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57176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3000240" y="1928880"/>
            <a:ext cx="1866960" cy="2590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Нарисуй схему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18"/>
          <p:cNvGrpSpPr/>
          <p:nvPr/>
        </p:nvGrpSpPr>
        <p:grpSpPr>
          <a:xfrm>
            <a:off x="1905120" y="3048120"/>
            <a:ext cx="5679360" cy="1720800"/>
            <a:chOff x="1905120" y="3048120"/>
            <a:chExt cx="5679360" cy="1720800"/>
          </a:xfrm>
        </p:grpSpPr>
        <p:grpSp>
          <p:nvGrpSpPr>
            <p:cNvPr id="72" name="Овал 15"/>
            <p:cNvGrpSpPr/>
            <p:nvPr/>
          </p:nvGrpSpPr>
          <p:grpSpPr>
            <a:xfrm>
              <a:off x="1905120" y="3119760"/>
              <a:ext cx="821520" cy="820440"/>
              <a:chOff x="1905120" y="3119760"/>
              <a:chExt cx="821520" cy="820440"/>
            </a:xfrm>
          </p:grpSpPr>
          <p:pic>
            <p:nvPicPr>
              <p:cNvPr id="73" name="Овал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19760"/>
                <a:ext cx="82152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206100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Овал 16"/>
            <p:cNvGrpSpPr/>
            <p:nvPr/>
          </p:nvGrpSpPr>
          <p:grpSpPr>
            <a:xfrm>
              <a:off x="2503080" y="3119760"/>
              <a:ext cx="827640" cy="820440"/>
              <a:chOff x="2503080" y="3119760"/>
              <a:chExt cx="827640" cy="820440"/>
            </a:xfrm>
          </p:grpSpPr>
          <p:pic>
            <p:nvPicPr>
              <p:cNvPr id="76" name="Овал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3080" y="3119760"/>
                <a:ext cx="82764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66472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7"/>
            <p:cNvSpPr/>
            <p:nvPr/>
          </p:nvSpPr>
          <p:spPr>
            <a:xfrm>
              <a:off x="195408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Прямая со стрелкой 7"/>
            <p:cNvCxnSpPr/>
            <p:nvPr/>
          </p:nvCxnSpPr>
          <p:spPr>
            <a:xfrm>
              <a:off x="3542040" y="3452040"/>
              <a:ext cx="963360" cy="108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80" name="Плюс 8"/>
            <p:cNvSpPr/>
            <p:nvPr/>
          </p:nvSpPr>
          <p:spPr>
            <a:xfrm>
              <a:off x="5731920" y="3227760"/>
              <a:ext cx="464040" cy="460080"/>
            </a:xfrm>
            <a:custGeom>
              <a:avLst/>
              <a:gdLst/>
              <a:ahLst/>
              <a:rect l="l" t="t" r="r" b="b"/>
              <a:pathLst>
                <a:path w="468347" h="468373">
                  <a:moveTo>
                    <a:pt x="62079" y="179109"/>
                  </a:moveTo>
                  <a:lnTo>
                    <a:pt x="179096" y="179109"/>
                  </a:lnTo>
                  <a:lnTo>
                    <a:pt x="179096" y="62083"/>
                  </a:lnTo>
                  <a:lnTo>
                    <a:pt x="289251" y="62083"/>
                  </a:lnTo>
                  <a:lnTo>
                    <a:pt x="289251" y="179109"/>
                  </a:lnTo>
                  <a:lnTo>
                    <a:pt x="406268" y="179109"/>
                  </a:lnTo>
                  <a:lnTo>
                    <a:pt x="406268" y="289264"/>
                  </a:lnTo>
                  <a:lnTo>
                    <a:pt x="289251" y="289264"/>
                  </a:lnTo>
                  <a:lnTo>
                    <a:pt x="289251" y="406290"/>
                  </a:lnTo>
                  <a:lnTo>
                    <a:pt x="179096" y="406290"/>
                  </a:lnTo>
                  <a:lnTo>
                    <a:pt x="179096" y="289264"/>
                  </a:lnTo>
                  <a:lnTo>
                    <a:pt x="62079" y="289264"/>
                  </a:lnTo>
                  <a:lnTo>
                    <a:pt x="62079" y="179109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Овал 13"/>
            <p:cNvGrpSpPr/>
            <p:nvPr/>
          </p:nvGrpSpPr>
          <p:grpSpPr>
            <a:xfrm>
              <a:off x="4768560" y="3048120"/>
              <a:ext cx="827640" cy="814680"/>
              <a:chOff x="4768560" y="3048120"/>
              <a:chExt cx="827640" cy="814680"/>
            </a:xfrm>
          </p:grpSpPr>
          <p:pic>
            <p:nvPicPr>
              <p:cNvPr id="82" name="Овал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85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93020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14"/>
            <p:cNvSpPr/>
            <p:nvPr/>
          </p:nvSpPr>
          <p:spPr>
            <a:xfrm>
              <a:off x="4597200" y="408888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Овал 11"/>
            <p:cNvGrpSpPr/>
            <p:nvPr/>
          </p:nvGrpSpPr>
          <p:grpSpPr>
            <a:xfrm>
              <a:off x="6429960" y="3048120"/>
              <a:ext cx="827640" cy="814680"/>
              <a:chOff x="6429960" y="3048120"/>
              <a:chExt cx="827640" cy="814680"/>
            </a:xfrm>
          </p:grpSpPr>
          <p:pic>
            <p:nvPicPr>
              <p:cNvPr id="86" name="Овал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99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59124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2"/>
            <p:cNvSpPr/>
            <p:nvPr/>
          </p:nvSpPr>
          <p:spPr>
            <a:xfrm>
              <a:off x="633384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Прямая со стрелкой 21"/>
          <p:cNvCxnSpPr/>
          <p:nvPr/>
        </p:nvCxnSpPr>
        <p:spPr>
          <a:xfrm>
            <a:off x="3276720" y="5334120"/>
            <a:ext cx="381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1600200"/>
          <a:ext cx="7238880" cy="438480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23"/>
          <p:cNvGrpSpPr/>
          <p:nvPr/>
        </p:nvGrpSpPr>
        <p:grpSpPr>
          <a:xfrm>
            <a:off x="1447920" y="3352680"/>
            <a:ext cx="6802200" cy="1569240"/>
            <a:chOff x="1447920" y="3352680"/>
            <a:chExt cx="6802200" cy="1569240"/>
          </a:xfrm>
        </p:grpSpPr>
        <p:cxnSp>
          <p:nvCxnSpPr>
            <p:cNvPr id="101" name="Прямая со стрелкой 24"/>
            <p:cNvCxnSpPr/>
            <p:nvPr/>
          </p:nvCxnSpPr>
          <p:spPr>
            <a:xfrm>
              <a:off x="3124080" y="3755880"/>
              <a:ext cx="972000" cy="108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102" name="Плюс 25"/>
            <p:cNvSpPr/>
            <p:nvPr/>
          </p:nvSpPr>
          <p:spPr>
            <a:xfrm>
              <a:off x="525780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люс 26"/>
            <p:cNvSpPr/>
            <p:nvPr/>
          </p:nvSpPr>
          <p:spPr>
            <a:xfrm>
              <a:off x="670572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Овал 27"/>
            <p:cNvGrpSpPr/>
            <p:nvPr/>
          </p:nvGrpSpPr>
          <p:grpSpPr>
            <a:xfrm>
              <a:off x="1548360" y="3723480"/>
              <a:ext cx="640080" cy="645840"/>
              <a:chOff x="1548360" y="3723480"/>
              <a:chExt cx="640080" cy="645840"/>
            </a:xfrm>
          </p:grpSpPr>
          <p:pic>
            <p:nvPicPr>
              <p:cNvPr id="105" name="Овал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360" y="372348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167832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Овал 28"/>
            <p:cNvGrpSpPr/>
            <p:nvPr/>
          </p:nvGrpSpPr>
          <p:grpSpPr>
            <a:xfrm>
              <a:off x="2383560" y="3723480"/>
              <a:ext cx="646200" cy="645840"/>
              <a:chOff x="2383560" y="3723480"/>
              <a:chExt cx="646200" cy="645840"/>
            </a:xfrm>
          </p:grpSpPr>
          <p:pic>
            <p:nvPicPr>
              <p:cNvPr id="108" name="Овал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3560" y="372348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51640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Овал 29"/>
            <p:cNvGrpSpPr/>
            <p:nvPr/>
          </p:nvGrpSpPr>
          <p:grpSpPr>
            <a:xfrm>
              <a:off x="1853280" y="3352680"/>
              <a:ext cx="829080" cy="813240"/>
              <a:chOff x="1853280" y="3352680"/>
              <a:chExt cx="829080" cy="813240"/>
            </a:xfrm>
          </p:grpSpPr>
          <p:pic>
            <p:nvPicPr>
              <p:cNvPr id="111" name="Овал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328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01060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30"/>
            <p:cNvSpPr/>
            <p:nvPr/>
          </p:nvSpPr>
          <p:spPr>
            <a:xfrm>
              <a:off x="1447920" y="4429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в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Овал 31"/>
            <p:cNvGrpSpPr/>
            <p:nvPr/>
          </p:nvGrpSpPr>
          <p:grpSpPr>
            <a:xfrm>
              <a:off x="4291560" y="3352680"/>
              <a:ext cx="829080" cy="813240"/>
              <a:chOff x="4291560" y="3352680"/>
              <a:chExt cx="829080" cy="813240"/>
            </a:xfrm>
          </p:grpSpPr>
          <p:pic>
            <p:nvPicPr>
              <p:cNvPr id="115" name="Овал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9156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4888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32"/>
            <p:cNvSpPr/>
            <p:nvPr/>
          </p:nvSpPr>
          <p:spPr>
            <a:xfrm>
              <a:off x="4042440" y="4279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Овал 33"/>
            <p:cNvGrpSpPr/>
            <p:nvPr/>
          </p:nvGrpSpPr>
          <p:grpSpPr>
            <a:xfrm>
              <a:off x="5888880" y="3424320"/>
              <a:ext cx="646200" cy="645840"/>
              <a:chOff x="5888880" y="3424320"/>
              <a:chExt cx="646200" cy="645840"/>
            </a:xfrm>
          </p:grpSpPr>
          <p:pic>
            <p:nvPicPr>
              <p:cNvPr id="119" name="Овал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5888880" y="342432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602208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34"/>
            <p:cNvSpPr/>
            <p:nvPr/>
          </p:nvSpPr>
          <p:spPr>
            <a:xfrm>
              <a:off x="563832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Овал 35"/>
            <p:cNvGrpSpPr/>
            <p:nvPr/>
          </p:nvGrpSpPr>
          <p:grpSpPr>
            <a:xfrm>
              <a:off x="7339680" y="3424320"/>
              <a:ext cx="640080" cy="645840"/>
              <a:chOff x="7339680" y="3424320"/>
              <a:chExt cx="640080" cy="645840"/>
            </a:xfrm>
          </p:grpSpPr>
          <p:pic>
            <p:nvPicPr>
              <p:cNvPr id="123" name="Овал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7339680" y="342432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47000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6"/>
            <p:cNvSpPr/>
            <p:nvPr/>
          </p:nvSpPr>
          <p:spPr>
            <a:xfrm>
              <a:off x="708624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37"/>
          <p:cNvSpPr/>
          <p:nvPr/>
        </p:nvSpPr>
        <p:spPr>
          <a:xfrm>
            <a:off x="2535840" y="5486400"/>
            <a:ext cx="357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        О + Н +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9"/>
          <p:cNvCxnSpPr/>
          <p:nvPr/>
        </p:nvCxnSpPr>
        <p:spPr>
          <a:xfrm>
            <a:off x="3504960" y="5791320"/>
            <a:ext cx="5338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1:05:09Z</dcterms:created>
  <dc:creator>www.PHILka.RU</dc:creator>
  <dc:description/>
  <dc:language>en-US</dc:language>
  <cp:lastModifiedBy>LEGION</cp:lastModifiedBy>
  <dcterms:modified xsi:type="dcterms:W3CDTF">2015-05-01T11:04:41Z</dcterms:modified>
  <cp:revision>26</cp:revision>
  <dc:subject/>
  <dc:title>Простые и сложные вещества</dc:title>
</cp:coreProperties>
</file>