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27.gif" ContentType="image/gif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4.gif" ContentType="image/gif"/>
  <Override PartName="/ppt/media/image33.jpeg" ContentType="image/jpeg"/>
  <Override PartName="/ppt/media/image1.jpeg" ContentType="image/jpeg"/>
  <Override PartName="/ppt/media/image10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8.gif" ContentType="image/gif"/>
  <Override PartName="/ppt/media/image3.png" ContentType="image/png"/>
  <Override PartName="/ppt/media/image26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A742-E366-4E32-9370-26012124E5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2C82-A3C8-44BA-91BC-D468287A6E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5851-4C69-455E-82FF-75CC9EE8F0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и 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6E0-03C7-4076-96E4-7934B334AE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1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1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59FD-AAA5-4547-9969-7E3FD715C1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7FE-6993-4D8A-8A64-FEB38BCBF0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гадайте загад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06B3-8967-427E-89D8-ADDA81B44C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е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4A50-3B7A-4B0A-B8FD-571A592EAD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A438-95EF-4355-A363-E854470D66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1320-B4CC-4DA9-B03F-E76F2E0F7E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К уксусной кислоте прикасаться опас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BAF3-B53C-4AA0-AE8A-F9A34B4622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3DB4-1C85-48CE-B024-4810CB6700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Допиши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784-8169-4DB4-A08C-9EB275BFDF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B04E-DA2B-4897-9649-234C22F34B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</a:rPr>
              <a:t>Нарисуй схем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285E-AC7D-4CBA-B38C-7888C5354C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07ED-0748-4BE1-A66B-3E4CBDB60A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1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1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5BD-B56B-4DE4-AA56-BF328313E4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рост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F650-4DB8-4717-8D1A-3FA1E04354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Разнообразие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A8B0-D8B5-4A80-86F1-D52AE0026D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Сложны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32E0-9822-4B4B-8072-E3AB9D535A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8745-911D-46B7-AA54-E532E9D0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241-FE05-4A30-A1C3-1965BB91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0246-CEF3-460F-951E-76492CCA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F330-8F15-4341-ABD2-A00EA72A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99E-2F73-4D66-85AA-B8F2C2D1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B9B-3CB5-4D8C-BBBA-AD422D72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E482-3625-4C71-B582-B391C18C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9AA-B5D5-4C0D-87BD-11EE6AF1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6E8D-FAF7-493C-A8C2-559CAC7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7061-B8F1-496F-9FA6-2F80BA6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4D22-07C5-4CA4-90D2-3136C143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084A-E322-4315-9931-554D4AB5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A9AA3-4AB2-4113-8090-56C544D7D57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687E-1FF8-4BB5-B943-9CDF312693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0456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626920" y="4739760"/>
            <a:ext cx="4753080" cy="17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Звонарёва Т.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МОУ л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Г. Электрогор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User.PHILKA\Рабочий стол\мама\анимации\Учителя и ученики ІІ\132.gif"/>
          <p:cNvPicPr/>
          <p:nvPr/>
        </p:nvPicPr>
        <p:blipFill>
          <a:blip r:embed="rId1"/>
          <a:stretch/>
        </p:blipFill>
        <p:spPr>
          <a:xfrm>
            <a:off x="6948360" y="4456080"/>
            <a:ext cx="1854360" cy="1611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Сложн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6000" y="274320"/>
            <a:ext cx="757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omic Sans MS"/>
              </a:rPr>
              <a:t>Простые и сложные веществ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47920" y="1600200"/>
          <a:ext cx="7238880" cy="480996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жн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глекислый га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юкоз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разн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13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4"/>
          <p:cNvSpPr/>
          <p:nvPr/>
        </p:nvSpPr>
        <p:spPr>
          <a:xfrm>
            <a:off x="6858000" y="2666880"/>
            <a:ext cx="16765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3"/>
          <p:cNvSpPr/>
          <p:nvPr/>
        </p:nvSpPr>
        <p:spPr>
          <a:xfrm>
            <a:off x="3886200" y="26668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2"/>
          <p:cNvSpPr/>
          <p:nvPr/>
        </p:nvSpPr>
        <p:spPr>
          <a:xfrm>
            <a:off x="1676520" y="2666880"/>
            <a:ext cx="1600200" cy="12956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1523520" y="1600200"/>
            <a:ext cx="7162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Под какими буквами на схемах обозначены простые веществ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 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СО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N</a:t>
            </a:r>
            <a:r>
              <a:rPr b="1" lang="en-US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А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Б                          В</a:t>
            </a: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baseline="-25000">
                <a:solidFill>
                  <a:srgbClr val="ffffff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Г                            Д                        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Овал 4"/>
          <p:cNvGrpSpPr/>
          <p:nvPr/>
        </p:nvGrpSpPr>
        <p:grpSpPr>
          <a:xfrm>
            <a:off x="1773360" y="2792520"/>
            <a:ext cx="720720" cy="718920"/>
            <a:chOff x="1773360" y="2792520"/>
            <a:chExt cx="720720" cy="718920"/>
          </a:xfrm>
        </p:grpSpPr>
        <p:pic>
          <p:nvPicPr>
            <p:cNvPr id="141" name="Овал 4" descr=""/>
            <p:cNvPicPr/>
            <p:nvPr/>
          </p:nvPicPr>
          <p:blipFill>
            <a:blip r:embed="rId2"/>
            <a:stretch/>
          </p:blipFill>
          <p:spPr>
            <a:xfrm>
              <a:off x="1773360" y="2792520"/>
              <a:ext cx="7207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917720" y="29084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Овал 5"/>
          <p:cNvGrpSpPr/>
          <p:nvPr/>
        </p:nvGrpSpPr>
        <p:grpSpPr>
          <a:xfrm>
            <a:off x="2157480" y="2792520"/>
            <a:ext cx="718920" cy="718920"/>
            <a:chOff x="2157480" y="2792520"/>
            <a:chExt cx="718920" cy="718920"/>
          </a:xfrm>
        </p:grpSpPr>
        <p:pic>
          <p:nvPicPr>
            <p:cNvPr id="144" name="Овал 5" descr=""/>
            <p:cNvPicPr/>
            <p:nvPr/>
          </p:nvPicPr>
          <p:blipFill>
            <a:blip r:embed="rId3"/>
            <a:stretch/>
          </p:blipFill>
          <p:spPr>
            <a:xfrm>
              <a:off x="2157480" y="279252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298600" y="29084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Овал 8"/>
          <p:cNvGrpSpPr/>
          <p:nvPr/>
        </p:nvGrpSpPr>
        <p:grpSpPr>
          <a:xfrm>
            <a:off x="4900680" y="3017880"/>
            <a:ext cx="718920" cy="718920"/>
            <a:chOff x="4900680" y="3017880"/>
            <a:chExt cx="718920" cy="718920"/>
          </a:xfrm>
        </p:grpSpPr>
        <p:pic>
          <p:nvPicPr>
            <p:cNvPr id="147" name="Овал 8" descr=""/>
            <p:cNvPicPr/>
            <p:nvPr/>
          </p:nvPicPr>
          <p:blipFill>
            <a:blip r:embed="rId4"/>
            <a:stretch/>
          </p:blipFill>
          <p:spPr>
            <a:xfrm>
              <a:off x="4900680" y="3017880"/>
              <a:ext cx="71892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41800" y="3137040"/>
              <a:ext cx="4320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Овал 9"/>
          <p:cNvGrpSpPr/>
          <p:nvPr/>
        </p:nvGrpSpPr>
        <p:grpSpPr>
          <a:xfrm>
            <a:off x="4138560" y="3017880"/>
            <a:ext cx="719280" cy="718920"/>
            <a:chOff x="4138560" y="3017880"/>
            <a:chExt cx="719280" cy="718920"/>
          </a:xfrm>
        </p:grpSpPr>
        <p:pic>
          <p:nvPicPr>
            <p:cNvPr id="150" name="Овал 9" descr=""/>
            <p:cNvPicPr/>
            <p:nvPr/>
          </p:nvPicPr>
          <p:blipFill>
            <a:blip r:embed="rId5"/>
            <a:stretch/>
          </p:blipFill>
          <p:spPr>
            <a:xfrm>
              <a:off x="4138560" y="3017880"/>
              <a:ext cx="71928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280040" y="3137040"/>
              <a:ext cx="431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Овал 7"/>
          <p:cNvGrpSpPr/>
          <p:nvPr/>
        </p:nvGrpSpPr>
        <p:grpSpPr>
          <a:xfrm>
            <a:off x="4516560" y="2712960"/>
            <a:ext cx="652320" cy="658800"/>
            <a:chOff x="4516560" y="2712960"/>
            <a:chExt cx="652320" cy="658800"/>
          </a:xfrm>
        </p:grpSpPr>
        <p:pic>
          <p:nvPicPr>
            <p:cNvPr id="153" name="Овал 7" descr=""/>
            <p:cNvPicPr/>
            <p:nvPr/>
          </p:nvPicPr>
          <p:blipFill>
            <a:blip r:embed="rId6"/>
            <a:stretch/>
          </p:blipFill>
          <p:spPr>
            <a:xfrm>
              <a:off x="4516560" y="2712960"/>
              <a:ext cx="65232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4651200" y="282240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Овал 10"/>
          <p:cNvGrpSpPr/>
          <p:nvPr/>
        </p:nvGrpSpPr>
        <p:grpSpPr>
          <a:xfrm>
            <a:off x="7412040" y="2792520"/>
            <a:ext cx="652320" cy="652320"/>
            <a:chOff x="7412040" y="2792520"/>
            <a:chExt cx="652320" cy="652320"/>
          </a:xfrm>
        </p:grpSpPr>
        <p:pic>
          <p:nvPicPr>
            <p:cNvPr id="156" name="Овал 10" descr=""/>
            <p:cNvPicPr/>
            <p:nvPr/>
          </p:nvPicPr>
          <p:blipFill>
            <a:blip r:embed="rId7"/>
            <a:stretch/>
          </p:blipFill>
          <p:spPr>
            <a:xfrm>
              <a:off x="7412040" y="2792520"/>
              <a:ext cx="65232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7547040" y="2898720"/>
              <a:ext cx="385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Овал 11"/>
          <p:cNvGrpSpPr/>
          <p:nvPr/>
        </p:nvGrpSpPr>
        <p:grpSpPr>
          <a:xfrm>
            <a:off x="7034040" y="2792520"/>
            <a:ext cx="652680" cy="652320"/>
            <a:chOff x="7034040" y="2792520"/>
            <a:chExt cx="652680" cy="652320"/>
          </a:xfrm>
        </p:grpSpPr>
        <p:pic>
          <p:nvPicPr>
            <p:cNvPr id="159" name="Овал 11" descr=""/>
            <p:cNvPicPr/>
            <p:nvPr/>
          </p:nvPicPr>
          <p:blipFill>
            <a:blip r:embed="rId8"/>
            <a:stretch/>
          </p:blipFill>
          <p:spPr>
            <a:xfrm>
              <a:off x="7034040" y="2792520"/>
              <a:ext cx="6526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165800" y="2898720"/>
              <a:ext cx="38592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15"/>
          <p:cNvSpPr/>
          <p:nvPr/>
        </p:nvSpPr>
        <p:spPr>
          <a:xfrm>
            <a:off x="1676520" y="4648320"/>
            <a:ext cx="198108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H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Овал 16"/>
          <p:cNvGrpSpPr/>
          <p:nvPr/>
        </p:nvGrpSpPr>
        <p:grpSpPr>
          <a:xfrm>
            <a:off x="1700280" y="4925880"/>
            <a:ext cx="641160" cy="652680"/>
            <a:chOff x="1700280" y="4925880"/>
            <a:chExt cx="641160" cy="652680"/>
          </a:xfrm>
        </p:grpSpPr>
        <p:pic>
          <p:nvPicPr>
            <p:cNvPr id="163" name="Овал 16" descr=""/>
            <p:cNvPicPr/>
            <p:nvPr/>
          </p:nvPicPr>
          <p:blipFill>
            <a:blip r:embed="rId9"/>
            <a:stretch/>
          </p:blipFill>
          <p:spPr>
            <a:xfrm>
              <a:off x="1700280" y="4925880"/>
              <a:ext cx="64116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1830240" y="5030640"/>
              <a:ext cx="37800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Овал 17"/>
          <p:cNvGrpSpPr/>
          <p:nvPr/>
        </p:nvGrpSpPr>
        <p:grpSpPr>
          <a:xfrm>
            <a:off x="2230560" y="4694400"/>
            <a:ext cx="1025280" cy="1023840"/>
            <a:chOff x="2230560" y="4694400"/>
            <a:chExt cx="1025280" cy="1023840"/>
          </a:xfrm>
        </p:grpSpPr>
        <p:pic>
          <p:nvPicPr>
            <p:cNvPr id="166" name="Овал 17" descr=""/>
            <p:cNvPicPr/>
            <p:nvPr/>
          </p:nvPicPr>
          <p:blipFill>
            <a:blip r:embed="rId10"/>
            <a:stretch/>
          </p:blipFill>
          <p:spPr>
            <a:xfrm>
              <a:off x="2230560" y="4694400"/>
              <a:ext cx="102528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2419200" y="4857840"/>
              <a:ext cx="6480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Прямоугольник 18"/>
          <p:cNvSpPr/>
          <p:nvPr/>
        </p:nvSpPr>
        <p:spPr>
          <a:xfrm>
            <a:off x="4038480" y="4648320"/>
            <a:ext cx="16765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Н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Овал 19"/>
          <p:cNvGrpSpPr/>
          <p:nvPr/>
        </p:nvGrpSpPr>
        <p:grpSpPr>
          <a:xfrm>
            <a:off x="4595760" y="4925880"/>
            <a:ext cx="641520" cy="652680"/>
            <a:chOff x="4595760" y="4925880"/>
            <a:chExt cx="641520" cy="652680"/>
          </a:xfrm>
        </p:grpSpPr>
        <p:pic>
          <p:nvPicPr>
            <p:cNvPr id="170" name="Овал 19" descr=""/>
            <p:cNvPicPr/>
            <p:nvPr/>
          </p:nvPicPr>
          <p:blipFill>
            <a:blip r:embed="rId11"/>
            <a:stretch/>
          </p:blipFill>
          <p:spPr>
            <a:xfrm>
              <a:off x="45957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47260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Овал 20"/>
          <p:cNvGrpSpPr/>
          <p:nvPr/>
        </p:nvGrpSpPr>
        <p:grpSpPr>
          <a:xfrm>
            <a:off x="4138560" y="4925880"/>
            <a:ext cx="641520" cy="652680"/>
            <a:chOff x="4138560" y="4925880"/>
            <a:chExt cx="641520" cy="652680"/>
          </a:xfrm>
        </p:grpSpPr>
        <p:pic>
          <p:nvPicPr>
            <p:cNvPr id="173" name="Овал 20" descr=""/>
            <p:cNvPicPr/>
            <p:nvPr/>
          </p:nvPicPr>
          <p:blipFill>
            <a:blip r:embed="rId12"/>
            <a:stretch/>
          </p:blipFill>
          <p:spPr>
            <a:xfrm>
              <a:off x="4138560" y="4925880"/>
              <a:ext cx="64152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268880" y="503064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Прямоугольник 21"/>
          <p:cNvSpPr/>
          <p:nvPr/>
        </p:nvSpPr>
        <p:spPr>
          <a:xfrm>
            <a:off x="6324480" y="4648320"/>
            <a:ext cx="2133720" cy="1371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6633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663300"/>
                </a:solidFill>
                <a:latin typeface="Calibri"/>
              </a:rPr>
              <a:t>Cl</a:t>
            </a:r>
            <a:r>
              <a:rPr b="1" lang="ru-RU" sz="3200" spc="-1" strike="noStrike" baseline="-25000">
                <a:solidFill>
                  <a:srgbClr val="6633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Овал 22"/>
          <p:cNvGrpSpPr/>
          <p:nvPr/>
        </p:nvGrpSpPr>
        <p:grpSpPr>
          <a:xfrm>
            <a:off x="7107120" y="4694400"/>
            <a:ext cx="1025640" cy="1023840"/>
            <a:chOff x="7107120" y="4694400"/>
            <a:chExt cx="1025640" cy="1023840"/>
          </a:xfrm>
        </p:grpSpPr>
        <p:pic>
          <p:nvPicPr>
            <p:cNvPr id="177" name="Овал 22" descr=""/>
            <p:cNvPicPr/>
            <p:nvPr/>
          </p:nvPicPr>
          <p:blipFill>
            <a:blip r:embed="rId13"/>
            <a:stretch/>
          </p:blipFill>
          <p:spPr>
            <a:xfrm>
              <a:off x="710712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29612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Овал 23"/>
          <p:cNvGrpSpPr/>
          <p:nvPr/>
        </p:nvGrpSpPr>
        <p:grpSpPr>
          <a:xfrm>
            <a:off x="6497640" y="4694400"/>
            <a:ext cx="1025640" cy="1023840"/>
            <a:chOff x="6497640" y="4694400"/>
            <a:chExt cx="1025640" cy="1023840"/>
          </a:xfrm>
        </p:grpSpPr>
        <p:pic>
          <p:nvPicPr>
            <p:cNvPr id="180" name="Овал 23" descr=""/>
            <p:cNvPicPr/>
            <p:nvPr/>
          </p:nvPicPr>
          <p:blipFill>
            <a:blip r:embed="rId14"/>
            <a:stretch/>
          </p:blipFill>
          <p:spPr>
            <a:xfrm>
              <a:off x="6497640" y="4694400"/>
              <a:ext cx="1025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686640" y="4857840"/>
              <a:ext cx="6476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4" descr="мальчик думает"/>
          <p:cNvPicPr/>
          <p:nvPr/>
        </p:nvPicPr>
        <p:blipFill>
          <a:blip r:embed="rId15"/>
          <a:stretch/>
        </p:blipFill>
        <p:spPr>
          <a:xfrm>
            <a:off x="7715160" y="357120"/>
            <a:ext cx="1285920" cy="18684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4" descr=""/>
          <p:cNvPicPr/>
          <p:nvPr/>
        </p:nvPicPr>
        <p:blipFill>
          <a:blip r:embed="rId2"/>
          <a:stretch/>
        </p:blipFill>
        <p:spPr>
          <a:xfrm>
            <a:off x="1962000" y="1268280"/>
            <a:ext cx="6755040" cy="5443560"/>
          </a:xfrm>
          <a:prstGeom prst="rect">
            <a:avLst/>
          </a:prstGeom>
          <a:ln w="0">
            <a:noFill/>
          </a:ln>
        </p:spPr>
      </p:pic>
      <p:sp>
        <p:nvSpPr>
          <p:cNvPr id="186" name="Прямоугольник 5"/>
          <p:cNvSpPr/>
          <p:nvPr/>
        </p:nvSpPr>
        <p:spPr>
          <a:xfrm>
            <a:off x="0" y="38088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Угадайте загадк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еня не едят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И без меня  мало едя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1008[1]"/>
          <p:cNvPicPr/>
          <p:nvPr/>
        </p:nvPicPr>
        <p:blipFill>
          <a:blip r:embed="rId1"/>
          <a:stretch/>
        </p:blipFill>
        <p:spPr>
          <a:xfrm>
            <a:off x="5562720" y="137160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5"/>
          <p:cNvSpPr/>
          <p:nvPr/>
        </p:nvSpPr>
        <p:spPr>
          <a:xfrm>
            <a:off x="457200" y="4047840"/>
            <a:ext cx="3733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Я бел, как сне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чести у все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В рот попал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Там и пропа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sugar[1]"/>
          <p:cNvPicPr/>
          <p:nvPr/>
        </p:nvPicPr>
        <p:blipFill>
          <a:blip r:embed="rId2"/>
          <a:stretch/>
        </p:blipFill>
        <p:spPr>
          <a:xfrm>
            <a:off x="4724280" y="4191120"/>
            <a:ext cx="3251160" cy="24048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Не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Содержимое 4" descr="121161_1.jpg"/>
          <p:cNvPicPr/>
          <p:nvPr/>
        </p:nvPicPr>
        <p:blipFill>
          <a:blip r:embed="rId1"/>
          <a:stretch/>
        </p:blipFill>
        <p:spPr>
          <a:xfrm>
            <a:off x="4648320" y="2606760"/>
            <a:ext cx="4038480" cy="2512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1008[1]"/>
          <p:cNvPicPr/>
          <p:nvPr/>
        </p:nvPicPr>
        <p:blipFill>
          <a:blip r:embed="rId2"/>
          <a:stretch/>
        </p:blipFill>
        <p:spPr>
          <a:xfrm>
            <a:off x="1047600" y="24336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Органически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5" descr="suhfru01[1]"/>
          <p:cNvPicPr/>
          <p:nvPr/>
        </p:nvPicPr>
        <p:blipFill>
          <a:blip r:embed="rId1"/>
          <a:stretch/>
        </p:blipFill>
        <p:spPr>
          <a:xfrm>
            <a:off x="291960" y="2781360"/>
            <a:ext cx="3857760" cy="2592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1__7_[1]"/>
          <p:cNvPicPr/>
          <p:nvPr/>
        </p:nvPicPr>
        <p:blipFill>
          <a:blip r:embed="rId2"/>
          <a:stretch/>
        </p:blipFill>
        <p:spPr>
          <a:xfrm>
            <a:off x="4427640" y="2205000"/>
            <a:ext cx="4371840" cy="33591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584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 txBox="1"/>
          <p:nvPr/>
        </p:nvSpPr>
        <p:spPr>
          <a:xfrm>
            <a:off x="1042560" y="2204640"/>
            <a:ext cx="72392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Разделите перечисленные названия веществ на 2 группы: неорганические вещества и органически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ода, кислород, жиры, медь, водород, белки, поваренная соль, угле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мальчик думает"/>
          <p:cNvPicPr/>
          <p:nvPr/>
        </p:nvPicPr>
        <p:blipFill>
          <a:blip r:embed="rId2"/>
          <a:stretch/>
        </p:blipFill>
        <p:spPr>
          <a:xfrm>
            <a:off x="7572240" y="0"/>
            <a:ext cx="1571760" cy="22845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omic Sans MS"/>
              </a:rPr>
              <a:t>К уксусной кислоте прикасаться опасн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4" descr="500[1]"/>
          <p:cNvPicPr/>
          <p:nvPr/>
        </p:nvPicPr>
        <p:blipFill>
          <a:blip r:embed="rId1"/>
          <a:stretch/>
        </p:blipFill>
        <p:spPr>
          <a:xfrm>
            <a:off x="1401840" y="2438280"/>
            <a:ext cx="2504880" cy="3581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01_3[1]"/>
          <p:cNvPicPr/>
          <p:nvPr/>
        </p:nvPicPr>
        <p:blipFill>
          <a:blip r:embed="rId2"/>
          <a:stretch/>
        </p:blipFill>
        <p:spPr>
          <a:xfrm>
            <a:off x="4800600" y="1905120"/>
            <a:ext cx="2857680" cy="41050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чебник с. 55-5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 algn="ctr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Вопросы:1,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Колокольчики"/>
          <p:cNvPicPr/>
          <p:nvPr/>
        </p:nvPicPr>
        <p:blipFill>
          <a:blip r:embed="rId1"/>
          <a:stretch/>
        </p:blipFill>
        <p:spPr>
          <a:xfrm>
            <a:off x="3276720" y="3657600"/>
            <a:ext cx="3267000" cy="27986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Допиши 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285920"/>
            <a:ext cx="44956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Calibri"/>
              </a:rPr>
              <a:t>2.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Мельчайшая частица вещества, сохраняющая его свойства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Молекулы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Определённый вид атомов называется 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 </a:t>
            </a: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. </a:t>
            </a: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14520" y="1285920"/>
            <a:ext cx="50720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1. Наименьшая частица вещества называется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2. Молекулы одного и того же веществ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3. Молекулы делятся на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4. Химический элемент это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5.Тела состоят из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142920" y="142920"/>
            <a:ext cx="857160" cy="1189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Проверь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-360" y="1571760"/>
            <a:ext cx="4352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 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 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 Химическим элемент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 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1.Молек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2.Одинаков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3.Ато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4.Одинаковый вид атом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5.Вещест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User.PHILKA\Рабочий стол\мама\анимации\Учителя и ученики ІІ\141.gif"/>
          <p:cNvPicPr/>
          <p:nvPr/>
        </p:nvPicPr>
        <p:blipFill>
          <a:blip r:embed="rId1"/>
          <a:stretch/>
        </p:blipFill>
        <p:spPr>
          <a:xfrm>
            <a:off x="3000240" y="1928880"/>
            <a:ext cx="1866960" cy="2590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mic Sans MS"/>
              </a:rPr>
              <a:t>Нарисуй схему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кисло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Молекулу озо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атомов одного вида называется прост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ещества, состоящие из атомов одного ви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О + 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Группа 18"/>
          <p:cNvGrpSpPr/>
          <p:nvPr/>
        </p:nvGrpSpPr>
        <p:grpSpPr>
          <a:xfrm>
            <a:off x="1905120" y="3048120"/>
            <a:ext cx="5679360" cy="1720800"/>
            <a:chOff x="1905120" y="3048120"/>
            <a:chExt cx="5679360" cy="1720800"/>
          </a:xfrm>
        </p:grpSpPr>
        <p:grpSp>
          <p:nvGrpSpPr>
            <p:cNvPr id="72" name="Овал 15"/>
            <p:cNvGrpSpPr/>
            <p:nvPr/>
          </p:nvGrpSpPr>
          <p:grpSpPr>
            <a:xfrm>
              <a:off x="1905120" y="3119760"/>
              <a:ext cx="821520" cy="820440"/>
              <a:chOff x="1905120" y="3119760"/>
              <a:chExt cx="821520" cy="820440"/>
            </a:xfrm>
          </p:grpSpPr>
          <p:pic>
            <p:nvPicPr>
              <p:cNvPr id="73" name="Овал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5120" y="3119760"/>
                <a:ext cx="82152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206100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Овал 16"/>
            <p:cNvGrpSpPr/>
            <p:nvPr/>
          </p:nvGrpSpPr>
          <p:grpSpPr>
            <a:xfrm>
              <a:off x="2503080" y="3119760"/>
              <a:ext cx="827640" cy="820440"/>
              <a:chOff x="2503080" y="3119760"/>
              <a:chExt cx="827640" cy="820440"/>
            </a:xfrm>
          </p:grpSpPr>
          <p:pic>
            <p:nvPicPr>
              <p:cNvPr id="76" name="Овал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2503080" y="3119760"/>
                <a:ext cx="827640" cy="82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2664720" y="3256200"/>
                <a:ext cx="504360" cy="50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TextBox 17"/>
            <p:cNvSpPr/>
            <p:nvPr/>
          </p:nvSpPr>
          <p:spPr>
            <a:xfrm>
              <a:off x="195408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Прямая со стрелкой 7"/>
            <p:cNvCxnSpPr/>
            <p:nvPr/>
          </p:nvCxnSpPr>
          <p:spPr>
            <a:xfrm>
              <a:off x="3542040" y="3452040"/>
              <a:ext cx="963360" cy="1080"/>
            </a:xfrm>
            <a:prstGeom prst="straightConnector1">
              <a:avLst/>
            </a:prstGeom>
            <a:ln w="25560">
              <a:solidFill>
                <a:srgbClr val="f79646"/>
              </a:solidFill>
              <a:miter/>
              <a:tailEnd len="med" type="arrow" w="med"/>
            </a:ln>
          </p:spPr>
        </p:cxnSp>
        <p:sp>
          <p:nvSpPr>
            <p:cNvPr id="80" name="Плюс 8"/>
            <p:cNvSpPr/>
            <p:nvPr/>
          </p:nvSpPr>
          <p:spPr>
            <a:xfrm>
              <a:off x="5731920" y="3227760"/>
              <a:ext cx="464040" cy="460080"/>
            </a:xfrm>
            <a:custGeom>
              <a:avLst/>
              <a:gdLst/>
              <a:ahLst/>
              <a:rect l="l" t="t" r="r" b="b"/>
              <a:pathLst>
                <a:path w="468347" h="468373">
                  <a:moveTo>
                    <a:pt x="62079" y="179109"/>
                  </a:moveTo>
                  <a:lnTo>
                    <a:pt x="179096" y="179109"/>
                  </a:lnTo>
                  <a:lnTo>
                    <a:pt x="179096" y="62083"/>
                  </a:lnTo>
                  <a:lnTo>
                    <a:pt x="289251" y="62083"/>
                  </a:lnTo>
                  <a:lnTo>
                    <a:pt x="289251" y="179109"/>
                  </a:lnTo>
                  <a:lnTo>
                    <a:pt x="406268" y="179109"/>
                  </a:lnTo>
                  <a:lnTo>
                    <a:pt x="406268" y="289264"/>
                  </a:lnTo>
                  <a:lnTo>
                    <a:pt x="289251" y="289264"/>
                  </a:lnTo>
                  <a:lnTo>
                    <a:pt x="289251" y="406290"/>
                  </a:lnTo>
                  <a:lnTo>
                    <a:pt x="179096" y="406290"/>
                  </a:lnTo>
                  <a:lnTo>
                    <a:pt x="179096" y="289264"/>
                  </a:lnTo>
                  <a:lnTo>
                    <a:pt x="62079" y="289264"/>
                  </a:lnTo>
                  <a:lnTo>
                    <a:pt x="62079" y="179109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Овал 13"/>
            <p:cNvGrpSpPr/>
            <p:nvPr/>
          </p:nvGrpSpPr>
          <p:grpSpPr>
            <a:xfrm>
              <a:off x="4768560" y="3048120"/>
              <a:ext cx="827640" cy="814680"/>
              <a:chOff x="4768560" y="3048120"/>
              <a:chExt cx="827640" cy="814680"/>
            </a:xfrm>
          </p:grpSpPr>
          <p:pic>
            <p:nvPicPr>
              <p:cNvPr id="82" name="Овал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7685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493020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Box 14"/>
            <p:cNvSpPr/>
            <p:nvPr/>
          </p:nvSpPr>
          <p:spPr>
            <a:xfrm>
              <a:off x="4597200" y="408888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Овал 11"/>
            <p:cNvGrpSpPr/>
            <p:nvPr/>
          </p:nvGrpSpPr>
          <p:grpSpPr>
            <a:xfrm>
              <a:off x="6429960" y="3048120"/>
              <a:ext cx="827640" cy="814680"/>
              <a:chOff x="6429960" y="3048120"/>
              <a:chExt cx="827640" cy="814680"/>
            </a:xfrm>
          </p:grpSpPr>
          <p:pic>
            <p:nvPicPr>
              <p:cNvPr id="86" name="Овал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6429960" y="3048120"/>
                <a:ext cx="827640" cy="81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6591240" y="3181680"/>
                <a:ext cx="504360" cy="50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ffffff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TextBox 12"/>
            <p:cNvSpPr/>
            <p:nvPr/>
          </p:nvSpPr>
          <p:spPr>
            <a:xfrm>
              <a:off x="6333840" y="4126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Прямая со стрелкой 21"/>
          <p:cNvCxnSpPr/>
          <p:nvPr/>
        </p:nvCxnSpPr>
        <p:spPr>
          <a:xfrm>
            <a:off x="3276720" y="5334120"/>
            <a:ext cx="38160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Простые веществ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47920" y="1600200"/>
          <a:ext cx="7238880" cy="4384800"/>
        </p:xfrm>
        <a:graphic>
          <a:graphicData uri="http://schemas.openxmlformats.org/drawingml/2006/table">
            <a:tbl>
              <a:tblPr/>
              <a:tblGrid>
                <a:gridCol w="2412720"/>
                <a:gridCol w="2413080"/>
                <a:gridCol w="2413080"/>
              </a:tblGrid>
              <a:tr h="1038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ипы вещест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мер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обенности стро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7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тые веще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слор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з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л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з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екулы состоят из одинаковых атомов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omic Sans MS"/>
              </a:rPr>
              <a:t>Разнообразие вещест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2920" y="16430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 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Вещество состоящее из разных видов атомов называется сложны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57160" y="1600200"/>
            <a:ext cx="3238560" cy="45259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41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- вещества, состоящие из атомов разных элеме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23"/>
          <p:cNvGrpSpPr/>
          <p:nvPr/>
        </p:nvGrpSpPr>
        <p:grpSpPr>
          <a:xfrm>
            <a:off x="1447920" y="3352680"/>
            <a:ext cx="6802200" cy="1569240"/>
            <a:chOff x="1447920" y="3352680"/>
            <a:chExt cx="6802200" cy="1569240"/>
          </a:xfrm>
        </p:grpSpPr>
        <p:cxnSp>
          <p:nvCxnSpPr>
            <p:cNvPr id="101" name="Прямая со стрелкой 24"/>
            <p:cNvCxnSpPr/>
            <p:nvPr/>
          </p:nvCxnSpPr>
          <p:spPr>
            <a:xfrm>
              <a:off x="3124080" y="3755880"/>
              <a:ext cx="972000" cy="1080"/>
            </a:xfrm>
            <a:prstGeom prst="straightConnector1">
              <a:avLst/>
            </a:prstGeom>
            <a:ln w="38160">
              <a:solidFill>
                <a:srgbClr val="f79646"/>
              </a:solidFill>
              <a:miter/>
              <a:tailEnd len="med" type="triangle" w="med"/>
            </a:ln>
          </p:spPr>
        </p:cxnSp>
        <p:sp>
          <p:nvSpPr>
            <p:cNvPr id="102" name="Плюс 25"/>
            <p:cNvSpPr/>
            <p:nvPr/>
          </p:nvSpPr>
          <p:spPr>
            <a:xfrm>
              <a:off x="525780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Плюс 26"/>
            <p:cNvSpPr/>
            <p:nvPr/>
          </p:nvSpPr>
          <p:spPr>
            <a:xfrm>
              <a:off x="6705720" y="3531960"/>
              <a:ext cx="468000" cy="459360"/>
            </a:xfrm>
            <a:custGeom>
              <a:avLst/>
              <a:gdLst/>
              <a:ahLst/>
              <a:rect l="l" t="t" r="r" b="b"/>
              <a:pathLst>
                <a:path w="468278" h="468378">
                  <a:moveTo>
                    <a:pt x="62070" y="179120"/>
                  </a:moveTo>
                  <a:lnTo>
                    <a:pt x="179070" y="179120"/>
                  </a:lnTo>
                  <a:lnTo>
                    <a:pt x="179070" y="62084"/>
                  </a:lnTo>
                  <a:lnTo>
                    <a:pt x="289208" y="62084"/>
                  </a:lnTo>
                  <a:lnTo>
                    <a:pt x="289208" y="179120"/>
                  </a:lnTo>
                  <a:lnTo>
                    <a:pt x="406208" y="179120"/>
                  </a:lnTo>
                  <a:lnTo>
                    <a:pt x="406208" y="289258"/>
                  </a:lnTo>
                  <a:lnTo>
                    <a:pt x="289208" y="289258"/>
                  </a:lnTo>
                  <a:lnTo>
                    <a:pt x="289208" y="406294"/>
                  </a:lnTo>
                  <a:lnTo>
                    <a:pt x="179070" y="406294"/>
                  </a:lnTo>
                  <a:lnTo>
                    <a:pt x="179070" y="289258"/>
                  </a:lnTo>
                  <a:lnTo>
                    <a:pt x="62070" y="289258"/>
                  </a:lnTo>
                  <a:lnTo>
                    <a:pt x="62070" y="179120"/>
                  </a:lnTo>
                  <a:close/>
                </a:path>
              </a:pathLst>
            </a:custGeom>
            <a:solidFill>
              <a:srgbClr val="f79646"/>
            </a:solidFill>
            <a:ln w="25560">
              <a:solidFill>
                <a:srgbClr val="b66d3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Овал 27"/>
            <p:cNvGrpSpPr/>
            <p:nvPr/>
          </p:nvGrpSpPr>
          <p:grpSpPr>
            <a:xfrm>
              <a:off x="1548360" y="3723480"/>
              <a:ext cx="640080" cy="645840"/>
              <a:chOff x="1548360" y="3723480"/>
              <a:chExt cx="640080" cy="645840"/>
            </a:xfrm>
          </p:grpSpPr>
          <p:pic>
            <p:nvPicPr>
              <p:cNvPr id="105" name="Овал 27" descr=""/>
              <p:cNvPicPr/>
              <p:nvPr/>
            </p:nvPicPr>
            <p:blipFill>
              <a:blip r:embed="rId2"/>
              <a:stretch/>
            </p:blipFill>
            <p:spPr>
              <a:xfrm>
                <a:off x="1548360" y="372348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167832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Овал 28"/>
            <p:cNvGrpSpPr/>
            <p:nvPr/>
          </p:nvGrpSpPr>
          <p:grpSpPr>
            <a:xfrm>
              <a:off x="2383560" y="3723480"/>
              <a:ext cx="646200" cy="645840"/>
              <a:chOff x="2383560" y="3723480"/>
              <a:chExt cx="646200" cy="645840"/>
            </a:xfrm>
          </p:grpSpPr>
          <p:pic>
            <p:nvPicPr>
              <p:cNvPr id="108" name="Овал 28" descr=""/>
              <p:cNvPicPr/>
              <p:nvPr/>
            </p:nvPicPr>
            <p:blipFill>
              <a:blip r:embed="rId3"/>
              <a:stretch/>
            </p:blipFill>
            <p:spPr>
              <a:xfrm>
                <a:off x="2383560" y="372348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2516400" y="383292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Овал 29"/>
            <p:cNvGrpSpPr/>
            <p:nvPr/>
          </p:nvGrpSpPr>
          <p:grpSpPr>
            <a:xfrm>
              <a:off x="1853280" y="3352680"/>
              <a:ext cx="829080" cy="813240"/>
              <a:chOff x="1853280" y="3352680"/>
              <a:chExt cx="829080" cy="813240"/>
            </a:xfrm>
          </p:grpSpPr>
          <p:pic>
            <p:nvPicPr>
              <p:cNvPr id="111" name="Овал 29" descr=""/>
              <p:cNvPicPr/>
              <p:nvPr/>
            </p:nvPicPr>
            <p:blipFill>
              <a:blip r:embed="rId4"/>
              <a:stretch/>
            </p:blipFill>
            <p:spPr>
              <a:xfrm>
                <a:off x="185328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>
                <a:off x="201060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Box 30"/>
            <p:cNvSpPr/>
            <p:nvPr/>
          </p:nvSpPr>
          <p:spPr>
            <a:xfrm>
              <a:off x="1447920" y="4429080"/>
              <a:ext cx="177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Молекула вод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Овал 31"/>
            <p:cNvGrpSpPr/>
            <p:nvPr/>
          </p:nvGrpSpPr>
          <p:grpSpPr>
            <a:xfrm>
              <a:off x="4291560" y="3352680"/>
              <a:ext cx="829080" cy="813240"/>
              <a:chOff x="4291560" y="3352680"/>
              <a:chExt cx="829080" cy="813240"/>
            </a:xfrm>
          </p:grpSpPr>
          <p:pic>
            <p:nvPicPr>
              <p:cNvPr id="115" name="Овал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4291560" y="3352680"/>
                <a:ext cx="829080" cy="81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48880" y="3485880"/>
                <a:ext cx="509040" cy="49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О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Box 32"/>
            <p:cNvSpPr/>
            <p:nvPr/>
          </p:nvSpPr>
          <p:spPr>
            <a:xfrm>
              <a:off x="4042440" y="4279320"/>
              <a:ext cx="1250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кисл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Овал 33"/>
            <p:cNvGrpSpPr/>
            <p:nvPr/>
          </p:nvGrpSpPr>
          <p:grpSpPr>
            <a:xfrm>
              <a:off x="5888880" y="3424320"/>
              <a:ext cx="646200" cy="645840"/>
              <a:chOff x="5888880" y="3424320"/>
              <a:chExt cx="646200" cy="645840"/>
            </a:xfrm>
          </p:grpSpPr>
          <p:pic>
            <p:nvPicPr>
              <p:cNvPr id="119" name="Овал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888880" y="3424320"/>
                <a:ext cx="64620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602208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34"/>
            <p:cNvSpPr/>
            <p:nvPr/>
          </p:nvSpPr>
          <p:spPr>
            <a:xfrm>
              <a:off x="563832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Овал 35"/>
            <p:cNvGrpSpPr/>
            <p:nvPr/>
          </p:nvGrpSpPr>
          <p:grpSpPr>
            <a:xfrm>
              <a:off x="7339680" y="3424320"/>
              <a:ext cx="640080" cy="645840"/>
              <a:chOff x="7339680" y="3424320"/>
              <a:chExt cx="640080" cy="645840"/>
            </a:xfrm>
          </p:grpSpPr>
          <p:pic>
            <p:nvPicPr>
              <p:cNvPr id="123" name="Овал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7339680" y="3424320"/>
                <a:ext cx="64008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470000" y="3533760"/>
                <a:ext cx="37728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2060"/>
                    </a:solidFill>
                    <a:latin typeface="Calibri"/>
                  </a:rPr>
                  <a:t>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Box 36"/>
            <p:cNvSpPr/>
            <p:nvPr/>
          </p:nvSpPr>
          <p:spPr>
            <a:xfrm>
              <a:off x="7086240" y="4279320"/>
              <a:ext cx="116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Ато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7030a0"/>
                  </a:solidFill>
                  <a:latin typeface="Calibri"/>
                </a:rPr>
                <a:t>водор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37"/>
          <p:cNvSpPr/>
          <p:nvPr/>
        </p:nvSpPr>
        <p:spPr>
          <a:xfrm>
            <a:off x="2535840" y="5486400"/>
            <a:ext cx="35719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</a:t>
            </a:r>
            <a:r>
              <a:rPr b="1" lang="ru-RU" sz="3200" spc="-1" strike="noStrike" baseline="-25000">
                <a:solidFill>
                  <a:srgbClr val="7030a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        О + Н + 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Прямая со стрелкой 39"/>
          <p:cNvCxnSpPr/>
          <p:nvPr/>
        </p:nvCxnSpPr>
        <p:spPr>
          <a:xfrm>
            <a:off x="3504960" y="5791320"/>
            <a:ext cx="53388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8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1:05:09Z</dcterms:created>
  <dc:creator>www.PHILka.RU</dc:creator>
  <dc:description/>
  <dc:language>en-US</dc:language>
  <cp:lastModifiedBy>LEGION</cp:lastModifiedBy>
  <dcterms:modified xsi:type="dcterms:W3CDTF">2015-05-01T11:04:41Z</dcterms:modified>
  <cp:revision>26</cp:revision>
  <dc:subject/>
  <dc:title>Простые и сложные вещества</dc:title>
</cp:coreProperties>
</file>