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5">
  <dgm:title val=""/>
  <dgm:desc val=""/>
  <dgm:catLst>
    <dgm:cat type="accent6" pri="11500"/>
  </dgm:catLst>
  <dgm:styleLbl name="node0">
    <dgm:fillClrLst meth="cycle"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6">
        <a:alpha val="90000"/>
      </a:schemeClr>
      <a:schemeClr val="accent6">
        <a:alpha val="5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/>
    <dgm:txEffectClrLst/>
  </dgm:styleLbl>
  <dgm:styleLbl name="node1">
    <dgm:fillClrLst>
      <a:schemeClr val="accent6">
        <a:alpha val="9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6">
        <a:shade val="90000"/>
      </a:schemeClr>
      <a:schemeClr val="accent6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6">
        <a:shade val="80000"/>
        <a:alpha val="50000"/>
      </a:schemeClr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6">
        <a:tint val="50000"/>
        <a:alpha val="90000"/>
      </a:schemeClr>
      <a:schemeClr val="accent6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f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b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sibTrans1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6">
        <a:alpha val="90000"/>
        <a:tint val="40000"/>
      </a:schemeClr>
      <a:schemeClr val="accent6">
        <a:alpha val="5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6">
        <a:alpha val="9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6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6C15FB6-D0DF-4E77-B4AC-3F72A488ADEF}" type="doc">
      <dgm:prSet loTypeId="urn:microsoft.com/office/officeart/2005/8/layout/hList9" loCatId="list" qsTypeId="urn:microsoft.com/office/officeart/2005/8/quickstyle/simple1" qsCatId="simple" csTypeId="urn:microsoft.com/office/officeart/2005/8/colors/accent3_1" csCatId="accent3" phldr="1"/>
      <dgm:spPr/>
      <dgm:t>
        <a:bodyPr/>
        <a:lstStyle/>
        <a:p>
          <a:endParaRPr lang="ru-RU"/>
        </a:p>
      </dgm:t>
    </dgm:pt>
    <dgm:pt modelId="{DDE2C94B-3B3E-44AF-B6E5-545AC25C01E4}">
      <dgm:prSet phldrT="[Текст]" custT="1"/>
      <dgm:spPr/>
      <dgm:t>
        <a:bodyPr/>
        <a:lstStyle/>
        <a:p>
          <a:r>
            <a:rPr lang="ru-RU" sz="1100" dirty="0" smtClean="0"/>
            <a:t>СТАРШИЕ СОФИСТЫ</a:t>
          </a:r>
          <a:endParaRPr lang="ru-RU" sz="1100" dirty="0"/>
        </a:p>
      </dgm:t>
    </dgm:pt>
    <dgm:pt modelId="{B68FA175-CB2D-48AA-8B99-19BBC4D35036}" type="parTrans" cxnId="{4145E0BF-77B5-4EF0-A2DB-2F6C75A2D38C}">
      <dgm:prSet/>
      <dgm:spPr/>
      <dgm:t>
        <a:bodyPr/>
        <a:lstStyle/>
        <a:p>
          <a:endParaRPr lang="ru-RU"/>
        </a:p>
      </dgm:t>
    </dgm:pt>
    <dgm:pt modelId="{72E3803C-FAD2-46DA-809F-1186ADFA1F97}" type="sibTrans" cxnId="{4145E0BF-77B5-4EF0-A2DB-2F6C75A2D38C}">
      <dgm:prSet/>
      <dgm:spPr/>
      <dgm:t>
        <a:bodyPr/>
        <a:lstStyle/>
        <a:p>
          <a:endParaRPr lang="ru-RU"/>
        </a:p>
      </dgm:t>
    </dgm:pt>
    <dgm:pt modelId="{B9C9A381-1CC1-40FD-BEE1-F145B7471655}">
      <dgm:prSet phldrT="[Текст]" custT="1"/>
      <dgm:spPr/>
      <dgm:t>
        <a:bodyPr/>
        <a:lstStyle/>
        <a:p>
          <a:r>
            <a:rPr lang="ru-RU" sz="1600" dirty="0" smtClean="0"/>
            <a:t>Протагор </a:t>
          </a:r>
          <a:r>
            <a:rPr lang="ru-RU" sz="1600" dirty="0" err="1" smtClean="0"/>
            <a:t>Абдерский</a:t>
          </a:r>
          <a:endParaRPr lang="ru-RU" sz="1600" dirty="0"/>
        </a:p>
      </dgm:t>
    </dgm:pt>
    <dgm:pt modelId="{73B77B14-7804-4472-B7F9-B6AE7A77A132}" type="parTrans" cxnId="{978EF460-C8A5-4EE9-BC19-56E6A706190F}">
      <dgm:prSet/>
      <dgm:spPr/>
      <dgm:t>
        <a:bodyPr/>
        <a:lstStyle/>
        <a:p>
          <a:endParaRPr lang="ru-RU"/>
        </a:p>
      </dgm:t>
    </dgm:pt>
    <dgm:pt modelId="{0CC08F3F-019D-44EB-9E3A-311E83E2D9CC}" type="sibTrans" cxnId="{978EF460-C8A5-4EE9-BC19-56E6A706190F}">
      <dgm:prSet/>
      <dgm:spPr/>
      <dgm:t>
        <a:bodyPr/>
        <a:lstStyle/>
        <a:p>
          <a:endParaRPr lang="ru-RU"/>
        </a:p>
      </dgm:t>
    </dgm:pt>
    <dgm:pt modelId="{5B1826CF-C9DB-4CC6-9C5D-A1431DA4DD4C}">
      <dgm:prSet phldrT="[Текст]" custT="1"/>
      <dgm:spPr/>
      <dgm:t>
        <a:bodyPr/>
        <a:lstStyle/>
        <a:p>
          <a:r>
            <a:rPr lang="ru-RU" sz="1600" dirty="0" err="1" smtClean="0"/>
            <a:t>Ликофрон</a:t>
          </a:r>
          <a:endParaRPr lang="ru-RU" sz="1600" dirty="0"/>
        </a:p>
      </dgm:t>
    </dgm:pt>
    <dgm:pt modelId="{66558D40-FCDF-4431-A1B0-7528FE3FFFFF}" type="parTrans" cxnId="{373F957F-A14E-4818-8AD2-04729B30F492}">
      <dgm:prSet/>
      <dgm:spPr/>
      <dgm:t>
        <a:bodyPr/>
        <a:lstStyle/>
        <a:p>
          <a:endParaRPr lang="ru-RU"/>
        </a:p>
      </dgm:t>
    </dgm:pt>
    <dgm:pt modelId="{50517C78-04F3-4BCF-9DEF-1D623651369E}" type="sibTrans" cxnId="{373F957F-A14E-4818-8AD2-04729B30F492}">
      <dgm:prSet/>
      <dgm:spPr/>
      <dgm:t>
        <a:bodyPr/>
        <a:lstStyle/>
        <a:p>
          <a:endParaRPr lang="ru-RU"/>
        </a:p>
      </dgm:t>
    </dgm:pt>
    <dgm:pt modelId="{3021BB07-414A-4E1E-BA6A-39EF465FA49E}">
      <dgm:prSet phldrT="[Текст]" custT="1"/>
      <dgm:spPr/>
      <dgm:t>
        <a:bodyPr/>
        <a:lstStyle/>
        <a:p>
          <a:r>
            <a:rPr lang="ru-RU" sz="1100" dirty="0" smtClean="0"/>
            <a:t>МЛАДШИЕ СОФИСТЫ</a:t>
          </a:r>
          <a:endParaRPr lang="ru-RU" sz="1100" dirty="0"/>
        </a:p>
      </dgm:t>
    </dgm:pt>
    <dgm:pt modelId="{B4C13800-265E-4031-A485-E73BB5B0C2A3}" type="sibTrans" cxnId="{B15D1E90-FC9B-4FDC-A3CC-7A82F7603E39}">
      <dgm:prSet/>
      <dgm:spPr/>
      <dgm:t>
        <a:bodyPr/>
        <a:lstStyle/>
        <a:p>
          <a:endParaRPr lang="ru-RU"/>
        </a:p>
      </dgm:t>
    </dgm:pt>
    <dgm:pt modelId="{93D3A3AE-240B-4ABF-96F0-177A64ED7271}" type="parTrans" cxnId="{B15D1E90-FC9B-4FDC-A3CC-7A82F7603E39}">
      <dgm:prSet/>
      <dgm:spPr/>
      <dgm:t>
        <a:bodyPr/>
        <a:lstStyle/>
        <a:p>
          <a:endParaRPr lang="ru-RU"/>
        </a:p>
      </dgm:t>
    </dgm:pt>
    <dgm:pt modelId="{E0A1E2D1-3CA4-4F17-867A-7C1E82F648E5}">
      <dgm:prSet phldrT="[Текст]" custT="1"/>
      <dgm:spPr/>
      <dgm:t>
        <a:bodyPr/>
        <a:lstStyle/>
        <a:p>
          <a:r>
            <a:rPr lang="ru-RU" sz="1600" dirty="0" smtClean="0"/>
            <a:t> </a:t>
          </a:r>
          <a:r>
            <a:rPr lang="ru-RU" sz="1600" dirty="0" err="1" smtClean="0"/>
            <a:t>Продик</a:t>
          </a:r>
          <a:r>
            <a:rPr lang="ru-RU" sz="1600" dirty="0" smtClean="0"/>
            <a:t> </a:t>
          </a:r>
          <a:r>
            <a:rPr lang="ru-RU" sz="1600" dirty="0" err="1" smtClean="0"/>
            <a:t>Кеосский</a:t>
          </a:r>
          <a:endParaRPr lang="ru-RU" sz="1600" dirty="0"/>
        </a:p>
      </dgm:t>
    </dgm:pt>
    <dgm:pt modelId="{D56DAE5A-F572-4609-852D-4108BA13FF2D}" type="parTrans" cxnId="{D5A78EA3-880A-4C01-A7B6-FE4DE808BA55}">
      <dgm:prSet/>
      <dgm:spPr/>
      <dgm:t>
        <a:bodyPr/>
        <a:lstStyle/>
        <a:p>
          <a:endParaRPr lang="ru-RU"/>
        </a:p>
      </dgm:t>
    </dgm:pt>
    <dgm:pt modelId="{03EBB3F3-7CB5-4CDD-BF01-FADD8156E8BF}" type="sibTrans" cxnId="{D5A78EA3-880A-4C01-A7B6-FE4DE808BA55}">
      <dgm:prSet/>
      <dgm:spPr/>
      <dgm:t>
        <a:bodyPr/>
        <a:lstStyle/>
        <a:p>
          <a:endParaRPr lang="ru-RU"/>
        </a:p>
      </dgm:t>
    </dgm:pt>
    <dgm:pt modelId="{7590C1B0-5922-4B2C-8241-F77495740DD0}">
      <dgm:prSet phldrT="[Текст]" custT="1"/>
      <dgm:spPr/>
      <dgm:t>
        <a:bodyPr/>
        <a:lstStyle/>
        <a:p>
          <a:r>
            <a:rPr lang="ru-RU" sz="1600" dirty="0" err="1" smtClean="0"/>
            <a:t>Антифонт</a:t>
          </a:r>
          <a:endParaRPr lang="ru-RU" sz="1600" dirty="0"/>
        </a:p>
      </dgm:t>
    </dgm:pt>
    <dgm:pt modelId="{2B8BFA0D-E86C-4B72-82B7-CCF1CC70CE2F}" type="parTrans" cxnId="{0E8C4DF4-4CDA-47F9-BC57-FCFD37F81BDF}">
      <dgm:prSet/>
      <dgm:spPr/>
      <dgm:t>
        <a:bodyPr/>
        <a:lstStyle/>
        <a:p>
          <a:endParaRPr lang="ru-RU"/>
        </a:p>
      </dgm:t>
    </dgm:pt>
    <dgm:pt modelId="{66DC2CE2-F0F5-42DF-98DF-89780D38E980}" type="sibTrans" cxnId="{0E8C4DF4-4CDA-47F9-BC57-FCFD37F81BDF}">
      <dgm:prSet/>
      <dgm:spPr/>
      <dgm:t>
        <a:bodyPr/>
        <a:lstStyle/>
        <a:p>
          <a:endParaRPr lang="ru-RU"/>
        </a:p>
      </dgm:t>
    </dgm:pt>
    <dgm:pt modelId="{43578822-CA4E-4D4E-AA85-391071B53359}">
      <dgm:prSet phldrT="[Текст]" custT="1"/>
      <dgm:spPr/>
      <dgm:t>
        <a:bodyPr/>
        <a:lstStyle/>
        <a:p>
          <a:r>
            <a:rPr lang="ru-RU" sz="1600" smtClean="0"/>
            <a:t>Критий </a:t>
          </a:r>
          <a:r>
            <a:rPr lang="ru-RU" sz="1600" dirty="0" smtClean="0"/>
            <a:t>Афинский</a:t>
          </a:r>
          <a:endParaRPr lang="ru-RU" sz="1600" dirty="0"/>
        </a:p>
      </dgm:t>
    </dgm:pt>
    <dgm:pt modelId="{42FDC5AB-6E13-4E41-93B9-82EB8CD48A33}" type="parTrans" cxnId="{E8CD4710-480E-460A-A394-3B70F2F05608}">
      <dgm:prSet/>
      <dgm:spPr/>
      <dgm:t>
        <a:bodyPr/>
        <a:lstStyle/>
        <a:p>
          <a:endParaRPr lang="ru-RU"/>
        </a:p>
      </dgm:t>
    </dgm:pt>
    <dgm:pt modelId="{EA2F913E-F2A0-4185-AB07-7329A7C83E09}" type="sibTrans" cxnId="{E8CD4710-480E-460A-A394-3B70F2F05608}">
      <dgm:prSet/>
      <dgm:spPr/>
      <dgm:t>
        <a:bodyPr/>
        <a:lstStyle/>
        <a:p>
          <a:endParaRPr lang="ru-RU"/>
        </a:p>
      </dgm:t>
    </dgm:pt>
    <dgm:pt modelId="{156BC4C9-E79D-4023-8683-DE40AA0A8B5F}">
      <dgm:prSet phldrT="[Текст]" custT="1"/>
      <dgm:spPr/>
      <dgm:t>
        <a:bodyPr/>
        <a:lstStyle/>
        <a:p>
          <a:r>
            <a:rPr lang="ru-RU" sz="1600" dirty="0" err="1" smtClean="0"/>
            <a:t>Алкидамант</a:t>
          </a:r>
          <a:endParaRPr lang="ru-RU" sz="1600" dirty="0"/>
        </a:p>
      </dgm:t>
    </dgm:pt>
    <dgm:pt modelId="{FA22A297-C8F1-45A8-A535-BCDCF6DB104B}" type="parTrans" cxnId="{6E82CB41-6122-4B5D-8093-EE2C298AB193}">
      <dgm:prSet/>
      <dgm:spPr/>
      <dgm:t>
        <a:bodyPr/>
        <a:lstStyle/>
        <a:p>
          <a:endParaRPr lang="ru-RU"/>
        </a:p>
      </dgm:t>
    </dgm:pt>
    <dgm:pt modelId="{585AAF1F-6AA4-4FD4-A408-62FAC2954E62}" type="sibTrans" cxnId="{6E82CB41-6122-4B5D-8093-EE2C298AB193}">
      <dgm:prSet/>
      <dgm:spPr/>
      <dgm:t>
        <a:bodyPr/>
        <a:lstStyle/>
        <a:p>
          <a:endParaRPr lang="ru-RU"/>
        </a:p>
      </dgm:t>
    </dgm:pt>
    <dgm:pt modelId="{FDE357AC-745A-4239-9B95-1810568B75E0}">
      <dgm:prSet phldrT="[Текст]" custT="1"/>
      <dgm:spPr/>
      <dgm:t>
        <a:bodyPr/>
        <a:lstStyle/>
        <a:p>
          <a:r>
            <a:rPr lang="ru-RU" sz="1600" dirty="0" err="1" smtClean="0"/>
            <a:t>Фрасимах</a:t>
          </a:r>
          <a:endParaRPr lang="ru-RU" sz="1600" dirty="0"/>
        </a:p>
      </dgm:t>
    </dgm:pt>
    <dgm:pt modelId="{835B71D9-2231-4AD9-B0B8-F8BFB823B742}" type="parTrans" cxnId="{809002DC-9AE2-46E2-B949-5CFE1C9D989F}">
      <dgm:prSet/>
      <dgm:spPr/>
      <dgm:t>
        <a:bodyPr/>
        <a:lstStyle/>
        <a:p>
          <a:endParaRPr lang="ru-RU"/>
        </a:p>
      </dgm:t>
    </dgm:pt>
    <dgm:pt modelId="{A5142BD7-84D7-4D20-94EE-145BCC10F761}" type="sibTrans" cxnId="{809002DC-9AE2-46E2-B949-5CFE1C9D989F}">
      <dgm:prSet/>
      <dgm:spPr/>
      <dgm:t>
        <a:bodyPr/>
        <a:lstStyle/>
        <a:p>
          <a:endParaRPr lang="ru-RU"/>
        </a:p>
      </dgm:t>
    </dgm:pt>
    <dgm:pt modelId="{84109B2F-EF72-4025-B194-6E84FE68EEE3}">
      <dgm:prSet phldrT="[Текст]" custT="1"/>
      <dgm:spPr/>
      <dgm:t>
        <a:bodyPr/>
        <a:lstStyle/>
        <a:p>
          <a:r>
            <a:rPr lang="ru-RU" sz="1600" smtClean="0"/>
            <a:t>Горгий </a:t>
          </a:r>
          <a:r>
            <a:rPr lang="ru-RU" sz="1600" dirty="0" smtClean="0"/>
            <a:t>из </a:t>
          </a:r>
          <a:r>
            <a:rPr lang="ru-RU" sz="1600" smtClean="0"/>
            <a:t>Леонтин</a:t>
          </a:r>
          <a:endParaRPr lang="ru-RU" sz="1600" dirty="0"/>
        </a:p>
      </dgm:t>
    </dgm:pt>
    <dgm:pt modelId="{E6897DF6-5DAC-4E3E-BE61-22A43E2DEB5D}" type="parTrans" cxnId="{3EEB807C-D516-4C11-B820-DE0826FA01DB}">
      <dgm:prSet/>
      <dgm:spPr/>
      <dgm:t>
        <a:bodyPr/>
        <a:lstStyle/>
        <a:p>
          <a:endParaRPr lang="ru-RU"/>
        </a:p>
      </dgm:t>
    </dgm:pt>
    <dgm:pt modelId="{0F5B03F7-61C6-4DE6-9510-67764FB8E821}" type="sibTrans" cxnId="{3EEB807C-D516-4C11-B820-DE0826FA01DB}">
      <dgm:prSet/>
      <dgm:spPr/>
      <dgm:t>
        <a:bodyPr/>
        <a:lstStyle/>
        <a:p>
          <a:endParaRPr lang="ru-RU"/>
        </a:p>
      </dgm:t>
    </dgm:pt>
    <dgm:pt modelId="{0F5261CB-566C-42D4-97D9-FAAE3985419C}">
      <dgm:prSet phldrT="[Текст]" custT="1"/>
      <dgm:spPr/>
      <dgm:t>
        <a:bodyPr/>
        <a:lstStyle/>
        <a:p>
          <a:r>
            <a:rPr lang="ru-RU" sz="1600" dirty="0" err="1" smtClean="0"/>
            <a:t>Гиппий</a:t>
          </a:r>
          <a:r>
            <a:rPr lang="ru-RU" sz="1600" dirty="0" smtClean="0"/>
            <a:t> из Элиды</a:t>
          </a:r>
          <a:endParaRPr lang="ru-RU" sz="1600" dirty="0"/>
        </a:p>
      </dgm:t>
    </dgm:pt>
    <dgm:pt modelId="{1665ADEB-B824-45A0-84DE-5D766BABAD11}" type="parTrans" cxnId="{9ED4AC5D-672C-4631-8535-19D1ABE9EEAE}">
      <dgm:prSet/>
      <dgm:spPr/>
      <dgm:t>
        <a:bodyPr/>
        <a:lstStyle/>
        <a:p>
          <a:endParaRPr lang="ru-RU"/>
        </a:p>
      </dgm:t>
    </dgm:pt>
    <dgm:pt modelId="{73034C64-5B7E-44E2-997F-F782491354A6}" type="sibTrans" cxnId="{9ED4AC5D-672C-4631-8535-19D1ABE9EEAE}">
      <dgm:prSet/>
      <dgm:spPr/>
      <dgm:t>
        <a:bodyPr/>
        <a:lstStyle/>
        <a:p>
          <a:endParaRPr lang="ru-RU"/>
        </a:p>
      </dgm:t>
    </dgm:pt>
    <dgm:pt modelId="{C03EDF79-20F8-444B-937F-8E6723682095}" type="pres">
      <dgm:prSet presAssocID="{26C15FB6-D0DF-4E77-B4AC-3F72A488ADEF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F2B2B9F1-2681-49C2-92CE-39A31CC33236}" type="pres">
      <dgm:prSet presAssocID="{DDE2C94B-3B3E-44AF-B6E5-545AC25C01E4}" presName="posSpace" presStyleCnt="0"/>
      <dgm:spPr/>
    </dgm:pt>
    <dgm:pt modelId="{B6336FAA-3AF5-4692-A9DD-E37B118A02BB}" type="pres">
      <dgm:prSet presAssocID="{DDE2C94B-3B3E-44AF-B6E5-545AC25C01E4}" presName="vertFlow" presStyleCnt="0"/>
      <dgm:spPr/>
    </dgm:pt>
    <dgm:pt modelId="{89F399B0-4060-4BB4-B65D-F91C74A6FE73}" type="pres">
      <dgm:prSet presAssocID="{DDE2C94B-3B3E-44AF-B6E5-545AC25C01E4}" presName="topSpace" presStyleCnt="0"/>
      <dgm:spPr/>
    </dgm:pt>
    <dgm:pt modelId="{8456F6F8-3F91-424B-AE65-CF7918E130D3}" type="pres">
      <dgm:prSet presAssocID="{DDE2C94B-3B3E-44AF-B6E5-545AC25C01E4}" presName="firstComp" presStyleCnt="0"/>
      <dgm:spPr/>
    </dgm:pt>
    <dgm:pt modelId="{B8FA7A76-38B1-4CF1-9CFA-A3EF3BF8EEB3}" type="pres">
      <dgm:prSet presAssocID="{DDE2C94B-3B3E-44AF-B6E5-545AC25C01E4}" presName="firstChild" presStyleLbl="bgAccFollowNode1" presStyleIdx="0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273A3067-35E1-47B6-BEDB-27771CFEE0AD}" type="pres">
      <dgm:prSet presAssocID="{DDE2C94B-3B3E-44AF-B6E5-545AC25C01E4}" presName="firstChildTx" presStyleLbl="bgAccFollowNode1" presStyleIdx="0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1CEF47-9DEE-489D-A1E0-5B2BB0423059}" type="pres">
      <dgm:prSet presAssocID="{0F5261CB-566C-42D4-97D9-FAAE3985419C}" presName="comp" presStyleCnt="0"/>
      <dgm:spPr/>
    </dgm:pt>
    <dgm:pt modelId="{417164EC-1DA1-4299-84AF-084EFE1924CA}" type="pres">
      <dgm:prSet presAssocID="{0F5261CB-566C-42D4-97D9-FAAE3985419C}" presName="child" presStyleLbl="bgAccFollowNode1" presStyleIdx="1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1D1C7B88-8BE8-4EC1-821E-3C3598BB81DB}" type="pres">
      <dgm:prSet presAssocID="{0F5261CB-566C-42D4-97D9-FAAE3985419C}" presName="childTx" presStyleLbl="bgAccFollowNode1" presStyleIdx="1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69F890-FD0A-4EBC-8EB3-A2D515C6E78D}" type="pres">
      <dgm:prSet presAssocID="{84109B2F-EF72-4025-B194-6E84FE68EEE3}" presName="comp" presStyleCnt="0"/>
      <dgm:spPr/>
    </dgm:pt>
    <dgm:pt modelId="{9FCEC2A1-7D4B-42BE-8829-3ECD50682D84}" type="pres">
      <dgm:prSet presAssocID="{84109B2F-EF72-4025-B194-6E84FE68EEE3}" presName="child" presStyleLbl="bgAccFollowNode1" presStyleIdx="2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58ED1DAF-F7A4-40D3-81DF-6247B22FE450}" type="pres">
      <dgm:prSet presAssocID="{84109B2F-EF72-4025-B194-6E84FE68EEE3}" presName="childTx" presStyleLbl="bgAccFollowNode1" presStyleIdx="2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2E8589D-7859-4106-851E-72BF67B04B9E}" type="pres">
      <dgm:prSet presAssocID="{E0A1E2D1-3CA4-4F17-867A-7C1E82F648E5}" presName="comp" presStyleCnt="0"/>
      <dgm:spPr/>
    </dgm:pt>
    <dgm:pt modelId="{3218969F-67B5-4931-83CB-D8260B8C55F0}" type="pres">
      <dgm:prSet presAssocID="{E0A1E2D1-3CA4-4F17-867A-7C1E82F648E5}" presName="child" presStyleLbl="bgAccFollowNode1" presStyleIdx="3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C632713B-DC10-4BF8-AC90-6F5A89B4A3F4}" type="pres">
      <dgm:prSet presAssocID="{E0A1E2D1-3CA4-4F17-867A-7C1E82F648E5}" presName="childTx" presStyleLbl="bgAccFollowNode1" presStyleIdx="3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B692CA1-1420-41FE-A315-2CBB1676EE67}" type="pres">
      <dgm:prSet presAssocID="{7590C1B0-5922-4B2C-8241-F77495740DD0}" presName="comp" presStyleCnt="0"/>
      <dgm:spPr/>
    </dgm:pt>
    <dgm:pt modelId="{637666E9-09C8-4655-95AA-79B8BB3A3643}" type="pres">
      <dgm:prSet presAssocID="{7590C1B0-5922-4B2C-8241-F77495740DD0}" presName="child" presStyleLbl="bgAccFollowNode1" presStyleIdx="4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AA85DF8F-59F2-4123-AFF5-7107B9C9F334}" type="pres">
      <dgm:prSet presAssocID="{7590C1B0-5922-4B2C-8241-F77495740DD0}" presName="childTx" presStyleLbl="bgAccFollowNode1" presStyleIdx="4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5F5D08A-CE80-4FE7-91B4-0CE413A62113}" type="pres">
      <dgm:prSet presAssocID="{43578822-CA4E-4D4E-AA85-391071B53359}" presName="comp" presStyleCnt="0"/>
      <dgm:spPr/>
    </dgm:pt>
    <dgm:pt modelId="{7F7861AA-5F13-4A3F-80AF-E4C882F37EC3}" type="pres">
      <dgm:prSet presAssocID="{43578822-CA4E-4D4E-AA85-391071B53359}" presName="child" presStyleLbl="bgAccFollowNode1" presStyleIdx="5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35261E58-1EA9-440B-9352-C1EB4C31B7EB}" type="pres">
      <dgm:prSet presAssocID="{43578822-CA4E-4D4E-AA85-391071B53359}" presName="childTx" presStyleLbl="bgAccFollowNode1" presStyleIdx="5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4A2C1CC-48B5-4331-8B5E-04BD7DA72856}" type="pres">
      <dgm:prSet presAssocID="{DDE2C94B-3B3E-44AF-B6E5-545AC25C01E4}" presName="negSpace" presStyleCnt="0"/>
      <dgm:spPr/>
    </dgm:pt>
    <dgm:pt modelId="{286FE83C-F031-4B9D-B0FD-8BF94FA8DCAE}" type="pres">
      <dgm:prSet presAssocID="{DDE2C94B-3B3E-44AF-B6E5-545AC25C01E4}" presName="circle" presStyleLbl="node1" presStyleIdx="0" presStyleCnt="2" custScaleX="138054" custScaleY="116031" custLinFactX="-76461" custLinFactNeighborX="-100000" custLinFactNeighborY="-247"/>
      <dgm:spPr/>
      <dgm:t>
        <a:bodyPr/>
        <a:lstStyle/>
        <a:p>
          <a:endParaRPr lang="ru-RU"/>
        </a:p>
      </dgm:t>
    </dgm:pt>
    <dgm:pt modelId="{79414652-6987-4DD7-AAF6-46C4FBBA73FA}" type="pres">
      <dgm:prSet presAssocID="{72E3803C-FAD2-46DA-809F-1186ADFA1F97}" presName="transSpace" presStyleCnt="0"/>
      <dgm:spPr/>
    </dgm:pt>
    <dgm:pt modelId="{5E4BEAD3-FC51-4F10-81B2-467EDA846B38}" type="pres">
      <dgm:prSet presAssocID="{3021BB07-414A-4E1E-BA6A-39EF465FA49E}" presName="posSpace" presStyleCnt="0"/>
      <dgm:spPr/>
    </dgm:pt>
    <dgm:pt modelId="{0AD8604D-0038-40A4-A12F-AC3D1339DB58}" type="pres">
      <dgm:prSet presAssocID="{3021BB07-414A-4E1E-BA6A-39EF465FA49E}" presName="vertFlow" presStyleCnt="0"/>
      <dgm:spPr/>
    </dgm:pt>
    <dgm:pt modelId="{01D76B20-DE81-47FE-A679-96A4E3A11480}" type="pres">
      <dgm:prSet presAssocID="{3021BB07-414A-4E1E-BA6A-39EF465FA49E}" presName="topSpace" presStyleCnt="0"/>
      <dgm:spPr/>
    </dgm:pt>
    <dgm:pt modelId="{29613BF5-6846-4A00-8556-C9B1ED515BE1}" type="pres">
      <dgm:prSet presAssocID="{3021BB07-414A-4E1E-BA6A-39EF465FA49E}" presName="firstComp" presStyleCnt="0"/>
      <dgm:spPr/>
    </dgm:pt>
    <dgm:pt modelId="{7A7F162F-FF4A-4131-B326-7EF53104BFF0}" type="pres">
      <dgm:prSet presAssocID="{3021BB07-414A-4E1E-BA6A-39EF465FA49E}" presName="firstChild" presStyleLbl="bgAccFollowNode1" presStyleIdx="6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D45657C8-ED50-45A0-896E-74A976E715AF}" type="pres">
      <dgm:prSet presAssocID="{3021BB07-414A-4E1E-BA6A-39EF465FA49E}" presName="firstChildTx" presStyleLbl="bgAccFollowNode1" presStyleIdx="6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F0FB29-B9F9-4B5E-9044-343996797E55}" type="pres">
      <dgm:prSet presAssocID="{156BC4C9-E79D-4023-8683-DE40AA0A8B5F}" presName="comp" presStyleCnt="0"/>
      <dgm:spPr/>
    </dgm:pt>
    <dgm:pt modelId="{B441093F-29C8-4E21-98E2-DA5334998609}" type="pres">
      <dgm:prSet presAssocID="{156BC4C9-E79D-4023-8683-DE40AA0A8B5F}" presName="child" presStyleLbl="bgAccFollowNode1" presStyleIdx="7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627F5060-26CF-4470-85F4-087060EF8933}" type="pres">
      <dgm:prSet presAssocID="{156BC4C9-E79D-4023-8683-DE40AA0A8B5F}" presName="childTx" presStyleLbl="bgAccFollowNode1" presStyleIdx="7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7B9B598-423E-4785-BA48-6BA0D36C70B2}" type="pres">
      <dgm:prSet presAssocID="{FDE357AC-745A-4239-9B95-1810568B75E0}" presName="comp" presStyleCnt="0"/>
      <dgm:spPr/>
    </dgm:pt>
    <dgm:pt modelId="{B0AFAF23-24F7-4EA4-98AB-93FDC3B3DCAA}" type="pres">
      <dgm:prSet presAssocID="{FDE357AC-745A-4239-9B95-1810568B75E0}" presName="child" presStyleLbl="bgAccFollowNode1" presStyleIdx="8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B09E4BFE-C17B-4C01-8EED-D247B80EDD22}" type="pres">
      <dgm:prSet presAssocID="{FDE357AC-745A-4239-9B95-1810568B75E0}" presName="childTx" presStyleLbl="bgAccFollowNode1" presStyleIdx="8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EB290F3-C640-48C0-AB95-FAD3B0C84424}" type="pres">
      <dgm:prSet presAssocID="{3021BB07-414A-4E1E-BA6A-39EF465FA49E}" presName="negSpace" presStyleCnt="0"/>
      <dgm:spPr/>
    </dgm:pt>
    <dgm:pt modelId="{6FEF7075-9C8D-4E27-904F-5440DDD79BF4}" type="pres">
      <dgm:prSet presAssocID="{3021BB07-414A-4E1E-BA6A-39EF465FA49E}" presName="circle" presStyleLbl="node1" presStyleIdx="1" presStyleCnt="2" custScaleX="138054" custScaleY="116031" custLinFactNeighborX="-65608" custLinFactNeighborY="-5472"/>
      <dgm:spPr/>
      <dgm:t>
        <a:bodyPr/>
        <a:lstStyle/>
        <a:p>
          <a:endParaRPr lang="ru-RU"/>
        </a:p>
      </dgm:t>
    </dgm:pt>
  </dgm:ptLst>
  <dgm:cxnLst>
    <dgm:cxn modelId="{DDDCB6DB-2486-4D62-96DA-EF779BD78D0A}" type="presOf" srcId="{7590C1B0-5922-4B2C-8241-F77495740DD0}" destId="{AA85DF8F-59F2-4123-AFF5-7107B9C9F334}" srcOrd="1" destOrd="0" presId="urn:microsoft.com/office/officeart/2005/8/layout/hList9"/>
    <dgm:cxn modelId="{CD89D427-0128-458D-B30B-71A6F5018EFA}" type="presOf" srcId="{DDE2C94B-3B3E-44AF-B6E5-545AC25C01E4}" destId="{286FE83C-F031-4B9D-B0FD-8BF94FA8DCAE}" srcOrd="0" destOrd="0" presId="urn:microsoft.com/office/officeart/2005/8/layout/hList9"/>
    <dgm:cxn modelId="{735E8C6B-D78B-467A-B43F-619B95EC5E44}" type="presOf" srcId="{43578822-CA4E-4D4E-AA85-391071B53359}" destId="{7F7861AA-5F13-4A3F-80AF-E4C882F37EC3}" srcOrd="0" destOrd="0" presId="urn:microsoft.com/office/officeart/2005/8/layout/hList9"/>
    <dgm:cxn modelId="{6E82CB41-6122-4B5D-8093-EE2C298AB193}" srcId="{3021BB07-414A-4E1E-BA6A-39EF465FA49E}" destId="{156BC4C9-E79D-4023-8683-DE40AA0A8B5F}" srcOrd="1" destOrd="0" parTransId="{FA22A297-C8F1-45A8-A535-BCDCF6DB104B}" sibTransId="{585AAF1F-6AA4-4FD4-A408-62FAC2954E62}"/>
    <dgm:cxn modelId="{E47713F4-24F9-48D4-9187-9DBDCCB38E43}" type="presOf" srcId="{156BC4C9-E79D-4023-8683-DE40AA0A8B5F}" destId="{627F5060-26CF-4470-85F4-087060EF8933}" srcOrd="1" destOrd="0" presId="urn:microsoft.com/office/officeart/2005/8/layout/hList9"/>
    <dgm:cxn modelId="{782FCEAF-C398-48C0-86EE-55D2A9E08BE1}" type="presOf" srcId="{0F5261CB-566C-42D4-97D9-FAAE3985419C}" destId="{417164EC-1DA1-4299-84AF-084EFE1924CA}" srcOrd="0" destOrd="0" presId="urn:microsoft.com/office/officeart/2005/8/layout/hList9"/>
    <dgm:cxn modelId="{932921F4-6D07-4C6E-8B5A-D18D00555A25}" type="presOf" srcId="{84109B2F-EF72-4025-B194-6E84FE68EEE3}" destId="{9FCEC2A1-7D4B-42BE-8829-3ECD50682D84}" srcOrd="0" destOrd="0" presId="urn:microsoft.com/office/officeart/2005/8/layout/hList9"/>
    <dgm:cxn modelId="{59164F3C-82DA-4C30-96CE-F85D9BE0C106}" type="presOf" srcId="{FDE357AC-745A-4239-9B95-1810568B75E0}" destId="{B09E4BFE-C17B-4C01-8EED-D247B80EDD22}" srcOrd="1" destOrd="0" presId="urn:microsoft.com/office/officeart/2005/8/layout/hList9"/>
    <dgm:cxn modelId="{D5A78EA3-880A-4C01-A7B6-FE4DE808BA55}" srcId="{DDE2C94B-3B3E-44AF-B6E5-545AC25C01E4}" destId="{E0A1E2D1-3CA4-4F17-867A-7C1E82F648E5}" srcOrd="3" destOrd="0" parTransId="{D56DAE5A-F572-4609-852D-4108BA13FF2D}" sibTransId="{03EBB3F3-7CB5-4CDD-BF01-FADD8156E8BF}"/>
    <dgm:cxn modelId="{4145E0BF-77B5-4EF0-A2DB-2F6C75A2D38C}" srcId="{26C15FB6-D0DF-4E77-B4AC-3F72A488ADEF}" destId="{DDE2C94B-3B3E-44AF-B6E5-545AC25C01E4}" srcOrd="0" destOrd="0" parTransId="{B68FA175-CB2D-48AA-8B99-19BBC4D35036}" sibTransId="{72E3803C-FAD2-46DA-809F-1186ADFA1F97}"/>
    <dgm:cxn modelId="{94295293-24DA-45B2-8448-E39D0479DC4E}" type="presOf" srcId="{E0A1E2D1-3CA4-4F17-867A-7C1E82F648E5}" destId="{3218969F-67B5-4931-83CB-D8260B8C55F0}" srcOrd="0" destOrd="0" presId="urn:microsoft.com/office/officeart/2005/8/layout/hList9"/>
    <dgm:cxn modelId="{E8CD4710-480E-460A-A394-3B70F2F05608}" srcId="{DDE2C94B-3B3E-44AF-B6E5-545AC25C01E4}" destId="{43578822-CA4E-4D4E-AA85-391071B53359}" srcOrd="5" destOrd="0" parTransId="{42FDC5AB-6E13-4E41-93B9-82EB8CD48A33}" sibTransId="{EA2F913E-F2A0-4185-AB07-7329A7C83E09}"/>
    <dgm:cxn modelId="{0E8C4DF4-4CDA-47F9-BC57-FCFD37F81BDF}" srcId="{DDE2C94B-3B3E-44AF-B6E5-545AC25C01E4}" destId="{7590C1B0-5922-4B2C-8241-F77495740DD0}" srcOrd="4" destOrd="0" parTransId="{2B8BFA0D-E86C-4B72-82B7-CCF1CC70CE2F}" sibTransId="{66DC2CE2-F0F5-42DF-98DF-89780D38E980}"/>
    <dgm:cxn modelId="{301D1E3B-DEE5-490F-AA91-3FA9ED538C82}" type="presOf" srcId="{E0A1E2D1-3CA4-4F17-867A-7C1E82F648E5}" destId="{C632713B-DC10-4BF8-AC90-6F5A89B4A3F4}" srcOrd="1" destOrd="0" presId="urn:microsoft.com/office/officeart/2005/8/layout/hList9"/>
    <dgm:cxn modelId="{9AF8E712-9740-48C6-96DD-0F9ADC035717}" type="presOf" srcId="{7590C1B0-5922-4B2C-8241-F77495740DD0}" destId="{637666E9-09C8-4655-95AA-79B8BB3A3643}" srcOrd="0" destOrd="0" presId="urn:microsoft.com/office/officeart/2005/8/layout/hList9"/>
    <dgm:cxn modelId="{1BDADFDE-EE88-4396-83D6-B7D66618AD07}" type="presOf" srcId="{26C15FB6-D0DF-4E77-B4AC-3F72A488ADEF}" destId="{C03EDF79-20F8-444B-937F-8E6723682095}" srcOrd="0" destOrd="0" presId="urn:microsoft.com/office/officeart/2005/8/layout/hList9"/>
    <dgm:cxn modelId="{978EF460-C8A5-4EE9-BC19-56E6A706190F}" srcId="{DDE2C94B-3B3E-44AF-B6E5-545AC25C01E4}" destId="{B9C9A381-1CC1-40FD-BEE1-F145B7471655}" srcOrd="0" destOrd="0" parTransId="{73B77B14-7804-4472-B7F9-B6AE7A77A132}" sibTransId="{0CC08F3F-019D-44EB-9E3A-311E83E2D9CC}"/>
    <dgm:cxn modelId="{A1547527-BC7F-4C71-9ED8-A3443042CD67}" type="presOf" srcId="{5B1826CF-C9DB-4CC6-9C5D-A1431DA4DD4C}" destId="{D45657C8-ED50-45A0-896E-74A976E715AF}" srcOrd="1" destOrd="0" presId="urn:microsoft.com/office/officeart/2005/8/layout/hList9"/>
    <dgm:cxn modelId="{9ED4AC5D-672C-4631-8535-19D1ABE9EEAE}" srcId="{DDE2C94B-3B3E-44AF-B6E5-545AC25C01E4}" destId="{0F5261CB-566C-42D4-97D9-FAAE3985419C}" srcOrd="1" destOrd="0" parTransId="{1665ADEB-B824-45A0-84DE-5D766BABAD11}" sibTransId="{73034C64-5B7E-44E2-997F-F782491354A6}"/>
    <dgm:cxn modelId="{98F8D115-B0F9-484D-95D6-D798A3BF451E}" type="presOf" srcId="{3021BB07-414A-4E1E-BA6A-39EF465FA49E}" destId="{6FEF7075-9C8D-4E27-904F-5440DDD79BF4}" srcOrd="0" destOrd="0" presId="urn:microsoft.com/office/officeart/2005/8/layout/hList9"/>
    <dgm:cxn modelId="{A39082FE-2F75-453C-8A62-44F1F82F4967}" type="presOf" srcId="{B9C9A381-1CC1-40FD-BEE1-F145B7471655}" destId="{273A3067-35E1-47B6-BEDB-27771CFEE0AD}" srcOrd="1" destOrd="0" presId="urn:microsoft.com/office/officeart/2005/8/layout/hList9"/>
    <dgm:cxn modelId="{373F957F-A14E-4818-8AD2-04729B30F492}" srcId="{3021BB07-414A-4E1E-BA6A-39EF465FA49E}" destId="{5B1826CF-C9DB-4CC6-9C5D-A1431DA4DD4C}" srcOrd="0" destOrd="0" parTransId="{66558D40-FCDF-4431-A1B0-7528FE3FFFFF}" sibTransId="{50517C78-04F3-4BCF-9DEF-1D623651369E}"/>
    <dgm:cxn modelId="{3FAEFF62-A208-440F-99F8-8C3F3A020D43}" type="presOf" srcId="{43578822-CA4E-4D4E-AA85-391071B53359}" destId="{35261E58-1EA9-440B-9352-C1EB4C31B7EB}" srcOrd="1" destOrd="0" presId="urn:microsoft.com/office/officeart/2005/8/layout/hList9"/>
    <dgm:cxn modelId="{BB2D1DF3-5A85-4A8E-9E1B-376018059A3E}" type="presOf" srcId="{0F5261CB-566C-42D4-97D9-FAAE3985419C}" destId="{1D1C7B88-8BE8-4EC1-821E-3C3598BB81DB}" srcOrd="1" destOrd="0" presId="urn:microsoft.com/office/officeart/2005/8/layout/hList9"/>
    <dgm:cxn modelId="{5139AC89-43BB-4C18-BE29-F996477FDD30}" type="presOf" srcId="{FDE357AC-745A-4239-9B95-1810568B75E0}" destId="{B0AFAF23-24F7-4EA4-98AB-93FDC3B3DCAA}" srcOrd="0" destOrd="0" presId="urn:microsoft.com/office/officeart/2005/8/layout/hList9"/>
    <dgm:cxn modelId="{C0D17129-DDF1-4E49-AF76-573B5906DDC2}" type="presOf" srcId="{156BC4C9-E79D-4023-8683-DE40AA0A8B5F}" destId="{B441093F-29C8-4E21-98E2-DA5334998609}" srcOrd="0" destOrd="0" presId="urn:microsoft.com/office/officeart/2005/8/layout/hList9"/>
    <dgm:cxn modelId="{B15D1E90-FC9B-4FDC-A3CC-7A82F7603E39}" srcId="{26C15FB6-D0DF-4E77-B4AC-3F72A488ADEF}" destId="{3021BB07-414A-4E1E-BA6A-39EF465FA49E}" srcOrd="1" destOrd="0" parTransId="{93D3A3AE-240B-4ABF-96F0-177A64ED7271}" sibTransId="{B4C13800-265E-4031-A485-E73BB5B0C2A3}"/>
    <dgm:cxn modelId="{3EEB807C-D516-4C11-B820-DE0826FA01DB}" srcId="{DDE2C94B-3B3E-44AF-B6E5-545AC25C01E4}" destId="{84109B2F-EF72-4025-B194-6E84FE68EEE3}" srcOrd="2" destOrd="0" parTransId="{E6897DF6-5DAC-4E3E-BE61-22A43E2DEB5D}" sibTransId="{0F5B03F7-61C6-4DE6-9510-67764FB8E821}"/>
    <dgm:cxn modelId="{66B015AB-348A-4E17-AFA6-5C3089D5CF3F}" type="presOf" srcId="{84109B2F-EF72-4025-B194-6E84FE68EEE3}" destId="{58ED1DAF-F7A4-40D3-81DF-6247B22FE450}" srcOrd="1" destOrd="0" presId="urn:microsoft.com/office/officeart/2005/8/layout/hList9"/>
    <dgm:cxn modelId="{BC39F7A5-5EC9-46B7-99F5-50D5CEF0D45A}" type="presOf" srcId="{5B1826CF-C9DB-4CC6-9C5D-A1431DA4DD4C}" destId="{7A7F162F-FF4A-4131-B326-7EF53104BFF0}" srcOrd="0" destOrd="0" presId="urn:microsoft.com/office/officeart/2005/8/layout/hList9"/>
    <dgm:cxn modelId="{809002DC-9AE2-46E2-B949-5CFE1C9D989F}" srcId="{3021BB07-414A-4E1E-BA6A-39EF465FA49E}" destId="{FDE357AC-745A-4239-9B95-1810568B75E0}" srcOrd="2" destOrd="0" parTransId="{835B71D9-2231-4AD9-B0B8-F8BFB823B742}" sibTransId="{A5142BD7-84D7-4D20-94EE-145BCC10F761}"/>
    <dgm:cxn modelId="{DB7DA69F-598A-4744-89BE-2E9F49963391}" type="presOf" srcId="{B9C9A381-1CC1-40FD-BEE1-F145B7471655}" destId="{B8FA7A76-38B1-4CF1-9CFA-A3EF3BF8EEB3}" srcOrd="0" destOrd="0" presId="urn:microsoft.com/office/officeart/2005/8/layout/hList9"/>
    <dgm:cxn modelId="{2783E600-EF12-49CB-996E-B7BA5B8F4A07}" type="presParOf" srcId="{C03EDF79-20F8-444B-937F-8E6723682095}" destId="{F2B2B9F1-2681-49C2-92CE-39A31CC33236}" srcOrd="0" destOrd="0" presId="urn:microsoft.com/office/officeart/2005/8/layout/hList9"/>
    <dgm:cxn modelId="{7DBBD82B-4CFE-4D9E-A63C-DD14D198DBAF}" type="presParOf" srcId="{C03EDF79-20F8-444B-937F-8E6723682095}" destId="{B6336FAA-3AF5-4692-A9DD-E37B118A02BB}" srcOrd="1" destOrd="0" presId="urn:microsoft.com/office/officeart/2005/8/layout/hList9"/>
    <dgm:cxn modelId="{EA62FCE6-E6B7-4E4F-9C53-BBAFDE5B5499}" type="presParOf" srcId="{B6336FAA-3AF5-4692-A9DD-E37B118A02BB}" destId="{89F399B0-4060-4BB4-B65D-F91C74A6FE73}" srcOrd="0" destOrd="0" presId="urn:microsoft.com/office/officeart/2005/8/layout/hList9"/>
    <dgm:cxn modelId="{4B099CC6-F564-4550-946E-145E8BA98A73}" type="presParOf" srcId="{B6336FAA-3AF5-4692-A9DD-E37B118A02BB}" destId="{8456F6F8-3F91-424B-AE65-CF7918E130D3}" srcOrd="1" destOrd="0" presId="urn:microsoft.com/office/officeart/2005/8/layout/hList9"/>
    <dgm:cxn modelId="{48D43F30-BB37-4FD2-97A6-A632AE31FAFE}" type="presParOf" srcId="{8456F6F8-3F91-424B-AE65-CF7918E130D3}" destId="{B8FA7A76-38B1-4CF1-9CFA-A3EF3BF8EEB3}" srcOrd="0" destOrd="0" presId="urn:microsoft.com/office/officeart/2005/8/layout/hList9"/>
    <dgm:cxn modelId="{52164E3A-249C-45A6-96D0-568480DA61B8}" type="presParOf" srcId="{8456F6F8-3F91-424B-AE65-CF7918E130D3}" destId="{273A3067-35E1-47B6-BEDB-27771CFEE0AD}" srcOrd="1" destOrd="0" presId="urn:microsoft.com/office/officeart/2005/8/layout/hList9"/>
    <dgm:cxn modelId="{05E15974-0471-4970-B3C5-42468DF0DF04}" type="presParOf" srcId="{B6336FAA-3AF5-4692-A9DD-E37B118A02BB}" destId="{1D1CEF47-9DEE-489D-A1E0-5B2BB0423059}" srcOrd="2" destOrd="0" presId="urn:microsoft.com/office/officeart/2005/8/layout/hList9"/>
    <dgm:cxn modelId="{94353F16-5248-489D-822B-6AD8E13B4DF8}" type="presParOf" srcId="{1D1CEF47-9DEE-489D-A1E0-5B2BB0423059}" destId="{417164EC-1DA1-4299-84AF-084EFE1924CA}" srcOrd="0" destOrd="0" presId="urn:microsoft.com/office/officeart/2005/8/layout/hList9"/>
    <dgm:cxn modelId="{04029C00-09D3-47AC-A9BA-88D64C23CEF2}" type="presParOf" srcId="{1D1CEF47-9DEE-489D-A1E0-5B2BB0423059}" destId="{1D1C7B88-8BE8-4EC1-821E-3C3598BB81DB}" srcOrd="1" destOrd="0" presId="urn:microsoft.com/office/officeart/2005/8/layout/hList9"/>
    <dgm:cxn modelId="{2519A470-BD46-4F69-9906-4D2DCDC2A100}" type="presParOf" srcId="{B6336FAA-3AF5-4692-A9DD-E37B118A02BB}" destId="{6169F890-FD0A-4EBC-8EB3-A2D515C6E78D}" srcOrd="3" destOrd="0" presId="urn:microsoft.com/office/officeart/2005/8/layout/hList9"/>
    <dgm:cxn modelId="{16C7ED58-7AC0-44A1-A3C5-C72227F46DB0}" type="presParOf" srcId="{6169F890-FD0A-4EBC-8EB3-A2D515C6E78D}" destId="{9FCEC2A1-7D4B-42BE-8829-3ECD50682D84}" srcOrd="0" destOrd="0" presId="urn:microsoft.com/office/officeart/2005/8/layout/hList9"/>
    <dgm:cxn modelId="{F233A2BA-D162-40C6-9F60-AD946A5CC3F6}" type="presParOf" srcId="{6169F890-FD0A-4EBC-8EB3-A2D515C6E78D}" destId="{58ED1DAF-F7A4-40D3-81DF-6247B22FE450}" srcOrd="1" destOrd="0" presId="urn:microsoft.com/office/officeart/2005/8/layout/hList9"/>
    <dgm:cxn modelId="{2B960898-5F98-4BFF-8384-1CB65F72ED0F}" type="presParOf" srcId="{B6336FAA-3AF5-4692-A9DD-E37B118A02BB}" destId="{A2E8589D-7859-4106-851E-72BF67B04B9E}" srcOrd="4" destOrd="0" presId="urn:microsoft.com/office/officeart/2005/8/layout/hList9"/>
    <dgm:cxn modelId="{27C45536-8A70-4502-96C9-54721B40ED02}" type="presParOf" srcId="{A2E8589D-7859-4106-851E-72BF67B04B9E}" destId="{3218969F-67B5-4931-83CB-D8260B8C55F0}" srcOrd="0" destOrd="0" presId="urn:microsoft.com/office/officeart/2005/8/layout/hList9"/>
    <dgm:cxn modelId="{237F1815-5D8C-41E6-B766-72C6823E620A}" type="presParOf" srcId="{A2E8589D-7859-4106-851E-72BF67B04B9E}" destId="{C632713B-DC10-4BF8-AC90-6F5A89B4A3F4}" srcOrd="1" destOrd="0" presId="urn:microsoft.com/office/officeart/2005/8/layout/hList9"/>
    <dgm:cxn modelId="{E1484DB5-9F4B-4360-A897-5C9C3F63F5CA}" type="presParOf" srcId="{B6336FAA-3AF5-4692-A9DD-E37B118A02BB}" destId="{EB692CA1-1420-41FE-A315-2CBB1676EE67}" srcOrd="5" destOrd="0" presId="urn:microsoft.com/office/officeart/2005/8/layout/hList9"/>
    <dgm:cxn modelId="{B11AD17A-D95B-47D3-86B6-9CAFC32962A8}" type="presParOf" srcId="{EB692CA1-1420-41FE-A315-2CBB1676EE67}" destId="{637666E9-09C8-4655-95AA-79B8BB3A3643}" srcOrd="0" destOrd="0" presId="urn:microsoft.com/office/officeart/2005/8/layout/hList9"/>
    <dgm:cxn modelId="{729A066D-60B9-46D0-9B80-0A4F85617CFE}" type="presParOf" srcId="{EB692CA1-1420-41FE-A315-2CBB1676EE67}" destId="{AA85DF8F-59F2-4123-AFF5-7107B9C9F334}" srcOrd="1" destOrd="0" presId="urn:microsoft.com/office/officeart/2005/8/layout/hList9"/>
    <dgm:cxn modelId="{14E7AB2B-7DE6-46B6-BB0A-B36F890AEA31}" type="presParOf" srcId="{B6336FAA-3AF5-4692-A9DD-E37B118A02BB}" destId="{25F5D08A-CE80-4FE7-91B4-0CE413A62113}" srcOrd="6" destOrd="0" presId="urn:microsoft.com/office/officeart/2005/8/layout/hList9"/>
    <dgm:cxn modelId="{2ACDADFD-746B-430C-BCA9-D02885717AE8}" type="presParOf" srcId="{25F5D08A-CE80-4FE7-91B4-0CE413A62113}" destId="{7F7861AA-5F13-4A3F-80AF-E4C882F37EC3}" srcOrd="0" destOrd="0" presId="urn:microsoft.com/office/officeart/2005/8/layout/hList9"/>
    <dgm:cxn modelId="{808C023F-3CC1-47CC-98BF-6DA39580A188}" type="presParOf" srcId="{25F5D08A-CE80-4FE7-91B4-0CE413A62113}" destId="{35261E58-1EA9-440B-9352-C1EB4C31B7EB}" srcOrd="1" destOrd="0" presId="urn:microsoft.com/office/officeart/2005/8/layout/hList9"/>
    <dgm:cxn modelId="{6FCE1CD3-5BEB-4D31-84C4-42A74FCB9BC5}" type="presParOf" srcId="{C03EDF79-20F8-444B-937F-8E6723682095}" destId="{24A2C1CC-48B5-4331-8B5E-04BD7DA72856}" srcOrd="2" destOrd="0" presId="urn:microsoft.com/office/officeart/2005/8/layout/hList9"/>
    <dgm:cxn modelId="{C453EE5E-CBE8-4E18-8DA0-15D13733BABB}" type="presParOf" srcId="{C03EDF79-20F8-444B-937F-8E6723682095}" destId="{286FE83C-F031-4B9D-B0FD-8BF94FA8DCAE}" srcOrd="3" destOrd="0" presId="urn:microsoft.com/office/officeart/2005/8/layout/hList9"/>
    <dgm:cxn modelId="{A4EFF244-96FD-43B6-831F-5231A85E3546}" type="presParOf" srcId="{C03EDF79-20F8-444B-937F-8E6723682095}" destId="{79414652-6987-4DD7-AAF6-46C4FBBA73FA}" srcOrd="4" destOrd="0" presId="urn:microsoft.com/office/officeart/2005/8/layout/hList9"/>
    <dgm:cxn modelId="{1AE79571-68FD-461C-BAB7-078CDA104419}" type="presParOf" srcId="{C03EDF79-20F8-444B-937F-8E6723682095}" destId="{5E4BEAD3-FC51-4F10-81B2-467EDA846B38}" srcOrd="5" destOrd="0" presId="urn:microsoft.com/office/officeart/2005/8/layout/hList9"/>
    <dgm:cxn modelId="{3D0BD24E-4E84-4F82-BFF0-5E3D748E9BAE}" type="presParOf" srcId="{C03EDF79-20F8-444B-937F-8E6723682095}" destId="{0AD8604D-0038-40A4-A12F-AC3D1339DB58}" srcOrd="6" destOrd="0" presId="urn:microsoft.com/office/officeart/2005/8/layout/hList9"/>
    <dgm:cxn modelId="{AD4A6C8E-31A1-4A17-B41B-47F12284449B}" type="presParOf" srcId="{0AD8604D-0038-40A4-A12F-AC3D1339DB58}" destId="{01D76B20-DE81-47FE-A679-96A4E3A11480}" srcOrd="0" destOrd="0" presId="urn:microsoft.com/office/officeart/2005/8/layout/hList9"/>
    <dgm:cxn modelId="{B9142CF5-6078-4018-B296-EF30BA556AE3}" type="presParOf" srcId="{0AD8604D-0038-40A4-A12F-AC3D1339DB58}" destId="{29613BF5-6846-4A00-8556-C9B1ED515BE1}" srcOrd="1" destOrd="0" presId="urn:microsoft.com/office/officeart/2005/8/layout/hList9"/>
    <dgm:cxn modelId="{0F2AE860-3749-4855-B561-5BCF7E238C21}" type="presParOf" srcId="{29613BF5-6846-4A00-8556-C9B1ED515BE1}" destId="{7A7F162F-FF4A-4131-B326-7EF53104BFF0}" srcOrd="0" destOrd="0" presId="urn:microsoft.com/office/officeart/2005/8/layout/hList9"/>
    <dgm:cxn modelId="{A106C3E4-B8F9-4D7E-8F05-F1532068AA9D}" type="presParOf" srcId="{29613BF5-6846-4A00-8556-C9B1ED515BE1}" destId="{D45657C8-ED50-45A0-896E-74A976E715AF}" srcOrd="1" destOrd="0" presId="urn:microsoft.com/office/officeart/2005/8/layout/hList9"/>
    <dgm:cxn modelId="{FFD6983C-D36C-40D1-B5DB-817A3B07497F}" type="presParOf" srcId="{0AD8604D-0038-40A4-A12F-AC3D1339DB58}" destId="{3CF0FB29-B9F9-4B5E-9044-343996797E55}" srcOrd="2" destOrd="0" presId="urn:microsoft.com/office/officeart/2005/8/layout/hList9"/>
    <dgm:cxn modelId="{0D7B8794-FD50-499A-A011-17CA21412D89}" type="presParOf" srcId="{3CF0FB29-B9F9-4B5E-9044-343996797E55}" destId="{B441093F-29C8-4E21-98E2-DA5334998609}" srcOrd="0" destOrd="0" presId="urn:microsoft.com/office/officeart/2005/8/layout/hList9"/>
    <dgm:cxn modelId="{B70C1BCD-E8ED-4847-AC20-EB6D97369889}" type="presParOf" srcId="{3CF0FB29-B9F9-4B5E-9044-343996797E55}" destId="{627F5060-26CF-4470-85F4-087060EF8933}" srcOrd="1" destOrd="0" presId="urn:microsoft.com/office/officeart/2005/8/layout/hList9"/>
    <dgm:cxn modelId="{46CC10CA-60A4-4781-99EB-87F52967364C}" type="presParOf" srcId="{0AD8604D-0038-40A4-A12F-AC3D1339DB58}" destId="{C7B9B598-423E-4785-BA48-6BA0D36C70B2}" srcOrd="3" destOrd="0" presId="urn:microsoft.com/office/officeart/2005/8/layout/hList9"/>
    <dgm:cxn modelId="{84CA4322-351C-4470-B7C0-DCE8C2CE0FCA}" type="presParOf" srcId="{C7B9B598-423E-4785-BA48-6BA0D36C70B2}" destId="{B0AFAF23-24F7-4EA4-98AB-93FDC3B3DCAA}" srcOrd="0" destOrd="0" presId="urn:microsoft.com/office/officeart/2005/8/layout/hList9"/>
    <dgm:cxn modelId="{BAFEE254-8A5D-4A18-BDF8-A76FAF5CC421}" type="presParOf" srcId="{C7B9B598-423E-4785-BA48-6BA0D36C70B2}" destId="{B09E4BFE-C17B-4C01-8EED-D247B80EDD22}" srcOrd="1" destOrd="0" presId="urn:microsoft.com/office/officeart/2005/8/layout/hList9"/>
    <dgm:cxn modelId="{DF771BD6-423E-4E1A-B31F-626A5CC8CC5E}" type="presParOf" srcId="{C03EDF79-20F8-444B-937F-8E6723682095}" destId="{0EB290F3-C640-48C0-AB95-FAD3B0C84424}" srcOrd="7" destOrd="0" presId="urn:microsoft.com/office/officeart/2005/8/layout/hList9"/>
    <dgm:cxn modelId="{21182840-34F5-4CB1-A2A7-F8AAB2323F5C}" type="presParOf" srcId="{C03EDF79-20F8-444B-937F-8E6723682095}" destId="{6FEF7075-9C8D-4E27-904F-5440DDD79BF4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A86179-A959-4326-BE8B-EC541D1F0CB5}" type="doc">
      <dgm:prSet loTypeId="urn:microsoft.com/office/officeart/2005/8/layout/hierarchy4" loCatId="hierarchy" qsTypeId="urn:microsoft.com/office/officeart/2005/8/quickstyle/3d6" qsCatId="3D" csTypeId="urn:microsoft.com/office/officeart/2005/8/colors/accent6_5" csCatId="accent6" phldr="1"/>
      <dgm:spPr/>
      <dgm:t>
        <a:bodyPr/>
        <a:lstStyle/>
        <a:p>
          <a:endParaRPr lang="ru-RU"/>
        </a:p>
      </dgm:t>
    </dgm:pt>
    <dgm:pt modelId="{DFD9F85E-5EAC-4968-BF84-984837BBEA10}">
      <dgm:prSet phldrT="[Текст]"/>
      <dgm:spPr/>
      <dgm:t>
        <a:bodyPr/>
        <a:lstStyle/>
        <a:p>
          <a:r>
            <a:rPr lang="ru-RU" dirty="0" smtClean="0"/>
            <a:t>Уровни знаний</a:t>
          </a:r>
          <a:endParaRPr lang="ru-RU" dirty="0"/>
        </a:p>
      </dgm:t>
    </dgm:pt>
    <dgm:pt modelId="{1582105A-5B58-4689-A11E-71B41E14875F}" type="parTrans" cxnId="{E99FB188-5552-4623-8560-0BCBE2949FA2}">
      <dgm:prSet/>
      <dgm:spPr/>
      <dgm:t>
        <a:bodyPr/>
        <a:lstStyle/>
        <a:p>
          <a:endParaRPr lang="ru-RU"/>
        </a:p>
      </dgm:t>
    </dgm:pt>
    <dgm:pt modelId="{7F2F8793-8241-4CAF-8B8B-222DAA8FC355}" type="sibTrans" cxnId="{E99FB188-5552-4623-8560-0BCBE2949FA2}">
      <dgm:prSet/>
      <dgm:spPr/>
      <dgm:t>
        <a:bodyPr/>
        <a:lstStyle/>
        <a:p>
          <a:endParaRPr lang="ru-RU"/>
        </a:p>
      </dgm:t>
    </dgm:pt>
    <dgm:pt modelId="{EA48A1D9-7CF1-419F-983F-7C1424762692}">
      <dgm:prSet phldrT="[Текст]"/>
      <dgm:spPr/>
      <dgm:t>
        <a:bodyPr/>
        <a:lstStyle/>
        <a:p>
          <a:r>
            <a:rPr lang="ru-RU" dirty="0" smtClean="0"/>
            <a:t>естественный</a:t>
          </a:r>
          <a:endParaRPr lang="ru-RU" dirty="0"/>
        </a:p>
      </dgm:t>
    </dgm:pt>
    <dgm:pt modelId="{A7015777-F013-4B2C-AA8D-3D007DD95885}" type="parTrans" cxnId="{EAAB4121-895D-43F6-8018-BD2BAD63C377}">
      <dgm:prSet/>
      <dgm:spPr/>
      <dgm:t>
        <a:bodyPr/>
        <a:lstStyle/>
        <a:p>
          <a:endParaRPr lang="ru-RU"/>
        </a:p>
      </dgm:t>
    </dgm:pt>
    <dgm:pt modelId="{23BE08A7-A566-4DBD-AF03-7EB115C33B6F}" type="sibTrans" cxnId="{EAAB4121-895D-43F6-8018-BD2BAD63C377}">
      <dgm:prSet/>
      <dgm:spPr/>
      <dgm:t>
        <a:bodyPr/>
        <a:lstStyle/>
        <a:p>
          <a:endParaRPr lang="ru-RU"/>
        </a:p>
      </dgm:t>
    </dgm:pt>
    <dgm:pt modelId="{6202734A-FCF8-492D-B477-D34CC1FAC3A8}">
      <dgm:prSet phldrT="[Текст]"/>
      <dgm:spPr/>
      <dgm:t>
        <a:bodyPr/>
        <a:lstStyle/>
        <a:p>
          <a:r>
            <a:rPr lang="ru-RU" dirty="0" smtClean="0"/>
            <a:t>социально-нравственный</a:t>
          </a:r>
          <a:endParaRPr lang="ru-RU" dirty="0"/>
        </a:p>
      </dgm:t>
    </dgm:pt>
    <dgm:pt modelId="{F18F99EF-3987-4115-83D0-8AFE7761D55B}" type="parTrans" cxnId="{FF3757F9-7C81-45D5-B622-2334167FF00E}">
      <dgm:prSet/>
      <dgm:spPr/>
      <dgm:t>
        <a:bodyPr/>
        <a:lstStyle/>
        <a:p>
          <a:endParaRPr lang="ru-RU"/>
        </a:p>
      </dgm:t>
    </dgm:pt>
    <dgm:pt modelId="{9D01620C-1F16-42DA-8BA8-231DAC6D1B0D}" type="sibTrans" cxnId="{FF3757F9-7C81-45D5-B622-2334167FF00E}">
      <dgm:prSet/>
      <dgm:spPr/>
      <dgm:t>
        <a:bodyPr/>
        <a:lstStyle/>
        <a:p>
          <a:endParaRPr lang="ru-RU"/>
        </a:p>
      </dgm:t>
    </dgm:pt>
    <dgm:pt modelId="{350750AA-A109-444B-82E6-D7CDDC030A12}" type="pres">
      <dgm:prSet presAssocID="{1BA86179-A959-4326-BE8B-EC541D1F0CB5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uk-UA"/>
        </a:p>
      </dgm:t>
    </dgm:pt>
    <dgm:pt modelId="{07096D1C-1847-475F-A4A5-6BFE1BFE1D8C}" type="pres">
      <dgm:prSet presAssocID="{DFD9F85E-5EAC-4968-BF84-984837BBEA10}" presName="vertOne" presStyleCnt="0"/>
      <dgm:spPr/>
    </dgm:pt>
    <dgm:pt modelId="{E1A09531-AF1A-40C4-868D-F375F99D98D6}" type="pres">
      <dgm:prSet presAssocID="{DFD9F85E-5EAC-4968-BF84-984837BBEA10}" presName="txOne" presStyleLbl="node0" presStyleIdx="0" presStyleCnt="1" custLinFactNeighborX="-410" custLinFactNeighborY="-5733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47191C1-4903-43A0-9A20-D44BFA451FCD}" type="pres">
      <dgm:prSet presAssocID="{DFD9F85E-5EAC-4968-BF84-984837BBEA10}" presName="parTransOne" presStyleCnt="0"/>
      <dgm:spPr/>
    </dgm:pt>
    <dgm:pt modelId="{D734B2E6-0A79-41DB-AB26-19DEEF957FF7}" type="pres">
      <dgm:prSet presAssocID="{DFD9F85E-5EAC-4968-BF84-984837BBEA10}" presName="horzOne" presStyleCnt="0"/>
      <dgm:spPr/>
    </dgm:pt>
    <dgm:pt modelId="{D7AB0BF9-2C97-4172-80CC-9052236D971D}" type="pres">
      <dgm:prSet presAssocID="{EA48A1D9-7CF1-419F-983F-7C1424762692}" presName="vertTwo" presStyleCnt="0"/>
      <dgm:spPr/>
    </dgm:pt>
    <dgm:pt modelId="{804C83BC-FC8F-408B-B420-001F06197566}" type="pres">
      <dgm:prSet presAssocID="{EA48A1D9-7CF1-419F-983F-7C1424762692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D712ED0-D54A-4E3F-8549-3D9B9D49FA83}" type="pres">
      <dgm:prSet presAssocID="{EA48A1D9-7CF1-419F-983F-7C1424762692}" presName="horzTwo" presStyleCnt="0"/>
      <dgm:spPr/>
    </dgm:pt>
    <dgm:pt modelId="{6A5AE4C2-6BAB-4653-B0C8-BB2196D7DE0C}" type="pres">
      <dgm:prSet presAssocID="{23BE08A7-A566-4DBD-AF03-7EB115C33B6F}" presName="sibSpaceTwo" presStyleCnt="0"/>
      <dgm:spPr/>
    </dgm:pt>
    <dgm:pt modelId="{FDDBEB08-1895-44D6-A55D-6EF93A6237C7}" type="pres">
      <dgm:prSet presAssocID="{6202734A-FCF8-492D-B477-D34CC1FAC3A8}" presName="vertTwo" presStyleCnt="0"/>
      <dgm:spPr/>
    </dgm:pt>
    <dgm:pt modelId="{A558E71E-DCA3-4CDD-B371-BF27A0A4E5B6}" type="pres">
      <dgm:prSet presAssocID="{6202734A-FCF8-492D-B477-D34CC1FAC3A8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E71421F-0FB1-47E2-9F14-4E60246CE214}" type="pres">
      <dgm:prSet presAssocID="{6202734A-FCF8-492D-B477-D34CC1FAC3A8}" presName="horzTwo" presStyleCnt="0"/>
      <dgm:spPr/>
    </dgm:pt>
  </dgm:ptLst>
  <dgm:cxnLst>
    <dgm:cxn modelId="{2AC58FC7-2286-4E11-A100-EB72F4D85123}" type="presOf" srcId="{EA48A1D9-7CF1-419F-983F-7C1424762692}" destId="{804C83BC-FC8F-408B-B420-001F06197566}" srcOrd="0" destOrd="0" presId="urn:microsoft.com/office/officeart/2005/8/layout/hierarchy4"/>
    <dgm:cxn modelId="{41459797-7F37-4760-8ACC-1E9F12CDDB8A}" type="presOf" srcId="{DFD9F85E-5EAC-4968-BF84-984837BBEA10}" destId="{E1A09531-AF1A-40C4-868D-F375F99D98D6}" srcOrd="0" destOrd="0" presId="urn:microsoft.com/office/officeart/2005/8/layout/hierarchy4"/>
    <dgm:cxn modelId="{EAAB4121-895D-43F6-8018-BD2BAD63C377}" srcId="{DFD9F85E-5EAC-4968-BF84-984837BBEA10}" destId="{EA48A1D9-7CF1-419F-983F-7C1424762692}" srcOrd="0" destOrd="0" parTransId="{A7015777-F013-4B2C-AA8D-3D007DD95885}" sibTransId="{23BE08A7-A566-4DBD-AF03-7EB115C33B6F}"/>
    <dgm:cxn modelId="{9FDF5B13-C7FB-46D0-BF1E-BBA210F029E8}" type="presOf" srcId="{1BA86179-A959-4326-BE8B-EC541D1F0CB5}" destId="{350750AA-A109-444B-82E6-D7CDDC030A12}" srcOrd="0" destOrd="0" presId="urn:microsoft.com/office/officeart/2005/8/layout/hierarchy4"/>
    <dgm:cxn modelId="{FF3757F9-7C81-45D5-B622-2334167FF00E}" srcId="{DFD9F85E-5EAC-4968-BF84-984837BBEA10}" destId="{6202734A-FCF8-492D-B477-D34CC1FAC3A8}" srcOrd="1" destOrd="0" parTransId="{F18F99EF-3987-4115-83D0-8AFE7761D55B}" sibTransId="{9D01620C-1F16-42DA-8BA8-231DAC6D1B0D}"/>
    <dgm:cxn modelId="{32378F30-7C0A-4E41-8B2F-9565A1FD03BF}" type="presOf" srcId="{6202734A-FCF8-492D-B477-D34CC1FAC3A8}" destId="{A558E71E-DCA3-4CDD-B371-BF27A0A4E5B6}" srcOrd="0" destOrd="0" presId="urn:microsoft.com/office/officeart/2005/8/layout/hierarchy4"/>
    <dgm:cxn modelId="{E99FB188-5552-4623-8560-0BCBE2949FA2}" srcId="{1BA86179-A959-4326-BE8B-EC541D1F0CB5}" destId="{DFD9F85E-5EAC-4968-BF84-984837BBEA10}" srcOrd="0" destOrd="0" parTransId="{1582105A-5B58-4689-A11E-71B41E14875F}" sibTransId="{7F2F8793-8241-4CAF-8B8B-222DAA8FC355}"/>
    <dgm:cxn modelId="{6FD27CE4-6CF5-4C2F-A5C2-F8708ECD2DE5}" type="presParOf" srcId="{350750AA-A109-444B-82E6-D7CDDC030A12}" destId="{07096D1C-1847-475F-A4A5-6BFE1BFE1D8C}" srcOrd="0" destOrd="0" presId="urn:microsoft.com/office/officeart/2005/8/layout/hierarchy4"/>
    <dgm:cxn modelId="{9B5B307B-1025-4342-B65F-DD98B8F0D77B}" type="presParOf" srcId="{07096D1C-1847-475F-A4A5-6BFE1BFE1D8C}" destId="{E1A09531-AF1A-40C4-868D-F375F99D98D6}" srcOrd="0" destOrd="0" presId="urn:microsoft.com/office/officeart/2005/8/layout/hierarchy4"/>
    <dgm:cxn modelId="{9EF738A8-C710-4625-9CA2-717F1A4A1CCF}" type="presParOf" srcId="{07096D1C-1847-475F-A4A5-6BFE1BFE1D8C}" destId="{F47191C1-4903-43A0-9A20-D44BFA451FCD}" srcOrd="1" destOrd="0" presId="urn:microsoft.com/office/officeart/2005/8/layout/hierarchy4"/>
    <dgm:cxn modelId="{699BDABE-1880-4BEC-9A6F-407D2FA773CA}" type="presParOf" srcId="{07096D1C-1847-475F-A4A5-6BFE1BFE1D8C}" destId="{D734B2E6-0A79-41DB-AB26-19DEEF957FF7}" srcOrd="2" destOrd="0" presId="urn:microsoft.com/office/officeart/2005/8/layout/hierarchy4"/>
    <dgm:cxn modelId="{C63012F2-E309-4DB8-B2AB-DAFF30BB7B3D}" type="presParOf" srcId="{D734B2E6-0A79-41DB-AB26-19DEEF957FF7}" destId="{D7AB0BF9-2C97-4172-80CC-9052236D971D}" srcOrd="0" destOrd="0" presId="urn:microsoft.com/office/officeart/2005/8/layout/hierarchy4"/>
    <dgm:cxn modelId="{B665E0FF-8B7F-48C4-8A89-843F6E5D04F8}" type="presParOf" srcId="{D7AB0BF9-2C97-4172-80CC-9052236D971D}" destId="{804C83BC-FC8F-408B-B420-001F06197566}" srcOrd="0" destOrd="0" presId="urn:microsoft.com/office/officeart/2005/8/layout/hierarchy4"/>
    <dgm:cxn modelId="{AFE288A7-4E07-41D1-AD58-31E995DF7D0C}" type="presParOf" srcId="{D7AB0BF9-2C97-4172-80CC-9052236D971D}" destId="{7D712ED0-D54A-4E3F-8549-3D9B9D49FA83}" srcOrd="1" destOrd="0" presId="urn:microsoft.com/office/officeart/2005/8/layout/hierarchy4"/>
    <dgm:cxn modelId="{055DE955-28DB-4E93-BB8C-08E970BFC0E0}" type="presParOf" srcId="{D734B2E6-0A79-41DB-AB26-19DEEF957FF7}" destId="{6A5AE4C2-6BAB-4653-B0C8-BB2196D7DE0C}" srcOrd="1" destOrd="0" presId="urn:microsoft.com/office/officeart/2005/8/layout/hierarchy4"/>
    <dgm:cxn modelId="{7A00857D-7801-4C7F-9475-7DD2A8ECD4EA}" type="presParOf" srcId="{D734B2E6-0A79-41DB-AB26-19DEEF957FF7}" destId="{FDDBEB08-1895-44D6-A55D-6EF93A6237C7}" srcOrd="2" destOrd="0" presId="urn:microsoft.com/office/officeart/2005/8/layout/hierarchy4"/>
    <dgm:cxn modelId="{07EF4BEF-272C-43F8-85C0-CAB509D92F63}" type="presParOf" srcId="{FDDBEB08-1895-44D6-A55D-6EF93A6237C7}" destId="{A558E71E-DCA3-4CDD-B371-BF27A0A4E5B6}" srcOrd="0" destOrd="0" presId="urn:microsoft.com/office/officeart/2005/8/layout/hierarchy4"/>
    <dgm:cxn modelId="{F9B60E7B-7E3B-4790-A450-8A09968519D1}" type="presParOf" srcId="{FDDBEB08-1895-44D6-A55D-6EF93A6237C7}" destId="{6E71421F-0FB1-47E2-9F14-4E60246CE214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8FA7A76-38B1-4CF1-9CFA-A3EF3BF8EEB3}">
      <dsp:nvSpPr>
        <dsp:cNvPr id="0" name=""/>
        <dsp:cNvSpPr/>
      </dsp:nvSpPr>
      <dsp:spPr>
        <a:xfrm>
          <a:off x="1008105" y="28803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Протагор </a:t>
          </a:r>
          <a:r>
            <a:rPr lang="ru-RU" sz="1600" kern="1200" dirty="0" err="1" smtClean="0"/>
            <a:t>Абдерский</a:t>
          </a:r>
          <a:endParaRPr lang="ru-RU" sz="1600" kern="1200" dirty="0"/>
        </a:p>
      </dsp:txBody>
      <dsp:txXfrm>
        <a:off x="1320533" y="288034"/>
        <a:ext cx="1640247" cy="798094"/>
      </dsp:txXfrm>
    </dsp:sp>
    <dsp:sp modelId="{417164EC-1DA1-4299-84AF-084EFE1924CA}">
      <dsp:nvSpPr>
        <dsp:cNvPr id="0" name=""/>
        <dsp:cNvSpPr/>
      </dsp:nvSpPr>
      <dsp:spPr>
        <a:xfrm>
          <a:off x="1008105" y="108612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Гиппий</a:t>
          </a:r>
          <a:r>
            <a:rPr lang="ru-RU" sz="1600" kern="1200" dirty="0" smtClean="0"/>
            <a:t> из Элиды</a:t>
          </a:r>
          <a:endParaRPr lang="ru-RU" sz="1600" kern="1200" dirty="0"/>
        </a:p>
      </dsp:txBody>
      <dsp:txXfrm>
        <a:off x="1320533" y="1086129"/>
        <a:ext cx="1640247" cy="798094"/>
      </dsp:txXfrm>
    </dsp:sp>
    <dsp:sp modelId="{9FCEC2A1-7D4B-42BE-8829-3ECD50682D84}">
      <dsp:nvSpPr>
        <dsp:cNvPr id="0" name=""/>
        <dsp:cNvSpPr/>
      </dsp:nvSpPr>
      <dsp:spPr>
        <a:xfrm>
          <a:off x="1008105" y="188422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Горгий </a:t>
          </a:r>
          <a:r>
            <a:rPr lang="ru-RU" sz="1600" kern="1200" dirty="0" smtClean="0"/>
            <a:t>из </a:t>
          </a:r>
          <a:r>
            <a:rPr lang="ru-RU" sz="1600" kern="1200" smtClean="0"/>
            <a:t>Леонтин</a:t>
          </a:r>
          <a:endParaRPr lang="ru-RU" sz="1600" kern="1200" dirty="0"/>
        </a:p>
      </dsp:txBody>
      <dsp:txXfrm>
        <a:off x="1320533" y="1884224"/>
        <a:ext cx="1640247" cy="798094"/>
      </dsp:txXfrm>
    </dsp:sp>
    <dsp:sp modelId="{3218969F-67B5-4931-83CB-D8260B8C55F0}">
      <dsp:nvSpPr>
        <dsp:cNvPr id="0" name=""/>
        <dsp:cNvSpPr/>
      </dsp:nvSpPr>
      <dsp:spPr>
        <a:xfrm>
          <a:off x="1008105" y="268231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 </a:t>
          </a:r>
          <a:r>
            <a:rPr lang="ru-RU" sz="1600" kern="1200" dirty="0" err="1" smtClean="0"/>
            <a:t>Продик</a:t>
          </a:r>
          <a:r>
            <a:rPr lang="ru-RU" sz="1600" kern="1200" dirty="0" smtClean="0"/>
            <a:t> </a:t>
          </a:r>
          <a:r>
            <a:rPr lang="ru-RU" sz="1600" kern="1200" dirty="0" err="1" smtClean="0"/>
            <a:t>Кеосский</a:t>
          </a:r>
          <a:endParaRPr lang="ru-RU" sz="1600" kern="1200" dirty="0"/>
        </a:p>
      </dsp:txBody>
      <dsp:txXfrm>
        <a:off x="1320533" y="2682319"/>
        <a:ext cx="1640247" cy="798094"/>
      </dsp:txXfrm>
    </dsp:sp>
    <dsp:sp modelId="{637666E9-09C8-4655-95AA-79B8BB3A3643}">
      <dsp:nvSpPr>
        <dsp:cNvPr id="0" name=""/>
        <dsp:cNvSpPr/>
      </dsp:nvSpPr>
      <dsp:spPr>
        <a:xfrm>
          <a:off x="1008105" y="348041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нтифонт</a:t>
          </a:r>
          <a:endParaRPr lang="ru-RU" sz="1600" kern="1200" dirty="0"/>
        </a:p>
      </dsp:txBody>
      <dsp:txXfrm>
        <a:off x="1320533" y="3480414"/>
        <a:ext cx="1640247" cy="798094"/>
      </dsp:txXfrm>
    </dsp:sp>
    <dsp:sp modelId="{7F7861AA-5F13-4A3F-80AF-E4C882F37EC3}">
      <dsp:nvSpPr>
        <dsp:cNvPr id="0" name=""/>
        <dsp:cNvSpPr/>
      </dsp:nvSpPr>
      <dsp:spPr>
        <a:xfrm>
          <a:off x="1008105" y="4278508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Критий </a:t>
          </a:r>
          <a:r>
            <a:rPr lang="ru-RU" sz="1600" kern="1200" dirty="0" smtClean="0"/>
            <a:t>Афинский</a:t>
          </a:r>
          <a:endParaRPr lang="ru-RU" sz="1600" kern="1200" dirty="0"/>
        </a:p>
      </dsp:txBody>
      <dsp:txXfrm>
        <a:off x="1320533" y="4278508"/>
        <a:ext cx="1640247" cy="798094"/>
      </dsp:txXfrm>
    </dsp:sp>
    <dsp:sp modelId="{286FE83C-F031-4B9D-B0FD-8BF94FA8DCAE}">
      <dsp:nvSpPr>
        <dsp:cNvPr id="0" name=""/>
        <dsp:cNvSpPr/>
      </dsp:nvSpPr>
      <dsp:spPr>
        <a:xfrm>
          <a:off x="87721" y="489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СТАРШИЕ СОФИСТЫ</a:t>
          </a:r>
          <a:endParaRPr lang="ru-RU" sz="1100" kern="1200" dirty="0"/>
        </a:p>
      </dsp:txBody>
      <dsp:txXfrm>
        <a:off x="248995" y="136036"/>
        <a:ext cx="778703" cy="654480"/>
      </dsp:txXfrm>
    </dsp:sp>
    <dsp:sp modelId="{7A7F162F-FF4A-4131-B326-7EF53104BFF0}">
      <dsp:nvSpPr>
        <dsp:cNvPr id="0" name=""/>
        <dsp:cNvSpPr/>
      </dsp:nvSpPr>
      <dsp:spPr>
        <a:xfrm>
          <a:off x="4634550" y="32153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Ликофрон</a:t>
          </a:r>
          <a:endParaRPr lang="ru-RU" sz="1600" kern="1200" dirty="0"/>
        </a:p>
      </dsp:txBody>
      <dsp:txXfrm>
        <a:off x="4946979" y="321530"/>
        <a:ext cx="1640247" cy="798094"/>
      </dsp:txXfrm>
    </dsp:sp>
    <dsp:sp modelId="{B441093F-29C8-4E21-98E2-DA5334998609}">
      <dsp:nvSpPr>
        <dsp:cNvPr id="0" name=""/>
        <dsp:cNvSpPr/>
      </dsp:nvSpPr>
      <dsp:spPr>
        <a:xfrm>
          <a:off x="4634550" y="1119625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лкидамант</a:t>
          </a:r>
          <a:endParaRPr lang="ru-RU" sz="1600" kern="1200" dirty="0"/>
        </a:p>
      </dsp:txBody>
      <dsp:txXfrm>
        <a:off x="4946979" y="1119625"/>
        <a:ext cx="1640247" cy="798094"/>
      </dsp:txXfrm>
    </dsp:sp>
    <dsp:sp modelId="{B0AFAF23-24F7-4EA4-98AB-93FDC3B3DCAA}">
      <dsp:nvSpPr>
        <dsp:cNvPr id="0" name=""/>
        <dsp:cNvSpPr/>
      </dsp:nvSpPr>
      <dsp:spPr>
        <a:xfrm>
          <a:off x="4634550" y="191772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Фрасимах</a:t>
          </a:r>
          <a:endParaRPr lang="ru-RU" sz="1600" kern="1200" dirty="0"/>
        </a:p>
      </dsp:txBody>
      <dsp:txXfrm>
        <a:off x="4946979" y="1917720"/>
        <a:ext cx="1640247" cy="798094"/>
      </dsp:txXfrm>
    </dsp:sp>
    <dsp:sp modelId="{6FEF7075-9C8D-4E27-904F-5440DDD79BF4}">
      <dsp:nvSpPr>
        <dsp:cNvPr id="0" name=""/>
        <dsp:cNvSpPr/>
      </dsp:nvSpPr>
      <dsp:spPr>
        <a:xfrm>
          <a:off x="3744408" y="0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МЛАДШИЕ СОФИСТЫ</a:t>
          </a:r>
          <a:endParaRPr lang="ru-RU" sz="1100" kern="1200" dirty="0"/>
        </a:p>
      </dsp:txBody>
      <dsp:txXfrm>
        <a:off x="3905682" y="135547"/>
        <a:ext cx="778703" cy="65448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1A09531-AF1A-40C4-868D-F375F99D98D6}">
      <dsp:nvSpPr>
        <dsp:cNvPr id="0" name=""/>
        <dsp:cNvSpPr/>
      </dsp:nvSpPr>
      <dsp:spPr>
        <a:xfrm>
          <a:off x="0" y="0"/>
          <a:ext cx="6547890" cy="1066618"/>
        </a:xfrm>
        <a:prstGeom prst="roundRect">
          <a:avLst>
            <a:gd name="adj" fmla="val 10000"/>
          </a:avLst>
        </a:prstGeom>
        <a:solidFill>
          <a:schemeClr val="accent6">
            <a:alpha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9070" tIns="179070" rIns="179070" bIns="179070" numCol="1" spcCol="1270" anchor="ctr" anchorCtr="0">
          <a:noAutofit/>
        </a:bodyPr>
        <a:lstStyle/>
        <a:p>
          <a:pPr lvl="0" algn="ctr" defTabSz="2089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700" kern="1200" dirty="0" smtClean="0"/>
            <a:t>Уровни знаний</a:t>
          </a:r>
          <a:endParaRPr lang="ru-RU" sz="4700" kern="1200" dirty="0"/>
        </a:p>
      </dsp:txBody>
      <dsp:txXfrm>
        <a:off x="31240" y="31240"/>
        <a:ext cx="6485410" cy="1004138"/>
      </dsp:txXfrm>
    </dsp:sp>
    <dsp:sp modelId="{804C83BC-FC8F-408B-B420-001F06197566}">
      <dsp:nvSpPr>
        <dsp:cNvPr id="0" name=""/>
        <dsp:cNvSpPr/>
      </dsp:nvSpPr>
      <dsp:spPr>
        <a:xfrm>
          <a:off x="2418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естественный</a:t>
          </a:r>
          <a:endParaRPr lang="ru-RU" sz="2900" kern="1200" dirty="0"/>
        </a:p>
      </dsp:txBody>
      <dsp:txXfrm>
        <a:off x="33658" y="1268297"/>
        <a:ext cx="3079501" cy="1004138"/>
      </dsp:txXfrm>
    </dsp:sp>
    <dsp:sp modelId="{A558E71E-DCA3-4CDD-B371-BF27A0A4E5B6}">
      <dsp:nvSpPr>
        <dsp:cNvPr id="0" name=""/>
        <dsp:cNvSpPr/>
      </dsp:nvSpPr>
      <dsp:spPr>
        <a:xfrm>
          <a:off x="3408327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социально-нравственный</a:t>
          </a:r>
          <a:endParaRPr lang="ru-RU" sz="2900" kern="1200" dirty="0"/>
        </a:p>
      </dsp:txBody>
      <dsp:txXfrm>
        <a:off x="3439567" y="1268297"/>
        <a:ext cx="3079501" cy="10041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58C3F0-45E7-4854-B2A5-EE95B9E9F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студентка 13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Э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D148F2-FB11-4953-8FEE-74B42D924C4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Дильса - Кр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A9D550-17E5-49FC-91B7-2BF9A7A341F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39A89B-C5AD-4514-881D-C4FE9444678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деи древнегре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- мера всех ве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62F6FC-A953-4FBE-9CBA-09BE5817B0C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 и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53C79E-BAEB-4012-9B11-5BA1972822D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ческий релятивизм древних соф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2DABA7-4EFA-4A19-9379-C7500422247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Периодизация и основные представители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Источники и фрагменты класси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сновные идеи древнегре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1. Софисты и 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2. Этический релятивизм древних соф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732D43-1118-443F-9DDA-28B0B72E130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́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2-ой пол. V — 1-й пол. IV в. до н. 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термин «софист» служил для обозначения искусного или мудр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024FB4-DFB3-41E6-9B4A-93BE05A162E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древнекитайской школы имён (мин цз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н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нсунь 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2E0E08-DF03-4741-9C7C-B3FC90EF2DD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зация и основные представители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0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3CB7EB-9ED7-4898-807F-9E187C46756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199" strike="noStrike">
                <a:solidFill>
                  <a:srgbClr val="f3f3f3"/>
                </a:solidFill>
                <a:latin typeface="Arial"/>
              </a:rPr>
              <a:t>Классическая или древняя (древнегреческая) софист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799B1E-A2C8-4110-B812-FFBED3CDF57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Вторая или нова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иан Самоса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авий Филострат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8D8EDB-8E97-48A6-BA1D-622E14D1CE8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bfbfb"/>
                </a:solidFill>
                <a:latin typeface="Arial"/>
              </a:rPr>
              <a:t>Третья или поздня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ан От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35E763-377B-4B79-B72A-138C341586A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гменты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-менее полном виде сохран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воякие речи» анонимного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61D5F5-D6BC-4611-970A-95CE922B918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CC8-2C5E-49D6-B1E0-FDF9632F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AC8-72E3-4E82-A8BF-3B6939CC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601-E768-4515-AEE2-C6107E75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DF3-E7A6-4900-BE34-B259E2BC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2CD4-5A3D-4DEB-8ED4-BDA07952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14C6-F215-4538-A78E-EB1A6296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DBBC-2465-4F35-AB81-8E40B75C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8E5F-A628-4698-81C2-958DD4F5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6A3C-CC9C-4C55-B622-9903411D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2478-636F-49F3-BDAD-105172AD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C5C4-0E5F-465D-9A0E-E800866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949-3012-4933-88FE-349DB446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89FE-970F-4F02-AD77-919FCEE2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7A85-ACC7-4E7C-9900-A5F5E84E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24BC-3B8C-4865-85D8-C16D5626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9534-8EEC-41A4-8AE5-09E8D2D1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E9A2-7B5A-41FF-847C-7CED2492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4CD-03C1-446F-862A-D2A880C4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857-1686-42F0-9D75-6AD44F21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0E6-CA14-4429-ADF1-28FC5DB3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B8E-42C3-44D2-B96D-880ADBCD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209-549B-4971-86B7-9A0074A7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64B-9A0C-44C7-BCD5-CDB9C9AC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153-4A46-46E2-AFEB-FE88E285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jnsch\Desktop\O14ThemesHandoffs\WorkingFiles\FinalHanoff\Sketchbook\Cover.jpg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316800" y="3600720"/>
            <a:ext cx="3103560" cy="3171960"/>
            <a:chOff x="316800" y="3600720"/>
            <a:chExt cx="3103560" cy="3171960"/>
          </a:xfrm>
        </p:grpSpPr>
        <p:sp>
          <p:nvSpPr>
            <p:cNvPr id="3" name="Freeform 11"/>
            <p:cNvSpPr/>
            <p:nvPr/>
          </p:nvSpPr>
          <p:spPr>
            <a:xfrm rot="20533800">
              <a:off x="632160" y="4015440"/>
              <a:ext cx="2415960" cy="244656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2446560"/>
                <a:gd name="textAreaBottom" fmla="*/ 2446920 h 2446560"/>
              </a:gdLst>
              <a:ahLst/>
              <a:rect l="textAreaLeft" t="textAreaTop" r="textAreaRight" b="textAreaBottom"/>
              <a:pathLst>
                <a:path w="2328384" h="2344146">
                  <a:moveTo>
                    <a:pt x="94077" y="0"/>
                  </a:moveTo>
                  <a:lnTo>
                    <a:pt x="0" y="2344146"/>
                  </a:lnTo>
                  <a:lnTo>
                    <a:pt x="2328384" y="2250067"/>
                  </a:lnTo>
                  <a:lnTo>
                    <a:pt x="940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fff">
                    <a:alpha val="0"/>
                  </a:srgbClr>
                </a:gs>
                <a:gs pos="100000">
                  <a:srgbClr val="000100">
                    <a:alpha val="31372"/>
                  </a:srgbClr>
                </a:gs>
              </a:gsLst>
              <a:lin ang="8100000"/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  <a:softEdge rad="3816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 rot="20533800">
              <a:off x="699120" y="3910320"/>
              <a:ext cx="2408760" cy="242316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pic>
          <p:nvPicPr>
            <p:cNvPr id="5" name="Picture 13" descr="stickie-shadow.png"/>
            <p:cNvPicPr/>
            <p:nvPr/>
          </p:nvPicPr>
          <p:blipFill>
            <a:blip r:embed="rId5"/>
            <a:stretch/>
          </p:blipFill>
          <p:spPr>
            <a:xfrm rot="20533800">
              <a:off x="479520" y="4271400"/>
              <a:ext cx="4197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stickie-shadow.png"/>
            <p:cNvPicPr/>
            <p:nvPr/>
          </p:nvPicPr>
          <p:blipFill>
            <a:blip r:embed="rId6"/>
            <a:stretch/>
          </p:blipFill>
          <p:spPr>
            <a:xfrm rot="15133800">
              <a:off x="1089720" y="6101280"/>
              <a:ext cx="4219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6240" y="2587680"/>
            <a:ext cx="5772600" cy="38505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 rot="20520000">
            <a:off x="963000" y="5061240"/>
            <a:ext cx="196812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 rot="20520000">
            <a:off x="647280" y="4135320"/>
            <a:ext cx="2085480" cy="83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 rot="20520000">
            <a:off x="1981080" y="5509800"/>
            <a:ext cx="738000" cy="42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31FE50-57EE-4C5E-925E-00C9793AC566}" type="slidenum">
              <a: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3640" cy="329760"/>
          </a:xfrm>
          <a:prstGeom prst="rect">
            <a:avLst/>
          </a:prstGeom>
          <a:ln w="0">
            <a:noFill/>
          </a:ln>
          <a:effectLst>
            <a:outerShdw algn="t" blurRad="63360" dir="5400000" dist="38160" rotWithShape="0">
              <a:srgbClr val="000000">
                <a:alpha val="59000"/>
              </a:srgbClr>
            </a:outerShdw>
          </a:effectLst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64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Второй уровень</a:t>
            </a:r>
            <a:endParaRPr b="0" lang="ru-RU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Третий уровень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4" marL="1417320" indent="-182880">
              <a:lnSpc>
                <a:spcPct val="100000"/>
              </a:lnSpc>
              <a:spcBef>
                <a:spcPts val="281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5116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1488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08080"/>
                </a:solidFill>
                <a:latin typeface="Rage Ital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58E890-7F4E-47F6-9936-B4ABF7F3DF4F}" type="slidenum"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Софи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 rot="360000">
            <a:off x="3200400" y="4766760"/>
            <a:ext cx="4836240" cy="10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Выполнила студентка 1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ФЭ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640" y="-31536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Труд Дильса - Кранц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83640" y="1340640"/>
            <a:ext cx="2880000" cy="469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4500000" y="1329120"/>
            <a:ext cx="3457800" cy="4761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858920" y="6042240"/>
            <a:ext cx="288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ерман Александр Ди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539640" y="1465560"/>
            <a:ext cx="3312000" cy="4268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4"/>
          <a:stretch/>
        </p:blipFill>
        <p:spPr>
          <a:xfrm>
            <a:off x="4500000" y="1523880"/>
            <a:ext cx="3384000" cy="4209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4031640" y="6042240"/>
            <a:ext cx="439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лександр Осипович Маков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7"/>
          <p:cNvSpPr/>
          <p:nvPr/>
        </p:nvSpPr>
        <p:spPr>
          <a:xfrm>
            <a:off x="5648040" y="15620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611640" y="15566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Источники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2793600" cy="38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648040" y="1556640"/>
            <a:ext cx="2793600" cy="3720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3636000" y="3412440"/>
            <a:ext cx="1800000" cy="7362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Филострат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3603240" y="2421000"/>
            <a:ext cx="1800000" cy="64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91120" y="5400720"/>
            <a:ext cx="103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ла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504120" y="536400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2400" y="0"/>
            <a:ext cx="8772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2e900"/>
                </a:solidFill>
                <a:latin typeface="Cambria"/>
              </a:rPr>
              <a:t>Основные идеи древнегре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840" y="2061000"/>
            <a:ext cx="5605560" cy="598320"/>
          </a:xfrm>
          <a:prstGeom prst="rect">
            <a:avLst/>
          </a:prstGeom>
          <a:solidFill>
            <a:srgbClr val="302f00"/>
          </a:solidFill>
          <a:ln w="19080">
            <a:solidFill>
              <a:srgbClr val="4b6c8c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Человек - мера всех вещей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Объект 2"/>
          <p:cNvSpPr/>
          <p:nvPr/>
        </p:nvSpPr>
        <p:spPr>
          <a:xfrm>
            <a:off x="302400" y="2803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Моральные нормы произволь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2"/>
          <p:cNvSpPr/>
          <p:nvPr/>
        </p:nvSpPr>
        <p:spPr>
          <a:xfrm>
            <a:off x="302400" y="3595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Все в мире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156000" y="1556640"/>
            <a:ext cx="2592000" cy="345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6051960" y="5026320"/>
            <a:ext cx="296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ртрет Сократа работы Лисиппа, хранящийся в Лув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123960" y="1556640"/>
            <a:ext cx="2624040" cy="4320000"/>
          </a:xfrm>
          <a:prstGeom prst="rect">
            <a:avLst/>
          </a:prstGeom>
          <a:noFill/>
          <a:ln>
            <a:solidFill>
              <a:srgbClr val="fffee6">
                <a:lumMod val="50000"/>
              </a:srgbClr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6"/>
          <p:cNvSpPr/>
          <p:nvPr/>
        </p:nvSpPr>
        <p:spPr>
          <a:xfrm>
            <a:off x="827640" y="1628640"/>
            <a:ext cx="2857320" cy="454536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8720" y="25812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сты и религия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548960" y="1700640"/>
            <a:ext cx="4050720" cy="1800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В эпоху Перикла софисты, Сократ, которого можно назвать олицетворением философии, искусство и риторика вытеснили рели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827640" y="1628640"/>
            <a:ext cx="2857320" cy="40636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1413720" y="5805360"/>
            <a:ext cx="15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860000" y="4437000"/>
            <a:ext cx="3323160" cy="155268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Взгляды на религ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те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6"/>
          <p:cNvSpPr/>
          <p:nvPr/>
        </p:nvSpPr>
        <p:spPr>
          <a:xfrm>
            <a:off x="597600" y="1351080"/>
            <a:ext cx="3528000" cy="432936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628560" y="1340640"/>
            <a:ext cx="34797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Объект 2"/>
          <p:cNvSpPr/>
          <p:nvPr/>
        </p:nvSpPr>
        <p:spPr>
          <a:xfrm>
            <a:off x="251640" y="3933000"/>
            <a:ext cx="7467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648440" y="5311800"/>
            <a:ext cx="125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559040" y="836640"/>
            <a:ext cx="4050720" cy="1800000"/>
          </a:xfrm>
          <a:prstGeom prst="rect">
            <a:avLst/>
          </a:prstGeom>
          <a:solidFill>
            <a:srgbClr val="6b9bc7"/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«О богах я не могу знать ни того, что они существуют, ни того, что их нет. Ибо многое препятствует узнать (это): и неясность (вопроса) и краткость человеческой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917240" y="3933000"/>
            <a:ext cx="333504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mbria"/>
              </a:rPr>
              <a:t>был агностиком и приобрел славу безбо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0280" y="-13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Этический релятивизм древних софистов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238809456"/>
              </p:ext>
            </p:extLst>
          </p:nvPr>
        </p:nvGraphicFramePr>
        <p:xfrm>
          <a:off x="1763640" y="1124640"/>
          <a:ext cx="6552360" cy="230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Объект 2"/>
          <p:cNvSpPr/>
          <p:nvPr/>
        </p:nvSpPr>
        <p:spPr>
          <a:xfrm>
            <a:off x="4541760" y="3350880"/>
            <a:ext cx="4464000" cy="324000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rmAutofit fontScale="85000"/>
          </a:bodyPr>
          <a:p>
            <a:pPr marL="209880" indent="-2098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Специфику норм морали как норм, кодирующих неприродные общественные отношения между людьми. Их нарушение связано с позором и наказанием только в том случае, если это нарушение замечено другими людьми. Если оно не замечено, то нарушителю ничего не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2"/>
          <p:cNvSpPr/>
          <p:nvPr/>
        </p:nvSpPr>
        <p:spPr>
          <a:xfrm>
            <a:off x="251640" y="3357000"/>
            <a:ext cx="4289760" cy="323388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Не было разделения на частную и гражданскую жизнь. Закон добродетели равнялся закону полиса. Человек был, гражданином полиса, поэтому в качестве морального субъекта он был публичным челове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5151960" y="5373360"/>
            <a:ext cx="3843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ия и лог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2.03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mbria"/>
              </a:rPr>
              <a:t>Содержание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2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1. Периодизация и основные представители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2. Источники и фрагменты класси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3. Основные идеи древнегре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1. Софисты и религия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2. Этический релятивизм древних софистов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5580000" y="188640"/>
            <a:ext cx="3240000" cy="107964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2e900"/>
              </a:solidFill>
              <a:latin typeface="Cambr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972720" y="332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́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4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2-ой пол. V — 1-й пол. IV в. до н. э.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широком смысле термин «софист» служил для обозначения искусного или мудрого человека.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652000" y="188640"/>
            <a:ext cx="309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2e900"/>
                </a:solidFill>
                <a:latin typeface="Cambria"/>
              </a:rPr>
              <a:t>(от др.-греч. σοφιστής — «умелец, изобретатель, мудрец, знато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Представителей древнекитайской школы имён (мин цзя)</a:t>
            </a: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эн Си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унсунь Луна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6012000" y="2493000"/>
            <a:ext cx="1771200" cy="2381040"/>
          </a:xfrm>
          <a:prstGeom prst="rect">
            <a:avLst/>
          </a:prstGeom>
          <a:ln w="0">
            <a:noFill/>
          </a:ln>
        </p:spPr>
      </p:pic>
      <p:sp>
        <p:nvSpPr>
          <p:cNvPr id="109" name="Объект 2"/>
          <p:cNvSpPr/>
          <p:nvPr/>
        </p:nvSpPr>
        <p:spPr>
          <a:xfrm>
            <a:off x="4068000" y="3549960"/>
            <a:ext cx="2664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Хуэй 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Периодизация и основные представители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3640" y="4149000"/>
            <a:ext cx="7020000" cy="21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4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870720" y="1989000"/>
            <a:ext cx="4752000" cy="2016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Он (Протагор) первый заявил, что о всяком предмете можно сказать двояко и противоположным образом… о мысли он не заботился, спорил о словах, и повсеместное нынешнее племя спорщиков берёт своё начало от н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640" y="1558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199" strike="noStrike">
                <a:solidFill>
                  <a:srgbClr val="f7f8f4"/>
                </a:solidFill>
                <a:latin typeface="Cambria"/>
              </a:rPr>
              <a:t>Классическая или древняя (древнегреческая) софистик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4788000" y="1196640"/>
            <a:ext cx="4032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5e1b8"/>
              </a:gs>
            </a:gsLst>
            <a:lin ang="5400000"/>
          </a:gradFill>
          <a:ln>
            <a:solidFill>
              <a:srgbClr val="9bb05e"/>
            </a:solidFill>
            <a:round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V — 1-я половина IV веков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918410099"/>
              </p:ext>
            </p:extLst>
          </p:nvPr>
        </p:nvGraphicFramePr>
        <p:xfrm>
          <a:off x="755640" y="1556640"/>
          <a:ext cx="7920360" cy="511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6"/>
          <p:cNvSpPr/>
          <p:nvPr/>
        </p:nvSpPr>
        <p:spPr>
          <a:xfrm>
            <a:off x="5411880" y="1845000"/>
            <a:ext cx="2496240" cy="4464000"/>
          </a:xfrm>
          <a:prstGeom prst="rect">
            <a:avLst/>
          </a:prstGeom>
          <a:solidFill>
            <a:srgbClr val="ffffff"/>
          </a:solidFill>
          <a:ln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332640"/>
            <a:ext cx="8484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b6bfe7"/>
                </a:solidFill>
                <a:latin typeface="Cambria"/>
              </a:rPr>
              <a:t>Вторая или нова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640" y="2925000"/>
            <a:ext cx="4968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укиан Самосатск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Флавий Филострат и другие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5436000" y="1484640"/>
            <a:ext cx="2448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b2bae2"/>
              </a:gs>
            </a:gsLst>
            <a:lin ang="5400000"/>
          </a:gradFill>
          <a:ln>
            <a:solidFill>
              <a:srgbClr val="4e66b2"/>
            </a:solidFill>
            <a:round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2 — нач. 3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411880" y="1845000"/>
            <a:ext cx="2496240" cy="3984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5652000" y="5877360"/>
            <a:ext cx="2016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мышленный портрет Лукиана, XVII 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4068000" y="2781000"/>
            <a:ext cx="4422600" cy="252144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dfbfb"/>
                </a:solidFill>
                <a:latin typeface="Cambria"/>
              </a:rPr>
              <a:t>Третья или поздня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61000"/>
            <a:ext cx="41040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ибан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Юлиан Отступник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652000" y="1563120"/>
            <a:ext cx="1583640" cy="2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aa4a0"/>
              </a:gs>
            </a:gsLst>
            <a:lin ang="5400000"/>
          </a:gradFill>
          <a:ln>
            <a:solidFill>
              <a:srgbClr val="a63212"/>
            </a:solidFill>
            <a:round/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4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4068000" y="2781000"/>
            <a:ext cx="4422600" cy="2152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5029560" y="493344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Юлиан Отсту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Фрагменты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более-менее полном виде сохранились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«Двоякие речи» анонимного автора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790492[[fn=Тетрадь для рисования]]</Template>
  <TotalTime>188</TotalTime>
  <Application>LibreOffice/7.4.7.2$Linux_X86_64 LibreOffice_project/40$Build-2</Application>
  <AppVersion>15.0000</AppVersion>
  <Words>760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1:52:02Z</dcterms:created>
  <dc:creator>Вика</dc:creator>
  <dc:description/>
  <dc:language>en-US</dc:language>
  <cp:lastModifiedBy>LEGION</cp:lastModifiedBy>
  <dcterms:modified xsi:type="dcterms:W3CDTF">2014-11-11T08:05:03Z</dcterms:modified>
  <cp:revision>36</cp:revision>
  <dc:subject/>
  <dc:title>Софис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Екран (4:3)</vt:lpwstr>
  </property>
  <property fmtid="{D5CDD505-2E9C-101B-9397-08002B2CF9AE}" pid="4" name="Slides">
    <vt:r8>16</vt:r8>
  </property>
</Properties>
</file>