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applause.wav" ContentType="audio/x-wav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08E6-D660-470B-BDF4-8A7832A015F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А: ПЕРИОДИЧЕСКИЙ ЗАКОН Д. И. Менделеев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Группы химических элементов  и подгруппы- главная и побо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Периоды большие и ма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5EED-8218-457D-BB49-03489416D7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D4C2-CF69-4D76-9B23-C64EF2F879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ccff"/>
                </a:solidFill>
                <a:latin typeface="Calibri"/>
                <a:ea typeface="Arial"/>
              </a:rPr>
              <a:t>Открытие периодического        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6089-DA2C-4721-A2BF-325761F555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F196-29C6-4F03-A65D-9A7F182AC1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omic Sans MS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=50              Zr=90          ?=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=51              Nb=94        Ta=1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=52             Mo=96         W=18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n=5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h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=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u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=1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=Co=59           Pl=106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Os=1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=1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=63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=108        Hg=2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=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=24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=6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d=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=11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=27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6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Ur=116        Au=19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=12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=2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7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n=1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14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=31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=7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b=122       Bi=21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=16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3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=7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Te=12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=19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=3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5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=8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I=1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=7  Na=23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=39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b=85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Cs=133        Tl=2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=40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r=87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=137        Pb=2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4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=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Er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=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Yt=6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=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In=7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=11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6853-75B6-4629-8658-817BC1D976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1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618A-ADC5-4499-AE98-732DA2A2CB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9A26-B046-4F31-B5CC-9DF58B34DB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BD1-DF32-4761-BE67-DEB3E8A6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B01-CCA2-434F-8089-3D0BDDEB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F42-04DA-42D8-B579-AE069D77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DAD-0745-4980-98AB-0825FE00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6840-8FC3-4C1E-8AC4-6CCB1B87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6D4C-4A54-4F84-BD29-F5C67525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217B-9AF2-49BD-A7A9-65873E9E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9184-8EFF-4B40-AD5C-B6389058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7417-9519-41A0-8DC5-1A804657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711C-6055-4485-BD86-24A61288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8399-9D06-4F03-9B97-E902B9E9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847-2AC0-4A4C-9B1D-3DC16C18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5229-EB43-4BFF-AC33-9027E12A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7E27-A931-4680-B1D8-655F7EF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1ECE-1D34-4658-BE3E-77D9C2E4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1697-9702-4954-AE32-7448A385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DC30-7B6C-44A1-BE9E-A78BB0E9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6D9-92D8-4B19-A58C-8C42D379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F86-09FD-4796-962B-D133259B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348-11DD-4A65-B116-83448D2A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C7E-CDAD-4207-81F7-BB9264BD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218-CA1A-4376-8B77-782B8A39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F72-3748-49AB-A11C-86EEBCBB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F23-489B-4A9E-BE77-FE060DD7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4BF8-6DA3-4913-9FD2-E55DAD7F50F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7ACD-1F26-4F6C-BC99-B7880A224F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: ПЕРИОДИЧЕСКИЙ ЗАКОН Д. И. Менделее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руппы химических элементов  и подгруппы- главная и побоч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Периоды большие и мал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A:\менделеев"/>
          <p:cNvPicPr/>
          <p:nvPr/>
        </p:nvPicPr>
        <p:blipFill>
          <a:blip r:embed="rId1"/>
          <a:stretch/>
        </p:blipFill>
        <p:spPr>
          <a:xfrm>
            <a:off x="0" y="404640"/>
            <a:ext cx="2987640" cy="3384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059280" y="2276640"/>
            <a:ext cx="57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 flipH="1">
            <a:off x="0" y="6093000"/>
            <a:ext cx="900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900000" y="6093000"/>
            <a:ext cx="0" cy="765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00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76364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70036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63528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50072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364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6227640" y="6093000"/>
            <a:ext cx="1043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23600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8172360" y="609300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0" y="530064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0" y="450864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0" y="371628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0" y="292428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0" y="213372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0" y="141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0" y="765000"/>
            <a:ext cx="90000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900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1763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270036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363528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50072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5364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M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6227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8172360" y="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7093080" y="0"/>
            <a:ext cx="1079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31"/>
          <p:cNvSpPr/>
          <p:nvPr/>
        </p:nvSpPr>
        <p:spPr>
          <a:xfrm>
            <a:off x="8172360" y="76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8172360" y="148428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33"/>
          <p:cNvSpPr/>
          <p:nvPr/>
        </p:nvSpPr>
        <p:spPr>
          <a:xfrm>
            <a:off x="8172360" y="220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8172360" y="292428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35"/>
          <p:cNvSpPr/>
          <p:nvPr/>
        </p:nvSpPr>
        <p:spPr>
          <a:xfrm>
            <a:off x="8172360" y="364500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8172360" y="436572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8172360" y="522936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4"/>
          <p:cNvSpPr/>
          <p:nvPr/>
        </p:nvSpPr>
        <p:spPr>
          <a:xfrm>
            <a:off x="1547640" y="126828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ff"/>
                </a:solidFill>
                <a:latin typeface="Tahoma"/>
                <a:ea typeface="Arial"/>
              </a:rPr>
              <a:t>Открытие периодического         зак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9" descr="j0300840"/>
          <p:cNvPicPr/>
          <p:nvPr/>
        </p:nvPicPr>
        <p:blipFill>
          <a:blip r:embed="rId1"/>
          <a:stretch/>
        </p:blipFill>
        <p:spPr>
          <a:xfrm>
            <a:off x="1476360" y="2660760"/>
            <a:ext cx="2879640" cy="26510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9"/>
          <p:cNvSpPr/>
          <p:nvPr/>
        </p:nvSpPr>
        <p:spPr>
          <a:xfrm>
            <a:off x="468360" y="126828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68360" y="1844640"/>
            <a:ext cx="817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15" descr="j0299125"/>
          <p:cNvPicPr/>
          <p:nvPr/>
        </p:nvPicPr>
        <p:blipFill>
          <a:blip r:embed="rId1"/>
          <a:stretch/>
        </p:blipFill>
        <p:spPr>
          <a:xfrm>
            <a:off x="3924360" y="4653000"/>
            <a:ext cx="1079280" cy="1805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609480" y="404640"/>
            <a:ext cx="7772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55640" y="1557360"/>
          <a:ext cx="7201080" cy="594828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59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=50              Zr=90          ?=18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=51              Nb=94        Ta=18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=52             Mo=96         W=186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n=5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h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t=19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u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=198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i=Co=59           Pl=106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Os=199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=1         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=63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g=108        Hg=20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e=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g=24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n=6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=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=11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=27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6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Ur=116        Au=197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=1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=2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7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n=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=14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=3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s=7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b=122       Bi=210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=16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=3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=7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Te=12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=1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=3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5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=8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I=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=7  Na=23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=39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b=85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Cs=133        Tl=20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=40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r=87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6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=137        Pb=20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4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e=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Er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=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Yt=6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=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In=7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=11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ll dir="l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1280" y="692280"/>
            <a:ext cx="7632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trips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5" descr="хим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410920" y="3860280"/>
            <a:ext cx="626436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5" descr="j0301076"/>
          <p:cNvPicPr/>
          <p:nvPr/>
        </p:nvPicPr>
        <p:blipFill>
          <a:blip r:embed="rId1"/>
          <a:stretch/>
        </p:blipFill>
        <p:spPr>
          <a:xfrm>
            <a:off x="324000" y="404640"/>
            <a:ext cx="3168360" cy="27370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7:45:53Z</dcterms:created>
  <dc:creator>ткачева</dc:creator>
  <dc:description/>
  <dc:language>en-US</dc:language>
  <cp:lastModifiedBy>LEGION</cp:lastModifiedBy>
  <dcterms:modified xsi:type="dcterms:W3CDTF">2015-05-01T11:05:11Z</dcterms:modified>
  <cp:revision>16</cp:revision>
  <dc:subject/>
  <dc:title>Презентация PowerPoint</dc:title>
</cp:coreProperties>
</file>