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applause.wav" ContentType="audio/x-wav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321E-74DC-4810-8017-AE86473514E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А: ПЕРИОДИЧЕСКИЙ ЗАКОН Д. И. Менделеев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Группы химических элементов  и подгруппы- главная и побо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Периоды большие и ма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EFFC-94FC-430C-A0D6-9E6C44361C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54B8-9A2A-4F39-A1B9-A3597CBD92E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ccff"/>
                </a:solidFill>
                <a:latin typeface="Calibri"/>
                <a:ea typeface="Arial"/>
              </a:rPr>
              <a:t>Открытие периодического        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B78C-AD69-43D9-AAAE-F3ECD69445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1F46-D2CF-4A90-A3BE-EDD6B7F632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omic Sans MS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=50              Zr=90          ?=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=51              Nb=94        Ta=1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=52             Mo=96         W=18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n=5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h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=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u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=1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=Co=59           Pl=106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Os=1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=1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=63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=108        Hg=2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=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=24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=6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d=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=11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=27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6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Ur=116        Au=19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=12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=2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7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n=1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14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=31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=7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b=122       Bi=21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=16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3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=7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Te=12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=19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=3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5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=8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I=1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=7  Na=23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=39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b=85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Cs=133        Tl=2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=40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r=87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=137        Pb=2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4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=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Er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=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Yt=6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=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In=7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=11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7E7F-1D20-49C3-BEF3-0987115FCC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1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75FA-C5D7-45A3-8749-4E4AE7DC42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E375-93DC-4535-9F67-85987BE826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727-B339-4789-A4C5-40B0CAF2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B8F-09D5-4B28-8615-31E0F96D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3E3-6E0C-483A-9D22-108B4F16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421-C456-41EE-871F-B3A756E3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87ED-6709-406A-9DD8-58D6C705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1D62-4AC0-447D-BE44-41EF14FB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1AD8-312A-4292-AFB6-DF5DC852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5FC0-F878-4F15-985A-E5C53F50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607A-A6C0-4ADD-9129-6BFD3EFA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BF57-9AB3-40F0-991E-4E6AFF4E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46BD-48C5-4833-B693-19624B13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EA3-2F17-4861-A8F3-6E7C17A4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8A12-D7DA-4742-B9F1-CCFD351F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893A-5374-4F97-B58A-983E3BD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261D-429D-43D9-B55A-6E6DE19E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6815-81A9-45DC-BFCF-E37BA64D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887B-CF70-46D2-97A6-92CEEC3B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155-31E1-4074-B50E-18FEB194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EA8-7AC1-49A5-938F-C24654B3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B30-6B56-4591-A48A-BC57963D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316-EAF3-4832-9CD2-F73606F9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914-4F46-42A6-962C-FADEF7F5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CE4-50FD-4F1D-A85B-4BB0EDAD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011-05F1-441C-AD55-F50F78C9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5DB9-746A-4B17-80A6-CE82D5215E2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2F2A-92FC-4DFA-9C3E-438AB78A5DE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: ПЕРИОДИЧЕСКИЙ ЗАКОН Д. И. Менделее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руппы химических элементов  и подгруппы- главная и побоч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Периоды большие и мал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A:\менделеев"/>
          <p:cNvPicPr/>
          <p:nvPr/>
        </p:nvPicPr>
        <p:blipFill>
          <a:blip r:embed="rId1"/>
          <a:stretch/>
        </p:blipFill>
        <p:spPr>
          <a:xfrm>
            <a:off x="0" y="404640"/>
            <a:ext cx="2987640" cy="3384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059280" y="2276640"/>
            <a:ext cx="57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 flipH="1">
            <a:off x="0" y="6093000"/>
            <a:ext cx="900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900000" y="6093000"/>
            <a:ext cx="0" cy="765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00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76364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70036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63528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50072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364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6227640" y="6093000"/>
            <a:ext cx="1043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23600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8172360" y="609300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0" y="530064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0" y="450864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0" y="371628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0" y="292428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0" y="213372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0" y="141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0" y="765000"/>
            <a:ext cx="90000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900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1763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270036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363528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50072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5364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M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6227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8172360" y="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7093080" y="0"/>
            <a:ext cx="1079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31"/>
          <p:cNvSpPr/>
          <p:nvPr/>
        </p:nvSpPr>
        <p:spPr>
          <a:xfrm>
            <a:off x="8172360" y="76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8172360" y="148428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33"/>
          <p:cNvSpPr/>
          <p:nvPr/>
        </p:nvSpPr>
        <p:spPr>
          <a:xfrm>
            <a:off x="8172360" y="220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8172360" y="292428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35"/>
          <p:cNvSpPr/>
          <p:nvPr/>
        </p:nvSpPr>
        <p:spPr>
          <a:xfrm>
            <a:off x="8172360" y="364500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8172360" y="436572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8172360" y="522936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4"/>
          <p:cNvSpPr/>
          <p:nvPr/>
        </p:nvSpPr>
        <p:spPr>
          <a:xfrm>
            <a:off x="1547640" y="126828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ff"/>
                </a:solidFill>
                <a:latin typeface="Tahoma"/>
                <a:ea typeface="Arial"/>
              </a:rPr>
              <a:t>Открытие периодического         зак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9" descr="j0300840"/>
          <p:cNvPicPr/>
          <p:nvPr/>
        </p:nvPicPr>
        <p:blipFill>
          <a:blip r:embed="rId1"/>
          <a:stretch/>
        </p:blipFill>
        <p:spPr>
          <a:xfrm>
            <a:off x="1476360" y="2660760"/>
            <a:ext cx="2879640" cy="26510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9"/>
          <p:cNvSpPr/>
          <p:nvPr/>
        </p:nvSpPr>
        <p:spPr>
          <a:xfrm>
            <a:off x="468360" y="126828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68360" y="1844640"/>
            <a:ext cx="817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15" descr="j0299125"/>
          <p:cNvPicPr/>
          <p:nvPr/>
        </p:nvPicPr>
        <p:blipFill>
          <a:blip r:embed="rId1"/>
          <a:stretch/>
        </p:blipFill>
        <p:spPr>
          <a:xfrm>
            <a:off x="3924360" y="4653000"/>
            <a:ext cx="1079280" cy="1805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609480" y="404640"/>
            <a:ext cx="7772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55640" y="1557360"/>
          <a:ext cx="7201080" cy="594828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59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=50              Zr=90          ?=18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=51              Nb=94        Ta=18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=52             Mo=96         W=186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n=5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h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t=19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u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=198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i=Co=59           Pl=106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Os=199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=1         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=63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g=108        Hg=20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e=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g=24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n=6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=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=11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=27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6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Ur=116        Au=197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=1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=2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7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n=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=14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=3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s=7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b=122       Bi=210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=16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=3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=7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Te=12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=1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=3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5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=8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I=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=7  Na=23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=39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b=85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Cs=133        Tl=20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=40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r=87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6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=137        Pb=20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4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e=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Er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=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Yt=6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=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In=7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=11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ll dir="l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1280" y="692280"/>
            <a:ext cx="7632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trips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5" descr="хим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410920" y="3860280"/>
            <a:ext cx="626436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5" descr="j0301076"/>
          <p:cNvPicPr/>
          <p:nvPr/>
        </p:nvPicPr>
        <p:blipFill>
          <a:blip r:embed="rId1"/>
          <a:stretch/>
        </p:blipFill>
        <p:spPr>
          <a:xfrm>
            <a:off x="324000" y="404640"/>
            <a:ext cx="3168360" cy="27370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7:45:53Z</dcterms:created>
  <dc:creator>ткачева</dc:creator>
  <dc:description/>
  <dc:language>en-US</dc:language>
  <cp:lastModifiedBy>LEGION</cp:lastModifiedBy>
  <dcterms:modified xsi:type="dcterms:W3CDTF">2015-05-01T11:05:11Z</dcterms:modified>
  <cp:revision>16</cp:revision>
  <dc:subject/>
  <dc:title>Презентация PowerPoint</dc:title>
</cp:coreProperties>
</file>