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applause.wav" ContentType="audio/x-wav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7CAB-DF1C-437E-AD5E-99A14C69E17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А: ПЕРИОДИЧЕСКИЙ ЗАКОН Д. И. Менделеев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                                           1.История открытия Периодической системы химических элементов Д.И.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Группы химических элементов  и подгруппы- главная и побо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Периоды большие и мал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60D1-CA36-4D7A-BC88-B0902638DB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cc"/>
                </a:solidFill>
                <a:latin typeface="Comic Sans MS"/>
                <a:ea typeface="Arial"/>
              </a:rPr>
              <a:t>Д.И.Менделеев (1834-1907)-великий русский учёный. Открыл периодический закон химических элементов. Автор классического труда «Основы химии», фундаментальных исследований по химии, физике, метрологии. Предложил промышленный способ фракционного разделения нефти, изобрёл вид бездымного поро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FCDB-8096-4B5C-B1E6-253CB83528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ccff"/>
                </a:solidFill>
                <a:latin typeface="Calibri"/>
                <a:ea typeface="Arial"/>
              </a:rPr>
              <a:t>Открытие периодического        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1492-8CEB-4008-AEE2-0DD4B36E8F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Давайте вспомним, как же все свершилос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Каков был путь открытия и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Идея новая в науке утвердилас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Отметив только в нескольких страниц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85D5-D3A9-4828-844F-E56E9B734B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omic Sans MS"/>
              </a:rPr>
              <a:t>«Опыт системы элементов, основанной на их атомном весе и химическом сходстве» (1 марта 1869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=50              Zr=90          ?=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=51              Nb=94        Ta=1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=52             Mo=96         W=18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n=5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Rh=104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=1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=56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Ru=104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r=1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=Co=59           Pl=106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Os=1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=1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=63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=108        Hg=2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=9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    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=24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n=6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d=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=11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=27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68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Ur=116        Au=19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=12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=28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7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Sn=1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14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=31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=7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Sb=122       Bi=21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=16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=3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=79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Te=12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=19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=3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5      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=8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I=1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=7  Na=23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=39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b=85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Cs=133        Tl=2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=40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r=87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6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=137        Pb=2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4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=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Er=56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=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Yt=6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=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In=7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=11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D2C2-F4E8-465E-94ED-917960D4D5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аше слово, Дмитрий Менделеев</a:t>
            </a:r>
            <a:r>
              <a:rPr b="0" i="1" lang="en-US" sz="16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еликий ум на почве благодат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Закономерности увидел н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асположив согласно массам ат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дохнул в свою  систему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а вдруг, однако, и не просто это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е поддаваясь мелкой суе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Идея устояла, победи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ожден закон в великой прост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F3DC-2912-4F74-B507-549CD2CBA2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cc"/>
                </a:solidFill>
                <a:latin typeface="Times New Roman"/>
              </a:rPr>
              <a:t>Системе не грозит уничтожение,                                                               Развитию не видно же конца.                                                               21 век дает лишь уточненья                                                               Трактовке гениального твор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9E12-D2C1-4C67-9386-85B199B13D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02E-70A3-4214-BAE8-8C1E4080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3BA-1EB8-4030-99F6-DD83C697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BFF-6AB0-4B54-8A00-F3382EE3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287-6574-4BAB-8C9A-FA420C03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C94C-B95C-4770-B53F-84C0A581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5067-FBB0-4729-B614-6BC7EA10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90C4-007C-4B0B-80A7-7055A576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AB90-A284-4C77-BBF5-A0A4DA75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6FE2-8596-4EDD-B76E-DA86FDE8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8603-9DA6-4CD2-B311-AF8658AF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E065-EC68-41F7-B332-FA8756A5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625-EDB0-4BE8-BEE3-F1F6F9B0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BCB6-03DB-47C1-A102-B73136F2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3038-BCBC-45D4-9FE1-F5072179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1820-00FE-4150-A5E5-EE94AA3C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1A15-A368-4A2F-B18E-BA3363B2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9F1D-3947-44F0-9BB2-EE74B321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E09-E382-4BBE-ADAF-94A2E51B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A93-0851-4880-9B1C-BA2C038E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033-9746-4011-96A4-35892434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427-A61A-4EB4-A363-0CC90230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B3B-2E6A-4827-AB34-C8ECAC19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9FC-8B50-42E2-9F63-E64FD985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90B5-CA50-4156-B7F1-6C50716A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50E7-05C7-4355-95BF-33A96616C73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74BC-4335-4952-A4F9-98E091DEDE0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: ПЕРИОДИЧЕСКИЙ ЗАКОН Д. И. Менделее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Н                                            1.История открытия Периодической системы химических элементов Д.И. Менделее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руппы химических элементов  и подгруппы- главная и побоч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Периоды большие и мал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A:\менделеев"/>
          <p:cNvPicPr/>
          <p:nvPr/>
        </p:nvPicPr>
        <p:blipFill>
          <a:blip r:embed="rId1"/>
          <a:stretch/>
        </p:blipFill>
        <p:spPr>
          <a:xfrm>
            <a:off x="0" y="404640"/>
            <a:ext cx="2987640" cy="3384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059280" y="2276640"/>
            <a:ext cx="57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omic Sans MS"/>
                <a:ea typeface="Arial"/>
              </a:rPr>
              <a:t>Д.И.Менделеев (1834-1907)-великий русский учёный. Открыл периодический закон химических элементов. Автор классического труда «Основы химии», фундаментальных исследований по химии, физике, метрологии. Предложил промышленный способ фракционного разделения нефти, изобрёл вид бездымного поро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 flipH="1">
            <a:off x="0" y="6093000"/>
            <a:ext cx="900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900000" y="6093000"/>
            <a:ext cx="0" cy="765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0000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76364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70036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63528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50072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36400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6227640" y="6093000"/>
            <a:ext cx="104328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723600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8172360" y="6093000"/>
            <a:ext cx="97164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0" y="5300640"/>
            <a:ext cx="900000" cy="76536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0" y="450864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0" y="3716280"/>
            <a:ext cx="900000" cy="76536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0" y="292428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0" y="213372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0" y="141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0" y="765000"/>
            <a:ext cx="90000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90000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176364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270036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363528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50072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536400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M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622764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8172360" y="0"/>
            <a:ext cx="97164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30"/>
          <p:cNvSpPr/>
          <p:nvPr/>
        </p:nvSpPr>
        <p:spPr>
          <a:xfrm>
            <a:off x="7093080" y="0"/>
            <a:ext cx="107928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31"/>
          <p:cNvSpPr/>
          <p:nvPr/>
        </p:nvSpPr>
        <p:spPr>
          <a:xfrm>
            <a:off x="8172360" y="76500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32"/>
          <p:cNvSpPr/>
          <p:nvPr/>
        </p:nvSpPr>
        <p:spPr>
          <a:xfrm>
            <a:off x="8172360" y="148428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33"/>
          <p:cNvSpPr/>
          <p:nvPr/>
        </p:nvSpPr>
        <p:spPr>
          <a:xfrm>
            <a:off x="8172360" y="220500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8172360" y="2924280"/>
            <a:ext cx="971640" cy="71892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35"/>
          <p:cNvSpPr/>
          <p:nvPr/>
        </p:nvSpPr>
        <p:spPr>
          <a:xfrm>
            <a:off x="8172360" y="3645000"/>
            <a:ext cx="971640" cy="71892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8172360" y="4365720"/>
            <a:ext cx="971640" cy="86364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8172360" y="5229360"/>
            <a:ext cx="971640" cy="86364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54"/>
          <p:cNvSpPr/>
          <p:nvPr/>
        </p:nvSpPr>
        <p:spPr>
          <a:xfrm>
            <a:off x="1547640" y="126828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ff"/>
                </a:solidFill>
                <a:latin typeface="Tahoma"/>
                <a:ea typeface="Arial"/>
              </a:rPr>
              <a:t>Открытие периодического         зако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9" descr="j0300840"/>
          <p:cNvPicPr/>
          <p:nvPr/>
        </p:nvPicPr>
        <p:blipFill>
          <a:blip r:embed="rId1"/>
          <a:stretch/>
        </p:blipFill>
        <p:spPr>
          <a:xfrm>
            <a:off x="1476360" y="2660760"/>
            <a:ext cx="2879640" cy="26510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9"/>
          <p:cNvSpPr/>
          <p:nvPr/>
        </p:nvSpPr>
        <p:spPr>
          <a:xfrm>
            <a:off x="468360" y="126828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68360" y="1844640"/>
            <a:ext cx="817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Давайте вспомним, как же все свершило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Каков был путь открытия и к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Идея новая в науке утвердила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Отметив только в нескольких страниц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15" descr="j0299125"/>
          <p:cNvPicPr/>
          <p:nvPr/>
        </p:nvPicPr>
        <p:blipFill>
          <a:blip r:embed="rId1"/>
          <a:stretch/>
        </p:blipFill>
        <p:spPr>
          <a:xfrm>
            <a:off x="3924360" y="4653000"/>
            <a:ext cx="1079280" cy="1805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in" orient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609480" y="404640"/>
            <a:ext cx="77724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«Опыт системы элементов, основанной на их атомном весе и химическом сходстве» (1 марта 1869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55640" y="1557360"/>
          <a:ext cx="7201080" cy="5948280"/>
        </p:xfrm>
        <a:graphic>
          <a:graphicData uri="http://schemas.openxmlformats.org/drawingml/2006/table">
            <a:tbl>
              <a:tblPr/>
              <a:tblGrid>
                <a:gridCol w="7201080"/>
              </a:tblGrid>
              <a:tr h="59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=50              Zr=90          ?=18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=51              Nb=94        Ta=18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=52             Mo=96         W=186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n=5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Rh=104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t=19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e=5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Ru=104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=198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i=Co=59           Pl=106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Os=199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=1         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=63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g=108        Hg=20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e=9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    </a:t>
                      </a:r>
                      <a:r>
                        <a:rPr b="0" lang="ru-RU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g=24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Zn=6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=1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=11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=27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6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Ur=116        Au=197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=1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=2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7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Sn=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=14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=31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s=7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Sb=122       Bi=210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=16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=3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=79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Te=128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=1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=3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5      </a:t>
                      </a:r>
                      <a:r>
                        <a:rPr b="0" lang="ru-RU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=8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I=1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=7  Na=23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=39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b=85,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Cs=133        Tl=20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=40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r=87,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6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=137        Pb=20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4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e=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Er=5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=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Yt=6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=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In=7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=118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ll dir="l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11280" y="692280"/>
            <a:ext cx="76327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аше слово, Дмитрий Менделеев</a:t>
            </a:r>
            <a:r>
              <a:rPr b="0" i="1" lang="en-US" sz="36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еликий ум на почве благодат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Закономерности увидел ни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асположив согласно массам атом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дохнул в свою  систему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а вдруг, однако, и не просто это бы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е поддаваясь мелкой суе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Идея устояла, победил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ожден закон в великой прост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trips dir="l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5" descr="хим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410920" y="3860280"/>
            <a:ext cx="626436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cc"/>
                </a:solidFill>
                <a:latin typeface="Times New Roman"/>
              </a:rPr>
              <a:t>Системе не грозит уничтожение,                                                               Развитию не видно же конца.                                                               21 век дает лишь уточненья                                                               Трактовке гениального твор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5" descr="j0301076"/>
          <p:cNvPicPr/>
          <p:nvPr/>
        </p:nvPicPr>
        <p:blipFill>
          <a:blip r:embed="rId1"/>
          <a:stretch/>
        </p:blipFill>
        <p:spPr>
          <a:xfrm>
            <a:off x="324000" y="404640"/>
            <a:ext cx="3168360" cy="273708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in" orient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17:45:53Z</dcterms:created>
  <dc:creator>ткачева</dc:creator>
  <dc:description/>
  <dc:language>en-US</dc:language>
  <cp:lastModifiedBy>LEGION</cp:lastModifiedBy>
  <dcterms:modified xsi:type="dcterms:W3CDTF">2015-05-01T11:05:11Z</dcterms:modified>
  <cp:revision>16</cp:revision>
  <dc:subject/>
  <dc:title>Презентация PowerPoint</dc:title>
</cp:coreProperties>
</file>