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applause.wav" ContentType="audio/x-wav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CD67-BA87-4AA9-805E-DDF41A4172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А: ПЕРИОДИЧЕСКИЙ ЗАКОН Д. И. Менделее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Группы химических элементов  и подгруппы- главная и побо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Периоды большие и ма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4D6-2438-4D4B-BB09-6520D48298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D4D-AFA9-4856-BF79-E929F2E1CC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ccff"/>
                </a:solidFill>
                <a:latin typeface="Calibri"/>
                <a:ea typeface="Arial"/>
              </a:rPr>
              <a:t>Открытие периодического        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6723-23AE-4A13-8B65-F1F17741B0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DC9-214F-4B1E-98AA-3634F3437E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mic Sans MS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=50              Zr=90          ?=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=51              Nb=94        Ta=1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=52             Mo=96         W=18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n=5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h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t=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Ru=104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r=1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=Co=59           Pl=106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Os=1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=1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=63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=108        Hg=2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=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      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=24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=6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d=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=11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=27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6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Ur=116        Au=19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=1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=28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7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n=1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14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=31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=7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Sb=122       Bi=21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=16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3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=79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Te=12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=19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=3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      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=8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I=1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=7  Na=23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=39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b=85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Cs=133        Tl=2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=40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=87,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=137        Pb=2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=45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=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Er=56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=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Yt=60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=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In=75,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=11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651D-CAB8-41FC-88E3-5CEB80C895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1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67A6-37C1-4DF5-B7DC-316A4FF08B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281-C90D-4269-AE5A-A077355A60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026-2579-4A23-B186-3C906823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645-8CDB-4276-A97F-9283826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1B1-B016-4844-BB45-924013AC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D72-7075-457F-88B4-7A01697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15C-3BE1-4AA5-9C86-FDA54E91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B38D-D53A-4221-8F50-86DA69F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BA8F-7EAD-4A0D-95A6-3BA786F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49B6-DBD0-449F-A2EE-856BE5F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CD49-7CEB-4B4E-946A-ED8578EA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B8D-64F5-4367-9AD1-CC990213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07AC-4FF6-4185-8DDC-D22CEDA4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2C5-E7F1-45E3-959D-6FF3103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ED8C-87E7-4667-B22F-6A0ED3B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CDD-B1CC-4DFA-AB3D-DA8184F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912-3ED6-4E28-853E-D19B9DA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8E9-1730-4A44-AACE-50AEEAC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A57A-FAFC-4090-B576-41140C64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F13-9C2A-46CE-ACFC-FA03DE42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A12-AD76-49B8-AA94-BC81A07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410-1DC4-4CFC-8DC4-3E52A5B7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BB9-DA1B-46FE-B51D-B5384A4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FDD-E9CA-40B6-8DA6-8D7D617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B74-FBDF-4086-9C10-C5E4951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AFD-6D6E-412D-B723-7716C6D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D34-BBC5-4CB8-B886-254B3F7256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74A-27AC-4E91-862B-8FA412609D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: ПЕРИОДИЧЕСКИЙ ЗАКОН Д. И. Менделее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                                           1.История открытия Периодической системы химических элементов Д.И. Менделе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руппы химических элементов  и подгруппы- главная и поб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ериоды большие и ма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A:\менделеев"/>
          <p:cNvPicPr/>
          <p:nvPr/>
        </p:nvPicPr>
        <p:blipFill>
          <a:blip r:embed="rId1"/>
          <a:stretch/>
        </p:blipFill>
        <p:spPr>
          <a:xfrm>
            <a:off x="0" y="404640"/>
            <a:ext cx="2987640" cy="3384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059280" y="2276640"/>
            <a:ext cx="57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omic Sans MS"/>
                <a:ea typeface="Arial"/>
              </a:rPr>
              <a:t>Д.И.Менделеев (1834-1907)-великий русский учёный. Открыл периодический закон химических элементов. Автор классического труда «Основы химии», фундаментальных исследований по химии, физике, метрологии. Предложил промышленный способ фракционного разделения нефти, изобрёл вид бездымного поро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 flipH="1">
            <a:off x="0" y="6093000"/>
            <a:ext cx="900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900000" y="6093000"/>
            <a:ext cx="0" cy="765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00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76364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70036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63528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0072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364000" y="609300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227640" y="6093000"/>
            <a:ext cx="1043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236000" y="609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8172360" y="609300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0" y="530064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0" y="450864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3716280"/>
            <a:ext cx="900000" cy="76536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0" y="292428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0" y="213372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141300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765000"/>
            <a:ext cx="90000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900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1763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270036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363528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500720" y="0"/>
            <a:ext cx="90000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536400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M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6227640" y="0"/>
            <a:ext cx="90036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8172360" y="0"/>
            <a:ext cx="97164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7093080" y="0"/>
            <a:ext cx="1079280" cy="76500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8172360" y="76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8172360" y="148428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8172360" y="2205000"/>
            <a:ext cx="971640" cy="71928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8172360" y="292428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8172360" y="3645000"/>
            <a:ext cx="971640" cy="71892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8172360" y="436572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8172360" y="5229360"/>
            <a:ext cx="971640" cy="863640"/>
          </a:xfrm>
          <a:prstGeom prst="rect">
            <a:avLst/>
          </a:prstGeom>
          <a:solidFill>
            <a:srgbClr val="f8a5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1547640" y="1268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ff"/>
                </a:solidFill>
                <a:latin typeface="Tahoma"/>
                <a:ea typeface="Arial"/>
              </a:rPr>
              <a:t>Открытие периодического         зак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9" descr="j0300840"/>
          <p:cNvPicPr/>
          <p:nvPr/>
        </p:nvPicPr>
        <p:blipFill>
          <a:blip r:embed="rId1"/>
          <a:stretch/>
        </p:blipFill>
        <p:spPr>
          <a:xfrm>
            <a:off x="1476360" y="2660760"/>
            <a:ext cx="2879640" cy="26510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468360" y="126828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68360" y="1844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Давайте вспомним, как же все сверши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Каков был путь открытия и к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Идея новая в науке утвердила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Отметив только в нескольких страниц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j0299125"/>
          <p:cNvPicPr/>
          <p:nvPr/>
        </p:nvPicPr>
        <p:blipFill>
          <a:blip r:embed="rId1"/>
          <a:stretch/>
        </p:blipFill>
        <p:spPr>
          <a:xfrm>
            <a:off x="3924360" y="4653000"/>
            <a:ext cx="1079280" cy="1805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609480" y="40464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«Опыт системы элементов, основанной на их атомном весе и химическом сходстве» (1 марта 1869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55640" y="1557360"/>
          <a:ext cx="7201080" cy="594828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59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=50              Zr=90          ?=18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=51              Nb=94        Ta=18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=52             Mo=96         W=18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=5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h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t=19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Ru=104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=19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i=Co=59           Pl=106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Os=19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=1         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=63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g=108        Hg=20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e=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      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g=24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=6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d=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=11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=27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Ur=116        Au=197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=1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=2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7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n=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=1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=31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=7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Sb=122       Bi=210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=16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=32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=79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Te=12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=1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=3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5      </a:t>
                      </a:r>
                      <a:r>
                        <a:rPr b="0" lang="ru-RU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=8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I=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=7  Na=23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=39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b=85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Cs=133        Tl=20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=40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r=87,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6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=137        Pb=20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=4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=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Er=5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=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Yt=6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=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In=75,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14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=118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692280"/>
            <a:ext cx="7632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аше слово, Дмитрий Менделеев</a:t>
            </a:r>
            <a:r>
              <a:rPr b="0" i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еликий ум на почве благодат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Закономерности увидел н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асположив согласно массам атом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Вдохнул в свою  систему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а вдруг, однако, и не просто это бы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Не поддаваясь мелкой су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Идея устояла, победи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3399"/>
                </a:solidFill>
                <a:uFillTx/>
                <a:latin typeface="Times New Roman"/>
                <a:ea typeface="Arial"/>
              </a:rPr>
              <a:t>Рожден закон в великой прост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410920" y="3860280"/>
            <a:ext cx="626436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imes New Roman"/>
              </a:rPr>
              <a:t>Системе не грозит уничтожение,                                                               Развитию не видно же конца.                                                               21 век дает лишь уточненья                                                               Трактовке гениального тво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j0301076"/>
          <p:cNvPicPr/>
          <p:nvPr/>
        </p:nvPicPr>
        <p:blipFill>
          <a:blip r:embed="rId1"/>
          <a:stretch/>
        </p:blipFill>
        <p:spPr>
          <a:xfrm>
            <a:off x="324000" y="404640"/>
            <a:ext cx="3168360" cy="27370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in" orient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7:45:53Z</dcterms:created>
  <dc:creator>ткачева</dc:creator>
  <dc:description/>
  <dc:language>en-US</dc:language>
  <cp:lastModifiedBy>LEGION</cp:lastModifiedBy>
  <dcterms:modified xsi:type="dcterms:W3CDTF">2015-05-01T11:05:11Z</dcterms:modified>
  <cp:revision>16</cp:revision>
  <dc:subject/>
  <dc:title>Презентация PowerPoint</dc:title>
</cp:coreProperties>
</file>