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00AD-C515-4876-89AC-5CBC837CAD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Bookman Old Style"/>
              </a:rPr>
              <a:t>Периодический закон и Периодическая система химических элементов Д.И.Менделе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Мощь и сила науки во множестве фактов, цель в обобщении этого множества и возведении их к началам… Собрание фактов и гипотез – это ещё не наука; оно есть только преддверие её, мимо которого нельзя прямо войти в святилище науки. На этих преддвериях надпись – наблюдения, предложения, опыт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Д.И. Менделеев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0C4E-B36A-49F6-B878-EE9BC878B3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870 г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Юлиус Лотар Мейер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опубликовал свою первую таблицу, в которую включены 42 элемента (из 63), размещённые в шесть столбцов согласно их валентностям. Мейер намеренно ограничил число элементов в таблице, чтобы подчеркнуть закономерное (аналогичное триадам Дёберейнера) изменение атомной массы в рядах подобных эле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6547-B774-4B8B-8B82-6F10170139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блица Май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AD80-4300-43A6-8A8E-6E9661D239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арте 1869 г. русский химик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митрий Иванович Менделее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ил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Русскому химическому обществу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ериодический закон химических элементо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изложенный в нескольких основных полож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ом же 1869 г. вышло и первое издание учебника "Основы химии", в котором была приведена периодическая таблица Менделее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6CC1-DD38-4D66-94DA-5B5C6BE9B2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вая таблица Д.И.Менделеева, 1869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708F-DD80-4727-9826-59FF2B0FC4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онце 1870 г. Менделеев доложил РХО статью "Естественная система элементов и применение её к указанию свойств неоткрытых элементов", в котором предсказал свойства неоткрытых ещё элементов – аналогов бора, алюминия и кремния (соответственно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экабор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экаалюмини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экасилици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сположение в периодической таблице элементов, известных в 1870 г. Зелёным цветом показаны ячейки, соответствующие элементам, свойства которых предсказывал Д. И. Менделе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2648-486B-49FF-A6CD-3A0D585791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871 г. Менделеев в итоговой статье "Периодическая законность химических элементов" дал формулировку Периодического зако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ff"/>
                </a:solidFill>
                <a:latin typeface="Times New Roman"/>
              </a:rPr>
              <a:t>«Свойства элементов, а потому и свойства образуемых ими простых и сложных тел стоят в периодической зависимости от атомного веса»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гда же Менделеев придал своей периодической таблице классический ви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41F4-0829-4AA7-9450-B1E3FA3E0C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остранённее других являются 3 формы таблицы Менделее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ороткая» (короткопериод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длинная» (длиннопериодна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сверхдлинна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«сверхдлинном» варианте каждый период занимает ровно одну строч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«длинном» варианте лантаноиды и актиноиды вынесены из общей таблицы, делая её более компакт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«короткой» форме записи, в дополнение к этому, четвёртый и последующие периоды занимают по 2 строчки; символы элементов главных и побочных подгрупп выравниваются относительно разных краёв клет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F204-70A3-4EA7-9502-E7079901B6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Вторая формулиров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Свойства химических элементов и образованных ими веществ находятся в периодической зависимости от зарядов их атомных яд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9589-88D5-4476-B2B0-4A743EC0F8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29 г немецкий хим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ган Вольфганг Дёберейн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улировал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кон триа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4E72-B640-4884-9663-851BC2644D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Третья формулиров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Свойства химических элементов и образованных ими веществ находятся в периодической зависимости от периодичности в изменении конфигураций внешних электронных слове атомов химических эле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336B-4FE1-4017-BEEF-6296D908D0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мецкий хим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Леопольд Гмели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дился в Гёттингене в семье известного химика и врача Иоганна Фридриха Гмелина. Учился в Тюбингенском и Гёттингенском университетах;    в 1812 получил степень доктора медици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1813 по 1851 работал в Гейдельбергском университете;   с 1817 — профессор медицины и хим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EF2A-530E-42F6-858F-82056EB5D2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Джон Александр Рейна Ньюленд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одился в Лондоне 26 ноября 1837 г. Отец, шотландский священник Уильям Ньюлендс, не хотевший, чтобы сын пошёл по его стопам, подготовил его к поступлению в в химический колледж. Мать, Мэри Сара Рейна, итальянка, привила сыну любовь к музыке. Получив образование в колледже, он в 1857 г. Ньюлендс становится ассистентом химика в Королевском сельскохозяйственном обществе. Однако под влиянием матери Ньюлендс уезжает на её родину, в Италию, где набирало силу освободительное движение во главе с Джузеппе Гарибальди. Там в начале 1860 г. Ньюлендс познакомился со Станислао Канниццаро – одним из реформаторов атомно-молекулярного учения. Общение с Канниццаро, по-видимому, привлекло внимание Ньюлендса к проблеме атомных весов элем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2EDC-600C-49DA-B63F-5C276DE688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глийский химик </a:t>
            </a: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Уильям Одлинг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одился в Саутуорке, близ Лондона. В 1846-1850 гг. он получил медицинское образование в медицинской школе при госпитале Св. Варфоломея в Лондоне. В 1850 г. изучал химию в Париже у Шарля Жерара. С 1868 г. – профессор Королевского института, с 1872 г. – Оксфордского университета. Член Лондонского королевского общества с 1859 г., его почётный Секретарь (1856-1869), Вице-президент (1869-1872) и Президент (1873-1875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C862-2329-4004-A19E-F952BD0A39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Юлиус Лотар Мейер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одился 19 августа 1830 года в семье врача в маленьком городке Фареле в провинции Ольденбург. Обладая слабым здоровьем, среднюю школу он смог закончить только к двадцати одному году. После школы по примеру своего отца Мейер стал изучать медицину, и в 1854 году получил степень доктора в Вюрцбургском университе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1821-6B5C-4E69-B706-9DDCEC026F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.И. Менделеев родился 8 февраля 1834г. в г.Тобольске, в семье директора гимназии и попечителя училищ. Мать — владелица небольшого стекольного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A126-061D-4380-BB21-37BE1424FC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бить все известные элементы на триады Дёберейнеру, естественно, не удалось, тем не менее, закон триад явно указывал на наличие взаимосвязи между атомной массой и свойствами элементов и их соединений. Все дальнейшие попытки систематизации основывались на размещении элементов в порядке возрастания их атомных в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15EF-D8C0-4C7B-904A-5F48C4A70E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843 г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Леопольд Гмели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ивёл таблицу химически сходных элементов, расставленных по группам в порядке возрастания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"соединительных масс"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не групп элементов, вверху таблицы, Гмелин поместил три "базисных" элемента – кислород, азот и водород. Под ними были расставлены триады, а также тетрады и пентады (группы из четырех и пяти элементов), причём под кислородом расположены группы металлоидов (по терминологии Берцелиуса), т.е. электроотрицательных элементов; электроположительные и электроотрицательные свойства групп элементов плавно изменялись сверху вниз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0CEA-C3C9-4860-A2F0-837F2AFAF8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Часть таблицы Леопольда Гме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C7E6-7438-4ECB-BAC6-4B10EAAC56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жон Александр Рейна Ньюленд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в1864 г. опубликовал таблицу элементов, отражающую предложенный им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закон окта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Ньюлендс показал, что в ряду элементов, размещённых в порядке возрастания атомных весов, свойства восьмого элемента сходны со свойствами первого. Такая зависимость действительно имеет место для лёгких элементов, однако Ньюлендс пытается придать ей всеобщий характер. В таблице Ньюлендса сходные элементы располагались в горизонтальных рядах; однако, в одном и том же ряду часто оказывались и элементы совершенно непохожие. Кроме того, в некоторых ячейках Ньюлендс вынужден был разместить по два элемента; наконец, таблица Ньюлендса не содержит свободных мес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CFEC-2919-41C7-A140-51D42BACD8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блица Ньюленд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A19B-E77C-4385-8213-6146588FAF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864 году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ильям Одлинг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пересмотрев предложенную им в 1857 г. систематику элементов, основанную на эквивалентных весах, предложил следующую таблицу, не сопровождаемую какими-либо поясне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8E44-1A91-4793-9CD4-5A628172E5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блица Одл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AB1B-36A8-40C0-90E3-0A520AD808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9F63-9F64-4DC9-AA51-CE3CE671F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5F20-044E-447E-BE57-8DD2B945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66A5-4327-47FD-A8ED-FF5718052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4EAE-21CF-4E92-903E-0138B5231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A640-FA7C-4612-A169-F571587A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8BE9-AED9-4467-9373-F900AC7D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B08E-F657-460E-8D29-1C1E8A54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74A4-5BD8-4094-BE6D-8132ABE8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9D5B-9442-44EC-A4E8-D403BFD0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97E1-070D-4AD7-B47F-FFAFEC4D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C977-6DA1-48B8-B21B-1FEDEC6A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C582-E311-47CA-82B7-4DB7E7A9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A7E3-C342-4081-A63E-FD6169486B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72;&#1073;&#1083;&#1080;&#1094;&#1072;_&#1101;&#1083;&#1077;&#1084;&#1077;&#1085;&#1090;&#1086;&#1074;#cite_note-1" TargetMode="External"/><Relationship Id="rId2" Type="http://schemas.openxmlformats.org/officeDocument/2006/relationships/hyperlink" Target="http://ru.wikipedia.org/wiki/&#1065;&#1077;&#1083;&#1086;&#1095;&#1085;&#1099;&#1077;_&#1084;&#1077;&#1090;&#1072;&#1083;&#1083;&#1099;" TargetMode="External"/><Relationship Id="rId3" Type="http://schemas.openxmlformats.org/officeDocument/2006/relationships/hyperlink" Target="http://ru.wikipedia.org/wiki/&#1065;&#1077;&#1083;&#1086;&#1095;&#1085;&#1086;&#1079;&#1077;&#1084;&#1077;&#1083;&#1100;&#1085;&#1099;&#1077;_&#1084;&#1077;&#1090;&#1072;&#1083;&#1083;&#1099;" TargetMode="External"/><Relationship Id="rId4" Type="http://schemas.openxmlformats.org/officeDocument/2006/relationships/hyperlink" Target="http://ru.wikipedia.org/wiki/&#1055;&#1085;&#1080;&#1082;&#1090;&#1086;&#1075;&#1077;&#1085;&#1099;" TargetMode="External"/><Relationship Id="rId5" Type="http://schemas.openxmlformats.org/officeDocument/2006/relationships/hyperlink" Target="http://ru.wikipedia.org/wiki/&#1061;&#1072;&#1083;&#1100;&#1082;&#1086;&#1075;&#1077;&#1085;&#1099;" TargetMode="External"/><Relationship Id="rId6" Type="http://schemas.openxmlformats.org/officeDocument/2006/relationships/hyperlink" Target="http://ru.wikipedia.org/wiki/&#1043;&#1072;&#1083;&#1086;&#1075;&#1077;&#1085;&#1099;" TargetMode="External"/><Relationship Id="rId7" Type="http://schemas.openxmlformats.org/officeDocument/2006/relationships/hyperlink" Target="http://ru.wikipedia.org/wiki/&#1048;&#1085;&#1077;&#1088;&#1090;&#1085;&#1099;&#1077;_&#1075;&#1072;&#1079;&#1099;" TargetMode="External"/><Relationship Id="rId8" Type="http://schemas.openxmlformats.org/officeDocument/2006/relationships/hyperlink" Target="http://ru.wikipedia.org/wiki/&#1042;&#1086;&#1076;&#1086;&#1088;&#1086;&#1076;" TargetMode="External"/><Relationship Id="rId9" Type="http://schemas.openxmlformats.org/officeDocument/2006/relationships/hyperlink" Target="http://ru.wikipedia.org/wiki/&#1043;&#1077;&#1083;&#1080;&#1081;" TargetMode="External"/><Relationship Id="rId10" Type="http://schemas.openxmlformats.org/officeDocument/2006/relationships/hyperlink" Target="http://ru.wikipedia.org/wiki/&#1051;&#1080;&#1090;&#1080;&#1081;" TargetMode="External"/><Relationship Id="rId11" Type="http://schemas.openxmlformats.org/officeDocument/2006/relationships/hyperlink" Target="http://ru.wikipedia.org/wiki/&#1041;&#1077;&#1088;&#1080;&#1083;&#1083;&#1080;&#1081;" TargetMode="External"/><Relationship Id="rId12" Type="http://schemas.openxmlformats.org/officeDocument/2006/relationships/hyperlink" Target="http://ru.wikipedia.org/wiki/&#1041;&#1086;&#1088;_(&#1101;&#1083;&#1077;&#1084;&#1077;&#1085;&#1090;)" TargetMode="External"/><Relationship Id="rId13" Type="http://schemas.openxmlformats.org/officeDocument/2006/relationships/hyperlink" Target="http://ru.wikipedia.org/wiki/&#1059;&#1075;&#1083;&#1077;&#1088;&#1086;&#1076;" TargetMode="External"/><Relationship Id="rId14" Type="http://schemas.openxmlformats.org/officeDocument/2006/relationships/hyperlink" Target="http://ru.wikipedia.org/wiki/&#1040;&#1079;&#1086;&#1090;" TargetMode="External"/><Relationship Id="rId15" Type="http://schemas.openxmlformats.org/officeDocument/2006/relationships/hyperlink" Target="http://ru.wikipedia.org/wiki/&#1050;&#1080;&#1089;&#1083;&#1086;&#1088;&#1086;&#1076;" TargetMode="External"/><Relationship Id="rId16" Type="http://schemas.openxmlformats.org/officeDocument/2006/relationships/hyperlink" Target="http://ru.wikipedia.org/wiki/&#1060;&#1090;&#1086;&#1088;" TargetMode="External"/><Relationship Id="rId17" Type="http://schemas.openxmlformats.org/officeDocument/2006/relationships/hyperlink" Target="http://ru.wikipedia.org/wiki/&#1053;&#1077;&#1086;&#1085;" TargetMode="External"/><Relationship Id="rId18" Type="http://schemas.openxmlformats.org/officeDocument/2006/relationships/hyperlink" Target="http://ru.wikipedia.org/wiki/&#1053;&#1072;&#1090;&#1088;&#1080;&#1081;" TargetMode="External"/><Relationship Id="rId19" Type="http://schemas.openxmlformats.org/officeDocument/2006/relationships/hyperlink" Target="http://ru.wikipedia.org/wiki/&#1052;&#1072;&#1075;&#1085;&#1080;&#1081;" TargetMode="External"/><Relationship Id="rId20" Type="http://schemas.openxmlformats.org/officeDocument/2006/relationships/hyperlink" Target="http://ru.wikipedia.org/wiki/&#1040;&#1083;&#1102;&#1084;&#1080;&#1085;&#1080;&#1081;" TargetMode="External"/><Relationship Id="rId21" Type="http://schemas.openxmlformats.org/officeDocument/2006/relationships/hyperlink" Target="http://ru.wikipedia.org/wiki/&#1050;&#1088;&#1077;&#1084;&#1085;&#1080;&#1081;" TargetMode="External"/><Relationship Id="rId22" Type="http://schemas.openxmlformats.org/officeDocument/2006/relationships/hyperlink" Target="http://ru.wikipedia.org/wiki/&#1060;&#1086;&#1089;&#1092;&#1086;&#1088;" TargetMode="External"/><Relationship Id="rId23" Type="http://schemas.openxmlformats.org/officeDocument/2006/relationships/hyperlink" Target="http://ru.wikipedia.org/wiki/&#1057;&#1077;&#1088;&#1072;" TargetMode="External"/><Relationship Id="rId24" Type="http://schemas.openxmlformats.org/officeDocument/2006/relationships/hyperlink" Target="http://ru.wikipedia.org/wiki/&#1061;&#1083;&#1086;&#1088;" TargetMode="External"/><Relationship Id="rId25" Type="http://schemas.openxmlformats.org/officeDocument/2006/relationships/hyperlink" Target="http://ru.wikipedia.org/wiki/&#1040;&#1088;&#1075;&#1086;&#1085;" TargetMode="External"/><Relationship Id="rId26" Type="http://schemas.openxmlformats.org/officeDocument/2006/relationships/hyperlink" Target="http://ru.wikipedia.org/wiki/&#1050;&#1072;&#1083;&#1080;&#1081;" TargetMode="External"/><Relationship Id="rId27" Type="http://schemas.openxmlformats.org/officeDocument/2006/relationships/hyperlink" Target="http://ru.wikipedia.org/wiki/&#1050;&#1072;&#1083;&#1100;&#1094;&#1080;&#1081;" TargetMode="External"/><Relationship Id="rId28" Type="http://schemas.openxmlformats.org/officeDocument/2006/relationships/hyperlink" Target="http://ru.wikipedia.org/wiki/&#1057;&#1082;&#1072;&#1085;&#1076;&#1080;&#1081;" TargetMode="External"/><Relationship Id="rId29" Type="http://schemas.openxmlformats.org/officeDocument/2006/relationships/hyperlink" Target="http://ru.wikipedia.org/wiki/&#1058;&#1080;&#1090;&#1072;&#1085;_(&#1101;&#1083;&#1077;&#1084;&#1077;&#1085;&#1090;)" TargetMode="External"/><Relationship Id="rId30" Type="http://schemas.openxmlformats.org/officeDocument/2006/relationships/hyperlink" Target="http://ru.wikipedia.org/wiki/&#1042;&#1072;&#1085;&#1072;&#1076;&#1080;&#1081;" TargetMode="External"/><Relationship Id="rId31" Type="http://schemas.openxmlformats.org/officeDocument/2006/relationships/hyperlink" Target="http://ru.wikipedia.org/wiki/&#1061;&#1088;&#1086;&#1084;" TargetMode="External"/><Relationship Id="rId32" Type="http://schemas.openxmlformats.org/officeDocument/2006/relationships/hyperlink" Target="http://ru.wikipedia.org/wiki/&#1052;&#1072;&#1088;&#1075;&#1072;&#1085;&#1077;&#1094;" TargetMode="External"/><Relationship Id="rId33" Type="http://schemas.openxmlformats.org/officeDocument/2006/relationships/hyperlink" Target="http://ru.wikipedia.org/wiki/&#1046;&#1077;&#1083;&#1077;&#1079;&#1086;" TargetMode="External"/><Relationship Id="rId34" Type="http://schemas.openxmlformats.org/officeDocument/2006/relationships/hyperlink" Target="http://ru.wikipedia.org/wiki/&#1050;&#1086;&#1073;&#1072;&#1083;&#1100;&#1090;" TargetMode="External"/><Relationship Id="rId35" Type="http://schemas.openxmlformats.org/officeDocument/2006/relationships/hyperlink" Target="http://ru.wikipedia.org/wiki/&#1053;&#1080;&#1082;&#1077;&#1083;&#1100;" TargetMode="External"/><Relationship Id="rId36" Type="http://schemas.openxmlformats.org/officeDocument/2006/relationships/hyperlink" Target="http://ru.wikipedia.org/wiki/&#1052;&#1077;&#1076;&#1100;" TargetMode="External"/><Relationship Id="rId37" Type="http://schemas.openxmlformats.org/officeDocument/2006/relationships/hyperlink" Target="http://ru.wikipedia.org/wiki/&#1062;&#1080;&#1085;&#1082;" TargetMode="External"/><Relationship Id="rId38" Type="http://schemas.openxmlformats.org/officeDocument/2006/relationships/hyperlink" Target="http://ru.wikipedia.org/wiki/&#1043;&#1072;&#1083;&#1083;&#1080;&#1081;" TargetMode="External"/><Relationship Id="rId39" Type="http://schemas.openxmlformats.org/officeDocument/2006/relationships/hyperlink" Target="http://ru.wikipedia.org/wiki/&#1043;&#1077;&#1088;&#1084;&#1072;&#1085;&#1080;&#1081;" TargetMode="External"/><Relationship Id="rId40" Type="http://schemas.openxmlformats.org/officeDocument/2006/relationships/hyperlink" Target="http://ru.wikipedia.org/wiki/&#1052;&#1099;&#1096;&#1100;&#1103;&#1082;" TargetMode="External"/><Relationship Id="rId41" Type="http://schemas.openxmlformats.org/officeDocument/2006/relationships/hyperlink" Target="http://ru.wikipedia.org/wiki/&#1057;&#1077;&#1083;&#1077;&#1085;" TargetMode="External"/><Relationship Id="rId42" Type="http://schemas.openxmlformats.org/officeDocument/2006/relationships/hyperlink" Target="http://ru.wikipedia.org/wiki/&#1041;&#1088;&#1086;&#1084;" TargetMode="External"/><Relationship Id="rId43" Type="http://schemas.openxmlformats.org/officeDocument/2006/relationships/hyperlink" Target="http://ru.wikipedia.org/wiki/&#1050;&#1088;&#1080;&#1087;&#1090;&#1086;&#1085;" TargetMode="External"/><Relationship Id="rId44" Type="http://schemas.openxmlformats.org/officeDocument/2006/relationships/hyperlink" Target="http://ru.wikipedia.org/wiki/&#1056;&#1091;&#1073;&#1080;&#1076;&#1080;&#1081;" TargetMode="External"/><Relationship Id="rId45" Type="http://schemas.openxmlformats.org/officeDocument/2006/relationships/hyperlink" Target="http://ru.wikipedia.org/wiki/&#1057;&#1090;&#1088;&#1086;&#1085;&#1094;&#1080;&#1081;" TargetMode="External"/><Relationship Id="rId46" Type="http://schemas.openxmlformats.org/officeDocument/2006/relationships/hyperlink" Target="http://ru.wikipedia.org/wiki/&#1048;&#1090;&#1090;&#1088;&#1080;&#1081;" TargetMode="External"/><Relationship Id="rId47" Type="http://schemas.openxmlformats.org/officeDocument/2006/relationships/hyperlink" Target="http://ru.wikipedia.org/wiki/&#1062;&#1080;&#1088;&#1082;&#1086;&#1085;&#1080;&#1081;" TargetMode="External"/><Relationship Id="rId48" Type="http://schemas.openxmlformats.org/officeDocument/2006/relationships/hyperlink" Target="http://ru.wikipedia.org/wiki/&#1053;&#1080;&#1086;&#1073;&#1080;&#1081;" TargetMode="External"/><Relationship Id="rId49" Type="http://schemas.openxmlformats.org/officeDocument/2006/relationships/hyperlink" Target="http://ru.wikipedia.org/wiki/&#1052;&#1086;&#1083;&#1080;&#1073;&#1076;&#1077;&#1085;" TargetMode="External"/><Relationship Id="rId50" Type="http://schemas.openxmlformats.org/officeDocument/2006/relationships/hyperlink" Target="http://ru.wikipedia.org/wiki/&#1058;&#1077;&#1093;&#1085;&#1077;&#1094;&#1080;&#1081;" TargetMode="External"/><Relationship Id="rId51" Type="http://schemas.openxmlformats.org/officeDocument/2006/relationships/hyperlink" Target="http://ru.wikipedia.org/wiki/&#1056;&#1091;&#1090;&#1077;&#1085;&#1080;&#1081;" TargetMode="External"/><Relationship Id="rId52" Type="http://schemas.openxmlformats.org/officeDocument/2006/relationships/hyperlink" Target="http://ru.wikipedia.org/wiki/&#1056;&#1086;&#1076;&#1080;&#1081;" TargetMode="External"/><Relationship Id="rId53" Type="http://schemas.openxmlformats.org/officeDocument/2006/relationships/hyperlink" Target="http://ru.wikipedia.org/wiki/&#1055;&#1072;&#1083;&#1083;&#1072;&#1076;&#1080;&#1081;_(&#1101;&#1083;&#1077;&#1084;&#1077;&#1085;&#1090;)" TargetMode="External"/><Relationship Id="rId54" Type="http://schemas.openxmlformats.org/officeDocument/2006/relationships/hyperlink" Target="http://ru.wikipedia.org/wiki/&#1057;&#1077;&#1088;&#1077;&#1073;&#1088;&#1086;" TargetMode="External"/><Relationship Id="rId55" Type="http://schemas.openxmlformats.org/officeDocument/2006/relationships/hyperlink" Target="http://ru.wikipedia.org/wiki/&#1050;&#1072;&#1076;&#1084;&#1080;&#1081;" TargetMode="External"/><Relationship Id="rId56" Type="http://schemas.openxmlformats.org/officeDocument/2006/relationships/hyperlink" Target="http://ru.wikipedia.org/wiki/&#1048;&#1085;&#1076;&#1080;&#1081;" TargetMode="External"/><Relationship Id="rId57" Type="http://schemas.openxmlformats.org/officeDocument/2006/relationships/hyperlink" Target="http://ru.wikipedia.org/wiki/&#1054;&#1083;&#1086;&#1074;&#1086;" TargetMode="External"/><Relationship Id="rId58" Type="http://schemas.openxmlformats.org/officeDocument/2006/relationships/hyperlink" Target="http://ru.wikipedia.org/wiki/&#1057;&#1091;&#1088;&#1100;&#1084;&#1072;" TargetMode="External"/><Relationship Id="rId59" Type="http://schemas.openxmlformats.org/officeDocument/2006/relationships/hyperlink" Target="http://ru.wikipedia.org/wiki/&#1058;&#1077;&#1083;&#1083;&#1091;&#1088;" TargetMode="External"/><Relationship Id="rId60" Type="http://schemas.openxmlformats.org/officeDocument/2006/relationships/hyperlink" Target="http://ru.wikipedia.org/wiki/&#1049;&#1086;&#1076;" TargetMode="External"/><Relationship Id="rId61" Type="http://schemas.openxmlformats.org/officeDocument/2006/relationships/hyperlink" Target="http://ru.wikipedia.org/wiki/&#1050;&#1089;&#1077;&#1085;&#1086;&#1085;" TargetMode="External"/><Relationship Id="rId62" Type="http://schemas.openxmlformats.org/officeDocument/2006/relationships/hyperlink" Target="http://ru.wikipedia.org/wiki/&#1062;&#1077;&#1079;&#1080;&#1081;" TargetMode="External"/><Relationship Id="rId63" Type="http://schemas.openxmlformats.org/officeDocument/2006/relationships/hyperlink" Target="http://ru.wikipedia.org/wiki/&#1041;&#1072;&#1088;&#1080;&#1081;" TargetMode="External"/><Relationship Id="rId64" Type="http://schemas.openxmlformats.org/officeDocument/2006/relationships/hyperlink" Target="http://ru.wikipedia.org/wiki/&#1043;&#1072;&#1092;&#1085;&#1080;&#1081;" TargetMode="External"/><Relationship Id="rId65" Type="http://schemas.openxmlformats.org/officeDocument/2006/relationships/hyperlink" Target="http://ru.wikipedia.org/wiki/&#1058;&#1072;&#1085;&#1090;&#1072;&#1083;_(&#1101;&#1083;&#1077;&#1084;&#1077;&#1085;&#1090;)" TargetMode="External"/><Relationship Id="rId66" Type="http://schemas.openxmlformats.org/officeDocument/2006/relationships/hyperlink" Target="http://ru.wikipedia.org/wiki/&#1042;&#1086;&#1083;&#1100;&#1092;&#1088;&#1072;&#1084;" TargetMode="External"/><Relationship Id="rId67" Type="http://schemas.openxmlformats.org/officeDocument/2006/relationships/hyperlink" Target="http://ru.wikipedia.org/wiki/&#1056;&#1077;&#1085;&#1080;&#1081;" TargetMode="External"/><Relationship Id="rId68" Type="http://schemas.openxmlformats.org/officeDocument/2006/relationships/hyperlink" Target="http://ru.wikipedia.org/wiki/&#1054;&#1089;&#1084;&#1080;&#1081;" TargetMode="External"/><Relationship Id="rId69" Type="http://schemas.openxmlformats.org/officeDocument/2006/relationships/hyperlink" Target="http://ru.wikipedia.org/wiki/&#1048;&#1088;&#1080;&#1076;&#1080;&#1081;" TargetMode="External"/><Relationship Id="rId70" Type="http://schemas.openxmlformats.org/officeDocument/2006/relationships/hyperlink" Target="http://ru.wikipedia.org/wiki/&#1055;&#1083;&#1072;&#1090;&#1080;&#1085;&#1072;" TargetMode="External"/><Relationship Id="rId71" Type="http://schemas.openxmlformats.org/officeDocument/2006/relationships/hyperlink" Target="http://ru.wikipedia.org/wiki/&#1047;&#1086;&#1083;&#1086;&#1090;&#1086;" TargetMode="External"/><Relationship Id="rId72" Type="http://schemas.openxmlformats.org/officeDocument/2006/relationships/hyperlink" Target="http://ru.wikipedia.org/wiki/&#1056;&#1090;&#1091;&#1090;&#1100;" TargetMode="External"/><Relationship Id="rId73" Type="http://schemas.openxmlformats.org/officeDocument/2006/relationships/hyperlink" Target="http://ru.wikipedia.org/wiki/&#1058;&#1072;&#1083;&#1083;&#1080;&#1081;" TargetMode="External"/><Relationship Id="rId74" Type="http://schemas.openxmlformats.org/officeDocument/2006/relationships/hyperlink" Target="http://ru.wikipedia.org/wiki/&#1057;&#1074;&#1080;&#1085;&#1077;&#1094;" TargetMode="External"/><Relationship Id="rId75" Type="http://schemas.openxmlformats.org/officeDocument/2006/relationships/hyperlink" Target="http://ru.wikipedia.org/wiki/&#1042;&#1080;&#1089;&#1084;&#1091;&#1090;" TargetMode="External"/><Relationship Id="rId76" Type="http://schemas.openxmlformats.org/officeDocument/2006/relationships/hyperlink" Target="http://ru.wikipedia.org/wiki/&#1055;&#1086;&#1083;&#1086;&#1085;&#1080;&#1081;" TargetMode="External"/><Relationship Id="rId77" Type="http://schemas.openxmlformats.org/officeDocument/2006/relationships/hyperlink" Target="http://ru.wikipedia.org/wiki/&#1040;&#1089;&#1090;&#1072;&#1090;" TargetMode="External"/><Relationship Id="rId78" Type="http://schemas.openxmlformats.org/officeDocument/2006/relationships/hyperlink" Target="http://ru.wikipedia.org/wiki/&#1056;&#1072;&#1076;&#1086;&#1085;" TargetMode="External"/><Relationship Id="rId79" Type="http://schemas.openxmlformats.org/officeDocument/2006/relationships/hyperlink" Target="http://ru.wikipedia.org/wiki/&#1060;&#1088;&#1072;&#1085;&#1094;&#1080;&#1081;" TargetMode="External"/><Relationship Id="rId80" Type="http://schemas.openxmlformats.org/officeDocument/2006/relationships/hyperlink" Target="http://ru.wikipedia.org/wiki/&#1056;&#1072;&#1076;&#1080;&#1081;" TargetMode="External"/><Relationship Id="rId81" Type="http://schemas.openxmlformats.org/officeDocument/2006/relationships/hyperlink" Target="http://ru.wikipedia.org/wiki/&#1056;&#1077;&#1079;&#1077;&#1088;&#1092;&#1086;&#1088;&#1076;&#1080;&#1081;" TargetMode="External"/><Relationship Id="rId82" Type="http://schemas.openxmlformats.org/officeDocument/2006/relationships/hyperlink" Target="http://ru.wikipedia.org/wiki/&#1044;&#1091;&#1073;&#1085;&#1080;&#1081;" TargetMode="External"/><Relationship Id="rId83" Type="http://schemas.openxmlformats.org/officeDocument/2006/relationships/hyperlink" Target="http://ru.wikipedia.org/wiki/&#1057;&#1080;&#1073;&#1086;&#1088;&#1075;&#1080;&#1081;" TargetMode="External"/><Relationship Id="rId84" Type="http://schemas.openxmlformats.org/officeDocument/2006/relationships/hyperlink" Target="http://ru.wikipedia.org/wiki/&#1041;&#1086;&#1088;&#1080;&#1081;" TargetMode="External"/><Relationship Id="rId85" Type="http://schemas.openxmlformats.org/officeDocument/2006/relationships/hyperlink" Target="http://ru.wikipedia.org/wiki/&#1061;&#1072;&#1089;&#1089;&#1080;&#1081;" TargetMode="External"/><Relationship Id="rId86" Type="http://schemas.openxmlformats.org/officeDocument/2006/relationships/hyperlink" Target="http://ru.wikipedia.org/wiki/&#1052;&#1077;&#1081;&#1090;&#1085;&#1077;&#1088;&#1080;&#1081;" TargetMode="External"/><Relationship Id="rId87" Type="http://schemas.openxmlformats.org/officeDocument/2006/relationships/hyperlink" Target="http://ru.wikipedia.org/wiki/&#1044;&#1072;&#1088;&#1084;&#1096;&#1090;&#1072;&#1076;&#1090;&#1080;&#1081;" TargetMode="External"/><Relationship Id="rId88" Type="http://schemas.openxmlformats.org/officeDocument/2006/relationships/hyperlink" Target="http://ru.wikipedia.org/wiki/&#1056;&#1077;&#1085;&#1090;&#1075;&#1077;&#1085;&#1080;&#1081;" TargetMode="External"/><Relationship Id="rId89" Type="http://schemas.openxmlformats.org/officeDocument/2006/relationships/hyperlink" Target="http://ru.wikipedia.org/wiki/&#1050;&#1086;&#1087;&#1077;&#1088;&#1085;&#1080;&#1094;&#1080;&#1081;" TargetMode="External"/><Relationship Id="rId90" Type="http://schemas.openxmlformats.org/officeDocument/2006/relationships/hyperlink" Target="http://ru.wikipedia.org/wiki/&#1059;&#1085;&#1091;&#1085;&#1090;&#1088;&#1080;&#1081;" TargetMode="External"/><Relationship Id="rId91" Type="http://schemas.openxmlformats.org/officeDocument/2006/relationships/hyperlink" Target="http://ru.wikipedia.org/wiki/&#1059;&#1085;&#1091;&#1085;&#1082;&#1074;&#1072;&#1076;&#1080;&#1081;" TargetMode="External"/><Relationship Id="rId92" Type="http://schemas.openxmlformats.org/officeDocument/2006/relationships/hyperlink" Target="http://ru.wikipedia.org/wiki/&#1059;&#1085;&#1091;&#1085;&#1087;&#1077;&#1085;&#1090;&#1080;&#1081;" TargetMode="External"/><Relationship Id="rId93" Type="http://schemas.openxmlformats.org/officeDocument/2006/relationships/hyperlink" Target="http://ru.wikipedia.org/wiki/&#1059;&#1085;&#1091;&#1085;&#1075;&#1077;&#1082;&#1089;&#1080;&#1081;" TargetMode="External"/><Relationship Id="rId94" Type="http://schemas.openxmlformats.org/officeDocument/2006/relationships/hyperlink" Target="http://ru.wikipedia.org/wiki/&#1059;&#1085;&#1091;&#1085;&#1089;&#1077;&#1087;&#1090;&#1080;&#1081;" TargetMode="External"/><Relationship Id="rId95" Type="http://schemas.openxmlformats.org/officeDocument/2006/relationships/hyperlink" Target="http://ru.wikipedia.org/wiki/&#1059;&#1085;&#1091;&#1085;&#1086;&#1082;&#1090;&#1080;&#1081;" TargetMode="External"/><Relationship Id="rId96" Type="http://schemas.openxmlformats.org/officeDocument/2006/relationships/hyperlink" Target="http://ru.wikipedia.org/wiki/&#1059;&#1085;&#1091;&#1085;&#1077;&#1085;&#1085;&#1080;&#1081;" TargetMode="External"/><Relationship Id="rId97" Type="http://schemas.openxmlformats.org/officeDocument/2006/relationships/hyperlink" Target="http://ru.wikipedia.org/wiki/&#1059;&#1085;&#1073;&#1080;&#1085;&#1080;&#1083;&#1080;&#1081;" TargetMode="External"/><Relationship Id="rId98" Type="http://schemas.openxmlformats.org/officeDocument/2006/relationships/hyperlink" Target="http://ru.wikipedia.org/wiki/&#1051;&#1072;&#1085;&#1090;&#1072;&#1085;&#1086;&#1080;&#1076;&#1099;" TargetMode="External"/><Relationship Id="rId99" Type="http://schemas.openxmlformats.org/officeDocument/2006/relationships/hyperlink" Target="http://ru.wikipedia.org/wiki/&#1051;&#1072;&#1085;&#1090;&#1072;&#1085;" TargetMode="External"/><Relationship Id="rId100" Type="http://schemas.openxmlformats.org/officeDocument/2006/relationships/hyperlink" Target="http://ru.wikipedia.org/wiki/&#1062;&#1077;&#1088;&#1080;&#1081;" TargetMode="External"/><Relationship Id="rId101" Type="http://schemas.openxmlformats.org/officeDocument/2006/relationships/hyperlink" Target="http://ru.wikipedia.org/wiki/&#1055;&#1088;&#1072;&#1079;&#1077;&#1086;&#1076;&#1080;&#1084;" TargetMode="External"/><Relationship Id="rId102" Type="http://schemas.openxmlformats.org/officeDocument/2006/relationships/hyperlink" Target="http://ru.wikipedia.org/wiki/&#1053;&#1077;&#1086;&#1076;&#1080;&#1084;" TargetMode="External"/><Relationship Id="rId103" Type="http://schemas.openxmlformats.org/officeDocument/2006/relationships/hyperlink" Target="http://ru.wikipedia.org/wiki/&#1055;&#1088;&#1086;&#1084;&#1077;&#1090;&#1080;&#1081;" TargetMode="External"/><Relationship Id="rId104" Type="http://schemas.openxmlformats.org/officeDocument/2006/relationships/hyperlink" Target="http://ru.wikipedia.org/wiki/&#1057;&#1072;&#1084;&#1072;&#1088;&#1080;&#1081;" TargetMode="External"/><Relationship Id="rId105" Type="http://schemas.openxmlformats.org/officeDocument/2006/relationships/hyperlink" Target="http://ru.wikipedia.org/wiki/&#1045;&#1074;&#1088;&#1086;&#1087;&#1080;&#1081;" TargetMode="External"/><Relationship Id="rId106" Type="http://schemas.openxmlformats.org/officeDocument/2006/relationships/hyperlink" Target="http://ru.wikipedia.org/wiki/&#1043;&#1072;&#1076;&#1086;&#1083;&#1080;&#1085;&#1080;&#1081;" TargetMode="External"/><Relationship Id="rId107" Type="http://schemas.openxmlformats.org/officeDocument/2006/relationships/hyperlink" Target="http://ru.wikipedia.org/wiki/&#1058;&#1077;&#1088;&#1073;&#1080;&#1081;" TargetMode="External"/><Relationship Id="rId108" Type="http://schemas.openxmlformats.org/officeDocument/2006/relationships/hyperlink" Target="http://ru.wikipedia.org/wiki/&#1044;&#1080;&#1089;&#1087;&#1088;&#1086;&#1079;&#1080;&#1081;" TargetMode="External"/><Relationship Id="rId109" Type="http://schemas.openxmlformats.org/officeDocument/2006/relationships/hyperlink" Target="http://ru.wikipedia.org/wiki/&#1043;&#1086;&#1083;&#1100;&#1084;&#1080;&#1081;" TargetMode="External"/><Relationship Id="rId110" Type="http://schemas.openxmlformats.org/officeDocument/2006/relationships/hyperlink" Target="http://ru.wikipedia.org/wiki/&#1069;&#1088;&#1073;&#1080;&#1081;" TargetMode="External"/><Relationship Id="rId111" Type="http://schemas.openxmlformats.org/officeDocument/2006/relationships/hyperlink" Target="http://ru.wikipedia.org/wiki/&#1058;&#1091;&#1083;&#1080;&#1081;" TargetMode="External"/><Relationship Id="rId112" Type="http://schemas.openxmlformats.org/officeDocument/2006/relationships/hyperlink" Target="http://ru.wikipedia.org/wiki/&#1048;&#1090;&#1090;&#1077;&#1088;&#1073;&#1080;&#1081;" TargetMode="External"/><Relationship Id="rId113" Type="http://schemas.openxmlformats.org/officeDocument/2006/relationships/hyperlink" Target="http://ru.wikipedia.org/wiki/&#1051;&#1102;&#1090;&#1077;&#1094;&#1080;&#1081;" TargetMode="External"/><Relationship Id="rId114" Type="http://schemas.openxmlformats.org/officeDocument/2006/relationships/hyperlink" Target="http://ru.wikipedia.org/wiki/&#1040;&#1082;&#1090;&#1080;&#1085;&#1086;&#1080;&#1076;&#1099;" TargetMode="External"/><Relationship Id="rId115" Type="http://schemas.openxmlformats.org/officeDocument/2006/relationships/hyperlink" Target="http://ru.wikipedia.org/wiki/&#1040;&#1082;&#1090;&#1080;&#1085;&#1080;&#1081;" TargetMode="External"/><Relationship Id="rId116" Type="http://schemas.openxmlformats.org/officeDocument/2006/relationships/hyperlink" Target="http://ru.wikipedia.org/wiki/&#1058;&#1086;&#1088;&#1080;&#1081;" TargetMode="External"/><Relationship Id="rId117" Type="http://schemas.openxmlformats.org/officeDocument/2006/relationships/hyperlink" Target="http://ru.wikipedia.org/wiki/&#1055;&#1088;&#1086;&#1090;&#1072;&#1082;&#1090;&#1080;&#1085;&#1080;&#1081;" TargetMode="External"/><Relationship Id="rId118" Type="http://schemas.openxmlformats.org/officeDocument/2006/relationships/hyperlink" Target="http://ru.wikipedia.org/wiki/&#1059;&#1088;&#1072;&#1085;_(&#1101;&#1083;&#1077;&#1084;&#1077;&#1085;&#1090;)" TargetMode="External"/><Relationship Id="rId119" Type="http://schemas.openxmlformats.org/officeDocument/2006/relationships/hyperlink" Target="http://ru.wikipedia.org/wiki/&#1053;&#1077;&#1087;&#1090;&#1091;&#1085;&#1080;&#1081;" TargetMode="External"/><Relationship Id="rId120" Type="http://schemas.openxmlformats.org/officeDocument/2006/relationships/hyperlink" Target="http://ru.wikipedia.org/wiki/&#1055;&#1083;&#1091;&#1090;&#1086;&#1085;&#1080;&#1081;" TargetMode="External"/><Relationship Id="rId121" Type="http://schemas.openxmlformats.org/officeDocument/2006/relationships/hyperlink" Target="http://ru.wikipedia.org/wiki/&#1040;&#1084;&#1077;&#1088;&#1080;&#1094;&#1080;&#1081;" TargetMode="External"/><Relationship Id="rId122" Type="http://schemas.openxmlformats.org/officeDocument/2006/relationships/hyperlink" Target="http://ru.wikipedia.org/wiki/&#1050;&#1102;&#1088;&#1080;&#1081;" TargetMode="External"/><Relationship Id="rId123" Type="http://schemas.openxmlformats.org/officeDocument/2006/relationships/hyperlink" Target="http://ru.wikipedia.org/wiki/&#1041;&#1077;&#1088;&#1082;&#1083;&#1080;&#1081;" TargetMode="External"/><Relationship Id="rId124" Type="http://schemas.openxmlformats.org/officeDocument/2006/relationships/hyperlink" Target="http://ru.wikipedia.org/wiki/&#1050;&#1072;&#1083;&#1080;&#1092;&#1086;&#1088;&#1085;&#1080;&#1081;" TargetMode="External"/><Relationship Id="rId125" Type="http://schemas.openxmlformats.org/officeDocument/2006/relationships/hyperlink" Target="http://ru.wikipedia.org/wiki/&#1069;&#1081;&#1085;&#1096;&#1090;&#1077;&#1081;&#1085;&#1080;&#1081;" TargetMode="External"/><Relationship Id="rId126" Type="http://schemas.openxmlformats.org/officeDocument/2006/relationships/hyperlink" Target="http://ru.wikipedia.org/wiki/&#1060;&#1077;&#1088;&#1084;&#1080;&#1081;" TargetMode="External"/><Relationship Id="rId127" Type="http://schemas.openxmlformats.org/officeDocument/2006/relationships/hyperlink" Target="http://ru.wikipedia.org/wiki/&#1052;&#1077;&#1085;&#1076;&#1077;&#1083;&#1077;&#1074;&#1080;&#1081;" TargetMode="External"/><Relationship Id="rId128" Type="http://schemas.openxmlformats.org/officeDocument/2006/relationships/hyperlink" Target="http://ru.wikipedia.org/wiki/&#1053;&#1086;&#1073;&#1077;&#1083;&#1080;&#1081;" TargetMode="External"/><Relationship Id="rId12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9640" y="620640"/>
            <a:ext cx="79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Bookman Old Style"/>
              </a:rPr>
              <a:t>Периодический закон и Периодическая система химических элементов Д.И.Менделе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95280" y="364500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Мощь и сила науки во множестве фактов, цель в обобщении этого множества и возведении их к началам… Собрание фактов и гипотез – это ещё не наука; оно есть только преддверие её, мимо которого нельзя прямо войти в святилище науки. На этих преддвериях надпись – наблюдения, предложения, опыт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Д.И. Менделеев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539640" y="1628640"/>
            <a:ext cx="842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70 г.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Юлиус Лотар Мейер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убликовал свою первую таблицу, в которую включены 42 элемента (из 63), размещённые в шесть столбцов согласно их валентностям. Мейер намеренно ограничил число элементов в таблице, чтобы подчеркнуть закономерное (аналогичное триадам Дёберейнера) изменение атомной массы в рядах подобных эле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468360" y="40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539640" y="1484280"/>
          <a:ext cx="8280360" cy="3971880"/>
        </p:xfrm>
        <a:graphic>
          <a:graphicData uri="http://schemas.openxmlformats.org/drawingml/2006/table">
            <a:tbl>
              <a:tblPr/>
              <a:tblGrid>
                <a:gridCol w="911160"/>
                <a:gridCol w="909720"/>
                <a:gridCol w="912960"/>
                <a:gridCol w="909720"/>
                <a:gridCol w="911160"/>
                <a:gridCol w="909720"/>
                <a:gridCol w="912600"/>
                <a:gridCol w="911160"/>
                <a:gridCol w="992160"/>
              </a:tblGrid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 (?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Text Box 481"/>
          <p:cNvSpPr/>
          <p:nvPr/>
        </p:nvSpPr>
        <p:spPr>
          <a:xfrm>
            <a:off x="2916360" y="549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Май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971640" y="76500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арте 1869 г. русский химик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Дмитрий Иванович Менделее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ил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сскому химическому обществ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ериодический закон химических элемен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изложенный в нескольких основных полож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900000" y="371628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ом же 1869 г. вышло и первое издание учебника "Основы химии", в котором была приведена периодическая таблица Менделее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539640" y="1700280"/>
          <a:ext cx="8118720" cy="4206960"/>
        </p:xfrm>
        <a:graphic>
          <a:graphicData uri="http://schemas.openxmlformats.org/drawingml/2006/table">
            <a:tbl>
              <a:tblPr/>
              <a:tblGrid>
                <a:gridCol w="1352520"/>
                <a:gridCol w="1354320"/>
                <a:gridCol w="1352520"/>
                <a:gridCol w="1352520"/>
                <a:gridCol w="1354320"/>
                <a:gridCol w="1352520"/>
              </a:tblGrid>
              <a:tr h="13712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 =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 = 50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= 51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 = 5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 = 55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 = 56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 = Ni = 59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 = 6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r = 90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b = 9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 = 96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 = 104.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 = 104.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 = 106.6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 = 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= 180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 = 18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= 186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 = 197.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 = 198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 = 199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 =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 = 9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 = 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 = 6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 = 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= 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 = 27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= 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 = 1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 = 1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 =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 = 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= 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 = 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= 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= 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 = 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 = 210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= 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= 79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 = 128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= 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 = 3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 = 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 = 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 =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 = 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 = 39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 = 40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= 45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Er = 56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Yt = 60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In = 7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 = 85.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 = 87.6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 = 9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= 9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 = 95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 = 118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 = 133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 = 1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l = 204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 = 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319"/>
          <p:cNvSpPr/>
          <p:nvPr/>
        </p:nvSpPr>
        <p:spPr>
          <a:xfrm>
            <a:off x="1547640" y="54936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ая таблица Д.И.Менделеева, 1869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95280" y="69228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онце 1870 г. Менделеев доложил РХО статью "Естественная система элементов и применение её к указанию свойств неоткрытых элементов", в котором предсказал свойства неоткрытых ещё элементов – аналогов бора, алюминия и кремния (соответственн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каб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каалюми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касили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7" descr="Расположение в периодической таблице элементов, известных к 1870 г."/>
          <p:cNvPicPr/>
          <p:nvPr/>
        </p:nvPicPr>
        <p:blipFill>
          <a:blip r:embed="rId1"/>
          <a:stretch/>
        </p:blipFill>
        <p:spPr>
          <a:xfrm>
            <a:off x="395280" y="2924280"/>
            <a:ext cx="8424720" cy="19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900000" y="4869000"/>
          <a:ext cx="7920000" cy="1279440"/>
        </p:xfrm>
        <a:graphic>
          <a:graphicData uri="http://schemas.openxmlformats.org/drawingml/2006/table">
            <a:tbl>
              <a:tblPr/>
              <a:tblGrid>
                <a:gridCol w="79200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положение в периодической таблице элементов, известных в 1870 г. Зелёным цветом показаны ячейки, соответствующие элементам, свойства которых предсказывал Д. И. Менделе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539640" y="1268280"/>
            <a:ext cx="8604360" cy="35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71 г. Менделеев в итоговой статье "Периодическая законность химических элементов" дал формулировку Периодического зак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«Свойства элементов, а потому и свойства образуемых ими простых и сложных тел стоят в периодической зависимости от атомного веса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гда же Менделеев придал своей периодической таблице классический ви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250920" y="476280"/>
            <a:ext cx="889308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остранённее других являются 3 формы таблицы Менделее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короткая» (короткопериод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длинная» (длиннопериодна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сверхдлинная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«сверхдлинном» варианте каждый период занимает ровно одну строч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«длинном» варианте лантаноиды и актиноиды вынесены из общей таблицы, делая её более компакт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«короткой» форме записи, в дополнение к этому, четвёртый и последующие периоды занимают по 2 строчки; символы элементов главных и побочных подгрупп выравниваются относительно разных краёв кле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0" y="189000"/>
          <a:ext cx="9144000" cy="6035760"/>
        </p:xfrm>
        <a:graphic>
          <a:graphicData uri="http://schemas.openxmlformats.org/drawingml/2006/table">
            <a:tbl>
              <a:tblPr/>
              <a:tblGrid>
                <a:gridCol w="914400"/>
                <a:gridCol w="455760"/>
                <a:gridCol w="458640"/>
                <a:gridCol w="457200"/>
                <a:gridCol w="458640"/>
                <a:gridCol w="457200"/>
                <a:gridCol w="455760"/>
                <a:gridCol w="457200"/>
                <a:gridCol w="460440"/>
                <a:gridCol w="453960"/>
                <a:gridCol w="457200"/>
                <a:gridCol w="455760"/>
                <a:gridCol w="457200"/>
                <a:gridCol w="460080"/>
                <a:gridCol w="455760"/>
                <a:gridCol w="458640"/>
                <a:gridCol w="455760"/>
                <a:gridCol w="457200"/>
                <a:gridCol w="457200"/>
              </a:tblGrid>
              <a:tr h="274680">
                <a:tc gridSpan="19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ическая система элементов</a:t>
                      </a:r>
                      <a:r>
                        <a:rPr b="1" lang="ru-RU" sz="1200" spc="-1" strike="noStrike" u="sng" baseline="30000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[2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I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VI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VII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"/>
                        </a:rPr>
                        <a:t>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3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4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5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6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7"/>
                        </a:rPr>
                        <a:t>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8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9"/>
                        </a:rPr>
                        <a:t>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0"/>
                        </a:rPr>
                        <a:t>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1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2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3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4"/>
                        </a:rPr>
                        <a:t>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5"/>
                        </a:rPr>
                        <a:t>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6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7"/>
                        </a:rPr>
                        <a:t>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8"/>
                        </a:rPr>
                        <a:t>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9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0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1"/>
                        </a:rPr>
                        <a:t>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2"/>
                        </a:rPr>
                        <a:t>M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3"/>
                        </a:rPr>
                        <a:t>F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4"/>
                        </a:rPr>
                        <a:t>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5"/>
                        </a:rPr>
                        <a:t>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6"/>
                        </a:rPr>
                        <a:t>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7"/>
                        </a:rPr>
                        <a:t>Z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8"/>
                        </a:rPr>
                        <a:t>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9"/>
                        </a:rPr>
                        <a:t>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0"/>
                        </a:rPr>
                        <a:t>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1"/>
                        </a:rPr>
                        <a:t>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2"/>
                        </a:rPr>
                        <a:t>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3"/>
                        </a:rPr>
                        <a:t>K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4"/>
                        </a:rPr>
                        <a:t>R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5"/>
                        </a:rPr>
                        <a:t>S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6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7"/>
                        </a:rPr>
                        <a:t>Z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8"/>
                        </a:rPr>
                        <a:t>N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9"/>
                        </a:rPr>
                        <a:t>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0"/>
                        </a:rPr>
                        <a:t>T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1"/>
                        </a:rPr>
                        <a:t>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2"/>
                        </a:rPr>
                        <a:t>R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3"/>
                        </a:rPr>
                        <a:t>P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4"/>
                        </a:rPr>
                        <a:t>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5"/>
                        </a:rPr>
                        <a:t>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6"/>
                        </a:rPr>
                        <a:t>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7"/>
                        </a:rPr>
                        <a:t>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8"/>
                        </a:rPr>
                        <a:t>S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9"/>
                        </a:rPr>
                        <a:t>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0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1"/>
                        </a:rPr>
                        <a:t>X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2"/>
                        </a:rPr>
                        <a:t>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3"/>
                        </a:rPr>
                        <a:t>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4"/>
                        </a:rPr>
                        <a:t>H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5"/>
                        </a:rPr>
                        <a:t>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6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7"/>
                        </a:rPr>
                        <a:t>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8"/>
                        </a:rPr>
                        <a:t>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9"/>
                        </a:rPr>
                        <a:t>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0"/>
                        </a:rPr>
                        <a:t>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1"/>
                        </a:rPr>
                        <a:t>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2"/>
                        </a:rPr>
                        <a:t>H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3"/>
                        </a:rPr>
                        <a:t>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4"/>
                        </a:rPr>
                        <a:t>P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5"/>
                        </a:rPr>
                        <a:t>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6"/>
                        </a:rPr>
                        <a:t>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8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7"/>
                        </a:rPr>
                        <a:t>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8"/>
                        </a:rPr>
                        <a:t>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639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9"/>
                        </a:rPr>
                        <a:t>F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0"/>
                        </a:rPr>
                        <a:t>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1"/>
                        </a:rPr>
                        <a:t>R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2"/>
                        </a:rPr>
                        <a:t>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3"/>
                        </a:rPr>
                        <a:t>S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4"/>
                        </a:rPr>
                        <a:t>B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5"/>
                        </a:rPr>
                        <a:t>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6"/>
                        </a:rPr>
                        <a:t>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7"/>
                        </a:rPr>
                        <a:t>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8"/>
                        </a:rPr>
                        <a:t>R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9"/>
                        </a:rPr>
                        <a:t>C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0"/>
                        </a:rPr>
                        <a:t>U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1"/>
                        </a:rPr>
                        <a:t>Uu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2"/>
                        </a:rPr>
                        <a:t>U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3"/>
                        </a:rPr>
                        <a:t>Uu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4"/>
                        </a:rPr>
                        <a:t>U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fe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5"/>
                        </a:rPr>
                        <a:t>Uu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cfefc"/>
                    </a:solidFill>
                  </a:tcPr>
                </a:tc>
              </a:tr>
              <a:tr h="640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6"/>
                        </a:rPr>
                        <a:t>U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cfef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2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7"/>
                        </a:rPr>
                        <a:t>Ub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cfef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8"/>
                        </a:rPr>
                        <a:t>Лантаноид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9"/>
                        </a:rPr>
                        <a:t>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0"/>
                        </a:rPr>
                        <a:t>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1"/>
                        </a:rPr>
                        <a:t>P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2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3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4"/>
                        </a:rPr>
                        <a:t>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5"/>
                        </a:rPr>
                        <a:t>E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6"/>
                        </a:rPr>
                        <a:t>G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7"/>
                        </a:rPr>
                        <a:t>T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8"/>
                        </a:rPr>
                        <a:t>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9"/>
                        </a:rPr>
                        <a:t>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0"/>
                        </a:rPr>
                        <a:t>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1"/>
                        </a:rPr>
                        <a:t>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2"/>
                        </a:rPr>
                        <a:t>Y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3"/>
                        </a:rPr>
                        <a:t>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4"/>
                        </a:rPr>
                        <a:t>Актиноид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5"/>
                        </a:rPr>
                        <a:t>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6"/>
                        </a:rPr>
                        <a:t>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7"/>
                        </a:rPr>
                        <a:t>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8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9"/>
                        </a:rPr>
                        <a:t>N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0"/>
                        </a:rPr>
                        <a:t>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1"/>
                        </a:rPr>
                        <a:t>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2"/>
                        </a:rPr>
                        <a:t>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3"/>
                        </a:rPr>
                        <a:t>B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4"/>
                        </a:rPr>
                        <a:t>C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5"/>
                        </a:rPr>
                        <a:t>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6"/>
                        </a:rPr>
                        <a:t>F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7"/>
                        </a:rPr>
                        <a:t>M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8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17"/>
          <p:cNvPicPr/>
          <p:nvPr/>
        </p:nvPicPr>
        <p:blipFill>
          <a:blip r:embed="rId1"/>
          <a:stretch/>
        </p:blipFill>
        <p:spPr>
          <a:xfrm>
            <a:off x="826920" y="765000"/>
            <a:ext cx="7417080" cy="58168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468360" y="620640"/>
            <a:ext cx="82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Вторая формулиров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иодического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26920" y="2492280"/>
            <a:ext cx="777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Свойства химических элементов и образованных ими веществ находятся в периодической зависимости от зарядов их атомных яд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468360" y="40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9640" y="1125360"/>
            <a:ext cx="8064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29 г немецкий хим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оган Вольфганг Дёберейн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формулировал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кон триа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11280" y="3141720"/>
          <a:ext cx="8064360" cy="137160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5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468360" y="620640"/>
            <a:ext cx="82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Третья формулиров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иодического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826920" y="2492280"/>
            <a:ext cx="777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Свойства химических элементов и образованных ими веществ находятся в периодической зависимости от периодичности в изменении конфигураций внешних электронных слове атомов химических эле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250920" y="937800"/>
            <a:ext cx="460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мецкий хим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Леопольд Гмели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лся в Гёттингене в семье известного химика и врача Иоганна Фридриха Гмелина. Учился в Тюбингенском и Гёттингенском университетах;    в 1812 получил степень доктора медиц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1813 по 1851 работал в Гейдельбергском университете;   с 1817 — профессор медицины и хим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180px-Leopold_Gmelin-2"/>
          <p:cNvPicPr/>
          <p:nvPr/>
        </p:nvPicPr>
        <p:blipFill>
          <a:blip r:embed="rId1"/>
          <a:stretch/>
        </p:blipFill>
        <p:spPr>
          <a:xfrm>
            <a:off x="5076720" y="1052640"/>
            <a:ext cx="3814920" cy="453528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/>
          <p:cNvSpPr/>
          <p:nvPr/>
        </p:nvSpPr>
        <p:spPr>
          <a:xfrm>
            <a:off x="8244000" y="6308640"/>
            <a:ext cx="57456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539640" y="333360"/>
            <a:ext cx="53294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Джон Александр Рейна Ньюленд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одился в Лондоне 26 ноября 1837 г. Отец, шотландский священник Уильям Ньюлендс, не хотевший, чтобы сын пошёл по его стопам, подготовил его к поступлению в в химический колледж. Мать, Мэри Сара Рейна, итальянка, привила сыну любовь к музыке. Получив образование в колледже, он в 1857 г. Ньюлендс становится ассистентом химика в Королевском сельскохозяйственном обществе. Однако под влиянием матери Ньюлендс уезжает на её родину, в Италию, где набирало силу освободительное движение во главе с Джузеппе Гарибальди. Там в начале 1860 г. Ньюлендс познакомился со Станислао Канниццаро – одним из реформаторов атомно-молекулярного учения. Общение с Канниццаро, по-видимому, привлекло внимание Ньюлендса к проблеме атомных весов элемен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Джон Александр Рейна Ньюлендс"/>
          <p:cNvPicPr/>
          <p:nvPr/>
        </p:nvPicPr>
        <p:blipFill>
          <a:blip r:embed="rId1"/>
          <a:stretch/>
        </p:blipFill>
        <p:spPr>
          <a:xfrm>
            <a:off x="6012000" y="1341360"/>
            <a:ext cx="2881080" cy="38163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7"/>
          <p:cNvSpPr/>
          <p:nvPr/>
        </p:nvSpPr>
        <p:spPr>
          <a:xfrm>
            <a:off x="8244000" y="630864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395280" y="404640"/>
            <a:ext cx="45370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нглийский химик </a:t>
            </a:r>
            <a:r>
              <a:rPr b="1" lang="ru-RU" sz="2200" spc="-1" strike="noStrike">
                <a:solidFill>
                  <a:srgbClr val="006600"/>
                </a:solidFill>
                <a:latin typeface="Times New Roman"/>
              </a:rPr>
              <a:t>Уильям Одлинг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родился в Саутуорке, близ Лондона. В 1846-1850 гг. он получил медицинское образование в медицинской школе при госпитале Св. Варфоломея в Лондоне. В 1850 г. изучал химию в Париже у Шарля Жерара. С 1868 г. – профессор Королевского института, с 1872 г. – Оксфордского университета. Член Лондонского королевского общества с 1859 г., его почётный Секретарь (1856-1869), Вице-президент (1869-1872) и Президент (1873-1875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Уильям Одлинг"/>
          <p:cNvPicPr/>
          <p:nvPr/>
        </p:nvPicPr>
        <p:blipFill>
          <a:blip r:embed="rId1"/>
          <a:stretch/>
        </p:blipFill>
        <p:spPr>
          <a:xfrm>
            <a:off x="5219640" y="907920"/>
            <a:ext cx="3611520" cy="47516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9"/>
          <p:cNvSpPr/>
          <p:nvPr/>
        </p:nvSpPr>
        <p:spPr>
          <a:xfrm>
            <a:off x="8244000" y="630864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468360" y="692280"/>
            <a:ext cx="446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Юлиус Лотар Мейе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одился 19 августа 1830 года в семье врача в маленьком городке Фареле в провинции Ольденбург. Обладая слабым здоровьем, среднюю школу он смог закончить только к двадцати одному году. После школы по примеру своего отца Мейер стал изучать медицину, и в 1854 году получил степень доктора в Вюрцбургском университе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Юлиус Лотар Мейер"/>
          <p:cNvPicPr/>
          <p:nvPr/>
        </p:nvPicPr>
        <p:blipFill>
          <a:blip r:embed="rId1"/>
          <a:stretch/>
        </p:blipFill>
        <p:spPr>
          <a:xfrm>
            <a:off x="5076720" y="907920"/>
            <a:ext cx="3726000" cy="395928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8"/>
          <p:cNvSpPr/>
          <p:nvPr/>
        </p:nvSpPr>
        <p:spPr>
          <a:xfrm>
            <a:off x="8244000" y="630864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МЕНДЕЛЕЕВ Дмитрий Иванович (1834-1907), российский химик, разносторонний ученый, педагог ::  Открыл (1869) периодический закон химических элементов — один из основных законов естествознания"/>
          <p:cNvPicPr/>
          <p:nvPr/>
        </p:nvPicPr>
        <p:blipFill>
          <a:blip r:embed="rId1"/>
          <a:stretch/>
        </p:blipFill>
        <p:spPr>
          <a:xfrm>
            <a:off x="611280" y="549360"/>
            <a:ext cx="4176720" cy="55436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5364000" y="692280"/>
            <a:ext cx="331164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.И. Менделеев родился 8 февраля 1834г. в г.Тобольске, в семье директора гимназии и попечителя училищ. Мать — владелица небольшого стекольного произво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8244000" y="630864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755640" y="1557360"/>
            <a:ext cx="784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ить все известные элементы на триады Дёберейнеру, естественно, не удалось, тем не менее, закон триад явно указывал на наличие взаимосвязи между атомной массой и свойствами элементов и их соединений. Все дальнейшие попытки систематизации основывались на размещении элементов в порядке возрастания их атомных ве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468360" y="40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24000" y="1341360"/>
            <a:ext cx="856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43 г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Леопольд Гмелин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ёл таблицу химически сходных элементов, расставленных по группам в порядке возрастан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"соединительных масс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Вне групп элементов, вверху таблицы, Гмелин поместил три "базисных" элемента – кислород, азот и водород. Под ними были расставлены триады, а также тетрады и пентады (группы из четырех и пяти элементов), причём под кислородом расположены группы металлоидов (по терминологии Берцелиуса), т.е. электроотрицательных элементов; электроположительные и электроотрицательные свойства групп элементов плавно изменялись сверху вниз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187280" y="2133720"/>
          <a:ext cx="6624720" cy="2376360"/>
        </p:xfrm>
        <a:graphic>
          <a:graphicData uri="http://schemas.openxmlformats.org/drawingml/2006/table">
            <a:tbl>
              <a:tblPr/>
              <a:tblGrid>
                <a:gridCol w="2208240"/>
                <a:gridCol w="2208240"/>
                <a:gridCol w="22082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 =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Cl = 3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K = 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 =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N = 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Ag = 1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S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= 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C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b = 103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52"/>
          <p:cNvSpPr/>
          <p:nvPr/>
        </p:nvSpPr>
        <p:spPr>
          <a:xfrm>
            <a:off x="1258920" y="40464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Часть таблицы Леопольда Гме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68360" y="40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24000" y="1197000"/>
            <a:ext cx="856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Джон Александр Рейна Ньюлендс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1864 г. опубликовал таблицу элементов, отражающую предложенный им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закон окта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Ньюлендс показал, что в ряду элементов, размещённых в порядке возрастания атомных весов, свойства восьмого элемента сходны со свойствами первого. Такая зависимость действительно имеет место для лёгких элементов, однако Ньюлендс пытается придать ей всеобщий характер. В таблице Ньюлендса сходные элементы располагались в горизонтальных рядах; однако, в одном и том же ряду часто оказывались и элементы совершенно непохожие. Кроме того, в некоторых ячейках Ньюлендс вынужден был разместить по два элемента; наконец, таблица Ньюлендса не содержит свободных мес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33200" y="1874880"/>
          <a:ext cx="8879040" cy="3110040"/>
        </p:xfrm>
        <a:graphic>
          <a:graphicData uri="http://schemas.openxmlformats.org/drawingml/2006/table">
            <a:tbl>
              <a:tblPr/>
              <a:tblGrid>
                <a:gridCol w="549360"/>
                <a:gridCol w="549360"/>
                <a:gridCol w="549360"/>
                <a:gridCol w="549000"/>
                <a:gridCol w="549360"/>
                <a:gridCol w="549360"/>
                <a:gridCol w="549360"/>
                <a:gridCol w="549360"/>
                <a:gridCol w="549000"/>
                <a:gridCol w="549360"/>
                <a:gridCol w="549360"/>
                <a:gridCol w="549360"/>
                <a:gridCol w="549000"/>
                <a:gridCol w="549360"/>
                <a:gridCol w="549360"/>
                <a:gridCol w="639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859"/>
          <p:cNvSpPr/>
          <p:nvPr/>
        </p:nvSpPr>
        <p:spPr>
          <a:xfrm>
            <a:off x="2627280" y="83664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а Ньюленд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468360" y="40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611280" y="206064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64 году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Уильям Одлин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ересмотрев предложенную им в 1857 г. систематику элементов, основанную на эквивалентных весах, предложил следующую таблицу, не сопровождаемую какими-либо поясн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755640" y="1484280"/>
          <a:ext cx="8064360" cy="4624560"/>
        </p:xfrm>
        <a:graphic>
          <a:graphicData uri="http://schemas.openxmlformats.org/drawingml/2006/table">
            <a:tbl>
              <a:tblPr/>
              <a:tblGrid>
                <a:gridCol w="1612800"/>
                <a:gridCol w="1613160"/>
                <a:gridCol w="1612800"/>
                <a:gridCol w="1612800"/>
                <a:gridCol w="1612800"/>
              </a:tblGrid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плетные групп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 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1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 19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 10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 1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 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 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 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 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 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 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 2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l 2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 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 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 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 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 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79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 1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 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 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 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 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 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 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 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 8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 1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 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r 89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 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 5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1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 55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Fe,Ni,Co,Cu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Text Box 523"/>
          <p:cNvSpPr/>
          <p:nvPr/>
        </p:nvSpPr>
        <p:spPr>
          <a:xfrm>
            <a:off x="2556000" y="39384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а Одлин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3:28:00Z</dcterms:created>
  <dc:creator>Татьяна</dc:creator>
  <dc:description/>
  <dc:language>en-US</dc:language>
  <cp:lastModifiedBy>LEGION</cp:lastModifiedBy>
  <dcterms:modified xsi:type="dcterms:W3CDTF">2015-05-01T11:06:46Z</dcterms:modified>
  <cp:revision>10</cp:revision>
  <dc:subject/>
  <dc:title>Слайд 1</dc:title>
</cp:coreProperties>
</file>