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CEBD-53E1-4CCC-84D9-416D90A80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ализ тенденций развития химии на примере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их премий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CA5A-4DA4-499D-AA06-5D1D476A2AB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21F1-9017-41CA-B283-122E9F5F63B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E29E-C7B2-4740-B79D-4EE8A7A7C6B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CD40-84B8-460B-AC00-1FE823B0F67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7326-08F6-4D6F-9481-4025C12784D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9AC0-7820-425B-8C50-7BF3B9DE9D1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8200-27AD-4E11-B3A1-F9ABDD59DEC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C779-A665-4D09-92CA-E3C93FC26C3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0F53-6BF6-4B52-AC75-10639ADD40E0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Нобелевская пр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onstantia"/>
              </a:rPr>
              <a:t> 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F926-D3CF-4A81-9421-0CF337658702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BA2B-BFB1-4454-9B34-DBDA98C9E142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BA6F-3AA1-43AB-8C7D-18F2E997D69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F953-DDCA-4459-899D-B429247E1F8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26B2-17A6-456A-B7FB-FCC15BC7036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C558-2A8A-4288-8C72-2CD07DC7DCB3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1F56-FD0E-4372-81BF-DFD8F37E3CC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DEBA-D60F-4A83-85AD-C1CA2B8E5358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0E20-3FC7-4DDE-83AF-A4508436C9C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776F-3A5F-43D8-BA1A-085711C78E7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1512-76A7-4C4C-BE57-0DEAA5171423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D670-0D50-4C0A-8A0A-9780E197CC5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083A-E820-43E3-B227-A0FBEE5B429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3"/>
          <p:cNvSpPr/>
          <p:nvPr/>
        </p:nvSpPr>
        <p:spPr>
          <a:xfrm>
            <a:off x="0" y="3429000"/>
            <a:ext cx="5940360" cy="1368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2535120" y="2646360"/>
            <a:ext cx="6462720" cy="29005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5508720" y="609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Выполнила: Уралбаева К.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Астана, І группа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Picture 5" descr="C:\Users\Кульпаш\Desktop\фото для оформ\о-1.jpg"/>
          <p:cNvPicPr/>
          <p:nvPr/>
        </p:nvPicPr>
        <p:blipFill>
          <a:blip r:embed="rId2"/>
          <a:stretch/>
        </p:blipFill>
        <p:spPr>
          <a:xfrm>
            <a:off x="249120" y="2852640"/>
            <a:ext cx="2354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684360" y="3206880"/>
            <a:ext cx="79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788000" y="14986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5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255600" y="3213000"/>
            <a:ext cx="864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542880" y="311796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268200" y="3789360"/>
            <a:ext cx="8721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pic>
        <p:nvPicPr>
          <p:cNvPr id="145" name="Таблица 1" descr=""/>
          <p:cNvPicPr/>
          <p:nvPr/>
        </p:nvPicPr>
        <p:blipFill>
          <a:blip r:embed="rId3"/>
          <a:stretch/>
        </p:blipFill>
        <p:spPr>
          <a:xfrm>
            <a:off x="324000" y="2962440"/>
            <a:ext cx="8429400" cy="37494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341280" y="3213000"/>
            <a:ext cx="846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250920" y="350028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507960" y="321300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Н. Семенов (1896—1986), основатель Института хими­ческой физики,  Нобелевский лауреат, говорил о химии как о «науке и производстве». «Основным и наиболее характерным предметом химии как науки и как производства, — утверждал он, — являются про­цессы получения из определенных веществ (сырья) новых веществ (про­дуктов), обладающих существенно новыми свойствами»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енов упомянул в качестве связующего звена, соединяющего хи­мическую науку и химическое производство, вещество. Ве­щество — это сырье, продукт, полупродукт (промежуточный продукт)производства, а также окружающая человека среда, рассмотренная со стороны ее свойств и состав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395280" y="313992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395280" y="3357720"/>
            <a:ext cx="64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4788000" y="13222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ая соединительная линия 4"/>
          <p:cNvSpPr/>
          <p:nvPr/>
        </p:nvSpPr>
        <p:spPr>
          <a:xfrm>
            <a:off x="-36360" y="285264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Прямоугольник 1"/>
          <p:cNvSpPr/>
          <p:nvPr/>
        </p:nvSpPr>
        <p:spPr>
          <a:xfrm>
            <a:off x="324000" y="3027240"/>
            <a:ext cx="849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3316320" cy="6462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539640" y="278136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  <a:ea typeface="Arial"/>
              </a:rPr>
              <a:t> 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561960" y="443700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529080" cy="15843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ая соединительная линия 4"/>
          <p:cNvSpPr/>
          <p:nvPr/>
        </p:nvSpPr>
        <p:spPr>
          <a:xfrm>
            <a:off x="-36360" y="2781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324000" y="278136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250920" y="312912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216000" y="3284640"/>
            <a:ext cx="87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431640" y="3357720"/>
            <a:ext cx="82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324000" y="2576520"/>
            <a:ext cx="8496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468360" y="2924280"/>
            <a:ext cx="820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569880" y="3284640"/>
            <a:ext cx="8323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206960" cy="6462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539640" y="314172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1979640" y="1268280"/>
            <a:ext cx="6840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1763640" y="1125360"/>
            <a:ext cx="734544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Picture 2" descr="C:\Users\Кульпаш\Pictures\Frederick_Sanger2.jpg"/>
          <p:cNvPicPr/>
          <p:nvPr/>
        </p:nvPicPr>
        <p:blipFill>
          <a:blip r:embed="rId3"/>
          <a:stretch/>
        </p:blipFill>
        <p:spPr>
          <a:xfrm>
            <a:off x="6659640" y="290520"/>
            <a:ext cx="2160360" cy="26589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1908000" y="1270080"/>
            <a:ext cx="468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6617520" y="295596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редерик   Сэнгер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6804000" y="3244680"/>
            <a:ext cx="22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дился 13 августа 1918 года в Англи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1865160" y="4338720"/>
            <a:ext cx="713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1835280" y="148428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3" descr="C:\Users\Кульпаш\Pictures\химик.jpg"/>
          <p:cNvPicPr/>
          <p:nvPr/>
        </p:nvPicPr>
        <p:blipFill>
          <a:blip r:embed="rId3"/>
          <a:stretch/>
        </p:blipFill>
        <p:spPr>
          <a:xfrm>
            <a:off x="6486480" y="277920"/>
            <a:ext cx="2435400" cy="3168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6464160" y="3504240"/>
            <a:ext cx="2457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нт-Гофф 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коб Хендрик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30.8.1852 — 1.3.1911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827360" y="4416480"/>
            <a:ext cx="7316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1979640" y="141300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4" name="Picture 6" descr="р хек"/>
          <p:cNvPicPr/>
          <p:nvPr/>
        </p:nvPicPr>
        <p:blipFill>
          <a:blip r:embed="rId3"/>
          <a:stretch/>
        </p:blipFill>
        <p:spPr>
          <a:xfrm>
            <a:off x="6950160" y="1127160"/>
            <a:ext cx="1285920" cy="145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негиси"/>
          <p:cNvPicPr/>
          <p:nvPr/>
        </p:nvPicPr>
        <p:blipFill>
          <a:blip r:embed="rId4"/>
          <a:stretch/>
        </p:blipFill>
        <p:spPr>
          <a:xfrm>
            <a:off x="6875640" y="2975040"/>
            <a:ext cx="1873080" cy="139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по химии"/>
          <p:cNvPicPr/>
          <p:nvPr/>
        </p:nvPicPr>
        <p:blipFill>
          <a:blip r:embed="rId5"/>
          <a:stretch/>
        </p:blipFill>
        <p:spPr>
          <a:xfrm>
            <a:off x="6948360" y="4797360"/>
            <a:ext cx="1871640" cy="1398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7101000" y="256536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чард Хек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247160" y="44370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ити Негис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7101720" y="618660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ира Судзук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5:36:24Z</dcterms:created>
  <dc:creator>Кульпаш</dc:creator>
  <dc:description/>
  <dc:language>en-US</dc:language>
  <cp:lastModifiedBy>LEGION</cp:lastModifiedBy>
  <dcterms:modified xsi:type="dcterms:W3CDTF">2015-05-01T11:08:15Z</dcterms:modified>
  <cp:revision>29</cp:revision>
  <dc:subject/>
  <dc:title>Презентация PowerPoint</dc:title>
</cp:coreProperties>
</file>