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B2BB-ACFF-4769-B8CA-A24164EEFC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тенденций развития химии на примере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их премий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2D6D-67F4-41A6-9EE1-3BE2855B1C8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23E9-C2B9-4F20-B341-7923BC00CA9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D0C9-ACB1-4D1A-9C61-058BCC23B12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1D7A-D2C8-4B65-8332-3BB449CD694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3357-6042-4C47-8868-779B7F6C21E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0EF8-65E6-4E28-9DA8-22D592CA597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28B6-E779-4AED-BBAC-D7335383FD2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3ECE-5B21-474F-8839-150EE307100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9FD0-74F4-44A7-AE4C-9C13761649A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Нобелевская пр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4835-88F3-428D-8841-AB6A51E02F6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DD52-8F31-4B31-B0ED-68EF585987A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FF86-FC93-4C38-92A8-83BEF2B85E9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CEA-FB91-40B5-B147-4DED9D7309B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8AA2-E6F4-464B-9A01-7952FACF7F8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069E-9307-4217-8ADB-DF2CE098570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FCD1-620D-413F-AD82-C42E5020EDF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E814-5AD5-45A0-B54A-35AB08B4EBA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D4B9-238D-4F03-9D75-389B94F217A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265D-1C27-4DAF-8472-E6253002407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9F31-2E47-4BB9-9EBE-E72F2F21B65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7BF7-F985-40FC-9756-A2E1609361C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F55B-F81F-4FE0-9B36-C957EEA3A93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2646360"/>
            <a:ext cx="6462720" cy="2900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872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Выполнила: Уралбаева К.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Астана, І групп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C:\Users\Кульпаш\Desktop\фото для оформ\о-1.jpg"/>
          <p:cNvPicPr/>
          <p:nvPr/>
        </p:nvPicPr>
        <p:blipFill>
          <a:blip r:embed="rId2"/>
          <a:stretch/>
        </p:blipFill>
        <p:spPr>
          <a:xfrm>
            <a:off x="249120" y="2852640"/>
            <a:ext cx="2354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4360" y="32068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788000" y="14986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5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5600" y="321300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42880" y="311796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68200" y="3789360"/>
            <a:ext cx="8721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Таблица 1" descr=""/>
          <p:cNvPicPr/>
          <p:nvPr/>
        </p:nvPicPr>
        <p:blipFill>
          <a:blip r:embed="rId3"/>
          <a:stretch/>
        </p:blipFill>
        <p:spPr>
          <a:xfrm>
            <a:off x="324000" y="2962440"/>
            <a:ext cx="8429400" cy="3749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41280" y="3213000"/>
            <a:ext cx="84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50920" y="350028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507960" y="3213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Н. Семенов (1896—1986), основатель Института хими­ческой физики,  Нобелевский лауреат, говорил о химии как о «науке и производстве». «Основным и наиболее характерным предметом химии как науки и как производства, — утверждал он, — являются про­цессы получения из определенных веществ (сырья) новых веществ (про­дуктов), обладающих существенно новыми свойствами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нов упомянул в качестве связующего звена, соединяющего хи­мическую науку и химическое производство, вещество. Ве­щество — это сырье, продукт, полупродукт (промежуточный продукт)производства, а также окружающая человека среда, рассмотренная со стороны ее свойств и соста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395280" y="31399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395280" y="335772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788000" y="13222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4"/>
          <p:cNvSpPr/>
          <p:nvPr/>
        </p:nvSpPr>
        <p:spPr>
          <a:xfrm>
            <a:off x="-36360" y="285264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324000" y="302724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33163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39640" y="278136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6196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>
            <a:off x="-36360" y="2781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24000" y="2781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50920" y="31291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16000" y="3284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31640" y="3357720"/>
            <a:ext cx="82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324000" y="2576520"/>
            <a:ext cx="84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468360" y="2924280"/>
            <a:ext cx="820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69880" y="3284640"/>
            <a:ext cx="832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206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539640" y="314172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979640" y="1268280"/>
            <a:ext cx="684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1763640" y="1125360"/>
            <a:ext cx="734544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Кульпаш\Pictures\Frederick_Sanger2.jpg"/>
          <p:cNvPicPr/>
          <p:nvPr/>
        </p:nvPicPr>
        <p:blipFill>
          <a:blip r:embed="rId3"/>
          <a:stretch/>
        </p:blipFill>
        <p:spPr>
          <a:xfrm>
            <a:off x="6659640" y="290520"/>
            <a:ext cx="2160360" cy="2658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908000" y="127008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6617520" y="2955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едерик   Сэнгер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6804000" y="3244680"/>
            <a:ext cx="22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лся 13 августа 1918 года в Англи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865160" y="4338720"/>
            <a:ext cx="713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35280" y="148428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Кульпаш\Pictures\химик.jpg"/>
          <p:cNvPicPr/>
          <p:nvPr/>
        </p:nvPicPr>
        <p:blipFill>
          <a:blip r:embed="rId3"/>
          <a:stretch/>
        </p:blipFill>
        <p:spPr>
          <a:xfrm>
            <a:off x="6486480" y="277920"/>
            <a:ext cx="243540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464160" y="3504240"/>
            <a:ext cx="2457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нт-Гофф 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коб Хендр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0.8.1852 — 1.3.191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827360" y="4416480"/>
            <a:ext cx="731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979640" y="1413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6" descr="р хек"/>
          <p:cNvPicPr/>
          <p:nvPr/>
        </p:nvPicPr>
        <p:blipFill>
          <a:blip r:embed="rId3"/>
          <a:stretch/>
        </p:blipFill>
        <p:spPr>
          <a:xfrm>
            <a:off x="6950160" y="1127160"/>
            <a:ext cx="1285920" cy="14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негиси"/>
          <p:cNvPicPr/>
          <p:nvPr/>
        </p:nvPicPr>
        <p:blipFill>
          <a:blip r:embed="rId4"/>
          <a:stretch/>
        </p:blipFill>
        <p:spPr>
          <a:xfrm>
            <a:off x="6875640" y="2975040"/>
            <a:ext cx="1873080" cy="13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по химии"/>
          <p:cNvPicPr/>
          <p:nvPr/>
        </p:nvPicPr>
        <p:blipFill>
          <a:blip r:embed="rId5"/>
          <a:stretch/>
        </p:blipFill>
        <p:spPr>
          <a:xfrm>
            <a:off x="6948360" y="4797360"/>
            <a:ext cx="1871640" cy="1398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101000" y="25653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чард Хек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247160" y="4437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ити Негис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101720" y="61866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ира Судзук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5:36:24Z</dcterms:created>
  <dc:creator>Кульпаш</dc:creator>
  <dc:description/>
  <dc:language>en-US</dc:language>
  <cp:lastModifiedBy>LEGION</cp:lastModifiedBy>
  <dcterms:modified xsi:type="dcterms:W3CDTF">2015-05-01T11:08:15Z</dcterms:modified>
  <cp:revision>29</cp:revision>
  <dc:subject/>
  <dc:title>Презентация PowerPoint</dc:title>
</cp:coreProperties>
</file>