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4D8A-D59E-416D-B54D-4175F0F63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тенденций развития химии на примере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их премий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0D13-A674-4105-A71F-2BCEFF5AB9C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45B7-6132-4F5C-801D-E6DFA8451EA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2820-5A9C-4184-8021-72EE7A54257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94B8-C784-426F-8A68-DFA6FB2B456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F5B6-8B65-4BA6-A4FC-6D5C267CD47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3FBF-CAD8-4DB8-A780-9528D22CBCC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B635-D512-4303-9778-5FC4318507F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F35C-AC18-4576-B62B-4964384B22A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7BA2-3D48-4934-A938-22652F06D89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Нобелевская пр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F9D8-48FB-4622-89E8-23B50D099AC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C793-5CEA-4CB8-80DA-405251C38C4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ABC-AD12-4519-805B-B4FA0770844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6DCC-FFAD-49F5-A361-FAA442CC219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11F1-2D6E-41DA-862D-ECC7172847D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209A-DE92-49A7-98EA-006DB32ACF9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A43B-92EC-45B3-84BA-2FCA869A421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480-E04A-426D-A2AB-9832C52097D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40C1-A243-4E77-9B3E-82137CD26DD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F843-BF27-4E34-A5B4-65E11C84611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D0BA-9332-4194-9799-640AB58BCF3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5C9B-E43A-408C-851B-883F61B2A2D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7E4-5F81-466C-A107-F6D772194A1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2646360"/>
            <a:ext cx="6462720" cy="2900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872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Выполнила: Уралбаева К.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Астана, І групп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C:\Users\Кульпаш\Desktop\фото для оформ\о-1.jpg"/>
          <p:cNvPicPr/>
          <p:nvPr/>
        </p:nvPicPr>
        <p:blipFill>
          <a:blip r:embed="rId2"/>
          <a:stretch/>
        </p:blipFill>
        <p:spPr>
          <a:xfrm>
            <a:off x="249120" y="2852640"/>
            <a:ext cx="2354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4360" y="32068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788000" y="14986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5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5600" y="321300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42880" y="311796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68200" y="3789360"/>
            <a:ext cx="8721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Таблица 1" descr=""/>
          <p:cNvPicPr/>
          <p:nvPr/>
        </p:nvPicPr>
        <p:blipFill>
          <a:blip r:embed="rId3"/>
          <a:stretch/>
        </p:blipFill>
        <p:spPr>
          <a:xfrm>
            <a:off x="324000" y="2962440"/>
            <a:ext cx="8429400" cy="3749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41280" y="3213000"/>
            <a:ext cx="84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50920" y="350028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507960" y="3213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Н. Семенов (1896—1986), основатель Института хими­ческой физики,  Нобелевский лауреат, говорил о химии как о «науке и производстве». «Основным и наиболее характерным предметом химии как науки и как производства, — утверждал он, — являются про­цессы получения из определенных веществ (сырья) новых веществ (про­дуктов), обладающих существенно новыми свойствами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нов упомянул в качестве связующего звена, соединяющего хи­мическую науку и химическое производство, вещество. Ве­щество — это сырье, продукт, полупродукт (промежуточный продукт)производства, а также окружающая человека среда, рассмотренная со стороны ее свойств и соста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395280" y="31399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395280" y="335772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788000" y="13222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4"/>
          <p:cNvSpPr/>
          <p:nvPr/>
        </p:nvSpPr>
        <p:spPr>
          <a:xfrm>
            <a:off x="-36360" y="285264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324000" y="302724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33163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39640" y="278136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6196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>
            <a:off x="-36360" y="2781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24000" y="2781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50920" y="31291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16000" y="3284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31640" y="3357720"/>
            <a:ext cx="82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324000" y="2576520"/>
            <a:ext cx="84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468360" y="2924280"/>
            <a:ext cx="820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69880" y="3284640"/>
            <a:ext cx="832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206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539640" y="314172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979640" y="1268280"/>
            <a:ext cx="684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1763640" y="1125360"/>
            <a:ext cx="734544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Кульпаш\Pictures\Frederick_Sanger2.jpg"/>
          <p:cNvPicPr/>
          <p:nvPr/>
        </p:nvPicPr>
        <p:blipFill>
          <a:blip r:embed="rId3"/>
          <a:stretch/>
        </p:blipFill>
        <p:spPr>
          <a:xfrm>
            <a:off x="6659640" y="290520"/>
            <a:ext cx="2160360" cy="2658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908000" y="127008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6617520" y="2955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едерик   Сэнгер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6804000" y="3244680"/>
            <a:ext cx="22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лся 13 августа 1918 года в Англи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865160" y="4338720"/>
            <a:ext cx="713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35280" y="148428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Кульпаш\Pictures\химик.jpg"/>
          <p:cNvPicPr/>
          <p:nvPr/>
        </p:nvPicPr>
        <p:blipFill>
          <a:blip r:embed="rId3"/>
          <a:stretch/>
        </p:blipFill>
        <p:spPr>
          <a:xfrm>
            <a:off x="6486480" y="277920"/>
            <a:ext cx="243540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464160" y="3504240"/>
            <a:ext cx="2457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нт-Гофф 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коб Хендр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0.8.1852 — 1.3.191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827360" y="4416480"/>
            <a:ext cx="731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979640" y="1413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6" descr="р хек"/>
          <p:cNvPicPr/>
          <p:nvPr/>
        </p:nvPicPr>
        <p:blipFill>
          <a:blip r:embed="rId3"/>
          <a:stretch/>
        </p:blipFill>
        <p:spPr>
          <a:xfrm>
            <a:off x="6950160" y="1127160"/>
            <a:ext cx="1285920" cy="14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негиси"/>
          <p:cNvPicPr/>
          <p:nvPr/>
        </p:nvPicPr>
        <p:blipFill>
          <a:blip r:embed="rId4"/>
          <a:stretch/>
        </p:blipFill>
        <p:spPr>
          <a:xfrm>
            <a:off x="6875640" y="2975040"/>
            <a:ext cx="1873080" cy="13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по химии"/>
          <p:cNvPicPr/>
          <p:nvPr/>
        </p:nvPicPr>
        <p:blipFill>
          <a:blip r:embed="rId5"/>
          <a:stretch/>
        </p:blipFill>
        <p:spPr>
          <a:xfrm>
            <a:off x="6948360" y="4797360"/>
            <a:ext cx="1871640" cy="1398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101000" y="25653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чард Хек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247160" y="4437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ити Негис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101720" y="61866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ира Судзук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5:36:24Z</dcterms:created>
  <dc:creator>Кульпаш</dc:creator>
  <dc:description/>
  <dc:language>en-US</dc:language>
  <cp:lastModifiedBy>LEGION</cp:lastModifiedBy>
  <dcterms:modified xsi:type="dcterms:W3CDTF">2015-05-01T11:08:15Z</dcterms:modified>
  <cp:revision>29</cp:revision>
  <dc:subject/>
  <dc:title>Презентация PowerPoint</dc:title>
</cp:coreProperties>
</file>