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C2E9-D745-4C4C-80E8-A2EEF4D54B7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Calibri"/>
              </a:rPr>
              <a:t>Амфотерные соеди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фотерными называют соединения, которые в зависимости от условий могут быть как донорами катионов водорода и проявлять кислотные свойства, так и их акцепторами и  проявлять основ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98C5-F41D-4558-9A7F-32E2DBD08D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ff00"/>
                </a:solidFill>
                <a:uFillTx/>
                <a:latin typeface="Book Antiqua"/>
              </a:rPr>
              <a:t>Инструкция для обучающихся по заочному курсу «Общая химия для 12 класс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Категория обучающихся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материалы данной презентации предоставляются  обучающемуся для самостоятельного изучения темы «Вещества и их свойства», из курса общей химии 12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Содержание курса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ключает 5 презентаций тем. Каждая учебная тема содержит четкую структуру учебного материала по конкретной теме, последний слайд контрольный тест – задания для самоконтро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Срок обучения по данному курсу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т одной недели до двух месяцев (определяется индивидуальн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Контроль знаний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ащийся предоставляет отчет о выполнении тестовых заданий – лист с вариантами заданий, с указанием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ff"/>
                </a:solidFill>
                <a:latin typeface="Calibri"/>
              </a:rPr>
              <a:t>Оценивание результата: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«3» - выполнено 50% заданий, «4» - 75%, «5» - 100 % зад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Результат обучения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чет (незачет) изученной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FD61-87CE-412B-AD9C-D125A414E9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Calibri"/>
              </a:rPr>
              <a:t>Амфотерные соед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и являются в неорганической химии:  Аl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Zn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Cr(ОН)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е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Gе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Sn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Pb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рганической химии типичными представителями являются аминокисл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– CH – C             a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мино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   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0914-4C19-4018-8DF5-F8EC860994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В реакциях с кислотами амфотерные оксиды ведут себя как основные окси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6НСl = 2АlС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ЗН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 реакциях со щелочами амфотерные оксиды ведут себя как кислотные окс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 2NаОН  = 2NаАlО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Н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2386-C7E6-439E-A8C8-F0EB9EBB27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мфотерные гидроксиды взаимодействуют с растворами кислот и ведут себя как нерастворимые ос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(ОН)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ЗНСl = АlС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ЗН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и взаимодействии с растворами щелочей амфотерные гидроксиды ведут себя как слабые кисл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 NаОН  = NаАlО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2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8D33-1F6C-456C-A8EC-BB34DA57A8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Свойства аминокисл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H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CH –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C O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миногруппа</a:t>
            </a:r>
            <a:r>
              <a:rPr b="0" lang="ru-RU" sz="1100" spc="-1" strike="noStrike">
                <a:solidFill>
                  <a:srgbClr val="ffff00"/>
                </a:solidFill>
                <a:latin typeface="Calibri"/>
              </a:rPr>
              <a:t>,  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–</a:t>
            </a:r>
            <a:r>
              <a:rPr b="0" lang="ru-RU" sz="1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NH</a:t>
            </a:r>
            <a:r>
              <a:rPr b="0" lang="en-US" sz="1000" spc="-1" strike="noStrike" u="sng">
                <a:solidFill>
                  <a:srgbClr val="ffff00"/>
                </a:solidFill>
                <a:uFillTx/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птор водорода, определя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сво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минокисл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Calibri"/>
              </a:rPr>
              <a:t>Карбоксильная группа, 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CO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 донор водорода, определя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ислотные сво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минокисл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B926-E83B-4588-A2B1-BC64CA0376E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Кислотные свойства аминокисл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  COOH + NaOH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  COONa + 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03DF-2020-4B4A-B08C-4095784421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Основные свойства аминокисл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Cl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3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433C-69EC-4FDF-A35B-908882B689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 для самопрове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свойства амфотерных гидрокс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files.school-collection.edu.ru/dlrstore/d77a57cd-8cff-11db-b606-0800200c9a66/ch11_22_03.sw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свойства амфотерных окс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files.school-collection.edu.ru/dlrstore/d77a57cc-8cff-11db-b606-0800200c9a66/ch11_22_02.sw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7A5B-071A-4317-A962-B3D4B424D5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35F7B-D849-4D7F-9123-6CE9DE8C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29E6F-7172-47A2-97AC-CD4CF68A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9885B-C7CF-4149-92BA-2BDA4C7F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46AF8-99C2-4AFE-94C3-3D15A8E8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14696-7D6A-432A-9518-7AD50E13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DF446-E885-4315-AC40-F7A13B15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B99CB-E551-4FA0-9542-AB15C58A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57C63-AD17-4B71-8545-9F814C70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6E366-FB76-49F3-8A33-B2CA20E5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9FA59-FAFD-43DC-8F80-A510A8C6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F6BBA-8BE7-42A0-8470-59BF7088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0CE4B-4A5A-4739-8115-AC87B73A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3F6D5-3DE1-4336-ADFC-420F2194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8C81E-D0D6-4211-9645-482A1074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B75A5-0C94-4AB7-8693-91145155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CBD74-E261-4580-A2C5-67514673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4FBF0-6DD6-488E-9CC1-F90075AC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F3325-8043-4731-8AAC-D1F3FB69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D9E72-AE93-40A9-8FFC-E9BF39B3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67E40-7812-47C7-8306-F1574680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1CF18-FD2F-421F-995B-A0E9AD17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003E4-F178-4102-9E63-B4CCE038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818E9-11C8-4C3D-AFCA-57A3D006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9ECBA-725B-4417-836C-5B45A0E1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B701-7A02-4848-9A5A-ABDC876E41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E0F9-FDE4-4EF4-A59A-6B6D2098DE6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aramond"/>
              </a:rPr>
              <a:t>Амфотерные соединения</a:t>
            </a: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19280" y="2276280"/>
            <a:ext cx="8424720" cy="30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мфотерными называют соединения, которые в зависимости от условий могут быть как донорами катионов водорода и проявлять кислотные свойства, так и их акцепторами и  проявлять основные свойств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2920" y="549360"/>
            <a:ext cx="7512120" cy="82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ff00"/>
                </a:solidFill>
                <a:uFillTx/>
                <a:latin typeface="Book Antiqua"/>
              </a:rPr>
              <a:t>Инструкция для обучающихся по заочному курсу «Общая химия для 12 класса»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Категория обучающихся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материалы данной презентации предоставляются  обучающемуся для самостоятельного изучения темы «Вещества и их свойства», из курса общей химии 12 класс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Содержание курса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включает 5 презентаций тем. Каждая учебная тема содержит четкую структуру учебного материала по конкретной теме, последний слайд контрольный тест – задания для самоконтроля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Срок обучения по данному курсу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от одной недели до двух месяцев (определяется индивидуально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Контроль знаний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учащийся предоставляет отчет о выполнении тестовых заданий – лист с вариантами заданий, с указанием тем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ffff"/>
                </a:solidFill>
                <a:latin typeface="Arial"/>
              </a:rPr>
              <a:t>Оценивание результата: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 «3» - выполнено 50% заданий, «4» - 75%, «5» - 100 % задани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Результат обучения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зачет (незачет) изученной тем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71832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aramond"/>
              </a:rPr>
              <a:t>Амфотерные соединения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ими являются в неорганической химии:  Аl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Zn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Cr(ОН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Ве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Gе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Sn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Pb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др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рганической химии типичными представителями являются аминокислот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– CH – C             a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мино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            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8"/>
          <p:cNvGrpSpPr/>
          <p:nvPr/>
        </p:nvGrpSpPr>
        <p:grpSpPr>
          <a:xfrm>
            <a:off x="3419640" y="4508640"/>
            <a:ext cx="1368360" cy="791640"/>
            <a:chOff x="3419640" y="4508640"/>
            <a:chExt cx="1368360" cy="791640"/>
          </a:xfrm>
        </p:grpSpPr>
        <p:sp>
          <p:nvSpPr>
            <p:cNvPr id="108" name="Line 4"/>
            <p:cNvSpPr/>
            <p:nvPr/>
          </p:nvSpPr>
          <p:spPr>
            <a:xfrm flipH="1">
              <a:off x="4427280" y="4508640"/>
              <a:ext cx="21564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5"/>
            <p:cNvSpPr/>
            <p:nvPr/>
          </p:nvSpPr>
          <p:spPr>
            <a:xfrm>
              <a:off x="3419640" y="5083200"/>
              <a:ext cx="0" cy="14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6"/>
            <p:cNvSpPr/>
            <p:nvPr/>
          </p:nvSpPr>
          <p:spPr>
            <a:xfrm flipH="1">
              <a:off x="4500360" y="4579920"/>
              <a:ext cx="21564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7"/>
            <p:cNvSpPr/>
            <p:nvPr/>
          </p:nvSpPr>
          <p:spPr>
            <a:xfrm>
              <a:off x="4500720" y="5083200"/>
              <a:ext cx="287280" cy="21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36596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В реакциях с кислотами амфотерные оксиды ведут себя как основные оксиды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19280" y="1557360"/>
            <a:ext cx="700704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имер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6НСl = 2АlС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З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 реакциях со щелочами амфотерные оксиды ведут себя как кислотные окс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 2NаОН  = 2NаАlО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805800" cy="170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Амфотерные гидроксиды взаимодействуют с растворами кислот и ведут себя как нерастворимые основания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565360"/>
            <a:ext cx="7772400" cy="37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l(ОН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+ ЗНСl = АlСl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+ З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и взаимодействии с растворами щелочей амфотерные гидроксиды ведут себя как слабые кисло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l(ОН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 NаОН  = NаАlО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2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2920" y="764640"/>
            <a:ext cx="7512120" cy="6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Свойства аминокислот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7280" y="1790280"/>
            <a:ext cx="7956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H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CH –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 O 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миногруппа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NH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цептор водорода, определяет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сновные свойст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аминокисло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арбоксильная группа,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OO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- донор водорода, определяет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ислотные свойст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аминокисло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3635280" y="2852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00240" y="620640"/>
            <a:ext cx="7943760" cy="7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Кислотные свойства аминокислот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35280" y="2565000"/>
            <a:ext cx="6984720" cy="23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  COOH + NaOH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  COONa + 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92280"/>
            <a:ext cx="7993080" cy="74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Основные свойства аминокислот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l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9"/>
          <p:cNvGrpSpPr/>
          <p:nvPr/>
        </p:nvGrpSpPr>
        <p:grpSpPr>
          <a:xfrm>
            <a:off x="3276720" y="2781360"/>
            <a:ext cx="4174920" cy="647640"/>
            <a:chOff x="3276720" y="2781360"/>
            <a:chExt cx="4174920" cy="647640"/>
          </a:xfrm>
        </p:grpSpPr>
        <p:sp>
          <p:nvSpPr>
            <p:cNvPr id="129" name="AutoShape 4"/>
            <p:cNvSpPr/>
            <p:nvPr/>
          </p:nvSpPr>
          <p:spPr>
            <a:xfrm>
              <a:off x="3276720" y="2924280"/>
              <a:ext cx="73080" cy="504720"/>
            </a:xfrm>
            <a:custGeom>
              <a:avLst/>
              <a:gdLst>
                <a:gd name="textAreaLeft" fmla="*/ 21240 w 73080"/>
                <a:gd name="textAreaRight" fmla="*/ 73440 w 73080"/>
                <a:gd name="textAreaTop" fmla="*/ 20880 h 504720"/>
                <a:gd name="textAreaBottom" fmla="*/ 4838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utoShape 5"/>
            <p:cNvSpPr/>
            <p:nvPr/>
          </p:nvSpPr>
          <p:spPr>
            <a:xfrm flipH="1">
              <a:off x="6227640" y="2924280"/>
              <a:ext cx="144720" cy="504720"/>
            </a:xfrm>
            <a:custGeom>
              <a:avLst/>
              <a:gdLst>
                <a:gd name="textAreaLeft" fmla="*/ 42840 w 144720"/>
                <a:gd name="textAreaRight" fmla="*/ 145440 w 144720"/>
                <a:gd name="textAreaTop" fmla="*/ 20880 h 504720"/>
                <a:gd name="textAreaBottom" fmla="*/ 4838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7236000" y="2997360"/>
              <a:ext cx="21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>
              <a:off x="6372360" y="2924280"/>
              <a:ext cx="287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>
              <a:off x="6516720" y="2781360"/>
              <a:ext cx="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6452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Задания для самопроверки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3280" y="1790280"/>
            <a:ext cx="7740720" cy="48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мические свойства амфотерных гидрокси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http://files.school-collection.edu.ru/dlrstore/d77a57cd-8cff-11db-b606-0800200c9a66/ch11_22_03.sw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мические свойства амфотерных окси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http://files.school-collection.edu.ru/dlrstore/d77a57cc-8cff-11db-b606-0800200c9a66/ch11_22_02.sw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8:49:50Z</dcterms:created>
  <dc:creator>User</dc:creator>
  <dc:description/>
  <dc:language>en-US</dc:language>
  <cp:lastModifiedBy>LEGION</cp:lastModifiedBy>
  <dcterms:modified xsi:type="dcterms:W3CDTF">2015-05-01T11:08:35Z</dcterms:modified>
  <cp:revision>10</cp:revision>
  <dc:subject/>
  <dc:title>Амфотерные гидрооксиды </dc:title>
</cp:coreProperties>
</file>