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67AC-6E02-47F9-AAA0-28F90B8537F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Calibri"/>
              </a:rPr>
              <a:t>Амфотерные соеди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фотерными называют соединения, которые в зависимости от условий могут быть как донорами катионов водорода и проявлять кислотные свойства, так и их акцепторами и  проявлять основ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0BEA-27CF-4AC6-949B-4168956DFF8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ff00"/>
                </a:solidFill>
                <a:uFillTx/>
                <a:latin typeface="Book Antiqua"/>
              </a:rPr>
              <a:t>Инструкция для обучающихся по заочному курсу «Общая химия для 12 класс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Категория обучающихся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материалы данной презентации предоставляются  обучающемуся для самостоятельного изучения темы «Вещества и их свойства», из курса общей химии 12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Содержание курса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ключает 5 презентаций тем. Каждая учебная тема содержит четкую структуру учебного материала по конкретной теме, последний слайд контрольный тест – задания для самоконтро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Срок обучения по данному курсу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т одной недели до двух месяцев (определяется индивидуальн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Контроль знаний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ащийся предоставляет отчет о выполнении тестовых заданий – лист с вариантами заданий, с указанием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ff"/>
                </a:solidFill>
                <a:latin typeface="Calibri"/>
              </a:rPr>
              <a:t>Оценивание результата: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«3» - выполнено 50% заданий, «4» - 75%, «5» - 100 % зад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Результат обучения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чет (незачет) изученной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208B-9A81-4C78-A19B-4A3B42F1E9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Calibri"/>
              </a:rPr>
              <a:t>Амфотерные соед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и являются в неорганической химии:  Аl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Zn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Cr(ОН)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е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Gе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Sn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Pb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рганической химии типичными представителями являются аминокисл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– CH – C             a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мино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   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8250-B794-4A52-A082-95E826846A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В реакциях с кислотами амфотерные оксиды ведут себя как основные окси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6НСl = 2АlС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ЗН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 реакциях со щелочами амфотерные оксиды ведут себя как кислотные окс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 2NаОН  = 2NаАlО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Н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33CD-441C-4668-A11F-4799DCF217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мфотерные гидроксиды взаимодействуют с растворами кислот и ведут себя как нерастворимые ос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(ОН)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ЗНСl = АlС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ЗН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и взаимодействии с растворами щелочей амфотерные гидроксиды ведут себя как слабые кисл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 NаОН  = NаАlО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2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C41A-BADB-432B-B4F0-2961C906751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Свойства аминокисл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H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CH –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C O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миногруппа</a:t>
            </a:r>
            <a:r>
              <a:rPr b="0" lang="ru-RU" sz="1100" spc="-1" strike="noStrike">
                <a:solidFill>
                  <a:srgbClr val="ffff00"/>
                </a:solidFill>
                <a:latin typeface="Calibri"/>
              </a:rPr>
              <a:t>,  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–</a:t>
            </a:r>
            <a:r>
              <a:rPr b="0" lang="ru-RU" sz="1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NH</a:t>
            </a:r>
            <a:r>
              <a:rPr b="0" lang="en-US" sz="1000" spc="-1" strike="noStrike" u="sng">
                <a:solidFill>
                  <a:srgbClr val="ffff00"/>
                </a:solidFill>
                <a:uFillTx/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птор водорода, определя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сво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минокисл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Calibri"/>
              </a:rPr>
              <a:t>Карбоксильная группа, 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CO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 донор водорода, определя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ислотные сво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минокисл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9709-47AD-47A2-A20F-D75F6C716D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Кислотные свойства аминокисл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  COOH + NaOH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  COONa + 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0623-3B7E-4BC5-8BE6-E6505E94E97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Основные свойства аминокисл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Cl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3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14CE-1B3C-47B0-8CA4-D3726C3BA3B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 для самопрове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свойства амфотерных гидрокс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files.school-collection.edu.ru/dlrstore/d77a57cd-8cff-11db-b606-0800200c9a66/ch11_22_03.sw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свойства амфотерных окс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files.school-collection.edu.ru/dlrstore/d77a57cc-8cff-11db-b606-0800200c9a66/ch11_22_02.sw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1F86-509B-4CCD-9F60-CEAF5C0776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28956-23FC-4176-AB8C-B3284CF3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86A6A-6710-4991-B2C0-5AB5D4C6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5B3F4-875C-420F-A9B8-19A60C71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1A6F8-0AC2-48B3-B7FC-48E08883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326C5-4996-408A-8D73-A5022EDC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8AAE2-7C19-4E65-A863-C94A57C0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6E1FE-8833-4FFD-B191-48FF8F2E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3A654-EC23-4E7B-B484-A80BE3B4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B2E11-6740-4C05-A76B-B740CD89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C6D59-89AD-4589-8B15-AFE5E776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739FE-724E-402A-B19B-9FFCD8CE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B9DFA-4424-481E-BC90-F31F0A3C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B379C-68EC-44CC-B29F-D9351B83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679FB-FE67-4824-A1CE-D111C08D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FB835-9E48-47D0-A0D3-82B3AA61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6DE32-76FD-4AE1-8C7E-0CA6782F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657DC-56F8-4766-941A-DF7E6EAA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9022A-17D2-4B1C-938F-801974A1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F4546-017C-47A6-A334-296A56E6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48594-6909-4181-8393-133F1FD8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8C977-F74C-419C-A278-352A38E2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7C0C0-49CF-4203-BFCB-B940C187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6DB78-B0CE-4C7B-8A6A-EB2CA301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50A41-9C6C-473E-BDF7-FEC3551C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A290-698E-4588-97D8-03AF162D43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2DC4-ED2F-4BBA-B0F6-99DAB26ADE6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aramond"/>
              </a:rPr>
              <a:t>Амфотерные соединения</a:t>
            </a: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19280" y="2276280"/>
            <a:ext cx="8424720" cy="30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мфотерными называют соединения, которые в зависимости от условий могут быть как донорами катионов водорода и проявлять кислотные свойства, так и их акцепторами и  проявлять основные свойств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2920" y="549360"/>
            <a:ext cx="7512120" cy="82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ff00"/>
                </a:solidFill>
                <a:uFillTx/>
                <a:latin typeface="Book Antiqua"/>
              </a:rPr>
              <a:t>Инструкция для обучающихся по заочному курсу «Общая химия для 12 класса»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Категория обучающихся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материалы данной презентации предоставляются  обучающемуся для самостоятельного изучения темы «Вещества и их свойства», из курса общей химии 12 класс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Содержание курса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включает 5 презентаций тем. Каждая учебная тема содержит четкую структуру учебного материала по конкретной теме, последний слайд контрольный тест – задания для самоконтроля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Срок обучения по данному курсу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от одной недели до двух месяцев (определяется индивидуально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Контроль знаний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учащийся предоставляет отчет о выполнении тестовых заданий – лист с вариантами заданий, с указанием тем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ffff"/>
                </a:solidFill>
                <a:latin typeface="Arial"/>
              </a:rPr>
              <a:t>Оценивание результата: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 «3» - выполнено 50% заданий, «4» - 75%, «5» - 100 % задани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Результат обучения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зачет (незачет) изученной тем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71832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aramond"/>
              </a:rPr>
              <a:t>Амфотерные соединения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ими являются в неорганической химии:  Аl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Zn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Cr(ОН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Ве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Gе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Sn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Pb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др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рганической химии типичными представителями являются аминокислот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– CH – C             a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мино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            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8"/>
          <p:cNvGrpSpPr/>
          <p:nvPr/>
        </p:nvGrpSpPr>
        <p:grpSpPr>
          <a:xfrm>
            <a:off x="3419640" y="4508640"/>
            <a:ext cx="1368360" cy="791640"/>
            <a:chOff x="3419640" y="4508640"/>
            <a:chExt cx="1368360" cy="791640"/>
          </a:xfrm>
        </p:grpSpPr>
        <p:sp>
          <p:nvSpPr>
            <p:cNvPr id="108" name="Line 4"/>
            <p:cNvSpPr/>
            <p:nvPr/>
          </p:nvSpPr>
          <p:spPr>
            <a:xfrm flipH="1">
              <a:off x="4427280" y="4508640"/>
              <a:ext cx="21564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5"/>
            <p:cNvSpPr/>
            <p:nvPr/>
          </p:nvSpPr>
          <p:spPr>
            <a:xfrm>
              <a:off x="3419640" y="5083200"/>
              <a:ext cx="0" cy="14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6"/>
            <p:cNvSpPr/>
            <p:nvPr/>
          </p:nvSpPr>
          <p:spPr>
            <a:xfrm flipH="1">
              <a:off x="4500360" y="4579920"/>
              <a:ext cx="21564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7"/>
            <p:cNvSpPr/>
            <p:nvPr/>
          </p:nvSpPr>
          <p:spPr>
            <a:xfrm>
              <a:off x="4500720" y="5083200"/>
              <a:ext cx="287280" cy="21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36596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В реакциях с кислотами амфотерные оксиды ведут себя как основные оксиды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19280" y="1557360"/>
            <a:ext cx="700704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имер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6НСl = 2АlС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З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 реакциях со щелочами амфотерные оксиды ведут себя как кислотные окс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 2NаОН  = 2NаАlО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805800" cy="170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Амфотерные гидроксиды взаимодействуют с растворами кислот и ведут себя как нерастворимые основания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565360"/>
            <a:ext cx="7772400" cy="37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l(ОН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+ ЗНСl = АlСl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+ З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и взаимодействии с растворами щелочей амфотерные гидроксиды ведут себя как слабые кисло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l(ОН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 NаОН  = NаАlО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2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2920" y="764640"/>
            <a:ext cx="7512120" cy="6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Свойства аминокислот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7280" y="1790280"/>
            <a:ext cx="7956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H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CH –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 O 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миногруппа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NH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цептор водорода, определяет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сновные свойст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аминокисло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арбоксильная группа,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OO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- донор водорода, определяет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ислотные свойст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аминокисло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3635280" y="2852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00240" y="620640"/>
            <a:ext cx="7943760" cy="7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Кислотные свойства аминокислот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35280" y="2565000"/>
            <a:ext cx="6984720" cy="23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  COOH + NaOH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  COONa + 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92280"/>
            <a:ext cx="7993080" cy="74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Основные свойства аминокислот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l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9"/>
          <p:cNvGrpSpPr/>
          <p:nvPr/>
        </p:nvGrpSpPr>
        <p:grpSpPr>
          <a:xfrm>
            <a:off x="3276720" y="2781360"/>
            <a:ext cx="4174920" cy="647640"/>
            <a:chOff x="3276720" y="2781360"/>
            <a:chExt cx="4174920" cy="647640"/>
          </a:xfrm>
        </p:grpSpPr>
        <p:sp>
          <p:nvSpPr>
            <p:cNvPr id="129" name="AutoShape 4"/>
            <p:cNvSpPr/>
            <p:nvPr/>
          </p:nvSpPr>
          <p:spPr>
            <a:xfrm>
              <a:off x="3276720" y="2924280"/>
              <a:ext cx="73080" cy="504720"/>
            </a:xfrm>
            <a:custGeom>
              <a:avLst/>
              <a:gdLst>
                <a:gd name="textAreaLeft" fmla="*/ 21240 w 73080"/>
                <a:gd name="textAreaRight" fmla="*/ 73440 w 73080"/>
                <a:gd name="textAreaTop" fmla="*/ 20880 h 504720"/>
                <a:gd name="textAreaBottom" fmla="*/ 4838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utoShape 5"/>
            <p:cNvSpPr/>
            <p:nvPr/>
          </p:nvSpPr>
          <p:spPr>
            <a:xfrm flipH="1">
              <a:off x="6227640" y="2924280"/>
              <a:ext cx="144720" cy="504720"/>
            </a:xfrm>
            <a:custGeom>
              <a:avLst/>
              <a:gdLst>
                <a:gd name="textAreaLeft" fmla="*/ 42840 w 144720"/>
                <a:gd name="textAreaRight" fmla="*/ 145440 w 144720"/>
                <a:gd name="textAreaTop" fmla="*/ 20880 h 504720"/>
                <a:gd name="textAreaBottom" fmla="*/ 4838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7236000" y="2997360"/>
              <a:ext cx="21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>
              <a:off x="6372360" y="2924280"/>
              <a:ext cx="287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>
              <a:off x="6516720" y="2781360"/>
              <a:ext cx="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6452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Задания для самопроверки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3280" y="1790280"/>
            <a:ext cx="7740720" cy="48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мические свойства амфотерных гидрокси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http://files.school-collection.edu.ru/dlrstore/d77a57cd-8cff-11db-b606-0800200c9a66/ch11_22_03.sw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мические свойства амфотерных окси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http://files.school-collection.edu.ru/dlrstore/d77a57cc-8cff-11db-b606-0800200c9a66/ch11_22_02.sw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8:49:50Z</dcterms:created>
  <dc:creator>User</dc:creator>
  <dc:description/>
  <dc:language>en-US</dc:language>
  <cp:lastModifiedBy>LEGION</cp:lastModifiedBy>
  <dcterms:modified xsi:type="dcterms:W3CDTF">2015-05-01T11:08:35Z</dcterms:modified>
  <cp:revision>10</cp:revision>
  <dc:subject/>
  <dc:title>Амфотерные гидрооксиды </dc:title>
</cp:coreProperties>
</file>