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772F-5795-479B-A974-32E1D26CBE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E7DC-116A-4304-B6C8-FB06B10447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атегория обучающихс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держание курс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рок обучения по данному курсу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 одной недели до двух месяцев (определяется индивидуаль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онтроль знаний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ценивание результата: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«3» - выполнено 50% заданий, «4» - 75%, «5» - 100 %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Результат обучени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чет (незачет) изученн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7A7-E45C-431F-A1D7-0A43C4CD18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и являются в неорганической химии:  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Z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Cr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G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S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Pb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ганической химии типичными представителями являются амино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CH – C             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мино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 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1998-E837-48B3-AA5B-C5E4D76A71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В реакциях с кислотами амфотерные оксиды ведут себя как основные окси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6НСl = 2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еакциях со щелочами амфотерные оксиды ведут себя как кислотные окс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2NаОН  = 2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94DD-D74C-4C73-B5A8-F02AFF6B10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ЗНСl = 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NаОН  = 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2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572-7CEB-4399-BD39-F344ED3C21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H –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 O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миногруппа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Карбоксильная группа,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дон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ислот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7E11-104F-49E7-A4C2-E0F93BF666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ислот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H + NaOH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Na + 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B8D6-A7A1-4E5B-A67A-3126E30533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Основ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3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7534-566F-4D38-B633-A407678EE5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гидр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d-8cff-11db-b606-0800200c9a66/ch11_22_03.sw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c-8cff-11db-b606-0800200c9a66/ch11_22_02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5E60-24E9-4A1B-B35C-59EDD8A5EB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7F1F-0D58-4017-AE3D-52A5FD0B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6B20-EE85-4144-AE90-0E3D4A51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3E44-2E2D-4887-8ACC-3B29C0AB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7DB2-A6C7-41F3-85D0-6A8F0A47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4BD3A-BAFE-4615-B24C-A3183B37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844AE-A916-4E80-9304-472428FC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F415A-CE71-4833-9537-9D3131F8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DB0B9-FFFD-4D04-85DE-27DD565E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8C991-9AB0-4413-8A57-1A2894D3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2E71E-5540-4818-AD79-2499A431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2E07A-B4FC-4A5F-AE63-396F153B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08C1-8858-44F7-80D8-CE5A727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ECFB9-48D1-46F6-B15D-7A28FA3A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C3788-9AA3-4F63-B651-850EBBA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DF39E-FB55-4639-BD26-CC5A8824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029AC-AC8D-43A9-92EA-999554E5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E92EC-A2A1-41C1-906E-EBAF70BE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DDF4-8D16-47BF-8752-4F08FA93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4F1A7-8D0A-4E14-A033-95FD13D1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9E7B-A065-44B1-BE86-F5E587B7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F2DA-0655-4943-A11C-EF91593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42C0-1739-4D85-ABE6-C773DEB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B749-7E45-4725-85AA-EBEAD7D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3DF6-7776-4E8C-B98F-8096A51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6C5F-D93B-4807-A15E-3AB27A69DF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C709-7603-4686-99BA-A7DA4A6E86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19280" y="2276280"/>
            <a:ext cx="8424720" cy="30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51212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атегория обучающихс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одержание курса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рок обучения по данному курсу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от одной недели до двух месяцев (определяется индивидуально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онтроль знаний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ffff"/>
                </a:solidFill>
                <a:latin typeface="Arial"/>
              </a:rPr>
              <a:t>Оценивание результата: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 «3» - выполнено 50% заданий, «4» - 75%, «5» - 100 % задан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Результат обучени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зачет (незачет) изученной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718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и являются в неорганической химии:  Аl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Z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Cr(ОН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G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S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Pb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ической химии типичными представителями являются аминокисл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– CH – C             a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мино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          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3419640" y="4508640"/>
            <a:ext cx="1368360" cy="791640"/>
            <a:chOff x="3419640" y="4508640"/>
            <a:chExt cx="1368360" cy="791640"/>
          </a:xfrm>
        </p:grpSpPr>
        <p:sp>
          <p:nvSpPr>
            <p:cNvPr id="108" name="Line 4"/>
            <p:cNvSpPr/>
            <p:nvPr/>
          </p:nvSpPr>
          <p:spPr>
            <a:xfrm flipH="1">
              <a:off x="4427280" y="450864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3419640" y="5083200"/>
              <a:ext cx="0" cy="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4500360" y="457992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500720" y="5083200"/>
              <a:ext cx="287280" cy="21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659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В реакциях с кислотами амфотерные оксиды ведут себя как основные оксид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007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6НСl = 2АlС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реакциях со щелочами амфотерные оксиды ведут себя как кислотные окс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2NаОН  = 2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805800" cy="17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56536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 ЗНСl = АlС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NаОН  = 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751212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790280"/>
            <a:ext cx="7956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H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 O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миногрупп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цепт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боксильная группа,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- дон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63528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0240" y="620640"/>
            <a:ext cx="794376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ислот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6984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H + NaOH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Na +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993080" cy="7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3276720" y="2781360"/>
            <a:ext cx="4174920" cy="647640"/>
            <a:chOff x="3276720" y="2781360"/>
            <a:chExt cx="4174920" cy="647640"/>
          </a:xfrm>
        </p:grpSpPr>
        <p:sp>
          <p:nvSpPr>
            <p:cNvPr id="129" name="AutoShape 4"/>
            <p:cNvSpPr/>
            <p:nvPr/>
          </p:nvSpPr>
          <p:spPr>
            <a:xfrm>
              <a:off x="3276720" y="2924280"/>
              <a:ext cx="73080" cy="504720"/>
            </a:xfrm>
            <a:custGeom>
              <a:avLst/>
              <a:gdLst>
                <a:gd name="textAreaLeft" fmla="*/ 21240 w 73080"/>
                <a:gd name="textAreaRight" fmla="*/ 73440 w 7308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 flipH="1">
              <a:off x="6227640" y="2924280"/>
              <a:ext cx="144720" cy="504720"/>
            </a:xfrm>
            <a:custGeom>
              <a:avLst/>
              <a:gdLst>
                <a:gd name="textAreaLeft" fmla="*/ 42840 w 144720"/>
                <a:gd name="textAreaRight" fmla="*/ 145440 w 14472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7236000" y="299736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372360" y="292428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6516720" y="278136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452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ния для самопроверк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1790280"/>
            <a:ext cx="774072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гидр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d-8cff-11db-b606-0800200c9a66/ch11_22_03.sw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c-8cff-11db-b606-0800200c9a66/ch11_22_02.sw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8:49:50Z</dcterms:created>
  <dc:creator>User</dc:creator>
  <dc:description/>
  <dc:language>en-US</dc:language>
  <cp:lastModifiedBy>LEGION</cp:lastModifiedBy>
  <dcterms:modified xsi:type="dcterms:W3CDTF">2015-05-01T11:08:35Z</dcterms:modified>
  <cp:revision>10</cp:revision>
  <dc:subject/>
  <dc:title>Амфотерные гидрооксиды </dc:title>
</cp:coreProperties>
</file>