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EF89-2B32-47B8-BA31-389CDAF8B4C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Амфотерные соеди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фотерными называют соединения, которые в зависимости от условий могут быть как донорами катионов водорода и проявлять кислотные свойства, так и их акцепторами и  проявлять основ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5D25-D592-4B62-B91B-915DA5E3F8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ff00"/>
                </a:solidFill>
                <a:uFillTx/>
                <a:latin typeface="Book Antiqua"/>
              </a:rPr>
              <a:t>Инструкция для обучающихся по заочному курсу «Общая химия для 12 класс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Категория обучающихся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атериалы данной презентации предоставляются  обучающемуся для самостоятельного изучения темы «Вещества и их свойства», из курса общей химии 12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одержание курс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ключает 5 презентаций тем. Каждая учебная тема содержит четкую структуру учебного материала по конкретной теме, последний слайд контрольный тест – задания для самоконтр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Срок обучения по данному курсу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т одной недели до двух месяцев (определяется индивидуаль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Контроль знаний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ащийся предоставляет отчет о выполнении тестовых заданий – лист с вариантами заданий, с указанием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Calibri"/>
              </a:rPr>
              <a:t>Оценивание результата: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«3» - выполнено 50% заданий, «4» - 75%, «5» - 100 %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ffff"/>
                </a:solidFill>
                <a:uFillTx/>
                <a:latin typeface="Calibri"/>
              </a:rPr>
              <a:t>Результат обучения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чет (незачет) изученной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08C8-45B8-4D22-8165-2F46D4E7C5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Амфотерные 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и являются в неорганической химии:  Аl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Zn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Cr(ОН)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е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Gе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Sn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Pb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рганической химии типичными представителями являются аминокисл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– CH – C             a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мино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         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A84D-7578-458B-8452-8ECC17ECA9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В реакциях с кислотами амфотерные оксиды ведут себя как основные окси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6НСl = 2АlС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ЗН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 реакциях со щелочами амфотерные оксиды ведут себя как кислотные окс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 2NаОН  = 2NаАlО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Н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A068-86F4-41E0-AF4E-10E845DBC7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мфотерные гидроксиды взаимодействуют с растворами кислот и ведут себя как нерастворимые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(ОН)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ЗНСl = АlСl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ЗН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ри взаимодействии с растворами щелочей амфотерные гидроксиды ведут себя как слабые кисл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l(ОН)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 NаОН  = NаАlО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+ 2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2871-A412-4779-943F-0F4AD2BD91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H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CH –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C O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миногруппа</a:t>
            </a: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,  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–</a:t>
            </a: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NH</a:t>
            </a:r>
            <a:r>
              <a:rPr b="0" lang="en-US" sz="1000" spc="-1" strike="noStrike" u="sng">
                <a:solidFill>
                  <a:srgbClr val="ffff00"/>
                </a:solidFill>
                <a:uFillTx/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птор водорода, опреде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сво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минокисл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Calibri"/>
              </a:rPr>
              <a:t>Карбоксильная группа, 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донор водорода, определя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ислотные сво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минокисл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F357-B469-4C9D-ABF3-A34FAD329D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Кислотные 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  COOH + NaOH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  COONa + 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81D6-2BF4-4280-A206-8BA8DC9734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Основные свойства аминокисл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R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3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5239-B95F-47F9-BF93-78A6F41BCB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 для само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свойства амфотерных гидрокс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d77a57cd-8cff-11db-b606-0800200c9a66/ch11_22_03.sw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свойства амфотерных окс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iles.school-collection.edu.ru/dlrstore/d77a57cc-8cff-11db-b606-0800200c9a66/ch11_22_02.sw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FD7B-2048-4705-BC54-F6C82EE198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F6D47-29F8-49EC-AE18-705F32CB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37A78-E7DB-464A-A990-AD4A6F85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D722A-0B7F-4D61-ACF1-39EF5F8C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2B2A-1815-46E0-9CC5-71543335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8C60A-7D55-4E9D-BF59-DA370518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E22AB-BE10-4B3D-95DF-B2FAB1A4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594FF-E80A-4997-9A69-AE305784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40D50-C0D4-453A-AA33-3202E937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560D1-D6F7-4FA2-92B5-3F103834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2B798-3FBB-469E-8DDE-C300785B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216DA-179E-44B5-8B4E-FB165CD6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8A6DD-25AF-46CF-B595-C54AB0EB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919C2-E4E5-489C-B7EA-95F53D55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7A036-546B-4184-B315-D26B3BFF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742CA-6EDA-4CC8-B2E3-04B9B708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EE71F-127A-4A9A-8DED-13C8A30E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87B82-F0F9-4410-95E5-9DC11E2F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56244-C2BC-4333-812D-5CD49FF0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15B47-2252-4BC3-83DA-E830A9E1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2B0A6-878E-4325-ACEB-0BACE1D0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45D97-C73C-4A6A-BE89-C83BF0AA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3EA6-F1E0-4759-BDCC-B65EDFB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7D60E-929C-458C-AFE6-28598509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0CC9-EA2D-4CD3-9D13-DD55DB94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524F-33F5-40E6-AD21-05382F37B1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7C66-101C-4F47-83D7-0C9E11E29E4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aramond"/>
              </a:rPr>
              <a:t>Амфотерные соединения</a:t>
            </a: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19280" y="2276280"/>
            <a:ext cx="8424720" cy="30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мфотерными называют соединения, которые в зависимости от условий могут быть как донорами катионов водорода и проявлять кислотные свойства, так и их акцепторами и  проявлять основные свой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549360"/>
            <a:ext cx="7512120" cy="82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Book Antiqua"/>
              </a:rPr>
              <a:t>Инструкция для обучающихся по заочному курсу «Общая химия для 12 класса»</a:t>
            </a:r>
            <a:endParaRPr b="0" lang="en-US" sz="3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Категория обучающихся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материалы данной презентации предоставляются  обучающемуся для самостоятельного изучения темы «Вещества и их свойства», из курса общей химии 12 клас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Содержание курса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включает 5 презентаций тем. Каждая учебная тема содержит четкую структуру учебного материала по конкретной теме, последний слайд контрольный тест – задания для самоконтроля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Срок обучения по данному курсу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от одной недели до двух месяцев (определяется индивидуально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Контроль знаний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учащийся предоставляет отчет о выполнении тестовых заданий – лист с вариантами заданий, с указанием тем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ffff"/>
                </a:solidFill>
                <a:latin typeface="Arial"/>
              </a:rPr>
              <a:t>Оценивание результата: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 «3» - выполнено 50% заданий, «4» - 75%, «5» - 100 % задани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ffff"/>
                </a:solidFill>
                <a:uFillTx/>
                <a:latin typeface="Arial"/>
              </a:rPr>
              <a:t>Результат обучения: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cc66"/>
                </a:solidFill>
                <a:latin typeface="Arial"/>
              </a:rPr>
              <a:t>зачет (незачет) изученной тем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7183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aramond"/>
              </a:rPr>
              <a:t>Амфотерные соединения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ими являются в неорганической химии:  Аl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Zn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Cr(ОН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Ве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Gе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Sn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Pb(ОН)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др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рганической химии типичными представителями являются аминокисло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– CH – C             a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мино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           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3419640" y="4508640"/>
            <a:ext cx="1368360" cy="791640"/>
            <a:chOff x="3419640" y="4508640"/>
            <a:chExt cx="1368360" cy="791640"/>
          </a:xfrm>
        </p:grpSpPr>
        <p:sp>
          <p:nvSpPr>
            <p:cNvPr id="108" name="Line 4"/>
            <p:cNvSpPr/>
            <p:nvPr/>
          </p:nvSpPr>
          <p:spPr>
            <a:xfrm flipH="1">
              <a:off x="4427280" y="4508640"/>
              <a:ext cx="21564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5"/>
            <p:cNvSpPr/>
            <p:nvPr/>
          </p:nvSpPr>
          <p:spPr>
            <a:xfrm>
              <a:off x="3419640" y="5083200"/>
              <a:ext cx="0" cy="14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6"/>
            <p:cNvSpPr/>
            <p:nvPr/>
          </p:nvSpPr>
          <p:spPr>
            <a:xfrm flipH="1">
              <a:off x="4500360" y="4579920"/>
              <a:ext cx="21564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4500720" y="5083200"/>
              <a:ext cx="287280" cy="21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36596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В реакциях с кислотами амфотерные оксиды ведут себя как основные оксид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70070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6НСl = 2АlС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З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 реакциях со щелочами амфотерные оксиды ведут себя как кислотные окс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 2NаОН  = 2NаАl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805800" cy="17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Амфотерные гидроксиды взаимодействуют с растворами кислот и ведут себя как нерастворимые основания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565360"/>
            <a:ext cx="7772400" cy="37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l(ОН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 ЗНСl = АlС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+ З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 взаимодействии с растворами щелочей амфотерные гидроксиды ведут себя как слабые кисло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l(ОН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 NаОН  = NаАl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2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7512120" cy="6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790280"/>
            <a:ext cx="7956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H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CH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 O 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миногруппа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H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цептор водорода, определяе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сновные свой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минокисло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арбоксильная группа,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- донор водорода, определяе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ислотные свой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минокисл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3635280" y="2852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00240" y="620640"/>
            <a:ext cx="794376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Кислотные 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35280" y="2565000"/>
            <a:ext cx="698472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  COOH + NaOH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  COONa + 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92280"/>
            <a:ext cx="7993080" cy="7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Основные свойства аминокислот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l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R 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9"/>
          <p:cNvGrpSpPr/>
          <p:nvPr/>
        </p:nvGrpSpPr>
        <p:grpSpPr>
          <a:xfrm>
            <a:off x="3276720" y="2781360"/>
            <a:ext cx="4174920" cy="647640"/>
            <a:chOff x="3276720" y="2781360"/>
            <a:chExt cx="4174920" cy="647640"/>
          </a:xfrm>
        </p:grpSpPr>
        <p:sp>
          <p:nvSpPr>
            <p:cNvPr id="129" name="AutoShape 4"/>
            <p:cNvSpPr/>
            <p:nvPr/>
          </p:nvSpPr>
          <p:spPr>
            <a:xfrm>
              <a:off x="3276720" y="2924280"/>
              <a:ext cx="73080" cy="504720"/>
            </a:xfrm>
            <a:custGeom>
              <a:avLst/>
              <a:gdLst>
                <a:gd name="textAreaLeft" fmla="*/ 21240 w 73080"/>
                <a:gd name="textAreaRight" fmla="*/ 73440 w 73080"/>
                <a:gd name="textAreaTop" fmla="*/ 20880 h 504720"/>
                <a:gd name="textAreaBottom" fmla="*/ 4838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5"/>
            <p:cNvSpPr/>
            <p:nvPr/>
          </p:nvSpPr>
          <p:spPr>
            <a:xfrm flipH="1">
              <a:off x="6227640" y="2924280"/>
              <a:ext cx="144720" cy="504720"/>
            </a:xfrm>
            <a:custGeom>
              <a:avLst/>
              <a:gdLst>
                <a:gd name="textAreaLeft" fmla="*/ 42840 w 144720"/>
                <a:gd name="textAreaRight" fmla="*/ 145440 w 144720"/>
                <a:gd name="textAreaTop" fmla="*/ 20880 h 504720"/>
                <a:gd name="textAreaBottom" fmla="*/ 4838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7236000" y="2997360"/>
              <a:ext cx="21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6372360" y="2924280"/>
              <a:ext cx="28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>
              <a:off x="6516720" y="278136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6452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Задания для самопроверки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3280" y="1790280"/>
            <a:ext cx="7740720" cy="48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свойства амфотерных гидрокси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http://files.school-collection.edu.ru/dlrstore/d77a57cd-8cff-11db-b606-0800200c9a66/ch11_22_03.sw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свойства амфотерных окси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http://files.school-collection.edu.ru/dlrstore/d77a57cc-8cff-11db-b606-0800200c9a66/ch11_22_02.sw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8:49:50Z</dcterms:created>
  <dc:creator>User</dc:creator>
  <dc:description/>
  <dc:language>en-US</dc:language>
  <cp:lastModifiedBy>LEGION</cp:lastModifiedBy>
  <dcterms:modified xsi:type="dcterms:W3CDTF">2015-05-01T11:08:35Z</dcterms:modified>
  <cp:revision>10</cp:revision>
  <dc:subject/>
  <dc:title>Амфотерные гидрооксиды </dc:title>
</cp:coreProperties>
</file>