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042E-46A3-482F-8DC8-1F9434E6A691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32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Автор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Рассказова Н.Л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МОУ «СОШ №8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7B74-3F89-4EF6-94B1-205CE1820BA8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D00A-6781-4582-B840-6B3E4652AF7A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3908-D2AD-4EA0-8B4C-DD96A1F64265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6658-80B1-4502-8A0A-58B36E96F904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§ 2, 3, стр. 9 упр. 4, 5 ( устно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стр. 13 и 14 упр. 1, 5,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(по желанию)</a:t>
            </a:r>
            <a:r>
              <a:rPr b="0" lang="ru-RU" sz="1000" spc="-1" strike="noStrike">
                <a:solidFill>
                  <a:srgbClr val="4f81bd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D65D-780C-4808-887C-81330A9E009D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Цель: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историей развития химии.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4C8F-9889-4BD8-A99F-6D1A2900663B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gency FB"/>
              </a:rPr>
              <a:t>Египетские жре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D602-9AE9-42DB-8B27-74111CD16C6D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20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Calibri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162B-9009-4818-A71F-3C1738A2DE36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omic Sans MS"/>
              </a:rPr>
              <a:t>Алхи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8895-296E-4EAC-8EB0-4A2AFC9B4109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гор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9FF0-0E12-4F38-90BB-135384DE65BA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4f4f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5FB5-9B12-407D-9797-27D374D9B6EF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1582-8335-4ED8-91BF-D26D76C3EE22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8BBA-FBAD-4D71-BD74-2ABABDF24188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3F5-7D55-484F-A526-4E8B8CDC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F94-BB8C-4620-AB5B-548E6B20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586-7AD0-441E-8BC5-7D2F96D2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08C-D74F-4646-9424-C23A3A7F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B6C-D0A6-49C7-97AB-0CAFD356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CFE-5395-46BE-A96D-A46C920F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5C2-88E9-4B32-9C9B-B5FFBC05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813-A89B-4D62-8598-E5515FCC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03C-1AD6-497A-8A96-1C306E00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939-020F-46BB-A6A3-C8F7ED54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C03-88E7-40A2-980A-092331B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9A0-4419-4031-B017-A67D9BA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61A9-B0E4-4192-A110-B735DCF28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820800"/>
            <a:ext cx="82756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50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4000" y="4208400"/>
            <a:ext cx="55800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втор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ассказова Н.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ОУ «СОШ №8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История"/>
          <p:cNvPicPr/>
          <p:nvPr/>
        </p:nvPicPr>
        <p:blipFill>
          <a:blip r:embed="rId1"/>
          <a:stretch/>
        </p:blipFill>
        <p:spPr>
          <a:xfrm>
            <a:off x="611280" y="2373480"/>
            <a:ext cx="3287520" cy="4022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24000" y="185760"/>
            <a:ext cx="8569080" cy="6283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32000" y="2491920"/>
            <a:ext cx="3600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187280" y="260280"/>
            <a:ext cx="6624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.И. Менделеев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10" descr="МЕНДЕЛЕЕВ"/>
          <p:cNvPicPr/>
          <p:nvPr/>
        </p:nvPicPr>
        <p:blipFill>
          <a:blip r:embed="rId2"/>
          <a:stretch/>
        </p:blipFill>
        <p:spPr>
          <a:xfrm>
            <a:off x="755640" y="1844640"/>
            <a:ext cx="3683160" cy="4249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78"/>
          <p:cNvSpPr/>
          <p:nvPr/>
        </p:nvSpPr>
        <p:spPr>
          <a:xfrm>
            <a:off x="2124000" y="981000"/>
            <a:ext cx="4319640" cy="17067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2627280" y="134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Oval 80"/>
          <p:cNvSpPr/>
          <p:nvPr/>
        </p:nvSpPr>
        <p:spPr>
          <a:xfrm>
            <a:off x="395280" y="4005360"/>
            <a:ext cx="37432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Oval 81"/>
          <p:cNvSpPr/>
          <p:nvPr/>
        </p:nvSpPr>
        <p:spPr>
          <a:xfrm>
            <a:off x="4643280" y="3933720"/>
            <a:ext cx="35290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82"/>
          <p:cNvSpPr/>
          <p:nvPr/>
        </p:nvSpPr>
        <p:spPr>
          <a:xfrm>
            <a:off x="755640" y="4076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83"/>
          <p:cNvSpPr/>
          <p:nvPr/>
        </p:nvSpPr>
        <p:spPr>
          <a:xfrm>
            <a:off x="529272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Line 84"/>
          <p:cNvSpPr/>
          <p:nvPr/>
        </p:nvSpPr>
        <p:spPr>
          <a:xfrm>
            <a:off x="4140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Line 89"/>
          <p:cNvSpPr/>
          <p:nvPr/>
        </p:nvSpPr>
        <p:spPr>
          <a:xfrm flipH="1">
            <a:off x="2700360" y="2637000"/>
            <a:ext cx="129528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92"/>
          <p:cNvSpPr/>
          <p:nvPr/>
        </p:nvSpPr>
        <p:spPr>
          <a:xfrm>
            <a:off x="4859280" y="2637000"/>
            <a:ext cx="136836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 Box 93"/>
          <p:cNvSpPr/>
          <p:nvPr/>
        </p:nvSpPr>
        <p:spPr>
          <a:xfrm>
            <a:off x="250920" y="508464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остав веществ остаётс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ым, но может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иться форма, объём и т. д. –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рение, замерзание воды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 Box 94"/>
          <p:cNvSpPr/>
          <p:nvPr/>
        </p:nvSpPr>
        <p:spPr>
          <a:xfrm>
            <a:off x="5077080" y="501336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изменяется состав, т.к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ся новы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– коррозия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Picture 97" descr="разрушение"/>
          <p:cNvPicPr/>
          <p:nvPr/>
        </p:nvPicPr>
        <p:blipFill>
          <a:blip r:embed="rId1"/>
          <a:stretch/>
        </p:blipFill>
        <p:spPr>
          <a:xfrm>
            <a:off x="10404360" y="0"/>
            <a:ext cx="4788000" cy="390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8" descr="земля"/>
          <p:cNvPicPr/>
          <p:nvPr/>
        </p:nvPicPr>
        <p:blipFill>
          <a:blip r:embed="rId2"/>
          <a:stretch/>
        </p:blipFill>
        <p:spPr>
          <a:xfrm>
            <a:off x="-4356000" y="321300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9" descr="необычные явленияCASWOX87"/>
          <p:cNvPicPr/>
          <p:nvPr/>
        </p:nvPicPr>
        <p:blipFill>
          <a:blip r:embed="rId3"/>
          <a:stretch/>
        </p:blipFill>
        <p:spPr>
          <a:xfrm>
            <a:off x="-4356000" y="0"/>
            <a:ext cx="4356000" cy="319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0" descr="chtmist"/>
          <p:cNvPicPr/>
          <p:nvPr/>
        </p:nvPicPr>
        <p:blipFill>
          <a:blip r:embed="rId4"/>
          <a:stretch/>
        </p:blipFill>
        <p:spPr>
          <a:xfrm>
            <a:off x="10188720" y="3429000"/>
            <a:ext cx="48956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99 -0.03727 L 0.47048 0.00463 E">
                                      <p:cBhvr>
                                        <p:cTn id="5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771 7.40741E-007 L 0.45468 -0.00324 E">
                                      <p:cBhvr>
                                        <p:cTn id="5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812 0.01574 L -0.67135 -0.00532 E">
                                      <p:cBhvr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305 0.02037 L -0.65556 -0.01875 E">
                                      <p:cBhvr>
                                        <p:cTn id="6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eff43"/>
            </a:gs>
            <a:gs pos="100000">
              <a:srgbClr val="ffff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 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76360" y="6021360"/>
          <a:ext cx="6072120" cy="519120"/>
        </p:xfrm>
        <a:graphic>
          <a:graphicData uri="http://schemas.openxmlformats.org/drawingml/2006/table">
            <a:tbl>
              <a:tblPr/>
              <a:tblGrid>
                <a:gridCol w="868320"/>
                <a:gridCol w="866880"/>
                <a:gridCol w="868320"/>
                <a:gridCol w="865080"/>
                <a:gridCol w="868320"/>
                <a:gridCol w="866880"/>
                <a:gridCol w="8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27" descr="Колбы"/>
          <p:cNvPicPr/>
          <p:nvPr/>
        </p:nvPicPr>
        <p:blipFill>
          <a:blip r:embed="rId1"/>
          <a:stretch/>
        </p:blipFill>
        <p:spPr>
          <a:xfrm>
            <a:off x="6300720" y="2421000"/>
            <a:ext cx="2484360" cy="324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9"/>
          <p:cNvSpPr/>
          <p:nvPr/>
        </p:nvSpPr>
        <p:spPr>
          <a:xfrm>
            <a:off x="1692360" y="59500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55744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3421440" y="595008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428616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148360" y="595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60134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68792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4" descr="оксид ме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6480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§ 2, 3, стр. 9 упр. 4, 5 ( устно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на стр. 13 и 14 упр. 1, 5,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(по желанию)</a:t>
            </a:r>
            <a:r>
              <a:rPr b="0" lang="ru-RU" sz="2000" spc="-1" strike="noStrike">
                <a:solidFill>
                  <a:srgbClr val="fffff7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176364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1" descr="превращения"/>
          <p:cNvPicPr/>
          <p:nvPr/>
        </p:nvPicPr>
        <p:blipFill>
          <a:blip r:embed="rId2"/>
          <a:stretch/>
        </p:blipFill>
        <p:spPr>
          <a:xfrm>
            <a:off x="-5253120" y="-5572080"/>
            <a:ext cx="5253120" cy="557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реакции"/>
          <p:cNvPicPr/>
          <p:nvPr/>
        </p:nvPicPr>
        <p:blipFill>
          <a:blip r:embed="rId3"/>
          <a:stretch/>
        </p:blipFill>
        <p:spPr>
          <a:xfrm>
            <a:off x="9828360" y="7316640"/>
            <a:ext cx="5616360" cy="49244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2"/>
          <p:cNvSpPr txBox="1"/>
          <p:nvPr/>
        </p:nvSpPr>
        <p:spPr>
          <a:xfrm>
            <a:off x="2319480" y="2857680"/>
            <a:ext cx="450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успех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изучении явлений !!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643 -0.51643 L 0.57396 0.69236 E">
                                      <p:cBhvr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62223 -0.75116 E">
                                      <p:cBhvr>
                                        <p:cTn id="19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96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Цель: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историей развития химии.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Химическая азбука"/>
          <p:cNvPicPr/>
          <p:nvPr/>
        </p:nvPicPr>
        <p:blipFill>
          <a:blip r:embed="rId2"/>
          <a:stretch/>
        </p:blipFill>
        <p:spPr>
          <a:xfrm>
            <a:off x="324000" y="306864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КРИСТАЛЛИЗАЦИЯ1"/>
          <p:cNvPicPr/>
          <p:nvPr/>
        </p:nvPicPr>
        <p:blipFill>
          <a:blip r:embed="rId3"/>
          <a:stretch/>
        </p:blipFill>
        <p:spPr>
          <a:xfrm>
            <a:off x="2987640" y="3068640"/>
            <a:ext cx="2664000" cy="24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КРИС2"/>
          <p:cNvPicPr/>
          <p:nvPr/>
        </p:nvPicPr>
        <p:blipFill>
          <a:blip r:embed="rId4"/>
          <a:stretch/>
        </p:blipFill>
        <p:spPr>
          <a:xfrm>
            <a:off x="6012000" y="2997360"/>
            <a:ext cx="2736720" cy="2573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7"/>
          <p:cNvSpPr txBox="1"/>
          <p:nvPr/>
        </p:nvSpPr>
        <p:spPr>
          <a:xfrm>
            <a:off x="1116000" y="0"/>
            <a:ext cx="7343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Египетские жрецы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59" name="Picture 9" descr="Жрецы"/>
          <p:cNvPicPr/>
          <p:nvPr/>
        </p:nvPicPr>
        <p:blipFill>
          <a:blip r:embed="rId4"/>
          <a:stretch/>
        </p:blipFill>
        <p:spPr>
          <a:xfrm>
            <a:off x="971640" y="2997360"/>
            <a:ext cx="3527280" cy="294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Жрецы2"/>
          <p:cNvPicPr/>
          <p:nvPr/>
        </p:nvPicPr>
        <p:blipFill>
          <a:blip r:embed="rId5"/>
          <a:stretch/>
        </p:blipFill>
        <p:spPr>
          <a:xfrm>
            <a:off x="5940360" y="1989000"/>
            <a:ext cx="2627280" cy="4464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971640" y="2997360"/>
            <a:ext cx="3529080" cy="2952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5940360" y="1989000"/>
            <a:ext cx="2665440" cy="446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a6d6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148360" y="450864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1258920" y="260280"/>
            <a:ext cx="6842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реческий филосо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7" name="Picture 9" descr="Демокрит"/>
          <p:cNvPicPr/>
          <p:nvPr/>
        </p:nvPicPr>
        <p:blipFill>
          <a:blip r:embed="rId1"/>
          <a:stretch/>
        </p:blipFill>
        <p:spPr>
          <a:xfrm>
            <a:off x="1908000" y="1700280"/>
            <a:ext cx="313380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1547640" y="5445000"/>
            <a:ext cx="3672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кри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cc"/>
                </a:solidFill>
                <a:latin typeface="Comic Sans MS"/>
              </a:rPr>
              <a:t>Алх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1042920" y="404640"/>
            <a:ext cx="69850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истотел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Picture 10" descr="Аристотель"/>
          <p:cNvPicPr/>
          <p:nvPr/>
        </p:nvPicPr>
        <p:blipFill>
          <a:blip r:embed="rId2"/>
          <a:stretch/>
        </p:blipFill>
        <p:spPr>
          <a:xfrm>
            <a:off x="684360" y="1773360"/>
            <a:ext cx="3725640" cy="4319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600"/>
            </a:gs>
            <a:gs pos="50000">
              <a:srgbClr val="6b6be3"/>
            </a:gs>
            <a:gs pos="100000">
              <a:srgbClr val="aae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31640" y="522936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горное д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АГРИКОЛА1"/>
          <p:cNvPicPr/>
          <p:nvPr/>
        </p:nvPicPr>
        <p:blipFill>
          <a:blip r:embed="rId1"/>
          <a:stretch/>
        </p:blipFill>
        <p:spPr>
          <a:xfrm>
            <a:off x="3059280" y="1268280"/>
            <a:ext cx="2639880" cy="351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ГОРЫ"/>
          <p:cNvPicPr/>
          <p:nvPr/>
        </p:nvPicPr>
        <p:blipFill>
          <a:blip r:embed="rId2"/>
          <a:stretch/>
        </p:blipFill>
        <p:spPr>
          <a:xfrm>
            <a:off x="684360" y="3645000"/>
            <a:ext cx="185868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ГОРЫ1"/>
          <p:cNvPicPr/>
          <p:nvPr/>
        </p:nvPicPr>
        <p:blipFill>
          <a:blip r:embed="rId3"/>
          <a:stretch/>
        </p:blipFill>
        <p:spPr>
          <a:xfrm>
            <a:off x="6300720" y="4581360"/>
            <a:ext cx="2303640" cy="161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ГОРЫ 2"/>
          <p:cNvPicPr/>
          <p:nvPr/>
        </p:nvPicPr>
        <p:blipFill>
          <a:blip r:embed="rId4"/>
          <a:stretch/>
        </p:blipFill>
        <p:spPr>
          <a:xfrm>
            <a:off x="250920" y="1268280"/>
            <a:ext cx="2365200" cy="155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ГОРЫ3"/>
          <p:cNvPicPr/>
          <p:nvPr/>
        </p:nvPicPr>
        <p:blipFill>
          <a:blip r:embed="rId5"/>
          <a:stretch/>
        </p:blipFill>
        <p:spPr>
          <a:xfrm>
            <a:off x="6588000" y="1341360"/>
            <a:ext cx="1830600" cy="244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8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87640" y="2349000"/>
            <a:ext cx="2746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4f4f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ПАРАЦЕЛЬС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300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ЛЕКАРСТВА"/>
          <p:cNvPicPr/>
          <p:nvPr/>
        </p:nvPicPr>
        <p:blipFill>
          <a:blip r:embed="rId2"/>
          <a:stretch/>
        </p:blipFill>
        <p:spPr>
          <a:xfrm>
            <a:off x="4572000" y="4365720"/>
            <a:ext cx="4319640" cy="20095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381636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1258920" y="692280"/>
            <a:ext cx="596592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.В.Ломоносов</a:t>
            </a:r>
            <a:endParaRPr b="0" lang="en-US" sz="3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11" descr="ЛОМОНОСОВ2"/>
          <p:cNvPicPr/>
          <p:nvPr/>
        </p:nvPicPr>
        <p:blipFill>
          <a:blip r:embed="rId2"/>
          <a:stretch/>
        </p:blipFill>
        <p:spPr>
          <a:xfrm>
            <a:off x="5076720" y="1916280"/>
            <a:ext cx="3594240" cy="4394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8800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258920" y="333360"/>
            <a:ext cx="61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М. Бутлеров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9" descr="Бутлеров"/>
          <p:cNvPicPr/>
          <p:nvPr/>
        </p:nvPicPr>
        <p:blipFill>
          <a:blip r:embed="rId1"/>
          <a:stretch/>
        </p:blipFill>
        <p:spPr>
          <a:xfrm>
            <a:off x="755640" y="1844640"/>
            <a:ext cx="3819600" cy="4248360"/>
          </a:xfrm>
          <a:prstGeom prst="rect">
            <a:avLst/>
          </a:prstGeom>
          <a:ln w="0">
            <a:noFill/>
          </a:ln>
        </p:spPr>
      </p:pic>
      <p:sp>
        <p:nvSpPr>
          <p:cNvPr id="94" name="Line 10"/>
          <p:cNvSpPr/>
          <p:nvPr/>
        </p:nvSpPr>
        <p:spPr>
          <a:xfrm flipV="1">
            <a:off x="179280" y="65973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9:45:19Z</dcterms:created>
  <dc:creator>Александр</dc:creator>
  <dc:description/>
  <dc:language>en-US</dc:language>
  <cp:lastModifiedBy>LEGION</cp:lastModifiedBy>
  <dcterms:modified xsi:type="dcterms:W3CDTF">2015-05-01T11:09:10Z</dcterms:modified>
  <cp:revision>18</cp:revision>
  <dc:subject/>
  <dc:title>Превращение веществ. История химии.</dc:title>
</cp:coreProperties>
</file>