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6D3B-EB73-4766-B143-88D9614E60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их регулирова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лтийском регион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ПДБ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1017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иоксины, фураны и диоксиноподоб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олихлорированные бифенилы (ПХ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бут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фен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нтабромдифениловый 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ек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ульфонат перфторокт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рфтороктановая кис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Гексабромциклододек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 коротко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-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о средне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4-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ндосульф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Рт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1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Кад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FD76-C08B-4DA6-B361-443D60B601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ДБМ по опасным вещ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/BE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национальных програ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реестров 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оценка ст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EEA8-D9A0-468D-AA33-6B4AAEC75F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br>
              <a:rPr sz="28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EACH: Registration, Evaluation,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uthorization of Chemicals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REACH регулирует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изводство, импорт, продажу и использование химикатов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974D-8B32-4C74-B0E6-15FDA8B599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лючения и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продуктах питания и кормах для живот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медицинские това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реимпортируемы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ах (если они были зарегистрированы до их экспорта из 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от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меры (за исключением мономер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для НИОКР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9 категорий веществ, однако возможно их участие в процедурах оценки и разреш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A02F-AE4B-45E2-AA4B-F8B89C835A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ОВ (кроме ХЕЛ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ества вызывающие особую озабоченност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VH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C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требуют разрешения на обращение со стороны ЕС. Сво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MRs, (Carcinogenic, Mutagenic, Toxic to Re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, (Persistent, Toxic and Bioaccumula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; (very Persistent, very Bioaccumulating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будет опубликован 1 августа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ВРД 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622F-9BA7-495B-8607-378CD6969A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вещества ВРД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 вещества, требующих особого внимания с точки зрения водных экосистем – см.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ся при сбросах на всех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AA97-676A-4514-A53B-14005A0119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ь вопрос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C55F-DB5C-4C98-A5FA-A899283324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ость веществ – различные определения опас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GHS, REACH, EU WFD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ступления в окружающую среду и распространения 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E713-1813-4B09-B6A5-2F8CD7CC12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пасных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церогены – например, асбест (лейкемия, рак легких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гены – ПАУ, пирен, акрилам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A130-932C-430C-B14A-7620E9A90E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-опасные веще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еск. межд. требо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яжелые метал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743E-4128-4FFC-A3F7-DB388DD999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H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лобально-согласованная система маркировки хим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тийский регион: различные законодательные рамки для регулирования – ПДБ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H, WFD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2CA1-4EEA-4821-8803-FA269430B8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опас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о-химическа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(приложение XIII REACH)/ стабильность (нет или низкая биодерградац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аккумуляция (приложение XIII REACH)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C180-8A08-4231-9A16-D6EDB2C8B0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(ХЕЛКО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1EA5-E7EA-4F06-8784-3516F51B2D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 по определению ХЕЛ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яжелые металлы и их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) галогенорганические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) органические соединения фосфора и оло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) пестициды, такие как фунгициды, гербициды, инсектициды, слимициды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каты, используемые как предохранительные средства в лесн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лесоматериалов, целлюлозно-бумажной промышл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евенной и текстильной промышл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нефтепродукты и углеводороды, входящие в состав топли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) другие органические соединения, опасные именно для морск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) соединения азота и фосф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) радиоактивные вещества, включая отх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) неразлагаемые материалы, которые могут плавать на поверхности, в толще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опускаться на д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j) вещества, которые могут оказать серьезное воздействие на вкус и/или 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E3E0-1D71-48F1-B2B1-C75EAFC2C7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7221-A58B-486A-A4FF-D5BE7C2297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816-0F9C-42D3-A91A-962CDF3C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3C8-3DE6-4160-8737-2D00CA96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57C-8D42-43B2-BE4B-8EB2E90F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333-1BCF-4CF4-802C-3027E16B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291-C6CF-4F65-8F7B-57FC89B2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1C2-3F32-4730-9BFF-24CB30AE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008-4219-4559-BB94-F31D5DA4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557-F45C-4B4E-8CF3-DC9A453F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6D4-9C0B-4FC3-AB44-F16F8C81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A45-6C49-4E4D-84E3-AC39EB9C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F2D-B548-4E3B-8C22-A3CF8FDF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6F8-972A-4F4F-B141-8059B36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60A7-3DCE-4477-83EC-73EA61EF3A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250920" y="6308640"/>
            <a:ext cx="8713800" cy="36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250920" y="6308640"/>
            <a:ext cx="8713800" cy="0"/>
          </a:xfrm>
          <a:prstGeom prst="line">
            <a:avLst/>
          </a:prstGeom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 rot="10800000">
            <a:off x="8683200" y="-1440"/>
            <a:ext cx="454680" cy="1830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cspb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39862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logo sm"/>
          <p:cNvPicPr/>
          <p:nvPr/>
        </p:nvPicPr>
        <p:blipFill>
          <a:blip r:embed="rId2"/>
          <a:stretch/>
        </p:blipFill>
        <p:spPr>
          <a:xfrm>
            <a:off x="457200" y="5486400"/>
            <a:ext cx="117144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их регулирование </a:t>
            </a:r>
            <a:br>
              <a:rPr sz="4000"/>
            </a:b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в Балтийском регионе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Список приоритетных веществ ПДБ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175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32000" y="1557360"/>
            <a:ext cx="554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951120"/>
            <a:ext cx="7920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0000" indent="-900000">
              <a:buClr>
                <a:srgbClr val="0101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иоксины, фураны и диоксиноподоб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олихлорированные бифенилы (ПХБ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бут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фен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нтабромдифениловый 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ек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ульфонат перфторокта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рфтороктановая кисло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5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Гексабромциклододек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 коротко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-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о средне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4-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9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ндосульф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Рту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1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Кадм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Меры ПДБМ по опасным вещества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11280" y="1628640"/>
            <a:ext cx="80755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/BE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национальных пр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реестров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сто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ACH: Registration, Evaluation, 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uthorization of Chemicals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CH регулир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изводство, импорт, продажу и использование химикатов 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0" name="Diagram 23"/>
          <p:cNvGrpSpPr/>
          <p:nvPr/>
        </p:nvGrpSpPr>
        <p:grpSpPr>
          <a:xfrm>
            <a:off x="2719800" y="1715400"/>
            <a:ext cx="3729240" cy="3420720"/>
            <a:chOff x="2719800" y="1715400"/>
            <a:chExt cx="3729240" cy="3420720"/>
          </a:xfrm>
        </p:grpSpPr>
        <p:sp>
          <p:nvSpPr>
            <p:cNvPr id="91" name="_s1028"/>
            <p:cNvSpPr/>
            <p:nvPr/>
          </p:nvSpPr>
          <p:spPr>
            <a:xfrm flipH="1">
              <a:off x="3684600" y="4082040"/>
              <a:ext cx="451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029"/>
            <p:cNvSpPr/>
            <p:nvPr/>
          </p:nvSpPr>
          <p:spPr>
            <a:xfrm>
              <a:off x="27198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030"/>
            <p:cNvSpPr/>
            <p:nvPr/>
          </p:nvSpPr>
          <p:spPr>
            <a:xfrm>
              <a:off x="5030640" y="4082040"/>
              <a:ext cx="45036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1"/>
            <p:cNvSpPr/>
            <p:nvPr/>
          </p:nvSpPr>
          <p:spPr>
            <a:xfrm>
              <a:off x="54126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032"/>
            <p:cNvSpPr/>
            <p:nvPr/>
          </p:nvSpPr>
          <p:spPr>
            <a:xfrm flipV="1">
              <a:off x="4583520" y="2765880"/>
              <a:ext cx="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033"/>
            <p:cNvSpPr/>
            <p:nvPr/>
          </p:nvSpPr>
          <p:spPr>
            <a:xfrm>
              <a:off x="4066200" y="171540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034"/>
            <p:cNvSpPr/>
            <p:nvPr/>
          </p:nvSpPr>
          <p:spPr>
            <a:xfrm>
              <a:off x="4066200" y="329472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35"/>
          <p:cNvSpPr/>
          <p:nvPr/>
        </p:nvSpPr>
        <p:spPr>
          <a:xfrm>
            <a:off x="1908000" y="2852640"/>
            <a:ext cx="24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ие вещ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5368320" y="170028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еш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435640" y="5229360"/>
            <a:ext cx="31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1045800" y="4581360"/>
            <a:ext cx="14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Исключения из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продуктах питания и кормах для живот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медицинские това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реимпортируем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варах (если они были зарегистрированы до их экспорта из 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отход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меры (за исключением мономер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для НИОКР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9 категорий веществ, однако возможно их участие в процедурах оценки и разреш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ОВ (кроме ХЕЛКОМ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1125360"/>
            <a:ext cx="7991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щества вызывающие особую озабоченност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H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ребуют разрешения на обращение со стороны ЕС. Свойст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MRs, (Carcinogenic, Mutagenic, Toxic to Reprodu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, (Persistent, Toxic and Bioaccumul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; (very Persistent, very Bioaccumulating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будет опубликован 1 августа 2009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приоритетных веществ ВРД 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вещества ВРД ЕС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4360" y="1268280"/>
            <a:ext cx="7991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 вещества, требующих особого внимания с точки зрения водных экосистем – см. спи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ся при сбросах на всех территории 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ь вопрос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11280" y="1628640"/>
            <a:ext cx="80755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ь веществ – различные определения опас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HS, REACH, EU WFD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поступления в окружающую среду и распространения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Виды опасных веществ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церогены – например, асбест (лейкемия, рак легких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тагены – ПАУ, пирен, акрилам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Экологически-опасные вещества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51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ются неск. межд. требо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яжелые метал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5953320" cy="33768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Регулирование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8075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Глобально-согласованная система маркировки химик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тийский регион: различные законодательные рамки для регулирования – ПДБ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, WFD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пасные вещества и Балтика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опас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ко-химическ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 челове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ые св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сть (приложение XIII REACH)/ стабильность (нет или низкая биодерградац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аккумуляция (приложение XIII REACH)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Балтика (ХЕЛКОМ)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920" y="1341360"/>
            <a:ext cx="82818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В по определению ХЕЛКОМ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тяжелые металлы и их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) галогенорганические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) органические соединения фосфора и оло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) пестициды, такие как фунгициды, гербициды, инсектициды, слимициды,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каты, используемые как предохранительные средства в лесном хозяй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е лесоматериалов, целлюлозно-бумажной промышлен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жевенной и текстильной промышл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нефтепродукты и углеводороды, входящие в состав топли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) другие органические соединения, опасные именно для морской сре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) соединения азота и фосф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) радиоактивные вещества, включая отх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) неразлагаемые материалы, которые могут плавать на поверхности, в толще в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бо опускаться на д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j) вещества, которые могут оказать серьезное воздействие на вкус и/или зап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7993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01:48Z</dcterms:created>
  <dc:creator>Pauls Calitis</dc:creator>
  <dc:description/>
  <dc:language>en-US</dc:language>
  <cp:lastModifiedBy>LEGION</cp:lastModifiedBy>
  <dcterms:modified xsi:type="dcterms:W3CDTF">2015-05-04T09:33:33Z</dcterms:modified>
  <cp:revision>293</cp:revision>
  <dc:subject/>
  <dc:title>IMPLEMENTATION OF THE BIODIVERSITY MONITORING REQUIREMENTS  in accordance with the EU Birds and Habitats Directives through facilitating cooperation and stakeholders networking in the Baltic States</dc:title>
</cp:coreProperties>
</file>