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3971-7C75-457F-A3F6-6B8128D545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их рег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лтийском регион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ПДБ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1017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иоксины, фураны и диоксиноподоб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олихлорированные бифенилы (ПХ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бут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фен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нтабромдифениловый 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ек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ульфонат перфторокт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рфтороктановая кис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Гексабромциклододек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 коротко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-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о средне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4-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ндосульф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Рт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1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Кад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E05C-B7AB-4E15-A098-FC83929679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ДБМ по опасным вещ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/BE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национальных пр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реестров 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оценка ст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DC15-ABA3-4E5E-AFB5-6DFC2A6B7E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EACH: Registration, Evaluation,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uthorization of Chemicals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REACH регулиру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изводство, импорт, продажу и использование химикатов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84CC-6067-4805-9828-2289382BD4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лючения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продуктах питания и кормах для живот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медицинские това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реимпортируем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ах (если они были зарегистрированы до их экспорта из 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от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меры (за исключением мономер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для НИОКР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9 категорий веществ, однако возможно их участие в процедурах оценки и раз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01DC-9D9A-4D18-A63F-2B002109E7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ОВ (кроме ХЕЛ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ества вызывающие особую озабоченност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H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C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требуют разрешения на обращение со стороны ЕС. Сво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MRs, (Carcinogenic, Mutagenic, Toxic to Re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, (Persistent, Toxic and Bioaccumula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; (very Persistent, very Bioaccumulatin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будет опубликован 1 августа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ВРД 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437D-BF1B-41FF-B1E2-6864D957C9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вещества ВРД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 вещества, требующих особого внимания с точки зрения водных экосистем – см.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ся при сбросах на всех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EB2-E670-4D1A-8786-8193023B45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ь вопрос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CBA-82BD-4B93-8F05-1D51D3C3FD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ость веществ – различные определения опас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GHS, REACH, EU WFD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ступления в окружающую среду и распространения 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883-7798-468E-9577-30DCF70A5E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пасных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церогены – например, асбест (лейкемия, рак легких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гены – ПАУ, пирен, акрилам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D61-F6E9-43DF-99DA-83B5ADF986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-опасные ве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еск. межд. требо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яжелые метал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E5D-8149-403C-BB41-85C22899BD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H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лобально-согласованная система маркировки хим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тийский регион: различные законодательные рамки для регулирования – ПДБ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, WFD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7C82-CB5B-47B6-9095-6280414D61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опас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о-химическа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(приложение XIII REACH)/ стабильность (нет или низкая биодерградац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аккумуляция (приложение XIII REACH)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E6F-CEEF-4389-A346-8CF8F65B33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(ХЕЛКО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FD41-4D74-43A4-A74E-D9E4A32BAA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 по определению ХЕЛ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яжелые металлы и их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) галогенорганические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) органические соединения фосфора и оло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) пестициды, такие как фунгициды, гербициды, инсектициды, слимициды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каты, используемые как предохранительные средства в лесн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лесоматериалов, целлюлозно-бумажной промышл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венной и текстильной промышл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нефтепродукты и углеводороды, входящие в состав топли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) другие органические соединения, опасные именно для морск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) соединения азота и фосф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) радиоактивные вещества, включая отх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) неразлагаемые материалы, которые могут плавать на поверхности, в толще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опускаться на д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j) вещества, которые могут оказать серьезное воздействие на вкус и/или 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3AF8-90C7-4499-965C-8712FF01B9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11E-5DC6-4EDC-8611-58555E2932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457-F95F-4216-AE54-9D509C3D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568-2FF5-41A4-81AD-12F35613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F5F-86BF-4D69-8605-AB1D731F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4FB-CC08-4093-8F50-386F46B7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79D-9044-4B96-B2C5-0FC8D0F8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7B7-1947-4A37-B478-415CB339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C30-1C25-4C02-A1D4-8AC1305B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E96-F29E-4B03-A9C9-0AE85B6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E86-ADA1-4ED8-8350-48511CE6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70E-5092-45B3-963C-7FCE1C91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637-B415-47EB-A190-5F43BCB0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BED-BA6D-4243-AC11-9F3C147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8254-9C20-4A08-864A-D91F6C4735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250920" y="6308640"/>
            <a:ext cx="871380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250920" y="6308640"/>
            <a:ext cx="8713800" cy="0"/>
          </a:xfrm>
          <a:prstGeom prst="line">
            <a:avLst/>
          </a:prstGeom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 rot="10800000">
            <a:off x="8683200" y="-1440"/>
            <a:ext cx="454680" cy="1830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cspb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logo sm"/>
          <p:cNvPicPr/>
          <p:nvPr/>
        </p:nvPicPr>
        <p:blipFill>
          <a:blip r:embed="rId2"/>
          <a:stretch/>
        </p:blipFill>
        <p:spPr>
          <a:xfrm>
            <a:off x="457200" y="5486400"/>
            <a:ext cx="117144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их регулирование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в Балтийском регион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Список приоритетных веществ ПДБ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75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32000" y="1557360"/>
            <a:ext cx="554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951120"/>
            <a:ext cx="7920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0000" indent="-900000">
              <a:buClr>
                <a:srgbClr val="0101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иоксины, фураны и диоксиноподоб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олихлорированные бифенилы (ПХБ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бут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фен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нтабромдифениловый 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ек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ульфонат перфторокта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рфтороктановая кисл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Гексабромциклододек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 коротко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-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о средне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4-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ндосульф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Рту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Кадм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Меры ПДБМ по опасным вещества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628640"/>
            <a:ext cx="8075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/BE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ациональн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естров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с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ACH: Registration, Evaluation,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uthorization of Chemicals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CH регулир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зводство, импорт, продажу и использование химикатов 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Diagram 23"/>
          <p:cNvGrpSpPr/>
          <p:nvPr/>
        </p:nvGrpSpPr>
        <p:grpSpPr>
          <a:xfrm>
            <a:off x="2719800" y="1715400"/>
            <a:ext cx="3729240" cy="3420720"/>
            <a:chOff x="2719800" y="1715400"/>
            <a:chExt cx="3729240" cy="3420720"/>
          </a:xfrm>
        </p:grpSpPr>
        <p:sp>
          <p:nvSpPr>
            <p:cNvPr id="91" name="_s1028"/>
            <p:cNvSpPr/>
            <p:nvPr/>
          </p:nvSpPr>
          <p:spPr>
            <a:xfrm flipH="1">
              <a:off x="3684600" y="4082040"/>
              <a:ext cx="451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>
              <a:off x="27198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>
              <a:off x="5030640" y="4082040"/>
              <a:ext cx="45036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54126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4583520" y="2765880"/>
              <a:ext cx="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33"/>
            <p:cNvSpPr/>
            <p:nvPr/>
          </p:nvSpPr>
          <p:spPr>
            <a:xfrm>
              <a:off x="4066200" y="171540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4066200" y="329472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35"/>
          <p:cNvSpPr/>
          <p:nvPr/>
        </p:nvSpPr>
        <p:spPr>
          <a:xfrm>
            <a:off x="1908000" y="2852640"/>
            <a:ext cx="24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е ве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5368320" y="17002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435640" y="522936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045800" y="4581360"/>
            <a:ext cx="14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сключения и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продуктах питания и кормах для живот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медицинские 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реимпортируем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варах (если они были зарегистрированы до их экспорта из 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отхо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меры (за исключением мономе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для НИОКР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9 категорий веществ, однако возможно их участие в процедурах оценки и разреш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ОВ (кроме ХЕЛКОМ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125360"/>
            <a:ext cx="7991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 вызывающие особую озабоченнос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H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буют разрешения на обращение со стороны ЕС. Свойст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MRs, (Carcinogenic, Mutagenic, Toxic to Reprodu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, (Persistent, Toxic and Bioaccumul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; (very Persistent, very Bioaccumulatin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будет опубликован 1 августа 200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приоритетных веществ ВРД 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вещества ВРД ЕС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126828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 вещества, требующих особого внимания с точки зрения водных экосистем – см. спи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ся при сбросах на всех территории 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ь вопрос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11280" y="1628640"/>
            <a:ext cx="8075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веществ – различные определения опас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HS, REACH, EU WFD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поступления в окружающую среду и распространения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опасных веществ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церогены – например, асбест (лейкемия, рак легких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тагены – ПАУ, пирен, акрилам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Экологически-опасные вещества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5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неск. межд.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яжелые метал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953320" cy="33768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Регулирование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8075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лобально-согласованная система маркировки химик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тийский регион: различные законодательные рамки для регулирования – ПДБ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, WFD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пасные вещества и Балтика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о-химическ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е 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(приложение XIII REACH)/ стабильность (нет или низкая биодерград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аккумуляция (приложение XIII REACH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Балтика (ХЕЛКОМ)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341360"/>
            <a:ext cx="8281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В по определению ХЕЛКОМ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тяжелые металлы и их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) галогенорганические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) органические соединения фосфора и о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) пестициды, такие как фунгициды, гербициды, инсектициды, слимициды,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каты, используемые как предохранительные средства в лесном хозяй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 лесоматериалов, целлюлозно-бумажной промышл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евенной и текстильно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нефтепродукты и углеводороды, входящие в состав топл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) другие органические соединения, опасные именно для морско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) соединения азота и фосф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) радиоактивные вещества, включая от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) неразлагаемые материалы, которые могут плавать на поверхности, в толще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опускаться на д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) вещества, которые могут оказать серьезное воздействие на вкус и/или за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3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01:48Z</dcterms:created>
  <dc:creator>Pauls Calitis</dc:creator>
  <dc:description/>
  <dc:language>en-US</dc:language>
  <cp:lastModifiedBy>LEGION</cp:lastModifiedBy>
  <dcterms:modified xsi:type="dcterms:W3CDTF">2015-05-04T09:33:33Z</dcterms:modified>
  <cp:revision>293</cp:revision>
  <dc:subject/>
  <dc:title>IMPLEMENTATION OF THE BIODIVERSITY MONITORING REQUIREMENTS  in accordance with the EU Birds and Habitats Directives through facilitating cooperation and stakeholders networking in the Baltic States</dc:title>
</cp:coreProperties>
</file>