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0E70-5FCC-4E55-9CA1-DB853E06C0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их регулирова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Балтийском регионе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приоритетных веществ ПДБ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1017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Диоксины, фураны и диоксиноподоб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олихлорированные бифенилы (ПХ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оединения трибутил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оединения трифенил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ентабромдифениловый 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Октабромдифениловый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Декабромдифениловый эф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Сульфонат перфторокт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Перфтороктановая кис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Гексабромциклододек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Нон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токсилированные нон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Окт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токсилированные октилфено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Хлорированные парафины с короткой цепью (хлоралканы, 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0-1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b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Хлорированные парафины со средней цепью (хлоралканы, </a:t>
            </a:r>
            <a:r>
              <a:rPr b="0" lang="en-US" sz="1200" spc="-1" strike="noStrike">
                <a:solidFill>
                  <a:srgbClr val="010175"/>
                </a:solidFill>
                <a:latin typeface="Calibri"/>
              </a:rPr>
              <a:t>C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4-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9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Эндосульф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0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Рту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11. 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10175"/>
                </a:solidFill>
                <a:latin typeface="Calibri"/>
              </a:rPr>
              <a:t>Кадм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3840-5F15-4340-BB69-817B604EFE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ДБМ по опасным вещ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ение ограничений для отдельных вещ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рет и замена, где необходимо и возмож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НИТ и НЭП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T/BE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национальных програм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реестров 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ая оценка сто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уровня знаний и компет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в работу других международных форум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52B7-F25B-4885-AEDC-709BA6AA4D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</a:t>
            </a:r>
            <a:br>
              <a:rPr sz="28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EACH: Registration, Evaluation, 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uthorization of Chemicals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REACH регулирует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изводство, импорт, продажу и использование химикатов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2FC6-3730-4AE4-B5B6-0D15C8F4D4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ключения и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используемые в продуктах питания и кормах для живот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используемые в медицинские това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в реимпортируемы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ах (если они были зарегистрированы до их экспорта из Е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в отх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меры (за исключением мономер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 для НИОКР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содержащиеся в прилож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гламенту ЕС № 190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(68 веществ в отношении которых имеется достаточная информация, подтверждающая их использование с наименьшим риском для здоровь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содержащиеся в приложен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гламенту ЕС № 190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6 (9 категорий веществ, однако возможно их участие в процедурах оценки и разреш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возникающие в результате химической реакции с окружающей средой, в результате хранения других веществ или при их эксплуатации в том случае, если они самостоятельно не были произведены и размещены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минералы и руды в том случае, если они не подвергаются химическим превращениям (переработка ручным, механическим или гравитационным способами не требует их регист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50CB-4D89-4366-BB1D-8E03CE7017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ые ОВ (кроме ХЕЛ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щества вызывающие особую озабоченност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VH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ACH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требуют разрешения на обращение со стороны ЕС. Сво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MRs, (Carcinogenic, Mutagenic, Toxic to Reprodu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BTs, (Persistent, Toxic and Bioaccumula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PvBs; (very Persistent, very Bioaccumulating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ества, определенные как «имеющие серьезное необратимое влияние на человека и ОС» эквивалетные другим 3 категор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будет опубликован 1 августа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приоритетных веществ ВРД Е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33 вещества, требующих особого внимания с точки зрения водных экосистем – см. список. Регулируются при сбросах на всей территории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02EF-0E01-4BE1-9966-D2AF259061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ые вещества ВРД 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 вещества, требующих особого внимания с точки зрения водных экосистем – см. спи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ся при сбросах на всех территории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AB37-F3D5-4289-9E78-430064D35D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ть вопрос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5622-2A6B-4F4C-8C92-9176B0932A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ость веществ – различные определения опасно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GHS, REACH, EU WFD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опасность т.е. опасность для окружающей среды и, главное, для морских экосист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ступления в окружающую среду и распространения 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4278-A291-4CC5-8C6F-2E6D0EA41D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пасных веще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церогены – например, асбест (лейкемия, рак легких и пр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гены – ПАУ, пирен, акрилами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лергены – вещества вызывающие аллергии, астмы, дерматиты (никель, полимеры и пр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йкие органические загрязнители (СОЗ) – ДДТ, ПХБ ведущие к заболеваниям нервной системы, ослаблению иммунитет и п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ители эндокринной системы – ТБТ, фталаты, ДДТ, линдан, атразин, ПХБ ведущие к нарушениям в репродуктивно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3CBE-4D5A-4183-B113-5220A91A82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логически-опасные веще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еск. межд. требов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B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vPv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яжелые метал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886E-8193-44CF-8E67-65CA40CE62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уровень: Стокгольмская Конвенция по СОЗ (2001), Роттердамская Конвенция (2004 – торговля и запрет некоторых ОВ и пестицидов)  и Орхусский Протокол по стойким органическим загрязнителям (1998) к Конвенции ЕЭК ООН о трансграничном загрязнении воздуха на большие расстояния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H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лобально-согласованная система маркировки хим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тийский регион: различные законодательные рамки для регулирования – ПДБ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H, WFD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E0ED-8474-492F-BAE0-14814CDBB7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Бал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опас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ко-химическа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 челове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ые эффекты не так значимы из-за растворения, разложения, деградации, метаболизма ..значит, более важны долговременные эффекты..т.к. низкие дозы могут быть опасны из-за концентрации в пищевой цеп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асные свой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(приложение XIII REACH)/ стабильность (нет или низкая биодерградаци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аккумуляция (приложение XIII REACH)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A5B8-8214-4CCF-B7D2-4007D03519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вещества и Балтика (ХЕЛКОМ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ещества, попадая в Балтийское море, могут оставаться  в воде очень длительное время и накапливаться в морских пищевых цепочках до уровней, которые являются токсичными для морских организмов. Уровни некоторых вредных веществ в Балтийском море превышают концентрации таких веществ, например, в северо-восточной части Атлантики, более чем в 20 раз. Вредные вещества оказывают негативное воздействие на экосистему, а именно: вызывают нарушение общего здоровья животных; вызывают нарушение репродуктивной функции у животных, особенно у хищников; приводят к повышению уровня загрязнений в рыбе, которую люди потребляют в пи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FB4D-F995-44E9-A5A2-BE95580693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 по определению ХЕЛ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яжелые металлы и их со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) галогенорганические со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) органические соединения фосфора и оло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) пестициды, такие как фунгициды, гербициды, инсектициды, слимициды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каты, используемые как предохранительные средства в лесном хозяй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 лесоматериалов, целлюлозно-бумажной промышл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евенной и текстильной промышл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) нефтепродукты и углеводороды, входящие в состав топли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) другие органические соединения, опасные именно для морск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) соединения азота и фосф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) радиоактивные вещества, включая отх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) неразлагаемые материалы, которые могут плавать на поверхности, в толще 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опускаться на д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j) вещества, которые могут оказать серьезное воздействие на вкус и/или за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х продуктов, потребляемых человеком, либо воздействовать на вкус, запах, цвет, прозрачность и другие характеристики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FE97-E965-412F-AB26-9780B90A44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ДБМ – «Опасные вещества»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ДБМ нацелен на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Концентрации ОВ близкие к естественному ф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«Здоровую» живую прир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Вся рыба пригодна к употреблению в пищ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Calibri"/>
              </a:rPr>
              <a:t>Радиоактивность на «до-чернобыльском» уро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альный фокус на 11 приоритетных веще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3600-527E-4D9B-B65A-FF17AC2310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3D5-A066-43C3-893C-099B1C4B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286-7786-4D6E-BC16-446AB30D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6E4-2BDF-4AFE-876F-CB995676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D55-537D-4041-B133-89CA9714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A1E-B395-47EF-AA1C-1882C025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577-DD6F-4A15-A4E8-5BCE810C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711-CCA9-437A-8F36-EA04DEE2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3CC-2355-407D-B252-AC93C848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C133-8E02-42CA-A840-41C896CA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EE9-A459-4420-8703-82225B65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D6E-E272-4634-8992-7C07AD52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E08-BDC7-4E1E-B271-ED9050D7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FEFF-2ABD-4CB5-972D-4B39E10AC2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250920" y="6308640"/>
            <a:ext cx="8713800" cy="366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250920" y="6308640"/>
            <a:ext cx="8713800" cy="0"/>
          </a:xfrm>
          <a:prstGeom prst="line">
            <a:avLst/>
          </a:prstGeom>
          <a:ln w="316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 rot="10800000">
            <a:off x="8683200" y="-1440"/>
            <a:ext cx="454680" cy="1830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cspb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398628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logo sm"/>
          <p:cNvPicPr/>
          <p:nvPr/>
        </p:nvPicPr>
        <p:blipFill>
          <a:blip r:embed="rId2"/>
          <a:stretch/>
        </p:blipFill>
        <p:spPr>
          <a:xfrm>
            <a:off x="457200" y="5486400"/>
            <a:ext cx="117144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Опасные вещества и их регулирование </a:t>
            </a:r>
            <a:br>
              <a:rPr sz="4000"/>
            </a:b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в Балтийском регионе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81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Список приоритетных веществ ПДБМ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17560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132000" y="1557360"/>
            <a:ext cx="5543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68360" y="951120"/>
            <a:ext cx="7920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0000" indent="-900000">
              <a:buClr>
                <a:srgbClr val="01017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Диоксины, фураны и диоксиноподоб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олихлорированные бифенилы (ПХБ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оединения трибутилоло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оединения трифенилолов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ентабромдифениловый 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Октабромдифениловый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Декабромдифениловый эфи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Сульфонат перфторокта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Перфтороктановая кисло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5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Гексабромциклододека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Нон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токсилированные нон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Окт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токсилированные октилфено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Хлорированные парафины с короткой цепью (хлоралканы, 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0-1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Хлорированные парафины со средней цепью (хлоралканы, </a:t>
            </a:r>
            <a:r>
              <a:rPr b="0" lang="en-US" sz="1600" spc="-1" strike="noStrike">
                <a:solidFill>
                  <a:srgbClr val="010175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4-1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9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Эндосульф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0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Рту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11. 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10175"/>
                </a:solidFill>
                <a:latin typeface="Arial"/>
              </a:rPr>
              <a:t>Кадм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Меры ПДБМ по опасным веществам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11280" y="1628640"/>
            <a:ext cx="807552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ограничений для отдель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т и замена, где необходимо и возмо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НИТ и НЭП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/BE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национальных програм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реестров 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ная оценка сто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уровня знаний и компет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ад в работу других международных фору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ACH</a:t>
            </a:r>
            <a:br>
              <a:rPr sz="3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ACH: Registration, Evaluation, 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uthorization of Chemicals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CH регулиру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изводство, импорт, продажу и использование химикатов ,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0" name="Diagram 23"/>
          <p:cNvGrpSpPr/>
          <p:nvPr/>
        </p:nvGrpSpPr>
        <p:grpSpPr>
          <a:xfrm>
            <a:off x="2719800" y="1715400"/>
            <a:ext cx="3729240" cy="3420720"/>
            <a:chOff x="2719800" y="1715400"/>
            <a:chExt cx="3729240" cy="3420720"/>
          </a:xfrm>
        </p:grpSpPr>
        <p:sp>
          <p:nvSpPr>
            <p:cNvPr id="91" name="_s1028"/>
            <p:cNvSpPr/>
            <p:nvPr/>
          </p:nvSpPr>
          <p:spPr>
            <a:xfrm flipH="1">
              <a:off x="3684600" y="4082040"/>
              <a:ext cx="451440" cy="26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1029"/>
            <p:cNvSpPr/>
            <p:nvPr/>
          </p:nvSpPr>
          <p:spPr>
            <a:xfrm>
              <a:off x="2719800" y="408384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030"/>
            <p:cNvSpPr/>
            <p:nvPr/>
          </p:nvSpPr>
          <p:spPr>
            <a:xfrm>
              <a:off x="5030640" y="4082040"/>
              <a:ext cx="450360" cy="26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031"/>
            <p:cNvSpPr/>
            <p:nvPr/>
          </p:nvSpPr>
          <p:spPr>
            <a:xfrm>
              <a:off x="5412600" y="408384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1032"/>
            <p:cNvSpPr/>
            <p:nvPr/>
          </p:nvSpPr>
          <p:spPr>
            <a:xfrm flipV="1">
              <a:off x="4583520" y="2765880"/>
              <a:ext cx="0" cy="52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033"/>
            <p:cNvSpPr/>
            <p:nvPr/>
          </p:nvSpPr>
          <p:spPr>
            <a:xfrm>
              <a:off x="4066200" y="171540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1034"/>
            <p:cNvSpPr/>
            <p:nvPr/>
          </p:nvSpPr>
          <p:spPr>
            <a:xfrm>
              <a:off x="4066200" y="3294720"/>
              <a:ext cx="1036440" cy="10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Text Box 35"/>
          <p:cNvSpPr/>
          <p:nvPr/>
        </p:nvSpPr>
        <p:spPr>
          <a:xfrm>
            <a:off x="1908000" y="2852640"/>
            <a:ext cx="24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имические вещ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32"/>
          <p:cNvSpPr/>
          <p:nvPr/>
        </p:nvSpPr>
        <p:spPr>
          <a:xfrm>
            <a:off x="5368320" y="170028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еш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435640" y="5229360"/>
            <a:ext cx="31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1045800" y="4581360"/>
            <a:ext cx="145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Исключения из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ACH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3600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используемые в продуктах питания и кормах для живот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используемые в медицинские това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в реимпортируемы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варах (если они были зарегистрированы до их экспорта из 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в отход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имеры (за исключением мономеров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 для НИОКР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содержащиеся в прилож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регламенту ЕС № 19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(68 веществ в отношении которых имеется достаточная информация, подтверждающая их использование с наименьшим риском для здоровь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содержащиеся в приложе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регламенту ЕС № 19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06 (9 категорий веществ, однако возможно их участие в процедурах оценки и разреш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ства, возникающие в результате химической реакции с окружающей средой, в результате хранения других веществ или при их эксплуатации в том случае, если они самостоятельно не были произведены и размещены на рын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родные минералы и руды в том случае, если они не подвергаются химическим превращениям (переработка ручным, механическим или гравитационным способами не требует их регистр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Приоритетные ОВ (кроме ХЕЛКОМ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84360" y="1125360"/>
            <a:ext cx="79912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щества вызывающие особую озабоченность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VH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требуют разрешения на обращение со стороны ЕС. Свойств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MRs, (Carcinogenic, Mutagenic, Toxic to Reproduc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BTs, (Persistent, Toxic and Bioaccumulat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PvBs; (very Persistent, very Bioaccumulating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а, определенные как «имеющие серьезное необратимое влияние на человека и ОС» эквивалетные другим 3 категория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будет опубликован 1 августа 2009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приоритетных веществ ВРД Е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33 вещества, требующих особого внимания с точки зрения водных экосистем – см. список. Регулируются при сбросах на всей территории Е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Arial"/>
              </a:rPr>
              <a:t>Приоритетные вещества ВРД ЕС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360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84360" y="1268280"/>
            <a:ext cx="7991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 вещества, требующих особого внимания с точки зрения водных экосистем – см. спи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ся при сбросах на всех территории Е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ь вопрос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Опасные вещества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611280" y="1628640"/>
            <a:ext cx="80755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асность веществ – различные определения опас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GHS, REACH, EU WFD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ая опасность т.е. опасность для окружающей среды и, главное, для морских экосист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и поступления в окружающую среду и распространения 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Виды опасных веществ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1280" y="1125360"/>
            <a:ext cx="8075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церогены – например, асбест (лейкемия, рак легких и пр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тагены – ПАУ, пирен, акрилами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лергены – вещества вызывающие аллергии, астмы, дерматиты (никель, полимеры и пр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ие органические загрязнители (СОЗ) – ДДТ, ПХБ ведущие к заболеваниям нервной системы, ослаблению иммунитет и п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ушители эндокринной системы – ТБТ, фталаты, ДДТ, линдан, атразин, ПХБ ведущие к нарушениям в репродуктивно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Экологически-опасные вещества 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51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ются неск. межд. требова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B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vPv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тяжелые метал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5953320" cy="33768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Регулирование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11280" y="1052640"/>
            <a:ext cx="80755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й уровень: Стокгольмская Конвенция по СОЗ (2001), Роттердамская Конвенция (2004 – торговля и запрет некоторых ОВ и пестицидов)  и Орхусский Протокол по стойким органическим загрязнителям (1998) к Конвенции ЕЭК ООН о трансграничном загрязнении воздуха на большие расстояния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Глобально-согласованная система маркировки химика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лтийский регион: различные законодательные рамки для регулирования – ПДБ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, WFD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Опасные вещества и Балтика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опасност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ко-химическа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 человек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е эффекты не так значимы из-за растворения, разложения, деградации, метаболизма ..значит, более важны долговременные эффекты..т.к. низкие дозы могут быть опасны из-за концентрации в пищевой цепо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асные свой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ойчивость (приложение XIII REACH)/ стабильность (нет или низкая биодерградац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аккумуляция (приложение XIII REACH)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3628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Опасные вещества и Балтика (ХЕЛКОМ)</a:t>
            </a: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11280" y="1125360"/>
            <a:ext cx="80755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50920" y="1341360"/>
            <a:ext cx="82818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ные вещества, попадая в Балтийское море, могут оставаться  в воде очень длительное время и накапливаться в морских пищевых цепочках до уровней, которые являются токсичными для морских организмов. Уровни некоторых вредных веществ в Балтийском море превышают концентрации таких веществ, например, в северо-восточной части Атлантики, более чем в 20 раз. Вредные вещества оказывают негативное воздействие на экосистему, а именно: вызывают нарушение общего здоровья животных; вызывают нарушение репродуктивной функции у животных, особенно у хищников; приводят к повышению уровня загрязнений в рыбе, которую люди потребляют в пищ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Arial"/>
              </a:rPr>
              <a:t>ОВ по определению ХЕЛКОМ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тяжелые металлы и их соеди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) галогенорганические соеди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) органические соединения фосфора и оло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) пестициды, такие как фунгициды, гербициды, инсектициды, слимициды,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имикаты, используемые как предохранительные средства в лесном хозяй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е лесоматериалов, целлюлозно-бумажной промышленност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жевенной и текстильной промышл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) нефтепродукты и углеводороды, входящие в состав топли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f) другие органические соединения, опасные именно для морской сре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g) соединения азота и фосфо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) радиоактивные вещества, включая отход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) неразлагаемые материалы, которые могут плавать на поверхности, в толще во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бо опускаться на д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j) вещества, которые могут оказать серьезное воздействие на вкус и/или зап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рских продуктов, потребляемых человеком, либо воздействовать на вкус, запах, цвет, прозрачность и другие характеристики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43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808080"/>
                </a:solidFill>
                <a:latin typeface="Arial"/>
              </a:rPr>
              <a:t>ПДБМ – «Опасные вещества»</a:t>
            </a:r>
            <a:r>
              <a:rPr b="1" lang="ru-RU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79930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ХЕЛКОМ определяет вещества как вредные, если они являются токсичными, стойкими и накапливаются в биологических тканях (СОЗ) или являются очень токсичными и обладают высокой степенью биоаккумуляции. Кроме того, к вредным веществам относятся такие опасные вещества, которые воздействуют на гормональную и иммунную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ДБМ нацелен на</a:t>
            </a: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онцентрации ОВ близкие к естественному 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Здоровую» живую при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ся рыба пригодна к употреблению в пищ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диоактивность на «до-чернобыльском» уро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й фокус на 11 приоритет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05:01:48Z</dcterms:created>
  <dc:creator>Pauls Calitis</dc:creator>
  <dc:description/>
  <dc:language>en-US</dc:language>
  <cp:lastModifiedBy>LEGION</cp:lastModifiedBy>
  <dcterms:modified xsi:type="dcterms:W3CDTF">2015-05-04T09:33:33Z</dcterms:modified>
  <cp:revision>293</cp:revision>
  <dc:subject/>
  <dc:title>IMPLEMENTATION OF THE BIODIVERSITY MONITORING REQUIREMENTS  in accordance with the EU Birds and Habitats Directives through facilitating cooperation and stakeholders networking in the Baltic States</dc:title>
</cp:coreProperties>
</file>