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AP.WAV" ContentType="audio/x-wav"/>
  <Override PartName="/ppt/media/TYPE.WAV" ContentType="audio/x-wav"/>
  <Override PartName="/ppt/media/image9.jpeg" ContentType="image/jpeg"/>
  <Override PartName="/ppt/media/image13.png" ContentType="image/png"/>
  <Override PartName="/ppt/media/PROJCTOR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GLASS.WAV" ContentType="audio/x-wav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0.wmf" ContentType="image/x-wmf"/>
  <Override PartName="/ppt/media/image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CDE3-D72E-4450-AE06-2FA08B1C122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Calibri"/>
              </a:rPr>
              <a:t>Периодический закон Д.И.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(1834-1907г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8BB2-D895-4572-B692-88D1B360AE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качества   уче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а от других химиков отличали: энциклопедичность химических знаний, умение анализировать и обобщать факты, научное прогнозирование, русский менталитет и русский патрио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7A1F-D26D-4040-87CE-94886A710D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Роль практики в становление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предсказывает, описывает и указывает пути открытия еще не известных науке галлия, скандия и гер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96AB-7707-4D4F-B5F6-2B3798EEA3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75 г. Поль Эмиль Лекок де Буабодран (Франция) открыл галл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алюмини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подобный алюминию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79 г. Ларс Фредерик Нильсон (Швеция) открыл сканд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бор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подобный бор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86 г. Клеменс Александр Винклер (Германия) открыл герман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силици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подобный кремнию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6DF2-56D3-4924-9731-01C0507020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сновные направления развития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химических элементов и образуемых ими веществ в периодической зависимост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их относительных атомных мас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зарядов их атомных яде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периодичности в изменении внешних электронных слоев атом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0EC1-204F-4D40-AFA4-928DACBE80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ериодический закон Д.И.Менделеева был открыт в 1869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8586-02F9-4BF2-9D4C-125DCBAA33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редпосылки создания   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фактологическ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редшестве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ъезд химиков в г.Карлсруэ в 18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кач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C7D7-9D92-44E1-B801-804FBDA5AC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копление фактологического матери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ремени открытия Периодического закона было известно 63 элемента и описаны свойства их многочисленны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61B0-6D4C-4C61-831C-E517B726454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редшестве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Й. Берцелиус (Металлы и    неметаллы)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В. Деберейнер (Триа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А.Р. Ньюлендс (Октав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Мей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9D9B-5334-45A2-8F7A-1FFD315502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Джон Ньюлендс 1865г.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Закон «Окта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5AB9-92E8-4453-97B7-B48C703356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ъезд химиков в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Карлсруэ в 18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присутствовал в роли наблюд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3EB4-979B-4104-8C7D-8F5775B1079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9FBB-872F-4E8E-8537-F7683F80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176-2293-4212-A3E6-9DBFD1EB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066-2329-4A39-977A-734295E3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A6D-1663-418E-B68B-036DE40B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F81B-148A-4350-B28A-93C52D59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4A77-CF9D-47E1-81C4-3FEB831A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75A3-EB4B-4FEF-A985-C86F16F7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DDE2-7999-48D1-ADF3-BF4D990A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AABE-9D50-4F1F-A6DE-0C054583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A4C7-C307-4299-9F88-EE8DD284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C2EF-4F04-44C3-9D73-24254DC2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18F8-21BB-44D7-9FDB-6F166FA9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89A6-DA41-4FC2-BB31-788C9CF6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26BF-6F6C-4D96-B0ED-F343C9D0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101E-D802-4DC4-B80A-12189694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9EFE-8F61-4A7A-B7C4-79F7DF27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7D59-EEED-4B27-9933-6D83A653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656-ADF8-4207-8E77-13E3DE27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278-D755-45AF-948C-F13B0D4E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243-D240-4C99-933E-99A19436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032-DF42-4F83-A044-530DBA85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8CA-06C4-4B7B-AC1B-99784EA4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228-7352-4A0D-B154-BF32AFA9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D65C-7B1E-41AD-A08C-FA511D09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6AB4-67CE-4FAD-A3BB-8E44B2B568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30EF-F8D7-44C8-B0D2-996256C88D5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audio" Target="../media/TYPE.WAV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GLASS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3300"/>
                </a:solidFill>
                <a:latin typeface="Arial Black"/>
              </a:rPr>
              <a:t>Периодический закон Д.И.Менделеев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723920" y="5445000"/>
            <a:ext cx="3079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(1834-1907г.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6" descr="C:\Documents and Settings\Admin\Мои документы\портреты химиков и алхимиков\менделеев.jpg"/>
          <p:cNvPicPr/>
          <p:nvPr/>
        </p:nvPicPr>
        <p:blipFill>
          <a:blip r:embed="rId1"/>
          <a:stretch/>
        </p:blipFill>
        <p:spPr>
          <a:xfrm>
            <a:off x="1600200" y="2590920"/>
            <a:ext cx="2459160" cy="38862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08" name="Picture 17" descr="C:\Documents and Settings\Admin\Мои документы\Мои рисунки\учебники\учебник1.jpg"/>
          <p:cNvPicPr/>
          <p:nvPr/>
        </p:nvPicPr>
        <p:blipFill>
          <a:blip r:embed="rId2"/>
          <a:stretch/>
        </p:blipFill>
        <p:spPr>
          <a:xfrm>
            <a:off x="7848720" y="0"/>
            <a:ext cx="1181160" cy="17524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чные качества   учен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а от других химиков отличали: энциклопедичность химических знаний, умение анализировать и обобщать факты, научное прогнозирование, русский менталитет и русский патриот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01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64771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02"/>
          <p:cNvPicPr/>
          <p:nvPr/>
        </p:nvPicPr>
        <p:blipFill>
          <a:blip r:embed="rId1"/>
          <a:stretch/>
        </p:blipFill>
        <p:spPr>
          <a:xfrm>
            <a:off x="205740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Роль практики в становление тео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 предсказывает, описывает и указывает пути открытия еще не известных науке галлия, скандия и гер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685800"/>
            <a:ext cx="800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75 г. Поль Эмиль Лекок де Буабодран (Франция) открыл галл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алюминий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– подобный алюминию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79 г. Ларс Фредерик Нильсон (Швеция) открыл сканд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бор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– подобный бору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86 г. Клеменс Александр Винклер (Германия) открыл герман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силиций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– подобный кремнию)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Основные направления развития тео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йства химических элементов и образуемых ими веществ в периодической зависимост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их относительных атомных масс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зарядов их атомных яде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периодичности в изменении внешних электронных слоев атомов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Admin\Мои документы\портреты химиков и алхимиков\биография менделеев.JPG"/>
          <p:cNvPicPr/>
          <p:nvPr/>
        </p:nvPicPr>
        <p:blipFill>
          <a:blip r:embed="rId2"/>
          <a:stretch/>
        </p:blipFill>
        <p:spPr>
          <a:xfrm>
            <a:off x="533520" y="307800"/>
            <a:ext cx="8153280" cy="61851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 Black"/>
              </a:rPr>
              <a:t>Периодический закон Д.И.Менделеева был открыт в 1869г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7638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Предпосылки создания    зако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Накопление фактологического матери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ы предшествен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ъезд химиков в г.Карлсруэ в 186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остные каче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7308720" y="5805360"/>
            <a:ext cx="1008360" cy="648000"/>
          </a:xfrm>
          <a:custGeom>
            <a:avLst/>
            <a:gdLst>
              <a:gd name="textAreaLeft" fmla="*/ 41760 w 1008360"/>
              <a:gd name="textAreaRight" fmla="*/ 966600 w 1008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3605" h="21600">
                <a:moveTo>
                  <a:pt x="0" y="0"/>
                </a:moveTo>
                <a:lnTo>
                  <a:pt x="33605" y="0"/>
                </a:lnTo>
                <a:lnTo>
                  <a:pt x="33605" y="21600"/>
                </a:lnTo>
                <a:lnTo>
                  <a:pt x="0" y="21600"/>
                </a:lnTo>
                <a:close/>
              </a:path>
              <a:path fill="lightenLess" w="33605" h="21600">
                <a:moveTo>
                  <a:pt x="0" y="0"/>
                </a:moveTo>
                <a:lnTo>
                  <a:pt x="33605" y="0"/>
                </a:lnTo>
                <a:lnTo>
                  <a:pt x="32205" y="1400"/>
                </a:lnTo>
                <a:lnTo>
                  <a:pt x="1400" y="1400"/>
                </a:lnTo>
                <a:close/>
              </a:path>
              <a:path fill="darken" w="33605" h="21600">
                <a:moveTo>
                  <a:pt x="33605" y="0"/>
                </a:moveTo>
                <a:lnTo>
                  <a:pt x="33605" y="21600"/>
                </a:lnTo>
                <a:lnTo>
                  <a:pt x="32205" y="20200"/>
                </a:lnTo>
                <a:lnTo>
                  <a:pt x="32205" y="1400"/>
                </a:lnTo>
                <a:close/>
              </a:path>
              <a:path fill="darkenLess" w="33605" h="21600">
                <a:moveTo>
                  <a:pt x="33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5" y="20200"/>
                </a:lnTo>
                <a:close/>
              </a:path>
              <a:path fill="lighten" w="33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5" h="21600">
                <a:moveTo>
                  <a:pt x="9796" y="3794"/>
                </a:moveTo>
                <a:lnTo>
                  <a:pt x="23809" y="10800"/>
                </a:lnTo>
                <a:lnTo>
                  <a:pt x="97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копление фактологического материал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 времени открытия Периодического закона было известно 63 элемента и описаны свойства их многочисленных соеди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боты предшественник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. Берцелиус (Металлы и    неметаллы)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.В. Деберейнер (Триад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А.Р. Ньюлендс (Октав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.Мей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6804000" y="404640"/>
            <a:ext cx="187632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Ньюленс"/>
          <p:cNvPicPr/>
          <p:nvPr/>
        </p:nvPicPr>
        <p:blipFill>
          <a:blip r:embed="rId2"/>
          <a:stretch/>
        </p:blipFill>
        <p:spPr>
          <a:xfrm>
            <a:off x="4788000" y="4292640"/>
            <a:ext cx="1676160" cy="2268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i[3]"/>
          <p:cNvPicPr/>
          <p:nvPr/>
        </p:nvPicPr>
        <p:blipFill>
          <a:blip r:embed="rId3"/>
          <a:stretch/>
        </p:blipFill>
        <p:spPr>
          <a:xfrm>
            <a:off x="6877080" y="2852640"/>
            <a:ext cx="176220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i[13]"/>
          <p:cNvPicPr/>
          <p:nvPr/>
        </p:nvPicPr>
        <p:blipFill>
          <a:blip r:embed="rId4"/>
          <a:stretch/>
        </p:blipFill>
        <p:spPr>
          <a:xfrm>
            <a:off x="2843280" y="4797360"/>
            <a:ext cx="1395360" cy="16574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ac8a"/>
            </a:gs>
            <a:gs pos="50000">
              <a:srgbClr val="ffffcc"/>
            </a:gs>
            <a:gs pos="100000">
              <a:srgbClr val="acac8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Джон Ньюлендс 1865г.</a:t>
            </a:r>
            <a:br>
              <a:rPr sz="4400"/>
            </a:b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Закон «Октав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609480" y="2017800"/>
          <a:ext cx="8366400" cy="44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17800"/>
                    <a:ext cx="836640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2"/>
          <p:cNvSpPr/>
          <p:nvPr/>
        </p:nvSpPr>
        <p:spPr>
          <a:xfrm flipH="1">
            <a:off x="5985360" y="3576600"/>
            <a:ext cx="1459080" cy="1660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 flipH="1">
            <a:off x="5151960" y="2903040"/>
            <a:ext cx="1683360" cy="113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4630680" y="2207520"/>
            <a:ext cx="1615320" cy="67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 flipH="1">
            <a:off x="3894120" y="1438200"/>
            <a:ext cx="2036880" cy="26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 flipH="1">
            <a:off x="3124080" y="53352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5486400" y="-1905120"/>
            <a:ext cx="5867280" cy="5943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829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ТРИА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оган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ёрбеней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685800" y="228600"/>
            <a:ext cx="266688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     Na    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,9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23,0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9,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1295280" y="1371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     Sr     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0,1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87,6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37,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1981080" y="2514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    As     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1,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4,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1,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2666880" y="3657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    Se    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2,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9,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7,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3429000" y="4800600"/>
            <a:ext cx="2666880" cy="762120"/>
          </a:xfrm>
          <a:prstGeom prst="rect">
            <a:avLst/>
          </a:prstGeom>
          <a:gradFill rotWithShape="0">
            <a:gsLst>
              <a:gs pos="0">
                <a:srgbClr val="8f728f"/>
              </a:gs>
              <a:gs pos="50000">
                <a:srgbClr val="ffccff"/>
              </a:gs>
              <a:gs pos="100000">
                <a:srgbClr val="8f728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     Br    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5,5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79,9      126,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1295280" y="5943600"/>
            <a:ext cx="3962520" cy="6094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(6,9+39,1):2 = 23,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ъезд химиков в         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. Карлсруэ в 1860 г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 присутствовал в роли наблюда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07:31:55Z</dcterms:created>
  <dc:creator>user</dc:creator>
  <dc:description/>
  <dc:language>en-US</dc:language>
  <cp:lastModifiedBy>LEGION</cp:lastModifiedBy>
  <dcterms:modified xsi:type="dcterms:W3CDTF">2015-05-01T11:10:53Z</dcterms:modified>
  <cp:revision>13</cp:revision>
  <dc:subject/>
  <dc:title>Слайд 1</dc:title>
</cp:coreProperties>
</file>