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TYPE.WAV" ContentType="audio/x-wav"/>
  <Override PartName="/ppt/media/image9.jpeg" ContentType="image/jpeg"/>
  <Override PartName="/ppt/media/image13.png" ContentType="image/png"/>
  <Override PartName="/ppt/media/PROJCTOR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GLASS.WAV" ContentType="audio/x-wav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C923-05DA-4D0D-BB46-378087754F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(1834-1907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F7C2-30E8-4AF9-9973-4F8AD47A79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качества   уче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54E1-C57D-4CF0-B1D3-1DF45D4FD1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Роль практики в становлени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B61D-6836-4B9A-8667-43E82D56C5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алюмини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алюминию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бор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б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силиц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подобный кремнию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C01D-3327-4EFC-92AD-3B62781155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сновные направления развития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 и образуемых ими веществ в периодической зависимо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их относительных атомных ма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зарядов их атомных яд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периодичности в изменении внешних электронных слоев атом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8E2-E6D5-40BF-96AD-F2C8133AA1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 был открыт в 1869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2BE7-E1E5-4250-9BEF-503A29FD7F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едпосылки создания   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г.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ка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82C7-3B24-46E0-9071-BB713F716F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EC85-F677-49AB-BA17-270753BB4A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Й. Берцелиус (Металлы и    неметаллы)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Деберейнер (Триа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А.Р. Ньюлендс (Октав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3D99-16E6-44B8-A162-43E308D69D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Джон Ньюлендс 1865г.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Закон «Окта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BB32-03CB-45D7-A2E0-6BF787CF18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исутствовал в роли наблюд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5300-09AB-4227-BF52-3285158FFB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CF0-9FFD-45D7-B60C-FE0D6794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71C-4978-4711-9294-477F3EC2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E9B-49B5-4D43-A8FC-4BB7F7D0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A46-58EA-4A1B-99DB-8414316A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88AD-CEC2-4701-B996-6B8F5543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3A83-6B12-4349-B66A-1EDDDEC6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83A4-D0DA-47C3-83A6-E4F97B8B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17FB-2C3A-4117-8EF7-0C545FCD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F63A-CB5A-4729-BDEF-D6870D29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630D-554E-4E67-81F8-DEF7719D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4309-C44E-49A7-8D1F-17EFA66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97C-F17D-4B4E-B402-D4435F53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1367-2DB5-4DEB-BBE9-6CFCA9AE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EA0C-1B4E-458E-B3B0-284D8FCA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0C07-04B5-41C1-A987-9D408C0B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6CD8-D66F-4CDF-AE76-CD9ABDF7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DFD4-8413-49AF-9A51-E5AE9BD0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996-593E-45AC-8A1A-59F556E9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ABB-3A86-4833-8A34-5C7E397C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278-E91B-436B-9E53-CDAAAD1B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57F-6892-4078-9445-20B9850C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561-8290-497E-A972-22D81A3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4B7-9951-4BA2-982C-3417FB7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A0A-5B75-4C92-B67A-FA8BEED2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4A6-2F3C-4623-9DFD-30EA47210E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E901-A567-46E1-BDD1-FC774A4099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723920" y="5445000"/>
            <a:ext cx="3079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(1834-1907г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C:\Documents and Settings\Admin\Мои документы\портреты химиков и алхимиков\менделеев.jpg"/>
          <p:cNvPicPr/>
          <p:nvPr/>
        </p:nvPicPr>
        <p:blipFill>
          <a:blip r:embed="rId1"/>
          <a:stretch/>
        </p:blipFill>
        <p:spPr>
          <a:xfrm>
            <a:off x="1600200" y="2590920"/>
            <a:ext cx="2459160" cy="3886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8" name="Picture 17" descr="C:\Documents and Settings\Admin\Мои документы\Мои рисунки\учебники\учебник1.jpg"/>
          <p:cNvPicPr/>
          <p:nvPr/>
        </p:nvPicPr>
        <p:blipFill>
          <a:blip r:embed="rId2"/>
          <a:stretch/>
        </p:blipFill>
        <p:spPr>
          <a:xfrm>
            <a:off x="7848720" y="0"/>
            <a:ext cx="118116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чные качества   уче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64771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2"/>
          <p:cNvPicPr/>
          <p:nvPr/>
        </p:nvPicPr>
        <p:blipFill>
          <a:blip r:embed="rId1"/>
          <a:stretch/>
        </p:blipFill>
        <p:spPr>
          <a:xfrm>
            <a:off x="20574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Роль практики в становление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алюмини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алюмин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бор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бор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силици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подобный кремнию)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Основные направления развития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химических элементов и образуемых ими веществ в периодической зависимос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их относительных атомных ма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зарядов их атомных яд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периодичности в изменении внешних электронных слоев атом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Мои документы\портреты химиков и алхимиков\биография менделеев.JPG"/>
          <p:cNvPicPr/>
          <p:nvPr/>
        </p:nvPicPr>
        <p:blipFill>
          <a:blip r:embed="rId2"/>
          <a:stretch/>
        </p:blipFill>
        <p:spPr>
          <a:xfrm>
            <a:off x="533520" y="307800"/>
            <a:ext cx="8153280" cy="61851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 был открыт в 1869г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7638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Предпосылки создания    зак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Накопление фактологическ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ы предшестве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ъезд химиков в г.Карлсруэ в 186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08720" y="5805360"/>
            <a:ext cx="1008360" cy="64800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3605" h="21600">
                <a:moveTo>
                  <a:pt x="0" y="0"/>
                </a:moveTo>
                <a:lnTo>
                  <a:pt x="33605" y="0"/>
                </a:lnTo>
                <a:lnTo>
                  <a:pt x="33605" y="21600"/>
                </a:lnTo>
                <a:lnTo>
                  <a:pt x="0" y="21600"/>
                </a:lnTo>
                <a:close/>
              </a:path>
              <a:path fill="lightenLess" w="33605" h="21600">
                <a:moveTo>
                  <a:pt x="0" y="0"/>
                </a:moveTo>
                <a:lnTo>
                  <a:pt x="33605" y="0"/>
                </a:lnTo>
                <a:lnTo>
                  <a:pt x="32205" y="1400"/>
                </a:lnTo>
                <a:lnTo>
                  <a:pt x="1400" y="1400"/>
                </a:lnTo>
                <a:close/>
              </a:path>
              <a:path fill="darken" w="33605" h="21600">
                <a:moveTo>
                  <a:pt x="33605" y="0"/>
                </a:moveTo>
                <a:lnTo>
                  <a:pt x="33605" y="21600"/>
                </a:lnTo>
                <a:lnTo>
                  <a:pt x="32205" y="20200"/>
                </a:lnTo>
                <a:lnTo>
                  <a:pt x="32205" y="1400"/>
                </a:lnTo>
                <a:close/>
              </a:path>
              <a:path fill="darkenLess" w="33605" h="21600">
                <a:moveTo>
                  <a:pt x="3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5" y="20200"/>
                </a:lnTo>
                <a:close/>
              </a:path>
              <a:path fill="lighten" w="3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5" h="21600">
                <a:moveTo>
                  <a:pt x="9796" y="3794"/>
                </a:moveTo>
                <a:lnTo>
                  <a:pt x="23809" y="10800"/>
                </a:lnTo>
                <a:lnTo>
                  <a:pt x="97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копление фактологического материа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ы предшеств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. Берцелиус (Металлы и    неметаллы)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В. Деберейнер (Триад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А.Р. Ньюлендс (Окта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04000" y="404640"/>
            <a:ext cx="187632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Ньюленс"/>
          <p:cNvPicPr/>
          <p:nvPr/>
        </p:nvPicPr>
        <p:blipFill>
          <a:blip r:embed="rId2"/>
          <a:stretch/>
        </p:blipFill>
        <p:spPr>
          <a:xfrm>
            <a:off x="4788000" y="4292640"/>
            <a:ext cx="167616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[3]"/>
          <p:cNvPicPr/>
          <p:nvPr/>
        </p:nvPicPr>
        <p:blipFill>
          <a:blip r:embed="rId3"/>
          <a:stretch/>
        </p:blipFill>
        <p:spPr>
          <a:xfrm>
            <a:off x="6877080" y="2852640"/>
            <a:ext cx="17622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[13]"/>
          <p:cNvPicPr/>
          <p:nvPr/>
        </p:nvPicPr>
        <p:blipFill>
          <a:blip r:embed="rId4"/>
          <a:stretch/>
        </p:blipFill>
        <p:spPr>
          <a:xfrm>
            <a:off x="2843280" y="4797360"/>
            <a:ext cx="139536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ac8a"/>
            </a:gs>
            <a:gs pos="50000">
              <a:srgbClr val="ffffcc"/>
            </a:gs>
            <a:gs pos="100000">
              <a:srgbClr val="aca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жон Ньюлендс 1865г.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Закон «Окта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 flipH="1">
            <a:off x="5985360" y="3576600"/>
            <a:ext cx="1459080" cy="1660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5151960" y="2903040"/>
            <a:ext cx="1683360" cy="113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630680" y="2207520"/>
            <a:ext cx="1615320" cy="67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894120" y="1438200"/>
            <a:ext cx="2036880" cy="26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3124080" y="53352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86400" y="-1905120"/>
            <a:ext cx="586728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ёрбеней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f728f"/>
              </a:gs>
              <a:gs pos="50000">
                <a:srgbClr val="ffccff"/>
              </a:gs>
              <a:gs pos="100000">
                <a:srgbClr val="8f728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ъезд химиков в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. Карлсруэ в 1860 г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исутствовал в роли наблюд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31:55Z</dcterms:created>
  <dc:creator>user</dc:creator>
  <dc:description/>
  <dc:language>en-US</dc:language>
  <cp:lastModifiedBy>LEGION</cp:lastModifiedBy>
  <dcterms:modified xsi:type="dcterms:W3CDTF">2015-05-01T11:10:53Z</dcterms:modified>
  <cp:revision>13</cp:revision>
  <dc:subject/>
  <dc:title>Слайд 1</dc:title>
</cp:coreProperties>
</file>