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AP.WAV" ContentType="audio/x-wav"/>
  <Override PartName="/ppt/media/TYPE.WAV" ContentType="audio/x-wav"/>
  <Override PartName="/ppt/media/image9.jpeg" ContentType="image/jpeg"/>
  <Override PartName="/ppt/media/image13.png" ContentType="image/png"/>
  <Override PartName="/ppt/media/PROJCTOR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GLASS.WAV" ContentType="audio/x-wav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0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AF33-DBAA-4104-AAB0-B41449F00C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(1834-1907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9E15-CEE6-4630-9C3E-E3359DDB4B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качества   уче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8CB6-6ED5-464D-886F-70F1BEE5AF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Роль практики в становлени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9A8D-E5D0-4F5F-A4C8-CD652FC1F5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алюмини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алюминию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бор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подобный б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асилици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подобный кремнию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7A87-EDE9-4A0F-B26E-89A1CDE9A3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сновные направления развития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химических элементов и образуемых ими веществ в периодической зависимо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их относительных атомных ма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зарядов их атомных яд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 от периодичности в изменении внешних электронных слоев атом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5ED-6134-45B2-9E31-CE51DFD0DF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ериодический закон Д.И.Менделеева был открыт в 1869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266-1B98-463B-BAB3-C9462EA3A0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едпосылки создания   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г.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ка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BDB2-F41E-4BE5-90E7-B925F7DE2A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копление фактологического матер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F88C-855E-442A-BDDC-D7A8A0B8C4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редшествен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Й. Берцелиус (Металлы и    неметаллы)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Деберейнер (Триа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А.Р. Ньюлендс (Октав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891D-8BBB-4754-AE1B-5BB497F2CA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Джон Ньюлендс 1865г.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Закон «Окта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6E55-2294-4308-BB89-B696938950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езд химиков в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Карлсруэ в 18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присутствовал в роли наблюд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F824-5B62-41E1-A871-F2F05B7A24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67A-0A97-4C5A-B428-86E5C9D7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DA1-7788-4CB2-AF7B-AE692D8C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ACA-ADB5-497F-8E24-3E5A3B74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58B-7017-4F72-9CE3-BD85E0CC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5B38-43CC-4C57-AE5F-12B7A4E9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E038-38B3-4CA0-89FB-F3A269CB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623E-F768-4B61-B38C-8B02217D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ED96-49BD-42FF-86E9-A16C639B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6B78-77FC-4AD2-876F-7585A919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B399-0AA3-4644-A225-39918751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F878-4E06-4CD7-ADA9-C561CE4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323-32D1-4856-939C-C7449AF3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2E37-D0CB-4C86-8E47-D545254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1C83-3E1B-41EF-916D-51D7E33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A1A4-3A2A-4595-8C4F-A7170E28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C24B-CBF4-4247-9F15-F978D3D9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3867-8983-4606-B1AE-D86E3582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3ED-8FD5-4C5C-9B91-2AB2DA25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F9C-A819-4387-8383-6938B61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13B-03C4-4101-9F14-5ED91554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7C1-E263-408E-9993-E61C7A3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C97-E81A-460F-95F0-4C58960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584-267E-42E7-8C32-43F0F2B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AD4-2E56-4945-AEC6-757EFEC3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9774-9693-44E1-864C-6947A66D72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FF52-E535-4F17-9AF8-6A17275715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audio" Target="../media/TYPE.WAV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GLASS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723920" y="5445000"/>
            <a:ext cx="3079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(1834-1907г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C:\Documents and Settings\Admin\Мои документы\портреты химиков и алхимиков\менделеев.jpg"/>
          <p:cNvPicPr/>
          <p:nvPr/>
        </p:nvPicPr>
        <p:blipFill>
          <a:blip r:embed="rId1"/>
          <a:stretch/>
        </p:blipFill>
        <p:spPr>
          <a:xfrm>
            <a:off x="1600200" y="2590920"/>
            <a:ext cx="2459160" cy="3886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08" name="Picture 17" descr="C:\Documents and Settings\Admin\Мои документы\Мои рисунки\учебники\учебник1.jpg"/>
          <p:cNvPicPr/>
          <p:nvPr/>
        </p:nvPicPr>
        <p:blipFill>
          <a:blip r:embed="rId2"/>
          <a:stretch/>
        </p:blipFill>
        <p:spPr>
          <a:xfrm>
            <a:off x="7848720" y="0"/>
            <a:ext cx="118116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чные качества   учен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а от других химиков отличали: энциклопедичность химических знаний, умение анализировать и обобщать факты, научное прогнозирование, русский менталитет и русский патриот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1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64771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1"/>
          <a:stretch/>
        </p:blipFill>
        <p:spPr>
          <a:xfrm>
            <a:off x="205740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Роль практики в становление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едсказывает, описывает и указывает пути открытия еще не известных науке галлия, скандия и гер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5 г. Поль Эмиль Лекок де Буабодран (Франция) открыл галл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алюминий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алюмин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79 г. Ларс Фредерик Нильсон (Швеция) открыл сканд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бор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– подобный бор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1886 г. Клеменс Александр Винклер (Германия) открыл германий, предсказанный Менделеевым (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асилиций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подобный кремнию)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Основные направления развития тео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а химических элементов и образуемых ими веществ в периодической зависимост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их относительных атомных мас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зарядов их атомных яде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… от периодичности в изменении внешних электронных слоев атом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Admin\Мои документы\портреты химиков и алхимиков\биография менделеев.JPG"/>
          <p:cNvPicPr/>
          <p:nvPr/>
        </p:nvPicPr>
        <p:blipFill>
          <a:blip r:embed="rId2"/>
          <a:stretch/>
        </p:blipFill>
        <p:spPr>
          <a:xfrm>
            <a:off x="533520" y="307800"/>
            <a:ext cx="8153280" cy="61851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 Black"/>
              </a:rPr>
              <a:t>Периодический закон Д.И.Менделеева был открыт в 1869г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7638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 Black"/>
              </a:rPr>
              <a:t>Предпосылки создания    зако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Накопление фактологического матери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ы предшествен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ъезд химиков в г.Карлсруэ в 186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остные каче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7308720" y="5805360"/>
            <a:ext cx="1008360" cy="648000"/>
          </a:xfrm>
          <a:custGeom>
            <a:avLst/>
            <a:gdLst>
              <a:gd name="textAreaLeft" fmla="*/ 41760 w 1008360"/>
              <a:gd name="textAreaRight" fmla="*/ 966600 w 1008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3605" h="21600">
                <a:moveTo>
                  <a:pt x="0" y="0"/>
                </a:moveTo>
                <a:lnTo>
                  <a:pt x="33605" y="0"/>
                </a:lnTo>
                <a:lnTo>
                  <a:pt x="33605" y="21600"/>
                </a:lnTo>
                <a:lnTo>
                  <a:pt x="0" y="21600"/>
                </a:lnTo>
                <a:close/>
              </a:path>
              <a:path fill="lightenLess" w="33605" h="21600">
                <a:moveTo>
                  <a:pt x="0" y="0"/>
                </a:moveTo>
                <a:lnTo>
                  <a:pt x="33605" y="0"/>
                </a:lnTo>
                <a:lnTo>
                  <a:pt x="32205" y="1400"/>
                </a:lnTo>
                <a:lnTo>
                  <a:pt x="1400" y="1400"/>
                </a:lnTo>
                <a:close/>
              </a:path>
              <a:path fill="darken" w="33605" h="21600">
                <a:moveTo>
                  <a:pt x="33605" y="0"/>
                </a:moveTo>
                <a:lnTo>
                  <a:pt x="33605" y="21600"/>
                </a:lnTo>
                <a:lnTo>
                  <a:pt x="32205" y="20200"/>
                </a:lnTo>
                <a:lnTo>
                  <a:pt x="32205" y="1400"/>
                </a:lnTo>
                <a:close/>
              </a:path>
              <a:path fill="darkenLess" w="33605" h="21600">
                <a:moveTo>
                  <a:pt x="3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5" y="20200"/>
                </a:lnTo>
                <a:close/>
              </a:path>
              <a:path fill="lighten" w="3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5" h="21600">
                <a:moveTo>
                  <a:pt x="9796" y="3794"/>
                </a:moveTo>
                <a:lnTo>
                  <a:pt x="23809" y="10800"/>
                </a:lnTo>
                <a:lnTo>
                  <a:pt x="97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копление фактологического материал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элемента и описаны свойства их многочисленных соеди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ы предшестве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. Берцелиус (Металлы и    неметаллы)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.В. Деберейнер (Триад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А.Р. Ньюлендс (Окта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.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6804000" y="404640"/>
            <a:ext cx="187632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Ньюленс"/>
          <p:cNvPicPr/>
          <p:nvPr/>
        </p:nvPicPr>
        <p:blipFill>
          <a:blip r:embed="rId2"/>
          <a:stretch/>
        </p:blipFill>
        <p:spPr>
          <a:xfrm>
            <a:off x="4788000" y="4292640"/>
            <a:ext cx="1676160" cy="22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[3]"/>
          <p:cNvPicPr/>
          <p:nvPr/>
        </p:nvPicPr>
        <p:blipFill>
          <a:blip r:embed="rId3"/>
          <a:stretch/>
        </p:blipFill>
        <p:spPr>
          <a:xfrm>
            <a:off x="6877080" y="2852640"/>
            <a:ext cx="176220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[13]"/>
          <p:cNvPicPr/>
          <p:nvPr/>
        </p:nvPicPr>
        <p:blipFill>
          <a:blip r:embed="rId4"/>
          <a:stretch/>
        </p:blipFill>
        <p:spPr>
          <a:xfrm>
            <a:off x="2843280" y="4797360"/>
            <a:ext cx="1395360" cy="16574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ac8a"/>
            </a:gs>
            <a:gs pos="50000">
              <a:srgbClr val="ffffcc"/>
            </a:gs>
            <a:gs pos="100000">
              <a:srgbClr val="acac8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Джон Ньюлендс 1865г.</a:t>
            </a: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 Black"/>
              </a:rPr>
              <a:t>Закон «Октав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609480" y="2017800"/>
          <a:ext cx="83664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7800"/>
                    <a:ext cx="83664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 flipH="1">
            <a:off x="5985360" y="3576600"/>
            <a:ext cx="1459080" cy="1660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 flipH="1">
            <a:off x="5151960" y="2903040"/>
            <a:ext cx="1683360" cy="113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630680" y="2207520"/>
            <a:ext cx="1615320" cy="67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3894120" y="1438200"/>
            <a:ext cx="2036880" cy="26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 flipH="1">
            <a:off x="3124080" y="53352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86400" y="-1905120"/>
            <a:ext cx="586728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29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ТРИА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ог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ёрбеней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5800" y="228600"/>
            <a:ext cx="266688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     Na    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,9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3,0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9,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1295280" y="1371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     Sr     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,1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87,6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37,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981080" y="2514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    As    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1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4,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1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666880" y="3657600"/>
            <a:ext cx="2667240" cy="762120"/>
          </a:xfrm>
          <a:prstGeom prst="rect">
            <a:avLst/>
          </a:prstGeom>
          <a:gradFill rotWithShape="0">
            <a:gsLst>
              <a:gs pos="0">
                <a:srgbClr val="a987a9"/>
              </a:gs>
              <a:gs pos="50000">
                <a:srgbClr val="ffccff"/>
              </a:gs>
              <a:gs pos="100000">
                <a:srgbClr val="a987a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    Se    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,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9,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27,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429000" y="4800600"/>
            <a:ext cx="2666880" cy="762120"/>
          </a:xfrm>
          <a:prstGeom prst="rect">
            <a:avLst/>
          </a:prstGeom>
          <a:gradFill rotWithShape="0">
            <a:gsLst>
              <a:gs pos="0">
                <a:srgbClr val="8f728f"/>
              </a:gs>
              <a:gs pos="50000">
                <a:srgbClr val="ffccff"/>
              </a:gs>
              <a:gs pos="100000">
                <a:srgbClr val="8f728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     Br    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5,5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79,9      126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295280" y="5943600"/>
            <a:ext cx="3962520" cy="60948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6,9+39,1):2 = 23,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ъезд химиков в         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. Карлсруэ в 1860 г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.И. Менделеев присутствовал в роли наблюд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971640" y="5734080"/>
            <a:ext cx="1079280" cy="71928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10800"/>
                </a:moveTo>
                <a:lnTo>
                  <a:pt x="23209" y="3794"/>
                </a:lnTo>
                <a:lnTo>
                  <a:pt x="2320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31:55Z</dcterms:created>
  <dc:creator>user</dc:creator>
  <dc:description/>
  <dc:language>en-US</dc:language>
  <cp:lastModifiedBy>LEGION</cp:lastModifiedBy>
  <dcterms:modified xsi:type="dcterms:W3CDTF">2015-05-01T11:10:53Z</dcterms:modified>
  <cp:revision>13</cp:revision>
  <dc:subject/>
  <dc:title>Слайд 1</dc:title>
</cp:coreProperties>
</file>