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DFED-8A6A-4594-9F4E-0DAD87CC19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оактивные превращени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адиоактивного 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DFB6-8A42-42F6-8615-FEEBAA79B48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ериод полураспа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 вида ядер период полураспада является строго постоянной велич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775C-B448-4642-9565-9A34FDA87CD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 радиоактивно-го рас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t/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.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 в             начальный  момент време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время распада.                                  Т–период полу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4298-E80D-41F8-A8B9-C2F80555ED2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время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4C5A-913F-4538-AD1F-94CD05DA785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исследований радио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355C-6C61-4C80-9C65-D69A506090F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х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8C86-5219-413D-9A8E-B131F8D2460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Резерфор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15E8-41AA-414A-8F4A-563AFD9F818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1BA7-8969-47F1-A784-2680F28E296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к которому пришёл Резерф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57BF-81C2-4A65-A0C1-51EEA1D3911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мещения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ф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льфа-распаде ядро теряет положительный заряд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 масса его убывает приблизительно на четыре атомных единицы мас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элемент сме-щается на две клетки к на-чалу периодической сис-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31CA-965D-4030-82B0-0E7FDAEF446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о смещения при бет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бет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та-распада элемент смещается на одну клетку ближе к концу периодическ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5631-33DD-4FD0-AA4B-EC838686E11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 из прав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2945-79E0-48BC-8FEC-47FCA33C92A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748-7ABF-4BBB-8555-33AF2B64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D35-7446-4071-829E-8213D16B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27D-CAE7-4827-B708-7E34DB75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174-8B62-46AA-A7C0-CB50E72B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0664-37D4-4728-9646-76F336FA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6407-46CE-4AFF-B25E-8BFB37D5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1A0F-99ED-4694-AAFC-C944FDCB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FC51-7389-49AB-8F7B-E6805E9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2F17-5CCB-4F5D-A78F-F02CA7AC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7D44-CC77-4CF4-914B-FC037BB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8F3B-8917-4BCE-BF66-8336937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E82-5385-446C-A802-17AB868E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1BAB-A519-4D69-9662-0334D97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D5C3-7610-4209-8AB8-F4049518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AD7A-B7A5-4E29-919F-F76DB2B2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D845-072D-4C19-99E6-990DEF28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4DAD-0B09-4197-9D2F-47CCB105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B96-40D6-4319-9020-510C52EE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C18-0E03-4B98-ADA7-8ECD8364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61E-0113-403F-9C44-99F44A05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B51-C54A-4F7D-A2FE-FE7E576B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F92-B3E0-4E3F-9964-F64BD34D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AEB-A496-4E75-AFDA-12B94B0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849-0130-47E1-8A39-3C79DBC1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E9AA-6AFF-4711-B5A6-8CF0CF2EE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8D76-6BF8-4ECE-843F-21BD36DD44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Радиоактивные превращения .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ahoma"/>
              </a:rPr>
              <a:t>Закон радиоактивного распад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Что такое период полураспада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Для каждого вида ядер период полураспада является строго постоянн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Закон радиоактивно-го распада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=N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t/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.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 в             начальный  момент времен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время распада.                                  Т–период полурасп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Среднее время жизн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едыстория исследований радиоактивност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ехи истори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E01753_"/>
          <p:cNvPicPr/>
          <p:nvPr/>
        </p:nvPicPr>
        <p:blipFill>
          <a:blip r:embed="rId2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следования Резерфорда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" name="Picture 8" descr="Резерфорд"/>
          <p:cNvPicPr/>
          <p:nvPr/>
        </p:nvPicPr>
        <p:blipFill>
          <a:blip r:embed="rId1"/>
          <a:stretch/>
        </p:blipFill>
        <p:spPr>
          <a:xfrm>
            <a:off x="826920" y="2421000"/>
            <a:ext cx="311976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ыт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HM00361_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292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ывод, к которому пришёл Резерфорд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авило смещения при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льфа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альфа-распаде ядро теряет положительный заряд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 масса его убывает приблизительно на четыре атомных единицы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элемент сме-щается на две клетки к на-чалу периодической сис-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2" descr="Менделеев"/>
          <p:cNvPicPr/>
          <p:nvPr/>
        </p:nvPicPr>
        <p:blipFill>
          <a:blip r:embed="rId1"/>
          <a:stretch/>
        </p:blipFill>
        <p:spPr>
          <a:xfrm>
            <a:off x="5292720" y="2276640"/>
            <a:ext cx="3181320" cy="353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Правило смещения при бетта</a:t>
            </a: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бет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тта-распада элемент смещается на одну клетку ближе к концу периодической систе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Вывод из правил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54:31Z</dcterms:created>
  <dc:creator>User</dc:creator>
  <dc:description/>
  <dc:language>en-US</dc:language>
  <cp:lastModifiedBy>LEGION</cp:lastModifiedBy>
  <dcterms:modified xsi:type="dcterms:W3CDTF">2015-05-01T11:11:17Z</dcterms:modified>
  <cp:revision>76</cp:revision>
  <dc:subject/>
  <dc:title>Радиоактивные превращения .</dc:title>
</cp:coreProperties>
</file>