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5760-AC55-4C78-8590-239018F25E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оактивные превращени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адиоактивного 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8A86-3EAF-43F3-8FF9-397F02E2B86A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период полураспад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го вида ядер период полураспада является строго постоянной величи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CEE4-3602-434A-AE3C-FF65274801E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он радиоактивно-го расп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=No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t/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.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о радиоактивных ядер в             начальный  момент времени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время распада.                                  Т–период полурасп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18E-BE3E-40A6-BE12-2CEACFF2C9F8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реднее время жизн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A732-4D10-408C-B836-8857C0EA5EF2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ыстория исследований радиоа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9901-49A0-454D-8237-1CD269F82E9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хи ист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9D5E-3D4F-43A5-A1BE-911F2AC9FFE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я Резерфор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CBFE-FD2E-4805-8DF9-F5F90DE89BF3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6F66-BAF8-4ABD-89F2-0B0BFE59B2E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, к которому пришёл Резерфор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16CE-D34D-4AD6-AA56-360A28B0975B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смещения пр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ф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альфа-распаде ядро теряет положительный заряд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 масса его убывает приблизительно на четыре атомных единицы масс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элемент сме-щается на две клетки к на-чалу периодической сис-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285E-B821-4413-8B4D-5512C898DD05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о смещения при бетт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спа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бетта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тта-распада элемент смещается на одну клетку ближе к концу периодическ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11A0-73AB-405A-A064-612813FC1C5E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вод из прави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FEB02-24CA-49BF-9F4E-E65B143B3ADD}" type="slidenum"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71D0-8703-4161-8D3C-6A2C0204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7162-945E-4D5B-98FC-8B8280479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B0BD-737B-4ABA-BC99-4BF4F80E1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6EA8-3F47-4AF3-94CF-68418190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C080-3BE4-4788-BB61-603A51D1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5D82-F392-4377-8630-3A6F5D03E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2C459-DDBB-4597-BDA3-335EDA5A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3763-B377-47BB-BDFC-A93016429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4E2E-CEE5-44BE-B54C-40ED89579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6F4DB-1741-42F0-A8B9-4E32707F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6FC4-8750-41DF-B81E-A0D1687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B111-E83B-4273-AB11-D2FC2153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6B09-A7D0-4401-8EE8-DB1A5157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E435-118C-4230-992C-FFF39DBA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DD9F-9BFD-4A90-9FF2-D31F763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3326E-03FB-4AA0-9A05-F20E3549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DF1A-B25F-4AD4-87AC-AE241C3DB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A80-8753-4010-8FCA-76480E7B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5AC-E5F7-46CB-9D2B-12CFA1282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3492-CE21-4B77-A5F9-921FB805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2D45-F3F7-495F-8B0F-DC5A2A3E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1635-E6F7-4CE7-BAFD-7CEA07E7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086-0D6C-4BB3-92CC-D24381C7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78D5-5985-4322-BA14-94451672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9AD2F-C172-4198-A7E5-0046C97F0D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Rectangle 1032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40B6E-D949-4A84-A71D-C9E7BB637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Радиоактивные превращения .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Tahoma"/>
              </a:rPr>
              <a:t>Закон радиоактивного распада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cffff"/>
                </a:solidFill>
                <a:latin typeface="Tahoma"/>
              </a:rPr>
              <a:t>Что такое период полураспада?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4792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Период полураспада Т - это то время, в течение которого распа-дается половина начального числа радио-активных атом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Tahoma"/>
              </a:rPr>
              <a:t>Для каждого вида ядер период полураспада является строго постоянной величи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276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Закон радиоактивно-го распада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=No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-t/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.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–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исло радиоактивных ядер в             начальный  момент времен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время распада.                                  Т–период полураспа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ffff"/>
                </a:solidFill>
                <a:latin typeface="Tahoma"/>
              </a:rPr>
              <a:t>Среднее время жизни.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мимо периода полураспада, радио-активные ядра характеризуют ещё средним временем жизн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ктивность любого радиоактивного вещества показывает, сколько радио-активных распадов происходит в этом веществе за единицу времени.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едыстория исследований радиоактивност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же в самом начале исследований радиоакти-вности обнаружилось много странного и необы-чног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первых, удивительное постоянство, с кото-рым радиоактивные элементы уран, торий и радий испускают излучения. Химические реакции,в кото-рые вступали радиоактивные вещества,  не влия-ли на интенсивность излу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 – вторых, очень скоро после открытия радио-активности выяснилось, что радиоактивность со-провождается выделением энергии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ехи истории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о лет назад, в феврале 1896 года, французский физик Анри Беккерель обнаружил само-произвольное излучение солей урана. До этого времени было достаточно хорошо изучено явле-ние индуцированного излучения различных веществ, возникающее при облучении этих веществ све-том (фотолюминесценсия). Одна-ко Беккерелю удалось экспери-ментально показать, что соли урана генерируют какое – то излучение без всякого внешнего воздействия, а интенсивность этого излучения пропорциональна количеству урана в веществе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5" descr="PE01753_"/>
          <p:cNvPicPr/>
          <p:nvPr/>
        </p:nvPicPr>
        <p:blipFill>
          <a:blip r:embed="rId2"/>
          <a:stretch/>
        </p:blipFill>
        <p:spPr>
          <a:xfrm>
            <a:off x="990720" y="1981080"/>
            <a:ext cx="32004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Исследования Резерфорда. 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езерфорд обнару-жил, что актив-ность тория, опре-делямая как число  альфа-частиц, ипускаемых в единицу времени, остаётся не-изменной в закры-той ампу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7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07" name="Picture 8" descr="Резерфорд"/>
          <p:cNvPicPr/>
          <p:nvPr/>
        </p:nvPicPr>
        <p:blipFill>
          <a:blip r:embed="rId1"/>
          <a:stretch/>
        </p:blipFill>
        <p:spPr>
          <a:xfrm>
            <a:off x="826920" y="2421000"/>
            <a:ext cx="3119760" cy="34718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Опыт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ыло обнаружено, что в результате атомного превращения обра-зуется вещество со-вершенно нового ви-да, полностью отлич-ная по своим физичес-ким и химическим свойствам от первона-чального веще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HM00361_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292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Вывод, к которому пришёл Резерфорд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томы радиоактивного вещества под- вержены спонтанным видоизмене-ниям. Таким образом, радиоакти-вность представляет собой самопро-извольное превращение одних ядер в другие, сопровождаемое испусканием различных частиц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Правило смещения при </a:t>
            </a:r>
            <a:br>
              <a:rPr sz="4400"/>
            </a:b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альфа</a:t>
            </a: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44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евращения ядер подчи-няются так называемому правилу смещения, сфор-мулированному впервые Содди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 альфа-распаде ядро теряет положительный заряд 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и  масса его убывает приблизительно на четыре атомных единицы масс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зультате элемент сме-щается на две клетки к на-чалу периодической сис-темы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2" descr="Менделеев"/>
          <p:cNvPicPr/>
          <p:nvPr/>
        </p:nvPicPr>
        <p:blipFill>
          <a:blip r:embed="rId1"/>
          <a:stretch/>
        </p:blipFill>
        <p:spPr>
          <a:xfrm>
            <a:off x="5292720" y="2276640"/>
            <a:ext cx="3181320" cy="353988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Правило смещения при бетта</a:t>
            </a:r>
            <a:r>
              <a:rPr b="0" lang="en-US" sz="6000" spc="-1" strike="noStrike">
                <a:solidFill>
                  <a:srgbClr val="ccffff"/>
                </a:solidFill>
                <a:latin typeface="Tahoma"/>
              </a:rPr>
              <a:t>-</a:t>
            </a: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распаде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При бетта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распаде из ядра вылетает электрон.В результате заряд ядра увеличивается на единицу,а масса остаётся почти неизменной.После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етта-распада элемент смещается на одну клетку ближе к концу периодической системы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ffff"/>
                </a:solidFill>
                <a:latin typeface="Tahoma"/>
              </a:rPr>
              <a:t>Вывод из правил.</a:t>
            </a:r>
            <a:endParaRPr b="0" lang="en-US" sz="6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авила смещения показывают, что при радиоактивном распаде сохра-няется электрический заряд и при-ближённо сохраняется относительная  атомная масса яде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зникшие при радиоактивном распа-де новые ядра в свою очередь обыч-но также радиоактив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1T07:54:31Z</dcterms:created>
  <dc:creator>User</dc:creator>
  <dc:description/>
  <dc:language>en-US</dc:language>
  <cp:lastModifiedBy>LEGION</cp:lastModifiedBy>
  <dcterms:modified xsi:type="dcterms:W3CDTF">2015-05-01T11:11:17Z</dcterms:modified>
  <cp:revision>76</cp:revision>
  <dc:subject/>
  <dc:title>Радиоактивные превращения .</dc:title>
</cp:coreProperties>
</file>