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1E02-8E46-4B91-9DE9-4BBBEDCA43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.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9D17-3372-45C8-BA05-EA5E8183CC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некоторые спирты и кислоты неограниченно растворимы в в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6E74-C539-4AFB-891A-8AA9077C75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аномально высокие температуры кипения и пл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= 18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=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=  100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t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78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л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=  0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9CB0-0970-435F-8929-7980F6EFC6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водородные связи способствуют образованию кристаллов в виде снежинок или изморо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86B5-4300-4534-9324-B75D1D11E3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внутри молекул белков (водородная связь удерживает витки спирали пептидной молекул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1E23-CFDA-46E0-9860-80403B86A9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внутри молекулы ДНК (между азотистыми основаниями по принципу комплементарности:  А – Т , Ц – Г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7FA6-FF18-43D6-9E07-F0D2953054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начение внутримолекулярной связ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образованию молекул белков и 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функционирование ДНК и РНК (репликация, транскрипция, трансля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3B8C-AB98-488A-8072-A2C72DF575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статическое притяжение атома водорода, имеющего частично положительный  заряд, и атома кислорода (фтора или азота), имеющего частично отрицательный зар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–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. 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 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норно-акцепторное взаимодействие между почти свободной орбиталью атома водорода и неподеленной электронной  парой  атома кислорода (фтора или азо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AF77-78E1-464A-8D5F-B7E99993DA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разрушающие  водородную связь в белковой молекул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натурирующие факто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31A7-9C95-4745-A09E-D791BE7A83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мическую связь между атомами водорода одной молекулы (или её части) и атомами наиболее электоротрицательных элементов (фтор, кислород, азот) другой молекулы (или её части)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одород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F268-7773-4514-B0BC-3150D0DAB2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между  молекулами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молекуляр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 внут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ы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AED6-3E54-4B86-BD82-E5A5E0EC8B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)между молекулами воды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FA00-78AF-4436-884B-293EBC8E8B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между молекулами амми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CB7B-A1CD-4B14-A317-4DCD8E5F75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между молекулами спиртов (метанол, этанол, пропанол, этиленгликоль, глицери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324F-44C3-494D-ABBF-F12F613D4D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между молекулами карбоновых кислот              (муравьиная, уксусна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имеры карбоновых кисло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3BE5-C71F-4CB7-8A94-DCA60902B0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Между молекулами фторовод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…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δ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 δ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3FB7-FA57-480C-8DC8-153DC4DAB9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вещества с низкой молекулярной массой – жидкости или легко сжижаем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ода, метанол, этанол, муравьиная кислота, уксусная кислота, фтороводород, аммиа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B1F1-6BD7-495F-B136-A624BEDF4C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595E-7509-4CB7-9EF4-A59BAAFA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E5A7-0F76-4B4C-A8FA-3DFE6A29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A5B6-453E-4A93-97E7-F170B681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106-F8DA-454A-A9AA-8193588D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774-9636-4027-B85F-D24EFA3E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2CB-5226-4736-8569-A73BC429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1A9-D14F-4409-913E-D29FF6BB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4C68-8142-42DA-B85D-5316FF5E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736A-0E0B-4ACF-B6B5-4A672576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95AC-5025-4C32-846B-B1E4CCE2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E15-1859-40B2-B9C0-BE0EAE25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2019-A62F-4092-8F4E-FB752930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1F86-9DB8-4974-ADF9-CCCA19C6BF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018E-03BA-43DE-9224-C2C0EB7A9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.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Дом\Рабочий стол\Белок.jpg"/>
          <p:cNvPicPr/>
          <p:nvPr/>
        </p:nvPicPr>
        <p:blipFill>
          <a:blip r:embed="rId1"/>
          <a:stretch/>
        </p:blipFill>
        <p:spPr>
          <a:xfrm>
            <a:off x="3666960" y="2335320"/>
            <a:ext cx="1810080" cy="3057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некоторые спирты и кислоты неограниченно растворимы в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аномально высокие температуры кипения и пл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= 18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= 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 10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t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 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водородные связи способствуют образованию кристаллов в виде снежинок или изморо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5" descr="C:\Documents and Settings\Дом\Рабочий стол\Снежинка.jpg"/>
          <p:cNvPicPr/>
          <p:nvPr/>
        </p:nvPicPr>
        <p:blipFill>
          <a:blip r:embed="rId1"/>
          <a:stretch/>
        </p:blipFill>
        <p:spPr>
          <a:xfrm>
            <a:off x="3328920" y="4054320"/>
            <a:ext cx="2247840" cy="1951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нутри молекул белков (водородная связь удерживает витки спирали пептидной молекулы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Documents and Settings\Дом\Рабочий стол\Белок.jpg"/>
          <p:cNvPicPr/>
          <p:nvPr/>
        </p:nvPicPr>
        <p:blipFill>
          <a:blip r:embed="rId1"/>
          <a:stretch/>
        </p:blipFill>
        <p:spPr>
          <a:xfrm>
            <a:off x="3962520" y="3429000"/>
            <a:ext cx="1600200" cy="27036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внутри молекулы ДНК (между азотистыми основаниями по принципу комплементарности:  А – Т , Ц – Г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4724640" cy="2819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начение внутримолекулярной свя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ствует образованию молекул белков и ДН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яет функционирование ДНК и РНК (репликация, транскрипция, трансляц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311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лектростатическое притяжение атома водорода, имеющего частично положительный  заряд, и атома кислорода (фтора или азота), имеющего частично отрицательный заря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4724280"/>
            <a:ext cx="40402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–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. 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288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норно-акцепторное взаимодействие между почти свободной орбиталью атома водорода и неподеленной электронной  парой  атома кислорода (фтора или азо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5410080" y="4876920"/>
            <a:ext cx="1781280" cy="11620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, разрушающие  водородную связь в белковой молекул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енатурирующие фактор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C:\Documents and Settings\Дом\Мои документы\Отбойный.jpeg"/>
          <p:cNvPicPr/>
          <p:nvPr/>
        </p:nvPicPr>
        <p:blipFill>
          <a:blip r:embed="rId1"/>
          <a:stretch/>
        </p:blipFill>
        <p:spPr>
          <a:xfrm>
            <a:off x="685800" y="205740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:\Documents and Settings\Дом\Мои документы\Высокие темп.jpg"/>
          <p:cNvPicPr/>
          <p:nvPr/>
        </p:nvPicPr>
        <p:blipFill>
          <a:blip r:embed="rId2"/>
          <a:stretch/>
        </p:blipFill>
        <p:spPr>
          <a:xfrm>
            <a:off x="3276720" y="198108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:\Documents and Settings\Дом\Мои документы\Эл-магн.jpg"/>
          <p:cNvPicPr/>
          <p:nvPr/>
        </p:nvPicPr>
        <p:blipFill>
          <a:blip r:embed="rId3"/>
          <a:stretch/>
        </p:blipFill>
        <p:spPr>
          <a:xfrm>
            <a:off x="6095880" y="2057400"/>
            <a:ext cx="2073240" cy="1484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:\Documents and Settings\Дом\Мои документы\Хим. в-ва.gif"/>
          <p:cNvPicPr/>
          <p:nvPr/>
        </p:nvPicPr>
        <p:blipFill>
          <a:blip r:embed="rId4"/>
          <a:stretch/>
        </p:blipFill>
        <p:spPr>
          <a:xfrm>
            <a:off x="533520" y="4876920"/>
            <a:ext cx="2057400" cy="16761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9"/>
          <p:cNvSpPr/>
          <p:nvPr/>
        </p:nvSpPr>
        <p:spPr>
          <a:xfrm>
            <a:off x="5943600" y="38098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лектромагнитное изл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0"/>
          <p:cNvSpPr/>
          <p:nvPr/>
        </p:nvSpPr>
        <p:spPr>
          <a:xfrm>
            <a:off x="838080" y="33526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иб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1"/>
          <p:cNvSpPr/>
          <p:nvPr/>
        </p:nvSpPr>
        <p:spPr>
          <a:xfrm>
            <a:off x="2834640" y="411480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сокие темп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2"/>
          <p:cNvSpPr/>
          <p:nvPr/>
        </p:nvSpPr>
        <p:spPr>
          <a:xfrm>
            <a:off x="2908080" y="6019920"/>
            <a:ext cx="208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имическ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имическую связь между атомами водорода одной молекулы (или её части) и атомами наиболее электоротрицательных элементов (фтор, кислород, азот) другой молекулы (или её части) называют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дород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3657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2895480" y="4191120"/>
            <a:ext cx="289584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жмолекуляр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никает между  молекулами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утримолекулярн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419360" y="21333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никает  внутр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лекулы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6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"/>
          <p:cNvPicPr/>
          <p:nvPr/>
        </p:nvPicPr>
        <p:blipFill>
          <a:blip r:embed="rId2"/>
          <a:stretch/>
        </p:blipFill>
        <p:spPr>
          <a:xfrm>
            <a:off x="5638680" y="3429000"/>
            <a:ext cx="198144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между молекулами вод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9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193356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между молекулами аммиа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3657600" y="2971800"/>
            <a:ext cx="3352680" cy="14479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между молекулами спиртов (метанол, этанол, пропанол, этиленгликоль, глицер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5638680" cy="2286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между молекулами карбоновых кислот              (муравьиная, уксусная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имеры карбоновых кисло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2932200" cy="15429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Между молекулами фтороводо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δ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 δ+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ещества с низкой молекулярной массой – жидкости или легко сжижаемые га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ода, метанол, этанол, муравьиная кислота, уксусная кислота, фтороводород, аммиа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4" descr="C:\Documents and Settings\Дом\Мои документы\Этиловый спирт.jpg"/>
          <p:cNvPicPr/>
          <p:nvPr/>
        </p:nvPicPr>
        <p:blipFill>
          <a:blip r:embed="rId1"/>
          <a:stretch/>
        </p:blipFill>
        <p:spPr>
          <a:xfrm>
            <a:off x="3657600" y="4343400"/>
            <a:ext cx="1103400" cy="16574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C:\Documents and Settings\Дом\Мои документы\Уксус.jpg"/>
          <p:cNvPicPr/>
          <p:nvPr/>
        </p:nvPicPr>
        <p:blipFill>
          <a:blip r:embed="rId2"/>
          <a:stretch/>
        </p:blipFill>
        <p:spPr>
          <a:xfrm>
            <a:off x="6477120" y="4267080"/>
            <a:ext cx="1143000" cy="19051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C:\Documents and Settings\Дом\Мои документы\вода.jpg"/>
          <p:cNvPicPr/>
          <p:nvPr/>
        </p:nvPicPr>
        <p:blipFill>
          <a:blip r:embed="rId3"/>
          <a:stretch/>
        </p:blipFill>
        <p:spPr>
          <a:xfrm>
            <a:off x="838080" y="4343400"/>
            <a:ext cx="1257480" cy="15717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LEGION</cp:lastModifiedBy>
  <dcterms:modified xsi:type="dcterms:W3CDTF">2015-05-01T11:11:47Z</dcterms:modified>
  <cp:revision>39</cp:revision>
  <dc:subject/>
  <dc:title>Водородная связь</dc:title>
</cp:coreProperties>
</file>