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C3FA-4723-4C06-A7F1-7F91F746C8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CE4F-89C9-408E-BD20-4630102E95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B84D-1566-4CF0-91B0-7CD2FCEB92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7505-43D1-4FA8-9278-138C5E61D9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28DC-882D-45F3-8C35-9C02D32AE4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2B1E-7285-49B2-89DE-C742BFE4B5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52CE-30B1-46C0-8BBA-7D5CAD3915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2424-9E48-40EB-A701-8486705FC6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ECCA-6C74-4AC3-9511-F21D9DC47B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E8D9-08AA-47DF-9E6B-C54F4AC655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24F0-6F35-41AA-92AF-0F2937BE7F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8B4F-F3CA-4049-8AEE-CABE4E794F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A278-9235-4DD2-AA51-71D484EAEC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28DB-9610-42A5-BB3B-E29A95F9D1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FBDE-0A4E-4AE4-99BA-119F9F8FB1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1558-FBF4-4F8F-A738-6983AE8C1F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38E5-26C0-407B-AFA9-FDB6A4BFFC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1DCA-C931-4F80-9AD9-38CC27B579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990-6B5C-43E6-896F-B4A99344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DDF-11B6-4750-9D30-3543331C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67F-82A6-4B43-B1E5-37494841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A4F-F038-47C8-B92C-471BA43E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67F-900D-4873-B3AA-C82B8749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291-E48D-4839-BE9B-CA94C62C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431-1DE4-4F62-8E59-36410BCD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D7F-E008-4725-A430-B1078D68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A43-E62E-495D-B3DE-546FD2C9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6B6-4F5A-4EE3-855D-99EE0040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590-ED96-4BCD-B254-FAC3A9A4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FBA-6F97-457E-ACE9-D989B653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CACF-9D00-40A2-BBEE-97E7D4AE0D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531E-B8C9-441F-B972-23001632B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666960" y="2335320"/>
            <a:ext cx="1810080" cy="3057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C:\Documents and Settings\Дом\Рабочий стол\Снежинка.jpg"/>
          <p:cNvPicPr/>
          <p:nvPr/>
        </p:nvPicPr>
        <p:blipFill>
          <a:blip r:embed="rId1"/>
          <a:stretch/>
        </p:blipFill>
        <p:spPr>
          <a:xfrm>
            <a:off x="3328920" y="4054320"/>
            <a:ext cx="2247840" cy="1951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962520" y="3429000"/>
            <a:ext cx="1600200" cy="270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72464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311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4724280"/>
            <a:ext cx="4040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8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1781280" cy="1162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Дом\Мои документы\Отбойный.jpeg"/>
          <p:cNvPicPr/>
          <p:nvPr/>
        </p:nvPicPr>
        <p:blipFill>
          <a:blip r:embed="rId1"/>
          <a:stretch/>
        </p:blipFill>
        <p:spPr>
          <a:xfrm>
            <a:off x="685800" y="20574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Дом\Мои документы\Высокие темп.jpg"/>
          <p:cNvPicPr/>
          <p:nvPr/>
        </p:nvPicPr>
        <p:blipFill>
          <a:blip r:embed="rId2"/>
          <a:stretch/>
        </p:blipFill>
        <p:spPr>
          <a:xfrm>
            <a:off x="3276720" y="1981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Дом\Мои документы\Эл-магн.jpg"/>
          <p:cNvPicPr/>
          <p:nvPr/>
        </p:nvPicPr>
        <p:blipFill>
          <a:blip r:embed="rId3"/>
          <a:stretch/>
        </p:blipFill>
        <p:spPr>
          <a:xfrm>
            <a:off x="6095880" y="2057400"/>
            <a:ext cx="2073240" cy="14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Дом\Мои документы\Хим. в-ва.gif"/>
          <p:cNvPicPr/>
          <p:nvPr/>
        </p:nvPicPr>
        <p:blipFill>
          <a:blip r:embed="rId4"/>
          <a:stretch/>
        </p:blipFill>
        <p:spPr>
          <a:xfrm>
            <a:off x="533520" y="4876920"/>
            <a:ext cx="2057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5943600" y="3809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ктромагнитное изл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838080" y="33526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б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34640" y="41148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908080" y="601992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657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8958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1936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198144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9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335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33526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932200" cy="15429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C:\Documents and Settings\Дом\Мои документы\Этиловый спирт.jpg"/>
          <p:cNvPicPr/>
          <p:nvPr/>
        </p:nvPicPr>
        <p:blipFill>
          <a:blip r:embed="rId1"/>
          <a:stretch/>
        </p:blipFill>
        <p:spPr>
          <a:xfrm>
            <a:off x="3657600" y="4343400"/>
            <a:ext cx="11034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Дом\Мои документы\Уксус.jpg"/>
          <p:cNvPicPr/>
          <p:nvPr/>
        </p:nvPicPr>
        <p:blipFill>
          <a:blip r:embed="rId2"/>
          <a:stretch/>
        </p:blipFill>
        <p:spPr>
          <a:xfrm>
            <a:off x="6477120" y="42670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:\Documents and Settings\Дом\Мои документы\вода.jpg"/>
          <p:cNvPicPr/>
          <p:nvPr/>
        </p:nvPicPr>
        <p:blipFill>
          <a:blip r:embed="rId3"/>
          <a:stretch/>
        </p:blipFill>
        <p:spPr>
          <a:xfrm>
            <a:off x="838080" y="4343400"/>
            <a:ext cx="125748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EGION</cp:lastModifiedBy>
  <dcterms:modified xsi:type="dcterms:W3CDTF">2015-05-01T11:11:47Z</dcterms:modified>
  <cp:revision>39</cp:revision>
  <dc:subject/>
  <dc:title>Водородная связь</dc:title>
</cp:coreProperties>
</file>