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FD29-7C09-4DA7-A29C-E502F7E435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4ECD-8F85-45C0-B928-B198F0354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6392-CC33-42DF-91C1-A55FA0E43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ставители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илетской шко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54B0-3F35-4E43-8BC5-73A25ECF6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C2B6-A509-4B7B-9DE4-33ABAB9A5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4076-BE1D-4F9E-8076-C455970D5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5C30-8BE4-4F74-92E8-90E9CB3E6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AFD-F14F-4A29-B2A7-02E6A9E1A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E18D-C6A2-490D-894A-681C42894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F95D-BB47-4280-9361-4A18F8B21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0CBF-EBB4-4362-822C-2E496DCDC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7C6D-8A15-41F0-B4A4-D14FE1364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, эволюция и своеобразие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Отличительные особенности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Основные периоды развития античн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раткая характеристика 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Философия Гераклита Эфес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Атомист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раткая характеристика классической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 Философия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Общая характеристика философии Плат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Научная деятельность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бщая характеристика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 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074E-9675-48C2-ABF3-FA2A2ACE5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1E0-D83B-48BB-8B77-8EC1F94D5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E8CF-7B6A-4529-BDB3-B05C84979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CA7C-350F-46F7-A677-E8748D983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92F5-F2E9-47C3-9C71-9CCC5E08F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Краткая характеристика класс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0D36-418C-4A40-A021-198A176DB3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C23A-99D4-4D12-994E-64F17FE3E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075-D105-47AF-8FA4-B8571835D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F1C5-CEAA-4226-B54F-6BFA8E777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6EE6-1E5F-4296-9460-3E00268CD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B327-9844-40BF-8785-450AF77D5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4C5-DF17-4E48-A46D-BAED039D8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D9D6-7B2C-4F48-807F-EAFD6E32E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3F9F-918A-417E-9826-A9BA56495F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CF87-BA38-40AD-9158-5BC030AE9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материи, души человек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ECC8-76CC-4795-8A88-CDE05ED0C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личите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1CE5-D5AB-45DB-926C-C1BE71D20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D275-AE1B-492A-974C-FAF4C6034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сновные периоды развития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EB73-0AB1-4C8B-856F-764E278F7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8E7E-23EC-4A55-A6A8-48BD9451E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раткая характери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4FD9-85BE-4E42-9338-60088FEAAB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4852-1129-496B-BEBA-224C745CD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6FC-8B4F-42C7-9ADA-A7407D39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E4F-CB75-4B77-9452-8A599C45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F34-B877-408A-8B74-963E377A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F91-B02B-40DD-9476-80A1D630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0029-0BAE-454B-829E-107AED57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A03F-9A65-449A-80B9-7BCC8203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369F-F912-43FE-97AC-8597EADE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3132-9483-4977-BD5D-AFF355BE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EE5F-2183-460C-8744-5C3F7414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2A1F-3739-4C9D-A424-4C6E6FC4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872F-AA98-4BE1-8745-B6CB57E3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DEF-EECA-4F78-9FB9-DE5BD9D0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88CA-9BC4-4592-BF6A-EF262702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B53E-AE9F-4D01-855F-EDDDC330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7EE0-F9C5-4E11-A221-60BEC061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9367-2578-43D9-A72C-45E2A2C8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B547-EC42-401F-B858-4929F9DD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E20C-D6DE-4587-80D6-7203AADD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5AAC-ABBC-4F6B-9447-31D64E0E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6BC2-721B-4513-BF59-DE18DC44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E70F-0E3D-436D-9524-5F574608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BE0D-AEDA-4B3D-9A38-2F1CBD98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3BE-0C00-46C8-812E-11DEE43B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13DB-0AA0-48AC-B186-5D535A8C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8C6D-952D-4CA9-8B20-43887716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A7BA-405F-4A70-828F-83FC958C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9E01-753B-4C1D-B1D7-D91AF4E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A6A1-1E8D-41EA-ACA2-933BE493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789B-67C4-4AC9-817A-CF6D8433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AA2F-65CE-4286-B4E3-8FFC82D7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F542-C8A9-4CFF-8322-84E93E7E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D25EC-2F4E-4768-A808-EC99ED5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A7A6-E4D6-4B77-96AF-CF340908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E08-E721-4803-B4A2-4615FF47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225C-9480-44C1-B1E4-D540E052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FB5F-A50B-4C6F-8809-5A1A8BD3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A6C9-21EA-4560-BFF7-58142655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18A0-133F-4425-BF52-0280FA0B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A7359-A421-4DBB-B94A-CED6A17C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CB88E-A1CF-4129-936A-E40DBAEE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E948-170D-4820-8DCF-E0C5E790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4785-1447-4C21-8F53-593C6B28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12E69-19EC-47E5-860B-48B69D36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0BB8-7689-4831-86DE-088B3067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502-8462-46D0-969D-84AF53B6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77F20-DFD3-429D-9198-982062C4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29D0-ECC3-4A58-9DF7-207AEABC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3679-1740-49EE-BCB1-24A626F9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0A126-8E85-4254-B460-65C54F59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EC7D-CC1B-4AC7-B9FB-38BC0D0A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DB4A7-643F-475A-BA59-E6C0967A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DAEE4-455B-4CFB-B6C5-2942DCB0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7A929-D3E5-4443-A0B1-DB7C3785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AB04-7E97-48B6-B6FE-6604892C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6C8D3-D649-4B2E-9CD7-314E9C95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EDE-7482-4E76-B1B3-764164D5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83E16-432C-47BD-9BE2-A9C7237C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67E-B999-4956-8882-F8DE1F71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779-8025-401D-B35B-17B41AAF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86E-CB5A-46B4-A7BC-95B388AF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49C4-3CD3-4268-9C08-738BE20947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FFC8-EC2C-42ED-B04E-2AF7718D3232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4D33-7733-473B-8572-732F9B5D6B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2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28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8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88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91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9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00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06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0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12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15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18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21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24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2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30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33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3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42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4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53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56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9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6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65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68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371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74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77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380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386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387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5567-622C-4C5B-87A6-09638EFA210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D32D-A118-4B5E-80F2-43A343EB89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5.xml"/><Relationship Id="rId17" Type="http://schemas.openxmlformats.org/officeDocument/2006/relationships/slide" Target="slide46.xml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57578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ТИЧНАЯ  ФИЛОСОФ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0"/>
          <p:cNvSpPr txBox="1"/>
          <p:nvPr/>
        </p:nvSpPr>
        <p:spPr>
          <a:xfrm>
            <a:off x="2195640" y="40464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WordArt 1"/>
          <p:cNvSpPr txBox="1"/>
          <p:nvPr/>
        </p:nvSpPr>
        <p:spPr>
          <a:xfrm>
            <a:off x="826920" y="249228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летской шк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3" name="Picture 2" descr="Анаксимандр"/>
          <p:cNvPicPr/>
          <p:nvPr/>
        </p:nvPicPr>
        <p:blipFill>
          <a:blip r:embed="rId1"/>
          <a:stretch/>
        </p:blipFill>
        <p:spPr>
          <a:xfrm>
            <a:off x="900000" y="4292640"/>
            <a:ext cx="160200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4" name="Picture 3" descr="f1_f0"/>
          <p:cNvPicPr/>
          <p:nvPr/>
        </p:nvPicPr>
        <p:blipFill>
          <a:blip r:embed="rId2"/>
          <a:stretch/>
        </p:blipFill>
        <p:spPr>
          <a:xfrm>
            <a:off x="3708360" y="4221000"/>
            <a:ext cx="1820880" cy="22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5" name="Picture 4" descr="Image Preview"/>
          <p:cNvPicPr/>
          <p:nvPr/>
        </p:nvPicPr>
        <p:blipFill>
          <a:blip r:embed="rId3"/>
          <a:stretch/>
        </p:blipFill>
        <p:spPr>
          <a:xfrm>
            <a:off x="6716880" y="4221000"/>
            <a:ext cx="1777680" cy="223056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84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Анаксимандр"/>
          <p:cNvPicPr/>
          <p:nvPr/>
        </p:nvPicPr>
        <p:blipFill>
          <a:blip r:embed="rId1"/>
          <a:stretch/>
        </p:blipFill>
        <p:spPr>
          <a:xfrm>
            <a:off x="819000" y="1628640"/>
            <a:ext cx="331344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8320" y="1600200"/>
            <a:ext cx="4038840" cy="39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" descr="f1_f0"/>
          <p:cNvPicPr/>
          <p:nvPr/>
        </p:nvPicPr>
        <p:blipFill>
          <a:blip r:embed="rId1"/>
          <a:stretch/>
        </p:blipFill>
        <p:spPr>
          <a:xfrm>
            <a:off x="654120" y="1628640"/>
            <a:ext cx="3641760" cy="4464360"/>
          </a:xfrm>
          <a:prstGeom prst="rect">
            <a:avLst/>
          </a:prstGeom>
          <a:ln w="0">
            <a:noFill/>
          </a:ln>
        </p:spPr>
      </p:pic>
      <p:sp>
        <p:nvSpPr>
          <p:cNvPr id="5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067280" y="1600200"/>
            <a:ext cx="461988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Image Preview"/>
          <p:cNvPicPr/>
          <p:nvPr/>
        </p:nvPicPr>
        <p:blipFill>
          <a:blip r:embed="rId1"/>
          <a:stretch/>
        </p:blipFill>
        <p:spPr>
          <a:xfrm>
            <a:off x="693720" y="1628640"/>
            <a:ext cx="3218040" cy="4032360"/>
          </a:xfrm>
          <a:prstGeom prst="rect">
            <a:avLst/>
          </a:prstGeom>
          <a:ln w="0">
            <a:noFill/>
          </a:ln>
        </p:spPr>
      </p:pic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6"/>
          <p:cNvSpPr txBox="1"/>
          <p:nvPr/>
        </p:nvSpPr>
        <p:spPr>
          <a:xfrm>
            <a:off x="971640" y="765000"/>
            <a:ext cx="73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лософия Гераклита Эфесск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biograf78"/>
          <p:cNvPicPr/>
          <p:nvPr/>
        </p:nvPicPr>
        <p:blipFill>
          <a:blip r:embed="rId1"/>
          <a:stretch/>
        </p:blipFill>
        <p:spPr>
          <a:xfrm>
            <a:off x="1038240" y="184464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2"/>
          <p:cNvSpPr txBox="1"/>
          <p:nvPr/>
        </p:nvSpPr>
        <p:spPr>
          <a:xfrm>
            <a:off x="1763640" y="260280"/>
            <a:ext cx="57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ософия пифагорейц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258920" y="1052640"/>
            <a:ext cx="6985080" cy="136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0" descr="pythagoras"/>
          <p:cNvPicPr/>
          <p:nvPr/>
        </p:nvPicPr>
        <p:blipFill>
          <a:blip r:embed="rId3"/>
          <a:stretch/>
        </p:blipFill>
        <p:spPr>
          <a:xfrm>
            <a:off x="3059280" y="2565360"/>
            <a:ext cx="3041640" cy="3384720"/>
          </a:xfrm>
          <a:prstGeom prst="rect">
            <a:avLst/>
          </a:prstGeom>
          <a:ln w="0">
            <a:noFill/>
          </a:ln>
        </p:spPr>
      </p:pic>
      <p:sp>
        <p:nvSpPr>
          <p:cNvPr id="5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1403280" y="620640"/>
            <a:ext cx="604836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79280" y="1341360"/>
            <a:ext cx="87854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79280" y="765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250920" y="1854000"/>
            <a:ext cx="8316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0"/>
          <p:cNvSpPr txBox="1"/>
          <p:nvPr/>
        </p:nvSpPr>
        <p:spPr>
          <a:xfrm>
            <a:off x="154764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ософия эле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9" name="Picture 2" descr="homer2"/>
          <p:cNvPicPr/>
          <p:nvPr/>
        </p:nvPicPr>
        <p:blipFill>
          <a:blip r:embed="rId1"/>
          <a:stretch/>
        </p:blipFill>
        <p:spPr>
          <a:xfrm>
            <a:off x="546120" y="3357720"/>
            <a:ext cx="1655640" cy="234144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"/>
          <p:cNvSpPr/>
          <p:nvPr/>
        </p:nvSpPr>
        <p:spPr>
          <a:xfrm>
            <a:off x="68436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сен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nb_pinacoteca_raphael_the_school_of_athens_detail_parmenides_enlarged"/>
          <p:cNvPicPr/>
          <p:nvPr/>
        </p:nvPicPr>
        <p:blipFill>
          <a:blip r:embed="rId2"/>
          <a:stretch/>
        </p:blipFill>
        <p:spPr>
          <a:xfrm>
            <a:off x="3203640" y="3357720"/>
            <a:ext cx="1388880" cy="24476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3205440" y="58770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ме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zenon1"/>
          <p:cNvPicPr/>
          <p:nvPr/>
        </p:nvPicPr>
        <p:blipFill>
          <a:blip r:embed="rId3"/>
          <a:stretch/>
        </p:blipFill>
        <p:spPr>
          <a:xfrm>
            <a:off x="5219640" y="3357720"/>
            <a:ext cx="1782720" cy="24476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7"/>
          <p:cNvSpPr/>
          <p:nvPr/>
        </p:nvSpPr>
        <p:spPr>
          <a:xfrm>
            <a:off x="5726160" y="5877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7454880" y="587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л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зникновение, эволюция и своеобразие античной философ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1 Общая характеристика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2 Отличительные особенности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3 Основные периоды развития античной филосо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4 Краткая характеристика досократическ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5 Милетская шк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6 Философия Гераклита Эфес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7 Философия пифагорейц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8 Философия эле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9 Атомистический матери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10 Философия соф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11 Краткая характеристика классической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12 Философия Сокр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3" action="ppaction://hlinksldjump"/>
              </a:rPr>
              <a:t>13 Общая характеристика философии Плат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4" action="ppaction://hlinksldjump"/>
              </a:rPr>
              <a:t>14 Учение Платона о государ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5" action="ppaction://hlinksldjump"/>
              </a:rPr>
              <a:t>15 Научная деятельность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6" action="ppaction://hlinksldjump"/>
              </a:rPr>
              <a:t>16 Общая характеристика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7" action="ppaction://hlinksldjump"/>
              </a:rPr>
              <a:t>17 Проблемы материи, души, человека в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941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1476360" y="115920"/>
            <a:ext cx="62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стический материа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845240" y="1797120"/>
            <a:ext cx="3644640" cy="4132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028" descr="demokrit"/>
          <p:cNvPicPr/>
          <p:nvPr/>
        </p:nvPicPr>
        <p:blipFill>
          <a:blip r:embed="rId1"/>
          <a:stretch/>
        </p:blipFill>
        <p:spPr>
          <a:xfrm>
            <a:off x="874800" y="1557360"/>
            <a:ext cx="3151080" cy="453564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2195640" y="189000"/>
            <a:ext cx="46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лософия софист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179280" y="765000"/>
            <a:ext cx="878544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755640" y="2349360"/>
            <a:ext cx="77058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2"/>
          <p:cNvSpPr txBox="1"/>
          <p:nvPr/>
        </p:nvSpPr>
        <p:spPr>
          <a:xfrm>
            <a:off x="179280" y="189000"/>
            <a:ext cx="815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характеристика классиче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Oval 3"/>
          <p:cNvSpPr/>
          <p:nvPr/>
        </p:nvSpPr>
        <p:spPr>
          <a:xfrm>
            <a:off x="468360" y="1268280"/>
            <a:ext cx="82789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кратический период (середи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— конец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250920" y="2276640"/>
            <a:ext cx="2808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лософски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79280" y="2565360"/>
            <a:ext cx="29527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Сок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кратические шко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гар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вклид и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гар, Евбулид, Стильпо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дор Кр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лидо-эритрей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е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н, Менедем, Асклепиа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ниче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нтисф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ген Синопский, Крат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рен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ристипп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одор, Гегезий, Анникер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Плат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203640" y="2565360"/>
            <a:ext cx="5832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философии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блема челове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орального су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блема, как следует жить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позна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ое знание есть добро, а любое зло, порок соверша­ется о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нания - суть этического ра­ционализма Сок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только общее, постигаем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 понятий. Общее совпадает с едины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ла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й природе неизменно. Абстрактное высшее благо — Бог, раз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ая энергия (мегарц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дрость - в познании блага посред­ством отрешения от всего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ет че­ловека зависимым, отсюда идея свободы 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а и проповедь безусловной естественности, безуслов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й сво­боды (кин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прак­тически достижимое бла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ем блага является наслаждение или страда­ние.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 — в наслаждении насто­ящим. Средством к достиж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астья явля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обод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рена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роение метафизических систем и синтез осно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их пробле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латон, Аристо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4500720" y="2276640"/>
            <a:ext cx="3384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 flipH="1">
            <a:off x="1834920" y="1773360"/>
            <a:ext cx="2305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4140360" y="1773360"/>
            <a:ext cx="23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WordArt 2"/>
          <p:cNvSpPr txBox="1"/>
          <p:nvPr/>
        </p:nvSpPr>
        <p:spPr>
          <a:xfrm>
            <a:off x="2195640" y="189000"/>
            <a:ext cx="44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лософия Сокр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31" descr="sokrat"/>
          <p:cNvPicPr/>
          <p:nvPr/>
        </p:nvPicPr>
        <p:blipFill>
          <a:blip r:embed="rId1"/>
          <a:stretch/>
        </p:blipFill>
        <p:spPr>
          <a:xfrm>
            <a:off x="826920" y="1700280"/>
            <a:ext cx="316728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835280" y="476280"/>
            <a:ext cx="54007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WordArt 2"/>
          <p:cNvSpPr txBox="1"/>
          <p:nvPr/>
        </p:nvSpPr>
        <p:spPr>
          <a:xfrm>
            <a:off x="1692360" y="189000"/>
            <a:ext cx="616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 Л А Т О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31" descr="i?id=22718480&amp;tov=0"/>
          <p:cNvPicPr/>
          <p:nvPr/>
        </p:nvPicPr>
        <p:blipFill>
          <a:blip r:embed="rId1"/>
          <a:stretch/>
        </p:blipFill>
        <p:spPr>
          <a:xfrm>
            <a:off x="755640" y="1413000"/>
            <a:ext cx="3362400" cy="482436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1979640" y="40464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79280" y="1197000"/>
            <a:ext cx="8785440" cy="55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1116000" y="18900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е Платона о государ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468360" y="981000"/>
            <a:ext cx="8136000" cy="1079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4"/>
          <p:cNvSpPr/>
          <p:nvPr/>
        </p:nvSpPr>
        <p:spPr>
          <a:xfrm>
            <a:off x="2627280" y="836640"/>
            <a:ext cx="3745080" cy="360360"/>
          </a:xfrm>
          <a:prstGeom prst="ellipse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государ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50920" y="2565360"/>
            <a:ext cx="3025800" cy="4103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деальное государство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ли при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ающееся к идеал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республ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монарх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исходящая иерархия государствен­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м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большинства, власть военн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ждей, ар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лигарх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атия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ран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179280" y="2276640"/>
            <a:ext cx="316872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сификация государствен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орм по Плат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3708360" y="2276640"/>
            <a:ext cx="489600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государственного устройства по Плат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3492360" y="2708280"/>
            <a:ext cx="5472360" cy="396072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альное государство есть со­об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дельцев и ремесленнико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ящих все необходимое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я жизни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инов, охраняющих безопас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ов-правителей, осуществляющих мудрое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государ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 государства вмес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ят свобод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брака упраздня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е жены и дети общ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и приветству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ра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небольшая частная собственность и лич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ущество для всех со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026"/>
          <p:cNvSpPr txBox="1"/>
          <p:nvPr/>
        </p:nvSpPr>
        <p:spPr>
          <a:xfrm>
            <a:off x="324000" y="18900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 характеристика античной филосо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Rectangle 1027"/>
          <p:cNvSpPr/>
          <p:nvPr/>
        </p:nvSpPr>
        <p:spPr>
          <a:xfrm>
            <a:off x="179280" y="692280"/>
            <a:ext cx="8785440" cy="1657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философия древних греков и древних римлян, охватывающая период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Античная филосо­фия возникла в греческих полисах (торгово-ремесл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х-государствах) Малой Азии, Средиземноморья, Причерноморья и Крым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 Греции — в Афинах, в эллинистичес­ких государствах Азии и Афри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имской империи. Античная философия внесла исключительный вклад в разви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й цивилизации. Именно здесь зародилась европейская культура и цивилизац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есь истоки западной философии, почти всех ее последующих школ, идей и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28"/>
          <p:cNvSpPr/>
          <p:nvPr/>
        </p:nvSpPr>
        <p:spPr>
          <a:xfrm>
            <a:off x="2987640" y="2492280"/>
            <a:ext cx="2881440" cy="36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29"/>
          <p:cNvSpPr/>
          <p:nvPr/>
        </p:nvSpPr>
        <p:spPr>
          <a:xfrm>
            <a:off x="179280" y="3068640"/>
            <a:ext cx="8785440" cy="93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зародилась не как область специальных философских исследований, а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азрывной связи с научными знаниями - математическими, естественно-научными, с зачатка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х понятий, а также с мифологией и искусством. Духовное развити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о от мифологии и религии к науке и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30"/>
          <p:cNvSpPr/>
          <p:nvPr/>
        </p:nvSpPr>
        <p:spPr>
          <a:xfrm>
            <a:off x="179280" y="4292640"/>
            <a:ext cx="8785440" cy="431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основных типа философского мировоззр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ри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Демокрита»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де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Платон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31"/>
          <p:cNvSpPr/>
          <p:nvPr/>
        </p:nvSpPr>
        <p:spPr>
          <a:xfrm>
            <a:off x="179280" y="5013360"/>
            <a:ext cx="8785440" cy="43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противоположных основных метода мышл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тафизи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была первой исторически известной формой диалектической филосо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32"/>
          <p:cNvSpPr/>
          <p:nvPr/>
        </p:nvSpPr>
        <p:spPr>
          <a:xfrm>
            <a:off x="179280" y="56610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ироком смысле слова термин «античность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quu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ревний) означает «древность». В узком смысле с понятием «античность» связывают историю и культуру Древней Греции (Эллады) и Древнего Р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33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34"/>
          <p:cNvSpPr/>
          <p:nvPr/>
        </p:nvSpPr>
        <p:spPr>
          <a:xfrm>
            <a:off x="4356000" y="400536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35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WordArt 2"/>
          <p:cNvSpPr txBox="1"/>
          <p:nvPr/>
        </p:nvSpPr>
        <p:spPr>
          <a:xfrm>
            <a:off x="900000" y="620640"/>
            <a:ext cx="7486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ная деятельность Аристо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031" descr="image009"/>
          <p:cNvPicPr/>
          <p:nvPr/>
        </p:nvPicPr>
        <p:blipFill>
          <a:blip r:embed="rId1"/>
          <a:stretch/>
        </p:blipFill>
        <p:spPr>
          <a:xfrm>
            <a:off x="755640" y="1484280"/>
            <a:ext cx="3355920" cy="4537080"/>
          </a:xfrm>
          <a:prstGeom prst="rect">
            <a:avLst/>
          </a:prstGeom>
          <a:ln w="0">
            <a:noFill/>
          </a:ln>
        </p:spPr>
      </p:pic>
      <p:sp>
        <p:nvSpPr>
          <p:cNvPr id="6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2"/>
          <p:cNvSpPr txBox="1"/>
          <p:nvPr/>
        </p:nvSpPr>
        <p:spPr>
          <a:xfrm>
            <a:off x="2050920" y="18900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547640" y="1197000"/>
            <a:ext cx="5977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Line 2"/>
          <p:cNvSpPr/>
          <p:nvPr/>
        </p:nvSpPr>
        <p:spPr>
          <a:xfrm>
            <a:off x="1692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>
            <a:off x="471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759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5"/>
          <p:cNvSpPr txBox="1"/>
          <p:nvPr/>
        </p:nvSpPr>
        <p:spPr>
          <a:xfrm>
            <a:off x="1258920" y="189000"/>
            <a:ext cx="679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материи, души человека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179280" y="907920"/>
            <a:ext cx="878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108000" y="1916280"/>
            <a:ext cx="3168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субстрат. Без материи н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но и сама материя не сущ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ует самостоятельно. До при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формы материя находи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 состоянии небытия. Эта перв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лишена жизни, энергии, цел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сти, всяких свойств, всякой опр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нности. Материя еще не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сть, а только возм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ность. Действительностью она ста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тся лишь в связи с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это потенция, огранич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ой; потенция (субстрат)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ное начало, форма — актив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ая вещь есть единство «матер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«фор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— обнаружение актив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 момент ее соединения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ичин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бстрат)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зующая «сущность»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одящ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скрывающ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дви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формой всего сущего явля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г, имеющий бытие вне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3348000" y="1916280"/>
            <a:ext cx="2736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- носитель сознания и од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ведает функция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уровня д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стительная душа»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функции питания и размн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увственная (животная) душа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за функции питания, 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жения, ощущения и жел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зумная душа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ватывает в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перечисленные функ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ает еще функциями позн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смерти. Одушевл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(гилозоизм) — «нелеп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тивореч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6156360" y="1916280"/>
            <a:ext cx="2808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рождается политическ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ом и стремится к «совм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му сожительств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есть политическое жив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ое (выводя политичность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его природы, а не наоборот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человека из его дея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в обществе, — Аристо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ошиб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политической сущ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 человека есть образов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и,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179280" y="1484280"/>
            <a:ext cx="3097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3348000" y="1484280"/>
            <a:ext cx="2736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ду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2"/>
          <p:cNvSpPr/>
          <p:nvPr/>
        </p:nvSpPr>
        <p:spPr>
          <a:xfrm>
            <a:off x="6156360" y="1484280"/>
            <a:ext cx="280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157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1026"/>
          <p:cNvSpPr txBox="1"/>
          <p:nvPr/>
        </p:nvSpPr>
        <p:spPr>
          <a:xfrm>
            <a:off x="1547640" y="189000"/>
            <a:ext cx="5591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личительные особен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ичной философ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6" name="Rectangle 1027"/>
          <p:cNvSpPr/>
          <p:nvPr/>
        </p:nvSpPr>
        <p:spPr>
          <a:xfrm>
            <a:off x="1547640" y="1197000"/>
            <a:ext cx="604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28"/>
          <p:cNvSpPr/>
          <p:nvPr/>
        </p:nvSpPr>
        <p:spPr>
          <a:xfrm>
            <a:off x="395280" y="1989000"/>
            <a:ext cx="842472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029"/>
          <p:cNvSpPr/>
          <p:nvPr/>
        </p:nvSpPr>
        <p:spPr>
          <a:xfrm>
            <a:off x="4643280" y="162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395280" y="0"/>
            <a:ext cx="83757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ериоды развития 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50920" y="47628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1187280" y="1268280"/>
            <a:ext cx="684072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ериоды развития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1908000" y="1989000"/>
            <a:ext cx="532800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иод ран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468360" y="2276640"/>
            <a:ext cx="8280360" cy="86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истический период с его проблемами Фюзиса (Природы)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са (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алес, Анаксимандр, Анаксимен, Парменид, Зенон, Ксенофан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ифагор, Демокр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1908000" y="3573360"/>
            <a:ext cx="532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сред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468360" y="3860640"/>
            <a:ext cx="8280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й период с е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ой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го школа; софист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Продик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тифонт, Антисфе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1835280" y="5084640"/>
            <a:ext cx="5400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высоко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68360" y="5372280"/>
            <a:ext cx="828036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большого синтеза с его главн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тез философского 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тон, Аристотел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их шко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692360" y="1413000"/>
            <a:ext cx="554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ли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611280" y="1700280"/>
            <a:ext cx="784836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эллинистических школ с его главными проблемами 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 и свобода человека, проблемы познания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пикур, Пиррон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ки раннего период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эций, Посидони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ие римские стоики, или неостоицизм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нека, Эпиктет, Марк Аврел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1765440" y="3500280"/>
            <a:ext cx="554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ый период античной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684360" y="3787920"/>
            <a:ext cx="7848360" cy="1150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проблемы — структуры Космоса, судьбы Космоса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, отношения Бога и человека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отин, Порфирий, Прокл, Филон Александрий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6372360" y="189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1026"/>
          <p:cNvSpPr txBox="1"/>
          <p:nvPr/>
        </p:nvSpPr>
        <p:spPr>
          <a:xfrm>
            <a:off x="1476360" y="189000"/>
            <a:ext cx="6296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ткая характери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ократической филосо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AutoShape 1027"/>
          <p:cNvSpPr/>
          <p:nvPr/>
        </p:nvSpPr>
        <p:spPr>
          <a:xfrm>
            <a:off x="539640" y="1268280"/>
            <a:ext cx="813600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28"/>
          <p:cNvSpPr/>
          <p:nvPr/>
        </p:nvSpPr>
        <p:spPr>
          <a:xfrm>
            <a:off x="2268360" y="2205000"/>
            <a:ext cx="4751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ие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29"/>
          <p:cNvSpPr/>
          <p:nvPr/>
        </p:nvSpPr>
        <p:spPr>
          <a:xfrm>
            <a:off x="395280" y="2492280"/>
            <a:ext cx="8424720" cy="410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26"/>
          <p:cNvSpPr/>
          <p:nvPr/>
        </p:nvSpPr>
        <p:spPr>
          <a:xfrm>
            <a:off x="1619280" y="836640"/>
            <a:ext cx="590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27"/>
          <p:cNvSpPr/>
          <p:nvPr/>
        </p:nvSpPr>
        <p:spPr>
          <a:xfrm>
            <a:off x="395280" y="1197000"/>
            <a:ext cx="835344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28"/>
          <p:cNvSpPr/>
          <p:nvPr/>
        </p:nvSpPr>
        <p:spPr>
          <a:xfrm>
            <a:off x="39528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1026"/>
          <p:cNvSpPr txBox="1"/>
          <p:nvPr/>
        </p:nvSpPr>
        <p:spPr>
          <a:xfrm>
            <a:off x="1547640" y="189000"/>
            <a:ext cx="6048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летская 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Rectangle 1027"/>
          <p:cNvSpPr/>
          <p:nvPr/>
        </p:nvSpPr>
        <p:spPr>
          <a:xfrm>
            <a:off x="179280" y="836640"/>
            <a:ext cx="8785440" cy="79200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28"/>
          <p:cNvSpPr/>
          <p:nvPr/>
        </p:nvSpPr>
        <p:spPr>
          <a:xfrm>
            <a:off x="1908000" y="1916280"/>
            <a:ext cx="5112000" cy="431640"/>
          </a:xfrm>
          <a:prstGeom prst="roundRect">
            <a:avLst>
              <a:gd name="adj" fmla="val 16667"/>
            </a:avLst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29"/>
          <p:cNvSpPr/>
          <p:nvPr/>
        </p:nvSpPr>
        <p:spPr>
          <a:xfrm>
            <a:off x="179280" y="2349360"/>
            <a:ext cx="8785440" cy="396108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30"/>
          <p:cNvSpPr/>
          <p:nvPr/>
        </p:nvSpPr>
        <p:spPr>
          <a:xfrm>
            <a:off x="179280" y="270828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1:39Z</dcterms:created>
  <dc:creator>Леди Аза</dc:creator>
  <dc:description/>
  <dc:language>en-US</dc:language>
  <cp:lastModifiedBy>LEGION</cp:lastModifiedBy>
  <dcterms:modified xsi:type="dcterms:W3CDTF">2014-11-11T08:58:02Z</dcterms:modified>
  <cp:revision>20</cp:revision>
  <dc:subject/>
  <dc:title>АНТИЧНАЯ  ФИЛОСОФИЯ</dc:title>
</cp:coreProperties>
</file>