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8DDE-AD7F-460D-A3E0-8EB72F3A46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FA07-331A-4FBC-B0CA-45705FA1E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7713-2C23-4242-95A9-682ABC5CB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ставители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илетской шк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D03D-AFDA-4D75-9D4D-AB9232576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A4F7-9485-4EAB-BD51-9768053E8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AFFB-59D7-4101-B8E8-D4314F2ED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0B75-8789-4839-BF18-A1408F7FC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9E4F-A330-4B8E-BE34-5B58B87F0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2C40-4A99-42D4-9D25-C1610632E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B964-D5CD-4EBB-BC4C-A57FC4311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B11D-A7CD-4B5F-94E1-4ED42A60F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A48C-70AF-4729-BEA8-91BBD3B83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, эволюция и своеобразие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Отличительные особенности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Основные периоды развития античн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раткая характеристика 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Философия Гераклита Эфес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Атомист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раткая характеристика классической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Философия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Общая характеристика философии Плат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Научная деятельность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бщая характеристика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 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2846-D739-4196-B8C7-5232FA0EF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8F95-778D-4CB6-878E-1554D90A6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EB2-66FE-4939-B046-FFA8F09ED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FC60-F3F2-4600-ACE9-3A0505A2E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0EE4-44CF-4158-84E3-675D397E0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Краткая характеристика класс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3D39-D892-4064-8464-895FD22FF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F70C-78A3-4469-BCBF-B600126BC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2AC-2AD6-49C8-B24B-3E18B807E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48BE-9E73-4CDA-A6F7-0B3DA79C0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89CA-96C4-4195-B552-2B746D95E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65D1-8710-4417-B378-294E036E8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E114-2112-4B86-946A-5E06546A0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2F10-EEC2-451D-8E90-DC2BD6FDC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8B7C-51B9-4355-B1CF-6D4AFCF4D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2E2C-FBBA-4900-BFFC-C6563F3A0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материи, души человек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8A70-AAB0-4F70-87BC-797EA2B67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0632-30CA-44A0-A026-AA350F7C2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5714-5690-4AF9-A37F-FC8A1F3A3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сновные периоды развития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63A8-D298-401B-9FCB-475481BD3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C3BE-FDCA-4518-8EBC-81DB526FC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раткая 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C8A3-F290-4B8A-BF19-1CA650995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C08A-2FF9-48E6-9BC2-B036E8E26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4D4-F656-4F59-B86E-341BB975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1FC-C764-4BAD-82F6-2016059C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18C-7642-4DBA-9EBF-9D387B73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E02-8ACD-48A3-A7A9-53F1914C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D21B-96C5-4D94-B339-319048B5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99AA-AD0C-4D73-B39D-FDCA0BC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8A87-6F55-415F-9E79-C7D4B2C0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74AB-9015-4A84-A4AF-6B34625F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6F25-682B-4342-82CB-BE18083E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6BB5-17BE-4FB9-B235-A25DBB3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2401-EBA4-4EE9-8047-670EAB2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D12-90FB-4A88-88CB-4CA0AF3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2504-CBCB-41A2-8D0B-8C1CE50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7CA2-E560-45C4-BD29-6F572AF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3BE1-2971-4223-9C36-F069277D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1E74-C63A-4AFF-9AF6-5F32BAE8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F1D1-C356-47C3-A95F-8A92755F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688C-CEB7-45AF-8D52-198D4DFE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0CFB6-C2A9-4569-A70D-84D3EC1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EF25-BBF1-4E9D-804F-3BE240C4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5A57-418C-4678-AB2F-5DF5BD7F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0572-9970-4D6D-921F-1AAA091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059-4FBF-42A2-9F6D-DC511C3F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5753-BB26-481D-B767-FD1D0BEE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DC050-D1F1-497F-AD5B-E2AE234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86C4-DCAC-4441-9E29-5C842C7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441E-68A8-4C62-9554-0B392A5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341DE-63D9-4BBD-9824-9CE1BDF1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5EB1-62E4-4A16-9B36-3B6D2ECB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D5E3-D05E-48BF-B83D-CF83D46A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4953-726B-453F-84C6-CA0608CF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2F89-F287-47AF-8746-7B6BAC6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58DE-09A0-4D20-A60C-3019EF46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5E3-B857-4B87-AAC3-E150AB2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CF3BB-38B6-4F86-8E54-98AC9106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3EAD-24A9-47CC-81D2-A698044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9180-2D6A-4471-8208-8B413740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C24F-5CF7-4B7B-9E4F-3693149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5EBF-6681-4B1B-91DE-34C75D46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48D51-B989-41E5-BE3B-BE3A8E7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A59D-255B-4871-97B2-01314453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327B-1F94-40A1-B721-9CF153F7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D5A1-E2C7-44C1-9886-1D84BFDC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05B5-2803-4013-916D-8228A49A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93D-0A90-4612-B2F0-4D20CC75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5DA4-8B81-4B1C-B457-13ECDEAA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14C7-BDF2-4D4D-AAD1-BB32CA2C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06F4-A4C9-4A64-99B0-AE0FD0FC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40EBB-191F-422B-A793-E21EC9F5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3F52-8F0B-4935-B859-48952969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A458C-2F0A-4643-9EF6-8DFC221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817CE-F983-4872-B2C1-964244B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887E-3B95-42ED-B267-A24F533E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AD01F-AF21-4CF3-BB32-26C5A5EB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2B49-033B-4497-BB30-7893A80F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629-B31D-454D-A93C-1673EA4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1A870-37B0-437C-9701-54468B6C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0FD-755E-4EDA-B211-BE18F2CE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DD9-FE13-4600-BA5E-D835DFF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386-14DC-4F74-B74F-7263BD78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871-15C8-4E05-BE48-B6BE9B27D6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48C8-9098-469D-A463-0A74061D23C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EC3-CBF1-452C-A0A7-531436B7DE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88A3-A058-4076-9B7A-CD2FBC74882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84BC-86A8-4031-92F9-EC9DAA3DB4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3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4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5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  <p:sp>
        <p:nvSpPr>
          <p:cNvPr id="5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  <p:sp>
        <p:nvSpPr>
          <p:cNvPr id="5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9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3" action="ppaction://hlinksldjump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4" action="ppaction://hlinksldjump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5" action="ppaction://hlinksldjump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6" action="ppaction://hlinksldjump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7" action="ppaction://hlinksldjump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  <p:sp>
        <p:nvSpPr>
          <p:cNvPr id="6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6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LEGION</cp:lastModifiedBy>
  <dcterms:modified xsi:type="dcterms:W3CDTF">2014-11-11T08:58:02Z</dcterms:modified>
  <cp:revision>20</cp:revision>
  <dc:subject/>
  <dc:title>АНТИЧНАЯ  ФИЛОСОФИЯ</dc:title>
</cp:coreProperties>
</file>