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5B80-1D66-44F2-82C2-4FD105C13F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E8BF-8ED3-44ED-867F-4A57B01AED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E8CA-C50B-48DC-8382-F55AC86A5F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редставители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илетской шко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ксиманд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610-547 до н.э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­го — «апейрон» — вечная, бесконечная субстанция, из которой вс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о, все состоит и в которую все преврати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 — первопричина, а Боги становятся мирами, универсумами, коих множе­ство, и они-т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ически возникают и гибну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 состоит из серий противоположностей, опре­деляющих генезис Косм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Вселенной — Зем­ля, представляющая собой срез цилиндра, который па­рит в воздух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0C3C-FB74-4813-9E1B-AD15042EFE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алес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625-547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го — вода — «фазис», жидк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чий, а то, что мы пьем, — лишь одно из его состояний. Вода соотноси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божественным нач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живая природа, все вещи имеют душу (гилозо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Вселенной — Земля, представляющая собой плоский диск, покоящийся на в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полна бо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A35F-E1C2-4026-9298-2F076F3294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ксиме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585-525 до н.э.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го — воздух, ко­торый проходит в сво­ем изменении ряд эта­пов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онь — воздух — ветры-облака — земля — камни. Воздух, входя­щий в вышеуказанный ряд, 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ждественен с первонач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 — источник жизни и психических явл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— плоский диск, парящий в воз­дух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и отождествля­ются с Природ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CA19-4928-4BF7-B653-620B60002C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0D10-B0DB-484D-B6CF-E2043867B8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ым после Милета очагом древнегреческой философии в Малой Азии был город Эфес, родина философ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еракли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. 530—470 до н.э.). Гераклит — од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основоположников диалектики, учение которого является наиболе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рким выражением стихийной диалектичности древнегре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положения учения Геракли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всего существующего лежи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гонь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ервоначало, находящеес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ечном движении и изменении. Переходящее из одного состояния в другое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я борьбе образующих его противоположностей, служит основой всего развития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находится в процессе непрерывного изменения, а из всех природных веществ наиболее способен к изменению огонь. Поэтому «этот космос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 тот же для всего существующего, не создал никакой Бог и никак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, но всегда он был, есть и будет вечно живым огнем, мерами загорающимся и мерами потухающим» (фрагмент Геракли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ым определяющим элементом мировоззрения Гераклита является утверждение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сеобщей текучести вещей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мости. «Нельзя войти в одн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у же реку дважды». «Мы входим и не входим в одну и ту же реку, мы т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 самые и не те же самые» (фрагмент Геракли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происходит по необходимости и из «противоположного обмена»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обходимость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сеобщий закон «логос», созидающий сущее из «противоположного движения», т.е. здесь Гераклит говорит о внутренне противоречивом потоке, тем самым подходя к диалектическому пониманию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потоке тесно связано с учением о переходе одной противоположности в другую, т.е. Гераклит вплотную подходит к постановке проблем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единства противоположностей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иваясь друг на друга, противоположности становятся друг другу тождественными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тивореч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орьба) является движущей силой всякого изменения и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ознания основывается на понимании взаимосвязи чувственного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ьного познания, а задача познания — проникновение в сущ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ы в ее вечном изменении. Основа общности и истинности человеческого познания — «логос», т. е. единство, всеобщность и непреложность миро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го поряд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9E9D-6F39-4419-9D51-54856825AC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Философия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ИФАГОРЕЙЦ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ледователи Пифаг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-я полови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начал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. до п.».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негреческого философа и математика, основавшег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реческом городе Кротоне религиозный сою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022B-01BF-4BF8-AE9B-510C6E81D4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ные черты пифагорейско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а она как некое братство или религиозный орден, подчинен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гим правилам общежития и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воспринималось как тайна, знать которую позволялось лиш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ептам и разглашение которой строжайше запрещало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ский союз представлял собой реакционную партийн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ю аристокра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B5BB-D6A7-4B09-B85C-5B13937C95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Основные положения философии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инное мировоззрение, по Пифагору, покоится на трех основах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рали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елигии и знани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 Пифагора — это мораль аристократ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науки подчинены интересам рели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причина всего сущего — число. Все в природе измеряетс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иняется числу, в числе - сущность всех вещей; познать мир, е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, его закономерность — это значит познать управляющие им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стик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исе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яет ядро пифагорейского идеал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противоположностях оформляется в систему метафизичес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ых противоположностей (предел и беспредельное, нечет и чет, еди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ножество, правое и левое, мужское и женское, покоящееся и движущеес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ое и кривое, свет и тьма, хорошее и дурное, четырехугольное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ороннее). Основное философское значение имеет противополож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ого и беспредельного, определяющая все другие противополож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цы в основном стояли на позиции метафизическ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понимания, что целиком связано с их пониманием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цы преуспели в изучении музыки, геометрии и небесной меха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F5CB-901B-4892-B556-2065E8EE65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Философия эле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АТЫ — представители Элейской философской школы, существовавшей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вв. до н.э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древнегреческом полисе Элея н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и современной Итал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ит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C60D-0291-4158-BE43-D1C3F0DEEB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новение, эволюция и своеобразие античной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Общая характеристика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Отличительные особенности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Основные периоды развития античной философ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раткая характеристика досократи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Милет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Философия Гераклита Эфес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Философия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Философия эле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 Атомист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Философия соф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 Краткая характеристика классической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 Философия Сокр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Общая характеристика философии Плат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 Учение Платона о государ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Научная деятельность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 Общая характеристика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 Проблемы материи, души, человека в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ECB1-52AB-4E52-9DA7-BAC94E70B8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эле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илософские мировоззрения, с точки зрения Парменида, покоятся на одной из трех основных предпосылок: 1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олько бытие есть, небытия нет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 только бытие, но и небытие существу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3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и небытие тождествен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Эти предпосылки являются основой трех философских школ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— исходный пункт Элейской школы, вторая лежит в основе учения пифагорейской школы, а в третьей заключается учение Гераклита Эфесск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аты первыми попытались понять мир, применяя к многообразию вещей философские понятия предельной общности (бытие, небытие, движе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е бытие понимается элеатами как непрерывное, нераздельное, одинаково присутствующее в каждом мельчайшем элементе действительности, исключающее количественную множестве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й и их движение (апории Зенона о невозможности движения). Множественность и движение не могут быть мыслимы без противоречия, и поэтому они не суть бы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знании элеаты разграничиваю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ину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ную на рациональн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нии,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нени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ное на чувственных восприятиях. Послед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комят нас лишь с видимостью вещей, но не дают знания их истинн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и. Только разум может постичь истину о мире, исходя из тождеств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ления и бы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нятии бытия, как его осмыслили элеаты, содержится три момент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есть, а небытия нет; 2) бытие одно, неделимо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познаваемо, а небыт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идимость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познаваемо: его нет для разума, а значит, оно не существу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ий мир элеаты рассматривали как нечто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изменчивое и подвижно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яя его в рамках чувственного п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82C2-949E-40BE-AE1D-0F4CEB4F40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ателем атомистик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евкип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. 500—440 до н.э.), учение которого продолжи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ый-энциклопедист и философ-материалис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мокри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60—370 до н.э.). Демокрит считался основоположником материалистического направл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философии («линия Демокрита» 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олож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инии Платона» — идеалистического направл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9C1C-D234-42B9-89DD-31065CDECA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атомис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 состоит из пространства и наполняющей его материи, или из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томо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уст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ы не возникают и не уничтожаются. Они вечны и неделимы, просты и качественно неизмен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ними существуют первоначальные отличия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рма, порядок и положе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о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аются по величин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яже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ви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и составляет основу всей атомистической системы. Атомы находятся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чном движении, атом — движущаяся матер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бесконечна, бесконечно и число миров в ней. Земля — плоск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ние всеобщей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чинной необходимост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одним из основных принципов вс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атомистов. Отсюда атомисты одновременно и отрицают случайность, и признают ее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ют в смысле беспричинности — никакое событие не может возникнуть без причины; признаю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мысле противоположности целесообразности - никакое событие в природе не возникает и 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ради осуществления какой-либо цели. В этом смысл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кое событие случай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м началом и основанием в познании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щущения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сем, что дает для познания ум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в конечном счете обязан чувств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ь и смерть организмов — это соединение и размножение атомов. Тот же принцип положен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психологии: душа состоит из огненных атомов и есть временное соединение. Бессмерт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и отверг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исты, в частности Демокрит, проявляют большой интерес к вопросам политики, государствен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ройства, вопросам и проблемам физики, математики, техники, эстетики, филологии, музы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331B-E7F0-4668-B152-E1E536F9A9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Философия соф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ервая полови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 до н.э.) не представляла собой единого круга мыслител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фисты» не есть название определенного философского направления или особой философск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. Слово «софист», первоначально означавшее мудрец, искусник, изобретатель, со втор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 означает особый тип философа-профессионала, учителя философии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ие софисты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)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тагор, Горгий, Гиппий, Продик, Антифонт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итий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ладшие софисты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икофрон, Алкидамант, Трассимах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фис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зна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основная проблема софистики. Софисты произвели смещение ос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ого исследования с природы на человека: именно в этом их историческое значение.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е внимания оказались человек и его психология: искусство убеждать требовало зн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х форм с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правоту софисты доказывали с помощью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физмов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х приемов, уловок, благодар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м умозаключение, на первый взгляд правильное, оказывалось в итоге ложным, и собеседни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утывался в собственных мыс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й принцип софистов: «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есть мера всех вещей в том, что они существуют, и в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ом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то они не существуют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тагор). Отсюда субъективизм в оценках и суждениях, отриц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го бытия и попытки доказать то, что действительность существует только в мысля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ознания софистов ориентирована на отдельного индивида — субъек­та познания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убъективный идеализм)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е, истинное познание не­достижим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{скептицизм)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сяк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относительн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релятив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ятивизм в теории познания служит обоснованием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равственного релятивиз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с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ывали условность правовых норм, государственных законов и моральных оце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BBEF-5F9C-43EA-BB4F-4AFB3F40B7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Краткая характеристика классиче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9795-D96A-4E9A-8615-5782525D65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КРАТ (469—399 до н.э.) — выдающийся афинский философ, учитель Платона. Сократ — представитель реалистического ре­лигиозно-нравственного мировоззрения. Впервые именно Со­крат сознательно поставил перед собой задачу обоснования идеализма и выступил против античного материалистического ми­ропонимания, естественно-научного знания и безбожия. Сократ исторически был зачинателем «тенденции Платона» в античной филосо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1BB0-9606-40F2-B2D9-8F63F601A0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кр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проблема в философии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и человеческое созна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и сущ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 — это его душа (разум). Душа - это «Я сознаю­щее», т.е. совесть и интеллектуальная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ная личность. Благодаря этому открытию создана моральная и интеллектуальная традици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ая питает Европу до настоящего времен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задача познания — самопознание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познай самого себя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ние самого себя ка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еловека вообще», т.е. как моральную, общественно значи­мую личность. Познание — главная цел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пособность человека, ибо в про­цессе познания он приходит к общезначимым истинам, к познани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а и красоты, блага и счастья. В этом и есть цель филосо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Сократа отождествля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бродетель со знание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добродетель (мудрость, справедлив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ство, умеренность) есть всегда знание, порок — это всегда невежество; 2) никто не греши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знательно, а кто совершает зло, делает это по незнанию. Этот этический рационализм Сокра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дит мораль­ное благо к факту с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лектика Сократа совпадает с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алого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иалогос), который состоит и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ух моментов: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опровержения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«иронии»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майевтики»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кратовский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— это метод последовательно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 задаваемых вопросов, имеющих своей целью приведение собеседника 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речию с самим собой, к признанию собственного невежества. В этом суть «иронии», су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айевтики» — посредством наводящих вопросов и логических приемов под­вести собеседника 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му нахождению ист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метода — найти «всеобщее» в нравственности посредство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индук­ции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ыскания обще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частном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определения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установления родов и видов, их соотноше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оставные части «сократического» метода: «ирония» и «майевтика» — по форм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дукция» и «определение» — по содержа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4FAE-A32A-4386-858B-75F535F3F8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27—347 до н.э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ий философ Древней Греции, ученик Сократа, основатель собственной фило­софской школы — Академии, основоположник идеалисти­ческого направления в философии. Его настоящее имя - Аристокл, Платон - псевдо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7E4F-BB7A-4983-B36F-B56B5B5567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Плат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ая система Платона — первая завершенна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интетическая кон­цепция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через призм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ения о идеях рассматривались все составляющ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 античной философии: онтолог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носеология, этика, эстетика, философия поли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м в философии Платона бы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чение об идеях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материальный мир, в котором жив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. Но есть и другой мир — несотворимый и неуничтожимый, т.е. вечный. Это мир причин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х форм и сущностей вещей. Это мир, который обозначается понятием «бытие» есть «мир ид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ая вещь является материальной копией первоначальной идеи (эйдоса). Материальны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 изменчивы и со временем прекращают свое суще­ствование; идеи вечны и неизмен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- причины вещей и причина мира в целом, но они не присутствую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ире. Они пребывают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е человека. Именно душа содержит знания о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ях, поскольку она до вселения в тело обитала 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е идей. Поэтому иде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ются не через чувства, а посредством «припоминания» разум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ый мир познается, мир идей — «припоминается». Этим и определяетс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душ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й уровень - разумный, с высоты которого челове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ерцает вечный мир идей и стремится 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у, и низший - чувственный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которого он познает мир ве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у идей присуща иерархия. Прежде всего, это идея «общего блага» или «высшего блага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, это идеи: человеческих ценностей (мудрости, спра­ведливости, добра и зла), отно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юбви, ненависти, власти, государ­ственности и т.п.), свойств вещей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идей имеет практический аспект — обоснование общечеловечески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ов и н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ибо с позиции идеалов «мира идей» челове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ен оценивать окружающий его мир. Так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философии называется метафизической (не путать с метафизическим методом, возникшим в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8F17-019D-4CF5-8E22-71B7EBE358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чение Платона о государ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олитическое учение Платона в разных вариантах излагается им в тре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иалогах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Государство», «Политик», «Законы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целиком направлено проти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ой демокра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2863-9CD5-453D-9D96-534564C5C1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445B-5198-4271-997A-EF479A89CC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Общая характеристика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84-322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ченый-энциклопедист, философ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к Платона, воспитательАлександра Македон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5 — 322 гг. до н.э. основал философскую школу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ик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ерипатетическую школ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67F5-E614-49B6-97BD-272E3CECFE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ая характеристика научной деятельности Аристо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ая деятельность Аристотеля охватила все области античного знания. Произведения его нося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нциклопедический характер. Его сочинения относятся к различным областям знаний — философии, естествознанию, логике, истории, политике, этике, литерату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 науки делятся по следующей классифик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орети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познание ведется только ради него самого. Они включают «первую философию» (метафизику), математику и физику. «Первичная философия» изучает проблемы бытия, происхождение всего сущего, причины различных явлений и т.п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акти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дают руководящие идеи для поведения человека, устройства государства и т.п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вор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познание совершается с целью достижения пользы или осуществления чего-либо прекрас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этом делении Аристотель не упоминает особо логику, хотя он является создателем этой науки (как и эстетики, и теории государства). Аристотель рассматривает логику как оружие всякого научного знания, а не как особую область науки (философ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ее правило научного исследования — на первом месте должна стоять объективная истина самих вещей, самой природы, и никакие субъективные цели не должны исказить этой «правды вещ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ая опыт предшествующего развития науки, Аристотель пытался по­строить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единую систему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98C2-8671-42DF-B872-9039C423D0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бщая 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считал, что философия не есть продукт единоличного индивидуального творчества, 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тог работы целых поколений мысл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н внес существенные коррективы в ряд положений философии Платона, критикуя учение об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эйдосах» («чистых идеях»). Ошибка Платона, по Аристотелю, в том, что он оторвал «мир идей» о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льного мира, поскольку бытие не есть «чистые идеи» («эйдосы») и их материальное отраж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«вещи»). Аристотель дает сво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нимание бытия через десять категорий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тие — э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ущност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убстанция), обладающая свойствам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личе­ства, качества, отношения, места, времени,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ложения, состояния, действия,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р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ика учения об идеях Платона приводит Аристотеля к принципиальным положениям, которы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гли в основу его миропоним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Мир один. Это духовно-материальный, реально существующий ми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Вещи, явления и процессы реального мира могут быть познаны из него</a:t>
            </a:r>
            <a:r>
              <a:rPr b="0" lang="en-US" sz="1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амого, т.е. изучать следует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аму действительность, а не мир и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В центре познания должны быть не умозрительные схемы, а реальный</a:t>
            </a:r>
            <a:r>
              <a:rPr b="0" lang="en-US" sz="1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мир. Тогда наука получает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мысл как познание реального посредством понятийного мышления, которое изучается логикой.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Логика - орудие постижения сущности вещей, явлений и процессов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определил сущность материи и дал материалистическую трактовку происх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ра 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выделяет шесть типов государства: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лохие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тирания, крайняя олигархия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хлократия — власть толпы, крайняя демократия)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хо­рошие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монархия, аристократия и полития)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деал Аристотеля - политая, представляющая собой совокупность умеренной олигархи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ренной демократии, государство «среднего класс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D291-B65C-42E6-A5E9-E6BC16BA8A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облемы материи, души человека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философии Аристо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материи, души, человека в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3603-6AB8-4259-8BD7-AC0E95B6A1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тличитель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 античной филосо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ой особенностью античной философии является единство трех взаимосвязанны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собой моментов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бъекта исследования, метода и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момент определя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ой философии, которое конкретизируется в идея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оцентр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, обращаясь ко второму моменту триединства — методу, следует отметить следующ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ную особенность античной философии: стремлени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 рациональном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ени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общего, бытия, реальности. Она не ограничивается конкретными фактами и опыт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ми. Для нее значим не отдельный факт или конкретный опыт, а разумный аргумен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ое доказательство, знание. Это не только определяет научный характер философии, н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раницы между философией, религией, мифом и искусством. Последние также имеют дело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остью как целым, но если мифология описывает ее исходя из фактических представлен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игия — посредством веры, искусство — через идею красоты, воплощенную в художественны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ах, то философское объяснение осуществляется на рациональном уров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иалектика мышл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философия в целом есть бескорыстна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юбовь к истин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особенность определя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ее третий момент — цель. Цель античной философии состоит в чистом созерцании истин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м желании достичь 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7027-78A9-4677-8D23-8FC341A05F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5C17-FB97-4A0E-ACAF-C7517B317F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Основные периоды развития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и греко-римская философия имеют более чем тысячелетнюю историю, начиная 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 и до 529 г.н.э., когда император Юстиниан закрыл фило­софские школы в Афинах. В этой истории различают ряд пери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F712-393B-46DB-9BAF-B1348DF988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D51D-6160-40A9-8F7A-D1DA86190D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раткая характери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осократи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философские школы Древней Грец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и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 до н.э. в ранних древнегреческих полис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лософия натуралистической ори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Фалес, Анаксимандр, Анаксимен, Геракл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ифагорей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ифагор, Архит Тарент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лей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Ксенофан, Парменид, Зенон, Мелис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том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евкипп, Демокр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ые философы (Эмпедокл, .Анаксаго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лософия гуманистической ори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тагор, Горгий, Продик, Гиппий, Антифонт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сты совершили революцию, сместив философскую рефлексию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тики природы и космоса на проблему человека и его жизн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члена общества. Софисты - это феномен столь же необходимы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Сократ и Платон; последние без первых немысли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7DE8-9D7F-42E3-9665-2EDA52AAD2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туралистической ориентации присуш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смоцентр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иск первоначал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дившее вс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е. Представители различных 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алистических школ обнаруживают субстанциональные основы вещ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.е. то, из чего возникают все вещи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первоначало все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го 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Фалес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основа всего е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Анаксимен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исла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ифагор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х быт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арменид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ещи состоят из атомов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Левкипп, Демокрит);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всего сущего есть вечное изменение, превращение мир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ераклит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кларативно-догматический метод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илозоиз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душевление нежив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уманистической ориентации присущ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минантные темы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, политика, риторика, искусство, язы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игия, воспитание, т.е. все то, чт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не зовется культурой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мещение оси философского поискас космоса н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2FE7-D965-474C-A5FC-A32E701DD2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илет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а на рубеж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. до н.э. в Милете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ем греческом торгово-ремесленном полисе в Малой А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уралистический подход в понимании Природы и Косм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первоначала — субстанции, из которой возник окружающий мир. Первовещество понималось не как мертвая и косная материя, а как вещество живое и в частях, наделенное душой и движением (панте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философских и естественно-научных вопросов увязывалось с прак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ческой деятельностью. Знания были не только основой для практическ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я, но прежде всего элементами цельного мировоззрения. Мировоз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рение это в своей сущности натуралистичес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астрономических, математических, физических и биологи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; конструирование первых научных приборов (солнечные часы, модел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есной сферы и т.п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D825-6B66-4DD8-AC67-D4B1F12F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64FE-C461-4FAC-B78F-9D8F556D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C875-CEB7-4BB3-B5E2-07696ACD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D29-A488-4E65-917C-6C7810BA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DB69-E12F-4FAB-8FA4-722FBF2B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FA07-93FB-4689-B0D9-87B9B87C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DFFC-1C3E-4E72-A24E-84B4EE5F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13DE-9B06-468F-B8E3-62BD19E3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683A-45E5-4C49-B6A3-105BB501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2090-41A3-4174-8A7D-9B21431C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329E-7724-45F4-828F-6602C5E7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2BB2-DFA4-4167-8122-1E1640C9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D4F9-ABB0-4362-8808-E297E38F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27DF-754C-48F9-A8DB-853916DA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48D3-9D95-435C-A5AA-22E9BB9C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E369-D6BA-4CD4-8A64-DDE749F0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7436-6C89-49C2-960C-91F82121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F07CD-45D0-4D83-B8F7-B627DBC9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D91D0-F624-4D86-9D3C-1D478D41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61F9D-0EE9-4E37-8C47-5AEE73F2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A5468-EC2B-4B53-9893-6231CF38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9D76D-6E11-4F0E-A7AC-1FF94049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CDD-1B68-49B3-A9AF-87DC0078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C0750-EC85-4221-B100-7CA52C03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0434E-0E88-49DA-866B-D956D1D5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2B05A-77C4-4451-963C-9BEA320A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EDBA2-623B-4A25-AA66-98C4689B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3A653-9833-4E92-9D42-BC1EDE42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533EE-B63D-4A32-8A08-4D7560AA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BFFB0-6ED3-4C44-A6F9-6899042C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A21A7-7635-4813-A536-2DDA3C4B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13668-87C7-4639-A484-92B9F1A8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3913F-6DB6-4B5C-8BDE-E8FBB9C0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95BA-06B9-4DFE-98C5-C187E920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3CC90-DA13-4A8A-B9C6-FB4C1164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E1E28-C091-496B-A259-0D02171F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59491-9112-4753-9340-AECA9729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4B346-41AD-4692-BEAA-C255D8AD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82288-6373-4BFB-849E-74CDD81B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833DE-D201-4A7D-AE49-21C7ACB3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85726-21B9-48CF-A035-F7DD5C9C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387E2-44DF-4046-9D15-696C6A98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56A93-6E41-4DA7-9DC1-9E05358A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5F1A4-8F36-4967-87F0-90DCEC5D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873-D422-4101-9FF5-664C4676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0955D-EE40-40E3-97B3-858FFD65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71219-780D-4174-970B-F9C2354E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427CE-023E-479D-BFE8-4632B1A5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97827-98D7-489D-9DBD-6C3BEC58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E3C9D-A058-4EDE-AD09-71272FF9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511C6-DAB9-4AC9-8E01-42A46DE3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93B4C-9AF9-4D20-A7BA-F16FBA1B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E50D4-B3EB-4351-AA05-E63B6C02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58EF2-B70A-4A1E-AD38-603C81EF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86801-AF3B-4BC7-A3CE-8C862016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A2FC-3B34-4B8D-9491-ACFDF1E2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1BCF5-F90A-4FF3-9511-1BD9F89B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ED2-B6CC-4FBE-BF68-BE302345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1CF-34F1-4B27-80FD-40529FA4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E7C3-90C3-4390-8FA4-F840BC88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6CFF-1B94-47B8-9502-2A711B6780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48CF-7147-42AF-9A9D-FCD95739A653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1457-AA62-4383-BC3B-D88DA76818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27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7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282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28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287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288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291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294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300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03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306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309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312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315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318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321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324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327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330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333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33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339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342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34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348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0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2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353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356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59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362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365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368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371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374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377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380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8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5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386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387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9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3470-05BD-43E7-B62D-73E5B9E5F958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0403-6AA2-4AD8-B175-61C16DC1AEB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8.xml"/><Relationship Id="rId5" Type="http://schemas.openxmlformats.org/officeDocument/2006/relationships/slide" Target="slide30.xml"/><Relationship Id="rId6" Type="http://schemas.openxmlformats.org/officeDocument/2006/relationships/slide" Target="slide32.xml"/><Relationship Id="rId7" Type="http://schemas.openxmlformats.org/officeDocument/2006/relationships/slide" Target="slide33.xml"/><Relationship Id="rId8" Type="http://schemas.openxmlformats.org/officeDocument/2006/relationships/slide" Target="slide35.xml"/><Relationship Id="rId9" Type="http://schemas.openxmlformats.org/officeDocument/2006/relationships/slide" Target="slide36.xml"/><Relationship Id="rId10" Type="http://schemas.openxmlformats.org/officeDocument/2006/relationships/slide" Target="slide37.xml"/><Relationship Id="rId11" Type="http://schemas.openxmlformats.org/officeDocument/2006/relationships/slide" Target="slide38.xml"/><Relationship Id="rId12" Type="http://schemas.openxmlformats.org/officeDocument/2006/relationships/slide" Target="slide39.xml"/><Relationship Id="rId13" Type="http://schemas.openxmlformats.org/officeDocument/2006/relationships/slide" Target="slide41.xml"/><Relationship Id="rId14" Type="http://schemas.openxmlformats.org/officeDocument/2006/relationships/slide" Target="slide43.xml"/><Relationship Id="rId15" Type="http://schemas.openxmlformats.org/officeDocument/2006/relationships/slide" Target="slide44.xml"/><Relationship Id="rId16" Type="http://schemas.openxmlformats.org/officeDocument/2006/relationships/slide" Target="slide45.xml"/><Relationship Id="rId17" Type="http://schemas.openxmlformats.org/officeDocument/2006/relationships/slide" Target="slide46.xml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4724280"/>
            <a:ext cx="575784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АНТИЧНАЯ  ФИЛОСОФ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WordArt 0"/>
          <p:cNvSpPr txBox="1"/>
          <p:nvPr/>
        </p:nvSpPr>
        <p:spPr>
          <a:xfrm>
            <a:off x="2195640" y="404640"/>
            <a:ext cx="54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ставител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2" name="WordArt 1"/>
          <p:cNvSpPr txBox="1"/>
          <p:nvPr/>
        </p:nvSpPr>
        <p:spPr>
          <a:xfrm>
            <a:off x="826920" y="2492280"/>
            <a:ext cx="756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летской школ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3" name="Picture 2" descr="Анаксимандр"/>
          <p:cNvPicPr/>
          <p:nvPr/>
        </p:nvPicPr>
        <p:blipFill>
          <a:blip r:embed="rId1"/>
          <a:stretch/>
        </p:blipFill>
        <p:spPr>
          <a:xfrm>
            <a:off x="900000" y="4292640"/>
            <a:ext cx="1602000" cy="2158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4" name="Picture 3" descr="f1_f0"/>
          <p:cNvPicPr/>
          <p:nvPr/>
        </p:nvPicPr>
        <p:blipFill>
          <a:blip r:embed="rId2"/>
          <a:stretch/>
        </p:blipFill>
        <p:spPr>
          <a:xfrm>
            <a:off x="3708360" y="4221000"/>
            <a:ext cx="1820880" cy="223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5" name="Picture 4" descr="Image Preview"/>
          <p:cNvPicPr/>
          <p:nvPr/>
        </p:nvPicPr>
        <p:blipFill>
          <a:blip r:embed="rId3"/>
          <a:stretch/>
        </p:blipFill>
        <p:spPr>
          <a:xfrm>
            <a:off x="6716880" y="4221000"/>
            <a:ext cx="1777680" cy="2230560"/>
          </a:xfrm>
          <a:prstGeom prst="rect">
            <a:avLst/>
          </a:prstGeom>
          <a:ln w="0">
            <a:noFill/>
          </a:ln>
        </p:spPr>
      </p:pic>
      <p:sp>
        <p:nvSpPr>
          <p:cNvPr id="5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5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5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ксиманд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610-547 до н.э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48320" y="1600200"/>
            <a:ext cx="4038840" cy="39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оначало всего суще­го — «апейрон» — вечная, бесконечная субстанция, из которой вс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никло, все состоит и в которую все преврати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г — первопричина, а Боги становятся мирами, универсумами, коих множе­ство, и они-т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клически возникают и гибн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р состоит из серий противоположностей, опре­деляющих генезис Косм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 Вселенной — Зем­ля, представляющая собой срез цилиндра, который па­рит в воздух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7" descr="Анаксимандр"/>
          <p:cNvPicPr/>
          <p:nvPr/>
        </p:nvPicPr>
        <p:blipFill>
          <a:blip r:embed="rId1"/>
          <a:stretch/>
        </p:blipFill>
        <p:spPr>
          <a:xfrm>
            <a:off x="819000" y="1628640"/>
            <a:ext cx="3313440" cy="44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але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625-547 до н.э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648320" y="1600200"/>
            <a:ext cx="4038840" cy="397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взгляд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о всего сущего — вода — «фазис», жидки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учий, а то, что мы пьем, — лишь одно из его состояний. Вода соотноси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божественным нач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ивая природа, все вещи имеют душу (гилозоиз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 Вселенной — Земля, представляющая собой плоский диск, покоящийся на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ленная полна б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8" descr="f1_f0"/>
          <p:cNvPicPr/>
          <p:nvPr/>
        </p:nvPicPr>
        <p:blipFill>
          <a:blip r:embed="rId1"/>
          <a:stretch/>
        </p:blipFill>
        <p:spPr>
          <a:xfrm>
            <a:off x="654120" y="1628640"/>
            <a:ext cx="3641760" cy="4464360"/>
          </a:xfrm>
          <a:prstGeom prst="rect">
            <a:avLst/>
          </a:prstGeom>
          <a:ln w="0">
            <a:noFill/>
          </a:ln>
        </p:spPr>
      </p:pic>
      <p:sp>
        <p:nvSpPr>
          <p:cNvPr id="5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ксиме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585-525 до н.э.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067280" y="1600200"/>
            <a:ext cx="4619880" cy="39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о всего сущего — воздух, ко­торый проходит в сво­ем изменении ряд эта­пов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онь — воздух — ветры-облака — земля — камни. Воздух, входя­щий в вышеуказанный ряд, н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ждественен с первонач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— источник жизни и психических яв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ля — плоский диск, парящий в воз­дух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и отождествля­ются с Прир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8" descr="Image Preview"/>
          <p:cNvPicPr/>
          <p:nvPr/>
        </p:nvPicPr>
        <p:blipFill>
          <a:blip r:embed="rId1"/>
          <a:stretch/>
        </p:blipFill>
        <p:spPr>
          <a:xfrm>
            <a:off x="693720" y="1628640"/>
            <a:ext cx="3218040" cy="4032360"/>
          </a:xfrm>
          <a:prstGeom prst="rect">
            <a:avLst/>
          </a:prstGeom>
          <a:ln w="0">
            <a:noFill/>
          </a:ln>
        </p:spPr>
      </p:pic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WordArt 6"/>
          <p:cNvSpPr txBox="1"/>
          <p:nvPr/>
        </p:nvSpPr>
        <p:spPr>
          <a:xfrm>
            <a:off x="971640" y="765000"/>
            <a:ext cx="734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лософия Гераклита Эфесск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ым после Милета очагом древнегреческой философии в Малой Азии был город Эфес, родина философ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ераклит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. 530—470 до н.э.). Гераклит — один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основоположников диалектики, учение которого является наиболе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м выражением стихийной диалектичности древнегрече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7" descr="biograf78"/>
          <p:cNvPicPr/>
          <p:nvPr/>
        </p:nvPicPr>
        <p:blipFill>
          <a:blip r:embed="rId1"/>
          <a:stretch/>
        </p:blipFill>
        <p:spPr>
          <a:xfrm>
            <a:off x="1038240" y="1844640"/>
            <a:ext cx="3052800" cy="381636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учения Геракли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47160" cy="547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снове всего существующего лежи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гонь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первоначало, находящеес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вечном движении и изменении. Переходящее из одного состояния в другое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одаря борьбе образующих его противоположностей, служит основой всего развития м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а находится в процессе непрерывного изменения, а из всех природных веществ наиболее способен к изменению огонь. Поэтому «этот космос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 тот же для всего существующего, не создал никакой Бог и никако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, но всегда он был, есть и будет вечно живым огнем, мерами загорающимся и мерами потухающим» (фрагмент Гераклит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орым определяющим элементом мировоззрения Гераклита является утверждение 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сеобщей текучести вещей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меняемости. «Нельзя войти в одн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у же реку дважды». «Мы входим и не входим в одну и ту же реку, мы т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 самые и не те же самые» (фрагмент Гераклит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происходит по необходимости и из «противоположного обмена»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обходимость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всеобщий закон «логос», созидающий сущее из «противоположного движения», т.е. здесь Гераклит говорит о внутренне противоречивом потоке, тем самым подходя к диалектическому пониманию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е о потоке тесно связано с учением о переходе одной противоположности в другую, т.е. Гераклит вплотную подходит к постановке проблем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динства противоположностей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мениваясь друг на друга, противоположности становятся друг другу тождественными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ивореч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борьба) является движущей силой всякого изменения и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познания основывается на понимании взаимосвязи чувственного 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ционального познания, а задача познания — проникновение в сущност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ы в ее вечном изменении. Основа общности и истинности человеческого познания — «логос», т. е. единство, всеобщность и непреложность миро­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го поряд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WordArt 2"/>
          <p:cNvSpPr txBox="1"/>
          <p:nvPr/>
        </p:nvSpPr>
        <p:spPr>
          <a:xfrm>
            <a:off x="1763640" y="260280"/>
            <a:ext cx="574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лософия пифагорейце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7" name="AutoShape 3"/>
          <p:cNvSpPr/>
          <p:nvPr/>
        </p:nvSpPr>
        <p:spPr>
          <a:xfrm>
            <a:off x="1258920" y="1052640"/>
            <a:ext cx="6985080" cy="13683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ИФАГОРЕЙЦ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следователи Пифаг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2-я полов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начал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. до п.».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евнегреческого философа и математика, основавше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греческом городе Кротоне религиозный сою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0" descr="pythagoras"/>
          <p:cNvPicPr/>
          <p:nvPr/>
        </p:nvPicPr>
        <p:blipFill>
          <a:blip r:embed="rId3"/>
          <a:stretch/>
        </p:blipFill>
        <p:spPr>
          <a:xfrm>
            <a:off x="3059280" y="2565360"/>
            <a:ext cx="3041640" cy="3384720"/>
          </a:xfrm>
          <a:prstGeom prst="rect">
            <a:avLst/>
          </a:prstGeom>
          <a:ln w="0">
            <a:noFill/>
          </a:ln>
        </p:spPr>
      </p:pic>
      <p:sp>
        <p:nvSpPr>
          <p:cNvPr id="5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761760" y="316440"/>
            <a:ext cx="7620480" cy="105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арактерные черты пифагорейской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ла она как некое братство или религиозный орден, подчиненны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гим правилам общежития и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е воспринималось как тайна, знать которую позволялось лиш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ептам и разглашение которой строжайше запреща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фагорейский союз представлял собой реакционную партийную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ю аристокра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2"/>
          <p:cNvSpPr/>
          <p:nvPr/>
        </p:nvSpPr>
        <p:spPr>
          <a:xfrm>
            <a:off x="1403280" y="620640"/>
            <a:ext cx="6048360" cy="64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сновные положения философии пифагорей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79280" y="1341360"/>
            <a:ext cx="87854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инное мировоззрение, по Пифагору, покоится на трех основах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рали,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лигии и знани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аль Пифагора — это мораль аристократ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науки подчинены интересам рели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причина всего сущего — число. Все в природе измеряет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чиняется числу, в числе - сущность всех вещей; познать мир, е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ение, его закономерность — это значит познать управляющие им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сти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исе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т ядро пифагорейского идеал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 о противоположностях оформляется в систему метафизическ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ых противоположностей (предел и беспредельное, нечет и чет, един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ножество, правое и левое, мужское и женское, покоящееся и движущее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е и кривое, свет и тьма, хорошее и дурное, четырехугольное 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стороннее). Основное философское значение имеет противоположн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ельного и беспредельного, определяющая все другие противопо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ейцы в основном стояли на позиции метафизическо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понимания, что целиком связано с их пониманием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ейцы преуспели в изучении музыки, геометрии и небесной меха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3"/>
          <p:cNvSpPr/>
          <p:nvPr/>
        </p:nvSpPr>
        <p:spPr>
          <a:xfrm>
            <a:off x="179280" y="765000"/>
            <a:ext cx="878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250920" y="1854000"/>
            <a:ext cx="8316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АТЫ — представители Элейской философской школы, существовавшей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вв. до н.э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древнегреческом полисе Элея н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и современной Итали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и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WordArt 0"/>
          <p:cNvSpPr txBox="1"/>
          <p:nvPr/>
        </p:nvSpPr>
        <p:spPr>
          <a:xfrm>
            <a:off x="1547640" y="189000"/>
            <a:ext cx="66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лософия элеа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9" name="Picture 2" descr="homer2"/>
          <p:cNvPicPr/>
          <p:nvPr/>
        </p:nvPicPr>
        <p:blipFill>
          <a:blip r:embed="rId1"/>
          <a:stretch/>
        </p:blipFill>
        <p:spPr>
          <a:xfrm>
            <a:off x="546120" y="3357720"/>
            <a:ext cx="1655640" cy="234144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3"/>
          <p:cNvSpPr/>
          <p:nvPr/>
        </p:nvSpPr>
        <p:spPr>
          <a:xfrm>
            <a:off x="684360" y="5877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сеноф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4" descr="nb_pinacoteca_raphael_the_school_of_athens_detail_parmenides_enlarged"/>
          <p:cNvPicPr/>
          <p:nvPr/>
        </p:nvPicPr>
        <p:blipFill>
          <a:blip r:embed="rId2"/>
          <a:stretch/>
        </p:blipFill>
        <p:spPr>
          <a:xfrm>
            <a:off x="3203640" y="3357720"/>
            <a:ext cx="1388880" cy="244764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5"/>
          <p:cNvSpPr/>
          <p:nvPr/>
        </p:nvSpPr>
        <p:spPr>
          <a:xfrm>
            <a:off x="3205440" y="58770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мен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6" descr="zenon1"/>
          <p:cNvPicPr/>
          <p:nvPr/>
        </p:nvPicPr>
        <p:blipFill>
          <a:blip r:embed="rId3"/>
          <a:stretch/>
        </p:blipFill>
        <p:spPr>
          <a:xfrm>
            <a:off x="5219640" y="3357720"/>
            <a:ext cx="1782720" cy="244764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7"/>
          <p:cNvSpPr/>
          <p:nvPr/>
        </p:nvSpPr>
        <p:spPr>
          <a:xfrm>
            <a:off x="5726160" y="587700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е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7454880" y="58770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Мел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озникновение, эволюция и своеобразие античной философии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1 Общая характеристика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2 Отличительные особенности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3 Основные периоды развития античной философ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4 Краткая характеристика досократическ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5 Милетская шко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6 Философия Гераклита Эфесск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7" action="ppaction://hlinksldjump"/>
              </a:rPr>
              <a:t>7 Философия пифагорейце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8" action="ppaction://hlinksldjump"/>
              </a:rPr>
              <a:t>8 Философия элеа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9" action="ppaction://hlinksldjump"/>
              </a:rPr>
              <a:t>9 Атомистический материа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0" action="ppaction://hlinksldjump"/>
              </a:rPr>
              <a:t>10 Философия софис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1" action="ppaction://hlinksldjump"/>
              </a:rPr>
              <a:t>11 Краткая характеристика классической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2" action="ppaction://hlinksldjump"/>
              </a:rPr>
              <a:t>12 Философия Сокра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3" action="ppaction://hlinksldjump"/>
              </a:rPr>
              <a:t>13 Общая характеристика философии Плато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4" action="ppaction://hlinksldjump"/>
              </a:rPr>
              <a:t>14 Учение Платона о государст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5" action="ppaction://hlinksldjump"/>
              </a:rPr>
              <a:t>15 Научная деятельность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6" action="ppaction://hlinksldjump"/>
              </a:rPr>
              <a:t>16 Общая характеристика философии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7" action="ppaction://hlinksldjump"/>
              </a:rPr>
              <a:t>17 Проблемы материи, души, человека в философии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941800" y="630864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огл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философии эле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08720" cy="54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философские мировоззрения, с точки зрения Парменида, покоятся на одной из трех основных предпосылок: 1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олько бытие есть, небытия нет,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 только бытие, но и небытие существу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3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и небытие тождествен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и предпосылки являются основой трех философских школ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ая — исходный пункт Элейской школы, вторая лежит в основе учения пифагорейской школы, а в третьей заключается учение Гераклита Эфесск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аты первыми попытались понять мир, применяя к многообразию вещей философские понятия предельной общности (бытие, небытие, движени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иное бытие понимается элеатами как непрерывное, нераздельное, одинаково присутствующее в каждом мельчайшем элементе действительности, исключающее количественную множественност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й и их движение (апории Зенона о невозможности движения). Множественность и движение не могут быть мыслимы без противоречия, и поэтому они не суть быт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знании элеаты разграничивают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стину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ную на рациональ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нании, 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нени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ное на чувственных восприятиях. Послед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омят нас лишь с видимостью вещей, но не дают знания их истинн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щности. Только разум может постичь истину о мире, исходя из тождест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шления и 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нятии бытия, как его осмыслили элеаты, содержится три момента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есть, а небытия нет; 2) бытие одно, неделимо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познаваемо, а небыт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идимость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познаваемо: его нет для разума, а значит, оно не существу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ужающий мир элеаты рассматривали как нечт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изменчивое и подвижно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тавляя его в рамках чувственного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WordArt 2"/>
          <p:cNvSpPr txBox="1"/>
          <p:nvPr/>
        </p:nvSpPr>
        <p:spPr>
          <a:xfrm>
            <a:off x="1476360" y="115920"/>
            <a:ext cx="6200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томстический материализ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845240" y="1797120"/>
            <a:ext cx="3644640" cy="4132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телем атомисти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вкип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к. 500—440 до н.э.), учение которого продолжи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ый-энциклопедист и философ-материалис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мокри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60—370 до н.э.). Демокрит считался основоположником материалистического направл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илософии («линия Демокрита» 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полож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инии Платона» — идеалистического направл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028" descr="demokrit"/>
          <p:cNvPicPr/>
          <p:nvPr/>
        </p:nvPicPr>
        <p:blipFill>
          <a:blip r:embed="rId1"/>
          <a:stretch/>
        </p:blipFill>
        <p:spPr>
          <a:xfrm>
            <a:off x="874800" y="1557360"/>
            <a:ext cx="3151080" cy="4535640"/>
          </a:xfrm>
          <a:prstGeom prst="rect">
            <a:avLst/>
          </a:prstGeom>
          <a:ln w="0">
            <a:noFill/>
          </a:ln>
        </p:spPr>
      </p:pic>
      <p:sp>
        <p:nvSpPr>
          <p:cNvPr id="6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философии атомис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 состоит из пространства и наполняющей его материи, или из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том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уст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ы не возникают и не уничтожаются. Они вечны и неделимы, просты и качественно неизменн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 ними существуют первоначальные отличия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орма, порядок и положени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того, он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личаются по величи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яже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вижен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и составляет основу всей атомистической системы. Атомы находятся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вечном движении, атом — движущаяся матер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ленная бесконечна, бесконечно и число миров в ней. Земля — плоск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знание всеобщей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чинной необходимост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вляется одним из основных принципов все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ы атомистов. Отсюда атомисты одновременно и отрицают случайность, и признают ее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ицают в смысле беспричинности — никакое событие не может возникнуть без причины; признаю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мысле противоположности целесообразности - никакое событие в природе не возникает и 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сходит ради осуществления какой-либо цели. В этом смыс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якое событие случай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ходным началом и основанием в познании являю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щущения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сем, что дает для познания у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конечном счете обязан чувств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ь и смерть организмов — это соединение и размножение атомов. Тот же принцип положен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у психологии: душа состоит из огненных атомов и есть временное соединение. Бессмерт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и отверг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исты, в частности Демокрит, проявляют большой интерес к вопросам политики, государственно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стройства, вопросам и проблемам физики, математики, техники, эстетики, филологии, музы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2195640" y="189000"/>
            <a:ext cx="4695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лософия софисто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179280" y="765000"/>
            <a:ext cx="8785440" cy="1295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ервая полови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) не представляла собой единого круга мыслител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офисты» не есть название определенного философского направления или особой философск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ы. Слово «софист», первоначально означавшее мудрец, искусник, изобретатель, со втор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в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означает особый тип философа-профессионала, учителя философии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ршие софисты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)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агор, Горгий, Гиппий, Продик, Антифонт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ритий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ладшие софисты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икофрон, Алкидамант, Трассимах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179280" y="2924280"/>
            <a:ext cx="8785440" cy="37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зн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основная проблема софистики. Софисты произвели смещение ос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ого исследования с природы на человека: именно в этом их историческое значение.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е внимания оказались человек и его психология: искусство убеждать требовало зна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их форм с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ю правоту софисты доказывали с помощью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физмов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их приемов, уловок, благодар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ым умозаключение, на первый взгляд правильное, оказывалось в итоге ложным, и собеседни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утывался в собственных мысл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ходный принцип софистов: «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есть мера всех вещей в том, что они существуют, и в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ом,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то они не существуют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отагор). Отсюда субъективизм в оценках и суждениях, отрицан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ктивного бытия и попытки доказать то, что действительность существует только в мысля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познания софистов ориентирована на отдельного индивида — субъек­та познания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убъективный идеализм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ктивное, истинное познание не­достижим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{скептицизм)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сяк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ние относительн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елятивиз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ятивизм в теории познания служит обоснованием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равственного релятивизм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фисты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ывали условность правовых норм, государственных законов и моральных оцен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755640" y="2349360"/>
            <a:ext cx="77058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фис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WordArt 2"/>
          <p:cNvSpPr txBox="1"/>
          <p:nvPr/>
        </p:nvSpPr>
        <p:spPr>
          <a:xfrm>
            <a:off x="179280" y="189000"/>
            <a:ext cx="8153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ткая характеристика классическ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тичной философ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4" name="Oval 3"/>
          <p:cNvSpPr/>
          <p:nvPr/>
        </p:nvSpPr>
        <p:spPr>
          <a:xfrm>
            <a:off x="468360" y="1268280"/>
            <a:ext cx="827892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кратический период (середин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— конец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V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4"/>
          <p:cNvSpPr/>
          <p:nvPr/>
        </p:nvSpPr>
        <p:spPr>
          <a:xfrm>
            <a:off x="250920" y="2276640"/>
            <a:ext cx="2808360" cy="288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илософские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79280" y="2565360"/>
            <a:ext cx="295272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Сокр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кратические школ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гар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Евклид из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гар, Евбулид, Стильпо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одор Кро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лидо-эритрей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Фе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н, Менедем, Асклепиа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иниче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нтисфе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оген Синопский, Крат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ирен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ристипп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одор, Гегезий, Анникери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Плат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Аристо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3203640" y="2565360"/>
            <a:ext cx="583236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 философии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блема челове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морального существ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блема, как следует жить 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крат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ая задача позна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амопознание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познай самого себя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юбое знание есть добро, а любое зло, порок соверша­ется о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знания - суть этического ра­ционализма Сокра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ом знания может быть только общее, постигаемо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редством понятий. Общее совпадает с едины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благ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ей природе неизменно. Абстрактное высшее благо — Бог, разу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енная энергия (мегарц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дрость - в познании блага посред­ством отрешения от всего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делает че­ловека зависимым, отсюда идея свободы в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ства и проповедь безусловной естественности, безусловн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чной сво­боды (кини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ом знания может быть прак­тически достижимое благ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ерием блага является наслаждение или страда­ние. Ц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и — в наслаждении насто­ящим. Средством к достиже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частья являе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вобод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киренаи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роение метафизических систем и синтез основ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их пробле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латон, Аристотел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7"/>
          <p:cNvSpPr/>
          <p:nvPr/>
        </p:nvSpPr>
        <p:spPr>
          <a:xfrm>
            <a:off x="4500720" y="2276640"/>
            <a:ext cx="3384360" cy="288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соб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8"/>
          <p:cNvSpPr/>
          <p:nvPr/>
        </p:nvSpPr>
        <p:spPr>
          <a:xfrm flipH="1">
            <a:off x="1834920" y="1773360"/>
            <a:ext cx="23050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4140360" y="1773360"/>
            <a:ext cx="23032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WordArt 2"/>
          <p:cNvSpPr txBox="1"/>
          <p:nvPr/>
        </p:nvSpPr>
        <p:spPr>
          <a:xfrm>
            <a:off x="2195640" y="189000"/>
            <a:ext cx="440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лософия Сокра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Т (469—399 до н.э.) — выдающийся афинский философ, учитель Платона. Сократ — представитель реалистического ре­лигиозно-нравственного мировоззрения. Впервые именно Со­крат сознательно поставил перед собой задачу обоснования идеализма и выступил против античного материалистического ми­ропонимания, естественно-научного знания и безбожия. Сократ исторически был зачинателем «тенденции Платона» в античной филосо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031" descr="sokrat"/>
          <p:cNvPicPr/>
          <p:nvPr/>
        </p:nvPicPr>
        <p:blipFill>
          <a:blip r:embed="rId1"/>
          <a:stretch/>
        </p:blipFill>
        <p:spPr>
          <a:xfrm>
            <a:off x="826920" y="1700280"/>
            <a:ext cx="3167280" cy="4392720"/>
          </a:xfrm>
          <a:prstGeom prst="rect">
            <a:avLst/>
          </a:prstGeom>
          <a:ln w="0">
            <a:noFill/>
          </a:ln>
        </p:spPr>
      </p:pic>
      <p:sp>
        <p:nvSpPr>
          <p:cNvPr id="6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1835280" y="476280"/>
            <a:ext cx="540072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к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179280" y="1341360"/>
            <a:ext cx="8785440" cy="53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альная проблема в философии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и человеческое сознани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а и сущнос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 — это его душа (разум). Душа - это «Я сознаю­щее», т.е. совесть и интеллектуальная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ная личность. Благодаря этому открытию создана моральная и интеллектуальная традиция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ая питает Европу до настоящего времен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ая задача познания — самопознание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познай самого себя»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нание самого себя ка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человека вообще», т.е. как моральную, общественно значи­мую личность. Познание — главная ц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пособность человека, ибо в про­цессе познания он приходит к общезначимым истинам, к позна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ра и красоты, блага и счастья. В этом и есть цель филосо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ика Сократа отождеств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обродетель со знанием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добродетель (мудрость, справедливость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оянство, умеренность) есть всегда знание, порок — это всегда невежество; 2) никто не греши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знательно, а кто совершает зло, делает это по незнанию. Этот этический рационализм Сократ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дит мораль­ное благо к факту с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лектика Сократа совпадает с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алог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диалогос), который состоит и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ух моментов: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опровержения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иронии»)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майевтики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ократовский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од — это метод последовательно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тически задаваемых вопросов, имеющих своей целью приведение собеседника 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иворечию с самим собой, к признанию собственного невежества. В этом суть «иронии», су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айевтики» — посредством наводящих вопросов и логических приемов под­вести собеседника к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стоятельному нахождению ист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а метода — найти «всеобщее» в нравственности посредство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индук­ции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отыскания обще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частном)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определения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установления родов и видов, их соотношений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составные части «сократического» метода: «ирония» и «майевтика» — по форме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индукция» и «определение» — по содержан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WordArt 2"/>
          <p:cNvSpPr txBox="1"/>
          <p:nvPr/>
        </p:nvSpPr>
        <p:spPr>
          <a:xfrm>
            <a:off x="1692360" y="189000"/>
            <a:ext cx="6164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 Л А Т О 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427—347 до н.э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пнейший философ Древней Греции, ученик Сократа, основатель собственной фило­софской школы — Академии, основоположник идеалисти­ческого направления в философии. Его настоящее имя - Аристокл, Платон - псевдо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31" descr="i?id=22718480&amp;tov=0"/>
          <p:cNvPicPr/>
          <p:nvPr/>
        </p:nvPicPr>
        <p:blipFill>
          <a:blip r:embed="rId1"/>
          <a:stretch/>
        </p:blipFill>
        <p:spPr>
          <a:xfrm>
            <a:off x="755640" y="1413000"/>
            <a:ext cx="3362400" cy="482436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animClr clrSpc="rgb">
                                      <p:cBhvr>
                                        <p:cTn id="2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1979640" y="404640"/>
            <a:ext cx="5040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Плат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179280" y="1197000"/>
            <a:ext cx="8785440" cy="554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ая система Платона — первая завершенна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интетическая кон­цепция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через призму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чения о идеях рассматривались все составляющ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и античной философии: онтологи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носеология, этика, эстетика, философия полит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ым в философии Платона был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ение об идеях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ть материальный мир, в котором живе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. Но есть и другой мир — несотворимый и неуничтожимый, т.е. вечный. Это мир причин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тых форм и сущностей вещей. Это мир, который обозначается понятием «бытие» есть «мир ид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дельная вещь является материальной копией первоначальной идеи (эйдоса). Материальны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щи изменчивы и со временем прекращают свое суще­ствование; идеи вечны и неизмен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и - причины вещей и причина мира в целом, но они не присутствую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мире. Они пребывают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е человека. Именно душа содержит знания о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ях, поскольку она до вселения в тело обитала 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е идей. Поэтому иде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наются не через чувства, а посредством «припоминания» разум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альный мир познается, мир идей — «припоминается». Этим и определяетс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оение души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ший уровень - разумный, с высоты которого челове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ерцает вечный мир идей и стремится 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у, и низший - чувственный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омощью которого он познает мир вещ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у идей присуща иерархия. Прежде всего, это идея «общего блага» или «высшего блага»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ее, это идеи: человеческих ценностей (мудрости, спра­ведливости, добра и зла), отношени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любви, ненависти, власти, государ­ственности и т.п.), свойств вещей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идей имеет практический аспект — обоснование общечеловечески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ов и нор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тия, ибо с позиции идеалов «мира идей» челове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ен оценивать окружающий его мир. Така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философии называется метафизической (не путать с метафизическим методом, возникшим в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WordArt 2"/>
          <p:cNvSpPr txBox="1"/>
          <p:nvPr/>
        </p:nvSpPr>
        <p:spPr>
          <a:xfrm>
            <a:off x="1116000" y="189000"/>
            <a:ext cx="6629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ение Платона о государств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468360" y="981000"/>
            <a:ext cx="8136000" cy="107964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политическое учение Платона в разных вариантах излагается им в тре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иалогах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Государство», «Политик», «Законы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целиком направлено против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ичной демократ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4"/>
          <p:cNvSpPr/>
          <p:nvPr/>
        </p:nvSpPr>
        <p:spPr>
          <a:xfrm>
            <a:off x="2627280" y="836640"/>
            <a:ext cx="3745080" cy="360360"/>
          </a:xfrm>
          <a:prstGeom prst="ellipse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 о государст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5"/>
          <p:cNvSpPr/>
          <p:nvPr/>
        </p:nvSpPr>
        <p:spPr>
          <a:xfrm>
            <a:off x="250920" y="2565360"/>
            <a:ext cx="3025800" cy="410364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Идеальное государство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ли при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ающееся к идеал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мен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ческая республ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ческая монарх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исходящая иерархия государствен­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ых ф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имократ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большинства, власть военных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ждей, ар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лигарх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не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мократия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иран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179280" y="2276640"/>
            <a:ext cx="3168720" cy="431640"/>
          </a:xfrm>
          <a:prstGeom prst="rect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ассификация государственных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форм по Плато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3708360" y="2276640"/>
            <a:ext cx="4896000" cy="431640"/>
          </a:xfrm>
          <a:prstGeom prst="rect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 государственного устройства по Плато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8"/>
          <p:cNvSpPr/>
          <p:nvPr/>
        </p:nvSpPr>
        <p:spPr>
          <a:xfrm>
            <a:off x="3492360" y="2708280"/>
            <a:ext cx="5472360" cy="396072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альное государство есть со­обще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едельцев и ремесленников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ящих все необходимое дл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ания жизни гражда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инов, охраняющих безопас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ов-правителей, осуществляющих мудрое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аведлив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авление государст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е государства вмест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одят свободно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ститут брака упраздняетс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все жены и дети общи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кается и приветствуетс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д раб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кается небольшая частная собственность и личн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ущество для всех сослов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WordArt 1026"/>
          <p:cNvSpPr txBox="1"/>
          <p:nvPr/>
        </p:nvSpPr>
        <p:spPr>
          <a:xfrm>
            <a:off x="324000" y="189000"/>
            <a:ext cx="842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щая характеристика античной философ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5" name="Rectangle 1027"/>
          <p:cNvSpPr/>
          <p:nvPr/>
        </p:nvSpPr>
        <p:spPr>
          <a:xfrm>
            <a:off x="179280" y="692280"/>
            <a:ext cx="8785440" cy="16570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это философия древних греков и древних римлян, охватывающая период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Античная филосо­фия возникла в греческих полисах (торгово-ремесле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ах-государствах) Малой Азии, Средиземноморья, Причерноморья и Крым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ственно Греции — в Афинах, в эллинистичес­ких государствах Азии и Африк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Римской империи. Античная философия внесла исключительный вклад в развит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овой цивилизации. Именно здесь зародилась европейская культура и цивилизаци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десь истоки западной философии, почти всех ее последующих школ, идей и представ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28"/>
          <p:cNvSpPr/>
          <p:nvPr/>
        </p:nvSpPr>
        <p:spPr>
          <a:xfrm>
            <a:off x="2987640" y="2492280"/>
            <a:ext cx="2881440" cy="36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029"/>
          <p:cNvSpPr/>
          <p:nvPr/>
        </p:nvSpPr>
        <p:spPr>
          <a:xfrm>
            <a:off x="179280" y="3068640"/>
            <a:ext cx="8785440" cy="9367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зародилась не как область специальных философских исследований, а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разрывной связи с научными знаниями - математическими, естественно-научными, с зачаткам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ческих понятий, а также с мифологией и искусством. Духовное развитие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ло от мифологии и религии к науке и филосо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030"/>
          <p:cNvSpPr/>
          <p:nvPr/>
        </p:nvSpPr>
        <p:spPr>
          <a:xfrm>
            <a:off x="179280" y="4292640"/>
            <a:ext cx="8785440" cy="431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ают два основных типа философского мировоззре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атериализ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линия Демокрита»)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деализ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линия Платона»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31"/>
          <p:cNvSpPr/>
          <p:nvPr/>
        </p:nvSpPr>
        <p:spPr>
          <a:xfrm>
            <a:off x="179280" y="5013360"/>
            <a:ext cx="8785440" cy="4334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ают два противоположных основных метода мышле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алекти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тафизик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была первой исторически известной формой диалектической философ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032"/>
          <p:cNvSpPr/>
          <p:nvPr/>
        </p:nvSpPr>
        <p:spPr>
          <a:xfrm>
            <a:off x="179280" y="5661000"/>
            <a:ext cx="878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ироком смысле слова термин «античность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т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iquus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древний) означает «древность». В узком смысле с понятием «античность» связывают историю и культуру Древней Греции (Эллады) и Древнего Ри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033"/>
          <p:cNvSpPr/>
          <p:nvPr/>
        </p:nvSpPr>
        <p:spPr>
          <a:xfrm>
            <a:off x="4356000" y="285264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034"/>
          <p:cNvSpPr/>
          <p:nvPr/>
        </p:nvSpPr>
        <p:spPr>
          <a:xfrm>
            <a:off x="4356000" y="400536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035"/>
          <p:cNvSpPr/>
          <p:nvPr/>
        </p:nvSpPr>
        <p:spPr>
          <a:xfrm>
            <a:off x="4356000" y="4724280"/>
            <a:ext cx="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WordArt 2"/>
          <p:cNvSpPr txBox="1"/>
          <p:nvPr/>
        </p:nvSpPr>
        <p:spPr>
          <a:xfrm>
            <a:off x="900000" y="620640"/>
            <a:ext cx="7486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учная деятельность Аристоте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384-322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ченый-энциклопедист, философ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Платона, воспитательАлександра Македон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35 — 322 гг. до н.э. основал философскую школу 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ке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ерипатетическую школ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031" descr="image009"/>
          <p:cNvPicPr/>
          <p:nvPr/>
        </p:nvPicPr>
        <p:blipFill>
          <a:blip r:embed="rId1"/>
          <a:stretch/>
        </p:blipFill>
        <p:spPr>
          <a:xfrm>
            <a:off x="755640" y="1484280"/>
            <a:ext cx="3355920" cy="4537080"/>
          </a:xfrm>
          <a:prstGeom prst="rect">
            <a:avLst/>
          </a:prstGeom>
          <a:ln w="0">
            <a:noFill/>
          </a:ln>
        </p:spPr>
      </p:pic>
      <p:sp>
        <p:nvSpPr>
          <p:cNvPr id="6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ая характеристика научной деятельности Аристо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учная деятельность Аристотеля охватила все области античного знания. Произведения его носят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нциклопедический характер. Его сочинения относятся к различным областям знаний — философии, естествознанию, логике, истории, политике, этике, литерату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 науки делятся по следующей классифик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еорети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познание ведется только ради него самого. Они включают «первую философию» (метафизику), математику и физику. «Первичная философия» изучает проблемы бытия, происхождение всего сущего, причины различных явлений и т.п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акти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ые дают руководящие идеи для поведения человека, устройства государства и т.п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вор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познание совершается с целью достижения пользы или осуществления чего-либо прекрасн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этом делении Аристотель не упоминает особо логику, хотя он является создателем этой науки (как и эстетики, и теории государства). Аристотель рассматривает логику как оружие всякого научного знания, а не как особую область науки (философи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е правило научного исследования — на первом месте должна стоять объективная истина самих вещей, самой природы, и никакие субъективные цели не должны исказить этой «правды вещ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общая опыт предшествующего развития науки, Аристотель пытался по­строить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диную систему на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6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WordArt 2"/>
          <p:cNvSpPr txBox="1"/>
          <p:nvPr/>
        </p:nvSpPr>
        <p:spPr>
          <a:xfrm>
            <a:off x="2050920" y="189000"/>
            <a:ext cx="511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щая характерис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лософии Аристоте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547640" y="1197000"/>
            <a:ext cx="5977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Аристо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считал, что философия не есть продукт единоличного индивидуального творчества, а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тог работы целых поколений мыс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внес существенные коррективы в ряд положений философии Платона, критикуя учение об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эйдосах» («чистых идеях»). Ошибка Платона, по Аристотелю, в том, что он оторвал «мир идей» от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ьного мира, поскольку бытие не есть «чистые идеи» («эйдосы») и их материальное отражени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«вещи»). Аристотель дает сво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нимание бытия через десять категори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тие — эт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ущность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убстанция), обладающая свойствам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личе­ства, качества, отношения, места, времени,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ложения, состояния, действия,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ра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итика учения об идеях Платона приводит Аристотеля к принципиальным положениям, которы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гли в основу его миропоним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Мир один. Это духовно-материальный, реально существующий мир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Вещи, явления и процессы реального мира могут быть познаны из него</a:t>
            </a:r>
            <a:r>
              <a:rPr b="0" lang="en-US" sz="13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амого, т.е. изучать следует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аму действительность, а не мир ид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В центре познания должны быть не умозрительные схемы, а реальный</a:t>
            </a:r>
            <a:r>
              <a:rPr b="0" lang="en-US" sz="13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мир. Тогда наука получает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мысл как познание реального посредством понятийного мышления, которое изучается логикой.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Логика - орудие постижения сущности вещей, явлений и процессов мир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определил сущность материи и дал материалистическую трактовку происх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ра и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выделяет шесть типов государства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плохие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тирания, крайняя олигархия 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лократия — власть толпы, крайняя демократия) 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хо­рошие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монархия, аристократия и полития)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еал Аристотеля - политая, представляющая собой совокупность умеренной олигархи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меренной демократии, государство «среднего класс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Line 2"/>
          <p:cNvSpPr/>
          <p:nvPr/>
        </p:nvSpPr>
        <p:spPr>
          <a:xfrm>
            <a:off x="1692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3"/>
          <p:cNvSpPr/>
          <p:nvPr/>
        </p:nvSpPr>
        <p:spPr>
          <a:xfrm>
            <a:off x="4716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"/>
          <p:cNvSpPr/>
          <p:nvPr/>
        </p:nvSpPr>
        <p:spPr>
          <a:xfrm>
            <a:off x="7596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WordArt 5"/>
          <p:cNvSpPr txBox="1"/>
          <p:nvPr/>
        </p:nvSpPr>
        <p:spPr>
          <a:xfrm>
            <a:off x="1258920" y="189000"/>
            <a:ext cx="6797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 материи, души человека 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лософии Аристо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84" name="Rectangle 6"/>
          <p:cNvSpPr/>
          <p:nvPr/>
        </p:nvSpPr>
        <p:spPr>
          <a:xfrm>
            <a:off x="179280" y="907920"/>
            <a:ext cx="878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материи, души, человека в философии Аристо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108000" y="1916280"/>
            <a:ext cx="316872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— субстрат. Без материи н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но и сама материя не суще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вует самостоятельно. До при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ной формы материя находи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ся в состоянии небытия. Эта перв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лишена жизни, энергии, цел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ности, всяких свойств, всякой опре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енности. Материя еще не 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тельность, а только возм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ность. Действительностью она ста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тся лишь в связи с фор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— это потенция, ограничен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ой; потенция (субстрат) 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сивное начало, форма — актив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кая вещь есть единство «матер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«форм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— обнаружение актив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 момент ее соединения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ичин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тери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убстрат)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рм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зующая «сущность»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ь)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изводящ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скрывающ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дви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ей формой всего сущего являе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ог, имеющий бытие вне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8"/>
          <p:cNvSpPr/>
          <p:nvPr/>
        </p:nvSpPr>
        <p:spPr>
          <a:xfrm>
            <a:off x="3348000" y="1916280"/>
            <a:ext cx="273672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а - носитель сознания и одн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ведает функция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уровня душ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растительная душа»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функции питания и размн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чувственная (животная) душа»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за функции питания, 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жения, ощущения и жел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разумная душа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ватывает вс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перечисленные функции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ает еще функциями позн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ыш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а смерти. Одушевле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и (гилозоизм) — «нелеп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отивореч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9"/>
          <p:cNvSpPr/>
          <p:nvPr/>
        </p:nvSpPr>
        <p:spPr>
          <a:xfrm>
            <a:off x="6156360" y="1916280"/>
            <a:ext cx="280836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рождается политически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ом и стремится к «совм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ному сожительств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есть политическое жив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ое (выводя политичность челове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его природы, а не наоборот 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человека из его деяте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ти в обществе, — Аристо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ошибк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ение политической сущн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 человека есть образов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и,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0"/>
          <p:cNvSpPr/>
          <p:nvPr/>
        </p:nvSpPr>
        <p:spPr>
          <a:xfrm>
            <a:off x="179280" y="1484280"/>
            <a:ext cx="30974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ма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1"/>
          <p:cNvSpPr/>
          <p:nvPr/>
        </p:nvSpPr>
        <p:spPr>
          <a:xfrm>
            <a:off x="3348000" y="1484280"/>
            <a:ext cx="2736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душ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2"/>
          <p:cNvSpPr/>
          <p:nvPr/>
        </p:nvSpPr>
        <p:spPr>
          <a:xfrm>
            <a:off x="6156360" y="1484280"/>
            <a:ext cx="2808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3"/>
          <p:cNvSpPr/>
          <p:nvPr/>
        </p:nvSpPr>
        <p:spPr>
          <a:xfrm>
            <a:off x="6157800" y="630864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огл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WordArt 1026"/>
          <p:cNvSpPr txBox="1"/>
          <p:nvPr/>
        </p:nvSpPr>
        <p:spPr>
          <a:xfrm>
            <a:off x="1547640" y="189000"/>
            <a:ext cx="55915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личительные особенност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тичной философи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6" name="Rectangle 1027"/>
          <p:cNvSpPr/>
          <p:nvPr/>
        </p:nvSpPr>
        <p:spPr>
          <a:xfrm>
            <a:off x="1547640" y="1197000"/>
            <a:ext cx="604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 античной филосо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028"/>
          <p:cNvSpPr/>
          <p:nvPr/>
        </p:nvSpPr>
        <p:spPr>
          <a:xfrm>
            <a:off x="395280" y="1989000"/>
            <a:ext cx="8424720" cy="424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личительной особенностью античной философии является единство трех взаимосвяза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 собой моментов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ъекта исследования, метода и ц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й момент опреде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ой философии, которое конкретизируется в идея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моцентриз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ее, обращаясь ко второму моменту триединства — методу, следует отметить следующу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рактерную особенность античной философии: стремление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 рациональному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ясне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общего, бытия, реальности. Она не ограничивается конкретными фактами и опытным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ми. Для нее значим не отдельный факт или конкретный опыт, а разумный аргумент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ое доказательство, знание. Это не только определяет научный характер философии, н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границы между философией, религией, мифом и искусством. Последние также имеют дело с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ьностью как целым, но если мифология описывает ее исходя из фактических представлений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игия — посредством веры, искусство — через идею красоты, воплощенную в художестве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ах, то философское объяснение осуществляется на рациональном уров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диалектика мышле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в целом есть бескорыстна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юбовь к истин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а особенность определяе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ее третий момент — цель. Цель античной философии состоит в чистом созерцании истин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том желании достичь 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029"/>
          <p:cNvSpPr/>
          <p:nvPr/>
        </p:nvSpPr>
        <p:spPr>
          <a:xfrm>
            <a:off x="4643280" y="1628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WordArt 2"/>
          <p:cNvSpPr txBox="1"/>
          <p:nvPr/>
        </p:nvSpPr>
        <p:spPr>
          <a:xfrm>
            <a:off x="395280" y="0"/>
            <a:ext cx="837576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е периоды развития античной философ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250920" y="476280"/>
            <a:ext cx="864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и греко-римская философия имеют более чем тысячелетнюю историю, начиная 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и до 529 г.н.э., когда император Юстиниан закрыл фило­софские школы в Афинах. В этой истории различают ряд пери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1187280" y="1268280"/>
            <a:ext cx="684072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ериоды развития античной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1908000" y="1989000"/>
            <a:ext cx="532800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ериод ранне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468360" y="2276640"/>
            <a:ext cx="8280360" cy="86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туралистический период с его проблемами Фюзиса (Природы)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моса (межд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алес, Анаксимандр, Анаксимен, Парменид, Зенон, Ксенофан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ифагор, Демокри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1908000" y="3573360"/>
            <a:ext cx="532800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средне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468360" y="3860640"/>
            <a:ext cx="8280360" cy="649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манистический период с ег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лемой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кра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его школа; софисты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агор, Горгий, Продик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нтифонт, Антисфен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"/>
          <p:cNvSpPr/>
          <p:nvPr/>
        </p:nvSpPr>
        <p:spPr>
          <a:xfrm>
            <a:off x="1835280" y="5084640"/>
            <a:ext cx="540072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высоко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0"/>
          <p:cNvSpPr/>
          <p:nvPr/>
        </p:nvSpPr>
        <p:spPr>
          <a:xfrm>
            <a:off x="468360" y="5372280"/>
            <a:ext cx="8280360" cy="64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иод большого синтеза с его главной проблем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нтез философского 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латон, Аристотел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их школ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1692360" y="1413000"/>
            <a:ext cx="554508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линиз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611280" y="1700280"/>
            <a:ext cx="7848360" cy="129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иод эллинистических школ с его главными проблемами —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 и свобода человека, проблемы познания и т.п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пикур, Пиррон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ики раннего периода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анэций, Посидоний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дние римские стоики, или неостоицизм: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енека, Эпиктет, Марк Аврел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1765440" y="3500280"/>
            <a:ext cx="554508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лигиозный период античной мы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684360" y="3787920"/>
            <a:ext cx="7848360" cy="1150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проблемы — структуры Космоса, судьбы Космоса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, отношения Бога и человека и т.п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лотин, Порфирий, Прокл, Филон Александрийск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6372360" y="189000"/>
            <a:ext cx="24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долж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WordArt 1026"/>
          <p:cNvSpPr txBox="1"/>
          <p:nvPr/>
        </p:nvSpPr>
        <p:spPr>
          <a:xfrm>
            <a:off x="1476360" y="189000"/>
            <a:ext cx="6296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аткая характеристик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сократической философ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7" name="AutoShape 1027"/>
          <p:cNvSpPr/>
          <p:nvPr/>
        </p:nvSpPr>
        <p:spPr>
          <a:xfrm>
            <a:off x="539640" y="1268280"/>
            <a:ext cx="8136000" cy="72072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кратические философские школы Древней Грец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ли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. до н.э. в ранних древнегреческих поли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28"/>
          <p:cNvSpPr/>
          <p:nvPr/>
        </p:nvSpPr>
        <p:spPr>
          <a:xfrm>
            <a:off x="2268360" y="2205000"/>
            <a:ext cx="4751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ские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29"/>
          <p:cNvSpPr/>
          <p:nvPr/>
        </p:nvSpPr>
        <p:spPr>
          <a:xfrm>
            <a:off x="395280" y="2492280"/>
            <a:ext cx="8424720" cy="4103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ия натуралистической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алес, Анаксимандр, Анаксимен, Геракл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фагорей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ифагор, Архит Тарент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лей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сенофан, Парменид, Зенон, Мели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томи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евкипп, Демокр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ые философы (Эмпедокл, .Анаксаг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ия гуманистической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отагор, Горгий, Продик, Гиппий, Антифонт)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фисты совершили революцию, сместив философскую рефлексию с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тики природы и космоса на проблему человека и его жизн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члена общества. Софисты - это феномен столь же необходимы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Сократ и Платон; последние без первых немысл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026"/>
          <p:cNvSpPr/>
          <p:nvPr/>
        </p:nvSpPr>
        <p:spPr>
          <a:xfrm>
            <a:off x="1619280" y="836640"/>
            <a:ext cx="590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27"/>
          <p:cNvSpPr/>
          <p:nvPr/>
        </p:nvSpPr>
        <p:spPr>
          <a:xfrm>
            <a:off x="395280" y="1197000"/>
            <a:ext cx="8353440" cy="431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28"/>
          <p:cNvSpPr/>
          <p:nvPr/>
        </p:nvSpPr>
        <p:spPr>
          <a:xfrm>
            <a:off x="395280" y="1197000"/>
            <a:ext cx="83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туралистической ориентации присуш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см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иск первоначал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ившее в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е. Представители различных 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алистических школ обнаруживают субстанциональные основы вещ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.е. то, из чего возникают все вещи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первоначало все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го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Фалес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основа всего е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Анаксимен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исла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ифагор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х быти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арменид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вещи состоят из атомо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Левкипп, Демокрит)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 всего сущего есть вечное изменение, превращение мир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Гераклит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кларативно-догматический мето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ософ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илозоиз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душевление нежив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манистической ориентации присущ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минантные темы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ка, политика, риторика, искусство, язы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игия, воспитание, т.е. все то, ч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ыне зовется культуро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мещение оси философского поискас космоса на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WordArt 1026"/>
          <p:cNvSpPr txBox="1"/>
          <p:nvPr/>
        </p:nvSpPr>
        <p:spPr>
          <a:xfrm>
            <a:off x="1547640" y="189000"/>
            <a:ext cx="60487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летская шко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Rectangle 1027"/>
          <p:cNvSpPr/>
          <p:nvPr/>
        </p:nvSpPr>
        <p:spPr>
          <a:xfrm>
            <a:off x="179280" y="836640"/>
            <a:ext cx="8785440" cy="792000"/>
          </a:xfrm>
          <a:prstGeom prst="rect">
            <a:avLst/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ла на рубеж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. до н.э. в Милете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ем греческом торгово-ремесленном полисе в Малой А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028"/>
          <p:cNvSpPr/>
          <p:nvPr/>
        </p:nvSpPr>
        <p:spPr>
          <a:xfrm>
            <a:off x="1908000" y="1916280"/>
            <a:ext cx="5112000" cy="431640"/>
          </a:xfrm>
          <a:prstGeom prst="roundRect">
            <a:avLst>
              <a:gd name="adj" fmla="val 16667"/>
            </a:avLst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029"/>
          <p:cNvSpPr/>
          <p:nvPr/>
        </p:nvSpPr>
        <p:spPr>
          <a:xfrm>
            <a:off x="179280" y="2349360"/>
            <a:ext cx="8785440" cy="3961080"/>
          </a:xfrm>
          <a:prstGeom prst="rect">
            <a:avLst/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30"/>
          <p:cNvSpPr/>
          <p:nvPr/>
        </p:nvSpPr>
        <p:spPr>
          <a:xfrm>
            <a:off x="179280" y="270828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уралистический подход в понимании Природы и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первоначала — субстанции, из которой возник окружающий мир. Первовещество понималось не как мертвая и косная материя, а как вещество живое и в частях, наделенное душой и движением (пантеиз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философских и естественно-научных вопросов увязывалось с прак­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ческой деятельностью. Знания были не только основой для практическ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я, но прежде всего элементами цельного мировоззрения. Мировоз­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рение это в своей сущности натуралистическ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астрономических, математических, физических и биологически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й; конструирование первых научных приборов (солнечные часы, модел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есной сферы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6:31:39Z</dcterms:created>
  <dc:creator>Леди Аза</dc:creator>
  <dc:description/>
  <dc:language>en-US</dc:language>
  <cp:lastModifiedBy>LEGION</cp:lastModifiedBy>
  <dcterms:modified xsi:type="dcterms:W3CDTF">2014-11-11T08:58:02Z</dcterms:modified>
  <cp:revision>20</cp:revision>
  <dc:subject/>
  <dc:title>АНТИЧНАЯ  ФИЛОСОФИЯ</dc:title>
</cp:coreProperties>
</file>