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A456-B986-431C-ADDE-C2F07ED39F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E641-470E-4772-A7DC-CDCBA71355A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ьфит натрия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H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C49A-BF87-4EB1-8889-2848DA2EE3A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рамор – это соль кальция и кислотного ост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D9BA-42EE-4CB9-9A8C-BD3CF014BCD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кислороде как о простом веществе говор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веществ жив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атмосферы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молекул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оксида меди образованы атомами кислорода и м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7E3E-681A-45AA-9000-692795748C7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ростым веществам относится каждое вещество ря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азот, хл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юминий, водород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 цинка, хлор, 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, йод, сах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75E5-FC20-43F4-86F9-0D9BBB9A67F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зон и метан являются соответствен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м элементом и прост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веществом и смесью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и сложн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 веществом и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7D27-8A6E-4FEF-8293-9195ADCBB67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сложным веществам относится каждое из веществ, указанных в ря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Mg, H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A2B-6CE8-4C6F-85D4-B55F324E2A3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мфотерным оксидам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D270-4F59-4E23-BB48-3F76A2FE2A0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B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CF4B-ED62-40BC-8C31-DD5D72BCF1F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ксид фосфора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 относится к оксид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леобразующ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3FC8-4ABD-4E46-B5C3-63B4970F134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еречисленных веществ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Ag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a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sOH, Fe(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число оснований ра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B567-2E01-4A25-AF23-346A51C4C92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DDB-831D-4970-92F0-705340D5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CB9-015C-4D0A-9043-4A1D39A4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D4B-55B6-4B02-A4DB-D9ABE091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13B-CA7B-4B1E-9DFD-DD161DFF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B833-9BE6-43FE-A879-85BB0897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367E-36B7-435C-B040-4C99D9C5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A49E-A855-4343-9BE9-35159579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28A5-8436-48C7-80F6-271EBB77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55DA-8B2B-4F41-AD1F-126E12A4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6AFC-ECD7-4E80-A905-E4B45B21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326B-8278-4D44-91C4-4BA63E5A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9DA-DAC3-4570-819D-FEBDF690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FD9B-7D0B-483D-95A1-62BC349E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1035-F2E1-42B5-AE6B-4BD6DFC5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1F83-E206-4733-A0C4-67A489FA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4DE2-6001-4E90-A562-886E001F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9E12-6F7F-419E-9FCF-6FB50798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C6C-8851-4044-9B19-4A916C52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509-B189-499A-950E-FFC65B06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D3D-7B1B-41EF-B25F-C6EF9664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FE5-E219-4DF0-9374-6BB6625B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99C-6FB7-4BB0-B7FD-6BDA3B05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B0E-2675-4DEA-90D9-FDA6040A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C8A-9C6F-4314-A32E-8D26E4C7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CC2A-96F6-4B6A-8441-CA9FFF63F6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E866-61C4-4EED-8EFC-87F5573C42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ульфит натрия это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H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Мрамор – это соль кальция и кислотного остатк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 кислороде как о простом веществе говор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веществ живой клет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атмосферы Зем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молекул в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екулы оксида меди образованы атомами кислорода и мед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простым веществам относится каждое вещество ряда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да, азот, хло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юминий, водород, сер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ксид цинка, хлор, во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роводород, йод, саха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зон и метан являются соответствен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им элементом и прост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веществом и смесью вещест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и сложн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ным веществом и химическим элемент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ложным веществам относится каждое из веществ, указанных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Mg, H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, 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P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амфотерным оксидам относ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олям относится каждое из веществ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u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(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, Li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l(OH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a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ксид фосфора (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) относится к оксидам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слот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солеобразующи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мфотер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Среди перечисленных веществ   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, Ag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Ba(OH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sOH, Fe(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uOH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   число оснований рав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7:19:36Z</dcterms:created>
  <dc:creator>Лариса</dc:creator>
  <dc:description/>
  <dc:language>en-US</dc:language>
  <cp:lastModifiedBy>LEGION</cp:lastModifiedBy>
  <dcterms:modified xsi:type="dcterms:W3CDTF">2015-05-01T11:12:09Z</dcterms:modified>
  <cp:revision>5</cp:revision>
  <dc:subject/>
  <dc:title>Простые и сложные вещества. Основные классы неорганических веществ. Номенклатура соединений </dc:title>
</cp:coreProperties>
</file>