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8770-DEF3-4B67-8225-9488EF43FC4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ые и сложные вещества. Основные классы неорганических веществ. Номенклатура соединени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02ED-3063-4C37-946C-3187C6B2B4E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льфит натрия э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H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D9F3-CB93-4E60-A500-3FD7E2CCE90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рамор – это соль кальция и кислотного оста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7C9A-B4D9-4958-BC20-5940DCAAD45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кислороде как о простом веществе говори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род входит в состав веществ живой кле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род входит в состав атмосферы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род входит в состав молекул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екулы оксида меди образованы атомами кислорода и м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F663-B429-4C8B-887B-84F83E303BB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 простым веществам относится каждое вещество ряд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, азот, хл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юминий, водород, с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сид цинка, хлор, 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водород, йод, сах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692A-BA95-4EFC-9F6F-5D110CBA055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зон и метан являются соответственн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м элементом и простым ве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ым веществом и смесью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ым и сложным ве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ым веществом и химическим элеме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517A-B173-4E0D-BA9C-A0C82C8C10A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сложным веществам относится каждое из веществ, указанных в ря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O, Mg, H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M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, 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O, Fe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P,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BD10-990A-4B56-983C-622D19FA568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амфотерным оксидам от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2ECA-6A20-4EE4-97F8-BFD7D15FD38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u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B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5B1B-7242-433F-BF5D-21699CE7055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ксид фосфора 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) относится к оксида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леобразующ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фотер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986C-BCA1-47A0-9FA8-A86D9C5F3E7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перечисленных веществ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, Ag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Ba(OH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sOH, Fe(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u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число оснований рав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BA10-34B0-41E7-815A-50FF35211B7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2A0-604B-45ED-B9CD-A4631D7E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59FF-6340-4B09-B52A-EDA4F4CF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F115-3AAA-4385-B38D-0622EDB9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4C9B-5411-4F47-A317-0FC95DBA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B4CA-706A-4791-94B0-AEDFEF9F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0BE6-84C5-41EC-B1CE-EB5C359A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2E40-96C6-410F-8702-D2112AAC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26A0-9D2A-4FF9-8349-D7DD2259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5665-9BB0-4650-8CF3-F750AC5C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4DBC-DCBA-4D8B-BEF8-8D5D1614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8BE5-C954-42B9-927C-14D7F83F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0645-13CB-4A7C-A626-B5F4F605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5633-9FE4-4BD7-80D2-0643283A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8BA5-CB03-41EB-884E-7654E1A9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8EAE-0529-4002-94B5-540F437D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166C-345B-465A-B6DC-87CAC225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F438-F1B0-47AB-B34D-766BBEDC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F28E-F6FE-4DDD-ACC6-3E4B6D3C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8B9F-B31E-4191-8BB7-A1C77E1F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4F67-05AB-48B0-858F-3353C8C0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A371-FF5D-4147-9A4E-97F63854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65DB-505B-419A-8A0C-1C0FE343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BCE-3D7B-4930-BAB5-678E3DFF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40AE-C900-4EF3-9856-11C049B3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3100-7049-4467-AE0B-F2E33B0AD76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32EC-F034-4957-8089-9E53991882E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Простые и сложные вещества. Основные классы неорганических веществ. Номенклатура соединений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Сульфит натрия это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H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Мрамор – это соль кальция и кислотного остатка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О кислороде как о простом веществе говорится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ислород входит в состав веществ живой клетк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ислород входит в состав атмосферы Земл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ислород входит в состав молекул вод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лекулы оксида меди образованы атомами кислорода и мед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 простым веществам относится каждое вещество ряда: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да, азот, хло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юминий, водород, сер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ксид цинка, хлор, вод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роводород, йод, саха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Озон и метан являются соответственно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имическим элементом и простым вещество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стым веществом и смесью вещест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стым и сложным вещество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ложным веществом и химическим элементо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 сложным веществам относится каждое из веществ, указанных в ряду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O, Mg, H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M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, I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O, FeC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HF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P, 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 амфотерным оксидам относится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 солям относится каждое из веществ в ряду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CuC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HB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(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N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, Li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FeC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Al(OH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CaC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Оксид фосфора (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) относится к оксидам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слотны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солеобразующи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мфотерны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Среди перечисленных веществ   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H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S, AgNO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, H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PO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, Ba(OH)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, CsOH, Fe(NO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)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, CuOH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   число оснований равно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7:19:36Z</dcterms:created>
  <dc:creator>Лариса</dc:creator>
  <dc:description/>
  <dc:language>en-US</dc:language>
  <cp:lastModifiedBy>LEGION</cp:lastModifiedBy>
  <dcterms:modified xsi:type="dcterms:W3CDTF">2015-05-01T11:12:09Z</dcterms:modified>
  <cp:revision>5</cp:revision>
  <dc:subject/>
  <dc:title>Простые и сложные вещества. Основные классы неорганических веществ. Номенклатура соединений </dc:title>
</cp:coreProperties>
</file>