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2F006-D571-4D0A-BD0A-9770BB57BFA2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стые и сложные вещества. Основные классы неорганических веществ. Номенклатура соединений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8B61B-6111-4A04-8F73-9362709F854E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льфит натрия эт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HS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DFD56-09E8-48B2-9316-6D03F6BE9D9D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рамор – это соль кальция и кислотного остат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1200" spc="-1" strike="noStrike" baseline="30000">
                <a:solidFill>
                  <a:srgbClr val="000000"/>
                </a:solidFill>
                <a:latin typeface="Calibri"/>
              </a:rPr>
              <a:t>2-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1200" spc="-1" strike="noStrike" baseline="30000">
                <a:solidFill>
                  <a:srgbClr val="000000"/>
                </a:solidFill>
                <a:latin typeface="Calibri"/>
              </a:rPr>
              <a:t>2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1200" spc="-1" strike="noStrike" baseline="30000">
                <a:solidFill>
                  <a:srgbClr val="000000"/>
                </a:solidFill>
                <a:latin typeface="Calibri"/>
              </a:rPr>
              <a:t>3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1200" spc="-1" strike="noStrike" baseline="30000">
                <a:solidFill>
                  <a:srgbClr val="000000"/>
                </a:solidFill>
                <a:latin typeface="Calibri"/>
              </a:rPr>
              <a:t>2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E64A5-EE3B-44FC-9DE3-E626DCF7D088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 кислороде как о простом веществе говоритс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ислород входит в состав веществ живой клет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ислород входит в состав атмосферы Зем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ислород входит в состав молекул в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лекулы оксида меди образованы атомами кислорода и мед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2A41F-89B1-4A34-8B1A-2B95AB6BC7FE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К простым веществам относится каждое вещество ряда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да, азот, хло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люминий, водород, се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ксид цинка, хлор, в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роводород, йод, саха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98050-9CF2-4019-8150-8155BA14C94A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зон и метан являются соответственно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имическим элементом и простым веществ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стым веществом и смесью вещест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стым и сложным веществ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ожным веществом и химическим элемент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0DADA-89AC-4B3D-AB7B-A723545FA9D1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сложным веществам относится каждое из веществ, указанных в ряд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O, Mg, HN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Mn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 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, I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O, FeCl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 H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 P, 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9EBAC-B38D-4BB5-9ABA-7C4D23F191BC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амфотерным оксидам относит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n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0EAE4-836C-4702-808F-E884219D8503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 CuCl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 HB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141A7-1A46-4FBB-AEC2-52D1B287CE8E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ксид фосфора (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) относится к оксидам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ислотны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солеобразующи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мфотерны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CBFC1-ED14-4753-A76E-F44E6D54A11F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еди перечисленных веществ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, AgN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 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 Ba(OH)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 CsOH, Fe(N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 CuOH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число оснований равн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21E53-CF8D-4FD3-B312-D89422B1DC8D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A50AA-20EF-4914-AA80-3CB7D7142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C498A-36CE-476C-B804-C92DDFC8F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09B3A-4C92-496C-9835-FD10A0C11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8BEAE-63EC-4246-8552-5CF8CA191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A1992-E25D-449A-93EE-050800333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BB2F0-E0EC-4646-AA44-65ADCF229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CCA3D-269B-4FC4-8CBE-26BAA9BD8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2EC11-E24B-4CDB-9D93-95EC83E3F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54679-A93A-40E5-92B5-EF8190DD7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ED32D-8F6B-459D-81F3-07C389346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BB788-7274-4FC8-A3F7-8A1E4F1A9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A2049-A2C5-4ACA-9A73-A3B6AE767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A7DEC-E102-475A-A4F4-E23190BF0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16177-A501-4E24-B548-C219F70B1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21787-C4AC-4808-A35F-99EDC085A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3ABF6-2A0B-41C4-887D-086DE8717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CAC06-B268-4D76-9D19-7AEABFFBF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13311-236A-4988-8F3B-5EDFB25EF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322B9-E054-42C5-90F6-59FF47AD7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5DD49-008D-4F63-889B-F22357DC2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C81FE-5BD3-405E-B4C6-770A531CF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8D3F3-87C3-46C3-B2E0-A967750B6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7B73C-8160-41B2-A7BC-A6768FDD4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16ED2-99F9-4875-B9EC-8BDC8C27D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51F51-D1E4-4FC0-AD66-534768FDFFD0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1A160-BF26-4CCB-BAB9-513EB17F6EFC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bcbcb"/>
                </a:solidFill>
                <a:latin typeface="Times New Roman"/>
              </a:rPr>
              <a:t>Простые и сложные вещества. Основные классы неорганических веществ. Номенклатура соединений</a:t>
            </a:r>
            <a:br>
              <a:rPr sz="4000"/>
            </a:b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bcbcb"/>
                </a:solidFill>
                <a:latin typeface="Times New Roman"/>
              </a:rPr>
              <a:t>Сульфит натрия это 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ff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ff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O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ff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HSO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ff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O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Місце для нижнього колонтитула 1"/>
          <p:cNvSpPr/>
          <p:nvPr/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bcbcb"/>
                </a:solidFill>
                <a:latin typeface="Times New Roman"/>
              </a:rPr>
              <a:t>Мрамор – это соль кальция и кислотного остатка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ff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O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1" lang="en-US" sz="3200" spc="-1" strike="noStrike" baseline="30000">
                <a:solidFill>
                  <a:srgbClr val="ffffff"/>
                </a:solidFill>
                <a:latin typeface="Arial"/>
              </a:rPr>
              <a:t>2-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,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ff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O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3200" spc="-1" strike="noStrike" baseline="30000">
                <a:solidFill>
                  <a:srgbClr val="ffffff"/>
                </a:solidFill>
                <a:latin typeface="Arial"/>
              </a:rPr>
              <a:t>2-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ff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1" lang="en-US" sz="3200" spc="-1" strike="noStrike" baseline="30000">
                <a:solidFill>
                  <a:srgbClr val="ffffff"/>
                </a:solidFill>
                <a:latin typeface="Arial"/>
              </a:rPr>
              <a:t>3-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ff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3200" spc="-1" strike="noStrike" baseline="30000">
                <a:solidFill>
                  <a:srgbClr val="ffffff"/>
                </a:solidFill>
                <a:latin typeface="Arial"/>
              </a:rPr>
              <a:t>2-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Місце для нижнього колонтитула 1"/>
          <p:cNvSpPr/>
          <p:nvPr/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bcbcb"/>
                </a:solidFill>
                <a:latin typeface="Times New Roman"/>
              </a:rPr>
              <a:t>О кислороде как о простом веществе говорится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ff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ислород входит в состав веществ живой клетки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ff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ислород входит в состав атмосферы Земли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ff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ислород входит в состав молекул воды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ff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олекулы оксида меди образованы атомами кислорода и меди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bcbcb"/>
                </a:solidFill>
                <a:latin typeface="Times New Roman"/>
              </a:rPr>
              <a:t>К простым веществам относится каждое вещество ряда: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ff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ода, азот, хлор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ff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люминий, водород, сера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ff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ксид цинка, хлор, вода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ff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ероводород, йод, сахар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bcbcb"/>
                </a:solidFill>
                <a:latin typeface="Times New Roman"/>
              </a:rPr>
              <a:t>Озон и метан являются соответственно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ff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Химическим элементом и простым веществом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ff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ростым веществом и смесью веществ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ff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ростым и сложным веществом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ff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ложным веществом и химическим элементом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bcbcb"/>
                </a:solidFill>
                <a:latin typeface="Times New Roman"/>
              </a:rPr>
              <a:t>К сложным веществам относится каждое из веществ, указанных в ряду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ff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O, Mg, HNO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ff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KMnO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, H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, I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ff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O, FeCl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, HF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ff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, P, O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bcbcb"/>
                </a:solidFill>
                <a:latin typeface="Times New Roman"/>
              </a:rPr>
              <a:t>К амфотерным оксидам относится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ff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rO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ff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O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ff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ff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Zn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bcbcb"/>
                </a:solidFill>
                <a:latin typeface="Times New Roman"/>
              </a:rPr>
              <a:t>К солям относится каждое из веществ в ряду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ff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, CuCl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, HBO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ff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e(NO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, NH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, LiO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ff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SO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, FeCl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, Al(OH)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ff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H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, CaCl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, Na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O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bcbcb"/>
                </a:solidFill>
                <a:latin typeface="Times New Roman"/>
              </a:rPr>
              <a:t>Оксид фосфора (</a:t>
            </a:r>
            <a:r>
              <a:rPr b="0" lang="en-US" sz="4000" spc="-1" strike="noStrike">
                <a:solidFill>
                  <a:srgbClr val="cbcbcb"/>
                </a:solidFill>
                <a:latin typeface="Times New Roman"/>
              </a:rPr>
              <a:t>V</a:t>
            </a:r>
            <a:r>
              <a:rPr b="0" lang="ru-RU" sz="4000" spc="-1" strike="noStrike">
                <a:solidFill>
                  <a:srgbClr val="cbcbcb"/>
                </a:solidFill>
                <a:latin typeface="Times New Roman"/>
              </a:rPr>
              <a:t>) относится к оксидам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ff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сновным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ff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ислотным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ff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есолеобразующим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ff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мфотерным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Місце для нижнього колонтитула 1"/>
          <p:cNvSpPr/>
          <p:nvPr/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bcbcb"/>
                </a:solidFill>
                <a:latin typeface="Times New Roman"/>
              </a:rPr>
              <a:t>Среди перечисленных веществ    </a:t>
            </a:r>
            <a:r>
              <a:rPr b="0" lang="en-US" sz="4000" spc="-1" strike="noStrike">
                <a:solidFill>
                  <a:srgbClr val="cbcbcb"/>
                </a:solidFill>
                <a:latin typeface="Times New Roman"/>
              </a:rPr>
              <a:t>H</a:t>
            </a:r>
            <a:r>
              <a:rPr b="0" lang="en-US" sz="4000" spc="-1" strike="noStrike" baseline="-25000">
                <a:solidFill>
                  <a:srgbClr val="cbcbcb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cbcbcb"/>
                </a:solidFill>
                <a:latin typeface="Times New Roman"/>
              </a:rPr>
              <a:t>S, AgNO</a:t>
            </a:r>
            <a:r>
              <a:rPr b="0" lang="en-US" sz="4000" spc="-1" strike="noStrike" baseline="-25000">
                <a:solidFill>
                  <a:srgbClr val="cbcbcb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cbcbcb"/>
                </a:solidFill>
                <a:latin typeface="Times New Roman"/>
              </a:rPr>
              <a:t>, H</a:t>
            </a:r>
            <a:r>
              <a:rPr b="0" lang="en-US" sz="4000" spc="-1" strike="noStrike" baseline="-25000">
                <a:solidFill>
                  <a:srgbClr val="cbcbcb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cbcbcb"/>
                </a:solidFill>
                <a:latin typeface="Times New Roman"/>
              </a:rPr>
              <a:t>PO</a:t>
            </a:r>
            <a:r>
              <a:rPr b="0" lang="en-US" sz="4000" spc="-1" strike="noStrike" baseline="-25000">
                <a:solidFill>
                  <a:srgbClr val="cbcbcb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cbcbcb"/>
                </a:solidFill>
                <a:latin typeface="Times New Roman"/>
              </a:rPr>
              <a:t>, Ba(OH)</a:t>
            </a:r>
            <a:r>
              <a:rPr b="0" lang="en-US" sz="4000" spc="-1" strike="noStrike" baseline="-25000">
                <a:solidFill>
                  <a:srgbClr val="cbcbcb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cbcbcb"/>
                </a:solidFill>
                <a:latin typeface="Times New Roman"/>
              </a:rPr>
              <a:t>, CsOH, Fe(NO</a:t>
            </a:r>
            <a:r>
              <a:rPr b="0" lang="en-US" sz="4000" spc="-1" strike="noStrike" baseline="-25000">
                <a:solidFill>
                  <a:srgbClr val="cbcbcb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cbcbcb"/>
                </a:solidFill>
                <a:latin typeface="Times New Roman"/>
              </a:rPr>
              <a:t>)</a:t>
            </a:r>
            <a:r>
              <a:rPr b="0" lang="en-US" sz="4000" spc="-1" strike="noStrike" baseline="-25000">
                <a:solidFill>
                  <a:srgbClr val="cbcbcb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cbcbcb"/>
                </a:solidFill>
                <a:latin typeface="Times New Roman"/>
              </a:rPr>
              <a:t>, CuOH</a:t>
            </a:r>
            <a:r>
              <a:rPr b="0" lang="ru-RU" sz="4000" spc="-1" strike="noStrike">
                <a:solidFill>
                  <a:srgbClr val="cbcbcb"/>
                </a:solidFill>
                <a:latin typeface="Times New Roman"/>
              </a:rPr>
              <a:t>    число оснований равно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4360" y="25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ff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ff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ff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ff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Місце для нижнього колонтитула 1"/>
          <p:cNvSpPr/>
          <p:nvPr/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1T17:19:36Z</dcterms:created>
  <dc:creator>Лариса</dc:creator>
  <dc:description/>
  <dc:language>en-US</dc:language>
  <cp:lastModifiedBy>LEGION</cp:lastModifiedBy>
  <dcterms:modified xsi:type="dcterms:W3CDTF">2015-05-01T11:12:09Z</dcterms:modified>
  <cp:revision>5</cp:revision>
  <dc:subject/>
  <dc:title>Простые и сложные вещества. Основные классы неорганических веществ. Номенклатура соединений </dc:title>
</cp:coreProperties>
</file>