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7DEE-814F-4337-B839-E47A31160A6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е и сложные вещества. Основные классы неорганических веществ. Номенклатура соединени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46D2-4848-4819-8030-EE4BBF69F94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льфит натрия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H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C262-B556-48DE-8608-203525C7677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рамор – это соль кальция и кислотного оста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E699-3A15-4D12-8E63-2ECE167EF22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кислороде как о простом веществе говори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веществ живой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атмосферы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молекул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ы оксида меди образованы атомами кислорода и м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4BFD-181C-4651-ACDD-4D4AF10FC92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простым веществам относится каждое вещество ряд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азот, хл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юминий, водород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д цинка, хлор, 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, йод, сах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A347-4813-41C2-BD6E-8BE5A17B410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зон и метан являются соответствен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м элементом и простым ве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м веществом и смесью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м и сложным ве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м веществом и химическим элем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199D-F242-4AC8-904E-CFC45DAB766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сложным веществам относится каждое из веществ, указанных в ря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O, Mg, H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M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, 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O, Fe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P,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14B7-9C21-45B5-88FC-97A1F9917A7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амфотерным оксидам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8D80-BEC5-43E6-87BD-B357FC848B5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u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B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9C0A-9489-47E1-AB34-6C0CC5959EF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ксид фосфора 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 относится к оксид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леобразующ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фотер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A133-67BE-407D-81F3-6FD65D2F8A6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перечисленных веществ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, Ag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Ba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sOH, Fe(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u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число оснований рав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9DD9-91C3-4C8C-B078-F7A8B8EBA10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AB2-8843-499A-99CD-96600109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6DCC-4D8D-4B84-BBB2-4C842D39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F35-20B9-4407-AB33-66D20C7C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C3F-73D2-4C3B-BD16-CDBCE910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8521-C2DD-4743-9A21-C0858159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05D0-3172-4D31-B40A-8F2A930C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9942-6C51-4378-B8BC-07DE9EC3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0F91-593D-4D9D-9B13-16D2BBB4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12E2-0050-4C72-8844-B5360855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8D59-9AEA-4027-8121-DB5F496B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060A-123E-4B81-8444-EBCB4B83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4E9-398F-4ECA-BE54-3721C6C1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F0FC-712F-466A-B981-FAA9C756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297E-E486-4FF9-9219-DB197146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DD2D-5BA4-4828-8B47-AE3724E2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60CF-BF70-450B-910B-598753C6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4AEB-C3A2-47B2-A950-47C5D2D7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BDE-01E8-422B-8195-7E5E1949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814-B8A8-469E-9327-A30FE84C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553C-DCC6-4D03-8E9F-D9370D7C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9AA2-C551-4204-97CE-5926C4DA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AFE3-8666-4D14-9AD0-493E9E97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613F-23D2-4828-A5B4-294D0A01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A4C-FFE7-4ADA-8F68-5BE87091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2ADB-823D-45F3-8C92-7CDB4DB1A60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F87D-4E6D-4992-9F01-71EE253A2D7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Простые и сложные вещества. Основные классы неорганических веществ. Номенклатура соединений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Сульфит натрия это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H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Мрамор – это соль кальция и кислотного остатка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 кислороде как о простом веществе говорится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веществ живой клет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атмосферы Земл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молекул вод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лекулы оксида меди образованы атомами кислорода и мед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простым веществам относится каждое вещество ряда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да, азот, хло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юминий, водород, сер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ксид цинка, хлор, во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роводород, йод, саха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зон и метан являются соответственно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мическим элементом и простым веществ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стым веществом и смесью вещест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стым и сложным веществ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ожным веществом и химическим элемент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сложным веществам относится каждое из веществ, указанных в ряду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O, Mg, H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, I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O, Fe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P,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амфотерным оксидам относится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солям относится каждое из веществ в ряду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Cu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(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N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, Li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Fe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Al(OH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Ca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ксид фосфора (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) относится к оксидам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слот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солеобразующи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мфотер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Среди перечисленных веществ   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S, AgN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H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P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Ba(OH)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CsOH, Fe(N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CuOH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   число оснований равно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7:19:36Z</dcterms:created>
  <dc:creator>Лариса</dc:creator>
  <dc:description/>
  <dc:language>en-US</dc:language>
  <cp:lastModifiedBy>LEGION</cp:lastModifiedBy>
  <dcterms:modified xsi:type="dcterms:W3CDTF">2015-05-01T11:12:09Z</dcterms:modified>
  <cp:revision>5</cp:revision>
  <dc:subject/>
  <dc:title>Простые и сложные вещества. Основные классы неорганических веществ. Номенклатура соединений </dc:title>
</cp:coreProperties>
</file>