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641A-515A-436C-8EFD-08B3B8E17B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Строение электронных оболочек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9EFC-AF17-4335-8C92-73A7EACC8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Электронная оболочк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64A4-F98A-4AA5-8F02-7778A97DAC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0696-217A-4CD9-B0A7-A8D55B6F54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4AF-A1E0-4419-AB64-3DF6BC373D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A8EB-F54C-431A-B974-B677708A0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ов:  В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8F0D-C937-449E-871E-AF15745B9C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22B2-9325-4226-A05C-CB0D2ADEDF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009-F8D0-492A-BB54-EC29657E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E47-ABD3-448C-95E9-093F0612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2D3-D27F-4D8B-A784-BD9450EC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11B-8A28-4C8C-BBAB-8E9D21D5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29F-53EF-46F9-BDC2-513BD63E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528-2306-4308-AE22-EE0FC49D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A8E-9909-4AA5-A30A-E124FAC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217-206D-4FA2-B4C8-B796DDB5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927-68DB-4104-A961-A231A31B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978-2A2A-46A5-B7D0-268B8ED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9E2-32C7-467C-90C0-D9768577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AB2-64BB-4768-9F73-795B44A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ECB6-D41E-45EF-A0B3-9F7A7B929E2E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65080" y="-476280"/>
            <a:ext cx="10868040" cy="837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/>
            <a:ahLst/>
            <a:rect l="l" t="t" r="r" b="b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242887"/>
                </a:lnTo>
                <a:cubicBezTo>
                  <a:pt x="266700" y="316534"/>
                  <a:pt x="206997" y="376237"/>
                  <a:pt x="133350" y="376237"/>
                </a:cubicBezTo>
                <a:lnTo>
                  <a:pt x="133350" y="376237"/>
                </a:lnTo>
                <a:cubicBezTo>
                  <a:pt x="59703" y="376237"/>
                  <a:pt x="0" y="316534"/>
                  <a:pt x="0" y="242887"/>
                </a:cubicBez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2760" y="-30240"/>
            <a:ext cx="182880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custGeom>
              <a:avLst/>
              <a:gdLst/>
              <a:ahLst/>
              <a:rect l="l" t="t" r="r" b="b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cubicBezTo>
                    <a:pt x="206865" y="0"/>
                    <a:pt x="266530" y="59665"/>
                    <a:pt x="266530" y="133265"/>
                  </a:cubicBezTo>
                  <a:cubicBezTo>
                    <a:pt x="266530" y="429655"/>
                    <a:pt x="266529" y="726046"/>
                    <a:pt x="266529" y="1022436"/>
                  </a:cubicBezTo>
                  <a:cubicBezTo>
                    <a:pt x="266529" y="1096036"/>
                    <a:pt x="206864" y="1155701"/>
                    <a:pt x="133264" y="1155701"/>
                  </a:cubicBezTo>
                  <a:lnTo>
                    <a:pt x="133265" y="1155700"/>
                  </a:lnTo>
                  <a:cubicBezTo>
                    <a:pt x="59665" y="1155700"/>
                    <a:pt x="0" y="1096035"/>
                    <a:pt x="0" y="1022435"/>
                  </a:cubicBezTo>
                  <a:lnTo>
                    <a:pt x="0" y="133265"/>
                  </a:lnTo>
                  <a:cubicBezTo>
                    <a:pt x="0" y="59665"/>
                    <a:pt x="59665" y="0"/>
                    <a:pt x="133265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06000" y="6475320"/>
              <a:ext cx="77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5496CD8-2E26-49E5-B08F-4BBC6928F39E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30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2280" y="1017720"/>
            <a:ext cx="94550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custGeom>
              <a:avLst/>
              <a:gdLst/>
              <a:ahLst/>
              <a:rect l="l" t="t" r="r" b="b"/>
              <a:pathLst>
                <a:path w="2169967" h="555703">
                  <a:moveTo>
                    <a:pt x="148528" y="0"/>
                  </a:moveTo>
                  <a:lnTo>
                    <a:pt x="2021439" y="0"/>
                  </a:lnTo>
                  <a:cubicBezTo>
                    <a:pt x="2103469" y="0"/>
                    <a:pt x="2169967" y="66498"/>
                    <a:pt x="2169967" y="148528"/>
                  </a:cubicBezTo>
                  <a:lnTo>
                    <a:pt x="2169967" y="555703"/>
                  </a:lnTo>
                  <a:lnTo>
                    <a:pt x="2169967" y="555703"/>
                  </a:lnTo>
                  <a:lnTo>
                    <a:pt x="0" y="555703"/>
                  </a:lnTo>
                  <a:lnTo>
                    <a:pt x="0" y="555703"/>
                  </a:lnTo>
                  <a:lnTo>
                    <a:pt x="0" y="148528"/>
                  </a:lnTo>
                  <a:cubicBezTo>
                    <a:pt x="0" y="66498"/>
                    <a:pt x="66498" y="0"/>
                    <a:pt x="148528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custGeom>
              <a:avLst/>
              <a:gdLst/>
              <a:ahLst/>
              <a:rect l="l" t="t" r="r" b="b"/>
              <a:pathLst>
                <a:path w="8438587" h="4066158">
                  <a:moveTo>
                    <a:pt x="0" y="0"/>
                  </a:moveTo>
                  <a:lnTo>
                    <a:pt x="8438587" y="0"/>
                  </a:lnTo>
                  <a:lnTo>
                    <a:pt x="8438587" y="0"/>
                  </a:lnTo>
                  <a:lnTo>
                    <a:pt x="8438587" y="3896274"/>
                  </a:lnTo>
                  <a:cubicBezTo>
                    <a:pt x="8438587" y="3990098"/>
                    <a:pt x="8362527" y="4066158"/>
                    <a:pt x="8268703" y="4066158"/>
                  </a:cubicBezTo>
                  <a:lnTo>
                    <a:pt x="169884" y="4066158"/>
                  </a:lnTo>
                  <a:cubicBezTo>
                    <a:pt x="76060" y="4066158"/>
                    <a:pt x="0" y="3990098"/>
                    <a:pt x="0" y="3896274"/>
                  </a:cubicBez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custGeom>
              <a:avLst/>
              <a:gdLst/>
              <a:ahLst/>
              <a:rect l="l" t="t" r="r" b="b"/>
              <a:pathLst>
                <a:path w="2169967" h="638264">
                  <a:moveTo>
                    <a:pt x="170595" y="0"/>
                  </a:moveTo>
                  <a:lnTo>
                    <a:pt x="1999372" y="0"/>
                  </a:lnTo>
                  <a:cubicBezTo>
                    <a:pt x="2093589" y="0"/>
                    <a:pt x="2169967" y="76378"/>
                    <a:pt x="2169967" y="170595"/>
                  </a:cubicBezTo>
                  <a:lnTo>
                    <a:pt x="2169967" y="638264"/>
                  </a:lnTo>
                  <a:lnTo>
                    <a:pt x="2169967" y="638264"/>
                  </a:lnTo>
                  <a:lnTo>
                    <a:pt x="0" y="638264"/>
                  </a:lnTo>
                  <a:lnTo>
                    <a:pt x="0" y="638264"/>
                  </a:lnTo>
                  <a:lnTo>
                    <a:pt x="0" y="170595"/>
                  </a:lnTo>
                  <a:cubicBezTo>
                    <a:pt x="0" y="76378"/>
                    <a:pt x="76378" y="0"/>
                    <a:pt x="170595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custGeom>
              <a:avLst/>
              <a:gdLst/>
              <a:ahLst/>
              <a:rect l="l" t="t" r="r" b="b"/>
              <a:pathLst>
                <a:path w="2169968" h="639852">
                  <a:moveTo>
                    <a:pt x="0" y="0"/>
                  </a:moveTo>
                  <a:lnTo>
                    <a:pt x="2169968" y="0"/>
                  </a:lnTo>
                  <a:lnTo>
                    <a:pt x="2169968" y="0"/>
                  </a:lnTo>
                  <a:lnTo>
                    <a:pt x="2169968" y="639852"/>
                  </a:lnTo>
                  <a:lnTo>
                    <a:pt x="2169968" y="639852"/>
                  </a:lnTo>
                  <a:lnTo>
                    <a:pt x="0" y="639852"/>
                  </a:lnTo>
                  <a:lnTo>
                    <a:pt x="0" y="6398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custGeom>
            <a:avLst/>
            <a:gdLst/>
            <a:ahLst/>
            <a:rect l="l" t="t" r="r" b="b"/>
            <a:pathLst>
              <a:path w="2170112" h="638175">
                <a:moveTo>
                  <a:pt x="170571" y="0"/>
                </a:moveTo>
                <a:lnTo>
                  <a:pt x="1999541" y="0"/>
                </a:lnTo>
                <a:cubicBezTo>
                  <a:pt x="2093745" y="0"/>
                  <a:pt x="2170112" y="76367"/>
                  <a:pt x="2170112" y="170571"/>
                </a:cubicBezTo>
                <a:lnTo>
                  <a:pt x="2170112" y="638175"/>
                </a:lnTo>
                <a:lnTo>
                  <a:pt x="2170112" y="638175"/>
                </a:lnTo>
                <a:lnTo>
                  <a:pt x="0" y="638175"/>
                </a:lnTo>
                <a:lnTo>
                  <a:pt x="0" y="638175"/>
                </a:lnTo>
                <a:lnTo>
                  <a:pt x="0" y="170571"/>
                </a:lnTo>
                <a:cubicBezTo>
                  <a:pt x="0" y="76367"/>
                  <a:pt x="76367" y="0"/>
                  <a:pt x="170571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custGeom>
            <a:avLst/>
            <a:gdLst/>
            <a:ahLst/>
            <a:rect l="l" t="t" r="r" b="b"/>
            <a:pathLst>
              <a:path w="8439150" h="4065588">
                <a:moveTo>
                  <a:pt x="0" y="0"/>
                </a:moveTo>
                <a:lnTo>
                  <a:pt x="8439150" y="0"/>
                </a:lnTo>
                <a:lnTo>
                  <a:pt x="8439150" y="0"/>
                </a:lnTo>
                <a:lnTo>
                  <a:pt x="8439150" y="3895728"/>
                </a:lnTo>
                <a:cubicBezTo>
                  <a:pt x="8439150" y="3989539"/>
                  <a:pt x="8363101" y="4065588"/>
                  <a:pt x="8269290" y="4065588"/>
                </a:cubicBezTo>
                <a:lnTo>
                  <a:pt x="169860" y="4065588"/>
                </a:lnTo>
                <a:cubicBezTo>
                  <a:pt x="76049" y="4065588"/>
                  <a:pt x="0" y="3989539"/>
                  <a:pt x="0" y="3895728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custGeom>
            <a:avLst/>
            <a:gdLst/>
            <a:ahLst/>
            <a:rect l="l" t="t" r="r" b="b"/>
            <a:pathLst>
              <a:path w="2170112" h="555625">
                <a:moveTo>
                  <a:pt x="148507" y="0"/>
                </a:moveTo>
                <a:lnTo>
                  <a:pt x="2021605" y="0"/>
                </a:lnTo>
                <a:cubicBezTo>
                  <a:pt x="2103623" y="0"/>
                  <a:pt x="2170112" y="66489"/>
                  <a:pt x="2170112" y="148507"/>
                </a:cubicBezTo>
                <a:lnTo>
                  <a:pt x="2170112" y="555625"/>
                </a:lnTo>
                <a:lnTo>
                  <a:pt x="2170112" y="555625"/>
                </a:lnTo>
                <a:lnTo>
                  <a:pt x="0" y="555625"/>
                </a:lnTo>
                <a:lnTo>
                  <a:pt x="0" y="555625"/>
                </a:lnTo>
                <a:lnTo>
                  <a:pt x="0" y="148507"/>
                </a:lnTo>
                <a:cubicBezTo>
                  <a:pt x="0" y="66489"/>
                  <a:pt x="66489" y="0"/>
                  <a:pt x="148507" y="0"/>
                </a:cubicBez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custGeom>
            <a:avLst/>
            <a:gdLst/>
            <a:ahLst/>
            <a:rect l="l" t="t" r="r" b="b"/>
            <a:pathLst>
              <a:path w="2333625" h="639762">
                <a:moveTo>
                  <a:pt x="0" y="0"/>
                </a:moveTo>
                <a:lnTo>
                  <a:pt x="2333625" y="0"/>
                </a:lnTo>
                <a:lnTo>
                  <a:pt x="2333625" y="0"/>
                </a:lnTo>
                <a:lnTo>
                  <a:pt x="2333625" y="639762"/>
                </a:lnTo>
                <a:lnTo>
                  <a:pt x="2333625" y="639762"/>
                </a:lnTo>
                <a:lnTo>
                  <a:pt x="0" y="639762"/>
                </a:lnTo>
                <a:lnTo>
                  <a:pt x="0" y="6397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448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92680" y="5949360"/>
              <a:ext cx="313200" cy="304920"/>
              <a:chOff x="8392680" y="5949360"/>
              <a:chExt cx="313200" cy="30492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2680" y="5949360"/>
                <a:ext cx="31320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7200" y="6057000"/>
                <a:ext cx="792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custGeom>
                <a:avLst/>
                <a:gdLst/>
                <a:ahLst/>
                <a:rect l="l" t="t" r="r" b="b"/>
                <a:pathLst>
                  <a:path w="8667750" h="3956049">
                    <a:moveTo>
                      <a:pt x="41420" y="0"/>
                    </a:moveTo>
                    <a:lnTo>
                      <a:pt x="8626330" y="0"/>
                    </a:lnTo>
                    <a:cubicBezTo>
                      <a:pt x="8649206" y="0"/>
                      <a:pt x="8667750" y="18544"/>
                      <a:pt x="8667750" y="41420"/>
                    </a:cubicBezTo>
                    <a:lnTo>
                      <a:pt x="8667750" y="3892871"/>
                    </a:lnTo>
                    <a:cubicBezTo>
                      <a:pt x="8667750" y="3927763"/>
                      <a:pt x="8639464" y="3956049"/>
                      <a:pt x="8604572" y="3956049"/>
                    </a:cubicBezTo>
                    <a:lnTo>
                      <a:pt x="63178" y="3956049"/>
                    </a:lnTo>
                    <a:cubicBezTo>
                      <a:pt x="28286" y="3956049"/>
                      <a:pt x="0" y="3927763"/>
                      <a:pt x="0" y="3892871"/>
                    </a:cubicBezTo>
                    <a:lnTo>
                      <a:pt x="0" y="41420"/>
                    </a:lnTo>
                    <a:cubicBezTo>
                      <a:pt x="0" y="18544"/>
                      <a:pt x="18544" y="0"/>
                      <a:pt x="41420" y="0"/>
                    </a:cubicBezTo>
                    <a:close/>
                  </a:path>
                </a:pathLst>
              </a:custGeom>
              <a:solidFill>
                <a:srgbClr val="e6ecf3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custGeom>
              <a:avLst/>
              <a:gdLst/>
              <a:ahLst/>
              <a:rect l="l" t="t" r="r" b="b"/>
              <a:pathLst>
                <a:path w="8667750" h="3956049">
                  <a:moveTo>
                    <a:pt x="41420" y="0"/>
                  </a:moveTo>
                  <a:lnTo>
                    <a:pt x="8626330" y="0"/>
                  </a:lnTo>
                  <a:cubicBezTo>
                    <a:pt x="8649206" y="0"/>
                    <a:pt x="8667750" y="18544"/>
                    <a:pt x="8667750" y="41420"/>
                  </a:cubicBezTo>
                  <a:lnTo>
                    <a:pt x="8667750" y="3892871"/>
                  </a:lnTo>
                  <a:cubicBezTo>
                    <a:pt x="8667750" y="3927763"/>
                    <a:pt x="8639464" y="3956049"/>
                    <a:pt x="8604572" y="3956049"/>
                  </a:cubicBezTo>
                  <a:lnTo>
                    <a:pt x="63178" y="3956049"/>
                  </a:lnTo>
                  <a:cubicBezTo>
                    <a:pt x="28286" y="3956049"/>
                    <a:pt x="0" y="3927763"/>
                    <a:pt x="0" y="3892871"/>
                  </a:cubicBezTo>
                  <a:lnTo>
                    <a:pt x="0" y="41420"/>
                  </a:lnTo>
                  <a:cubicBezTo>
                    <a:pt x="0" y="18544"/>
                    <a:pt x="18544" y="0"/>
                    <a:pt x="41420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custGeom>
              <a:avLst/>
              <a:gdLst/>
              <a:ahLst/>
              <a:rect l="l" t="t" r="r" b="b"/>
              <a:pathLst>
                <a:path w="8667750" h="4133910">
                  <a:moveTo>
                    <a:pt x="94543" y="0"/>
                  </a:moveTo>
                  <a:lnTo>
                    <a:pt x="8573207" y="0"/>
                  </a:lnTo>
                  <a:cubicBezTo>
                    <a:pt x="8625422" y="0"/>
                    <a:pt x="8667750" y="42328"/>
                    <a:pt x="8667750" y="94543"/>
                  </a:cubicBezTo>
                  <a:lnTo>
                    <a:pt x="8667750" y="4025147"/>
                  </a:lnTo>
                  <a:cubicBezTo>
                    <a:pt x="8667750" y="4085215"/>
                    <a:pt x="8619055" y="4133910"/>
                    <a:pt x="8558987" y="4133910"/>
                  </a:cubicBezTo>
                  <a:lnTo>
                    <a:pt x="108763" y="4133910"/>
                  </a:lnTo>
                  <a:cubicBezTo>
                    <a:pt x="48695" y="4133910"/>
                    <a:pt x="0" y="4085215"/>
                    <a:pt x="0" y="4025147"/>
                  </a:cubicBezTo>
                  <a:lnTo>
                    <a:pt x="0" y="94543"/>
                  </a:lnTo>
                  <a:cubicBezTo>
                    <a:pt x="0" y="42328"/>
                    <a:pt x="42328" y="0"/>
                    <a:pt x="94543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19"/>
          <p:cNvSpPr/>
          <p:nvPr/>
        </p:nvSpPr>
        <p:spPr>
          <a:xfrm>
            <a:off x="527040" y="4940280"/>
            <a:ext cx="7467480" cy="885960"/>
          </a:xfrm>
          <a:prstGeom prst="roundRect">
            <a:avLst>
              <a:gd name="adj" fmla="val 12338"/>
            </a:avLst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9"/>
          <p:cNvSpPr/>
          <p:nvPr/>
        </p:nvSpPr>
        <p:spPr>
          <a:xfrm>
            <a:off x="527040" y="3962520"/>
            <a:ext cx="7467480" cy="885600"/>
          </a:xfrm>
          <a:prstGeom prst="roundRect">
            <a:avLst>
              <a:gd name="adj" fmla="val 12338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TextBox 59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1"/>
          <p:cNvSpPr/>
          <p:nvPr/>
        </p:nvSpPr>
        <p:spPr>
          <a:xfrm>
            <a:off x="304920" y="10825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машня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2109960" y="17226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граф 37, стр. 129-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82960" y="2273400"/>
            <a:ext cx="68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а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04920" y="33847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полнитель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71680" y="3917880"/>
            <a:ext cx="742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27040" y="507348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строения электронной обол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32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1" name="Скругленный прямоугольник 11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"/>
            <p:cNvPicPr/>
            <p:nvPr/>
          </p:nvPicPr>
          <p:blipFill>
            <a:blip r:embed="rId2"/>
            <a:stretch/>
          </p:blipFill>
          <p:spPr>
            <a:xfrm>
              <a:off x="8153280" y="400968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Группа 35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4" name="Скругленный прямоугольник 14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Группа 52"/>
            <p:cNvGrpSpPr/>
            <p:nvPr/>
          </p:nvGrpSpPr>
          <p:grpSpPr>
            <a:xfrm>
              <a:off x="8248680" y="4106520"/>
              <a:ext cx="534960" cy="560520"/>
              <a:chOff x="8248680" y="4106520"/>
              <a:chExt cx="534960" cy="560520"/>
            </a:xfrm>
          </p:grpSpPr>
          <p:sp>
            <p:nvSpPr>
              <p:cNvPr id="496" name="Дуга 16"/>
              <p:cNvSpPr/>
              <p:nvPr/>
            </p:nvSpPr>
            <p:spPr>
              <a:xfrm>
                <a:off x="8248680" y="413352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Прямая соединительная линия 17"/>
              <p:cNvSpPr/>
              <p:nvPr/>
            </p:nvSpPr>
            <p:spPr>
              <a:xfrm flipH="1">
                <a:off x="8528040" y="410652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Скругленный прямоугольник 18"/>
          <p:cNvSpPr/>
          <p:nvPr/>
        </p:nvSpPr>
        <p:spPr>
          <a:xfrm>
            <a:off x="8096400" y="396252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32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0" name="Скругленный прямоугольник 21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8153280" y="49878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5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3" name="Скругленный прямоугольник 24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52"/>
            <p:cNvGrpSpPr/>
            <p:nvPr/>
          </p:nvGrpSpPr>
          <p:grpSpPr>
            <a:xfrm>
              <a:off x="8248680" y="5084640"/>
              <a:ext cx="534960" cy="560520"/>
              <a:chOff x="8248680" y="5084640"/>
              <a:chExt cx="534960" cy="560520"/>
            </a:xfrm>
          </p:grpSpPr>
          <p:sp>
            <p:nvSpPr>
              <p:cNvPr id="505" name="Дуга 26"/>
              <p:cNvSpPr/>
              <p:nvPr/>
            </p:nvSpPr>
            <p:spPr>
              <a:xfrm>
                <a:off x="8248680" y="511164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Прямая соединительная линия 27"/>
              <p:cNvSpPr/>
              <p:nvPr/>
            </p:nvSpPr>
            <p:spPr>
              <a:xfrm flipH="1">
                <a:off x="8528040" y="508464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Скругленный прямоугольник 28"/>
          <p:cNvSpPr/>
          <p:nvPr/>
        </p:nvSpPr>
        <p:spPr>
          <a:xfrm>
            <a:off x="8096400" y="494028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LEGION</cp:lastModifiedBy>
  <dcterms:modified xsi:type="dcterms:W3CDTF">2015-05-01T11:15:26Z</dcterms:modified>
  <cp:revision>95</cp:revision>
  <dc:subject>Строение электронных оболочек атомов</dc:subject>
  <dc:title>Урок 14</dc:title>
</cp:coreProperties>
</file>