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81DF-6C6A-4BD6-8197-FC7DC21AF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Строение электронных оболочек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A37F-FD30-4F93-9FCE-8886A7A907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Электронная оболочк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2B8C-10A8-4B0C-B152-5039F34665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0531-066C-41FF-AC5A-350EA9D288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9083-3267-48AE-A45C-55D75007AE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5DCD-4A41-4DDF-BFBC-7EFEA163F1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ов:  В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6319-074B-4911-9365-23EBA835E8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1BCF-F35B-4BB9-8257-B428CFCE7B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57A-E43A-486C-8B3A-1F56FC89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9C1-2E15-4CD4-9921-97132647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3A6-7D9B-46F1-89EE-5400E9C5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B61-E6B8-471F-85AC-B5C966ED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900-C9EB-4C5A-BC76-7125E21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2FA-4962-4CDD-9C1F-50ED6A38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3B2-52C5-4B00-B477-19F72B67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37C-B4A6-451A-8FBA-3F748E6C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D5D-5697-4B4C-BFFD-601E4A2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ED0-7C49-4287-B09F-18EEF309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821-A8F9-4CD4-A5EA-D9ABFA4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726-7EFC-435D-8F1E-AF33CDDC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610F-F6B1-4C0D-B214-284CE599FEDC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65080" y="-476280"/>
            <a:ext cx="10868040" cy="837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/>
            <a:ahLst/>
            <a:rect l="l" t="t" r="r" b="b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242887"/>
                </a:lnTo>
                <a:cubicBezTo>
                  <a:pt x="266700" y="316534"/>
                  <a:pt x="206997" y="376237"/>
                  <a:pt x="133350" y="376237"/>
                </a:cubicBezTo>
                <a:lnTo>
                  <a:pt x="133350" y="376237"/>
                </a:lnTo>
                <a:cubicBezTo>
                  <a:pt x="59703" y="376237"/>
                  <a:pt x="0" y="316534"/>
                  <a:pt x="0" y="242887"/>
                </a:cubicBez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2760" y="-30240"/>
            <a:ext cx="182880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custGeom>
              <a:avLst/>
              <a:gdLst/>
              <a:ahLst/>
              <a:rect l="l" t="t" r="r" b="b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cubicBezTo>
                    <a:pt x="206865" y="0"/>
                    <a:pt x="266530" y="59665"/>
                    <a:pt x="266530" y="133265"/>
                  </a:cubicBezTo>
                  <a:cubicBezTo>
                    <a:pt x="266530" y="429655"/>
                    <a:pt x="266529" y="726046"/>
                    <a:pt x="266529" y="1022436"/>
                  </a:cubicBezTo>
                  <a:cubicBezTo>
                    <a:pt x="266529" y="1096036"/>
                    <a:pt x="206864" y="1155701"/>
                    <a:pt x="133264" y="1155701"/>
                  </a:cubicBezTo>
                  <a:lnTo>
                    <a:pt x="133265" y="1155700"/>
                  </a:lnTo>
                  <a:cubicBezTo>
                    <a:pt x="59665" y="1155700"/>
                    <a:pt x="0" y="1096035"/>
                    <a:pt x="0" y="1022435"/>
                  </a:cubicBezTo>
                  <a:lnTo>
                    <a:pt x="0" y="133265"/>
                  </a:lnTo>
                  <a:cubicBezTo>
                    <a:pt x="0" y="59665"/>
                    <a:pt x="59665" y="0"/>
                    <a:pt x="133265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06000" y="6475320"/>
              <a:ext cx="77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21C0968-1930-4029-B50D-BA901C469754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30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2280" y="1017720"/>
            <a:ext cx="94550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custGeom>
              <a:avLst/>
              <a:gdLst/>
              <a:ahLst/>
              <a:rect l="l" t="t" r="r" b="b"/>
              <a:pathLst>
                <a:path w="2169967" h="555703">
                  <a:moveTo>
                    <a:pt x="148528" y="0"/>
                  </a:moveTo>
                  <a:lnTo>
                    <a:pt x="2021439" y="0"/>
                  </a:lnTo>
                  <a:cubicBezTo>
                    <a:pt x="2103469" y="0"/>
                    <a:pt x="2169967" y="66498"/>
                    <a:pt x="2169967" y="148528"/>
                  </a:cubicBezTo>
                  <a:lnTo>
                    <a:pt x="2169967" y="555703"/>
                  </a:lnTo>
                  <a:lnTo>
                    <a:pt x="2169967" y="555703"/>
                  </a:lnTo>
                  <a:lnTo>
                    <a:pt x="0" y="555703"/>
                  </a:lnTo>
                  <a:lnTo>
                    <a:pt x="0" y="555703"/>
                  </a:lnTo>
                  <a:lnTo>
                    <a:pt x="0" y="148528"/>
                  </a:lnTo>
                  <a:cubicBezTo>
                    <a:pt x="0" y="66498"/>
                    <a:pt x="66498" y="0"/>
                    <a:pt x="148528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custGeom>
              <a:avLst/>
              <a:gdLst/>
              <a:ahLst/>
              <a:rect l="l" t="t" r="r" b="b"/>
              <a:pathLst>
                <a:path w="8438587" h="4066158">
                  <a:moveTo>
                    <a:pt x="0" y="0"/>
                  </a:moveTo>
                  <a:lnTo>
                    <a:pt x="8438587" y="0"/>
                  </a:lnTo>
                  <a:lnTo>
                    <a:pt x="8438587" y="0"/>
                  </a:lnTo>
                  <a:lnTo>
                    <a:pt x="8438587" y="3896274"/>
                  </a:lnTo>
                  <a:cubicBezTo>
                    <a:pt x="8438587" y="3990098"/>
                    <a:pt x="8362527" y="4066158"/>
                    <a:pt x="8268703" y="4066158"/>
                  </a:cubicBezTo>
                  <a:lnTo>
                    <a:pt x="169884" y="4066158"/>
                  </a:lnTo>
                  <a:cubicBezTo>
                    <a:pt x="76060" y="4066158"/>
                    <a:pt x="0" y="3990098"/>
                    <a:pt x="0" y="3896274"/>
                  </a:cubicBez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custGeom>
              <a:avLst/>
              <a:gdLst/>
              <a:ahLst/>
              <a:rect l="l" t="t" r="r" b="b"/>
              <a:pathLst>
                <a:path w="2169967" h="638264">
                  <a:moveTo>
                    <a:pt x="170595" y="0"/>
                  </a:moveTo>
                  <a:lnTo>
                    <a:pt x="1999372" y="0"/>
                  </a:lnTo>
                  <a:cubicBezTo>
                    <a:pt x="2093589" y="0"/>
                    <a:pt x="2169967" y="76378"/>
                    <a:pt x="2169967" y="170595"/>
                  </a:cubicBezTo>
                  <a:lnTo>
                    <a:pt x="2169967" y="638264"/>
                  </a:lnTo>
                  <a:lnTo>
                    <a:pt x="2169967" y="638264"/>
                  </a:lnTo>
                  <a:lnTo>
                    <a:pt x="0" y="638264"/>
                  </a:lnTo>
                  <a:lnTo>
                    <a:pt x="0" y="638264"/>
                  </a:lnTo>
                  <a:lnTo>
                    <a:pt x="0" y="170595"/>
                  </a:lnTo>
                  <a:cubicBezTo>
                    <a:pt x="0" y="76378"/>
                    <a:pt x="76378" y="0"/>
                    <a:pt x="170595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custGeom>
              <a:avLst/>
              <a:gdLst/>
              <a:ahLst/>
              <a:rect l="l" t="t" r="r" b="b"/>
              <a:pathLst>
                <a:path w="2169968" h="639852">
                  <a:moveTo>
                    <a:pt x="0" y="0"/>
                  </a:moveTo>
                  <a:lnTo>
                    <a:pt x="2169968" y="0"/>
                  </a:lnTo>
                  <a:lnTo>
                    <a:pt x="2169968" y="0"/>
                  </a:lnTo>
                  <a:lnTo>
                    <a:pt x="2169968" y="639852"/>
                  </a:lnTo>
                  <a:lnTo>
                    <a:pt x="2169968" y="639852"/>
                  </a:lnTo>
                  <a:lnTo>
                    <a:pt x="0" y="639852"/>
                  </a:lnTo>
                  <a:lnTo>
                    <a:pt x="0" y="6398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custGeom>
            <a:avLst/>
            <a:gdLst/>
            <a:ahLst/>
            <a:rect l="l" t="t" r="r" b="b"/>
            <a:pathLst>
              <a:path w="2170112" h="638175">
                <a:moveTo>
                  <a:pt x="170571" y="0"/>
                </a:moveTo>
                <a:lnTo>
                  <a:pt x="1999541" y="0"/>
                </a:lnTo>
                <a:cubicBezTo>
                  <a:pt x="2093745" y="0"/>
                  <a:pt x="2170112" y="76367"/>
                  <a:pt x="2170112" y="170571"/>
                </a:cubicBezTo>
                <a:lnTo>
                  <a:pt x="2170112" y="638175"/>
                </a:lnTo>
                <a:lnTo>
                  <a:pt x="2170112" y="638175"/>
                </a:lnTo>
                <a:lnTo>
                  <a:pt x="0" y="638175"/>
                </a:lnTo>
                <a:lnTo>
                  <a:pt x="0" y="638175"/>
                </a:lnTo>
                <a:lnTo>
                  <a:pt x="0" y="170571"/>
                </a:lnTo>
                <a:cubicBezTo>
                  <a:pt x="0" y="76367"/>
                  <a:pt x="76367" y="0"/>
                  <a:pt x="170571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custGeom>
            <a:avLst/>
            <a:gdLst/>
            <a:ahLst/>
            <a:rect l="l" t="t" r="r" b="b"/>
            <a:pathLst>
              <a:path w="8439150" h="4065588">
                <a:moveTo>
                  <a:pt x="0" y="0"/>
                </a:moveTo>
                <a:lnTo>
                  <a:pt x="8439150" y="0"/>
                </a:lnTo>
                <a:lnTo>
                  <a:pt x="8439150" y="0"/>
                </a:lnTo>
                <a:lnTo>
                  <a:pt x="8439150" y="3895728"/>
                </a:lnTo>
                <a:cubicBezTo>
                  <a:pt x="8439150" y="3989539"/>
                  <a:pt x="8363101" y="4065588"/>
                  <a:pt x="8269290" y="4065588"/>
                </a:cubicBezTo>
                <a:lnTo>
                  <a:pt x="169860" y="4065588"/>
                </a:lnTo>
                <a:cubicBezTo>
                  <a:pt x="76049" y="4065588"/>
                  <a:pt x="0" y="3989539"/>
                  <a:pt x="0" y="3895728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custGeom>
            <a:avLst/>
            <a:gdLst/>
            <a:ahLst/>
            <a:rect l="l" t="t" r="r" b="b"/>
            <a:pathLst>
              <a:path w="2170112" h="555625">
                <a:moveTo>
                  <a:pt x="148507" y="0"/>
                </a:moveTo>
                <a:lnTo>
                  <a:pt x="2021605" y="0"/>
                </a:lnTo>
                <a:cubicBezTo>
                  <a:pt x="2103623" y="0"/>
                  <a:pt x="2170112" y="66489"/>
                  <a:pt x="2170112" y="148507"/>
                </a:cubicBezTo>
                <a:lnTo>
                  <a:pt x="2170112" y="555625"/>
                </a:lnTo>
                <a:lnTo>
                  <a:pt x="2170112" y="555625"/>
                </a:lnTo>
                <a:lnTo>
                  <a:pt x="0" y="555625"/>
                </a:lnTo>
                <a:lnTo>
                  <a:pt x="0" y="555625"/>
                </a:lnTo>
                <a:lnTo>
                  <a:pt x="0" y="148507"/>
                </a:lnTo>
                <a:cubicBezTo>
                  <a:pt x="0" y="66489"/>
                  <a:pt x="66489" y="0"/>
                  <a:pt x="148507" y="0"/>
                </a:cubicBez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custGeom>
            <a:avLst/>
            <a:gdLst/>
            <a:ahLst/>
            <a:rect l="l" t="t" r="r" b="b"/>
            <a:pathLst>
              <a:path w="2333625" h="639762">
                <a:moveTo>
                  <a:pt x="0" y="0"/>
                </a:moveTo>
                <a:lnTo>
                  <a:pt x="2333625" y="0"/>
                </a:lnTo>
                <a:lnTo>
                  <a:pt x="2333625" y="0"/>
                </a:lnTo>
                <a:lnTo>
                  <a:pt x="2333625" y="639762"/>
                </a:lnTo>
                <a:lnTo>
                  <a:pt x="2333625" y="639762"/>
                </a:lnTo>
                <a:lnTo>
                  <a:pt x="0" y="639762"/>
                </a:lnTo>
                <a:lnTo>
                  <a:pt x="0" y="6397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448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92680" y="5949360"/>
              <a:ext cx="313200" cy="304920"/>
              <a:chOff x="8392680" y="5949360"/>
              <a:chExt cx="313200" cy="30492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2680" y="5949360"/>
                <a:ext cx="31320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7200" y="6057000"/>
                <a:ext cx="792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custGeom>
                <a:avLst/>
                <a:gdLst/>
                <a:ahLst/>
                <a:rect l="l" t="t" r="r" b="b"/>
                <a:pathLst>
                  <a:path w="8667750" h="3956049">
                    <a:moveTo>
                      <a:pt x="41420" y="0"/>
                    </a:moveTo>
                    <a:lnTo>
                      <a:pt x="8626330" y="0"/>
                    </a:lnTo>
                    <a:cubicBezTo>
                      <a:pt x="8649206" y="0"/>
                      <a:pt x="8667750" y="18544"/>
                      <a:pt x="8667750" y="41420"/>
                    </a:cubicBezTo>
                    <a:lnTo>
                      <a:pt x="8667750" y="3892871"/>
                    </a:lnTo>
                    <a:cubicBezTo>
                      <a:pt x="8667750" y="3927763"/>
                      <a:pt x="8639464" y="3956049"/>
                      <a:pt x="8604572" y="3956049"/>
                    </a:cubicBezTo>
                    <a:lnTo>
                      <a:pt x="63178" y="3956049"/>
                    </a:lnTo>
                    <a:cubicBezTo>
                      <a:pt x="28286" y="3956049"/>
                      <a:pt x="0" y="3927763"/>
                      <a:pt x="0" y="3892871"/>
                    </a:cubicBezTo>
                    <a:lnTo>
                      <a:pt x="0" y="41420"/>
                    </a:lnTo>
                    <a:cubicBezTo>
                      <a:pt x="0" y="18544"/>
                      <a:pt x="18544" y="0"/>
                      <a:pt x="41420" y="0"/>
                    </a:cubicBezTo>
                    <a:close/>
                  </a:path>
                </a:pathLst>
              </a:custGeom>
              <a:solidFill>
                <a:srgbClr val="e6ecf3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custGeom>
              <a:avLst/>
              <a:gdLst/>
              <a:ahLst/>
              <a:rect l="l" t="t" r="r" b="b"/>
              <a:pathLst>
                <a:path w="8667750" h="3956049">
                  <a:moveTo>
                    <a:pt x="41420" y="0"/>
                  </a:moveTo>
                  <a:lnTo>
                    <a:pt x="8626330" y="0"/>
                  </a:lnTo>
                  <a:cubicBezTo>
                    <a:pt x="8649206" y="0"/>
                    <a:pt x="8667750" y="18544"/>
                    <a:pt x="8667750" y="41420"/>
                  </a:cubicBezTo>
                  <a:lnTo>
                    <a:pt x="8667750" y="3892871"/>
                  </a:lnTo>
                  <a:cubicBezTo>
                    <a:pt x="8667750" y="3927763"/>
                    <a:pt x="8639464" y="3956049"/>
                    <a:pt x="8604572" y="3956049"/>
                  </a:cubicBezTo>
                  <a:lnTo>
                    <a:pt x="63178" y="3956049"/>
                  </a:lnTo>
                  <a:cubicBezTo>
                    <a:pt x="28286" y="3956049"/>
                    <a:pt x="0" y="3927763"/>
                    <a:pt x="0" y="3892871"/>
                  </a:cubicBezTo>
                  <a:lnTo>
                    <a:pt x="0" y="41420"/>
                  </a:lnTo>
                  <a:cubicBezTo>
                    <a:pt x="0" y="18544"/>
                    <a:pt x="18544" y="0"/>
                    <a:pt x="41420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custGeom>
              <a:avLst/>
              <a:gdLst/>
              <a:ahLst/>
              <a:rect l="l" t="t" r="r" b="b"/>
              <a:pathLst>
                <a:path w="8667750" h="4133910">
                  <a:moveTo>
                    <a:pt x="94543" y="0"/>
                  </a:moveTo>
                  <a:lnTo>
                    <a:pt x="8573207" y="0"/>
                  </a:lnTo>
                  <a:cubicBezTo>
                    <a:pt x="8625422" y="0"/>
                    <a:pt x="8667750" y="42328"/>
                    <a:pt x="8667750" y="94543"/>
                  </a:cubicBezTo>
                  <a:lnTo>
                    <a:pt x="8667750" y="4025147"/>
                  </a:lnTo>
                  <a:cubicBezTo>
                    <a:pt x="8667750" y="4085215"/>
                    <a:pt x="8619055" y="4133910"/>
                    <a:pt x="8558987" y="4133910"/>
                  </a:cubicBezTo>
                  <a:lnTo>
                    <a:pt x="108763" y="4133910"/>
                  </a:lnTo>
                  <a:cubicBezTo>
                    <a:pt x="48695" y="4133910"/>
                    <a:pt x="0" y="4085215"/>
                    <a:pt x="0" y="4025147"/>
                  </a:cubicBezTo>
                  <a:lnTo>
                    <a:pt x="0" y="94543"/>
                  </a:lnTo>
                  <a:cubicBezTo>
                    <a:pt x="0" y="42328"/>
                    <a:pt x="42328" y="0"/>
                    <a:pt x="94543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19"/>
          <p:cNvSpPr/>
          <p:nvPr/>
        </p:nvSpPr>
        <p:spPr>
          <a:xfrm>
            <a:off x="527040" y="4940280"/>
            <a:ext cx="7467480" cy="885960"/>
          </a:xfrm>
          <a:prstGeom prst="roundRect">
            <a:avLst>
              <a:gd name="adj" fmla="val 12338"/>
            </a:avLst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9"/>
          <p:cNvSpPr/>
          <p:nvPr/>
        </p:nvSpPr>
        <p:spPr>
          <a:xfrm>
            <a:off x="527040" y="3962520"/>
            <a:ext cx="7467480" cy="885600"/>
          </a:xfrm>
          <a:prstGeom prst="roundRect">
            <a:avLst>
              <a:gd name="adj" fmla="val 12338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TextBox 59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1"/>
          <p:cNvSpPr/>
          <p:nvPr/>
        </p:nvSpPr>
        <p:spPr>
          <a:xfrm>
            <a:off x="304920" y="10825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машня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2109960" y="17226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граф 37, стр. 129-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82960" y="2273400"/>
            <a:ext cx="68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а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04920" y="33847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полнитель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71680" y="3917880"/>
            <a:ext cx="742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27040" y="507348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строения электронной обол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32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1" name="Скругленный прямоугольник 11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"/>
            <p:cNvPicPr/>
            <p:nvPr/>
          </p:nvPicPr>
          <p:blipFill>
            <a:blip r:embed="rId2"/>
            <a:stretch/>
          </p:blipFill>
          <p:spPr>
            <a:xfrm>
              <a:off x="8153280" y="400968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Группа 35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4" name="Скругленный прямоугольник 14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Группа 52"/>
            <p:cNvGrpSpPr/>
            <p:nvPr/>
          </p:nvGrpSpPr>
          <p:grpSpPr>
            <a:xfrm>
              <a:off x="8248680" y="4106520"/>
              <a:ext cx="534960" cy="560520"/>
              <a:chOff x="8248680" y="4106520"/>
              <a:chExt cx="534960" cy="560520"/>
            </a:xfrm>
          </p:grpSpPr>
          <p:sp>
            <p:nvSpPr>
              <p:cNvPr id="496" name="Дуга 16"/>
              <p:cNvSpPr/>
              <p:nvPr/>
            </p:nvSpPr>
            <p:spPr>
              <a:xfrm>
                <a:off x="8248680" y="413352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Прямая соединительная линия 17"/>
              <p:cNvSpPr/>
              <p:nvPr/>
            </p:nvSpPr>
            <p:spPr>
              <a:xfrm flipH="1">
                <a:off x="8528040" y="410652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Скругленный прямоугольник 18"/>
          <p:cNvSpPr/>
          <p:nvPr/>
        </p:nvSpPr>
        <p:spPr>
          <a:xfrm>
            <a:off x="8096400" y="396252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32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0" name="Скругленный прямоугольник 21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8153280" y="49878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5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3" name="Скругленный прямоугольник 24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52"/>
            <p:cNvGrpSpPr/>
            <p:nvPr/>
          </p:nvGrpSpPr>
          <p:grpSpPr>
            <a:xfrm>
              <a:off x="8248680" y="5084640"/>
              <a:ext cx="534960" cy="560520"/>
              <a:chOff x="8248680" y="5084640"/>
              <a:chExt cx="534960" cy="560520"/>
            </a:xfrm>
          </p:grpSpPr>
          <p:sp>
            <p:nvSpPr>
              <p:cNvPr id="505" name="Дуга 26"/>
              <p:cNvSpPr/>
              <p:nvPr/>
            </p:nvSpPr>
            <p:spPr>
              <a:xfrm>
                <a:off x="8248680" y="511164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Прямая соединительная линия 27"/>
              <p:cNvSpPr/>
              <p:nvPr/>
            </p:nvSpPr>
            <p:spPr>
              <a:xfrm flipH="1">
                <a:off x="8528040" y="508464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Скругленный прямоугольник 28"/>
          <p:cNvSpPr/>
          <p:nvPr/>
        </p:nvSpPr>
        <p:spPr>
          <a:xfrm>
            <a:off x="8096400" y="494028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LEGION</cp:lastModifiedBy>
  <dcterms:modified xsi:type="dcterms:W3CDTF">2015-05-01T11:15:26Z</dcterms:modified>
  <cp:revision>95</cp:revision>
  <dc:subject>Строение электронных оболочек атомов</dc:subject>
  <dc:title>Урок 14</dc:title>
</cp:coreProperties>
</file>