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37.jpeg" ContentType="image/jpeg"/>
  <Override PartName="/ppt/media/image50.jpeg" ContentType="image/jpeg"/>
  <Override PartName="/ppt/media/image9.jpeg" ContentType="image/jpeg"/>
  <Override PartName="/ppt/media/image48.png" ContentType="image/png"/>
  <Override PartName="/ppt/media/image39.png" ContentType="image/png"/>
  <Override PartName="/ppt/media/image41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4.jpeg" ContentType="image/jpeg"/>
  <Override PartName="/ppt/media/image49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1.png" ContentType="image/png"/>
  <Override PartName="/ppt/media/image3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B96E-6A7E-44F9-B4CE-815EB0BEEB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Химия – наука о вещест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2123-1E6A-463A-AB16-0E18D38C73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тяне были непревзойдёнными скульпторами и стро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7A6B-FC49-46AA-BA4C-2C9DB9B33B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ем Егип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4F60-ABD2-4D5B-9906-332415C6B1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реческий философ 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 тела состоят из мельчайших, невидимых, неделимых и вечно движущихся частиц-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3850-BF74-46D4-9EB1-3054863964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ий философ Аристотел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до н. 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AA84-01E9-4EB8-B395-9B95C9D205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Доалхимиче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C40B-7543-49EE-B63A-C0C8700482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Алхимический период</a:t>
            </a:r>
            <a:br>
              <a:rPr sz="1200"/>
            </a:b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 (с III в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спериментальная хи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ились и расширились знания о веществах и химических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7284-7378-4E9F-8FFC-166A6BDEB9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цель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), врач и естествоиспытате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– «отец» ятрохимии – науки о лекар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 внедрению химических препаратов в медиц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1C64-3D50-4CF5-A90C-EF8B8DC9BE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(1627-169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 аналитической хим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ник атом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 первый индикатор – реактив, изменяющий свою окраску в присутствии 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E623-CC54-4893-B089-F1532D7312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уан Лоран Лавуазье(1743-1794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л, что атмосферный воздух имеет сложный сост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основы кислородной теории г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л суть процессов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л новую номенклатуру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EF29-2909-4D92-B51B-BA7B39696D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ил Васильевич Ломоносов (1711-1765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л точные измерения при изучении химических реа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F1AF-657F-4628-93C8-C0CEB28529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88E1-4EF1-4E61-9171-0D8D334AAC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ЦЕЛИУС Йёнс Якоб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779 г. - 1848 г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бозначения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вёл формулы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B7C2-F7F3-4F84-B85D-1BF540247C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альтон (1766-184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 подтвердил атомистическ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 атомно-молекулярн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е атомной ма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FBF3-09D3-4D09-806C-08CF9C7840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1994-E2C6-49DC-B6CC-CEFF16802D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Н. Бек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ряд активности 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B22-E374-4180-BB4D-E5513C2456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А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, изобрёл способ закалки стали. Раскрыл секрет получения булатной ст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C27D-62ED-4458-9399-75BAB57C2A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ова «химия» не имеет однозначного толк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и алхимического перио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-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) зародилась экспериментальная химия, накопились знания о вещ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и длится до наш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8C08-93E1-49E2-98A8-C72954C04E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F1AF-38AE-41A9-B4EC-1FC032CE85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F0D6-5F85-44A4-B78E-B8D1F5ED9A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химии известный ученый М.В. Ломоносов сказал следующее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87F6-679C-46D4-A079-DF6719818A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CE5F-692C-4C28-B8EE-743842D760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Химия</a:t>
            </a: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 – наука о веществ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х свойств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взаимных превращен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 процессах, их сопровождающих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211F-6D51-4F5D-BC08-1B686A6E00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ещество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, из чего состоят физически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800D-ACB9-42D5-8062-B8584CCF45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язь хим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93B7-40E1-433B-981C-F9FD3DC75A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и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775A-6932-4FB8-8299-49E77B613A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eada"/>
                </a:solidFill>
                <a:latin typeface="Calibri"/>
              </a:rPr>
              <a:t>Происхождение термина “химия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зрения на происхождение слов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200" spc="-1" strike="noStrike">
                <a:solidFill>
                  <a:srgbClr val="fcfbf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е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земля). Это древнее название Египта, где зародилась наука хим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г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греч.) - «литье» металлов (глагол хго — «лью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о же корня и греч.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«со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китайск.) — «золото». Тогда химию можно толковать как златодел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CFF9-5012-4A6C-8581-F8192A5245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е производство существовало уже за 3 – 4 тысячи лет до н.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4867-76AF-434D-9CB9-9B25E8809A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60E-88ED-4484-A788-C73C2585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E44-4EB7-4758-8BFE-4910E918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7C7-C722-462F-867C-CC120F28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A34-57C7-4435-B9B3-C786744C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67C1-C0E8-4C13-9587-10345F46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D589-64FB-4975-8C8F-6E0E0E5D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324D-9D4C-47D7-BD01-C64182D6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B1C2-6801-425F-ABA8-1E41EF3D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9E58-F75D-4BE8-8923-16331A2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213B-D9F7-4419-8139-051CC5E1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EC49-72F9-472D-8AE0-93A3419D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7B3-5B82-4BFB-A8C8-6FE0865D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DC14-F518-4E67-AC44-AE30BD4F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C18D-2F60-4CB4-B1C1-4B4313BC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6596-DD59-4EB1-AA9E-C3B85458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D317-7570-47C9-BFCD-375AD149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D746-271E-4676-9264-2DC77D29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B75-276A-4CA7-B5F8-DD8BC549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255-2488-45DD-BCB7-693CA75E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082-8CBC-4E68-A539-8BEF1C5D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AC5-5478-4FEF-A52A-BF626899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CC9-1CB5-4337-8AC7-3A382BBD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472-5BD3-4069-8FD1-183DDA14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C69-F1E0-42F1-AA8F-1773EEE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413-4A3B-4174-9A71-6FD5A721FA6C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5F79-3F86-412A-BCEF-2C6CB6403D7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1E31-7119-45F1-ADB0-06991B153C65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762B-6409-4972-B69E-2D0CE55B1F8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82520" y="1474920"/>
            <a:ext cx="932652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6934320" y="6172200"/>
            <a:ext cx="205740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нят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Египе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2952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тяне были непревзойдёнными скульпторами и строител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Picture 14" descr="Сфинкс"/>
          <p:cNvPicPr/>
          <p:nvPr/>
        </p:nvPicPr>
        <p:blipFill>
          <a:blip r:embed="rId1"/>
          <a:stretch/>
        </p:blipFill>
        <p:spPr>
          <a:xfrm>
            <a:off x="4648320" y="3200400"/>
            <a:ext cx="428472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ем Египт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6" name="Picture 3" descr="Химия в Древнем Египте"/>
          <p:cNvPicPr/>
          <p:nvPr/>
        </p:nvPicPr>
        <p:blipFill>
          <a:blip r:embed="rId1"/>
          <a:stretch/>
        </p:blipFill>
        <p:spPr>
          <a:xfrm>
            <a:off x="0" y="2133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334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етские жрецы владели приёмами бальзамирования тел умерших фараонов и зн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демокрит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36943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4" descr=""/>
          <p:cNvPicPr/>
          <p:nvPr/>
        </p:nvPicPr>
        <p:blipFill>
          <a:blip r:embed="rId2"/>
          <a:stretch/>
        </p:blipFill>
        <p:spPr>
          <a:xfrm>
            <a:off x="384120" y="341280"/>
            <a:ext cx="8491680" cy="16635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" descr=""/>
          <p:cNvPicPr/>
          <p:nvPr/>
        </p:nvPicPr>
        <p:blipFill>
          <a:blip r:embed="rId3"/>
          <a:stretch/>
        </p:blipFill>
        <p:spPr>
          <a:xfrm>
            <a:off x="341280" y="2249640"/>
            <a:ext cx="4675320" cy="3365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аристотель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91040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" descr=""/>
          <p:cNvPicPr/>
          <p:nvPr/>
        </p:nvPicPr>
        <p:blipFill>
          <a:blip r:embed="rId2"/>
          <a:stretch/>
        </p:blipFill>
        <p:spPr>
          <a:xfrm>
            <a:off x="841320" y="201600"/>
            <a:ext cx="7388280" cy="156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ext Box 8" descr=""/>
          <p:cNvPicPr/>
          <p:nvPr/>
        </p:nvPicPr>
        <p:blipFill>
          <a:blip r:embed="rId3"/>
          <a:stretch/>
        </p:blipFill>
        <p:spPr>
          <a:xfrm>
            <a:off x="4724280" y="2462040"/>
            <a:ext cx="4303800" cy="3232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1" name="Picture 3" descr="C:\Documents and Settings\User\Мои документы\Загрузки\для Саши\Храм Амона\2.jpg"/>
          <p:cNvPicPr/>
          <p:nvPr/>
        </p:nvPicPr>
        <p:blipFill>
          <a:blip r:embed="rId2"/>
          <a:stretch/>
        </p:blipFill>
        <p:spPr>
          <a:xfrm>
            <a:off x="22096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" descr=""/>
          <p:cNvPicPr/>
          <p:nvPr/>
        </p:nvPicPr>
        <p:blipFill>
          <a:blip r:embed="rId3"/>
          <a:stretch/>
        </p:blipFill>
        <p:spPr>
          <a:xfrm>
            <a:off x="4041720" y="6108840"/>
            <a:ext cx="5102280" cy="6886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384120" y="-96840"/>
            <a:ext cx="822960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04920" y="12952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 Gothic"/>
              </a:rPr>
              <a:t>экспериментальная хим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глубились и расширились знания о веществах и химических процесс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"/>
          <p:cNvSpPr/>
          <p:nvPr/>
        </p:nvSpPr>
        <p:spPr>
          <a:xfrm>
            <a:off x="2057400" y="487692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арацель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АРАЦЕЛЬС (1493-1541), врач и естествоиспытатель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дин из основателей – «отец» ятрохимии – науки о лекарств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овал внедрению химических препаратов в медицин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1" name="Picture 6" descr="Парацельс"/>
          <p:cNvPicPr/>
          <p:nvPr/>
        </p:nvPicPr>
        <p:blipFill>
          <a:blip r:embed="rId1"/>
          <a:stretch/>
        </p:blipFill>
        <p:spPr>
          <a:xfrm>
            <a:off x="533520" y="1600200"/>
            <a:ext cx="2703240" cy="42577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Заголовок 2"/>
          <p:cNvGrpSpPr/>
          <p:nvPr/>
        </p:nvGrpSpPr>
        <p:grpSpPr>
          <a:xfrm>
            <a:off x="401760" y="579600"/>
            <a:ext cx="8340480" cy="1176120"/>
            <a:chOff x="401760" y="579600"/>
            <a:chExt cx="8340480" cy="1176120"/>
          </a:xfrm>
        </p:grpSpPr>
        <p:pic>
          <p:nvPicPr>
            <p:cNvPr id="164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01760" y="579600"/>
              <a:ext cx="8340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7621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Роберт Бойль (1627-1691 гг.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" y="1523880"/>
            <a:ext cx="5029200" cy="51055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снователь  аналитической химии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торонник атомизм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риготовил первый индикатор – реактив, изменяющий свою окраску в присутствии кисло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7" name="Picture 2" descr="C:\Documents and Settings\User\Мои документы\Загрузки\для Саши\Боиль\BOYLE.JPG"/>
          <p:cNvPicPr/>
          <p:nvPr/>
        </p:nvPicPr>
        <p:blipFill>
          <a:blip r:embed="rId2"/>
          <a:stretch/>
        </p:blipFill>
        <p:spPr>
          <a:xfrm>
            <a:off x="5715000" y="213372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нтуан Лоран Лавуазье(1743-1794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" name="Содержимое 1"/>
          <p:cNvGrpSpPr/>
          <p:nvPr/>
        </p:nvGrpSpPr>
        <p:grpSpPr>
          <a:xfrm>
            <a:off x="4054320" y="1901880"/>
            <a:ext cx="4997520" cy="4657680"/>
            <a:chOff x="4054320" y="1901880"/>
            <a:chExt cx="4997520" cy="4657680"/>
          </a:xfrm>
        </p:grpSpPr>
        <p:pic>
          <p:nvPicPr>
            <p:cNvPr id="172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054320" y="1901880"/>
              <a:ext cx="499752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91120" y="1981080"/>
              <a:ext cx="47242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положил, что атмосферный воздух имеет сложный сост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основы кислородной теории гор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ыявил суть процессов дых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ложил новую номенклатуру химических со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Picture 2" descr="C:\Documents and Settings\User\Мои документы\Загрузки\для Саши\лавуазье\33e15b432c7b16d85194a2064d3.jpg"/>
          <p:cNvPicPr/>
          <p:nvPr/>
        </p:nvPicPr>
        <p:blipFill>
          <a:blip r:embed="rId2"/>
          <a:stretch/>
        </p:blipFill>
        <p:spPr>
          <a:xfrm>
            <a:off x="380880" y="1828800"/>
            <a:ext cx="3581640" cy="4722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ихаил Васильевич Ломоносов (1711-1765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8" name="Содержимое 1"/>
          <p:cNvGrpSpPr/>
          <p:nvPr/>
        </p:nvGrpSpPr>
        <p:grpSpPr>
          <a:xfrm>
            <a:off x="4121280" y="2133720"/>
            <a:ext cx="4717800" cy="1603080"/>
            <a:chOff x="4121280" y="2133720"/>
            <a:chExt cx="4717800" cy="1603080"/>
          </a:xfrm>
        </p:grpSpPr>
        <p:pic>
          <p:nvPicPr>
            <p:cNvPr id="179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121280" y="2133720"/>
              <a:ext cx="471780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267080" y="2209680"/>
              <a:ext cx="44960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именял точные измерения при изучении химических реакци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3" descr="C:\Documents and Settings\User\Мои документы\Загрузки\для Саши\Ломоносов\timeline-lomonosov.jpg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501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Содержимое 1"/>
          <p:cNvGrpSpPr/>
          <p:nvPr/>
        </p:nvGrpSpPr>
        <p:grpSpPr>
          <a:xfrm>
            <a:off x="4194000" y="4078440"/>
            <a:ext cx="4700880" cy="1736640"/>
            <a:chOff x="4194000" y="4078440"/>
            <a:chExt cx="4700880" cy="1736640"/>
          </a:xfrm>
        </p:grpSpPr>
        <p:pic>
          <p:nvPicPr>
            <p:cNvPr id="183" name="Содержимое 1" descr=""/>
            <p:cNvPicPr/>
            <p:nvPr/>
          </p:nvPicPr>
          <p:blipFill>
            <a:blip r:embed="rId3"/>
            <a:stretch/>
          </p:blipFill>
          <p:spPr>
            <a:xfrm>
              <a:off x="4194000" y="4078440"/>
              <a:ext cx="4700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43400" y="4191120"/>
              <a:ext cx="4495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закон сохранения массы веществ в химических реакц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3390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БЕРЦЕЛИУС Йёнс Якоб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779 г. - 1848 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643200" cy="477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ые обозначения химических эле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ервые ввёл формулы химических соединени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Заголовок 4"/>
          <p:cNvGrpSpPr/>
          <p:nvPr/>
        </p:nvGrpSpPr>
        <p:grpSpPr>
          <a:xfrm>
            <a:off x="219240" y="347760"/>
            <a:ext cx="8699400" cy="1279440"/>
            <a:chOff x="219240" y="347760"/>
            <a:chExt cx="8699400" cy="1279440"/>
          </a:xfrm>
        </p:grpSpPr>
        <p:pic>
          <p:nvPicPr>
            <p:cNvPr id="19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219240" y="347760"/>
              <a:ext cx="8699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457200"/>
              <a:ext cx="8229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Джон Дальтон (1766-1844 гг.)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User\Мои документы\Загрузки\для Саши\Дальтон\200px-John_Pond.jpg"/>
          <p:cNvPicPr/>
          <p:nvPr/>
        </p:nvPicPr>
        <p:blipFill>
          <a:blip r:embed="rId2"/>
          <a:stretch/>
        </p:blipFill>
        <p:spPr>
          <a:xfrm>
            <a:off x="609480" y="2135160"/>
            <a:ext cx="3581640" cy="422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419360" y="2742840"/>
            <a:ext cx="4421160" cy="29718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кспериментально подтвердил атомистическ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л атомно-молекулярн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ел понятие атомной масс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2133720" y="304920"/>
            <a:ext cx="411480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Д. 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1834-19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ext Box 4" descr=""/>
          <p:cNvPicPr/>
          <p:nvPr/>
        </p:nvPicPr>
        <p:blipFill>
          <a:blip r:embed="rId1"/>
          <a:stretch/>
        </p:blipFill>
        <p:spPr>
          <a:xfrm>
            <a:off x="231840" y="1511280"/>
            <a:ext cx="868680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таблица"/>
          <p:cNvPicPr/>
          <p:nvPr/>
        </p:nvPicPr>
        <p:blipFill>
          <a:blip r:embed="rId2"/>
          <a:stretch/>
        </p:blipFill>
        <p:spPr>
          <a:xfrm>
            <a:off x="228600" y="28195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E:\Загрузки\mendeleev.jpg"/>
          <p:cNvPicPr/>
          <p:nvPr/>
        </p:nvPicPr>
        <p:blipFill>
          <a:blip r:embed="rId3"/>
          <a:stretch/>
        </p:blipFill>
        <p:spPr>
          <a:xfrm>
            <a:off x="4857840" y="320040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5640" y="45716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.Н. Бекет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5" descr="Бекетов"/>
          <p:cNvPicPr/>
          <p:nvPr/>
        </p:nvPicPr>
        <p:blipFill>
          <a:blip r:embed="rId1"/>
          <a:stretch/>
        </p:blipFill>
        <p:spPr>
          <a:xfrm>
            <a:off x="0" y="3886200"/>
            <a:ext cx="24764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55627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крыл ряд активности метал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7" descr="Лебедев"/>
          <p:cNvPicPr/>
          <p:nvPr/>
        </p:nvPicPr>
        <p:blipFill>
          <a:blip r:embed="rId2"/>
          <a:stretch/>
        </p:blipFill>
        <p:spPr>
          <a:xfrm>
            <a:off x="6656400" y="2057400"/>
            <a:ext cx="2487600" cy="2984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3200400" y="2438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.В. Лебед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733920" y="327672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ил первый синтетический 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2514600" y="4572000"/>
            <a:ext cx="396252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2895480" y="2209680"/>
            <a:ext cx="3657600" cy="152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809880" y="838080"/>
            <a:ext cx="426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здал теорию строения органическ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114800" y="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.М. Бутл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Бутлеров"/>
          <p:cNvPicPr/>
          <p:nvPr/>
        </p:nvPicPr>
        <p:blipFill>
          <a:blip r:embed="rId3"/>
          <a:stretch/>
        </p:blipFill>
        <p:spPr>
          <a:xfrm>
            <a:off x="152280" y="0"/>
            <a:ext cx="2676600" cy="3211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.П. Аносо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Аносов"/>
          <p:cNvPicPr/>
          <p:nvPr/>
        </p:nvPicPr>
        <p:blipFill>
          <a:blip r:embed="rId1"/>
          <a:stretch/>
        </p:blipFill>
        <p:spPr>
          <a:xfrm>
            <a:off x="1692360" y="1989000"/>
            <a:ext cx="2852640" cy="3841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еталлург, изобрёл способ закалки стали. Раскрыл секрет получения булатной ста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исхождение слова «химия» не имеет однозначного толк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течении алхимического периода (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-XV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в.) зародилась экспериментальная химия, накопились знания о веществ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и длится до наших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66680" y="922320"/>
            <a:ext cx="6878880" cy="59356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411280" y="549360"/>
            <a:ext cx="453708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3492360" y="1341360"/>
            <a:ext cx="50328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643280" y="1341360"/>
            <a:ext cx="1081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867280" y="126828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0920" y="2349360"/>
            <a:ext cx="288108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403280" y="4149720"/>
            <a:ext cx="295272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859280" y="3933720"/>
            <a:ext cx="360036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пробл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х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5867280" y="2276640"/>
            <a:ext cx="3097440" cy="12967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повседне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изн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1440" y="236844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H="1">
            <a:off x="3492360" y="1341360"/>
            <a:ext cx="5032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40" name="Diagram 2"/>
          <p:cNvGrpSpPr/>
          <p:nvPr/>
        </p:nvGrpSpPr>
        <p:grpSpPr>
          <a:xfrm>
            <a:off x="457200" y="1600200"/>
            <a:ext cx="8228880" cy="4525560"/>
            <a:chOff x="457200" y="1600200"/>
            <a:chExt cx="8228880" cy="4525560"/>
          </a:xfrm>
        </p:grpSpPr>
        <p:sp>
          <p:nvSpPr>
            <p:cNvPr id="241" name="_s38916"/>
            <p:cNvSpPr/>
            <p:nvPr/>
          </p:nvSpPr>
          <p:spPr>
            <a:xfrm flipH="1" flipV="1">
              <a:off x="2931840" y="3218040"/>
              <a:ext cx="825480" cy="364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8917"/>
            <p:cNvSpPr/>
            <p:nvPr/>
          </p:nvSpPr>
          <p:spPr>
            <a:xfrm>
              <a:off x="1065240" y="2265480"/>
              <a:ext cx="2096280" cy="1175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Бытов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прибо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38918"/>
            <p:cNvSpPr/>
            <p:nvPr/>
          </p:nvSpPr>
          <p:spPr>
            <a:xfrm flipH="1">
              <a:off x="2530440" y="4079880"/>
              <a:ext cx="1022760" cy="13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8919"/>
            <p:cNvSpPr/>
            <p:nvPr/>
          </p:nvSpPr>
          <p:spPr>
            <a:xfrm>
              <a:off x="457200" y="374580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ИК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38920"/>
            <p:cNvSpPr/>
            <p:nvPr/>
          </p:nvSpPr>
          <p:spPr>
            <a:xfrm flipH="1">
              <a:off x="3666600" y="4478760"/>
              <a:ext cx="45324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38921"/>
            <p:cNvSpPr/>
            <p:nvPr/>
          </p:nvSpPr>
          <p:spPr>
            <a:xfrm>
              <a:off x="2169000" y="495036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медиц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8922"/>
            <p:cNvSpPr/>
            <p:nvPr/>
          </p:nvSpPr>
          <p:spPr>
            <a:xfrm>
              <a:off x="5029560" y="4478760"/>
              <a:ext cx="45612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8923"/>
            <p:cNvSpPr/>
            <p:nvPr/>
          </p:nvSpPr>
          <p:spPr>
            <a:xfrm>
              <a:off x="4893840" y="4946400"/>
              <a:ext cx="2096280" cy="1175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Бытова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хим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8924"/>
            <p:cNvSpPr/>
            <p:nvPr/>
          </p:nvSpPr>
          <p:spPr>
            <a:xfrm>
              <a:off x="5595480" y="4079880"/>
              <a:ext cx="1022760" cy="13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8925"/>
            <p:cNvSpPr/>
            <p:nvPr/>
          </p:nvSpPr>
          <p:spPr>
            <a:xfrm>
              <a:off x="6589080" y="375120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ahoma"/>
                  <a:ea typeface="Arial"/>
                </a:rPr>
                <a:t>одеж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8926"/>
            <p:cNvSpPr/>
            <p:nvPr/>
          </p:nvSpPr>
          <p:spPr>
            <a:xfrm flipV="1">
              <a:off x="5392080" y="3216240"/>
              <a:ext cx="817920" cy="365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8927"/>
            <p:cNvSpPr/>
            <p:nvPr/>
          </p:nvSpPr>
          <p:spPr>
            <a:xfrm>
              <a:off x="5980680" y="226188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редст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гигиен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8928"/>
            <p:cNvSpPr/>
            <p:nvPr/>
          </p:nvSpPr>
          <p:spPr>
            <a:xfrm flipV="1">
              <a:off x="4573080" y="2775240"/>
              <a:ext cx="0" cy="58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929"/>
            <p:cNvSpPr/>
            <p:nvPr/>
          </p:nvSpPr>
          <p:spPr>
            <a:xfrm>
              <a:off x="3524400" y="1600200"/>
              <a:ext cx="2097000" cy="11750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Arial"/>
                  <a:ea typeface="Arial"/>
                </a:rPr>
                <a:t>Пит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930"/>
            <p:cNvSpPr/>
            <p:nvPr/>
          </p:nvSpPr>
          <p:spPr>
            <a:xfrm>
              <a:off x="3136320" y="3339360"/>
              <a:ext cx="2876400" cy="1257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отреб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2" descr="E:\Загрузки\ima3424ges.jpg"/>
          <p:cNvPicPr/>
          <p:nvPr/>
        </p:nvPicPr>
        <p:blipFill>
          <a:blip r:embed="rId1"/>
          <a:stretch/>
        </p:blipFill>
        <p:spPr>
          <a:xfrm>
            <a:off x="0" y="30492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Загрузки\im965ages.jpg"/>
          <p:cNvPicPr/>
          <p:nvPr/>
        </p:nvPicPr>
        <p:blipFill>
          <a:blip r:embed="rId2"/>
          <a:stretch/>
        </p:blipFill>
        <p:spPr>
          <a:xfrm>
            <a:off x="7005600" y="4986360"/>
            <a:ext cx="2138400" cy="1871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6"/>
          <p:cNvSpPr/>
          <p:nvPr/>
        </p:nvSpPr>
        <p:spPr>
          <a:xfrm>
            <a:off x="2666880" y="1523880"/>
            <a:ext cx="3048120" cy="1338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ahom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755640" y="2781360"/>
            <a:ext cx="1511280" cy="1008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Сырь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4648320" y="3352680"/>
            <a:ext cx="2449440" cy="720720"/>
          </a:xfrm>
          <a:prstGeom prst="ellipse">
            <a:avLst/>
          </a:prstGeom>
          <a:solidFill>
            <a:srgbClr val="fd5e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ппа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1547640" y="4437000"/>
            <a:ext cx="2016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Энерг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733920" y="4724280"/>
            <a:ext cx="4464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и другие вспомогательны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195640" y="249228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3059280" y="2781360"/>
            <a:ext cx="79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34800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4356000" y="2781360"/>
            <a:ext cx="0" cy="2162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876920" y="2743200"/>
            <a:ext cx="660240" cy="65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E:\Загрузки\image1s.jpg"/>
          <p:cNvPicPr/>
          <p:nvPr/>
        </p:nvPicPr>
        <p:blipFill>
          <a:blip r:embed="rId1"/>
          <a:stretch/>
        </p:blipFill>
        <p:spPr>
          <a:xfrm>
            <a:off x="152280" y="4572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E:\Загрузки\imag7674es.jpg"/>
          <p:cNvPicPr/>
          <p:nvPr/>
        </p:nvPicPr>
        <p:blipFill>
          <a:blip r:embed="rId2"/>
          <a:stretch/>
        </p:blipFill>
        <p:spPr>
          <a:xfrm>
            <a:off x="6665760" y="1143000"/>
            <a:ext cx="2478240" cy="24782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 химии известный ученый М.В. Ломоносов сказал следующ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«Широко распростирает химия руки свои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365040" y="1590840"/>
            <a:ext cx="8334360" cy="511488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4"/>
          <p:cNvSpPr/>
          <p:nvPr/>
        </p:nvSpPr>
        <p:spPr>
          <a:xfrm>
            <a:off x="609480" y="2438280"/>
            <a:ext cx="27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219240" y="1328760"/>
            <a:ext cx="8400960" cy="53164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6"/>
          <p:cNvSpPr/>
          <p:nvPr/>
        </p:nvSpPr>
        <p:spPr>
          <a:xfrm>
            <a:off x="3124080" y="2819520"/>
            <a:ext cx="289584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грязнение 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E:\Загрузки\set_56.jpg"/>
          <p:cNvPicPr/>
          <p:nvPr/>
        </p:nvPicPr>
        <p:blipFill>
          <a:blip r:embed="rId2"/>
          <a:stretch/>
        </p:blipFill>
        <p:spPr>
          <a:xfrm>
            <a:off x="3886200" y="419112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80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entury Gothic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0" y="762120"/>
            <a:ext cx="4429080" cy="16761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entury Gothic"/>
              </a:rPr>
              <a:t>Химия</a:t>
            </a: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 – наука о веществ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х свойств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взаимных превращени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 процессах, их сопровождающих</a:t>
            </a:r>
            <a:r>
              <a:rPr b="0" lang="ru-RU" sz="2000" spc="-1" strike="noStrike">
                <a:solidFill>
                  <a:srgbClr val="0076a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80880" y="25909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Century Gothic"/>
              </a:rPr>
              <a:t>одна из </a:t>
            </a:r>
            <a:r>
              <a:rPr b="1" i="1" lang="ru-RU" sz="1800" spc="-1" strike="noStrike">
                <a:solidFill>
                  <a:srgbClr val="072428"/>
                </a:solidFill>
                <a:latin typeface="Century Gothic"/>
              </a:rPr>
              <a:t>естественных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E:\документы\Мои документы\Я-учитель\Уроки\Химия\Картинки\Новая папка\35574.gif"/>
          <p:cNvPicPr/>
          <p:nvPr/>
        </p:nvPicPr>
        <p:blipFill>
          <a:blip r:embed="rId1"/>
          <a:stretch/>
        </p:blipFill>
        <p:spPr>
          <a:xfrm>
            <a:off x="3828960" y="3809880"/>
            <a:ext cx="53150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документы\Мои документы\Я-учитель\Уроки\Химия\Картинки\Новая папка\1196.jpg"/>
          <p:cNvPicPr/>
          <p:nvPr/>
        </p:nvPicPr>
        <p:blipFill>
          <a:blip r:embed="rId2"/>
          <a:stretch/>
        </p:blipFill>
        <p:spPr>
          <a:xfrm>
            <a:off x="228600" y="3524400"/>
            <a:ext cx="3279600" cy="333360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1"/>
          <p:cNvSpPr/>
          <p:nvPr/>
        </p:nvSpPr>
        <p:spPr>
          <a:xfrm>
            <a:off x="60721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Хим.элеме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со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кономерности хим.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3929040" y="2286000"/>
            <a:ext cx="142884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ПРЕДМЕТ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3"/>
          <p:cNvSpPr/>
          <p:nvPr/>
        </p:nvSpPr>
        <p:spPr>
          <a:xfrm>
            <a:off x="5357880" y="2500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6572160" y="100008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учение веществ с заранее заданны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4714920" y="857160"/>
            <a:ext cx="128592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ЗАДАЧ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>
            <a:off x="6000840" y="1071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щество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о, из чего состоят физические те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Picture 17" descr="брызги моря"/>
          <p:cNvPicPr/>
          <p:nvPr/>
        </p:nvPicPr>
        <p:blipFill>
          <a:blip r:embed="rId1"/>
          <a:stretch/>
        </p:blipFill>
        <p:spPr>
          <a:xfrm>
            <a:off x="380880" y="144792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Айсберг"/>
          <p:cNvPicPr/>
          <p:nvPr/>
        </p:nvPicPr>
        <p:blipFill>
          <a:blip r:embed="rId2"/>
          <a:stretch/>
        </p:blipFill>
        <p:spPr>
          <a:xfrm>
            <a:off x="4824360" y="3886200"/>
            <a:ext cx="4319640" cy="275580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5029200" y="16002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вещ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г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14400" y="45720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изических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т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й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М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Кув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вязь химии с другими наука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420840" y="1643040"/>
            <a:ext cx="9564840" cy="38433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Тенденции развития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2" name="Picture 2" descr="на схеме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f3db"/>
                </a:solidFill>
                <a:latin typeface="Century Gothic"/>
              </a:rPr>
              <a:t>Происхождение термина “химия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чки зрения на происхождение слова хим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   </a:t>
            </a:r>
            <a:r>
              <a:rPr b="0" lang="ru-RU" sz="2400" spc="-1" strike="noStrike">
                <a:solidFill>
                  <a:srgbClr val="b5ed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е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земля). Это древнее название Египта, где зародилась наука хим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г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греч.) - «литье» металлов (глагол хго — «лью»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го же корня и греч.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о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— «сок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им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китайск.) — «золото». Тогда химию можно толковать как златодел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ос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Химическое производство существовало уже за 3 – 4 тысячи лет до н. э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12" descr="сканирование0006"/>
          <p:cNvPicPr/>
          <p:nvPr/>
        </p:nvPicPr>
        <p:blipFill>
          <a:blip r:embed="rId1"/>
          <a:stretch/>
        </p:blipFill>
        <p:spPr>
          <a:xfrm>
            <a:off x="838080" y="3429000"/>
            <a:ext cx="770580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Галочка</dc:creator>
  <dc:description/>
  <dc:language>en-US</dc:language>
  <cp:lastModifiedBy>LEGION</cp:lastModifiedBy>
  <dcterms:modified xsi:type="dcterms:W3CDTF">2015-05-01T11:16:35Z</dcterms:modified>
  <cp:revision>85</cp:revision>
  <dc:subject/>
  <dc:title>История развития химии</dc:title>
</cp:coreProperties>
</file>