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8.wmf" ContentType="image/x-wmf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wmf" ContentType="image/x-wmf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50.wmf" ContentType="image/x-wmf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584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968400" y="747720"/>
            <a:ext cx="4921200" cy="368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584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6C59-FBAA-40A0-AA68-E79776C3F91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B28A-E21E-43B2-B94E-742F5AF551F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Электронное строение атомов элем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C9BA-B148-4D95-9D67-699ADA94889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p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Форм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электронного облак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-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объёмная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восьмёрк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На 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нем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от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 </a:t>
            </a:r>
            <a:r>
              <a:rPr b="0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до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 6 электронов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B6B9-8DF6-4423-B3A7-5FA915808D8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d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Форм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-электронных облаков - </a:t>
            </a:r>
            <a:r>
              <a:rPr b="1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две объемные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восьмёрк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На 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</a:rPr>
              <a:t>нем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от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до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6C5D-68B5-4673-A769-41A62D59553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f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а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электронных облаков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сложна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в школьных учебниках не приводится. Н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15EC-0E1E-4F28-B187-B7357A4C725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в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одор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 этого атома при вращении образует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сферическое обла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1</a:t>
            </a:r>
            <a:r>
              <a:rPr b="1" lang="en-US" sz="11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Н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о схема строения атома. Здесь </a:t>
            </a:r>
            <a:r>
              <a:rPr b="0" i="1" lang="en-US" sz="1200" spc="-1" strike="noStrike">
                <a:solidFill>
                  <a:srgbClr val="dd23d0"/>
                </a:solidFill>
                <a:latin typeface="Times New Roman"/>
              </a:rPr>
              <a:t>на первом месте - заряд ядра</a:t>
            </a:r>
            <a:r>
              <a:rPr b="0" lang="en-US" sz="1200" spc="-1" strike="noStrike">
                <a:solidFill>
                  <a:srgbClr val="dd23d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на втором месте - химическое обозначени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далее - одна орбита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200" spc="-1" strike="noStrike">
                <a:solidFill>
                  <a:srgbClr val="dd23d0"/>
                </a:solidFill>
                <a:latin typeface="Times New Roman"/>
              </a:rPr>
              <a:t>электроны на не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</a:t>
            </a:r>
            <a:r>
              <a:rPr b="0" lang="en-US" sz="1200" spc="-1" strike="noStrike" baseline="30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электронная формула атом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FCB6-D3EF-46F2-9889-5139E281F17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г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ел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Не )</a:t>
            </a: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электронная формула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Здесь два s-электрона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Облака их одинаковой формы и при совмещении образуют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общее двухэлектронное облако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 такие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электрон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говорят, что они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спарен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C473-4F63-4ADE-883D-F91552207A0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л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0000">
                <a:solidFill>
                  <a:srgbClr val="ff0033"/>
                </a:solidFill>
                <a:latin typeface="Times New Roman"/>
              </a:rPr>
              <a:t>+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Li  )</a:t>
            </a:r>
            <a:r>
              <a:rPr b="1" lang="en-US" sz="1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 2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электронная форму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мен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располагается во </a:t>
            </a:r>
            <a:r>
              <a:rPr b="0" lang="en-US" sz="1200" spc="-1" strike="noStrike">
                <a:solidFill>
                  <a:srgbClr val="cc9900"/>
                </a:solidFill>
                <a:latin typeface="Times New Roman"/>
              </a:rPr>
              <a:t>втором перио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имеет два электронных сло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B94B-06D0-4B20-AD21-D521509E8D5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б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ерилл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+4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Be )</a:t>
            </a: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)</a:t>
            </a: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2s</a:t>
            </a:r>
            <a:r>
              <a:rPr b="1" lang="en-US" sz="1200" spc="-1" strike="noStrike" baseline="30000">
                <a:solidFill>
                  <a:srgbClr val="ff33cc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этом атоме имеется два спаренных s-электрона во внутреннем слое и два спаренных s-электрона в наружн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B653-7FF9-4E86-A826-B7E288F4743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гле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+6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С ) </a:t>
            </a: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) </a:t>
            </a: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s 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p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cc99"/>
                </a:solidFill>
                <a:uFillTx/>
                <a:latin typeface="Times New Roman"/>
              </a:rPr>
              <a:t>В обычном состоя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атом углерода </a:t>
            </a:r>
            <a:r>
              <a:rPr b="0" lang="en-US" sz="1200" spc="-1" strike="noStrike" u="sng">
                <a:solidFill>
                  <a:srgbClr val="00cc99"/>
                </a:solidFill>
                <a:uFillTx/>
                <a:latin typeface="Times New Roman"/>
              </a:rPr>
              <a:t>двухваленте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s </a:t>
            </a:r>
            <a:r>
              <a:rPr b="1" lang="ru-RU" sz="1200" spc="-1" strike="noStrike" baseline="30000">
                <a:solidFill>
                  <a:srgbClr val="b2b2b2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p</a:t>
            </a:r>
            <a:r>
              <a:rPr b="1" lang="ru-RU" sz="1200" spc="-1" strike="noStrike" baseline="30000">
                <a:solidFill>
                  <a:srgbClr val="b2b2b2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В возбужденном состоя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(получил дополнительное количество энергии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атом углерода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четырёхвалентен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х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о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17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Cl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ccccff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00cc99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ccccff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p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6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3s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3p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 располагается в </a:t>
            </a:r>
            <a:r>
              <a:rPr b="0" i="1" lang="en-US" sz="1200" spc="-1" strike="noStrike">
                <a:solidFill>
                  <a:srgbClr val="cc9900"/>
                </a:solidFill>
                <a:latin typeface="Times New Roman"/>
              </a:rPr>
              <a:t>III перио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и имеет </a:t>
            </a:r>
            <a:r>
              <a:rPr b="0" i="1" lang="en-US" sz="1200" spc="-1" strike="noStrike">
                <a:solidFill>
                  <a:srgbClr val="cc9900"/>
                </a:solidFill>
                <a:latin typeface="Times New Roman"/>
              </a:rPr>
              <a:t>три энергетических уровн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 располагается в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VII групп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главной подгрупп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на внешнем энергетическом уровне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7 электрон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94FE-39EE-4049-8C19-2748AF618C1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ADDF-5F24-4713-B6CE-9019F481E17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уществуют 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располагаются вокруг ядра слоями (уровням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распределяются по уровням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2, 8, 18, 3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F36F-E024-434D-B19C-924F760AA59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Число электронов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атоме элемента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числу протонов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=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заряду ядра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атома =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порядковому номеру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элемента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Электроны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атомах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располагаются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слоям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число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слоё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энергетических уровней)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номеру период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в котором находится элемен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B362-BD85-4FD8-9E5A-6E57F9BCF89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Домашне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з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Выучи</a:t>
            </a:r>
            <a:r>
              <a:rPr b="0" lang="ru-RU" sz="1400" spc="-1" strike="noStrike">
                <a:solidFill>
                  <a:srgbClr val="00cc99"/>
                </a:solidFill>
                <a:latin typeface="Times New Roman"/>
              </a:rPr>
              <a:t>ть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араграф </a:t>
            </a: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Ответи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т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на вопросы </a:t>
            </a:r>
            <a:r>
              <a:rPr b="0" lang="ru-RU" sz="14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400" spc="-1" strike="noStrike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есть большое жел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лучить хорошую оценку, то необходимо 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выполни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пражнения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3 и 4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66ED-D1CB-4266-9D6C-1F774413A7C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Число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электронов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в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наружном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слое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ов элементов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номеру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групп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в котором находится элемент. </a:t>
            </a:r>
            <a:r>
              <a:rPr b="0" i="1" lang="en-US" sz="1200" spc="-1" strike="noStrike">
                <a:solidFill>
                  <a:srgbClr val="dd23d0"/>
                </a:solidFill>
                <a:latin typeface="Times New Roman"/>
              </a:rPr>
              <a:t>(Для элементов главных подгрупп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движутся вокруг ядра с огромной скоростью по орбиталям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ространств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иболе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 Condensed"/>
              </a:rPr>
              <a:t>вероятн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нахожден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, называют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электронным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облаком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7A70-DB4E-4E23-BCCB-CDF053E381E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N=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n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ула для вычисления 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количества электронов 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нергетических 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уровня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BEA2-C384-44A9-8F7B-FE4AFE3A173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A2BF-DD5A-465A-9D00-7CC4D8966C7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E280-5CDE-4DE7-8103-58E98304732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C4CF-1FC5-48F0-A1C8-18505D75A96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2FBD-08A2-41CD-9C9B-6D218562A93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s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а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электронного облака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-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шар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м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-2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электрон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4C0-B3E6-47EB-897D-B13939B2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C37-88B8-4D4A-8F45-FAE7094D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9A0-9A1E-463B-82EC-D4E8349A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EDAF-96D1-4A5A-A05F-265A0962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142C-AE02-4C83-B6C9-825E1D88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A17E-9449-42EA-AB18-CEF0A9A1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73D0-CD3F-4394-AD69-9898B9E7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2288-8C68-4A9C-88E3-7D358BC4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4A7F-3088-44C6-8CA5-D957272D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BF36-E5FB-4856-903A-F9ABAA5D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13D3-62E6-44B6-8F52-16F8D731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A98-B238-4794-B22E-4D45264F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AED6-0662-40E8-9846-99055C7A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D8C5-D97C-4406-8402-E4F0F283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B469-E614-49F4-919E-0CB97FE7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C61B-E08D-4CD5-A4FC-1BEE8C88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4D54-5732-45C0-AF30-F442D923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5EC84-B176-4C55-97B1-2B095E2D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FE15A-AE79-4D84-8F90-3E99AE4D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073EC-3090-4BE2-9E48-C37CB169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1810-3A7E-4E13-B508-75D69D38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E1D34-F24C-44C3-9419-05295630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C29-29C2-4942-B079-33757B36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E3939-F8F3-41A3-A1BF-BFFBDBD5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38FD4-AA4F-4B5B-A4FE-F0ECB7B6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9EC06-31F5-4F5D-9A02-7B9FDBCD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B538A-E71C-4365-8296-4149DE60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6AFCF-4402-4D2F-966F-57B69926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1F466-AFE8-4261-92C2-972D5D39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DE37D-7E15-468E-8659-D772EA1A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436D7-EEBF-4EFE-B9DE-BF9FD8AC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FFD79-44D8-48CD-9625-09A0EE40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C11FA-F1A6-4BD0-9ECF-037EDA78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BC6-B773-4094-A736-67CA5808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5B09F-FA3B-4965-BF65-177ABC89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01F9B-5D4D-40F8-ABE6-8F5AA9D4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B80AE-2A1A-43AA-9396-90B46BC8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B5088-4F5C-4060-9CC0-19823BDD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FF0FB-509D-45F1-8C59-BA207C9F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A8737-598A-47F4-8F59-F50F1E96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2BEC6-F30B-4D2E-9712-20830850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D7193-627D-4F7F-B1E0-4D962257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BC484-FE23-450C-9E5D-BC91EBAA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29059-C9E5-49C8-B1C8-F2FDA47D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9207-D859-4712-AC43-F6479F47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7A29F-B510-4837-91A7-5EF89F90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7BB77-E753-4E84-80CD-8E7BF14D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2C6C8-224E-41E3-B588-7605C3EC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7AAF8-7D87-4D30-BABB-05CF082C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A6039-6B34-44D9-9D10-39AE754A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A091D-3FC1-4FF8-A7A9-D3238299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5E38C-DDFD-419A-8A45-7C78D112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78DD8-9CE2-419E-89AC-44FEA79D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1EDC6-0E82-472E-9A13-4A6FD55F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A7EC7-D93E-4294-BD13-9973E4B2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5635-4644-4DF8-847C-0F4E1AD4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DDBEC-C3C9-47B9-A7D7-204B2F81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1156E-6E21-4BFA-83AA-1FE44C03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C88FB-5637-43D8-A0F9-CACA61E1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C75E9-5BBC-45DF-9F0E-43C77812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4F615-0CFB-4C68-A5C9-86E23767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02901-14F8-4811-BE2C-4CCCC2E1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8E9BD-2DAF-4304-968F-7ABE479D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B07EF-55D3-49C2-AFCB-D8C99C3F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47403-4F63-4393-B07D-A59C5935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59B16-2E67-451E-B706-619EA962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C31-2435-4910-97ED-0958C7C8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8E74C-CBE8-4B81-A087-8F721E57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701A5-CECC-4DE3-BA6C-2BA38ACD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4AF62-7298-428F-9F9F-7FD1DFC9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2DC43-5B02-4158-86CF-4CF4CA0D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FCB6F-028C-4F0A-A48F-BEEAA1C7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4EF41-7A33-487C-BC4E-C1FF0F6B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02AF0-A619-475C-8553-08135031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CB6AE-6D62-4BC0-99B9-F956468F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87DD2-06F7-4C8C-99B2-2646CB5C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42318-AA3C-42A4-9429-BE0670F3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C5EF-185D-4CF4-ABD5-9F1EA91F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C02C9-5E66-4C36-B33E-CFCA61FB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D5457-78BA-4AC7-A46B-3AA90CF0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3DFA2-9A5C-4568-85AD-AF69DBD6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EE803-41FC-4BF5-851C-B7B41606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AE3E2-1F2E-49BE-B5EA-1B944A5C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B0887-4101-4A5B-BB60-1EB1F69B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4F3D8-93D3-495D-89E4-72D85BEC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DFCC4-C581-492A-9D52-EAA16AEE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90E84-732A-44D3-B918-F79E89EA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0C904-7E85-4AF1-AE2B-DD4BE2A8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C88-A5EB-455D-B347-7B4FBA70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37518-D2C6-4D83-95AF-1BBF87E4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35EF5-2482-463D-BE3B-3A65E17F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7A766-2C2E-4439-9D5B-423F22C2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989A3-BC4C-47C8-A261-BCC70C90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E180C-DF71-4268-92F0-8453310B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52EBC-C3DD-4EE6-821C-1C46AF15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A2864-D47D-467D-A9D3-45B17BBA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BFBD-6E81-4B04-ACAC-9EAE799D7BE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D86A-2912-4427-A312-86DB1633EC1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A7F8-2C2B-4A81-A198-9C164FD8A19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FCA3-746E-4C8A-A291-78AC9208CB2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F5FA-CA16-4E58-8039-143FCCCB209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D116-EDE6-450B-A098-CAB9BFD2574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4363-21C4-4FFA-BDB4-2619D299AE7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79E8-1E6A-45D6-AA35-8C23A241D38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22.png"/><Relationship Id="rId28" Type="http://schemas.openxmlformats.org/officeDocument/2006/relationships/image" Target="../media/image18.png"/><Relationship Id="rId29" Type="http://schemas.openxmlformats.org/officeDocument/2006/relationships/image" Target="../media/image18.png"/><Relationship Id="rId30" Type="http://schemas.openxmlformats.org/officeDocument/2006/relationships/image" Target="../media/image22.png"/><Relationship Id="rId31" Type="http://schemas.openxmlformats.org/officeDocument/2006/relationships/image" Target="../media/image22.png"/><Relationship Id="rId32" Type="http://schemas.openxmlformats.org/officeDocument/2006/relationships/image" Target="../media/image18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2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28.png"/><Relationship Id="rId18" Type="http://schemas.openxmlformats.org/officeDocument/2006/relationships/image" Target="../media/image35.png"/><Relationship Id="rId19" Type="http://schemas.openxmlformats.org/officeDocument/2006/relationships/image" Target="../media/image35.png"/><Relationship Id="rId20" Type="http://schemas.openxmlformats.org/officeDocument/2006/relationships/image" Target="../media/image35.png"/><Relationship Id="rId21" Type="http://schemas.openxmlformats.org/officeDocument/2006/relationships/image" Target="../media/image35.png"/><Relationship Id="rId22" Type="http://schemas.openxmlformats.org/officeDocument/2006/relationships/image" Target="../media/image35.png"/><Relationship Id="rId23" Type="http://schemas.openxmlformats.org/officeDocument/2006/relationships/image" Target="../media/image35.png"/><Relationship Id="rId24" Type="http://schemas.openxmlformats.org/officeDocument/2006/relationships/image" Target="../media/image35.png"/><Relationship Id="rId25" Type="http://schemas.openxmlformats.org/officeDocument/2006/relationships/image" Target="../media/image35.png"/><Relationship Id="rId26" Type="http://schemas.openxmlformats.org/officeDocument/2006/relationships/image" Target="../media/image35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5.png"/><Relationship Id="rId30" Type="http://schemas.openxmlformats.org/officeDocument/2006/relationships/image" Target="../media/image37.png"/><Relationship Id="rId31" Type="http://schemas.openxmlformats.org/officeDocument/2006/relationships/image" Target="../media/image28.png"/><Relationship Id="rId32" Type="http://schemas.openxmlformats.org/officeDocument/2006/relationships/image" Target="../media/image38.png"/><Relationship Id="rId33" Type="http://schemas.openxmlformats.org/officeDocument/2006/relationships/image" Target="../media/image38.png"/><Relationship Id="rId34" Type="http://schemas.openxmlformats.org/officeDocument/2006/relationships/image" Target="../media/image35.png"/><Relationship Id="rId35" Type="http://schemas.openxmlformats.org/officeDocument/2006/relationships/image" Target="../media/image39.png"/><Relationship Id="rId36" Type="http://schemas.openxmlformats.org/officeDocument/2006/relationships/image" Target="../media/image39.png"/><Relationship Id="rId37" Type="http://schemas.openxmlformats.org/officeDocument/2006/relationships/image" Target="../media/image40.png"/><Relationship Id="rId38" Type="http://schemas.openxmlformats.org/officeDocument/2006/relationships/image" Target="../media/image37.png"/><Relationship Id="rId39" Type="http://schemas.openxmlformats.org/officeDocument/2006/relationships/image" Target="../media/image41.png"/><Relationship Id="rId40" Type="http://schemas.openxmlformats.org/officeDocument/2006/relationships/image" Target="../media/image37.png"/><Relationship Id="rId41" Type="http://schemas.openxmlformats.org/officeDocument/2006/relationships/image" Target="../media/image39.png"/><Relationship Id="rId42" Type="http://schemas.openxmlformats.org/officeDocument/2006/relationships/image" Target="../media/image39.png"/><Relationship Id="rId43" Type="http://schemas.openxmlformats.org/officeDocument/2006/relationships/image" Target="../media/image39.png"/><Relationship Id="rId44" Type="http://schemas.openxmlformats.org/officeDocument/2006/relationships/image" Target="../media/image37.png"/><Relationship Id="rId45" Type="http://schemas.openxmlformats.org/officeDocument/2006/relationships/image" Target="../media/image37.png"/><Relationship Id="rId46" Type="http://schemas.openxmlformats.org/officeDocument/2006/relationships/image" Target="../media/image39.png"/><Relationship Id="rId47" Type="http://schemas.openxmlformats.org/officeDocument/2006/relationships/image" Target="../media/image40.png"/><Relationship Id="rId48" Type="http://schemas.openxmlformats.org/officeDocument/2006/relationships/image" Target="../media/image39.png"/><Relationship Id="rId49" Type="http://schemas.openxmlformats.org/officeDocument/2006/relationships/image" Target="../media/image37.png"/><Relationship Id="rId50" Type="http://schemas.openxmlformats.org/officeDocument/2006/relationships/image" Target="../media/image37.png"/><Relationship Id="rId51" Type="http://schemas.openxmlformats.org/officeDocument/2006/relationships/image" Target="../media/image42.png"/><Relationship Id="rId52" Type="http://schemas.openxmlformats.org/officeDocument/2006/relationships/image" Target="../media/image39.png"/><Relationship Id="rId53" Type="http://schemas.openxmlformats.org/officeDocument/2006/relationships/image" Target="../media/image40.png"/><Relationship Id="rId54" Type="http://schemas.openxmlformats.org/officeDocument/2006/relationships/image" Target="../media/image37.png"/><Relationship Id="rId55" Type="http://schemas.openxmlformats.org/officeDocument/2006/relationships/image" Target="../media/image37.png"/><Relationship Id="rId56" Type="http://schemas.openxmlformats.org/officeDocument/2006/relationships/image" Target="../media/image39.png"/><Relationship Id="rId57" Type="http://schemas.openxmlformats.org/officeDocument/2006/relationships/image" Target="../media/image39.png"/><Relationship Id="rId58" Type="http://schemas.openxmlformats.org/officeDocument/2006/relationships/image" Target="../media/image41.png"/><Relationship Id="rId59" Type="http://schemas.openxmlformats.org/officeDocument/2006/relationships/image" Target="../media/image41.png"/><Relationship Id="rId60" Type="http://schemas.openxmlformats.org/officeDocument/2006/relationships/image" Target="../media/image39.png"/><Relationship Id="rId61" Type="http://schemas.openxmlformats.org/officeDocument/2006/relationships/image" Target="../media/image39.png"/><Relationship Id="rId62" Type="http://schemas.openxmlformats.org/officeDocument/2006/relationships/image" Target="../media/image37.png"/><Relationship Id="rId63" Type="http://schemas.openxmlformats.org/officeDocument/2006/relationships/image" Target="../media/image37.png"/><Relationship Id="rId64" Type="http://schemas.openxmlformats.org/officeDocument/2006/relationships/image" Target="../media/image39.png"/><Relationship Id="rId65" Type="http://schemas.openxmlformats.org/officeDocument/2006/relationships/image" Target="../media/image37.png"/><Relationship Id="rId66" Type="http://schemas.openxmlformats.org/officeDocument/2006/relationships/slideLayout" Target="../slideLayouts/slideLayout37.xml"/><Relationship Id="rId6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785960" y="40719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4349"/>
                </a:solidFill>
                <a:latin typeface="Bookman Old Style"/>
              </a:rPr>
              <a:t>Электронное строение атомов элементов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1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DE74-D2DC-4880-9143-C33EB3411EA2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aphicFrame>
        <p:nvGraphicFramePr>
          <p:cNvPr id="361" name="Object 2"/>
          <p:cNvGraphicFramePr/>
          <p:nvPr/>
        </p:nvGraphicFramePr>
        <p:xfrm>
          <a:off x="0" y="0"/>
          <a:ext cx="548172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481720" cy="5021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p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5821-75BD-46F3-BAA5-835F53F8BA4D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Форм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p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-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электронного облак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-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объёмная</a:t>
            </a:r>
            <a:r>
              <a:rPr b="1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восьмёрк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На </a:t>
            </a:r>
            <a:r>
              <a:rPr b="0" lang="ru-RU" sz="3000" spc="-1" strike="noStrike">
                <a:solidFill>
                  <a:srgbClr val="0070c0"/>
                </a:solidFill>
                <a:latin typeface="Calibri"/>
              </a:rPr>
              <a:t>нем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от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 </a:t>
            </a:r>
            <a:r>
              <a:rPr b="0" lang="en-US" sz="2600" spc="-1" strike="noStrike" u="sng">
                <a:solidFill>
                  <a:srgbClr val="0070c0"/>
                </a:solidFill>
                <a:uFillTx/>
                <a:latin typeface="Gill Sans MT"/>
              </a:rPr>
              <a:t>до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 6 электронов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27" name="Group 6"/>
          <p:cNvGrpSpPr/>
          <p:nvPr/>
        </p:nvGrpSpPr>
        <p:grpSpPr>
          <a:xfrm>
            <a:off x="1143000" y="3214800"/>
            <a:ext cx="6992640" cy="2783880"/>
            <a:chOff x="1143000" y="3214800"/>
            <a:chExt cx="6992640" cy="2783880"/>
          </a:xfrm>
        </p:grpSpPr>
        <p:sp>
          <p:nvSpPr>
            <p:cNvPr id="628" name="Freeform 4"/>
            <p:cNvSpPr/>
            <p:nvPr/>
          </p:nvSpPr>
          <p:spPr>
            <a:xfrm>
              <a:off x="4600080" y="3214800"/>
              <a:ext cx="3535560" cy="2783880"/>
            </a:xfrm>
            <a:custGeom>
              <a:avLst/>
              <a:gdLst/>
              <a:ahLst/>
              <a:rect l="l" t="t" r="r" b="b"/>
              <a:pathLst>
                <a:path w="2167" h="1459">
                  <a:moveTo>
                    <a:pt x="0" y="729"/>
                  </a:moveTo>
                  <a:lnTo>
                    <a:pt x="0" y="729"/>
                  </a:lnTo>
                  <a:lnTo>
                    <a:pt x="0" y="713"/>
                  </a:lnTo>
                  <a:lnTo>
                    <a:pt x="0" y="709"/>
                  </a:lnTo>
                  <a:lnTo>
                    <a:pt x="3" y="696"/>
                  </a:lnTo>
                  <a:lnTo>
                    <a:pt x="3" y="689"/>
                  </a:lnTo>
                  <a:lnTo>
                    <a:pt x="9" y="676"/>
                  </a:lnTo>
                  <a:lnTo>
                    <a:pt x="9" y="673"/>
                  </a:lnTo>
                  <a:lnTo>
                    <a:pt x="15" y="660"/>
                  </a:lnTo>
                  <a:lnTo>
                    <a:pt x="15" y="653"/>
                  </a:lnTo>
                  <a:lnTo>
                    <a:pt x="21" y="640"/>
                  </a:lnTo>
                  <a:lnTo>
                    <a:pt x="24" y="637"/>
                  </a:lnTo>
                  <a:lnTo>
                    <a:pt x="31" y="623"/>
                  </a:lnTo>
                  <a:lnTo>
                    <a:pt x="34" y="620"/>
                  </a:lnTo>
                  <a:lnTo>
                    <a:pt x="43" y="604"/>
                  </a:lnTo>
                  <a:lnTo>
                    <a:pt x="46" y="600"/>
                  </a:lnTo>
                  <a:lnTo>
                    <a:pt x="55" y="587"/>
                  </a:lnTo>
                  <a:lnTo>
                    <a:pt x="58" y="584"/>
                  </a:lnTo>
                  <a:lnTo>
                    <a:pt x="71" y="567"/>
                  </a:lnTo>
                  <a:lnTo>
                    <a:pt x="74" y="564"/>
                  </a:lnTo>
                  <a:lnTo>
                    <a:pt x="86" y="551"/>
                  </a:lnTo>
                  <a:lnTo>
                    <a:pt x="89" y="548"/>
                  </a:lnTo>
                  <a:lnTo>
                    <a:pt x="105" y="531"/>
                  </a:lnTo>
                  <a:lnTo>
                    <a:pt x="108" y="528"/>
                  </a:lnTo>
                  <a:lnTo>
                    <a:pt x="124" y="515"/>
                  </a:lnTo>
                  <a:lnTo>
                    <a:pt x="127" y="511"/>
                  </a:lnTo>
                  <a:lnTo>
                    <a:pt x="142" y="498"/>
                  </a:lnTo>
                  <a:lnTo>
                    <a:pt x="145" y="495"/>
                  </a:lnTo>
                  <a:lnTo>
                    <a:pt x="164" y="482"/>
                  </a:lnTo>
                  <a:lnTo>
                    <a:pt x="167" y="475"/>
                  </a:lnTo>
                  <a:lnTo>
                    <a:pt x="186" y="462"/>
                  </a:lnTo>
                  <a:lnTo>
                    <a:pt x="192" y="459"/>
                  </a:lnTo>
                  <a:lnTo>
                    <a:pt x="211" y="445"/>
                  </a:lnTo>
                  <a:lnTo>
                    <a:pt x="217" y="442"/>
                  </a:lnTo>
                  <a:lnTo>
                    <a:pt x="235" y="429"/>
                  </a:lnTo>
                  <a:lnTo>
                    <a:pt x="242" y="426"/>
                  </a:lnTo>
                  <a:lnTo>
                    <a:pt x="263" y="412"/>
                  </a:lnTo>
                  <a:lnTo>
                    <a:pt x="266" y="409"/>
                  </a:lnTo>
                  <a:lnTo>
                    <a:pt x="288" y="396"/>
                  </a:lnTo>
                  <a:lnTo>
                    <a:pt x="294" y="393"/>
                  </a:lnTo>
                  <a:lnTo>
                    <a:pt x="316" y="379"/>
                  </a:lnTo>
                  <a:lnTo>
                    <a:pt x="322" y="376"/>
                  </a:lnTo>
                  <a:lnTo>
                    <a:pt x="347" y="363"/>
                  </a:lnTo>
                  <a:lnTo>
                    <a:pt x="353" y="360"/>
                  </a:lnTo>
                  <a:lnTo>
                    <a:pt x="375" y="346"/>
                  </a:lnTo>
                  <a:lnTo>
                    <a:pt x="381" y="343"/>
                  </a:lnTo>
                  <a:lnTo>
                    <a:pt x="406" y="330"/>
                  </a:lnTo>
                  <a:lnTo>
                    <a:pt x="412" y="327"/>
                  </a:lnTo>
                  <a:lnTo>
                    <a:pt x="440" y="313"/>
                  </a:lnTo>
                  <a:lnTo>
                    <a:pt x="446" y="310"/>
                  </a:lnTo>
                  <a:lnTo>
                    <a:pt x="471" y="300"/>
                  </a:lnTo>
                  <a:lnTo>
                    <a:pt x="477" y="297"/>
                  </a:lnTo>
                  <a:lnTo>
                    <a:pt x="505" y="284"/>
                  </a:lnTo>
                  <a:lnTo>
                    <a:pt x="512" y="280"/>
                  </a:lnTo>
                  <a:lnTo>
                    <a:pt x="539" y="271"/>
                  </a:lnTo>
                  <a:lnTo>
                    <a:pt x="546" y="267"/>
                  </a:lnTo>
                  <a:lnTo>
                    <a:pt x="574" y="254"/>
                  </a:lnTo>
                  <a:lnTo>
                    <a:pt x="580" y="251"/>
                  </a:lnTo>
                  <a:lnTo>
                    <a:pt x="608" y="241"/>
                  </a:lnTo>
                  <a:lnTo>
                    <a:pt x="614" y="238"/>
                  </a:lnTo>
                  <a:lnTo>
                    <a:pt x="642" y="228"/>
                  </a:lnTo>
                  <a:lnTo>
                    <a:pt x="651" y="224"/>
                  </a:lnTo>
                  <a:lnTo>
                    <a:pt x="679" y="211"/>
                  </a:lnTo>
                  <a:lnTo>
                    <a:pt x="685" y="211"/>
                  </a:lnTo>
                  <a:lnTo>
                    <a:pt x="716" y="198"/>
                  </a:lnTo>
                  <a:lnTo>
                    <a:pt x="723" y="198"/>
                  </a:lnTo>
                  <a:lnTo>
                    <a:pt x="754" y="185"/>
                  </a:lnTo>
                  <a:lnTo>
                    <a:pt x="760" y="185"/>
                  </a:lnTo>
                  <a:lnTo>
                    <a:pt x="788" y="172"/>
                  </a:lnTo>
                  <a:lnTo>
                    <a:pt x="797" y="172"/>
                  </a:lnTo>
                  <a:lnTo>
                    <a:pt x="825" y="162"/>
                  </a:lnTo>
                  <a:lnTo>
                    <a:pt x="834" y="158"/>
                  </a:lnTo>
                  <a:lnTo>
                    <a:pt x="865" y="149"/>
                  </a:lnTo>
                  <a:lnTo>
                    <a:pt x="872" y="145"/>
                  </a:lnTo>
                  <a:lnTo>
                    <a:pt x="903" y="139"/>
                  </a:lnTo>
                  <a:lnTo>
                    <a:pt x="909" y="135"/>
                  </a:lnTo>
                  <a:lnTo>
                    <a:pt x="940" y="125"/>
                  </a:lnTo>
                  <a:lnTo>
                    <a:pt x="946" y="125"/>
                  </a:lnTo>
                  <a:lnTo>
                    <a:pt x="977" y="116"/>
                  </a:lnTo>
                  <a:lnTo>
                    <a:pt x="986" y="112"/>
                  </a:lnTo>
                  <a:lnTo>
                    <a:pt x="1014" y="106"/>
                  </a:lnTo>
                  <a:lnTo>
                    <a:pt x="1024" y="102"/>
                  </a:lnTo>
                  <a:lnTo>
                    <a:pt x="1052" y="96"/>
                  </a:lnTo>
                  <a:lnTo>
                    <a:pt x="1061" y="92"/>
                  </a:lnTo>
                  <a:lnTo>
                    <a:pt x="1092" y="86"/>
                  </a:lnTo>
                  <a:lnTo>
                    <a:pt x="1098" y="83"/>
                  </a:lnTo>
                  <a:lnTo>
                    <a:pt x="1129" y="76"/>
                  </a:lnTo>
                  <a:lnTo>
                    <a:pt x="1135" y="73"/>
                  </a:lnTo>
                  <a:lnTo>
                    <a:pt x="1166" y="66"/>
                  </a:lnTo>
                  <a:lnTo>
                    <a:pt x="1173" y="66"/>
                  </a:lnTo>
                  <a:lnTo>
                    <a:pt x="1204" y="59"/>
                  </a:lnTo>
                  <a:lnTo>
                    <a:pt x="1210" y="56"/>
                  </a:lnTo>
                  <a:lnTo>
                    <a:pt x="1241" y="53"/>
                  </a:lnTo>
                  <a:lnTo>
                    <a:pt x="1247" y="50"/>
                  </a:lnTo>
                  <a:lnTo>
                    <a:pt x="1275" y="43"/>
                  </a:lnTo>
                  <a:lnTo>
                    <a:pt x="1284" y="43"/>
                  </a:lnTo>
                  <a:lnTo>
                    <a:pt x="1312" y="36"/>
                  </a:lnTo>
                  <a:lnTo>
                    <a:pt x="1318" y="36"/>
                  </a:lnTo>
                  <a:lnTo>
                    <a:pt x="1349" y="30"/>
                  </a:lnTo>
                  <a:lnTo>
                    <a:pt x="1356" y="30"/>
                  </a:lnTo>
                  <a:lnTo>
                    <a:pt x="1384" y="27"/>
                  </a:lnTo>
                  <a:lnTo>
                    <a:pt x="1390" y="23"/>
                  </a:lnTo>
                  <a:lnTo>
                    <a:pt x="1418" y="20"/>
                  </a:lnTo>
                  <a:lnTo>
                    <a:pt x="1424" y="20"/>
                  </a:lnTo>
                  <a:lnTo>
                    <a:pt x="1452" y="17"/>
                  </a:lnTo>
                  <a:lnTo>
                    <a:pt x="1458" y="13"/>
                  </a:lnTo>
                  <a:lnTo>
                    <a:pt x="1486" y="10"/>
                  </a:lnTo>
                  <a:lnTo>
                    <a:pt x="1492" y="10"/>
                  </a:lnTo>
                  <a:lnTo>
                    <a:pt x="1520" y="7"/>
                  </a:lnTo>
                  <a:lnTo>
                    <a:pt x="1526" y="7"/>
                  </a:lnTo>
                  <a:lnTo>
                    <a:pt x="1551" y="7"/>
                  </a:lnTo>
                  <a:lnTo>
                    <a:pt x="1557" y="3"/>
                  </a:lnTo>
                  <a:lnTo>
                    <a:pt x="1582" y="3"/>
                  </a:lnTo>
                  <a:lnTo>
                    <a:pt x="1588" y="3"/>
                  </a:lnTo>
                  <a:lnTo>
                    <a:pt x="1613" y="0"/>
                  </a:lnTo>
                  <a:lnTo>
                    <a:pt x="1619" y="0"/>
                  </a:lnTo>
                  <a:lnTo>
                    <a:pt x="1644" y="0"/>
                  </a:lnTo>
                  <a:lnTo>
                    <a:pt x="1647" y="0"/>
                  </a:lnTo>
                  <a:lnTo>
                    <a:pt x="1672" y="0"/>
                  </a:lnTo>
                  <a:lnTo>
                    <a:pt x="1678" y="0"/>
                  </a:lnTo>
                  <a:lnTo>
                    <a:pt x="1700" y="0"/>
                  </a:lnTo>
                  <a:lnTo>
                    <a:pt x="1706" y="0"/>
                  </a:lnTo>
                  <a:lnTo>
                    <a:pt x="1725" y="0"/>
                  </a:lnTo>
                  <a:lnTo>
                    <a:pt x="1731" y="0"/>
                  </a:lnTo>
                  <a:lnTo>
                    <a:pt x="1753" y="3"/>
                  </a:lnTo>
                  <a:lnTo>
                    <a:pt x="1756" y="3"/>
                  </a:lnTo>
                  <a:lnTo>
                    <a:pt x="1778" y="3"/>
                  </a:lnTo>
                  <a:lnTo>
                    <a:pt x="1781" y="3"/>
                  </a:lnTo>
                  <a:lnTo>
                    <a:pt x="1799" y="7"/>
                  </a:lnTo>
                  <a:lnTo>
                    <a:pt x="1803" y="7"/>
                  </a:lnTo>
                  <a:lnTo>
                    <a:pt x="1821" y="10"/>
                  </a:lnTo>
                  <a:lnTo>
                    <a:pt x="1827" y="13"/>
                  </a:lnTo>
                  <a:lnTo>
                    <a:pt x="1843" y="17"/>
                  </a:lnTo>
                  <a:lnTo>
                    <a:pt x="1849" y="17"/>
                  </a:lnTo>
                  <a:lnTo>
                    <a:pt x="1865" y="23"/>
                  </a:lnTo>
                  <a:lnTo>
                    <a:pt x="1871" y="27"/>
                  </a:lnTo>
                  <a:lnTo>
                    <a:pt x="1886" y="33"/>
                  </a:lnTo>
                  <a:lnTo>
                    <a:pt x="1889" y="36"/>
                  </a:lnTo>
                  <a:lnTo>
                    <a:pt x="1905" y="43"/>
                  </a:lnTo>
                  <a:lnTo>
                    <a:pt x="1908" y="46"/>
                  </a:lnTo>
                  <a:lnTo>
                    <a:pt x="1924" y="56"/>
                  </a:lnTo>
                  <a:lnTo>
                    <a:pt x="1927" y="59"/>
                  </a:lnTo>
                  <a:lnTo>
                    <a:pt x="1942" y="69"/>
                  </a:lnTo>
                  <a:lnTo>
                    <a:pt x="1945" y="73"/>
                  </a:lnTo>
                  <a:lnTo>
                    <a:pt x="1961" y="86"/>
                  </a:lnTo>
                  <a:lnTo>
                    <a:pt x="1964" y="89"/>
                  </a:lnTo>
                  <a:lnTo>
                    <a:pt x="1976" y="102"/>
                  </a:lnTo>
                  <a:lnTo>
                    <a:pt x="1979" y="106"/>
                  </a:lnTo>
                  <a:lnTo>
                    <a:pt x="1992" y="119"/>
                  </a:lnTo>
                  <a:lnTo>
                    <a:pt x="1995" y="122"/>
                  </a:lnTo>
                  <a:lnTo>
                    <a:pt x="2007" y="139"/>
                  </a:lnTo>
                  <a:lnTo>
                    <a:pt x="2010" y="142"/>
                  </a:lnTo>
                  <a:lnTo>
                    <a:pt x="2023" y="158"/>
                  </a:lnTo>
                  <a:lnTo>
                    <a:pt x="2026" y="162"/>
                  </a:lnTo>
                  <a:lnTo>
                    <a:pt x="2035" y="178"/>
                  </a:lnTo>
                  <a:lnTo>
                    <a:pt x="2038" y="185"/>
                  </a:lnTo>
                  <a:lnTo>
                    <a:pt x="2051" y="201"/>
                  </a:lnTo>
                  <a:lnTo>
                    <a:pt x="2051" y="205"/>
                  </a:lnTo>
                  <a:lnTo>
                    <a:pt x="2063" y="224"/>
                  </a:lnTo>
                  <a:lnTo>
                    <a:pt x="2063" y="231"/>
                  </a:lnTo>
                  <a:lnTo>
                    <a:pt x="2072" y="251"/>
                  </a:lnTo>
                  <a:lnTo>
                    <a:pt x="2076" y="254"/>
                  </a:lnTo>
                  <a:lnTo>
                    <a:pt x="2085" y="274"/>
                  </a:lnTo>
                  <a:lnTo>
                    <a:pt x="2088" y="280"/>
                  </a:lnTo>
                  <a:lnTo>
                    <a:pt x="2094" y="300"/>
                  </a:lnTo>
                  <a:lnTo>
                    <a:pt x="2097" y="307"/>
                  </a:lnTo>
                  <a:lnTo>
                    <a:pt x="2104" y="327"/>
                  </a:lnTo>
                  <a:lnTo>
                    <a:pt x="2107" y="333"/>
                  </a:lnTo>
                  <a:lnTo>
                    <a:pt x="2113" y="356"/>
                  </a:lnTo>
                  <a:lnTo>
                    <a:pt x="2116" y="363"/>
                  </a:lnTo>
                  <a:lnTo>
                    <a:pt x="2122" y="383"/>
                  </a:lnTo>
                  <a:lnTo>
                    <a:pt x="2122" y="389"/>
                  </a:lnTo>
                  <a:lnTo>
                    <a:pt x="2128" y="412"/>
                  </a:lnTo>
                  <a:lnTo>
                    <a:pt x="2131" y="419"/>
                  </a:lnTo>
                  <a:lnTo>
                    <a:pt x="2138" y="442"/>
                  </a:lnTo>
                  <a:lnTo>
                    <a:pt x="2138" y="449"/>
                  </a:lnTo>
                  <a:lnTo>
                    <a:pt x="2144" y="472"/>
                  </a:lnTo>
                  <a:lnTo>
                    <a:pt x="2144" y="478"/>
                  </a:lnTo>
                  <a:lnTo>
                    <a:pt x="2147" y="505"/>
                  </a:lnTo>
                  <a:lnTo>
                    <a:pt x="2150" y="511"/>
                  </a:lnTo>
                  <a:lnTo>
                    <a:pt x="2153" y="534"/>
                  </a:lnTo>
                  <a:lnTo>
                    <a:pt x="2153" y="541"/>
                  </a:lnTo>
                  <a:lnTo>
                    <a:pt x="2156" y="567"/>
                  </a:lnTo>
                  <a:lnTo>
                    <a:pt x="2156" y="571"/>
                  </a:lnTo>
                  <a:lnTo>
                    <a:pt x="2159" y="597"/>
                  </a:lnTo>
                  <a:lnTo>
                    <a:pt x="2159" y="604"/>
                  </a:lnTo>
                  <a:lnTo>
                    <a:pt x="2162" y="630"/>
                  </a:lnTo>
                  <a:lnTo>
                    <a:pt x="2162" y="637"/>
                  </a:lnTo>
                  <a:lnTo>
                    <a:pt x="2166" y="663"/>
                  </a:lnTo>
                  <a:lnTo>
                    <a:pt x="2166" y="666"/>
                  </a:lnTo>
                  <a:lnTo>
                    <a:pt x="2166" y="693"/>
                  </a:lnTo>
                  <a:lnTo>
                    <a:pt x="2166" y="699"/>
                  </a:lnTo>
                  <a:lnTo>
                    <a:pt x="2166" y="726"/>
                  </a:lnTo>
                  <a:lnTo>
                    <a:pt x="2166" y="732"/>
                  </a:lnTo>
                  <a:lnTo>
                    <a:pt x="2166" y="759"/>
                  </a:lnTo>
                  <a:lnTo>
                    <a:pt x="2166" y="765"/>
                  </a:lnTo>
                  <a:lnTo>
                    <a:pt x="2166" y="792"/>
                  </a:lnTo>
                  <a:lnTo>
                    <a:pt x="2166" y="795"/>
                  </a:lnTo>
                  <a:lnTo>
                    <a:pt x="2162" y="821"/>
                  </a:lnTo>
                  <a:lnTo>
                    <a:pt x="2162" y="828"/>
                  </a:lnTo>
                  <a:lnTo>
                    <a:pt x="2159" y="854"/>
                  </a:lnTo>
                  <a:lnTo>
                    <a:pt x="2159" y="861"/>
                  </a:lnTo>
                  <a:lnTo>
                    <a:pt x="2156" y="887"/>
                  </a:lnTo>
                  <a:lnTo>
                    <a:pt x="2156" y="891"/>
                  </a:lnTo>
                  <a:lnTo>
                    <a:pt x="2153" y="917"/>
                  </a:lnTo>
                  <a:lnTo>
                    <a:pt x="2153" y="924"/>
                  </a:lnTo>
                  <a:lnTo>
                    <a:pt x="2150" y="947"/>
                  </a:lnTo>
                  <a:lnTo>
                    <a:pt x="2147" y="953"/>
                  </a:lnTo>
                  <a:lnTo>
                    <a:pt x="2144" y="980"/>
                  </a:lnTo>
                  <a:lnTo>
                    <a:pt x="2144" y="986"/>
                  </a:lnTo>
                  <a:lnTo>
                    <a:pt x="2138" y="1009"/>
                  </a:lnTo>
                  <a:lnTo>
                    <a:pt x="2138" y="1016"/>
                  </a:lnTo>
                  <a:lnTo>
                    <a:pt x="2131" y="1039"/>
                  </a:lnTo>
                  <a:lnTo>
                    <a:pt x="2128" y="1046"/>
                  </a:lnTo>
                  <a:lnTo>
                    <a:pt x="2122" y="1069"/>
                  </a:lnTo>
                  <a:lnTo>
                    <a:pt x="2122" y="1075"/>
                  </a:lnTo>
                  <a:lnTo>
                    <a:pt x="2116" y="1095"/>
                  </a:lnTo>
                  <a:lnTo>
                    <a:pt x="2113" y="1102"/>
                  </a:lnTo>
                  <a:lnTo>
                    <a:pt x="2107" y="1125"/>
                  </a:lnTo>
                  <a:lnTo>
                    <a:pt x="2104" y="1131"/>
                  </a:lnTo>
                  <a:lnTo>
                    <a:pt x="2097" y="1151"/>
                  </a:lnTo>
                  <a:lnTo>
                    <a:pt x="2094" y="1158"/>
                  </a:lnTo>
                  <a:lnTo>
                    <a:pt x="2088" y="1178"/>
                  </a:lnTo>
                  <a:lnTo>
                    <a:pt x="2085" y="1184"/>
                  </a:lnTo>
                  <a:lnTo>
                    <a:pt x="2076" y="1204"/>
                  </a:lnTo>
                  <a:lnTo>
                    <a:pt x="2072" y="1207"/>
                  </a:lnTo>
                  <a:lnTo>
                    <a:pt x="2063" y="1227"/>
                  </a:lnTo>
                  <a:lnTo>
                    <a:pt x="2063" y="1234"/>
                  </a:lnTo>
                  <a:lnTo>
                    <a:pt x="2051" y="1250"/>
                  </a:lnTo>
                  <a:lnTo>
                    <a:pt x="2051" y="1257"/>
                  </a:lnTo>
                  <a:lnTo>
                    <a:pt x="2038" y="1273"/>
                  </a:lnTo>
                  <a:lnTo>
                    <a:pt x="2035" y="1280"/>
                  </a:lnTo>
                  <a:lnTo>
                    <a:pt x="2026" y="1296"/>
                  </a:lnTo>
                  <a:lnTo>
                    <a:pt x="2023" y="1300"/>
                  </a:lnTo>
                  <a:lnTo>
                    <a:pt x="2010" y="1316"/>
                  </a:lnTo>
                  <a:lnTo>
                    <a:pt x="2007" y="1319"/>
                  </a:lnTo>
                  <a:lnTo>
                    <a:pt x="1995" y="1336"/>
                  </a:lnTo>
                  <a:lnTo>
                    <a:pt x="1992" y="1339"/>
                  </a:lnTo>
                  <a:lnTo>
                    <a:pt x="1979" y="1352"/>
                  </a:lnTo>
                  <a:lnTo>
                    <a:pt x="1976" y="1356"/>
                  </a:lnTo>
                  <a:lnTo>
                    <a:pt x="1964" y="1369"/>
                  </a:lnTo>
                  <a:lnTo>
                    <a:pt x="1961" y="1372"/>
                  </a:lnTo>
                  <a:lnTo>
                    <a:pt x="1945" y="1385"/>
                  </a:lnTo>
                  <a:lnTo>
                    <a:pt x="1942" y="1389"/>
                  </a:lnTo>
                  <a:lnTo>
                    <a:pt x="1927" y="1399"/>
                  </a:lnTo>
                  <a:lnTo>
                    <a:pt x="1924" y="1402"/>
                  </a:lnTo>
                  <a:lnTo>
                    <a:pt x="1908" y="1412"/>
                  </a:lnTo>
                  <a:lnTo>
                    <a:pt x="1905" y="1415"/>
                  </a:lnTo>
                  <a:lnTo>
                    <a:pt x="1889" y="1422"/>
                  </a:lnTo>
                  <a:lnTo>
                    <a:pt x="1886" y="1425"/>
                  </a:lnTo>
                  <a:lnTo>
                    <a:pt x="1871" y="1431"/>
                  </a:lnTo>
                  <a:lnTo>
                    <a:pt x="1865" y="1435"/>
                  </a:lnTo>
                  <a:lnTo>
                    <a:pt x="1849" y="1441"/>
                  </a:lnTo>
                  <a:lnTo>
                    <a:pt x="1843" y="1441"/>
                  </a:lnTo>
                  <a:lnTo>
                    <a:pt x="1827" y="1445"/>
                  </a:lnTo>
                  <a:lnTo>
                    <a:pt x="1821" y="1448"/>
                  </a:lnTo>
                  <a:lnTo>
                    <a:pt x="1806" y="1451"/>
                  </a:lnTo>
                  <a:lnTo>
                    <a:pt x="1803" y="1451"/>
                  </a:lnTo>
                  <a:lnTo>
                    <a:pt x="1781" y="1455"/>
                  </a:lnTo>
                  <a:lnTo>
                    <a:pt x="1778" y="1455"/>
                  </a:lnTo>
                  <a:lnTo>
                    <a:pt x="1756" y="1455"/>
                  </a:lnTo>
                  <a:lnTo>
                    <a:pt x="1753" y="1455"/>
                  </a:lnTo>
                  <a:lnTo>
                    <a:pt x="1731" y="1458"/>
                  </a:lnTo>
                  <a:lnTo>
                    <a:pt x="1725" y="1458"/>
                  </a:lnTo>
                  <a:lnTo>
                    <a:pt x="1706" y="1458"/>
                  </a:lnTo>
                  <a:lnTo>
                    <a:pt x="1700" y="1458"/>
                  </a:lnTo>
                  <a:lnTo>
                    <a:pt x="1678" y="1458"/>
                  </a:lnTo>
                  <a:lnTo>
                    <a:pt x="1672" y="1458"/>
                  </a:lnTo>
                  <a:lnTo>
                    <a:pt x="1647" y="1458"/>
                  </a:lnTo>
                  <a:lnTo>
                    <a:pt x="1644" y="1458"/>
                  </a:lnTo>
                  <a:lnTo>
                    <a:pt x="1619" y="1458"/>
                  </a:lnTo>
                  <a:lnTo>
                    <a:pt x="1613" y="1458"/>
                  </a:lnTo>
                  <a:lnTo>
                    <a:pt x="1588" y="1455"/>
                  </a:lnTo>
                  <a:lnTo>
                    <a:pt x="1582" y="1455"/>
                  </a:lnTo>
                  <a:lnTo>
                    <a:pt x="1557" y="1455"/>
                  </a:lnTo>
                  <a:lnTo>
                    <a:pt x="1551" y="1451"/>
                  </a:lnTo>
                  <a:lnTo>
                    <a:pt x="1526" y="1451"/>
                  </a:lnTo>
                  <a:lnTo>
                    <a:pt x="1520" y="1451"/>
                  </a:lnTo>
                  <a:lnTo>
                    <a:pt x="1492" y="1448"/>
                  </a:lnTo>
                  <a:lnTo>
                    <a:pt x="1486" y="1448"/>
                  </a:lnTo>
                  <a:lnTo>
                    <a:pt x="1458" y="1445"/>
                  </a:lnTo>
                  <a:lnTo>
                    <a:pt x="1452" y="1441"/>
                  </a:lnTo>
                  <a:lnTo>
                    <a:pt x="1424" y="1438"/>
                  </a:lnTo>
                  <a:lnTo>
                    <a:pt x="1418" y="1438"/>
                  </a:lnTo>
                  <a:lnTo>
                    <a:pt x="1390" y="1435"/>
                  </a:lnTo>
                  <a:lnTo>
                    <a:pt x="1384" y="1431"/>
                  </a:lnTo>
                  <a:lnTo>
                    <a:pt x="1356" y="1428"/>
                  </a:lnTo>
                  <a:lnTo>
                    <a:pt x="1349" y="1428"/>
                  </a:lnTo>
                  <a:lnTo>
                    <a:pt x="1318" y="1422"/>
                  </a:lnTo>
                  <a:lnTo>
                    <a:pt x="1312" y="1422"/>
                  </a:lnTo>
                  <a:lnTo>
                    <a:pt x="1284" y="1415"/>
                  </a:lnTo>
                  <a:lnTo>
                    <a:pt x="1275" y="1415"/>
                  </a:lnTo>
                  <a:lnTo>
                    <a:pt x="1247" y="1408"/>
                  </a:lnTo>
                  <a:lnTo>
                    <a:pt x="1241" y="1405"/>
                  </a:lnTo>
                  <a:lnTo>
                    <a:pt x="1210" y="1402"/>
                  </a:lnTo>
                  <a:lnTo>
                    <a:pt x="1204" y="1399"/>
                  </a:lnTo>
                  <a:lnTo>
                    <a:pt x="1173" y="1392"/>
                  </a:lnTo>
                  <a:lnTo>
                    <a:pt x="1166" y="1392"/>
                  </a:lnTo>
                  <a:lnTo>
                    <a:pt x="1135" y="1385"/>
                  </a:lnTo>
                  <a:lnTo>
                    <a:pt x="1129" y="1382"/>
                  </a:lnTo>
                  <a:lnTo>
                    <a:pt x="1098" y="1375"/>
                  </a:lnTo>
                  <a:lnTo>
                    <a:pt x="1092" y="1372"/>
                  </a:lnTo>
                  <a:lnTo>
                    <a:pt x="1061" y="1366"/>
                  </a:lnTo>
                  <a:lnTo>
                    <a:pt x="1052" y="1362"/>
                  </a:lnTo>
                  <a:lnTo>
                    <a:pt x="1024" y="1356"/>
                  </a:lnTo>
                  <a:lnTo>
                    <a:pt x="1014" y="1352"/>
                  </a:lnTo>
                  <a:lnTo>
                    <a:pt x="986" y="1346"/>
                  </a:lnTo>
                  <a:lnTo>
                    <a:pt x="977" y="1342"/>
                  </a:lnTo>
                  <a:lnTo>
                    <a:pt x="946" y="1333"/>
                  </a:lnTo>
                  <a:lnTo>
                    <a:pt x="940" y="1333"/>
                  </a:lnTo>
                  <a:lnTo>
                    <a:pt x="909" y="1323"/>
                  </a:lnTo>
                  <a:lnTo>
                    <a:pt x="903" y="1319"/>
                  </a:lnTo>
                  <a:lnTo>
                    <a:pt x="872" y="1313"/>
                  </a:lnTo>
                  <a:lnTo>
                    <a:pt x="865" y="1309"/>
                  </a:lnTo>
                  <a:lnTo>
                    <a:pt x="834" y="1300"/>
                  </a:lnTo>
                  <a:lnTo>
                    <a:pt x="825" y="1296"/>
                  </a:lnTo>
                  <a:lnTo>
                    <a:pt x="797" y="1286"/>
                  </a:lnTo>
                  <a:lnTo>
                    <a:pt x="788" y="1286"/>
                  </a:lnTo>
                  <a:lnTo>
                    <a:pt x="760" y="1273"/>
                  </a:lnTo>
                  <a:lnTo>
                    <a:pt x="754" y="1273"/>
                  </a:lnTo>
                  <a:lnTo>
                    <a:pt x="723" y="1260"/>
                  </a:lnTo>
                  <a:lnTo>
                    <a:pt x="716" y="1260"/>
                  </a:lnTo>
                  <a:lnTo>
                    <a:pt x="685" y="1247"/>
                  </a:lnTo>
                  <a:lnTo>
                    <a:pt x="679" y="1247"/>
                  </a:lnTo>
                  <a:lnTo>
                    <a:pt x="651" y="1234"/>
                  </a:lnTo>
                  <a:lnTo>
                    <a:pt x="642" y="1230"/>
                  </a:lnTo>
                  <a:lnTo>
                    <a:pt x="614" y="1220"/>
                  </a:lnTo>
                  <a:lnTo>
                    <a:pt x="608" y="1217"/>
                  </a:lnTo>
                  <a:lnTo>
                    <a:pt x="580" y="1207"/>
                  </a:lnTo>
                  <a:lnTo>
                    <a:pt x="574" y="1204"/>
                  </a:lnTo>
                  <a:lnTo>
                    <a:pt x="546" y="1191"/>
                  </a:lnTo>
                  <a:lnTo>
                    <a:pt x="539" y="1187"/>
                  </a:lnTo>
                  <a:lnTo>
                    <a:pt x="512" y="1178"/>
                  </a:lnTo>
                  <a:lnTo>
                    <a:pt x="505" y="1174"/>
                  </a:lnTo>
                  <a:lnTo>
                    <a:pt x="477" y="1161"/>
                  </a:lnTo>
                  <a:lnTo>
                    <a:pt x="471" y="1158"/>
                  </a:lnTo>
                  <a:lnTo>
                    <a:pt x="446" y="1148"/>
                  </a:lnTo>
                  <a:lnTo>
                    <a:pt x="440" y="1145"/>
                  </a:lnTo>
                  <a:lnTo>
                    <a:pt x="412" y="1131"/>
                  </a:lnTo>
                  <a:lnTo>
                    <a:pt x="406" y="1128"/>
                  </a:lnTo>
                  <a:lnTo>
                    <a:pt x="381" y="1115"/>
                  </a:lnTo>
                  <a:lnTo>
                    <a:pt x="375" y="1112"/>
                  </a:lnTo>
                  <a:lnTo>
                    <a:pt x="353" y="1098"/>
                  </a:lnTo>
                  <a:lnTo>
                    <a:pt x="347" y="1095"/>
                  </a:lnTo>
                  <a:lnTo>
                    <a:pt x="322" y="1082"/>
                  </a:lnTo>
                  <a:lnTo>
                    <a:pt x="316" y="1079"/>
                  </a:lnTo>
                  <a:lnTo>
                    <a:pt x="294" y="1065"/>
                  </a:lnTo>
                  <a:lnTo>
                    <a:pt x="288" y="1062"/>
                  </a:lnTo>
                  <a:lnTo>
                    <a:pt x="266" y="1049"/>
                  </a:lnTo>
                  <a:lnTo>
                    <a:pt x="263" y="1046"/>
                  </a:lnTo>
                  <a:lnTo>
                    <a:pt x="242" y="1032"/>
                  </a:lnTo>
                  <a:lnTo>
                    <a:pt x="235" y="1029"/>
                  </a:lnTo>
                  <a:lnTo>
                    <a:pt x="217" y="1016"/>
                  </a:lnTo>
                  <a:lnTo>
                    <a:pt x="211" y="1013"/>
                  </a:lnTo>
                  <a:lnTo>
                    <a:pt x="192" y="999"/>
                  </a:lnTo>
                  <a:lnTo>
                    <a:pt x="186" y="996"/>
                  </a:lnTo>
                  <a:lnTo>
                    <a:pt x="167" y="983"/>
                  </a:lnTo>
                  <a:lnTo>
                    <a:pt x="164" y="976"/>
                  </a:lnTo>
                  <a:lnTo>
                    <a:pt x="145" y="963"/>
                  </a:lnTo>
                  <a:lnTo>
                    <a:pt x="142" y="960"/>
                  </a:lnTo>
                  <a:lnTo>
                    <a:pt x="127" y="947"/>
                  </a:lnTo>
                  <a:lnTo>
                    <a:pt x="124" y="943"/>
                  </a:lnTo>
                  <a:lnTo>
                    <a:pt x="108" y="930"/>
                  </a:lnTo>
                  <a:lnTo>
                    <a:pt x="105" y="927"/>
                  </a:lnTo>
                  <a:lnTo>
                    <a:pt x="89" y="910"/>
                  </a:lnTo>
                  <a:lnTo>
                    <a:pt x="86" y="907"/>
                  </a:lnTo>
                  <a:lnTo>
                    <a:pt x="74" y="894"/>
                  </a:lnTo>
                  <a:lnTo>
                    <a:pt x="71" y="891"/>
                  </a:lnTo>
                  <a:lnTo>
                    <a:pt x="58" y="874"/>
                  </a:lnTo>
                  <a:lnTo>
                    <a:pt x="55" y="871"/>
                  </a:lnTo>
                  <a:lnTo>
                    <a:pt x="46" y="858"/>
                  </a:lnTo>
                  <a:lnTo>
                    <a:pt x="43" y="854"/>
                  </a:lnTo>
                  <a:lnTo>
                    <a:pt x="34" y="838"/>
                  </a:lnTo>
                  <a:lnTo>
                    <a:pt x="31" y="835"/>
                  </a:lnTo>
                  <a:lnTo>
                    <a:pt x="24" y="821"/>
                  </a:lnTo>
                  <a:lnTo>
                    <a:pt x="21" y="818"/>
                  </a:lnTo>
                  <a:lnTo>
                    <a:pt x="15" y="805"/>
                  </a:lnTo>
                  <a:lnTo>
                    <a:pt x="15" y="798"/>
                  </a:lnTo>
                  <a:lnTo>
                    <a:pt x="9" y="785"/>
                  </a:lnTo>
                  <a:lnTo>
                    <a:pt x="9" y="782"/>
                  </a:lnTo>
                  <a:lnTo>
                    <a:pt x="3" y="769"/>
                  </a:lnTo>
                  <a:lnTo>
                    <a:pt x="3" y="762"/>
                  </a:lnTo>
                  <a:lnTo>
                    <a:pt x="0" y="749"/>
                  </a:lnTo>
                  <a:lnTo>
                    <a:pt x="0" y="745"/>
                  </a:lnTo>
                  <a:lnTo>
                    <a:pt x="0" y="732"/>
                  </a:lnTo>
                  <a:lnTo>
                    <a:pt x="0" y="72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29" name="Freeform 5"/>
            <p:cNvSpPr/>
            <p:nvPr/>
          </p:nvSpPr>
          <p:spPr>
            <a:xfrm>
              <a:off x="1143000" y="3214800"/>
              <a:ext cx="3537000" cy="2783880"/>
            </a:xfrm>
            <a:custGeom>
              <a:avLst/>
              <a:gdLst/>
              <a:ahLst/>
              <a:rect l="l" t="t" r="r" b="b"/>
              <a:pathLst>
                <a:path w="2168" h="1459">
                  <a:moveTo>
                    <a:pt x="2167" y="729"/>
                  </a:moveTo>
                  <a:lnTo>
                    <a:pt x="2167" y="729"/>
                  </a:lnTo>
                  <a:lnTo>
                    <a:pt x="2167" y="713"/>
                  </a:lnTo>
                  <a:lnTo>
                    <a:pt x="2167" y="709"/>
                  </a:lnTo>
                  <a:lnTo>
                    <a:pt x="2163" y="696"/>
                  </a:lnTo>
                  <a:lnTo>
                    <a:pt x="2163" y="689"/>
                  </a:lnTo>
                  <a:lnTo>
                    <a:pt x="2157" y="676"/>
                  </a:lnTo>
                  <a:lnTo>
                    <a:pt x="2157" y="673"/>
                  </a:lnTo>
                  <a:lnTo>
                    <a:pt x="2151" y="660"/>
                  </a:lnTo>
                  <a:lnTo>
                    <a:pt x="2151" y="653"/>
                  </a:lnTo>
                  <a:lnTo>
                    <a:pt x="2145" y="640"/>
                  </a:lnTo>
                  <a:lnTo>
                    <a:pt x="2142" y="637"/>
                  </a:lnTo>
                  <a:lnTo>
                    <a:pt x="2135" y="623"/>
                  </a:lnTo>
                  <a:lnTo>
                    <a:pt x="2132" y="620"/>
                  </a:lnTo>
                  <a:lnTo>
                    <a:pt x="2123" y="604"/>
                  </a:lnTo>
                  <a:lnTo>
                    <a:pt x="2120" y="600"/>
                  </a:lnTo>
                  <a:lnTo>
                    <a:pt x="2111" y="587"/>
                  </a:lnTo>
                  <a:lnTo>
                    <a:pt x="2108" y="584"/>
                  </a:lnTo>
                  <a:lnTo>
                    <a:pt x="2095" y="567"/>
                  </a:lnTo>
                  <a:lnTo>
                    <a:pt x="2092" y="564"/>
                  </a:lnTo>
                  <a:lnTo>
                    <a:pt x="2080" y="551"/>
                  </a:lnTo>
                  <a:lnTo>
                    <a:pt x="2077" y="548"/>
                  </a:lnTo>
                  <a:lnTo>
                    <a:pt x="2061" y="531"/>
                  </a:lnTo>
                  <a:lnTo>
                    <a:pt x="2058" y="528"/>
                  </a:lnTo>
                  <a:lnTo>
                    <a:pt x="2042" y="515"/>
                  </a:lnTo>
                  <a:lnTo>
                    <a:pt x="2039" y="511"/>
                  </a:lnTo>
                  <a:lnTo>
                    <a:pt x="2024" y="498"/>
                  </a:lnTo>
                  <a:lnTo>
                    <a:pt x="2021" y="495"/>
                  </a:lnTo>
                  <a:lnTo>
                    <a:pt x="2002" y="482"/>
                  </a:lnTo>
                  <a:lnTo>
                    <a:pt x="1999" y="475"/>
                  </a:lnTo>
                  <a:lnTo>
                    <a:pt x="1980" y="462"/>
                  </a:lnTo>
                  <a:lnTo>
                    <a:pt x="1974" y="459"/>
                  </a:lnTo>
                  <a:lnTo>
                    <a:pt x="1955" y="445"/>
                  </a:lnTo>
                  <a:lnTo>
                    <a:pt x="1949" y="442"/>
                  </a:lnTo>
                  <a:lnTo>
                    <a:pt x="1931" y="429"/>
                  </a:lnTo>
                  <a:lnTo>
                    <a:pt x="1924" y="426"/>
                  </a:lnTo>
                  <a:lnTo>
                    <a:pt x="1903" y="412"/>
                  </a:lnTo>
                  <a:lnTo>
                    <a:pt x="1900" y="409"/>
                  </a:lnTo>
                  <a:lnTo>
                    <a:pt x="1878" y="396"/>
                  </a:lnTo>
                  <a:lnTo>
                    <a:pt x="1872" y="393"/>
                  </a:lnTo>
                  <a:lnTo>
                    <a:pt x="1850" y="379"/>
                  </a:lnTo>
                  <a:lnTo>
                    <a:pt x="1844" y="376"/>
                  </a:lnTo>
                  <a:lnTo>
                    <a:pt x="1819" y="363"/>
                  </a:lnTo>
                  <a:lnTo>
                    <a:pt x="1813" y="360"/>
                  </a:lnTo>
                  <a:lnTo>
                    <a:pt x="1791" y="346"/>
                  </a:lnTo>
                  <a:lnTo>
                    <a:pt x="1785" y="343"/>
                  </a:lnTo>
                  <a:lnTo>
                    <a:pt x="1760" y="330"/>
                  </a:lnTo>
                  <a:lnTo>
                    <a:pt x="1754" y="327"/>
                  </a:lnTo>
                  <a:lnTo>
                    <a:pt x="1726" y="313"/>
                  </a:lnTo>
                  <a:lnTo>
                    <a:pt x="1720" y="310"/>
                  </a:lnTo>
                  <a:lnTo>
                    <a:pt x="1695" y="300"/>
                  </a:lnTo>
                  <a:lnTo>
                    <a:pt x="1689" y="297"/>
                  </a:lnTo>
                  <a:lnTo>
                    <a:pt x="1661" y="284"/>
                  </a:lnTo>
                  <a:lnTo>
                    <a:pt x="1654" y="280"/>
                  </a:lnTo>
                  <a:lnTo>
                    <a:pt x="1627" y="271"/>
                  </a:lnTo>
                  <a:lnTo>
                    <a:pt x="1620" y="267"/>
                  </a:lnTo>
                  <a:lnTo>
                    <a:pt x="1592" y="254"/>
                  </a:lnTo>
                  <a:lnTo>
                    <a:pt x="1586" y="251"/>
                  </a:lnTo>
                  <a:lnTo>
                    <a:pt x="1558" y="241"/>
                  </a:lnTo>
                  <a:lnTo>
                    <a:pt x="1552" y="238"/>
                  </a:lnTo>
                  <a:lnTo>
                    <a:pt x="1524" y="228"/>
                  </a:lnTo>
                  <a:lnTo>
                    <a:pt x="1515" y="224"/>
                  </a:lnTo>
                  <a:lnTo>
                    <a:pt x="1487" y="211"/>
                  </a:lnTo>
                  <a:lnTo>
                    <a:pt x="1481" y="211"/>
                  </a:lnTo>
                  <a:lnTo>
                    <a:pt x="1450" y="198"/>
                  </a:lnTo>
                  <a:lnTo>
                    <a:pt x="1443" y="198"/>
                  </a:lnTo>
                  <a:lnTo>
                    <a:pt x="1412" y="185"/>
                  </a:lnTo>
                  <a:lnTo>
                    <a:pt x="1406" y="185"/>
                  </a:lnTo>
                  <a:lnTo>
                    <a:pt x="1378" y="172"/>
                  </a:lnTo>
                  <a:lnTo>
                    <a:pt x="1369" y="172"/>
                  </a:lnTo>
                  <a:lnTo>
                    <a:pt x="1338" y="162"/>
                  </a:lnTo>
                  <a:lnTo>
                    <a:pt x="1332" y="158"/>
                  </a:lnTo>
                  <a:lnTo>
                    <a:pt x="1301" y="149"/>
                  </a:lnTo>
                  <a:lnTo>
                    <a:pt x="1294" y="145"/>
                  </a:lnTo>
                  <a:lnTo>
                    <a:pt x="1263" y="139"/>
                  </a:lnTo>
                  <a:lnTo>
                    <a:pt x="1257" y="135"/>
                  </a:lnTo>
                  <a:lnTo>
                    <a:pt x="1226" y="125"/>
                  </a:lnTo>
                  <a:lnTo>
                    <a:pt x="1220" y="125"/>
                  </a:lnTo>
                  <a:lnTo>
                    <a:pt x="1189" y="116"/>
                  </a:lnTo>
                  <a:lnTo>
                    <a:pt x="1180" y="112"/>
                  </a:lnTo>
                  <a:lnTo>
                    <a:pt x="1152" y="106"/>
                  </a:lnTo>
                  <a:lnTo>
                    <a:pt x="1142" y="102"/>
                  </a:lnTo>
                  <a:lnTo>
                    <a:pt x="1114" y="96"/>
                  </a:lnTo>
                  <a:lnTo>
                    <a:pt x="1105" y="92"/>
                  </a:lnTo>
                  <a:lnTo>
                    <a:pt x="1074" y="86"/>
                  </a:lnTo>
                  <a:lnTo>
                    <a:pt x="1068" y="83"/>
                  </a:lnTo>
                  <a:lnTo>
                    <a:pt x="1037" y="76"/>
                  </a:lnTo>
                  <a:lnTo>
                    <a:pt x="1031" y="73"/>
                  </a:lnTo>
                  <a:lnTo>
                    <a:pt x="1000" y="66"/>
                  </a:lnTo>
                  <a:lnTo>
                    <a:pt x="993" y="66"/>
                  </a:lnTo>
                  <a:lnTo>
                    <a:pt x="962" y="59"/>
                  </a:lnTo>
                  <a:lnTo>
                    <a:pt x="956" y="56"/>
                  </a:lnTo>
                  <a:lnTo>
                    <a:pt x="925" y="53"/>
                  </a:lnTo>
                  <a:lnTo>
                    <a:pt x="919" y="50"/>
                  </a:lnTo>
                  <a:lnTo>
                    <a:pt x="891" y="43"/>
                  </a:lnTo>
                  <a:lnTo>
                    <a:pt x="882" y="43"/>
                  </a:lnTo>
                  <a:lnTo>
                    <a:pt x="854" y="36"/>
                  </a:lnTo>
                  <a:lnTo>
                    <a:pt x="848" y="36"/>
                  </a:lnTo>
                  <a:lnTo>
                    <a:pt x="817" y="30"/>
                  </a:lnTo>
                  <a:lnTo>
                    <a:pt x="810" y="30"/>
                  </a:lnTo>
                  <a:lnTo>
                    <a:pt x="782" y="27"/>
                  </a:lnTo>
                  <a:lnTo>
                    <a:pt x="776" y="23"/>
                  </a:lnTo>
                  <a:lnTo>
                    <a:pt x="748" y="20"/>
                  </a:lnTo>
                  <a:lnTo>
                    <a:pt x="742" y="20"/>
                  </a:lnTo>
                  <a:lnTo>
                    <a:pt x="714" y="17"/>
                  </a:lnTo>
                  <a:lnTo>
                    <a:pt x="708" y="13"/>
                  </a:lnTo>
                  <a:lnTo>
                    <a:pt x="680" y="10"/>
                  </a:lnTo>
                  <a:lnTo>
                    <a:pt x="674" y="10"/>
                  </a:lnTo>
                  <a:lnTo>
                    <a:pt x="646" y="7"/>
                  </a:lnTo>
                  <a:lnTo>
                    <a:pt x="640" y="7"/>
                  </a:lnTo>
                  <a:lnTo>
                    <a:pt x="615" y="7"/>
                  </a:lnTo>
                  <a:lnTo>
                    <a:pt x="609" y="3"/>
                  </a:lnTo>
                  <a:lnTo>
                    <a:pt x="584" y="3"/>
                  </a:lnTo>
                  <a:lnTo>
                    <a:pt x="578" y="3"/>
                  </a:lnTo>
                  <a:lnTo>
                    <a:pt x="553" y="0"/>
                  </a:lnTo>
                  <a:lnTo>
                    <a:pt x="547" y="0"/>
                  </a:lnTo>
                  <a:lnTo>
                    <a:pt x="522" y="0"/>
                  </a:lnTo>
                  <a:lnTo>
                    <a:pt x="51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66" y="0"/>
                  </a:lnTo>
                  <a:lnTo>
                    <a:pt x="460" y="0"/>
                  </a:lnTo>
                  <a:lnTo>
                    <a:pt x="441" y="0"/>
                  </a:lnTo>
                  <a:lnTo>
                    <a:pt x="435" y="0"/>
                  </a:lnTo>
                  <a:lnTo>
                    <a:pt x="413" y="3"/>
                  </a:lnTo>
                  <a:lnTo>
                    <a:pt x="410" y="3"/>
                  </a:lnTo>
                  <a:lnTo>
                    <a:pt x="388" y="3"/>
                  </a:lnTo>
                  <a:lnTo>
                    <a:pt x="385" y="3"/>
                  </a:lnTo>
                  <a:lnTo>
                    <a:pt x="367" y="7"/>
                  </a:lnTo>
                  <a:lnTo>
                    <a:pt x="363" y="7"/>
                  </a:lnTo>
                  <a:lnTo>
                    <a:pt x="345" y="10"/>
                  </a:lnTo>
                  <a:lnTo>
                    <a:pt x="339" y="13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01" y="23"/>
                  </a:lnTo>
                  <a:lnTo>
                    <a:pt x="295" y="27"/>
                  </a:lnTo>
                  <a:lnTo>
                    <a:pt x="280" y="33"/>
                  </a:lnTo>
                  <a:lnTo>
                    <a:pt x="277" y="36"/>
                  </a:lnTo>
                  <a:lnTo>
                    <a:pt x="261" y="43"/>
                  </a:lnTo>
                  <a:lnTo>
                    <a:pt x="258" y="46"/>
                  </a:lnTo>
                  <a:lnTo>
                    <a:pt x="242" y="56"/>
                  </a:lnTo>
                  <a:lnTo>
                    <a:pt x="239" y="59"/>
                  </a:lnTo>
                  <a:lnTo>
                    <a:pt x="224" y="69"/>
                  </a:lnTo>
                  <a:lnTo>
                    <a:pt x="221" y="73"/>
                  </a:lnTo>
                  <a:lnTo>
                    <a:pt x="205" y="86"/>
                  </a:lnTo>
                  <a:lnTo>
                    <a:pt x="202" y="89"/>
                  </a:lnTo>
                  <a:lnTo>
                    <a:pt x="190" y="102"/>
                  </a:lnTo>
                  <a:lnTo>
                    <a:pt x="187" y="106"/>
                  </a:lnTo>
                  <a:lnTo>
                    <a:pt x="174" y="119"/>
                  </a:lnTo>
                  <a:lnTo>
                    <a:pt x="171" y="122"/>
                  </a:lnTo>
                  <a:lnTo>
                    <a:pt x="159" y="139"/>
                  </a:lnTo>
                  <a:lnTo>
                    <a:pt x="156" y="142"/>
                  </a:lnTo>
                  <a:lnTo>
                    <a:pt x="143" y="158"/>
                  </a:lnTo>
                  <a:lnTo>
                    <a:pt x="140" y="162"/>
                  </a:lnTo>
                  <a:lnTo>
                    <a:pt x="131" y="178"/>
                  </a:lnTo>
                  <a:lnTo>
                    <a:pt x="128" y="185"/>
                  </a:lnTo>
                  <a:lnTo>
                    <a:pt x="115" y="201"/>
                  </a:lnTo>
                  <a:lnTo>
                    <a:pt x="115" y="205"/>
                  </a:lnTo>
                  <a:lnTo>
                    <a:pt x="103" y="224"/>
                  </a:lnTo>
                  <a:lnTo>
                    <a:pt x="103" y="231"/>
                  </a:lnTo>
                  <a:lnTo>
                    <a:pt x="94" y="251"/>
                  </a:lnTo>
                  <a:lnTo>
                    <a:pt x="90" y="254"/>
                  </a:lnTo>
                  <a:lnTo>
                    <a:pt x="81" y="274"/>
                  </a:lnTo>
                  <a:lnTo>
                    <a:pt x="78" y="280"/>
                  </a:lnTo>
                  <a:lnTo>
                    <a:pt x="72" y="300"/>
                  </a:lnTo>
                  <a:lnTo>
                    <a:pt x="69" y="307"/>
                  </a:lnTo>
                  <a:lnTo>
                    <a:pt x="62" y="327"/>
                  </a:lnTo>
                  <a:lnTo>
                    <a:pt x="59" y="333"/>
                  </a:lnTo>
                  <a:lnTo>
                    <a:pt x="53" y="356"/>
                  </a:lnTo>
                  <a:lnTo>
                    <a:pt x="50" y="363"/>
                  </a:lnTo>
                  <a:lnTo>
                    <a:pt x="44" y="383"/>
                  </a:lnTo>
                  <a:lnTo>
                    <a:pt x="44" y="389"/>
                  </a:lnTo>
                  <a:lnTo>
                    <a:pt x="38" y="412"/>
                  </a:lnTo>
                  <a:lnTo>
                    <a:pt x="35" y="419"/>
                  </a:lnTo>
                  <a:lnTo>
                    <a:pt x="28" y="442"/>
                  </a:lnTo>
                  <a:lnTo>
                    <a:pt x="28" y="449"/>
                  </a:lnTo>
                  <a:lnTo>
                    <a:pt x="22" y="472"/>
                  </a:lnTo>
                  <a:lnTo>
                    <a:pt x="22" y="478"/>
                  </a:lnTo>
                  <a:lnTo>
                    <a:pt x="19" y="505"/>
                  </a:lnTo>
                  <a:lnTo>
                    <a:pt x="16" y="511"/>
                  </a:lnTo>
                  <a:lnTo>
                    <a:pt x="13" y="534"/>
                  </a:lnTo>
                  <a:lnTo>
                    <a:pt x="13" y="541"/>
                  </a:lnTo>
                  <a:lnTo>
                    <a:pt x="10" y="567"/>
                  </a:lnTo>
                  <a:lnTo>
                    <a:pt x="10" y="571"/>
                  </a:lnTo>
                  <a:lnTo>
                    <a:pt x="7" y="597"/>
                  </a:lnTo>
                  <a:lnTo>
                    <a:pt x="7" y="604"/>
                  </a:lnTo>
                  <a:lnTo>
                    <a:pt x="4" y="630"/>
                  </a:lnTo>
                  <a:lnTo>
                    <a:pt x="4" y="637"/>
                  </a:lnTo>
                  <a:lnTo>
                    <a:pt x="0" y="663"/>
                  </a:lnTo>
                  <a:lnTo>
                    <a:pt x="0" y="666"/>
                  </a:lnTo>
                  <a:lnTo>
                    <a:pt x="0" y="693"/>
                  </a:lnTo>
                  <a:lnTo>
                    <a:pt x="0" y="699"/>
                  </a:lnTo>
                  <a:lnTo>
                    <a:pt x="0" y="726"/>
                  </a:lnTo>
                  <a:lnTo>
                    <a:pt x="0" y="732"/>
                  </a:lnTo>
                  <a:lnTo>
                    <a:pt x="0" y="759"/>
                  </a:lnTo>
                  <a:lnTo>
                    <a:pt x="0" y="765"/>
                  </a:lnTo>
                  <a:lnTo>
                    <a:pt x="0" y="792"/>
                  </a:lnTo>
                  <a:lnTo>
                    <a:pt x="0" y="795"/>
                  </a:lnTo>
                  <a:lnTo>
                    <a:pt x="4" y="821"/>
                  </a:lnTo>
                  <a:lnTo>
                    <a:pt x="4" y="828"/>
                  </a:lnTo>
                  <a:lnTo>
                    <a:pt x="7" y="854"/>
                  </a:lnTo>
                  <a:lnTo>
                    <a:pt x="7" y="861"/>
                  </a:lnTo>
                  <a:lnTo>
                    <a:pt x="10" y="887"/>
                  </a:lnTo>
                  <a:lnTo>
                    <a:pt x="10" y="891"/>
                  </a:lnTo>
                  <a:lnTo>
                    <a:pt x="13" y="917"/>
                  </a:lnTo>
                  <a:lnTo>
                    <a:pt x="13" y="924"/>
                  </a:lnTo>
                  <a:lnTo>
                    <a:pt x="16" y="947"/>
                  </a:lnTo>
                  <a:lnTo>
                    <a:pt x="19" y="953"/>
                  </a:lnTo>
                  <a:lnTo>
                    <a:pt x="22" y="980"/>
                  </a:lnTo>
                  <a:lnTo>
                    <a:pt x="22" y="986"/>
                  </a:lnTo>
                  <a:lnTo>
                    <a:pt x="28" y="1009"/>
                  </a:lnTo>
                  <a:lnTo>
                    <a:pt x="28" y="1016"/>
                  </a:lnTo>
                  <a:lnTo>
                    <a:pt x="35" y="1039"/>
                  </a:lnTo>
                  <a:lnTo>
                    <a:pt x="38" y="1046"/>
                  </a:lnTo>
                  <a:lnTo>
                    <a:pt x="44" y="1069"/>
                  </a:lnTo>
                  <a:lnTo>
                    <a:pt x="44" y="1075"/>
                  </a:lnTo>
                  <a:lnTo>
                    <a:pt x="50" y="1095"/>
                  </a:lnTo>
                  <a:lnTo>
                    <a:pt x="53" y="1102"/>
                  </a:lnTo>
                  <a:lnTo>
                    <a:pt x="59" y="1125"/>
                  </a:lnTo>
                  <a:lnTo>
                    <a:pt x="62" y="1131"/>
                  </a:lnTo>
                  <a:lnTo>
                    <a:pt x="69" y="1151"/>
                  </a:lnTo>
                  <a:lnTo>
                    <a:pt x="72" y="1158"/>
                  </a:lnTo>
                  <a:lnTo>
                    <a:pt x="78" y="1178"/>
                  </a:lnTo>
                  <a:lnTo>
                    <a:pt x="81" y="1184"/>
                  </a:lnTo>
                  <a:lnTo>
                    <a:pt x="90" y="1204"/>
                  </a:lnTo>
                  <a:lnTo>
                    <a:pt x="94" y="1207"/>
                  </a:lnTo>
                  <a:lnTo>
                    <a:pt x="103" y="1227"/>
                  </a:lnTo>
                  <a:lnTo>
                    <a:pt x="103" y="1234"/>
                  </a:lnTo>
                  <a:lnTo>
                    <a:pt x="115" y="1250"/>
                  </a:lnTo>
                  <a:lnTo>
                    <a:pt x="115" y="1257"/>
                  </a:lnTo>
                  <a:lnTo>
                    <a:pt x="128" y="1273"/>
                  </a:lnTo>
                  <a:lnTo>
                    <a:pt x="131" y="1280"/>
                  </a:lnTo>
                  <a:lnTo>
                    <a:pt x="140" y="1296"/>
                  </a:lnTo>
                  <a:lnTo>
                    <a:pt x="143" y="1300"/>
                  </a:lnTo>
                  <a:lnTo>
                    <a:pt x="156" y="1316"/>
                  </a:lnTo>
                  <a:lnTo>
                    <a:pt x="159" y="1319"/>
                  </a:lnTo>
                  <a:lnTo>
                    <a:pt x="171" y="1336"/>
                  </a:lnTo>
                  <a:lnTo>
                    <a:pt x="174" y="1339"/>
                  </a:lnTo>
                  <a:lnTo>
                    <a:pt x="187" y="1352"/>
                  </a:lnTo>
                  <a:lnTo>
                    <a:pt x="190" y="1356"/>
                  </a:lnTo>
                  <a:lnTo>
                    <a:pt x="202" y="1369"/>
                  </a:lnTo>
                  <a:lnTo>
                    <a:pt x="205" y="1372"/>
                  </a:lnTo>
                  <a:lnTo>
                    <a:pt x="221" y="1385"/>
                  </a:lnTo>
                  <a:lnTo>
                    <a:pt x="224" y="1389"/>
                  </a:lnTo>
                  <a:lnTo>
                    <a:pt x="239" y="1399"/>
                  </a:lnTo>
                  <a:lnTo>
                    <a:pt x="242" y="1402"/>
                  </a:lnTo>
                  <a:lnTo>
                    <a:pt x="258" y="1412"/>
                  </a:lnTo>
                  <a:lnTo>
                    <a:pt x="261" y="1415"/>
                  </a:lnTo>
                  <a:lnTo>
                    <a:pt x="277" y="1422"/>
                  </a:lnTo>
                  <a:lnTo>
                    <a:pt x="280" y="1425"/>
                  </a:lnTo>
                  <a:lnTo>
                    <a:pt x="295" y="1431"/>
                  </a:lnTo>
                  <a:lnTo>
                    <a:pt x="301" y="1435"/>
                  </a:lnTo>
                  <a:lnTo>
                    <a:pt x="317" y="1441"/>
                  </a:lnTo>
                  <a:lnTo>
                    <a:pt x="323" y="1441"/>
                  </a:lnTo>
                  <a:lnTo>
                    <a:pt x="339" y="1445"/>
                  </a:lnTo>
                  <a:lnTo>
                    <a:pt x="345" y="1448"/>
                  </a:lnTo>
                  <a:lnTo>
                    <a:pt x="360" y="1451"/>
                  </a:lnTo>
                  <a:lnTo>
                    <a:pt x="363" y="1451"/>
                  </a:lnTo>
                  <a:lnTo>
                    <a:pt x="385" y="1455"/>
                  </a:lnTo>
                  <a:lnTo>
                    <a:pt x="388" y="1455"/>
                  </a:lnTo>
                  <a:lnTo>
                    <a:pt x="410" y="1455"/>
                  </a:lnTo>
                  <a:lnTo>
                    <a:pt x="413" y="1455"/>
                  </a:lnTo>
                  <a:lnTo>
                    <a:pt x="435" y="1458"/>
                  </a:lnTo>
                  <a:lnTo>
                    <a:pt x="441" y="1458"/>
                  </a:lnTo>
                  <a:lnTo>
                    <a:pt x="460" y="1458"/>
                  </a:lnTo>
                  <a:lnTo>
                    <a:pt x="466" y="1458"/>
                  </a:lnTo>
                  <a:lnTo>
                    <a:pt x="488" y="1458"/>
                  </a:lnTo>
                  <a:lnTo>
                    <a:pt x="494" y="1458"/>
                  </a:lnTo>
                  <a:lnTo>
                    <a:pt x="519" y="1458"/>
                  </a:lnTo>
                  <a:lnTo>
                    <a:pt x="522" y="1458"/>
                  </a:lnTo>
                  <a:lnTo>
                    <a:pt x="547" y="1458"/>
                  </a:lnTo>
                  <a:lnTo>
                    <a:pt x="553" y="1458"/>
                  </a:lnTo>
                  <a:lnTo>
                    <a:pt x="578" y="1455"/>
                  </a:lnTo>
                  <a:lnTo>
                    <a:pt x="584" y="1455"/>
                  </a:lnTo>
                  <a:lnTo>
                    <a:pt x="609" y="1455"/>
                  </a:lnTo>
                  <a:lnTo>
                    <a:pt x="615" y="1451"/>
                  </a:lnTo>
                  <a:lnTo>
                    <a:pt x="640" y="1451"/>
                  </a:lnTo>
                  <a:lnTo>
                    <a:pt x="646" y="1451"/>
                  </a:lnTo>
                  <a:lnTo>
                    <a:pt x="674" y="1448"/>
                  </a:lnTo>
                  <a:lnTo>
                    <a:pt x="680" y="1448"/>
                  </a:lnTo>
                  <a:lnTo>
                    <a:pt x="708" y="1445"/>
                  </a:lnTo>
                  <a:lnTo>
                    <a:pt x="714" y="1441"/>
                  </a:lnTo>
                  <a:lnTo>
                    <a:pt x="742" y="1438"/>
                  </a:lnTo>
                  <a:lnTo>
                    <a:pt x="748" y="1438"/>
                  </a:lnTo>
                  <a:lnTo>
                    <a:pt x="776" y="1435"/>
                  </a:lnTo>
                  <a:lnTo>
                    <a:pt x="782" y="1431"/>
                  </a:lnTo>
                  <a:lnTo>
                    <a:pt x="810" y="1428"/>
                  </a:lnTo>
                  <a:lnTo>
                    <a:pt x="817" y="1428"/>
                  </a:lnTo>
                  <a:lnTo>
                    <a:pt x="848" y="1422"/>
                  </a:lnTo>
                  <a:lnTo>
                    <a:pt x="854" y="1422"/>
                  </a:lnTo>
                  <a:lnTo>
                    <a:pt x="882" y="1415"/>
                  </a:lnTo>
                  <a:lnTo>
                    <a:pt x="891" y="1415"/>
                  </a:lnTo>
                  <a:lnTo>
                    <a:pt x="919" y="1408"/>
                  </a:lnTo>
                  <a:lnTo>
                    <a:pt x="925" y="1405"/>
                  </a:lnTo>
                  <a:lnTo>
                    <a:pt x="956" y="1402"/>
                  </a:lnTo>
                  <a:lnTo>
                    <a:pt x="962" y="1399"/>
                  </a:lnTo>
                  <a:lnTo>
                    <a:pt x="993" y="1392"/>
                  </a:lnTo>
                  <a:lnTo>
                    <a:pt x="1000" y="1392"/>
                  </a:lnTo>
                  <a:lnTo>
                    <a:pt x="1031" y="1385"/>
                  </a:lnTo>
                  <a:lnTo>
                    <a:pt x="1037" y="1382"/>
                  </a:lnTo>
                  <a:lnTo>
                    <a:pt x="1068" y="1375"/>
                  </a:lnTo>
                  <a:lnTo>
                    <a:pt x="1074" y="1372"/>
                  </a:lnTo>
                  <a:lnTo>
                    <a:pt x="1105" y="1366"/>
                  </a:lnTo>
                  <a:lnTo>
                    <a:pt x="1114" y="1362"/>
                  </a:lnTo>
                  <a:lnTo>
                    <a:pt x="1142" y="1356"/>
                  </a:lnTo>
                  <a:lnTo>
                    <a:pt x="1152" y="1352"/>
                  </a:lnTo>
                  <a:lnTo>
                    <a:pt x="1180" y="1346"/>
                  </a:lnTo>
                  <a:lnTo>
                    <a:pt x="1189" y="1342"/>
                  </a:lnTo>
                  <a:lnTo>
                    <a:pt x="1220" y="1333"/>
                  </a:lnTo>
                  <a:lnTo>
                    <a:pt x="1226" y="1333"/>
                  </a:lnTo>
                  <a:lnTo>
                    <a:pt x="1257" y="1323"/>
                  </a:lnTo>
                  <a:lnTo>
                    <a:pt x="1263" y="1319"/>
                  </a:lnTo>
                  <a:lnTo>
                    <a:pt x="1294" y="1313"/>
                  </a:lnTo>
                  <a:lnTo>
                    <a:pt x="1301" y="1309"/>
                  </a:lnTo>
                  <a:lnTo>
                    <a:pt x="1332" y="1300"/>
                  </a:lnTo>
                  <a:lnTo>
                    <a:pt x="1338" y="1296"/>
                  </a:lnTo>
                  <a:lnTo>
                    <a:pt x="1369" y="1286"/>
                  </a:lnTo>
                  <a:lnTo>
                    <a:pt x="1378" y="1286"/>
                  </a:lnTo>
                  <a:lnTo>
                    <a:pt x="1406" y="1273"/>
                  </a:lnTo>
                  <a:lnTo>
                    <a:pt x="1412" y="1273"/>
                  </a:lnTo>
                  <a:lnTo>
                    <a:pt x="1443" y="1260"/>
                  </a:lnTo>
                  <a:lnTo>
                    <a:pt x="1450" y="1260"/>
                  </a:lnTo>
                  <a:lnTo>
                    <a:pt x="1481" y="1247"/>
                  </a:lnTo>
                  <a:lnTo>
                    <a:pt x="1487" y="1247"/>
                  </a:lnTo>
                  <a:lnTo>
                    <a:pt x="1515" y="1234"/>
                  </a:lnTo>
                  <a:lnTo>
                    <a:pt x="1524" y="1230"/>
                  </a:lnTo>
                  <a:lnTo>
                    <a:pt x="1552" y="1220"/>
                  </a:lnTo>
                  <a:lnTo>
                    <a:pt x="1558" y="1217"/>
                  </a:lnTo>
                  <a:lnTo>
                    <a:pt x="1586" y="1207"/>
                  </a:lnTo>
                  <a:lnTo>
                    <a:pt x="1592" y="1204"/>
                  </a:lnTo>
                  <a:lnTo>
                    <a:pt x="1620" y="1191"/>
                  </a:lnTo>
                  <a:lnTo>
                    <a:pt x="1627" y="1187"/>
                  </a:lnTo>
                  <a:lnTo>
                    <a:pt x="1654" y="1178"/>
                  </a:lnTo>
                  <a:lnTo>
                    <a:pt x="1661" y="1174"/>
                  </a:lnTo>
                  <a:lnTo>
                    <a:pt x="1689" y="1161"/>
                  </a:lnTo>
                  <a:lnTo>
                    <a:pt x="1695" y="1158"/>
                  </a:lnTo>
                  <a:lnTo>
                    <a:pt x="1720" y="1148"/>
                  </a:lnTo>
                  <a:lnTo>
                    <a:pt x="1726" y="1145"/>
                  </a:lnTo>
                  <a:lnTo>
                    <a:pt x="1754" y="1131"/>
                  </a:lnTo>
                  <a:lnTo>
                    <a:pt x="1760" y="1128"/>
                  </a:lnTo>
                  <a:lnTo>
                    <a:pt x="1785" y="1115"/>
                  </a:lnTo>
                  <a:lnTo>
                    <a:pt x="1791" y="1112"/>
                  </a:lnTo>
                  <a:lnTo>
                    <a:pt x="1813" y="1098"/>
                  </a:lnTo>
                  <a:lnTo>
                    <a:pt x="1819" y="1095"/>
                  </a:lnTo>
                  <a:lnTo>
                    <a:pt x="1844" y="1082"/>
                  </a:lnTo>
                  <a:lnTo>
                    <a:pt x="1850" y="1079"/>
                  </a:lnTo>
                  <a:lnTo>
                    <a:pt x="1872" y="1065"/>
                  </a:lnTo>
                  <a:lnTo>
                    <a:pt x="1878" y="1062"/>
                  </a:lnTo>
                  <a:lnTo>
                    <a:pt x="1900" y="1049"/>
                  </a:lnTo>
                  <a:lnTo>
                    <a:pt x="1903" y="1046"/>
                  </a:lnTo>
                  <a:lnTo>
                    <a:pt x="1924" y="1032"/>
                  </a:lnTo>
                  <a:lnTo>
                    <a:pt x="1931" y="1029"/>
                  </a:lnTo>
                  <a:lnTo>
                    <a:pt x="1949" y="1016"/>
                  </a:lnTo>
                  <a:lnTo>
                    <a:pt x="1955" y="1013"/>
                  </a:lnTo>
                  <a:lnTo>
                    <a:pt x="1974" y="999"/>
                  </a:lnTo>
                  <a:lnTo>
                    <a:pt x="1980" y="996"/>
                  </a:lnTo>
                  <a:lnTo>
                    <a:pt x="1999" y="983"/>
                  </a:lnTo>
                  <a:lnTo>
                    <a:pt x="2002" y="976"/>
                  </a:lnTo>
                  <a:lnTo>
                    <a:pt x="2021" y="963"/>
                  </a:lnTo>
                  <a:lnTo>
                    <a:pt x="2024" y="960"/>
                  </a:lnTo>
                  <a:lnTo>
                    <a:pt x="2039" y="947"/>
                  </a:lnTo>
                  <a:lnTo>
                    <a:pt x="2042" y="943"/>
                  </a:lnTo>
                  <a:lnTo>
                    <a:pt x="2058" y="930"/>
                  </a:lnTo>
                  <a:lnTo>
                    <a:pt x="2061" y="927"/>
                  </a:lnTo>
                  <a:lnTo>
                    <a:pt x="2077" y="910"/>
                  </a:lnTo>
                  <a:lnTo>
                    <a:pt x="2080" y="907"/>
                  </a:lnTo>
                  <a:lnTo>
                    <a:pt x="2092" y="894"/>
                  </a:lnTo>
                  <a:lnTo>
                    <a:pt x="2095" y="891"/>
                  </a:lnTo>
                  <a:lnTo>
                    <a:pt x="2108" y="874"/>
                  </a:lnTo>
                  <a:lnTo>
                    <a:pt x="2111" y="871"/>
                  </a:lnTo>
                  <a:lnTo>
                    <a:pt x="2120" y="858"/>
                  </a:lnTo>
                  <a:lnTo>
                    <a:pt x="2123" y="854"/>
                  </a:lnTo>
                  <a:lnTo>
                    <a:pt x="2132" y="838"/>
                  </a:lnTo>
                  <a:lnTo>
                    <a:pt x="2135" y="835"/>
                  </a:lnTo>
                  <a:lnTo>
                    <a:pt x="2142" y="821"/>
                  </a:lnTo>
                  <a:lnTo>
                    <a:pt x="2145" y="818"/>
                  </a:lnTo>
                  <a:lnTo>
                    <a:pt x="2151" y="805"/>
                  </a:lnTo>
                  <a:lnTo>
                    <a:pt x="2151" y="798"/>
                  </a:lnTo>
                  <a:lnTo>
                    <a:pt x="2157" y="785"/>
                  </a:lnTo>
                  <a:lnTo>
                    <a:pt x="2157" y="782"/>
                  </a:lnTo>
                  <a:lnTo>
                    <a:pt x="2163" y="769"/>
                  </a:lnTo>
                  <a:lnTo>
                    <a:pt x="2163" y="762"/>
                  </a:lnTo>
                  <a:lnTo>
                    <a:pt x="2167" y="749"/>
                  </a:lnTo>
                  <a:lnTo>
                    <a:pt x="2167" y="745"/>
                  </a:lnTo>
                  <a:lnTo>
                    <a:pt x="2167" y="732"/>
                  </a:lnTo>
                  <a:lnTo>
                    <a:pt x="2167" y="72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30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cover dir="l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1" dur="2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d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2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EB5D-4011-42C7-8BFE-1ADE007F29E4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Форма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0070c0"/>
                </a:solidFill>
                <a:uFillTx/>
                <a:latin typeface="Gill Sans MT"/>
              </a:rPr>
              <a:t>d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-электронных облаков - </a:t>
            </a:r>
            <a:r>
              <a:rPr b="1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две объемные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восьмёрки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На 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нем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от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до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Freeform 8"/>
          <p:cNvSpPr/>
          <p:nvPr/>
        </p:nvSpPr>
        <p:spPr>
          <a:xfrm>
            <a:off x="6459480" y="3625920"/>
            <a:ext cx="803160" cy="1217520"/>
          </a:xfrm>
          <a:custGeom>
            <a:avLst/>
            <a:gdLst>
              <a:gd name="textAreaLeft" fmla="*/ 0 w 803160"/>
              <a:gd name="textAreaRight" fmla="*/ 803520 w 803160"/>
              <a:gd name="textAreaTop" fmla="*/ 0 h 1217520"/>
              <a:gd name="textAreaBottom" fmla="*/ 1217880 h 1217520"/>
            </a:gdLst>
            <a:ahLst/>
            <a:rect l="textAreaLeft" t="textAreaTop" r="textAreaRight" b="textAreaBottom"/>
            <a:pathLst>
              <a:path w="506" h="767">
                <a:moveTo>
                  <a:pt x="253" y="766"/>
                </a:moveTo>
                <a:lnTo>
                  <a:pt x="253" y="766"/>
                </a:lnTo>
                <a:lnTo>
                  <a:pt x="247" y="766"/>
                </a:lnTo>
                <a:lnTo>
                  <a:pt x="245" y="766"/>
                </a:lnTo>
                <a:lnTo>
                  <a:pt x="241" y="764"/>
                </a:lnTo>
                <a:lnTo>
                  <a:pt x="240" y="764"/>
                </a:lnTo>
                <a:lnTo>
                  <a:pt x="234" y="763"/>
                </a:lnTo>
                <a:lnTo>
                  <a:pt x="233" y="763"/>
                </a:lnTo>
                <a:lnTo>
                  <a:pt x="228" y="760"/>
                </a:lnTo>
                <a:lnTo>
                  <a:pt x="227" y="760"/>
                </a:lnTo>
                <a:lnTo>
                  <a:pt x="221" y="757"/>
                </a:lnTo>
                <a:lnTo>
                  <a:pt x="216" y="754"/>
                </a:lnTo>
                <a:lnTo>
                  <a:pt x="214" y="753"/>
                </a:lnTo>
                <a:lnTo>
                  <a:pt x="210" y="750"/>
                </a:lnTo>
                <a:lnTo>
                  <a:pt x="208" y="749"/>
                </a:lnTo>
                <a:lnTo>
                  <a:pt x="203" y="746"/>
                </a:lnTo>
                <a:lnTo>
                  <a:pt x="201" y="745"/>
                </a:lnTo>
                <a:lnTo>
                  <a:pt x="197" y="741"/>
                </a:lnTo>
                <a:lnTo>
                  <a:pt x="196" y="739"/>
                </a:lnTo>
                <a:lnTo>
                  <a:pt x="191" y="735"/>
                </a:lnTo>
                <a:lnTo>
                  <a:pt x="190" y="734"/>
                </a:lnTo>
                <a:lnTo>
                  <a:pt x="184" y="728"/>
                </a:lnTo>
                <a:lnTo>
                  <a:pt x="183" y="728"/>
                </a:lnTo>
                <a:lnTo>
                  <a:pt x="179" y="723"/>
                </a:lnTo>
                <a:lnTo>
                  <a:pt x="177" y="721"/>
                </a:lnTo>
                <a:lnTo>
                  <a:pt x="173" y="716"/>
                </a:lnTo>
                <a:lnTo>
                  <a:pt x="172" y="713"/>
                </a:lnTo>
                <a:lnTo>
                  <a:pt x="166" y="707"/>
                </a:lnTo>
                <a:lnTo>
                  <a:pt x="166" y="706"/>
                </a:lnTo>
                <a:lnTo>
                  <a:pt x="160" y="699"/>
                </a:lnTo>
                <a:lnTo>
                  <a:pt x="159" y="698"/>
                </a:lnTo>
                <a:lnTo>
                  <a:pt x="155" y="691"/>
                </a:lnTo>
                <a:lnTo>
                  <a:pt x="153" y="689"/>
                </a:lnTo>
                <a:lnTo>
                  <a:pt x="149" y="682"/>
                </a:lnTo>
                <a:lnTo>
                  <a:pt x="147" y="680"/>
                </a:lnTo>
                <a:lnTo>
                  <a:pt x="143" y="673"/>
                </a:lnTo>
                <a:lnTo>
                  <a:pt x="142" y="671"/>
                </a:lnTo>
                <a:lnTo>
                  <a:pt x="137" y="663"/>
                </a:lnTo>
                <a:lnTo>
                  <a:pt x="136" y="662"/>
                </a:lnTo>
                <a:lnTo>
                  <a:pt x="132" y="653"/>
                </a:lnTo>
                <a:lnTo>
                  <a:pt x="130" y="652"/>
                </a:lnTo>
                <a:lnTo>
                  <a:pt x="126" y="644"/>
                </a:lnTo>
                <a:lnTo>
                  <a:pt x="125" y="641"/>
                </a:lnTo>
                <a:lnTo>
                  <a:pt x="120" y="632"/>
                </a:lnTo>
                <a:lnTo>
                  <a:pt x="119" y="630"/>
                </a:lnTo>
                <a:lnTo>
                  <a:pt x="115" y="621"/>
                </a:lnTo>
                <a:lnTo>
                  <a:pt x="113" y="619"/>
                </a:lnTo>
                <a:lnTo>
                  <a:pt x="109" y="610"/>
                </a:lnTo>
                <a:lnTo>
                  <a:pt x="108" y="608"/>
                </a:lnTo>
                <a:lnTo>
                  <a:pt x="103" y="599"/>
                </a:lnTo>
                <a:lnTo>
                  <a:pt x="103" y="596"/>
                </a:lnTo>
                <a:lnTo>
                  <a:pt x="99" y="587"/>
                </a:lnTo>
                <a:lnTo>
                  <a:pt x="98" y="584"/>
                </a:lnTo>
                <a:lnTo>
                  <a:pt x="93" y="576"/>
                </a:lnTo>
                <a:lnTo>
                  <a:pt x="92" y="573"/>
                </a:lnTo>
                <a:lnTo>
                  <a:pt x="88" y="563"/>
                </a:lnTo>
                <a:lnTo>
                  <a:pt x="88" y="560"/>
                </a:lnTo>
                <a:lnTo>
                  <a:pt x="84" y="551"/>
                </a:lnTo>
                <a:lnTo>
                  <a:pt x="82" y="548"/>
                </a:lnTo>
                <a:lnTo>
                  <a:pt x="79" y="538"/>
                </a:lnTo>
                <a:lnTo>
                  <a:pt x="78" y="535"/>
                </a:lnTo>
                <a:lnTo>
                  <a:pt x="74" y="526"/>
                </a:lnTo>
                <a:lnTo>
                  <a:pt x="74" y="523"/>
                </a:lnTo>
                <a:lnTo>
                  <a:pt x="69" y="512"/>
                </a:lnTo>
                <a:lnTo>
                  <a:pt x="68" y="510"/>
                </a:lnTo>
                <a:lnTo>
                  <a:pt x="65" y="499"/>
                </a:lnTo>
                <a:lnTo>
                  <a:pt x="64" y="497"/>
                </a:lnTo>
                <a:lnTo>
                  <a:pt x="61" y="487"/>
                </a:lnTo>
                <a:lnTo>
                  <a:pt x="59" y="484"/>
                </a:lnTo>
                <a:lnTo>
                  <a:pt x="57" y="473"/>
                </a:lnTo>
                <a:lnTo>
                  <a:pt x="55" y="470"/>
                </a:lnTo>
                <a:lnTo>
                  <a:pt x="52" y="461"/>
                </a:lnTo>
                <a:lnTo>
                  <a:pt x="51" y="458"/>
                </a:lnTo>
                <a:lnTo>
                  <a:pt x="48" y="447"/>
                </a:lnTo>
                <a:lnTo>
                  <a:pt x="47" y="444"/>
                </a:lnTo>
                <a:lnTo>
                  <a:pt x="44" y="433"/>
                </a:lnTo>
                <a:lnTo>
                  <a:pt x="44" y="430"/>
                </a:lnTo>
                <a:lnTo>
                  <a:pt x="41" y="420"/>
                </a:lnTo>
                <a:lnTo>
                  <a:pt x="40" y="418"/>
                </a:lnTo>
                <a:lnTo>
                  <a:pt x="37" y="407"/>
                </a:lnTo>
                <a:lnTo>
                  <a:pt x="37" y="404"/>
                </a:lnTo>
                <a:lnTo>
                  <a:pt x="34" y="393"/>
                </a:lnTo>
                <a:lnTo>
                  <a:pt x="32" y="390"/>
                </a:lnTo>
                <a:lnTo>
                  <a:pt x="30" y="380"/>
                </a:lnTo>
                <a:lnTo>
                  <a:pt x="30" y="377"/>
                </a:lnTo>
                <a:lnTo>
                  <a:pt x="27" y="366"/>
                </a:lnTo>
                <a:lnTo>
                  <a:pt x="27" y="364"/>
                </a:lnTo>
                <a:lnTo>
                  <a:pt x="24" y="354"/>
                </a:lnTo>
                <a:lnTo>
                  <a:pt x="24" y="351"/>
                </a:lnTo>
                <a:lnTo>
                  <a:pt x="21" y="340"/>
                </a:lnTo>
                <a:lnTo>
                  <a:pt x="21" y="337"/>
                </a:lnTo>
                <a:lnTo>
                  <a:pt x="18" y="328"/>
                </a:lnTo>
                <a:lnTo>
                  <a:pt x="18" y="325"/>
                </a:lnTo>
                <a:lnTo>
                  <a:pt x="15" y="314"/>
                </a:lnTo>
                <a:lnTo>
                  <a:pt x="15" y="312"/>
                </a:lnTo>
                <a:lnTo>
                  <a:pt x="14" y="301"/>
                </a:lnTo>
                <a:lnTo>
                  <a:pt x="13" y="298"/>
                </a:lnTo>
                <a:lnTo>
                  <a:pt x="11" y="289"/>
                </a:lnTo>
                <a:lnTo>
                  <a:pt x="11" y="286"/>
                </a:lnTo>
                <a:lnTo>
                  <a:pt x="10" y="276"/>
                </a:lnTo>
                <a:lnTo>
                  <a:pt x="8" y="273"/>
                </a:lnTo>
                <a:lnTo>
                  <a:pt x="7" y="264"/>
                </a:lnTo>
                <a:lnTo>
                  <a:pt x="7" y="261"/>
                </a:lnTo>
                <a:lnTo>
                  <a:pt x="5" y="251"/>
                </a:lnTo>
                <a:lnTo>
                  <a:pt x="5" y="250"/>
                </a:lnTo>
                <a:lnTo>
                  <a:pt x="4" y="240"/>
                </a:lnTo>
                <a:lnTo>
                  <a:pt x="4" y="237"/>
                </a:lnTo>
                <a:lnTo>
                  <a:pt x="3" y="229"/>
                </a:lnTo>
                <a:lnTo>
                  <a:pt x="3" y="226"/>
                </a:lnTo>
                <a:lnTo>
                  <a:pt x="3" y="217"/>
                </a:lnTo>
                <a:lnTo>
                  <a:pt x="3" y="215"/>
                </a:lnTo>
                <a:lnTo>
                  <a:pt x="1" y="206"/>
                </a:lnTo>
                <a:lnTo>
                  <a:pt x="1" y="204"/>
                </a:lnTo>
                <a:lnTo>
                  <a:pt x="1" y="196"/>
                </a:lnTo>
                <a:lnTo>
                  <a:pt x="1" y="193"/>
                </a:lnTo>
                <a:lnTo>
                  <a:pt x="1" y="185"/>
                </a:lnTo>
                <a:lnTo>
                  <a:pt x="0" y="182"/>
                </a:lnTo>
                <a:lnTo>
                  <a:pt x="0" y="175"/>
                </a:lnTo>
                <a:lnTo>
                  <a:pt x="0" y="172"/>
                </a:lnTo>
                <a:lnTo>
                  <a:pt x="0" y="165"/>
                </a:lnTo>
                <a:lnTo>
                  <a:pt x="0" y="163"/>
                </a:lnTo>
                <a:lnTo>
                  <a:pt x="1" y="156"/>
                </a:lnTo>
                <a:lnTo>
                  <a:pt x="1" y="153"/>
                </a:lnTo>
                <a:lnTo>
                  <a:pt x="1" y="146"/>
                </a:lnTo>
                <a:lnTo>
                  <a:pt x="1" y="145"/>
                </a:lnTo>
                <a:lnTo>
                  <a:pt x="1" y="138"/>
                </a:lnTo>
                <a:lnTo>
                  <a:pt x="3" y="136"/>
                </a:lnTo>
                <a:lnTo>
                  <a:pt x="3" y="129"/>
                </a:lnTo>
                <a:lnTo>
                  <a:pt x="3" y="128"/>
                </a:lnTo>
                <a:lnTo>
                  <a:pt x="4" y="121"/>
                </a:lnTo>
                <a:lnTo>
                  <a:pt x="4" y="120"/>
                </a:lnTo>
                <a:lnTo>
                  <a:pt x="7" y="114"/>
                </a:lnTo>
                <a:lnTo>
                  <a:pt x="7" y="113"/>
                </a:lnTo>
                <a:lnTo>
                  <a:pt x="8" y="106"/>
                </a:lnTo>
                <a:lnTo>
                  <a:pt x="10" y="104"/>
                </a:lnTo>
                <a:lnTo>
                  <a:pt x="13" y="99"/>
                </a:lnTo>
                <a:lnTo>
                  <a:pt x="13" y="97"/>
                </a:lnTo>
                <a:lnTo>
                  <a:pt x="15" y="92"/>
                </a:lnTo>
                <a:lnTo>
                  <a:pt x="17" y="91"/>
                </a:lnTo>
                <a:lnTo>
                  <a:pt x="20" y="85"/>
                </a:lnTo>
                <a:lnTo>
                  <a:pt x="21" y="84"/>
                </a:lnTo>
                <a:lnTo>
                  <a:pt x="24" y="79"/>
                </a:lnTo>
                <a:lnTo>
                  <a:pt x="25" y="78"/>
                </a:lnTo>
                <a:lnTo>
                  <a:pt x="30" y="73"/>
                </a:lnTo>
                <a:lnTo>
                  <a:pt x="31" y="71"/>
                </a:lnTo>
                <a:lnTo>
                  <a:pt x="35" y="67"/>
                </a:lnTo>
                <a:lnTo>
                  <a:pt x="37" y="66"/>
                </a:lnTo>
                <a:lnTo>
                  <a:pt x="41" y="61"/>
                </a:lnTo>
                <a:lnTo>
                  <a:pt x="42" y="60"/>
                </a:lnTo>
                <a:lnTo>
                  <a:pt x="48" y="56"/>
                </a:lnTo>
                <a:lnTo>
                  <a:pt x="49" y="55"/>
                </a:lnTo>
                <a:lnTo>
                  <a:pt x="55" y="50"/>
                </a:lnTo>
                <a:lnTo>
                  <a:pt x="57" y="49"/>
                </a:lnTo>
                <a:lnTo>
                  <a:pt x="62" y="46"/>
                </a:lnTo>
                <a:lnTo>
                  <a:pt x="64" y="45"/>
                </a:lnTo>
                <a:lnTo>
                  <a:pt x="71" y="41"/>
                </a:lnTo>
                <a:lnTo>
                  <a:pt x="72" y="41"/>
                </a:lnTo>
                <a:lnTo>
                  <a:pt x="78" y="36"/>
                </a:lnTo>
                <a:lnTo>
                  <a:pt x="79" y="35"/>
                </a:lnTo>
                <a:lnTo>
                  <a:pt x="86" y="32"/>
                </a:lnTo>
                <a:lnTo>
                  <a:pt x="88" y="31"/>
                </a:lnTo>
                <a:lnTo>
                  <a:pt x="95" y="28"/>
                </a:lnTo>
                <a:lnTo>
                  <a:pt x="98" y="28"/>
                </a:lnTo>
                <a:lnTo>
                  <a:pt x="105" y="25"/>
                </a:lnTo>
                <a:lnTo>
                  <a:pt x="106" y="24"/>
                </a:lnTo>
                <a:lnTo>
                  <a:pt x="113" y="21"/>
                </a:lnTo>
                <a:lnTo>
                  <a:pt x="116" y="21"/>
                </a:lnTo>
                <a:lnTo>
                  <a:pt x="123" y="18"/>
                </a:lnTo>
                <a:lnTo>
                  <a:pt x="125" y="17"/>
                </a:lnTo>
                <a:lnTo>
                  <a:pt x="133" y="16"/>
                </a:lnTo>
                <a:lnTo>
                  <a:pt x="135" y="14"/>
                </a:lnTo>
                <a:lnTo>
                  <a:pt x="143" y="13"/>
                </a:lnTo>
                <a:lnTo>
                  <a:pt x="146" y="12"/>
                </a:lnTo>
                <a:lnTo>
                  <a:pt x="153" y="10"/>
                </a:lnTo>
                <a:lnTo>
                  <a:pt x="156" y="10"/>
                </a:lnTo>
                <a:lnTo>
                  <a:pt x="164" y="9"/>
                </a:lnTo>
                <a:lnTo>
                  <a:pt x="166" y="7"/>
                </a:lnTo>
                <a:lnTo>
                  <a:pt x="174" y="6"/>
                </a:lnTo>
                <a:lnTo>
                  <a:pt x="177" y="6"/>
                </a:lnTo>
                <a:lnTo>
                  <a:pt x="186" y="5"/>
                </a:lnTo>
                <a:lnTo>
                  <a:pt x="187" y="5"/>
                </a:lnTo>
                <a:lnTo>
                  <a:pt x="196" y="3"/>
                </a:lnTo>
                <a:lnTo>
                  <a:pt x="199" y="3"/>
                </a:lnTo>
                <a:lnTo>
                  <a:pt x="207" y="2"/>
                </a:lnTo>
                <a:lnTo>
                  <a:pt x="210" y="2"/>
                </a:lnTo>
                <a:lnTo>
                  <a:pt x="218" y="0"/>
                </a:lnTo>
                <a:lnTo>
                  <a:pt x="220" y="0"/>
                </a:lnTo>
                <a:lnTo>
                  <a:pt x="230" y="0"/>
                </a:lnTo>
                <a:lnTo>
                  <a:pt x="231" y="0"/>
                </a:lnTo>
                <a:lnTo>
                  <a:pt x="240" y="0"/>
                </a:lnTo>
                <a:lnTo>
                  <a:pt x="243" y="0"/>
                </a:lnTo>
                <a:lnTo>
                  <a:pt x="251" y="0"/>
                </a:lnTo>
                <a:lnTo>
                  <a:pt x="254" y="0"/>
                </a:lnTo>
                <a:lnTo>
                  <a:pt x="262" y="0"/>
                </a:lnTo>
                <a:lnTo>
                  <a:pt x="265" y="0"/>
                </a:lnTo>
                <a:lnTo>
                  <a:pt x="274" y="0"/>
                </a:lnTo>
                <a:lnTo>
                  <a:pt x="275" y="0"/>
                </a:lnTo>
                <a:lnTo>
                  <a:pt x="285" y="0"/>
                </a:lnTo>
                <a:lnTo>
                  <a:pt x="287" y="0"/>
                </a:lnTo>
                <a:lnTo>
                  <a:pt x="295" y="2"/>
                </a:lnTo>
                <a:lnTo>
                  <a:pt x="298" y="2"/>
                </a:lnTo>
                <a:lnTo>
                  <a:pt x="306" y="3"/>
                </a:lnTo>
                <a:lnTo>
                  <a:pt x="309" y="3"/>
                </a:lnTo>
                <a:lnTo>
                  <a:pt x="318" y="5"/>
                </a:lnTo>
                <a:lnTo>
                  <a:pt x="319" y="5"/>
                </a:lnTo>
                <a:lnTo>
                  <a:pt x="328" y="6"/>
                </a:lnTo>
                <a:lnTo>
                  <a:pt x="331" y="6"/>
                </a:lnTo>
                <a:lnTo>
                  <a:pt x="339" y="7"/>
                </a:lnTo>
                <a:lnTo>
                  <a:pt x="341" y="9"/>
                </a:lnTo>
                <a:lnTo>
                  <a:pt x="349" y="10"/>
                </a:lnTo>
                <a:lnTo>
                  <a:pt x="352" y="10"/>
                </a:lnTo>
                <a:lnTo>
                  <a:pt x="359" y="12"/>
                </a:lnTo>
                <a:lnTo>
                  <a:pt x="362" y="13"/>
                </a:lnTo>
                <a:lnTo>
                  <a:pt x="370" y="14"/>
                </a:lnTo>
                <a:lnTo>
                  <a:pt x="372" y="16"/>
                </a:lnTo>
                <a:lnTo>
                  <a:pt x="380" y="17"/>
                </a:lnTo>
                <a:lnTo>
                  <a:pt x="382" y="18"/>
                </a:lnTo>
                <a:lnTo>
                  <a:pt x="389" y="21"/>
                </a:lnTo>
                <a:lnTo>
                  <a:pt x="392" y="21"/>
                </a:lnTo>
                <a:lnTo>
                  <a:pt x="399" y="24"/>
                </a:lnTo>
                <a:lnTo>
                  <a:pt x="400" y="25"/>
                </a:lnTo>
                <a:lnTo>
                  <a:pt x="407" y="28"/>
                </a:lnTo>
                <a:lnTo>
                  <a:pt x="410" y="28"/>
                </a:lnTo>
                <a:lnTo>
                  <a:pt x="417" y="31"/>
                </a:lnTo>
                <a:lnTo>
                  <a:pt x="419" y="32"/>
                </a:lnTo>
                <a:lnTo>
                  <a:pt x="426" y="35"/>
                </a:lnTo>
                <a:lnTo>
                  <a:pt x="427" y="36"/>
                </a:lnTo>
                <a:lnTo>
                  <a:pt x="433" y="41"/>
                </a:lnTo>
                <a:lnTo>
                  <a:pt x="434" y="41"/>
                </a:lnTo>
                <a:lnTo>
                  <a:pt x="441" y="45"/>
                </a:lnTo>
                <a:lnTo>
                  <a:pt x="443" y="46"/>
                </a:lnTo>
                <a:lnTo>
                  <a:pt x="448" y="49"/>
                </a:lnTo>
                <a:lnTo>
                  <a:pt x="450" y="50"/>
                </a:lnTo>
                <a:lnTo>
                  <a:pt x="456" y="55"/>
                </a:lnTo>
                <a:lnTo>
                  <a:pt x="457" y="56"/>
                </a:lnTo>
                <a:lnTo>
                  <a:pt x="463" y="60"/>
                </a:lnTo>
                <a:lnTo>
                  <a:pt x="464" y="61"/>
                </a:lnTo>
                <a:lnTo>
                  <a:pt x="468" y="66"/>
                </a:lnTo>
                <a:lnTo>
                  <a:pt x="470" y="67"/>
                </a:lnTo>
                <a:lnTo>
                  <a:pt x="474" y="71"/>
                </a:lnTo>
                <a:lnTo>
                  <a:pt x="475" y="73"/>
                </a:lnTo>
                <a:lnTo>
                  <a:pt x="480" y="78"/>
                </a:lnTo>
                <a:lnTo>
                  <a:pt x="481" y="79"/>
                </a:lnTo>
                <a:lnTo>
                  <a:pt x="484" y="84"/>
                </a:lnTo>
                <a:lnTo>
                  <a:pt x="485" y="85"/>
                </a:lnTo>
                <a:lnTo>
                  <a:pt x="488" y="91"/>
                </a:lnTo>
                <a:lnTo>
                  <a:pt x="490" y="92"/>
                </a:lnTo>
                <a:lnTo>
                  <a:pt x="492" y="97"/>
                </a:lnTo>
                <a:lnTo>
                  <a:pt x="492" y="99"/>
                </a:lnTo>
                <a:lnTo>
                  <a:pt x="495" y="104"/>
                </a:lnTo>
                <a:lnTo>
                  <a:pt x="497" y="106"/>
                </a:lnTo>
                <a:lnTo>
                  <a:pt x="498" y="113"/>
                </a:lnTo>
                <a:lnTo>
                  <a:pt x="498" y="114"/>
                </a:lnTo>
                <a:lnTo>
                  <a:pt x="501" y="120"/>
                </a:lnTo>
                <a:lnTo>
                  <a:pt x="501" y="121"/>
                </a:lnTo>
                <a:lnTo>
                  <a:pt x="502" y="128"/>
                </a:lnTo>
                <a:lnTo>
                  <a:pt x="502" y="136"/>
                </a:lnTo>
                <a:lnTo>
                  <a:pt x="504" y="138"/>
                </a:lnTo>
                <a:lnTo>
                  <a:pt x="504" y="145"/>
                </a:lnTo>
                <a:lnTo>
                  <a:pt x="504" y="146"/>
                </a:lnTo>
                <a:lnTo>
                  <a:pt x="504" y="153"/>
                </a:lnTo>
                <a:lnTo>
                  <a:pt x="504" y="156"/>
                </a:lnTo>
                <a:lnTo>
                  <a:pt x="505" y="163"/>
                </a:lnTo>
                <a:lnTo>
                  <a:pt x="505" y="165"/>
                </a:lnTo>
                <a:lnTo>
                  <a:pt x="505" y="172"/>
                </a:lnTo>
                <a:lnTo>
                  <a:pt x="505" y="175"/>
                </a:lnTo>
                <a:lnTo>
                  <a:pt x="505" y="182"/>
                </a:lnTo>
                <a:lnTo>
                  <a:pt x="504" y="185"/>
                </a:lnTo>
                <a:lnTo>
                  <a:pt x="504" y="193"/>
                </a:lnTo>
                <a:lnTo>
                  <a:pt x="504" y="196"/>
                </a:lnTo>
                <a:lnTo>
                  <a:pt x="504" y="204"/>
                </a:lnTo>
                <a:lnTo>
                  <a:pt x="504" y="206"/>
                </a:lnTo>
                <a:lnTo>
                  <a:pt x="502" y="215"/>
                </a:lnTo>
                <a:lnTo>
                  <a:pt x="502" y="217"/>
                </a:lnTo>
                <a:lnTo>
                  <a:pt x="502" y="226"/>
                </a:lnTo>
                <a:lnTo>
                  <a:pt x="502" y="229"/>
                </a:lnTo>
                <a:lnTo>
                  <a:pt x="501" y="237"/>
                </a:lnTo>
                <a:lnTo>
                  <a:pt x="501" y="240"/>
                </a:lnTo>
                <a:lnTo>
                  <a:pt x="500" y="250"/>
                </a:lnTo>
                <a:lnTo>
                  <a:pt x="500" y="251"/>
                </a:lnTo>
                <a:lnTo>
                  <a:pt x="498" y="261"/>
                </a:lnTo>
                <a:lnTo>
                  <a:pt x="498" y="264"/>
                </a:lnTo>
                <a:lnTo>
                  <a:pt x="497" y="273"/>
                </a:lnTo>
                <a:lnTo>
                  <a:pt x="495" y="276"/>
                </a:lnTo>
                <a:lnTo>
                  <a:pt x="494" y="286"/>
                </a:lnTo>
                <a:lnTo>
                  <a:pt x="494" y="289"/>
                </a:lnTo>
                <a:lnTo>
                  <a:pt x="492" y="298"/>
                </a:lnTo>
                <a:lnTo>
                  <a:pt x="491" y="301"/>
                </a:lnTo>
                <a:lnTo>
                  <a:pt x="490" y="312"/>
                </a:lnTo>
                <a:lnTo>
                  <a:pt x="490" y="314"/>
                </a:lnTo>
                <a:lnTo>
                  <a:pt x="487" y="325"/>
                </a:lnTo>
                <a:lnTo>
                  <a:pt x="487" y="328"/>
                </a:lnTo>
                <a:lnTo>
                  <a:pt x="484" y="337"/>
                </a:lnTo>
                <a:lnTo>
                  <a:pt x="484" y="340"/>
                </a:lnTo>
                <a:lnTo>
                  <a:pt x="481" y="351"/>
                </a:lnTo>
                <a:lnTo>
                  <a:pt x="481" y="354"/>
                </a:lnTo>
                <a:lnTo>
                  <a:pt x="478" y="364"/>
                </a:lnTo>
                <a:lnTo>
                  <a:pt x="478" y="366"/>
                </a:lnTo>
                <a:lnTo>
                  <a:pt x="475" y="377"/>
                </a:lnTo>
                <a:lnTo>
                  <a:pt x="475" y="380"/>
                </a:lnTo>
                <a:lnTo>
                  <a:pt x="473" y="390"/>
                </a:lnTo>
                <a:lnTo>
                  <a:pt x="471" y="393"/>
                </a:lnTo>
                <a:lnTo>
                  <a:pt x="468" y="404"/>
                </a:lnTo>
                <a:lnTo>
                  <a:pt x="468" y="407"/>
                </a:lnTo>
                <a:lnTo>
                  <a:pt x="466" y="418"/>
                </a:lnTo>
                <a:lnTo>
                  <a:pt x="464" y="420"/>
                </a:lnTo>
                <a:lnTo>
                  <a:pt x="461" y="430"/>
                </a:lnTo>
                <a:lnTo>
                  <a:pt x="461" y="433"/>
                </a:lnTo>
                <a:lnTo>
                  <a:pt x="458" y="444"/>
                </a:lnTo>
                <a:lnTo>
                  <a:pt x="457" y="447"/>
                </a:lnTo>
                <a:lnTo>
                  <a:pt x="454" y="458"/>
                </a:lnTo>
                <a:lnTo>
                  <a:pt x="453" y="461"/>
                </a:lnTo>
                <a:lnTo>
                  <a:pt x="450" y="470"/>
                </a:lnTo>
                <a:lnTo>
                  <a:pt x="448" y="473"/>
                </a:lnTo>
                <a:lnTo>
                  <a:pt x="446" y="484"/>
                </a:lnTo>
                <a:lnTo>
                  <a:pt x="444" y="487"/>
                </a:lnTo>
                <a:lnTo>
                  <a:pt x="441" y="497"/>
                </a:lnTo>
                <a:lnTo>
                  <a:pt x="440" y="499"/>
                </a:lnTo>
                <a:lnTo>
                  <a:pt x="437" y="510"/>
                </a:lnTo>
                <a:lnTo>
                  <a:pt x="436" y="512"/>
                </a:lnTo>
                <a:lnTo>
                  <a:pt x="431" y="523"/>
                </a:lnTo>
                <a:lnTo>
                  <a:pt x="431" y="526"/>
                </a:lnTo>
                <a:lnTo>
                  <a:pt x="427" y="535"/>
                </a:lnTo>
                <a:lnTo>
                  <a:pt x="426" y="538"/>
                </a:lnTo>
                <a:lnTo>
                  <a:pt x="423" y="548"/>
                </a:lnTo>
                <a:lnTo>
                  <a:pt x="421" y="551"/>
                </a:lnTo>
                <a:lnTo>
                  <a:pt x="417" y="560"/>
                </a:lnTo>
                <a:lnTo>
                  <a:pt x="417" y="563"/>
                </a:lnTo>
                <a:lnTo>
                  <a:pt x="413" y="573"/>
                </a:lnTo>
                <a:lnTo>
                  <a:pt x="412" y="576"/>
                </a:lnTo>
                <a:lnTo>
                  <a:pt x="407" y="584"/>
                </a:lnTo>
                <a:lnTo>
                  <a:pt x="406" y="587"/>
                </a:lnTo>
                <a:lnTo>
                  <a:pt x="402" y="596"/>
                </a:lnTo>
                <a:lnTo>
                  <a:pt x="402" y="599"/>
                </a:lnTo>
                <a:lnTo>
                  <a:pt x="397" y="608"/>
                </a:lnTo>
                <a:lnTo>
                  <a:pt x="396" y="610"/>
                </a:lnTo>
                <a:lnTo>
                  <a:pt x="392" y="619"/>
                </a:lnTo>
                <a:lnTo>
                  <a:pt x="390" y="621"/>
                </a:lnTo>
                <a:lnTo>
                  <a:pt x="386" y="630"/>
                </a:lnTo>
                <a:lnTo>
                  <a:pt x="385" y="632"/>
                </a:lnTo>
                <a:lnTo>
                  <a:pt x="380" y="641"/>
                </a:lnTo>
                <a:lnTo>
                  <a:pt x="379" y="644"/>
                </a:lnTo>
                <a:lnTo>
                  <a:pt x="375" y="652"/>
                </a:lnTo>
                <a:lnTo>
                  <a:pt x="373" y="653"/>
                </a:lnTo>
                <a:lnTo>
                  <a:pt x="369" y="662"/>
                </a:lnTo>
                <a:lnTo>
                  <a:pt x="368" y="663"/>
                </a:lnTo>
                <a:lnTo>
                  <a:pt x="363" y="671"/>
                </a:lnTo>
                <a:lnTo>
                  <a:pt x="362" y="673"/>
                </a:lnTo>
                <a:lnTo>
                  <a:pt x="358" y="680"/>
                </a:lnTo>
                <a:lnTo>
                  <a:pt x="356" y="682"/>
                </a:lnTo>
                <a:lnTo>
                  <a:pt x="352" y="689"/>
                </a:lnTo>
                <a:lnTo>
                  <a:pt x="350" y="691"/>
                </a:lnTo>
                <a:lnTo>
                  <a:pt x="346" y="698"/>
                </a:lnTo>
                <a:lnTo>
                  <a:pt x="345" y="699"/>
                </a:lnTo>
                <a:lnTo>
                  <a:pt x="339" y="706"/>
                </a:lnTo>
                <a:lnTo>
                  <a:pt x="339" y="707"/>
                </a:lnTo>
                <a:lnTo>
                  <a:pt x="333" y="713"/>
                </a:lnTo>
                <a:lnTo>
                  <a:pt x="332" y="716"/>
                </a:lnTo>
                <a:lnTo>
                  <a:pt x="328" y="721"/>
                </a:lnTo>
                <a:lnTo>
                  <a:pt x="326" y="723"/>
                </a:lnTo>
                <a:lnTo>
                  <a:pt x="322" y="728"/>
                </a:lnTo>
                <a:lnTo>
                  <a:pt x="321" y="728"/>
                </a:lnTo>
                <a:lnTo>
                  <a:pt x="315" y="734"/>
                </a:lnTo>
                <a:lnTo>
                  <a:pt x="314" y="735"/>
                </a:lnTo>
                <a:lnTo>
                  <a:pt x="309" y="739"/>
                </a:lnTo>
                <a:lnTo>
                  <a:pt x="308" y="741"/>
                </a:lnTo>
                <a:lnTo>
                  <a:pt x="304" y="745"/>
                </a:lnTo>
                <a:lnTo>
                  <a:pt x="302" y="746"/>
                </a:lnTo>
                <a:lnTo>
                  <a:pt x="297" y="749"/>
                </a:lnTo>
                <a:lnTo>
                  <a:pt x="295" y="750"/>
                </a:lnTo>
                <a:lnTo>
                  <a:pt x="291" y="753"/>
                </a:lnTo>
                <a:lnTo>
                  <a:pt x="289" y="754"/>
                </a:lnTo>
                <a:lnTo>
                  <a:pt x="284" y="757"/>
                </a:lnTo>
                <a:lnTo>
                  <a:pt x="278" y="760"/>
                </a:lnTo>
                <a:lnTo>
                  <a:pt x="277" y="760"/>
                </a:lnTo>
                <a:lnTo>
                  <a:pt x="272" y="763"/>
                </a:lnTo>
                <a:lnTo>
                  <a:pt x="271" y="763"/>
                </a:lnTo>
                <a:lnTo>
                  <a:pt x="265" y="764"/>
                </a:lnTo>
                <a:lnTo>
                  <a:pt x="264" y="764"/>
                </a:lnTo>
                <a:lnTo>
                  <a:pt x="260" y="766"/>
                </a:lnTo>
                <a:lnTo>
                  <a:pt x="258" y="766"/>
                </a:lnTo>
                <a:lnTo>
                  <a:pt x="253" y="766"/>
                </a:lnTo>
              </a:path>
            </a:pathLst>
          </a:cu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5" name="Freeform 11"/>
          <p:cNvSpPr/>
          <p:nvPr/>
        </p:nvSpPr>
        <p:spPr>
          <a:xfrm>
            <a:off x="6051600" y="4525920"/>
            <a:ext cx="1619280" cy="631800"/>
          </a:xfrm>
          <a:custGeom>
            <a:avLst/>
            <a:gdLst>
              <a:gd name="textAreaLeft" fmla="*/ 0 w 1619280"/>
              <a:gd name="textAreaRight" fmla="*/ 1619640 w 161928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1020" h="398">
                <a:moveTo>
                  <a:pt x="0" y="199"/>
                </a:moveTo>
                <a:lnTo>
                  <a:pt x="0" y="199"/>
                </a:lnTo>
                <a:lnTo>
                  <a:pt x="0" y="194"/>
                </a:lnTo>
                <a:lnTo>
                  <a:pt x="0" y="193"/>
                </a:lnTo>
                <a:lnTo>
                  <a:pt x="1" y="189"/>
                </a:lnTo>
                <a:lnTo>
                  <a:pt x="1" y="187"/>
                </a:lnTo>
                <a:lnTo>
                  <a:pt x="1" y="183"/>
                </a:lnTo>
                <a:lnTo>
                  <a:pt x="3" y="182"/>
                </a:lnTo>
                <a:lnTo>
                  <a:pt x="4" y="178"/>
                </a:lnTo>
                <a:lnTo>
                  <a:pt x="4" y="176"/>
                </a:lnTo>
                <a:lnTo>
                  <a:pt x="5" y="172"/>
                </a:lnTo>
                <a:lnTo>
                  <a:pt x="8" y="168"/>
                </a:lnTo>
                <a:lnTo>
                  <a:pt x="8" y="167"/>
                </a:lnTo>
                <a:lnTo>
                  <a:pt x="11" y="162"/>
                </a:lnTo>
                <a:lnTo>
                  <a:pt x="11" y="161"/>
                </a:lnTo>
                <a:lnTo>
                  <a:pt x="14" y="157"/>
                </a:lnTo>
                <a:lnTo>
                  <a:pt x="15" y="157"/>
                </a:lnTo>
                <a:lnTo>
                  <a:pt x="18" y="153"/>
                </a:lnTo>
                <a:lnTo>
                  <a:pt x="18" y="151"/>
                </a:lnTo>
                <a:lnTo>
                  <a:pt x="22" y="147"/>
                </a:lnTo>
                <a:lnTo>
                  <a:pt x="27" y="143"/>
                </a:lnTo>
                <a:lnTo>
                  <a:pt x="28" y="142"/>
                </a:lnTo>
                <a:lnTo>
                  <a:pt x="31" y="138"/>
                </a:lnTo>
                <a:lnTo>
                  <a:pt x="32" y="138"/>
                </a:lnTo>
                <a:lnTo>
                  <a:pt x="37" y="133"/>
                </a:lnTo>
                <a:lnTo>
                  <a:pt x="38" y="132"/>
                </a:lnTo>
                <a:lnTo>
                  <a:pt x="42" y="129"/>
                </a:lnTo>
                <a:lnTo>
                  <a:pt x="44" y="128"/>
                </a:lnTo>
                <a:lnTo>
                  <a:pt x="48" y="124"/>
                </a:lnTo>
                <a:lnTo>
                  <a:pt x="49" y="124"/>
                </a:lnTo>
                <a:lnTo>
                  <a:pt x="55" y="120"/>
                </a:lnTo>
                <a:lnTo>
                  <a:pt x="57" y="118"/>
                </a:lnTo>
                <a:lnTo>
                  <a:pt x="61" y="115"/>
                </a:lnTo>
                <a:lnTo>
                  <a:pt x="62" y="114"/>
                </a:lnTo>
                <a:lnTo>
                  <a:pt x="68" y="111"/>
                </a:lnTo>
                <a:lnTo>
                  <a:pt x="69" y="110"/>
                </a:lnTo>
                <a:lnTo>
                  <a:pt x="75" y="106"/>
                </a:lnTo>
                <a:lnTo>
                  <a:pt x="76" y="106"/>
                </a:lnTo>
                <a:lnTo>
                  <a:pt x="84" y="101"/>
                </a:lnTo>
                <a:lnTo>
                  <a:pt x="85" y="101"/>
                </a:lnTo>
                <a:lnTo>
                  <a:pt x="91" y="97"/>
                </a:lnTo>
                <a:lnTo>
                  <a:pt x="92" y="97"/>
                </a:lnTo>
                <a:lnTo>
                  <a:pt x="99" y="93"/>
                </a:lnTo>
                <a:lnTo>
                  <a:pt x="101" y="93"/>
                </a:lnTo>
                <a:lnTo>
                  <a:pt x="106" y="89"/>
                </a:lnTo>
                <a:lnTo>
                  <a:pt x="109" y="89"/>
                </a:lnTo>
                <a:lnTo>
                  <a:pt x="115" y="86"/>
                </a:lnTo>
                <a:lnTo>
                  <a:pt x="118" y="85"/>
                </a:lnTo>
                <a:lnTo>
                  <a:pt x="123" y="82"/>
                </a:lnTo>
                <a:lnTo>
                  <a:pt x="126" y="81"/>
                </a:lnTo>
                <a:lnTo>
                  <a:pt x="133" y="78"/>
                </a:lnTo>
                <a:lnTo>
                  <a:pt x="135" y="77"/>
                </a:lnTo>
                <a:lnTo>
                  <a:pt x="142" y="74"/>
                </a:lnTo>
                <a:lnTo>
                  <a:pt x="143" y="74"/>
                </a:lnTo>
                <a:lnTo>
                  <a:pt x="152" y="71"/>
                </a:lnTo>
                <a:lnTo>
                  <a:pt x="153" y="70"/>
                </a:lnTo>
                <a:lnTo>
                  <a:pt x="160" y="67"/>
                </a:lnTo>
                <a:lnTo>
                  <a:pt x="163" y="65"/>
                </a:lnTo>
                <a:lnTo>
                  <a:pt x="170" y="63"/>
                </a:lnTo>
                <a:lnTo>
                  <a:pt x="172" y="63"/>
                </a:lnTo>
                <a:lnTo>
                  <a:pt x="180" y="60"/>
                </a:lnTo>
                <a:lnTo>
                  <a:pt x="181" y="59"/>
                </a:lnTo>
                <a:lnTo>
                  <a:pt x="190" y="57"/>
                </a:lnTo>
                <a:lnTo>
                  <a:pt x="191" y="56"/>
                </a:lnTo>
                <a:lnTo>
                  <a:pt x="200" y="53"/>
                </a:lnTo>
                <a:lnTo>
                  <a:pt x="201" y="53"/>
                </a:lnTo>
                <a:lnTo>
                  <a:pt x="210" y="50"/>
                </a:lnTo>
                <a:lnTo>
                  <a:pt x="211" y="49"/>
                </a:lnTo>
                <a:lnTo>
                  <a:pt x="220" y="47"/>
                </a:lnTo>
                <a:lnTo>
                  <a:pt x="223" y="46"/>
                </a:lnTo>
                <a:lnTo>
                  <a:pt x="231" y="43"/>
                </a:lnTo>
                <a:lnTo>
                  <a:pt x="233" y="43"/>
                </a:lnTo>
                <a:lnTo>
                  <a:pt x="241" y="41"/>
                </a:lnTo>
                <a:lnTo>
                  <a:pt x="243" y="41"/>
                </a:lnTo>
                <a:lnTo>
                  <a:pt x="251" y="38"/>
                </a:lnTo>
                <a:lnTo>
                  <a:pt x="254" y="38"/>
                </a:lnTo>
                <a:lnTo>
                  <a:pt x="262" y="35"/>
                </a:lnTo>
                <a:lnTo>
                  <a:pt x="264" y="35"/>
                </a:lnTo>
                <a:lnTo>
                  <a:pt x="272" y="32"/>
                </a:lnTo>
                <a:lnTo>
                  <a:pt x="275" y="32"/>
                </a:lnTo>
                <a:lnTo>
                  <a:pt x="282" y="31"/>
                </a:lnTo>
                <a:lnTo>
                  <a:pt x="285" y="29"/>
                </a:lnTo>
                <a:lnTo>
                  <a:pt x="294" y="28"/>
                </a:lnTo>
                <a:lnTo>
                  <a:pt x="295" y="27"/>
                </a:lnTo>
                <a:lnTo>
                  <a:pt x="304" y="25"/>
                </a:lnTo>
                <a:lnTo>
                  <a:pt x="306" y="25"/>
                </a:lnTo>
                <a:lnTo>
                  <a:pt x="315" y="22"/>
                </a:lnTo>
                <a:lnTo>
                  <a:pt x="316" y="22"/>
                </a:lnTo>
                <a:lnTo>
                  <a:pt x="325" y="21"/>
                </a:lnTo>
                <a:lnTo>
                  <a:pt x="328" y="21"/>
                </a:lnTo>
                <a:lnTo>
                  <a:pt x="336" y="18"/>
                </a:lnTo>
                <a:lnTo>
                  <a:pt x="338" y="18"/>
                </a:lnTo>
                <a:lnTo>
                  <a:pt x="346" y="17"/>
                </a:lnTo>
                <a:lnTo>
                  <a:pt x="349" y="17"/>
                </a:lnTo>
                <a:lnTo>
                  <a:pt x="358" y="16"/>
                </a:lnTo>
                <a:lnTo>
                  <a:pt x="359" y="14"/>
                </a:lnTo>
                <a:lnTo>
                  <a:pt x="368" y="13"/>
                </a:lnTo>
                <a:lnTo>
                  <a:pt x="369" y="13"/>
                </a:lnTo>
                <a:lnTo>
                  <a:pt x="377" y="11"/>
                </a:lnTo>
                <a:lnTo>
                  <a:pt x="380" y="11"/>
                </a:lnTo>
                <a:lnTo>
                  <a:pt x="389" y="10"/>
                </a:lnTo>
                <a:lnTo>
                  <a:pt x="390" y="10"/>
                </a:lnTo>
                <a:lnTo>
                  <a:pt x="399" y="9"/>
                </a:lnTo>
                <a:lnTo>
                  <a:pt x="400" y="9"/>
                </a:lnTo>
                <a:lnTo>
                  <a:pt x="409" y="7"/>
                </a:lnTo>
                <a:lnTo>
                  <a:pt x="410" y="7"/>
                </a:lnTo>
                <a:lnTo>
                  <a:pt x="419" y="6"/>
                </a:lnTo>
                <a:lnTo>
                  <a:pt x="420" y="6"/>
                </a:lnTo>
                <a:lnTo>
                  <a:pt x="429" y="4"/>
                </a:lnTo>
                <a:lnTo>
                  <a:pt x="430" y="4"/>
                </a:lnTo>
                <a:lnTo>
                  <a:pt x="439" y="4"/>
                </a:lnTo>
                <a:lnTo>
                  <a:pt x="440" y="3"/>
                </a:lnTo>
                <a:lnTo>
                  <a:pt x="447" y="3"/>
                </a:lnTo>
                <a:lnTo>
                  <a:pt x="450" y="3"/>
                </a:lnTo>
                <a:lnTo>
                  <a:pt x="457" y="2"/>
                </a:lnTo>
                <a:lnTo>
                  <a:pt x="458" y="2"/>
                </a:lnTo>
                <a:lnTo>
                  <a:pt x="465" y="2"/>
                </a:lnTo>
                <a:lnTo>
                  <a:pt x="468" y="2"/>
                </a:lnTo>
                <a:lnTo>
                  <a:pt x="475" y="2"/>
                </a:lnTo>
                <a:lnTo>
                  <a:pt x="477" y="0"/>
                </a:lnTo>
                <a:lnTo>
                  <a:pt x="484" y="0"/>
                </a:lnTo>
                <a:lnTo>
                  <a:pt x="485" y="0"/>
                </a:lnTo>
                <a:lnTo>
                  <a:pt x="492" y="0"/>
                </a:lnTo>
                <a:lnTo>
                  <a:pt x="494" y="0"/>
                </a:lnTo>
                <a:lnTo>
                  <a:pt x="501" y="0"/>
                </a:lnTo>
                <a:lnTo>
                  <a:pt x="502" y="0"/>
                </a:lnTo>
                <a:lnTo>
                  <a:pt x="508" y="0"/>
                </a:lnTo>
                <a:lnTo>
                  <a:pt x="510" y="0"/>
                </a:lnTo>
                <a:lnTo>
                  <a:pt x="517" y="0"/>
                </a:lnTo>
                <a:lnTo>
                  <a:pt x="518" y="0"/>
                </a:lnTo>
                <a:lnTo>
                  <a:pt x="525" y="0"/>
                </a:lnTo>
                <a:lnTo>
                  <a:pt x="527" y="0"/>
                </a:lnTo>
                <a:lnTo>
                  <a:pt x="534" y="0"/>
                </a:lnTo>
                <a:lnTo>
                  <a:pt x="535" y="0"/>
                </a:lnTo>
                <a:lnTo>
                  <a:pt x="542" y="0"/>
                </a:lnTo>
                <a:lnTo>
                  <a:pt x="544" y="2"/>
                </a:lnTo>
                <a:lnTo>
                  <a:pt x="551" y="2"/>
                </a:lnTo>
                <a:lnTo>
                  <a:pt x="554" y="2"/>
                </a:lnTo>
                <a:lnTo>
                  <a:pt x="561" y="2"/>
                </a:lnTo>
                <a:lnTo>
                  <a:pt x="562" y="2"/>
                </a:lnTo>
                <a:lnTo>
                  <a:pt x="569" y="3"/>
                </a:lnTo>
                <a:lnTo>
                  <a:pt x="572" y="3"/>
                </a:lnTo>
                <a:lnTo>
                  <a:pt x="579" y="3"/>
                </a:lnTo>
                <a:lnTo>
                  <a:pt x="581" y="4"/>
                </a:lnTo>
                <a:lnTo>
                  <a:pt x="589" y="4"/>
                </a:lnTo>
                <a:lnTo>
                  <a:pt x="590" y="4"/>
                </a:lnTo>
                <a:lnTo>
                  <a:pt x="599" y="6"/>
                </a:lnTo>
                <a:lnTo>
                  <a:pt x="600" y="6"/>
                </a:lnTo>
                <a:lnTo>
                  <a:pt x="609" y="7"/>
                </a:lnTo>
                <a:lnTo>
                  <a:pt x="610" y="7"/>
                </a:lnTo>
                <a:lnTo>
                  <a:pt x="619" y="9"/>
                </a:lnTo>
                <a:lnTo>
                  <a:pt x="620" y="9"/>
                </a:lnTo>
                <a:lnTo>
                  <a:pt x="629" y="10"/>
                </a:lnTo>
                <a:lnTo>
                  <a:pt x="630" y="10"/>
                </a:lnTo>
                <a:lnTo>
                  <a:pt x="639" y="11"/>
                </a:lnTo>
                <a:lnTo>
                  <a:pt x="642" y="11"/>
                </a:lnTo>
                <a:lnTo>
                  <a:pt x="650" y="13"/>
                </a:lnTo>
                <a:lnTo>
                  <a:pt x="652" y="13"/>
                </a:lnTo>
                <a:lnTo>
                  <a:pt x="660" y="14"/>
                </a:lnTo>
                <a:lnTo>
                  <a:pt x="661" y="16"/>
                </a:lnTo>
                <a:lnTo>
                  <a:pt x="670" y="17"/>
                </a:lnTo>
                <a:lnTo>
                  <a:pt x="673" y="17"/>
                </a:lnTo>
                <a:lnTo>
                  <a:pt x="681" y="18"/>
                </a:lnTo>
                <a:lnTo>
                  <a:pt x="683" y="18"/>
                </a:lnTo>
                <a:lnTo>
                  <a:pt x="691" y="21"/>
                </a:lnTo>
                <a:lnTo>
                  <a:pt x="694" y="21"/>
                </a:lnTo>
                <a:lnTo>
                  <a:pt x="703" y="22"/>
                </a:lnTo>
                <a:lnTo>
                  <a:pt x="704" y="22"/>
                </a:lnTo>
                <a:lnTo>
                  <a:pt x="713" y="25"/>
                </a:lnTo>
                <a:lnTo>
                  <a:pt x="715" y="25"/>
                </a:lnTo>
                <a:lnTo>
                  <a:pt x="724" y="27"/>
                </a:lnTo>
                <a:lnTo>
                  <a:pt x="725" y="28"/>
                </a:lnTo>
                <a:lnTo>
                  <a:pt x="734" y="29"/>
                </a:lnTo>
                <a:lnTo>
                  <a:pt x="737" y="31"/>
                </a:lnTo>
                <a:lnTo>
                  <a:pt x="744" y="32"/>
                </a:lnTo>
                <a:lnTo>
                  <a:pt x="747" y="32"/>
                </a:lnTo>
                <a:lnTo>
                  <a:pt x="755" y="35"/>
                </a:lnTo>
                <a:lnTo>
                  <a:pt x="757" y="35"/>
                </a:lnTo>
                <a:lnTo>
                  <a:pt x="765" y="38"/>
                </a:lnTo>
                <a:lnTo>
                  <a:pt x="768" y="38"/>
                </a:lnTo>
                <a:lnTo>
                  <a:pt x="776" y="41"/>
                </a:lnTo>
                <a:lnTo>
                  <a:pt x="778" y="41"/>
                </a:lnTo>
                <a:lnTo>
                  <a:pt x="786" y="43"/>
                </a:lnTo>
                <a:lnTo>
                  <a:pt x="788" y="43"/>
                </a:lnTo>
                <a:lnTo>
                  <a:pt x="796" y="46"/>
                </a:lnTo>
                <a:lnTo>
                  <a:pt x="799" y="47"/>
                </a:lnTo>
                <a:lnTo>
                  <a:pt x="808" y="49"/>
                </a:lnTo>
                <a:lnTo>
                  <a:pt x="809" y="50"/>
                </a:lnTo>
                <a:lnTo>
                  <a:pt x="818" y="53"/>
                </a:lnTo>
                <a:lnTo>
                  <a:pt x="819" y="53"/>
                </a:lnTo>
                <a:lnTo>
                  <a:pt x="828" y="56"/>
                </a:lnTo>
                <a:lnTo>
                  <a:pt x="829" y="57"/>
                </a:lnTo>
                <a:lnTo>
                  <a:pt x="838" y="59"/>
                </a:lnTo>
                <a:lnTo>
                  <a:pt x="839" y="60"/>
                </a:lnTo>
                <a:lnTo>
                  <a:pt x="847" y="63"/>
                </a:lnTo>
                <a:lnTo>
                  <a:pt x="849" y="63"/>
                </a:lnTo>
                <a:lnTo>
                  <a:pt x="856" y="65"/>
                </a:lnTo>
                <a:lnTo>
                  <a:pt x="859" y="67"/>
                </a:lnTo>
                <a:lnTo>
                  <a:pt x="866" y="70"/>
                </a:lnTo>
                <a:lnTo>
                  <a:pt x="867" y="71"/>
                </a:lnTo>
                <a:lnTo>
                  <a:pt x="876" y="74"/>
                </a:lnTo>
                <a:lnTo>
                  <a:pt x="877" y="74"/>
                </a:lnTo>
                <a:lnTo>
                  <a:pt x="884" y="77"/>
                </a:lnTo>
                <a:lnTo>
                  <a:pt x="886" y="78"/>
                </a:lnTo>
                <a:lnTo>
                  <a:pt x="893" y="81"/>
                </a:lnTo>
                <a:lnTo>
                  <a:pt x="896" y="82"/>
                </a:lnTo>
                <a:lnTo>
                  <a:pt x="901" y="85"/>
                </a:lnTo>
                <a:lnTo>
                  <a:pt x="904" y="86"/>
                </a:lnTo>
                <a:lnTo>
                  <a:pt x="910" y="89"/>
                </a:lnTo>
                <a:lnTo>
                  <a:pt x="913" y="89"/>
                </a:lnTo>
                <a:lnTo>
                  <a:pt x="918" y="93"/>
                </a:lnTo>
                <a:lnTo>
                  <a:pt x="920" y="93"/>
                </a:lnTo>
                <a:lnTo>
                  <a:pt x="927" y="97"/>
                </a:lnTo>
                <a:lnTo>
                  <a:pt x="928" y="97"/>
                </a:lnTo>
                <a:lnTo>
                  <a:pt x="934" y="101"/>
                </a:lnTo>
                <a:lnTo>
                  <a:pt x="936" y="101"/>
                </a:lnTo>
                <a:lnTo>
                  <a:pt x="943" y="106"/>
                </a:lnTo>
                <a:lnTo>
                  <a:pt x="944" y="106"/>
                </a:lnTo>
                <a:lnTo>
                  <a:pt x="950" y="110"/>
                </a:lnTo>
                <a:lnTo>
                  <a:pt x="951" y="111"/>
                </a:lnTo>
                <a:lnTo>
                  <a:pt x="957" y="114"/>
                </a:lnTo>
                <a:lnTo>
                  <a:pt x="958" y="115"/>
                </a:lnTo>
                <a:lnTo>
                  <a:pt x="962" y="118"/>
                </a:lnTo>
                <a:lnTo>
                  <a:pt x="964" y="120"/>
                </a:lnTo>
                <a:lnTo>
                  <a:pt x="970" y="124"/>
                </a:lnTo>
                <a:lnTo>
                  <a:pt x="971" y="124"/>
                </a:lnTo>
                <a:lnTo>
                  <a:pt x="975" y="128"/>
                </a:lnTo>
                <a:lnTo>
                  <a:pt x="977" y="129"/>
                </a:lnTo>
                <a:lnTo>
                  <a:pt x="981" y="132"/>
                </a:lnTo>
                <a:lnTo>
                  <a:pt x="982" y="133"/>
                </a:lnTo>
                <a:lnTo>
                  <a:pt x="987" y="138"/>
                </a:lnTo>
                <a:lnTo>
                  <a:pt x="988" y="138"/>
                </a:lnTo>
                <a:lnTo>
                  <a:pt x="991" y="142"/>
                </a:lnTo>
                <a:lnTo>
                  <a:pt x="992" y="143"/>
                </a:lnTo>
                <a:lnTo>
                  <a:pt x="997" y="147"/>
                </a:lnTo>
                <a:lnTo>
                  <a:pt x="1001" y="151"/>
                </a:lnTo>
                <a:lnTo>
                  <a:pt x="1001" y="153"/>
                </a:lnTo>
                <a:lnTo>
                  <a:pt x="1004" y="157"/>
                </a:lnTo>
                <a:lnTo>
                  <a:pt x="1005" y="157"/>
                </a:lnTo>
                <a:lnTo>
                  <a:pt x="1008" y="161"/>
                </a:lnTo>
                <a:lnTo>
                  <a:pt x="1008" y="162"/>
                </a:lnTo>
                <a:lnTo>
                  <a:pt x="1011" y="167"/>
                </a:lnTo>
                <a:lnTo>
                  <a:pt x="1011" y="168"/>
                </a:lnTo>
                <a:lnTo>
                  <a:pt x="1014" y="172"/>
                </a:lnTo>
                <a:lnTo>
                  <a:pt x="1015" y="176"/>
                </a:lnTo>
                <a:lnTo>
                  <a:pt x="1015" y="178"/>
                </a:lnTo>
                <a:lnTo>
                  <a:pt x="1016" y="182"/>
                </a:lnTo>
                <a:lnTo>
                  <a:pt x="1018" y="183"/>
                </a:lnTo>
                <a:lnTo>
                  <a:pt x="1018" y="187"/>
                </a:lnTo>
                <a:lnTo>
                  <a:pt x="1018" y="189"/>
                </a:lnTo>
                <a:lnTo>
                  <a:pt x="1019" y="193"/>
                </a:lnTo>
                <a:lnTo>
                  <a:pt x="1019" y="194"/>
                </a:lnTo>
                <a:lnTo>
                  <a:pt x="1019" y="199"/>
                </a:lnTo>
                <a:lnTo>
                  <a:pt x="1019" y="203"/>
                </a:lnTo>
                <a:lnTo>
                  <a:pt x="1019" y="204"/>
                </a:lnTo>
                <a:lnTo>
                  <a:pt x="1018" y="208"/>
                </a:lnTo>
                <a:lnTo>
                  <a:pt x="1018" y="210"/>
                </a:lnTo>
                <a:lnTo>
                  <a:pt x="1018" y="214"/>
                </a:lnTo>
                <a:lnTo>
                  <a:pt x="1016" y="215"/>
                </a:lnTo>
                <a:lnTo>
                  <a:pt x="1015" y="219"/>
                </a:lnTo>
                <a:lnTo>
                  <a:pt x="1015" y="221"/>
                </a:lnTo>
                <a:lnTo>
                  <a:pt x="1014" y="225"/>
                </a:lnTo>
                <a:lnTo>
                  <a:pt x="1011" y="229"/>
                </a:lnTo>
                <a:lnTo>
                  <a:pt x="1011" y="230"/>
                </a:lnTo>
                <a:lnTo>
                  <a:pt x="1008" y="235"/>
                </a:lnTo>
                <a:lnTo>
                  <a:pt x="1008" y="236"/>
                </a:lnTo>
                <a:lnTo>
                  <a:pt x="1005" y="240"/>
                </a:lnTo>
                <a:lnTo>
                  <a:pt x="1004" y="240"/>
                </a:lnTo>
                <a:lnTo>
                  <a:pt x="1001" y="244"/>
                </a:lnTo>
                <a:lnTo>
                  <a:pt x="1001" y="246"/>
                </a:lnTo>
                <a:lnTo>
                  <a:pt x="997" y="250"/>
                </a:lnTo>
                <a:lnTo>
                  <a:pt x="992" y="254"/>
                </a:lnTo>
                <a:lnTo>
                  <a:pt x="991" y="255"/>
                </a:lnTo>
                <a:lnTo>
                  <a:pt x="988" y="259"/>
                </a:lnTo>
                <a:lnTo>
                  <a:pt x="987" y="259"/>
                </a:lnTo>
                <a:lnTo>
                  <a:pt x="982" y="264"/>
                </a:lnTo>
                <a:lnTo>
                  <a:pt x="981" y="265"/>
                </a:lnTo>
                <a:lnTo>
                  <a:pt x="977" y="268"/>
                </a:lnTo>
                <a:lnTo>
                  <a:pt x="975" y="269"/>
                </a:lnTo>
                <a:lnTo>
                  <a:pt x="971" y="273"/>
                </a:lnTo>
                <a:lnTo>
                  <a:pt x="970" y="273"/>
                </a:lnTo>
                <a:lnTo>
                  <a:pt x="964" y="277"/>
                </a:lnTo>
                <a:lnTo>
                  <a:pt x="962" y="279"/>
                </a:lnTo>
                <a:lnTo>
                  <a:pt x="958" y="282"/>
                </a:lnTo>
                <a:lnTo>
                  <a:pt x="957" y="283"/>
                </a:lnTo>
                <a:lnTo>
                  <a:pt x="951" y="286"/>
                </a:lnTo>
                <a:lnTo>
                  <a:pt x="950" y="287"/>
                </a:lnTo>
                <a:lnTo>
                  <a:pt x="944" y="291"/>
                </a:lnTo>
                <a:lnTo>
                  <a:pt x="943" y="291"/>
                </a:lnTo>
                <a:lnTo>
                  <a:pt x="936" y="296"/>
                </a:lnTo>
                <a:lnTo>
                  <a:pt x="934" y="296"/>
                </a:lnTo>
                <a:lnTo>
                  <a:pt x="928" y="300"/>
                </a:lnTo>
                <a:lnTo>
                  <a:pt x="927" y="300"/>
                </a:lnTo>
                <a:lnTo>
                  <a:pt x="920" y="304"/>
                </a:lnTo>
                <a:lnTo>
                  <a:pt x="918" y="304"/>
                </a:lnTo>
                <a:lnTo>
                  <a:pt x="913" y="308"/>
                </a:lnTo>
                <a:lnTo>
                  <a:pt x="910" y="308"/>
                </a:lnTo>
                <a:lnTo>
                  <a:pt x="904" y="311"/>
                </a:lnTo>
                <a:lnTo>
                  <a:pt x="901" y="312"/>
                </a:lnTo>
                <a:lnTo>
                  <a:pt x="896" y="315"/>
                </a:lnTo>
                <a:lnTo>
                  <a:pt x="893" y="316"/>
                </a:lnTo>
                <a:lnTo>
                  <a:pt x="886" y="319"/>
                </a:lnTo>
                <a:lnTo>
                  <a:pt x="884" y="320"/>
                </a:lnTo>
                <a:lnTo>
                  <a:pt x="877" y="323"/>
                </a:lnTo>
                <a:lnTo>
                  <a:pt x="876" y="323"/>
                </a:lnTo>
                <a:lnTo>
                  <a:pt x="867" y="326"/>
                </a:lnTo>
                <a:lnTo>
                  <a:pt x="866" y="327"/>
                </a:lnTo>
                <a:lnTo>
                  <a:pt x="859" y="330"/>
                </a:lnTo>
                <a:lnTo>
                  <a:pt x="856" y="332"/>
                </a:lnTo>
                <a:lnTo>
                  <a:pt x="849" y="334"/>
                </a:lnTo>
                <a:lnTo>
                  <a:pt x="847" y="334"/>
                </a:lnTo>
                <a:lnTo>
                  <a:pt x="839" y="337"/>
                </a:lnTo>
                <a:lnTo>
                  <a:pt x="838" y="338"/>
                </a:lnTo>
                <a:lnTo>
                  <a:pt x="829" y="340"/>
                </a:lnTo>
                <a:lnTo>
                  <a:pt x="828" y="341"/>
                </a:lnTo>
                <a:lnTo>
                  <a:pt x="819" y="344"/>
                </a:lnTo>
                <a:lnTo>
                  <a:pt x="818" y="344"/>
                </a:lnTo>
                <a:lnTo>
                  <a:pt x="809" y="347"/>
                </a:lnTo>
                <a:lnTo>
                  <a:pt x="808" y="348"/>
                </a:lnTo>
                <a:lnTo>
                  <a:pt x="799" y="350"/>
                </a:lnTo>
                <a:lnTo>
                  <a:pt x="796" y="351"/>
                </a:lnTo>
                <a:lnTo>
                  <a:pt x="788" y="354"/>
                </a:lnTo>
                <a:lnTo>
                  <a:pt x="786" y="354"/>
                </a:lnTo>
                <a:lnTo>
                  <a:pt x="778" y="356"/>
                </a:lnTo>
                <a:lnTo>
                  <a:pt x="776" y="356"/>
                </a:lnTo>
                <a:lnTo>
                  <a:pt x="768" y="359"/>
                </a:lnTo>
                <a:lnTo>
                  <a:pt x="765" y="359"/>
                </a:lnTo>
                <a:lnTo>
                  <a:pt x="757" y="362"/>
                </a:lnTo>
                <a:lnTo>
                  <a:pt x="755" y="362"/>
                </a:lnTo>
                <a:lnTo>
                  <a:pt x="747" y="365"/>
                </a:lnTo>
                <a:lnTo>
                  <a:pt x="744" y="365"/>
                </a:lnTo>
                <a:lnTo>
                  <a:pt x="737" y="366"/>
                </a:lnTo>
                <a:lnTo>
                  <a:pt x="734" y="368"/>
                </a:lnTo>
                <a:lnTo>
                  <a:pt x="725" y="369"/>
                </a:lnTo>
                <a:lnTo>
                  <a:pt x="724" y="370"/>
                </a:lnTo>
                <a:lnTo>
                  <a:pt x="715" y="372"/>
                </a:lnTo>
                <a:lnTo>
                  <a:pt x="713" y="372"/>
                </a:lnTo>
                <a:lnTo>
                  <a:pt x="704" y="375"/>
                </a:lnTo>
                <a:lnTo>
                  <a:pt x="703" y="375"/>
                </a:lnTo>
                <a:lnTo>
                  <a:pt x="694" y="376"/>
                </a:lnTo>
                <a:lnTo>
                  <a:pt x="691" y="376"/>
                </a:lnTo>
                <a:lnTo>
                  <a:pt x="683" y="379"/>
                </a:lnTo>
                <a:lnTo>
                  <a:pt x="681" y="379"/>
                </a:lnTo>
                <a:lnTo>
                  <a:pt x="673" y="380"/>
                </a:lnTo>
                <a:lnTo>
                  <a:pt x="670" y="380"/>
                </a:lnTo>
                <a:lnTo>
                  <a:pt x="661" y="381"/>
                </a:lnTo>
                <a:lnTo>
                  <a:pt x="660" y="383"/>
                </a:lnTo>
                <a:lnTo>
                  <a:pt x="652" y="384"/>
                </a:lnTo>
                <a:lnTo>
                  <a:pt x="650" y="384"/>
                </a:lnTo>
                <a:lnTo>
                  <a:pt x="642" y="386"/>
                </a:lnTo>
                <a:lnTo>
                  <a:pt x="639" y="386"/>
                </a:lnTo>
                <a:lnTo>
                  <a:pt x="630" y="387"/>
                </a:lnTo>
                <a:lnTo>
                  <a:pt x="629" y="387"/>
                </a:lnTo>
                <a:lnTo>
                  <a:pt x="620" y="388"/>
                </a:lnTo>
                <a:lnTo>
                  <a:pt x="619" y="388"/>
                </a:lnTo>
                <a:lnTo>
                  <a:pt x="610" y="390"/>
                </a:lnTo>
                <a:lnTo>
                  <a:pt x="609" y="390"/>
                </a:lnTo>
                <a:lnTo>
                  <a:pt x="600" y="391"/>
                </a:lnTo>
                <a:lnTo>
                  <a:pt x="599" y="391"/>
                </a:lnTo>
                <a:lnTo>
                  <a:pt x="590" y="393"/>
                </a:lnTo>
                <a:lnTo>
                  <a:pt x="589" y="393"/>
                </a:lnTo>
                <a:lnTo>
                  <a:pt x="581" y="393"/>
                </a:lnTo>
                <a:lnTo>
                  <a:pt x="579" y="394"/>
                </a:lnTo>
                <a:lnTo>
                  <a:pt x="572" y="394"/>
                </a:lnTo>
                <a:lnTo>
                  <a:pt x="569" y="394"/>
                </a:lnTo>
                <a:lnTo>
                  <a:pt x="562" y="395"/>
                </a:lnTo>
                <a:lnTo>
                  <a:pt x="561" y="395"/>
                </a:lnTo>
                <a:lnTo>
                  <a:pt x="554" y="395"/>
                </a:lnTo>
                <a:lnTo>
                  <a:pt x="551" y="395"/>
                </a:lnTo>
                <a:lnTo>
                  <a:pt x="544" y="395"/>
                </a:lnTo>
                <a:lnTo>
                  <a:pt x="542" y="397"/>
                </a:lnTo>
                <a:lnTo>
                  <a:pt x="535" y="397"/>
                </a:lnTo>
                <a:lnTo>
                  <a:pt x="534" y="397"/>
                </a:lnTo>
                <a:lnTo>
                  <a:pt x="527" y="397"/>
                </a:lnTo>
                <a:lnTo>
                  <a:pt x="525" y="397"/>
                </a:lnTo>
                <a:lnTo>
                  <a:pt x="518" y="397"/>
                </a:lnTo>
                <a:lnTo>
                  <a:pt x="517" y="397"/>
                </a:lnTo>
                <a:lnTo>
                  <a:pt x="511" y="397"/>
                </a:lnTo>
                <a:lnTo>
                  <a:pt x="510" y="397"/>
                </a:lnTo>
                <a:lnTo>
                  <a:pt x="502" y="397"/>
                </a:lnTo>
                <a:lnTo>
                  <a:pt x="501" y="397"/>
                </a:lnTo>
                <a:lnTo>
                  <a:pt x="494" y="397"/>
                </a:lnTo>
                <a:lnTo>
                  <a:pt x="492" y="397"/>
                </a:lnTo>
                <a:lnTo>
                  <a:pt x="485" y="397"/>
                </a:lnTo>
                <a:lnTo>
                  <a:pt x="484" y="397"/>
                </a:lnTo>
                <a:lnTo>
                  <a:pt x="477" y="397"/>
                </a:lnTo>
                <a:lnTo>
                  <a:pt x="475" y="395"/>
                </a:lnTo>
                <a:lnTo>
                  <a:pt x="468" y="395"/>
                </a:lnTo>
                <a:lnTo>
                  <a:pt x="465" y="395"/>
                </a:lnTo>
                <a:lnTo>
                  <a:pt x="458" y="395"/>
                </a:lnTo>
                <a:lnTo>
                  <a:pt x="457" y="395"/>
                </a:lnTo>
                <a:lnTo>
                  <a:pt x="450" y="394"/>
                </a:lnTo>
                <a:lnTo>
                  <a:pt x="447" y="394"/>
                </a:lnTo>
                <a:lnTo>
                  <a:pt x="440" y="394"/>
                </a:lnTo>
                <a:lnTo>
                  <a:pt x="439" y="393"/>
                </a:lnTo>
                <a:lnTo>
                  <a:pt x="430" y="393"/>
                </a:lnTo>
                <a:lnTo>
                  <a:pt x="429" y="393"/>
                </a:lnTo>
                <a:lnTo>
                  <a:pt x="420" y="391"/>
                </a:lnTo>
                <a:lnTo>
                  <a:pt x="419" y="391"/>
                </a:lnTo>
                <a:lnTo>
                  <a:pt x="410" y="390"/>
                </a:lnTo>
                <a:lnTo>
                  <a:pt x="409" y="390"/>
                </a:lnTo>
                <a:lnTo>
                  <a:pt x="400" y="388"/>
                </a:lnTo>
                <a:lnTo>
                  <a:pt x="399" y="388"/>
                </a:lnTo>
                <a:lnTo>
                  <a:pt x="390" y="387"/>
                </a:lnTo>
                <a:lnTo>
                  <a:pt x="389" y="387"/>
                </a:lnTo>
                <a:lnTo>
                  <a:pt x="380" y="386"/>
                </a:lnTo>
                <a:lnTo>
                  <a:pt x="377" y="386"/>
                </a:lnTo>
                <a:lnTo>
                  <a:pt x="369" y="384"/>
                </a:lnTo>
                <a:lnTo>
                  <a:pt x="368" y="384"/>
                </a:lnTo>
                <a:lnTo>
                  <a:pt x="359" y="383"/>
                </a:lnTo>
                <a:lnTo>
                  <a:pt x="358" y="381"/>
                </a:lnTo>
                <a:lnTo>
                  <a:pt x="349" y="380"/>
                </a:lnTo>
                <a:lnTo>
                  <a:pt x="346" y="380"/>
                </a:lnTo>
                <a:lnTo>
                  <a:pt x="338" y="379"/>
                </a:lnTo>
                <a:lnTo>
                  <a:pt x="336" y="379"/>
                </a:lnTo>
                <a:lnTo>
                  <a:pt x="328" y="376"/>
                </a:lnTo>
                <a:lnTo>
                  <a:pt x="325" y="376"/>
                </a:lnTo>
                <a:lnTo>
                  <a:pt x="316" y="375"/>
                </a:lnTo>
                <a:lnTo>
                  <a:pt x="315" y="375"/>
                </a:lnTo>
                <a:lnTo>
                  <a:pt x="306" y="372"/>
                </a:lnTo>
                <a:lnTo>
                  <a:pt x="304" y="372"/>
                </a:lnTo>
                <a:lnTo>
                  <a:pt x="295" y="370"/>
                </a:lnTo>
                <a:lnTo>
                  <a:pt x="294" y="369"/>
                </a:lnTo>
                <a:lnTo>
                  <a:pt x="285" y="368"/>
                </a:lnTo>
                <a:lnTo>
                  <a:pt x="282" y="366"/>
                </a:lnTo>
                <a:lnTo>
                  <a:pt x="275" y="365"/>
                </a:lnTo>
                <a:lnTo>
                  <a:pt x="272" y="365"/>
                </a:lnTo>
                <a:lnTo>
                  <a:pt x="264" y="362"/>
                </a:lnTo>
                <a:lnTo>
                  <a:pt x="262" y="362"/>
                </a:lnTo>
                <a:lnTo>
                  <a:pt x="254" y="359"/>
                </a:lnTo>
                <a:lnTo>
                  <a:pt x="251" y="359"/>
                </a:lnTo>
                <a:lnTo>
                  <a:pt x="243" y="356"/>
                </a:lnTo>
                <a:lnTo>
                  <a:pt x="241" y="356"/>
                </a:lnTo>
                <a:lnTo>
                  <a:pt x="233" y="354"/>
                </a:lnTo>
                <a:lnTo>
                  <a:pt x="231" y="354"/>
                </a:lnTo>
                <a:lnTo>
                  <a:pt x="223" y="351"/>
                </a:lnTo>
                <a:lnTo>
                  <a:pt x="220" y="350"/>
                </a:lnTo>
                <a:lnTo>
                  <a:pt x="211" y="348"/>
                </a:lnTo>
                <a:lnTo>
                  <a:pt x="210" y="347"/>
                </a:lnTo>
                <a:lnTo>
                  <a:pt x="201" y="344"/>
                </a:lnTo>
                <a:lnTo>
                  <a:pt x="200" y="344"/>
                </a:lnTo>
                <a:lnTo>
                  <a:pt x="191" y="341"/>
                </a:lnTo>
                <a:lnTo>
                  <a:pt x="190" y="340"/>
                </a:lnTo>
                <a:lnTo>
                  <a:pt x="181" y="338"/>
                </a:lnTo>
                <a:lnTo>
                  <a:pt x="180" y="337"/>
                </a:lnTo>
                <a:lnTo>
                  <a:pt x="172" y="334"/>
                </a:lnTo>
                <a:lnTo>
                  <a:pt x="170" y="334"/>
                </a:lnTo>
                <a:lnTo>
                  <a:pt x="163" y="332"/>
                </a:lnTo>
                <a:lnTo>
                  <a:pt x="160" y="330"/>
                </a:lnTo>
                <a:lnTo>
                  <a:pt x="153" y="327"/>
                </a:lnTo>
                <a:lnTo>
                  <a:pt x="152" y="326"/>
                </a:lnTo>
                <a:lnTo>
                  <a:pt x="143" y="323"/>
                </a:lnTo>
                <a:lnTo>
                  <a:pt x="142" y="323"/>
                </a:lnTo>
                <a:lnTo>
                  <a:pt x="135" y="320"/>
                </a:lnTo>
                <a:lnTo>
                  <a:pt x="133" y="319"/>
                </a:lnTo>
                <a:lnTo>
                  <a:pt x="126" y="316"/>
                </a:lnTo>
                <a:lnTo>
                  <a:pt x="123" y="315"/>
                </a:lnTo>
                <a:lnTo>
                  <a:pt x="118" y="312"/>
                </a:lnTo>
                <a:lnTo>
                  <a:pt x="115" y="311"/>
                </a:lnTo>
                <a:lnTo>
                  <a:pt x="109" y="308"/>
                </a:lnTo>
                <a:lnTo>
                  <a:pt x="106" y="308"/>
                </a:lnTo>
                <a:lnTo>
                  <a:pt x="101" y="304"/>
                </a:lnTo>
                <a:lnTo>
                  <a:pt x="99" y="304"/>
                </a:lnTo>
                <a:lnTo>
                  <a:pt x="92" y="300"/>
                </a:lnTo>
                <a:lnTo>
                  <a:pt x="91" y="300"/>
                </a:lnTo>
                <a:lnTo>
                  <a:pt x="85" y="296"/>
                </a:lnTo>
                <a:lnTo>
                  <a:pt x="84" y="296"/>
                </a:lnTo>
                <a:lnTo>
                  <a:pt x="76" y="291"/>
                </a:lnTo>
                <a:lnTo>
                  <a:pt x="75" y="291"/>
                </a:lnTo>
                <a:lnTo>
                  <a:pt x="69" y="287"/>
                </a:lnTo>
                <a:lnTo>
                  <a:pt x="68" y="286"/>
                </a:lnTo>
                <a:lnTo>
                  <a:pt x="62" y="283"/>
                </a:lnTo>
                <a:lnTo>
                  <a:pt x="61" y="282"/>
                </a:lnTo>
                <a:lnTo>
                  <a:pt x="57" y="279"/>
                </a:lnTo>
                <a:lnTo>
                  <a:pt x="55" y="277"/>
                </a:lnTo>
                <a:lnTo>
                  <a:pt x="49" y="273"/>
                </a:lnTo>
                <a:lnTo>
                  <a:pt x="48" y="273"/>
                </a:lnTo>
                <a:lnTo>
                  <a:pt x="44" y="269"/>
                </a:lnTo>
                <a:lnTo>
                  <a:pt x="42" y="268"/>
                </a:lnTo>
                <a:lnTo>
                  <a:pt x="38" y="265"/>
                </a:lnTo>
                <a:lnTo>
                  <a:pt x="37" y="264"/>
                </a:lnTo>
                <a:lnTo>
                  <a:pt x="32" y="259"/>
                </a:lnTo>
                <a:lnTo>
                  <a:pt x="31" y="259"/>
                </a:lnTo>
                <a:lnTo>
                  <a:pt x="28" y="255"/>
                </a:lnTo>
                <a:lnTo>
                  <a:pt x="27" y="254"/>
                </a:lnTo>
                <a:lnTo>
                  <a:pt x="22" y="250"/>
                </a:lnTo>
                <a:lnTo>
                  <a:pt x="18" y="246"/>
                </a:lnTo>
                <a:lnTo>
                  <a:pt x="18" y="244"/>
                </a:lnTo>
                <a:lnTo>
                  <a:pt x="15" y="240"/>
                </a:lnTo>
                <a:lnTo>
                  <a:pt x="14" y="240"/>
                </a:lnTo>
                <a:lnTo>
                  <a:pt x="11" y="236"/>
                </a:lnTo>
                <a:lnTo>
                  <a:pt x="11" y="235"/>
                </a:lnTo>
                <a:lnTo>
                  <a:pt x="8" y="230"/>
                </a:lnTo>
                <a:lnTo>
                  <a:pt x="8" y="229"/>
                </a:lnTo>
                <a:lnTo>
                  <a:pt x="5" y="225"/>
                </a:lnTo>
                <a:lnTo>
                  <a:pt x="4" y="221"/>
                </a:lnTo>
                <a:lnTo>
                  <a:pt x="4" y="219"/>
                </a:lnTo>
                <a:lnTo>
                  <a:pt x="3" y="215"/>
                </a:lnTo>
                <a:lnTo>
                  <a:pt x="1" y="214"/>
                </a:lnTo>
                <a:lnTo>
                  <a:pt x="1" y="210"/>
                </a:lnTo>
                <a:lnTo>
                  <a:pt x="1" y="208"/>
                </a:lnTo>
                <a:lnTo>
                  <a:pt x="0" y="204"/>
                </a:lnTo>
                <a:lnTo>
                  <a:pt x="0" y="203"/>
                </a:lnTo>
                <a:lnTo>
                  <a:pt x="0" y="199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6" name="Freeform 12"/>
          <p:cNvSpPr/>
          <p:nvPr/>
        </p:nvSpPr>
        <p:spPr>
          <a:xfrm>
            <a:off x="6459480" y="4842000"/>
            <a:ext cx="803160" cy="1216080"/>
          </a:xfrm>
          <a:custGeom>
            <a:avLst/>
            <a:gdLst>
              <a:gd name="textAreaLeft" fmla="*/ 0 w 803160"/>
              <a:gd name="textAreaRight" fmla="*/ 803520 w 80316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506" h="766">
                <a:moveTo>
                  <a:pt x="253" y="0"/>
                </a:moveTo>
                <a:lnTo>
                  <a:pt x="253" y="0"/>
                </a:lnTo>
                <a:lnTo>
                  <a:pt x="247" y="0"/>
                </a:lnTo>
                <a:lnTo>
                  <a:pt x="245" y="0"/>
                </a:lnTo>
                <a:lnTo>
                  <a:pt x="241" y="1"/>
                </a:lnTo>
                <a:lnTo>
                  <a:pt x="240" y="1"/>
                </a:lnTo>
                <a:lnTo>
                  <a:pt x="234" y="2"/>
                </a:lnTo>
                <a:lnTo>
                  <a:pt x="233" y="2"/>
                </a:lnTo>
                <a:lnTo>
                  <a:pt x="228" y="5"/>
                </a:lnTo>
                <a:lnTo>
                  <a:pt x="227" y="5"/>
                </a:lnTo>
                <a:lnTo>
                  <a:pt x="221" y="8"/>
                </a:lnTo>
                <a:lnTo>
                  <a:pt x="216" y="11"/>
                </a:lnTo>
                <a:lnTo>
                  <a:pt x="214" y="12"/>
                </a:lnTo>
                <a:lnTo>
                  <a:pt x="210" y="15"/>
                </a:lnTo>
                <a:lnTo>
                  <a:pt x="208" y="16"/>
                </a:lnTo>
                <a:lnTo>
                  <a:pt x="203" y="19"/>
                </a:lnTo>
                <a:lnTo>
                  <a:pt x="201" y="20"/>
                </a:lnTo>
                <a:lnTo>
                  <a:pt x="197" y="24"/>
                </a:lnTo>
                <a:lnTo>
                  <a:pt x="196" y="26"/>
                </a:lnTo>
                <a:lnTo>
                  <a:pt x="191" y="30"/>
                </a:lnTo>
                <a:lnTo>
                  <a:pt x="190" y="31"/>
                </a:lnTo>
                <a:lnTo>
                  <a:pt x="184" y="37"/>
                </a:lnTo>
                <a:lnTo>
                  <a:pt x="183" y="37"/>
                </a:lnTo>
                <a:lnTo>
                  <a:pt x="179" y="42"/>
                </a:lnTo>
                <a:lnTo>
                  <a:pt x="177" y="44"/>
                </a:lnTo>
                <a:lnTo>
                  <a:pt x="173" y="49"/>
                </a:lnTo>
                <a:lnTo>
                  <a:pt x="172" y="52"/>
                </a:lnTo>
                <a:lnTo>
                  <a:pt x="166" y="58"/>
                </a:lnTo>
                <a:lnTo>
                  <a:pt x="166" y="59"/>
                </a:lnTo>
                <a:lnTo>
                  <a:pt x="160" y="66"/>
                </a:lnTo>
                <a:lnTo>
                  <a:pt x="159" y="67"/>
                </a:lnTo>
                <a:lnTo>
                  <a:pt x="155" y="74"/>
                </a:lnTo>
                <a:lnTo>
                  <a:pt x="153" y="76"/>
                </a:lnTo>
                <a:lnTo>
                  <a:pt x="149" y="83"/>
                </a:lnTo>
                <a:lnTo>
                  <a:pt x="147" y="85"/>
                </a:lnTo>
                <a:lnTo>
                  <a:pt x="143" y="92"/>
                </a:lnTo>
                <a:lnTo>
                  <a:pt x="142" y="94"/>
                </a:lnTo>
                <a:lnTo>
                  <a:pt x="137" y="102"/>
                </a:lnTo>
                <a:lnTo>
                  <a:pt x="136" y="103"/>
                </a:lnTo>
                <a:lnTo>
                  <a:pt x="132" y="112"/>
                </a:lnTo>
                <a:lnTo>
                  <a:pt x="130" y="113"/>
                </a:lnTo>
                <a:lnTo>
                  <a:pt x="126" y="121"/>
                </a:lnTo>
                <a:lnTo>
                  <a:pt x="125" y="124"/>
                </a:lnTo>
                <a:lnTo>
                  <a:pt x="120" y="133"/>
                </a:lnTo>
                <a:lnTo>
                  <a:pt x="119" y="135"/>
                </a:lnTo>
                <a:lnTo>
                  <a:pt x="115" y="144"/>
                </a:lnTo>
                <a:lnTo>
                  <a:pt x="113" y="146"/>
                </a:lnTo>
                <a:lnTo>
                  <a:pt x="109" y="155"/>
                </a:lnTo>
                <a:lnTo>
                  <a:pt x="108" y="157"/>
                </a:lnTo>
                <a:lnTo>
                  <a:pt x="103" y="166"/>
                </a:lnTo>
                <a:lnTo>
                  <a:pt x="103" y="169"/>
                </a:lnTo>
                <a:lnTo>
                  <a:pt x="99" y="178"/>
                </a:lnTo>
                <a:lnTo>
                  <a:pt x="98" y="181"/>
                </a:lnTo>
                <a:lnTo>
                  <a:pt x="93" y="189"/>
                </a:lnTo>
                <a:lnTo>
                  <a:pt x="92" y="192"/>
                </a:lnTo>
                <a:lnTo>
                  <a:pt x="88" y="202"/>
                </a:lnTo>
                <a:lnTo>
                  <a:pt x="88" y="205"/>
                </a:lnTo>
                <a:lnTo>
                  <a:pt x="84" y="214"/>
                </a:lnTo>
                <a:lnTo>
                  <a:pt x="82" y="217"/>
                </a:lnTo>
                <a:lnTo>
                  <a:pt x="79" y="227"/>
                </a:lnTo>
                <a:lnTo>
                  <a:pt x="78" y="230"/>
                </a:lnTo>
                <a:lnTo>
                  <a:pt x="74" y="239"/>
                </a:lnTo>
                <a:lnTo>
                  <a:pt x="74" y="242"/>
                </a:lnTo>
                <a:lnTo>
                  <a:pt x="69" y="253"/>
                </a:lnTo>
                <a:lnTo>
                  <a:pt x="68" y="255"/>
                </a:lnTo>
                <a:lnTo>
                  <a:pt x="65" y="266"/>
                </a:lnTo>
                <a:lnTo>
                  <a:pt x="64" y="268"/>
                </a:lnTo>
                <a:lnTo>
                  <a:pt x="61" y="278"/>
                </a:lnTo>
                <a:lnTo>
                  <a:pt x="59" y="281"/>
                </a:lnTo>
                <a:lnTo>
                  <a:pt x="57" y="292"/>
                </a:lnTo>
                <a:lnTo>
                  <a:pt x="55" y="295"/>
                </a:lnTo>
                <a:lnTo>
                  <a:pt x="52" y="304"/>
                </a:lnTo>
                <a:lnTo>
                  <a:pt x="51" y="307"/>
                </a:lnTo>
                <a:lnTo>
                  <a:pt x="48" y="318"/>
                </a:lnTo>
                <a:lnTo>
                  <a:pt x="47" y="321"/>
                </a:lnTo>
                <a:lnTo>
                  <a:pt x="44" y="332"/>
                </a:lnTo>
                <a:lnTo>
                  <a:pt x="44" y="335"/>
                </a:lnTo>
                <a:lnTo>
                  <a:pt x="41" y="345"/>
                </a:lnTo>
                <a:lnTo>
                  <a:pt x="40" y="347"/>
                </a:lnTo>
                <a:lnTo>
                  <a:pt x="37" y="358"/>
                </a:lnTo>
                <a:lnTo>
                  <a:pt x="37" y="361"/>
                </a:lnTo>
                <a:lnTo>
                  <a:pt x="34" y="372"/>
                </a:lnTo>
                <a:lnTo>
                  <a:pt x="32" y="375"/>
                </a:lnTo>
                <a:lnTo>
                  <a:pt x="30" y="385"/>
                </a:lnTo>
                <a:lnTo>
                  <a:pt x="30" y="388"/>
                </a:lnTo>
                <a:lnTo>
                  <a:pt x="27" y="399"/>
                </a:lnTo>
                <a:lnTo>
                  <a:pt x="27" y="401"/>
                </a:lnTo>
                <a:lnTo>
                  <a:pt x="24" y="411"/>
                </a:lnTo>
                <a:lnTo>
                  <a:pt x="24" y="414"/>
                </a:lnTo>
                <a:lnTo>
                  <a:pt x="21" y="425"/>
                </a:lnTo>
                <a:lnTo>
                  <a:pt x="21" y="428"/>
                </a:lnTo>
                <a:lnTo>
                  <a:pt x="18" y="437"/>
                </a:lnTo>
                <a:lnTo>
                  <a:pt x="18" y="440"/>
                </a:lnTo>
                <a:lnTo>
                  <a:pt x="15" y="451"/>
                </a:lnTo>
                <a:lnTo>
                  <a:pt x="15" y="453"/>
                </a:lnTo>
                <a:lnTo>
                  <a:pt x="14" y="464"/>
                </a:lnTo>
                <a:lnTo>
                  <a:pt x="13" y="467"/>
                </a:lnTo>
                <a:lnTo>
                  <a:pt x="11" y="476"/>
                </a:lnTo>
                <a:lnTo>
                  <a:pt x="11" y="479"/>
                </a:lnTo>
                <a:lnTo>
                  <a:pt x="10" y="489"/>
                </a:lnTo>
                <a:lnTo>
                  <a:pt x="8" y="492"/>
                </a:lnTo>
                <a:lnTo>
                  <a:pt x="7" y="501"/>
                </a:lnTo>
                <a:lnTo>
                  <a:pt x="7" y="504"/>
                </a:lnTo>
                <a:lnTo>
                  <a:pt x="5" y="514"/>
                </a:lnTo>
                <a:lnTo>
                  <a:pt x="5" y="515"/>
                </a:lnTo>
                <a:lnTo>
                  <a:pt x="4" y="525"/>
                </a:lnTo>
                <a:lnTo>
                  <a:pt x="4" y="528"/>
                </a:lnTo>
                <a:lnTo>
                  <a:pt x="3" y="536"/>
                </a:lnTo>
                <a:lnTo>
                  <a:pt x="3" y="539"/>
                </a:lnTo>
                <a:lnTo>
                  <a:pt x="3" y="548"/>
                </a:lnTo>
                <a:lnTo>
                  <a:pt x="3" y="550"/>
                </a:lnTo>
                <a:lnTo>
                  <a:pt x="1" y="559"/>
                </a:lnTo>
                <a:lnTo>
                  <a:pt x="1" y="561"/>
                </a:lnTo>
                <a:lnTo>
                  <a:pt x="1" y="569"/>
                </a:lnTo>
                <a:lnTo>
                  <a:pt x="1" y="572"/>
                </a:lnTo>
                <a:lnTo>
                  <a:pt x="1" y="580"/>
                </a:lnTo>
                <a:lnTo>
                  <a:pt x="0" y="583"/>
                </a:lnTo>
                <a:lnTo>
                  <a:pt x="0" y="590"/>
                </a:lnTo>
                <a:lnTo>
                  <a:pt x="0" y="593"/>
                </a:lnTo>
                <a:lnTo>
                  <a:pt x="0" y="600"/>
                </a:lnTo>
                <a:lnTo>
                  <a:pt x="0" y="602"/>
                </a:lnTo>
                <a:lnTo>
                  <a:pt x="1" y="609"/>
                </a:lnTo>
                <a:lnTo>
                  <a:pt x="1" y="612"/>
                </a:lnTo>
                <a:lnTo>
                  <a:pt x="1" y="619"/>
                </a:lnTo>
                <a:lnTo>
                  <a:pt x="1" y="620"/>
                </a:lnTo>
                <a:lnTo>
                  <a:pt x="1" y="627"/>
                </a:lnTo>
                <a:lnTo>
                  <a:pt x="3" y="629"/>
                </a:lnTo>
                <a:lnTo>
                  <a:pt x="3" y="636"/>
                </a:lnTo>
                <a:lnTo>
                  <a:pt x="3" y="637"/>
                </a:lnTo>
                <a:lnTo>
                  <a:pt x="4" y="644"/>
                </a:lnTo>
                <a:lnTo>
                  <a:pt x="4" y="645"/>
                </a:lnTo>
                <a:lnTo>
                  <a:pt x="7" y="651"/>
                </a:lnTo>
                <a:lnTo>
                  <a:pt x="7" y="652"/>
                </a:lnTo>
                <a:lnTo>
                  <a:pt x="8" y="659"/>
                </a:lnTo>
                <a:lnTo>
                  <a:pt x="10" y="661"/>
                </a:lnTo>
                <a:lnTo>
                  <a:pt x="13" y="666"/>
                </a:lnTo>
                <a:lnTo>
                  <a:pt x="13" y="668"/>
                </a:lnTo>
                <a:lnTo>
                  <a:pt x="15" y="673"/>
                </a:lnTo>
                <a:lnTo>
                  <a:pt x="17" y="674"/>
                </a:lnTo>
                <a:lnTo>
                  <a:pt x="20" y="680"/>
                </a:lnTo>
                <a:lnTo>
                  <a:pt x="21" y="681"/>
                </a:lnTo>
                <a:lnTo>
                  <a:pt x="24" y="686"/>
                </a:lnTo>
                <a:lnTo>
                  <a:pt x="25" y="687"/>
                </a:lnTo>
                <a:lnTo>
                  <a:pt x="30" y="692"/>
                </a:lnTo>
                <a:lnTo>
                  <a:pt x="31" y="694"/>
                </a:lnTo>
                <a:lnTo>
                  <a:pt x="35" y="698"/>
                </a:lnTo>
                <a:lnTo>
                  <a:pt x="37" y="699"/>
                </a:lnTo>
                <a:lnTo>
                  <a:pt x="41" y="704"/>
                </a:lnTo>
                <a:lnTo>
                  <a:pt x="42" y="705"/>
                </a:lnTo>
                <a:lnTo>
                  <a:pt x="48" y="709"/>
                </a:lnTo>
                <a:lnTo>
                  <a:pt x="49" y="710"/>
                </a:lnTo>
                <a:lnTo>
                  <a:pt x="55" y="715"/>
                </a:lnTo>
                <a:lnTo>
                  <a:pt x="57" y="716"/>
                </a:lnTo>
                <a:lnTo>
                  <a:pt x="62" y="719"/>
                </a:lnTo>
                <a:lnTo>
                  <a:pt x="64" y="720"/>
                </a:lnTo>
                <a:lnTo>
                  <a:pt x="71" y="724"/>
                </a:lnTo>
                <a:lnTo>
                  <a:pt x="72" y="724"/>
                </a:lnTo>
                <a:lnTo>
                  <a:pt x="78" y="729"/>
                </a:lnTo>
                <a:lnTo>
                  <a:pt x="79" y="730"/>
                </a:lnTo>
                <a:lnTo>
                  <a:pt x="86" y="733"/>
                </a:lnTo>
                <a:lnTo>
                  <a:pt x="88" y="734"/>
                </a:lnTo>
                <a:lnTo>
                  <a:pt x="95" y="737"/>
                </a:lnTo>
                <a:lnTo>
                  <a:pt x="98" y="737"/>
                </a:lnTo>
                <a:lnTo>
                  <a:pt x="105" y="740"/>
                </a:lnTo>
                <a:lnTo>
                  <a:pt x="106" y="741"/>
                </a:lnTo>
                <a:lnTo>
                  <a:pt x="113" y="744"/>
                </a:lnTo>
                <a:lnTo>
                  <a:pt x="116" y="744"/>
                </a:lnTo>
                <a:lnTo>
                  <a:pt x="123" y="747"/>
                </a:lnTo>
                <a:lnTo>
                  <a:pt x="125" y="748"/>
                </a:lnTo>
                <a:lnTo>
                  <a:pt x="133" y="749"/>
                </a:lnTo>
                <a:lnTo>
                  <a:pt x="135" y="751"/>
                </a:lnTo>
                <a:lnTo>
                  <a:pt x="143" y="752"/>
                </a:lnTo>
                <a:lnTo>
                  <a:pt x="146" y="753"/>
                </a:lnTo>
                <a:lnTo>
                  <a:pt x="153" y="755"/>
                </a:lnTo>
                <a:lnTo>
                  <a:pt x="156" y="755"/>
                </a:lnTo>
                <a:lnTo>
                  <a:pt x="164" y="756"/>
                </a:lnTo>
                <a:lnTo>
                  <a:pt x="166" y="758"/>
                </a:lnTo>
                <a:lnTo>
                  <a:pt x="174" y="759"/>
                </a:lnTo>
                <a:lnTo>
                  <a:pt x="177" y="759"/>
                </a:lnTo>
                <a:lnTo>
                  <a:pt x="186" y="760"/>
                </a:lnTo>
                <a:lnTo>
                  <a:pt x="187" y="760"/>
                </a:lnTo>
                <a:lnTo>
                  <a:pt x="196" y="762"/>
                </a:lnTo>
                <a:lnTo>
                  <a:pt x="199" y="762"/>
                </a:lnTo>
                <a:lnTo>
                  <a:pt x="207" y="763"/>
                </a:lnTo>
                <a:lnTo>
                  <a:pt x="210" y="763"/>
                </a:lnTo>
                <a:lnTo>
                  <a:pt x="218" y="765"/>
                </a:lnTo>
                <a:lnTo>
                  <a:pt x="220" y="765"/>
                </a:lnTo>
                <a:lnTo>
                  <a:pt x="230" y="765"/>
                </a:lnTo>
                <a:lnTo>
                  <a:pt x="231" y="765"/>
                </a:lnTo>
                <a:lnTo>
                  <a:pt x="240" y="765"/>
                </a:lnTo>
                <a:lnTo>
                  <a:pt x="243" y="765"/>
                </a:lnTo>
                <a:lnTo>
                  <a:pt x="251" y="765"/>
                </a:lnTo>
                <a:lnTo>
                  <a:pt x="254" y="765"/>
                </a:lnTo>
                <a:lnTo>
                  <a:pt x="262" y="765"/>
                </a:lnTo>
                <a:lnTo>
                  <a:pt x="265" y="765"/>
                </a:lnTo>
                <a:lnTo>
                  <a:pt x="274" y="765"/>
                </a:lnTo>
                <a:lnTo>
                  <a:pt x="275" y="765"/>
                </a:lnTo>
                <a:lnTo>
                  <a:pt x="285" y="765"/>
                </a:lnTo>
                <a:lnTo>
                  <a:pt x="287" y="765"/>
                </a:lnTo>
                <a:lnTo>
                  <a:pt x="295" y="763"/>
                </a:lnTo>
                <a:lnTo>
                  <a:pt x="298" y="763"/>
                </a:lnTo>
                <a:lnTo>
                  <a:pt x="306" y="762"/>
                </a:lnTo>
                <a:lnTo>
                  <a:pt x="309" y="762"/>
                </a:lnTo>
                <a:lnTo>
                  <a:pt x="318" y="760"/>
                </a:lnTo>
                <a:lnTo>
                  <a:pt x="319" y="760"/>
                </a:lnTo>
                <a:lnTo>
                  <a:pt x="328" y="759"/>
                </a:lnTo>
                <a:lnTo>
                  <a:pt x="331" y="759"/>
                </a:lnTo>
                <a:lnTo>
                  <a:pt x="339" y="758"/>
                </a:lnTo>
                <a:lnTo>
                  <a:pt x="341" y="756"/>
                </a:lnTo>
                <a:lnTo>
                  <a:pt x="349" y="755"/>
                </a:lnTo>
                <a:lnTo>
                  <a:pt x="352" y="755"/>
                </a:lnTo>
                <a:lnTo>
                  <a:pt x="359" y="753"/>
                </a:lnTo>
                <a:lnTo>
                  <a:pt x="362" y="752"/>
                </a:lnTo>
                <a:lnTo>
                  <a:pt x="370" y="751"/>
                </a:lnTo>
                <a:lnTo>
                  <a:pt x="372" y="749"/>
                </a:lnTo>
                <a:lnTo>
                  <a:pt x="380" y="748"/>
                </a:lnTo>
                <a:lnTo>
                  <a:pt x="382" y="747"/>
                </a:lnTo>
                <a:lnTo>
                  <a:pt x="389" y="744"/>
                </a:lnTo>
                <a:lnTo>
                  <a:pt x="392" y="744"/>
                </a:lnTo>
                <a:lnTo>
                  <a:pt x="399" y="741"/>
                </a:lnTo>
                <a:lnTo>
                  <a:pt x="400" y="740"/>
                </a:lnTo>
                <a:lnTo>
                  <a:pt x="407" y="737"/>
                </a:lnTo>
                <a:lnTo>
                  <a:pt x="410" y="737"/>
                </a:lnTo>
                <a:lnTo>
                  <a:pt x="417" y="734"/>
                </a:lnTo>
                <a:lnTo>
                  <a:pt x="419" y="733"/>
                </a:lnTo>
                <a:lnTo>
                  <a:pt x="426" y="730"/>
                </a:lnTo>
                <a:lnTo>
                  <a:pt x="427" y="729"/>
                </a:lnTo>
                <a:lnTo>
                  <a:pt x="433" y="724"/>
                </a:lnTo>
                <a:lnTo>
                  <a:pt x="434" y="724"/>
                </a:lnTo>
                <a:lnTo>
                  <a:pt x="441" y="720"/>
                </a:lnTo>
                <a:lnTo>
                  <a:pt x="443" y="719"/>
                </a:lnTo>
                <a:lnTo>
                  <a:pt x="448" y="716"/>
                </a:lnTo>
                <a:lnTo>
                  <a:pt x="450" y="715"/>
                </a:lnTo>
                <a:lnTo>
                  <a:pt x="456" y="710"/>
                </a:lnTo>
                <a:lnTo>
                  <a:pt x="457" y="709"/>
                </a:lnTo>
                <a:lnTo>
                  <a:pt x="463" y="705"/>
                </a:lnTo>
                <a:lnTo>
                  <a:pt x="464" y="704"/>
                </a:lnTo>
                <a:lnTo>
                  <a:pt x="468" y="699"/>
                </a:lnTo>
                <a:lnTo>
                  <a:pt x="470" y="698"/>
                </a:lnTo>
                <a:lnTo>
                  <a:pt x="474" y="694"/>
                </a:lnTo>
                <a:lnTo>
                  <a:pt x="475" y="692"/>
                </a:lnTo>
                <a:lnTo>
                  <a:pt x="480" y="687"/>
                </a:lnTo>
                <a:lnTo>
                  <a:pt x="481" y="686"/>
                </a:lnTo>
                <a:lnTo>
                  <a:pt x="484" y="681"/>
                </a:lnTo>
                <a:lnTo>
                  <a:pt x="485" y="680"/>
                </a:lnTo>
                <a:lnTo>
                  <a:pt x="488" y="674"/>
                </a:lnTo>
                <a:lnTo>
                  <a:pt x="490" y="673"/>
                </a:lnTo>
                <a:lnTo>
                  <a:pt x="492" y="668"/>
                </a:lnTo>
                <a:lnTo>
                  <a:pt x="492" y="666"/>
                </a:lnTo>
                <a:lnTo>
                  <a:pt x="495" y="661"/>
                </a:lnTo>
                <a:lnTo>
                  <a:pt x="497" y="659"/>
                </a:lnTo>
                <a:lnTo>
                  <a:pt x="498" y="652"/>
                </a:lnTo>
                <a:lnTo>
                  <a:pt x="498" y="651"/>
                </a:lnTo>
                <a:lnTo>
                  <a:pt x="501" y="645"/>
                </a:lnTo>
                <a:lnTo>
                  <a:pt x="501" y="644"/>
                </a:lnTo>
                <a:lnTo>
                  <a:pt x="502" y="637"/>
                </a:lnTo>
                <a:lnTo>
                  <a:pt x="502" y="629"/>
                </a:lnTo>
                <a:lnTo>
                  <a:pt x="504" y="627"/>
                </a:lnTo>
                <a:lnTo>
                  <a:pt x="504" y="620"/>
                </a:lnTo>
                <a:lnTo>
                  <a:pt x="504" y="619"/>
                </a:lnTo>
                <a:lnTo>
                  <a:pt x="504" y="612"/>
                </a:lnTo>
                <a:lnTo>
                  <a:pt x="504" y="609"/>
                </a:lnTo>
                <a:lnTo>
                  <a:pt x="505" y="602"/>
                </a:lnTo>
                <a:lnTo>
                  <a:pt x="505" y="600"/>
                </a:lnTo>
                <a:lnTo>
                  <a:pt x="505" y="593"/>
                </a:lnTo>
                <a:lnTo>
                  <a:pt x="505" y="590"/>
                </a:lnTo>
                <a:lnTo>
                  <a:pt x="505" y="583"/>
                </a:lnTo>
                <a:lnTo>
                  <a:pt x="504" y="580"/>
                </a:lnTo>
                <a:lnTo>
                  <a:pt x="504" y="572"/>
                </a:lnTo>
                <a:lnTo>
                  <a:pt x="504" y="569"/>
                </a:lnTo>
                <a:lnTo>
                  <a:pt x="504" y="561"/>
                </a:lnTo>
                <a:lnTo>
                  <a:pt x="504" y="559"/>
                </a:lnTo>
                <a:lnTo>
                  <a:pt x="502" y="550"/>
                </a:lnTo>
                <a:lnTo>
                  <a:pt x="502" y="548"/>
                </a:lnTo>
                <a:lnTo>
                  <a:pt x="502" y="539"/>
                </a:lnTo>
                <a:lnTo>
                  <a:pt x="502" y="536"/>
                </a:lnTo>
                <a:lnTo>
                  <a:pt x="501" y="528"/>
                </a:lnTo>
                <a:lnTo>
                  <a:pt x="501" y="525"/>
                </a:lnTo>
                <a:lnTo>
                  <a:pt x="500" y="515"/>
                </a:lnTo>
                <a:lnTo>
                  <a:pt x="500" y="514"/>
                </a:lnTo>
                <a:lnTo>
                  <a:pt x="498" y="504"/>
                </a:lnTo>
                <a:lnTo>
                  <a:pt x="498" y="501"/>
                </a:lnTo>
                <a:lnTo>
                  <a:pt x="497" y="492"/>
                </a:lnTo>
                <a:lnTo>
                  <a:pt x="495" y="489"/>
                </a:lnTo>
                <a:lnTo>
                  <a:pt x="494" y="479"/>
                </a:lnTo>
                <a:lnTo>
                  <a:pt x="494" y="476"/>
                </a:lnTo>
                <a:lnTo>
                  <a:pt x="492" y="467"/>
                </a:lnTo>
                <a:lnTo>
                  <a:pt x="491" y="464"/>
                </a:lnTo>
                <a:lnTo>
                  <a:pt x="490" y="453"/>
                </a:lnTo>
                <a:lnTo>
                  <a:pt x="490" y="451"/>
                </a:lnTo>
                <a:lnTo>
                  <a:pt x="487" y="440"/>
                </a:lnTo>
                <a:lnTo>
                  <a:pt x="487" y="437"/>
                </a:lnTo>
                <a:lnTo>
                  <a:pt x="484" y="428"/>
                </a:lnTo>
                <a:lnTo>
                  <a:pt x="484" y="425"/>
                </a:lnTo>
                <a:lnTo>
                  <a:pt x="481" y="414"/>
                </a:lnTo>
                <a:lnTo>
                  <a:pt x="481" y="411"/>
                </a:lnTo>
                <a:lnTo>
                  <a:pt x="478" y="401"/>
                </a:lnTo>
                <a:lnTo>
                  <a:pt x="478" y="399"/>
                </a:lnTo>
                <a:lnTo>
                  <a:pt x="475" y="388"/>
                </a:lnTo>
                <a:lnTo>
                  <a:pt x="475" y="385"/>
                </a:lnTo>
                <a:lnTo>
                  <a:pt x="473" y="375"/>
                </a:lnTo>
                <a:lnTo>
                  <a:pt x="471" y="372"/>
                </a:lnTo>
                <a:lnTo>
                  <a:pt x="468" y="361"/>
                </a:lnTo>
                <a:lnTo>
                  <a:pt x="468" y="358"/>
                </a:lnTo>
                <a:lnTo>
                  <a:pt x="466" y="347"/>
                </a:lnTo>
                <a:lnTo>
                  <a:pt x="464" y="345"/>
                </a:lnTo>
                <a:lnTo>
                  <a:pt x="461" y="335"/>
                </a:lnTo>
                <a:lnTo>
                  <a:pt x="461" y="332"/>
                </a:lnTo>
                <a:lnTo>
                  <a:pt x="458" y="321"/>
                </a:lnTo>
                <a:lnTo>
                  <a:pt x="457" y="318"/>
                </a:lnTo>
                <a:lnTo>
                  <a:pt x="454" y="307"/>
                </a:lnTo>
                <a:lnTo>
                  <a:pt x="453" y="304"/>
                </a:lnTo>
                <a:lnTo>
                  <a:pt x="450" y="295"/>
                </a:lnTo>
                <a:lnTo>
                  <a:pt x="448" y="292"/>
                </a:lnTo>
                <a:lnTo>
                  <a:pt x="446" y="281"/>
                </a:lnTo>
                <a:lnTo>
                  <a:pt x="444" y="278"/>
                </a:lnTo>
                <a:lnTo>
                  <a:pt x="441" y="268"/>
                </a:lnTo>
                <a:lnTo>
                  <a:pt x="440" y="266"/>
                </a:lnTo>
                <a:lnTo>
                  <a:pt x="437" y="255"/>
                </a:lnTo>
                <a:lnTo>
                  <a:pt x="436" y="253"/>
                </a:lnTo>
                <a:lnTo>
                  <a:pt x="431" y="242"/>
                </a:lnTo>
                <a:lnTo>
                  <a:pt x="431" y="239"/>
                </a:lnTo>
                <a:lnTo>
                  <a:pt x="427" y="230"/>
                </a:lnTo>
                <a:lnTo>
                  <a:pt x="426" y="227"/>
                </a:lnTo>
                <a:lnTo>
                  <a:pt x="423" y="217"/>
                </a:lnTo>
                <a:lnTo>
                  <a:pt x="421" y="214"/>
                </a:lnTo>
                <a:lnTo>
                  <a:pt x="417" y="205"/>
                </a:lnTo>
                <a:lnTo>
                  <a:pt x="417" y="202"/>
                </a:lnTo>
                <a:lnTo>
                  <a:pt x="413" y="192"/>
                </a:lnTo>
                <a:lnTo>
                  <a:pt x="412" y="189"/>
                </a:lnTo>
                <a:lnTo>
                  <a:pt x="407" y="181"/>
                </a:lnTo>
                <a:lnTo>
                  <a:pt x="406" y="178"/>
                </a:lnTo>
                <a:lnTo>
                  <a:pt x="402" y="169"/>
                </a:lnTo>
                <a:lnTo>
                  <a:pt x="402" y="166"/>
                </a:lnTo>
                <a:lnTo>
                  <a:pt x="397" y="157"/>
                </a:lnTo>
                <a:lnTo>
                  <a:pt x="396" y="155"/>
                </a:lnTo>
                <a:lnTo>
                  <a:pt x="392" y="146"/>
                </a:lnTo>
                <a:lnTo>
                  <a:pt x="390" y="144"/>
                </a:lnTo>
                <a:lnTo>
                  <a:pt x="386" y="135"/>
                </a:lnTo>
                <a:lnTo>
                  <a:pt x="385" y="133"/>
                </a:lnTo>
                <a:lnTo>
                  <a:pt x="380" y="124"/>
                </a:lnTo>
                <a:lnTo>
                  <a:pt x="379" y="121"/>
                </a:lnTo>
                <a:lnTo>
                  <a:pt x="375" y="113"/>
                </a:lnTo>
                <a:lnTo>
                  <a:pt x="373" y="112"/>
                </a:lnTo>
                <a:lnTo>
                  <a:pt x="369" y="103"/>
                </a:lnTo>
                <a:lnTo>
                  <a:pt x="368" y="102"/>
                </a:lnTo>
                <a:lnTo>
                  <a:pt x="363" y="94"/>
                </a:lnTo>
                <a:lnTo>
                  <a:pt x="362" y="92"/>
                </a:lnTo>
                <a:lnTo>
                  <a:pt x="358" y="85"/>
                </a:lnTo>
                <a:lnTo>
                  <a:pt x="356" y="83"/>
                </a:lnTo>
                <a:lnTo>
                  <a:pt x="352" y="76"/>
                </a:lnTo>
                <a:lnTo>
                  <a:pt x="350" y="74"/>
                </a:lnTo>
                <a:lnTo>
                  <a:pt x="346" y="67"/>
                </a:lnTo>
                <a:lnTo>
                  <a:pt x="345" y="66"/>
                </a:lnTo>
                <a:lnTo>
                  <a:pt x="339" y="59"/>
                </a:lnTo>
                <a:lnTo>
                  <a:pt x="339" y="58"/>
                </a:lnTo>
                <a:lnTo>
                  <a:pt x="333" y="52"/>
                </a:lnTo>
                <a:lnTo>
                  <a:pt x="332" y="49"/>
                </a:lnTo>
                <a:lnTo>
                  <a:pt x="328" y="44"/>
                </a:lnTo>
                <a:lnTo>
                  <a:pt x="326" y="42"/>
                </a:lnTo>
                <a:lnTo>
                  <a:pt x="322" y="37"/>
                </a:lnTo>
                <a:lnTo>
                  <a:pt x="321" y="37"/>
                </a:lnTo>
                <a:lnTo>
                  <a:pt x="315" y="31"/>
                </a:lnTo>
                <a:lnTo>
                  <a:pt x="314" y="30"/>
                </a:lnTo>
                <a:lnTo>
                  <a:pt x="309" y="26"/>
                </a:lnTo>
                <a:lnTo>
                  <a:pt x="308" y="24"/>
                </a:lnTo>
                <a:lnTo>
                  <a:pt x="304" y="20"/>
                </a:lnTo>
                <a:lnTo>
                  <a:pt x="302" y="19"/>
                </a:lnTo>
                <a:lnTo>
                  <a:pt x="297" y="16"/>
                </a:lnTo>
                <a:lnTo>
                  <a:pt x="295" y="15"/>
                </a:lnTo>
                <a:lnTo>
                  <a:pt x="291" y="12"/>
                </a:lnTo>
                <a:lnTo>
                  <a:pt x="289" y="11"/>
                </a:lnTo>
                <a:lnTo>
                  <a:pt x="284" y="8"/>
                </a:lnTo>
                <a:lnTo>
                  <a:pt x="278" y="5"/>
                </a:lnTo>
                <a:lnTo>
                  <a:pt x="277" y="5"/>
                </a:lnTo>
                <a:lnTo>
                  <a:pt x="272" y="2"/>
                </a:lnTo>
                <a:lnTo>
                  <a:pt x="271" y="2"/>
                </a:lnTo>
                <a:lnTo>
                  <a:pt x="265" y="1"/>
                </a:lnTo>
                <a:lnTo>
                  <a:pt x="264" y="1"/>
                </a:lnTo>
                <a:lnTo>
                  <a:pt x="260" y="0"/>
                </a:lnTo>
                <a:lnTo>
                  <a:pt x="258" y="0"/>
                </a:lnTo>
                <a:lnTo>
                  <a:pt x="253" y="0"/>
                </a:lnTo>
              </a:path>
            </a:pathLst>
          </a:cu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637" name="Group 14"/>
          <p:cNvGrpSpPr/>
          <p:nvPr/>
        </p:nvGrpSpPr>
        <p:grpSpPr>
          <a:xfrm>
            <a:off x="1332000" y="3465360"/>
            <a:ext cx="6338880" cy="2860920"/>
            <a:chOff x="1332000" y="3465360"/>
            <a:chExt cx="6338880" cy="2860920"/>
          </a:xfrm>
        </p:grpSpPr>
        <p:sp>
          <p:nvSpPr>
            <p:cNvPr id="638" name="Freeform 4"/>
            <p:cNvSpPr/>
            <p:nvPr/>
          </p:nvSpPr>
          <p:spPr>
            <a:xfrm>
              <a:off x="1332000" y="3465360"/>
              <a:ext cx="1474560" cy="1474920"/>
            </a:xfrm>
            <a:custGeom>
              <a:avLst/>
              <a:gdLst>
                <a:gd name="textAreaLeft" fmla="*/ 0 w 1474560"/>
                <a:gd name="textAreaRight" fmla="*/ 1474920 w 147456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900" y="900"/>
                  </a:moveTo>
                  <a:lnTo>
                    <a:pt x="900" y="900"/>
                  </a:lnTo>
                  <a:lnTo>
                    <a:pt x="893" y="905"/>
                  </a:lnTo>
                  <a:lnTo>
                    <a:pt x="888" y="910"/>
                  </a:lnTo>
                  <a:lnTo>
                    <a:pt x="885" y="910"/>
                  </a:lnTo>
                  <a:lnTo>
                    <a:pt x="879" y="914"/>
                  </a:lnTo>
                  <a:lnTo>
                    <a:pt x="877" y="915"/>
                  </a:lnTo>
                  <a:lnTo>
                    <a:pt x="871" y="918"/>
                  </a:lnTo>
                  <a:lnTo>
                    <a:pt x="868" y="918"/>
                  </a:lnTo>
                  <a:lnTo>
                    <a:pt x="863" y="922"/>
                  </a:lnTo>
                  <a:lnTo>
                    <a:pt x="860" y="922"/>
                  </a:lnTo>
                  <a:lnTo>
                    <a:pt x="852" y="923"/>
                  </a:lnTo>
                  <a:lnTo>
                    <a:pt x="850" y="923"/>
                  </a:lnTo>
                  <a:lnTo>
                    <a:pt x="842" y="926"/>
                  </a:lnTo>
                  <a:lnTo>
                    <a:pt x="841" y="926"/>
                  </a:lnTo>
                  <a:lnTo>
                    <a:pt x="832" y="928"/>
                  </a:lnTo>
                  <a:lnTo>
                    <a:pt x="830" y="928"/>
                  </a:lnTo>
                  <a:lnTo>
                    <a:pt x="821" y="928"/>
                  </a:lnTo>
                  <a:lnTo>
                    <a:pt x="820" y="928"/>
                  </a:lnTo>
                  <a:lnTo>
                    <a:pt x="809" y="928"/>
                  </a:lnTo>
                  <a:lnTo>
                    <a:pt x="808" y="928"/>
                  </a:lnTo>
                  <a:lnTo>
                    <a:pt x="797" y="928"/>
                  </a:lnTo>
                  <a:lnTo>
                    <a:pt x="795" y="928"/>
                  </a:lnTo>
                  <a:lnTo>
                    <a:pt x="784" y="928"/>
                  </a:lnTo>
                  <a:lnTo>
                    <a:pt x="783" y="928"/>
                  </a:lnTo>
                  <a:lnTo>
                    <a:pt x="773" y="926"/>
                  </a:lnTo>
                  <a:lnTo>
                    <a:pt x="769" y="926"/>
                  </a:lnTo>
                  <a:lnTo>
                    <a:pt x="758" y="923"/>
                  </a:lnTo>
                  <a:lnTo>
                    <a:pt x="757" y="923"/>
                  </a:lnTo>
                  <a:lnTo>
                    <a:pt x="746" y="922"/>
                  </a:lnTo>
                  <a:lnTo>
                    <a:pt x="742" y="922"/>
                  </a:lnTo>
                  <a:lnTo>
                    <a:pt x="732" y="919"/>
                  </a:lnTo>
                  <a:lnTo>
                    <a:pt x="728" y="919"/>
                  </a:lnTo>
                  <a:lnTo>
                    <a:pt x="718" y="915"/>
                  </a:lnTo>
                  <a:lnTo>
                    <a:pt x="714" y="915"/>
                  </a:lnTo>
                  <a:lnTo>
                    <a:pt x="702" y="914"/>
                  </a:lnTo>
                  <a:lnTo>
                    <a:pt x="699" y="911"/>
                  </a:lnTo>
                  <a:lnTo>
                    <a:pt x="687" y="910"/>
                  </a:lnTo>
                  <a:lnTo>
                    <a:pt x="682" y="907"/>
                  </a:lnTo>
                  <a:lnTo>
                    <a:pt x="670" y="905"/>
                  </a:lnTo>
                  <a:lnTo>
                    <a:pt x="669" y="903"/>
                  </a:lnTo>
                  <a:lnTo>
                    <a:pt x="656" y="900"/>
                  </a:lnTo>
                  <a:lnTo>
                    <a:pt x="652" y="900"/>
                  </a:lnTo>
                  <a:lnTo>
                    <a:pt x="640" y="896"/>
                  </a:lnTo>
                  <a:lnTo>
                    <a:pt x="636" y="893"/>
                  </a:lnTo>
                  <a:lnTo>
                    <a:pt x="623" y="889"/>
                  </a:lnTo>
                  <a:lnTo>
                    <a:pt x="622" y="888"/>
                  </a:lnTo>
                  <a:lnTo>
                    <a:pt x="607" y="883"/>
                  </a:lnTo>
                  <a:lnTo>
                    <a:pt x="605" y="883"/>
                  </a:lnTo>
                  <a:lnTo>
                    <a:pt x="592" y="877"/>
                  </a:lnTo>
                  <a:lnTo>
                    <a:pt x="587" y="875"/>
                  </a:lnTo>
                  <a:lnTo>
                    <a:pt x="575" y="871"/>
                  </a:lnTo>
                  <a:lnTo>
                    <a:pt x="571" y="868"/>
                  </a:lnTo>
                  <a:lnTo>
                    <a:pt x="559" y="863"/>
                  </a:lnTo>
                  <a:lnTo>
                    <a:pt x="554" y="863"/>
                  </a:lnTo>
                  <a:lnTo>
                    <a:pt x="541" y="856"/>
                  </a:lnTo>
                  <a:lnTo>
                    <a:pt x="538" y="855"/>
                  </a:lnTo>
                  <a:lnTo>
                    <a:pt x="524" y="848"/>
                  </a:lnTo>
                  <a:lnTo>
                    <a:pt x="520" y="848"/>
                  </a:lnTo>
                  <a:lnTo>
                    <a:pt x="508" y="842"/>
                  </a:lnTo>
                  <a:lnTo>
                    <a:pt x="503" y="841"/>
                  </a:lnTo>
                  <a:lnTo>
                    <a:pt x="490" y="834"/>
                  </a:lnTo>
                  <a:lnTo>
                    <a:pt x="487" y="832"/>
                  </a:lnTo>
                  <a:lnTo>
                    <a:pt x="473" y="826"/>
                  </a:lnTo>
                  <a:lnTo>
                    <a:pt x="469" y="824"/>
                  </a:lnTo>
                  <a:lnTo>
                    <a:pt x="454" y="816"/>
                  </a:lnTo>
                  <a:lnTo>
                    <a:pt x="452" y="816"/>
                  </a:lnTo>
                  <a:lnTo>
                    <a:pt x="437" y="808"/>
                  </a:lnTo>
                  <a:lnTo>
                    <a:pt x="433" y="805"/>
                  </a:lnTo>
                  <a:lnTo>
                    <a:pt x="422" y="799"/>
                  </a:lnTo>
                  <a:lnTo>
                    <a:pt x="418" y="797"/>
                  </a:lnTo>
                  <a:lnTo>
                    <a:pt x="403" y="788"/>
                  </a:lnTo>
                  <a:lnTo>
                    <a:pt x="402" y="787"/>
                  </a:lnTo>
                  <a:lnTo>
                    <a:pt x="386" y="782"/>
                  </a:lnTo>
                  <a:lnTo>
                    <a:pt x="382" y="779"/>
                  </a:lnTo>
                  <a:lnTo>
                    <a:pt x="371" y="771"/>
                  </a:lnTo>
                  <a:lnTo>
                    <a:pt x="367" y="769"/>
                  </a:lnTo>
                  <a:lnTo>
                    <a:pt x="352" y="761"/>
                  </a:lnTo>
                  <a:lnTo>
                    <a:pt x="351" y="758"/>
                  </a:lnTo>
                  <a:lnTo>
                    <a:pt x="335" y="753"/>
                  </a:lnTo>
                  <a:lnTo>
                    <a:pt x="334" y="750"/>
                  </a:lnTo>
                  <a:lnTo>
                    <a:pt x="319" y="742"/>
                  </a:lnTo>
                  <a:lnTo>
                    <a:pt x="315" y="740"/>
                  </a:lnTo>
                  <a:lnTo>
                    <a:pt x="304" y="732"/>
                  </a:lnTo>
                  <a:lnTo>
                    <a:pt x="300" y="729"/>
                  </a:lnTo>
                  <a:lnTo>
                    <a:pt x="287" y="722"/>
                  </a:lnTo>
                  <a:lnTo>
                    <a:pt x="283" y="720"/>
                  </a:lnTo>
                  <a:lnTo>
                    <a:pt x="271" y="711"/>
                  </a:lnTo>
                  <a:lnTo>
                    <a:pt x="268" y="710"/>
                  </a:lnTo>
                  <a:lnTo>
                    <a:pt x="257" y="702"/>
                  </a:lnTo>
                  <a:lnTo>
                    <a:pt x="253" y="699"/>
                  </a:lnTo>
                  <a:lnTo>
                    <a:pt x="240" y="691"/>
                  </a:lnTo>
                  <a:lnTo>
                    <a:pt x="236" y="689"/>
                  </a:lnTo>
                  <a:lnTo>
                    <a:pt x="224" y="681"/>
                  </a:lnTo>
                  <a:lnTo>
                    <a:pt x="221" y="678"/>
                  </a:lnTo>
                  <a:lnTo>
                    <a:pt x="209" y="669"/>
                  </a:lnTo>
                  <a:lnTo>
                    <a:pt x="207" y="666"/>
                  </a:lnTo>
                  <a:lnTo>
                    <a:pt x="195" y="659"/>
                  </a:lnTo>
                  <a:lnTo>
                    <a:pt x="194" y="656"/>
                  </a:lnTo>
                  <a:lnTo>
                    <a:pt x="181" y="648"/>
                  </a:lnTo>
                  <a:lnTo>
                    <a:pt x="178" y="647"/>
                  </a:lnTo>
                  <a:lnTo>
                    <a:pt x="166" y="638"/>
                  </a:lnTo>
                  <a:lnTo>
                    <a:pt x="165" y="636"/>
                  </a:lnTo>
                  <a:lnTo>
                    <a:pt x="154" y="627"/>
                  </a:lnTo>
                  <a:lnTo>
                    <a:pt x="150" y="626"/>
                  </a:lnTo>
                  <a:lnTo>
                    <a:pt x="140" y="618"/>
                  </a:lnTo>
                  <a:lnTo>
                    <a:pt x="139" y="615"/>
                  </a:lnTo>
                  <a:lnTo>
                    <a:pt x="128" y="607"/>
                  </a:lnTo>
                  <a:lnTo>
                    <a:pt x="126" y="605"/>
                  </a:lnTo>
                  <a:lnTo>
                    <a:pt x="115" y="597"/>
                  </a:lnTo>
                  <a:lnTo>
                    <a:pt x="114" y="596"/>
                  </a:lnTo>
                  <a:lnTo>
                    <a:pt x="103" y="587"/>
                  </a:lnTo>
                  <a:lnTo>
                    <a:pt x="101" y="585"/>
                  </a:lnTo>
                  <a:lnTo>
                    <a:pt x="93" y="576"/>
                  </a:lnTo>
                  <a:lnTo>
                    <a:pt x="90" y="575"/>
                  </a:lnTo>
                  <a:lnTo>
                    <a:pt x="81" y="567"/>
                  </a:lnTo>
                  <a:lnTo>
                    <a:pt x="79" y="564"/>
                  </a:lnTo>
                  <a:lnTo>
                    <a:pt x="71" y="556"/>
                  </a:lnTo>
                  <a:lnTo>
                    <a:pt x="68" y="554"/>
                  </a:lnTo>
                  <a:lnTo>
                    <a:pt x="63" y="546"/>
                  </a:lnTo>
                  <a:lnTo>
                    <a:pt x="60" y="545"/>
                  </a:lnTo>
                  <a:lnTo>
                    <a:pt x="52" y="538"/>
                  </a:lnTo>
                  <a:lnTo>
                    <a:pt x="50" y="536"/>
                  </a:lnTo>
                  <a:lnTo>
                    <a:pt x="44" y="528"/>
                  </a:lnTo>
                  <a:lnTo>
                    <a:pt x="42" y="525"/>
                  </a:lnTo>
                  <a:lnTo>
                    <a:pt x="35" y="517"/>
                  </a:lnTo>
                  <a:lnTo>
                    <a:pt x="34" y="516"/>
                  </a:lnTo>
                  <a:lnTo>
                    <a:pt x="30" y="509"/>
                  </a:lnTo>
                  <a:lnTo>
                    <a:pt x="27" y="508"/>
                  </a:lnTo>
                  <a:lnTo>
                    <a:pt x="22" y="499"/>
                  </a:lnTo>
                  <a:lnTo>
                    <a:pt x="22" y="497"/>
                  </a:lnTo>
                  <a:lnTo>
                    <a:pt x="17" y="491"/>
                  </a:lnTo>
                  <a:lnTo>
                    <a:pt x="16" y="490"/>
                  </a:lnTo>
                  <a:lnTo>
                    <a:pt x="12" y="481"/>
                  </a:lnTo>
                  <a:lnTo>
                    <a:pt x="12" y="479"/>
                  </a:lnTo>
                  <a:lnTo>
                    <a:pt x="8" y="470"/>
                  </a:lnTo>
                  <a:lnTo>
                    <a:pt x="8" y="469"/>
                  </a:lnTo>
                  <a:lnTo>
                    <a:pt x="5" y="461"/>
                  </a:lnTo>
                  <a:lnTo>
                    <a:pt x="4" y="458"/>
                  </a:lnTo>
                  <a:lnTo>
                    <a:pt x="1" y="450"/>
                  </a:lnTo>
                  <a:lnTo>
                    <a:pt x="1" y="448"/>
                  </a:lnTo>
                  <a:lnTo>
                    <a:pt x="0" y="437"/>
                  </a:lnTo>
                  <a:lnTo>
                    <a:pt x="0" y="436"/>
                  </a:lnTo>
                  <a:lnTo>
                    <a:pt x="0" y="428"/>
                  </a:lnTo>
                  <a:lnTo>
                    <a:pt x="0" y="426"/>
                  </a:lnTo>
                  <a:lnTo>
                    <a:pt x="0" y="415"/>
                  </a:lnTo>
                  <a:lnTo>
                    <a:pt x="0" y="414"/>
                  </a:lnTo>
                  <a:lnTo>
                    <a:pt x="0" y="406"/>
                  </a:lnTo>
                  <a:lnTo>
                    <a:pt x="0" y="402"/>
                  </a:lnTo>
                  <a:lnTo>
                    <a:pt x="0" y="393"/>
                  </a:lnTo>
                  <a:lnTo>
                    <a:pt x="0" y="391"/>
                  </a:lnTo>
                  <a:lnTo>
                    <a:pt x="1" y="381"/>
                  </a:lnTo>
                  <a:lnTo>
                    <a:pt x="1" y="378"/>
                  </a:lnTo>
                  <a:lnTo>
                    <a:pt x="4" y="368"/>
                  </a:lnTo>
                  <a:lnTo>
                    <a:pt x="4" y="367"/>
                  </a:lnTo>
                  <a:lnTo>
                    <a:pt x="8" y="356"/>
                  </a:lnTo>
                  <a:lnTo>
                    <a:pt x="8" y="355"/>
                  </a:lnTo>
                  <a:lnTo>
                    <a:pt x="9" y="344"/>
                  </a:lnTo>
                  <a:lnTo>
                    <a:pt x="12" y="342"/>
                  </a:lnTo>
                  <a:lnTo>
                    <a:pt x="13" y="331"/>
                  </a:lnTo>
                  <a:lnTo>
                    <a:pt x="16" y="330"/>
                  </a:lnTo>
                  <a:lnTo>
                    <a:pt x="17" y="319"/>
                  </a:lnTo>
                  <a:lnTo>
                    <a:pt x="20" y="318"/>
                  </a:lnTo>
                  <a:lnTo>
                    <a:pt x="23" y="308"/>
                  </a:lnTo>
                  <a:lnTo>
                    <a:pt x="23" y="305"/>
                  </a:lnTo>
                  <a:lnTo>
                    <a:pt x="30" y="296"/>
                  </a:lnTo>
                  <a:lnTo>
                    <a:pt x="30" y="293"/>
                  </a:lnTo>
                  <a:lnTo>
                    <a:pt x="35" y="283"/>
                  </a:lnTo>
                  <a:lnTo>
                    <a:pt x="35" y="280"/>
                  </a:lnTo>
                  <a:lnTo>
                    <a:pt x="42" y="271"/>
                  </a:lnTo>
                  <a:lnTo>
                    <a:pt x="42" y="268"/>
                  </a:lnTo>
                  <a:lnTo>
                    <a:pt x="48" y="258"/>
                  </a:lnTo>
                  <a:lnTo>
                    <a:pt x="50" y="257"/>
                  </a:lnTo>
                  <a:lnTo>
                    <a:pt x="56" y="246"/>
                  </a:lnTo>
                  <a:lnTo>
                    <a:pt x="59" y="245"/>
                  </a:lnTo>
                  <a:lnTo>
                    <a:pt x="64" y="234"/>
                  </a:lnTo>
                  <a:lnTo>
                    <a:pt x="67" y="232"/>
                  </a:lnTo>
                  <a:lnTo>
                    <a:pt x="72" y="221"/>
                  </a:lnTo>
                  <a:lnTo>
                    <a:pt x="75" y="220"/>
                  </a:lnTo>
                  <a:lnTo>
                    <a:pt x="81" y="209"/>
                  </a:lnTo>
                  <a:lnTo>
                    <a:pt x="82" y="207"/>
                  </a:lnTo>
                  <a:lnTo>
                    <a:pt x="89" y="199"/>
                  </a:lnTo>
                  <a:lnTo>
                    <a:pt x="90" y="195"/>
                  </a:lnTo>
                  <a:lnTo>
                    <a:pt x="99" y="187"/>
                  </a:lnTo>
                  <a:lnTo>
                    <a:pt x="101" y="185"/>
                  </a:lnTo>
                  <a:lnTo>
                    <a:pt x="110" y="174"/>
                  </a:lnTo>
                  <a:lnTo>
                    <a:pt x="111" y="173"/>
                  </a:lnTo>
                  <a:lnTo>
                    <a:pt x="119" y="165"/>
                  </a:lnTo>
                  <a:lnTo>
                    <a:pt x="122" y="162"/>
                  </a:lnTo>
                  <a:lnTo>
                    <a:pt x="130" y="152"/>
                  </a:lnTo>
                  <a:lnTo>
                    <a:pt x="132" y="150"/>
                  </a:lnTo>
                  <a:lnTo>
                    <a:pt x="140" y="141"/>
                  </a:lnTo>
                  <a:lnTo>
                    <a:pt x="141" y="140"/>
                  </a:lnTo>
                  <a:lnTo>
                    <a:pt x="150" y="132"/>
                  </a:lnTo>
                  <a:lnTo>
                    <a:pt x="152" y="130"/>
                  </a:lnTo>
                  <a:lnTo>
                    <a:pt x="162" y="122"/>
                  </a:lnTo>
                  <a:lnTo>
                    <a:pt x="165" y="119"/>
                  </a:lnTo>
                  <a:lnTo>
                    <a:pt x="173" y="111"/>
                  </a:lnTo>
                  <a:lnTo>
                    <a:pt x="174" y="110"/>
                  </a:lnTo>
                  <a:lnTo>
                    <a:pt x="185" y="101"/>
                  </a:lnTo>
                  <a:lnTo>
                    <a:pt x="187" y="99"/>
                  </a:lnTo>
                  <a:lnTo>
                    <a:pt x="195" y="90"/>
                  </a:lnTo>
                  <a:lnTo>
                    <a:pt x="199" y="89"/>
                  </a:lnTo>
                  <a:lnTo>
                    <a:pt x="207" y="82"/>
                  </a:lnTo>
                  <a:lnTo>
                    <a:pt x="209" y="81"/>
                  </a:lnTo>
                  <a:lnTo>
                    <a:pt x="220" y="75"/>
                  </a:lnTo>
                  <a:lnTo>
                    <a:pt x="221" y="72"/>
                  </a:lnTo>
                  <a:lnTo>
                    <a:pt x="232" y="67"/>
                  </a:lnTo>
                  <a:lnTo>
                    <a:pt x="234" y="64"/>
                  </a:lnTo>
                  <a:lnTo>
                    <a:pt x="245" y="59"/>
                  </a:lnTo>
                  <a:lnTo>
                    <a:pt x="246" y="56"/>
                  </a:lnTo>
                  <a:lnTo>
                    <a:pt x="257" y="50"/>
                  </a:lnTo>
                  <a:lnTo>
                    <a:pt x="258" y="48"/>
                  </a:lnTo>
                  <a:lnTo>
                    <a:pt x="268" y="42"/>
                  </a:lnTo>
                  <a:lnTo>
                    <a:pt x="271" y="42"/>
                  </a:lnTo>
                  <a:lnTo>
                    <a:pt x="280" y="35"/>
                  </a:lnTo>
                  <a:lnTo>
                    <a:pt x="283" y="35"/>
                  </a:lnTo>
                  <a:lnTo>
                    <a:pt x="293" y="30"/>
                  </a:lnTo>
                  <a:lnTo>
                    <a:pt x="296" y="30"/>
                  </a:lnTo>
                  <a:lnTo>
                    <a:pt x="305" y="23"/>
                  </a:lnTo>
                  <a:lnTo>
                    <a:pt x="308" y="23"/>
                  </a:lnTo>
                  <a:lnTo>
                    <a:pt x="318" y="20"/>
                  </a:lnTo>
                  <a:lnTo>
                    <a:pt x="319" y="17"/>
                  </a:lnTo>
                  <a:lnTo>
                    <a:pt x="330" y="16"/>
                  </a:lnTo>
                  <a:lnTo>
                    <a:pt x="331" y="13"/>
                  </a:lnTo>
                  <a:lnTo>
                    <a:pt x="342" y="12"/>
                  </a:lnTo>
                  <a:lnTo>
                    <a:pt x="344" y="9"/>
                  </a:lnTo>
                  <a:lnTo>
                    <a:pt x="355" y="8"/>
                  </a:lnTo>
                  <a:lnTo>
                    <a:pt x="356" y="8"/>
                  </a:lnTo>
                  <a:lnTo>
                    <a:pt x="367" y="4"/>
                  </a:lnTo>
                  <a:lnTo>
                    <a:pt x="368" y="4"/>
                  </a:lnTo>
                  <a:lnTo>
                    <a:pt x="378" y="1"/>
                  </a:lnTo>
                  <a:lnTo>
                    <a:pt x="381" y="1"/>
                  </a:lnTo>
                  <a:lnTo>
                    <a:pt x="391" y="0"/>
                  </a:lnTo>
                  <a:lnTo>
                    <a:pt x="393" y="0"/>
                  </a:lnTo>
                  <a:lnTo>
                    <a:pt x="402" y="0"/>
                  </a:lnTo>
                  <a:lnTo>
                    <a:pt x="406" y="0"/>
                  </a:lnTo>
                  <a:lnTo>
                    <a:pt x="414" y="0"/>
                  </a:lnTo>
                  <a:lnTo>
                    <a:pt x="415" y="0"/>
                  </a:lnTo>
                  <a:lnTo>
                    <a:pt x="426" y="0"/>
                  </a:lnTo>
                  <a:lnTo>
                    <a:pt x="428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48" y="1"/>
                  </a:lnTo>
                  <a:lnTo>
                    <a:pt x="450" y="1"/>
                  </a:lnTo>
                  <a:lnTo>
                    <a:pt x="458" y="4"/>
                  </a:lnTo>
                  <a:lnTo>
                    <a:pt x="461" y="5"/>
                  </a:lnTo>
                  <a:lnTo>
                    <a:pt x="469" y="8"/>
                  </a:lnTo>
                  <a:lnTo>
                    <a:pt x="470" y="8"/>
                  </a:lnTo>
                  <a:lnTo>
                    <a:pt x="479" y="12"/>
                  </a:lnTo>
                  <a:lnTo>
                    <a:pt x="481" y="12"/>
                  </a:lnTo>
                  <a:lnTo>
                    <a:pt x="490" y="16"/>
                  </a:lnTo>
                  <a:lnTo>
                    <a:pt x="491" y="17"/>
                  </a:lnTo>
                  <a:lnTo>
                    <a:pt x="497" y="22"/>
                  </a:lnTo>
                  <a:lnTo>
                    <a:pt x="499" y="22"/>
                  </a:lnTo>
                  <a:lnTo>
                    <a:pt x="508" y="27"/>
                  </a:lnTo>
                  <a:lnTo>
                    <a:pt x="516" y="34"/>
                  </a:lnTo>
                  <a:lnTo>
                    <a:pt x="517" y="35"/>
                  </a:lnTo>
                  <a:lnTo>
                    <a:pt x="525" y="42"/>
                  </a:lnTo>
                  <a:lnTo>
                    <a:pt x="528" y="44"/>
                  </a:lnTo>
                  <a:lnTo>
                    <a:pt x="536" y="50"/>
                  </a:lnTo>
                  <a:lnTo>
                    <a:pt x="538" y="52"/>
                  </a:lnTo>
                  <a:lnTo>
                    <a:pt x="545" y="60"/>
                  </a:lnTo>
                  <a:lnTo>
                    <a:pt x="546" y="63"/>
                  </a:lnTo>
                  <a:lnTo>
                    <a:pt x="554" y="68"/>
                  </a:lnTo>
                  <a:lnTo>
                    <a:pt x="556" y="71"/>
                  </a:lnTo>
                  <a:lnTo>
                    <a:pt x="564" y="79"/>
                  </a:lnTo>
                  <a:lnTo>
                    <a:pt x="567" y="81"/>
                  </a:lnTo>
                  <a:lnTo>
                    <a:pt x="575" y="90"/>
                  </a:lnTo>
                  <a:lnTo>
                    <a:pt x="576" y="93"/>
                  </a:lnTo>
                  <a:lnTo>
                    <a:pt x="585" y="101"/>
                  </a:lnTo>
                  <a:lnTo>
                    <a:pt x="587" y="103"/>
                  </a:lnTo>
                  <a:lnTo>
                    <a:pt x="596" y="114"/>
                  </a:lnTo>
                  <a:lnTo>
                    <a:pt x="597" y="115"/>
                  </a:lnTo>
                  <a:lnTo>
                    <a:pt x="605" y="126"/>
                  </a:lnTo>
                  <a:lnTo>
                    <a:pt x="607" y="128"/>
                  </a:lnTo>
                  <a:lnTo>
                    <a:pt x="615" y="139"/>
                  </a:lnTo>
                  <a:lnTo>
                    <a:pt x="618" y="140"/>
                  </a:lnTo>
                  <a:lnTo>
                    <a:pt x="626" y="150"/>
                  </a:lnTo>
                  <a:lnTo>
                    <a:pt x="627" y="154"/>
                  </a:lnTo>
                  <a:lnTo>
                    <a:pt x="636" y="165"/>
                  </a:lnTo>
                  <a:lnTo>
                    <a:pt x="638" y="166"/>
                  </a:lnTo>
                  <a:lnTo>
                    <a:pt x="647" y="178"/>
                  </a:lnTo>
                  <a:lnTo>
                    <a:pt x="648" y="181"/>
                  </a:lnTo>
                  <a:lnTo>
                    <a:pt x="656" y="194"/>
                  </a:lnTo>
                  <a:lnTo>
                    <a:pt x="659" y="195"/>
                  </a:lnTo>
                  <a:lnTo>
                    <a:pt x="666" y="207"/>
                  </a:lnTo>
                  <a:lnTo>
                    <a:pt x="669" y="209"/>
                  </a:lnTo>
                  <a:lnTo>
                    <a:pt x="678" y="221"/>
                  </a:lnTo>
                  <a:lnTo>
                    <a:pt x="681" y="224"/>
                  </a:lnTo>
                  <a:lnTo>
                    <a:pt x="689" y="236"/>
                  </a:lnTo>
                  <a:lnTo>
                    <a:pt x="691" y="240"/>
                  </a:lnTo>
                  <a:lnTo>
                    <a:pt x="699" y="253"/>
                  </a:lnTo>
                  <a:lnTo>
                    <a:pt x="702" y="257"/>
                  </a:lnTo>
                  <a:lnTo>
                    <a:pt x="710" y="268"/>
                  </a:lnTo>
                  <a:lnTo>
                    <a:pt x="711" y="271"/>
                  </a:lnTo>
                  <a:lnTo>
                    <a:pt x="720" y="283"/>
                  </a:lnTo>
                  <a:lnTo>
                    <a:pt x="722" y="287"/>
                  </a:lnTo>
                  <a:lnTo>
                    <a:pt x="729" y="300"/>
                  </a:lnTo>
                  <a:lnTo>
                    <a:pt x="732" y="304"/>
                  </a:lnTo>
                  <a:lnTo>
                    <a:pt x="740" y="315"/>
                  </a:lnTo>
                  <a:lnTo>
                    <a:pt x="742" y="319"/>
                  </a:lnTo>
                  <a:lnTo>
                    <a:pt x="750" y="334"/>
                  </a:lnTo>
                  <a:lnTo>
                    <a:pt x="753" y="335"/>
                  </a:lnTo>
                  <a:lnTo>
                    <a:pt x="758" y="351"/>
                  </a:lnTo>
                  <a:lnTo>
                    <a:pt x="761" y="352"/>
                  </a:lnTo>
                  <a:lnTo>
                    <a:pt x="769" y="367"/>
                  </a:lnTo>
                  <a:lnTo>
                    <a:pt x="771" y="371"/>
                  </a:lnTo>
                  <a:lnTo>
                    <a:pt x="779" y="382"/>
                  </a:lnTo>
                  <a:lnTo>
                    <a:pt x="782" y="386"/>
                  </a:lnTo>
                  <a:lnTo>
                    <a:pt x="787" y="402"/>
                  </a:lnTo>
                  <a:lnTo>
                    <a:pt x="788" y="403"/>
                  </a:lnTo>
                  <a:lnTo>
                    <a:pt x="797" y="418"/>
                  </a:lnTo>
                  <a:lnTo>
                    <a:pt x="799" y="422"/>
                  </a:lnTo>
                  <a:lnTo>
                    <a:pt x="805" y="433"/>
                  </a:lnTo>
                  <a:lnTo>
                    <a:pt x="808" y="437"/>
                  </a:lnTo>
                  <a:lnTo>
                    <a:pt x="816" y="452"/>
                  </a:lnTo>
                  <a:lnTo>
                    <a:pt x="816" y="454"/>
                  </a:lnTo>
                  <a:lnTo>
                    <a:pt x="824" y="469"/>
                  </a:lnTo>
                  <a:lnTo>
                    <a:pt x="826" y="473"/>
                  </a:lnTo>
                  <a:lnTo>
                    <a:pt x="832" y="487"/>
                  </a:lnTo>
                  <a:lnTo>
                    <a:pt x="834" y="490"/>
                  </a:lnTo>
                  <a:lnTo>
                    <a:pt x="841" y="503"/>
                  </a:lnTo>
                  <a:lnTo>
                    <a:pt x="842" y="508"/>
                  </a:lnTo>
                  <a:lnTo>
                    <a:pt x="848" y="520"/>
                  </a:lnTo>
                  <a:lnTo>
                    <a:pt x="848" y="524"/>
                  </a:lnTo>
                  <a:lnTo>
                    <a:pt x="855" y="538"/>
                  </a:lnTo>
                  <a:lnTo>
                    <a:pt x="856" y="541"/>
                  </a:lnTo>
                  <a:lnTo>
                    <a:pt x="863" y="554"/>
                  </a:lnTo>
                  <a:lnTo>
                    <a:pt x="863" y="559"/>
                  </a:lnTo>
                  <a:lnTo>
                    <a:pt x="868" y="571"/>
                  </a:lnTo>
                  <a:lnTo>
                    <a:pt x="871" y="575"/>
                  </a:lnTo>
                  <a:lnTo>
                    <a:pt x="875" y="587"/>
                  </a:lnTo>
                  <a:lnTo>
                    <a:pt x="877" y="592"/>
                  </a:lnTo>
                  <a:lnTo>
                    <a:pt x="883" y="605"/>
                  </a:lnTo>
                  <a:lnTo>
                    <a:pt x="883" y="607"/>
                  </a:lnTo>
                  <a:lnTo>
                    <a:pt x="888" y="622"/>
                  </a:lnTo>
                  <a:lnTo>
                    <a:pt x="889" y="623"/>
                  </a:lnTo>
                  <a:lnTo>
                    <a:pt x="893" y="636"/>
                  </a:lnTo>
                  <a:lnTo>
                    <a:pt x="896" y="640"/>
                  </a:lnTo>
                  <a:lnTo>
                    <a:pt x="900" y="652"/>
                  </a:lnTo>
                  <a:lnTo>
                    <a:pt x="900" y="656"/>
                  </a:lnTo>
                  <a:lnTo>
                    <a:pt x="903" y="669"/>
                  </a:lnTo>
                  <a:lnTo>
                    <a:pt x="905" y="670"/>
                  </a:lnTo>
                  <a:lnTo>
                    <a:pt x="907" y="682"/>
                  </a:lnTo>
                  <a:lnTo>
                    <a:pt x="910" y="687"/>
                  </a:lnTo>
                  <a:lnTo>
                    <a:pt x="911" y="699"/>
                  </a:lnTo>
                  <a:lnTo>
                    <a:pt x="914" y="702"/>
                  </a:lnTo>
                  <a:lnTo>
                    <a:pt x="915" y="714"/>
                  </a:lnTo>
                  <a:lnTo>
                    <a:pt x="915" y="718"/>
                  </a:lnTo>
                  <a:lnTo>
                    <a:pt x="919" y="728"/>
                  </a:lnTo>
                  <a:lnTo>
                    <a:pt x="919" y="732"/>
                  </a:lnTo>
                  <a:lnTo>
                    <a:pt x="922" y="742"/>
                  </a:lnTo>
                  <a:lnTo>
                    <a:pt x="922" y="746"/>
                  </a:lnTo>
                  <a:lnTo>
                    <a:pt x="923" y="757"/>
                  </a:lnTo>
                  <a:lnTo>
                    <a:pt x="923" y="758"/>
                  </a:lnTo>
                  <a:lnTo>
                    <a:pt x="926" y="769"/>
                  </a:lnTo>
                  <a:lnTo>
                    <a:pt x="926" y="773"/>
                  </a:lnTo>
                  <a:lnTo>
                    <a:pt x="928" y="783"/>
                  </a:lnTo>
                  <a:lnTo>
                    <a:pt x="928" y="784"/>
                  </a:lnTo>
                  <a:lnTo>
                    <a:pt x="928" y="795"/>
                  </a:lnTo>
                  <a:lnTo>
                    <a:pt x="928" y="797"/>
                  </a:lnTo>
                  <a:lnTo>
                    <a:pt x="928" y="808"/>
                  </a:lnTo>
                  <a:lnTo>
                    <a:pt x="928" y="809"/>
                  </a:lnTo>
                  <a:lnTo>
                    <a:pt x="928" y="820"/>
                  </a:lnTo>
                  <a:lnTo>
                    <a:pt x="928" y="821"/>
                  </a:lnTo>
                  <a:lnTo>
                    <a:pt x="928" y="830"/>
                  </a:lnTo>
                  <a:lnTo>
                    <a:pt x="928" y="832"/>
                  </a:lnTo>
                  <a:lnTo>
                    <a:pt x="926" y="841"/>
                  </a:lnTo>
                  <a:lnTo>
                    <a:pt x="926" y="842"/>
                  </a:lnTo>
                  <a:lnTo>
                    <a:pt x="923" y="850"/>
                  </a:lnTo>
                  <a:lnTo>
                    <a:pt x="923" y="852"/>
                  </a:lnTo>
                  <a:lnTo>
                    <a:pt x="922" y="860"/>
                  </a:lnTo>
                  <a:lnTo>
                    <a:pt x="922" y="863"/>
                  </a:lnTo>
                  <a:lnTo>
                    <a:pt x="918" y="868"/>
                  </a:lnTo>
                  <a:lnTo>
                    <a:pt x="918" y="871"/>
                  </a:lnTo>
                  <a:lnTo>
                    <a:pt x="915" y="877"/>
                  </a:lnTo>
                  <a:lnTo>
                    <a:pt x="914" y="879"/>
                  </a:lnTo>
                  <a:lnTo>
                    <a:pt x="910" y="885"/>
                  </a:lnTo>
                  <a:lnTo>
                    <a:pt x="910" y="888"/>
                  </a:lnTo>
                  <a:lnTo>
                    <a:pt x="905" y="893"/>
                  </a:lnTo>
                  <a:lnTo>
                    <a:pt x="900" y="90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39" name="Freeform 5"/>
            <p:cNvSpPr/>
            <p:nvPr/>
          </p:nvSpPr>
          <p:spPr>
            <a:xfrm>
              <a:off x="2717640" y="3465360"/>
              <a:ext cx="1474920" cy="1474920"/>
            </a:xfrm>
            <a:custGeom>
              <a:avLst/>
              <a:gdLst>
                <a:gd name="textAreaLeft" fmla="*/ 0 w 1474920"/>
                <a:gd name="textAreaRight" fmla="*/ 1475280 w 147492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28" y="900"/>
                  </a:moveTo>
                  <a:lnTo>
                    <a:pt x="28" y="900"/>
                  </a:lnTo>
                  <a:lnTo>
                    <a:pt x="22" y="893"/>
                  </a:lnTo>
                  <a:lnTo>
                    <a:pt x="17" y="888"/>
                  </a:lnTo>
                  <a:lnTo>
                    <a:pt x="17" y="885"/>
                  </a:lnTo>
                  <a:lnTo>
                    <a:pt x="13" y="879"/>
                  </a:lnTo>
                  <a:lnTo>
                    <a:pt x="12" y="877"/>
                  </a:lnTo>
                  <a:lnTo>
                    <a:pt x="9" y="871"/>
                  </a:lnTo>
                  <a:lnTo>
                    <a:pt x="9" y="868"/>
                  </a:lnTo>
                  <a:lnTo>
                    <a:pt x="5" y="863"/>
                  </a:lnTo>
                  <a:lnTo>
                    <a:pt x="5" y="860"/>
                  </a:lnTo>
                  <a:lnTo>
                    <a:pt x="4" y="852"/>
                  </a:lnTo>
                  <a:lnTo>
                    <a:pt x="4" y="850"/>
                  </a:lnTo>
                  <a:lnTo>
                    <a:pt x="1" y="842"/>
                  </a:lnTo>
                  <a:lnTo>
                    <a:pt x="1" y="841"/>
                  </a:lnTo>
                  <a:lnTo>
                    <a:pt x="0" y="832"/>
                  </a:lnTo>
                  <a:lnTo>
                    <a:pt x="0" y="830"/>
                  </a:lnTo>
                  <a:lnTo>
                    <a:pt x="0" y="821"/>
                  </a:lnTo>
                  <a:lnTo>
                    <a:pt x="0" y="820"/>
                  </a:lnTo>
                  <a:lnTo>
                    <a:pt x="0" y="809"/>
                  </a:lnTo>
                  <a:lnTo>
                    <a:pt x="0" y="808"/>
                  </a:lnTo>
                  <a:lnTo>
                    <a:pt x="0" y="797"/>
                  </a:lnTo>
                  <a:lnTo>
                    <a:pt x="0" y="795"/>
                  </a:lnTo>
                  <a:lnTo>
                    <a:pt x="0" y="784"/>
                  </a:lnTo>
                  <a:lnTo>
                    <a:pt x="0" y="783"/>
                  </a:lnTo>
                  <a:lnTo>
                    <a:pt x="1" y="773"/>
                  </a:lnTo>
                  <a:lnTo>
                    <a:pt x="1" y="769"/>
                  </a:lnTo>
                  <a:lnTo>
                    <a:pt x="4" y="758"/>
                  </a:lnTo>
                  <a:lnTo>
                    <a:pt x="4" y="757"/>
                  </a:lnTo>
                  <a:lnTo>
                    <a:pt x="5" y="746"/>
                  </a:lnTo>
                  <a:lnTo>
                    <a:pt x="5" y="742"/>
                  </a:lnTo>
                  <a:lnTo>
                    <a:pt x="8" y="732"/>
                  </a:lnTo>
                  <a:lnTo>
                    <a:pt x="8" y="728"/>
                  </a:lnTo>
                  <a:lnTo>
                    <a:pt x="12" y="718"/>
                  </a:lnTo>
                  <a:lnTo>
                    <a:pt x="12" y="714"/>
                  </a:lnTo>
                  <a:lnTo>
                    <a:pt x="13" y="702"/>
                  </a:lnTo>
                  <a:lnTo>
                    <a:pt x="16" y="699"/>
                  </a:lnTo>
                  <a:lnTo>
                    <a:pt x="17" y="687"/>
                  </a:lnTo>
                  <a:lnTo>
                    <a:pt x="20" y="682"/>
                  </a:lnTo>
                  <a:lnTo>
                    <a:pt x="22" y="670"/>
                  </a:lnTo>
                  <a:lnTo>
                    <a:pt x="24" y="669"/>
                  </a:lnTo>
                  <a:lnTo>
                    <a:pt x="28" y="656"/>
                  </a:lnTo>
                  <a:lnTo>
                    <a:pt x="28" y="652"/>
                  </a:lnTo>
                  <a:lnTo>
                    <a:pt x="31" y="640"/>
                  </a:lnTo>
                  <a:lnTo>
                    <a:pt x="34" y="636"/>
                  </a:lnTo>
                  <a:lnTo>
                    <a:pt x="38" y="623"/>
                  </a:lnTo>
                  <a:lnTo>
                    <a:pt x="39" y="622"/>
                  </a:lnTo>
                  <a:lnTo>
                    <a:pt x="44" y="607"/>
                  </a:lnTo>
                  <a:lnTo>
                    <a:pt x="44" y="605"/>
                  </a:lnTo>
                  <a:lnTo>
                    <a:pt x="50" y="592"/>
                  </a:lnTo>
                  <a:lnTo>
                    <a:pt x="52" y="587"/>
                  </a:lnTo>
                  <a:lnTo>
                    <a:pt x="56" y="575"/>
                  </a:lnTo>
                  <a:lnTo>
                    <a:pt x="59" y="571"/>
                  </a:lnTo>
                  <a:lnTo>
                    <a:pt x="63" y="559"/>
                  </a:lnTo>
                  <a:lnTo>
                    <a:pt x="64" y="554"/>
                  </a:lnTo>
                  <a:lnTo>
                    <a:pt x="71" y="541"/>
                  </a:lnTo>
                  <a:lnTo>
                    <a:pt x="72" y="538"/>
                  </a:lnTo>
                  <a:lnTo>
                    <a:pt x="79" y="524"/>
                  </a:lnTo>
                  <a:lnTo>
                    <a:pt x="79" y="520"/>
                  </a:lnTo>
                  <a:lnTo>
                    <a:pt x="85" y="508"/>
                  </a:lnTo>
                  <a:lnTo>
                    <a:pt x="86" y="503"/>
                  </a:lnTo>
                  <a:lnTo>
                    <a:pt x="93" y="490"/>
                  </a:lnTo>
                  <a:lnTo>
                    <a:pt x="95" y="487"/>
                  </a:lnTo>
                  <a:lnTo>
                    <a:pt x="101" y="473"/>
                  </a:lnTo>
                  <a:lnTo>
                    <a:pt x="103" y="469"/>
                  </a:lnTo>
                  <a:lnTo>
                    <a:pt x="111" y="454"/>
                  </a:lnTo>
                  <a:lnTo>
                    <a:pt x="111" y="452"/>
                  </a:lnTo>
                  <a:lnTo>
                    <a:pt x="119" y="437"/>
                  </a:lnTo>
                  <a:lnTo>
                    <a:pt x="122" y="433"/>
                  </a:lnTo>
                  <a:lnTo>
                    <a:pt x="128" y="422"/>
                  </a:lnTo>
                  <a:lnTo>
                    <a:pt x="130" y="418"/>
                  </a:lnTo>
                  <a:lnTo>
                    <a:pt x="139" y="403"/>
                  </a:lnTo>
                  <a:lnTo>
                    <a:pt x="140" y="402"/>
                  </a:lnTo>
                  <a:lnTo>
                    <a:pt x="145" y="386"/>
                  </a:lnTo>
                  <a:lnTo>
                    <a:pt x="148" y="382"/>
                  </a:lnTo>
                  <a:lnTo>
                    <a:pt x="156" y="371"/>
                  </a:lnTo>
                  <a:lnTo>
                    <a:pt x="158" y="367"/>
                  </a:lnTo>
                  <a:lnTo>
                    <a:pt x="166" y="352"/>
                  </a:lnTo>
                  <a:lnTo>
                    <a:pt x="169" y="351"/>
                  </a:lnTo>
                  <a:lnTo>
                    <a:pt x="174" y="335"/>
                  </a:lnTo>
                  <a:lnTo>
                    <a:pt x="177" y="334"/>
                  </a:lnTo>
                  <a:lnTo>
                    <a:pt x="185" y="319"/>
                  </a:lnTo>
                  <a:lnTo>
                    <a:pt x="187" y="315"/>
                  </a:lnTo>
                  <a:lnTo>
                    <a:pt x="195" y="304"/>
                  </a:lnTo>
                  <a:lnTo>
                    <a:pt x="198" y="300"/>
                  </a:lnTo>
                  <a:lnTo>
                    <a:pt x="205" y="287"/>
                  </a:lnTo>
                  <a:lnTo>
                    <a:pt x="207" y="283"/>
                  </a:lnTo>
                  <a:lnTo>
                    <a:pt x="216" y="271"/>
                  </a:lnTo>
                  <a:lnTo>
                    <a:pt x="217" y="268"/>
                  </a:lnTo>
                  <a:lnTo>
                    <a:pt x="225" y="257"/>
                  </a:lnTo>
                  <a:lnTo>
                    <a:pt x="228" y="253"/>
                  </a:lnTo>
                  <a:lnTo>
                    <a:pt x="236" y="240"/>
                  </a:lnTo>
                  <a:lnTo>
                    <a:pt x="238" y="236"/>
                  </a:lnTo>
                  <a:lnTo>
                    <a:pt x="246" y="224"/>
                  </a:lnTo>
                  <a:lnTo>
                    <a:pt x="249" y="221"/>
                  </a:lnTo>
                  <a:lnTo>
                    <a:pt x="258" y="209"/>
                  </a:lnTo>
                  <a:lnTo>
                    <a:pt x="261" y="207"/>
                  </a:lnTo>
                  <a:lnTo>
                    <a:pt x="268" y="195"/>
                  </a:lnTo>
                  <a:lnTo>
                    <a:pt x="271" y="194"/>
                  </a:lnTo>
                  <a:lnTo>
                    <a:pt x="279" y="181"/>
                  </a:lnTo>
                  <a:lnTo>
                    <a:pt x="280" y="178"/>
                  </a:lnTo>
                  <a:lnTo>
                    <a:pt x="289" y="166"/>
                  </a:lnTo>
                  <a:lnTo>
                    <a:pt x="291" y="165"/>
                  </a:lnTo>
                  <a:lnTo>
                    <a:pt x="300" y="154"/>
                  </a:lnTo>
                  <a:lnTo>
                    <a:pt x="301" y="150"/>
                  </a:lnTo>
                  <a:lnTo>
                    <a:pt x="309" y="140"/>
                  </a:lnTo>
                  <a:lnTo>
                    <a:pt x="312" y="139"/>
                  </a:lnTo>
                  <a:lnTo>
                    <a:pt x="320" y="128"/>
                  </a:lnTo>
                  <a:lnTo>
                    <a:pt x="322" y="126"/>
                  </a:lnTo>
                  <a:lnTo>
                    <a:pt x="330" y="115"/>
                  </a:lnTo>
                  <a:lnTo>
                    <a:pt x="331" y="114"/>
                  </a:lnTo>
                  <a:lnTo>
                    <a:pt x="340" y="103"/>
                  </a:lnTo>
                  <a:lnTo>
                    <a:pt x="342" y="101"/>
                  </a:lnTo>
                  <a:lnTo>
                    <a:pt x="351" y="93"/>
                  </a:lnTo>
                  <a:lnTo>
                    <a:pt x="352" y="90"/>
                  </a:lnTo>
                  <a:lnTo>
                    <a:pt x="360" y="81"/>
                  </a:lnTo>
                  <a:lnTo>
                    <a:pt x="363" y="79"/>
                  </a:lnTo>
                  <a:lnTo>
                    <a:pt x="371" y="71"/>
                  </a:lnTo>
                  <a:lnTo>
                    <a:pt x="373" y="68"/>
                  </a:lnTo>
                  <a:lnTo>
                    <a:pt x="381" y="63"/>
                  </a:lnTo>
                  <a:lnTo>
                    <a:pt x="382" y="60"/>
                  </a:lnTo>
                  <a:lnTo>
                    <a:pt x="389" y="52"/>
                  </a:lnTo>
                  <a:lnTo>
                    <a:pt x="391" y="50"/>
                  </a:lnTo>
                  <a:lnTo>
                    <a:pt x="399" y="44"/>
                  </a:lnTo>
                  <a:lnTo>
                    <a:pt x="402" y="42"/>
                  </a:lnTo>
                  <a:lnTo>
                    <a:pt x="410" y="35"/>
                  </a:lnTo>
                  <a:lnTo>
                    <a:pt x="411" y="34"/>
                  </a:lnTo>
                  <a:lnTo>
                    <a:pt x="418" y="30"/>
                  </a:lnTo>
                  <a:lnTo>
                    <a:pt x="419" y="27"/>
                  </a:lnTo>
                  <a:lnTo>
                    <a:pt x="428" y="22"/>
                  </a:lnTo>
                  <a:lnTo>
                    <a:pt x="430" y="22"/>
                  </a:lnTo>
                  <a:lnTo>
                    <a:pt x="436" y="17"/>
                  </a:lnTo>
                  <a:lnTo>
                    <a:pt x="437" y="16"/>
                  </a:lnTo>
                  <a:lnTo>
                    <a:pt x="446" y="12"/>
                  </a:lnTo>
                  <a:lnTo>
                    <a:pt x="448" y="12"/>
                  </a:lnTo>
                  <a:lnTo>
                    <a:pt x="457" y="8"/>
                  </a:lnTo>
                  <a:lnTo>
                    <a:pt x="458" y="8"/>
                  </a:lnTo>
                  <a:lnTo>
                    <a:pt x="466" y="5"/>
                  </a:lnTo>
                  <a:lnTo>
                    <a:pt x="469" y="4"/>
                  </a:lnTo>
                  <a:lnTo>
                    <a:pt x="477" y="1"/>
                  </a:lnTo>
                  <a:lnTo>
                    <a:pt x="479" y="1"/>
                  </a:lnTo>
                  <a:lnTo>
                    <a:pt x="490" y="0"/>
                  </a:lnTo>
                  <a:lnTo>
                    <a:pt x="491" y="0"/>
                  </a:lnTo>
                  <a:lnTo>
                    <a:pt x="499" y="0"/>
                  </a:lnTo>
                  <a:lnTo>
                    <a:pt x="501" y="0"/>
                  </a:lnTo>
                  <a:lnTo>
                    <a:pt x="512" y="0"/>
                  </a:lnTo>
                  <a:lnTo>
                    <a:pt x="513" y="0"/>
                  </a:lnTo>
                  <a:lnTo>
                    <a:pt x="521" y="0"/>
                  </a:lnTo>
                  <a:lnTo>
                    <a:pt x="524" y="0"/>
                  </a:lnTo>
                  <a:lnTo>
                    <a:pt x="534" y="0"/>
                  </a:lnTo>
                  <a:lnTo>
                    <a:pt x="536" y="0"/>
                  </a:lnTo>
                  <a:lnTo>
                    <a:pt x="546" y="1"/>
                  </a:lnTo>
                  <a:lnTo>
                    <a:pt x="549" y="1"/>
                  </a:lnTo>
                  <a:lnTo>
                    <a:pt x="559" y="4"/>
                  </a:lnTo>
                  <a:lnTo>
                    <a:pt x="560" y="4"/>
                  </a:lnTo>
                  <a:lnTo>
                    <a:pt x="571" y="8"/>
                  </a:lnTo>
                  <a:lnTo>
                    <a:pt x="572" y="8"/>
                  </a:lnTo>
                  <a:lnTo>
                    <a:pt x="583" y="9"/>
                  </a:lnTo>
                  <a:lnTo>
                    <a:pt x="585" y="12"/>
                  </a:lnTo>
                  <a:lnTo>
                    <a:pt x="596" y="13"/>
                  </a:lnTo>
                  <a:lnTo>
                    <a:pt x="597" y="16"/>
                  </a:lnTo>
                  <a:lnTo>
                    <a:pt x="608" y="17"/>
                  </a:lnTo>
                  <a:lnTo>
                    <a:pt x="609" y="20"/>
                  </a:lnTo>
                  <a:lnTo>
                    <a:pt x="619" y="23"/>
                  </a:lnTo>
                  <a:lnTo>
                    <a:pt x="622" y="23"/>
                  </a:lnTo>
                  <a:lnTo>
                    <a:pt x="631" y="30"/>
                  </a:lnTo>
                  <a:lnTo>
                    <a:pt x="634" y="30"/>
                  </a:lnTo>
                  <a:lnTo>
                    <a:pt x="644" y="35"/>
                  </a:lnTo>
                  <a:lnTo>
                    <a:pt x="647" y="35"/>
                  </a:lnTo>
                  <a:lnTo>
                    <a:pt x="656" y="42"/>
                  </a:lnTo>
                  <a:lnTo>
                    <a:pt x="659" y="42"/>
                  </a:lnTo>
                  <a:lnTo>
                    <a:pt x="669" y="48"/>
                  </a:lnTo>
                  <a:lnTo>
                    <a:pt x="670" y="50"/>
                  </a:lnTo>
                  <a:lnTo>
                    <a:pt x="681" y="56"/>
                  </a:lnTo>
                  <a:lnTo>
                    <a:pt x="682" y="59"/>
                  </a:lnTo>
                  <a:lnTo>
                    <a:pt x="693" y="64"/>
                  </a:lnTo>
                  <a:lnTo>
                    <a:pt x="695" y="67"/>
                  </a:lnTo>
                  <a:lnTo>
                    <a:pt x="706" y="72"/>
                  </a:lnTo>
                  <a:lnTo>
                    <a:pt x="707" y="75"/>
                  </a:lnTo>
                  <a:lnTo>
                    <a:pt x="718" y="81"/>
                  </a:lnTo>
                  <a:lnTo>
                    <a:pt x="720" y="82"/>
                  </a:lnTo>
                  <a:lnTo>
                    <a:pt x="728" y="89"/>
                  </a:lnTo>
                  <a:lnTo>
                    <a:pt x="732" y="90"/>
                  </a:lnTo>
                  <a:lnTo>
                    <a:pt x="740" y="99"/>
                  </a:lnTo>
                  <a:lnTo>
                    <a:pt x="742" y="101"/>
                  </a:lnTo>
                  <a:lnTo>
                    <a:pt x="753" y="110"/>
                  </a:lnTo>
                  <a:lnTo>
                    <a:pt x="754" y="111"/>
                  </a:lnTo>
                  <a:lnTo>
                    <a:pt x="762" y="119"/>
                  </a:lnTo>
                  <a:lnTo>
                    <a:pt x="765" y="122"/>
                  </a:lnTo>
                  <a:lnTo>
                    <a:pt x="775" y="130"/>
                  </a:lnTo>
                  <a:lnTo>
                    <a:pt x="777" y="132"/>
                  </a:lnTo>
                  <a:lnTo>
                    <a:pt x="786" y="140"/>
                  </a:lnTo>
                  <a:lnTo>
                    <a:pt x="787" y="141"/>
                  </a:lnTo>
                  <a:lnTo>
                    <a:pt x="795" y="150"/>
                  </a:lnTo>
                  <a:lnTo>
                    <a:pt x="797" y="152"/>
                  </a:lnTo>
                  <a:lnTo>
                    <a:pt x="805" y="162"/>
                  </a:lnTo>
                  <a:lnTo>
                    <a:pt x="808" y="165"/>
                  </a:lnTo>
                  <a:lnTo>
                    <a:pt x="816" y="173"/>
                  </a:lnTo>
                  <a:lnTo>
                    <a:pt x="817" y="174"/>
                  </a:lnTo>
                  <a:lnTo>
                    <a:pt x="826" y="185"/>
                  </a:lnTo>
                  <a:lnTo>
                    <a:pt x="828" y="187"/>
                  </a:lnTo>
                  <a:lnTo>
                    <a:pt x="837" y="195"/>
                  </a:lnTo>
                  <a:lnTo>
                    <a:pt x="837" y="199"/>
                  </a:lnTo>
                  <a:lnTo>
                    <a:pt x="845" y="207"/>
                  </a:lnTo>
                  <a:lnTo>
                    <a:pt x="846" y="209"/>
                  </a:lnTo>
                  <a:lnTo>
                    <a:pt x="852" y="220"/>
                  </a:lnTo>
                  <a:lnTo>
                    <a:pt x="855" y="221"/>
                  </a:lnTo>
                  <a:lnTo>
                    <a:pt x="860" y="232"/>
                  </a:lnTo>
                  <a:lnTo>
                    <a:pt x="863" y="234"/>
                  </a:lnTo>
                  <a:lnTo>
                    <a:pt x="868" y="245"/>
                  </a:lnTo>
                  <a:lnTo>
                    <a:pt x="871" y="246"/>
                  </a:lnTo>
                  <a:lnTo>
                    <a:pt x="877" y="257"/>
                  </a:lnTo>
                  <a:lnTo>
                    <a:pt x="879" y="258"/>
                  </a:lnTo>
                  <a:lnTo>
                    <a:pt x="885" y="268"/>
                  </a:lnTo>
                  <a:lnTo>
                    <a:pt x="885" y="271"/>
                  </a:lnTo>
                  <a:lnTo>
                    <a:pt x="892" y="280"/>
                  </a:lnTo>
                  <a:lnTo>
                    <a:pt x="892" y="283"/>
                  </a:lnTo>
                  <a:lnTo>
                    <a:pt x="897" y="293"/>
                  </a:lnTo>
                  <a:lnTo>
                    <a:pt x="897" y="296"/>
                  </a:lnTo>
                  <a:lnTo>
                    <a:pt x="904" y="305"/>
                  </a:lnTo>
                  <a:lnTo>
                    <a:pt x="904" y="308"/>
                  </a:lnTo>
                  <a:lnTo>
                    <a:pt x="907" y="318"/>
                  </a:lnTo>
                  <a:lnTo>
                    <a:pt x="910" y="319"/>
                  </a:lnTo>
                  <a:lnTo>
                    <a:pt x="911" y="330"/>
                  </a:lnTo>
                  <a:lnTo>
                    <a:pt x="914" y="331"/>
                  </a:lnTo>
                  <a:lnTo>
                    <a:pt x="915" y="342"/>
                  </a:lnTo>
                  <a:lnTo>
                    <a:pt x="918" y="344"/>
                  </a:lnTo>
                  <a:lnTo>
                    <a:pt x="919" y="355"/>
                  </a:lnTo>
                  <a:lnTo>
                    <a:pt x="919" y="356"/>
                  </a:lnTo>
                  <a:lnTo>
                    <a:pt x="923" y="367"/>
                  </a:lnTo>
                  <a:lnTo>
                    <a:pt x="923" y="368"/>
                  </a:lnTo>
                  <a:lnTo>
                    <a:pt x="926" y="378"/>
                  </a:lnTo>
                  <a:lnTo>
                    <a:pt x="926" y="381"/>
                  </a:lnTo>
                  <a:lnTo>
                    <a:pt x="928" y="391"/>
                  </a:lnTo>
                  <a:lnTo>
                    <a:pt x="928" y="393"/>
                  </a:lnTo>
                  <a:lnTo>
                    <a:pt x="928" y="402"/>
                  </a:lnTo>
                  <a:lnTo>
                    <a:pt x="928" y="406"/>
                  </a:lnTo>
                  <a:lnTo>
                    <a:pt x="928" y="414"/>
                  </a:lnTo>
                  <a:lnTo>
                    <a:pt x="928" y="415"/>
                  </a:lnTo>
                  <a:lnTo>
                    <a:pt x="928" y="426"/>
                  </a:lnTo>
                  <a:lnTo>
                    <a:pt x="928" y="428"/>
                  </a:lnTo>
                  <a:lnTo>
                    <a:pt x="928" y="436"/>
                  </a:lnTo>
                  <a:lnTo>
                    <a:pt x="928" y="437"/>
                  </a:lnTo>
                  <a:lnTo>
                    <a:pt x="926" y="448"/>
                  </a:lnTo>
                  <a:lnTo>
                    <a:pt x="926" y="450"/>
                  </a:lnTo>
                  <a:lnTo>
                    <a:pt x="923" y="458"/>
                  </a:lnTo>
                  <a:lnTo>
                    <a:pt x="922" y="461"/>
                  </a:lnTo>
                  <a:lnTo>
                    <a:pt x="919" y="469"/>
                  </a:lnTo>
                  <a:lnTo>
                    <a:pt x="919" y="470"/>
                  </a:lnTo>
                  <a:lnTo>
                    <a:pt x="915" y="479"/>
                  </a:lnTo>
                  <a:lnTo>
                    <a:pt x="915" y="481"/>
                  </a:lnTo>
                  <a:lnTo>
                    <a:pt x="911" y="490"/>
                  </a:lnTo>
                  <a:lnTo>
                    <a:pt x="910" y="491"/>
                  </a:lnTo>
                  <a:lnTo>
                    <a:pt x="905" y="497"/>
                  </a:lnTo>
                  <a:lnTo>
                    <a:pt x="905" y="499"/>
                  </a:lnTo>
                  <a:lnTo>
                    <a:pt x="900" y="508"/>
                  </a:lnTo>
                  <a:lnTo>
                    <a:pt x="893" y="516"/>
                  </a:lnTo>
                  <a:lnTo>
                    <a:pt x="892" y="517"/>
                  </a:lnTo>
                  <a:lnTo>
                    <a:pt x="885" y="525"/>
                  </a:lnTo>
                  <a:lnTo>
                    <a:pt x="883" y="528"/>
                  </a:lnTo>
                  <a:lnTo>
                    <a:pt x="877" y="536"/>
                  </a:lnTo>
                  <a:lnTo>
                    <a:pt x="875" y="538"/>
                  </a:lnTo>
                  <a:lnTo>
                    <a:pt x="867" y="545"/>
                  </a:lnTo>
                  <a:lnTo>
                    <a:pt x="864" y="546"/>
                  </a:lnTo>
                  <a:lnTo>
                    <a:pt x="859" y="554"/>
                  </a:lnTo>
                  <a:lnTo>
                    <a:pt x="856" y="556"/>
                  </a:lnTo>
                  <a:lnTo>
                    <a:pt x="848" y="564"/>
                  </a:lnTo>
                  <a:lnTo>
                    <a:pt x="846" y="567"/>
                  </a:lnTo>
                  <a:lnTo>
                    <a:pt x="837" y="575"/>
                  </a:lnTo>
                  <a:lnTo>
                    <a:pt x="834" y="576"/>
                  </a:lnTo>
                  <a:lnTo>
                    <a:pt x="826" y="585"/>
                  </a:lnTo>
                  <a:lnTo>
                    <a:pt x="824" y="587"/>
                  </a:lnTo>
                  <a:lnTo>
                    <a:pt x="813" y="596"/>
                  </a:lnTo>
                  <a:lnTo>
                    <a:pt x="812" y="597"/>
                  </a:lnTo>
                  <a:lnTo>
                    <a:pt x="801" y="605"/>
                  </a:lnTo>
                  <a:lnTo>
                    <a:pt x="799" y="607"/>
                  </a:lnTo>
                  <a:lnTo>
                    <a:pt x="788" y="615"/>
                  </a:lnTo>
                  <a:lnTo>
                    <a:pt x="787" y="618"/>
                  </a:lnTo>
                  <a:lnTo>
                    <a:pt x="777" y="626"/>
                  </a:lnTo>
                  <a:lnTo>
                    <a:pt x="773" y="627"/>
                  </a:lnTo>
                  <a:lnTo>
                    <a:pt x="762" y="636"/>
                  </a:lnTo>
                  <a:lnTo>
                    <a:pt x="761" y="638"/>
                  </a:lnTo>
                  <a:lnTo>
                    <a:pt x="749" y="647"/>
                  </a:lnTo>
                  <a:lnTo>
                    <a:pt x="746" y="648"/>
                  </a:lnTo>
                  <a:lnTo>
                    <a:pt x="733" y="656"/>
                  </a:lnTo>
                  <a:lnTo>
                    <a:pt x="732" y="659"/>
                  </a:lnTo>
                  <a:lnTo>
                    <a:pt x="720" y="666"/>
                  </a:lnTo>
                  <a:lnTo>
                    <a:pt x="718" y="669"/>
                  </a:lnTo>
                  <a:lnTo>
                    <a:pt x="706" y="678"/>
                  </a:lnTo>
                  <a:lnTo>
                    <a:pt x="703" y="681"/>
                  </a:lnTo>
                  <a:lnTo>
                    <a:pt x="691" y="689"/>
                  </a:lnTo>
                  <a:lnTo>
                    <a:pt x="687" y="691"/>
                  </a:lnTo>
                  <a:lnTo>
                    <a:pt x="674" y="699"/>
                  </a:lnTo>
                  <a:lnTo>
                    <a:pt x="670" y="702"/>
                  </a:lnTo>
                  <a:lnTo>
                    <a:pt x="659" y="710"/>
                  </a:lnTo>
                  <a:lnTo>
                    <a:pt x="656" y="711"/>
                  </a:lnTo>
                  <a:lnTo>
                    <a:pt x="644" y="720"/>
                  </a:lnTo>
                  <a:lnTo>
                    <a:pt x="640" y="722"/>
                  </a:lnTo>
                  <a:lnTo>
                    <a:pt x="627" y="729"/>
                  </a:lnTo>
                  <a:lnTo>
                    <a:pt x="623" y="732"/>
                  </a:lnTo>
                  <a:lnTo>
                    <a:pt x="612" y="740"/>
                  </a:lnTo>
                  <a:lnTo>
                    <a:pt x="608" y="742"/>
                  </a:lnTo>
                  <a:lnTo>
                    <a:pt x="593" y="750"/>
                  </a:lnTo>
                  <a:lnTo>
                    <a:pt x="592" y="753"/>
                  </a:lnTo>
                  <a:lnTo>
                    <a:pt x="576" y="758"/>
                  </a:lnTo>
                  <a:lnTo>
                    <a:pt x="575" y="761"/>
                  </a:lnTo>
                  <a:lnTo>
                    <a:pt x="560" y="769"/>
                  </a:lnTo>
                  <a:lnTo>
                    <a:pt x="556" y="771"/>
                  </a:lnTo>
                  <a:lnTo>
                    <a:pt x="545" y="779"/>
                  </a:lnTo>
                  <a:lnTo>
                    <a:pt x="541" y="782"/>
                  </a:lnTo>
                  <a:lnTo>
                    <a:pt x="525" y="787"/>
                  </a:lnTo>
                  <a:lnTo>
                    <a:pt x="524" y="788"/>
                  </a:lnTo>
                  <a:lnTo>
                    <a:pt x="509" y="797"/>
                  </a:lnTo>
                  <a:lnTo>
                    <a:pt x="505" y="799"/>
                  </a:lnTo>
                  <a:lnTo>
                    <a:pt x="494" y="805"/>
                  </a:lnTo>
                  <a:lnTo>
                    <a:pt x="490" y="808"/>
                  </a:lnTo>
                  <a:lnTo>
                    <a:pt x="475" y="816"/>
                  </a:lnTo>
                  <a:lnTo>
                    <a:pt x="473" y="816"/>
                  </a:lnTo>
                  <a:lnTo>
                    <a:pt x="458" y="824"/>
                  </a:lnTo>
                  <a:lnTo>
                    <a:pt x="454" y="826"/>
                  </a:lnTo>
                  <a:lnTo>
                    <a:pt x="440" y="832"/>
                  </a:lnTo>
                  <a:lnTo>
                    <a:pt x="437" y="834"/>
                  </a:lnTo>
                  <a:lnTo>
                    <a:pt x="424" y="841"/>
                  </a:lnTo>
                  <a:lnTo>
                    <a:pt x="419" y="842"/>
                  </a:lnTo>
                  <a:lnTo>
                    <a:pt x="407" y="848"/>
                  </a:lnTo>
                  <a:lnTo>
                    <a:pt x="403" y="848"/>
                  </a:lnTo>
                  <a:lnTo>
                    <a:pt x="389" y="855"/>
                  </a:lnTo>
                  <a:lnTo>
                    <a:pt x="386" y="856"/>
                  </a:lnTo>
                  <a:lnTo>
                    <a:pt x="373" y="863"/>
                  </a:lnTo>
                  <a:lnTo>
                    <a:pt x="368" y="863"/>
                  </a:lnTo>
                  <a:lnTo>
                    <a:pt x="356" y="868"/>
                  </a:lnTo>
                  <a:lnTo>
                    <a:pt x="352" y="871"/>
                  </a:lnTo>
                  <a:lnTo>
                    <a:pt x="340" y="875"/>
                  </a:lnTo>
                  <a:lnTo>
                    <a:pt x="335" y="877"/>
                  </a:lnTo>
                  <a:lnTo>
                    <a:pt x="322" y="883"/>
                  </a:lnTo>
                  <a:lnTo>
                    <a:pt x="320" y="883"/>
                  </a:lnTo>
                  <a:lnTo>
                    <a:pt x="305" y="888"/>
                  </a:lnTo>
                  <a:lnTo>
                    <a:pt x="304" y="889"/>
                  </a:lnTo>
                  <a:lnTo>
                    <a:pt x="291" y="893"/>
                  </a:lnTo>
                  <a:lnTo>
                    <a:pt x="287" y="896"/>
                  </a:lnTo>
                  <a:lnTo>
                    <a:pt x="275" y="900"/>
                  </a:lnTo>
                  <a:lnTo>
                    <a:pt x="271" y="900"/>
                  </a:lnTo>
                  <a:lnTo>
                    <a:pt x="258" y="903"/>
                  </a:lnTo>
                  <a:lnTo>
                    <a:pt x="257" y="905"/>
                  </a:lnTo>
                  <a:lnTo>
                    <a:pt x="245" y="907"/>
                  </a:lnTo>
                  <a:lnTo>
                    <a:pt x="240" y="910"/>
                  </a:lnTo>
                  <a:lnTo>
                    <a:pt x="228" y="911"/>
                  </a:lnTo>
                  <a:lnTo>
                    <a:pt x="225" y="914"/>
                  </a:lnTo>
                  <a:lnTo>
                    <a:pt x="213" y="915"/>
                  </a:lnTo>
                  <a:lnTo>
                    <a:pt x="209" y="915"/>
                  </a:lnTo>
                  <a:lnTo>
                    <a:pt x="199" y="919"/>
                  </a:lnTo>
                  <a:lnTo>
                    <a:pt x="195" y="919"/>
                  </a:lnTo>
                  <a:lnTo>
                    <a:pt x="185" y="922"/>
                  </a:lnTo>
                  <a:lnTo>
                    <a:pt x="181" y="922"/>
                  </a:lnTo>
                  <a:lnTo>
                    <a:pt x="170" y="923"/>
                  </a:lnTo>
                  <a:lnTo>
                    <a:pt x="169" y="923"/>
                  </a:lnTo>
                  <a:lnTo>
                    <a:pt x="158" y="926"/>
                  </a:lnTo>
                  <a:lnTo>
                    <a:pt x="154" y="926"/>
                  </a:lnTo>
                  <a:lnTo>
                    <a:pt x="144" y="928"/>
                  </a:lnTo>
                  <a:lnTo>
                    <a:pt x="143" y="928"/>
                  </a:lnTo>
                  <a:lnTo>
                    <a:pt x="132" y="928"/>
                  </a:lnTo>
                  <a:lnTo>
                    <a:pt x="130" y="928"/>
                  </a:lnTo>
                  <a:lnTo>
                    <a:pt x="119" y="928"/>
                  </a:lnTo>
                  <a:lnTo>
                    <a:pt x="118" y="928"/>
                  </a:lnTo>
                  <a:lnTo>
                    <a:pt x="107" y="928"/>
                  </a:lnTo>
                  <a:lnTo>
                    <a:pt x="106" y="928"/>
                  </a:lnTo>
                  <a:lnTo>
                    <a:pt x="97" y="928"/>
                  </a:lnTo>
                  <a:lnTo>
                    <a:pt x="95" y="928"/>
                  </a:lnTo>
                  <a:lnTo>
                    <a:pt x="86" y="926"/>
                  </a:lnTo>
                  <a:lnTo>
                    <a:pt x="85" y="926"/>
                  </a:lnTo>
                  <a:lnTo>
                    <a:pt x="77" y="923"/>
                  </a:lnTo>
                  <a:lnTo>
                    <a:pt x="75" y="923"/>
                  </a:lnTo>
                  <a:lnTo>
                    <a:pt x="67" y="922"/>
                  </a:lnTo>
                  <a:lnTo>
                    <a:pt x="64" y="922"/>
                  </a:lnTo>
                  <a:lnTo>
                    <a:pt x="59" y="918"/>
                  </a:lnTo>
                  <a:lnTo>
                    <a:pt x="56" y="918"/>
                  </a:lnTo>
                  <a:lnTo>
                    <a:pt x="50" y="915"/>
                  </a:lnTo>
                  <a:lnTo>
                    <a:pt x="48" y="914"/>
                  </a:lnTo>
                  <a:lnTo>
                    <a:pt x="42" y="910"/>
                  </a:lnTo>
                  <a:lnTo>
                    <a:pt x="39" y="910"/>
                  </a:lnTo>
                  <a:lnTo>
                    <a:pt x="34" y="905"/>
                  </a:lnTo>
                  <a:lnTo>
                    <a:pt x="28" y="90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0" name="Freeform 6"/>
            <p:cNvSpPr/>
            <p:nvPr/>
          </p:nvSpPr>
          <p:spPr>
            <a:xfrm>
              <a:off x="2717640" y="4851360"/>
              <a:ext cx="1474920" cy="1474920"/>
            </a:xfrm>
            <a:custGeom>
              <a:avLst/>
              <a:gdLst>
                <a:gd name="textAreaLeft" fmla="*/ 0 w 1474920"/>
                <a:gd name="textAreaRight" fmla="*/ 1475280 w 147492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28" y="28"/>
                  </a:moveTo>
                  <a:lnTo>
                    <a:pt x="28" y="28"/>
                  </a:lnTo>
                  <a:lnTo>
                    <a:pt x="22" y="34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13" y="48"/>
                  </a:lnTo>
                  <a:lnTo>
                    <a:pt x="12" y="50"/>
                  </a:lnTo>
                  <a:lnTo>
                    <a:pt x="9" y="56"/>
                  </a:lnTo>
                  <a:lnTo>
                    <a:pt x="9" y="59"/>
                  </a:lnTo>
                  <a:lnTo>
                    <a:pt x="5" y="64"/>
                  </a:lnTo>
                  <a:lnTo>
                    <a:pt x="5" y="67"/>
                  </a:lnTo>
                  <a:lnTo>
                    <a:pt x="4" y="75"/>
                  </a:lnTo>
                  <a:lnTo>
                    <a:pt x="4" y="77"/>
                  </a:lnTo>
                  <a:lnTo>
                    <a:pt x="1" y="85"/>
                  </a:lnTo>
                  <a:lnTo>
                    <a:pt x="1" y="86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30"/>
                  </a:lnTo>
                  <a:lnTo>
                    <a:pt x="0" y="132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1" y="154"/>
                  </a:lnTo>
                  <a:lnTo>
                    <a:pt x="1" y="158"/>
                  </a:lnTo>
                  <a:lnTo>
                    <a:pt x="4" y="169"/>
                  </a:lnTo>
                  <a:lnTo>
                    <a:pt x="4" y="170"/>
                  </a:lnTo>
                  <a:lnTo>
                    <a:pt x="5" y="181"/>
                  </a:lnTo>
                  <a:lnTo>
                    <a:pt x="5" y="185"/>
                  </a:lnTo>
                  <a:lnTo>
                    <a:pt x="8" y="195"/>
                  </a:lnTo>
                  <a:lnTo>
                    <a:pt x="8" y="199"/>
                  </a:lnTo>
                  <a:lnTo>
                    <a:pt x="12" y="209"/>
                  </a:lnTo>
                  <a:lnTo>
                    <a:pt x="12" y="213"/>
                  </a:lnTo>
                  <a:lnTo>
                    <a:pt x="13" y="225"/>
                  </a:lnTo>
                  <a:lnTo>
                    <a:pt x="16" y="228"/>
                  </a:lnTo>
                  <a:lnTo>
                    <a:pt x="17" y="240"/>
                  </a:lnTo>
                  <a:lnTo>
                    <a:pt x="20" y="245"/>
                  </a:lnTo>
                  <a:lnTo>
                    <a:pt x="22" y="257"/>
                  </a:lnTo>
                  <a:lnTo>
                    <a:pt x="24" y="258"/>
                  </a:lnTo>
                  <a:lnTo>
                    <a:pt x="28" y="271"/>
                  </a:lnTo>
                  <a:lnTo>
                    <a:pt x="28" y="275"/>
                  </a:lnTo>
                  <a:lnTo>
                    <a:pt x="31" y="287"/>
                  </a:lnTo>
                  <a:lnTo>
                    <a:pt x="34" y="291"/>
                  </a:lnTo>
                  <a:lnTo>
                    <a:pt x="38" y="304"/>
                  </a:lnTo>
                  <a:lnTo>
                    <a:pt x="39" y="305"/>
                  </a:lnTo>
                  <a:lnTo>
                    <a:pt x="44" y="320"/>
                  </a:lnTo>
                  <a:lnTo>
                    <a:pt x="44" y="322"/>
                  </a:lnTo>
                  <a:lnTo>
                    <a:pt x="50" y="335"/>
                  </a:lnTo>
                  <a:lnTo>
                    <a:pt x="52" y="340"/>
                  </a:lnTo>
                  <a:lnTo>
                    <a:pt x="56" y="352"/>
                  </a:lnTo>
                  <a:lnTo>
                    <a:pt x="59" y="356"/>
                  </a:lnTo>
                  <a:lnTo>
                    <a:pt x="63" y="368"/>
                  </a:lnTo>
                  <a:lnTo>
                    <a:pt x="64" y="373"/>
                  </a:lnTo>
                  <a:lnTo>
                    <a:pt x="71" y="386"/>
                  </a:lnTo>
                  <a:lnTo>
                    <a:pt x="72" y="389"/>
                  </a:lnTo>
                  <a:lnTo>
                    <a:pt x="79" y="403"/>
                  </a:lnTo>
                  <a:lnTo>
                    <a:pt x="79" y="407"/>
                  </a:lnTo>
                  <a:lnTo>
                    <a:pt x="85" y="419"/>
                  </a:lnTo>
                  <a:lnTo>
                    <a:pt x="86" y="424"/>
                  </a:lnTo>
                  <a:lnTo>
                    <a:pt x="93" y="437"/>
                  </a:lnTo>
                  <a:lnTo>
                    <a:pt x="95" y="440"/>
                  </a:lnTo>
                  <a:lnTo>
                    <a:pt x="101" y="454"/>
                  </a:lnTo>
                  <a:lnTo>
                    <a:pt x="103" y="458"/>
                  </a:lnTo>
                  <a:lnTo>
                    <a:pt x="111" y="473"/>
                  </a:lnTo>
                  <a:lnTo>
                    <a:pt x="111" y="475"/>
                  </a:lnTo>
                  <a:lnTo>
                    <a:pt x="119" y="490"/>
                  </a:lnTo>
                  <a:lnTo>
                    <a:pt x="122" y="494"/>
                  </a:lnTo>
                  <a:lnTo>
                    <a:pt x="128" y="505"/>
                  </a:lnTo>
                  <a:lnTo>
                    <a:pt x="130" y="509"/>
                  </a:lnTo>
                  <a:lnTo>
                    <a:pt x="139" y="524"/>
                  </a:lnTo>
                  <a:lnTo>
                    <a:pt x="140" y="525"/>
                  </a:lnTo>
                  <a:lnTo>
                    <a:pt x="145" y="541"/>
                  </a:lnTo>
                  <a:lnTo>
                    <a:pt x="148" y="545"/>
                  </a:lnTo>
                  <a:lnTo>
                    <a:pt x="156" y="556"/>
                  </a:lnTo>
                  <a:lnTo>
                    <a:pt x="158" y="560"/>
                  </a:lnTo>
                  <a:lnTo>
                    <a:pt x="166" y="575"/>
                  </a:lnTo>
                  <a:lnTo>
                    <a:pt x="169" y="576"/>
                  </a:lnTo>
                  <a:lnTo>
                    <a:pt x="174" y="592"/>
                  </a:lnTo>
                  <a:lnTo>
                    <a:pt x="177" y="593"/>
                  </a:lnTo>
                  <a:lnTo>
                    <a:pt x="185" y="608"/>
                  </a:lnTo>
                  <a:lnTo>
                    <a:pt x="187" y="612"/>
                  </a:lnTo>
                  <a:lnTo>
                    <a:pt x="195" y="623"/>
                  </a:lnTo>
                  <a:lnTo>
                    <a:pt x="198" y="627"/>
                  </a:lnTo>
                  <a:lnTo>
                    <a:pt x="205" y="640"/>
                  </a:lnTo>
                  <a:lnTo>
                    <a:pt x="207" y="644"/>
                  </a:lnTo>
                  <a:lnTo>
                    <a:pt x="216" y="656"/>
                  </a:lnTo>
                  <a:lnTo>
                    <a:pt x="217" y="659"/>
                  </a:lnTo>
                  <a:lnTo>
                    <a:pt x="225" y="670"/>
                  </a:lnTo>
                  <a:lnTo>
                    <a:pt x="228" y="674"/>
                  </a:lnTo>
                  <a:lnTo>
                    <a:pt x="236" y="687"/>
                  </a:lnTo>
                  <a:lnTo>
                    <a:pt x="238" y="691"/>
                  </a:lnTo>
                  <a:lnTo>
                    <a:pt x="246" y="703"/>
                  </a:lnTo>
                  <a:lnTo>
                    <a:pt x="249" y="706"/>
                  </a:lnTo>
                  <a:lnTo>
                    <a:pt x="258" y="718"/>
                  </a:lnTo>
                  <a:lnTo>
                    <a:pt x="261" y="720"/>
                  </a:lnTo>
                  <a:lnTo>
                    <a:pt x="268" y="732"/>
                  </a:lnTo>
                  <a:lnTo>
                    <a:pt x="271" y="733"/>
                  </a:lnTo>
                  <a:lnTo>
                    <a:pt x="279" y="746"/>
                  </a:lnTo>
                  <a:lnTo>
                    <a:pt x="280" y="749"/>
                  </a:lnTo>
                  <a:lnTo>
                    <a:pt x="289" y="761"/>
                  </a:lnTo>
                  <a:lnTo>
                    <a:pt x="291" y="762"/>
                  </a:lnTo>
                  <a:lnTo>
                    <a:pt x="300" y="773"/>
                  </a:lnTo>
                  <a:lnTo>
                    <a:pt x="301" y="777"/>
                  </a:lnTo>
                  <a:lnTo>
                    <a:pt x="309" y="787"/>
                  </a:lnTo>
                  <a:lnTo>
                    <a:pt x="312" y="788"/>
                  </a:lnTo>
                  <a:lnTo>
                    <a:pt x="320" y="799"/>
                  </a:lnTo>
                  <a:lnTo>
                    <a:pt x="322" y="801"/>
                  </a:lnTo>
                  <a:lnTo>
                    <a:pt x="330" y="812"/>
                  </a:lnTo>
                  <a:lnTo>
                    <a:pt x="331" y="813"/>
                  </a:lnTo>
                  <a:lnTo>
                    <a:pt x="340" y="824"/>
                  </a:lnTo>
                  <a:lnTo>
                    <a:pt x="342" y="826"/>
                  </a:lnTo>
                  <a:lnTo>
                    <a:pt x="351" y="834"/>
                  </a:lnTo>
                  <a:lnTo>
                    <a:pt x="352" y="837"/>
                  </a:lnTo>
                  <a:lnTo>
                    <a:pt x="360" y="846"/>
                  </a:lnTo>
                  <a:lnTo>
                    <a:pt x="363" y="848"/>
                  </a:lnTo>
                  <a:lnTo>
                    <a:pt x="371" y="856"/>
                  </a:lnTo>
                  <a:lnTo>
                    <a:pt x="373" y="859"/>
                  </a:lnTo>
                  <a:lnTo>
                    <a:pt x="381" y="864"/>
                  </a:lnTo>
                  <a:lnTo>
                    <a:pt x="382" y="867"/>
                  </a:lnTo>
                  <a:lnTo>
                    <a:pt x="389" y="875"/>
                  </a:lnTo>
                  <a:lnTo>
                    <a:pt x="391" y="877"/>
                  </a:lnTo>
                  <a:lnTo>
                    <a:pt x="399" y="883"/>
                  </a:lnTo>
                  <a:lnTo>
                    <a:pt x="402" y="885"/>
                  </a:lnTo>
                  <a:lnTo>
                    <a:pt x="410" y="892"/>
                  </a:lnTo>
                  <a:lnTo>
                    <a:pt x="411" y="893"/>
                  </a:lnTo>
                  <a:lnTo>
                    <a:pt x="418" y="897"/>
                  </a:lnTo>
                  <a:lnTo>
                    <a:pt x="419" y="900"/>
                  </a:lnTo>
                  <a:lnTo>
                    <a:pt x="428" y="905"/>
                  </a:lnTo>
                  <a:lnTo>
                    <a:pt x="430" y="905"/>
                  </a:lnTo>
                  <a:lnTo>
                    <a:pt x="436" y="910"/>
                  </a:lnTo>
                  <a:lnTo>
                    <a:pt x="437" y="911"/>
                  </a:lnTo>
                  <a:lnTo>
                    <a:pt x="446" y="915"/>
                  </a:lnTo>
                  <a:lnTo>
                    <a:pt x="448" y="915"/>
                  </a:lnTo>
                  <a:lnTo>
                    <a:pt x="457" y="919"/>
                  </a:lnTo>
                  <a:lnTo>
                    <a:pt x="458" y="919"/>
                  </a:lnTo>
                  <a:lnTo>
                    <a:pt x="466" y="922"/>
                  </a:lnTo>
                  <a:lnTo>
                    <a:pt x="469" y="923"/>
                  </a:lnTo>
                  <a:lnTo>
                    <a:pt x="477" y="926"/>
                  </a:lnTo>
                  <a:lnTo>
                    <a:pt x="479" y="926"/>
                  </a:lnTo>
                  <a:lnTo>
                    <a:pt x="490" y="928"/>
                  </a:lnTo>
                  <a:lnTo>
                    <a:pt x="491" y="928"/>
                  </a:lnTo>
                  <a:lnTo>
                    <a:pt x="499" y="928"/>
                  </a:lnTo>
                  <a:lnTo>
                    <a:pt x="501" y="928"/>
                  </a:lnTo>
                  <a:lnTo>
                    <a:pt x="512" y="928"/>
                  </a:lnTo>
                  <a:lnTo>
                    <a:pt x="513" y="928"/>
                  </a:lnTo>
                  <a:lnTo>
                    <a:pt x="521" y="928"/>
                  </a:lnTo>
                  <a:lnTo>
                    <a:pt x="524" y="928"/>
                  </a:lnTo>
                  <a:lnTo>
                    <a:pt x="534" y="928"/>
                  </a:lnTo>
                  <a:lnTo>
                    <a:pt x="536" y="928"/>
                  </a:lnTo>
                  <a:lnTo>
                    <a:pt x="546" y="926"/>
                  </a:lnTo>
                  <a:lnTo>
                    <a:pt x="549" y="926"/>
                  </a:lnTo>
                  <a:lnTo>
                    <a:pt x="559" y="923"/>
                  </a:lnTo>
                  <a:lnTo>
                    <a:pt x="560" y="923"/>
                  </a:lnTo>
                  <a:lnTo>
                    <a:pt x="571" y="919"/>
                  </a:lnTo>
                  <a:lnTo>
                    <a:pt x="572" y="919"/>
                  </a:lnTo>
                  <a:lnTo>
                    <a:pt x="583" y="918"/>
                  </a:lnTo>
                  <a:lnTo>
                    <a:pt x="585" y="915"/>
                  </a:lnTo>
                  <a:lnTo>
                    <a:pt x="596" y="914"/>
                  </a:lnTo>
                  <a:lnTo>
                    <a:pt x="597" y="911"/>
                  </a:lnTo>
                  <a:lnTo>
                    <a:pt x="608" y="910"/>
                  </a:lnTo>
                  <a:lnTo>
                    <a:pt x="609" y="907"/>
                  </a:lnTo>
                  <a:lnTo>
                    <a:pt x="619" y="904"/>
                  </a:lnTo>
                  <a:lnTo>
                    <a:pt x="622" y="904"/>
                  </a:lnTo>
                  <a:lnTo>
                    <a:pt x="631" y="897"/>
                  </a:lnTo>
                  <a:lnTo>
                    <a:pt x="634" y="897"/>
                  </a:lnTo>
                  <a:lnTo>
                    <a:pt x="644" y="892"/>
                  </a:lnTo>
                  <a:lnTo>
                    <a:pt x="647" y="892"/>
                  </a:lnTo>
                  <a:lnTo>
                    <a:pt x="656" y="885"/>
                  </a:lnTo>
                  <a:lnTo>
                    <a:pt x="659" y="885"/>
                  </a:lnTo>
                  <a:lnTo>
                    <a:pt x="669" y="879"/>
                  </a:lnTo>
                  <a:lnTo>
                    <a:pt x="670" y="877"/>
                  </a:lnTo>
                  <a:lnTo>
                    <a:pt x="681" y="871"/>
                  </a:lnTo>
                  <a:lnTo>
                    <a:pt x="682" y="868"/>
                  </a:lnTo>
                  <a:lnTo>
                    <a:pt x="693" y="863"/>
                  </a:lnTo>
                  <a:lnTo>
                    <a:pt x="695" y="860"/>
                  </a:lnTo>
                  <a:lnTo>
                    <a:pt x="706" y="855"/>
                  </a:lnTo>
                  <a:lnTo>
                    <a:pt x="707" y="852"/>
                  </a:lnTo>
                  <a:lnTo>
                    <a:pt x="718" y="846"/>
                  </a:lnTo>
                  <a:lnTo>
                    <a:pt x="720" y="845"/>
                  </a:lnTo>
                  <a:lnTo>
                    <a:pt x="728" y="837"/>
                  </a:lnTo>
                  <a:lnTo>
                    <a:pt x="732" y="837"/>
                  </a:lnTo>
                  <a:lnTo>
                    <a:pt x="740" y="828"/>
                  </a:lnTo>
                  <a:lnTo>
                    <a:pt x="742" y="826"/>
                  </a:lnTo>
                  <a:lnTo>
                    <a:pt x="753" y="817"/>
                  </a:lnTo>
                  <a:lnTo>
                    <a:pt x="754" y="816"/>
                  </a:lnTo>
                  <a:lnTo>
                    <a:pt x="762" y="808"/>
                  </a:lnTo>
                  <a:lnTo>
                    <a:pt x="765" y="805"/>
                  </a:lnTo>
                  <a:lnTo>
                    <a:pt x="775" y="797"/>
                  </a:lnTo>
                  <a:lnTo>
                    <a:pt x="777" y="795"/>
                  </a:lnTo>
                  <a:lnTo>
                    <a:pt x="786" y="787"/>
                  </a:lnTo>
                  <a:lnTo>
                    <a:pt x="787" y="786"/>
                  </a:lnTo>
                  <a:lnTo>
                    <a:pt x="795" y="777"/>
                  </a:lnTo>
                  <a:lnTo>
                    <a:pt x="797" y="775"/>
                  </a:lnTo>
                  <a:lnTo>
                    <a:pt x="805" y="765"/>
                  </a:lnTo>
                  <a:lnTo>
                    <a:pt x="808" y="762"/>
                  </a:lnTo>
                  <a:lnTo>
                    <a:pt x="816" y="754"/>
                  </a:lnTo>
                  <a:lnTo>
                    <a:pt x="817" y="753"/>
                  </a:lnTo>
                  <a:lnTo>
                    <a:pt x="826" y="742"/>
                  </a:lnTo>
                  <a:lnTo>
                    <a:pt x="828" y="740"/>
                  </a:lnTo>
                  <a:lnTo>
                    <a:pt x="837" y="732"/>
                  </a:lnTo>
                  <a:lnTo>
                    <a:pt x="837" y="728"/>
                  </a:lnTo>
                  <a:lnTo>
                    <a:pt x="845" y="720"/>
                  </a:lnTo>
                  <a:lnTo>
                    <a:pt x="846" y="718"/>
                  </a:lnTo>
                  <a:lnTo>
                    <a:pt x="852" y="707"/>
                  </a:lnTo>
                  <a:lnTo>
                    <a:pt x="855" y="706"/>
                  </a:lnTo>
                  <a:lnTo>
                    <a:pt x="860" y="695"/>
                  </a:lnTo>
                  <a:lnTo>
                    <a:pt x="863" y="693"/>
                  </a:lnTo>
                  <a:lnTo>
                    <a:pt x="868" y="682"/>
                  </a:lnTo>
                  <a:lnTo>
                    <a:pt x="871" y="681"/>
                  </a:lnTo>
                  <a:lnTo>
                    <a:pt x="877" y="670"/>
                  </a:lnTo>
                  <a:lnTo>
                    <a:pt x="879" y="669"/>
                  </a:lnTo>
                  <a:lnTo>
                    <a:pt x="885" y="659"/>
                  </a:lnTo>
                  <a:lnTo>
                    <a:pt x="885" y="656"/>
                  </a:lnTo>
                  <a:lnTo>
                    <a:pt x="892" y="647"/>
                  </a:lnTo>
                  <a:lnTo>
                    <a:pt x="892" y="644"/>
                  </a:lnTo>
                  <a:lnTo>
                    <a:pt x="897" y="634"/>
                  </a:lnTo>
                  <a:lnTo>
                    <a:pt x="897" y="631"/>
                  </a:lnTo>
                  <a:lnTo>
                    <a:pt x="904" y="622"/>
                  </a:lnTo>
                  <a:lnTo>
                    <a:pt x="904" y="619"/>
                  </a:lnTo>
                  <a:lnTo>
                    <a:pt x="907" y="609"/>
                  </a:lnTo>
                  <a:lnTo>
                    <a:pt x="910" y="608"/>
                  </a:lnTo>
                  <a:lnTo>
                    <a:pt x="911" y="597"/>
                  </a:lnTo>
                  <a:lnTo>
                    <a:pt x="914" y="596"/>
                  </a:lnTo>
                  <a:lnTo>
                    <a:pt x="915" y="585"/>
                  </a:lnTo>
                  <a:lnTo>
                    <a:pt x="918" y="583"/>
                  </a:lnTo>
                  <a:lnTo>
                    <a:pt x="919" y="572"/>
                  </a:lnTo>
                  <a:lnTo>
                    <a:pt x="919" y="571"/>
                  </a:lnTo>
                  <a:lnTo>
                    <a:pt x="923" y="560"/>
                  </a:lnTo>
                  <a:lnTo>
                    <a:pt x="923" y="559"/>
                  </a:lnTo>
                  <a:lnTo>
                    <a:pt x="926" y="549"/>
                  </a:lnTo>
                  <a:lnTo>
                    <a:pt x="926" y="546"/>
                  </a:lnTo>
                  <a:lnTo>
                    <a:pt x="928" y="536"/>
                  </a:lnTo>
                  <a:lnTo>
                    <a:pt x="928" y="534"/>
                  </a:lnTo>
                  <a:lnTo>
                    <a:pt x="928" y="524"/>
                  </a:lnTo>
                  <a:lnTo>
                    <a:pt x="928" y="521"/>
                  </a:lnTo>
                  <a:lnTo>
                    <a:pt x="928" y="513"/>
                  </a:lnTo>
                  <a:lnTo>
                    <a:pt x="928" y="512"/>
                  </a:lnTo>
                  <a:lnTo>
                    <a:pt x="928" y="501"/>
                  </a:lnTo>
                  <a:lnTo>
                    <a:pt x="928" y="499"/>
                  </a:lnTo>
                  <a:lnTo>
                    <a:pt x="928" y="491"/>
                  </a:lnTo>
                  <a:lnTo>
                    <a:pt x="928" y="490"/>
                  </a:lnTo>
                  <a:lnTo>
                    <a:pt x="926" y="479"/>
                  </a:lnTo>
                  <a:lnTo>
                    <a:pt x="926" y="477"/>
                  </a:lnTo>
                  <a:lnTo>
                    <a:pt x="923" y="469"/>
                  </a:lnTo>
                  <a:lnTo>
                    <a:pt x="922" y="466"/>
                  </a:lnTo>
                  <a:lnTo>
                    <a:pt x="919" y="458"/>
                  </a:lnTo>
                  <a:lnTo>
                    <a:pt x="919" y="457"/>
                  </a:lnTo>
                  <a:lnTo>
                    <a:pt x="915" y="448"/>
                  </a:lnTo>
                  <a:lnTo>
                    <a:pt x="915" y="446"/>
                  </a:lnTo>
                  <a:lnTo>
                    <a:pt x="911" y="437"/>
                  </a:lnTo>
                  <a:lnTo>
                    <a:pt x="910" y="436"/>
                  </a:lnTo>
                  <a:lnTo>
                    <a:pt x="905" y="430"/>
                  </a:lnTo>
                  <a:lnTo>
                    <a:pt x="905" y="428"/>
                  </a:lnTo>
                  <a:lnTo>
                    <a:pt x="900" y="419"/>
                  </a:lnTo>
                  <a:lnTo>
                    <a:pt x="893" y="411"/>
                  </a:lnTo>
                  <a:lnTo>
                    <a:pt x="892" y="410"/>
                  </a:lnTo>
                  <a:lnTo>
                    <a:pt x="885" y="402"/>
                  </a:lnTo>
                  <a:lnTo>
                    <a:pt x="883" y="399"/>
                  </a:lnTo>
                  <a:lnTo>
                    <a:pt x="877" y="391"/>
                  </a:lnTo>
                  <a:lnTo>
                    <a:pt x="875" y="389"/>
                  </a:lnTo>
                  <a:lnTo>
                    <a:pt x="867" y="382"/>
                  </a:lnTo>
                  <a:lnTo>
                    <a:pt x="864" y="381"/>
                  </a:lnTo>
                  <a:lnTo>
                    <a:pt x="859" y="373"/>
                  </a:lnTo>
                  <a:lnTo>
                    <a:pt x="856" y="371"/>
                  </a:lnTo>
                  <a:lnTo>
                    <a:pt x="848" y="363"/>
                  </a:lnTo>
                  <a:lnTo>
                    <a:pt x="846" y="360"/>
                  </a:lnTo>
                  <a:lnTo>
                    <a:pt x="837" y="352"/>
                  </a:lnTo>
                  <a:lnTo>
                    <a:pt x="834" y="351"/>
                  </a:lnTo>
                  <a:lnTo>
                    <a:pt x="826" y="342"/>
                  </a:lnTo>
                  <a:lnTo>
                    <a:pt x="824" y="340"/>
                  </a:lnTo>
                  <a:lnTo>
                    <a:pt x="813" y="331"/>
                  </a:lnTo>
                  <a:lnTo>
                    <a:pt x="812" y="330"/>
                  </a:lnTo>
                  <a:lnTo>
                    <a:pt x="801" y="322"/>
                  </a:lnTo>
                  <a:lnTo>
                    <a:pt x="799" y="320"/>
                  </a:lnTo>
                  <a:lnTo>
                    <a:pt x="788" y="312"/>
                  </a:lnTo>
                  <a:lnTo>
                    <a:pt x="787" y="309"/>
                  </a:lnTo>
                  <a:lnTo>
                    <a:pt x="777" y="301"/>
                  </a:lnTo>
                  <a:lnTo>
                    <a:pt x="773" y="300"/>
                  </a:lnTo>
                  <a:lnTo>
                    <a:pt x="762" y="291"/>
                  </a:lnTo>
                  <a:lnTo>
                    <a:pt x="761" y="289"/>
                  </a:lnTo>
                  <a:lnTo>
                    <a:pt x="749" y="280"/>
                  </a:lnTo>
                  <a:lnTo>
                    <a:pt x="746" y="279"/>
                  </a:lnTo>
                  <a:lnTo>
                    <a:pt x="733" y="271"/>
                  </a:lnTo>
                  <a:lnTo>
                    <a:pt x="732" y="268"/>
                  </a:lnTo>
                  <a:lnTo>
                    <a:pt x="720" y="261"/>
                  </a:lnTo>
                  <a:lnTo>
                    <a:pt x="718" y="258"/>
                  </a:lnTo>
                  <a:lnTo>
                    <a:pt x="706" y="249"/>
                  </a:lnTo>
                  <a:lnTo>
                    <a:pt x="703" y="246"/>
                  </a:lnTo>
                  <a:lnTo>
                    <a:pt x="691" y="238"/>
                  </a:lnTo>
                  <a:lnTo>
                    <a:pt x="687" y="236"/>
                  </a:lnTo>
                  <a:lnTo>
                    <a:pt x="674" y="228"/>
                  </a:lnTo>
                  <a:lnTo>
                    <a:pt x="670" y="225"/>
                  </a:lnTo>
                  <a:lnTo>
                    <a:pt x="659" y="217"/>
                  </a:lnTo>
                  <a:lnTo>
                    <a:pt x="656" y="216"/>
                  </a:lnTo>
                  <a:lnTo>
                    <a:pt x="644" y="207"/>
                  </a:lnTo>
                  <a:lnTo>
                    <a:pt x="640" y="205"/>
                  </a:lnTo>
                  <a:lnTo>
                    <a:pt x="627" y="198"/>
                  </a:lnTo>
                  <a:lnTo>
                    <a:pt x="623" y="195"/>
                  </a:lnTo>
                  <a:lnTo>
                    <a:pt x="612" y="187"/>
                  </a:lnTo>
                  <a:lnTo>
                    <a:pt x="608" y="185"/>
                  </a:lnTo>
                  <a:lnTo>
                    <a:pt x="593" y="177"/>
                  </a:lnTo>
                  <a:lnTo>
                    <a:pt x="592" y="174"/>
                  </a:lnTo>
                  <a:lnTo>
                    <a:pt x="576" y="169"/>
                  </a:lnTo>
                  <a:lnTo>
                    <a:pt x="575" y="166"/>
                  </a:lnTo>
                  <a:lnTo>
                    <a:pt x="560" y="158"/>
                  </a:lnTo>
                  <a:lnTo>
                    <a:pt x="556" y="156"/>
                  </a:lnTo>
                  <a:lnTo>
                    <a:pt x="545" y="148"/>
                  </a:lnTo>
                  <a:lnTo>
                    <a:pt x="541" y="145"/>
                  </a:lnTo>
                  <a:lnTo>
                    <a:pt x="525" y="140"/>
                  </a:lnTo>
                  <a:lnTo>
                    <a:pt x="524" y="139"/>
                  </a:lnTo>
                  <a:lnTo>
                    <a:pt x="509" y="130"/>
                  </a:lnTo>
                  <a:lnTo>
                    <a:pt x="505" y="128"/>
                  </a:lnTo>
                  <a:lnTo>
                    <a:pt x="494" y="122"/>
                  </a:lnTo>
                  <a:lnTo>
                    <a:pt x="490" y="119"/>
                  </a:lnTo>
                  <a:lnTo>
                    <a:pt x="475" y="111"/>
                  </a:lnTo>
                  <a:lnTo>
                    <a:pt x="473" y="111"/>
                  </a:lnTo>
                  <a:lnTo>
                    <a:pt x="458" y="103"/>
                  </a:lnTo>
                  <a:lnTo>
                    <a:pt x="454" y="101"/>
                  </a:lnTo>
                  <a:lnTo>
                    <a:pt x="440" y="95"/>
                  </a:lnTo>
                  <a:lnTo>
                    <a:pt x="437" y="93"/>
                  </a:lnTo>
                  <a:lnTo>
                    <a:pt x="424" y="86"/>
                  </a:lnTo>
                  <a:lnTo>
                    <a:pt x="419" y="85"/>
                  </a:lnTo>
                  <a:lnTo>
                    <a:pt x="407" y="79"/>
                  </a:lnTo>
                  <a:lnTo>
                    <a:pt x="403" y="79"/>
                  </a:lnTo>
                  <a:lnTo>
                    <a:pt x="389" y="72"/>
                  </a:lnTo>
                  <a:lnTo>
                    <a:pt x="386" y="71"/>
                  </a:lnTo>
                  <a:lnTo>
                    <a:pt x="373" y="64"/>
                  </a:lnTo>
                  <a:lnTo>
                    <a:pt x="368" y="63"/>
                  </a:lnTo>
                  <a:lnTo>
                    <a:pt x="356" y="59"/>
                  </a:lnTo>
                  <a:lnTo>
                    <a:pt x="352" y="56"/>
                  </a:lnTo>
                  <a:lnTo>
                    <a:pt x="340" y="52"/>
                  </a:lnTo>
                  <a:lnTo>
                    <a:pt x="335" y="50"/>
                  </a:lnTo>
                  <a:lnTo>
                    <a:pt x="322" y="44"/>
                  </a:lnTo>
                  <a:lnTo>
                    <a:pt x="320" y="44"/>
                  </a:lnTo>
                  <a:lnTo>
                    <a:pt x="305" y="39"/>
                  </a:lnTo>
                  <a:lnTo>
                    <a:pt x="304" y="38"/>
                  </a:lnTo>
                  <a:lnTo>
                    <a:pt x="291" y="34"/>
                  </a:lnTo>
                  <a:lnTo>
                    <a:pt x="287" y="31"/>
                  </a:lnTo>
                  <a:lnTo>
                    <a:pt x="275" y="28"/>
                  </a:lnTo>
                  <a:lnTo>
                    <a:pt x="271" y="28"/>
                  </a:lnTo>
                  <a:lnTo>
                    <a:pt x="258" y="24"/>
                  </a:lnTo>
                  <a:lnTo>
                    <a:pt x="257" y="22"/>
                  </a:lnTo>
                  <a:lnTo>
                    <a:pt x="245" y="20"/>
                  </a:lnTo>
                  <a:lnTo>
                    <a:pt x="240" y="17"/>
                  </a:lnTo>
                  <a:lnTo>
                    <a:pt x="228" y="16"/>
                  </a:lnTo>
                  <a:lnTo>
                    <a:pt x="225" y="13"/>
                  </a:lnTo>
                  <a:lnTo>
                    <a:pt x="213" y="12"/>
                  </a:lnTo>
                  <a:lnTo>
                    <a:pt x="209" y="12"/>
                  </a:lnTo>
                  <a:lnTo>
                    <a:pt x="199" y="8"/>
                  </a:lnTo>
                  <a:lnTo>
                    <a:pt x="195" y="8"/>
                  </a:lnTo>
                  <a:lnTo>
                    <a:pt x="185" y="5"/>
                  </a:lnTo>
                  <a:lnTo>
                    <a:pt x="181" y="5"/>
                  </a:lnTo>
                  <a:lnTo>
                    <a:pt x="170" y="4"/>
                  </a:lnTo>
                  <a:lnTo>
                    <a:pt x="169" y="4"/>
                  </a:lnTo>
                  <a:lnTo>
                    <a:pt x="158" y="1"/>
                  </a:lnTo>
                  <a:lnTo>
                    <a:pt x="154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19" y="0"/>
                  </a:lnTo>
                  <a:lnTo>
                    <a:pt x="118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86" y="1"/>
                  </a:lnTo>
                  <a:lnTo>
                    <a:pt x="85" y="1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59" y="9"/>
                  </a:lnTo>
                  <a:lnTo>
                    <a:pt x="56" y="9"/>
                  </a:lnTo>
                  <a:lnTo>
                    <a:pt x="50" y="12"/>
                  </a:lnTo>
                  <a:lnTo>
                    <a:pt x="48" y="13"/>
                  </a:lnTo>
                  <a:lnTo>
                    <a:pt x="42" y="17"/>
                  </a:lnTo>
                  <a:lnTo>
                    <a:pt x="39" y="17"/>
                  </a:lnTo>
                  <a:lnTo>
                    <a:pt x="34" y="22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1" name="Freeform 7"/>
            <p:cNvSpPr/>
            <p:nvPr/>
          </p:nvSpPr>
          <p:spPr>
            <a:xfrm>
              <a:off x="1332000" y="4849920"/>
              <a:ext cx="1474560" cy="1474560"/>
            </a:xfrm>
            <a:custGeom>
              <a:avLst/>
              <a:gdLst>
                <a:gd name="textAreaLeft" fmla="*/ 0 w 1474560"/>
                <a:gd name="textAreaRight" fmla="*/ 1474920 w 1474560"/>
                <a:gd name="textAreaTop" fmla="*/ 0 h 1474560"/>
                <a:gd name="textAreaBottom" fmla="*/ 1474920 h 1474560"/>
              </a:gdLst>
              <a:ahLst/>
              <a:rect l="textAreaLeft" t="textAreaTop" r="textAreaRight" b="textAreaBottom"/>
              <a:pathLst>
                <a:path w="929" h="929">
                  <a:moveTo>
                    <a:pt x="900" y="28"/>
                  </a:moveTo>
                  <a:lnTo>
                    <a:pt x="900" y="28"/>
                  </a:lnTo>
                  <a:lnTo>
                    <a:pt x="893" y="22"/>
                  </a:lnTo>
                  <a:lnTo>
                    <a:pt x="888" y="17"/>
                  </a:lnTo>
                  <a:lnTo>
                    <a:pt x="885" y="17"/>
                  </a:lnTo>
                  <a:lnTo>
                    <a:pt x="879" y="13"/>
                  </a:lnTo>
                  <a:lnTo>
                    <a:pt x="877" y="12"/>
                  </a:lnTo>
                  <a:lnTo>
                    <a:pt x="871" y="9"/>
                  </a:lnTo>
                  <a:lnTo>
                    <a:pt x="868" y="9"/>
                  </a:lnTo>
                  <a:lnTo>
                    <a:pt x="863" y="5"/>
                  </a:lnTo>
                  <a:lnTo>
                    <a:pt x="860" y="5"/>
                  </a:lnTo>
                  <a:lnTo>
                    <a:pt x="852" y="4"/>
                  </a:lnTo>
                  <a:lnTo>
                    <a:pt x="850" y="4"/>
                  </a:lnTo>
                  <a:lnTo>
                    <a:pt x="842" y="1"/>
                  </a:lnTo>
                  <a:lnTo>
                    <a:pt x="841" y="1"/>
                  </a:lnTo>
                  <a:lnTo>
                    <a:pt x="832" y="0"/>
                  </a:lnTo>
                  <a:lnTo>
                    <a:pt x="830" y="0"/>
                  </a:lnTo>
                  <a:lnTo>
                    <a:pt x="821" y="0"/>
                  </a:lnTo>
                  <a:lnTo>
                    <a:pt x="820" y="0"/>
                  </a:lnTo>
                  <a:lnTo>
                    <a:pt x="809" y="0"/>
                  </a:lnTo>
                  <a:lnTo>
                    <a:pt x="808" y="0"/>
                  </a:lnTo>
                  <a:lnTo>
                    <a:pt x="797" y="0"/>
                  </a:lnTo>
                  <a:lnTo>
                    <a:pt x="795" y="0"/>
                  </a:lnTo>
                  <a:lnTo>
                    <a:pt x="784" y="0"/>
                  </a:lnTo>
                  <a:lnTo>
                    <a:pt x="783" y="0"/>
                  </a:lnTo>
                  <a:lnTo>
                    <a:pt x="773" y="1"/>
                  </a:lnTo>
                  <a:lnTo>
                    <a:pt x="769" y="1"/>
                  </a:lnTo>
                  <a:lnTo>
                    <a:pt x="758" y="4"/>
                  </a:lnTo>
                  <a:lnTo>
                    <a:pt x="757" y="4"/>
                  </a:lnTo>
                  <a:lnTo>
                    <a:pt x="746" y="5"/>
                  </a:lnTo>
                  <a:lnTo>
                    <a:pt x="742" y="5"/>
                  </a:lnTo>
                  <a:lnTo>
                    <a:pt x="732" y="8"/>
                  </a:lnTo>
                  <a:lnTo>
                    <a:pt x="728" y="8"/>
                  </a:lnTo>
                  <a:lnTo>
                    <a:pt x="718" y="12"/>
                  </a:lnTo>
                  <a:lnTo>
                    <a:pt x="714" y="12"/>
                  </a:lnTo>
                  <a:lnTo>
                    <a:pt x="702" y="13"/>
                  </a:lnTo>
                  <a:lnTo>
                    <a:pt x="699" y="16"/>
                  </a:lnTo>
                  <a:lnTo>
                    <a:pt x="687" y="17"/>
                  </a:lnTo>
                  <a:lnTo>
                    <a:pt x="682" y="20"/>
                  </a:lnTo>
                  <a:lnTo>
                    <a:pt x="670" y="22"/>
                  </a:lnTo>
                  <a:lnTo>
                    <a:pt x="669" y="24"/>
                  </a:lnTo>
                  <a:lnTo>
                    <a:pt x="656" y="28"/>
                  </a:lnTo>
                  <a:lnTo>
                    <a:pt x="652" y="28"/>
                  </a:lnTo>
                  <a:lnTo>
                    <a:pt x="640" y="31"/>
                  </a:lnTo>
                  <a:lnTo>
                    <a:pt x="636" y="34"/>
                  </a:lnTo>
                  <a:lnTo>
                    <a:pt x="623" y="38"/>
                  </a:lnTo>
                  <a:lnTo>
                    <a:pt x="622" y="39"/>
                  </a:lnTo>
                  <a:lnTo>
                    <a:pt x="607" y="44"/>
                  </a:lnTo>
                  <a:lnTo>
                    <a:pt x="605" y="44"/>
                  </a:lnTo>
                  <a:lnTo>
                    <a:pt x="592" y="50"/>
                  </a:lnTo>
                  <a:lnTo>
                    <a:pt x="587" y="52"/>
                  </a:lnTo>
                  <a:lnTo>
                    <a:pt x="575" y="56"/>
                  </a:lnTo>
                  <a:lnTo>
                    <a:pt x="571" y="59"/>
                  </a:lnTo>
                  <a:lnTo>
                    <a:pt x="559" y="63"/>
                  </a:lnTo>
                  <a:lnTo>
                    <a:pt x="554" y="64"/>
                  </a:lnTo>
                  <a:lnTo>
                    <a:pt x="541" y="71"/>
                  </a:lnTo>
                  <a:lnTo>
                    <a:pt x="538" y="72"/>
                  </a:lnTo>
                  <a:lnTo>
                    <a:pt x="524" y="79"/>
                  </a:lnTo>
                  <a:lnTo>
                    <a:pt x="520" y="79"/>
                  </a:lnTo>
                  <a:lnTo>
                    <a:pt x="508" y="85"/>
                  </a:lnTo>
                  <a:lnTo>
                    <a:pt x="503" y="86"/>
                  </a:lnTo>
                  <a:lnTo>
                    <a:pt x="490" y="93"/>
                  </a:lnTo>
                  <a:lnTo>
                    <a:pt x="487" y="95"/>
                  </a:lnTo>
                  <a:lnTo>
                    <a:pt x="473" y="101"/>
                  </a:lnTo>
                  <a:lnTo>
                    <a:pt x="469" y="103"/>
                  </a:lnTo>
                  <a:lnTo>
                    <a:pt x="454" y="111"/>
                  </a:lnTo>
                  <a:lnTo>
                    <a:pt x="452" y="111"/>
                  </a:lnTo>
                  <a:lnTo>
                    <a:pt x="437" y="119"/>
                  </a:lnTo>
                  <a:lnTo>
                    <a:pt x="433" y="122"/>
                  </a:lnTo>
                  <a:lnTo>
                    <a:pt x="422" y="128"/>
                  </a:lnTo>
                  <a:lnTo>
                    <a:pt x="418" y="130"/>
                  </a:lnTo>
                  <a:lnTo>
                    <a:pt x="403" y="139"/>
                  </a:lnTo>
                  <a:lnTo>
                    <a:pt x="402" y="140"/>
                  </a:lnTo>
                  <a:lnTo>
                    <a:pt x="386" y="145"/>
                  </a:lnTo>
                  <a:lnTo>
                    <a:pt x="382" y="148"/>
                  </a:lnTo>
                  <a:lnTo>
                    <a:pt x="371" y="156"/>
                  </a:lnTo>
                  <a:lnTo>
                    <a:pt x="367" y="158"/>
                  </a:lnTo>
                  <a:lnTo>
                    <a:pt x="352" y="166"/>
                  </a:lnTo>
                  <a:lnTo>
                    <a:pt x="351" y="169"/>
                  </a:lnTo>
                  <a:lnTo>
                    <a:pt x="335" y="174"/>
                  </a:lnTo>
                  <a:lnTo>
                    <a:pt x="334" y="177"/>
                  </a:lnTo>
                  <a:lnTo>
                    <a:pt x="319" y="185"/>
                  </a:lnTo>
                  <a:lnTo>
                    <a:pt x="315" y="187"/>
                  </a:lnTo>
                  <a:lnTo>
                    <a:pt x="304" y="195"/>
                  </a:lnTo>
                  <a:lnTo>
                    <a:pt x="300" y="198"/>
                  </a:lnTo>
                  <a:lnTo>
                    <a:pt x="287" y="205"/>
                  </a:lnTo>
                  <a:lnTo>
                    <a:pt x="283" y="207"/>
                  </a:lnTo>
                  <a:lnTo>
                    <a:pt x="271" y="216"/>
                  </a:lnTo>
                  <a:lnTo>
                    <a:pt x="268" y="217"/>
                  </a:lnTo>
                  <a:lnTo>
                    <a:pt x="257" y="225"/>
                  </a:lnTo>
                  <a:lnTo>
                    <a:pt x="253" y="228"/>
                  </a:lnTo>
                  <a:lnTo>
                    <a:pt x="240" y="236"/>
                  </a:lnTo>
                  <a:lnTo>
                    <a:pt x="236" y="238"/>
                  </a:lnTo>
                  <a:lnTo>
                    <a:pt x="224" y="246"/>
                  </a:lnTo>
                  <a:lnTo>
                    <a:pt x="221" y="249"/>
                  </a:lnTo>
                  <a:lnTo>
                    <a:pt x="209" y="258"/>
                  </a:lnTo>
                  <a:lnTo>
                    <a:pt x="207" y="261"/>
                  </a:lnTo>
                  <a:lnTo>
                    <a:pt x="195" y="268"/>
                  </a:lnTo>
                  <a:lnTo>
                    <a:pt x="194" y="271"/>
                  </a:lnTo>
                  <a:lnTo>
                    <a:pt x="181" y="279"/>
                  </a:lnTo>
                  <a:lnTo>
                    <a:pt x="178" y="280"/>
                  </a:lnTo>
                  <a:lnTo>
                    <a:pt x="166" y="289"/>
                  </a:lnTo>
                  <a:lnTo>
                    <a:pt x="165" y="291"/>
                  </a:lnTo>
                  <a:lnTo>
                    <a:pt x="154" y="300"/>
                  </a:lnTo>
                  <a:lnTo>
                    <a:pt x="150" y="301"/>
                  </a:lnTo>
                  <a:lnTo>
                    <a:pt x="140" y="309"/>
                  </a:lnTo>
                  <a:lnTo>
                    <a:pt x="139" y="312"/>
                  </a:lnTo>
                  <a:lnTo>
                    <a:pt x="128" y="320"/>
                  </a:lnTo>
                  <a:lnTo>
                    <a:pt x="126" y="322"/>
                  </a:lnTo>
                  <a:lnTo>
                    <a:pt x="115" y="330"/>
                  </a:lnTo>
                  <a:lnTo>
                    <a:pt x="114" y="331"/>
                  </a:lnTo>
                  <a:lnTo>
                    <a:pt x="103" y="340"/>
                  </a:lnTo>
                  <a:lnTo>
                    <a:pt x="101" y="342"/>
                  </a:lnTo>
                  <a:lnTo>
                    <a:pt x="93" y="351"/>
                  </a:lnTo>
                  <a:lnTo>
                    <a:pt x="90" y="352"/>
                  </a:lnTo>
                  <a:lnTo>
                    <a:pt x="81" y="360"/>
                  </a:lnTo>
                  <a:lnTo>
                    <a:pt x="79" y="363"/>
                  </a:lnTo>
                  <a:lnTo>
                    <a:pt x="71" y="371"/>
                  </a:lnTo>
                  <a:lnTo>
                    <a:pt x="68" y="373"/>
                  </a:lnTo>
                  <a:lnTo>
                    <a:pt x="63" y="381"/>
                  </a:lnTo>
                  <a:lnTo>
                    <a:pt x="60" y="382"/>
                  </a:lnTo>
                  <a:lnTo>
                    <a:pt x="52" y="389"/>
                  </a:lnTo>
                  <a:lnTo>
                    <a:pt x="50" y="391"/>
                  </a:lnTo>
                  <a:lnTo>
                    <a:pt x="44" y="399"/>
                  </a:lnTo>
                  <a:lnTo>
                    <a:pt x="42" y="402"/>
                  </a:lnTo>
                  <a:lnTo>
                    <a:pt x="35" y="410"/>
                  </a:lnTo>
                  <a:lnTo>
                    <a:pt x="34" y="411"/>
                  </a:lnTo>
                  <a:lnTo>
                    <a:pt x="30" y="418"/>
                  </a:lnTo>
                  <a:lnTo>
                    <a:pt x="27" y="419"/>
                  </a:lnTo>
                  <a:lnTo>
                    <a:pt x="22" y="428"/>
                  </a:lnTo>
                  <a:lnTo>
                    <a:pt x="22" y="430"/>
                  </a:lnTo>
                  <a:lnTo>
                    <a:pt x="17" y="436"/>
                  </a:lnTo>
                  <a:lnTo>
                    <a:pt x="16" y="437"/>
                  </a:lnTo>
                  <a:lnTo>
                    <a:pt x="12" y="446"/>
                  </a:lnTo>
                  <a:lnTo>
                    <a:pt x="12" y="448"/>
                  </a:lnTo>
                  <a:lnTo>
                    <a:pt x="8" y="457"/>
                  </a:lnTo>
                  <a:lnTo>
                    <a:pt x="8" y="458"/>
                  </a:lnTo>
                  <a:lnTo>
                    <a:pt x="5" y="466"/>
                  </a:lnTo>
                  <a:lnTo>
                    <a:pt x="4" y="469"/>
                  </a:lnTo>
                  <a:lnTo>
                    <a:pt x="1" y="477"/>
                  </a:lnTo>
                  <a:lnTo>
                    <a:pt x="1" y="479"/>
                  </a:lnTo>
                  <a:lnTo>
                    <a:pt x="0" y="490"/>
                  </a:lnTo>
                  <a:lnTo>
                    <a:pt x="0" y="491"/>
                  </a:lnTo>
                  <a:lnTo>
                    <a:pt x="0" y="499"/>
                  </a:lnTo>
                  <a:lnTo>
                    <a:pt x="0" y="501"/>
                  </a:lnTo>
                  <a:lnTo>
                    <a:pt x="0" y="512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4"/>
                  </a:lnTo>
                  <a:lnTo>
                    <a:pt x="0" y="534"/>
                  </a:lnTo>
                  <a:lnTo>
                    <a:pt x="0" y="536"/>
                  </a:lnTo>
                  <a:lnTo>
                    <a:pt x="1" y="546"/>
                  </a:lnTo>
                  <a:lnTo>
                    <a:pt x="1" y="549"/>
                  </a:lnTo>
                  <a:lnTo>
                    <a:pt x="4" y="559"/>
                  </a:lnTo>
                  <a:lnTo>
                    <a:pt x="4" y="560"/>
                  </a:lnTo>
                  <a:lnTo>
                    <a:pt x="8" y="571"/>
                  </a:lnTo>
                  <a:lnTo>
                    <a:pt x="8" y="572"/>
                  </a:lnTo>
                  <a:lnTo>
                    <a:pt x="9" y="583"/>
                  </a:lnTo>
                  <a:lnTo>
                    <a:pt x="12" y="585"/>
                  </a:lnTo>
                  <a:lnTo>
                    <a:pt x="13" y="596"/>
                  </a:lnTo>
                  <a:lnTo>
                    <a:pt x="16" y="597"/>
                  </a:lnTo>
                  <a:lnTo>
                    <a:pt x="17" y="608"/>
                  </a:lnTo>
                  <a:lnTo>
                    <a:pt x="20" y="609"/>
                  </a:lnTo>
                  <a:lnTo>
                    <a:pt x="23" y="619"/>
                  </a:lnTo>
                  <a:lnTo>
                    <a:pt x="23" y="622"/>
                  </a:lnTo>
                  <a:lnTo>
                    <a:pt x="30" y="631"/>
                  </a:lnTo>
                  <a:lnTo>
                    <a:pt x="30" y="634"/>
                  </a:lnTo>
                  <a:lnTo>
                    <a:pt x="35" y="644"/>
                  </a:lnTo>
                  <a:lnTo>
                    <a:pt x="35" y="647"/>
                  </a:lnTo>
                  <a:lnTo>
                    <a:pt x="42" y="656"/>
                  </a:lnTo>
                  <a:lnTo>
                    <a:pt x="42" y="659"/>
                  </a:lnTo>
                  <a:lnTo>
                    <a:pt x="48" y="669"/>
                  </a:lnTo>
                  <a:lnTo>
                    <a:pt x="50" y="670"/>
                  </a:lnTo>
                  <a:lnTo>
                    <a:pt x="56" y="681"/>
                  </a:lnTo>
                  <a:lnTo>
                    <a:pt x="59" y="682"/>
                  </a:lnTo>
                  <a:lnTo>
                    <a:pt x="64" y="693"/>
                  </a:lnTo>
                  <a:lnTo>
                    <a:pt x="67" y="695"/>
                  </a:lnTo>
                  <a:lnTo>
                    <a:pt x="72" y="706"/>
                  </a:lnTo>
                  <a:lnTo>
                    <a:pt x="75" y="707"/>
                  </a:lnTo>
                  <a:lnTo>
                    <a:pt x="81" y="718"/>
                  </a:lnTo>
                  <a:lnTo>
                    <a:pt x="82" y="720"/>
                  </a:lnTo>
                  <a:lnTo>
                    <a:pt x="89" y="728"/>
                  </a:lnTo>
                  <a:lnTo>
                    <a:pt x="90" y="732"/>
                  </a:lnTo>
                  <a:lnTo>
                    <a:pt x="99" y="740"/>
                  </a:lnTo>
                  <a:lnTo>
                    <a:pt x="101" y="742"/>
                  </a:lnTo>
                  <a:lnTo>
                    <a:pt x="110" y="753"/>
                  </a:lnTo>
                  <a:lnTo>
                    <a:pt x="111" y="754"/>
                  </a:lnTo>
                  <a:lnTo>
                    <a:pt x="119" y="762"/>
                  </a:lnTo>
                  <a:lnTo>
                    <a:pt x="122" y="765"/>
                  </a:lnTo>
                  <a:lnTo>
                    <a:pt x="130" y="775"/>
                  </a:lnTo>
                  <a:lnTo>
                    <a:pt x="132" y="777"/>
                  </a:lnTo>
                  <a:lnTo>
                    <a:pt x="140" y="786"/>
                  </a:lnTo>
                  <a:lnTo>
                    <a:pt x="141" y="787"/>
                  </a:lnTo>
                  <a:lnTo>
                    <a:pt x="150" y="795"/>
                  </a:lnTo>
                  <a:lnTo>
                    <a:pt x="152" y="797"/>
                  </a:lnTo>
                  <a:lnTo>
                    <a:pt x="162" y="805"/>
                  </a:lnTo>
                  <a:lnTo>
                    <a:pt x="165" y="808"/>
                  </a:lnTo>
                  <a:lnTo>
                    <a:pt x="173" y="816"/>
                  </a:lnTo>
                  <a:lnTo>
                    <a:pt x="174" y="817"/>
                  </a:lnTo>
                  <a:lnTo>
                    <a:pt x="185" y="826"/>
                  </a:lnTo>
                  <a:lnTo>
                    <a:pt x="187" y="828"/>
                  </a:lnTo>
                  <a:lnTo>
                    <a:pt x="195" y="837"/>
                  </a:lnTo>
                  <a:lnTo>
                    <a:pt x="199" y="837"/>
                  </a:lnTo>
                  <a:lnTo>
                    <a:pt x="207" y="845"/>
                  </a:lnTo>
                  <a:lnTo>
                    <a:pt x="209" y="846"/>
                  </a:lnTo>
                  <a:lnTo>
                    <a:pt x="220" y="852"/>
                  </a:lnTo>
                  <a:lnTo>
                    <a:pt x="221" y="855"/>
                  </a:lnTo>
                  <a:lnTo>
                    <a:pt x="232" y="860"/>
                  </a:lnTo>
                  <a:lnTo>
                    <a:pt x="234" y="863"/>
                  </a:lnTo>
                  <a:lnTo>
                    <a:pt x="245" y="868"/>
                  </a:lnTo>
                  <a:lnTo>
                    <a:pt x="246" y="871"/>
                  </a:lnTo>
                  <a:lnTo>
                    <a:pt x="257" y="877"/>
                  </a:lnTo>
                  <a:lnTo>
                    <a:pt x="258" y="879"/>
                  </a:lnTo>
                  <a:lnTo>
                    <a:pt x="268" y="885"/>
                  </a:lnTo>
                  <a:lnTo>
                    <a:pt x="271" y="885"/>
                  </a:lnTo>
                  <a:lnTo>
                    <a:pt x="280" y="892"/>
                  </a:lnTo>
                  <a:lnTo>
                    <a:pt x="283" y="892"/>
                  </a:lnTo>
                  <a:lnTo>
                    <a:pt x="293" y="897"/>
                  </a:lnTo>
                  <a:lnTo>
                    <a:pt x="296" y="897"/>
                  </a:lnTo>
                  <a:lnTo>
                    <a:pt x="305" y="904"/>
                  </a:lnTo>
                  <a:lnTo>
                    <a:pt x="308" y="904"/>
                  </a:lnTo>
                  <a:lnTo>
                    <a:pt x="318" y="907"/>
                  </a:lnTo>
                  <a:lnTo>
                    <a:pt x="319" y="910"/>
                  </a:lnTo>
                  <a:lnTo>
                    <a:pt x="330" y="911"/>
                  </a:lnTo>
                  <a:lnTo>
                    <a:pt x="331" y="914"/>
                  </a:lnTo>
                  <a:lnTo>
                    <a:pt x="342" y="915"/>
                  </a:lnTo>
                  <a:lnTo>
                    <a:pt x="344" y="918"/>
                  </a:lnTo>
                  <a:lnTo>
                    <a:pt x="355" y="919"/>
                  </a:lnTo>
                  <a:lnTo>
                    <a:pt x="356" y="919"/>
                  </a:lnTo>
                  <a:lnTo>
                    <a:pt x="367" y="923"/>
                  </a:lnTo>
                  <a:lnTo>
                    <a:pt x="368" y="923"/>
                  </a:lnTo>
                  <a:lnTo>
                    <a:pt x="378" y="926"/>
                  </a:lnTo>
                  <a:lnTo>
                    <a:pt x="381" y="926"/>
                  </a:lnTo>
                  <a:lnTo>
                    <a:pt x="391" y="928"/>
                  </a:lnTo>
                  <a:lnTo>
                    <a:pt x="393" y="928"/>
                  </a:lnTo>
                  <a:lnTo>
                    <a:pt x="402" y="928"/>
                  </a:lnTo>
                  <a:lnTo>
                    <a:pt x="406" y="928"/>
                  </a:lnTo>
                  <a:lnTo>
                    <a:pt x="414" y="928"/>
                  </a:lnTo>
                  <a:lnTo>
                    <a:pt x="415" y="928"/>
                  </a:lnTo>
                  <a:lnTo>
                    <a:pt x="426" y="928"/>
                  </a:lnTo>
                  <a:lnTo>
                    <a:pt x="428" y="928"/>
                  </a:lnTo>
                  <a:lnTo>
                    <a:pt x="436" y="928"/>
                  </a:lnTo>
                  <a:lnTo>
                    <a:pt x="437" y="928"/>
                  </a:lnTo>
                  <a:lnTo>
                    <a:pt x="448" y="926"/>
                  </a:lnTo>
                  <a:lnTo>
                    <a:pt x="450" y="926"/>
                  </a:lnTo>
                  <a:lnTo>
                    <a:pt x="458" y="923"/>
                  </a:lnTo>
                  <a:lnTo>
                    <a:pt x="461" y="922"/>
                  </a:lnTo>
                  <a:lnTo>
                    <a:pt x="469" y="919"/>
                  </a:lnTo>
                  <a:lnTo>
                    <a:pt x="470" y="919"/>
                  </a:lnTo>
                  <a:lnTo>
                    <a:pt x="479" y="915"/>
                  </a:lnTo>
                  <a:lnTo>
                    <a:pt x="481" y="915"/>
                  </a:lnTo>
                  <a:lnTo>
                    <a:pt x="490" y="911"/>
                  </a:lnTo>
                  <a:lnTo>
                    <a:pt x="491" y="910"/>
                  </a:lnTo>
                  <a:lnTo>
                    <a:pt x="497" y="905"/>
                  </a:lnTo>
                  <a:lnTo>
                    <a:pt x="499" y="905"/>
                  </a:lnTo>
                  <a:lnTo>
                    <a:pt x="508" y="900"/>
                  </a:lnTo>
                  <a:lnTo>
                    <a:pt x="516" y="893"/>
                  </a:lnTo>
                  <a:lnTo>
                    <a:pt x="517" y="892"/>
                  </a:lnTo>
                  <a:lnTo>
                    <a:pt x="525" y="885"/>
                  </a:lnTo>
                  <a:lnTo>
                    <a:pt x="528" y="883"/>
                  </a:lnTo>
                  <a:lnTo>
                    <a:pt x="536" y="877"/>
                  </a:lnTo>
                  <a:lnTo>
                    <a:pt x="538" y="875"/>
                  </a:lnTo>
                  <a:lnTo>
                    <a:pt x="545" y="867"/>
                  </a:lnTo>
                  <a:lnTo>
                    <a:pt x="546" y="864"/>
                  </a:lnTo>
                  <a:lnTo>
                    <a:pt x="554" y="859"/>
                  </a:lnTo>
                  <a:lnTo>
                    <a:pt x="556" y="856"/>
                  </a:lnTo>
                  <a:lnTo>
                    <a:pt x="564" y="848"/>
                  </a:lnTo>
                  <a:lnTo>
                    <a:pt x="567" y="846"/>
                  </a:lnTo>
                  <a:lnTo>
                    <a:pt x="575" y="837"/>
                  </a:lnTo>
                  <a:lnTo>
                    <a:pt x="576" y="834"/>
                  </a:lnTo>
                  <a:lnTo>
                    <a:pt x="585" y="826"/>
                  </a:lnTo>
                  <a:lnTo>
                    <a:pt x="587" y="824"/>
                  </a:lnTo>
                  <a:lnTo>
                    <a:pt x="596" y="813"/>
                  </a:lnTo>
                  <a:lnTo>
                    <a:pt x="597" y="812"/>
                  </a:lnTo>
                  <a:lnTo>
                    <a:pt x="605" y="801"/>
                  </a:lnTo>
                  <a:lnTo>
                    <a:pt x="607" y="799"/>
                  </a:lnTo>
                  <a:lnTo>
                    <a:pt x="615" y="788"/>
                  </a:lnTo>
                  <a:lnTo>
                    <a:pt x="618" y="787"/>
                  </a:lnTo>
                  <a:lnTo>
                    <a:pt x="626" y="777"/>
                  </a:lnTo>
                  <a:lnTo>
                    <a:pt x="627" y="773"/>
                  </a:lnTo>
                  <a:lnTo>
                    <a:pt x="636" y="762"/>
                  </a:lnTo>
                  <a:lnTo>
                    <a:pt x="638" y="761"/>
                  </a:lnTo>
                  <a:lnTo>
                    <a:pt x="647" y="749"/>
                  </a:lnTo>
                  <a:lnTo>
                    <a:pt x="648" y="746"/>
                  </a:lnTo>
                  <a:lnTo>
                    <a:pt x="656" y="733"/>
                  </a:lnTo>
                  <a:lnTo>
                    <a:pt x="659" y="732"/>
                  </a:lnTo>
                  <a:lnTo>
                    <a:pt x="666" y="720"/>
                  </a:lnTo>
                  <a:lnTo>
                    <a:pt x="669" y="718"/>
                  </a:lnTo>
                  <a:lnTo>
                    <a:pt x="678" y="706"/>
                  </a:lnTo>
                  <a:lnTo>
                    <a:pt x="681" y="703"/>
                  </a:lnTo>
                  <a:lnTo>
                    <a:pt x="689" y="691"/>
                  </a:lnTo>
                  <a:lnTo>
                    <a:pt x="691" y="687"/>
                  </a:lnTo>
                  <a:lnTo>
                    <a:pt x="699" y="674"/>
                  </a:lnTo>
                  <a:lnTo>
                    <a:pt x="702" y="670"/>
                  </a:lnTo>
                  <a:lnTo>
                    <a:pt x="710" y="659"/>
                  </a:lnTo>
                  <a:lnTo>
                    <a:pt x="711" y="656"/>
                  </a:lnTo>
                  <a:lnTo>
                    <a:pt x="720" y="644"/>
                  </a:lnTo>
                  <a:lnTo>
                    <a:pt x="722" y="640"/>
                  </a:lnTo>
                  <a:lnTo>
                    <a:pt x="729" y="627"/>
                  </a:lnTo>
                  <a:lnTo>
                    <a:pt x="732" y="623"/>
                  </a:lnTo>
                  <a:lnTo>
                    <a:pt x="740" y="612"/>
                  </a:lnTo>
                  <a:lnTo>
                    <a:pt x="742" y="608"/>
                  </a:lnTo>
                  <a:lnTo>
                    <a:pt x="750" y="593"/>
                  </a:lnTo>
                  <a:lnTo>
                    <a:pt x="753" y="592"/>
                  </a:lnTo>
                  <a:lnTo>
                    <a:pt x="758" y="576"/>
                  </a:lnTo>
                  <a:lnTo>
                    <a:pt x="761" y="575"/>
                  </a:lnTo>
                  <a:lnTo>
                    <a:pt x="769" y="560"/>
                  </a:lnTo>
                  <a:lnTo>
                    <a:pt x="771" y="556"/>
                  </a:lnTo>
                  <a:lnTo>
                    <a:pt x="779" y="545"/>
                  </a:lnTo>
                  <a:lnTo>
                    <a:pt x="782" y="541"/>
                  </a:lnTo>
                  <a:lnTo>
                    <a:pt x="787" y="525"/>
                  </a:lnTo>
                  <a:lnTo>
                    <a:pt x="788" y="524"/>
                  </a:lnTo>
                  <a:lnTo>
                    <a:pt x="797" y="509"/>
                  </a:lnTo>
                  <a:lnTo>
                    <a:pt x="799" y="505"/>
                  </a:lnTo>
                  <a:lnTo>
                    <a:pt x="805" y="494"/>
                  </a:lnTo>
                  <a:lnTo>
                    <a:pt x="808" y="490"/>
                  </a:lnTo>
                  <a:lnTo>
                    <a:pt x="816" y="475"/>
                  </a:lnTo>
                  <a:lnTo>
                    <a:pt x="816" y="473"/>
                  </a:lnTo>
                  <a:lnTo>
                    <a:pt x="824" y="458"/>
                  </a:lnTo>
                  <a:lnTo>
                    <a:pt x="826" y="454"/>
                  </a:lnTo>
                  <a:lnTo>
                    <a:pt x="832" y="440"/>
                  </a:lnTo>
                  <a:lnTo>
                    <a:pt x="834" y="437"/>
                  </a:lnTo>
                  <a:lnTo>
                    <a:pt x="841" y="424"/>
                  </a:lnTo>
                  <a:lnTo>
                    <a:pt x="842" y="419"/>
                  </a:lnTo>
                  <a:lnTo>
                    <a:pt x="848" y="407"/>
                  </a:lnTo>
                  <a:lnTo>
                    <a:pt x="848" y="403"/>
                  </a:lnTo>
                  <a:lnTo>
                    <a:pt x="855" y="389"/>
                  </a:lnTo>
                  <a:lnTo>
                    <a:pt x="856" y="386"/>
                  </a:lnTo>
                  <a:lnTo>
                    <a:pt x="863" y="373"/>
                  </a:lnTo>
                  <a:lnTo>
                    <a:pt x="863" y="368"/>
                  </a:lnTo>
                  <a:lnTo>
                    <a:pt x="868" y="356"/>
                  </a:lnTo>
                  <a:lnTo>
                    <a:pt x="871" y="352"/>
                  </a:lnTo>
                  <a:lnTo>
                    <a:pt x="875" y="340"/>
                  </a:lnTo>
                  <a:lnTo>
                    <a:pt x="877" y="335"/>
                  </a:lnTo>
                  <a:lnTo>
                    <a:pt x="883" y="322"/>
                  </a:lnTo>
                  <a:lnTo>
                    <a:pt x="883" y="320"/>
                  </a:lnTo>
                  <a:lnTo>
                    <a:pt x="888" y="305"/>
                  </a:lnTo>
                  <a:lnTo>
                    <a:pt x="889" y="304"/>
                  </a:lnTo>
                  <a:lnTo>
                    <a:pt x="893" y="291"/>
                  </a:lnTo>
                  <a:lnTo>
                    <a:pt x="896" y="287"/>
                  </a:lnTo>
                  <a:lnTo>
                    <a:pt x="900" y="275"/>
                  </a:lnTo>
                  <a:lnTo>
                    <a:pt x="900" y="271"/>
                  </a:lnTo>
                  <a:lnTo>
                    <a:pt x="903" y="258"/>
                  </a:lnTo>
                  <a:lnTo>
                    <a:pt x="905" y="257"/>
                  </a:lnTo>
                  <a:lnTo>
                    <a:pt x="907" y="245"/>
                  </a:lnTo>
                  <a:lnTo>
                    <a:pt x="910" y="240"/>
                  </a:lnTo>
                  <a:lnTo>
                    <a:pt x="911" y="228"/>
                  </a:lnTo>
                  <a:lnTo>
                    <a:pt x="914" y="225"/>
                  </a:lnTo>
                  <a:lnTo>
                    <a:pt x="915" y="213"/>
                  </a:lnTo>
                  <a:lnTo>
                    <a:pt x="915" y="209"/>
                  </a:lnTo>
                  <a:lnTo>
                    <a:pt x="919" y="199"/>
                  </a:lnTo>
                  <a:lnTo>
                    <a:pt x="919" y="195"/>
                  </a:lnTo>
                  <a:lnTo>
                    <a:pt x="922" y="185"/>
                  </a:lnTo>
                  <a:lnTo>
                    <a:pt x="922" y="181"/>
                  </a:lnTo>
                  <a:lnTo>
                    <a:pt x="923" y="170"/>
                  </a:lnTo>
                  <a:lnTo>
                    <a:pt x="923" y="169"/>
                  </a:lnTo>
                  <a:lnTo>
                    <a:pt x="926" y="158"/>
                  </a:lnTo>
                  <a:lnTo>
                    <a:pt x="926" y="154"/>
                  </a:lnTo>
                  <a:lnTo>
                    <a:pt x="928" y="144"/>
                  </a:lnTo>
                  <a:lnTo>
                    <a:pt x="928" y="143"/>
                  </a:lnTo>
                  <a:lnTo>
                    <a:pt x="928" y="132"/>
                  </a:lnTo>
                  <a:lnTo>
                    <a:pt x="928" y="130"/>
                  </a:lnTo>
                  <a:lnTo>
                    <a:pt x="928" y="119"/>
                  </a:lnTo>
                  <a:lnTo>
                    <a:pt x="928" y="118"/>
                  </a:lnTo>
                  <a:lnTo>
                    <a:pt x="928" y="107"/>
                  </a:lnTo>
                  <a:lnTo>
                    <a:pt x="928" y="106"/>
                  </a:lnTo>
                  <a:lnTo>
                    <a:pt x="928" y="97"/>
                  </a:lnTo>
                  <a:lnTo>
                    <a:pt x="928" y="95"/>
                  </a:lnTo>
                  <a:lnTo>
                    <a:pt x="926" y="86"/>
                  </a:lnTo>
                  <a:lnTo>
                    <a:pt x="926" y="85"/>
                  </a:lnTo>
                  <a:lnTo>
                    <a:pt x="923" y="77"/>
                  </a:lnTo>
                  <a:lnTo>
                    <a:pt x="923" y="75"/>
                  </a:lnTo>
                  <a:lnTo>
                    <a:pt x="922" y="67"/>
                  </a:lnTo>
                  <a:lnTo>
                    <a:pt x="922" y="64"/>
                  </a:lnTo>
                  <a:lnTo>
                    <a:pt x="918" y="59"/>
                  </a:lnTo>
                  <a:lnTo>
                    <a:pt x="918" y="56"/>
                  </a:lnTo>
                  <a:lnTo>
                    <a:pt x="915" y="50"/>
                  </a:lnTo>
                  <a:lnTo>
                    <a:pt x="914" y="48"/>
                  </a:lnTo>
                  <a:lnTo>
                    <a:pt x="910" y="42"/>
                  </a:lnTo>
                  <a:lnTo>
                    <a:pt x="910" y="39"/>
                  </a:lnTo>
                  <a:lnTo>
                    <a:pt x="905" y="34"/>
                  </a:lnTo>
                  <a:lnTo>
                    <a:pt x="900" y="28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2" name="Freeform 9"/>
            <p:cNvSpPr/>
            <p:nvPr/>
          </p:nvSpPr>
          <p:spPr>
            <a:xfrm>
              <a:off x="6459480" y="3625920"/>
              <a:ext cx="803160" cy="121752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506" h="767">
                  <a:moveTo>
                    <a:pt x="253" y="766"/>
                  </a:moveTo>
                  <a:lnTo>
                    <a:pt x="253" y="766"/>
                  </a:lnTo>
                  <a:lnTo>
                    <a:pt x="247" y="766"/>
                  </a:lnTo>
                  <a:lnTo>
                    <a:pt x="245" y="766"/>
                  </a:lnTo>
                  <a:lnTo>
                    <a:pt x="241" y="764"/>
                  </a:lnTo>
                  <a:lnTo>
                    <a:pt x="240" y="764"/>
                  </a:lnTo>
                  <a:lnTo>
                    <a:pt x="234" y="763"/>
                  </a:lnTo>
                  <a:lnTo>
                    <a:pt x="233" y="763"/>
                  </a:lnTo>
                  <a:lnTo>
                    <a:pt x="228" y="760"/>
                  </a:lnTo>
                  <a:lnTo>
                    <a:pt x="227" y="760"/>
                  </a:lnTo>
                  <a:lnTo>
                    <a:pt x="221" y="757"/>
                  </a:lnTo>
                  <a:lnTo>
                    <a:pt x="216" y="754"/>
                  </a:lnTo>
                  <a:lnTo>
                    <a:pt x="214" y="753"/>
                  </a:lnTo>
                  <a:lnTo>
                    <a:pt x="210" y="750"/>
                  </a:lnTo>
                  <a:lnTo>
                    <a:pt x="208" y="749"/>
                  </a:lnTo>
                  <a:lnTo>
                    <a:pt x="203" y="746"/>
                  </a:lnTo>
                  <a:lnTo>
                    <a:pt x="201" y="745"/>
                  </a:lnTo>
                  <a:lnTo>
                    <a:pt x="197" y="741"/>
                  </a:lnTo>
                  <a:lnTo>
                    <a:pt x="196" y="739"/>
                  </a:lnTo>
                  <a:lnTo>
                    <a:pt x="191" y="735"/>
                  </a:lnTo>
                  <a:lnTo>
                    <a:pt x="190" y="734"/>
                  </a:lnTo>
                  <a:lnTo>
                    <a:pt x="184" y="728"/>
                  </a:lnTo>
                  <a:lnTo>
                    <a:pt x="183" y="728"/>
                  </a:lnTo>
                  <a:lnTo>
                    <a:pt x="179" y="723"/>
                  </a:lnTo>
                  <a:lnTo>
                    <a:pt x="177" y="721"/>
                  </a:lnTo>
                  <a:lnTo>
                    <a:pt x="173" y="716"/>
                  </a:lnTo>
                  <a:lnTo>
                    <a:pt x="172" y="713"/>
                  </a:lnTo>
                  <a:lnTo>
                    <a:pt x="166" y="707"/>
                  </a:lnTo>
                  <a:lnTo>
                    <a:pt x="166" y="706"/>
                  </a:lnTo>
                  <a:lnTo>
                    <a:pt x="160" y="699"/>
                  </a:lnTo>
                  <a:lnTo>
                    <a:pt x="159" y="698"/>
                  </a:lnTo>
                  <a:lnTo>
                    <a:pt x="155" y="691"/>
                  </a:lnTo>
                  <a:lnTo>
                    <a:pt x="153" y="689"/>
                  </a:lnTo>
                  <a:lnTo>
                    <a:pt x="149" y="682"/>
                  </a:lnTo>
                  <a:lnTo>
                    <a:pt x="147" y="680"/>
                  </a:lnTo>
                  <a:lnTo>
                    <a:pt x="143" y="673"/>
                  </a:lnTo>
                  <a:lnTo>
                    <a:pt x="142" y="671"/>
                  </a:lnTo>
                  <a:lnTo>
                    <a:pt x="137" y="663"/>
                  </a:lnTo>
                  <a:lnTo>
                    <a:pt x="136" y="662"/>
                  </a:lnTo>
                  <a:lnTo>
                    <a:pt x="132" y="653"/>
                  </a:lnTo>
                  <a:lnTo>
                    <a:pt x="130" y="652"/>
                  </a:lnTo>
                  <a:lnTo>
                    <a:pt x="126" y="644"/>
                  </a:lnTo>
                  <a:lnTo>
                    <a:pt x="125" y="641"/>
                  </a:lnTo>
                  <a:lnTo>
                    <a:pt x="120" y="632"/>
                  </a:lnTo>
                  <a:lnTo>
                    <a:pt x="119" y="630"/>
                  </a:lnTo>
                  <a:lnTo>
                    <a:pt x="115" y="621"/>
                  </a:lnTo>
                  <a:lnTo>
                    <a:pt x="113" y="619"/>
                  </a:lnTo>
                  <a:lnTo>
                    <a:pt x="109" y="610"/>
                  </a:lnTo>
                  <a:lnTo>
                    <a:pt x="108" y="608"/>
                  </a:lnTo>
                  <a:lnTo>
                    <a:pt x="103" y="599"/>
                  </a:lnTo>
                  <a:lnTo>
                    <a:pt x="103" y="596"/>
                  </a:lnTo>
                  <a:lnTo>
                    <a:pt x="99" y="587"/>
                  </a:lnTo>
                  <a:lnTo>
                    <a:pt x="98" y="584"/>
                  </a:lnTo>
                  <a:lnTo>
                    <a:pt x="93" y="576"/>
                  </a:lnTo>
                  <a:lnTo>
                    <a:pt x="92" y="573"/>
                  </a:lnTo>
                  <a:lnTo>
                    <a:pt x="88" y="563"/>
                  </a:lnTo>
                  <a:lnTo>
                    <a:pt x="88" y="560"/>
                  </a:lnTo>
                  <a:lnTo>
                    <a:pt x="84" y="551"/>
                  </a:lnTo>
                  <a:lnTo>
                    <a:pt x="82" y="548"/>
                  </a:lnTo>
                  <a:lnTo>
                    <a:pt x="79" y="538"/>
                  </a:lnTo>
                  <a:lnTo>
                    <a:pt x="78" y="535"/>
                  </a:lnTo>
                  <a:lnTo>
                    <a:pt x="74" y="526"/>
                  </a:lnTo>
                  <a:lnTo>
                    <a:pt x="74" y="523"/>
                  </a:lnTo>
                  <a:lnTo>
                    <a:pt x="69" y="512"/>
                  </a:lnTo>
                  <a:lnTo>
                    <a:pt x="68" y="510"/>
                  </a:lnTo>
                  <a:lnTo>
                    <a:pt x="65" y="499"/>
                  </a:lnTo>
                  <a:lnTo>
                    <a:pt x="64" y="497"/>
                  </a:lnTo>
                  <a:lnTo>
                    <a:pt x="61" y="487"/>
                  </a:lnTo>
                  <a:lnTo>
                    <a:pt x="59" y="484"/>
                  </a:lnTo>
                  <a:lnTo>
                    <a:pt x="57" y="473"/>
                  </a:lnTo>
                  <a:lnTo>
                    <a:pt x="55" y="470"/>
                  </a:lnTo>
                  <a:lnTo>
                    <a:pt x="52" y="461"/>
                  </a:lnTo>
                  <a:lnTo>
                    <a:pt x="51" y="458"/>
                  </a:lnTo>
                  <a:lnTo>
                    <a:pt x="48" y="447"/>
                  </a:lnTo>
                  <a:lnTo>
                    <a:pt x="47" y="444"/>
                  </a:lnTo>
                  <a:lnTo>
                    <a:pt x="44" y="433"/>
                  </a:lnTo>
                  <a:lnTo>
                    <a:pt x="44" y="430"/>
                  </a:lnTo>
                  <a:lnTo>
                    <a:pt x="41" y="420"/>
                  </a:lnTo>
                  <a:lnTo>
                    <a:pt x="40" y="418"/>
                  </a:lnTo>
                  <a:lnTo>
                    <a:pt x="37" y="407"/>
                  </a:lnTo>
                  <a:lnTo>
                    <a:pt x="37" y="404"/>
                  </a:lnTo>
                  <a:lnTo>
                    <a:pt x="34" y="393"/>
                  </a:lnTo>
                  <a:lnTo>
                    <a:pt x="32" y="390"/>
                  </a:lnTo>
                  <a:lnTo>
                    <a:pt x="30" y="380"/>
                  </a:lnTo>
                  <a:lnTo>
                    <a:pt x="30" y="377"/>
                  </a:lnTo>
                  <a:lnTo>
                    <a:pt x="27" y="366"/>
                  </a:lnTo>
                  <a:lnTo>
                    <a:pt x="27" y="364"/>
                  </a:lnTo>
                  <a:lnTo>
                    <a:pt x="24" y="354"/>
                  </a:lnTo>
                  <a:lnTo>
                    <a:pt x="24" y="351"/>
                  </a:lnTo>
                  <a:lnTo>
                    <a:pt x="21" y="340"/>
                  </a:lnTo>
                  <a:lnTo>
                    <a:pt x="21" y="337"/>
                  </a:lnTo>
                  <a:lnTo>
                    <a:pt x="18" y="328"/>
                  </a:lnTo>
                  <a:lnTo>
                    <a:pt x="18" y="325"/>
                  </a:lnTo>
                  <a:lnTo>
                    <a:pt x="15" y="314"/>
                  </a:lnTo>
                  <a:lnTo>
                    <a:pt x="15" y="312"/>
                  </a:lnTo>
                  <a:lnTo>
                    <a:pt x="14" y="301"/>
                  </a:lnTo>
                  <a:lnTo>
                    <a:pt x="13" y="298"/>
                  </a:lnTo>
                  <a:lnTo>
                    <a:pt x="11" y="289"/>
                  </a:lnTo>
                  <a:lnTo>
                    <a:pt x="11" y="286"/>
                  </a:lnTo>
                  <a:lnTo>
                    <a:pt x="10" y="276"/>
                  </a:lnTo>
                  <a:lnTo>
                    <a:pt x="8" y="273"/>
                  </a:lnTo>
                  <a:lnTo>
                    <a:pt x="7" y="264"/>
                  </a:lnTo>
                  <a:lnTo>
                    <a:pt x="7" y="261"/>
                  </a:lnTo>
                  <a:lnTo>
                    <a:pt x="5" y="251"/>
                  </a:lnTo>
                  <a:lnTo>
                    <a:pt x="5" y="250"/>
                  </a:lnTo>
                  <a:lnTo>
                    <a:pt x="4" y="240"/>
                  </a:lnTo>
                  <a:lnTo>
                    <a:pt x="4" y="237"/>
                  </a:lnTo>
                  <a:lnTo>
                    <a:pt x="3" y="229"/>
                  </a:lnTo>
                  <a:lnTo>
                    <a:pt x="3" y="226"/>
                  </a:lnTo>
                  <a:lnTo>
                    <a:pt x="3" y="217"/>
                  </a:lnTo>
                  <a:lnTo>
                    <a:pt x="3" y="215"/>
                  </a:lnTo>
                  <a:lnTo>
                    <a:pt x="1" y="206"/>
                  </a:lnTo>
                  <a:lnTo>
                    <a:pt x="1" y="204"/>
                  </a:lnTo>
                  <a:lnTo>
                    <a:pt x="1" y="196"/>
                  </a:lnTo>
                  <a:lnTo>
                    <a:pt x="1" y="193"/>
                  </a:lnTo>
                  <a:lnTo>
                    <a:pt x="1" y="185"/>
                  </a:lnTo>
                  <a:lnTo>
                    <a:pt x="0" y="182"/>
                  </a:lnTo>
                  <a:lnTo>
                    <a:pt x="0" y="175"/>
                  </a:lnTo>
                  <a:lnTo>
                    <a:pt x="0" y="172"/>
                  </a:lnTo>
                  <a:lnTo>
                    <a:pt x="0" y="165"/>
                  </a:lnTo>
                  <a:lnTo>
                    <a:pt x="0" y="163"/>
                  </a:lnTo>
                  <a:lnTo>
                    <a:pt x="1" y="156"/>
                  </a:lnTo>
                  <a:lnTo>
                    <a:pt x="1" y="153"/>
                  </a:lnTo>
                  <a:lnTo>
                    <a:pt x="1" y="146"/>
                  </a:lnTo>
                  <a:lnTo>
                    <a:pt x="1" y="145"/>
                  </a:lnTo>
                  <a:lnTo>
                    <a:pt x="1" y="138"/>
                  </a:lnTo>
                  <a:lnTo>
                    <a:pt x="3" y="136"/>
                  </a:lnTo>
                  <a:lnTo>
                    <a:pt x="3" y="129"/>
                  </a:lnTo>
                  <a:lnTo>
                    <a:pt x="3" y="128"/>
                  </a:lnTo>
                  <a:lnTo>
                    <a:pt x="4" y="121"/>
                  </a:lnTo>
                  <a:lnTo>
                    <a:pt x="4" y="120"/>
                  </a:lnTo>
                  <a:lnTo>
                    <a:pt x="7" y="114"/>
                  </a:lnTo>
                  <a:lnTo>
                    <a:pt x="7" y="113"/>
                  </a:lnTo>
                  <a:lnTo>
                    <a:pt x="8" y="106"/>
                  </a:lnTo>
                  <a:lnTo>
                    <a:pt x="10" y="104"/>
                  </a:lnTo>
                  <a:lnTo>
                    <a:pt x="13" y="99"/>
                  </a:lnTo>
                  <a:lnTo>
                    <a:pt x="13" y="97"/>
                  </a:lnTo>
                  <a:lnTo>
                    <a:pt x="15" y="92"/>
                  </a:lnTo>
                  <a:lnTo>
                    <a:pt x="17" y="91"/>
                  </a:lnTo>
                  <a:lnTo>
                    <a:pt x="20" y="85"/>
                  </a:lnTo>
                  <a:lnTo>
                    <a:pt x="21" y="84"/>
                  </a:lnTo>
                  <a:lnTo>
                    <a:pt x="24" y="79"/>
                  </a:lnTo>
                  <a:lnTo>
                    <a:pt x="25" y="78"/>
                  </a:lnTo>
                  <a:lnTo>
                    <a:pt x="30" y="73"/>
                  </a:lnTo>
                  <a:lnTo>
                    <a:pt x="31" y="71"/>
                  </a:lnTo>
                  <a:lnTo>
                    <a:pt x="35" y="67"/>
                  </a:lnTo>
                  <a:lnTo>
                    <a:pt x="37" y="66"/>
                  </a:lnTo>
                  <a:lnTo>
                    <a:pt x="41" y="61"/>
                  </a:lnTo>
                  <a:lnTo>
                    <a:pt x="42" y="60"/>
                  </a:lnTo>
                  <a:lnTo>
                    <a:pt x="48" y="56"/>
                  </a:lnTo>
                  <a:lnTo>
                    <a:pt x="49" y="55"/>
                  </a:lnTo>
                  <a:lnTo>
                    <a:pt x="55" y="50"/>
                  </a:lnTo>
                  <a:lnTo>
                    <a:pt x="57" y="49"/>
                  </a:lnTo>
                  <a:lnTo>
                    <a:pt x="62" y="46"/>
                  </a:lnTo>
                  <a:lnTo>
                    <a:pt x="64" y="45"/>
                  </a:lnTo>
                  <a:lnTo>
                    <a:pt x="71" y="41"/>
                  </a:lnTo>
                  <a:lnTo>
                    <a:pt x="72" y="41"/>
                  </a:lnTo>
                  <a:lnTo>
                    <a:pt x="78" y="36"/>
                  </a:lnTo>
                  <a:lnTo>
                    <a:pt x="79" y="35"/>
                  </a:lnTo>
                  <a:lnTo>
                    <a:pt x="86" y="32"/>
                  </a:lnTo>
                  <a:lnTo>
                    <a:pt x="88" y="31"/>
                  </a:lnTo>
                  <a:lnTo>
                    <a:pt x="95" y="28"/>
                  </a:lnTo>
                  <a:lnTo>
                    <a:pt x="98" y="28"/>
                  </a:lnTo>
                  <a:lnTo>
                    <a:pt x="105" y="25"/>
                  </a:lnTo>
                  <a:lnTo>
                    <a:pt x="106" y="24"/>
                  </a:lnTo>
                  <a:lnTo>
                    <a:pt x="113" y="21"/>
                  </a:lnTo>
                  <a:lnTo>
                    <a:pt x="116" y="21"/>
                  </a:lnTo>
                  <a:lnTo>
                    <a:pt x="123" y="18"/>
                  </a:lnTo>
                  <a:lnTo>
                    <a:pt x="125" y="17"/>
                  </a:lnTo>
                  <a:lnTo>
                    <a:pt x="133" y="16"/>
                  </a:lnTo>
                  <a:lnTo>
                    <a:pt x="135" y="14"/>
                  </a:lnTo>
                  <a:lnTo>
                    <a:pt x="143" y="13"/>
                  </a:lnTo>
                  <a:lnTo>
                    <a:pt x="146" y="12"/>
                  </a:lnTo>
                  <a:lnTo>
                    <a:pt x="153" y="10"/>
                  </a:lnTo>
                  <a:lnTo>
                    <a:pt x="156" y="10"/>
                  </a:lnTo>
                  <a:lnTo>
                    <a:pt x="164" y="9"/>
                  </a:lnTo>
                  <a:lnTo>
                    <a:pt x="166" y="7"/>
                  </a:lnTo>
                  <a:lnTo>
                    <a:pt x="174" y="6"/>
                  </a:lnTo>
                  <a:lnTo>
                    <a:pt x="177" y="6"/>
                  </a:lnTo>
                  <a:lnTo>
                    <a:pt x="186" y="5"/>
                  </a:lnTo>
                  <a:lnTo>
                    <a:pt x="187" y="5"/>
                  </a:lnTo>
                  <a:lnTo>
                    <a:pt x="196" y="3"/>
                  </a:lnTo>
                  <a:lnTo>
                    <a:pt x="199" y="3"/>
                  </a:lnTo>
                  <a:lnTo>
                    <a:pt x="207" y="2"/>
                  </a:lnTo>
                  <a:lnTo>
                    <a:pt x="210" y="2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40" y="0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54" y="0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95" y="2"/>
                  </a:lnTo>
                  <a:lnTo>
                    <a:pt x="298" y="2"/>
                  </a:lnTo>
                  <a:lnTo>
                    <a:pt x="306" y="3"/>
                  </a:lnTo>
                  <a:lnTo>
                    <a:pt x="309" y="3"/>
                  </a:lnTo>
                  <a:lnTo>
                    <a:pt x="318" y="5"/>
                  </a:lnTo>
                  <a:lnTo>
                    <a:pt x="319" y="5"/>
                  </a:lnTo>
                  <a:lnTo>
                    <a:pt x="328" y="6"/>
                  </a:lnTo>
                  <a:lnTo>
                    <a:pt x="331" y="6"/>
                  </a:lnTo>
                  <a:lnTo>
                    <a:pt x="339" y="7"/>
                  </a:lnTo>
                  <a:lnTo>
                    <a:pt x="341" y="9"/>
                  </a:lnTo>
                  <a:lnTo>
                    <a:pt x="349" y="10"/>
                  </a:lnTo>
                  <a:lnTo>
                    <a:pt x="352" y="10"/>
                  </a:lnTo>
                  <a:lnTo>
                    <a:pt x="359" y="12"/>
                  </a:lnTo>
                  <a:lnTo>
                    <a:pt x="362" y="13"/>
                  </a:lnTo>
                  <a:lnTo>
                    <a:pt x="370" y="14"/>
                  </a:lnTo>
                  <a:lnTo>
                    <a:pt x="372" y="16"/>
                  </a:lnTo>
                  <a:lnTo>
                    <a:pt x="380" y="17"/>
                  </a:lnTo>
                  <a:lnTo>
                    <a:pt x="382" y="18"/>
                  </a:lnTo>
                  <a:lnTo>
                    <a:pt x="389" y="21"/>
                  </a:lnTo>
                  <a:lnTo>
                    <a:pt x="392" y="21"/>
                  </a:lnTo>
                  <a:lnTo>
                    <a:pt x="399" y="24"/>
                  </a:lnTo>
                  <a:lnTo>
                    <a:pt x="400" y="25"/>
                  </a:lnTo>
                  <a:lnTo>
                    <a:pt x="407" y="28"/>
                  </a:lnTo>
                  <a:lnTo>
                    <a:pt x="410" y="28"/>
                  </a:lnTo>
                  <a:lnTo>
                    <a:pt x="417" y="31"/>
                  </a:lnTo>
                  <a:lnTo>
                    <a:pt x="419" y="32"/>
                  </a:lnTo>
                  <a:lnTo>
                    <a:pt x="426" y="35"/>
                  </a:lnTo>
                  <a:lnTo>
                    <a:pt x="427" y="36"/>
                  </a:lnTo>
                  <a:lnTo>
                    <a:pt x="433" y="41"/>
                  </a:lnTo>
                  <a:lnTo>
                    <a:pt x="434" y="41"/>
                  </a:lnTo>
                  <a:lnTo>
                    <a:pt x="441" y="45"/>
                  </a:lnTo>
                  <a:lnTo>
                    <a:pt x="443" y="46"/>
                  </a:lnTo>
                  <a:lnTo>
                    <a:pt x="448" y="49"/>
                  </a:lnTo>
                  <a:lnTo>
                    <a:pt x="450" y="50"/>
                  </a:lnTo>
                  <a:lnTo>
                    <a:pt x="456" y="55"/>
                  </a:lnTo>
                  <a:lnTo>
                    <a:pt x="457" y="56"/>
                  </a:lnTo>
                  <a:lnTo>
                    <a:pt x="463" y="60"/>
                  </a:lnTo>
                  <a:lnTo>
                    <a:pt x="464" y="61"/>
                  </a:lnTo>
                  <a:lnTo>
                    <a:pt x="468" y="66"/>
                  </a:lnTo>
                  <a:lnTo>
                    <a:pt x="470" y="67"/>
                  </a:lnTo>
                  <a:lnTo>
                    <a:pt x="474" y="71"/>
                  </a:lnTo>
                  <a:lnTo>
                    <a:pt x="475" y="73"/>
                  </a:lnTo>
                  <a:lnTo>
                    <a:pt x="480" y="78"/>
                  </a:lnTo>
                  <a:lnTo>
                    <a:pt x="481" y="79"/>
                  </a:lnTo>
                  <a:lnTo>
                    <a:pt x="484" y="84"/>
                  </a:lnTo>
                  <a:lnTo>
                    <a:pt x="485" y="85"/>
                  </a:lnTo>
                  <a:lnTo>
                    <a:pt x="488" y="91"/>
                  </a:lnTo>
                  <a:lnTo>
                    <a:pt x="490" y="92"/>
                  </a:lnTo>
                  <a:lnTo>
                    <a:pt x="492" y="97"/>
                  </a:lnTo>
                  <a:lnTo>
                    <a:pt x="492" y="99"/>
                  </a:lnTo>
                  <a:lnTo>
                    <a:pt x="495" y="104"/>
                  </a:lnTo>
                  <a:lnTo>
                    <a:pt x="497" y="106"/>
                  </a:lnTo>
                  <a:lnTo>
                    <a:pt x="498" y="113"/>
                  </a:lnTo>
                  <a:lnTo>
                    <a:pt x="498" y="114"/>
                  </a:lnTo>
                  <a:lnTo>
                    <a:pt x="501" y="120"/>
                  </a:lnTo>
                  <a:lnTo>
                    <a:pt x="501" y="121"/>
                  </a:lnTo>
                  <a:lnTo>
                    <a:pt x="502" y="128"/>
                  </a:lnTo>
                  <a:lnTo>
                    <a:pt x="502" y="136"/>
                  </a:lnTo>
                  <a:lnTo>
                    <a:pt x="504" y="138"/>
                  </a:lnTo>
                  <a:lnTo>
                    <a:pt x="504" y="145"/>
                  </a:lnTo>
                  <a:lnTo>
                    <a:pt x="504" y="146"/>
                  </a:lnTo>
                  <a:lnTo>
                    <a:pt x="504" y="153"/>
                  </a:lnTo>
                  <a:lnTo>
                    <a:pt x="504" y="156"/>
                  </a:lnTo>
                  <a:lnTo>
                    <a:pt x="505" y="163"/>
                  </a:lnTo>
                  <a:lnTo>
                    <a:pt x="505" y="165"/>
                  </a:lnTo>
                  <a:lnTo>
                    <a:pt x="505" y="172"/>
                  </a:lnTo>
                  <a:lnTo>
                    <a:pt x="505" y="175"/>
                  </a:lnTo>
                  <a:lnTo>
                    <a:pt x="505" y="182"/>
                  </a:lnTo>
                  <a:lnTo>
                    <a:pt x="504" y="185"/>
                  </a:lnTo>
                  <a:lnTo>
                    <a:pt x="504" y="193"/>
                  </a:lnTo>
                  <a:lnTo>
                    <a:pt x="504" y="196"/>
                  </a:lnTo>
                  <a:lnTo>
                    <a:pt x="504" y="204"/>
                  </a:lnTo>
                  <a:lnTo>
                    <a:pt x="504" y="206"/>
                  </a:lnTo>
                  <a:lnTo>
                    <a:pt x="502" y="215"/>
                  </a:lnTo>
                  <a:lnTo>
                    <a:pt x="502" y="217"/>
                  </a:lnTo>
                  <a:lnTo>
                    <a:pt x="502" y="226"/>
                  </a:lnTo>
                  <a:lnTo>
                    <a:pt x="502" y="229"/>
                  </a:lnTo>
                  <a:lnTo>
                    <a:pt x="501" y="237"/>
                  </a:lnTo>
                  <a:lnTo>
                    <a:pt x="501" y="240"/>
                  </a:lnTo>
                  <a:lnTo>
                    <a:pt x="500" y="250"/>
                  </a:lnTo>
                  <a:lnTo>
                    <a:pt x="500" y="251"/>
                  </a:lnTo>
                  <a:lnTo>
                    <a:pt x="498" y="261"/>
                  </a:lnTo>
                  <a:lnTo>
                    <a:pt x="498" y="264"/>
                  </a:lnTo>
                  <a:lnTo>
                    <a:pt x="497" y="273"/>
                  </a:lnTo>
                  <a:lnTo>
                    <a:pt x="495" y="276"/>
                  </a:lnTo>
                  <a:lnTo>
                    <a:pt x="494" y="286"/>
                  </a:lnTo>
                  <a:lnTo>
                    <a:pt x="494" y="289"/>
                  </a:lnTo>
                  <a:lnTo>
                    <a:pt x="492" y="298"/>
                  </a:lnTo>
                  <a:lnTo>
                    <a:pt x="491" y="301"/>
                  </a:lnTo>
                  <a:lnTo>
                    <a:pt x="490" y="312"/>
                  </a:lnTo>
                  <a:lnTo>
                    <a:pt x="490" y="314"/>
                  </a:lnTo>
                  <a:lnTo>
                    <a:pt x="487" y="325"/>
                  </a:lnTo>
                  <a:lnTo>
                    <a:pt x="487" y="328"/>
                  </a:lnTo>
                  <a:lnTo>
                    <a:pt x="484" y="337"/>
                  </a:lnTo>
                  <a:lnTo>
                    <a:pt x="484" y="340"/>
                  </a:lnTo>
                  <a:lnTo>
                    <a:pt x="481" y="351"/>
                  </a:lnTo>
                  <a:lnTo>
                    <a:pt x="481" y="354"/>
                  </a:lnTo>
                  <a:lnTo>
                    <a:pt x="478" y="364"/>
                  </a:lnTo>
                  <a:lnTo>
                    <a:pt x="478" y="366"/>
                  </a:lnTo>
                  <a:lnTo>
                    <a:pt x="475" y="377"/>
                  </a:lnTo>
                  <a:lnTo>
                    <a:pt x="475" y="380"/>
                  </a:lnTo>
                  <a:lnTo>
                    <a:pt x="473" y="390"/>
                  </a:lnTo>
                  <a:lnTo>
                    <a:pt x="471" y="393"/>
                  </a:lnTo>
                  <a:lnTo>
                    <a:pt x="468" y="404"/>
                  </a:lnTo>
                  <a:lnTo>
                    <a:pt x="468" y="407"/>
                  </a:lnTo>
                  <a:lnTo>
                    <a:pt x="466" y="418"/>
                  </a:lnTo>
                  <a:lnTo>
                    <a:pt x="464" y="420"/>
                  </a:lnTo>
                  <a:lnTo>
                    <a:pt x="461" y="430"/>
                  </a:lnTo>
                  <a:lnTo>
                    <a:pt x="461" y="433"/>
                  </a:lnTo>
                  <a:lnTo>
                    <a:pt x="458" y="444"/>
                  </a:lnTo>
                  <a:lnTo>
                    <a:pt x="457" y="447"/>
                  </a:lnTo>
                  <a:lnTo>
                    <a:pt x="454" y="458"/>
                  </a:lnTo>
                  <a:lnTo>
                    <a:pt x="453" y="461"/>
                  </a:lnTo>
                  <a:lnTo>
                    <a:pt x="450" y="470"/>
                  </a:lnTo>
                  <a:lnTo>
                    <a:pt x="448" y="473"/>
                  </a:lnTo>
                  <a:lnTo>
                    <a:pt x="446" y="484"/>
                  </a:lnTo>
                  <a:lnTo>
                    <a:pt x="444" y="487"/>
                  </a:lnTo>
                  <a:lnTo>
                    <a:pt x="441" y="497"/>
                  </a:lnTo>
                  <a:lnTo>
                    <a:pt x="440" y="499"/>
                  </a:lnTo>
                  <a:lnTo>
                    <a:pt x="437" y="510"/>
                  </a:lnTo>
                  <a:lnTo>
                    <a:pt x="436" y="512"/>
                  </a:lnTo>
                  <a:lnTo>
                    <a:pt x="431" y="523"/>
                  </a:lnTo>
                  <a:lnTo>
                    <a:pt x="431" y="526"/>
                  </a:lnTo>
                  <a:lnTo>
                    <a:pt x="427" y="535"/>
                  </a:lnTo>
                  <a:lnTo>
                    <a:pt x="426" y="538"/>
                  </a:lnTo>
                  <a:lnTo>
                    <a:pt x="423" y="548"/>
                  </a:lnTo>
                  <a:lnTo>
                    <a:pt x="421" y="551"/>
                  </a:lnTo>
                  <a:lnTo>
                    <a:pt x="417" y="560"/>
                  </a:lnTo>
                  <a:lnTo>
                    <a:pt x="417" y="563"/>
                  </a:lnTo>
                  <a:lnTo>
                    <a:pt x="413" y="573"/>
                  </a:lnTo>
                  <a:lnTo>
                    <a:pt x="412" y="576"/>
                  </a:lnTo>
                  <a:lnTo>
                    <a:pt x="407" y="584"/>
                  </a:lnTo>
                  <a:lnTo>
                    <a:pt x="406" y="587"/>
                  </a:lnTo>
                  <a:lnTo>
                    <a:pt x="402" y="596"/>
                  </a:lnTo>
                  <a:lnTo>
                    <a:pt x="402" y="599"/>
                  </a:lnTo>
                  <a:lnTo>
                    <a:pt x="397" y="608"/>
                  </a:lnTo>
                  <a:lnTo>
                    <a:pt x="396" y="610"/>
                  </a:lnTo>
                  <a:lnTo>
                    <a:pt x="392" y="619"/>
                  </a:lnTo>
                  <a:lnTo>
                    <a:pt x="390" y="621"/>
                  </a:lnTo>
                  <a:lnTo>
                    <a:pt x="386" y="630"/>
                  </a:lnTo>
                  <a:lnTo>
                    <a:pt x="385" y="632"/>
                  </a:lnTo>
                  <a:lnTo>
                    <a:pt x="380" y="641"/>
                  </a:lnTo>
                  <a:lnTo>
                    <a:pt x="379" y="644"/>
                  </a:lnTo>
                  <a:lnTo>
                    <a:pt x="375" y="652"/>
                  </a:lnTo>
                  <a:lnTo>
                    <a:pt x="373" y="653"/>
                  </a:lnTo>
                  <a:lnTo>
                    <a:pt x="369" y="662"/>
                  </a:lnTo>
                  <a:lnTo>
                    <a:pt x="368" y="663"/>
                  </a:lnTo>
                  <a:lnTo>
                    <a:pt x="363" y="671"/>
                  </a:lnTo>
                  <a:lnTo>
                    <a:pt x="362" y="673"/>
                  </a:lnTo>
                  <a:lnTo>
                    <a:pt x="358" y="680"/>
                  </a:lnTo>
                  <a:lnTo>
                    <a:pt x="356" y="682"/>
                  </a:lnTo>
                  <a:lnTo>
                    <a:pt x="352" y="689"/>
                  </a:lnTo>
                  <a:lnTo>
                    <a:pt x="350" y="691"/>
                  </a:lnTo>
                  <a:lnTo>
                    <a:pt x="346" y="698"/>
                  </a:lnTo>
                  <a:lnTo>
                    <a:pt x="345" y="699"/>
                  </a:lnTo>
                  <a:lnTo>
                    <a:pt x="339" y="706"/>
                  </a:lnTo>
                  <a:lnTo>
                    <a:pt x="339" y="707"/>
                  </a:lnTo>
                  <a:lnTo>
                    <a:pt x="333" y="713"/>
                  </a:lnTo>
                  <a:lnTo>
                    <a:pt x="332" y="716"/>
                  </a:lnTo>
                  <a:lnTo>
                    <a:pt x="328" y="721"/>
                  </a:lnTo>
                  <a:lnTo>
                    <a:pt x="326" y="723"/>
                  </a:lnTo>
                  <a:lnTo>
                    <a:pt x="322" y="728"/>
                  </a:lnTo>
                  <a:lnTo>
                    <a:pt x="321" y="728"/>
                  </a:lnTo>
                  <a:lnTo>
                    <a:pt x="315" y="734"/>
                  </a:lnTo>
                  <a:lnTo>
                    <a:pt x="314" y="735"/>
                  </a:lnTo>
                  <a:lnTo>
                    <a:pt x="309" y="739"/>
                  </a:lnTo>
                  <a:lnTo>
                    <a:pt x="308" y="741"/>
                  </a:lnTo>
                  <a:lnTo>
                    <a:pt x="304" y="745"/>
                  </a:lnTo>
                  <a:lnTo>
                    <a:pt x="302" y="746"/>
                  </a:lnTo>
                  <a:lnTo>
                    <a:pt x="297" y="749"/>
                  </a:lnTo>
                  <a:lnTo>
                    <a:pt x="295" y="750"/>
                  </a:lnTo>
                  <a:lnTo>
                    <a:pt x="291" y="753"/>
                  </a:lnTo>
                  <a:lnTo>
                    <a:pt x="289" y="754"/>
                  </a:lnTo>
                  <a:lnTo>
                    <a:pt x="284" y="757"/>
                  </a:lnTo>
                  <a:lnTo>
                    <a:pt x="278" y="760"/>
                  </a:lnTo>
                  <a:lnTo>
                    <a:pt x="277" y="760"/>
                  </a:lnTo>
                  <a:lnTo>
                    <a:pt x="272" y="763"/>
                  </a:lnTo>
                  <a:lnTo>
                    <a:pt x="271" y="763"/>
                  </a:lnTo>
                  <a:lnTo>
                    <a:pt x="265" y="764"/>
                  </a:lnTo>
                  <a:lnTo>
                    <a:pt x="264" y="764"/>
                  </a:lnTo>
                  <a:lnTo>
                    <a:pt x="260" y="766"/>
                  </a:lnTo>
                  <a:lnTo>
                    <a:pt x="258" y="766"/>
                  </a:lnTo>
                  <a:lnTo>
                    <a:pt x="253" y="766"/>
                  </a:lnTo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661452"/>
                </a:gs>
              </a:gsLst>
              <a:lin ang="54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3" name="Freeform 10"/>
            <p:cNvSpPr/>
            <p:nvPr/>
          </p:nvSpPr>
          <p:spPr>
            <a:xfrm>
              <a:off x="6051600" y="4525920"/>
              <a:ext cx="1619280" cy="631800"/>
            </a:xfrm>
            <a:custGeom>
              <a:avLst/>
              <a:gdLst>
                <a:gd name="textAreaLeft" fmla="*/ 0 w 1619280"/>
                <a:gd name="textAreaRight" fmla="*/ 1619640 w 1619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020" h="398">
                  <a:moveTo>
                    <a:pt x="0" y="199"/>
                  </a:moveTo>
                  <a:lnTo>
                    <a:pt x="0" y="199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1" y="189"/>
                  </a:lnTo>
                  <a:lnTo>
                    <a:pt x="1" y="187"/>
                  </a:lnTo>
                  <a:lnTo>
                    <a:pt x="1" y="183"/>
                  </a:lnTo>
                  <a:lnTo>
                    <a:pt x="3" y="182"/>
                  </a:lnTo>
                  <a:lnTo>
                    <a:pt x="4" y="178"/>
                  </a:lnTo>
                  <a:lnTo>
                    <a:pt x="4" y="176"/>
                  </a:lnTo>
                  <a:lnTo>
                    <a:pt x="5" y="172"/>
                  </a:lnTo>
                  <a:lnTo>
                    <a:pt x="8" y="168"/>
                  </a:lnTo>
                  <a:lnTo>
                    <a:pt x="8" y="167"/>
                  </a:lnTo>
                  <a:lnTo>
                    <a:pt x="11" y="162"/>
                  </a:lnTo>
                  <a:lnTo>
                    <a:pt x="11" y="161"/>
                  </a:lnTo>
                  <a:lnTo>
                    <a:pt x="14" y="157"/>
                  </a:lnTo>
                  <a:lnTo>
                    <a:pt x="15" y="157"/>
                  </a:lnTo>
                  <a:lnTo>
                    <a:pt x="18" y="153"/>
                  </a:lnTo>
                  <a:lnTo>
                    <a:pt x="18" y="151"/>
                  </a:lnTo>
                  <a:lnTo>
                    <a:pt x="22" y="147"/>
                  </a:lnTo>
                  <a:lnTo>
                    <a:pt x="27" y="143"/>
                  </a:lnTo>
                  <a:lnTo>
                    <a:pt x="28" y="142"/>
                  </a:lnTo>
                  <a:lnTo>
                    <a:pt x="31" y="138"/>
                  </a:lnTo>
                  <a:lnTo>
                    <a:pt x="32" y="138"/>
                  </a:lnTo>
                  <a:lnTo>
                    <a:pt x="37" y="133"/>
                  </a:lnTo>
                  <a:lnTo>
                    <a:pt x="38" y="132"/>
                  </a:lnTo>
                  <a:lnTo>
                    <a:pt x="42" y="129"/>
                  </a:lnTo>
                  <a:lnTo>
                    <a:pt x="44" y="128"/>
                  </a:lnTo>
                  <a:lnTo>
                    <a:pt x="48" y="124"/>
                  </a:lnTo>
                  <a:lnTo>
                    <a:pt x="49" y="124"/>
                  </a:lnTo>
                  <a:lnTo>
                    <a:pt x="55" y="120"/>
                  </a:lnTo>
                  <a:lnTo>
                    <a:pt x="57" y="118"/>
                  </a:lnTo>
                  <a:lnTo>
                    <a:pt x="61" y="115"/>
                  </a:lnTo>
                  <a:lnTo>
                    <a:pt x="62" y="114"/>
                  </a:lnTo>
                  <a:lnTo>
                    <a:pt x="68" y="111"/>
                  </a:lnTo>
                  <a:lnTo>
                    <a:pt x="69" y="110"/>
                  </a:lnTo>
                  <a:lnTo>
                    <a:pt x="75" y="106"/>
                  </a:lnTo>
                  <a:lnTo>
                    <a:pt x="76" y="106"/>
                  </a:lnTo>
                  <a:lnTo>
                    <a:pt x="84" y="101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2" y="97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6" y="89"/>
                  </a:lnTo>
                  <a:lnTo>
                    <a:pt x="109" y="89"/>
                  </a:lnTo>
                  <a:lnTo>
                    <a:pt x="115" y="86"/>
                  </a:lnTo>
                  <a:lnTo>
                    <a:pt x="118" y="85"/>
                  </a:lnTo>
                  <a:lnTo>
                    <a:pt x="123" y="82"/>
                  </a:lnTo>
                  <a:lnTo>
                    <a:pt x="126" y="81"/>
                  </a:lnTo>
                  <a:lnTo>
                    <a:pt x="133" y="78"/>
                  </a:lnTo>
                  <a:lnTo>
                    <a:pt x="135" y="77"/>
                  </a:lnTo>
                  <a:lnTo>
                    <a:pt x="142" y="74"/>
                  </a:lnTo>
                  <a:lnTo>
                    <a:pt x="143" y="74"/>
                  </a:lnTo>
                  <a:lnTo>
                    <a:pt x="152" y="71"/>
                  </a:lnTo>
                  <a:lnTo>
                    <a:pt x="153" y="70"/>
                  </a:lnTo>
                  <a:lnTo>
                    <a:pt x="160" y="67"/>
                  </a:lnTo>
                  <a:lnTo>
                    <a:pt x="163" y="65"/>
                  </a:lnTo>
                  <a:lnTo>
                    <a:pt x="170" y="63"/>
                  </a:lnTo>
                  <a:lnTo>
                    <a:pt x="172" y="63"/>
                  </a:lnTo>
                  <a:lnTo>
                    <a:pt x="180" y="60"/>
                  </a:lnTo>
                  <a:lnTo>
                    <a:pt x="181" y="59"/>
                  </a:lnTo>
                  <a:lnTo>
                    <a:pt x="190" y="57"/>
                  </a:lnTo>
                  <a:lnTo>
                    <a:pt x="191" y="56"/>
                  </a:lnTo>
                  <a:lnTo>
                    <a:pt x="200" y="53"/>
                  </a:lnTo>
                  <a:lnTo>
                    <a:pt x="201" y="53"/>
                  </a:lnTo>
                  <a:lnTo>
                    <a:pt x="210" y="50"/>
                  </a:lnTo>
                  <a:lnTo>
                    <a:pt x="211" y="49"/>
                  </a:lnTo>
                  <a:lnTo>
                    <a:pt x="220" y="47"/>
                  </a:lnTo>
                  <a:lnTo>
                    <a:pt x="223" y="46"/>
                  </a:lnTo>
                  <a:lnTo>
                    <a:pt x="231" y="43"/>
                  </a:lnTo>
                  <a:lnTo>
                    <a:pt x="233" y="43"/>
                  </a:lnTo>
                  <a:lnTo>
                    <a:pt x="241" y="41"/>
                  </a:lnTo>
                  <a:lnTo>
                    <a:pt x="243" y="41"/>
                  </a:lnTo>
                  <a:lnTo>
                    <a:pt x="251" y="38"/>
                  </a:lnTo>
                  <a:lnTo>
                    <a:pt x="254" y="38"/>
                  </a:lnTo>
                  <a:lnTo>
                    <a:pt x="262" y="35"/>
                  </a:lnTo>
                  <a:lnTo>
                    <a:pt x="264" y="35"/>
                  </a:lnTo>
                  <a:lnTo>
                    <a:pt x="272" y="32"/>
                  </a:lnTo>
                  <a:lnTo>
                    <a:pt x="275" y="32"/>
                  </a:lnTo>
                  <a:lnTo>
                    <a:pt x="282" y="31"/>
                  </a:lnTo>
                  <a:lnTo>
                    <a:pt x="285" y="29"/>
                  </a:lnTo>
                  <a:lnTo>
                    <a:pt x="294" y="28"/>
                  </a:lnTo>
                  <a:lnTo>
                    <a:pt x="295" y="27"/>
                  </a:lnTo>
                  <a:lnTo>
                    <a:pt x="304" y="25"/>
                  </a:lnTo>
                  <a:lnTo>
                    <a:pt x="306" y="25"/>
                  </a:lnTo>
                  <a:lnTo>
                    <a:pt x="315" y="22"/>
                  </a:lnTo>
                  <a:lnTo>
                    <a:pt x="316" y="22"/>
                  </a:lnTo>
                  <a:lnTo>
                    <a:pt x="325" y="21"/>
                  </a:lnTo>
                  <a:lnTo>
                    <a:pt x="328" y="21"/>
                  </a:lnTo>
                  <a:lnTo>
                    <a:pt x="336" y="18"/>
                  </a:lnTo>
                  <a:lnTo>
                    <a:pt x="338" y="18"/>
                  </a:lnTo>
                  <a:lnTo>
                    <a:pt x="346" y="17"/>
                  </a:lnTo>
                  <a:lnTo>
                    <a:pt x="349" y="17"/>
                  </a:lnTo>
                  <a:lnTo>
                    <a:pt x="358" y="16"/>
                  </a:lnTo>
                  <a:lnTo>
                    <a:pt x="359" y="14"/>
                  </a:lnTo>
                  <a:lnTo>
                    <a:pt x="368" y="13"/>
                  </a:lnTo>
                  <a:lnTo>
                    <a:pt x="369" y="13"/>
                  </a:lnTo>
                  <a:lnTo>
                    <a:pt x="377" y="11"/>
                  </a:lnTo>
                  <a:lnTo>
                    <a:pt x="380" y="11"/>
                  </a:lnTo>
                  <a:lnTo>
                    <a:pt x="389" y="10"/>
                  </a:lnTo>
                  <a:lnTo>
                    <a:pt x="390" y="10"/>
                  </a:lnTo>
                  <a:lnTo>
                    <a:pt x="399" y="9"/>
                  </a:lnTo>
                  <a:lnTo>
                    <a:pt x="400" y="9"/>
                  </a:lnTo>
                  <a:lnTo>
                    <a:pt x="409" y="7"/>
                  </a:lnTo>
                  <a:lnTo>
                    <a:pt x="410" y="7"/>
                  </a:lnTo>
                  <a:lnTo>
                    <a:pt x="419" y="6"/>
                  </a:lnTo>
                  <a:lnTo>
                    <a:pt x="420" y="6"/>
                  </a:lnTo>
                  <a:lnTo>
                    <a:pt x="429" y="4"/>
                  </a:lnTo>
                  <a:lnTo>
                    <a:pt x="430" y="4"/>
                  </a:lnTo>
                  <a:lnTo>
                    <a:pt x="439" y="4"/>
                  </a:lnTo>
                  <a:lnTo>
                    <a:pt x="440" y="3"/>
                  </a:lnTo>
                  <a:lnTo>
                    <a:pt x="447" y="3"/>
                  </a:lnTo>
                  <a:lnTo>
                    <a:pt x="450" y="3"/>
                  </a:lnTo>
                  <a:lnTo>
                    <a:pt x="457" y="2"/>
                  </a:lnTo>
                  <a:lnTo>
                    <a:pt x="458" y="2"/>
                  </a:lnTo>
                  <a:lnTo>
                    <a:pt x="465" y="2"/>
                  </a:lnTo>
                  <a:lnTo>
                    <a:pt x="468" y="2"/>
                  </a:lnTo>
                  <a:lnTo>
                    <a:pt x="475" y="2"/>
                  </a:lnTo>
                  <a:lnTo>
                    <a:pt x="477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92" y="0"/>
                  </a:lnTo>
                  <a:lnTo>
                    <a:pt x="494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8" y="0"/>
                  </a:lnTo>
                  <a:lnTo>
                    <a:pt x="510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25" y="0"/>
                  </a:lnTo>
                  <a:lnTo>
                    <a:pt x="527" y="0"/>
                  </a:lnTo>
                  <a:lnTo>
                    <a:pt x="534" y="0"/>
                  </a:lnTo>
                  <a:lnTo>
                    <a:pt x="535" y="0"/>
                  </a:lnTo>
                  <a:lnTo>
                    <a:pt x="542" y="0"/>
                  </a:lnTo>
                  <a:lnTo>
                    <a:pt x="544" y="2"/>
                  </a:lnTo>
                  <a:lnTo>
                    <a:pt x="551" y="2"/>
                  </a:lnTo>
                  <a:lnTo>
                    <a:pt x="554" y="2"/>
                  </a:lnTo>
                  <a:lnTo>
                    <a:pt x="561" y="2"/>
                  </a:lnTo>
                  <a:lnTo>
                    <a:pt x="562" y="2"/>
                  </a:lnTo>
                  <a:lnTo>
                    <a:pt x="569" y="3"/>
                  </a:lnTo>
                  <a:lnTo>
                    <a:pt x="572" y="3"/>
                  </a:lnTo>
                  <a:lnTo>
                    <a:pt x="579" y="3"/>
                  </a:lnTo>
                  <a:lnTo>
                    <a:pt x="581" y="4"/>
                  </a:lnTo>
                  <a:lnTo>
                    <a:pt x="589" y="4"/>
                  </a:lnTo>
                  <a:lnTo>
                    <a:pt x="590" y="4"/>
                  </a:lnTo>
                  <a:lnTo>
                    <a:pt x="599" y="6"/>
                  </a:lnTo>
                  <a:lnTo>
                    <a:pt x="600" y="6"/>
                  </a:lnTo>
                  <a:lnTo>
                    <a:pt x="609" y="7"/>
                  </a:lnTo>
                  <a:lnTo>
                    <a:pt x="610" y="7"/>
                  </a:lnTo>
                  <a:lnTo>
                    <a:pt x="619" y="9"/>
                  </a:lnTo>
                  <a:lnTo>
                    <a:pt x="620" y="9"/>
                  </a:lnTo>
                  <a:lnTo>
                    <a:pt x="629" y="10"/>
                  </a:lnTo>
                  <a:lnTo>
                    <a:pt x="630" y="10"/>
                  </a:lnTo>
                  <a:lnTo>
                    <a:pt x="639" y="11"/>
                  </a:lnTo>
                  <a:lnTo>
                    <a:pt x="642" y="11"/>
                  </a:lnTo>
                  <a:lnTo>
                    <a:pt x="650" y="13"/>
                  </a:lnTo>
                  <a:lnTo>
                    <a:pt x="652" y="13"/>
                  </a:lnTo>
                  <a:lnTo>
                    <a:pt x="660" y="14"/>
                  </a:lnTo>
                  <a:lnTo>
                    <a:pt x="661" y="16"/>
                  </a:lnTo>
                  <a:lnTo>
                    <a:pt x="670" y="17"/>
                  </a:lnTo>
                  <a:lnTo>
                    <a:pt x="673" y="17"/>
                  </a:lnTo>
                  <a:lnTo>
                    <a:pt x="681" y="18"/>
                  </a:lnTo>
                  <a:lnTo>
                    <a:pt x="683" y="18"/>
                  </a:lnTo>
                  <a:lnTo>
                    <a:pt x="691" y="21"/>
                  </a:lnTo>
                  <a:lnTo>
                    <a:pt x="694" y="21"/>
                  </a:lnTo>
                  <a:lnTo>
                    <a:pt x="703" y="22"/>
                  </a:lnTo>
                  <a:lnTo>
                    <a:pt x="704" y="22"/>
                  </a:lnTo>
                  <a:lnTo>
                    <a:pt x="713" y="25"/>
                  </a:lnTo>
                  <a:lnTo>
                    <a:pt x="715" y="25"/>
                  </a:lnTo>
                  <a:lnTo>
                    <a:pt x="724" y="27"/>
                  </a:lnTo>
                  <a:lnTo>
                    <a:pt x="725" y="28"/>
                  </a:lnTo>
                  <a:lnTo>
                    <a:pt x="734" y="29"/>
                  </a:lnTo>
                  <a:lnTo>
                    <a:pt x="737" y="31"/>
                  </a:lnTo>
                  <a:lnTo>
                    <a:pt x="744" y="32"/>
                  </a:lnTo>
                  <a:lnTo>
                    <a:pt x="747" y="32"/>
                  </a:lnTo>
                  <a:lnTo>
                    <a:pt x="755" y="35"/>
                  </a:lnTo>
                  <a:lnTo>
                    <a:pt x="757" y="35"/>
                  </a:lnTo>
                  <a:lnTo>
                    <a:pt x="765" y="38"/>
                  </a:lnTo>
                  <a:lnTo>
                    <a:pt x="768" y="38"/>
                  </a:lnTo>
                  <a:lnTo>
                    <a:pt x="776" y="41"/>
                  </a:lnTo>
                  <a:lnTo>
                    <a:pt x="778" y="41"/>
                  </a:lnTo>
                  <a:lnTo>
                    <a:pt x="786" y="43"/>
                  </a:lnTo>
                  <a:lnTo>
                    <a:pt x="788" y="43"/>
                  </a:lnTo>
                  <a:lnTo>
                    <a:pt x="796" y="46"/>
                  </a:lnTo>
                  <a:lnTo>
                    <a:pt x="799" y="47"/>
                  </a:lnTo>
                  <a:lnTo>
                    <a:pt x="808" y="49"/>
                  </a:lnTo>
                  <a:lnTo>
                    <a:pt x="809" y="50"/>
                  </a:lnTo>
                  <a:lnTo>
                    <a:pt x="818" y="53"/>
                  </a:lnTo>
                  <a:lnTo>
                    <a:pt x="819" y="53"/>
                  </a:lnTo>
                  <a:lnTo>
                    <a:pt x="828" y="56"/>
                  </a:lnTo>
                  <a:lnTo>
                    <a:pt x="829" y="57"/>
                  </a:lnTo>
                  <a:lnTo>
                    <a:pt x="838" y="59"/>
                  </a:lnTo>
                  <a:lnTo>
                    <a:pt x="839" y="60"/>
                  </a:lnTo>
                  <a:lnTo>
                    <a:pt x="847" y="63"/>
                  </a:lnTo>
                  <a:lnTo>
                    <a:pt x="849" y="63"/>
                  </a:lnTo>
                  <a:lnTo>
                    <a:pt x="856" y="65"/>
                  </a:lnTo>
                  <a:lnTo>
                    <a:pt x="859" y="67"/>
                  </a:lnTo>
                  <a:lnTo>
                    <a:pt x="866" y="70"/>
                  </a:lnTo>
                  <a:lnTo>
                    <a:pt x="867" y="71"/>
                  </a:lnTo>
                  <a:lnTo>
                    <a:pt x="876" y="74"/>
                  </a:lnTo>
                  <a:lnTo>
                    <a:pt x="877" y="74"/>
                  </a:lnTo>
                  <a:lnTo>
                    <a:pt x="884" y="77"/>
                  </a:lnTo>
                  <a:lnTo>
                    <a:pt x="886" y="78"/>
                  </a:lnTo>
                  <a:lnTo>
                    <a:pt x="893" y="81"/>
                  </a:lnTo>
                  <a:lnTo>
                    <a:pt x="896" y="82"/>
                  </a:lnTo>
                  <a:lnTo>
                    <a:pt x="901" y="85"/>
                  </a:lnTo>
                  <a:lnTo>
                    <a:pt x="904" y="86"/>
                  </a:lnTo>
                  <a:lnTo>
                    <a:pt x="910" y="89"/>
                  </a:lnTo>
                  <a:lnTo>
                    <a:pt x="913" y="89"/>
                  </a:lnTo>
                  <a:lnTo>
                    <a:pt x="918" y="93"/>
                  </a:lnTo>
                  <a:lnTo>
                    <a:pt x="920" y="93"/>
                  </a:lnTo>
                  <a:lnTo>
                    <a:pt x="927" y="97"/>
                  </a:lnTo>
                  <a:lnTo>
                    <a:pt x="928" y="97"/>
                  </a:lnTo>
                  <a:lnTo>
                    <a:pt x="934" y="101"/>
                  </a:lnTo>
                  <a:lnTo>
                    <a:pt x="936" y="101"/>
                  </a:lnTo>
                  <a:lnTo>
                    <a:pt x="943" y="106"/>
                  </a:lnTo>
                  <a:lnTo>
                    <a:pt x="944" y="106"/>
                  </a:lnTo>
                  <a:lnTo>
                    <a:pt x="950" y="110"/>
                  </a:lnTo>
                  <a:lnTo>
                    <a:pt x="951" y="111"/>
                  </a:lnTo>
                  <a:lnTo>
                    <a:pt x="957" y="114"/>
                  </a:lnTo>
                  <a:lnTo>
                    <a:pt x="958" y="115"/>
                  </a:lnTo>
                  <a:lnTo>
                    <a:pt x="962" y="118"/>
                  </a:lnTo>
                  <a:lnTo>
                    <a:pt x="964" y="120"/>
                  </a:lnTo>
                  <a:lnTo>
                    <a:pt x="970" y="124"/>
                  </a:lnTo>
                  <a:lnTo>
                    <a:pt x="971" y="124"/>
                  </a:lnTo>
                  <a:lnTo>
                    <a:pt x="975" y="128"/>
                  </a:lnTo>
                  <a:lnTo>
                    <a:pt x="977" y="129"/>
                  </a:lnTo>
                  <a:lnTo>
                    <a:pt x="981" y="132"/>
                  </a:lnTo>
                  <a:lnTo>
                    <a:pt x="982" y="133"/>
                  </a:lnTo>
                  <a:lnTo>
                    <a:pt x="987" y="138"/>
                  </a:lnTo>
                  <a:lnTo>
                    <a:pt x="988" y="138"/>
                  </a:lnTo>
                  <a:lnTo>
                    <a:pt x="991" y="142"/>
                  </a:lnTo>
                  <a:lnTo>
                    <a:pt x="992" y="143"/>
                  </a:lnTo>
                  <a:lnTo>
                    <a:pt x="997" y="147"/>
                  </a:lnTo>
                  <a:lnTo>
                    <a:pt x="1001" y="151"/>
                  </a:lnTo>
                  <a:lnTo>
                    <a:pt x="1001" y="153"/>
                  </a:lnTo>
                  <a:lnTo>
                    <a:pt x="1004" y="157"/>
                  </a:lnTo>
                  <a:lnTo>
                    <a:pt x="1005" y="157"/>
                  </a:lnTo>
                  <a:lnTo>
                    <a:pt x="1008" y="161"/>
                  </a:lnTo>
                  <a:lnTo>
                    <a:pt x="1008" y="162"/>
                  </a:lnTo>
                  <a:lnTo>
                    <a:pt x="1011" y="167"/>
                  </a:lnTo>
                  <a:lnTo>
                    <a:pt x="1011" y="168"/>
                  </a:lnTo>
                  <a:lnTo>
                    <a:pt x="1014" y="172"/>
                  </a:lnTo>
                  <a:lnTo>
                    <a:pt x="1015" y="176"/>
                  </a:lnTo>
                  <a:lnTo>
                    <a:pt x="1015" y="178"/>
                  </a:lnTo>
                  <a:lnTo>
                    <a:pt x="1016" y="182"/>
                  </a:lnTo>
                  <a:lnTo>
                    <a:pt x="1018" y="183"/>
                  </a:lnTo>
                  <a:lnTo>
                    <a:pt x="1018" y="187"/>
                  </a:lnTo>
                  <a:lnTo>
                    <a:pt x="1018" y="189"/>
                  </a:lnTo>
                  <a:lnTo>
                    <a:pt x="1019" y="193"/>
                  </a:lnTo>
                  <a:lnTo>
                    <a:pt x="1019" y="194"/>
                  </a:lnTo>
                  <a:lnTo>
                    <a:pt x="1019" y="199"/>
                  </a:lnTo>
                  <a:lnTo>
                    <a:pt x="1019" y="203"/>
                  </a:lnTo>
                  <a:lnTo>
                    <a:pt x="1019" y="204"/>
                  </a:lnTo>
                  <a:lnTo>
                    <a:pt x="1018" y="208"/>
                  </a:lnTo>
                  <a:lnTo>
                    <a:pt x="1018" y="210"/>
                  </a:lnTo>
                  <a:lnTo>
                    <a:pt x="1018" y="214"/>
                  </a:lnTo>
                  <a:lnTo>
                    <a:pt x="1016" y="215"/>
                  </a:lnTo>
                  <a:lnTo>
                    <a:pt x="1015" y="219"/>
                  </a:lnTo>
                  <a:lnTo>
                    <a:pt x="1015" y="221"/>
                  </a:lnTo>
                  <a:lnTo>
                    <a:pt x="1014" y="225"/>
                  </a:lnTo>
                  <a:lnTo>
                    <a:pt x="1011" y="229"/>
                  </a:lnTo>
                  <a:lnTo>
                    <a:pt x="1011" y="230"/>
                  </a:lnTo>
                  <a:lnTo>
                    <a:pt x="1008" y="235"/>
                  </a:lnTo>
                  <a:lnTo>
                    <a:pt x="1008" y="236"/>
                  </a:lnTo>
                  <a:lnTo>
                    <a:pt x="1005" y="240"/>
                  </a:lnTo>
                  <a:lnTo>
                    <a:pt x="1004" y="240"/>
                  </a:lnTo>
                  <a:lnTo>
                    <a:pt x="1001" y="244"/>
                  </a:lnTo>
                  <a:lnTo>
                    <a:pt x="1001" y="246"/>
                  </a:lnTo>
                  <a:lnTo>
                    <a:pt x="997" y="250"/>
                  </a:lnTo>
                  <a:lnTo>
                    <a:pt x="992" y="254"/>
                  </a:lnTo>
                  <a:lnTo>
                    <a:pt x="991" y="255"/>
                  </a:lnTo>
                  <a:lnTo>
                    <a:pt x="988" y="259"/>
                  </a:lnTo>
                  <a:lnTo>
                    <a:pt x="987" y="259"/>
                  </a:lnTo>
                  <a:lnTo>
                    <a:pt x="982" y="264"/>
                  </a:lnTo>
                  <a:lnTo>
                    <a:pt x="981" y="265"/>
                  </a:lnTo>
                  <a:lnTo>
                    <a:pt x="977" y="268"/>
                  </a:lnTo>
                  <a:lnTo>
                    <a:pt x="975" y="269"/>
                  </a:lnTo>
                  <a:lnTo>
                    <a:pt x="971" y="273"/>
                  </a:lnTo>
                  <a:lnTo>
                    <a:pt x="970" y="273"/>
                  </a:lnTo>
                  <a:lnTo>
                    <a:pt x="964" y="277"/>
                  </a:lnTo>
                  <a:lnTo>
                    <a:pt x="962" y="279"/>
                  </a:lnTo>
                  <a:lnTo>
                    <a:pt x="958" y="282"/>
                  </a:lnTo>
                  <a:lnTo>
                    <a:pt x="957" y="283"/>
                  </a:lnTo>
                  <a:lnTo>
                    <a:pt x="951" y="286"/>
                  </a:lnTo>
                  <a:lnTo>
                    <a:pt x="950" y="287"/>
                  </a:lnTo>
                  <a:lnTo>
                    <a:pt x="944" y="291"/>
                  </a:lnTo>
                  <a:lnTo>
                    <a:pt x="943" y="291"/>
                  </a:lnTo>
                  <a:lnTo>
                    <a:pt x="936" y="296"/>
                  </a:lnTo>
                  <a:lnTo>
                    <a:pt x="934" y="296"/>
                  </a:lnTo>
                  <a:lnTo>
                    <a:pt x="928" y="300"/>
                  </a:lnTo>
                  <a:lnTo>
                    <a:pt x="927" y="300"/>
                  </a:lnTo>
                  <a:lnTo>
                    <a:pt x="920" y="304"/>
                  </a:lnTo>
                  <a:lnTo>
                    <a:pt x="918" y="304"/>
                  </a:lnTo>
                  <a:lnTo>
                    <a:pt x="913" y="308"/>
                  </a:lnTo>
                  <a:lnTo>
                    <a:pt x="910" y="308"/>
                  </a:lnTo>
                  <a:lnTo>
                    <a:pt x="904" y="311"/>
                  </a:lnTo>
                  <a:lnTo>
                    <a:pt x="901" y="312"/>
                  </a:lnTo>
                  <a:lnTo>
                    <a:pt x="896" y="315"/>
                  </a:lnTo>
                  <a:lnTo>
                    <a:pt x="893" y="316"/>
                  </a:lnTo>
                  <a:lnTo>
                    <a:pt x="886" y="319"/>
                  </a:lnTo>
                  <a:lnTo>
                    <a:pt x="884" y="320"/>
                  </a:lnTo>
                  <a:lnTo>
                    <a:pt x="877" y="323"/>
                  </a:lnTo>
                  <a:lnTo>
                    <a:pt x="876" y="323"/>
                  </a:lnTo>
                  <a:lnTo>
                    <a:pt x="867" y="326"/>
                  </a:lnTo>
                  <a:lnTo>
                    <a:pt x="866" y="327"/>
                  </a:lnTo>
                  <a:lnTo>
                    <a:pt x="859" y="330"/>
                  </a:lnTo>
                  <a:lnTo>
                    <a:pt x="856" y="332"/>
                  </a:lnTo>
                  <a:lnTo>
                    <a:pt x="849" y="334"/>
                  </a:lnTo>
                  <a:lnTo>
                    <a:pt x="847" y="334"/>
                  </a:lnTo>
                  <a:lnTo>
                    <a:pt x="839" y="337"/>
                  </a:lnTo>
                  <a:lnTo>
                    <a:pt x="838" y="338"/>
                  </a:lnTo>
                  <a:lnTo>
                    <a:pt x="829" y="340"/>
                  </a:lnTo>
                  <a:lnTo>
                    <a:pt x="828" y="341"/>
                  </a:lnTo>
                  <a:lnTo>
                    <a:pt x="819" y="344"/>
                  </a:lnTo>
                  <a:lnTo>
                    <a:pt x="818" y="344"/>
                  </a:lnTo>
                  <a:lnTo>
                    <a:pt x="809" y="347"/>
                  </a:lnTo>
                  <a:lnTo>
                    <a:pt x="808" y="348"/>
                  </a:lnTo>
                  <a:lnTo>
                    <a:pt x="799" y="350"/>
                  </a:lnTo>
                  <a:lnTo>
                    <a:pt x="796" y="351"/>
                  </a:lnTo>
                  <a:lnTo>
                    <a:pt x="788" y="354"/>
                  </a:lnTo>
                  <a:lnTo>
                    <a:pt x="786" y="354"/>
                  </a:lnTo>
                  <a:lnTo>
                    <a:pt x="778" y="356"/>
                  </a:lnTo>
                  <a:lnTo>
                    <a:pt x="776" y="356"/>
                  </a:lnTo>
                  <a:lnTo>
                    <a:pt x="768" y="359"/>
                  </a:lnTo>
                  <a:lnTo>
                    <a:pt x="765" y="359"/>
                  </a:lnTo>
                  <a:lnTo>
                    <a:pt x="757" y="362"/>
                  </a:lnTo>
                  <a:lnTo>
                    <a:pt x="755" y="362"/>
                  </a:lnTo>
                  <a:lnTo>
                    <a:pt x="747" y="365"/>
                  </a:lnTo>
                  <a:lnTo>
                    <a:pt x="744" y="365"/>
                  </a:lnTo>
                  <a:lnTo>
                    <a:pt x="737" y="366"/>
                  </a:lnTo>
                  <a:lnTo>
                    <a:pt x="734" y="368"/>
                  </a:lnTo>
                  <a:lnTo>
                    <a:pt x="725" y="369"/>
                  </a:lnTo>
                  <a:lnTo>
                    <a:pt x="724" y="370"/>
                  </a:lnTo>
                  <a:lnTo>
                    <a:pt x="715" y="372"/>
                  </a:lnTo>
                  <a:lnTo>
                    <a:pt x="713" y="372"/>
                  </a:lnTo>
                  <a:lnTo>
                    <a:pt x="704" y="375"/>
                  </a:lnTo>
                  <a:lnTo>
                    <a:pt x="703" y="375"/>
                  </a:lnTo>
                  <a:lnTo>
                    <a:pt x="694" y="376"/>
                  </a:lnTo>
                  <a:lnTo>
                    <a:pt x="691" y="376"/>
                  </a:lnTo>
                  <a:lnTo>
                    <a:pt x="683" y="379"/>
                  </a:lnTo>
                  <a:lnTo>
                    <a:pt x="681" y="379"/>
                  </a:lnTo>
                  <a:lnTo>
                    <a:pt x="673" y="380"/>
                  </a:lnTo>
                  <a:lnTo>
                    <a:pt x="670" y="380"/>
                  </a:lnTo>
                  <a:lnTo>
                    <a:pt x="661" y="381"/>
                  </a:lnTo>
                  <a:lnTo>
                    <a:pt x="660" y="383"/>
                  </a:lnTo>
                  <a:lnTo>
                    <a:pt x="652" y="384"/>
                  </a:lnTo>
                  <a:lnTo>
                    <a:pt x="650" y="384"/>
                  </a:lnTo>
                  <a:lnTo>
                    <a:pt x="642" y="386"/>
                  </a:lnTo>
                  <a:lnTo>
                    <a:pt x="639" y="386"/>
                  </a:lnTo>
                  <a:lnTo>
                    <a:pt x="630" y="387"/>
                  </a:lnTo>
                  <a:lnTo>
                    <a:pt x="629" y="387"/>
                  </a:lnTo>
                  <a:lnTo>
                    <a:pt x="620" y="388"/>
                  </a:lnTo>
                  <a:lnTo>
                    <a:pt x="619" y="388"/>
                  </a:lnTo>
                  <a:lnTo>
                    <a:pt x="610" y="390"/>
                  </a:lnTo>
                  <a:lnTo>
                    <a:pt x="609" y="390"/>
                  </a:lnTo>
                  <a:lnTo>
                    <a:pt x="600" y="391"/>
                  </a:lnTo>
                  <a:lnTo>
                    <a:pt x="599" y="391"/>
                  </a:lnTo>
                  <a:lnTo>
                    <a:pt x="590" y="393"/>
                  </a:lnTo>
                  <a:lnTo>
                    <a:pt x="589" y="393"/>
                  </a:lnTo>
                  <a:lnTo>
                    <a:pt x="581" y="393"/>
                  </a:lnTo>
                  <a:lnTo>
                    <a:pt x="579" y="394"/>
                  </a:lnTo>
                  <a:lnTo>
                    <a:pt x="572" y="394"/>
                  </a:lnTo>
                  <a:lnTo>
                    <a:pt x="569" y="394"/>
                  </a:lnTo>
                  <a:lnTo>
                    <a:pt x="562" y="395"/>
                  </a:lnTo>
                  <a:lnTo>
                    <a:pt x="561" y="395"/>
                  </a:lnTo>
                  <a:lnTo>
                    <a:pt x="554" y="395"/>
                  </a:lnTo>
                  <a:lnTo>
                    <a:pt x="551" y="395"/>
                  </a:lnTo>
                  <a:lnTo>
                    <a:pt x="544" y="395"/>
                  </a:lnTo>
                  <a:lnTo>
                    <a:pt x="542" y="397"/>
                  </a:lnTo>
                  <a:lnTo>
                    <a:pt x="535" y="397"/>
                  </a:lnTo>
                  <a:lnTo>
                    <a:pt x="534" y="397"/>
                  </a:lnTo>
                  <a:lnTo>
                    <a:pt x="527" y="397"/>
                  </a:lnTo>
                  <a:lnTo>
                    <a:pt x="525" y="397"/>
                  </a:lnTo>
                  <a:lnTo>
                    <a:pt x="518" y="397"/>
                  </a:lnTo>
                  <a:lnTo>
                    <a:pt x="517" y="397"/>
                  </a:lnTo>
                  <a:lnTo>
                    <a:pt x="511" y="397"/>
                  </a:lnTo>
                  <a:lnTo>
                    <a:pt x="510" y="397"/>
                  </a:lnTo>
                  <a:lnTo>
                    <a:pt x="502" y="397"/>
                  </a:lnTo>
                  <a:lnTo>
                    <a:pt x="501" y="397"/>
                  </a:lnTo>
                  <a:lnTo>
                    <a:pt x="494" y="397"/>
                  </a:lnTo>
                  <a:lnTo>
                    <a:pt x="492" y="397"/>
                  </a:lnTo>
                  <a:lnTo>
                    <a:pt x="485" y="397"/>
                  </a:lnTo>
                  <a:lnTo>
                    <a:pt x="484" y="397"/>
                  </a:lnTo>
                  <a:lnTo>
                    <a:pt x="477" y="397"/>
                  </a:lnTo>
                  <a:lnTo>
                    <a:pt x="475" y="395"/>
                  </a:lnTo>
                  <a:lnTo>
                    <a:pt x="468" y="395"/>
                  </a:lnTo>
                  <a:lnTo>
                    <a:pt x="465" y="395"/>
                  </a:lnTo>
                  <a:lnTo>
                    <a:pt x="458" y="395"/>
                  </a:lnTo>
                  <a:lnTo>
                    <a:pt x="457" y="395"/>
                  </a:lnTo>
                  <a:lnTo>
                    <a:pt x="450" y="394"/>
                  </a:lnTo>
                  <a:lnTo>
                    <a:pt x="447" y="394"/>
                  </a:lnTo>
                  <a:lnTo>
                    <a:pt x="440" y="394"/>
                  </a:lnTo>
                  <a:lnTo>
                    <a:pt x="439" y="393"/>
                  </a:lnTo>
                  <a:lnTo>
                    <a:pt x="430" y="393"/>
                  </a:lnTo>
                  <a:lnTo>
                    <a:pt x="429" y="393"/>
                  </a:lnTo>
                  <a:lnTo>
                    <a:pt x="420" y="391"/>
                  </a:lnTo>
                  <a:lnTo>
                    <a:pt x="419" y="391"/>
                  </a:lnTo>
                  <a:lnTo>
                    <a:pt x="410" y="390"/>
                  </a:lnTo>
                  <a:lnTo>
                    <a:pt x="409" y="390"/>
                  </a:lnTo>
                  <a:lnTo>
                    <a:pt x="400" y="388"/>
                  </a:lnTo>
                  <a:lnTo>
                    <a:pt x="399" y="388"/>
                  </a:lnTo>
                  <a:lnTo>
                    <a:pt x="390" y="387"/>
                  </a:lnTo>
                  <a:lnTo>
                    <a:pt x="389" y="387"/>
                  </a:lnTo>
                  <a:lnTo>
                    <a:pt x="380" y="386"/>
                  </a:lnTo>
                  <a:lnTo>
                    <a:pt x="377" y="386"/>
                  </a:lnTo>
                  <a:lnTo>
                    <a:pt x="369" y="384"/>
                  </a:lnTo>
                  <a:lnTo>
                    <a:pt x="368" y="384"/>
                  </a:lnTo>
                  <a:lnTo>
                    <a:pt x="359" y="383"/>
                  </a:lnTo>
                  <a:lnTo>
                    <a:pt x="358" y="381"/>
                  </a:lnTo>
                  <a:lnTo>
                    <a:pt x="349" y="380"/>
                  </a:lnTo>
                  <a:lnTo>
                    <a:pt x="346" y="380"/>
                  </a:lnTo>
                  <a:lnTo>
                    <a:pt x="338" y="379"/>
                  </a:lnTo>
                  <a:lnTo>
                    <a:pt x="336" y="379"/>
                  </a:lnTo>
                  <a:lnTo>
                    <a:pt x="328" y="376"/>
                  </a:lnTo>
                  <a:lnTo>
                    <a:pt x="325" y="376"/>
                  </a:lnTo>
                  <a:lnTo>
                    <a:pt x="316" y="375"/>
                  </a:lnTo>
                  <a:lnTo>
                    <a:pt x="315" y="375"/>
                  </a:lnTo>
                  <a:lnTo>
                    <a:pt x="306" y="372"/>
                  </a:lnTo>
                  <a:lnTo>
                    <a:pt x="304" y="372"/>
                  </a:lnTo>
                  <a:lnTo>
                    <a:pt x="295" y="370"/>
                  </a:lnTo>
                  <a:lnTo>
                    <a:pt x="294" y="369"/>
                  </a:lnTo>
                  <a:lnTo>
                    <a:pt x="285" y="368"/>
                  </a:lnTo>
                  <a:lnTo>
                    <a:pt x="282" y="366"/>
                  </a:lnTo>
                  <a:lnTo>
                    <a:pt x="275" y="365"/>
                  </a:lnTo>
                  <a:lnTo>
                    <a:pt x="272" y="365"/>
                  </a:lnTo>
                  <a:lnTo>
                    <a:pt x="264" y="362"/>
                  </a:lnTo>
                  <a:lnTo>
                    <a:pt x="262" y="362"/>
                  </a:lnTo>
                  <a:lnTo>
                    <a:pt x="254" y="359"/>
                  </a:lnTo>
                  <a:lnTo>
                    <a:pt x="251" y="359"/>
                  </a:lnTo>
                  <a:lnTo>
                    <a:pt x="243" y="356"/>
                  </a:lnTo>
                  <a:lnTo>
                    <a:pt x="241" y="356"/>
                  </a:lnTo>
                  <a:lnTo>
                    <a:pt x="233" y="354"/>
                  </a:lnTo>
                  <a:lnTo>
                    <a:pt x="231" y="354"/>
                  </a:lnTo>
                  <a:lnTo>
                    <a:pt x="223" y="351"/>
                  </a:lnTo>
                  <a:lnTo>
                    <a:pt x="220" y="350"/>
                  </a:lnTo>
                  <a:lnTo>
                    <a:pt x="211" y="348"/>
                  </a:lnTo>
                  <a:lnTo>
                    <a:pt x="210" y="347"/>
                  </a:lnTo>
                  <a:lnTo>
                    <a:pt x="201" y="344"/>
                  </a:lnTo>
                  <a:lnTo>
                    <a:pt x="200" y="344"/>
                  </a:lnTo>
                  <a:lnTo>
                    <a:pt x="191" y="341"/>
                  </a:lnTo>
                  <a:lnTo>
                    <a:pt x="190" y="340"/>
                  </a:lnTo>
                  <a:lnTo>
                    <a:pt x="181" y="338"/>
                  </a:lnTo>
                  <a:lnTo>
                    <a:pt x="180" y="337"/>
                  </a:lnTo>
                  <a:lnTo>
                    <a:pt x="172" y="334"/>
                  </a:lnTo>
                  <a:lnTo>
                    <a:pt x="170" y="334"/>
                  </a:lnTo>
                  <a:lnTo>
                    <a:pt x="163" y="332"/>
                  </a:lnTo>
                  <a:lnTo>
                    <a:pt x="160" y="330"/>
                  </a:lnTo>
                  <a:lnTo>
                    <a:pt x="153" y="327"/>
                  </a:lnTo>
                  <a:lnTo>
                    <a:pt x="152" y="326"/>
                  </a:lnTo>
                  <a:lnTo>
                    <a:pt x="143" y="323"/>
                  </a:lnTo>
                  <a:lnTo>
                    <a:pt x="142" y="323"/>
                  </a:lnTo>
                  <a:lnTo>
                    <a:pt x="135" y="320"/>
                  </a:lnTo>
                  <a:lnTo>
                    <a:pt x="133" y="319"/>
                  </a:lnTo>
                  <a:lnTo>
                    <a:pt x="126" y="316"/>
                  </a:lnTo>
                  <a:lnTo>
                    <a:pt x="123" y="315"/>
                  </a:lnTo>
                  <a:lnTo>
                    <a:pt x="118" y="312"/>
                  </a:lnTo>
                  <a:lnTo>
                    <a:pt x="115" y="311"/>
                  </a:lnTo>
                  <a:lnTo>
                    <a:pt x="109" y="308"/>
                  </a:lnTo>
                  <a:lnTo>
                    <a:pt x="106" y="308"/>
                  </a:lnTo>
                  <a:lnTo>
                    <a:pt x="101" y="304"/>
                  </a:lnTo>
                  <a:lnTo>
                    <a:pt x="99" y="304"/>
                  </a:lnTo>
                  <a:lnTo>
                    <a:pt x="92" y="300"/>
                  </a:lnTo>
                  <a:lnTo>
                    <a:pt x="91" y="300"/>
                  </a:lnTo>
                  <a:lnTo>
                    <a:pt x="85" y="296"/>
                  </a:lnTo>
                  <a:lnTo>
                    <a:pt x="84" y="296"/>
                  </a:lnTo>
                  <a:lnTo>
                    <a:pt x="76" y="291"/>
                  </a:lnTo>
                  <a:lnTo>
                    <a:pt x="75" y="291"/>
                  </a:lnTo>
                  <a:lnTo>
                    <a:pt x="69" y="287"/>
                  </a:lnTo>
                  <a:lnTo>
                    <a:pt x="68" y="286"/>
                  </a:lnTo>
                  <a:lnTo>
                    <a:pt x="62" y="283"/>
                  </a:lnTo>
                  <a:lnTo>
                    <a:pt x="61" y="282"/>
                  </a:lnTo>
                  <a:lnTo>
                    <a:pt x="57" y="279"/>
                  </a:lnTo>
                  <a:lnTo>
                    <a:pt x="55" y="277"/>
                  </a:lnTo>
                  <a:lnTo>
                    <a:pt x="49" y="273"/>
                  </a:lnTo>
                  <a:lnTo>
                    <a:pt x="48" y="273"/>
                  </a:lnTo>
                  <a:lnTo>
                    <a:pt x="44" y="269"/>
                  </a:lnTo>
                  <a:lnTo>
                    <a:pt x="42" y="268"/>
                  </a:lnTo>
                  <a:lnTo>
                    <a:pt x="38" y="265"/>
                  </a:lnTo>
                  <a:lnTo>
                    <a:pt x="37" y="264"/>
                  </a:lnTo>
                  <a:lnTo>
                    <a:pt x="32" y="259"/>
                  </a:lnTo>
                  <a:lnTo>
                    <a:pt x="31" y="259"/>
                  </a:lnTo>
                  <a:lnTo>
                    <a:pt x="28" y="255"/>
                  </a:lnTo>
                  <a:lnTo>
                    <a:pt x="27" y="254"/>
                  </a:lnTo>
                  <a:lnTo>
                    <a:pt x="22" y="250"/>
                  </a:lnTo>
                  <a:lnTo>
                    <a:pt x="18" y="246"/>
                  </a:lnTo>
                  <a:lnTo>
                    <a:pt x="18" y="244"/>
                  </a:lnTo>
                  <a:lnTo>
                    <a:pt x="15" y="240"/>
                  </a:lnTo>
                  <a:lnTo>
                    <a:pt x="14" y="240"/>
                  </a:lnTo>
                  <a:lnTo>
                    <a:pt x="11" y="236"/>
                  </a:lnTo>
                  <a:lnTo>
                    <a:pt x="11" y="235"/>
                  </a:lnTo>
                  <a:lnTo>
                    <a:pt x="8" y="230"/>
                  </a:lnTo>
                  <a:lnTo>
                    <a:pt x="8" y="229"/>
                  </a:lnTo>
                  <a:lnTo>
                    <a:pt x="5" y="225"/>
                  </a:lnTo>
                  <a:lnTo>
                    <a:pt x="4" y="221"/>
                  </a:lnTo>
                  <a:lnTo>
                    <a:pt x="4" y="219"/>
                  </a:lnTo>
                  <a:lnTo>
                    <a:pt x="3" y="215"/>
                  </a:lnTo>
                  <a:lnTo>
                    <a:pt x="1" y="214"/>
                  </a:lnTo>
                  <a:lnTo>
                    <a:pt x="1" y="210"/>
                  </a:lnTo>
                  <a:lnTo>
                    <a:pt x="1" y="208"/>
                  </a:lnTo>
                  <a:lnTo>
                    <a:pt x="0" y="204"/>
                  </a:lnTo>
                  <a:lnTo>
                    <a:pt x="0" y="203"/>
                  </a:lnTo>
                  <a:lnTo>
                    <a:pt x="0" y="199"/>
                  </a:lnTo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f1966"/>
                </a:gs>
              </a:gsLst>
              <a:lin ang="27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4" name="Freeform 13"/>
            <p:cNvSpPr/>
            <p:nvPr/>
          </p:nvSpPr>
          <p:spPr>
            <a:xfrm>
              <a:off x="6459480" y="4842000"/>
              <a:ext cx="803160" cy="12160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506" h="766">
                  <a:moveTo>
                    <a:pt x="253" y="0"/>
                  </a:moveTo>
                  <a:lnTo>
                    <a:pt x="253" y="0"/>
                  </a:lnTo>
                  <a:lnTo>
                    <a:pt x="247" y="0"/>
                  </a:lnTo>
                  <a:lnTo>
                    <a:pt x="245" y="0"/>
                  </a:lnTo>
                  <a:lnTo>
                    <a:pt x="241" y="1"/>
                  </a:lnTo>
                  <a:lnTo>
                    <a:pt x="240" y="1"/>
                  </a:lnTo>
                  <a:lnTo>
                    <a:pt x="234" y="2"/>
                  </a:lnTo>
                  <a:lnTo>
                    <a:pt x="233" y="2"/>
                  </a:lnTo>
                  <a:lnTo>
                    <a:pt x="228" y="5"/>
                  </a:lnTo>
                  <a:lnTo>
                    <a:pt x="227" y="5"/>
                  </a:lnTo>
                  <a:lnTo>
                    <a:pt x="221" y="8"/>
                  </a:lnTo>
                  <a:lnTo>
                    <a:pt x="216" y="11"/>
                  </a:lnTo>
                  <a:lnTo>
                    <a:pt x="214" y="12"/>
                  </a:lnTo>
                  <a:lnTo>
                    <a:pt x="210" y="15"/>
                  </a:lnTo>
                  <a:lnTo>
                    <a:pt x="208" y="16"/>
                  </a:lnTo>
                  <a:lnTo>
                    <a:pt x="203" y="19"/>
                  </a:lnTo>
                  <a:lnTo>
                    <a:pt x="201" y="20"/>
                  </a:lnTo>
                  <a:lnTo>
                    <a:pt x="197" y="24"/>
                  </a:lnTo>
                  <a:lnTo>
                    <a:pt x="196" y="26"/>
                  </a:lnTo>
                  <a:lnTo>
                    <a:pt x="191" y="30"/>
                  </a:lnTo>
                  <a:lnTo>
                    <a:pt x="190" y="31"/>
                  </a:lnTo>
                  <a:lnTo>
                    <a:pt x="184" y="37"/>
                  </a:lnTo>
                  <a:lnTo>
                    <a:pt x="183" y="37"/>
                  </a:lnTo>
                  <a:lnTo>
                    <a:pt x="179" y="42"/>
                  </a:lnTo>
                  <a:lnTo>
                    <a:pt x="177" y="44"/>
                  </a:lnTo>
                  <a:lnTo>
                    <a:pt x="173" y="49"/>
                  </a:lnTo>
                  <a:lnTo>
                    <a:pt x="172" y="52"/>
                  </a:lnTo>
                  <a:lnTo>
                    <a:pt x="166" y="58"/>
                  </a:lnTo>
                  <a:lnTo>
                    <a:pt x="166" y="59"/>
                  </a:lnTo>
                  <a:lnTo>
                    <a:pt x="160" y="66"/>
                  </a:lnTo>
                  <a:lnTo>
                    <a:pt x="159" y="67"/>
                  </a:lnTo>
                  <a:lnTo>
                    <a:pt x="155" y="74"/>
                  </a:lnTo>
                  <a:lnTo>
                    <a:pt x="153" y="76"/>
                  </a:lnTo>
                  <a:lnTo>
                    <a:pt x="149" y="83"/>
                  </a:lnTo>
                  <a:lnTo>
                    <a:pt x="147" y="85"/>
                  </a:lnTo>
                  <a:lnTo>
                    <a:pt x="143" y="92"/>
                  </a:lnTo>
                  <a:lnTo>
                    <a:pt x="142" y="94"/>
                  </a:lnTo>
                  <a:lnTo>
                    <a:pt x="137" y="102"/>
                  </a:lnTo>
                  <a:lnTo>
                    <a:pt x="136" y="103"/>
                  </a:lnTo>
                  <a:lnTo>
                    <a:pt x="132" y="112"/>
                  </a:lnTo>
                  <a:lnTo>
                    <a:pt x="130" y="113"/>
                  </a:lnTo>
                  <a:lnTo>
                    <a:pt x="126" y="121"/>
                  </a:lnTo>
                  <a:lnTo>
                    <a:pt x="125" y="124"/>
                  </a:lnTo>
                  <a:lnTo>
                    <a:pt x="120" y="133"/>
                  </a:lnTo>
                  <a:lnTo>
                    <a:pt x="119" y="135"/>
                  </a:lnTo>
                  <a:lnTo>
                    <a:pt x="115" y="144"/>
                  </a:lnTo>
                  <a:lnTo>
                    <a:pt x="113" y="146"/>
                  </a:lnTo>
                  <a:lnTo>
                    <a:pt x="109" y="155"/>
                  </a:lnTo>
                  <a:lnTo>
                    <a:pt x="108" y="157"/>
                  </a:lnTo>
                  <a:lnTo>
                    <a:pt x="103" y="166"/>
                  </a:lnTo>
                  <a:lnTo>
                    <a:pt x="103" y="169"/>
                  </a:lnTo>
                  <a:lnTo>
                    <a:pt x="99" y="178"/>
                  </a:lnTo>
                  <a:lnTo>
                    <a:pt x="98" y="181"/>
                  </a:lnTo>
                  <a:lnTo>
                    <a:pt x="93" y="189"/>
                  </a:lnTo>
                  <a:lnTo>
                    <a:pt x="92" y="192"/>
                  </a:lnTo>
                  <a:lnTo>
                    <a:pt x="88" y="202"/>
                  </a:lnTo>
                  <a:lnTo>
                    <a:pt x="88" y="205"/>
                  </a:lnTo>
                  <a:lnTo>
                    <a:pt x="84" y="214"/>
                  </a:lnTo>
                  <a:lnTo>
                    <a:pt x="82" y="217"/>
                  </a:lnTo>
                  <a:lnTo>
                    <a:pt x="79" y="227"/>
                  </a:lnTo>
                  <a:lnTo>
                    <a:pt x="78" y="230"/>
                  </a:lnTo>
                  <a:lnTo>
                    <a:pt x="74" y="239"/>
                  </a:lnTo>
                  <a:lnTo>
                    <a:pt x="74" y="242"/>
                  </a:lnTo>
                  <a:lnTo>
                    <a:pt x="69" y="253"/>
                  </a:lnTo>
                  <a:lnTo>
                    <a:pt x="68" y="255"/>
                  </a:lnTo>
                  <a:lnTo>
                    <a:pt x="65" y="266"/>
                  </a:lnTo>
                  <a:lnTo>
                    <a:pt x="64" y="268"/>
                  </a:lnTo>
                  <a:lnTo>
                    <a:pt x="61" y="278"/>
                  </a:lnTo>
                  <a:lnTo>
                    <a:pt x="59" y="281"/>
                  </a:lnTo>
                  <a:lnTo>
                    <a:pt x="57" y="292"/>
                  </a:lnTo>
                  <a:lnTo>
                    <a:pt x="55" y="295"/>
                  </a:lnTo>
                  <a:lnTo>
                    <a:pt x="52" y="304"/>
                  </a:lnTo>
                  <a:lnTo>
                    <a:pt x="51" y="307"/>
                  </a:lnTo>
                  <a:lnTo>
                    <a:pt x="48" y="318"/>
                  </a:lnTo>
                  <a:lnTo>
                    <a:pt x="47" y="321"/>
                  </a:lnTo>
                  <a:lnTo>
                    <a:pt x="44" y="332"/>
                  </a:lnTo>
                  <a:lnTo>
                    <a:pt x="44" y="335"/>
                  </a:lnTo>
                  <a:lnTo>
                    <a:pt x="41" y="345"/>
                  </a:lnTo>
                  <a:lnTo>
                    <a:pt x="40" y="347"/>
                  </a:lnTo>
                  <a:lnTo>
                    <a:pt x="37" y="358"/>
                  </a:lnTo>
                  <a:lnTo>
                    <a:pt x="37" y="361"/>
                  </a:lnTo>
                  <a:lnTo>
                    <a:pt x="34" y="372"/>
                  </a:lnTo>
                  <a:lnTo>
                    <a:pt x="32" y="375"/>
                  </a:lnTo>
                  <a:lnTo>
                    <a:pt x="30" y="385"/>
                  </a:lnTo>
                  <a:lnTo>
                    <a:pt x="30" y="388"/>
                  </a:lnTo>
                  <a:lnTo>
                    <a:pt x="27" y="399"/>
                  </a:lnTo>
                  <a:lnTo>
                    <a:pt x="27" y="401"/>
                  </a:lnTo>
                  <a:lnTo>
                    <a:pt x="24" y="411"/>
                  </a:lnTo>
                  <a:lnTo>
                    <a:pt x="24" y="414"/>
                  </a:lnTo>
                  <a:lnTo>
                    <a:pt x="21" y="425"/>
                  </a:lnTo>
                  <a:lnTo>
                    <a:pt x="21" y="428"/>
                  </a:lnTo>
                  <a:lnTo>
                    <a:pt x="18" y="437"/>
                  </a:lnTo>
                  <a:lnTo>
                    <a:pt x="18" y="440"/>
                  </a:lnTo>
                  <a:lnTo>
                    <a:pt x="15" y="451"/>
                  </a:lnTo>
                  <a:lnTo>
                    <a:pt x="15" y="453"/>
                  </a:lnTo>
                  <a:lnTo>
                    <a:pt x="14" y="464"/>
                  </a:lnTo>
                  <a:lnTo>
                    <a:pt x="13" y="467"/>
                  </a:lnTo>
                  <a:lnTo>
                    <a:pt x="11" y="476"/>
                  </a:lnTo>
                  <a:lnTo>
                    <a:pt x="11" y="479"/>
                  </a:lnTo>
                  <a:lnTo>
                    <a:pt x="10" y="489"/>
                  </a:lnTo>
                  <a:lnTo>
                    <a:pt x="8" y="492"/>
                  </a:lnTo>
                  <a:lnTo>
                    <a:pt x="7" y="501"/>
                  </a:lnTo>
                  <a:lnTo>
                    <a:pt x="7" y="504"/>
                  </a:lnTo>
                  <a:lnTo>
                    <a:pt x="5" y="514"/>
                  </a:lnTo>
                  <a:lnTo>
                    <a:pt x="5" y="515"/>
                  </a:lnTo>
                  <a:lnTo>
                    <a:pt x="4" y="525"/>
                  </a:lnTo>
                  <a:lnTo>
                    <a:pt x="4" y="528"/>
                  </a:lnTo>
                  <a:lnTo>
                    <a:pt x="3" y="536"/>
                  </a:lnTo>
                  <a:lnTo>
                    <a:pt x="3" y="539"/>
                  </a:lnTo>
                  <a:lnTo>
                    <a:pt x="3" y="548"/>
                  </a:lnTo>
                  <a:lnTo>
                    <a:pt x="3" y="550"/>
                  </a:lnTo>
                  <a:lnTo>
                    <a:pt x="1" y="559"/>
                  </a:lnTo>
                  <a:lnTo>
                    <a:pt x="1" y="561"/>
                  </a:lnTo>
                  <a:lnTo>
                    <a:pt x="1" y="569"/>
                  </a:lnTo>
                  <a:lnTo>
                    <a:pt x="1" y="572"/>
                  </a:lnTo>
                  <a:lnTo>
                    <a:pt x="1" y="580"/>
                  </a:lnTo>
                  <a:lnTo>
                    <a:pt x="0" y="583"/>
                  </a:lnTo>
                  <a:lnTo>
                    <a:pt x="0" y="590"/>
                  </a:lnTo>
                  <a:lnTo>
                    <a:pt x="0" y="593"/>
                  </a:lnTo>
                  <a:lnTo>
                    <a:pt x="0" y="600"/>
                  </a:lnTo>
                  <a:lnTo>
                    <a:pt x="0" y="602"/>
                  </a:lnTo>
                  <a:lnTo>
                    <a:pt x="1" y="609"/>
                  </a:lnTo>
                  <a:lnTo>
                    <a:pt x="1" y="612"/>
                  </a:lnTo>
                  <a:lnTo>
                    <a:pt x="1" y="619"/>
                  </a:lnTo>
                  <a:lnTo>
                    <a:pt x="1" y="620"/>
                  </a:lnTo>
                  <a:lnTo>
                    <a:pt x="1" y="627"/>
                  </a:lnTo>
                  <a:lnTo>
                    <a:pt x="3" y="629"/>
                  </a:lnTo>
                  <a:lnTo>
                    <a:pt x="3" y="636"/>
                  </a:lnTo>
                  <a:lnTo>
                    <a:pt x="3" y="637"/>
                  </a:lnTo>
                  <a:lnTo>
                    <a:pt x="4" y="644"/>
                  </a:lnTo>
                  <a:lnTo>
                    <a:pt x="4" y="645"/>
                  </a:lnTo>
                  <a:lnTo>
                    <a:pt x="7" y="651"/>
                  </a:lnTo>
                  <a:lnTo>
                    <a:pt x="7" y="652"/>
                  </a:lnTo>
                  <a:lnTo>
                    <a:pt x="8" y="659"/>
                  </a:lnTo>
                  <a:lnTo>
                    <a:pt x="10" y="661"/>
                  </a:lnTo>
                  <a:lnTo>
                    <a:pt x="13" y="666"/>
                  </a:lnTo>
                  <a:lnTo>
                    <a:pt x="13" y="668"/>
                  </a:lnTo>
                  <a:lnTo>
                    <a:pt x="15" y="673"/>
                  </a:lnTo>
                  <a:lnTo>
                    <a:pt x="17" y="674"/>
                  </a:lnTo>
                  <a:lnTo>
                    <a:pt x="20" y="680"/>
                  </a:lnTo>
                  <a:lnTo>
                    <a:pt x="21" y="681"/>
                  </a:lnTo>
                  <a:lnTo>
                    <a:pt x="24" y="686"/>
                  </a:lnTo>
                  <a:lnTo>
                    <a:pt x="25" y="687"/>
                  </a:lnTo>
                  <a:lnTo>
                    <a:pt x="30" y="692"/>
                  </a:lnTo>
                  <a:lnTo>
                    <a:pt x="31" y="694"/>
                  </a:lnTo>
                  <a:lnTo>
                    <a:pt x="35" y="698"/>
                  </a:lnTo>
                  <a:lnTo>
                    <a:pt x="37" y="699"/>
                  </a:lnTo>
                  <a:lnTo>
                    <a:pt x="41" y="704"/>
                  </a:lnTo>
                  <a:lnTo>
                    <a:pt x="42" y="705"/>
                  </a:lnTo>
                  <a:lnTo>
                    <a:pt x="48" y="709"/>
                  </a:lnTo>
                  <a:lnTo>
                    <a:pt x="49" y="710"/>
                  </a:lnTo>
                  <a:lnTo>
                    <a:pt x="55" y="715"/>
                  </a:lnTo>
                  <a:lnTo>
                    <a:pt x="57" y="716"/>
                  </a:lnTo>
                  <a:lnTo>
                    <a:pt x="62" y="719"/>
                  </a:lnTo>
                  <a:lnTo>
                    <a:pt x="64" y="720"/>
                  </a:lnTo>
                  <a:lnTo>
                    <a:pt x="71" y="724"/>
                  </a:lnTo>
                  <a:lnTo>
                    <a:pt x="72" y="724"/>
                  </a:lnTo>
                  <a:lnTo>
                    <a:pt x="78" y="729"/>
                  </a:lnTo>
                  <a:lnTo>
                    <a:pt x="79" y="730"/>
                  </a:lnTo>
                  <a:lnTo>
                    <a:pt x="86" y="733"/>
                  </a:lnTo>
                  <a:lnTo>
                    <a:pt x="88" y="734"/>
                  </a:lnTo>
                  <a:lnTo>
                    <a:pt x="95" y="737"/>
                  </a:lnTo>
                  <a:lnTo>
                    <a:pt x="98" y="737"/>
                  </a:lnTo>
                  <a:lnTo>
                    <a:pt x="105" y="740"/>
                  </a:lnTo>
                  <a:lnTo>
                    <a:pt x="106" y="741"/>
                  </a:lnTo>
                  <a:lnTo>
                    <a:pt x="113" y="744"/>
                  </a:lnTo>
                  <a:lnTo>
                    <a:pt x="116" y="744"/>
                  </a:lnTo>
                  <a:lnTo>
                    <a:pt x="123" y="747"/>
                  </a:lnTo>
                  <a:lnTo>
                    <a:pt x="125" y="748"/>
                  </a:lnTo>
                  <a:lnTo>
                    <a:pt x="133" y="749"/>
                  </a:lnTo>
                  <a:lnTo>
                    <a:pt x="135" y="751"/>
                  </a:lnTo>
                  <a:lnTo>
                    <a:pt x="143" y="752"/>
                  </a:lnTo>
                  <a:lnTo>
                    <a:pt x="146" y="753"/>
                  </a:lnTo>
                  <a:lnTo>
                    <a:pt x="153" y="755"/>
                  </a:lnTo>
                  <a:lnTo>
                    <a:pt x="156" y="755"/>
                  </a:lnTo>
                  <a:lnTo>
                    <a:pt x="164" y="756"/>
                  </a:lnTo>
                  <a:lnTo>
                    <a:pt x="166" y="758"/>
                  </a:lnTo>
                  <a:lnTo>
                    <a:pt x="174" y="759"/>
                  </a:lnTo>
                  <a:lnTo>
                    <a:pt x="177" y="759"/>
                  </a:lnTo>
                  <a:lnTo>
                    <a:pt x="186" y="760"/>
                  </a:lnTo>
                  <a:lnTo>
                    <a:pt x="187" y="760"/>
                  </a:lnTo>
                  <a:lnTo>
                    <a:pt x="196" y="762"/>
                  </a:lnTo>
                  <a:lnTo>
                    <a:pt x="199" y="762"/>
                  </a:lnTo>
                  <a:lnTo>
                    <a:pt x="207" y="763"/>
                  </a:lnTo>
                  <a:lnTo>
                    <a:pt x="210" y="763"/>
                  </a:lnTo>
                  <a:lnTo>
                    <a:pt x="218" y="765"/>
                  </a:lnTo>
                  <a:lnTo>
                    <a:pt x="220" y="765"/>
                  </a:lnTo>
                  <a:lnTo>
                    <a:pt x="230" y="765"/>
                  </a:lnTo>
                  <a:lnTo>
                    <a:pt x="231" y="765"/>
                  </a:lnTo>
                  <a:lnTo>
                    <a:pt x="240" y="765"/>
                  </a:lnTo>
                  <a:lnTo>
                    <a:pt x="243" y="765"/>
                  </a:lnTo>
                  <a:lnTo>
                    <a:pt x="251" y="765"/>
                  </a:lnTo>
                  <a:lnTo>
                    <a:pt x="254" y="765"/>
                  </a:lnTo>
                  <a:lnTo>
                    <a:pt x="262" y="765"/>
                  </a:lnTo>
                  <a:lnTo>
                    <a:pt x="265" y="765"/>
                  </a:lnTo>
                  <a:lnTo>
                    <a:pt x="274" y="765"/>
                  </a:lnTo>
                  <a:lnTo>
                    <a:pt x="275" y="765"/>
                  </a:lnTo>
                  <a:lnTo>
                    <a:pt x="285" y="765"/>
                  </a:lnTo>
                  <a:lnTo>
                    <a:pt x="287" y="765"/>
                  </a:lnTo>
                  <a:lnTo>
                    <a:pt x="295" y="763"/>
                  </a:lnTo>
                  <a:lnTo>
                    <a:pt x="298" y="763"/>
                  </a:lnTo>
                  <a:lnTo>
                    <a:pt x="306" y="762"/>
                  </a:lnTo>
                  <a:lnTo>
                    <a:pt x="309" y="762"/>
                  </a:lnTo>
                  <a:lnTo>
                    <a:pt x="318" y="760"/>
                  </a:lnTo>
                  <a:lnTo>
                    <a:pt x="319" y="760"/>
                  </a:lnTo>
                  <a:lnTo>
                    <a:pt x="328" y="759"/>
                  </a:lnTo>
                  <a:lnTo>
                    <a:pt x="331" y="759"/>
                  </a:lnTo>
                  <a:lnTo>
                    <a:pt x="339" y="758"/>
                  </a:lnTo>
                  <a:lnTo>
                    <a:pt x="341" y="756"/>
                  </a:lnTo>
                  <a:lnTo>
                    <a:pt x="349" y="755"/>
                  </a:lnTo>
                  <a:lnTo>
                    <a:pt x="352" y="755"/>
                  </a:lnTo>
                  <a:lnTo>
                    <a:pt x="359" y="753"/>
                  </a:lnTo>
                  <a:lnTo>
                    <a:pt x="362" y="752"/>
                  </a:lnTo>
                  <a:lnTo>
                    <a:pt x="370" y="751"/>
                  </a:lnTo>
                  <a:lnTo>
                    <a:pt x="372" y="749"/>
                  </a:lnTo>
                  <a:lnTo>
                    <a:pt x="380" y="748"/>
                  </a:lnTo>
                  <a:lnTo>
                    <a:pt x="382" y="747"/>
                  </a:lnTo>
                  <a:lnTo>
                    <a:pt x="389" y="744"/>
                  </a:lnTo>
                  <a:lnTo>
                    <a:pt x="392" y="744"/>
                  </a:lnTo>
                  <a:lnTo>
                    <a:pt x="399" y="741"/>
                  </a:lnTo>
                  <a:lnTo>
                    <a:pt x="400" y="740"/>
                  </a:lnTo>
                  <a:lnTo>
                    <a:pt x="407" y="737"/>
                  </a:lnTo>
                  <a:lnTo>
                    <a:pt x="410" y="737"/>
                  </a:lnTo>
                  <a:lnTo>
                    <a:pt x="417" y="734"/>
                  </a:lnTo>
                  <a:lnTo>
                    <a:pt x="419" y="733"/>
                  </a:lnTo>
                  <a:lnTo>
                    <a:pt x="426" y="730"/>
                  </a:lnTo>
                  <a:lnTo>
                    <a:pt x="427" y="729"/>
                  </a:lnTo>
                  <a:lnTo>
                    <a:pt x="433" y="724"/>
                  </a:lnTo>
                  <a:lnTo>
                    <a:pt x="434" y="724"/>
                  </a:lnTo>
                  <a:lnTo>
                    <a:pt x="441" y="720"/>
                  </a:lnTo>
                  <a:lnTo>
                    <a:pt x="443" y="719"/>
                  </a:lnTo>
                  <a:lnTo>
                    <a:pt x="448" y="716"/>
                  </a:lnTo>
                  <a:lnTo>
                    <a:pt x="450" y="715"/>
                  </a:lnTo>
                  <a:lnTo>
                    <a:pt x="456" y="710"/>
                  </a:lnTo>
                  <a:lnTo>
                    <a:pt x="457" y="709"/>
                  </a:lnTo>
                  <a:lnTo>
                    <a:pt x="463" y="705"/>
                  </a:lnTo>
                  <a:lnTo>
                    <a:pt x="464" y="704"/>
                  </a:lnTo>
                  <a:lnTo>
                    <a:pt x="468" y="699"/>
                  </a:lnTo>
                  <a:lnTo>
                    <a:pt x="470" y="698"/>
                  </a:lnTo>
                  <a:lnTo>
                    <a:pt x="474" y="694"/>
                  </a:lnTo>
                  <a:lnTo>
                    <a:pt x="475" y="692"/>
                  </a:lnTo>
                  <a:lnTo>
                    <a:pt x="480" y="687"/>
                  </a:lnTo>
                  <a:lnTo>
                    <a:pt x="481" y="686"/>
                  </a:lnTo>
                  <a:lnTo>
                    <a:pt x="484" y="681"/>
                  </a:lnTo>
                  <a:lnTo>
                    <a:pt x="485" y="680"/>
                  </a:lnTo>
                  <a:lnTo>
                    <a:pt x="488" y="674"/>
                  </a:lnTo>
                  <a:lnTo>
                    <a:pt x="490" y="673"/>
                  </a:lnTo>
                  <a:lnTo>
                    <a:pt x="492" y="668"/>
                  </a:lnTo>
                  <a:lnTo>
                    <a:pt x="492" y="666"/>
                  </a:lnTo>
                  <a:lnTo>
                    <a:pt x="495" y="661"/>
                  </a:lnTo>
                  <a:lnTo>
                    <a:pt x="497" y="659"/>
                  </a:lnTo>
                  <a:lnTo>
                    <a:pt x="498" y="652"/>
                  </a:lnTo>
                  <a:lnTo>
                    <a:pt x="498" y="651"/>
                  </a:lnTo>
                  <a:lnTo>
                    <a:pt x="501" y="645"/>
                  </a:lnTo>
                  <a:lnTo>
                    <a:pt x="501" y="644"/>
                  </a:lnTo>
                  <a:lnTo>
                    <a:pt x="502" y="637"/>
                  </a:lnTo>
                  <a:lnTo>
                    <a:pt x="502" y="629"/>
                  </a:lnTo>
                  <a:lnTo>
                    <a:pt x="504" y="627"/>
                  </a:lnTo>
                  <a:lnTo>
                    <a:pt x="504" y="620"/>
                  </a:lnTo>
                  <a:lnTo>
                    <a:pt x="504" y="619"/>
                  </a:lnTo>
                  <a:lnTo>
                    <a:pt x="504" y="612"/>
                  </a:lnTo>
                  <a:lnTo>
                    <a:pt x="504" y="609"/>
                  </a:lnTo>
                  <a:lnTo>
                    <a:pt x="505" y="602"/>
                  </a:lnTo>
                  <a:lnTo>
                    <a:pt x="505" y="600"/>
                  </a:lnTo>
                  <a:lnTo>
                    <a:pt x="505" y="593"/>
                  </a:lnTo>
                  <a:lnTo>
                    <a:pt x="505" y="590"/>
                  </a:lnTo>
                  <a:lnTo>
                    <a:pt x="505" y="583"/>
                  </a:lnTo>
                  <a:lnTo>
                    <a:pt x="504" y="580"/>
                  </a:lnTo>
                  <a:lnTo>
                    <a:pt x="504" y="572"/>
                  </a:lnTo>
                  <a:lnTo>
                    <a:pt x="504" y="569"/>
                  </a:lnTo>
                  <a:lnTo>
                    <a:pt x="504" y="561"/>
                  </a:lnTo>
                  <a:lnTo>
                    <a:pt x="504" y="559"/>
                  </a:lnTo>
                  <a:lnTo>
                    <a:pt x="502" y="550"/>
                  </a:lnTo>
                  <a:lnTo>
                    <a:pt x="502" y="548"/>
                  </a:lnTo>
                  <a:lnTo>
                    <a:pt x="502" y="539"/>
                  </a:lnTo>
                  <a:lnTo>
                    <a:pt x="502" y="536"/>
                  </a:lnTo>
                  <a:lnTo>
                    <a:pt x="501" y="528"/>
                  </a:lnTo>
                  <a:lnTo>
                    <a:pt x="501" y="525"/>
                  </a:lnTo>
                  <a:lnTo>
                    <a:pt x="500" y="515"/>
                  </a:lnTo>
                  <a:lnTo>
                    <a:pt x="500" y="514"/>
                  </a:lnTo>
                  <a:lnTo>
                    <a:pt x="498" y="504"/>
                  </a:lnTo>
                  <a:lnTo>
                    <a:pt x="498" y="501"/>
                  </a:lnTo>
                  <a:lnTo>
                    <a:pt x="497" y="492"/>
                  </a:lnTo>
                  <a:lnTo>
                    <a:pt x="495" y="489"/>
                  </a:lnTo>
                  <a:lnTo>
                    <a:pt x="494" y="479"/>
                  </a:lnTo>
                  <a:lnTo>
                    <a:pt x="494" y="476"/>
                  </a:lnTo>
                  <a:lnTo>
                    <a:pt x="492" y="467"/>
                  </a:lnTo>
                  <a:lnTo>
                    <a:pt x="491" y="464"/>
                  </a:lnTo>
                  <a:lnTo>
                    <a:pt x="490" y="453"/>
                  </a:lnTo>
                  <a:lnTo>
                    <a:pt x="490" y="451"/>
                  </a:lnTo>
                  <a:lnTo>
                    <a:pt x="487" y="440"/>
                  </a:lnTo>
                  <a:lnTo>
                    <a:pt x="487" y="437"/>
                  </a:lnTo>
                  <a:lnTo>
                    <a:pt x="484" y="428"/>
                  </a:lnTo>
                  <a:lnTo>
                    <a:pt x="484" y="425"/>
                  </a:lnTo>
                  <a:lnTo>
                    <a:pt x="481" y="414"/>
                  </a:lnTo>
                  <a:lnTo>
                    <a:pt x="481" y="411"/>
                  </a:lnTo>
                  <a:lnTo>
                    <a:pt x="478" y="401"/>
                  </a:lnTo>
                  <a:lnTo>
                    <a:pt x="478" y="399"/>
                  </a:lnTo>
                  <a:lnTo>
                    <a:pt x="475" y="388"/>
                  </a:lnTo>
                  <a:lnTo>
                    <a:pt x="475" y="385"/>
                  </a:lnTo>
                  <a:lnTo>
                    <a:pt x="473" y="375"/>
                  </a:lnTo>
                  <a:lnTo>
                    <a:pt x="471" y="372"/>
                  </a:lnTo>
                  <a:lnTo>
                    <a:pt x="468" y="361"/>
                  </a:lnTo>
                  <a:lnTo>
                    <a:pt x="468" y="358"/>
                  </a:lnTo>
                  <a:lnTo>
                    <a:pt x="466" y="347"/>
                  </a:lnTo>
                  <a:lnTo>
                    <a:pt x="464" y="345"/>
                  </a:lnTo>
                  <a:lnTo>
                    <a:pt x="461" y="335"/>
                  </a:lnTo>
                  <a:lnTo>
                    <a:pt x="461" y="332"/>
                  </a:lnTo>
                  <a:lnTo>
                    <a:pt x="458" y="321"/>
                  </a:lnTo>
                  <a:lnTo>
                    <a:pt x="457" y="318"/>
                  </a:lnTo>
                  <a:lnTo>
                    <a:pt x="454" y="307"/>
                  </a:lnTo>
                  <a:lnTo>
                    <a:pt x="453" y="304"/>
                  </a:lnTo>
                  <a:lnTo>
                    <a:pt x="450" y="295"/>
                  </a:lnTo>
                  <a:lnTo>
                    <a:pt x="448" y="292"/>
                  </a:lnTo>
                  <a:lnTo>
                    <a:pt x="446" y="281"/>
                  </a:lnTo>
                  <a:lnTo>
                    <a:pt x="444" y="278"/>
                  </a:lnTo>
                  <a:lnTo>
                    <a:pt x="441" y="268"/>
                  </a:lnTo>
                  <a:lnTo>
                    <a:pt x="440" y="266"/>
                  </a:lnTo>
                  <a:lnTo>
                    <a:pt x="437" y="255"/>
                  </a:lnTo>
                  <a:lnTo>
                    <a:pt x="436" y="253"/>
                  </a:lnTo>
                  <a:lnTo>
                    <a:pt x="431" y="242"/>
                  </a:lnTo>
                  <a:lnTo>
                    <a:pt x="431" y="239"/>
                  </a:lnTo>
                  <a:lnTo>
                    <a:pt x="427" y="230"/>
                  </a:lnTo>
                  <a:lnTo>
                    <a:pt x="426" y="227"/>
                  </a:lnTo>
                  <a:lnTo>
                    <a:pt x="423" y="217"/>
                  </a:lnTo>
                  <a:lnTo>
                    <a:pt x="421" y="214"/>
                  </a:lnTo>
                  <a:lnTo>
                    <a:pt x="417" y="205"/>
                  </a:lnTo>
                  <a:lnTo>
                    <a:pt x="417" y="202"/>
                  </a:lnTo>
                  <a:lnTo>
                    <a:pt x="413" y="192"/>
                  </a:lnTo>
                  <a:lnTo>
                    <a:pt x="412" y="189"/>
                  </a:lnTo>
                  <a:lnTo>
                    <a:pt x="407" y="181"/>
                  </a:lnTo>
                  <a:lnTo>
                    <a:pt x="406" y="178"/>
                  </a:lnTo>
                  <a:lnTo>
                    <a:pt x="402" y="169"/>
                  </a:lnTo>
                  <a:lnTo>
                    <a:pt x="402" y="166"/>
                  </a:lnTo>
                  <a:lnTo>
                    <a:pt x="397" y="157"/>
                  </a:lnTo>
                  <a:lnTo>
                    <a:pt x="396" y="155"/>
                  </a:lnTo>
                  <a:lnTo>
                    <a:pt x="392" y="146"/>
                  </a:lnTo>
                  <a:lnTo>
                    <a:pt x="390" y="144"/>
                  </a:lnTo>
                  <a:lnTo>
                    <a:pt x="386" y="135"/>
                  </a:lnTo>
                  <a:lnTo>
                    <a:pt x="385" y="133"/>
                  </a:lnTo>
                  <a:lnTo>
                    <a:pt x="380" y="124"/>
                  </a:lnTo>
                  <a:lnTo>
                    <a:pt x="379" y="121"/>
                  </a:lnTo>
                  <a:lnTo>
                    <a:pt x="375" y="113"/>
                  </a:lnTo>
                  <a:lnTo>
                    <a:pt x="373" y="112"/>
                  </a:lnTo>
                  <a:lnTo>
                    <a:pt x="369" y="103"/>
                  </a:lnTo>
                  <a:lnTo>
                    <a:pt x="368" y="102"/>
                  </a:lnTo>
                  <a:lnTo>
                    <a:pt x="363" y="94"/>
                  </a:lnTo>
                  <a:lnTo>
                    <a:pt x="362" y="92"/>
                  </a:lnTo>
                  <a:lnTo>
                    <a:pt x="358" y="85"/>
                  </a:lnTo>
                  <a:lnTo>
                    <a:pt x="356" y="83"/>
                  </a:lnTo>
                  <a:lnTo>
                    <a:pt x="352" y="76"/>
                  </a:lnTo>
                  <a:lnTo>
                    <a:pt x="350" y="74"/>
                  </a:lnTo>
                  <a:lnTo>
                    <a:pt x="346" y="67"/>
                  </a:lnTo>
                  <a:lnTo>
                    <a:pt x="345" y="66"/>
                  </a:lnTo>
                  <a:lnTo>
                    <a:pt x="339" y="59"/>
                  </a:lnTo>
                  <a:lnTo>
                    <a:pt x="339" y="58"/>
                  </a:lnTo>
                  <a:lnTo>
                    <a:pt x="333" y="52"/>
                  </a:lnTo>
                  <a:lnTo>
                    <a:pt x="332" y="49"/>
                  </a:lnTo>
                  <a:lnTo>
                    <a:pt x="328" y="44"/>
                  </a:lnTo>
                  <a:lnTo>
                    <a:pt x="326" y="42"/>
                  </a:lnTo>
                  <a:lnTo>
                    <a:pt x="322" y="37"/>
                  </a:lnTo>
                  <a:lnTo>
                    <a:pt x="321" y="37"/>
                  </a:lnTo>
                  <a:lnTo>
                    <a:pt x="315" y="31"/>
                  </a:lnTo>
                  <a:lnTo>
                    <a:pt x="314" y="30"/>
                  </a:lnTo>
                  <a:lnTo>
                    <a:pt x="309" y="26"/>
                  </a:lnTo>
                  <a:lnTo>
                    <a:pt x="308" y="24"/>
                  </a:lnTo>
                  <a:lnTo>
                    <a:pt x="304" y="20"/>
                  </a:lnTo>
                  <a:lnTo>
                    <a:pt x="302" y="19"/>
                  </a:lnTo>
                  <a:lnTo>
                    <a:pt x="297" y="16"/>
                  </a:lnTo>
                  <a:lnTo>
                    <a:pt x="295" y="15"/>
                  </a:lnTo>
                  <a:lnTo>
                    <a:pt x="291" y="12"/>
                  </a:lnTo>
                  <a:lnTo>
                    <a:pt x="289" y="11"/>
                  </a:lnTo>
                  <a:lnTo>
                    <a:pt x="284" y="8"/>
                  </a:lnTo>
                  <a:lnTo>
                    <a:pt x="278" y="5"/>
                  </a:lnTo>
                  <a:lnTo>
                    <a:pt x="277" y="5"/>
                  </a:lnTo>
                  <a:lnTo>
                    <a:pt x="272" y="2"/>
                  </a:lnTo>
                  <a:lnTo>
                    <a:pt x="271" y="2"/>
                  </a:lnTo>
                  <a:lnTo>
                    <a:pt x="265" y="1"/>
                  </a:lnTo>
                  <a:lnTo>
                    <a:pt x="264" y="1"/>
                  </a:lnTo>
                  <a:lnTo>
                    <a:pt x="260" y="0"/>
                  </a:lnTo>
                  <a:lnTo>
                    <a:pt x="258" y="0"/>
                  </a:lnTo>
                  <a:lnTo>
                    <a:pt x="253" y="0"/>
                  </a:lnTo>
                </a:path>
              </a:pathLst>
            </a:custGeom>
            <a:gradFill rotWithShape="0">
              <a:gsLst>
                <a:gs pos="0">
                  <a:srgbClr val="7f1966"/>
                </a:gs>
                <a:gs pos="100000">
                  <a:srgbClr val="ff33cc"/>
                </a:gs>
              </a:gsLst>
              <a:lin ang="54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45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3000">
    <p:cover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f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7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C0D7-A404-4B73-B122-7DC4B4350BE9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а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электронных облаков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сложная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в школьных учебниках не приводится. Н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их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от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до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49" name="Object 7"/>
          <p:cNvGraphicFramePr/>
          <p:nvPr/>
        </p:nvGraphicFramePr>
        <p:xfrm>
          <a:off x="2214720" y="2928960"/>
          <a:ext cx="50004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928960"/>
                    <a:ext cx="50004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cover dir="l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в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дорода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5C4A-8E81-4D59-896F-599313A4DC2A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85880" y="1856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лектрон этого атома при вращении образует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сферическое облако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1</a:t>
            </a:r>
            <a:r>
              <a:rPr b="1" lang="en-US" sz="24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b292ca"/>
                </a:solidFill>
                <a:latin typeface="Gill Sans MT"/>
              </a:rPr>
              <a:t>Н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00cc66"/>
                </a:solidFill>
                <a:latin typeface="Gill Sans MT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то схема строения атома. Здесь </a:t>
            </a:r>
            <a:r>
              <a:rPr b="0" i="1" lang="en-US" sz="2600" spc="-1" strike="noStrike">
                <a:solidFill>
                  <a:srgbClr val="dd23d0"/>
                </a:solidFill>
                <a:latin typeface="Gill Sans MT"/>
              </a:rPr>
              <a:t>на первом месте - заряд ядра</a:t>
            </a:r>
            <a:r>
              <a:rPr b="0" lang="en-US" sz="2600" spc="-1" strike="noStrike">
                <a:solidFill>
                  <a:srgbClr val="dd23d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b292ca"/>
                </a:solidFill>
                <a:latin typeface="Gill Sans MT"/>
              </a:rPr>
              <a:t>на втором месте - химическое обозначени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далее - одна орбитал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</a:t>
            </a:r>
            <a:r>
              <a:rPr b="0" lang="en-US" sz="2600" spc="-1" strike="noStrike">
                <a:solidFill>
                  <a:srgbClr val="dd23d0"/>
                </a:solidFill>
                <a:latin typeface="Gill Sans MT"/>
              </a:rPr>
              <a:t>электроны на не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</a:t>
            </a:r>
            <a:r>
              <a:rPr b="0" lang="en-US" sz="2600" spc="-1" strike="noStrike" baseline="30000">
                <a:solidFill>
                  <a:srgbClr val="ff0033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электронная формула атом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Oval 4"/>
          <p:cNvSpPr/>
          <p:nvPr/>
        </p:nvSpPr>
        <p:spPr>
          <a:xfrm>
            <a:off x="6858000" y="357120"/>
            <a:ext cx="1346040" cy="1379520"/>
          </a:xfrm>
          <a:prstGeom prst="ellipse">
            <a:avLst/>
          </a:prstGeom>
          <a:gradFill rotWithShape="0">
            <a:gsLst>
              <a:gs pos="0">
                <a:srgbClr val="cccca3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0000">
    <p:cover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2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2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2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г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ел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D2E1-237F-46A4-BDF5-3F3DF7E79FC4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Не )</a:t>
            </a: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электронная формула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Здесь два s-электрона</a:t>
            </a:r>
            <a:r>
              <a:rPr b="0" lang="en-US" sz="2600" spc="-1" strike="noStrike">
                <a:solidFill>
                  <a:srgbClr val="ff33cc"/>
                </a:solidFill>
                <a:latin typeface="Gill Sans MT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Облака их одинаковой формы и при совмещении образуют </a:t>
            </a:r>
            <a:r>
              <a:rPr b="0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общее двухэлектронное облако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ро такие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электрон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говорят, что они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спарен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Oval 4"/>
          <p:cNvSpPr/>
          <p:nvPr/>
        </p:nvSpPr>
        <p:spPr>
          <a:xfrm>
            <a:off x="6572160" y="500040"/>
            <a:ext cx="1468440" cy="135720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л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ит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0F0B-0860-4C95-AFF8-74DE5235213B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0000">
                <a:solidFill>
                  <a:srgbClr val="ff0033"/>
                </a:solidFill>
                <a:latin typeface="Gill Sans MT"/>
              </a:rPr>
              <a:t>+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Li  )</a:t>
            </a:r>
            <a:r>
              <a:rPr b="1" lang="en-US" sz="2600" spc="-1" strike="noStrike" baseline="-25000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 2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электронная формула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лемен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располагается во </a:t>
            </a:r>
            <a:r>
              <a:rPr b="0" lang="en-US" sz="2600" spc="-1" strike="noStrike">
                <a:solidFill>
                  <a:srgbClr val="cc9900"/>
                </a:solidFill>
                <a:latin typeface="Gill Sans MT"/>
              </a:rPr>
              <a:t>втором период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имеет два электронных слоя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65" name="Group 6"/>
          <p:cNvGrpSpPr/>
          <p:nvPr/>
        </p:nvGrpSpPr>
        <p:grpSpPr>
          <a:xfrm>
            <a:off x="6715080" y="500040"/>
            <a:ext cx="1549080" cy="1477800"/>
            <a:chOff x="6715080" y="500040"/>
            <a:chExt cx="1549080" cy="1477800"/>
          </a:xfrm>
        </p:grpSpPr>
        <p:sp>
          <p:nvSpPr>
            <p:cNvPr id="666" name="Oval 4"/>
            <p:cNvSpPr/>
            <p:nvPr/>
          </p:nvSpPr>
          <p:spPr>
            <a:xfrm>
              <a:off x="6715080" y="500040"/>
              <a:ext cx="1549080" cy="14778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67" name="Oval 5"/>
            <p:cNvSpPr/>
            <p:nvPr/>
          </p:nvSpPr>
          <p:spPr>
            <a:xfrm>
              <a:off x="6956280" y="730080"/>
              <a:ext cx="1066320" cy="101736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6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4000">
    <p:cover dir="l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б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ерилл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0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B861-FC97-44CE-A667-0CE73B3E0C18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500040" y="1999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+4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Be )</a:t>
            </a: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)</a:t>
            </a: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33cc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2s</a:t>
            </a:r>
            <a:r>
              <a:rPr b="1" lang="en-US" sz="2600" spc="-1" strike="noStrike" baseline="30000">
                <a:solidFill>
                  <a:srgbClr val="ff33cc"/>
                </a:solidFill>
                <a:latin typeface="Gill Sans MT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В этом атоме имеется два спаренных s-электрона во внутреннем слое и два спаренных s-электрона в наружном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72" name="Group 6"/>
          <p:cNvGrpSpPr/>
          <p:nvPr/>
        </p:nvGrpSpPr>
        <p:grpSpPr>
          <a:xfrm>
            <a:off x="6786720" y="357120"/>
            <a:ext cx="1785600" cy="1736280"/>
            <a:chOff x="6786720" y="357120"/>
            <a:chExt cx="1785600" cy="1736280"/>
          </a:xfrm>
        </p:grpSpPr>
        <p:sp>
          <p:nvSpPr>
            <p:cNvPr id="673" name="Oval 4"/>
            <p:cNvSpPr/>
            <p:nvPr/>
          </p:nvSpPr>
          <p:spPr>
            <a:xfrm>
              <a:off x="6786720" y="357120"/>
              <a:ext cx="1785600" cy="1736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74" name="Oval 5"/>
            <p:cNvSpPr/>
            <p:nvPr/>
          </p:nvSpPr>
          <p:spPr>
            <a:xfrm>
              <a:off x="7064640" y="627480"/>
              <a:ext cx="1229400" cy="11952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6000">
    <p:cover dir="l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глерод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7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D200-8C2B-496C-9E56-0916386E654A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00040" y="16430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+6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С ) </a:t>
            </a: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) </a:t>
            </a: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s 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p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27ca3"/>
                </a:solidFill>
                <a:uFillTx/>
                <a:latin typeface="Gill Sans MT"/>
              </a:rPr>
              <a:t>В обычном состояни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атом углерода </a:t>
            </a:r>
            <a:r>
              <a:rPr b="0" lang="en-US" sz="2600" spc="-1" strike="noStrike" u="sng">
                <a:solidFill>
                  <a:srgbClr val="727ca3"/>
                </a:solidFill>
                <a:uFillTx/>
                <a:latin typeface="Gill Sans MT"/>
              </a:rPr>
              <a:t>двухвалентен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s </a:t>
            </a:r>
            <a:r>
              <a:rPr b="1" lang="ru-RU" sz="2600" spc="-1" strike="noStrike" baseline="30000">
                <a:solidFill>
                  <a:srgbClr val="6b5680"/>
                </a:solidFill>
                <a:latin typeface="Calibri"/>
              </a:rPr>
              <a:t>1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p</a:t>
            </a:r>
            <a:r>
              <a:rPr b="1" lang="ru-RU" sz="2600" spc="-1" strike="noStrike" baseline="30000">
                <a:solidFill>
                  <a:srgbClr val="6b5680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В возбужденном состояни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6b5680"/>
                </a:solidFill>
                <a:latin typeface="Gill Sans MT"/>
              </a:rPr>
              <a:t>(получил дополнительное количество энергии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атом углерода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четырёхвалентен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Oval 4"/>
          <p:cNvSpPr/>
          <p:nvPr/>
        </p:nvSpPr>
        <p:spPr>
          <a:xfrm>
            <a:off x="6407280" y="615960"/>
            <a:ext cx="977760" cy="97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0" name="Freeform 5"/>
          <p:cNvSpPr/>
          <p:nvPr/>
        </p:nvSpPr>
        <p:spPr>
          <a:xfrm>
            <a:off x="6945480" y="863640"/>
            <a:ext cx="1723680" cy="509400"/>
          </a:xfrm>
          <a:custGeom>
            <a:avLst/>
            <a:gdLst/>
            <a:ahLst/>
            <a:rect l="l" t="t" r="r" b="b"/>
            <a:pathLst>
              <a:path w="1086" h="321">
                <a:moveTo>
                  <a:pt x="0" y="160"/>
                </a:moveTo>
                <a:lnTo>
                  <a:pt x="0" y="160"/>
                </a:lnTo>
                <a:lnTo>
                  <a:pt x="0" y="156"/>
                </a:lnTo>
                <a:lnTo>
                  <a:pt x="0" y="155"/>
                </a:lnTo>
                <a:lnTo>
                  <a:pt x="1" y="152"/>
                </a:lnTo>
                <a:lnTo>
                  <a:pt x="1" y="151"/>
                </a:lnTo>
                <a:lnTo>
                  <a:pt x="4" y="148"/>
                </a:lnTo>
                <a:lnTo>
                  <a:pt x="4" y="147"/>
                </a:lnTo>
                <a:lnTo>
                  <a:pt x="7" y="144"/>
                </a:lnTo>
                <a:lnTo>
                  <a:pt x="7" y="143"/>
                </a:lnTo>
                <a:lnTo>
                  <a:pt x="10" y="140"/>
                </a:lnTo>
                <a:lnTo>
                  <a:pt x="12" y="139"/>
                </a:lnTo>
                <a:lnTo>
                  <a:pt x="15" y="136"/>
                </a:lnTo>
                <a:lnTo>
                  <a:pt x="17" y="136"/>
                </a:lnTo>
                <a:lnTo>
                  <a:pt x="21" y="132"/>
                </a:lnTo>
                <a:lnTo>
                  <a:pt x="23" y="131"/>
                </a:lnTo>
                <a:lnTo>
                  <a:pt x="27" y="128"/>
                </a:lnTo>
                <a:lnTo>
                  <a:pt x="29" y="128"/>
                </a:lnTo>
                <a:lnTo>
                  <a:pt x="35" y="124"/>
                </a:lnTo>
                <a:lnTo>
                  <a:pt x="37" y="123"/>
                </a:lnTo>
                <a:lnTo>
                  <a:pt x="43" y="120"/>
                </a:lnTo>
                <a:lnTo>
                  <a:pt x="44" y="120"/>
                </a:lnTo>
                <a:lnTo>
                  <a:pt x="52" y="116"/>
                </a:lnTo>
                <a:lnTo>
                  <a:pt x="54" y="115"/>
                </a:lnTo>
                <a:lnTo>
                  <a:pt x="62" y="113"/>
                </a:lnTo>
                <a:lnTo>
                  <a:pt x="63" y="112"/>
                </a:lnTo>
                <a:lnTo>
                  <a:pt x="71" y="109"/>
                </a:lnTo>
                <a:lnTo>
                  <a:pt x="72" y="108"/>
                </a:lnTo>
                <a:lnTo>
                  <a:pt x="82" y="105"/>
                </a:lnTo>
                <a:lnTo>
                  <a:pt x="83" y="104"/>
                </a:lnTo>
                <a:lnTo>
                  <a:pt x="93" y="101"/>
                </a:lnTo>
                <a:lnTo>
                  <a:pt x="96" y="100"/>
                </a:lnTo>
                <a:lnTo>
                  <a:pt x="105" y="97"/>
                </a:lnTo>
                <a:lnTo>
                  <a:pt x="108" y="97"/>
                </a:lnTo>
                <a:lnTo>
                  <a:pt x="117" y="94"/>
                </a:lnTo>
                <a:lnTo>
                  <a:pt x="121" y="93"/>
                </a:lnTo>
                <a:lnTo>
                  <a:pt x="131" y="90"/>
                </a:lnTo>
                <a:lnTo>
                  <a:pt x="133" y="89"/>
                </a:lnTo>
                <a:lnTo>
                  <a:pt x="144" y="86"/>
                </a:lnTo>
                <a:lnTo>
                  <a:pt x="147" y="86"/>
                </a:lnTo>
                <a:lnTo>
                  <a:pt x="158" y="83"/>
                </a:lnTo>
                <a:lnTo>
                  <a:pt x="161" y="82"/>
                </a:lnTo>
                <a:lnTo>
                  <a:pt x="173" y="79"/>
                </a:lnTo>
                <a:lnTo>
                  <a:pt x="176" y="79"/>
                </a:lnTo>
                <a:lnTo>
                  <a:pt x="187" y="75"/>
                </a:lnTo>
                <a:lnTo>
                  <a:pt x="190" y="75"/>
                </a:lnTo>
                <a:lnTo>
                  <a:pt x="203" y="72"/>
                </a:lnTo>
                <a:lnTo>
                  <a:pt x="206" y="71"/>
                </a:lnTo>
                <a:lnTo>
                  <a:pt x="220" y="68"/>
                </a:lnTo>
                <a:lnTo>
                  <a:pt x="223" y="68"/>
                </a:lnTo>
                <a:lnTo>
                  <a:pt x="235" y="65"/>
                </a:lnTo>
                <a:lnTo>
                  <a:pt x="238" y="65"/>
                </a:lnTo>
                <a:lnTo>
                  <a:pt x="252" y="62"/>
                </a:lnTo>
                <a:lnTo>
                  <a:pt x="256" y="61"/>
                </a:lnTo>
                <a:lnTo>
                  <a:pt x="269" y="59"/>
                </a:lnTo>
                <a:lnTo>
                  <a:pt x="273" y="58"/>
                </a:lnTo>
                <a:lnTo>
                  <a:pt x="287" y="55"/>
                </a:lnTo>
                <a:lnTo>
                  <a:pt x="290" y="55"/>
                </a:lnTo>
                <a:lnTo>
                  <a:pt x="304" y="52"/>
                </a:lnTo>
                <a:lnTo>
                  <a:pt x="307" y="52"/>
                </a:lnTo>
                <a:lnTo>
                  <a:pt x="321" y="50"/>
                </a:lnTo>
                <a:lnTo>
                  <a:pt x="326" y="49"/>
                </a:lnTo>
                <a:lnTo>
                  <a:pt x="340" y="46"/>
                </a:lnTo>
                <a:lnTo>
                  <a:pt x="343" y="46"/>
                </a:lnTo>
                <a:lnTo>
                  <a:pt x="358" y="43"/>
                </a:lnTo>
                <a:lnTo>
                  <a:pt x="362" y="43"/>
                </a:lnTo>
                <a:lnTo>
                  <a:pt x="377" y="40"/>
                </a:lnTo>
                <a:lnTo>
                  <a:pt x="380" y="40"/>
                </a:lnTo>
                <a:lnTo>
                  <a:pt x="394" y="37"/>
                </a:lnTo>
                <a:lnTo>
                  <a:pt x="399" y="37"/>
                </a:lnTo>
                <a:lnTo>
                  <a:pt x="413" y="35"/>
                </a:lnTo>
                <a:lnTo>
                  <a:pt x="417" y="34"/>
                </a:lnTo>
                <a:lnTo>
                  <a:pt x="433" y="32"/>
                </a:lnTo>
                <a:lnTo>
                  <a:pt x="436" y="31"/>
                </a:lnTo>
                <a:lnTo>
                  <a:pt x="452" y="30"/>
                </a:lnTo>
                <a:lnTo>
                  <a:pt x="455" y="29"/>
                </a:lnTo>
                <a:lnTo>
                  <a:pt x="470" y="27"/>
                </a:lnTo>
                <a:lnTo>
                  <a:pt x="473" y="27"/>
                </a:lnTo>
                <a:lnTo>
                  <a:pt x="489" y="25"/>
                </a:lnTo>
                <a:lnTo>
                  <a:pt x="493" y="24"/>
                </a:lnTo>
                <a:lnTo>
                  <a:pt x="507" y="23"/>
                </a:lnTo>
                <a:lnTo>
                  <a:pt x="512" y="22"/>
                </a:lnTo>
                <a:lnTo>
                  <a:pt x="526" y="21"/>
                </a:lnTo>
                <a:lnTo>
                  <a:pt x="531" y="20"/>
                </a:lnTo>
                <a:lnTo>
                  <a:pt x="547" y="18"/>
                </a:lnTo>
                <a:lnTo>
                  <a:pt x="550" y="18"/>
                </a:lnTo>
                <a:lnTo>
                  <a:pt x="565" y="16"/>
                </a:lnTo>
                <a:lnTo>
                  <a:pt x="568" y="16"/>
                </a:lnTo>
                <a:lnTo>
                  <a:pt x="584" y="14"/>
                </a:lnTo>
                <a:lnTo>
                  <a:pt x="587" y="14"/>
                </a:lnTo>
                <a:lnTo>
                  <a:pt x="603" y="12"/>
                </a:lnTo>
                <a:lnTo>
                  <a:pt x="606" y="12"/>
                </a:lnTo>
                <a:lnTo>
                  <a:pt x="621" y="11"/>
                </a:lnTo>
                <a:lnTo>
                  <a:pt x="624" y="10"/>
                </a:lnTo>
                <a:lnTo>
                  <a:pt x="638" y="9"/>
                </a:lnTo>
                <a:lnTo>
                  <a:pt x="643" y="9"/>
                </a:lnTo>
                <a:lnTo>
                  <a:pt x="657" y="7"/>
                </a:lnTo>
                <a:lnTo>
                  <a:pt x="660" y="7"/>
                </a:lnTo>
                <a:lnTo>
                  <a:pt x="675" y="6"/>
                </a:lnTo>
                <a:lnTo>
                  <a:pt x="679" y="6"/>
                </a:lnTo>
                <a:lnTo>
                  <a:pt x="693" y="5"/>
                </a:lnTo>
                <a:lnTo>
                  <a:pt x="696" y="5"/>
                </a:lnTo>
                <a:lnTo>
                  <a:pt x="710" y="4"/>
                </a:lnTo>
                <a:lnTo>
                  <a:pt x="713" y="4"/>
                </a:lnTo>
                <a:lnTo>
                  <a:pt x="727" y="3"/>
                </a:lnTo>
                <a:lnTo>
                  <a:pt x="730" y="2"/>
                </a:lnTo>
                <a:lnTo>
                  <a:pt x="744" y="2"/>
                </a:lnTo>
                <a:lnTo>
                  <a:pt x="747" y="2"/>
                </a:lnTo>
                <a:lnTo>
                  <a:pt x="761" y="1"/>
                </a:lnTo>
                <a:lnTo>
                  <a:pt x="764" y="1"/>
                </a:lnTo>
                <a:lnTo>
                  <a:pt x="776" y="1"/>
                </a:lnTo>
                <a:lnTo>
                  <a:pt x="779" y="0"/>
                </a:lnTo>
                <a:lnTo>
                  <a:pt x="792" y="0"/>
                </a:lnTo>
                <a:lnTo>
                  <a:pt x="795" y="0"/>
                </a:lnTo>
                <a:lnTo>
                  <a:pt x="807" y="0"/>
                </a:lnTo>
                <a:lnTo>
                  <a:pt x="810" y="0"/>
                </a:lnTo>
                <a:lnTo>
                  <a:pt x="823" y="0"/>
                </a:lnTo>
                <a:lnTo>
                  <a:pt x="825" y="0"/>
                </a:lnTo>
                <a:lnTo>
                  <a:pt x="837" y="0"/>
                </a:lnTo>
                <a:lnTo>
                  <a:pt x="840" y="0"/>
                </a:lnTo>
                <a:lnTo>
                  <a:pt x="851" y="0"/>
                </a:lnTo>
                <a:lnTo>
                  <a:pt x="854" y="0"/>
                </a:lnTo>
                <a:lnTo>
                  <a:pt x="864" y="0"/>
                </a:lnTo>
                <a:lnTo>
                  <a:pt x="867" y="0"/>
                </a:lnTo>
                <a:lnTo>
                  <a:pt x="878" y="0"/>
                </a:lnTo>
                <a:lnTo>
                  <a:pt x="879" y="0"/>
                </a:lnTo>
                <a:lnTo>
                  <a:pt x="890" y="0"/>
                </a:lnTo>
                <a:lnTo>
                  <a:pt x="892" y="0"/>
                </a:lnTo>
                <a:lnTo>
                  <a:pt x="901" y="1"/>
                </a:lnTo>
                <a:lnTo>
                  <a:pt x="903" y="1"/>
                </a:lnTo>
                <a:lnTo>
                  <a:pt x="912" y="2"/>
                </a:lnTo>
                <a:lnTo>
                  <a:pt x="915" y="2"/>
                </a:lnTo>
                <a:lnTo>
                  <a:pt x="923" y="3"/>
                </a:lnTo>
                <a:lnTo>
                  <a:pt x="926" y="3"/>
                </a:lnTo>
                <a:lnTo>
                  <a:pt x="934" y="5"/>
                </a:lnTo>
                <a:lnTo>
                  <a:pt x="937" y="5"/>
                </a:lnTo>
                <a:lnTo>
                  <a:pt x="944" y="7"/>
                </a:lnTo>
                <a:lnTo>
                  <a:pt x="946" y="7"/>
                </a:lnTo>
                <a:lnTo>
                  <a:pt x="954" y="9"/>
                </a:lnTo>
                <a:lnTo>
                  <a:pt x="955" y="10"/>
                </a:lnTo>
                <a:lnTo>
                  <a:pt x="963" y="12"/>
                </a:lnTo>
                <a:lnTo>
                  <a:pt x="965" y="12"/>
                </a:lnTo>
                <a:lnTo>
                  <a:pt x="972" y="15"/>
                </a:lnTo>
                <a:lnTo>
                  <a:pt x="974" y="16"/>
                </a:lnTo>
                <a:lnTo>
                  <a:pt x="982" y="18"/>
                </a:lnTo>
                <a:lnTo>
                  <a:pt x="983" y="19"/>
                </a:lnTo>
                <a:lnTo>
                  <a:pt x="989" y="22"/>
                </a:lnTo>
                <a:lnTo>
                  <a:pt x="991" y="23"/>
                </a:lnTo>
                <a:lnTo>
                  <a:pt x="997" y="26"/>
                </a:lnTo>
                <a:lnTo>
                  <a:pt x="999" y="26"/>
                </a:lnTo>
                <a:lnTo>
                  <a:pt x="1005" y="30"/>
                </a:lnTo>
                <a:lnTo>
                  <a:pt x="1006" y="31"/>
                </a:lnTo>
                <a:lnTo>
                  <a:pt x="1013" y="34"/>
                </a:lnTo>
                <a:lnTo>
                  <a:pt x="1014" y="35"/>
                </a:lnTo>
                <a:lnTo>
                  <a:pt x="1019" y="39"/>
                </a:lnTo>
                <a:lnTo>
                  <a:pt x="1020" y="40"/>
                </a:lnTo>
                <a:lnTo>
                  <a:pt x="1027" y="44"/>
                </a:lnTo>
                <a:lnTo>
                  <a:pt x="1027" y="44"/>
                </a:lnTo>
                <a:lnTo>
                  <a:pt x="1033" y="49"/>
                </a:lnTo>
                <a:lnTo>
                  <a:pt x="1033" y="50"/>
                </a:lnTo>
                <a:lnTo>
                  <a:pt x="1037" y="55"/>
                </a:lnTo>
                <a:lnTo>
                  <a:pt x="1039" y="55"/>
                </a:lnTo>
                <a:lnTo>
                  <a:pt x="1044" y="60"/>
                </a:lnTo>
                <a:lnTo>
                  <a:pt x="1045" y="61"/>
                </a:lnTo>
                <a:lnTo>
                  <a:pt x="1048" y="65"/>
                </a:lnTo>
                <a:lnTo>
                  <a:pt x="1050" y="67"/>
                </a:lnTo>
                <a:lnTo>
                  <a:pt x="1053" y="71"/>
                </a:lnTo>
                <a:lnTo>
                  <a:pt x="1055" y="73"/>
                </a:lnTo>
                <a:lnTo>
                  <a:pt x="1058" y="78"/>
                </a:lnTo>
                <a:lnTo>
                  <a:pt x="1059" y="79"/>
                </a:lnTo>
                <a:lnTo>
                  <a:pt x="1062" y="84"/>
                </a:lnTo>
                <a:lnTo>
                  <a:pt x="1062" y="85"/>
                </a:lnTo>
                <a:lnTo>
                  <a:pt x="1065" y="90"/>
                </a:lnTo>
                <a:lnTo>
                  <a:pt x="1067" y="91"/>
                </a:lnTo>
                <a:lnTo>
                  <a:pt x="1070" y="97"/>
                </a:lnTo>
                <a:lnTo>
                  <a:pt x="1070" y="98"/>
                </a:lnTo>
                <a:lnTo>
                  <a:pt x="1073" y="103"/>
                </a:lnTo>
                <a:lnTo>
                  <a:pt x="1073" y="104"/>
                </a:lnTo>
                <a:lnTo>
                  <a:pt x="1075" y="110"/>
                </a:lnTo>
                <a:lnTo>
                  <a:pt x="1076" y="112"/>
                </a:lnTo>
                <a:lnTo>
                  <a:pt x="1078" y="117"/>
                </a:lnTo>
                <a:lnTo>
                  <a:pt x="1078" y="118"/>
                </a:lnTo>
                <a:lnTo>
                  <a:pt x="1079" y="124"/>
                </a:lnTo>
                <a:lnTo>
                  <a:pt x="1079" y="125"/>
                </a:lnTo>
                <a:lnTo>
                  <a:pt x="1081" y="131"/>
                </a:lnTo>
                <a:lnTo>
                  <a:pt x="1081" y="132"/>
                </a:lnTo>
                <a:lnTo>
                  <a:pt x="1082" y="138"/>
                </a:lnTo>
                <a:lnTo>
                  <a:pt x="1082" y="139"/>
                </a:lnTo>
                <a:lnTo>
                  <a:pt x="1085" y="145"/>
                </a:lnTo>
                <a:lnTo>
                  <a:pt x="1085" y="146"/>
                </a:lnTo>
                <a:lnTo>
                  <a:pt x="1085" y="152"/>
                </a:lnTo>
                <a:lnTo>
                  <a:pt x="1085" y="153"/>
                </a:lnTo>
                <a:lnTo>
                  <a:pt x="1085" y="159"/>
                </a:lnTo>
                <a:lnTo>
                  <a:pt x="1085" y="160"/>
                </a:lnTo>
                <a:lnTo>
                  <a:pt x="1085" y="166"/>
                </a:lnTo>
                <a:lnTo>
                  <a:pt x="1085" y="167"/>
                </a:lnTo>
                <a:lnTo>
                  <a:pt x="1085" y="173"/>
                </a:lnTo>
                <a:lnTo>
                  <a:pt x="1085" y="174"/>
                </a:lnTo>
                <a:lnTo>
                  <a:pt x="1082" y="180"/>
                </a:lnTo>
                <a:lnTo>
                  <a:pt x="1082" y="181"/>
                </a:lnTo>
                <a:lnTo>
                  <a:pt x="1081" y="187"/>
                </a:lnTo>
                <a:lnTo>
                  <a:pt x="1081" y="188"/>
                </a:lnTo>
                <a:lnTo>
                  <a:pt x="1079" y="194"/>
                </a:lnTo>
                <a:lnTo>
                  <a:pt x="1079" y="195"/>
                </a:lnTo>
                <a:lnTo>
                  <a:pt x="1078" y="201"/>
                </a:lnTo>
                <a:lnTo>
                  <a:pt x="1078" y="202"/>
                </a:lnTo>
                <a:lnTo>
                  <a:pt x="1076" y="207"/>
                </a:lnTo>
                <a:lnTo>
                  <a:pt x="1075" y="209"/>
                </a:lnTo>
                <a:lnTo>
                  <a:pt x="1073" y="215"/>
                </a:lnTo>
                <a:lnTo>
                  <a:pt x="1073" y="216"/>
                </a:lnTo>
                <a:lnTo>
                  <a:pt x="1070" y="221"/>
                </a:lnTo>
                <a:lnTo>
                  <a:pt x="1070" y="222"/>
                </a:lnTo>
                <a:lnTo>
                  <a:pt x="1067" y="228"/>
                </a:lnTo>
                <a:lnTo>
                  <a:pt x="1065" y="229"/>
                </a:lnTo>
                <a:lnTo>
                  <a:pt x="1062" y="234"/>
                </a:lnTo>
                <a:lnTo>
                  <a:pt x="1062" y="235"/>
                </a:lnTo>
                <a:lnTo>
                  <a:pt x="1059" y="240"/>
                </a:lnTo>
                <a:lnTo>
                  <a:pt x="1058" y="241"/>
                </a:lnTo>
                <a:lnTo>
                  <a:pt x="1055" y="246"/>
                </a:lnTo>
                <a:lnTo>
                  <a:pt x="1053" y="248"/>
                </a:lnTo>
                <a:lnTo>
                  <a:pt x="1050" y="252"/>
                </a:lnTo>
                <a:lnTo>
                  <a:pt x="1048" y="254"/>
                </a:lnTo>
                <a:lnTo>
                  <a:pt x="1045" y="258"/>
                </a:lnTo>
                <a:lnTo>
                  <a:pt x="1044" y="259"/>
                </a:lnTo>
                <a:lnTo>
                  <a:pt x="1039" y="264"/>
                </a:lnTo>
                <a:lnTo>
                  <a:pt x="1037" y="264"/>
                </a:lnTo>
                <a:lnTo>
                  <a:pt x="1033" y="269"/>
                </a:lnTo>
                <a:lnTo>
                  <a:pt x="1033" y="270"/>
                </a:lnTo>
                <a:lnTo>
                  <a:pt x="1027" y="274"/>
                </a:lnTo>
                <a:lnTo>
                  <a:pt x="1027" y="275"/>
                </a:lnTo>
                <a:lnTo>
                  <a:pt x="1020" y="279"/>
                </a:lnTo>
                <a:lnTo>
                  <a:pt x="1019" y="280"/>
                </a:lnTo>
                <a:lnTo>
                  <a:pt x="1014" y="284"/>
                </a:lnTo>
                <a:lnTo>
                  <a:pt x="1013" y="285"/>
                </a:lnTo>
                <a:lnTo>
                  <a:pt x="1006" y="288"/>
                </a:lnTo>
                <a:lnTo>
                  <a:pt x="1005" y="289"/>
                </a:lnTo>
                <a:lnTo>
                  <a:pt x="999" y="293"/>
                </a:lnTo>
                <a:lnTo>
                  <a:pt x="997" y="293"/>
                </a:lnTo>
                <a:lnTo>
                  <a:pt x="991" y="296"/>
                </a:lnTo>
                <a:lnTo>
                  <a:pt x="989" y="297"/>
                </a:lnTo>
                <a:lnTo>
                  <a:pt x="983" y="300"/>
                </a:lnTo>
                <a:lnTo>
                  <a:pt x="982" y="301"/>
                </a:lnTo>
                <a:lnTo>
                  <a:pt x="974" y="303"/>
                </a:lnTo>
                <a:lnTo>
                  <a:pt x="972" y="304"/>
                </a:lnTo>
                <a:lnTo>
                  <a:pt x="965" y="307"/>
                </a:lnTo>
                <a:lnTo>
                  <a:pt x="963" y="307"/>
                </a:lnTo>
                <a:lnTo>
                  <a:pt x="955" y="309"/>
                </a:lnTo>
                <a:lnTo>
                  <a:pt x="954" y="310"/>
                </a:lnTo>
                <a:lnTo>
                  <a:pt x="946" y="312"/>
                </a:lnTo>
                <a:lnTo>
                  <a:pt x="944" y="312"/>
                </a:lnTo>
                <a:lnTo>
                  <a:pt x="937" y="314"/>
                </a:lnTo>
                <a:lnTo>
                  <a:pt x="934" y="314"/>
                </a:lnTo>
                <a:lnTo>
                  <a:pt x="926" y="316"/>
                </a:lnTo>
                <a:lnTo>
                  <a:pt x="923" y="316"/>
                </a:lnTo>
                <a:lnTo>
                  <a:pt x="915" y="317"/>
                </a:lnTo>
                <a:lnTo>
                  <a:pt x="912" y="317"/>
                </a:lnTo>
                <a:lnTo>
                  <a:pt x="904" y="318"/>
                </a:lnTo>
                <a:lnTo>
                  <a:pt x="903" y="318"/>
                </a:lnTo>
                <a:lnTo>
                  <a:pt x="892" y="319"/>
                </a:lnTo>
                <a:lnTo>
                  <a:pt x="890" y="319"/>
                </a:lnTo>
                <a:lnTo>
                  <a:pt x="879" y="319"/>
                </a:lnTo>
                <a:lnTo>
                  <a:pt x="878" y="319"/>
                </a:lnTo>
                <a:lnTo>
                  <a:pt x="867" y="320"/>
                </a:lnTo>
                <a:lnTo>
                  <a:pt x="864" y="320"/>
                </a:lnTo>
                <a:lnTo>
                  <a:pt x="854" y="320"/>
                </a:lnTo>
                <a:lnTo>
                  <a:pt x="851" y="320"/>
                </a:lnTo>
                <a:lnTo>
                  <a:pt x="840" y="320"/>
                </a:lnTo>
                <a:lnTo>
                  <a:pt x="837" y="320"/>
                </a:lnTo>
                <a:lnTo>
                  <a:pt x="825" y="320"/>
                </a:lnTo>
                <a:lnTo>
                  <a:pt x="823" y="320"/>
                </a:lnTo>
                <a:lnTo>
                  <a:pt x="810" y="320"/>
                </a:lnTo>
                <a:lnTo>
                  <a:pt x="807" y="320"/>
                </a:lnTo>
                <a:lnTo>
                  <a:pt x="795" y="319"/>
                </a:lnTo>
                <a:lnTo>
                  <a:pt x="792" y="319"/>
                </a:lnTo>
                <a:lnTo>
                  <a:pt x="779" y="319"/>
                </a:lnTo>
                <a:lnTo>
                  <a:pt x="776" y="318"/>
                </a:lnTo>
                <a:lnTo>
                  <a:pt x="764" y="318"/>
                </a:lnTo>
                <a:lnTo>
                  <a:pt x="761" y="318"/>
                </a:lnTo>
                <a:lnTo>
                  <a:pt x="747" y="317"/>
                </a:lnTo>
                <a:lnTo>
                  <a:pt x="744" y="317"/>
                </a:lnTo>
                <a:lnTo>
                  <a:pt x="730" y="317"/>
                </a:lnTo>
                <a:lnTo>
                  <a:pt x="727" y="316"/>
                </a:lnTo>
                <a:lnTo>
                  <a:pt x="713" y="315"/>
                </a:lnTo>
                <a:lnTo>
                  <a:pt x="710" y="315"/>
                </a:lnTo>
                <a:lnTo>
                  <a:pt x="696" y="314"/>
                </a:lnTo>
                <a:lnTo>
                  <a:pt x="693" y="314"/>
                </a:lnTo>
                <a:lnTo>
                  <a:pt x="679" y="313"/>
                </a:lnTo>
                <a:lnTo>
                  <a:pt x="675" y="313"/>
                </a:lnTo>
                <a:lnTo>
                  <a:pt x="660" y="312"/>
                </a:lnTo>
                <a:lnTo>
                  <a:pt x="657" y="312"/>
                </a:lnTo>
                <a:lnTo>
                  <a:pt x="643" y="310"/>
                </a:lnTo>
                <a:lnTo>
                  <a:pt x="638" y="310"/>
                </a:lnTo>
                <a:lnTo>
                  <a:pt x="624" y="309"/>
                </a:lnTo>
                <a:lnTo>
                  <a:pt x="621" y="308"/>
                </a:lnTo>
                <a:lnTo>
                  <a:pt x="606" y="307"/>
                </a:lnTo>
                <a:lnTo>
                  <a:pt x="603" y="307"/>
                </a:lnTo>
                <a:lnTo>
                  <a:pt x="587" y="305"/>
                </a:lnTo>
                <a:lnTo>
                  <a:pt x="584" y="305"/>
                </a:lnTo>
                <a:lnTo>
                  <a:pt x="568" y="303"/>
                </a:lnTo>
                <a:lnTo>
                  <a:pt x="565" y="303"/>
                </a:lnTo>
                <a:lnTo>
                  <a:pt x="550" y="301"/>
                </a:lnTo>
                <a:lnTo>
                  <a:pt x="547" y="301"/>
                </a:lnTo>
                <a:lnTo>
                  <a:pt x="531" y="299"/>
                </a:lnTo>
                <a:lnTo>
                  <a:pt x="526" y="298"/>
                </a:lnTo>
                <a:lnTo>
                  <a:pt x="512" y="297"/>
                </a:lnTo>
                <a:lnTo>
                  <a:pt x="507" y="296"/>
                </a:lnTo>
                <a:lnTo>
                  <a:pt x="493" y="295"/>
                </a:lnTo>
                <a:lnTo>
                  <a:pt x="489" y="294"/>
                </a:lnTo>
                <a:lnTo>
                  <a:pt x="473" y="292"/>
                </a:lnTo>
                <a:lnTo>
                  <a:pt x="470" y="292"/>
                </a:lnTo>
                <a:lnTo>
                  <a:pt x="455" y="290"/>
                </a:lnTo>
                <a:lnTo>
                  <a:pt x="452" y="289"/>
                </a:lnTo>
                <a:lnTo>
                  <a:pt x="436" y="288"/>
                </a:lnTo>
                <a:lnTo>
                  <a:pt x="433" y="287"/>
                </a:lnTo>
                <a:lnTo>
                  <a:pt x="417" y="285"/>
                </a:lnTo>
                <a:lnTo>
                  <a:pt x="413" y="284"/>
                </a:lnTo>
                <a:lnTo>
                  <a:pt x="399" y="282"/>
                </a:lnTo>
                <a:lnTo>
                  <a:pt x="394" y="282"/>
                </a:lnTo>
                <a:lnTo>
                  <a:pt x="380" y="279"/>
                </a:lnTo>
                <a:lnTo>
                  <a:pt x="377" y="279"/>
                </a:lnTo>
                <a:lnTo>
                  <a:pt x="362" y="276"/>
                </a:lnTo>
                <a:lnTo>
                  <a:pt x="358" y="276"/>
                </a:lnTo>
                <a:lnTo>
                  <a:pt x="343" y="273"/>
                </a:lnTo>
                <a:lnTo>
                  <a:pt x="340" y="273"/>
                </a:lnTo>
                <a:lnTo>
                  <a:pt x="326" y="270"/>
                </a:lnTo>
                <a:lnTo>
                  <a:pt x="321" y="269"/>
                </a:lnTo>
                <a:lnTo>
                  <a:pt x="307" y="267"/>
                </a:lnTo>
                <a:lnTo>
                  <a:pt x="304" y="267"/>
                </a:lnTo>
                <a:lnTo>
                  <a:pt x="290" y="264"/>
                </a:lnTo>
                <a:lnTo>
                  <a:pt x="287" y="264"/>
                </a:lnTo>
                <a:lnTo>
                  <a:pt x="273" y="261"/>
                </a:lnTo>
                <a:lnTo>
                  <a:pt x="269" y="260"/>
                </a:lnTo>
                <a:lnTo>
                  <a:pt x="256" y="258"/>
                </a:lnTo>
                <a:lnTo>
                  <a:pt x="252" y="257"/>
                </a:lnTo>
                <a:lnTo>
                  <a:pt x="238" y="254"/>
                </a:lnTo>
                <a:lnTo>
                  <a:pt x="235" y="254"/>
                </a:lnTo>
                <a:lnTo>
                  <a:pt x="223" y="251"/>
                </a:lnTo>
                <a:lnTo>
                  <a:pt x="220" y="251"/>
                </a:lnTo>
                <a:lnTo>
                  <a:pt x="206" y="248"/>
                </a:lnTo>
                <a:lnTo>
                  <a:pt x="203" y="247"/>
                </a:lnTo>
                <a:lnTo>
                  <a:pt x="190" y="244"/>
                </a:lnTo>
                <a:lnTo>
                  <a:pt x="187" y="244"/>
                </a:lnTo>
                <a:lnTo>
                  <a:pt x="176" y="240"/>
                </a:lnTo>
                <a:lnTo>
                  <a:pt x="173" y="240"/>
                </a:lnTo>
                <a:lnTo>
                  <a:pt x="161" y="237"/>
                </a:lnTo>
                <a:lnTo>
                  <a:pt x="158" y="236"/>
                </a:lnTo>
                <a:lnTo>
                  <a:pt x="147" y="233"/>
                </a:lnTo>
                <a:lnTo>
                  <a:pt x="144" y="233"/>
                </a:lnTo>
                <a:lnTo>
                  <a:pt x="133" y="230"/>
                </a:lnTo>
                <a:lnTo>
                  <a:pt x="131" y="229"/>
                </a:lnTo>
                <a:lnTo>
                  <a:pt x="121" y="226"/>
                </a:lnTo>
                <a:lnTo>
                  <a:pt x="117" y="225"/>
                </a:lnTo>
                <a:lnTo>
                  <a:pt x="108" y="222"/>
                </a:lnTo>
                <a:lnTo>
                  <a:pt x="105" y="222"/>
                </a:lnTo>
                <a:lnTo>
                  <a:pt x="96" y="219"/>
                </a:lnTo>
                <a:lnTo>
                  <a:pt x="93" y="218"/>
                </a:lnTo>
                <a:lnTo>
                  <a:pt x="83" y="215"/>
                </a:lnTo>
                <a:lnTo>
                  <a:pt x="82" y="214"/>
                </a:lnTo>
                <a:lnTo>
                  <a:pt x="72" y="211"/>
                </a:lnTo>
                <a:lnTo>
                  <a:pt x="71" y="210"/>
                </a:lnTo>
                <a:lnTo>
                  <a:pt x="63" y="207"/>
                </a:lnTo>
                <a:lnTo>
                  <a:pt x="62" y="206"/>
                </a:lnTo>
                <a:lnTo>
                  <a:pt x="54" y="204"/>
                </a:lnTo>
                <a:lnTo>
                  <a:pt x="52" y="203"/>
                </a:lnTo>
                <a:lnTo>
                  <a:pt x="44" y="199"/>
                </a:lnTo>
                <a:lnTo>
                  <a:pt x="43" y="199"/>
                </a:lnTo>
                <a:lnTo>
                  <a:pt x="37" y="196"/>
                </a:lnTo>
                <a:lnTo>
                  <a:pt x="35" y="195"/>
                </a:lnTo>
                <a:lnTo>
                  <a:pt x="29" y="191"/>
                </a:lnTo>
                <a:lnTo>
                  <a:pt x="27" y="191"/>
                </a:lnTo>
                <a:lnTo>
                  <a:pt x="23" y="188"/>
                </a:lnTo>
                <a:lnTo>
                  <a:pt x="21" y="187"/>
                </a:lnTo>
                <a:lnTo>
                  <a:pt x="17" y="183"/>
                </a:lnTo>
                <a:lnTo>
                  <a:pt x="15" y="183"/>
                </a:lnTo>
                <a:lnTo>
                  <a:pt x="12" y="180"/>
                </a:lnTo>
                <a:lnTo>
                  <a:pt x="10" y="179"/>
                </a:lnTo>
                <a:lnTo>
                  <a:pt x="7" y="176"/>
                </a:lnTo>
                <a:lnTo>
                  <a:pt x="7" y="175"/>
                </a:lnTo>
                <a:lnTo>
                  <a:pt x="4" y="172"/>
                </a:lnTo>
                <a:lnTo>
                  <a:pt x="4" y="171"/>
                </a:lnTo>
                <a:lnTo>
                  <a:pt x="1" y="168"/>
                </a:lnTo>
                <a:lnTo>
                  <a:pt x="1" y="167"/>
                </a:lnTo>
                <a:lnTo>
                  <a:pt x="0" y="164"/>
                </a:lnTo>
                <a:lnTo>
                  <a:pt x="0" y="163"/>
                </a:lnTo>
                <a:lnTo>
                  <a:pt x="0" y="160"/>
                </a:lnTo>
                <a:lnTo>
                  <a:pt x="0" y="160"/>
                </a:lnTo>
              </a:path>
            </a:pathLst>
          </a:custGeom>
          <a:blipFill rotWithShape="0">
            <a:blip r:embed="rId1"/>
            <a:srcRect/>
            <a:stretch/>
          </a:blipFill>
          <a:ln cap="rnd" w="101520">
            <a:solidFill>
              <a:srgbClr val="000080"/>
            </a:solidFill>
            <a:round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1" name="Freeform 6"/>
          <p:cNvSpPr/>
          <p:nvPr/>
        </p:nvSpPr>
        <p:spPr>
          <a:xfrm>
            <a:off x="5181480" y="863640"/>
            <a:ext cx="1725840" cy="509400"/>
          </a:xfrm>
          <a:custGeom>
            <a:avLst/>
            <a:gdLst/>
            <a:ahLst/>
            <a:rect l="l" t="t" r="r" b="b"/>
            <a:pathLst>
              <a:path w="1087" h="321">
                <a:moveTo>
                  <a:pt x="1086" y="160"/>
                </a:moveTo>
                <a:lnTo>
                  <a:pt x="1086" y="160"/>
                </a:lnTo>
                <a:lnTo>
                  <a:pt x="1086" y="156"/>
                </a:lnTo>
                <a:lnTo>
                  <a:pt x="1086" y="155"/>
                </a:lnTo>
                <a:lnTo>
                  <a:pt x="1083" y="152"/>
                </a:lnTo>
                <a:lnTo>
                  <a:pt x="1083" y="151"/>
                </a:lnTo>
                <a:lnTo>
                  <a:pt x="1080" y="148"/>
                </a:lnTo>
                <a:lnTo>
                  <a:pt x="1080" y="147"/>
                </a:lnTo>
                <a:lnTo>
                  <a:pt x="1077" y="144"/>
                </a:lnTo>
                <a:lnTo>
                  <a:pt x="1077" y="143"/>
                </a:lnTo>
                <a:lnTo>
                  <a:pt x="1074" y="140"/>
                </a:lnTo>
                <a:lnTo>
                  <a:pt x="1073" y="139"/>
                </a:lnTo>
                <a:lnTo>
                  <a:pt x="1069" y="136"/>
                </a:lnTo>
                <a:lnTo>
                  <a:pt x="1068" y="136"/>
                </a:lnTo>
                <a:lnTo>
                  <a:pt x="1063" y="132"/>
                </a:lnTo>
                <a:lnTo>
                  <a:pt x="1062" y="131"/>
                </a:lnTo>
                <a:lnTo>
                  <a:pt x="1057" y="128"/>
                </a:lnTo>
                <a:lnTo>
                  <a:pt x="1056" y="128"/>
                </a:lnTo>
                <a:lnTo>
                  <a:pt x="1049" y="124"/>
                </a:lnTo>
                <a:lnTo>
                  <a:pt x="1048" y="123"/>
                </a:lnTo>
                <a:lnTo>
                  <a:pt x="1042" y="120"/>
                </a:lnTo>
                <a:lnTo>
                  <a:pt x="1040" y="120"/>
                </a:lnTo>
                <a:lnTo>
                  <a:pt x="1032" y="116"/>
                </a:lnTo>
                <a:lnTo>
                  <a:pt x="1031" y="115"/>
                </a:lnTo>
                <a:lnTo>
                  <a:pt x="1023" y="113"/>
                </a:lnTo>
                <a:lnTo>
                  <a:pt x="1021" y="112"/>
                </a:lnTo>
                <a:lnTo>
                  <a:pt x="1014" y="109"/>
                </a:lnTo>
                <a:lnTo>
                  <a:pt x="1012" y="108"/>
                </a:lnTo>
                <a:lnTo>
                  <a:pt x="1003" y="105"/>
                </a:lnTo>
                <a:lnTo>
                  <a:pt x="1001" y="104"/>
                </a:lnTo>
                <a:lnTo>
                  <a:pt x="992" y="101"/>
                </a:lnTo>
                <a:lnTo>
                  <a:pt x="989" y="100"/>
                </a:lnTo>
                <a:lnTo>
                  <a:pt x="979" y="97"/>
                </a:lnTo>
                <a:lnTo>
                  <a:pt x="976" y="97"/>
                </a:lnTo>
                <a:lnTo>
                  <a:pt x="967" y="94"/>
                </a:lnTo>
                <a:lnTo>
                  <a:pt x="964" y="93"/>
                </a:lnTo>
                <a:lnTo>
                  <a:pt x="953" y="90"/>
                </a:lnTo>
                <a:lnTo>
                  <a:pt x="952" y="89"/>
                </a:lnTo>
                <a:lnTo>
                  <a:pt x="941" y="86"/>
                </a:lnTo>
                <a:lnTo>
                  <a:pt x="938" y="86"/>
                </a:lnTo>
                <a:lnTo>
                  <a:pt x="927" y="83"/>
                </a:lnTo>
                <a:lnTo>
                  <a:pt x="924" y="82"/>
                </a:lnTo>
                <a:lnTo>
                  <a:pt x="911" y="79"/>
                </a:lnTo>
                <a:lnTo>
                  <a:pt x="908" y="79"/>
                </a:lnTo>
                <a:lnTo>
                  <a:pt x="897" y="75"/>
                </a:lnTo>
                <a:lnTo>
                  <a:pt x="894" y="75"/>
                </a:lnTo>
                <a:lnTo>
                  <a:pt x="882" y="72"/>
                </a:lnTo>
                <a:lnTo>
                  <a:pt x="879" y="71"/>
                </a:lnTo>
                <a:lnTo>
                  <a:pt x="864" y="68"/>
                </a:lnTo>
                <a:lnTo>
                  <a:pt x="861" y="68"/>
                </a:lnTo>
                <a:lnTo>
                  <a:pt x="849" y="65"/>
                </a:lnTo>
                <a:lnTo>
                  <a:pt x="846" y="65"/>
                </a:lnTo>
                <a:lnTo>
                  <a:pt x="832" y="62"/>
                </a:lnTo>
                <a:lnTo>
                  <a:pt x="828" y="61"/>
                </a:lnTo>
                <a:lnTo>
                  <a:pt x="815" y="59"/>
                </a:lnTo>
                <a:lnTo>
                  <a:pt x="811" y="58"/>
                </a:lnTo>
                <a:lnTo>
                  <a:pt x="797" y="55"/>
                </a:lnTo>
                <a:lnTo>
                  <a:pt x="794" y="55"/>
                </a:lnTo>
                <a:lnTo>
                  <a:pt x="780" y="52"/>
                </a:lnTo>
                <a:lnTo>
                  <a:pt x="777" y="52"/>
                </a:lnTo>
                <a:lnTo>
                  <a:pt x="763" y="50"/>
                </a:lnTo>
                <a:lnTo>
                  <a:pt x="759" y="49"/>
                </a:lnTo>
                <a:lnTo>
                  <a:pt x="745" y="46"/>
                </a:lnTo>
                <a:lnTo>
                  <a:pt x="742" y="46"/>
                </a:lnTo>
                <a:lnTo>
                  <a:pt x="726" y="43"/>
                </a:lnTo>
                <a:lnTo>
                  <a:pt x="723" y="43"/>
                </a:lnTo>
                <a:lnTo>
                  <a:pt x="707" y="40"/>
                </a:lnTo>
                <a:lnTo>
                  <a:pt x="704" y="40"/>
                </a:lnTo>
                <a:lnTo>
                  <a:pt x="690" y="37"/>
                </a:lnTo>
                <a:lnTo>
                  <a:pt x="686" y="37"/>
                </a:lnTo>
                <a:lnTo>
                  <a:pt x="670" y="35"/>
                </a:lnTo>
                <a:lnTo>
                  <a:pt x="667" y="34"/>
                </a:lnTo>
                <a:lnTo>
                  <a:pt x="652" y="32"/>
                </a:lnTo>
                <a:lnTo>
                  <a:pt x="648" y="31"/>
                </a:lnTo>
                <a:lnTo>
                  <a:pt x="632" y="30"/>
                </a:lnTo>
                <a:lnTo>
                  <a:pt x="629" y="29"/>
                </a:lnTo>
                <a:lnTo>
                  <a:pt x="614" y="27"/>
                </a:lnTo>
                <a:lnTo>
                  <a:pt x="611" y="27"/>
                </a:lnTo>
                <a:lnTo>
                  <a:pt x="595" y="25"/>
                </a:lnTo>
                <a:lnTo>
                  <a:pt x="591" y="24"/>
                </a:lnTo>
                <a:lnTo>
                  <a:pt x="577" y="23"/>
                </a:lnTo>
                <a:lnTo>
                  <a:pt x="572" y="22"/>
                </a:lnTo>
                <a:lnTo>
                  <a:pt x="558" y="21"/>
                </a:lnTo>
                <a:lnTo>
                  <a:pt x="553" y="20"/>
                </a:lnTo>
                <a:lnTo>
                  <a:pt x="538" y="18"/>
                </a:lnTo>
                <a:lnTo>
                  <a:pt x="535" y="18"/>
                </a:lnTo>
                <a:lnTo>
                  <a:pt x="519" y="16"/>
                </a:lnTo>
                <a:lnTo>
                  <a:pt x="516" y="16"/>
                </a:lnTo>
                <a:lnTo>
                  <a:pt x="501" y="14"/>
                </a:lnTo>
                <a:lnTo>
                  <a:pt x="497" y="14"/>
                </a:lnTo>
                <a:lnTo>
                  <a:pt x="482" y="12"/>
                </a:lnTo>
                <a:lnTo>
                  <a:pt x="479" y="12"/>
                </a:lnTo>
                <a:lnTo>
                  <a:pt x="463" y="11"/>
                </a:lnTo>
                <a:lnTo>
                  <a:pt x="460" y="10"/>
                </a:lnTo>
                <a:lnTo>
                  <a:pt x="446" y="9"/>
                </a:lnTo>
                <a:lnTo>
                  <a:pt x="442" y="9"/>
                </a:lnTo>
                <a:lnTo>
                  <a:pt x="427" y="7"/>
                </a:lnTo>
                <a:lnTo>
                  <a:pt x="424" y="7"/>
                </a:lnTo>
                <a:lnTo>
                  <a:pt x="409" y="6"/>
                </a:lnTo>
                <a:lnTo>
                  <a:pt x="405" y="6"/>
                </a:lnTo>
                <a:lnTo>
                  <a:pt x="391" y="5"/>
                </a:lnTo>
                <a:lnTo>
                  <a:pt x="388" y="5"/>
                </a:lnTo>
                <a:lnTo>
                  <a:pt x="374" y="4"/>
                </a:lnTo>
                <a:lnTo>
                  <a:pt x="371" y="4"/>
                </a:lnTo>
                <a:lnTo>
                  <a:pt x="357" y="3"/>
                </a:lnTo>
                <a:lnTo>
                  <a:pt x="354" y="2"/>
                </a:lnTo>
                <a:lnTo>
                  <a:pt x="340" y="2"/>
                </a:lnTo>
                <a:lnTo>
                  <a:pt x="337" y="2"/>
                </a:lnTo>
                <a:lnTo>
                  <a:pt x="323" y="1"/>
                </a:lnTo>
                <a:lnTo>
                  <a:pt x="320" y="1"/>
                </a:lnTo>
                <a:lnTo>
                  <a:pt x="308" y="1"/>
                </a:lnTo>
                <a:lnTo>
                  <a:pt x="305" y="0"/>
                </a:lnTo>
                <a:lnTo>
                  <a:pt x="292" y="0"/>
                </a:lnTo>
                <a:lnTo>
                  <a:pt x="289" y="0"/>
                </a:lnTo>
                <a:lnTo>
                  <a:pt x="277" y="0"/>
                </a:lnTo>
                <a:lnTo>
                  <a:pt x="274" y="0"/>
                </a:lnTo>
                <a:lnTo>
                  <a:pt x="261" y="0"/>
                </a:lnTo>
                <a:lnTo>
                  <a:pt x="260" y="0"/>
                </a:lnTo>
                <a:lnTo>
                  <a:pt x="247" y="0"/>
                </a:lnTo>
                <a:lnTo>
                  <a:pt x="244" y="0"/>
                </a:lnTo>
                <a:lnTo>
                  <a:pt x="233" y="0"/>
                </a:lnTo>
                <a:lnTo>
                  <a:pt x="230" y="0"/>
                </a:lnTo>
                <a:lnTo>
                  <a:pt x="221" y="0"/>
                </a:lnTo>
                <a:lnTo>
                  <a:pt x="218" y="0"/>
                </a:lnTo>
                <a:lnTo>
                  <a:pt x="206" y="0"/>
                </a:lnTo>
                <a:lnTo>
                  <a:pt x="205" y="0"/>
                </a:lnTo>
                <a:lnTo>
                  <a:pt x="194" y="0"/>
                </a:lnTo>
                <a:lnTo>
                  <a:pt x="192" y="0"/>
                </a:lnTo>
                <a:lnTo>
                  <a:pt x="183" y="1"/>
                </a:lnTo>
                <a:lnTo>
                  <a:pt x="181" y="1"/>
                </a:lnTo>
                <a:lnTo>
                  <a:pt x="172" y="2"/>
                </a:lnTo>
                <a:lnTo>
                  <a:pt x="169" y="2"/>
                </a:lnTo>
                <a:lnTo>
                  <a:pt x="161" y="3"/>
                </a:lnTo>
                <a:lnTo>
                  <a:pt x="158" y="3"/>
                </a:lnTo>
                <a:lnTo>
                  <a:pt x="150" y="5"/>
                </a:lnTo>
                <a:lnTo>
                  <a:pt x="147" y="5"/>
                </a:lnTo>
                <a:lnTo>
                  <a:pt x="140" y="7"/>
                </a:lnTo>
                <a:lnTo>
                  <a:pt x="138" y="7"/>
                </a:lnTo>
                <a:lnTo>
                  <a:pt x="130" y="9"/>
                </a:lnTo>
                <a:lnTo>
                  <a:pt x="129" y="10"/>
                </a:lnTo>
                <a:lnTo>
                  <a:pt x="121" y="12"/>
                </a:lnTo>
                <a:lnTo>
                  <a:pt x="119" y="12"/>
                </a:lnTo>
                <a:lnTo>
                  <a:pt x="112" y="15"/>
                </a:lnTo>
                <a:lnTo>
                  <a:pt x="110" y="16"/>
                </a:lnTo>
                <a:lnTo>
                  <a:pt x="102" y="18"/>
                </a:lnTo>
                <a:lnTo>
                  <a:pt x="101" y="19"/>
                </a:lnTo>
                <a:lnTo>
                  <a:pt x="95" y="22"/>
                </a:lnTo>
                <a:lnTo>
                  <a:pt x="93" y="23"/>
                </a:lnTo>
                <a:lnTo>
                  <a:pt x="87" y="26"/>
                </a:lnTo>
                <a:lnTo>
                  <a:pt x="85" y="26"/>
                </a:lnTo>
                <a:lnTo>
                  <a:pt x="79" y="30"/>
                </a:lnTo>
                <a:lnTo>
                  <a:pt x="78" y="31"/>
                </a:lnTo>
                <a:lnTo>
                  <a:pt x="71" y="34"/>
                </a:lnTo>
                <a:lnTo>
                  <a:pt x="70" y="35"/>
                </a:lnTo>
                <a:lnTo>
                  <a:pt x="65" y="39"/>
                </a:lnTo>
                <a:lnTo>
                  <a:pt x="64" y="40"/>
                </a:lnTo>
                <a:lnTo>
                  <a:pt x="57" y="44"/>
                </a:lnTo>
                <a:lnTo>
                  <a:pt x="57" y="44"/>
                </a:lnTo>
                <a:lnTo>
                  <a:pt x="51" y="49"/>
                </a:lnTo>
                <a:lnTo>
                  <a:pt x="51" y="50"/>
                </a:lnTo>
                <a:lnTo>
                  <a:pt x="47" y="55"/>
                </a:lnTo>
                <a:lnTo>
                  <a:pt x="45" y="55"/>
                </a:lnTo>
                <a:lnTo>
                  <a:pt x="40" y="60"/>
                </a:lnTo>
                <a:lnTo>
                  <a:pt x="39" y="61"/>
                </a:lnTo>
                <a:lnTo>
                  <a:pt x="36" y="65"/>
                </a:lnTo>
                <a:lnTo>
                  <a:pt x="34" y="67"/>
                </a:lnTo>
                <a:lnTo>
                  <a:pt x="31" y="71"/>
                </a:lnTo>
                <a:lnTo>
                  <a:pt x="29" y="73"/>
                </a:lnTo>
                <a:lnTo>
                  <a:pt x="26" y="78"/>
                </a:lnTo>
                <a:lnTo>
                  <a:pt x="25" y="79"/>
                </a:lnTo>
                <a:lnTo>
                  <a:pt x="22" y="84"/>
                </a:lnTo>
                <a:lnTo>
                  <a:pt x="22" y="85"/>
                </a:lnTo>
                <a:lnTo>
                  <a:pt x="19" y="90"/>
                </a:lnTo>
                <a:lnTo>
                  <a:pt x="17" y="91"/>
                </a:lnTo>
                <a:lnTo>
                  <a:pt x="14" y="97"/>
                </a:lnTo>
                <a:lnTo>
                  <a:pt x="14" y="98"/>
                </a:lnTo>
                <a:lnTo>
                  <a:pt x="11" y="103"/>
                </a:lnTo>
                <a:lnTo>
                  <a:pt x="11" y="104"/>
                </a:lnTo>
                <a:lnTo>
                  <a:pt x="9" y="110"/>
                </a:lnTo>
                <a:lnTo>
                  <a:pt x="8" y="112"/>
                </a:lnTo>
                <a:lnTo>
                  <a:pt x="6" y="117"/>
                </a:lnTo>
                <a:lnTo>
                  <a:pt x="6" y="118"/>
                </a:lnTo>
                <a:lnTo>
                  <a:pt x="5" y="124"/>
                </a:lnTo>
                <a:lnTo>
                  <a:pt x="5" y="125"/>
                </a:lnTo>
                <a:lnTo>
                  <a:pt x="3" y="131"/>
                </a:lnTo>
                <a:lnTo>
                  <a:pt x="3" y="132"/>
                </a:lnTo>
                <a:lnTo>
                  <a:pt x="2" y="138"/>
                </a:lnTo>
                <a:lnTo>
                  <a:pt x="2" y="139"/>
                </a:lnTo>
                <a:lnTo>
                  <a:pt x="0" y="145"/>
                </a:lnTo>
                <a:lnTo>
                  <a:pt x="0" y="146"/>
                </a:lnTo>
                <a:lnTo>
                  <a:pt x="0" y="152"/>
                </a:lnTo>
                <a:lnTo>
                  <a:pt x="0" y="153"/>
                </a:lnTo>
                <a:lnTo>
                  <a:pt x="0" y="159"/>
                </a:lnTo>
                <a:lnTo>
                  <a:pt x="0" y="160"/>
                </a:lnTo>
                <a:lnTo>
                  <a:pt x="0" y="166"/>
                </a:lnTo>
                <a:lnTo>
                  <a:pt x="0" y="167"/>
                </a:lnTo>
                <a:lnTo>
                  <a:pt x="0" y="173"/>
                </a:lnTo>
                <a:lnTo>
                  <a:pt x="0" y="174"/>
                </a:lnTo>
                <a:lnTo>
                  <a:pt x="2" y="180"/>
                </a:lnTo>
                <a:lnTo>
                  <a:pt x="2" y="181"/>
                </a:lnTo>
                <a:lnTo>
                  <a:pt x="3" y="187"/>
                </a:lnTo>
                <a:lnTo>
                  <a:pt x="3" y="188"/>
                </a:lnTo>
                <a:lnTo>
                  <a:pt x="5" y="194"/>
                </a:lnTo>
                <a:lnTo>
                  <a:pt x="5" y="195"/>
                </a:lnTo>
                <a:lnTo>
                  <a:pt x="6" y="201"/>
                </a:lnTo>
                <a:lnTo>
                  <a:pt x="6" y="202"/>
                </a:lnTo>
                <a:lnTo>
                  <a:pt x="8" y="207"/>
                </a:lnTo>
                <a:lnTo>
                  <a:pt x="9" y="209"/>
                </a:lnTo>
                <a:lnTo>
                  <a:pt x="11" y="215"/>
                </a:lnTo>
                <a:lnTo>
                  <a:pt x="11" y="216"/>
                </a:lnTo>
                <a:lnTo>
                  <a:pt x="14" y="221"/>
                </a:lnTo>
                <a:lnTo>
                  <a:pt x="14" y="222"/>
                </a:lnTo>
                <a:lnTo>
                  <a:pt x="17" y="228"/>
                </a:lnTo>
                <a:lnTo>
                  <a:pt x="19" y="229"/>
                </a:lnTo>
                <a:lnTo>
                  <a:pt x="22" y="234"/>
                </a:lnTo>
                <a:lnTo>
                  <a:pt x="22" y="235"/>
                </a:lnTo>
                <a:lnTo>
                  <a:pt x="25" y="240"/>
                </a:lnTo>
                <a:lnTo>
                  <a:pt x="26" y="241"/>
                </a:lnTo>
                <a:lnTo>
                  <a:pt x="29" y="246"/>
                </a:lnTo>
                <a:lnTo>
                  <a:pt x="31" y="248"/>
                </a:lnTo>
                <a:lnTo>
                  <a:pt x="34" y="252"/>
                </a:lnTo>
                <a:lnTo>
                  <a:pt x="36" y="254"/>
                </a:lnTo>
                <a:lnTo>
                  <a:pt x="39" y="258"/>
                </a:lnTo>
                <a:lnTo>
                  <a:pt x="40" y="259"/>
                </a:lnTo>
                <a:lnTo>
                  <a:pt x="45" y="264"/>
                </a:lnTo>
                <a:lnTo>
                  <a:pt x="47" y="264"/>
                </a:lnTo>
                <a:lnTo>
                  <a:pt x="51" y="269"/>
                </a:lnTo>
                <a:lnTo>
                  <a:pt x="51" y="270"/>
                </a:lnTo>
                <a:lnTo>
                  <a:pt x="57" y="274"/>
                </a:lnTo>
                <a:lnTo>
                  <a:pt x="57" y="275"/>
                </a:lnTo>
                <a:lnTo>
                  <a:pt x="64" y="279"/>
                </a:lnTo>
                <a:lnTo>
                  <a:pt x="65" y="280"/>
                </a:lnTo>
                <a:lnTo>
                  <a:pt x="70" y="284"/>
                </a:lnTo>
                <a:lnTo>
                  <a:pt x="71" y="285"/>
                </a:lnTo>
                <a:lnTo>
                  <a:pt x="78" y="288"/>
                </a:lnTo>
                <a:lnTo>
                  <a:pt x="79" y="289"/>
                </a:lnTo>
                <a:lnTo>
                  <a:pt x="85" y="293"/>
                </a:lnTo>
                <a:lnTo>
                  <a:pt x="87" y="293"/>
                </a:lnTo>
                <a:lnTo>
                  <a:pt x="93" y="296"/>
                </a:lnTo>
                <a:lnTo>
                  <a:pt x="95" y="297"/>
                </a:lnTo>
                <a:lnTo>
                  <a:pt x="101" y="300"/>
                </a:lnTo>
                <a:lnTo>
                  <a:pt x="102" y="301"/>
                </a:lnTo>
                <a:lnTo>
                  <a:pt x="110" y="303"/>
                </a:lnTo>
                <a:lnTo>
                  <a:pt x="112" y="304"/>
                </a:lnTo>
                <a:lnTo>
                  <a:pt x="119" y="307"/>
                </a:lnTo>
                <a:lnTo>
                  <a:pt x="121" y="307"/>
                </a:lnTo>
                <a:lnTo>
                  <a:pt x="129" y="309"/>
                </a:lnTo>
                <a:lnTo>
                  <a:pt x="130" y="310"/>
                </a:lnTo>
                <a:lnTo>
                  <a:pt x="138" y="312"/>
                </a:lnTo>
                <a:lnTo>
                  <a:pt x="140" y="312"/>
                </a:lnTo>
                <a:lnTo>
                  <a:pt x="147" y="314"/>
                </a:lnTo>
                <a:lnTo>
                  <a:pt x="150" y="314"/>
                </a:lnTo>
                <a:lnTo>
                  <a:pt x="158" y="316"/>
                </a:lnTo>
                <a:lnTo>
                  <a:pt x="161" y="316"/>
                </a:lnTo>
                <a:lnTo>
                  <a:pt x="169" y="317"/>
                </a:lnTo>
                <a:lnTo>
                  <a:pt x="172" y="317"/>
                </a:lnTo>
                <a:lnTo>
                  <a:pt x="180" y="318"/>
                </a:lnTo>
                <a:lnTo>
                  <a:pt x="181" y="318"/>
                </a:lnTo>
                <a:lnTo>
                  <a:pt x="192" y="319"/>
                </a:lnTo>
                <a:lnTo>
                  <a:pt x="194" y="319"/>
                </a:lnTo>
                <a:lnTo>
                  <a:pt x="205" y="319"/>
                </a:lnTo>
                <a:lnTo>
                  <a:pt x="206" y="319"/>
                </a:lnTo>
                <a:lnTo>
                  <a:pt x="218" y="320"/>
                </a:lnTo>
                <a:lnTo>
                  <a:pt x="221" y="320"/>
                </a:lnTo>
                <a:lnTo>
                  <a:pt x="230" y="320"/>
                </a:lnTo>
                <a:lnTo>
                  <a:pt x="233" y="320"/>
                </a:lnTo>
                <a:lnTo>
                  <a:pt x="244" y="320"/>
                </a:lnTo>
                <a:lnTo>
                  <a:pt x="247" y="320"/>
                </a:lnTo>
                <a:lnTo>
                  <a:pt x="260" y="320"/>
                </a:lnTo>
                <a:lnTo>
                  <a:pt x="261" y="320"/>
                </a:lnTo>
                <a:lnTo>
                  <a:pt x="274" y="320"/>
                </a:lnTo>
                <a:lnTo>
                  <a:pt x="277" y="320"/>
                </a:lnTo>
                <a:lnTo>
                  <a:pt x="289" y="319"/>
                </a:lnTo>
                <a:lnTo>
                  <a:pt x="292" y="319"/>
                </a:lnTo>
                <a:lnTo>
                  <a:pt x="305" y="319"/>
                </a:lnTo>
                <a:lnTo>
                  <a:pt x="308" y="318"/>
                </a:lnTo>
                <a:lnTo>
                  <a:pt x="320" y="318"/>
                </a:lnTo>
                <a:lnTo>
                  <a:pt x="323" y="318"/>
                </a:lnTo>
                <a:lnTo>
                  <a:pt x="337" y="317"/>
                </a:lnTo>
                <a:lnTo>
                  <a:pt x="340" y="317"/>
                </a:lnTo>
                <a:lnTo>
                  <a:pt x="354" y="317"/>
                </a:lnTo>
                <a:lnTo>
                  <a:pt x="357" y="316"/>
                </a:lnTo>
                <a:lnTo>
                  <a:pt x="371" y="315"/>
                </a:lnTo>
                <a:lnTo>
                  <a:pt x="374" y="315"/>
                </a:lnTo>
                <a:lnTo>
                  <a:pt x="388" y="314"/>
                </a:lnTo>
                <a:lnTo>
                  <a:pt x="391" y="314"/>
                </a:lnTo>
                <a:lnTo>
                  <a:pt x="405" y="313"/>
                </a:lnTo>
                <a:lnTo>
                  <a:pt x="409" y="313"/>
                </a:lnTo>
                <a:lnTo>
                  <a:pt x="424" y="312"/>
                </a:lnTo>
                <a:lnTo>
                  <a:pt x="427" y="312"/>
                </a:lnTo>
                <a:lnTo>
                  <a:pt x="442" y="310"/>
                </a:lnTo>
                <a:lnTo>
                  <a:pt x="446" y="310"/>
                </a:lnTo>
                <a:lnTo>
                  <a:pt x="460" y="309"/>
                </a:lnTo>
                <a:lnTo>
                  <a:pt x="463" y="308"/>
                </a:lnTo>
                <a:lnTo>
                  <a:pt x="479" y="307"/>
                </a:lnTo>
                <a:lnTo>
                  <a:pt x="482" y="307"/>
                </a:lnTo>
                <a:lnTo>
                  <a:pt x="497" y="305"/>
                </a:lnTo>
                <a:lnTo>
                  <a:pt x="501" y="305"/>
                </a:lnTo>
                <a:lnTo>
                  <a:pt x="516" y="303"/>
                </a:lnTo>
                <a:lnTo>
                  <a:pt x="519" y="303"/>
                </a:lnTo>
                <a:lnTo>
                  <a:pt x="535" y="301"/>
                </a:lnTo>
                <a:lnTo>
                  <a:pt x="538" y="301"/>
                </a:lnTo>
                <a:lnTo>
                  <a:pt x="553" y="299"/>
                </a:lnTo>
                <a:lnTo>
                  <a:pt x="558" y="298"/>
                </a:lnTo>
                <a:lnTo>
                  <a:pt x="572" y="297"/>
                </a:lnTo>
                <a:lnTo>
                  <a:pt x="577" y="296"/>
                </a:lnTo>
                <a:lnTo>
                  <a:pt x="591" y="295"/>
                </a:lnTo>
                <a:lnTo>
                  <a:pt x="595" y="294"/>
                </a:lnTo>
                <a:lnTo>
                  <a:pt x="611" y="292"/>
                </a:lnTo>
                <a:lnTo>
                  <a:pt x="614" y="292"/>
                </a:lnTo>
                <a:lnTo>
                  <a:pt x="629" y="290"/>
                </a:lnTo>
                <a:lnTo>
                  <a:pt x="632" y="289"/>
                </a:lnTo>
                <a:lnTo>
                  <a:pt x="648" y="288"/>
                </a:lnTo>
                <a:lnTo>
                  <a:pt x="652" y="287"/>
                </a:lnTo>
                <a:lnTo>
                  <a:pt x="667" y="285"/>
                </a:lnTo>
                <a:lnTo>
                  <a:pt x="670" y="284"/>
                </a:lnTo>
                <a:lnTo>
                  <a:pt x="686" y="282"/>
                </a:lnTo>
                <a:lnTo>
                  <a:pt x="690" y="282"/>
                </a:lnTo>
                <a:lnTo>
                  <a:pt x="704" y="279"/>
                </a:lnTo>
                <a:lnTo>
                  <a:pt x="707" y="279"/>
                </a:lnTo>
                <a:lnTo>
                  <a:pt x="723" y="276"/>
                </a:lnTo>
                <a:lnTo>
                  <a:pt x="726" y="276"/>
                </a:lnTo>
                <a:lnTo>
                  <a:pt x="742" y="273"/>
                </a:lnTo>
                <a:lnTo>
                  <a:pt x="745" y="273"/>
                </a:lnTo>
                <a:lnTo>
                  <a:pt x="759" y="270"/>
                </a:lnTo>
                <a:lnTo>
                  <a:pt x="763" y="269"/>
                </a:lnTo>
                <a:lnTo>
                  <a:pt x="777" y="267"/>
                </a:lnTo>
                <a:lnTo>
                  <a:pt x="780" y="267"/>
                </a:lnTo>
                <a:lnTo>
                  <a:pt x="794" y="264"/>
                </a:lnTo>
                <a:lnTo>
                  <a:pt x="797" y="264"/>
                </a:lnTo>
                <a:lnTo>
                  <a:pt x="811" y="261"/>
                </a:lnTo>
                <a:lnTo>
                  <a:pt x="815" y="260"/>
                </a:lnTo>
                <a:lnTo>
                  <a:pt x="828" y="258"/>
                </a:lnTo>
                <a:lnTo>
                  <a:pt x="832" y="257"/>
                </a:lnTo>
                <a:lnTo>
                  <a:pt x="846" y="254"/>
                </a:lnTo>
                <a:lnTo>
                  <a:pt x="849" y="254"/>
                </a:lnTo>
                <a:lnTo>
                  <a:pt x="861" y="251"/>
                </a:lnTo>
                <a:lnTo>
                  <a:pt x="864" y="251"/>
                </a:lnTo>
                <a:lnTo>
                  <a:pt x="879" y="248"/>
                </a:lnTo>
                <a:lnTo>
                  <a:pt x="882" y="247"/>
                </a:lnTo>
                <a:lnTo>
                  <a:pt x="894" y="244"/>
                </a:lnTo>
                <a:lnTo>
                  <a:pt x="897" y="244"/>
                </a:lnTo>
                <a:lnTo>
                  <a:pt x="908" y="240"/>
                </a:lnTo>
                <a:lnTo>
                  <a:pt x="911" y="240"/>
                </a:lnTo>
                <a:lnTo>
                  <a:pt x="924" y="237"/>
                </a:lnTo>
                <a:lnTo>
                  <a:pt x="927" y="236"/>
                </a:lnTo>
                <a:lnTo>
                  <a:pt x="938" y="233"/>
                </a:lnTo>
                <a:lnTo>
                  <a:pt x="941" y="233"/>
                </a:lnTo>
                <a:lnTo>
                  <a:pt x="952" y="230"/>
                </a:lnTo>
                <a:lnTo>
                  <a:pt x="953" y="229"/>
                </a:lnTo>
                <a:lnTo>
                  <a:pt x="964" y="226"/>
                </a:lnTo>
                <a:lnTo>
                  <a:pt x="967" y="225"/>
                </a:lnTo>
                <a:lnTo>
                  <a:pt x="976" y="222"/>
                </a:lnTo>
                <a:lnTo>
                  <a:pt x="979" y="222"/>
                </a:lnTo>
                <a:lnTo>
                  <a:pt x="989" y="219"/>
                </a:lnTo>
                <a:lnTo>
                  <a:pt x="992" y="218"/>
                </a:lnTo>
                <a:lnTo>
                  <a:pt x="1001" y="215"/>
                </a:lnTo>
                <a:lnTo>
                  <a:pt x="1003" y="214"/>
                </a:lnTo>
                <a:lnTo>
                  <a:pt x="1012" y="211"/>
                </a:lnTo>
                <a:lnTo>
                  <a:pt x="1014" y="210"/>
                </a:lnTo>
                <a:lnTo>
                  <a:pt x="1021" y="207"/>
                </a:lnTo>
                <a:lnTo>
                  <a:pt x="1023" y="206"/>
                </a:lnTo>
                <a:lnTo>
                  <a:pt x="1031" y="204"/>
                </a:lnTo>
                <a:lnTo>
                  <a:pt x="1032" y="203"/>
                </a:lnTo>
                <a:lnTo>
                  <a:pt x="1040" y="199"/>
                </a:lnTo>
                <a:lnTo>
                  <a:pt x="1042" y="199"/>
                </a:lnTo>
                <a:lnTo>
                  <a:pt x="1048" y="196"/>
                </a:lnTo>
                <a:lnTo>
                  <a:pt x="1049" y="195"/>
                </a:lnTo>
                <a:lnTo>
                  <a:pt x="1056" y="191"/>
                </a:lnTo>
                <a:lnTo>
                  <a:pt x="1057" y="191"/>
                </a:lnTo>
                <a:lnTo>
                  <a:pt x="1062" y="188"/>
                </a:lnTo>
                <a:lnTo>
                  <a:pt x="1063" y="187"/>
                </a:lnTo>
                <a:lnTo>
                  <a:pt x="1068" y="183"/>
                </a:lnTo>
                <a:lnTo>
                  <a:pt x="1069" y="183"/>
                </a:lnTo>
                <a:lnTo>
                  <a:pt x="1073" y="180"/>
                </a:lnTo>
                <a:lnTo>
                  <a:pt x="1074" y="179"/>
                </a:lnTo>
                <a:lnTo>
                  <a:pt x="1077" y="176"/>
                </a:lnTo>
                <a:lnTo>
                  <a:pt x="1077" y="175"/>
                </a:lnTo>
                <a:lnTo>
                  <a:pt x="1080" y="172"/>
                </a:lnTo>
                <a:lnTo>
                  <a:pt x="1080" y="171"/>
                </a:lnTo>
                <a:lnTo>
                  <a:pt x="1083" y="168"/>
                </a:lnTo>
                <a:lnTo>
                  <a:pt x="1083" y="167"/>
                </a:lnTo>
                <a:lnTo>
                  <a:pt x="1086" y="164"/>
                </a:lnTo>
                <a:lnTo>
                  <a:pt x="1086" y="163"/>
                </a:lnTo>
                <a:lnTo>
                  <a:pt x="1086" y="160"/>
                </a:lnTo>
                <a:lnTo>
                  <a:pt x="1086" y="160"/>
                </a:lnTo>
              </a:path>
            </a:pathLst>
          </a:custGeom>
          <a:blipFill rotWithShape="0">
            <a:blip r:embed="rId2"/>
            <a:srcRect/>
            <a:stretch/>
          </a:blipFill>
          <a:ln cap="rnd" w="101520">
            <a:solidFill>
              <a:srgbClr val="000080"/>
            </a:solidFill>
            <a:round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2" name="Oval 7"/>
          <p:cNvSpPr/>
          <p:nvPr/>
        </p:nvSpPr>
        <p:spPr>
          <a:xfrm>
            <a:off x="6559560" y="768240"/>
            <a:ext cx="673200" cy="67320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х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ора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04EF-1BBA-4D25-B566-1BF719FDAB19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17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Cl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b292ca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727ca3"/>
                </a:solidFill>
                <a:latin typeface="Gill Sans MT"/>
              </a:rPr>
              <a:t>8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92ca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b292ca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s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2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p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6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3s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2 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3p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 располагается в </a:t>
            </a:r>
            <a:r>
              <a:rPr b="0" i="1" lang="en-US" sz="2600" spc="-1" strike="noStrike">
                <a:solidFill>
                  <a:srgbClr val="cc9900"/>
                </a:solidFill>
                <a:latin typeface="Gill Sans MT"/>
              </a:rPr>
              <a:t>III период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и имеет </a:t>
            </a:r>
            <a:r>
              <a:rPr b="0" i="1" lang="en-US" sz="2600" spc="-1" strike="noStrike">
                <a:solidFill>
                  <a:srgbClr val="cc9900"/>
                </a:solidFill>
                <a:latin typeface="Gill Sans MT"/>
              </a:rPr>
              <a:t>три энергетических уровня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 располагается в </a:t>
            </a:r>
            <a:r>
              <a:rPr b="0" lang="en-US" sz="2600" spc="-1" strike="noStrike" u="sng">
                <a:solidFill>
                  <a:srgbClr val="9fb8cd"/>
                </a:solidFill>
                <a:uFillTx/>
                <a:latin typeface="Gill Sans MT"/>
              </a:rPr>
              <a:t>VII групп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66ccff"/>
                </a:solidFill>
                <a:latin typeface="Gill Sans MT"/>
              </a:rPr>
              <a:t>главной подгрупп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на внешнем энергетическом уровне </a:t>
            </a:r>
            <a:r>
              <a:rPr b="0" lang="en-US" sz="2600" spc="-1" strike="noStrike" u="sng">
                <a:solidFill>
                  <a:srgbClr val="9fb8cd"/>
                </a:solidFill>
                <a:uFillTx/>
                <a:latin typeface="Gill Sans MT"/>
              </a:rPr>
              <a:t>7 электронов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0000">
    <p:cover dir="l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0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Заключение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8268-630D-45BA-B374-479A3E9BAEDA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Существуют </a:t>
            </a:r>
            <a:r>
              <a:rPr b="1" lang="en-US" sz="3600" spc="-1" strike="noStrike">
                <a:solidFill>
                  <a:srgbClr val="7030a0"/>
                </a:solidFill>
                <a:latin typeface="Gill Sans MT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Gill Sans MT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ff33cc"/>
                </a:solidFill>
                <a:latin typeface="Gill Sans MT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b292ca"/>
                </a:solidFill>
                <a:latin typeface="Gill Sans MT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электроны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Электроны располагаются вокруг ядра слоями (уровнями)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Электроны распределяются по уровням </a:t>
            </a:r>
            <a:r>
              <a:rPr b="0" lang="en-US" sz="3600" spc="-1" strike="noStrike">
                <a:solidFill>
                  <a:srgbClr val="7030a0"/>
                </a:solidFill>
                <a:latin typeface="Gill Sans MT"/>
              </a:rPr>
              <a:t>2, 8, 18, 32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B312-E5A1-438B-92BA-04E3E3181413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8760" y="14288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Число электронов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в атоме элемент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b292ca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числу протонов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заряду ядра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 атома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порядковому номеру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элемента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Электроны</a:t>
            </a:r>
            <a:r>
              <a:rPr b="0" lang="en-US" sz="28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в атомах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располагаются</a:t>
            </a:r>
            <a:r>
              <a:rPr b="0" lang="en-US" sz="26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слоями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; число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слоёв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энергетически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уровней) </a:t>
            </a:r>
            <a:r>
              <a:rPr b="0" lang="en-US" sz="2800" spc="-1" strike="noStrike">
                <a:solidFill>
                  <a:srgbClr val="ffffcc"/>
                </a:solidFill>
                <a:latin typeface="Gill Sans MT"/>
              </a:rPr>
              <a:t>=</a:t>
            </a:r>
            <a:r>
              <a:rPr b="0" lang="en-US" sz="28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номеру периода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в котором находится элемент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Домашнее 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з</a:t>
            </a: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адание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9EEF-9761-40D7-B0E0-AD1A62CE9C55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Выучи</a:t>
            </a:r>
            <a:r>
              <a:rPr b="0" lang="ru-RU" sz="3000" spc="-1" strike="noStrike">
                <a:solidFill>
                  <a:srgbClr val="727ca3"/>
                </a:solidFill>
                <a:latin typeface="Calibri"/>
              </a:rPr>
              <a:t>ть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араграф </a:t>
            </a:r>
            <a:r>
              <a:rPr b="0" lang="ru-RU" sz="2600" spc="-1" strike="noStrike">
                <a:solidFill>
                  <a:srgbClr val="727ca3"/>
                </a:solidFill>
                <a:latin typeface="Calibri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Ответи</a:t>
            </a: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т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на вопросы </a:t>
            </a:r>
            <a:r>
              <a:rPr b="0" lang="ru-RU" sz="3200" spc="-1" strike="noStrike">
                <a:solidFill>
                  <a:srgbClr val="b292ca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</a:t>
            </a:r>
            <a:r>
              <a:rPr b="0" lang="ru-RU" sz="3200" spc="-1" strike="noStrike">
                <a:solidFill>
                  <a:srgbClr val="b292ca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Если 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есть большое желание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олучить хорошую оценку, то необходимо 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выполнить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упражнения 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3 и 4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95" name="Object 4"/>
          <p:cNvGraphicFramePr/>
          <p:nvPr/>
        </p:nvGraphicFramePr>
        <p:xfrm>
          <a:off x="2714760" y="4143240"/>
          <a:ext cx="1782720" cy="20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4143240"/>
                    <a:ext cx="1782720" cy="2071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97" name="Object 5"/>
          <p:cNvGraphicFramePr/>
          <p:nvPr/>
        </p:nvGraphicFramePr>
        <p:xfrm>
          <a:off x="4495680" y="4143240"/>
          <a:ext cx="1648080" cy="207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4143240"/>
                    <a:ext cx="1648080" cy="2079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69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1000">
    <p:fade thruBlk="true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775"/>
                            </p:stCondLst>
                            <p:childTnLst>
                              <p:par>
                                <p:cTn id="4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4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4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9C21-6EFC-4E2B-8DD9-790FC4AB69F7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Число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электронов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в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наружном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слое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ов элементов </a:t>
            </a:r>
            <a:r>
              <a:rPr b="0" lang="en-US" sz="2600" spc="-1" strike="noStrike">
                <a:solidFill>
                  <a:srgbClr val="b292ca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номеру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групп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в котором находится элемент. </a:t>
            </a:r>
            <a:r>
              <a:rPr b="0" i="1" lang="en-US" sz="2600" spc="-1" strike="noStrike">
                <a:solidFill>
                  <a:srgbClr val="dd23d0"/>
                </a:solidFill>
                <a:latin typeface="Gill Sans MT"/>
              </a:rPr>
              <a:t>(Для элементов главных подгрупп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лектроны движутся вокруг ядра с огромной скоростью по орбиталям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Част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пространств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где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иболе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 Condensed"/>
              </a:rPr>
              <a:t>вероятно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нахожден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, называют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электронным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облаком</a:t>
            </a:r>
            <a:r>
              <a:rPr b="0" lang="en-US" sz="2600" spc="-1" strike="noStrike">
                <a:solidFill>
                  <a:srgbClr val="ffffcc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9F53-2459-4E1D-B402-C8D89A33677A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00040" y="192060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N=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n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ула для вычисления 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количества электронов на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нергетических 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уровня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3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4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3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5" name="Object 4"/>
          <p:cNvGraphicFramePr/>
          <p:nvPr/>
        </p:nvGraphicFramePr>
        <p:xfrm>
          <a:off x="5357880" y="3143160"/>
          <a:ext cx="3000240" cy="30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7880" y="3143160"/>
                    <a:ext cx="3000240" cy="3071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7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2000">
    <p:cover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9A5C-0FAB-462B-AE66-C428D0829892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380" name="Group 10"/>
          <p:cNvGrpSpPr/>
          <p:nvPr/>
        </p:nvGrpSpPr>
        <p:grpSpPr>
          <a:xfrm>
            <a:off x="4071960" y="2428920"/>
            <a:ext cx="3999240" cy="3285000"/>
            <a:chOff x="4071960" y="2428920"/>
            <a:chExt cx="3999240" cy="3285000"/>
          </a:xfrm>
        </p:grpSpPr>
        <p:sp>
          <p:nvSpPr>
            <p:cNvPr id="381" name="Freeform 3"/>
            <p:cNvSpPr/>
            <p:nvPr/>
          </p:nvSpPr>
          <p:spPr>
            <a:xfrm>
              <a:off x="4552560" y="2428920"/>
              <a:ext cx="3164400" cy="328500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2" name="Freeform 4"/>
            <p:cNvSpPr/>
            <p:nvPr/>
          </p:nvSpPr>
          <p:spPr>
            <a:xfrm>
              <a:off x="5520240" y="3430440"/>
              <a:ext cx="1292760" cy="134964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1349640"/>
                <a:gd name="textAreaBottom" fmla="*/ 1350000 h 134964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3" name="Freeform 5"/>
            <p:cNvSpPr/>
            <p:nvPr/>
          </p:nvSpPr>
          <p:spPr>
            <a:xfrm>
              <a:off x="5520240" y="3430440"/>
              <a:ext cx="1292760" cy="134964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>
              <a:off x="4071960" y="3585240"/>
              <a:ext cx="880200" cy="90504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5" name="Freeform 7"/>
            <p:cNvSpPr/>
            <p:nvPr/>
          </p:nvSpPr>
          <p:spPr>
            <a:xfrm>
              <a:off x="4071960" y="3585240"/>
              <a:ext cx="880200" cy="905040"/>
            </a:xfrm>
            <a:custGeom>
              <a:avLst/>
              <a:gdLst>
                <a:gd name="textAreaLeft" fmla="*/ 0 w 880200"/>
                <a:gd name="textAreaRight" fmla="*/ 880560 w 880200"/>
                <a:gd name="textAreaTop" fmla="*/ 0 h 905040"/>
                <a:gd name="textAreaBottom" fmla="*/ 905400 h 90504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6" name="Freeform 8"/>
            <p:cNvSpPr/>
            <p:nvPr/>
          </p:nvSpPr>
          <p:spPr>
            <a:xfrm>
              <a:off x="7185960" y="3643560"/>
              <a:ext cx="885240" cy="91944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7" name="Freeform 9"/>
            <p:cNvSpPr/>
            <p:nvPr/>
          </p:nvSpPr>
          <p:spPr>
            <a:xfrm>
              <a:off x="7185960" y="3643560"/>
              <a:ext cx="885240" cy="919440"/>
            </a:xfrm>
            <a:custGeom>
              <a:avLst/>
              <a:gdLst>
                <a:gd name="textAreaLeft" fmla="*/ 0 w 885240"/>
                <a:gd name="textAreaRight" fmla="*/ 885600 w 885240"/>
                <a:gd name="textAreaTop" fmla="*/ 0 h 919440"/>
                <a:gd name="textAreaBottom" fmla="*/ 919800 h 91944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388" name="Rectangle 11"/>
          <p:cNvSpPr/>
          <p:nvPr/>
        </p:nvSpPr>
        <p:spPr>
          <a:xfrm>
            <a:off x="785880" y="2286000"/>
            <a:ext cx="3876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: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89" name="Прямоугольник 23"/>
          <p:cNvSpPr/>
          <p:nvPr/>
        </p:nvSpPr>
        <p:spPr>
          <a:xfrm>
            <a:off x="3429000" y="2286000"/>
            <a:ext cx="12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90" name="Місце для нижнього колонтитула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7000">
    <p:cover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D949-8040-4364-B853-47138E5E7AFA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393" name="Group 26"/>
          <p:cNvGrpSpPr/>
          <p:nvPr/>
        </p:nvGrpSpPr>
        <p:grpSpPr>
          <a:xfrm>
            <a:off x="4357800" y="1928880"/>
            <a:ext cx="3999600" cy="3999600"/>
            <a:chOff x="4357800" y="1928880"/>
            <a:chExt cx="3999600" cy="3999600"/>
          </a:xfrm>
        </p:grpSpPr>
        <p:sp>
          <p:nvSpPr>
            <p:cNvPr id="394" name="Freeform 3"/>
            <p:cNvSpPr/>
            <p:nvPr/>
          </p:nvSpPr>
          <p:spPr>
            <a:xfrm>
              <a:off x="4638600" y="2210760"/>
              <a:ext cx="3478680" cy="347472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5" name="Freeform 4"/>
            <p:cNvSpPr/>
            <p:nvPr/>
          </p:nvSpPr>
          <p:spPr>
            <a:xfrm>
              <a:off x="5388120" y="2920680"/>
              <a:ext cx="2017080" cy="201600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6" name="Freeform 5"/>
            <p:cNvSpPr/>
            <p:nvPr/>
          </p:nvSpPr>
          <p:spPr>
            <a:xfrm>
              <a:off x="6004800" y="3535560"/>
              <a:ext cx="824040" cy="82800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828000"/>
                <a:gd name="textAreaBottom" fmla="*/ 828360 h 82800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7" name="Freeform 6"/>
            <p:cNvSpPr/>
            <p:nvPr/>
          </p:nvSpPr>
          <p:spPr>
            <a:xfrm>
              <a:off x="6004800" y="3535560"/>
              <a:ext cx="824040" cy="82800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8" name="Freeform 7"/>
            <p:cNvSpPr/>
            <p:nvPr/>
          </p:nvSpPr>
          <p:spPr>
            <a:xfrm>
              <a:off x="5081400" y="3630240"/>
              <a:ext cx="560880" cy="55548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9" name="Freeform 8"/>
            <p:cNvSpPr/>
            <p:nvPr/>
          </p:nvSpPr>
          <p:spPr>
            <a:xfrm>
              <a:off x="5081400" y="3630240"/>
              <a:ext cx="560880" cy="555480"/>
            </a:xfrm>
            <a:custGeom>
              <a:avLst/>
              <a:gdLst>
                <a:gd name="textAreaLeft" fmla="*/ 0 w 560880"/>
                <a:gd name="textAreaRight" fmla="*/ 561240 w 56088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0" name="Freeform 9"/>
            <p:cNvSpPr/>
            <p:nvPr/>
          </p:nvSpPr>
          <p:spPr>
            <a:xfrm>
              <a:off x="7066800" y="366624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1" name="Freeform 10"/>
            <p:cNvSpPr/>
            <p:nvPr/>
          </p:nvSpPr>
          <p:spPr>
            <a:xfrm>
              <a:off x="7066800" y="366624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2" name="Freeform 11"/>
            <p:cNvSpPr/>
            <p:nvPr/>
          </p:nvSpPr>
          <p:spPr>
            <a:xfrm>
              <a:off x="6134760" y="1928880"/>
              <a:ext cx="564120" cy="56160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3" name="Freeform 12"/>
            <p:cNvSpPr/>
            <p:nvPr/>
          </p:nvSpPr>
          <p:spPr>
            <a:xfrm>
              <a:off x="6134760" y="1928880"/>
              <a:ext cx="564120" cy="5616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4" name="Freeform 13"/>
            <p:cNvSpPr/>
            <p:nvPr/>
          </p:nvSpPr>
          <p:spPr>
            <a:xfrm>
              <a:off x="6134760" y="5367600"/>
              <a:ext cx="564120" cy="56088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5" name="Freeform 14"/>
            <p:cNvSpPr/>
            <p:nvPr/>
          </p:nvSpPr>
          <p:spPr>
            <a:xfrm>
              <a:off x="6134760" y="5367600"/>
              <a:ext cx="564120" cy="56088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6" name="Freeform 15"/>
            <p:cNvSpPr/>
            <p:nvPr/>
          </p:nvSpPr>
          <p:spPr>
            <a:xfrm>
              <a:off x="7795800" y="3666240"/>
              <a:ext cx="561600" cy="5641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7795800" y="3666240"/>
              <a:ext cx="561600" cy="56412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8" name="Freeform 17"/>
            <p:cNvSpPr/>
            <p:nvPr/>
          </p:nvSpPr>
          <p:spPr>
            <a:xfrm>
              <a:off x="4357800" y="3666240"/>
              <a:ext cx="555840" cy="5641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9" name="Freeform 18"/>
            <p:cNvSpPr/>
            <p:nvPr/>
          </p:nvSpPr>
          <p:spPr>
            <a:xfrm>
              <a:off x="4841280" y="4880880"/>
              <a:ext cx="558360" cy="5634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4841280" y="4880880"/>
              <a:ext cx="555840" cy="5634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1" name="Freeform 20"/>
            <p:cNvSpPr/>
            <p:nvPr/>
          </p:nvSpPr>
          <p:spPr>
            <a:xfrm>
              <a:off x="7309440" y="249300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2" name="Freeform 21"/>
            <p:cNvSpPr/>
            <p:nvPr/>
          </p:nvSpPr>
          <p:spPr>
            <a:xfrm>
              <a:off x="7309440" y="249300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3" name="Freeform 22"/>
            <p:cNvSpPr/>
            <p:nvPr/>
          </p:nvSpPr>
          <p:spPr>
            <a:xfrm>
              <a:off x="7309440" y="492192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4" name="Freeform 23"/>
            <p:cNvSpPr/>
            <p:nvPr/>
          </p:nvSpPr>
          <p:spPr>
            <a:xfrm>
              <a:off x="7309440" y="492192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5" name="Freeform 24"/>
            <p:cNvSpPr/>
            <p:nvPr/>
          </p:nvSpPr>
          <p:spPr>
            <a:xfrm>
              <a:off x="4841280" y="2493000"/>
              <a:ext cx="555840" cy="56412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6" name="Freeform 25"/>
            <p:cNvSpPr/>
            <p:nvPr/>
          </p:nvSpPr>
          <p:spPr>
            <a:xfrm>
              <a:off x="4841280" y="2493000"/>
              <a:ext cx="558360" cy="56412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417" name="Rectangle 27"/>
          <p:cNvSpPr/>
          <p:nvPr/>
        </p:nvSpPr>
        <p:spPr>
          <a:xfrm>
            <a:off x="785880" y="2000160"/>
            <a:ext cx="45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: 2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8" name="Rectangle 28"/>
          <p:cNvSpPr/>
          <p:nvPr/>
        </p:nvSpPr>
        <p:spPr>
          <a:xfrm>
            <a:off x="714240" y="2928960"/>
            <a:ext cx="373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2 уровень:8</a:t>
            </a: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9" name="Місце для нижнього колонтитула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7000"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7C4A-C67E-4AB5-B53E-AE1D540E128F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422" name="Group 64"/>
          <p:cNvGrpSpPr/>
          <p:nvPr/>
        </p:nvGrpSpPr>
        <p:grpSpPr>
          <a:xfrm>
            <a:off x="4071960" y="1500120"/>
            <a:ext cx="4807800" cy="4670280"/>
            <a:chOff x="4071960" y="1500120"/>
            <a:chExt cx="4807800" cy="4670280"/>
          </a:xfrm>
        </p:grpSpPr>
        <p:sp>
          <p:nvSpPr>
            <p:cNvPr id="423" name="Freeform 3"/>
            <p:cNvSpPr/>
            <p:nvPr/>
          </p:nvSpPr>
          <p:spPr>
            <a:xfrm>
              <a:off x="4244400" y="1666440"/>
              <a:ext cx="4457520" cy="4305240"/>
            </a:xfrm>
            <a:custGeom>
              <a:avLst/>
              <a:gdLst/>
              <a:ahLst/>
              <a:rect l="l" t="t" r="r" b="b"/>
              <a:pathLst>
                <a:path w="1932" h="1882">
                  <a:moveTo>
                    <a:pt x="296" y="289"/>
                  </a:moveTo>
                  <a:lnTo>
                    <a:pt x="296" y="289"/>
                  </a:lnTo>
                  <a:lnTo>
                    <a:pt x="334" y="254"/>
                  </a:lnTo>
                  <a:lnTo>
                    <a:pt x="343" y="245"/>
                  </a:lnTo>
                  <a:lnTo>
                    <a:pt x="378" y="216"/>
                  </a:lnTo>
                  <a:lnTo>
                    <a:pt x="386" y="209"/>
                  </a:lnTo>
                  <a:lnTo>
                    <a:pt x="421" y="184"/>
                  </a:lnTo>
                  <a:lnTo>
                    <a:pt x="429" y="177"/>
                  </a:lnTo>
                  <a:lnTo>
                    <a:pt x="465" y="152"/>
                  </a:lnTo>
                  <a:lnTo>
                    <a:pt x="473" y="148"/>
                  </a:lnTo>
                  <a:lnTo>
                    <a:pt x="509" y="125"/>
                  </a:lnTo>
                  <a:lnTo>
                    <a:pt x="518" y="120"/>
                  </a:lnTo>
                  <a:lnTo>
                    <a:pt x="553" y="101"/>
                  </a:lnTo>
                  <a:lnTo>
                    <a:pt x="562" y="96"/>
                  </a:lnTo>
                  <a:lnTo>
                    <a:pt x="599" y="79"/>
                  </a:lnTo>
                  <a:lnTo>
                    <a:pt x="607" y="75"/>
                  </a:lnTo>
                  <a:lnTo>
                    <a:pt x="643" y="60"/>
                  </a:lnTo>
                  <a:lnTo>
                    <a:pt x="652" y="57"/>
                  </a:lnTo>
                  <a:lnTo>
                    <a:pt x="689" y="44"/>
                  </a:lnTo>
                  <a:lnTo>
                    <a:pt x="698" y="40"/>
                  </a:lnTo>
                  <a:lnTo>
                    <a:pt x="734" y="30"/>
                  </a:lnTo>
                  <a:lnTo>
                    <a:pt x="742" y="29"/>
                  </a:lnTo>
                  <a:lnTo>
                    <a:pt x="780" y="19"/>
                  </a:lnTo>
                  <a:lnTo>
                    <a:pt x="789" y="17"/>
                  </a:lnTo>
                  <a:lnTo>
                    <a:pt x="825" y="11"/>
                  </a:lnTo>
                  <a:lnTo>
                    <a:pt x="833" y="9"/>
                  </a:lnTo>
                  <a:lnTo>
                    <a:pt x="870" y="5"/>
                  </a:lnTo>
                  <a:lnTo>
                    <a:pt x="879" y="4"/>
                  </a:lnTo>
                  <a:lnTo>
                    <a:pt x="915" y="1"/>
                  </a:lnTo>
                  <a:lnTo>
                    <a:pt x="924" y="1"/>
                  </a:lnTo>
                  <a:lnTo>
                    <a:pt x="960" y="0"/>
                  </a:lnTo>
                  <a:lnTo>
                    <a:pt x="970" y="0"/>
                  </a:lnTo>
                  <a:lnTo>
                    <a:pt x="1004" y="1"/>
                  </a:lnTo>
                  <a:lnTo>
                    <a:pt x="1014" y="1"/>
                  </a:lnTo>
                  <a:lnTo>
                    <a:pt x="1050" y="4"/>
                  </a:lnTo>
                  <a:lnTo>
                    <a:pt x="1058" y="5"/>
                  </a:lnTo>
                  <a:lnTo>
                    <a:pt x="1093" y="9"/>
                  </a:lnTo>
                  <a:lnTo>
                    <a:pt x="1103" y="11"/>
                  </a:lnTo>
                  <a:lnTo>
                    <a:pt x="1137" y="17"/>
                  </a:lnTo>
                  <a:lnTo>
                    <a:pt x="1146" y="19"/>
                  </a:lnTo>
                  <a:lnTo>
                    <a:pt x="1179" y="27"/>
                  </a:lnTo>
                  <a:lnTo>
                    <a:pt x="1188" y="30"/>
                  </a:lnTo>
                  <a:lnTo>
                    <a:pt x="1223" y="39"/>
                  </a:lnTo>
                  <a:lnTo>
                    <a:pt x="1232" y="43"/>
                  </a:lnTo>
                  <a:lnTo>
                    <a:pt x="1265" y="53"/>
                  </a:lnTo>
                  <a:lnTo>
                    <a:pt x="1272" y="55"/>
                  </a:lnTo>
                  <a:lnTo>
                    <a:pt x="1306" y="68"/>
                  </a:lnTo>
                  <a:lnTo>
                    <a:pt x="1314" y="72"/>
                  </a:lnTo>
                  <a:lnTo>
                    <a:pt x="1347" y="86"/>
                  </a:lnTo>
                  <a:lnTo>
                    <a:pt x="1355" y="89"/>
                  </a:lnTo>
                  <a:lnTo>
                    <a:pt x="1385" y="104"/>
                  </a:lnTo>
                  <a:lnTo>
                    <a:pt x="1393" y="109"/>
                  </a:lnTo>
                  <a:lnTo>
                    <a:pt x="1424" y="125"/>
                  </a:lnTo>
                  <a:lnTo>
                    <a:pt x="1432" y="129"/>
                  </a:lnTo>
                  <a:lnTo>
                    <a:pt x="1463" y="149"/>
                  </a:lnTo>
                  <a:lnTo>
                    <a:pt x="1469" y="152"/>
                  </a:lnTo>
                  <a:lnTo>
                    <a:pt x="1499" y="172"/>
                  </a:lnTo>
                  <a:lnTo>
                    <a:pt x="1506" y="177"/>
                  </a:lnTo>
                  <a:lnTo>
                    <a:pt x="1533" y="198"/>
                  </a:lnTo>
                  <a:lnTo>
                    <a:pt x="1540" y="203"/>
                  </a:lnTo>
                  <a:lnTo>
                    <a:pt x="1568" y="224"/>
                  </a:lnTo>
                  <a:lnTo>
                    <a:pt x="1575" y="230"/>
                  </a:lnTo>
                  <a:lnTo>
                    <a:pt x="1603" y="254"/>
                  </a:lnTo>
                  <a:lnTo>
                    <a:pt x="1609" y="259"/>
                  </a:lnTo>
                  <a:lnTo>
                    <a:pt x="1634" y="284"/>
                  </a:lnTo>
                  <a:lnTo>
                    <a:pt x="1640" y="289"/>
                  </a:lnTo>
                  <a:lnTo>
                    <a:pt x="1665" y="313"/>
                  </a:lnTo>
                  <a:lnTo>
                    <a:pt x="1671" y="320"/>
                  </a:lnTo>
                  <a:lnTo>
                    <a:pt x="1695" y="346"/>
                  </a:lnTo>
                  <a:lnTo>
                    <a:pt x="1700" y="353"/>
                  </a:lnTo>
                  <a:lnTo>
                    <a:pt x="1722" y="381"/>
                  </a:lnTo>
                  <a:lnTo>
                    <a:pt x="1728" y="386"/>
                  </a:lnTo>
                  <a:lnTo>
                    <a:pt x="1749" y="414"/>
                  </a:lnTo>
                  <a:lnTo>
                    <a:pt x="1755" y="421"/>
                  </a:lnTo>
                  <a:lnTo>
                    <a:pt x="1774" y="449"/>
                  </a:lnTo>
                  <a:lnTo>
                    <a:pt x="1779" y="456"/>
                  </a:lnTo>
                  <a:lnTo>
                    <a:pt x="1798" y="487"/>
                  </a:lnTo>
                  <a:lnTo>
                    <a:pt x="1802" y="494"/>
                  </a:lnTo>
                  <a:lnTo>
                    <a:pt x="1819" y="523"/>
                  </a:lnTo>
                  <a:lnTo>
                    <a:pt x="1823" y="531"/>
                  </a:lnTo>
                  <a:lnTo>
                    <a:pt x="1838" y="561"/>
                  </a:lnTo>
                  <a:lnTo>
                    <a:pt x="1843" y="569"/>
                  </a:lnTo>
                  <a:lnTo>
                    <a:pt x="1856" y="601"/>
                  </a:lnTo>
                  <a:lnTo>
                    <a:pt x="1861" y="609"/>
                  </a:lnTo>
                  <a:lnTo>
                    <a:pt x="1873" y="642"/>
                  </a:lnTo>
                  <a:lnTo>
                    <a:pt x="1877" y="649"/>
                  </a:lnTo>
                  <a:lnTo>
                    <a:pt x="1887" y="681"/>
                  </a:lnTo>
                  <a:lnTo>
                    <a:pt x="1891" y="689"/>
                  </a:lnTo>
                  <a:lnTo>
                    <a:pt x="1901" y="723"/>
                  </a:lnTo>
                  <a:lnTo>
                    <a:pt x="1903" y="731"/>
                  </a:lnTo>
                  <a:lnTo>
                    <a:pt x="1911" y="764"/>
                  </a:lnTo>
                  <a:lnTo>
                    <a:pt x="1913" y="772"/>
                  </a:lnTo>
                  <a:lnTo>
                    <a:pt x="1919" y="807"/>
                  </a:lnTo>
                  <a:lnTo>
                    <a:pt x="1920" y="816"/>
                  </a:lnTo>
                  <a:lnTo>
                    <a:pt x="1926" y="850"/>
                  </a:lnTo>
                  <a:lnTo>
                    <a:pt x="1927" y="858"/>
                  </a:lnTo>
                  <a:lnTo>
                    <a:pt x="1929" y="892"/>
                  </a:lnTo>
                  <a:lnTo>
                    <a:pt x="1929" y="903"/>
                  </a:lnTo>
                  <a:lnTo>
                    <a:pt x="1931" y="937"/>
                  </a:lnTo>
                  <a:lnTo>
                    <a:pt x="1931" y="946"/>
                  </a:lnTo>
                  <a:lnTo>
                    <a:pt x="1929" y="980"/>
                  </a:lnTo>
                  <a:lnTo>
                    <a:pt x="1929" y="989"/>
                  </a:lnTo>
                  <a:lnTo>
                    <a:pt x="1927" y="1025"/>
                  </a:lnTo>
                  <a:lnTo>
                    <a:pt x="1926" y="1033"/>
                  </a:lnTo>
                  <a:lnTo>
                    <a:pt x="1921" y="1068"/>
                  </a:lnTo>
                  <a:lnTo>
                    <a:pt x="1920" y="1076"/>
                  </a:lnTo>
                  <a:lnTo>
                    <a:pt x="1913" y="1112"/>
                  </a:lnTo>
                  <a:lnTo>
                    <a:pt x="1911" y="1122"/>
                  </a:lnTo>
                  <a:lnTo>
                    <a:pt x="1902" y="1157"/>
                  </a:lnTo>
                  <a:lnTo>
                    <a:pt x="1901" y="1165"/>
                  </a:lnTo>
                  <a:lnTo>
                    <a:pt x="1889" y="1201"/>
                  </a:lnTo>
                  <a:lnTo>
                    <a:pt x="1886" y="1210"/>
                  </a:lnTo>
                  <a:lnTo>
                    <a:pt x="1872" y="1245"/>
                  </a:lnTo>
                  <a:lnTo>
                    <a:pt x="1869" y="1254"/>
                  </a:lnTo>
                  <a:lnTo>
                    <a:pt x="1854" y="1290"/>
                  </a:lnTo>
                  <a:lnTo>
                    <a:pt x="1850" y="1298"/>
                  </a:lnTo>
                  <a:lnTo>
                    <a:pt x="1831" y="1333"/>
                  </a:lnTo>
                  <a:lnTo>
                    <a:pt x="1828" y="1341"/>
                  </a:lnTo>
                  <a:lnTo>
                    <a:pt x="1808" y="1377"/>
                  </a:lnTo>
                  <a:lnTo>
                    <a:pt x="1802" y="1385"/>
                  </a:lnTo>
                  <a:lnTo>
                    <a:pt x="1780" y="1420"/>
                  </a:lnTo>
                  <a:lnTo>
                    <a:pt x="1774" y="1428"/>
                  </a:lnTo>
                  <a:lnTo>
                    <a:pt x="1749" y="1462"/>
                  </a:lnTo>
                  <a:lnTo>
                    <a:pt x="1743" y="1470"/>
                  </a:lnTo>
                  <a:lnTo>
                    <a:pt x="1715" y="1505"/>
                  </a:lnTo>
                  <a:lnTo>
                    <a:pt x="1708" y="1513"/>
                  </a:lnTo>
                  <a:lnTo>
                    <a:pt x="1679" y="1547"/>
                  </a:lnTo>
                  <a:lnTo>
                    <a:pt x="1671" y="1555"/>
                  </a:lnTo>
                  <a:lnTo>
                    <a:pt x="1639" y="1588"/>
                  </a:lnTo>
                  <a:lnTo>
                    <a:pt x="1634" y="1591"/>
                  </a:lnTo>
                  <a:lnTo>
                    <a:pt x="1597" y="1628"/>
                  </a:lnTo>
                  <a:lnTo>
                    <a:pt x="1588" y="1636"/>
                  </a:lnTo>
                  <a:lnTo>
                    <a:pt x="1554" y="1664"/>
                  </a:lnTo>
                  <a:lnTo>
                    <a:pt x="1545" y="1671"/>
                  </a:lnTo>
                  <a:lnTo>
                    <a:pt x="1509" y="1698"/>
                  </a:lnTo>
                  <a:lnTo>
                    <a:pt x="1501" y="1703"/>
                  </a:lnTo>
                  <a:lnTo>
                    <a:pt x="1466" y="1728"/>
                  </a:lnTo>
                  <a:lnTo>
                    <a:pt x="1458" y="1734"/>
                  </a:lnTo>
                  <a:lnTo>
                    <a:pt x="1422" y="1756"/>
                  </a:lnTo>
                  <a:lnTo>
                    <a:pt x="1414" y="1762"/>
                  </a:lnTo>
                  <a:lnTo>
                    <a:pt x="1377" y="1780"/>
                  </a:lnTo>
                  <a:lnTo>
                    <a:pt x="1368" y="1784"/>
                  </a:lnTo>
                  <a:lnTo>
                    <a:pt x="1332" y="1802"/>
                  </a:lnTo>
                  <a:lnTo>
                    <a:pt x="1324" y="1806"/>
                  </a:lnTo>
                  <a:lnTo>
                    <a:pt x="1287" y="1821"/>
                  </a:lnTo>
                  <a:lnTo>
                    <a:pt x="1278" y="1823"/>
                  </a:lnTo>
                  <a:lnTo>
                    <a:pt x="1243" y="1837"/>
                  </a:lnTo>
                  <a:lnTo>
                    <a:pt x="1233" y="1840"/>
                  </a:lnTo>
                  <a:lnTo>
                    <a:pt x="1196" y="1851"/>
                  </a:lnTo>
                  <a:lnTo>
                    <a:pt x="1188" y="1853"/>
                  </a:lnTo>
                  <a:lnTo>
                    <a:pt x="1152" y="1862"/>
                  </a:lnTo>
                  <a:lnTo>
                    <a:pt x="1142" y="1863"/>
                  </a:lnTo>
                  <a:lnTo>
                    <a:pt x="1105" y="1870"/>
                  </a:lnTo>
                  <a:lnTo>
                    <a:pt x="1097" y="1871"/>
                  </a:lnTo>
                  <a:lnTo>
                    <a:pt x="1061" y="1876"/>
                  </a:lnTo>
                  <a:lnTo>
                    <a:pt x="1052" y="1877"/>
                  </a:lnTo>
                  <a:lnTo>
                    <a:pt x="1015" y="1879"/>
                  </a:lnTo>
                  <a:lnTo>
                    <a:pt x="1006" y="1879"/>
                  </a:lnTo>
                  <a:lnTo>
                    <a:pt x="971" y="1881"/>
                  </a:lnTo>
                  <a:lnTo>
                    <a:pt x="961" y="1881"/>
                  </a:lnTo>
                  <a:lnTo>
                    <a:pt x="927" y="1879"/>
                  </a:lnTo>
                  <a:lnTo>
                    <a:pt x="916" y="1879"/>
                  </a:lnTo>
                  <a:lnTo>
                    <a:pt x="881" y="1877"/>
                  </a:lnTo>
                  <a:lnTo>
                    <a:pt x="873" y="1876"/>
                  </a:lnTo>
                  <a:lnTo>
                    <a:pt x="838" y="1870"/>
                  </a:lnTo>
                  <a:lnTo>
                    <a:pt x="829" y="1869"/>
                  </a:lnTo>
                  <a:lnTo>
                    <a:pt x="793" y="1863"/>
                  </a:lnTo>
                  <a:lnTo>
                    <a:pt x="784" y="1862"/>
                  </a:lnTo>
                  <a:lnTo>
                    <a:pt x="751" y="1854"/>
                  </a:lnTo>
                  <a:lnTo>
                    <a:pt x="742" y="1851"/>
                  </a:lnTo>
                  <a:lnTo>
                    <a:pt x="708" y="1842"/>
                  </a:lnTo>
                  <a:lnTo>
                    <a:pt x="699" y="1839"/>
                  </a:lnTo>
                  <a:lnTo>
                    <a:pt x="666" y="1828"/>
                  </a:lnTo>
                  <a:lnTo>
                    <a:pt x="659" y="1825"/>
                  </a:lnTo>
                  <a:lnTo>
                    <a:pt x="625" y="1813"/>
                  </a:lnTo>
                  <a:lnTo>
                    <a:pt x="617" y="1808"/>
                  </a:lnTo>
                  <a:lnTo>
                    <a:pt x="585" y="1795"/>
                  </a:lnTo>
                  <a:lnTo>
                    <a:pt x="576" y="1791"/>
                  </a:lnTo>
                  <a:lnTo>
                    <a:pt x="545" y="1776"/>
                  </a:lnTo>
                  <a:lnTo>
                    <a:pt x="537" y="1772"/>
                  </a:lnTo>
                  <a:lnTo>
                    <a:pt x="507" y="1756"/>
                  </a:lnTo>
                  <a:lnTo>
                    <a:pt x="500" y="1751"/>
                  </a:lnTo>
                  <a:lnTo>
                    <a:pt x="468" y="1732"/>
                  </a:lnTo>
                  <a:lnTo>
                    <a:pt x="461" y="1728"/>
                  </a:lnTo>
                  <a:lnTo>
                    <a:pt x="433" y="1709"/>
                  </a:lnTo>
                  <a:lnTo>
                    <a:pt x="425" y="1703"/>
                  </a:lnTo>
                  <a:lnTo>
                    <a:pt x="397" y="1684"/>
                  </a:lnTo>
                  <a:lnTo>
                    <a:pt x="391" y="1678"/>
                  </a:lnTo>
                  <a:lnTo>
                    <a:pt x="362" y="1656"/>
                  </a:lnTo>
                  <a:lnTo>
                    <a:pt x="355" y="1651"/>
                  </a:lnTo>
                  <a:lnTo>
                    <a:pt x="329" y="1628"/>
                  </a:lnTo>
                  <a:lnTo>
                    <a:pt x="321" y="1622"/>
                  </a:lnTo>
                  <a:lnTo>
                    <a:pt x="296" y="1597"/>
                  </a:lnTo>
                  <a:lnTo>
                    <a:pt x="291" y="1591"/>
                  </a:lnTo>
                  <a:lnTo>
                    <a:pt x="266" y="1567"/>
                  </a:lnTo>
                  <a:lnTo>
                    <a:pt x="260" y="1561"/>
                  </a:lnTo>
                  <a:lnTo>
                    <a:pt x="236" y="1534"/>
                  </a:lnTo>
                  <a:lnTo>
                    <a:pt x="230" y="1527"/>
                  </a:lnTo>
                  <a:lnTo>
                    <a:pt x="209" y="1501"/>
                  </a:lnTo>
                  <a:lnTo>
                    <a:pt x="203" y="1494"/>
                  </a:lnTo>
                  <a:lnTo>
                    <a:pt x="181" y="1467"/>
                  </a:lnTo>
                  <a:lnTo>
                    <a:pt x="177" y="1460"/>
                  </a:lnTo>
                  <a:lnTo>
                    <a:pt x="156" y="1431"/>
                  </a:lnTo>
                  <a:lnTo>
                    <a:pt x="153" y="1425"/>
                  </a:lnTo>
                  <a:lnTo>
                    <a:pt x="132" y="1395"/>
                  </a:lnTo>
                  <a:lnTo>
                    <a:pt x="129" y="1388"/>
                  </a:lnTo>
                  <a:lnTo>
                    <a:pt x="112" y="1357"/>
                  </a:lnTo>
                  <a:lnTo>
                    <a:pt x="107" y="1349"/>
                  </a:lnTo>
                  <a:lnTo>
                    <a:pt x="92" y="1320"/>
                  </a:lnTo>
                  <a:lnTo>
                    <a:pt x="88" y="1312"/>
                  </a:lnTo>
                  <a:lnTo>
                    <a:pt x="74" y="1280"/>
                  </a:lnTo>
                  <a:lnTo>
                    <a:pt x="70" y="1272"/>
                  </a:lnTo>
                  <a:lnTo>
                    <a:pt x="57" y="1240"/>
                  </a:lnTo>
                  <a:lnTo>
                    <a:pt x="55" y="1233"/>
                  </a:lnTo>
                  <a:lnTo>
                    <a:pt x="44" y="1200"/>
                  </a:lnTo>
                  <a:lnTo>
                    <a:pt x="40" y="1192"/>
                  </a:lnTo>
                  <a:lnTo>
                    <a:pt x="31" y="1157"/>
                  </a:lnTo>
                  <a:lnTo>
                    <a:pt x="28" y="1149"/>
                  </a:lnTo>
                  <a:lnTo>
                    <a:pt x="20" y="1116"/>
                  </a:lnTo>
                  <a:lnTo>
                    <a:pt x="17" y="1108"/>
                  </a:lnTo>
                  <a:lnTo>
                    <a:pt x="11" y="1074"/>
                  </a:lnTo>
                  <a:lnTo>
                    <a:pt x="9" y="1065"/>
                  </a:lnTo>
                  <a:lnTo>
                    <a:pt x="5" y="1031"/>
                  </a:lnTo>
                  <a:lnTo>
                    <a:pt x="4" y="1023"/>
                  </a:lnTo>
                  <a:lnTo>
                    <a:pt x="1" y="988"/>
                  </a:lnTo>
                  <a:lnTo>
                    <a:pt x="1" y="978"/>
                  </a:lnTo>
                  <a:lnTo>
                    <a:pt x="0" y="945"/>
                  </a:lnTo>
                  <a:lnTo>
                    <a:pt x="0" y="935"/>
                  </a:lnTo>
                  <a:lnTo>
                    <a:pt x="1" y="900"/>
                  </a:lnTo>
                  <a:lnTo>
                    <a:pt x="1" y="891"/>
                  </a:lnTo>
                  <a:lnTo>
                    <a:pt x="4" y="856"/>
                  </a:lnTo>
                  <a:lnTo>
                    <a:pt x="5" y="848"/>
                  </a:lnTo>
                  <a:lnTo>
                    <a:pt x="9" y="812"/>
                  </a:lnTo>
                  <a:lnTo>
                    <a:pt x="11" y="804"/>
                  </a:lnTo>
                  <a:lnTo>
                    <a:pt x="17" y="769"/>
                  </a:lnTo>
                  <a:lnTo>
                    <a:pt x="20" y="759"/>
                  </a:lnTo>
                  <a:lnTo>
                    <a:pt x="29" y="723"/>
                  </a:lnTo>
                  <a:lnTo>
                    <a:pt x="31" y="715"/>
                  </a:lnTo>
                  <a:lnTo>
                    <a:pt x="41" y="680"/>
                  </a:lnTo>
                  <a:lnTo>
                    <a:pt x="45" y="671"/>
                  </a:lnTo>
                  <a:lnTo>
                    <a:pt x="58" y="635"/>
                  </a:lnTo>
                  <a:lnTo>
                    <a:pt x="62" y="627"/>
                  </a:lnTo>
                  <a:lnTo>
                    <a:pt x="77" y="592"/>
                  </a:lnTo>
                  <a:lnTo>
                    <a:pt x="81" y="583"/>
                  </a:lnTo>
                  <a:lnTo>
                    <a:pt x="99" y="547"/>
                  </a:lnTo>
                  <a:lnTo>
                    <a:pt x="104" y="539"/>
                  </a:lnTo>
                  <a:lnTo>
                    <a:pt x="123" y="504"/>
                  </a:lnTo>
                  <a:lnTo>
                    <a:pt x="129" y="496"/>
                  </a:lnTo>
                  <a:lnTo>
                    <a:pt x="151" y="461"/>
                  </a:lnTo>
                  <a:lnTo>
                    <a:pt x="156" y="453"/>
                  </a:lnTo>
                  <a:lnTo>
                    <a:pt x="181" y="418"/>
                  </a:lnTo>
                  <a:lnTo>
                    <a:pt x="189" y="410"/>
                  </a:lnTo>
                  <a:lnTo>
                    <a:pt x="215" y="376"/>
                  </a:lnTo>
                  <a:lnTo>
                    <a:pt x="222" y="368"/>
                  </a:lnTo>
                  <a:lnTo>
                    <a:pt x="252" y="334"/>
                  </a:lnTo>
                  <a:lnTo>
                    <a:pt x="260" y="326"/>
                  </a:lnTo>
                  <a:lnTo>
                    <a:pt x="293" y="293"/>
                  </a:lnTo>
                  <a:lnTo>
                    <a:pt x="296" y="28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4" name="Freeform 4"/>
            <p:cNvSpPr/>
            <p:nvPr/>
          </p:nvSpPr>
          <p:spPr>
            <a:xfrm>
              <a:off x="5105160" y="2496960"/>
              <a:ext cx="2773440" cy="267624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5" name="Freeform 5"/>
            <p:cNvSpPr/>
            <p:nvPr/>
          </p:nvSpPr>
          <p:spPr>
            <a:xfrm>
              <a:off x="5702760" y="3043800"/>
              <a:ext cx="1608120" cy="155268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6" name="Freeform 6"/>
            <p:cNvSpPr/>
            <p:nvPr/>
          </p:nvSpPr>
          <p:spPr>
            <a:xfrm>
              <a:off x="6194520" y="3517200"/>
              <a:ext cx="657000" cy="63792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7" name="Freeform 7"/>
            <p:cNvSpPr/>
            <p:nvPr/>
          </p:nvSpPr>
          <p:spPr>
            <a:xfrm>
              <a:off x="6194520" y="3517200"/>
              <a:ext cx="657000" cy="63792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8" name="Freeform 8"/>
            <p:cNvSpPr/>
            <p:nvPr/>
          </p:nvSpPr>
          <p:spPr>
            <a:xfrm>
              <a:off x="5522760" y="558288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9" name="Freeform 9"/>
            <p:cNvSpPr/>
            <p:nvPr/>
          </p:nvSpPr>
          <p:spPr>
            <a:xfrm>
              <a:off x="5522760" y="558288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0" name="Freeform 10"/>
            <p:cNvSpPr/>
            <p:nvPr/>
          </p:nvSpPr>
          <p:spPr>
            <a:xfrm>
              <a:off x="5458320" y="3590280"/>
              <a:ext cx="444960" cy="42768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1" name="Freeform 11"/>
            <p:cNvSpPr/>
            <p:nvPr/>
          </p:nvSpPr>
          <p:spPr>
            <a:xfrm>
              <a:off x="5458320" y="3590280"/>
              <a:ext cx="447120" cy="42768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2" name="Freeform 12"/>
            <p:cNvSpPr/>
            <p:nvPr/>
          </p:nvSpPr>
          <p:spPr>
            <a:xfrm>
              <a:off x="7040880" y="36180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3" name="Freeform 13"/>
            <p:cNvSpPr/>
            <p:nvPr/>
          </p:nvSpPr>
          <p:spPr>
            <a:xfrm>
              <a:off x="7040880" y="36180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4" name="Freeform 14"/>
            <p:cNvSpPr/>
            <p:nvPr/>
          </p:nvSpPr>
          <p:spPr>
            <a:xfrm>
              <a:off x="6298200" y="2279520"/>
              <a:ext cx="449640" cy="4323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5" name="Freeform 15"/>
            <p:cNvSpPr/>
            <p:nvPr/>
          </p:nvSpPr>
          <p:spPr>
            <a:xfrm>
              <a:off x="6298200" y="2279520"/>
              <a:ext cx="449640" cy="432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6298200" y="4928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7" name="Freeform 17"/>
            <p:cNvSpPr/>
            <p:nvPr/>
          </p:nvSpPr>
          <p:spPr>
            <a:xfrm>
              <a:off x="6298200" y="4928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8" name="Freeform 18"/>
            <p:cNvSpPr/>
            <p:nvPr/>
          </p:nvSpPr>
          <p:spPr>
            <a:xfrm>
              <a:off x="7622280" y="3618000"/>
              <a:ext cx="447840" cy="4345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7622280" y="3618000"/>
              <a:ext cx="447840" cy="43452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4881240" y="3618000"/>
              <a:ext cx="443160" cy="4345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1" name="Freeform 21"/>
            <p:cNvSpPr/>
            <p:nvPr/>
          </p:nvSpPr>
          <p:spPr>
            <a:xfrm>
              <a:off x="4881240" y="3618000"/>
              <a:ext cx="443160" cy="434520"/>
            </a:xfrm>
            <a:custGeom>
              <a:avLst/>
              <a:gdLst>
                <a:gd name="textAreaLeft" fmla="*/ 0 w 443160"/>
                <a:gd name="textAreaRight" fmla="*/ 443520 w 4431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2" name="Freeform 22"/>
            <p:cNvSpPr/>
            <p:nvPr/>
          </p:nvSpPr>
          <p:spPr>
            <a:xfrm>
              <a:off x="5266800" y="4553640"/>
              <a:ext cx="444960" cy="43416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3" name="Freeform 23"/>
            <p:cNvSpPr/>
            <p:nvPr/>
          </p:nvSpPr>
          <p:spPr>
            <a:xfrm>
              <a:off x="5266800" y="4553640"/>
              <a:ext cx="444960" cy="434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4" name="Freeform 24"/>
            <p:cNvSpPr/>
            <p:nvPr/>
          </p:nvSpPr>
          <p:spPr>
            <a:xfrm>
              <a:off x="7234560" y="27144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5" name="Freeform 25"/>
            <p:cNvSpPr/>
            <p:nvPr/>
          </p:nvSpPr>
          <p:spPr>
            <a:xfrm>
              <a:off x="7234560" y="2714400"/>
              <a:ext cx="449640" cy="4345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6" name="Freeform 26"/>
            <p:cNvSpPr/>
            <p:nvPr/>
          </p:nvSpPr>
          <p:spPr>
            <a:xfrm>
              <a:off x="7234560" y="4585320"/>
              <a:ext cx="449640" cy="4323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7" name="Freeform 27"/>
            <p:cNvSpPr/>
            <p:nvPr/>
          </p:nvSpPr>
          <p:spPr>
            <a:xfrm>
              <a:off x="7234560" y="458532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8" name="Freeform 28"/>
            <p:cNvSpPr/>
            <p:nvPr/>
          </p:nvSpPr>
          <p:spPr>
            <a:xfrm>
              <a:off x="5266800" y="2714400"/>
              <a:ext cx="444960" cy="43452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9" name="Freeform 29"/>
            <p:cNvSpPr/>
            <p:nvPr/>
          </p:nvSpPr>
          <p:spPr>
            <a:xfrm>
              <a:off x="5266800" y="2714400"/>
              <a:ext cx="444960" cy="43452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0" name="Freeform 30"/>
            <p:cNvSpPr/>
            <p:nvPr/>
          </p:nvSpPr>
          <p:spPr>
            <a:xfrm>
              <a:off x="7107840" y="5518440"/>
              <a:ext cx="447120" cy="43236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1" name="Freeform 31"/>
            <p:cNvSpPr/>
            <p:nvPr/>
          </p:nvSpPr>
          <p:spPr>
            <a:xfrm>
              <a:off x="7107840" y="5518440"/>
              <a:ext cx="44712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2" name="Freeform 32"/>
            <p:cNvSpPr/>
            <p:nvPr/>
          </p:nvSpPr>
          <p:spPr>
            <a:xfrm>
              <a:off x="6298200" y="150012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3" name="Freeform 33"/>
            <p:cNvSpPr/>
            <p:nvPr/>
          </p:nvSpPr>
          <p:spPr>
            <a:xfrm>
              <a:off x="6298200" y="150012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4" name="Freeform 34"/>
            <p:cNvSpPr/>
            <p:nvPr/>
          </p:nvSpPr>
          <p:spPr>
            <a:xfrm>
              <a:off x="7687080" y="2030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5" name="Freeform 35"/>
            <p:cNvSpPr/>
            <p:nvPr/>
          </p:nvSpPr>
          <p:spPr>
            <a:xfrm>
              <a:off x="7687080" y="2030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6" name="Freeform 36"/>
            <p:cNvSpPr/>
            <p:nvPr/>
          </p:nvSpPr>
          <p:spPr>
            <a:xfrm>
              <a:off x="4071960" y="330912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7" name="Freeform 37"/>
            <p:cNvSpPr/>
            <p:nvPr/>
          </p:nvSpPr>
          <p:spPr>
            <a:xfrm>
              <a:off x="4071960" y="330912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8" name="Freeform 38"/>
            <p:cNvSpPr/>
            <p:nvPr/>
          </p:nvSpPr>
          <p:spPr>
            <a:xfrm>
              <a:off x="4812120" y="2030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9" name="Freeform 39"/>
            <p:cNvSpPr/>
            <p:nvPr/>
          </p:nvSpPr>
          <p:spPr>
            <a:xfrm>
              <a:off x="4812120" y="2030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0" name="Freeform 40"/>
            <p:cNvSpPr/>
            <p:nvPr/>
          </p:nvSpPr>
          <p:spPr>
            <a:xfrm>
              <a:off x="8171640" y="4617360"/>
              <a:ext cx="447120" cy="42984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1" name="Freeform 41"/>
            <p:cNvSpPr/>
            <p:nvPr/>
          </p:nvSpPr>
          <p:spPr>
            <a:xfrm>
              <a:off x="8171640" y="4617360"/>
              <a:ext cx="447120" cy="42984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2" name="Freeform 42"/>
            <p:cNvSpPr/>
            <p:nvPr/>
          </p:nvSpPr>
          <p:spPr>
            <a:xfrm>
              <a:off x="8395560" y="3995640"/>
              <a:ext cx="449280" cy="427320"/>
            </a:xfrm>
            <a:custGeom>
              <a:avLst/>
              <a:gdLst/>
              <a:ahLst/>
              <a:rect l="l" t="t" r="r" b="b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3" name="Freeform 43"/>
            <p:cNvSpPr/>
            <p:nvPr/>
          </p:nvSpPr>
          <p:spPr>
            <a:xfrm>
              <a:off x="8395560" y="3995640"/>
              <a:ext cx="449280" cy="42732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4" name="Freeform 44"/>
            <p:cNvSpPr/>
            <p:nvPr/>
          </p:nvSpPr>
          <p:spPr>
            <a:xfrm>
              <a:off x="4394520" y="4646880"/>
              <a:ext cx="44784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5" name="Freeform 45"/>
            <p:cNvSpPr/>
            <p:nvPr/>
          </p:nvSpPr>
          <p:spPr>
            <a:xfrm>
              <a:off x="4394520" y="4646880"/>
              <a:ext cx="447840" cy="43236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6" name="Freeform 46"/>
            <p:cNvSpPr/>
            <p:nvPr/>
          </p:nvSpPr>
          <p:spPr>
            <a:xfrm>
              <a:off x="7783920" y="511380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7" name="Freeform 47"/>
            <p:cNvSpPr/>
            <p:nvPr/>
          </p:nvSpPr>
          <p:spPr>
            <a:xfrm>
              <a:off x="7783920" y="511380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8" name="Freeform 48"/>
            <p:cNvSpPr/>
            <p:nvPr/>
          </p:nvSpPr>
          <p:spPr>
            <a:xfrm>
              <a:off x="7011360" y="1625400"/>
              <a:ext cx="447120" cy="43236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9" name="Freeform 49"/>
            <p:cNvSpPr/>
            <p:nvPr/>
          </p:nvSpPr>
          <p:spPr>
            <a:xfrm>
              <a:off x="7011360" y="1625400"/>
              <a:ext cx="44712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0" name="Freeform 50"/>
            <p:cNvSpPr/>
            <p:nvPr/>
          </p:nvSpPr>
          <p:spPr>
            <a:xfrm>
              <a:off x="8430120" y="327708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1" name="Freeform 51"/>
            <p:cNvSpPr/>
            <p:nvPr/>
          </p:nvSpPr>
          <p:spPr>
            <a:xfrm>
              <a:off x="8430120" y="327708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2" name="Freeform 52"/>
            <p:cNvSpPr/>
            <p:nvPr/>
          </p:nvSpPr>
          <p:spPr>
            <a:xfrm>
              <a:off x="8141400" y="2588760"/>
              <a:ext cx="445680" cy="4341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3" name="Freeform 53"/>
            <p:cNvSpPr/>
            <p:nvPr/>
          </p:nvSpPr>
          <p:spPr>
            <a:xfrm>
              <a:off x="8141400" y="2588760"/>
              <a:ext cx="445680" cy="434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4" name="Freeform 54"/>
            <p:cNvSpPr/>
            <p:nvPr/>
          </p:nvSpPr>
          <p:spPr>
            <a:xfrm>
              <a:off x="6298200" y="573840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5" name="Freeform 55"/>
            <p:cNvSpPr/>
            <p:nvPr/>
          </p:nvSpPr>
          <p:spPr>
            <a:xfrm>
              <a:off x="6298200" y="573840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6" name="Freeform 56"/>
            <p:cNvSpPr/>
            <p:nvPr/>
          </p:nvSpPr>
          <p:spPr>
            <a:xfrm>
              <a:off x="4297680" y="2620440"/>
              <a:ext cx="447120" cy="43452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7" name="Freeform 57"/>
            <p:cNvSpPr/>
            <p:nvPr/>
          </p:nvSpPr>
          <p:spPr>
            <a:xfrm>
              <a:off x="4297680" y="2620440"/>
              <a:ext cx="447120" cy="4345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8" name="Freeform 58"/>
            <p:cNvSpPr/>
            <p:nvPr/>
          </p:nvSpPr>
          <p:spPr>
            <a:xfrm>
              <a:off x="5492880" y="1657800"/>
              <a:ext cx="444960" cy="43200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9" name="Freeform 59"/>
            <p:cNvSpPr/>
            <p:nvPr/>
          </p:nvSpPr>
          <p:spPr>
            <a:xfrm>
              <a:off x="5492880" y="1657800"/>
              <a:ext cx="444960" cy="43200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0" name="Freeform 60"/>
            <p:cNvSpPr/>
            <p:nvPr/>
          </p:nvSpPr>
          <p:spPr>
            <a:xfrm>
              <a:off x="4881240" y="5175360"/>
              <a:ext cx="443160" cy="434520"/>
            </a:xfrm>
            <a:custGeom>
              <a:avLst/>
              <a:gdLst>
                <a:gd name="textAreaLeft" fmla="*/ 0 w 443160"/>
                <a:gd name="textAreaRight" fmla="*/ 443520 w 4431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1" name="Freeform 61"/>
            <p:cNvSpPr/>
            <p:nvPr/>
          </p:nvSpPr>
          <p:spPr>
            <a:xfrm>
              <a:off x="4881240" y="5175360"/>
              <a:ext cx="443160" cy="4345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2" name="Freeform 62"/>
            <p:cNvSpPr/>
            <p:nvPr/>
          </p:nvSpPr>
          <p:spPr>
            <a:xfrm>
              <a:off x="4071960" y="4026960"/>
              <a:ext cx="449640" cy="42984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3" name="Freeform 63"/>
            <p:cNvSpPr/>
            <p:nvPr/>
          </p:nvSpPr>
          <p:spPr>
            <a:xfrm>
              <a:off x="4071960" y="4026960"/>
              <a:ext cx="449640" cy="4298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484" name="Rectangle 65"/>
          <p:cNvSpPr/>
          <p:nvPr/>
        </p:nvSpPr>
        <p:spPr>
          <a:xfrm>
            <a:off x="579600" y="1857240"/>
            <a:ext cx="287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-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5" name="Rectangle 66"/>
          <p:cNvSpPr/>
          <p:nvPr/>
        </p:nvSpPr>
        <p:spPr>
          <a:xfrm>
            <a:off x="579600" y="2428920"/>
            <a:ext cx="287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2 уровень-</a:t>
            </a: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6" name="Rectangle 67"/>
          <p:cNvSpPr/>
          <p:nvPr/>
        </p:nvSpPr>
        <p:spPr>
          <a:xfrm>
            <a:off x="580680" y="3071880"/>
            <a:ext cx="313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b8cd"/>
                </a:solidFill>
                <a:latin typeface="Arial"/>
              </a:rPr>
              <a:t>3 уровень-</a:t>
            </a:r>
            <a:r>
              <a:rPr b="1" lang="en-US" sz="3600" spc="-1" strike="noStrike">
                <a:solidFill>
                  <a:srgbClr val="9fb8cd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7" name="Місце для нижнього колонтитула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680" y="6429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9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F76F-FF53-49AB-B724-C4633AC187F5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490" name="Group 126"/>
          <p:cNvGrpSpPr/>
          <p:nvPr/>
        </p:nvGrpSpPr>
        <p:grpSpPr>
          <a:xfrm>
            <a:off x="2214720" y="1643040"/>
            <a:ext cx="5142960" cy="5000400"/>
            <a:chOff x="2214720" y="1643040"/>
            <a:chExt cx="5142960" cy="5000400"/>
          </a:xfrm>
        </p:grpSpPr>
        <p:sp>
          <p:nvSpPr>
            <p:cNvPr id="491" name="Freeform 3"/>
            <p:cNvSpPr/>
            <p:nvPr/>
          </p:nvSpPr>
          <p:spPr>
            <a:xfrm>
              <a:off x="2357280" y="1805400"/>
              <a:ext cx="4857120" cy="4677120"/>
            </a:xfrm>
            <a:custGeom>
              <a:avLst/>
              <a:gdLst/>
              <a:ahLst/>
              <a:rect l="l" t="t" r="r" b="b"/>
              <a:pathLst>
                <a:path w="2721" h="2649">
                  <a:moveTo>
                    <a:pt x="416" y="405"/>
                  </a:moveTo>
                  <a:lnTo>
                    <a:pt x="416" y="405"/>
                  </a:lnTo>
                  <a:lnTo>
                    <a:pt x="470" y="356"/>
                  </a:lnTo>
                  <a:lnTo>
                    <a:pt x="482" y="345"/>
                  </a:lnTo>
                  <a:lnTo>
                    <a:pt x="531" y="305"/>
                  </a:lnTo>
                  <a:lnTo>
                    <a:pt x="542" y="294"/>
                  </a:lnTo>
                  <a:lnTo>
                    <a:pt x="591" y="257"/>
                  </a:lnTo>
                  <a:lnTo>
                    <a:pt x="604" y="249"/>
                  </a:lnTo>
                  <a:lnTo>
                    <a:pt x="653" y="214"/>
                  </a:lnTo>
                  <a:lnTo>
                    <a:pt x="665" y="206"/>
                  </a:lnTo>
                  <a:lnTo>
                    <a:pt x="715" y="174"/>
                  </a:lnTo>
                  <a:lnTo>
                    <a:pt x="728" y="168"/>
                  </a:lnTo>
                  <a:lnTo>
                    <a:pt x="779" y="140"/>
                  </a:lnTo>
                  <a:lnTo>
                    <a:pt x="792" y="133"/>
                  </a:lnTo>
                  <a:lnTo>
                    <a:pt x="842" y="109"/>
                  </a:lnTo>
                  <a:lnTo>
                    <a:pt x="854" y="104"/>
                  </a:lnTo>
                  <a:lnTo>
                    <a:pt x="907" y="83"/>
                  </a:lnTo>
                  <a:lnTo>
                    <a:pt x="919" y="78"/>
                  </a:lnTo>
                  <a:lnTo>
                    <a:pt x="969" y="60"/>
                  </a:lnTo>
                  <a:lnTo>
                    <a:pt x="982" y="57"/>
                  </a:lnTo>
                  <a:lnTo>
                    <a:pt x="1033" y="41"/>
                  </a:lnTo>
                  <a:lnTo>
                    <a:pt x="1045" y="37"/>
                  </a:lnTo>
                  <a:lnTo>
                    <a:pt x="1098" y="26"/>
                  </a:lnTo>
                  <a:lnTo>
                    <a:pt x="1110" y="24"/>
                  </a:lnTo>
                  <a:lnTo>
                    <a:pt x="1160" y="13"/>
                  </a:lnTo>
                  <a:lnTo>
                    <a:pt x="1175" y="11"/>
                  </a:lnTo>
                  <a:lnTo>
                    <a:pt x="1225" y="5"/>
                  </a:lnTo>
                  <a:lnTo>
                    <a:pt x="1238" y="4"/>
                  </a:lnTo>
                  <a:lnTo>
                    <a:pt x="1289" y="1"/>
                  </a:lnTo>
                  <a:lnTo>
                    <a:pt x="1303" y="1"/>
                  </a:lnTo>
                  <a:lnTo>
                    <a:pt x="1353" y="0"/>
                  </a:lnTo>
                  <a:lnTo>
                    <a:pt x="1365" y="0"/>
                  </a:lnTo>
                  <a:lnTo>
                    <a:pt x="1415" y="1"/>
                  </a:lnTo>
                  <a:lnTo>
                    <a:pt x="1428" y="1"/>
                  </a:lnTo>
                  <a:lnTo>
                    <a:pt x="1479" y="4"/>
                  </a:lnTo>
                  <a:lnTo>
                    <a:pt x="1489" y="5"/>
                  </a:lnTo>
                  <a:lnTo>
                    <a:pt x="1540" y="12"/>
                  </a:lnTo>
                  <a:lnTo>
                    <a:pt x="1553" y="13"/>
                  </a:lnTo>
                  <a:lnTo>
                    <a:pt x="1602" y="24"/>
                  </a:lnTo>
                  <a:lnTo>
                    <a:pt x="1613" y="26"/>
                  </a:lnTo>
                  <a:lnTo>
                    <a:pt x="1662" y="37"/>
                  </a:lnTo>
                  <a:lnTo>
                    <a:pt x="1675" y="40"/>
                  </a:lnTo>
                  <a:lnTo>
                    <a:pt x="1721" y="53"/>
                  </a:lnTo>
                  <a:lnTo>
                    <a:pt x="1733" y="58"/>
                  </a:lnTo>
                  <a:lnTo>
                    <a:pt x="1781" y="73"/>
                  </a:lnTo>
                  <a:lnTo>
                    <a:pt x="1792" y="76"/>
                  </a:lnTo>
                  <a:lnTo>
                    <a:pt x="1839" y="94"/>
                  </a:lnTo>
                  <a:lnTo>
                    <a:pt x="1851" y="100"/>
                  </a:lnTo>
                  <a:lnTo>
                    <a:pt x="1895" y="118"/>
                  </a:lnTo>
                  <a:lnTo>
                    <a:pt x="1907" y="124"/>
                  </a:lnTo>
                  <a:lnTo>
                    <a:pt x="1951" y="146"/>
                  </a:lnTo>
                  <a:lnTo>
                    <a:pt x="1963" y="152"/>
                  </a:lnTo>
                  <a:lnTo>
                    <a:pt x="2006" y="174"/>
                  </a:lnTo>
                  <a:lnTo>
                    <a:pt x="2017" y="181"/>
                  </a:lnTo>
                  <a:lnTo>
                    <a:pt x="2059" y="208"/>
                  </a:lnTo>
                  <a:lnTo>
                    <a:pt x="2070" y="213"/>
                  </a:lnTo>
                  <a:lnTo>
                    <a:pt x="2112" y="241"/>
                  </a:lnTo>
                  <a:lnTo>
                    <a:pt x="2121" y="249"/>
                  </a:lnTo>
                  <a:lnTo>
                    <a:pt x="2162" y="277"/>
                  </a:lnTo>
                  <a:lnTo>
                    <a:pt x="2171" y="284"/>
                  </a:lnTo>
                  <a:lnTo>
                    <a:pt x="2211" y="315"/>
                  </a:lnTo>
                  <a:lnTo>
                    <a:pt x="2220" y="323"/>
                  </a:lnTo>
                  <a:lnTo>
                    <a:pt x="2256" y="355"/>
                  </a:lnTo>
                  <a:lnTo>
                    <a:pt x="2266" y="363"/>
                  </a:lnTo>
                  <a:lnTo>
                    <a:pt x="2303" y="397"/>
                  </a:lnTo>
                  <a:lnTo>
                    <a:pt x="2311" y="405"/>
                  </a:lnTo>
                  <a:lnTo>
                    <a:pt x="2346" y="441"/>
                  </a:lnTo>
                  <a:lnTo>
                    <a:pt x="2355" y="450"/>
                  </a:lnTo>
                  <a:lnTo>
                    <a:pt x="2387" y="485"/>
                  </a:lnTo>
                  <a:lnTo>
                    <a:pt x="2395" y="495"/>
                  </a:lnTo>
                  <a:lnTo>
                    <a:pt x="2428" y="533"/>
                  </a:lnTo>
                  <a:lnTo>
                    <a:pt x="2435" y="542"/>
                  </a:lnTo>
                  <a:lnTo>
                    <a:pt x="2463" y="582"/>
                  </a:lnTo>
                  <a:lnTo>
                    <a:pt x="2472" y="591"/>
                  </a:lnTo>
                  <a:lnTo>
                    <a:pt x="2501" y="632"/>
                  </a:lnTo>
                  <a:lnTo>
                    <a:pt x="2505" y="643"/>
                  </a:lnTo>
                  <a:lnTo>
                    <a:pt x="2533" y="683"/>
                  </a:lnTo>
                  <a:lnTo>
                    <a:pt x="2540" y="694"/>
                  </a:lnTo>
                  <a:lnTo>
                    <a:pt x="2563" y="736"/>
                  </a:lnTo>
                  <a:lnTo>
                    <a:pt x="2569" y="747"/>
                  </a:lnTo>
                  <a:lnTo>
                    <a:pt x="2591" y="791"/>
                  </a:lnTo>
                  <a:lnTo>
                    <a:pt x="2597" y="802"/>
                  </a:lnTo>
                  <a:lnTo>
                    <a:pt x="2617" y="845"/>
                  </a:lnTo>
                  <a:lnTo>
                    <a:pt x="2623" y="857"/>
                  </a:lnTo>
                  <a:lnTo>
                    <a:pt x="2641" y="902"/>
                  </a:lnTo>
                  <a:lnTo>
                    <a:pt x="2644" y="913"/>
                  </a:lnTo>
                  <a:lnTo>
                    <a:pt x="2660" y="959"/>
                  </a:lnTo>
                  <a:lnTo>
                    <a:pt x="2664" y="971"/>
                  </a:lnTo>
                  <a:lnTo>
                    <a:pt x="2678" y="1017"/>
                  </a:lnTo>
                  <a:lnTo>
                    <a:pt x="2681" y="1029"/>
                  </a:lnTo>
                  <a:lnTo>
                    <a:pt x="2692" y="1077"/>
                  </a:lnTo>
                  <a:lnTo>
                    <a:pt x="2694" y="1088"/>
                  </a:lnTo>
                  <a:lnTo>
                    <a:pt x="2705" y="1135"/>
                  </a:lnTo>
                  <a:lnTo>
                    <a:pt x="2706" y="1148"/>
                  </a:lnTo>
                  <a:lnTo>
                    <a:pt x="2714" y="1196"/>
                  </a:lnTo>
                  <a:lnTo>
                    <a:pt x="2715" y="1208"/>
                  </a:lnTo>
                  <a:lnTo>
                    <a:pt x="2718" y="1257"/>
                  </a:lnTo>
                  <a:lnTo>
                    <a:pt x="2718" y="1269"/>
                  </a:lnTo>
                  <a:lnTo>
                    <a:pt x="2720" y="1318"/>
                  </a:lnTo>
                  <a:lnTo>
                    <a:pt x="2720" y="1330"/>
                  </a:lnTo>
                  <a:lnTo>
                    <a:pt x="2718" y="1379"/>
                  </a:lnTo>
                  <a:lnTo>
                    <a:pt x="2718" y="1392"/>
                  </a:lnTo>
                  <a:lnTo>
                    <a:pt x="2715" y="1442"/>
                  </a:lnTo>
                  <a:lnTo>
                    <a:pt x="2714" y="1455"/>
                  </a:lnTo>
                  <a:lnTo>
                    <a:pt x="2708" y="1503"/>
                  </a:lnTo>
                  <a:lnTo>
                    <a:pt x="2705" y="1517"/>
                  </a:lnTo>
                  <a:lnTo>
                    <a:pt x="2694" y="1566"/>
                  </a:lnTo>
                  <a:lnTo>
                    <a:pt x="2692" y="1578"/>
                  </a:lnTo>
                  <a:lnTo>
                    <a:pt x="2680" y="1629"/>
                  </a:lnTo>
                  <a:lnTo>
                    <a:pt x="2676" y="1641"/>
                  </a:lnTo>
                  <a:lnTo>
                    <a:pt x="2661" y="1691"/>
                  </a:lnTo>
                  <a:lnTo>
                    <a:pt x="2657" y="1704"/>
                  </a:lnTo>
                  <a:lnTo>
                    <a:pt x="2639" y="1753"/>
                  </a:lnTo>
                  <a:lnTo>
                    <a:pt x="2633" y="1764"/>
                  </a:lnTo>
                  <a:lnTo>
                    <a:pt x="2612" y="1816"/>
                  </a:lnTo>
                  <a:lnTo>
                    <a:pt x="2607" y="1827"/>
                  </a:lnTo>
                  <a:lnTo>
                    <a:pt x="2582" y="1876"/>
                  </a:lnTo>
                  <a:lnTo>
                    <a:pt x="2575" y="1889"/>
                  </a:lnTo>
                  <a:lnTo>
                    <a:pt x="2546" y="1938"/>
                  </a:lnTo>
                  <a:lnTo>
                    <a:pt x="2540" y="1951"/>
                  </a:lnTo>
                  <a:lnTo>
                    <a:pt x="2508" y="2000"/>
                  </a:lnTo>
                  <a:lnTo>
                    <a:pt x="2499" y="2010"/>
                  </a:lnTo>
                  <a:lnTo>
                    <a:pt x="2463" y="2059"/>
                  </a:lnTo>
                  <a:lnTo>
                    <a:pt x="2455" y="2072"/>
                  </a:lnTo>
                  <a:lnTo>
                    <a:pt x="2417" y="2120"/>
                  </a:lnTo>
                  <a:lnTo>
                    <a:pt x="2406" y="2130"/>
                  </a:lnTo>
                  <a:lnTo>
                    <a:pt x="2364" y="2178"/>
                  </a:lnTo>
                  <a:lnTo>
                    <a:pt x="2353" y="2188"/>
                  </a:lnTo>
                  <a:lnTo>
                    <a:pt x="2309" y="2236"/>
                  </a:lnTo>
                  <a:lnTo>
                    <a:pt x="2303" y="2242"/>
                  </a:lnTo>
                  <a:lnTo>
                    <a:pt x="2248" y="2291"/>
                  </a:lnTo>
                  <a:lnTo>
                    <a:pt x="2237" y="2302"/>
                  </a:lnTo>
                  <a:lnTo>
                    <a:pt x="2188" y="2342"/>
                  </a:lnTo>
                  <a:lnTo>
                    <a:pt x="2177" y="2353"/>
                  </a:lnTo>
                  <a:lnTo>
                    <a:pt x="2128" y="2390"/>
                  </a:lnTo>
                  <a:lnTo>
                    <a:pt x="2115" y="2398"/>
                  </a:lnTo>
                  <a:lnTo>
                    <a:pt x="2065" y="2433"/>
                  </a:lnTo>
                  <a:lnTo>
                    <a:pt x="2054" y="2441"/>
                  </a:lnTo>
                  <a:lnTo>
                    <a:pt x="2004" y="2473"/>
                  </a:lnTo>
                  <a:lnTo>
                    <a:pt x="1991" y="2479"/>
                  </a:lnTo>
                  <a:lnTo>
                    <a:pt x="1940" y="2507"/>
                  </a:lnTo>
                  <a:lnTo>
                    <a:pt x="1927" y="2514"/>
                  </a:lnTo>
                  <a:lnTo>
                    <a:pt x="1877" y="2538"/>
                  </a:lnTo>
                  <a:lnTo>
                    <a:pt x="1865" y="2543"/>
                  </a:lnTo>
                  <a:lnTo>
                    <a:pt x="1812" y="2564"/>
                  </a:lnTo>
                  <a:lnTo>
                    <a:pt x="1800" y="2569"/>
                  </a:lnTo>
                  <a:lnTo>
                    <a:pt x="1750" y="2587"/>
                  </a:lnTo>
                  <a:lnTo>
                    <a:pt x="1737" y="2590"/>
                  </a:lnTo>
                  <a:lnTo>
                    <a:pt x="1686" y="2606"/>
                  </a:lnTo>
                  <a:lnTo>
                    <a:pt x="1674" y="2609"/>
                  </a:lnTo>
                  <a:lnTo>
                    <a:pt x="1621" y="2621"/>
                  </a:lnTo>
                  <a:lnTo>
                    <a:pt x="1609" y="2623"/>
                  </a:lnTo>
                  <a:lnTo>
                    <a:pt x="1559" y="2634"/>
                  </a:lnTo>
                  <a:lnTo>
                    <a:pt x="1544" y="2636"/>
                  </a:lnTo>
                  <a:lnTo>
                    <a:pt x="1494" y="2642"/>
                  </a:lnTo>
                  <a:lnTo>
                    <a:pt x="1481" y="2643"/>
                  </a:lnTo>
                  <a:lnTo>
                    <a:pt x="1430" y="2646"/>
                  </a:lnTo>
                  <a:lnTo>
                    <a:pt x="1416" y="2646"/>
                  </a:lnTo>
                  <a:lnTo>
                    <a:pt x="1366" y="2648"/>
                  </a:lnTo>
                  <a:lnTo>
                    <a:pt x="1354" y="2648"/>
                  </a:lnTo>
                  <a:lnTo>
                    <a:pt x="1304" y="2646"/>
                  </a:lnTo>
                  <a:lnTo>
                    <a:pt x="1291" y="2646"/>
                  </a:lnTo>
                  <a:lnTo>
                    <a:pt x="1240" y="2643"/>
                  </a:lnTo>
                  <a:lnTo>
                    <a:pt x="1228" y="2642"/>
                  </a:lnTo>
                  <a:lnTo>
                    <a:pt x="1179" y="2635"/>
                  </a:lnTo>
                  <a:lnTo>
                    <a:pt x="1166" y="2634"/>
                  </a:lnTo>
                  <a:lnTo>
                    <a:pt x="1117" y="2623"/>
                  </a:lnTo>
                  <a:lnTo>
                    <a:pt x="1106" y="2621"/>
                  </a:lnTo>
                  <a:lnTo>
                    <a:pt x="1057" y="2610"/>
                  </a:lnTo>
                  <a:lnTo>
                    <a:pt x="1044" y="2607"/>
                  </a:lnTo>
                  <a:lnTo>
                    <a:pt x="998" y="2594"/>
                  </a:lnTo>
                  <a:lnTo>
                    <a:pt x="986" y="2589"/>
                  </a:lnTo>
                  <a:lnTo>
                    <a:pt x="938" y="2574"/>
                  </a:lnTo>
                  <a:lnTo>
                    <a:pt x="927" y="2571"/>
                  </a:lnTo>
                  <a:lnTo>
                    <a:pt x="880" y="2553"/>
                  </a:lnTo>
                  <a:lnTo>
                    <a:pt x="868" y="2547"/>
                  </a:lnTo>
                  <a:lnTo>
                    <a:pt x="824" y="2529"/>
                  </a:lnTo>
                  <a:lnTo>
                    <a:pt x="812" y="2523"/>
                  </a:lnTo>
                  <a:lnTo>
                    <a:pt x="768" y="2501"/>
                  </a:lnTo>
                  <a:lnTo>
                    <a:pt x="756" y="2495"/>
                  </a:lnTo>
                  <a:lnTo>
                    <a:pt x="713" y="2473"/>
                  </a:lnTo>
                  <a:lnTo>
                    <a:pt x="702" y="2466"/>
                  </a:lnTo>
                  <a:lnTo>
                    <a:pt x="660" y="2439"/>
                  </a:lnTo>
                  <a:lnTo>
                    <a:pt x="649" y="2434"/>
                  </a:lnTo>
                  <a:lnTo>
                    <a:pt x="607" y="2405"/>
                  </a:lnTo>
                  <a:lnTo>
                    <a:pt x="598" y="2398"/>
                  </a:lnTo>
                  <a:lnTo>
                    <a:pt x="557" y="2370"/>
                  </a:lnTo>
                  <a:lnTo>
                    <a:pt x="548" y="2363"/>
                  </a:lnTo>
                  <a:lnTo>
                    <a:pt x="508" y="2332"/>
                  </a:lnTo>
                  <a:lnTo>
                    <a:pt x="499" y="2324"/>
                  </a:lnTo>
                  <a:lnTo>
                    <a:pt x="463" y="2292"/>
                  </a:lnTo>
                  <a:lnTo>
                    <a:pt x="453" y="2284"/>
                  </a:lnTo>
                  <a:lnTo>
                    <a:pt x="416" y="2250"/>
                  </a:lnTo>
                  <a:lnTo>
                    <a:pt x="408" y="2242"/>
                  </a:lnTo>
                  <a:lnTo>
                    <a:pt x="373" y="2206"/>
                  </a:lnTo>
                  <a:lnTo>
                    <a:pt x="364" y="2197"/>
                  </a:lnTo>
                  <a:lnTo>
                    <a:pt x="332" y="2162"/>
                  </a:lnTo>
                  <a:lnTo>
                    <a:pt x="324" y="2152"/>
                  </a:lnTo>
                  <a:lnTo>
                    <a:pt x="291" y="2114"/>
                  </a:lnTo>
                  <a:lnTo>
                    <a:pt x="284" y="2105"/>
                  </a:lnTo>
                  <a:lnTo>
                    <a:pt x="256" y="2065"/>
                  </a:lnTo>
                  <a:lnTo>
                    <a:pt x="247" y="2056"/>
                  </a:lnTo>
                  <a:lnTo>
                    <a:pt x="218" y="2015"/>
                  </a:lnTo>
                  <a:lnTo>
                    <a:pt x="214" y="2004"/>
                  </a:lnTo>
                  <a:lnTo>
                    <a:pt x="186" y="1964"/>
                  </a:lnTo>
                  <a:lnTo>
                    <a:pt x="179" y="1953"/>
                  </a:lnTo>
                  <a:lnTo>
                    <a:pt x="156" y="1911"/>
                  </a:lnTo>
                  <a:lnTo>
                    <a:pt x="150" y="1900"/>
                  </a:lnTo>
                  <a:lnTo>
                    <a:pt x="128" y="1856"/>
                  </a:lnTo>
                  <a:lnTo>
                    <a:pt x="122" y="1845"/>
                  </a:lnTo>
                  <a:lnTo>
                    <a:pt x="102" y="1802"/>
                  </a:lnTo>
                  <a:lnTo>
                    <a:pt x="96" y="1790"/>
                  </a:lnTo>
                  <a:lnTo>
                    <a:pt x="78" y="1745"/>
                  </a:lnTo>
                  <a:lnTo>
                    <a:pt x="75" y="1734"/>
                  </a:lnTo>
                  <a:lnTo>
                    <a:pt x="59" y="1688"/>
                  </a:lnTo>
                  <a:lnTo>
                    <a:pt x="55" y="1676"/>
                  </a:lnTo>
                  <a:lnTo>
                    <a:pt x="41" y="1630"/>
                  </a:lnTo>
                  <a:lnTo>
                    <a:pt x="38" y="1618"/>
                  </a:lnTo>
                  <a:lnTo>
                    <a:pt x="27" y="1570"/>
                  </a:lnTo>
                  <a:lnTo>
                    <a:pt x="25" y="1559"/>
                  </a:lnTo>
                  <a:lnTo>
                    <a:pt x="14" y="1512"/>
                  </a:lnTo>
                  <a:lnTo>
                    <a:pt x="13" y="1499"/>
                  </a:lnTo>
                  <a:lnTo>
                    <a:pt x="5" y="1450"/>
                  </a:lnTo>
                  <a:lnTo>
                    <a:pt x="4" y="1439"/>
                  </a:lnTo>
                  <a:lnTo>
                    <a:pt x="1" y="1390"/>
                  </a:lnTo>
                  <a:lnTo>
                    <a:pt x="1" y="1378"/>
                  </a:lnTo>
                  <a:lnTo>
                    <a:pt x="0" y="1329"/>
                  </a:lnTo>
                  <a:lnTo>
                    <a:pt x="0" y="1317"/>
                  </a:lnTo>
                  <a:lnTo>
                    <a:pt x="1" y="1268"/>
                  </a:lnTo>
                  <a:lnTo>
                    <a:pt x="1" y="1255"/>
                  </a:lnTo>
                  <a:lnTo>
                    <a:pt x="4" y="1205"/>
                  </a:lnTo>
                  <a:lnTo>
                    <a:pt x="5" y="1192"/>
                  </a:lnTo>
                  <a:lnTo>
                    <a:pt x="11" y="1144"/>
                  </a:lnTo>
                  <a:lnTo>
                    <a:pt x="14" y="1130"/>
                  </a:lnTo>
                  <a:lnTo>
                    <a:pt x="25" y="1081"/>
                  </a:lnTo>
                  <a:lnTo>
                    <a:pt x="27" y="1069"/>
                  </a:lnTo>
                  <a:lnTo>
                    <a:pt x="38" y="1018"/>
                  </a:lnTo>
                  <a:lnTo>
                    <a:pt x="43" y="1006"/>
                  </a:lnTo>
                  <a:lnTo>
                    <a:pt x="58" y="956"/>
                  </a:lnTo>
                  <a:lnTo>
                    <a:pt x="62" y="943"/>
                  </a:lnTo>
                  <a:lnTo>
                    <a:pt x="80" y="894"/>
                  </a:lnTo>
                  <a:lnTo>
                    <a:pt x="86" y="883"/>
                  </a:lnTo>
                  <a:lnTo>
                    <a:pt x="107" y="831"/>
                  </a:lnTo>
                  <a:lnTo>
                    <a:pt x="112" y="820"/>
                  </a:lnTo>
                  <a:lnTo>
                    <a:pt x="137" y="771"/>
                  </a:lnTo>
                  <a:lnTo>
                    <a:pt x="144" y="758"/>
                  </a:lnTo>
                  <a:lnTo>
                    <a:pt x="173" y="709"/>
                  </a:lnTo>
                  <a:lnTo>
                    <a:pt x="179" y="696"/>
                  </a:lnTo>
                  <a:lnTo>
                    <a:pt x="211" y="647"/>
                  </a:lnTo>
                  <a:lnTo>
                    <a:pt x="220" y="636"/>
                  </a:lnTo>
                  <a:lnTo>
                    <a:pt x="256" y="588"/>
                  </a:lnTo>
                  <a:lnTo>
                    <a:pt x="264" y="575"/>
                  </a:lnTo>
                  <a:lnTo>
                    <a:pt x="302" y="527"/>
                  </a:lnTo>
                  <a:lnTo>
                    <a:pt x="313" y="517"/>
                  </a:lnTo>
                  <a:lnTo>
                    <a:pt x="355" y="469"/>
                  </a:lnTo>
                  <a:lnTo>
                    <a:pt x="366" y="457"/>
                  </a:lnTo>
                  <a:lnTo>
                    <a:pt x="410" y="411"/>
                  </a:lnTo>
                  <a:lnTo>
                    <a:pt x="416" y="405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3073320" y="2493360"/>
              <a:ext cx="3448800" cy="3322080"/>
            </a:xfrm>
            <a:custGeom>
              <a:avLst/>
              <a:gdLst/>
              <a:ahLst/>
              <a:rect l="l" t="t" r="r" b="b"/>
              <a:pathLst>
                <a:path w="1932" h="1882">
                  <a:moveTo>
                    <a:pt x="296" y="289"/>
                  </a:moveTo>
                  <a:lnTo>
                    <a:pt x="296" y="289"/>
                  </a:lnTo>
                  <a:lnTo>
                    <a:pt x="334" y="254"/>
                  </a:lnTo>
                  <a:lnTo>
                    <a:pt x="343" y="245"/>
                  </a:lnTo>
                  <a:lnTo>
                    <a:pt x="378" y="216"/>
                  </a:lnTo>
                  <a:lnTo>
                    <a:pt x="386" y="209"/>
                  </a:lnTo>
                  <a:lnTo>
                    <a:pt x="421" y="184"/>
                  </a:lnTo>
                  <a:lnTo>
                    <a:pt x="429" y="177"/>
                  </a:lnTo>
                  <a:lnTo>
                    <a:pt x="465" y="152"/>
                  </a:lnTo>
                  <a:lnTo>
                    <a:pt x="473" y="148"/>
                  </a:lnTo>
                  <a:lnTo>
                    <a:pt x="509" y="125"/>
                  </a:lnTo>
                  <a:lnTo>
                    <a:pt x="518" y="120"/>
                  </a:lnTo>
                  <a:lnTo>
                    <a:pt x="553" y="101"/>
                  </a:lnTo>
                  <a:lnTo>
                    <a:pt x="562" y="96"/>
                  </a:lnTo>
                  <a:lnTo>
                    <a:pt x="599" y="79"/>
                  </a:lnTo>
                  <a:lnTo>
                    <a:pt x="607" y="75"/>
                  </a:lnTo>
                  <a:lnTo>
                    <a:pt x="643" y="60"/>
                  </a:lnTo>
                  <a:lnTo>
                    <a:pt x="652" y="57"/>
                  </a:lnTo>
                  <a:lnTo>
                    <a:pt x="689" y="44"/>
                  </a:lnTo>
                  <a:lnTo>
                    <a:pt x="698" y="40"/>
                  </a:lnTo>
                  <a:lnTo>
                    <a:pt x="734" y="30"/>
                  </a:lnTo>
                  <a:lnTo>
                    <a:pt x="742" y="29"/>
                  </a:lnTo>
                  <a:lnTo>
                    <a:pt x="780" y="19"/>
                  </a:lnTo>
                  <a:lnTo>
                    <a:pt x="789" y="17"/>
                  </a:lnTo>
                  <a:lnTo>
                    <a:pt x="825" y="11"/>
                  </a:lnTo>
                  <a:lnTo>
                    <a:pt x="833" y="9"/>
                  </a:lnTo>
                  <a:lnTo>
                    <a:pt x="870" y="5"/>
                  </a:lnTo>
                  <a:lnTo>
                    <a:pt x="879" y="4"/>
                  </a:lnTo>
                  <a:lnTo>
                    <a:pt x="915" y="1"/>
                  </a:lnTo>
                  <a:lnTo>
                    <a:pt x="924" y="1"/>
                  </a:lnTo>
                  <a:lnTo>
                    <a:pt x="960" y="0"/>
                  </a:lnTo>
                  <a:lnTo>
                    <a:pt x="970" y="0"/>
                  </a:lnTo>
                  <a:lnTo>
                    <a:pt x="1004" y="1"/>
                  </a:lnTo>
                  <a:lnTo>
                    <a:pt x="1014" y="1"/>
                  </a:lnTo>
                  <a:lnTo>
                    <a:pt x="1050" y="4"/>
                  </a:lnTo>
                  <a:lnTo>
                    <a:pt x="1058" y="5"/>
                  </a:lnTo>
                  <a:lnTo>
                    <a:pt x="1093" y="9"/>
                  </a:lnTo>
                  <a:lnTo>
                    <a:pt x="1103" y="11"/>
                  </a:lnTo>
                  <a:lnTo>
                    <a:pt x="1137" y="17"/>
                  </a:lnTo>
                  <a:lnTo>
                    <a:pt x="1146" y="19"/>
                  </a:lnTo>
                  <a:lnTo>
                    <a:pt x="1179" y="27"/>
                  </a:lnTo>
                  <a:lnTo>
                    <a:pt x="1188" y="30"/>
                  </a:lnTo>
                  <a:lnTo>
                    <a:pt x="1223" y="39"/>
                  </a:lnTo>
                  <a:lnTo>
                    <a:pt x="1232" y="43"/>
                  </a:lnTo>
                  <a:lnTo>
                    <a:pt x="1265" y="53"/>
                  </a:lnTo>
                  <a:lnTo>
                    <a:pt x="1272" y="55"/>
                  </a:lnTo>
                  <a:lnTo>
                    <a:pt x="1306" y="68"/>
                  </a:lnTo>
                  <a:lnTo>
                    <a:pt x="1314" y="72"/>
                  </a:lnTo>
                  <a:lnTo>
                    <a:pt x="1347" y="86"/>
                  </a:lnTo>
                  <a:lnTo>
                    <a:pt x="1355" y="89"/>
                  </a:lnTo>
                  <a:lnTo>
                    <a:pt x="1385" y="104"/>
                  </a:lnTo>
                  <a:lnTo>
                    <a:pt x="1393" y="109"/>
                  </a:lnTo>
                  <a:lnTo>
                    <a:pt x="1424" y="125"/>
                  </a:lnTo>
                  <a:lnTo>
                    <a:pt x="1432" y="129"/>
                  </a:lnTo>
                  <a:lnTo>
                    <a:pt x="1463" y="149"/>
                  </a:lnTo>
                  <a:lnTo>
                    <a:pt x="1469" y="152"/>
                  </a:lnTo>
                  <a:lnTo>
                    <a:pt x="1499" y="172"/>
                  </a:lnTo>
                  <a:lnTo>
                    <a:pt x="1506" y="177"/>
                  </a:lnTo>
                  <a:lnTo>
                    <a:pt x="1533" y="198"/>
                  </a:lnTo>
                  <a:lnTo>
                    <a:pt x="1540" y="203"/>
                  </a:lnTo>
                  <a:lnTo>
                    <a:pt x="1568" y="224"/>
                  </a:lnTo>
                  <a:lnTo>
                    <a:pt x="1575" y="230"/>
                  </a:lnTo>
                  <a:lnTo>
                    <a:pt x="1603" y="254"/>
                  </a:lnTo>
                  <a:lnTo>
                    <a:pt x="1609" y="259"/>
                  </a:lnTo>
                  <a:lnTo>
                    <a:pt x="1634" y="284"/>
                  </a:lnTo>
                  <a:lnTo>
                    <a:pt x="1640" y="289"/>
                  </a:lnTo>
                  <a:lnTo>
                    <a:pt x="1665" y="313"/>
                  </a:lnTo>
                  <a:lnTo>
                    <a:pt x="1671" y="320"/>
                  </a:lnTo>
                  <a:lnTo>
                    <a:pt x="1695" y="346"/>
                  </a:lnTo>
                  <a:lnTo>
                    <a:pt x="1700" y="353"/>
                  </a:lnTo>
                  <a:lnTo>
                    <a:pt x="1722" y="381"/>
                  </a:lnTo>
                  <a:lnTo>
                    <a:pt x="1728" y="386"/>
                  </a:lnTo>
                  <a:lnTo>
                    <a:pt x="1749" y="414"/>
                  </a:lnTo>
                  <a:lnTo>
                    <a:pt x="1755" y="421"/>
                  </a:lnTo>
                  <a:lnTo>
                    <a:pt x="1774" y="449"/>
                  </a:lnTo>
                  <a:lnTo>
                    <a:pt x="1779" y="456"/>
                  </a:lnTo>
                  <a:lnTo>
                    <a:pt x="1798" y="487"/>
                  </a:lnTo>
                  <a:lnTo>
                    <a:pt x="1802" y="494"/>
                  </a:lnTo>
                  <a:lnTo>
                    <a:pt x="1819" y="523"/>
                  </a:lnTo>
                  <a:lnTo>
                    <a:pt x="1823" y="531"/>
                  </a:lnTo>
                  <a:lnTo>
                    <a:pt x="1838" y="561"/>
                  </a:lnTo>
                  <a:lnTo>
                    <a:pt x="1843" y="569"/>
                  </a:lnTo>
                  <a:lnTo>
                    <a:pt x="1856" y="601"/>
                  </a:lnTo>
                  <a:lnTo>
                    <a:pt x="1861" y="609"/>
                  </a:lnTo>
                  <a:lnTo>
                    <a:pt x="1873" y="642"/>
                  </a:lnTo>
                  <a:lnTo>
                    <a:pt x="1877" y="649"/>
                  </a:lnTo>
                  <a:lnTo>
                    <a:pt x="1887" y="681"/>
                  </a:lnTo>
                  <a:lnTo>
                    <a:pt x="1891" y="689"/>
                  </a:lnTo>
                  <a:lnTo>
                    <a:pt x="1901" y="723"/>
                  </a:lnTo>
                  <a:lnTo>
                    <a:pt x="1903" y="731"/>
                  </a:lnTo>
                  <a:lnTo>
                    <a:pt x="1911" y="764"/>
                  </a:lnTo>
                  <a:lnTo>
                    <a:pt x="1913" y="772"/>
                  </a:lnTo>
                  <a:lnTo>
                    <a:pt x="1919" y="807"/>
                  </a:lnTo>
                  <a:lnTo>
                    <a:pt x="1920" y="816"/>
                  </a:lnTo>
                  <a:lnTo>
                    <a:pt x="1926" y="850"/>
                  </a:lnTo>
                  <a:lnTo>
                    <a:pt x="1927" y="858"/>
                  </a:lnTo>
                  <a:lnTo>
                    <a:pt x="1929" y="892"/>
                  </a:lnTo>
                  <a:lnTo>
                    <a:pt x="1929" y="903"/>
                  </a:lnTo>
                  <a:lnTo>
                    <a:pt x="1931" y="937"/>
                  </a:lnTo>
                  <a:lnTo>
                    <a:pt x="1931" y="946"/>
                  </a:lnTo>
                  <a:lnTo>
                    <a:pt x="1929" y="980"/>
                  </a:lnTo>
                  <a:lnTo>
                    <a:pt x="1929" y="989"/>
                  </a:lnTo>
                  <a:lnTo>
                    <a:pt x="1927" y="1025"/>
                  </a:lnTo>
                  <a:lnTo>
                    <a:pt x="1926" y="1033"/>
                  </a:lnTo>
                  <a:lnTo>
                    <a:pt x="1921" y="1068"/>
                  </a:lnTo>
                  <a:lnTo>
                    <a:pt x="1920" y="1076"/>
                  </a:lnTo>
                  <a:lnTo>
                    <a:pt x="1913" y="1112"/>
                  </a:lnTo>
                  <a:lnTo>
                    <a:pt x="1911" y="1122"/>
                  </a:lnTo>
                  <a:lnTo>
                    <a:pt x="1902" y="1157"/>
                  </a:lnTo>
                  <a:lnTo>
                    <a:pt x="1901" y="1165"/>
                  </a:lnTo>
                  <a:lnTo>
                    <a:pt x="1889" y="1201"/>
                  </a:lnTo>
                  <a:lnTo>
                    <a:pt x="1886" y="1210"/>
                  </a:lnTo>
                  <a:lnTo>
                    <a:pt x="1872" y="1245"/>
                  </a:lnTo>
                  <a:lnTo>
                    <a:pt x="1869" y="1254"/>
                  </a:lnTo>
                  <a:lnTo>
                    <a:pt x="1854" y="1290"/>
                  </a:lnTo>
                  <a:lnTo>
                    <a:pt x="1850" y="1298"/>
                  </a:lnTo>
                  <a:lnTo>
                    <a:pt x="1831" y="1333"/>
                  </a:lnTo>
                  <a:lnTo>
                    <a:pt x="1828" y="1341"/>
                  </a:lnTo>
                  <a:lnTo>
                    <a:pt x="1808" y="1377"/>
                  </a:lnTo>
                  <a:lnTo>
                    <a:pt x="1802" y="1385"/>
                  </a:lnTo>
                  <a:lnTo>
                    <a:pt x="1780" y="1420"/>
                  </a:lnTo>
                  <a:lnTo>
                    <a:pt x="1774" y="1428"/>
                  </a:lnTo>
                  <a:lnTo>
                    <a:pt x="1749" y="1462"/>
                  </a:lnTo>
                  <a:lnTo>
                    <a:pt x="1743" y="1470"/>
                  </a:lnTo>
                  <a:lnTo>
                    <a:pt x="1715" y="1505"/>
                  </a:lnTo>
                  <a:lnTo>
                    <a:pt x="1708" y="1513"/>
                  </a:lnTo>
                  <a:lnTo>
                    <a:pt x="1679" y="1547"/>
                  </a:lnTo>
                  <a:lnTo>
                    <a:pt x="1671" y="1555"/>
                  </a:lnTo>
                  <a:lnTo>
                    <a:pt x="1639" y="1588"/>
                  </a:lnTo>
                  <a:lnTo>
                    <a:pt x="1634" y="1591"/>
                  </a:lnTo>
                  <a:lnTo>
                    <a:pt x="1597" y="1628"/>
                  </a:lnTo>
                  <a:lnTo>
                    <a:pt x="1588" y="1636"/>
                  </a:lnTo>
                  <a:lnTo>
                    <a:pt x="1554" y="1664"/>
                  </a:lnTo>
                  <a:lnTo>
                    <a:pt x="1545" y="1671"/>
                  </a:lnTo>
                  <a:lnTo>
                    <a:pt x="1509" y="1698"/>
                  </a:lnTo>
                  <a:lnTo>
                    <a:pt x="1501" y="1703"/>
                  </a:lnTo>
                  <a:lnTo>
                    <a:pt x="1466" y="1728"/>
                  </a:lnTo>
                  <a:lnTo>
                    <a:pt x="1458" y="1734"/>
                  </a:lnTo>
                  <a:lnTo>
                    <a:pt x="1422" y="1756"/>
                  </a:lnTo>
                  <a:lnTo>
                    <a:pt x="1414" y="1762"/>
                  </a:lnTo>
                  <a:lnTo>
                    <a:pt x="1377" y="1780"/>
                  </a:lnTo>
                  <a:lnTo>
                    <a:pt x="1368" y="1784"/>
                  </a:lnTo>
                  <a:lnTo>
                    <a:pt x="1332" y="1802"/>
                  </a:lnTo>
                  <a:lnTo>
                    <a:pt x="1324" y="1806"/>
                  </a:lnTo>
                  <a:lnTo>
                    <a:pt x="1287" y="1821"/>
                  </a:lnTo>
                  <a:lnTo>
                    <a:pt x="1278" y="1823"/>
                  </a:lnTo>
                  <a:lnTo>
                    <a:pt x="1243" y="1837"/>
                  </a:lnTo>
                  <a:lnTo>
                    <a:pt x="1233" y="1840"/>
                  </a:lnTo>
                  <a:lnTo>
                    <a:pt x="1196" y="1851"/>
                  </a:lnTo>
                  <a:lnTo>
                    <a:pt x="1188" y="1853"/>
                  </a:lnTo>
                  <a:lnTo>
                    <a:pt x="1152" y="1862"/>
                  </a:lnTo>
                  <a:lnTo>
                    <a:pt x="1142" y="1863"/>
                  </a:lnTo>
                  <a:lnTo>
                    <a:pt x="1105" y="1870"/>
                  </a:lnTo>
                  <a:lnTo>
                    <a:pt x="1097" y="1871"/>
                  </a:lnTo>
                  <a:lnTo>
                    <a:pt x="1061" y="1876"/>
                  </a:lnTo>
                  <a:lnTo>
                    <a:pt x="1052" y="1877"/>
                  </a:lnTo>
                  <a:lnTo>
                    <a:pt x="1015" y="1879"/>
                  </a:lnTo>
                  <a:lnTo>
                    <a:pt x="1006" y="1879"/>
                  </a:lnTo>
                  <a:lnTo>
                    <a:pt x="971" y="1881"/>
                  </a:lnTo>
                  <a:lnTo>
                    <a:pt x="961" y="1881"/>
                  </a:lnTo>
                  <a:lnTo>
                    <a:pt x="927" y="1879"/>
                  </a:lnTo>
                  <a:lnTo>
                    <a:pt x="916" y="1879"/>
                  </a:lnTo>
                  <a:lnTo>
                    <a:pt x="881" y="1877"/>
                  </a:lnTo>
                  <a:lnTo>
                    <a:pt x="873" y="1876"/>
                  </a:lnTo>
                  <a:lnTo>
                    <a:pt x="838" y="1870"/>
                  </a:lnTo>
                  <a:lnTo>
                    <a:pt x="829" y="1869"/>
                  </a:lnTo>
                  <a:lnTo>
                    <a:pt x="793" y="1863"/>
                  </a:lnTo>
                  <a:lnTo>
                    <a:pt x="784" y="1862"/>
                  </a:lnTo>
                  <a:lnTo>
                    <a:pt x="751" y="1854"/>
                  </a:lnTo>
                  <a:lnTo>
                    <a:pt x="742" y="1851"/>
                  </a:lnTo>
                  <a:lnTo>
                    <a:pt x="708" y="1842"/>
                  </a:lnTo>
                  <a:lnTo>
                    <a:pt x="699" y="1839"/>
                  </a:lnTo>
                  <a:lnTo>
                    <a:pt x="666" y="1828"/>
                  </a:lnTo>
                  <a:lnTo>
                    <a:pt x="659" y="1825"/>
                  </a:lnTo>
                  <a:lnTo>
                    <a:pt x="625" y="1813"/>
                  </a:lnTo>
                  <a:lnTo>
                    <a:pt x="617" y="1808"/>
                  </a:lnTo>
                  <a:lnTo>
                    <a:pt x="585" y="1795"/>
                  </a:lnTo>
                  <a:lnTo>
                    <a:pt x="576" y="1791"/>
                  </a:lnTo>
                  <a:lnTo>
                    <a:pt x="545" y="1776"/>
                  </a:lnTo>
                  <a:lnTo>
                    <a:pt x="537" y="1772"/>
                  </a:lnTo>
                  <a:lnTo>
                    <a:pt x="507" y="1756"/>
                  </a:lnTo>
                  <a:lnTo>
                    <a:pt x="500" y="1751"/>
                  </a:lnTo>
                  <a:lnTo>
                    <a:pt x="468" y="1732"/>
                  </a:lnTo>
                  <a:lnTo>
                    <a:pt x="461" y="1728"/>
                  </a:lnTo>
                  <a:lnTo>
                    <a:pt x="433" y="1709"/>
                  </a:lnTo>
                  <a:lnTo>
                    <a:pt x="425" y="1703"/>
                  </a:lnTo>
                  <a:lnTo>
                    <a:pt x="397" y="1684"/>
                  </a:lnTo>
                  <a:lnTo>
                    <a:pt x="391" y="1678"/>
                  </a:lnTo>
                  <a:lnTo>
                    <a:pt x="362" y="1656"/>
                  </a:lnTo>
                  <a:lnTo>
                    <a:pt x="355" y="1651"/>
                  </a:lnTo>
                  <a:lnTo>
                    <a:pt x="329" y="1628"/>
                  </a:lnTo>
                  <a:lnTo>
                    <a:pt x="321" y="1622"/>
                  </a:lnTo>
                  <a:lnTo>
                    <a:pt x="296" y="1597"/>
                  </a:lnTo>
                  <a:lnTo>
                    <a:pt x="291" y="1591"/>
                  </a:lnTo>
                  <a:lnTo>
                    <a:pt x="266" y="1567"/>
                  </a:lnTo>
                  <a:lnTo>
                    <a:pt x="260" y="1561"/>
                  </a:lnTo>
                  <a:lnTo>
                    <a:pt x="236" y="1534"/>
                  </a:lnTo>
                  <a:lnTo>
                    <a:pt x="230" y="1527"/>
                  </a:lnTo>
                  <a:lnTo>
                    <a:pt x="209" y="1501"/>
                  </a:lnTo>
                  <a:lnTo>
                    <a:pt x="203" y="1494"/>
                  </a:lnTo>
                  <a:lnTo>
                    <a:pt x="181" y="1467"/>
                  </a:lnTo>
                  <a:lnTo>
                    <a:pt x="177" y="1460"/>
                  </a:lnTo>
                  <a:lnTo>
                    <a:pt x="156" y="1431"/>
                  </a:lnTo>
                  <a:lnTo>
                    <a:pt x="153" y="1425"/>
                  </a:lnTo>
                  <a:lnTo>
                    <a:pt x="132" y="1395"/>
                  </a:lnTo>
                  <a:lnTo>
                    <a:pt x="129" y="1388"/>
                  </a:lnTo>
                  <a:lnTo>
                    <a:pt x="112" y="1357"/>
                  </a:lnTo>
                  <a:lnTo>
                    <a:pt x="107" y="1349"/>
                  </a:lnTo>
                  <a:lnTo>
                    <a:pt x="92" y="1320"/>
                  </a:lnTo>
                  <a:lnTo>
                    <a:pt x="88" y="1312"/>
                  </a:lnTo>
                  <a:lnTo>
                    <a:pt x="74" y="1280"/>
                  </a:lnTo>
                  <a:lnTo>
                    <a:pt x="70" y="1272"/>
                  </a:lnTo>
                  <a:lnTo>
                    <a:pt x="57" y="1240"/>
                  </a:lnTo>
                  <a:lnTo>
                    <a:pt x="55" y="1233"/>
                  </a:lnTo>
                  <a:lnTo>
                    <a:pt x="44" y="1200"/>
                  </a:lnTo>
                  <a:lnTo>
                    <a:pt x="40" y="1192"/>
                  </a:lnTo>
                  <a:lnTo>
                    <a:pt x="31" y="1157"/>
                  </a:lnTo>
                  <a:lnTo>
                    <a:pt x="28" y="1149"/>
                  </a:lnTo>
                  <a:lnTo>
                    <a:pt x="20" y="1116"/>
                  </a:lnTo>
                  <a:lnTo>
                    <a:pt x="17" y="1108"/>
                  </a:lnTo>
                  <a:lnTo>
                    <a:pt x="11" y="1074"/>
                  </a:lnTo>
                  <a:lnTo>
                    <a:pt x="9" y="1065"/>
                  </a:lnTo>
                  <a:lnTo>
                    <a:pt x="5" y="1031"/>
                  </a:lnTo>
                  <a:lnTo>
                    <a:pt x="4" y="1023"/>
                  </a:lnTo>
                  <a:lnTo>
                    <a:pt x="1" y="988"/>
                  </a:lnTo>
                  <a:lnTo>
                    <a:pt x="1" y="978"/>
                  </a:lnTo>
                  <a:lnTo>
                    <a:pt x="0" y="945"/>
                  </a:lnTo>
                  <a:lnTo>
                    <a:pt x="0" y="935"/>
                  </a:lnTo>
                  <a:lnTo>
                    <a:pt x="1" y="900"/>
                  </a:lnTo>
                  <a:lnTo>
                    <a:pt x="1" y="891"/>
                  </a:lnTo>
                  <a:lnTo>
                    <a:pt x="4" y="856"/>
                  </a:lnTo>
                  <a:lnTo>
                    <a:pt x="5" y="848"/>
                  </a:lnTo>
                  <a:lnTo>
                    <a:pt x="9" y="812"/>
                  </a:lnTo>
                  <a:lnTo>
                    <a:pt x="11" y="804"/>
                  </a:lnTo>
                  <a:lnTo>
                    <a:pt x="17" y="769"/>
                  </a:lnTo>
                  <a:lnTo>
                    <a:pt x="20" y="759"/>
                  </a:lnTo>
                  <a:lnTo>
                    <a:pt x="29" y="723"/>
                  </a:lnTo>
                  <a:lnTo>
                    <a:pt x="31" y="715"/>
                  </a:lnTo>
                  <a:lnTo>
                    <a:pt x="41" y="680"/>
                  </a:lnTo>
                  <a:lnTo>
                    <a:pt x="45" y="671"/>
                  </a:lnTo>
                  <a:lnTo>
                    <a:pt x="58" y="635"/>
                  </a:lnTo>
                  <a:lnTo>
                    <a:pt x="62" y="627"/>
                  </a:lnTo>
                  <a:lnTo>
                    <a:pt x="77" y="592"/>
                  </a:lnTo>
                  <a:lnTo>
                    <a:pt x="81" y="583"/>
                  </a:lnTo>
                  <a:lnTo>
                    <a:pt x="99" y="547"/>
                  </a:lnTo>
                  <a:lnTo>
                    <a:pt x="104" y="539"/>
                  </a:lnTo>
                  <a:lnTo>
                    <a:pt x="123" y="504"/>
                  </a:lnTo>
                  <a:lnTo>
                    <a:pt x="129" y="496"/>
                  </a:lnTo>
                  <a:lnTo>
                    <a:pt x="151" y="461"/>
                  </a:lnTo>
                  <a:lnTo>
                    <a:pt x="156" y="453"/>
                  </a:lnTo>
                  <a:lnTo>
                    <a:pt x="181" y="418"/>
                  </a:lnTo>
                  <a:lnTo>
                    <a:pt x="189" y="410"/>
                  </a:lnTo>
                  <a:lnTo>
                    <a:pt x="215" y="376"/>
                  </a:lnTo>
                  <a:lnTo>
                    <a:pt x="222" y="368"/>
                  </a:lnTo>
                  <a:lnTo>
                    <a:pt x="252" y="334"/>
                  </a:lnTo>
                  <a:lnTo>
                    <a:pt x="260" y="326"/>
                  </a:lnTo>
                  <a:lnTo>
                    <a:pt x="293" y="293"/>
                  </a:lnTo>
                  <a:lnTo>
                    <a:pt x="296" y="28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3" name="Freeform 5"/>
            <p:cNvSpPr/>
            <p:nvPr/>
          </p:nvSpPr>
          <p:spPr>
            <a:xfrm>
              <a:off x="3738960" y="3134160"/>
              <a:ext cx="2145960" cy="206172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4201560" y="3556080"/>
              <a:ext cx="1244160" cy="119844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5" name="Freeform 7"/>
            <p:cNvSpPr/>
            <p:nvPr/>
          </p:nvSpPr>
          <p:spPr>
            <a:xfrm>
              <a:off x="4582080" y="3921840"/>
              <a:ext cx="508320" cy="4921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6" name="Freeform 8"/>
            <p:cNvSpPr/>
            <p:nvPr/>
          </p:nvSpPr>
          <p:spPr>
            <a:xfrm>
              <a:off x="4582080" y="3921840"/>
              <a:ext cx="508320" cy="49752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7" name="Freeform 9"/>
            <p:cNvSpPr/>
            <p:nvPr/>
          </p:nvSpPr>
          <p:spPr>
            <a:xfrm>
              <a:off x="4062240" y="5515560"/>
              <a:ext cx="348120" cy="3387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8" name="Freeform 10"/>
            <p:cNvSpPr/>
            <p:nvPr/>
          </p:nvSpPr>
          <p:spPr>
            <a:xfrm>
              <a:off x="4062240" y="55155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9" name="Freeform 11"/>
            <p:cNvSpPr/>
            <p:nvPr/>
          </p:nvSpPr>
          <p:spPr>
            <a:xfrm>
              <a:off x="4012200" y="3978000"/>
              <a:ext cx="349560" cy="33012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0" name="Freeform 12"/>
            <p:cNvSpPr/>
            <p:nvPr/>
          </p:nvSpPr>
          <p:spPr>
            <a:xfrm>
              <a:off x="4012200" y="3978000"/>
              <a:ext cx="345960" cy="330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1" name="Freeform 13"/>
            <p:cNvSpPr/>
            <p:nvPr/>
          </p:nvSpPr>
          <p:spPr>
            <a:xfrm>
              <a:off x="5236920" y="3999240"/>
              <a:ext cx="348120" cy="3387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2" name="Freeform 14"/>
            <p:cNvSpPr/>
            <p:nvPr/>
          </p:nvSpPr>
          <p:spPr>
            <a:xfrm>
              <a:off x="5236920" y="399924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3" name="Freeform 15"/>
            <p:cNvSpPr/>
            <p:nvPr/>
          </p:nvSpPr>
          <p:spPr>
            <a:xfrm>
              <a:off x="4662000" y="2966760"/>
              <a:ext cx="348120" cy="33372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4" name="Freeform 16"/>
            <p:cNvSpPr/>
            <p:nvPr/>
          </p:nvSpPr>
          <p:spPr>
            <a:xfrm>
              <a:off x="4662000" y="2966760"/>
              <a:ext cx="348120" cy="33372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4662000" y="50108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4662000" y="5010840"/>
              <a:ext cx="348120" cy="3369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5686560" y="3999240"/>
              <a:ext cx="349920" cy="3387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5686560" y="39992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3565800" y="3999240"/>
              <a:ext cx="342720" cy="33876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3565800" y="3999240"/>
              <a:ext cx="342720" cy="335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3864240" y="4721400"/>
              <a:ext cx="344160" cy="33480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3864240" y="4721400"/>
              <a:ext cx="344160" cy="3348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5386680" y="330192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5386680" y="3301920"/>
              <a:ext cx="3517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5386680" y="4745880"/>
              <a:ext cx="3517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5386680" y="47458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7" name="Freeform 29"/>
            <p:cNvSpPr/>
            <p:nvPr/>
          </p:nvSpPr>
          <p:spPr>
            <a:xfrm>
              <a:off x="3864240" y="330192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8" name="Freeform 30"/>
            <p:cNvSpPr/>
            <p:nvPr/>
          </p:nvSpPr>
          <p:spPr>
            <a:xfrm>
              <a:off x="3864240" y="330192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9" name="Freeform 31"/>
            <p:cNvSpPr/>
            <p:nvPr/>
          </p:nvSpPr>
          <p:spPr>
            <a:xfrm>
              <a:off x="5288760" y="5465880"/>
              <a:ext cx="345960" cy="333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0" name="Freeform 32"/>
            <p:cNvSpPr/>
            <p:nvPr/>
          </p:nvSpPr>
          <p:spPr>
            <a:xfrm>
              <a:off x="5288760" y="5465880"/>
              <a:ext cx="345960" cy="3387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1" name="Freeform 33"/>
            <p:cNvSpPr/>
            <p:nvPr/>
          </p:nvSpPr>
          <p:spPr>
            <a:xfrm>
              <a:off x="4662000" y="236484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2" name="Freeform 34"/>
            <p:cNvSpPr/>
            <p:nvPr/>
          </p:nvSpPr>
          <p:spPr>
            <a:xfrm>
              <a:off x="4662000" y="23648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3" name="Freeform 35"/>
            <p:cNvSpPr/>
            <p:nvPr/>
          </p:nvSpPr>
          <p:spPr>
            <a:xfrm>
              <a:off x="5736960" y="277452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4" name="Freeform 36"/>
            <p:cNvSpPr/>
            <p:nvPr/>
          </p:nvSpPr>
          <p:spPr>
            <a:xfrm>
              <a:off x="5736960" y="277452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5" name="Freeform 37"/>
            <p:cNvSpPr/>
            <p:nvPr/>
          </p:nvSpPr>
          <p:spPr>
            <a:xfrm>
              <a:off x="2939400" y="376128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6" name="Freeform 38"/>
            <p:cNvSpPr/>
            <p:nvPr/>
          </p:nvSpPr>
          <p:spPr>
            <a:xfrm>
              <a:off x="2939400" y="376128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7" name="Freeform 39"/>
            <p:cNvSpPr/>
            <p:nvPr/>
          </p:nvSpPr>
          <p:spPr>
            <a:xfrm>
              <a:off x="3512520" y="277452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8" name="Freeform 40"/>
            <p:cNvSpPr/>
            <p:nvPr/>
          </p:nvSpPr>
          <p:spPr>
            <a:xfrm>
              <a:off x="3512520" y="277452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9" name="Freeform 41"/>
            <p:cNvSpPr/>
            <p:nvPr/>
          </p:nvSpPr>
          <p:spPr>
            <a:xfrm>
              <a:off x="6111720" y="477072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0" name="Freeform 42"/>
            <p:cNvSpPr/>
            <p:nvPr/>
          </p:nvSpPr>
          <p:spPr>
            <a:xfrm>
              <a:off x="6111720" y="477072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1" name="Freeform 43"/>
            <p:cNvSpPr/>
            <p:nvPr/>
          </p:nvSpPr>
          <p:spPr>
            <a:xfrm>
              <a:off x="6284880" y="4290840"/>
              <a:ext cx="347400" cy="329760"/>
            </a:xfrm>
            <a:custGeom>
              <a:avLst/>
              <a:gdLst/>
              <a:ahLst/>
              <a:rect l="l" t="t" r="r" b="b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2" name="Freeform 44"/>
            <p:cNvSpPr/>
            <p:nvPr/>
          </p:nvSpPr>
          <p:spPr>
            <a:xfrm>
              <a:off x="6284880" y="4290840"/>
              <a:ext cx="347400" cy="3297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3" name="Freeform 45"/>
            <p:cNvSpPr/>
            <p:nvPr/>
          </p:nvSpPr>
          <p:spPr>
            <a:xfrm>
              <a:off x="3189240" y="4793400"/>
              <a:ext cx="34632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4" name="Freeform 46"/>
            <p:cNvSpPr/>
            <p:nvPr/>
          </p:nvSpPr>
          <p:spPr>
            <a:xfrm>
              <a:off x="3189240" y="4793400"/>
              <a:ext cx="346320" cy="3337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5" name="Freeform 47"/>
            <p:cNvSpPr/>
            <p:nvPr/>
          </p:nvSpPr>
          <p:spPr>
            <a:xfrm>
              <a:off x="5811840" y="51537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6" name="Freeform 48"/>
            <p:cNvSpPr/>
            <p:nvPr/>
          </p:nvSpPr>
          <p:spPr>
            <a:xfrm>
              <a:off x="5811840" y="515376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7" name="Freeform 49"/>
            <p:cNvSpPr/>
            <p:nvPr/>
          </p:nvSpPr>
          <p:spPr>
            <a:xfrm>
              <a:off x="5213880" y="2461680"/>
              <a:ext cx="345960" cy="333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8" name="Freeform 50"/>
            <p:cNvSpPr/>
            <p:nvPr/>
          </p:nvSpPr>
          <p:spPr>
            <a:xfrm>
              <a:off x="5213880" y="2461680"/>
              <a:ext cx="35136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9" name="Freeform 51"/>
            <p:cNvSpPr/>
            <p:nvPr/>
          </p:nvSpPr>
          <p:spPr>
            <a:xfrm>
              <a:off x="6311880" y="37364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0" name="Freeform 52"/>
            <p:cNvSpPr/>
            <p:nvPr/>
          </p:nvSpPr>
          <p:spPr>
            <a:xfrm>
              <a:off x="6311880" y="373644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1" name="Freeform 53"/>
            <p:cNvSpPr/>
            <p:nvPr/>
          </p:nvSpPr>
          <p:spPr>
            <a:xfrm>
              <a:off x="6088320" y="3205080"/>
              <a:ext cx="344880" cy="33480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2" name="Freeform 54"/>
            <p:cNvSpPr/>
            <p:nvPr/>
          </p:nvSpPr>
          <p:spPr>
            <a:xfrm>
              <a:off x="6088320" y="3205080"/>
              <a:ext cx="344880" cy="3348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3" name="Freeform 55"/>
            <p:cNvSpPr/>
            <p:nvPr/>
          </p:nvSpPr>
          <p:spPr>
            <a:xfrm>
              <a:off x="4662000" y="563580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4" name="Freeform 56"/>
            <p:cNvSpPr/>
            <p:nvPr/>
          </p:nvSpPr>
          <p:spPr>
            <a:xfrm>
              <a:off x="4662000" y="563580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5" name="Freeform 57"/>
            <p:cNvSpPr/>
            <p:nvPr/>
          </p:nvSpPr>
          <p:spPr>
            <a:xfrm>
              <a:off x="5437080" y="611748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6" name="Freeform 58"/>
            <p:cNvSpPr/>
            <p:nvPr/>
          </p:nvSpPr>
          <p:spPr>
            <a:xfrm>
              <a:off x="5437080" y="611748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7" name="Freeform 59"/>
            <p:cNvSpPr/>
            <p:nvPr/>
          </p:nvSpPr>
          <p:spPr>
            <a:xfrm>
              <a:off x="3114360" y="3229560"/>
              <a:ext cx="345960" cy="3351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8" name="Freeform 60"/>
            <p:cNvSpPr/>
            <p:nvPr/>
          </p:nvSpPr>
          <p:spPr>
            <a:xfrm>
              <a:off x="3114360" y="3229560"/>
              <a:ext cx="34596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9" name="Freeform 61"/>
            <p:cNvSpPr/>
            <p:nvPr/>
          </p:nvSpPr>
          <p:spPr>
            <a:xfrm>
              <a:off x="4039200" y="2486520"/>
              <a:ext cx="344160" cy="3333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0" name="Freeform 62"/>
            <p:cNvSpPr/>
            <p:nvPr/>
          </p:nvSpPr>
          <p:spPr>
            <a:xfrm>
              <a:off x="4039200" y="2486520"/>
              <a:ext cx="344160" cy="33876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1" name="Freeform 63"/>
            <p:cNvSpPr/>
            <p:nvPr/>
          </p:nvSpPr>
          <p:spPr>
            <a:xfrm>
              <a:off x="3565800" y="5201280"/>
              <a:ext cx="342720" cy="335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2" name="Freeform 64"/>
            <p:cNvSpPr/>
            <p:nvPr/>
          </p:nvSpPr>
          <p:spPr>
            <a:xfrm>
              <a:off x="3565800" y="5201280"/>
              <a:ext cx="342720" cy="33516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3" name="Freeform 65"/>
            <p:cNvSpPr/>
            <p:nvPr/>
          </p:nvSpPr>
          <p:spPr>
            <a:xfrm>
              <a:off x="2939400" y="4315320"/>
              <a:ext cx="34812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4" name="Freeform 66"/>
            <p:cNvSpPr/>
            <p:nvPr/>
          </p:nvSpPr>
          <p:spPr>
            <a:xfrm>
              <a:off x="2939400" y="431532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5" name="Freeform 67"/>
            <p:cNvSpPr/>
            <p:nvPr/>
          </p:nvSpPr>
          <p:spPr>
            <a:xfrm>
              <a:off x="4688640" y="16430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6" name="Freeform 68"/>
            <p:cNvSpPr/>
            <p:nvPr/>
          </p:nvSpPr>
          <p:spPr>
            <a:xfrm>
              <a:off x="4587120" y="63082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7" name="Freeform 69"/>
            <p:cNvSpPr/>
            <p:nvPr/>
          </p:nvSpPr>
          <p:spPr>
            <a:xfrm>
              <a:off x="4587120" y="630828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8" name="Freeform 70"/>
            <p:cNvSpPr/>
            <p:nvPr/>
          </p:nvSpPr>
          <p:spPr>
            <a:xfrm>
              <a:off x="6986520" y="368676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9" name="Freeform 71"/>
            <p:cNvSpPr/>
            <p:nvPr/>
          </p:nvSpPr>
          <p:spPr>
            <a:xfrm>
              <a:off x="6986520" y="368676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0" name="Freeform 72"/>
            <p:cNvSpPr/>
            <p:nvPr/>
          </p:nvSpPr>
          <p:spPr>
            <a:xfrm>
              <a:off x="2214720" y="380880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1" name="Freeform 73"/>
            <p:cNvSpPr/>
            <p:nvPr/>
          </p:nvSpPr>
          <p:spPr>
            <a:xfrm>
              <a:off x="2214720" y="3808800"/>
              <a:ext cx="346320" cy="3315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2" name="Freeform 74"/>
            <p:cNvSpPr/>
            <p:nvPr/>
          </p:nvSpPr>
          <p:spPr>
            <a:xfrm>
              <a:off x="4264200" y="1667520"/>
              <a:ext cx="344160" cy="3333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6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3" name="Freeform 75"/>
            <p:cNvSpPr/>
            <p:nvPr/>
          </p:nvSpPr>
          <p:spPr>
            <a:xfrm>
              <a:off x="4264200" y="1667520"/>
              <a:ext cx="344160" cy="33336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6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4" name="Freeform 76"/>
            <p:cNvSpPr/>
            <p:nvPr/>
          </p:nvSpPr>
          <p:spPr>
            <a:xfrm>
              <a:off x="3837600" y="1812240"/>
              <a:ext cx="35136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3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5" name="Freeform 77"/>
            <p:cNvSpPr/>
            <p:nvPr/>
          </p:nvSpPr>
          <p:spPr>
            <a:xfrm>
              <a:off x="3837600" y="181224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3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6" name="Freeform 78"/>
            <p:cNvSpPr/>
            <p:nvPr/>
          </p:nvSpPr>
          <p:spPr>
            <a:xfrm>
              <a:off x="3412440" y="1980000"/>
              <a:ext cx="348120" cy="33732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7" name="Freeform 79"/>
            <p:cNvSpPr/>
            <p:nvPr/>
          </p:nvSpPr>
          <p:spPr>
            <a:xfrm>
              <a:off x="3412440" y="1980000"/>
              <a:ext cx="348120" cy="33372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8" name="Freeform 80"/>
            <p:cNvSpPr/>
            <p:nvPr/>
          </p:nvSpPr>
          <p:spPr>
            <a:xfrm>
              <a:off x="2739600" y="2580480"/>
              <a:ext cx="345960" cy="33840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0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6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9" name="Freeform 81"/>
            <p:cNvSpPr/>
            <p:nvPr/>
          </p:nvSpPr>
          <p:spPr>
            <a:xfrm>
              <a:off x="2739600" y="2580480"/>
              <a:ext cx="345960" cy="3348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0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6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0" name="Freeform 82"/>
            <p:cNvSpPr/>
            <p:nvPr/>
          </p:nvSpPr>
          <p:spPr>
            <a:xfrm>
              <a:off x="2489400" y="294228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1" name="Freeform 83"/>
            <p:cNvSpPr/>
            <p:nvPr/>
          </p:nvSpPr>
          <p:spPr>
            <a:xfrm>
              <a:off x="2489400" y="2942280"/>
              <a:ext cx="346320" cy="3369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2" name="Freeform 84"/>
            <p:cNvSpPr/>
            <p:nvPr/>
          </p:nvSpPr>
          <p:spPr>
            <a:xfrm>
              <a:off x="2214720" y="43153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69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7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3" name="Freeform 85"/>
            <p:cNvSpPr/>
            <p:nvPr/>
          </p:nvSpPr>
          <p:spPr>
            <a:xfrm>
              <a:off x="2214720" y="43153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69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4" name="Freeform 86"/>
            <p:cNvSpPr/>
            <p:nvPr/>
          </p:nvSpPr>
          <p:spPr>
            <a:xfrm>
              <a:off x="2339640" y="4793400"/>
              <a:ext cx="346320" cy="3337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9"/>
                  </a:lnTo>
                  <a:lnTo>
                    <a:pt x="61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50" y="18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89" y="74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89" y="111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3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5" name="Freeform 87"/>
            <p:cNvSpPr/>
            <p:nvPr/>
          </p:nvSpPr>
          <p:spPr>
            <a:xfrm>
              <a:off x="2339640" y="4793400"/>
              <a:ext cx="34632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9"/>
                  </a:lnTo>
                  <a:lnTo>
                    <a:pt x="61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50" y="18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89" y="74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89" y="111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3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6" name="Freeform 88"/>
            <p:cNvSpPr/>
            <p:nvPr/>
          </p:nvSpPr>
          <p:spPr>
            <a:xfrm>
              <a:off x="2589480" y="52012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91"/>
                  </a:lnTo>
                  <a:lnTo>
                    <a:pt x="194" y="94"/>
                  </a:lnTo>
                  <a:lnTo>
                    <a:pt x="192" y="99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7" name="Freeform 89"/>
            <p:cNvSpPr/>
            <p:nvPr/>
          </p:nvSpPr>
          <p:spPr>
            <a:xfrm>
              <a:off x="2589480" y="520128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91"/>
                  </a:lnTo>
                  <a:lnTo>
                    <a:pt x="194" y="94"/>
                  </a:lnTo>
                  <a:lnTo>
                    <a:pt x="192" y="99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8" name="Freeform 90"/>
            <p:cNvSpPr/>
            <p:nvPr/>
          </p:nvSpPr>
          <p:spPr>
            <a:xfrm>
              <a:off x="2864160" y="5540400"/>
              <a:ext cx="34488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9" name="Freeform 91"/>
            <p:cNvSpPr/>
            <p:nvPr/>
          </p:nvSpPr>
          <p:spPr>
            <a:xfrm>
              <a:off x="2864160" y="5540400"/>
              <a:ext cx="34488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0" name="Freeform 92"/>
            <p:cNvSpPr/>
            <p:nvPr/>
          </p:nvSpPr>
          <p:spPr>
            <a:xfrm>
              <a:off x="3237480" y="5877360"/>
              <a:ext cx="351720" cy="3369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2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1" y="73"/>
                  </a:lnTo>
                  <a:lnTo>
                    <a:pt x="191" y="75"/>
                  </a:lnTo>
                  <a:lnTo>
                    <a:pt x="191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2"/>
                  </a:lnTo>
                  <a:lnTo>
                    <a:pt x="191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4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5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1" name="Freeform 93"/>
            <p:cNvSpPr/>
            <p:nvPr/>
          </p:nvSpPr>
          <p:spPr>
            <a:xfrm>
              <a:off x="3237480" y="58773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2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1" y="73"/>
                  </a:lnTo>
                  <a:lnTo>
                    <a:pt x="191" y="75"/>
                  </a:lnTo>
                  <a:lnTo>
                    <a:pt x="191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2"/>
                  </a:lnTo>
                  <a:lnTo>
                    <a:pt x="191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4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5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2" name="Freeform 94"/>
            <p:cNvSpPr/>
            <p:nvPr/>
          </p:nvSpPr>
          <p:spPr>
            <a:xfrm>
              <a:off x="4112280" y="6237720"/>
              <a:ext cx="345960" cy="3333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2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3" name="Freeform 95"/>
            <p:cNvSpPr/>
            <p:nvPr/>
          </p:nvSpPr>
          <p:spPr>
            <a:xfrm>
              <a:off x="4112280" y="6237720"/>
              <a:ext cx="34956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2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4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4" name="Freeform 96"/>
            <p:cNvSpPr/>
            <p:nvPr/>
          </p:nvSpPr>
          <p:spPr>
            <a:xfrm>
              <a:off x="5136840" y="1715400"/>
              <a:ext cx="34632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6"/>
                  </a:lnTo>
                  <a:lnTo>
                    <a:pt x="178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8"/>
                  </a:lnTo>
                  <a:lnTo>
                    <a:pt x="150" y="169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5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4"/>
                  </a:lnTo>
                  <a:lnTo>
                    <a:pt x="78" y="184"/>
                  </a:lnTo>
                  <a:lnTo>
                    <a:pt x="76" y="184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5" name="Freeform 97"/>
            <p:cNvSpPr/>
            <p:nvPr/>
          </p:nvSpPr>
          <p:spPr>
            <a:xfrm>
              <a:off x="5136840" y="171540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6"/>
                  </a:lnTo>
                  <a:lnTo>
                    <a:pt x="178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8"/>
                  </a:lnTo>
                  <a:lnTo>
                    <a:pt x="150" y="169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5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4"/>
                  </a:lnTo>
                  <a:lnTo>
                    <a:pt x="78" y="184"/>
                  </a:lnTo>
                  <a:lnTo>
                    <a:pt x="76" y="184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6" name="Freeform 98"/>
            <p:cNvSpPr/>
            <p:nvPr/>
          </p:nvSpPr>
          <p:spPr>
            <a:xfrm>
              <a:off x="5577840" y="1877400"/>
              <a:ext cx="337320" cy="322920"/>
            </a:xfrm>
            <a:custGeom>
              <a:avLst/>
              <a:gdLst/>
              <a:ahLst/>
              <a:rect l="l" t="t" r="r" b="b"/>
              <a:pathLst>
                <a:path w="190" h="183">
                  <a:moveTo>
                    <a:pt x="30" y="28"/>
                  </a:moveTo>
                  <a:lnTo>
                    <a:pt x="30" y="28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8" y="19"/>
                  </a:lnTo>
                  <a:lnTo>
                    <a:pt x="40" y="17"/>
                  </a:lnTo>
                  <a:lnTo>
                    <a:pt x="43" y="17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9" y="11"/>
                  </a:lnTo>
                  <a:lnTo>
                    <a:pt x="51" y="11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0" y="7"/>
                  </a:lnTo>
                  <a:lnTo>
                    <a:pt x="63" y="4"/>
                  </a:lnTo>
                  <a:lnTo>
                    <a:pt x="68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7" y="1"/>
                  </a:lnTo>
                  <a:lnTo>
                    <a:pt x="111" y="1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3" y="4"/>
                  </a:lnTo>
                  <a:lnTo>
                    <a:pt x="128" y="7"/>
                  </a:lnTo>
                  <a:lnTo>
                    <a:pt x="131" y="8"/>
                  </a:lnTo>
                  <a:lnTo>
                    <a:pt x="132" y="8"/>
                  </a:lnTo>
                  <a:lnTo>
                    <a:pt x="136" y="10"/>
                  </a:lnTo>
                  <a:lnTo>
                    <a:pt x="137" y="10"/>
                  </a:lnTo>
                  <a:lnTo>
                    <a:pt x="139" y="11"/>
                  </a:lnTo>
                  <a:lnTo>
                    <a:pt x="143" y="15"/>
                  </a:lnTo>
                  <a:lnTo>
                    <a:pt x="144" y="15"/>
                  </a:lnTo>
                  <a:lnTo>
                    <a:pt x="146" y="16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19"/>
                  </a:lnTo>
                  <a:lnTo>
                    <a:pt x="154" y="21"/>
                  </a:lnTo>
                  <a:lnTo>
                    <a:pt x="156" y="24"/>
                  </a:lnTo>
                  <a:lnTo>
                    <a:pt x="157" y="24"/>
                  </a:lnTo>
                  <a:lnTo>
                    <a:pt x="160" y="26"/>
                  </a:lnTo>
                  <a:lnTo>
                    <a:pt x="161" y="28"/>
                  </a:lnTo>
                  <a:lnTo>
                    <a:pt x="162" y="29"/>
                  </a:lnTo>
                  <a:lnTo>
                    <a:pt x="163" y="31"/>
                  </a:lnTo>
                  <a:lnTo>
                    <a:pt x="166" y="33"/>
                  </a:lnTo>
                  <a:lnTo>
                    <a:pt x="168" y="36"/>
                  </a:lnTo>
                  <a:lnTo>
                    <a:pt x="169" y="37"/>
                  </a:lnTo>
                  <a:lnTo>
                    <a:pt x="170" y="40"/>
                  </a:lnTo>
                  <a:lnTo>
                    <a:pt x="172" y="40"/>
                  </a:lnTo>
                  <a:lnTo>
                    <a:pt x="173" y="43"/>
                  </a:lnTo>
                  <a:lnTo>
                    <a:pt x="173" y="44"/>
                  </a:lnTo>
                  <a:lnTo>
                    <a:pt x="176" y="47"/>
                  </a:lnTo>
                  <a:lnTo>
                    <a:pt x="178" y="50"/>
                  </a:lnTo>
                  <a:lnTo>
                    <a:pt x="178" y="51"/>
                  </a:lnTo>
                  <a:lnTo>
                    <a:pt x="180" y="53"/>
                  </a:lnTo>
                  <a:lnTo>
                    <a:pt x="180" y="56"/>
                  </a:lnTo>
                  <a:lnTo>
                    <a:pt x="181" y="58"/>
                  </a:lnTo>
                  <a:lnTo>
                    <a:pt x="184" y="61"/>
                  </a:lnTo>
                  <a:lnTo>
                    <a:pt x="185" y="66"/>
                  </a:lnTo>
                  <a:lnTo>
                    <a:pt x="186" y="70"/>
                  </a:lnTo>
                  <a:lnTo>
                    <a:pt x="187" y="74"/>
                  </a:lnTo>
                  <a:lnTo>
                    <a:pt x="187" y="78"/>
                  </a:lnTo>
                  <a:lnTo>
                    <a:pt x="189" y="82"/>
                  </a:lnTo>
                  <a:lnTo>
                    <a:pt x="189" y="87"/>
                  </a:lnTo>
                  <a:lnTo>
                    <a:pt x="189" y="91"/>
                  </a:lnTo>
                  <a:lnTo>
                    <a:pt x="189" y="95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7" y="103"/>
                  </a:lnTo>
                  <a:lnTo>
                    <a:pt x="187" y="105"/>
                  </a:lnTo>
                  <a:lnTo>
                    <a:pt x="187" y="107"/>
                  </a:lnTo>
                  <a:lnTo>
                    <a:pt x="187" y="108"/>
                  </a:lnTo>
                  <a:lnTo>
                    <a:pt x="186" y="112"/>
                  </a:lnTo>
                  <a:lnTo>
                    <a:pt x="186" y="113"/>
                  </a:lnTo>
                  <a:lnTo>
                    <a:pt x="185" y="116"/>
                  </a:lnTo>
                  <a:lnTo>
                    <a:pt x="184" y="121"/>
                  </a:lnTo>
                  <a:lnTo>
                    <a:pt x="181" y="124"/>
                  </a:lnTo>
                  <a:lnTo>
                    <a:pt x="180" y="124"/>
                  </a:lnTo>
                  <a:lnTo>
                    <a:pt x="179" y="129"/>
                  </a:lnTo>
                  <a:lnTo>
                    <a:pt x="179" y="130"/>
                  </a:lnTo>
                  <a:lnTo>
                    <a:pt x="176" y="133"/>
                  </a:lnTo>
                  <a:lnTo>
                    <a:pt x="176" y="134"/>
                  </a:lnTo>
                  <a:lnTo>
                    <a:pt x="173" y="137"/>
                  </a:lnTo>
                  <a:lnTo>
                    <a:pt x="173" y="138"/>
                  </a:lnTo>
                  <a:lnTo>
                    <a:pt x="170" y="141"/>
                  </a:lnTo>
                  <a:lnTo>
                    <a:pt x="170" y="142"/>
                  </a:lnTo>
                  <a:lnTo>
                    <a:pt x="168" y="145"/>
                  </a:lnTo>
                  <a:lnTo>
                    <a:pt x="166" y="147"/>
                  </a:lnTo>
                  <a:lnTo>
                    <a:pt x="163" y="149"/>
                  </a:lnTo>
                  <a:lnTo>
                    <a:pt x="163" y="150"/>
                  </a:lnTo>
                  <a:lnTo>
                    <a:pt x="161" y="154"/>
                  </a:lnTo>
                  <a:lnTo>
                    <a:pt x="160" y="154"/>
                  </a:lnTo>
                  <a:lnTo>
                    <a:pt x="156" y="157"/>
                  </a:lnTo>
                  <a:lnTo>
                    <a:pt x="155" y="157"/>
                  </a:lnTo>
                  <a:lnTo>
                    <a:pt x="152" y="161"/>
                  </a:lnTo>
                  <a:lnTo>
                    <a:pt x="151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4" y="168"/>
                  </a:lnTo>
                  <a:lnTo>
                    <a:pt x="143" y="168"/>
                  </a:lnTo>
                  <a:lnTo>
                    <a:pt x="139" y="170"/>
                  </a:lnTo>
                  <a:lnTo>
                    <a:pt x="138" y="170"/>
                  </a:lnTo>
                  <a:lnTo>
                    <a:pt x="136" y="172"/>
                  </a:lnTo>
                  <a:lnTo>
                    <a:pt x="134" y="172"/>
                  </a:lnTo>
                  <a:lnTo>
                    <a:pt x="130" y="173"/>
                  </a:lnTo>
                  <a:lnTo>
                    <a:pt x="130" y="176"/>
                  </a:lnTo>
                  <a:lnTo>
                    <a:pt x="126" y="177"/>
                  </a:lnTo>
                  <a:lnTo>
                    <a:pt x="121" y="178"/>
                  </a:lnTo>
                  <a:lnTo>
                    <a:pt x="117" y="179"/>
                  </a:lnTo>
                  <a:lnTo>
                    <a:pt x="115" y="179"/>
                  </a:lnTo>
                  <a:lnTo>
                    <a:pt x="113" y="180"/>
                  </a:lnTo>
                  <a:lnTo>
                    <a:pt x="111" y="180"/>
                  </a:lnTo>
                  <a:lnTo>
                    <a:pt x="109" y="180"/>
                  </a:lnTo>
                  <a:lnTo>
                    <a:pt x="107" y="180"/>
                  </a:lnTo>
                  <a:lnTo>
                    <a:pt x="104" y="182"/>
                  </a:lnTo>
                  <a:lnTo>
                    <a:pt x="103" y="182"/>
                  </a:lnTo>
                  <a:lnTo>
                    <a:pt x="98" y="182"/>
                  </a:lnTo>
                  <a:lnTo>
                    <a:pt x="95" y="182"/>
                  </a:lnTo>
                  <a:lnTo>
                    <a:pt x="90" y="182"/>
                  </a:lnTo>
                  <a:lnTo>
                    <a:pt x="86" y="182"/>
                  </a:lnTo>
                  <a:lnTo>
                    <a:pt x="81" y="180"/>
                  </a:lnTo>
                  <a:lnTo>
                    <a:pt x="78" y="180"/>
                  </a:lnTo>
                  <a:lnTo>
                    <a:pt x="73" y="179"/>
                  </a:lnTo>
                  <a:lnTo>
                    <a:pt x="69" y="178"/>
                  </a:lnTo>
                  <a:lnTo>
                    <a:pt x="65" y="177"/>
                  </a:lnTo>
                  <a:lnTo>
                    <a:pt x="61" y="176"/>
                  </a:lnTo>
                  <a:lnTo>
                    <a:pt x="57" y="173"/>
                  </a:lnTo>
                  <a:lnTo>
                    <a:pt x="56" y="173"/>
                  </a:lnTo>
                  <a:lnTo>
                    <a:pt x="54" y="171"/>
                  </a:lnTo>
                  <a:lnTo>
                    <a:pt x="52" y="171"/>
                  </a:lnTo>
                  <a:lnTo>
                    <a:pt x="49" y="170"/>
                  </a:lnTo>
                  <a:lnTo>
                    <a:pt x="46" y="168"/>
                  </a:lnTo>
                  <a:lnTo>
                    <a:pt x="45" y="168"/>
                  </a:lnTo>
                  <a:lnTo>
                    <a:pt x="43" y="165"/>
                  </a:lnTo>
                  <a:lnTo>
                    <a:pt x="43" y="164"/>
                  </a:lnTo>
                  <a:lnTo>
                    <a:pt x="39" y="163"/>
                  </a:lnTo>
                  <a:lnTo>
                    <a:pt x="38" y="162"/>
                  </a:lnTo>
                  <a:lnTo>
                    <a:pt x="36" y="161"/>
                  </a:lnTo>
                  <a:lnTo>
                    <a:pt x="32" y="157"/>
                  </a:lnTo>
                  <a:lnTo>
                    <a:pt x="31" y="156"/>
                  </a:lnTo>
                  <a:lnTo>
                    <a:pt x="30" y="155"/>
                  </a:lnTo>
                  <a:lnTo>
                    <a:pt x="28" y="154"/>
                  </a:lnTo>
                  <a:lnTo>
                    <a:pt x="26" y="152"/>
                  </a:lnTo>
                  <a:lnTo>
                    <a:pt x="26" y="150"/>
                  </a:lnTo>
                  <a:lnTo>
                    <a:pt x="22" y="148"/>
                  </a:lnTo>
                  <a:lnTo>
                    <a:pt x="21" y="145"/>
                  </a:lnTo>
                  <a:lnTo>
                    <a:pt x="20" y="144"/>
                  </a:lnTo>
                  <a:lnTo>
                    <a:pt x="19" y="141"/>
                  </a:lnTo>
                  <a:lnTo>
                    <a:pt x="16" y="141"/>
                  </a:lnTo>
                  <a:lnTo>
                    <a:pt x="15" y="138"/>
                  </a:lnTo>
                  <a:lnTo>
                    <a:pt x="15" y="137"/>
                  </a:lnTo>
                  <a:lnTo>
                    <a:pt x="13" y="134"/>
                  </a:lnTo>
                  <a:lnTo>
                    <a:pt x="12" y="131"/>
                  </a:lnTo>
                  <a:lnTo>
                    <a:pt x="12" y="130"/>
                  </a:lnTo>
                  <a:lnTo>
                    <a:pt x="8" y="128"/>
                  </a:lnTo>
                  <a:lnTo>
                    <a:pt x="8" y="126"/>
                  </a:lnTo>
                  <a:lnTo>
                    <a:pt x="7" y="123"/>
                  </a:lnTo>
                  <a:lnTo>
                    <a:pt x="6" y="120"/>
                  </a:lnTo>
                  <a:lnTo>
                    <a:pt x="4" y="115"/>
                  </a:lnTo>
                  <a:lnTo>
                    <a:pt x="3" y="112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8"/>
                  </a:lnTo>
                  <a:lnTo>
                    <a:pt x="4" y="65"/>
                  </a:lnTo>
                  <a:lnTo>
                    <a:pt x="6" y="60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13" y="49"/>
                  </a:lnTo>
                  <a:lnTo>
                    <a:pt x="13" y="47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6" y="32"/>
                  </a:lnTo>
                  <a:lnTo>
                    <a:pt x="26" y="31"/>
                  </a:lnTo>
                  <a:lnTo>
                    <a:pt x="28" y="28"/>
                  </a:lnTo>
                  <a:lnTo>
                    <a:pt x="30" y="28"/>
                  </a:lnTo>
                </a:path>
              </a:pathLst>
            </a:custGeom>
            <a:blipFill rotWithShape="0">
              <a:blip r:embed="rId5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7" name="Freeform 99"/>
            <p:cNvSpPr/>
            <p:nvPr/>
          </p:nvSpPr>
          <p:spPr>
            <a:xfrm>
              <a:off x="5577840" y="1877400"/>
              <a:ext cx="339120" cy="322920"/>
            </a:xfrm>
            <a:custGeom>
              <a:avLst/>
              <a:gdLst/>
              <a:ahLst/>
              <a:rect l="l" t="t" r="r" b="b"/>
              <a:pathLst>
                <a:path w="190" h="183">
                  <a:moveTo>
                    <a:pt x="30" y="28"/>
                  </a:moveTo>
                  <a:lnTo>
                    <a:pt x="30" y="28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8" y="19"/>
                  </a:lnTo>
                  <a:lnTo>
                    <a:pt x="40" y="17"/>
                  </a:lnTo>
                  <a:lnTo>
                    <a:pt x="43" y="17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9" y="11"/>
                  </a:lnTo>
                  <a:lnTo>
                    <a:pt x="51" y="11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0" y="7"/>
                  </a:lnTo>
                  <a:lnTo>
                    <a:pt x="63" y="4"/>
                  </a:lnTo>
                  <a:lnTo>
                    <a:pt x="68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7" y="1"/>
                  </a:lnTo>
                  <a:lnTo>
                    <a:pt x="111" y="1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3" y="4"/>
                  </a:lnTo>
                  <a:lnTo>
                    <a:pt x="128" y="7"/>
                  </a:lnTo>
                  <a:lnTo>
                    <a:pt x="131" y="8"/>
                  </a:lnTo>
                  <a:lnTo>
                    <a:pt x="132" y="8"/>
                  </a:lnTo>
                  <a:lnTo>
                    <a:pt x="136" y="10"/>
                  </a:lnTo>
                  <a:lnTo>
                    <a:pt x="137" y="10"/>
                  </a:lnTo>
                  <a:lnTo>
                    <a:pt x="139" y="11"/>
                  </a:lnTo>
                  <a:lnTo>
                    <a:pt x="143" y="15"/>
                  </a:lnTo>
                  <a:lnTo>
                    <a:pt x="144" y="15"/>
                  </a:lnTo>
                  <a:lnTo>
                    <a:pt x="146" y="16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19"/>
                  </a:lnTo>
                  <a:lnTo>
                    <a:pt x="154" y="21"/>
                  </a:lnTo>
                  <a:lnTo>
                    <a:pt x="156" y="24"/>
                  </a:lnTo>
                  <a:lnTo>
                    <a:pt x="157" y="24"/>
                  </a:lnTo>
                  <a:lnTo>
                    <a:pt x="160" y="26"/>
                  </a:lnTo>
                  <a:lnTo>
                    <a:pt x="161" y="28"/>
                  </a:lnTo>
                  <a:lnTo>
                    <a:pt x="162" y="29"/>
                  </a:lnTo>
                  <a:lnTo>
                    <a:pt x="163" y="31"/>
                  </a:lnTo>
                  <a:lnTo>
                    <a:pt x="166" y="33"/>
                  </a:lnTo>
                  <a:lnTo>
                    <a:pt x="168" y="36"/>
                  </a:lnTo>
                  <a:lnTo>
                    <a:pt x="169" y="37"/>
                  </a:lnTo>
                  <a:lnTo>
                    <a:pt x="170" y="40"/>
                  </a:lnTo>
                  <a:lnTo>
                    <a:pt x="172" y="40"/>
                  </a:lnTo>
                  <a:lnTo>
                    <a:pt x="173" y="43"/>
                  </a:lnTo>
                  <a:lnTo>
                    <a:pt x="173" y="44"/>
                  </a:lnTo>
                  <a:lnTo>
                    <a:pt x="176" y="47"/>
                  </a:lnTo>
                  <a:lnTo>
                    <a:pt x="178" y="50"/>
                  </a:lnTo>
                  <a:lnTo>
                    <a:pt x="178" y="51"/>
                  </a:lnTo>
                  <a:lnTo>
                    <a:pt x="180" y="53"/>
                  </a:lnTo>
                  <a:lnTo>
                    <a:pt x="180" y="56"/>
                  </a:lnTo>
                  <a:lnTo>
                    <a:pt x="181" y="58"/>
                  </a:lnTo>
                  <a:lnTo>
                    <a:pt x="184" y="61"/>
                  </a:lnTo>
                  <a:lnTo>
                    <a:pt x="185" y="66"/>
                  </a:lnTo>
                  <a:lnTo>
                    <a:pt x="186" y="70"/>
                  </a:lnTo>
                  <a:lnTo>
                    <a:pt x="187" y="74"/>
                  </a:lnTo>
                  <a:lnTo>
                    <a:pt x="187" y="78"/>
                  </a:lnTo>
                  <a:lnTo>
                    <a:pt x="189" y="82"/>
                  </a:lnTo>
                  <a:lnTo>
                    <a:pt x="189" y="87"/>
                  </a:lnTo>
                  <a:lnTo>
                    <a:pt x="189" y="91"/>
                  </a:lnTo>
                  <a:lnTo>
                    <a:pt x="189" y="95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7" y="103"/>
                  </a:lnTo>
                  <a:lnTo>
                    <a:pt x="187" y="105"/>
                  </a:lnTo>
                  <a:lnTo>
                    <a:pt x="187" y="107"/>
                  </a:lnTo>
                  <a:lnTo>
                    <a:pt x="187" y="108"/>
                  </a:lnTo>
                  <a:lnTo>
                    <a:pt x="186" y="112"/>
                  </a:lnTo>
                  <a:lnTo>
                    <a:pt x="186" y="113"/>
                  </a:lnTo>
                  <a:lnTo>
                    <a:pt x="185" y="116"/>
                  </a:lnTo>
                  <a:lnTo>
                    <a:pt x="184" y="121"/>
                  </a:lnTo>
                  <a:lnTo>
                    <a:pt x="181" y="124"/>
                  </a:lnTo>
                  <a:lnTo>
                    <a:pt x="180" y="124"/>
                  </a:lnTo>
                  <a:lnTo>
                    <a:pt x="179" y="129"/>
                  </a:lnTo>
                  <a:lnTo>
                    <a:pt x="179" y="130"/>
                  </a:lnTo>
                  <a:lnTo>
                    <a:pt x="176" y="133"/>
                  </a:lnTo>
                  <a:lnTo>
                    <a:pt x="176" y="134"/>
                  </a:lnTo>
                  <a:lnTo>
                    <a:pt x="173" y="137"/>
                  </a:lnTo>
                  <a:lnTo>
                    <a:pt x="173" y="138"/>
                  </a:lnTo>
                  <a:lnTo>
                    <a:pt x="170" y="141"/>
                  </a:lnTo>
                  <a:lnTo>
                    <a:pt x="170" y="142"/>
                  </a:lnTo>
                  <a:lnTo>
                    <a:pt x="168" y="145"/>
                  </a:lnTo>
                  <a:lnTo>
                    <a:pt x="166" y="147"/>
                  </a:lnTo>
                  <a:lnTo>
                    <a:pt x="163" y="149"/>
                  </a:lnTo>
                  <a:lnTo>
                    <a:pt x="163" y="150"/>
                  </a:lnTo>
                  <a:lnTo>
                    <a:pt x="161" y="154"/>
                  </a:lnTo>
                  <a:lnTo>
                    <a:pt x="160" y="154"/>
                  </a:lnTo>
                  <a:lnTo>
                    <a:pt x="156" y="157"/>
                  </a:lnTo>
                  <a:lnTo>
                    <a:pt x="155" y="157"/>
                  </a:lnTo>
                  <a:lnTo>
                    <a:pt x="152" y="161"/>
                  </a:lnTo>
                  <a:lnTo>
                    <a:pt x="151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4" y="168"/>
                  </a:lnTo>
                  <a:lnTo>
                    <a:pt x="143" y="168"/>
                  </a:lnTo>
                  <a:lnTo>
                    <a:pt x="139" y="170"/>
                  </a:lnTo>
                  <a:lnTo>
                    <a:pt x="138" y="170"/>
                  </a:lnTo>
                  <a:lnTo>
                    <a:pt x="136" y="172"/>
                  </a:lnTo>
                  <a:lnTo>
                    <a:pt x="134" y="172"/>
                  </a:lnTo>
                  <a:lnTo>
                    <a:pt x="130" y="173"/>
                  </a:lnTo>
                  <a:lnTo>
                    <a:pt x="130" y="176"/>
                  </a:lnTo>
                  <a:lnTo>
                    <a:pt x="126" y="177"/>
                  </a:lnTo>
                  <a:lnTo>
                    <a:pt x="121" y="178"/>
                  </a:lnTo>
                  <a:lnTo>
                    <a:pt x="117" y="179"/>
                  </a:lnTo>
                  <a:lnTo>
                    <a:pt x="115" y="179"/>
                  </a:lnTo>
                  <a:lnTo>
                    <a:pt x="113" y="180"/>
                  </a:lnTo>
                  <a:lnTo>
                    <a:pt x="111" y="180"/>
                  </a:lnTo>
                  <a:lnTo>
                    <a:pt x="109" y="180"/>
                  </a:lnTo>
                  <a:lnTo>
                    <a:pt x="107" y="180"/>
                  </a:lnTo>
                  <a:lnTo>
                    <a:pt x="104" y="182"/>
                  </a:lnTo>
                  <a:lnTo>
                    <a:pt x="103" y="182"/>
                  </a:lnTo>
                  <a:lnTo>
                    <a:pt x="98" y="182"/>
                  </a:lnTo>
                  <a:lnTo>
                    <a:pt x="95" y="182"/>
                  </a:lnTo>
                  <a:lnTo>
                    <a:pt x="90" y="182"/>
                  </a:lnTo>
                  <a:lnTo>
                    <a:pt x="86" y="182"/>
                  </a:lnTo>
                  <a:lnTo>
                    <a:pt x="81" y="180"/>
                  </a:lnTo>
                  <a:lnTo>
                    <a:pt x="78" y="180"/>
                  </a:lnTo>
                  <a:lnTo>
                    <a:pt x="73" y="179"/>
                  </a:lnTo>
                  <a:lnTo>
                    <a:pt x="69" y="178"/>
                  </a:lnTo>
                  <a:lnTo>
                    <a:pt x="65" y="177"/>
                  </a:lnTo>
                  <a:lnTo>
                    <a:pt x="61" y="176"/>
                  </a:lnTo>
                  <a:lnTo>
                    <a:pt x="57" y="173"/>
                  </a:lnTo>
                  <a:lnTo>
                    <a:pt x="56" y="173"/>
                  </a:lnTo>
                  <a:lnTo>
                    <a:pt x="54" y="171"/>
                  </a:lnTo>
                  <a:lnTo>
                    <a:pt x="52" y="171"/>
                  </a:lnTo>
                  <a:lnTo>
                    <a:pt x="49" y="170"/>
                  </a:lnTo>
                  <a:lnTo>
                    <a:pt x="46" y="168"/>
                  </a:lnTo>
                  <a:lnTo>
                    <a:pt x="45" y="168"/>
                  </a:lnTo>
                  <a:lnTo>
                    <a:pt x="43" y="165"/>
                  </a:lnTo>
                  <a:lnTo>
                    <a:pt x="43" y="164"/>
                  </a:lnTo>
                  <a:lnTo>
                    <a:pt x="39" y="163"/>
                  </a:lnTo>
                  <a:lnTo>
                    <a:pt x="38" y="162"/>
                  </a:lnTo>
                  <a:lnTo>
                    <a:pt x="36" y="161"/>
                  </a:lnTo>
                  <a:lnTo>
                    <a:pt x="32" y="157"/>
                  </a:lnTo>
                  <a:lnTo>
                    <a:pt x="31" y="156"/>
                  </a:lnTo>
                  <a:lnTo>
                    <a:pt x="30" y="155"/>
                  </a:lnTo>
                  <a:lnTo>
                    <a:pt x="28" y="154"/>
                  </a:lnTo>
                  <a:lnTo>
                    <a:pt x="26" y="152"/>
                  </a:lnTo>
                  <a:lnTo>
                    <a:pt x="26" y="150"/>
                  </a:lnTo>
                  <a:lnTo>
                    <a:pt x="22" y="148"/>
                  </a:lnTo>
                  <a:lnTo>
                    <a:pt x="21" y="145"/>
                  </a:lnTo>
                  <a:lnTo>
                    <a:pt x="20" y="144"/>
                  </a:lnTo>
                  <a:lnTo>
                    <a:pt x="19" y="141"/>
                  </a:lnTo>
                  <a:lnTo>
                    <a:pt x="16" y="141"/>
                  </a:lnTo>
                  <a:lnTo>
                    <a:pt x="15" y="138"/>
                  </a:lnTo>
                  <a:lnTo>
                    <a:pt x="15" y="137"/>
                  </a:lnTo>
                  <a:lnTo>
                    <a:pt x="13" y="134"/>
                  </a:lnTo>
                  <a:lnTo>
                    <a:pt x="12" y="131"/>
                  </a:lnTo>
                  <a:lnTo>
                    <a:pt x="12" y="130"/>
                  </a:lnTo>
                  <a:lnTo>
                    <a:pt x="8" y="128"/>
                  </a:lnTo>
                  <a:lnTo>
                    <a:pt x="8" y="126"/>
                  </a:lnTo>
                  <a:lnTo>
                    <a:pt x="7" y="123"/>
                  </a:lnTo>
                  <a:lnTo>
                    <a:pt x="6" y="120"/>
                  </a:lnTo>
                  <a:lnTo>
                    <a:pt x="4" y="115"/>
                  </a:lnTo>
                  <a:lnTo>
                    <a:pt x="3" y="112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8"/>
                  </a:lnTo>
                  <a:lnTo>
                    <a:pt x="4" y="65"/>
                  </a:lnTo>
                  <a:lnTo>
                    <a:pt x="6" y="60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13" y="49"/>
                  </a:lnTo>
                  <a:lnTo>
                    <a:pt x="13" y="47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6" y="32"/>
                  </a:lnTo>
                  <a:lnTo>
                    <a:pt x="26" y="31"/>
                  </a:lnTo>
                  <a:lnTo>
                    <a:pt x="28" y="28"/>
                  </a:lnTo>
                  <a:lnTo>
                    <a:pt x="3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8" name="Freeform 100"/>
            <p:cNvSpPr/>
            <p:nvPr/>
          </p:nvSpPr>
          <p:spPr>
            <a:xfrm>
              <a:off x="5961600" y="20984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1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6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6" y="187"/>
                  </a:lnTo>
                  <a:lnTo>
                    <a:pt x="84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8" y="186"/>
                  </a:lnTo>
                  <a:lnTo>
                    <a:pt x="76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9" name="Freeform 101"/>
            <p:cNvSpPr/>
            <p:nvPr/>
          </p:nvSpPr>
          <p:spPr>
            <a:xfrm>
              <a:off x="5961600" y="20984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1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6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6" y="187"/>
                  </a:lnTo>
                  <a:lnTo>
                    <a:pt x="84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8" y="186"/>
                  </a:lnTo>
                  <a:lnTo>
                    <a:pt x="76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0" name="Freeform 102"/>
            <p:cNvSpPr/>
            <p:nvPr/>
          </p:nvSpPr>
          <p:spPr>
            <a:xfrm>
              <a:off x="6363720" y="241056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0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8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7" y="11"/>
                  </a:lnTo>
                  <a:lnTo>
                    <a:pt x="141" y="14"/>
                  </a:lnTo>
                  <a:lnTo>
                    <a:pt x="144" y="15"/>
                  </a:lnTo>
                  <a:lnTo>
                    <a:pt x="145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2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9"/>
                  </a:lnTo>
                  <a:lnTo>
                    <a:pt x="162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0" y="38"/>
                  </a:lnTo>
                  <a:lnTo>
                    <a:pt x="170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7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87" y="68"/>
                  </a:lnTo>
                  <a:lnTo>
                    <a:pt x="187" y="70"/>
                  </a:lnTo>
                  <a:lnTo>
                    <a:pt x="187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7" y="116"/>
                  </a:lnTo>
                  <a:lnTo>
                    <a:pt x="187" y="120"/>
                  </a:lnTo>
                  <a:lnTo>
                    <a:pt x="186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8" y="138"/>
                  </a:lnTo>
                  <a:lnTo>
                    <a:pt x="177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69" y="150"/>
                  </a:lnTo>
                  <a:lnTo>
                    <a:pt x="169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2" y="158"/>
                  </a:lnTo>
                  <a:lnTo>
                    <a:pt x="162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3" y="166"/>
                  </a:lnTo>
                  <a:lnTo>
                    <a:pt x="152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5" y="172"/>
                  </a:lnTo>
                  <a:lnTo>
                    <a:pt x="144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3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5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1" name="Freeform 103"/>
            <p:cNvSpPr/>
            <p:nvPr/>
          </p:nvSpPr>
          <p:spPr>
            <a:xfrm>
              <a:off x="6363720" y="241056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0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8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7" y="11"/>
                  </a:lnTo>
                  <a:lnTo>
                    <a:pt x="141" y="14"/>
                  </a:lnTo>
                  <a:lnTo>
                    <a:pt x="144" y="15"/>
                  </a:lnTo>
                  <a:lnTo>
                    <a:pt x="145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2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9"/>
                  </a:lnTo>
                  <a:lnTo>
                    <a:pt x="162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0" y="38"/>
                  </a:lnTo>
                  <a:lnTo>
                    <a:pt x="170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7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87" y="68"/>
                  </a:lnTo>
                  <a:lnTo>
                    <a:pt x="187" y="70"/>
                  </a:lnTo>
                  <a:lnTo>
                    <a:pt x="187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7" y="116"/>
                  </a:lnTo>
                  <a:lnTo>
                    <a:pt x="187" y="120"/>
                  </a:lnTo>
                  <a:lnTo>
                    <a:pt x="186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8" y="138"/>
                  </a:lnTo>
                  <a:lnTo>
                    <a:pt x="177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69" y="150"/>
                  </a:lnTo>
                  <a:lnTo>
                    <a:pt x="169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2" y="158"/>
                  </a:lnTo>
                  <a:lnTo>
                    <a:pt x="162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3" y="166"/>
                  </a:lnTo>
                  <a:lnTo>
                    <a:pt x="152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5" y="172"/>
                  </a:lnTo>
                  <a:lnTo>
                    <a:pt x="144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3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2" name="Freeform 104"/>
            <p:cNvSpPr/>
            <p:nvPr/>
          </p:nvSpPr>
          <p:spPr>
            <a:xfrm>
              <a:off x="7011360" y="4120920"/>
              <a:ext cx="346320" cy="3315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3" name="Freeform 105"/>
            <p:cNvSpPr/>
            <p:nvPr/>
          </p:nvSpPr>
          <p:spPr>
            <a:xfrm>
              <a:off x="7011360" y="41209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5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4" name="Freeform 106"/>
            <p:cNvSpPr/>
            <p:nvPr/>
          </p:nvSpPr>
          <p:spPr>
            <a:xfrm>
              <a:off x="6911280" y="4553640"/>
              <a:ext cx="34632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19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5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5" name="Freeform 107"/>
            <p:cNvSpPr/>
            <p:nvPr/>
          </p:nvSpPr>
          <p:spPr>
            <a:xfrm>
              <a:off x="6911280" y="455364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19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6" name="Freeform 108"/>
            <p:cNvSpPr/>
            <p:nvPr/>
          </p:nvSpPr>
          <p:spPr>
            <a:xfrm>
              <a:off x="6736320" y="496332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7" name="Freeform 109"/>
            <p:cNvSpPr/>
            <p:nvPr/>
          </p:nvSpPr>
          <p:spPr>
            <a:xfrm>
              <a:off x="6736320" y="4963320"/>
              <a:ext cx="346320" cy="3369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8" name="Freeform 110"/>
            <p:cNvSpPr/>
            <p:nvPr/>
          </p:nvSpPr>
          <p:spPr>
            <a:xfrm>
              <a:off x="6536520" y="5370840"/>
              <a:ext cx="346320" cy="3387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9" name="Freeform 111"/>
            <p:cNvSpPr/>
            <p:nvPr/>
          </p:nvSpPr>
          <p:spPr>
            <a:xfrm>
              <a:off x="6536520" y="53708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0" name="Freeform 112"/>
            <p:cNvSpPr/>
            <p:nvPr/>
          </p:nvSpPr>
          <p:spPr>
            <a:xfrm>
              <a:off x="5838480" y="5947920"/>
              <a:ext cx="344160" cy="33372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1" name="Freeform 113"/>
            <p:cNvSpPr/>
            <p:nvPr/>
          </p:nvSpPr>
          <p:spPr>
            <a:xfrm>
              <a:off x="5838480" y="5947920"/>
              <a:ext cx="344160" cy="33372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5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2" name="Freeform 114"/>
            <p:cNvSpPr/>
            <p:nvPr/>
          </p:nvSpPr>
          <p:spPr>
            <a:xfrm>
              <a:off x="6688080" y="2799000"/>
              <a:ext cx="344160" cy="33372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8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4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3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0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8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7" y="10"/>
                  </a:lnTo>
                  <a:lnTo>
                    <a:pt x="141" y="12"/>
                  </a:lnTo>
                  <a:lnTo>
                    <a:pt x="144" y="15"/>
                  </a:lnTo>
                  <a:lnTo>
                    <a:pt x="145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2" y="29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6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6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2" y="157"/>
                  </a:lnTo>
                  <a:lnTo>
                    <a:pt x="162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3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5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6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5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3" name="Freeform 115"/>
            <p:cNvSpPr/>
            <p:nvPr/>
          </p:nvSpPr>
          <p:spPr>
            <a:xfrm>
              <a:off x="6886440" y="3229560"/>
              <a:ext cx="34596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8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3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3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7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8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3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4" name="Freeform 116"/>
            <p:cNvSpPr/>
            <p:nvPr/>
          </p:nvSpPr>
          <p:spPr>
            <a:xfrm>
              <a:off x="3064320" y="22676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6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5" name="Freeform 117"/>
            <p:cNvSpPr/>
            <p:nvPr/>
          </p:nvSpPr>
          <p:spPr>
            <a:xfrm>
              <a:off x="3064320" y="22676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6" name="Freeform 118"/>
            <p:cNvSpPr/>
            <p:nvPr/>
          </p:nvSpPr>
          <p:spPr>
            <a:xfrm>
              <a:off x="2314440" y="335340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94" h="187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28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6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7" y="120"/>
                  </a:lnTo>
                  <a:lnTo>
                    <a:pt x="185" y="122"/>
                  </a:lnTo>
                  <a:lnTo>
                    <a:pt x="185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8" y="136"/>
                  </a:lnTo>
                  <a:lnTo>
                    <a:pt x="177" y="139"/>
                  </a:lnTo>
                  <a:lnTo>
                    <a:pt x="176" y="140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0" y="147"/>
                  </a:lnTo>
                  <a:lnTo>
                    <a:pt x="170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3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6" y="169"/>
                  </a:lnTo>
                  <a:lnTo>
                    <a:pt x="145" y="170"/>
                  </a:lnTo>
                  <a:lnTo>
                    <a:pt x="141" y="172"/>
                  </a:lnTo>
                  <a:lnTo>
                    <a:pt x="141" y="174"/>
                  </a:lnTo>
                  <a:lnTo>
                    <a:pt x="136" y="175"/>
                  </a:lnTo>
                  <a:lnTo>
                    <a:pt x="136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8" y="179"/>
                  </a:lnTo>
                  <a:lnTo>
                    <a:pt x="127" y="179"/>
                  </a:lnTo>
                  <a:lnTo>
                    <a:pt x="124" y="180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4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5" y="186"/>
                  </a:lnTo>
                  <a:lnTo>
                    <a:pt x="92" y="184"/>
                  </a:lnTo>
                  <a:lnTo>
                    <a:pt x="87" y="184"/>
                  </a:lnTo>
                  <a:lnTo>
                    <a:pt x="86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79" y="183"/>
                  </a:lnTo>
                  <a:lnTo>
                    <a:pt x="77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0" y="182"/>
                  </a:lnTo>
                  <a:lnTo>
                    <a:pt x="69" y="182"/>
                  </a:lnTo>
                  <a:lnTo>
                    <a:pt x="67" y="180"/>
                  </a:lnTo>
                  <a:lnTo>
                    <a:pt x="65" y="179"/>
                  </a:lnTo>
                  <a:lnTo>
                    <a:pt x="62" y="179"/>
                  </a:lnTo>
                  <a:lnTo>
                    <a:pt x="61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3" y="175"/>
                  </a:lnTo>
                  <a:lnTo>
                    <a:pt x="50" y="172"/>
                  </a:lnTo>
                  <a:lnTo>
                    <a:pt x="46" y="170"/>
                  </a:lnTo>
                  <a:lnTo>
                    <a:pt x="45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8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29" y="158"/>
                  </a:lnTo>
                  <a:lnTo>
                    <a:pt x="28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0" y="147"/>
                  </a:lnTo>
                  <a:lnTo>
                    <a:pt x="20" y="146"/>
                  </a:lnTo>
                  <a:lnTo>
                    <a:pt x="17" y="144"/>
                  </a:lnTo>
                  <a:lnTo>
                    <a:pt x="16" y="140"/>
                  </a:lnTo>
                  <a:lnTo>
                    <a:pt x="15" y="139"/>
                  </a:lnTo>
                  <a:lnTo>
                    <a:pt x="13" y="137"/>
                  </a:lnTo>
                  <a:lnTo>
                    <a:pt x="10" y="132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4"/>
                  </a:lnTo>
                  <a:lnTo>
                    <a:pt x="7" y="122"/>
                  </a:lnTo>
                  <a:lnTo>
                    <a:pt x="4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7"/>
                  </a:lnTo>
                  <a:lnTo>
                    <a:pt x="4" y="65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5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8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7" name="Freeform 119"/>
            <p:cNvSpPr/>
            <p:nvPr/>
          </p:nvSpPr>
          <p:spPr>
            <a:xfrm>
              <a:off x="2314440" y="3353400"/>
              <a:ext cx="346320" cy="33012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28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6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7" y="120"/>
                  </a:lnTo>
                  <a:lnTo>
                    <a:pt x="185" y="122"/>
                  </a:lnTo>
                  <a:lnTo>
                    <a:pt x="185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8" y="136"/>
                  </a:lnTo>
                  <a:lnTo>
                    <a:pt x="177" y="139"/>
                  </a:lnTo>
                  <a:lnTo>
                    <a:pt x="176" y="140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0" y="147"/>
                  </a:lnTo>
                  <a:lnTo>
                    <a:pt x="170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3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6" y="169"/>
                  </a:lnTo>
                  <a:lnTo>
                    <a:pt x="145" y="170"/>
                  </a:lnTo>
                  <a:lnTo>
                    <a:pt x="141" y="172"/>
                  </a:lnTo>
                  <a:lnTo>
                    <a:pt x="141" y="174"/>
                  </a:lnTo>
                  <a:lnTo>
                    <a:pt x="136" y="175"/>
                  </a:lnTo>
                  <a:lnTo>
                    <a:pt x="136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8" y="179"/>
                  </a:lnTo>
                  <a:lnTo>
                    <a:pt x="127" y="179"/>
                  </a:lnTo>
                  <a:lnTo>
                    <a:pt x="124" y="180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4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5" y="186"/>
                  </a:lnTo>
                  <a:lnTo>
                    <a:pt x="92" y="184"/>
                  </a:lnTo>
                  <a:lnTo>
                    <a:pt x="87" y="184"/>
                  </a:lnTo>
                  <a:lnTo>
                    <a:pt x="86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79" y="183"/>
                  </a:lnTo>
                  <a:lnTo>
                    <a:pt x="77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0" y="182"/>
                  </a:lnTo>
                  <a:lnTo>
                    <a:pt x="69" y="182"/>
                  </a:lnTo>
                  <a:lnTo>
                    <a:pt x="67" y="180"/>
                  </a:lnTo>
                  <a:lnTo>
                    <a:pt x="65" y="179"/>
                  </a:lnTo>
                  <a:lnTo>
                    <a:pt x="62" y="179"/>
                  </a:lnTo>
                  <a:lnTo>
                    <a:pt x="61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3" y="175"/>
                  </a:lnTo>
                  <a:lnTo>
                    <a:pt x="50" y="172"/>
                  </a:lnTo>
                  <a:lnTo>
                    <a:pt x="46" y="170"/>
                  </a:lnTo>
                  <a:lnTo>
                    <a:pt x="45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8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29" y="158"/>
                  </a:lnTo>
                  <a:lnTo>
                    <a:pt x="28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0" y="147"/>
                  </a:lnTo>
                  <a:lnTo>
                    <a:pt x="20" y="146"/>
                  </a:lnTo>
                  <a:lnTo>
                    <a:pt x="17" y="144"/>
                  </a:lnTo>
                  <a:lnTo>
                    <a:pt x="16" y="140"/>
                  </a:lnTo>
                  <a:lnTo>
                    <a:pt x="15" y="139"/>
                  </a:lnTo>
                  <a:lnTo>
                    <a:pt x="13" y="137"/>
                  </a:lnTo>
                  <a:lnTo>
                    <a:pt x="10" y="132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4"/>
                  </a:lnTo>
                  <a:lnTo>
                    <a:pt x="7" y="122"/>
                  </a:lnTo>
                  <a:lnTo>
                    <a:pt x="4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7"/>
                  </a:lnTo>
                  <a:lnTo>
                    <a:pt x="4" y="65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5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8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6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8" name="Freeform 120"/>
            <p:cNvSpPr/>
            <p:nvPr/>
          </p:nvSpPr>
          <p:spPr>
            <a:xfrm>
              <a:off x="3662640" y="611748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7" y="142"/>
                  </a:lnTo>
                  <a:lnTo>
                    <a:pt x="176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7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10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1" y="185"/>
                  </a:lnTo>
                  <a:lnTo>
                    <a:pt x="97" y="187"/>
                  </a:lnTo>
                  <a:lnTo>
                    <a:pt x="93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6"/>
                  </a:lnTo>
                  <a:lnTo>
                    <a:pt x="27" y="155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9" name="Freeform 121"/>
            <p:cNvSpPr/>
            <p:nvPr/>
          </p:nvSpPr>
          <p:spPr>
            <a:xfrm>
              <a:off x="3662640" y="6117480"/>
              <a:ext cx="34812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7" y="142"/>
                  </a:lnTo>
                  <a:lnTo>
                    <a:pt x="176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7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10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1" y="185"/>
                  </a:lnTo>
                  <a:lnTo>
                    <a:pt x="97" y="187"/>
                  </a:lnTo>
                  <a:lnTo>
                    <a:pt x="93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6"/>
                  </a:lnTo>
                  <a:lnTo>
                    <a:pt x="27" y="155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6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0" name="Freeform 122"/>
            <p:cNvSpPr/>
            <p:nvPr/>
          </p:nvSpPr>
          <p:spPr>
            <a:xfrm>
              <a:off x="6209640" y="568332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1" name="Freeform 123"/>
            <p:cNvSpPr/>
            <p:nvPr/>
          </p:nvSpPr>
          <p:spPr>
            <a:xfrm>
              <a:off x="6209640" y="568332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2" name="Freeform 124"/>
            <p:cNvSpPr/>
            <p:nvPr/>
          </p:nvSpPr>
          <p:spPr>
            <a:xfrm>
              <a:off x="5038920" y="626220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7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6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3" name="Freeform 125"/>
            <p:cNvSpPr/>
            <p:nvPr/>
          </p:nvSpPr>
          <p:spPr>
            <a:xfrm>
              <a:off x="5038920" y="626220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7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14" name="Rectangle 127"/>
          <p:cNvSpPr/>
          <p:nvPr/>
        </p:nvSpPr>
        <p:spPr>
          <a:xfrm>
            <a:off x="694800" y="182736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5" name="Rectangle 128"/>
          <p:cNvSpPr/>
          <p:nvPr/>
        </p:nvSpPr>
        <p:spPr>
          <a:xfrm>
            <a:off x="694800" y="278748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6" name="Rectangle 129"/>
          <p:cNvSpPr/>
          <p:nvPr/>
        </p:nvSpPr>
        <p:spPr>
          <a:xfrm>
            <a:off x="593640" y="3808440"/>
            <a:ext cx="6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b8cd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7" name="Rectangle 130"/>
          <p:cNvSpPr/>
          <p:nvPr/>
        </p:nvSpPr>
        <p:spPr>
          <a:xfrm>
            <a:off x="593640" y="4951440"/>
            <a:ext cx="6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8" name="Місце для нижнього колонтитула 3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9000"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s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0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3523-74EC-4E31-97D0-0595FD56CC10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00040" y="19209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а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электронного облака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-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шар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Н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м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-2</a:t>
            </a:r>
            <a:r>
              <a:rPr b="1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электрон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Oval 4"/>
          <p:cNvSpPr/>
          <p:nvPr/>
        </p:nvSpPr>
        <p:spPr>
          <a:xfrm>
            <a:off x="3000240" y="3143160"/>
            <a:ext cx="2973600" cy="2973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9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1000">
    <p:cover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Шурута Станислав Гендрикович</dc:creator>
  <dc:description/>
  <dc:language>en-US</dc:language>
  <cp:lastModifiedBy>LEGION</cp:lastModifiedBy>
  <cp:lastPrinted>1998-12-12T05:53:56Z</cp:lastPrinted>
  <dcterms:modified xsi:type="dcterms:W3CDTF">2015-05-01T11:17:26Z</dcterms:modified>
  <cp:revision>172</cp:revision>
  <dc:subject>Электронное строение атомов элементов.</dc:subject>
  <dc:title>Органическая химия.</dc:title>
</cp:coreProperties>
</file>