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0A52-302B-4C20-A7F7-642A378237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Monotype Corsiva"/>
              </a:rPr>
              <a:t>Значение периодического закона для современной науки и техники     </a:t>
            </a:r>
            <a:br>
              <a:rPr sz="1200"/>
            </a:br>
            <a:r>
              <a:rPr b="1" lang="ru-RU" sz="1200" spc="-1" strike="noStrike">
                <a:solidFill>
                  <a:srgbClr val="00ff00"/>
                </a:solidFill>
                <a:latin typeface="Monotype Corsiva"/>
              </a:rPr>
              <a:t>(связь химии с экономикой</a:t>
            </a:r>
            <a:r>
              <a:rPr b="0" lang="ru-RU" sz="1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Monotype Corsiva"/>
              </a:rPr>
              <a:t>и</a:t>
            </a: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Monotype Corsiva"/>
              </a:rPr>
              <a:t>экологи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читель химии МОУ лицея №8 города Ставропол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лейникова Татьяна Александровн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C0BF-2B0A-45A4-B2BF-30C3563CE3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Фосфор – элемент жизни и мы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сфор обнаружен буквально во всех органах зеленых раст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рганизме животных – в мышцах, скелете, нервной тка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1FCC-D4F3-497D-9449-EF3382F109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Monotype Corsiva"/>
              </a:rPr>
              <a:t>C</a:t>
            </a:r>
            <a:r>
              <a:rPr b="1" lang="ru-RU" sz="2800" spc="-1" strike="noStrike">
                <a:solidFill>
                  <a:srgbClr val="00ff00"/>
                </a:solidFill>
                <a:latin typeface="Monotype Corsiva"/>
              </a:rPr>
              <a:t> Е Р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«Хоть многие вещества сера превращает в яд, в химии достойна всяческих наград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ина добываемой  мире серы идет на производство серной кисл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роль серной кислоты в химической промышленности сравнима с ролью хлеба  в нашем пит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EBDE-C935-4886-B90F-2380136C73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Вопросы для закреп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формулируется периодический закон Д.И.Менделее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о физическое обоснование зако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понимаете высказывание Менделеева «Посев научный взойдет для жатвы народной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заключается роль биогенных элемент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о значение ПСХЭ и ПЗ для современной науки и техни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2FEE-2E99-41D0-8087-2BB653E521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Завет детям Д.И.Менделе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лавный секрет вот какой: один человек – нуль, вместе – только люди. Поэтому, живите для других, начиная с мамы, друг с друга, брата или сестры, затем для всех других… Сами трудитесь, трудясь, вы сделаете все и для близких и для себя, а если при труде успеха не будет, будет неудача, не беда – попробуйте еще, сохраните спокойствие, то внутреннее обладание, которое делает людей с волей, ясных и нужным другим. Иного завета, лучшего дать не могу. С ними живите. С ним завещайт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DFD1-3EA3-435B-AE92-9CFCF065F2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Цель урока</a:t>
            </a:r>
            <a:r>
              <a:rPr b="0" lang="ru-RU" sz="1200" spc="-1" strike="noStrike">
                <a:solidFill>
                  <a:srgbClr val="00ff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воить один из общих законов природы – фундамент современной хим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ть научное и практическое значение зако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свойства биогенных элементов и их соедин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ить наиболее экономически выгодные способы получения этих соединений с соблюдением экологических требов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D344-EC61-4F3A-97A9-3101E03432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Оборудование для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ическая система химических элементов Д.И.Менделее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каты с высказываниями Менделее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формулировка периодического зако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ции азотных и фосфорных удобр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чки химических элементов для монтажа на доске – С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Р, О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A5A2-0D87-4EE3-AFE7-22FDC98112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Высказывание Д.И.Менделее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Периодическому закону будущее не грозит разрушением, а лишь надстройки и развитие обещает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Тут все мое богатство… Эти «Основы химии» - любимое мое дитя. В них мой образ, мой опыт педагога и мои задушевные мысли. Тут много самостоятельного в мелочах, а главное – периодичность элементов, найденная именно при обработке «Основ хими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CCD5-B356-4DB7-9409-71DBD1B10C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Открытие периодического закона Д.И.Менделеев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шественники Менделеева – Доберейнер, Мейер, Ньюленд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марта 2006 года исполнилось 137 лет со дня открытия периодического зак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701C-27B1-4C28-96D5-90A1C069CB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Физическое обоснование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ученый Мозли установил, что заряды ядер изменяются в соответствии с порядковыми номерами элементов в периодической сист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ическая система и периодический закон дают возможность сформировать представление о единстве и целостности мира,более глубоко изучить химические элементы и их св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7FEC-CA05-45FB-96E2-C17A3B1AA3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Monotype Corsiva"/>
              </a:rPr>
              <a:t>Биогенные элементы периодической системы химических элем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с периодической системе химических элементов и их свойства все важны и необходимы, но сегодня мы остановимся на элементах – первых трех периодов (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, C, N, O, P, 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их долю приходится 98% массы живого ве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7329-146A-4CAB-98AB-95CCA5DDA0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Элемент – царь живой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лерод – это элемент, который существует в природе в виде алмаза – известного всем драгоценного камня, либо в виде не менее известного граф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 С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6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р + 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6 е, 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1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формула –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– эле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т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610A-1D74-422F-89C0-E48F3E6AA9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Monotype Corsiva"/>
              </a:rPr>
              <a:t>Азот. «Он безжизненным зовется, но жизнь без него не создает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 = 7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+ 7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, 7 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формула –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– эле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т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Задание: В состав питательных смесей для комнатных растений входит 0,1%-ный раствор аммиачной селитры. Сколько селитры и воды потребуется для приготовления такого раствора массой 0,12 кг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8896-47C3-44D7-B2F1-CF2DA098757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E76E-8DAB-45BD-8EB3-BC875D40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7737-57E1-4501-AE47-6B0C48AF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0C13-1C51-4BA7-AE27-074D6EEF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0269-7ADA-4A53-BAE2-AF3754AC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24B8-5FB7-4595-A608-66C64315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3A47-C197-4B31-B8D7-BDCDD7DB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CA91-36CA-4477-AFE0-8CF06DB1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40E2-8129-4087-8807-95D876E9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1469-7A5A-423B-8FBA-26B06F48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69AA-EECA-41A0-A5DF-FC82FCDC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F53A-9CAB-4332-9DA9-4FE8F131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ED3-E5B3-4319-8926-D8F1A731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DBCC-67D9-4DF1-97B0-F80DF021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6CDB-9726-4DC7-B4CC-762C8F5F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BC85-4AEF-4DBE-B982-9A7BE141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92D9-4A86-4DC8-B728-635E629F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7164-BAD2-4C09-902D-43EAF548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F05F-DA03-4748-81C3-FED8CD3F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84B5-8AF4-42C1-A55D-21D30810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697E-AF05-4915-8EFD-9681A646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0F6B-791F-4686-A3D3-0567121A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1DBB-83DE-4B9B-A4A7-C06D876B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834E-0AB9-4360-810B-55815E85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7792-19C1-4697-B8D8-5E022A08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e7b"/>
                  </a:gs>
                  <a:gs pos="100000">
                    <a:srgbClr val="007a7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7370"/>
                  </a:gs>
                  <a:gs pos="50000">
                    <a:srgbClr val="007e7b"/>
                  </a:gs>
                  <a:gs pos="100000">
                    <a:srgbClr val="00737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F810-C5FE-4B57-BAD9-53F652FEDD1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e7b"/>
                  </a:gs>
                  <a:gs pos="100000">
                    <a:srgbClr val="007a7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7370"/>
                  </a:gs>
                  <a:gs pos="50000">
                    <a:srgbClr val="007e7b"/>
                  </a:gs>
                  <a:gs pos="100000">
                    <a:srgbClr val="00737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DF95-7382-4B1C-90A8-EC1ACD3D4B8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7840"/>
            <a:ext cx="7772400" cy="319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Monotype Corsiva"/>
              </a:rPr>
              <a:t>Значение периодического закона для современной науки и техники     </a:t>
            </a:r>
            <a:br>
              <a:rPr sz="4800"/>
            </a:br>
            <a:r>
              <a:rPr b="1" lang="ru-RU" sz="4800" spc="-1" strike="noStrike">
                <a:solidFill>
                  <a:srgbClr val="00ff00"/>
                </a:solidFill>
                <a:latin typeface="Monotype Corsiva"/>
              </a:rPr>
              <a:t>(связь химии с экономикой</a:t>
            </a:r>
            <a:r>
              <a:rPr b="0" lang="ru-RU" sz="48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ff00"/>
                </a:solidFill>
                <a:latin typeface="Monotype Corsiva"/>
              </a:rPr>
              <a:t>и</a:t>
            </a:r>
            <a:r>
              <a:rPr b="0" lang="ru-RU" sz="4800" spc="-1" strike="noStrike">
                <a:solidFill>
                  <a:srgbClr val="00ff00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00ff00"/>
                </a:solidFill>
                <a:latin typeface="Monotype Corsiva"/>
              </a:rPr>
              <a:t>экологией)</a:t>
            </a: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2340000" y="4805280"/>
            <a:ext cx="6400800" cy="16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ь химии МОУ лицея №8 города Ставропо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ейникова Татьяна Александров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Picture 11" descr="connected_networks_big"/>
          <p:cNvPicPr/>
          <p:nvPr/>
        </p:nvPicPr>
        <p:blipFill>
          <a:blip r:embed="rId1"/>
          <a:stretch/>
        </p:blipFill>
        <p:spPr>
          <a:xfrm>
            <a:off x="0" y="2617920"/>
            <a:ext cx="2643120" cy="2093760"/>
          </a:xfrm>
          <a:prstGeom prst="rect">
            <a:avLst/>
          </a:prstGeom>
          <a:ln w="0">
            <a:noFill/>
          </a:ln>
        </p:spPr>
      </p:pic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3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Фосфор – элемент жизни и мысли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5624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сфор обнаружен буквально во всех органах зеленых раст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рганизме животных – в мышцах, скелете, нервной тка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Picture 12" descr="images(6)"/>
          <p:cNvPicPr/>
          <p:nvPr/>
        </p:nvPicPr>
        <p:blipFill>
          <a:blip r:embed="rId1"/>
          <a:stretch/>
        </p:blipFill>
        <p:spPr>
          <a:xfrm>
            <a:off x="973080" y="2492280"/>
            <a:ext cx="3162240" cy="2914920"/>
          </a:xfrm>
          <a:prstGeom prst="rect">
            <a:avLst/>
          </a:prstGeom>
          <a:ln w="0">
            <a:noFill/>
          </a:ln>
        </p:spPr>
      </p:pic>
      <p:sp>
        <p:nvSpPr>
          <p:cNvPr id="4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Monotype Corsiva"/>
              </a:rPr>
              <a:t>C</a:t>
            </a:r>
            <a:r>
              <a:rPr b="1" lang="ru-RU" sz="6000" spc="-1" strike="noStrike">
                <a:solidFill>
                  <a:srgbClr val="00ff00"/>
                </a:solidFill>
                <a:latin typeface="Monotype Corsiva"/>
              </a:rPr>
              <a:t> Е Р А</a:t>
            </a:r>
            <a:endParaRPr b="0" lang="en-US" sz="6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«Хоть многие вещества сера превращает в яд, в химии достойна всяческих наград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овина добываемой  мире серы идет на производство серной кисло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роль серной кислоты в химической промышленности сравнима с ролью хлеба  в нашем пит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Вопросы для закрепления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формулируется периодический закон Д.И.Менделеев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ово физическое обоснование закон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ы понимаете высказывание Менделеева «Посев научный взойдет для жатвы народной»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чем заключается роль биогенных элементов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ово значение ПСХЭ и ПЗ для современной науки и техник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71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Завет детям Д.И.Менделеева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Главный секрет вот какой: один человек – нуль, вместе – только люди. Поэтому, живите для других, начиная с мамы, друг с друга, брата или сестры, затем для всех других… Сами трудитесь, трудясь, вы сделаете все и для близких и для себя, а если при труде успеха не будет, будет неудача, не беда – попробуйте еще, сохраните спокойствие, то внутреннее обладание, которое делает людей с волей, ясных и нужным другим. Иного завета, лучшего дать не могу. С ними живите. С ним завещайт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777240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Monotype Corsiva"/>
              </a:rPr>
              <a:t>Цель урока</a:t>
            </a:r>
            <a:r>
              <a:rPr b="0" lang="ru-RU" sz="3200" spc="-1" strike="noStrike">
                <a:solidFill>
                  <a:srgbClr val="00ff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воить один из общих законов природы – фундамент современной хим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характеризовать научное и практическое значение закон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ить свойства биогенных элементов и их соедин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ложить наиболее экономически выгодные способы получения этих соединений с соблюдением экологических требован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Оборудование для урока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500120" y="1125360"/>
            <a:ext cx="7491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ическая система химических элементов Д.И.Менделее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каты с высказываниями Менделее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ременная формулировка периодического закон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лекции азотных и фосфорных удобре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блички химических элементов для монтажа на доске – С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Р, О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узы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3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Высказывание Д.И.Менделеева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 Периодическому закону будущее не грозит разрушением, а лишь надстройки и развитие обещает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 Тут все мое богатство… Эти «Основы химии» - любимое мое дитя. В них мой образ, мой опыт педагога и мои задушевные мысли. Тут много самостоятельного в мелочах, а главное – периодичность элементов, найденная именно при обработке «Основ хими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Открытие периодического закона Д.И.Менделеевым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5624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шественники Менделеева – Доберейнер, Мейер, Ньюленд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марта 2006 года исполнилось 137 лет со дня открытия периодического зако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Picture 11" descr="p38"/>
          <p:cNvPicPr/>
          <p:nvPr/>
        </p:nvPicPr>
        <p:blipFill>
          <a:blip r:embed="rId1"/>
          <a:stretch/>
        </p:blipFill>
        <p:spPr>
          <a:xfrm>
            <a:off x="1258920" y="1844640"/>
            <a:ext cx="2879640" cy="4608720"/>
          </a:xfrm>
          <a:prstGeom prst="rect">
            <a:avLst/>
          </a:prstGeom>
          <a:ln w="0">
            <a:noFill/>
          </a:ln>
        </p:spPr>
      </p:pic>
      <p:sp>
        <p:nvSpPr>
          <p:cNvPr id="4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Физическое обоснование закона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глийский ученый Мозли установил, что заряды ядер изменяются в соответствии с порядковыми номерами элементов в периодической систем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ическая система и периодический закон дают возможность сформировать представление о единстве и целостности мира,более глубоко изучить химические элементы и их свой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36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Monotype Corsiva"/>
              </a:rPr>
              <a:t>Биогенные элементы периодической системы химических элементов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ементы с периодической системе химических элементов и их свойства все важны и необходимы, но сегодня мы остановимся на элементах – первых трех периодов (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, C, N, O, P, 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их долю приходится 98% массы живого веще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Элемент – царь живой природы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1320" y="1599840"/>
            <a:ext cx="41828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глерод – это элемент, который существует в природе в виде алмаза – известного всем драгоценного камня, либо в виде не менее известного графи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57680" y="1599840"/>
            <a:ext cx="4184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том С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6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р + 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6 е, 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= 12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нная формула – 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 – элеме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метал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6" name="Diagram 1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417" name="Picture 23" descr="Алмаз"/>
          <p:cNvPicPr/>
          <p:nvPr/>
        </p:nvPicPr>
        <p:blipFill>
          <a:blip r:embed="rId1"/>
          <a:stretch/>
        </p:blipFill>
        <p:spPr>
          <a:xfrm>
            <a:off x="5867280" y="4653000"/>
            <a:ext cx="2960640" cy="19731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4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Monotype Corsiva"/>
              </a:rPr>
              <a:t>Азот. «Он безжизненным зовется, но жизнь без него не создается».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том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 = 7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 p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+ 7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, 7 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нная формула – 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 – элеме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метал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ание: В состав питательных смесей для комнатных растений входит 0,1%-ный раствор аммиачной селитры. Сколько селитры и воды потребуется для приготовления такого раствора массой 0,12 кг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14:16:25Z</dcterms:created>
  <dc:creator>Юзер</dc:creator>
  <dc:description/>
  <dc:language>en-US</dc:language>
  <cp:lastModifiedBy>LEGION</cp:lastModifiedBy>
  <dcterms:modified xsi:type="dcterms:W3CDTF">2015-05-01T11:17:52Z</dcterms:modified>
  <cp:revision>25</cp:revision>
  <dc:subject/>
  <dc:title>Вода – вещество удивительное</dc:title>
</cp:coreProperties>
</file>