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F0F1-2A84-4BAE-AD4E-FC34EF2897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Значение периодического закона для современной науки и техники     </a:t>
            </a:r>
            <a:br>
              <a:rPr sz="1200"/>
            </a:b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(связь химии с экономикой</a:t>
            </a:r>
            <a:r>
              <a:rPr b="0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и</a:t>
            </a: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экологи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читель химии МОУ лицея №8 города Ставропол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лейникова Татьяна Александровн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2341-FF4F-4F7A-A08A-36FDBBB647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Фосфор – элемент жизни и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 обнаружен буквально во всех органах зеленых раст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рганизме животных – в мышцах, скелете, нервной тка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DCE1-0FC5-4080-87D7-3E16B5263B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Monotype Corsiva"/>
              </a:rPr>
              <a:t>C</a:t>
            </a:r>
            <a:r>
              <a:rPr b="1" lang="ru-RU" sz="2800" spc="-1" strike="noStrike">
                <a:solidFill>
                  <a:srgbClr val="00ff00"/>
                </a:solidFill>
                <a:latin typeface="Monotype Corsiva"/>
              </a:rPr>
              <a:t> Е Р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«Хоть многие вещества сера превращает в яд, в химии достойна всяческих наград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а добываемой  мире серы идет на производство серной кисл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роль серной кислоты в химической промышленности сравнима с ролью хлеба  в нашем пит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6A73-759D-46F1-B3FF-57DC0B43FE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формулируется периодический закон Д.И.Менделее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физическое обоснование зак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понимаете высказывание Менделеева «Посев научный взойдет для жатвы народной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заключается роль биогенных элемент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значение ПСХЭ и ПЗ для современной науки и техни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C503-B119-4F6B-8AAB-F65F6E190C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Завет детям Д.И.Менделе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лавный секрет вот какой: один человек – нуль, вместе – только люди. Поэтому, живите для других, начиная с мамы, друг с друга, брата или сестры, затем для всех других… Сами трудитесь, трудясь, вы сделаете все и для близких и для себя, а если при труде успеха не будет, будет неудача, не беда – попробуйте еще, сохраните спокойствие, то внутреннее обладание, которое делает людей с волей, ясных и нужным другим. Иного завета, лучшего дать не могу. С ними живите. С ним завещайт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3F58-48DA-4D6E-953D-0518B675B8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Цель урока</a:t>
            </a:r>
            <a:r>
              <a:rPr b="0" lang="ru-RU" sz="12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воить один из общих законов природы – фундамент современной хим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ть научное и практическое значение зако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свойства биогенных элементов и их соедин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ить наиболее экономически выгодные способы получения этих соединений с соблюдением экологических требов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57C9-EC0B-4440-8B42-1F111CB90C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Оборудование для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химических элементов Д.И.Менделее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аты с высказываниями Менделее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ции азотных и фосфорных удобр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чки химических элементов для монтажа на доске – С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Р, О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103A-998A-4638-B8FF-E985EB2FA9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Высказывание Д.И.Менделее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Периодическому закону будущее не грозит разрушением, а лишь надстройки и развитие обещает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Тут все мое богатство… Эти «Основы химии» - любимое мое дитя. В них мой образ, мой опыт педагога и мои задушевные мысли. Тут много самостоятельного в мелочах, а главное – периодичность элементов, найденная именно при обработке «Основ хим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9F53-3DBB-4726-AED6-6DFFB1706F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Открытие периодического закона Д.И.Менделее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шественники Менделеева – Доберейнер, Мейер, Ньюленд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марта 2006 года исполнилось 137 лет со дня открытия периодического зак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0F4A-2606-4704-9F49-5F7F34C721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Физическое обоснование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ученый Мозли установил, что заряды ядер изменяются в соответствии с порядковыми номерами элементов в периодической сис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и периодический закон дают возможность сформировать представление о единстве и целостности мира,более глубоко изучить химические элементы и их св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91AD-3678-4C96-89AC-E9D3CC6C0A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Monotype Corsiva"/>
              </a:rPr>
              <a:t>Биогенные элементы периодической системы химических эле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с периодической системе химических элементов и их свойства все важны и необходимы, но сегодня мы остановимся на элементах – первых трех периодов (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, C, N, O, P, 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их долю приходится 98% массы живого ве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1C0E-3791-43F5-B7EB-0DFA519CD4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Элемент – царь живой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лерод – это элемент, который существует в природе в виде алмаза – известного всем драгоценного камня, либо в виде не менее известного граф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 С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6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р + 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6 е,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1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формула –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0948-7D50-43D8-94CF-D28C8812E6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Monotype Corsiva"/>
              </a:rPr>
              <a:t>Азот. «Он безжизненным зовется, но жизнь без него не создае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= 7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+ 7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, 7 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формула –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Задание: В состав питательных смесей для комнатных растений входит 0,1%-ный раствор аммиачной селитры. Сколько селитры и воды потребуется для приготовления такого раствора массой 0,12 кг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B1D2-F963-4C2D-BC02-08EB28AC9B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9A30-84C7-478B-9E00-37CD87A7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6F6-F3AF-4FE2-BBA7-69A26923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F921-8306-40E8-8CB6-9C1AA777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A916-1041-402E-BBE2-DB85A09A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3EA1-1226-4D33-9DEA-ABC1D6DB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8D34-E1EB-4F67-8F4E-46D13FB2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3512-83BF-4FB1-AF04-F59735A8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D7A2-766A-4DB6-909E-B21FE2B4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924A-DD67-4DE5-AE64-D15E3604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A282-B160-4D72-8120-6A2011B7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8650-1963-4C50-B9D3-E309F7BA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3147-F50B-4083-A37B-A76ABBD8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F32D-1448-47DD-8C00-ABB76AF8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CD7D-D1EA-4032-88F5-F60620E9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E967-EAB7-464E-BC20-39C3D0F5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42A5-0C31-4CB9-9478-0222D71E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82B0-339A-47E6-8091-DE2754A2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708-7B74-43D1-9A32-00494665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943-7B83-41EF-AB27-D19CEBDB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5D1F-938B-4D00-A823-13A94336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D7E-78A2-4899-A5E0-52967120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9D2-A66C-41D6-B622-EA4EF96D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4E8-B3FC-4E52-ADF5-404496FA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1A1-42BD-4290-B13D-B8D0F298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FC30-74CA-4852-8861-2946F5DB3C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709A-7BB1-4DB4-8170-4AF6765895C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7840"/>
            <a:ext cx="7772400" cy="319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Значение периодического закона для современной науки и техники     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(связь химии с экономикой</a:t>
            </a: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и</a:t>
            </a:r>
            <a:r>
              <a:rPr b="0" lang="ru-RU" sz="4800" spc="-1" strike="noStrike">
                <a:solidFill>
                  <a:srgbClr val="00ff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экологией)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340000" y="4805280"/>
            <a:ext cx="640080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химии МОУ лицея №8 города Ставропо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йникова Татьяна Александров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11" descr="connected_networks_big"/>
          <p:cNvPicPr/>
          <p:nvPr/>
        </p:nvPicPr>
        <p:blipFill>
          <a:blip r:embed="rId1"/>
          <a:stretch/>
        </p:blipFill>
        <p:spPr>
          <a:xfrm>
            <a:off x="0" y="2617920"/>
            <a:ext cx="2643120" cy="209376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3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Фосфор – элемент жизни и мысли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сфор обнаружен буквально во всех органах зеленых раст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рганизме животных – в мышцах, скелете, нервной тка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12" descr="images(6)"/>
          <p:cNvPicPr/>
          <p:nvPr/>
        </p:nvPicPr>
        <p:blipFill>
          <a:blip r:embed="rId1"/>
          <a:stretch/>
        </p:blipFill>
        <p:spPr>
          <a:xfrm>
            <a:off x="973080" y="2492280"/>
            <a:ext cx="3162240" cy="291492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Monotype Corsiva"/>
              </a:rPr>
              <a:t>C</a:t>
            </a:r>
            <a:r>
              <a:rPr b="1" lang="ru-RU" sz="6000" spc="-1" strike="noStrike">
                <a:solidFill>
                  <a:srgbClr val="00ff00"/>
                </a:solidFill>
                <a:latin typeface="Monotype Corsiva"/>
              </a:rPr>
              <a:t> Е Р А</a:t>
            </a:r>
            <a:endParaRPr b="0" lang="en-US" sz="6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«Хоть многие вещества сера превращает в яд, в химии достойна всяческих наград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овина добываемой  мире серы идет на производство серной кисл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роль серной кислоты в химической промышленности сравнима с ролью хлеба  в нашем пит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Вопросы для закрепления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формулируется периодический закон Д.И.Менделеев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во физическое обоснование закон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ы понимаете высказывание Менделеева «Посев научный взойдет для жатвы народной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чем заключается роль биогенных элементов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во значение ПСХЭ и ПЗ для современной науки и техник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71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Завет детям Д.И.Менделеева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Главный секрет вот какой: один человек – нуль, вместе – только люди. Поэтому, живите для других, начиная с мамы, друг с друга, брата или сестры, затем для всех других… Сами трудитесь, трудясь, вы сделаете все и для близких и для себя, а если при труде успеха не будет, будет неудача, не беда – попробуйте еще, сохраните спокойствие, то внутреннее обладание, которое делает людей с волей, ясных и нужным другим. Иного завета, лучшего дать не могу. С ними живите. С ним завещайт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7724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Monotype Corsiva"/>
              </a:rPr>
              <a:t>Цель урока</a:t>
            </a:r>
            <a:r>
              <a:rPr b="0" lang="ru-RU" sz="3200" spc="-1" strike="noStrike">
                <a:solidFill>
                  <a:srgbClr val="00ff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воить один из общих законов природы – фундамент современной хим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характеризовать научное и практическое значение закон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свойства биогенных элементов и их соедин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ложить наиболее экономически выгодные способы получения этих соединений с соблюдением экологических требова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Оборудование для урока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00120" y="1125360"/>
            <a:ext cx="7491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ическая система химических элементов Д.И.Менделее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каты с высказываниями Менделее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ая формулировка периодического зако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лекции азотных и фосфорных удобр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блички химических элементов для монтажа на доске – С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Р, О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ы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Высказывание Д.И.Менделеева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Периодическому закону будущее не грозит разрушением, а лишь надстройки и развитие обещает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Тут все мое богатство… Эти «Основы химии» - любимое мое дитя. В них мой образ, мой опыт педагога и мои задушевные мысли. Тут много самостоятельного в мелочах, а главное – периодичность элементов, найденная именно при обработке «Основ хими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Открытие периодического закона Д.И.Менделеевым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шественники Менделеева – Доберейнер, Мейер, Ньюленд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марта 2006 года исполнилось 137 лет со дня открытия периодического зако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11" descr="p38"/>
          <p:cNvPicPr/>
          <p:nvPr/>
        </p:nvPicPr>
        <p:blipFill>
          <a:blip r:embed="rId1"/>
          <a:stretch/>
        </p:blipFill>
        <p:spPr>
          <a:xfrm>
            <a:off x="1258920" y="1844640"/>
            <a:ext cx="2879640" cy="460872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Физическое обоснование закона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глийский ученый Мозли установил, что заряды ядер изменяются в соответствии с порядковыми номерами элементов в периодической систе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ическая система и периодический закон дают возможность сформировать представление о единстве и целостности мира,более глубоко изучить химические элементы и их свой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36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Monotype Corsiva"/>
              </a:rPr>
              <a:t>Биогенные элементы периодической системы химических элементов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ементы с периодической системе химических элементов и их свойства все важны и необходимы, но сегодня мы остановимся на элементах – первых трех периодов (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, C, N, O, P, 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их долю приходится 98% массы живого веще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Элемент – царь живой природы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1320" y="1599840"/>
            <a:ext cx="41828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лерод – это элемент, который существует в природе в виде алмаза – известного всем драгоценного камня, либо в виде не менее известного графи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57680" y="1599840"/>
            <a:ext cx="4184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ом С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6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р + 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6 е, 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= 12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нная формула –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 – эле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метал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6" name="Diagram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417" name="Picture 23" descr="Алмаз"/>
          <p:cNvPicPr/>
          <p:nvPr/>
        </p:nvPicPr>
        <p:blipFill>
          <a:blip r:embed="rId1"/>
          <a:stretch/>
        </p:blipFill>
        <p:spPr>
          <a:xfrm>
            <a:off x="5867280" y="4653000"/>
            <a:ext cx="2960640" cy="19731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Monotype Corsiva"/>
              </a:rPr>
              <a:t>Азот. «Он безжизненным зовется, но жизнь без него не создается».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о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= 7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+ 7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, 7 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нная формула –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 – эле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метал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ние: В состав питательных смесей для комнатных растений входит 0,1%-ный раствор аммиачной селитры. Сколько селитры и воды потребуется для приготовления такого раствора массой 0,12 кг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4:16:25Z</dcterms:created>
  <dc:creator>Юзер</dc:creator>
  <dc:description/>
  <dc:language>en-US</dc:language>
  <cp:lastModifiedBy>LEGION</cp:lastModifiedBy>
  <dcterms:modified xsi:type="dcterms:W3CDTF">2015-05-01T11:17:52Z</dcterms:modified>
  <cp:revision>25</cp:revision>
  <dc:subject/>
  <dc:title>Вода – вещество удивительное</dc:title>
</cp:coreProperties>
</file>