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9BF4-3423-4C74-A246-DE08D19681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Значение периодического закона для современной науки и техники     </a:t>
            </a:r>
            <a:br>
              <a:rPr sz="1200"/>
            </a:b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(связь химии с экономикой</a:t>
            </a:r>
            <a:r>
              <a:rPr b="0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и</a:t>
            </a: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экологи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читель химии МОУ лицея №8 города Ставропол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лейникова Татьяна Александровн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91B0-F810-4C64-A0A0-E31818FC67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Фосфор – элемент жизни и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 обнаружен буквально во всех органах зеленых раст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рганизме животных – в мышцах, скелете, нервной тка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E93F-C920-47CA-A439-E4A26C85D3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Monotype Corsiva"/>
              </a:rPr>
              <a:t>C</a:t>
            </a:r>
            <a:r>
              <a:rPr b="1" lang="ru-RU" sz="2800" spc="-1" strike="noStrike">
                <a:solidFill>
                  <a:srgbClr val="00ff00"/>
                </a:solidFill>
                <a:latin typeface="Monotype Corsiva"/>
              </a:rPr>
              <a:t> Е Р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«Хоть многие вещества сера превращает в яд, в химии достойна всяческих наград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а добываемой  мире серы идет на производство серной кисл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роль серной кислоты в химической промышленности сравнима с ролью хлеба  в нашем пит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5A76-0C83-407E-8A77-9A4D3F5443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формулируется периодический закон Д.И.Менделее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физическое обоснование зак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понимаете высказывание Менделеева «Посев научный взойдет для жатвы народной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заключается роль биогенных элемент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значение ПСХЭ и ПЗ для современной науки и техни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8C95-940D-4997-BFC3-AB45D49AEA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Завет детям Д.И.Менделе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лавный секрет вот какой: один человек – нуль, вместе – только люди. Поэтому, живите для других, начиная с мамы, друг с друга, брата или сестры, затем для всех других… Сами трудитесь, трудясь, вы сделаете все и для близких и для себя, а если при труде успеха не будет, будет неудача, не беда – попробуйте еще, сохраните спокойствие, то внутреннее обладание, которое делает людей с волей, ясных и нужным другим. Иного завета, лучшего дать не могу. С ними живите. С ним завещайт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95F8-16F9-4D65-A4E1-C5DDB8FC2E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Цель урока</a:t>
            </a:r>
            <a:r>
              <a:rPr b="0" lang="ru-RU" sz="12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воить один из общих законов природы – фундамент современной хим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ть научное и практическое значение зако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свойства биогенных элементов и их соедин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ить наиболее экономически выгодные способы получения этих соединений с соблюдением экологических требов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920B-50A6-46A9-8CCF-B9EEA18B72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Оборудование для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химических элементов Д.И.Менделее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аты с высказываниями Менделее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ции азотных и фосфорных удобр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чки химических элементов для монтажа на доске – С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Р, О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175A-CE7D-4233-98D7-28B5D21E07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Высказывание Д.И.Менделее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Периодическому закону будущее не грозит разрушением, а лишь надстройки и развитие обещает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Тут все мое богатство… Эти «Основы химии» - любимое мое дитя. В них мой образ, мой опыт педагога и мои задушевные мысли. Тут много самостоятельного в мелочах, а главное – периодичность элементов, найденная именно при обработке «Основ хим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DD61-BE50-4F6E-9DB8-AC8133397B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Открытие периодического закона Д.И.Менделее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шественники Менделеева – Доберейнер, Мейер, Ньюленд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марта 2006 года исполнилось 137 лет со дня открытия периодического зак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CA7B-C14B-459C-B161-955101EAC4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Физическое обоснование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ученый Мозли установил, что заряды ядер изменяются в соответствии с порядковыми номерами элементов в периодической сис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и периодический закон дают возможность сформировать представление о единстве и целостности мира,более глубоко изучить химические элементы и их св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DD06-6B68-4442-B624-F36CF2130D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Monotype Corsiva"/>
              </a:rPr>
              <a:t>Биогенные элементы периодической системы химических эле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с периодической системе химических элементов и их свойства все важны и необходимы, но сегодня мы остановимся на элементах – первых трех периодов (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, C, N, O, P, 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их долю приходится 98% массы живого ве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F7A7-81BD-4C55-82EA-44119D701C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Элемент – царь живой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лерод – это элемент, который существует в природе в виде алмаза – известного всем драгоценного камня, либо в виде не менее известного граф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 С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6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р + 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6 е,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1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формула –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1C7D-DB87-4F30-95A4-46F9459255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Monotype Corsiva"/>
              </a:rPr>
              <a:t>Азот. «Он безжизненным зовется, но жизнь без него не создае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= 7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+ 7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, 7 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формула –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Задание: В состав питательных смесей для комнатных растений входит 0,1%-ный раствор аммиачной селитры. Сколько селитры и воды потребуется для приготовления такого раствора массой 0,12 кг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4971-FBC6-45CC-906B-6E0B132B05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06D-8B8A-4341-BFDA-D339B0BB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5F6-6827-4DDA-8541-E3983469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DE9-93AB-4A02-9F0C-3BC8F6E6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766B-5914-4323-9C2E-C1CF511B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5815-D33F-488F-9777-4A9049A0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22F2-2960-4389-87DF-6BBA3BB4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105F-2075-426B-913E-3E04EA1C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982B-05B0-42AF-9DD9-25A716FF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91C8-C934-4977-9B03-CFD1D5D3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E72A-3471-4441-8AFA-52C66D06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2551-56C3-407F-9E5A-EA3F0BC3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966-F180-4046-8319-71A41549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22B8-9E8F-4DB9-B749-EB7A19A2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28C7-F5C6-45F1-A7F0-4DED3049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1425-F23D-4F1B-AA22-BEEB6689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0C26-A187-4955-BC81-E2755F6D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114F-030C-4F3D-BC83-47B7DB46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EE8F-9036-4355-8D3A-8EAA4340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5C1A-18F1-4686-A4EC-D691C16F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CE2-B1B9-4386-8143-01A1166C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75E-8AA5-4E14-AE32-FF061235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214D-CDBE-44BA-94EB-589C657D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39A-3894-42B3-8CCA-6E241116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694-69B2-4463-A768-EE0F5B89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5F5C-EE7A-4194-822A-F60818D6EF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D7BE-608E-43DA-AA64-5D7FB809ABF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7840"/>
            <a:ext cx="7772400" cy="319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Значение периодического закона для современной науки и техники     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(связь химии с экономикой</a:t>
            </a: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и</a:t>
            </a:r>
            <a:r>
              <a:rPr b="0" lang="ru-RU" sz="4800" spc="-1" strike="noStrike">
                <a:solidFill>
                  <a:srgbClr val="00ff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экологией)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340000" y="4805280"/>
            <a:ext cx="640080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химии МОУ лицея №8 города Ставропо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йникова Татьяна Александров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11" descr="connected_networks_big"/>
          <p:cNvPicPr/>
          <p:nvPr/>
        </p:nvPicPr>
        <p:blipFill>
          <a:blip r:embed="rId1"/>
          <a:stretch/>
        </p:blipFill>
        <p:spPr>
          <a:xfrm>
            <a:off x="0" y="2617920"/>
            <a:ext cx="2643120" cy="209376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3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Фосфор – элемент жизни и мысли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сфор обнаружен буквально во всех органах зеленых раст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рганизме животных – в мышцах, скелете, нервной тка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12" descr="images(6)"/>
          <p:cNvPicPr/>
          <p:nvPr/>
        </p:nvPicPr>
        <p:blipFill>
          <a:blip r:embed="rId1"/>
          <a:stretch/>
        </p:blipFill>
        <p:spPr>
          <a:xfrm>
            <a:off x="973080" y="2492280"/>
            <a:ext cx="3162240" cy="291492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Monotype Corsiva"/>
              </a:rPr>
              <a:t>C</a:t>
            </a:r>
            <a:r>
              <a:rPr b="1" lang="ru-RU" sz="6000" spc="-1" strike="noStrike">
                <a:solidFill>
                  <a:srgbClr val="00ff00"/>
                </a:solidFill>
                <a:latin typeface="Monotype Corsiva"/>
              </a:rPr>
              <a:t> Е Р А</a:t>
            </a:r>
            <a:endParaRPr b="0" lang="en-US" sz="6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«Хоть многие вещества сера превращает в яд, в химии достойна всяческих наград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овина добываемой  мире серы идет на производство серной кисл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роль серной кислоты в химической промышленности сравнима с ролью хлеба  в нашем пит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Вопросы для закрепления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формулируется периодический закон Д.И.Менделеев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во физическое обоснование закон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ы понимаете высказывание Менделеева «Посев научный взойдет для жатвы народной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чем заключается роль биогенных элементов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во значение ПСХЭ и ПЗ для современной науки и техник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71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Завет детям Д.И.Менделеева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Главный секрет вот какой: один человек – нуль, вместе – только люди. Поэтому, живите для других, начиная с мамы, друг с друга, брата или сестры, затем для всех других… Сами трудитесь, трудясь, вы сделаете все и для близких и для себя, а если при труде успеха не будет, будет неудача, не беда – попробуйте еще, сохраните спокойствие, то внутреннее обладание, которое делает людей с волей, ясных и нужным другим. Иного завета, лучшего дать не могу. С ними живите. С ним завещайт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7724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Monotype Corsiva"/>
              </a:rPr>
              <a:t>Цель урока</a:t>
            </a:r>
            <a:r>
              <a:rPr b="0" lang="ru-RU" sz="3200" spc="-1" strike="noStrike">
                <a:solidFill>
                  <a:srgbClr val="00ff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воить один из общих законов природы – фундамент современной хим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характеризовать научное и практическое значение закон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свойства биогенных элементов и их соедин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ложить наиболее экономически выгодные способы получения этих соединений с соблюдением экологических требова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Оборудование для урока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00120" y="1125360"/>
            <a:ext cx="7491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ическая система химических элементов Д.И.Менделее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каты с высказываниями Менделее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ая формулировка периодического зако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лекции азотных и фосфорных удобр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блички химических элементов для монтажа на доске – С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Р, О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ы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Высказывание Д.И.Менделеева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Периодическому закону будущее не грозит разрушением, а лишь надстройки и развитие обещает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Тут все мое богатство… Эти «Основы химии» - любимое мое дитя. В них мой образ, мой опыт педагога и мои задушевные мысли. Тут много самостоятельного в мелочах, а главное – периодичность элементов, найденная именно при обработке «Основ хими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Открытие периодического закона Д.И.Менделеевым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шественники Менделеева – Доберейнер, Мейер, Ньюленд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марта 2006 года исполнилось 137 лет со дня открытия периодического зако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11" descr="p38"/>
          <p:cNvPicPr/>
          <p:nvPr/>
        </p:nvPicPr>
        <p:blipFill>
          <a:blip r:embed="rId1"/>
          <a:stretch/>
        </p:blipFill>
        <p:spPr>
          <a:xfrm>
            <a:off x="1258920" y="1844640"/>
            <a:ext cx="2879640" cy="460872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Физическое обоснование закона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глийский ученый Мозли установил, что заряды ядер изменяются в соответствии с порядковыми номерами элементов в периодической систе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ическая система и периодический закон дают возможность сформировать представление о единстве и целостности мира,более глубоко изучить химические элементы и их свой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36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Monotype Corsiva"/>
              </a:rPr>
              <a:t>Биогенные элементы периодической системы химических элементов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ементы с периодической системе химических элементов и их свойства все важны и необходимы, но сегодня мы остановимся на элементах – первых трех периодов (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, C, N, O, P, 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их долю приходится 98% массы живого веще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Элемент – царь живой природы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1320" y="1599840"/>
            <a:ext cx="41828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лерод – это элемент, который существует в природе в виде алмаза – известного всем драгоценного камня, либо в виде не менее известного графи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57680" y="1599840"/>
            <a:ext cx="4184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ом С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6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р + 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6 е, 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= 12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нная формула –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 – эле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метал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6" name="Diagram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417" name="Picture 23" descr="Алмаз"/>
          <p:cNvPicPr/>
          <p:nvPr/>
        </p:nvPicPr>
        <p:blipFill>
          <a:blip r:embed="rId1"/>
          <a:stretch/>
        </p:blipFill>
        <p:spPr>
          <a:xfrm>
            <a:off x="5867280" y="4653000"/>
            <a:ext cx="2960640" cy="19731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Monotype Corsiva"/>
              </a:rPr>
              <a:t>Азот. «Он безжизненным зовется, но жизнь без него не создается».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о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= 7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+ 7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, 7 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нная формула –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 – эле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метал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ние: В состав питательных смесей для комнатных растений входит 0,1%-ный раствор аммиачной селитры. Сколько селитры и воды потребуется для приготовления такого раствора массой 0,12 кг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4:16:25Z</dcterms:created>
  <dc:creator>Юзер</dc:creator>
  <dc:description/>
  <dc:language>en-US</dc:language>
  <cp:lastModifiedBy>LEGION</cp:lastModifiedBy>
  <dcterms:modified xsi:type="dcterms:W3CDTF">2015-05-01T11:17:52Z</dcterms:modified>
  <cp:revision>25</cp:revision>
  <dc:subject/>
  <dc:title>Вода – вещество удивительное</dc:title>
</cp:coreProperties>
</file>