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98CB-DBFF-4ED1-83D0-9DE385368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Значение периодического закона для современной науки и техники     </a:t>
            </a:r>
            <a:br>
              <a:rPr sz="1200"/>
            </a:b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(связь химии с экономикой</a:t>
            </a:r>
            <a:r>
              <a:rPr b="0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и</a:t>
            </a: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Monotype Corsiva"/>
              </a:rPr>
              <a:t>экологи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читель химии МОУ лицея №8 города Ставропол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лейникова Татьяна Александровн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C92A-BCC6-4921-8E97-E5817A659B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Фосфор – элемент жизни и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фор обнаружен буквально во всех органах зеленых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рганизме животных – в мышцах, скелете, нервной тка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78BF-67DA-4C05-9159-03B50ECE11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Monotype Corsiva"/>
              </a:rPr>
              <a:t>C</a:t>
            </a:r>
            <a:r>
              <a:rPr b="1" lang="ru-RU" sz="2800" spc="-1" strike="noStrike">
                <a:solidFill>
                  <a:srgbClr val="00ff00"/>
                </a:solidFill>
                <a:latin typeface="Monotype Corsiva"/>
              </a:rPr>
              <a:t> Е Р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«Хоть многие вещества сера превращает в яд, в химии достойна всяческих наград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добываемой  мире серы идет на производство серной кисл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роль серной кислоты в химической промышленности сравнима с ролью хлеба  в нашем пита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EF3B-3A36-49E3-9FDB-3E76C22AD2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формулируется периодический закон Д.И.Менделее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физическое обоснование зако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онимаете высказывание Менделеева «Посев научный взойдет для жатвы народной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ется роль биогенных элемент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значение ПСХЭ и ПЗ для современной науки и техн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FC71-6D45-4DEB-97F9-CF786E5F8C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Завет детям Д.И.Менделе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Главный секрет вот какой: один человек – нуль, вместе – только люди. Поэтому, живите для других, начиная с мамы, друг с друга, брата или сестры, затем для всех других… Сами трудитесь, трудясь, вы сделаете все и для близких и для себя, а если при труде успеха не будет, будет неудача, не беда – попробуйте еще, сохраните спокойствие, то внутреннее обладание, которое делает людей с волей, ясных и нужным другим. Иного завета, лучшего дать не могу. С ними живите. С ним завещайт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4E58-7898-4288-BB67-1E298A1862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Цель урока</a:t>
            </a:r>
            <a:r>
              <a:rPr b="0" lang="ru-RU" sz="12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воить один из общих законов природы – фундамент современной хим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научное и практическое значение зак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свойства биогенных элементов и их соедин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ть наиболее экономически выгодные способы получения этих соединений с соблюдением экологических треб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22D0-3C96-4D07-95A9-CBB47503CF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Оборудование для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химических элементов Д.И.Менделее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с высказываниями Менделее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ции азотных и фосфорных удобр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чки химических элементов для монтажа на доске – С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, О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8544-62F2-40E2-90F7-B93ADCB8A1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Высказывание Д.И.Менделее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Периодическому закону будущее не грозит разрушением, а лишь надстройки и развитие обещае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Тут все мое богатство… Эти «Основы химии» - любимое мое дитя. В них мой образ, мой опыт педагога и мои задушевные мысли. Тут много самостоятельного в мелочах, а главное – периодичность элементов, найденная именно при обработке «Основ хим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60C6-AF57-432A-B8FF-EAE8027CC1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Открытие периодического закона Д.И.Менделее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шественники Менделеева – Доберейнер, Мейер, Ньюленд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марта 2006 года исполнилось 137 лет со дня открытия периодического зак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C8B1-137C-4A4D-B8E3-0381D0810F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Физическое обоснование зак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ученый Мозли установил, что заряды ядер изменяются в соответствии с порядковыми номерами элементов в периодической сис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ическая система и периодический закон дают возможность сформировать представление о единстве и целостности мира,более глубоко изучить химические элементы и их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D160-592B-4293-BF8E-10F3B34B92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Monotype Corsiva"/>
              </a:rPr>
              <a:t>Биогенные элементы периодической системы химических эле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 периодической системе химических элементов и их свойства все важны и необходимы, но сегодня мы остановимся на элементах – первых трех периодов (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, C, N, O, P, 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их долю приходится 98% массы живого ве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8D0E-66AE-4B15-8CA6-C2AED3C2F1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Monotype Corsiva"/>
              </a:rPr>
              <a:t>Элемент – царь живой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лерод – это элемент, который существует в природе в виде алмаза – известного всем драгоценного камня, либо в виде не менее известного граф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 С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6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р + 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6 е, 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1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формула –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F8EB-31F4-4146-B905-66990FDF63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00"/>
                </a:solidFill>
                <a:latin typeface="Monotype Corsiva"/>
              </a:rPr>
              <a:t>Азот. «Он безжизненным зовется, но жизнь без него не создаетс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= 7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, 7 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формула –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эле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тал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адание: В состав питательных смесей для комнатных растений входит 0,1%-ный раствор аммиачной селитры. Сколько селитры и воды потребуется для приготовления такого раствора массой 0,12 кг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BEE5-86A9-47BC-AB80-56715D9667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70F-F734-48E5-84CC-62E56CAB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8FC-B04C-46F8-A71D-9BAE9F79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767-E540-4E40-BC31-832106EF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7943-B0CB-4850-ABCA-A606149B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A7B4-E071-471F-8CD6-8B13E3D6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2002-4F82-4DF9-BF8D-6F746F7D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A8FA-8D4A-4C31-8CDA-FBBD8D24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9C0F-C9DE-40B0-88FD-37265302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F055-A054-4B78-AB2E-79FFC0F2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17A1-2C4D-47F2-BA6D-02E3F388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A37B-6498-4367-9281-6B157076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3C23-87D5-4093-B241-C25ABD07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0979-5D26-4CA5-A485-CA904945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3819-0785-46D0-90C6-D2A86DF6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2074-A762-4312-805D-0318C1AD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DB72-768F-4155-BA88-854A9E3F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F955-3629-4CD2-819A-31E2AB94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331-1B4E-463D-9C1B-E0C5F08D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BEC-0213-4139-B2E3-DEA73669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D1D-098F-480D-91A9-BB91124D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2D4-D9B7-449D-98BE-29BCC737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69F1-BD6F-489C-930F-F8C82140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91F-CCA9-4AAF-BDAC-BC6A607F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C00-C4FA-40AF-9D21-A9C53FA6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8ECB-6291-4497-87D2-CB02993C07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7e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007e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e7b"/>
                  </a:gs>
                  <a:gs pos="100000">
                    <a:srgbClr val="007a7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007370"/>
                  </a:gs>
                  <a:gs pos="50000">
                    <a:srgbClr val="007e7b"/>
                  </a:gs>
                  <a:gs pos="100000">
                    <a:srgbClr val="00737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ABB9-5F01-4DA4-A939-FAD43BA812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7840"/>
            <a:ext cx="7772400" cy="319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Значение периодического закона для современной науки и техники     </a:t>
            </a:r>
            <a:br>
              <a:rPr sz="4800"/>
            </a:b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(связь химии с экономикой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и</a:t>
            </a:r>
            <a:r>
              <a:rPr b="0" lang="ru-RU" sz="4800" spc="-1" strike="noStrike">
                <a:solidFill>
                  <a:srgbClr val="00ff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00ff00"/>
                </a:solidFill>
                <a:latin typeface="Monotype Corsiva"/>
              </a:rPr>
              <a:t>экологией)</a:t>
            </a:r>
            <a:endParaRPr b="0" lang="en-US" sz="4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340000" y="4805280"/>
            <a:ext cx="6400800" cy="16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химии МОУ лицея №8 города Ставроп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йникова Татьяна Александров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connected_networks_big"/>
          <p:cNvPicPr/>
          <p:nvPr/>
        </p:nvPicPr>
        <p:blipFill>
          <a:blip r:embed="rId1"/>
          <a:stretch/>
        </p:blipFill>
        <p:spPr>
          <a:xfrm>
            <a:off x="0" y="2617920"/>
            <a:ext cx="2643120" cy="20937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3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Фосфор – элемент жизни и мысли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сфор обнаружен буквально во всех органах зеленых раст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изме животных – в мышцах, скелете, нервной тка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Picture 12" descr="images(6)"/>
          <p:cNvPicPr/>
          <p:nvPr/>
        </p:nvPicPr>
        <p:blipFill>
          <a:blip r:embed="rId1"/>
          <a:stretch/>
        </p:blipFill>
        <p:spPr>
          <a:xfrm>
            <a:off x="973080" y="2492280"/>
            <a:ext cx="3162240" cy="291492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Monotype Corsiva"/>
              </a:rPr>
              <a:t>C</a:t>
            </a:r>
            <a:r>
              <a:rPr b="1" lang="ru-RU" sz="6000" spc="-1" strike="noStrike">
                <a:solidFill>
                  <a:srgbClr val="00ff00"/>
                </a:solidFill>
                <a:latin typeface="Monotype Corsiva"/>
              </a:rPr>
              <a:t> Е Р А</a:t>
            </a:r>
            <a:endParaRPr b="0" lang="en-US" sz="6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«Хоть многие вещества сера превращает в яд, в химии достойна всяческих награ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овина добываемой  мире серы идет на производство серной кисл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роль серной кислоты в химической промышленности сравнима с ролью хлеба  в нашем пит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Вопросы для закрепления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формулируется периодический закон Д.И.Менделеев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о физическое обоснование закон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ы понимаете высказывание Менделеева «Посев научный взойдет для жатвы народной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чем заключается роль биогенных элементов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ово значение ПСХЭ и ПЗ для современной науки и техник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1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Завет детям Д.И.Менделеев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Главный секрет вот какой: один человек – нуль, вместе – только люди. Поэтому, живите для других, начиная с мамы, друг с друга, брата или сестры, затем для всех других… Сами трудитесь, трудясь, вы сделаете все и для близких и для себя, а если при труде успеха не будет, будет неудача, не беда – попробуйте еще, сохраните спокойствие, то внутреннее обладание, которое делает людей с волей, ясных и нужным другим. Иного завета, лучшего дать не могу. С ними живите. С ним завещайт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777240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Monotype Corsiva"/>
              </a:rPr>
              <a:t>Цель урока</a:t>
            </a:r>
            <a:r>
              <a:rPr b="0" lang="ru-RU" sz="3200" spc="-1" strike="noStrike">
                <a:solidFill>
                  <a:srgbClr val="00ff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воить один из общих законов природы – фундамент современной хим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характеризовать научное и практическое значение зако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свойства биогенных элементов и их соедин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ложить наиболее экономически выгодные способы получения этих соединений с соблюдением экологических требова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Оборудование для урок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500120" y="1125360"/>
            <a:ext cx="7491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ическая система химических элементов Д.И.Менделее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каты с высказываниями Менделее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ая формулировка периодического зако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лекции азотных и фосфорных удобр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блички химических элементов для монтажа на доске – С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Р, О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ы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3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Высказывание Д.И.Менделеева: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Периодическому закону будущее не грозит разрушением, а лишь надстройки и развитие обещает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 Тут все мое богатство… Эти «Основы химии» - любимое мое дитя. В них мой образ, мой опыт педагога и мои задушевные мысли. Тут много самостоятельного в мелочах, а главное – периодичность элементов, найденная именно при обработке «Основ хим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Открытие периодического закона Д.И.Менделеевым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шественники Менделеева – Доберейнер, Мейер, Ньюленд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марта 2006 года исполнилось 137 лет со дня открытия периодического зак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1" descr="p38"/>
          <p:cNvPicPr/>
          <p:nvPr/>
        </p:nvPicPr>
        <p:blipFill>
          <a:blip r:embed="rId1"/>
          <a:stretch/>
        </p:blipFill>
        <p:spPr>
          <a:xfrm>
            <a:off x="1258920" y="1844640"/>
            <a:ext cx="2879640" cy="460872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Физическое обоснование закона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глийский ученый Мозли установил, что заряды ядер изменяются в соответствии с порядковыми номерами элементов в периодической сист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ическая система и периодический закон дают возможность сформировать представление о единстве и целостности мира,более глубоко изучить химические элементы и их свой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836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Биогенные элементы периодической системы химических элементов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лементы с периодической системе химических элементов и их свойства все важны и необходимы, но сегодня мы остановимся на элементах – первых трех периодов (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, C, N, O, P, 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их долю приходится 98% массы живого веще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Monotype Corsiva"/>
              </a:rPr>
              <a:t>Элемент – царь живой природы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1320" y="1599840"/>
            <a:ext cx="41828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глерод – это элемент, который существует в природе в виде алмаза – известного всем драгоценного камня, либо в виде не менее известного графи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57680" y="1599840"/>
            <a:ext cx="4184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 С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6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р + 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6 е, 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= 12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формула –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 – эле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6" name="Diagram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417" name="Picture 23" descr="Алмаз"/>
          <p:cNvPicPr/>
          <p:nvPr/>
        </p:nvPicPr>
        <p:blipFill>
          <a:blip r:embed="rId1"/>
          <a:stretch/>
        </p:blipFill>
        <p:spPr>
          <a:xfrm>
            <a:off x="5867280" y="4653000"/>
            <a:ext cx="2960640" cy="19731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Monotype Corsiva"/>
              </a:rPr>
              <a:t>Азот. «Он безжизненным зовется, но жизнь без него не создается».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о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= 7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+ 7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, 7 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нная формула –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 – элеме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метал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c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дание: В состав питательных смесей для комнатных растений входит 0,1%-ный раствор аммиачной селитры. Сколько селитры и воды потребуется для приготовления такого раствора массой 0,12 кг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4:16:25Z</dcterms:created>
  <dc:creator>Юзер</dc:creator>
  <dc:description/>
  <dc:language>en-US</dc:language>
  <cp:lastModifiedBy>LEGION</cp:lastModifiedBy>
  <dcterms:modified xsi:type="dcterms:W3CDTF">2015-05-01T11:17:52Z</dcterms:modified>
  <cp:revision>25</cp:revision>
  <dc:subject/>
  <dc:title>Вода – вещество удивительное</dc:title>
</cp:coreProperties>
</file>