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A62D-9808-4E45-BC6D-7F72D809A5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06DF-8899-4003-B4F8-26FC8E3098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– молекула – ато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9A3F-BDE0-45A0-ACBF-8D4F95D91C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ение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A283-BBFC-4D36-A8FE-59C05919C2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CF29-1F02-4468-8790-34C73E0199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ение учител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– молекула – атом – химический эле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Химический элемен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ный вид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Химический зна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значает один атом химического элемен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2C75-72E9-4CAD-BC6A-300E0363E7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мотр видеофрагмента по теме урока для повторения и закрепления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обозначает запис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зо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мета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0600-D7ED-4E95-959D-665FF563EB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тика т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ь характеристику любому природному телу по плану: тело, вещество, молекула, атомы, химические эле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Сосулька (тело) – вода (вещество) – молекула (молекула воды) – атомы (атомы водорода и кислорода) – химические элементы (водород и кислор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6BB6-7F4B-4FA2-860D-D1D4DCD0B2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аграф 9, 10 (читать, выучить определения);  рабочая тетрадь задание 34-35, 36-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3931-B01C-4E26-8658-ED5990A833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из перечисленного является физическим телом, а что веществом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6199-166E-4CDA-9036-E917A378FC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телами и веществами происходят различные изме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ойдет с кусочком льда в теплой комна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сходит с сахаром в вод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сходит с водой в чайнике, поставленном на огон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FB76-D7F4-4FC9-BD19-87F6C3D33C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5863-3680-4604-9BA0-19564CCE23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 явления можно объяснить, если предположить, что вещества, из которых состоят тела, не сплошные, а из частиц. Впервые эта мысль была высказана учеными в Древней Греции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-IV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ах до н.э. Вот как об этом писал древнегреческий ученый и поэт Тит Лукреций Кар в поэме «Природа вещей»: (след.с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ный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Как можно объяснить эти и множество других явлен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4E89-74A1-4BF6-9735-E0B8B7F0EC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 почему же белье сыреет? (Потому, что мельчайшие частицы воды оседают на нем, но мы их не види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же белье с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морском берегу, разбивающем вол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ье сыреет всегда, а на солнце вися, оно сох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ть, однако, нельзя, как влага на нем оседае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 и не видно того, как она исчезает от зно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 дробиться вода на такие мельчайшие част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недоступны они совершенно для нашего взгля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ит Лукреций Ка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«Природа вещей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? (Мельчайшие частицы покидают ег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сский ученый М.В.Ломоносов (1711 – 1765) в своих трудах впервые стал говорить о сложных частицах, которые состоят из простых части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еке ученые доказали существование мельчайших частиц вещества, «между которыми есть пустые промежутк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8F70-CD23-4F58-BA23-700E84B443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- молеку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олекул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которых состоят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74D5-5CCB-4257-8E92-1F7DE8B5CC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ому веществу соответстует определенный вид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CB9E-389A-47A9-8715-B788605B37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E929-81ED-45D9-9CD0-ADF2366211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щиеся работают с текстом п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тика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а – наименьшая частица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ы одного и того же вещества одинако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молекул очень ма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молекулами есть промежу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ы постоянно находятся в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аграфа 9, стр.41. Вопрос: Можно ли разделить молекулу? Мож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7F1-047F-47E1-AA74-E6B7D563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467-13C9-425B-A11E-6D15B8D0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68F-C955-4203-ACF4-57891254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B4D-84ED-4777-B547-4F8F3C4A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0C38-5D02-4C56-A93B-A8402B97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ED2F-A0A5-426F-BB4F-16FB1FC9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DC04-779B-475F-967E-04212FFB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614A-14F9-4D44-A19D-0A116930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429B-84D8-4E33-9974-9DC49AAB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147B-E880-4EFF-B8AE-73C92B8B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7C86-8957-4856-BAC3-E10318AB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4E3-2BFF-48F0-A788-B3EFE9D2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B0DD-A6E1-4A19-BA33-9F9483C9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5992-8229-41A7-BB50-6E2E5680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2560-9837-43E4-A1F1-4547F069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3911-A731-486A-977E-6FAB024E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D515-6FC5-494F-BB67-6E0C1AFE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AD2A-CCF5-464C-8B9C-DD659185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B90-67A4-4FC3-A74A-5FB43EF9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842-0379-42A1-94E6-B7E25B8A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9D6-3FC6-441F-B6A6-D1D92691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64A-9474-479B-96AB-A71B9BCF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C01-025F-4C58-BC37-0BA84738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1B38-8AAE-4F57-B90F-CCCCBC03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e8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B7DF-754F-424D-BD46-794C084163DB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e8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46E7-65D1-4A55-8CE5-6FA4ACB3A310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3280" y="2565000"/>
            <a:ext cx="316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томы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95280" y="404640"/>
            <a:ext cx="446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еку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284720" y="4653000"/>
            <a:ext cx="4465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11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45684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ло – вещество – молекула – ат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" name="Picture 6" descr="атом2"/>
          <p:cNvPicPr/>
          <p:nvPr/>
        </p:nvPicPr>
        <p:blipFill>
          <a:blip r:embed="rId1"/>
          <a:srcRect l="0" t="0" r="0" b="5221"/>
          <a:stretch/>
        </p:blipFill>
        <p:spPr>
          <a:xfrm>
            <a:off x="2843280" y="1844640"/>
            <a:ext cx="3425760" cy="3448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3851280" y="566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486080" y="5516640"/>
            <a:ext cx="64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том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торых состоят молеку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атом.avi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Строение молеку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55640" y="19162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87280" y="19162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211640" y="198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80000" y="198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79280" y="2421000"/>
            <a:ext cx="2160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л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>
            <a:off x="468000" y="371628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1116000" y="371628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250920" y="58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1476360" y="58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0" y="4221000"/>
            <a:ext cx="104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-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187280" y="4221000"/>
            <a:ext cx="11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3132000" y="2492280"/>
            <a:ext cx="216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 flipH="1">
            <a:off x="3563640" y="378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4211640" y="378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2987640" y="4292640"/>
            <a:ext cx="11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4284720" y="4292640"/>
            <a:ext cx="11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6"/>
          <p:cNvSpPr/>
          <p:nvPr/>
        </p:nvSpPr>
        <p:spPr>
          <a:xfrm>
            <a:off x="3276720" y="57340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7"/>
          <p:cNvSpPr/>
          <p:nvPr/>
        </p:nvSpPr>
        <p:spPr>
          <a:xfrm>
            <a:off x="4643280" y="57340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8"/>
          <p:cNvSpPr/>
          <p:nvPr/>
        </p:nvSpPr>
        <p:spPr>
          <a:xfrm>
            <a:off x="6732720" y="206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9"/>
          <p:cNvSpPr/>
          <p:nvPr/>
        </p:nvSpPr>
        <p:spPr>
          <a:xfrm>
            <a:off x="7093080" y="1773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0"/>
          <p:cNvSpPr/>
          <p:nvPr/>
        </p:nvSpPr>
        <p:spPr>
          <a:xfrm>
            <a:off x="7451640" y="206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6300720" y="256536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2"/>
          <p:cNvSpPr/>
          <p:nvPr/>
        </p:nvSpPr>
        <p:spPr>
          <a:xfrm flipH="1">
            <a:off x="6732360" y="386064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7380360" y="386064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4"/>
          <p:cNvSpPr/>
          <p:nvPr/>
        </p:nvSpPr>
        <p:spPr>
          <a:xfrm>
            <a:off x="7380360" y="386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5"/>
          <p:cNvSpPr/>
          <p:nvPr/>
        </p:nvSpPr>
        <p:spPr>
          <a:xfrm>
            <a:off x="6590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6"/>
          <p:cNvSpPr/>
          <p:nvPr/>
        </p:nvSpPr>
        <p:spPr>
          <a:xfrm>
            <a:off x="7166520" y="465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7812000" y="43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9"/>
          <p:cNvSpPr/>
          <p:nvPr/>
        </p:nvSpPr>
        <p:spPr>
          <a:xfrm>
            <a:off x="7164360" y="530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6300720" y="486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>
            <a:off x="8028000" y="494172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ло – вещество – молекула – атом – химический элемент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116000" y="2276640"/>
            <a:ext cx="703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Химический элемент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ный вид ат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16000" y="4149720"/>
            <a:ext cx="703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Химический зна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значает один атом химического элемен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молекула. атом.вещество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Что обозначает запись?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(озон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Н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(метан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азот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хлор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Характеристика тел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ть характеристику любому природному телу по плану: тело, вещество, молекула, атомы, химические элементы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имер: Сосулька (тело) – вода (вещество) – молекула (молекула воды) – атомы (атомы водорода и кислорода) – химические элементы (водород и кислород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раграф 9, 10 (читать, выучить определения);  рабочая тетрадь задание 34-35, 36-38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water"/>
          <p:cNvPicPr/>
          <p:nvPr/>
        </p:nvPicPr>
        <p:blipFill>
          <a:blip r:embed="rId1"/>
          <a:stretch/>
        </p:blipFill>
        <p:spPr>
          <a:xfrm>
            <a:off x="6400800" y="914400"/>
            <a:ext cx="2438280" cy="2236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i"/>
          <p:cNvPicPr/>
          <p:nvPr/>
        </p:nvPicPr>
        <p:blipFill>
          <a:blip r:embed="rId2"/>
          <a:stretch/>
        </p:blipFill>
        <p:spPr>
          <a:xfrm>
            <a:off x="4343400" y="1905120"/>
            <a:ext cx="1890720" cy="19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Z7ZV1XCATNEC85CAEVXSOQCAW1FG3XCAS9WATOCAKK2JIECAGA8B77CASVFZEWCAH3KFU6CAZWXY81CA62H4H6CAMVH3XNCAKD2TPRCALKLVYDCA0X6BBBCAL4ANZ4CAIM1XSQCA2SALKFCA0Z6VNICAYI31YV"/>
          <p:cNvPicPr/>
          <p:nvPr/>
        </p:nvPicPr>
        <p:blipFill>
          <a:blip r:embed="rId3"/>
          <a:stretch/>
        </p:blipFill>
        <p:spPr>
          <a:xfrm>
            <a:off x="2209680" y="3200400"/>
            <a:ext cx="198144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WVQTL8CA02E0KFCAPXD3H6CA4WV9I6CAOPO1WCCA0U1XUZCAP9QKHWCA7LZXNZCA1ECVYKCAAPM939CABQDRO0CAGT3ZBKCA0H56D4CALDB4GSCAAUQ59BCAPIPGEVCA4SMA6VCAP6DHUKCAK8SWMDCA0KMLIF"/>
          <p:cNvPicPr/>
          <p:nvPr/>
        </p:nvPicPr>
        <p:blipFill>
          <a:blip r:embed="rId4"/>
          <a:stretch/>
        </p:blipFill>
        <p:spPr>
          <a:xfrm>
            <a:off x="380880" y="5029200"/>
            <a:ext cx="1828800" cy="1595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T2SHAGCAF2VETQCA7106ZXCAYVOB0ICA8GSAOVCATBWV3WCA3G1LDFCATV4J07CA0QL5KKCAWHC6KECAKHG526CADM8LDYCAA2304ICABMN7GNCAL2CTFYCA0X729VCABP0WNOCAMMAFG8CA95O98HCA6FQX77"/>
          <p:cNvPicPr/>
          <p:nvPr/>
        </p:nvPicPr>
        <p:blipFill>
          <a:blip r:embed="rId5"/>
          <a:stretch/>
        </p:blipFill>
        <p:spPr>
          <a:xfrm>
            <a:off x="4572000" y="4419720"/>
            <a:ext cx="1397160" cy="179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6732720" y="3716280"/>
            <a:ext cx="19047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реве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е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апля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2124000" y="189000"/>
            <a:ext cx="4248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то из перечисленного является физическим телом, а что веществом?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С телами и веществами происходят различные изменения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зойдет с кусочком льда в теплой комнате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сходит с сахаром в воде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сходит с водой в чайнике, поставленном на огонь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206028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облемный вопро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95280" y="3933360"/>
            <a:ext cx="83534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006600"/>
                </a:solidFill>
                <a:latin typeface="Arial Narrow"/>
              </a:rPr>
              <a:t>Как можно объяснить эти и множество других явлений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642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 морском берегу, разбивающем волны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латье сыреет всегда, а на солнце вися, оно сохнет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идеть, однако, нельзя, как влага на нем оседает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 и не видно того, как она исчезает от зно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Значит дробиться вода на такие мельчайшие части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Что недоступны они совершенно для нашего взгляд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ит Лукреций Ка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«Природа вещей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Русский ученый М.В.Ломоносов (1711 – 1765) в своих трудах впервые стал говорить о сложных частицах, которые состоят из простых частиц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веке ученые доказали существование мельчайших частиц вещества, «между которыми есть пустые промежутки»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Тело – вещество - молекул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7" name="Picture 4" descr="84679_3"/>
          <p:cNvPicPr/>
          <p:nvPr/>
        </p:nvPicPr>
        <p:blipFill>
          <a:blip r:embed="rId1"/>
          <a:stretch/>
        </p:blipFill>
        <p:spPr>
          <a:xfrm>
            <a:off x="539640" y="1916280"/>
            <a:ext cx="2159280" cy="2590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84679_1"/>
          <p:cNvPicPr/>
          <p:nvPr/>
        </p:nvPicPr>
        <p:blipFill>
          <a:blip r:embed="rId2"/>
          <a:stretch/>
        </p:blipFill>
        <p:spPr>
          <a:xfrm>
            <a:off x="3492360" y="1916280"/>
            <a:ext cx="2159280" cy="2590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84679_2"/>
          <p:cNvPicPr/>
          <p:nvPr/>
        </p:nvPicPr>
        <p:blipFill>
          <a:blip r:embed="rId3"/>
          <a:stretch/>
        </p:blipFill>
        <p:spPr>
          <a:xfrm>
            <a:off x="6588000" y="1916280"/>
            <a:ext cx="2160720" cy="2592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685800" y="45813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419280" y="4581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6156360" y="4581360"/>
            <a:ext cx="28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тве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258920" y="515772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Молеку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торых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45684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Каждому веществу соответстует определенный вид молеку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" name="Picture 4" descr="p4"/>
          <p:cNvPicPr/>
          <p:nvPr/>
        </p:nvPicPr>
        <p:blipFill>
          <a:blip r:embed="rId1"/>
          <a:stretch/>
        </p:blipFill>
        <p:spPr>
          <a:xfrm>
            <a:off x="684360" y="1844640"/>
            <a:ext cx="7710480" cy="48546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Характеристика молеку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а – наименьшая частица вещества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ы одного и того же вещества одинаковы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Размеры молекул очень малы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ежду молекулами есть промежутки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ы постоянно находятся в движении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6:24:52Z</dcterms:created>
  <dc:creator>st1-9</dc:creator>
  <dc:description/>
  <dc:language>en-US</dc:language>
  <cp:lastModifiedBy>LEGION</cp:lastModifiedBy>
  <dcterms:modified xsi:type="dcterms:W3CDTF">2015-05-01T11:25:25Z</dcterms:modified>
  <cp:revision>76</cp:revision>
  <dc:subject/>
  <dc:title>Атомы</dc:title>
</cp:coreProperties>
</file>