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911A-F9CF-49B5-AB31-D12165ED3E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EDA9-86B0-4331-B981-BB4FFFEBFF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B07F-F676-4A00-9A59-E3BD1FCC1F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ение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EFD-1A54-4969-9434-3AFD62A5F3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FA51-7B38-4837-A899-D5A53E50D3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ение учител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 – химический эле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элемен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зна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9862-766F-43A8-AB6D-6A06CFD263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видеофрагмента по теме урока для повторения и закрепления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обозначает зап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зо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ме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31F3-2D95-4CC5-8905-C55CDABF46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EFE3-21F6-4DFB-A13E-947AF7980B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граф 9, 10 (читать, выучить определения);  рабочая тетрадь задание 34-35, 36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FB16-6F6F-4F95-9A65-9318CE9EA1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из перечисленного является физическим телом, а что веществом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E18B-2A8B-415F-B845-EE0A9FC11D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телами и веществами происходят различные из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ойдет с кусочком льда в теплой комна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сахаром в вод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водой в чайнике, поставленном на огон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E83-20CE-4A11-80AF-DA008EE910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117-29E4-45AB-ADE9-BDCFBA73CE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явления можно объяснить, если предположить, что вещества, из которых состоят тела, не сплошные, а из частиц. Впервые эта мысль была высказана учеными в Древней Греции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-IV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ах до н.э. Вот как об этом писал древнегреческий ученый и поэт Тит Лукреций Кар в поэме «Природа вещей»: (след.с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Как можно объяснить эти и множество других явлен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DBC3-F289-4954-8971-BF0847C3B0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почему же белье сыреет? (Потому, что мельчайшие частицы воды оседают на нем, но мы их не види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е белье с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ском берегу, разбивающем вол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ье сыреет всегда, а на солнце вися, оно сох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ть, однако, нельзя, как влага на нем оседае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 и не видно того, как она исчезает от зно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 дробиться вода на такие мельчайшие ча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недоступны они совершенно для нашего взгля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т Лукреций Ка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Природа вещей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? (Мельчайшие частицы покидают ег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A77D-414A-4592-B84E-A3F3A49FF5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- молек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лекул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521E-3055-4D98-86F0-E35D028026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ому веществу соответстует определенный вид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3B9A-02B4-422D-B51F-CCC12EACE9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5DE8-D66A-4B24-991E-2E68A2B448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еся работают с текстом 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а – наименьшая частица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одного и того же вещества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молекул очень ма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молекулами есть промеж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постоянно находятся в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аграфа 9, стр.41. Вопрос: Можно ли разделить молекулу? Мож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20F-3B32-452E-9B45-EDE09B82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E35-8C56-44EA-B712-78F24F92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631-5842-4C15-AF88-0A27CC59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E73-F330-492B-8590-74D64D2A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B3CF-DE97-4E44-BE00-ADFCA533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2B01-4C54-4FAB-822F-96FC221E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3141-E5B0-4981-9749-F37E6F49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76F3-DC98-4BE0-893A-731A92FF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534B-F976-45F3-B8FA-17143A26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994F-B613-4C05-81B3-74834817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4197-41C1-4C5B-A35A-ED64DA4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C47-3DF2-4685-BCAE-15E1EBD6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A2D0-828E-46AD-986E-F9C27DE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B3BC-AE77-4565-B06D-29FC8772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E51F-BB3F-4F37-A578-BDCFB9B6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2A2B-52B0-4705-8014-95D6AF01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4047-4374-46D3-9040-72CDED07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1B3-4F79-4658-94EE-FFB59DCB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F73-1E7C-4A30-9B8E-1D4C264D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D1D-41C5-4B57-8D6B-56728D8C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1A2-8C7B-44D2-B699-C1F612BF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251-BA0D-46AA-942B-A6AEB33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334-09DE-40E8-9392-01E04BA6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A7F-B1B1-42D6-A9EA-3E2FF22E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C17D-0EED-4698-836D-0C5238495917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081E-8A2B-4700-870D-68A016CF4AB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3280" y="2565000"/>
            <a:ext cx="316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95280" y="404640"/>
            <a:ext cx="446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284720" y="4653000"/>
            <a:ext cx="446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Picture 6" descr="атом2"/>
          <p:cNvPicPr/>
          <p:nvPr/>
        </p:nvPicPr>
        <p:blipFill>
          <a:blip r:embed="rId1"/>
          <a:srcRect l="0" t="0" r="0" b="5221"/>
          <a:stretch/>
        </p:blipFill>
        <p:spPr>
          <a:xfrm>
            <a:off x="2843280" y="1844640"/>
            <a:ext cx="3425760" cy="3448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85128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86080" y="5516640"/>
            <a:ext cx="64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то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молек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атом.avi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Строение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5564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8728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21164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8000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79280" y="2421000"/>
            <a:ext cx="2160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>
            <a:off x="468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1116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25092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147636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0" y="4221000"/>
            <a:ext cx="10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187280" y="4221000"/>
            <a:ext cx="11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132000" y="2492280"/>
            <a:ext cx="216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563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4211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98764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28472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327672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464328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673272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7093080" y="1773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745164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6300720" y="2565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732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7380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738036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6590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716652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781200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7164360" y="530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6300720" y="486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>
            <a:off x="8028000" y="494172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 – химический элемент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16000" y="2276640"/>
            <a:ext cx="70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эле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4149720"/>
            <a:ext cx="70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зн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молекула. атом.вещество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 обозначает запись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озо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мета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азот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хлор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те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раграф 9, 10 (читать, выучить определения);  рабочая тетрадь задание 34-35, 36-38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water"/>
          <p:cNvPicPr/>
          <p:nvPr/>
        </p:nvPicPr>
        <p:blipFill>
          <a:blip r:embed="rId1"/>
          <a:stretch/>
        </p:blipFill>
        <p:spPr>
          <a:xfrm>
            <a:off x="6400800" y="914400"/>
            <a:ext cx="2438280" cy="223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"/>
          <p:cNvPicPr/>
          <p:nvPr/>
        </p:nvPicPr>
        <p:blipFill>
          <a:blip r:embed="rId2"/>
          <a:stretch/>
        </p:blipFill>
        <p:spPr>
          <a:xfrm>
            <a:off x="4343400" y="1905120"/>
            <a:ext cx="189072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Z7ZV1XCATNEC85CAEVXSOQCAW1FG3XCAS9WATOCAKK2JIECAGA8B77CASVFZEWCAH3KFU6CAZWXY81CA62H4H6CAMVH3XNCAKD2TPRCALKLVYDCA0X6BBBCAL4ANZ4CAIM1XSQCA2SALKFCA0Z6VNICAYI31YV"/>
          <p:cNvPicPr/>
          <p:nvPr/>
        </p:nvPicPr>
        <p:blipFill>
          <a:blip r:embed="rId3"/>
          <a:stretch/>
        </p:blipFill>
        <p:spPr>
          <a:xfrm>
            <a:off x="2209680" y="320040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WVQTL8CA02E0KFCAPXD3H6CA4WV9I6CAOPO1WCCA0U1XUZCAP9QKHWCA7LZXNZCA1ECVYKCAAPM939CABQDRO0CAGT3ZBKCA0H56D4CALDB4GSCAAUQ59BCAPIPGEVCA4SMA6VCAP6DHUKCAK8SWMDCA0KMLIF"/>
          <p:cNvPicPr/>
          <p:nvPr/>
        </p:nvPicPr>
        <p:blipFill>
          <a:blip r:embed="rId4"/>
          <a:stretch/>
        </p:blipFill>
        <p:spPr>
          <a:xfrm>
            <a:off x="380880" y="502920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T2SHAGCAF2VETQCA7106ZXCAYVOB0ICA8GSAOVCATBWV3WCA3G1LDFCATV4J07CA0QL5KKCAWHC6KECAKHG526CADM8LDYCAA2304ICABMN7GNCAL2CTFYCA0X729VCABP0WNOCAMMAFG8CA95O98HCA6FQX77"/>
          <p:cNvPicPr/>
          <p:nvPr/>
        </p:nvPicPr>
        <p:blipFill>
          <a:blip r:embed="rId5"/>
          <a:stretch/>
        </p:blipFill>
        <p:spPr>
          <a:xfrm>
            <a:off x="4572000" y="4419720"/>
            <a:ext cx="1397160" cy="179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6732720" y="3716280"/>
            <a:ext cx="19047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пл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124000" y="189000"/>
            <a:ext cx="42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из перечисленного является физическим телом, а что веществом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 телами и веществами происходят различные изменен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зойдет с кусочком льда в теплой комнат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сахаром в вод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водой в чайнике, поставленном на огонь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206028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353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Arial Narrow"/>
              </a:rPr>
              <a:t>Как можно объяснить эти и множество других явлений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 морском берегу, разбивающем волны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латье сыреет всегда, а на солнце вися, оно сохнет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еть, однако, нельзя, как влага на нем оседает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 и не видно того, как она исчезает от зно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ит дробиться вода на такие мельчайшие части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Что недоступны они совершенно для нашего взгляд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ит Лукреций Ка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Природа вещей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ело – вещество - молеку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7" name="Picture 4" descr="84679_3"/>
          <p:cNvPicPr/>
          <p:nvPr/>
        </p:nvPicPr>
        <p:blipFill>
          <a:blip r:embed="rId1"/>
          <a:stretch/>
        </p:blipFill>
        <p:spPr>
          <a:xfrm>
            <a:off x="53964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84679_1"/>
          <p:cNvPicPr/>
          <p:nvPr/>
        </p:nvPicPr>
        <p:blipFill>
          <a:blip r:embed="rId2"/>
          <a:stretch/>
        </p:blipFill>
        <p:spPr>
          <a:xfrm>
            <a:off x="349236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84679_2"/>
          <p:cNvPicPr/>
          <p:nvPr/>
        </p:nvPicPr>
        <p:blipFill>
          <a:blip r:embed="rId3"/>
          <a:stretch/>
        </p:blipFill>
        <p:spPr>
          <a:xfrm>
            <a:off x="6588000" y="191628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685800" y="4581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419280" y="4581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156360" y="458136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тве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258920" y="51577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олеку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4568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ждому веществу соответстует определенный вид молеку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Picture 4" descr="p4"/>
          <p:cNvPicPr/>
          <p:nvPr/>
        </p:nvPicPr>
        <p:blipFill>
          <a:blip r:embed="rId1"/>
          <a:stretch/>
        </p:blipFill>
        <p:spPr>
          <a:xfrm>
            <a:off x="684360" y="1844640"/>
            <a:ext cx="7710480" cy="4854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а – наименьшая частица вещества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одного и того же вещества одинаков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азмеры молекул очень мал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жду молекулами есть промежутк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постоянно находятся в движени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6:24:52Z</dcterms:created>
  <dc:creator>st1-9</dc:creator>
  <dc:description/>
  <dc:language>en-US</dc:language>
  <cp:lastModifiedBy>LEGION</cp:lastModifiedBy>
  <dcterms:modified xsi:type="dcterms:W3CDTF">2015-05-01T11:25:25Z</dcterms:modified>
  <cp:revision>76</cp:revision>
  <dc:subject/>
  <dc:title>Атомы</dc:title>
</cp:coreProperties>
</file>