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1DED-0F6F-4288-8605-13D709DB24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т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2CBF-9931-4535-8F79-BE639EC84C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ло – вещество – молекула – ато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629C-7ECF-4E86-85F0-9248FB967C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ение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958A-C760-4655-B371-55EF64CFF5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6275-1E87-4CC1-93F8-813DAE06C4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ение учителя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ло – вещество – молекула – атом – химический элем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Химический элемен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ный вид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Химический зна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значает один атом химического элемен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BC31-91CC-44E3-8D6D-BE573DC19D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мотр видеофрагмента по теме урока для повторения и закрепления матери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обозначает запис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озо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мета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о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41E2-8E7E-4418-BEF9-C1F573EA15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стика т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ь характеристику любому природному телу по плану: тело, вещество, молекула, атомы, химические элем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Сосулька (тело) – вода (вещество) – молекула (молекула воды) – атомы (атомы водорода и кислорода) – химические элементы (водород и кислоро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B373-5DD0-4D59-BEAB-DE77D3491F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аграф 9, 10 (читать, выучить определения);  рабочая тетрадь задание 34-35, 36-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66A7-1EA7-4624-9FFD-32A38DC8FC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из перечисленного является физическим телом, а что веществом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35AE-B82F-4E05-9CA7-DF05EB6F52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телами и веществами происходят различные изме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зойдет с кусочком льда в теплой комнат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сходит с сахаром в вод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сходит с водой в чайнике, поставленном на огон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FEC8-69C6-479B-AE89-65AC82EF5D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19F0-5EA5-4BBE-AF9C-D00F762735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 явления можно объяснить, если предположить, что вещества, из которых состоят тела, не сплошные, а из частиц. Впервые эта мысль была высказана учеными в Древней Греции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-IV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ках до н.э. Вот как об этом писал древнегреческий ученый и поэт Тит Лукреций Кар в поэме «Природа вещей»: (след.с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ный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Как можно объяснить эти и множество других явлени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й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4EFE-D11A-4346-8148-3B36764293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 почему же белье сыреет? (Потому, что мельчайшие частицы воды оседают на нем, но мы их не види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же белье со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морском берегу, разбивающем вол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ье сыреет всегда, а на солнце вися, оно сох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ть, однако, нельзя, как влага на нем оседае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 и не видно того, как она исчезает от зно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 дробиться вода на такие мельчайшие част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недоступны они совершенно для нашего взгля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ит Лукреций Ка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«Природа вещей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? (Мельчайшие частицы покидают ег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сский ученый М.В.Ломоносов (1711 – 1765) в своих трудах впервые стал говорить о сложных частицах, которые состоят из простых частиц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еке ученые доказали существование мельчайших частиц вещества, «между которыми есть пустые промежутк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4CEC-CC1D-4F55-A3CA-D008184547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о – вещество - молеку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Молекул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частиц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которых состоят ве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EB3D-E704-4C67-B2D7-B88A3D5BBC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ому веществу соответстует определенный вид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3FD4-A88B-4347-B3E8-FC2E1BC7BB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6894-C2B4-4BF9-83C7-827DB124B3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ащиеся работают с текстом п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стика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а – наименьшая частица ве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ы одного и того же вещества одинако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ы молекул очень мал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 молекулами есть промежу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ы постоянно находятся в движе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раграфа 9, стр.41. Вопрос: Можно ли разделить молекулу? Мож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733-0A7B-4DC0-9C04-20484C80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EA1E-9624-4DED-8AC8-2050AB32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9B4-BCC2-4A38-B788-49F8615F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628-B977-4E28-A567-645F3865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C05F-CFB8-416B-BAD7-39DB8C9F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0A3E-852C-467A-BC9E-07A0719F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2A24-85A5-49A1-91AC-A93A40A8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0365-A608-49FC-8CF5-51DBEE05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6B32-578B-43B0-A606-28973DFD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18A4-99F9-4D99-A180-AD4EA42E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D496-FBAB-496B-A3DD-9D066604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955-36B0-4B66-A6AA-CE440499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10CC-1006-43A8-A6F1-665D57EC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807C-E79C-4444-A109-FD8199E5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A66E-1F69-4D36-84E1-1F7D2247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E042-2BD8-432B-9813-F1E77B4D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76C2-7347-4D94-9B3E-4C62F87E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AA39-61FA-46F2-AE8D-BFE3CF58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F7A6-8A36-4639-A43E-94A2EEAE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724F-1B83-4A8F-A363-1F17BEAA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3AA-A93D-4E10-ACC4-A778244C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F68-89EB-49C8-89D9-47D60415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C110-A3E4-4524-8616-7159B2AA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20E-0420-4D98-933B-8D09B4C6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fe8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7F13-F368-43AF-AF46-184A3B445D29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fe8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27EC-FE13-4788-B506-57C225335D11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43280" y="2565000"/>
            <a:ext cx="316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томы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95280" y="404640"/>
            <a:ext cx="446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леку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284720" y="4653000"/>
            <a:ext cx="4465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ле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11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45684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ело – вещество – молекула – ат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4" name="Picture 6" descr="атом2"/>
          <p:cNvPicPr/>
          <p:nvPr/>
        </p:nvPicPr>
        <p:blipFill>
          <a:blip r:embed="rId1"/>
          <a:srcRect l="0" t="0" r="0" b="5221"/>
          <a:stretch/>
        </p:blipFill>
        <p:spPr>
          <a:xfrm>
            <a:off x="2843280" y="1844640"/>
            <a:ext cx="3425760" cy="3448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3851280" y="566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486080" y="5516640"/>
            <a:ext cx="64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том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частиц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которых состоят молеку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атом.avi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85080" cy="591336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Строение молеку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755640" y="19162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187280" y="19162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211640" y="1989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780000" y="1989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79280" y="2421000"/>
            <a:ext cx="2160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сл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H="1">
            <a:off x="468000" y="371628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1116000" y="371628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6"/>
          <p:cNvSpPr/>
          <p:nvPr/>
        </p:nvSpPr>
        <p:spPr>
          <a:xfrm>
            <a:off x="250920" y="5805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7"/>
          <p:cNvSpPr/>
          <p:nvPr/>
        </p:nvSpPr>
        <p:spPr>
          <a:xfrm>
            <a:off x="1476360" y="5805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0" y="4221000"/>
            <a:ext cx="104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-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187280" y="4221000"/>
            <a:ext cx="11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3132000" y="2492280"/>
            <a:ext cx="2160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1"/>
          <p:cNvSpPr/>
          <p:nvPr/>
        </p:nvSpPr>
        <p:spPr>
          <a:xfrm flipH="1">
            <a:off x="3563640" y="378936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4211640" y="378936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2987640" y="4292640"/>
            <a:ext cx="1150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4284720" y="4292640"/>
            <a:ext cx="1150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6"/>
          <p:cNvSpPr/>
          <p:nvPr/>
        </p:nvSpPr>
        <p:spPr>
          <a:xfrm>
            <a:off x="3276720" y="573408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7"/>
          <p:cNvSpPr/>
          <p:nvPr/>
        </p:nvSpPr>
        <p:spPr>
          <a:xfrm>
            <a:off x="4643280" y="573408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8"/>
          <p:cNvSpPr/>
          <p:nvPr/>
        </p:nvSpPr>
        <p:spPr>
          <a:xfrm>
            <a:off x="6732720" y="206064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9"/>
          <p:cNvSpPr/>
          <p:nvPr/>
        </p:nvSpPr>
        <p:spPr>
          <a:xfrm>
            <a:off x="7093080" y="1773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0"/>
          <p:cNvSpPr/>
          <p:nvPr/>
        </p:nvSpPr>
        <p:spPr>
          <a:xfrm>
            <a:off x="7451640" y="206064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6300720" y="256536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2"/>
          <p:cNvSpPr/>
          <p:nvPr/>
        </p:nvSpPr>
        <p:spPr>
          <a:xfrm flipH="1">
            <a:off x="6732360" y="3860640"/>
            <a:ext cx="647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3"/>
          <p:cNvSpPr/>
          <p:nvPr/>
        </p:nvSpPr>
        <p:spPr>
          <a:xfrm>
            <a:off x="7380360" y="3860640"/>
            <a:ext cx="647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4"/>
          <p:cNvSpPr/>
          <p:nvPr/>
        </p:nvSpPr>
        <p:spPr>
          <a:xfrm>
            <a:off x="7380360" y="386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5"/>
          <p:cNvSpPr/>
          <p:nvPr/>
        </p:nvSpPr>
        <p:spPr>
          <a:xfrm>
            <a:off x="659016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6"/>
          <p:cNvSpPr/>
          <p:nvPr/>
        </p:nvSpPr>
        <p:spPr>
          <a:xfrm>
            <a:off x="7166520" y="465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8"/>
          <p:cNvSpPr/>
          <p:nvPr/>
        </p:nvSpPr>
        <p:spPr>
          <a:xfrm>
            <a:off x="7812000" y="4365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9"/>
          <p:cNvSpPr/>
          <p:nvPr/>
        </p:nvSpPr>
        <p:spPr>
          <a:xfrm>
            <a:off x="7164360" y="530064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0"/>
          <p:cNvSpPr/>
          <p:nvPr/>
        </p:nvSpPr>
        <p:spPr>
          <a:xfrm>
            <a:off x="6300720" y="4869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1"/>
          <p:cNvSpPr/>
          <p:nvPr/>
        </p:nvSpPr>
        <p:spPr>
          <a:xfrm>
            <a:off x="8028000" y="494172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ело – вещество – молекула – атом – химический элемент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116000" y="2276640"/>
            <a:ext cx="703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Химический элемент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ный вид ато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116000" y="4149720"/>
            <a:ext cx="703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Химический знак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означает один атом химического элемен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молекула. атом.вещество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Что обозначает запись?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(озон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Н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(метан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азот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хлор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Характеристика тел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ть характеристику любому природному телу по плану: тело, вещество, молекула, атомы, химические элементы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имер: Сосулька (тело) – вода (вещество) – молекула (молекула воды) – атомы (атомы водорода и кислорода) – химические элементы (водород и кислород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араграф 9, 10 (читать, выучить определения);  рабочая тетрадь задание 34-35, 36-38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water"/>
          <p:cNvPicPr/>
          <p:nvPr/>
        </p:nvPicPr>
        <p:blipFill>
          <a:blip r:embed="rId1"/>
          <a:stretch/>
        </p:blipFill>
        <p:spPr>
          <a:xfrm>
            <a:off x="6400800" y="914400"/>
            <a:ext cx="2438280" cy="2236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i"/>
          <p:cNvPicPr/>
          <p:nvPr/>
        </p:nvPicPr>
        <p:blipFill>
          <a:blip r:embed="rId2"/>
          <a:stretch/>
        </p:blipFill>
        <p:spPr>
          <a:xfrm>
            <a:off x="4343400" y="1905120"/>
            <a:ext cx="1890720" cy="190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Z7ZV1XCATNEC85CAEVXSOQCAW1FG3XCAS9WATOCAKK2JIECAGA8B77CASVFZEWCAH3KFU6CAZWXY81CA62H4H6CAMVH3XNCAKD2TPRCALKLVYDCA0X6BBBCAL4ANZ4CAIM1XSQCA2SALKFCA0Z6VNICAYI31YV"/>
          <p:cNvPicPr/>
          <p:nvPr/>
        </p:nvPicPr>
        <p:blipFill>
          <a:blip r:embed="rId3"/>
          <a:stretch/>
        </p:blipFill>
        <p:spPr>
          <a:xfrm>
            <a:off x="2209680" y="3200400"/>
            <a:ext cx="1981440" cy="175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WVQTL8CA02E0KFCAPXD3H6CA4WV9I6CAOPO1WCCA0U1XUZCAP9QKHWCA7LZXNZCA1ECVYKCAAPM939CABQDRO0CAGT3ZBKCA0H56D4CALDB4GSCAAUQ59BCAPIPGEVCA4SMA6VCAP6DHUKCAK8SWMDCA0KMLIF"/>
          <p:cNvPicPr/>
          <p:nvPr/>
        </p:nvPicPr>
        <p:blipFill>
          <a:blip r:embed="rId4"/>
          <a:stretch/>
        </p:blipFill>
        <p:spPr>
          <a:xfrm>
            <a:off x="380880" y="5029200"/>
            <a:ext cx="1828800" cy="1595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T2SHAGCAF2VETQCA7106ZXCAYVOB0ICA8GSAOVCATBWV3WCA3G1LDFCATV4J07CA0QL5KKCAWHC6KECAKHG526CADM8LDYCAA2304ICABMN7GNCAL2CTFYCA0X729VCABP0WNOCAMMAFG8CA95O98HCA6FQX77"/>
          <p:cNvPicPr/>
          <p:nvPr/>
        </p:nvPicPr>
        <p:blipFill>
          <a:blip r:embed="rId5"/>
          <a:stretch/>
        </p:blipFill>
        <p:spPr>
          <a:xfrm>
            <a:off x="4572000" y="4419720"/>
            <a:ext cx="1397160" cy="179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6732720" y="3716280"/>
            <a:ext cx="19047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ни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реве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ез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апля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2124000" y="189000"/>
            <a:ext cx="4248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Что из перечисленного является физическим телом, а что веществом?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С телами и веществами происходят различные изменения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Что произойдет с кусочком льда в теплой комнате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Что происходит с сахаром в воде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Что происходит с водой в чайнике, поставленном на огонь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206028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роблемный вопрос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95280" y="3933360"/>
            <a:ext cx="835344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006600"/>
                </a:solidFill>
                <a:latin typeface="Arial Narrow"/>
              </a:rPr>
              <a:t>Как можно объяснить эти и множество других явлений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642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 морском берегу, разбивающем волны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латье сыреет всегда, а на солнце вися, оно сохнет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идеть, однако, нельзя, как влага на нем оседает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 и не видно того, как она исчезает от зно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Значит дробиться вода на такие мельчайшие части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Что недоступны они совершенно для нашего взгляд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ит Лукреций Кар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«Природа вещей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Русский ученый М.В.Ломоносов (1711 – 1765) в своих трудах впервые стал говорить о сложных частицах, которые состоят из простых частиц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XIX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веке ученые доказали существование мельчайших частиц вещества, «между которыми есть пустые промежутки»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Тело – вещество - молекул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7" name="Picture 4" descr="84679_3"/>
          <p:cNvPicPr/>
          <p:nvPr/>
        </p:nvPicPr>
        <p:blipFill>
          <a:blip r:embed="rId1"/>
          <a:stretch/>
        </p:blipFill>
        <p:spPr>
          <a:xfrm>
            <a:off x="539640" y="1916280"/>
            <a:ext cx="2159280" cy="2590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84679_1"/>
          <p:cNvPicPr/>
          <p:nvPr/>
        </p:nvPicPr>
        <p:blipFill>
          <a:blip r:embed="rId2"/>
          <a:stretch/>
        </p:blipFill>
        <p:spPr>
          <a:xfrm>
            <a:off x="3492360" y="1916280"/>
            <a:ext cx="2159280" cy="2590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84679_2"/>
          <p:cNvPicPr/>
          <p:nvPr/>
        </p:nvPicPr>
        <p:blipFill>
          <a:blip r:embed="rId3"/>
          <a:stretch/>
        </p:blipFill>
        <p:spPr>
          <a:xfrm>
            <a:off x="6588000" y="1916280"/>
            <a:ext cx="2160720" cy="2592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1"/>
          <p:cNvSpPr/>
          <p:nvPr/>
        </p:nvSpPr>
        <p:spPr>
          <a:xfrm>
            <a:off x="685800" y="45813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ы г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3419280" y="45813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ы 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6156360" y="4581360"/>
            <a:ext cx="28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ы твердого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258920" y="515772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Молеку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частиц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которых состоят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45684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Каждому веществу соответстует определенный вид молеку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6" name="Picture 4" descr="p4"/>
          <p:cNvPicPr/>
          <p:nvPr/>
        </p:nvPicPr>
        <p:blipFill>
          <a:blip r:embed="rId1"/>
          <a:stretch/>
        </p:blipFill>
        <p:spPr>
          <a:xfrm>
            <a:off x="684360" y="1844640"/>
            <a:ext cx="7710480" cy="48546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Характеристика молеку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лекула – наименьшая частица вещества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лекулы одного и того же вещества одинаковы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Размеры молекул очень малы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ежду молекулами есть промежутки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лекулы постоянно находятся в движении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6:24:52Z</dcterms:created>
  <dc:creator>st1-9</dc:creator>
  <dc:description/>
  <dc:language>en-US</dc:language>
  <cp:lastModifiedBy>LEGION</cp:lastModifiedBy>
  <dcterms:modified xsi:type="dcterms:W3CDTF">2015-05-01T11:25:25Z</dcterms:modified>
  <cp:revision>76</cp:revision>
  <dc:subject/>
  <dc:title>Атомы</dc:title>
</cp:coreProperties>
</file>