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8128-6A00-4ABC-85F7-8979E6C586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т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5A54-4B89-442B-92B4-FD94CD1A14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– молекула – ато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E429-17B8-470A-B138-65CEAE9712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ение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05B4-59B3-4DAB-BF19-74AEF28DF7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5ABF-E6B5-49F1-84F0-1249F47BF2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ение учител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– молекула – атом – химический элем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Химический элемен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ный вид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Химический зна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значает один атом химического элемен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E316-C0D0-4594-BC3D-A3B710C5E8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мотр видеофрагмента по теме урока для повторения и закрепления матери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обозначает запис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озо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мета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3DFA-1F07-4015-AC08-58CB5465A5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тика т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ь характеристику любому природному телу по плану: тело, вещество, молекула, атомы, химические эле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Сосулька (тело) – вода (вещество) – молекула (молекула воды) – атомы (атомы водорода и кислорода) – химические элементы (водород и кислор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5F19-4D6B-4254-8489-3F25066B22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аграф 9, 10 (читать, выучить определения);  рабочая тетрадь задание 34-35, 36-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5DD5-6AE9-4066-9C34-5F2222EF21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из перечисленного является физическим телом, а что веществом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60AC-457E-4178-AE27-ABF9A0C771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телами и веществами происходят различные изме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зойдет с кусочком льда в теплой комнат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сходит с сахаром в вод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сходит с водой в чайнике, поставленном на огон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495A-786F-4425-AF06-9AD8579177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0974-2183-4B2E-8ECC-1C0F462439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 явления можно объяснить, если предположить, что вещества, из которых состоят тела, не сплошные, а из частиц. Впервые эта мысль была высказана учеными в Древней Греции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-IV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ах до н.э. Вот как об этом писал древнегреческий ученый и поэт Тит Лукреций Кар в поэме «Природа вещей»: (след.с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ный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Как можно объяснить эти и множество других явлени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7387-4684-40B9-95FA-22F6756EAC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 почему же белье сыреет? (Потому, что мельчайшие частицы воды оседают на нем, но мы их не види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же белье со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морском берегу, разбивающем вол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ье сыреет всегда, а на солнце вися, оно сох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ть, однако, нельзя, как влага на нем оседае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 и не видно того, как она исчезает от зно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 дробиться вода на такие мельчайшие част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недоступны они совершенно для нашего взгля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ит Лукреций Ка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«Природа вещей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? (Мельчайшие частицы покидают ег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сский ученый М.В.Ломоносов (1711 – 1765) в своих трудах впервые стал говорить о сложных частицах, которые состоят из простых части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еке ученые доказали существование мельчайших частиц вещества, «между которыми есть пустые промежутк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E974-6ABC-4558-95EF-A52F4C0752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- молеку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олекул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которых состоят ве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2687-67D5-42EF-A5EC-3F8811CBAF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ому веществу соответстует определенный вид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14D4-8557-43DE-B910-15AA4BD395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EC35-6679-4BEA-BD82-C4A8173FFA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щиеся работают с текстом п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тика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а – наименьшая частица ве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ы одного и того же вещества одинако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ы молекул очень мал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 молекулами есть промежу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ы постоянно находятся в движ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аграфа 9, стр.41. Вопрос: Можно ли разделить молекулу? Мож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355-4343-4492-89AD-5AB1BEDD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D69-F3CC-4661-8AFF-FD52C232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5B3-7414-4D7D-AF45-CBC23809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492-28E0-4000-9459-8D53C2B2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9703-AE63-4F3D-AABE-7D6E4A0A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2905-F22A-4FF7-8006-190FD138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F10E-9DD5-40AD-BE7D-0EB46028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7BB3-8ACF-467E-B478-FBE5C3AD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D7AC-A8EF-4DCE-8C70-BABE9DC0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44C0-D96C-4F4F-9195-43482757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E13E-3FA9-4A8A-97F8-E95B75B1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565-41FB-4A34-B36E-FAB4EE80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AE56-A2A6-4D1C-B803-CEFC9376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6EC2-2FE0-400F-94E4-6AF4DB60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A88D-EECF-451A-B470-05827A5C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8091-95D4-4B97-BCB5-964C2293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0DAD-3A53-4D6A-A9D0-D975C987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8A7-9A03-415E-9600-20C51DEC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C6E-6CAF-4311-BEFB-8597B618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F3A-E82C-4B66-BB91-86471831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2A0-586F-4330-B0BE-3053F50E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204-57EB-467D-8FE9-4150516F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A37-DF55-4AE0-A63B-BBEB0AAF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17C-FF66-46B0-9AE5-794AC8F6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e8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A977-9C10-4C77-BBFE-99D5868D3EAC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e8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316B-7D8C-4774-8613-7849B794C5E7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43280" y="2565000"/>
            <a:ext cx="316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томы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95280" y="404640"/>
            <a:ext cx="446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еку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284720" y="4653000"/>
            <a:ext cx="4465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11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45684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ло – вещество – молекула – ат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" name="Picture 6" descr="атом2"/>
          <p:cNvPicPr/>
          <p:nvPr/>
        </p:nvPicPr>
        <p:blipFill>
          <a:blip r:embed="rId1"/>
          <a:srcRect l="0" t="0" r="0" b="5221"/>
          <a:stretch/>
        </p:blipFill>
        <p:spPr>
          <a:xfrm>
            <a:off x="2843280" y="1844640"/>
            <a:ext cx="3425760" cy="3448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3851280" y="566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486080" y="5516640"/>
            <a:ext cx="64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том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которых состоят молеку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атом.avi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85080" cy="591336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Строение молеку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55640" y="19162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187280" y="19162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211640" y="198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780000" y="198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79280" y="2421000"/>
            <a:ext cx="2160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л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>
            <a:off x="468000" y="371628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1116000" y="371628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250920" y="5805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7"/>
          <p:cNvSpPr/>
          <p:nvPr/>
        </p:nvSpPr>
        <p:spPr>
          <a:xfrm>
            <a:off x="1476360" y="5805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0" y="4221000"/>
            <a:ext cx="104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-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187280" y="4221000"/>
            <a:ext cx="11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3132000" y="2492280"/>
            <a:ext cx="2160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 flipH="1">
            <a:off x="3563640" y="378936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4211640" y="378936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2987640" y="4292640"/>
            <a:ext cx="1150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4284720" y="4292640"/>
            <a:ext cx="1150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6"/>
          <p:cNvSpPr/>
          <p:nvPr/>
        </p:nvSpPr>
        <p:spPr>
          <a:xfrm>
            <a:off x="3276720" y="57340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7"/>
          <p:cNvSpPr/>
          <p:nvPr/>
        </p:nvSpPr>
        <p:spPr>
          <a:xfrm>
            <a:off x="4643280" y="57340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8"/>
          <p:cNvSpPr/>
          <p:nvPr/>
        </p:nvSpPr>
        <p:spPr>
          <a:xfrm>
            <a:off x="6732720" y="206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9"/>
          <p:cNvSpPr/>
          <p:nvPr/>
        </p:nvSpPr>
        <p:spPr>
          <a:xfrm>
            <a:off x="7093080" y="1773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0"/>
          <p:cNvSpPr/>
          <p:nvPr/>
        </p:nvSpPr>
        <p:spPr>
          <a:xfrm>
            <a:off x="7451640" y="206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6300720" y="256536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2"/>
          <p:cNvSpPr/>
          <p:nvPr/>
        </p:nvSpPr>
        <p:spPr>
          <a:xfrm flipH="1">
            <a:off x="6732360" y="3860640"/>
            <a:ext cx="647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3"/>
          <p:cNvSpPr/>
          <p:nvPr/>
        </p:nvSpPr>
        <p:spPr>
          <a:xfrm>
            <a:off x="7380360" y="3860640"/>
            <a:ext cx="647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4"/>
          <p:cNvSpPr/>
          <p:nvPr/>
        </p:nvSpPr>
        <p:spPr>
          <a:xfrm>
            <a:off x="7380360" y="386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5"/>
          <p:cNvSpPr/>
          <p:nvPr/>
        </p:nvSpPr>
        <p:spPr>
          <a:xfrm>
            <a:off x="659016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6"/>
          <p:cNvSpPr/>
          <p:nvPr/>
        </p:nvSpPr>
        <p:spPr>
          <a:xfrm>
            <a:off x="7166520" y="465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8"/>
          <p:cNvSpPr/>
          <p:nvPr/>
        </p:nvSpPr>
        <p:spPr>
          <a:xfrm>
            <a:off x="7812000" y="4365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9"/>
          <p:cNvSpPr/>
          <p:nvPr/>
        </p:nvSpPr>
        <p:spPr>
          <a:xfrm>
            <a:off x="7164360" y="530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0"/>
          <p:cNvSpPr/>
          <p:nvPr/>
        </p:nvSpPr>
        <p:spPr>
          <a:xfrm>
            <a:off x="6300720" y="486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1"/>
          <p:cNvSpPr/>
          <p:nvPr/>
        </p:nvSpPr>
        <p:spPr>
          <a:xfrm>
            <a:off x="8028000" y="494172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ло – вещество – молекула – атом – химический элемент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116000" y="2276640"/>
            <a:ext cx="703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Химический элемент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ный вид ато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116000" y="4149720"/>
            <a:ext cx="703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Химический знак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значает один атом химического элемен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молекула. атом.вещество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Что обозначает запись?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(озон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Н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(метан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азот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хлор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Характеристика тел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ть характеристику любому природному телу по плану: тело, вещество, молекула, атомы, химические элементы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имер: Сосулька (тело) – вода (вещество) – молекула (молекула воды) – атомы (атомы водорода и кислорода) – химические элементы (водород и кислород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араграф 9, 10 (читать, выучить определения);  рабочая тетрадь задание 34-35, 36-38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water"/>
          <p:cNvPicPr/>
          <p:nvPr/>
        </p:nvPicPr>
        <p:blipFill>
          <a:blip r:embed="rId1"/>
          <a:stretch/>
        </p:blipFill>
        <p:spPr>
          <a:xfrm>
            <a:off x="6400800" y="914400"/>
            <a:ext cx="2438280" cy="2236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i"/>
          <p:cNvPicPr/>
          <p:nvPr/>
        </p:nvPicPr>
        <p:blipFill>
          <a:blip r:embed="rId2"/>
          <a:stretch/>
        </p:blipFill>
        <p:spPr>
          <a:xfrm>
            <a:off x="4343400" y="1905120"/>
            <a:ext cx="1890720" cy="190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Z7ZV1XCATNEC85CAEVXSOQCAW1FG3XCAS9WATOCAKK2JIECAGA8B77CASVFZEWCAH3KFU6CAZWXY81CA62H4H6CAMVH3XNCAKD2TPRCALKLVYDCA0X6BBBCAL4ANZ4CAIM1XSQCA2SALKFCA0Z6VNICAYI31YV"/>
          <p:cNvPicPr/>
          <p:nvPr/>
        </p:nvPicPr>
        <p:blipFill>
          <a:blip r:embed="rId3"/>
          <a:stretch/>
        </p:blipFill>
        <p:spPr>
          <a:xfrm>
            <a:off x="2209680" y="3200400"/>
            <a:ext cx="1981440" cy="175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WVQTL8CA02E0KFCAPXD3H6CA4WV9I6CAOPO1WCCA0U1XUZCAP9QKHWCA7LZXNZCA1ECVYKCAAPM939CABQDRO0CAGT3ZBKCA0H56D4CALDB4GSCAAUQ59BCAPIPGEVCA4SMA6VCAP6DHUKCAK8SWMDCA0KMLIF"/>
          <p:cNvPicPr/>
          <p:nvPr/>
        </p:nvPicPr>
        <p:blipFill>
          <a:blip r:embed="rId4"/>
          <a:stretch/>
        </p:blipFill>
        <p:spPr>
          <a:xfrm>
            <a:off x="380880" y="5029200"/>
            <a:ext cx="1828800" cy="1595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T2SHAGCAF2VETQCA7106ZXCAYVOB0ICA8GSAOVCATBWV3WCA3G1LDFCATV4J07CA0QL5KKCAWHC6KECAKHG526CADM8LDYCAA2304ICABMN7GNCAL2CTFYCA0X729VCABP0WNOCAMMAFG8CA95O98HCA6FQX77"/>
          <p:cNvPicPr/>
          <p:nvPr/>
        </p:nvPicPr>
        <p:blipFill>
          <a:blip r:embed="rId5"/>
          <a:stretch/>
        </p:blipFill>
        <p:spPr>
          <a:xfrm>
            <a:off x="4572000" y="4419720"/>
            <a:ext cx="1397160" cy="179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6732720" y="3716280"/>
            <a:ext cx="19047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реве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е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апля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2124000" y="189000"/>
            <a:ext cx="4248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Что из перечисленного является физическим телом, а что веществом?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С телами и веществами происходят различные изменения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зойдет с кусочком льда в теплой комнате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сходит с сахаром в воде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сходит с водой в чайнике, поставленном на огонь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206028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роблемный вопрос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95280" y="3933360"/>
            <a:ext cx="83534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006600"/>
                </a:solidFill>
                <a:latin typeface="Arial Narrow"/>
              </a:rPr>
              <a:t>Как можно объяснить эти и множество других явлений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642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 морском берегу, разбивающем волны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латье сыреет всегда, а на солнце вися, оно сохнет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идеть, однако, нельзя, как влага на нем оседает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 и не видно того, как она исчезает от зно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Значит дробиться вода на такие мельчайшие части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Что недоступны они совершенно для нашего взгляд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ит Лукреций Кар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«Природа вещей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Русский ученый М.В.Ломоносов (1711 – 1765) в своих трудах впервые стал говорить о сложных частицах, которые состоят из простых частиц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веке ученые доказали существование мельчайших частиц вещества, «между которыми есть пустые промежутки»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Тело – вещество - молекул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7" name="Picture 4" descr="84679_3"/>
          <p:cNvPicPr/>
          <p:nvPr/>
        </p:nvPicPr>
        <p:blipFill>
          <a:blip r:embed="rId1"/>
          <a:stretch/>
        </p:blipFill>
        <p:spPr>
          <a:xfrm>
            <a:off x="539640" y="1916280"/>
            <a:ext cx="2159280" cy="2590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84679_1"/>
          <p:cNvPicPr/>
          <p:nvPr/>
        </p:nvPicPr>
        <p:blipFill>
          <a:blip r:embed="rId2"/>
          <a:stretch/>
        </p:blipFill>
        <p:spPr>
          <a:xfrm>
            <a:off x="3492360" y="1916280"/>
            <a:ext cx="2159280" cy="2590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84679_2"/>
          <p:cNvPicPr/>
          <p:nvPr/>
        </p:nvPicPr>
        <p:blipFill>
          <a:blip r:embed="rId3"/>
          <a:stretch/>
        </p:blipFill>
        <p:spPr>
          <a:xfrm>
            <a:off x="6588000" y="1916280"/>
            <a:ext cx="2160720" cy="2592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1"/>
          <p:cNvSpPr/>
          <p:nvPr/>
        </p:nvSpPr>
        <p:spPr>
          <a:xfrm>
            <a:off x="685800" y="45813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г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3419280" y="45813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6156360" y="4581360"/>
            <a:ext cx="28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тверд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258920" y="515772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Молеку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которых состоят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45684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Каждому веществу соответстует определенный вид молеку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6" name="Picture 4" descr="p4"/>
          <p:cNvPicPr/>
          <p:nvPr/>
        </p:nvPicPr>
        <p:blipFill>
          <a:blip r:embed="rId1"/>
          <a:stretch/>
        </p:blipFill>
        <p:spPr>
          <a:xfrm>
            <a:off x="684360" y="1844640"/>
            <a:ext cx="7710480" cy="48546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Характеристика молеку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а – наименьшая частица вещества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ы одного и того же вещества одинаковы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Размеры молекул очень малы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ежду молекулами есть промежутки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ы постоянно находятся в движении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6:24:52Z</dcterms:created>
  <dc:creator>st1-9</dc:creator>
  <dc:description/>
  <dc:language>en-US</dc:language>
  <cp:lastModifiedBy>LEGION</cp:lastModifiedBy>
  <dcterms:modified xsi:type="dcterms:W3CDTF">2015-05-01T11:25:25Z</dcterms:modified>
  <cp:revision>76</cp:revision>
  <dc:subject/>
  <dc:title>Атомы</dc:title>
</cp:coreProperties>
</file>