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9.png" ContentType="image/png"/>
  <Override PartName="/ppt/media/image12.jpeg" ContentType="image/jpeg"/>
  <Override PartName="/ppt/media/image7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4.jpeg" ContentType="image/jpeg"/>
  <Override PartName="/ppt/media/image2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A3B27-83C7-4C45-80F6-F6B8DCD50BA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то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6A67A-BB8E-4DCC-9FD0-C02BDCA8446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Тело – вещество – молекула – атом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19325-0904-4122-B72D-9C5D87D712D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роение молеку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15A82-C595-4E76-8DF6-90F46713256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72B68-9856-4120-8EE0-4F1EA8B0346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ъяснение учителя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Тело – вещество – молекула – атом – химический элемен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8080"/>
                </a:solidFill>
                <a:latin typeface="Arial"/>
              </a:rPr>
              <a:t>Химический элемент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пределенный вид атом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8080"/>
                </a:solidFill>
                <a:latin typeface="Arial"/>
              </a:rPr>
              <a:t>Химический знак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означает один атом химического элемент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25DDA-ADDD-4ED7-A479-EC31947D3C4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смотр видеофрагмента по теме урока для повторения и закрепления материал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Закрепл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то обозначает запись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(озон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Н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(метан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зот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l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хлор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9F418-40B2-44DC-8FE5-CD9CBA5EC07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Характеристика тел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ать характеристику любому природному телу по плану: тело, вещество, молекула, атомы, химические элемент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мер: Сосулька (тело) – вода (вещество) – молекула (молекула воды) – атомы (атомы водорода и кислорода) – химические элементы (водород и кислород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30BAD-694B-42EF-B5FC-F07FF6471F0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Домашнее зад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араграф 9, 10 (читать, выучить определения);  рабочая тетрадь задание 34-35, 36-3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48BB4-AF27-43DC-95B8-42B62B188A5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то из перечисленного является физическим телом, а что веществом?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5EB55-411D-49A7-AE09-10A7B834C42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 телами и веществами происходят различные измен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то произойдет с кусочком льда в теплой комнате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то происходит с сахаром в воде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то происходит с водой в чайнике, поставленном на огонь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4E38C-975D-4EF5-9130-AA214B22B95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73B0A-80B5-4BF1-A5C9-9463C47EE04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и явления можно объяснить, если предположить, что вещества, из которых состоят тела, не сплошные, а из частиц. Впервые эта мысль была высказана учеными в Древней Греции в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-IV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еках до н.э. Вот как об этом писал древнегреческий ученый и поэт Тит Лукреций Кар в поэме «Природа вещей»: (след.сда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облемный вопро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808080"/>
                </a:solidFill>
                <a:latin typeface="Times New Roman"/>
              </a:rPr>
              <a:t>Как можно объяснить эти и множество других явлений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йд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7BBAB-386C-4613-86DE-678689EAF84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ак почему же белье сыреет? (Потому, что мельчайшие частицы воды оседают на нем, но мы их не видим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чему же белье со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морском берегу, разбивающем волны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латье сыреет всегда, а на солнце вися, оно сохнет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идеть, однако, нельзя, как влага на нем оседает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а и не видно того, как она исчезает от зноя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начит дробиться вода на такие мельчайшие части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то недоступны они совершенно для нашего взгляд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Тит Лукреций Ка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«Природа вещей»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т? (Мельчайшие частицы покидают его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усский ученый М.В.Ломоносов (1711 – 1765) в своих трудах впервые стал говорить о сложных частицах, которые состоят из простых частиц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IX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веке ученые доказали существование мельчайших частиц вещества, «между которыми есть пустые промежутки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873ED-16B9-4900-8C24-0A40461B361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ло – вещество - молекул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8080"/>
                </a:solidFill>
                <a:latin typeface="Arial"/>
              </a:rPr>
              <a:t>Молекулы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– частицы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з которых состоят веществ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E1863-0DEB-48CB-AE6C-A731C526C25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аждому веществу соответстует определенный вид молеку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BC579-9906-4D34-AF80-D22FFD202D8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24A7F-9FA9-4502-832E-F45C7AE7CB9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чащиеся работают с текстом п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Характеристика молеку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лекула – наименьшая частица веществ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лекулы одного и того же вещества одинаков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меры молекул очень мал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жду молекулами есть промежут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лекулы постоянно находятся в движен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раграфа 9, стр.41. Вопрос: Можно ли разделить молекулу? Можн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EC35-918B-4834-BA0E-8303BBAE1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54EB-B00D-4F22-899F-7F778168A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DF46-DE9F-44CD-8059-4E60B581C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3DF6-887B-4B36-BF0C-C126874AE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9B42C-D646-419E-88E8-53DB4F191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CD7D8-5BD7-48B8-A100-EE28AA8D2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5392D-620C-4176-8A47-C01F7486C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AC8AB-7717-4443-89B5-EE81E4329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0F9E5-6EF8-4AE6-A600-002278015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15416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DACB5-2BAB-4266-AF44-9D7B2813B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150EE-0BD6-43EC-A388-0A54B9388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BAA9-763E-429F-B896-3FDF5028D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CAA83-C94C-47C6-9002-96438BF7F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CC4DB-57F5-4C16-A07B-FFF9D84D5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CA580-2B26-4850-B4AE-7D24703AD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5FC16-3105-4520-88E2-CE2CD71EB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EBC45-1E95-4835-A4B5-63E7195C3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97D7-DA2F-4953-92C1-0D1509834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439C-A280-4C52-94F2-0FB7FF840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BF60-CA5A-4706-9E69-1F6E689EF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115416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90AA-A73C-4D1A-A72C-9C60FAE36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C155-C8C7-4168-B3C1-A3C390299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38C9-EB2A-47E4-B56D-DA6914244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A29D-57C7-4383-9971-CB1178970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00"/>
            </a:gs>
            <a:gs pos="100000">
              <a:srgbClr val="ffe8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4560" y="-617040"/>
            <a:ext cx="9178560" cy="7475040"/>
            <a:chOff x="-34560" y="-617040"/>
            <a:chExt cx="9178560" cy="7475040"/>
          </a:xfrm>
        </p:grpSpPr>
        <p:sp>
          <p:nvSpPr>
            <p:cNvPr id="1" name="Rectangle 3"/>
            <p:cNvSpPr/>
            <p:nvPr/>
          </p:nvSpPr>
          <p:spPr>
            <a:xfrm>
              <a:off x="0" y="477720"/>
              <a:ext cx="9144000" cy="115416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1776240" cy="6858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-34560" y="-617040"/>
              <a:ext cx="8454240" cy="1951920"/>
              <a:chOff x="-34560" y="-617040"/>
              <a:chExt cx="8454240" cy="1951920"/>
            </a:xfrm>
          </p:grpSpPr>
          <p:sp>
            <p:nvSpPr>
              <p:cNvPr id="4" name="Freeform 6"/>
              <p:cNvSpPr/>
              <p:nvPr/>
            </p:nvSpPr>
            <p:spPr>
              <a:xfrm rot="21092400">
                <a:off x="-23400" y="831600"/>
                <a:ext cx="1680840" cy="272880"/>
              </a:xfrm>
              <a:custGeom>
                <a:avLst/>
                <a:gdLst/>
                <a:ahLst/>
                <a:rect l="l" t="t" r="r" b="b"/>
                <a:pathLst>
                  <a:path w="1059" h="172">
                    <a:moveTo>
                      <a:pt x="1059" y="0"/>
                    </a:moveTo>
                    <a:cubicBezTo>
                      <a:pt x="543" y="45"/>
                      <a:pt x="291" y="112"/>
                      <a:pt x="147" y="144"/>
                    </a:cubicBezTo>
                    <a:cubicBezTo>
                      <a:pt x="0" y="172"/>
                      <a:pt x="153" y="147"/>
                      <a:pt x="177" y="171"/>
                    </a:cubicBezTo>
                    <a:cubicBezTo>
                      <a:pt x="329" y="151"/>
                      <a:pt x="339" y="99"/>
                      <a:pt x="1059" y="24"/>
                    </a:cubicBezTo>
                    <a:cubicBezTo>
                      <a:pt x="1059" y="24"/>
                      <a:pt x="1059" y="0"/>
                      <a:pt x="1059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5ebc1"/>
                  </a:gs>
                  <a:gs pos="100000">
                    <a:srgbClr val="00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rot="21092400">
                <a:off x="1838160" y="-141120"/>
                <a:ext cx="6543360" cy="1000080"/>
              </a:xfrm>
              <a:custGeom>
                <a:avLst/>
                <a:gdLst/>
                <a:ahLst/>
                <a:rect l="l" t="t" r="r" b="b"/>
                <a:pathLst>
                  <a:path w="4122" h="630">
                    <a:moveTo>
                      <a:pt x="0" y="204"/>
                    </a:moveTo>
                    <a:cubicBezTo>
                      <a:pt x="255" y="198"/>
                      <a:pt x="1686" y="0"/>
                      <a:pt x="3544" y="348"/>
                    </a:cubicBezTo>
                    <a:cubicBezTo>
                      <a:pt x="4122" y="464"/>
                      <a:pt x="3754" y="614"/>
                      <a:pt x="3680" y="630"/>
                    </a:cubicBezTo>
                    <a:cubicBezTo>
                      <a:pt x="3680" y="630"/>
                      <a:pt x="3642" y="626"/>
                      <a:pt x="3616" y="624"/>
                    </a:cubicBezTo>
                    <a:cubicBezTo>
                      <a:pt x="3678" y="612"/>
                      <a:pt x="4118" y="488"/>
                      <a:pt x="3534" y="368"/>
                    </a:cubicBezTo>
                    <a:cubicBezTo>
                      <a:pt x="2029" y="98"/>
                      <a:pt x="696" y="156"/>
                      <a:pt x="17" y="231"/>
                    </a:cubicBezTo>
                    <a:cubicBezTo>
                      <a:pt x="17" y="231"/>
                      <a:pt x="0" y="204"/>
                      <a:pt x="0" y="204"/>
                    </a:cubicBez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" name="Group 8"/>
              <p:cNvGrpSpPr/>
              <p:nvPr/>
            </p:nvGrpSpPr>
            <p:grpSpPr>
              <a:xfrm>
                <a:off x="1584000" y="517680"/>
                <a:ext cx="304560" cy="304560"/>
                <a:chOff x="1584000" y="517680"/>
                <a:chExt cx="304560" cy="304560"/>
              </a:xfrm>
            </p:grpSpPr>
            <p:sp>
              <p:nvSpPr>
                <p:cNvPr id="7" name="Oval 9"/>
                <p:cNvSpPr/>
                <p:nvPr/>
              </p:nvSpPr>
              <p:spPr>
                <a:xfrm>
                  <a:off x="1584000" y="517680"/>
                  <a:ext cx="304560" cy="304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" name="Oval 10"/>
                <p:cNvSpPr/>
                <p:nvPr/>
              </p:nvSpPr>
              <p:spPr>
                <a:xfrm>
                  <a:off x="1736280" y="59832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" name="Oval 11"/>
                <p:cNvSpPr/>
                <p:nvPr/>
              </p:nvSpPr>
              <p:spPr>
                <a:xfrm>
                  <a:off x="1631520" y="5554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" name="Oval 12"/>
                <p:cNvSpPr/>
                <p:nvPr/>
              </p:nvSpPr>
              <p:spPr>
                <a:xfrm>
                  <a:off x="1631520" y="641520"/>
                  <a:ext cx="7416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" name="Oval 13"/>
                <p:cNvSpPr/>
                <p:nvPr/>
              </p:nvSpPr>
              <p:spPr>
                <a:xfrm>
                  <a:off x="1702800" y="66996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" name="Oval 14"/>
                <p:cNvSpPr/>
                <p:nvPr/>
              </p:nvSpPr>
              <p:spPr>
                <a:xfrm>
                  <a:off x="1798200" y="66024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1721880" y="7318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" name="Oval 16"/>
                <p:cNvSpPr/>
                <p:nvPr/>
              </p:nvSpPr>
              <p:spPr>
                <a:xfrm>
                  <a:off x="1631520" y="7174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" name="Oval 17"/>
                <p:cNvSpPr/>
                <p:nvPr/>
              </p:nvSpPr>
              <p:spPr>
                <a:xfrm>
                  <a:off x="1717200" y="522360"/>
                  <a:ext cx="7416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" name="Rectangle 18"/>
            <p:cNvSpPr/>
            <p:nvPr/>
          </p:nvSpPr>
          <p:spPr>
            <a:xfrm>
              <a:off x="676440" y="1881360"/>
              <a:ext cx="1112760" cy="4976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 Narrow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FFF44-708A-4121-AA4D-F67736BA23D0}" type="slidenum">
              <a:rPr b="0" lang="ru-RU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00"/>
            </a:gs>
            <a:gs pos="100000">
              <a:srgbClr val="ffe8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9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60" name="Rectangle 4"/>
              <p:cNvSpPr/>
              <p:nvPr/>
            </p:nvSpPr>
            <p:spPr>
              <a:xfrm>
                <a:off x="0" y="1981080"/>
                <a:ext cx="9144000" cy="17528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5"/>
              <p:cNvSpPr/>
              <p:nvPr/>
            </p:nvSpPr>
            <p:spPr>
              <a:xfrm>
                <a:off x="0" y="0"/>
                <a:ext cx="1776240" cy="685800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" name="Rectangle 6"/>
            <p:cNvSpPr/>
            <p:nvPr/>
          </p:nvSpPr>
          <p:spPr>
            <a:xfrm>
              <a:off x="1295280" y="4114800"/>
              <a:ext cx="1113120" cy="2743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Group 7"/>
          <p:cNvGrpSpPr/>
          <p:nvPr/>
        </p:nvGrpSpPr>
        <p:grpSpPr>
          <a:xfrm>
            <a:off x="-10800" y="895680"/>
            <a:ext cx="8454600" cy="1951920"/>
            <a:chOff x="-10800" y="895680"/>
            <a:chExt cx="8454600" cy="1951920"/>
          </a:xfrm>
        </p:grpSpPr>
        <p:sp>
          <p:nvSpPr>
            <p:cNvPr id="64" name="Freeform 8"/>
            <p:cNvSpPr/>
            <p:nvPr/>
          </p:nvSpPr>
          <p:spPr>
            <a:xfrm rot="21092400">
              <a:off x="0" y="2344680"/>
              <a:ext cx="1681200" cy="273240"/>
            </a:xfrm>
            <a:custGeom>
              <a:avLst/>
              <a:gdLst/>
              <a:ahLst/>
              <a:rect l="l" t="t" r="r" b="b"/>
              <a:pathLst>
                <a:path w="1059" h="172">
                  <a:moveTo>
                    <a:pt x="1059" y="0"/>
                  </a:moveTo>
                  <a:cubicBezTo>
                    <a:pt x="543" y="45"/>
                    <a:pt x="291" y="112"/>
                    <a:pt x="147" y="144"/>
                  </a:cubicBezTo>
                  <a:cubicBezTo>
                    <a:pt x="0" y="172"/>
                    <a:pt x="153" y="147"/>
                    <a:pt x="177" y="171"/>
                  </a:cubicBezTo>
                  <a:cubicBezTo>
                    <a:pt x="329" y="151"/>
                    <a:pt x="339" y="99"/>
                    <a:pt x="1059" y="24"/>
                  </a:cubicBezTo>
                  <a:cubicBezTo>
                    <a:pt x="1059" y="24"/>
                    <a:pt x="1059" y="0"/>
                    <a:pt x="105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5ebc1"/>
                </a:gs>
                <a:gs pos="100000">
                  <a:srgbClr val="00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9"/>
            <p:cNvSpPr/>
            <p:nvPr/>
          </p:nvSpPr>
          <p:spPr>
            <a:xfrm rot="21092400">
              <a:off x="1862280" y="1371240"/>
              <a:ext cx="6543360" cy="1000080"/>
            </a:xfrm>
            <a:custGeom>
              <a:avLst/>
              <a:gdLst/>
              <a:ahLst/>
              <a:rect l="l" t="t" r="r" b="b"/>
              <a:pathLst>
                <a:path w="4122" h="630">
                  <a:moveTo>
                    <a:pt x="0" y="204"/>
                  </a:moveTo>
                  <a:cubicBezTo>
                    <a:pt x="255" y="198"/>
                    <a:pt x="1686" y="0"/>
                    <a:pt x="3544" y="348"/>
                  </a:cubicBezTo>
                  <a:cubicBezTo>
                    <a:pt x="4122" y="464"/>
                    <a:pt x="3754" y="614"/>
                    <a:pt x="3680" y="630"/>
                  </a:cubicBezTo>
                  <a:cubicBezTo>
                    <a:pt x="3680" y="630"/>
                    <a:pt x="3642" y="626"/>
                    <a:pt x="3616" y="624"/>
                  </a:cubicBezTo>
                  <a:cubicBezTo>
                    <a:pt x="3678" y="612"/>
                    <a:pt x="4118" y="488"/>
                    <a:pt x="3534" y="368"/>
                  </a:cubicBezTo>
                  <a:cubicBezTo>
                    <a:pt x="2029" y="98"/>
                    <a:pt x="696" y="156"/>
                    <a:pt x="17" y="231"/>
                  </a:cubicBezTo>
                  <a:cubicBezTo>
                    <a:pt x="17" y="231"/>
                    <a:pt x="0" y="204"/>
                    <a:pt x="0" y="204"/>
                  </a:cubicBez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" name="Group 10"/>
            <p:cNvGrpSpPr/>
            <p:nvPr/>
          </p:nvGrpSpPr>
          <p:grpSpPr>
            <a:xfrm>
              <a:off x="1600200" y="1981080"/>
              <a:ext cx="456840" cy="456840"/>
              <a:chOff x="1600200" y="1981080"/>
              <a:chExt cx="456840" cy="456840"/>
            </a:xfrm>
          </p:grpSpPr>
          <p:sp>
            <p:nvSpPr>
              <p:cNvPr id="67" name="Oval 11"/>
              <p:cNvSpPr/>
              <p:nvPr/>
            </p:nvSpPr>
            <p:spPr>
              <a:xfrm>
                <a:off x="1600200" y="1981080"/>
                <a:ext cx="456840" cy="456840"/>
              </a:xfrm>
              <a:prstGeom prst="ellipse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Oval 12"/>
              <p:cNvSpPr/>
              <p:nvPr/>
            </p:nvSpPr>
            <p:spPr>
              <a:xfrm>
                <a:off x="1828800" y="210204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Oval 13"/>
              <p:cNvSpPr/>
              <p:nvPr/>
            </p:nvSpPr>
            <p:spPr>
              <a:xfrm>
                <a:off x="1671840" y="20376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Oval 14"/>
              <p:cNvSpPr/>
              <p:nvPr/>
            </p:nvSpPr>
            <p:spPr>
              <a:xfrm>
                <a:off x="1671840" y="2166840"/>
                <a:ext cx="111600" cy="1137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Oval 15"/>
              <p:cNvSpPr/>
              <p:nvPr/>
            </p:nvSpPr>
            <p:spPr>
              <a:xfrm>
                <a:off x="1778760" y="220932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Oval 16"/>
              <p:cNvSpPr/>
              <p:nvPr/>
            </p:nvSpPr>
            <p:spPr>
              <a:xfrm>
                <a:off x="1921680" y="219492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Oval 17"/>
              <p:cNvSpPr/>
              <p:nvPr/>
            </p:nvSpPr>
            <p:spPr>
              <a:xfrm>
                <a:off x="1807200" y="23022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Oval 18"/>
              <p:cNvSpPr/>
              <p:nvPr/>
            </p:nvSpPr>
            <p:spPr>
              <a:xfrm>
                <a:off x="1671840" y="22806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Oval 19"/>
              <p:cNvSpPr/>
              <p:nvPr/>
            </p:nvSpPr>
            <p:spPr>
              <a:xfrm>
                <a:off x="1800360" y="1987920"/>
                <a:ext cx="111600" cy="1137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 Narrow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13CCD-4CF0-4E9F-BE29-A1D77E877726}" type="slidenum">
              <a:rPr b="0" lang="ru-RU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843280" y="2565000"/>
            <a:ext cx="316872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Атомы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5" name="Rectangle 8"/>
          <p:cNvSpPr/>
          <p:nvPr/>
        </p:nvSpPr>
        <p:spPr>
          <a:xfrm>
            <a:off x="395280" y="404640"/>
            <a:ext cx="44640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Молекул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9"/>
          <p:cNvSpPr/>
          <p:nvPr/>
        </p:nvSpPr>
        <p:spPr>
          <a:xfrm>
            <a:off x="4284720" y="4653000"/>
            <a:ext cx="446544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Элемен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 Narrow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11.avi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 Narrow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11280" y="45684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Тело – вещество – молекула – атом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64" name="Picture 6" descr="атом2"/>
          <p:cNvPicPr/>
          <p:nvPr/>
        </p:nvPicPr>
        <p:blipFill>
          <a:blip r:embed="rId1"/>
          <a:srcRect l="0" t="0" r="0" b="5221"/>
          <a:stretch/>
        </p:blipFill>
        <p:spPr>
          <a:xfrm>
            <a:off x="2843280" y="1844640"/>
            <a:ext cx="3425760" cy="344808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7"/>
          <p:cNvSpPr/>
          <p:nvPr/>
        </p:nvSpPr>
        <p:spPr>
          <a:xfrm>
            <a:off x="3851280" y="5661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8"/>
          <p:cNvSpPr/>
          <p:nvPr/>
        </p:nvSpPr>
        <p:spPr>
          <a:xfrm>
            <a:off x="1486080" y="5516640"/>
            <a:ext cx="646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Атомы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– частицы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з которых состоят молекул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 Narrow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атом.avi" descr=""/>
          <p:cNvPicPr/>
          <p:nvPr/>
        </p:nvPicPr>
        <p:blipFill>
          <a:blip r:embed="rId1"/>
          <a:stretch/>
        </p:blipFill>
        <p:spPr>
          <a:xfrm>
            <a:off x="684360" y="476280"/>
            <a:ext cx="7885080" cy="5913360"/>
          </a:xfrm>
          <a:prstGeom prst="rect">
            <a:avLst/>
          </a:prstGeom>
          <a:ln w="0">
            <a:noFill/>
          </a:ln>
        </p:spPr>
      </p:pic>
      <p:sp>
        <p:nvSpPr>
          <p:cNvPr id="1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 Narrow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9" nodeType="clickEffect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1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Narrow"/>
              </a:rPr>
              <a:t>Строение молекул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1" name="AutoShape 4"/>
          <p:cNvSpPr/>
          <p:nvPr/>
        </p:nvSpPr>
        <p:spPr>
          <a:xfrm>
            <a:off x="755640" y="1916280"/>
            <a:ext cx="457200" cy="45720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5"/>
          <p:cNvSpPr/>
          <p:nvPr/>
        </p:nvSpPr>
        <p:spPr>
          <a:xfrm>
            <a:off x="1187280" y="1916280"/>
            <a:ext cx="457200" cy="45720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6"/>
          <p:cNvSpPr/>
          <p:nvPr/>
        </p:nvSpPr>
        <p:spPr>
          <a:xfrm>
            <a:off x="4211640" y="1989000"/>
            <a:ext cx="457200" cy="45720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7"/>
          <p:cNvSpPr/>
          <p:nvPr/>
        </p:nvSpPr>
        <p:spPr>
          <a:xfrm>
            <a:off x="3780000" y="1989000"/>
            <a:ext cx="457200" cy="45720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8"/>
          <p:cNvSpPr/>
          <p:nvPr/>
        </p:nvSpPr>
        <p:spPr>
          <a:xfrm>
            <a:off x="179280" y="2421000"/>
            <a:ext cx="2160720" cy="16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олекул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ислор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14"/>
          <p:cNvSpPr/>
          <p:nvPr/>
        </p:nvSpPr>
        <p:spPr>
          <a:xfrm flipH="1">
            <a:off x="468000" y="3716280"/>
            <a:ext cx="647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15"/>
          <p:cNvSpPr/>
          <p:nvPr/>
        </p:nvSpPr>
        <p:spPr>
          <a:xfrm>
            <a:off x="1116000" y="3716280"/>
            <a:ext cx="647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16"/>
          <p:cNvSpPr/>
          <p:nvPr/>
        </p:nvSpPr>
        <p:spPr>
          <a:xfrm>
            <a:off x="250920" y="5805360"/>
            <a:ext cx="457200" cy="45720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17"/>
          <p:cNvSpPr/>
          <p:nvPr/>
        </p:nvSpPr>
        <p:spPr>
          <a:xfrm>
            <a:off x="1476360" y="5805360"/>
            <a:ext cx="457200" cy="45720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8"/>
          <p:cNvSpPr/>
          <p:nvPr/>
        </p:nvSpPr>
        <p:spPr>
          <a:xfrm>
            <a:off x="0" y="4221000"/>
            <a:ext cx="1042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ат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исло-род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9"/>
          <p:cNvSpPr/>
          <p:nvPr/>
        </p:nvSpPr>
        <p:spPr>
          <a:xfrm>
            <a:off x="1187280" y="4221000"/>
            <a:ext cx="1151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ат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исл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од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20"/>
          <p:cNvSpPr/>
          <p:nvPr/>
        </p:nvSpPr>
        <p:spPr>
          <a:xfrm>
            <a:off x="3132000" y="2492280"/>
            <a:ext cx="216072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олекул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одор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21"/>
          <p:cNvSpPr/>
          <p:nvPr/>
        </p:nvSpPr>
        <p:spPr>
          <a:xfrm flipH="1">
            <a:off x="3563640" y="3789360"/>
            <a:ext cx="647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22"/>
          <p:cNvSpPr/>
          <p:nvPr/>
        </p:nvSpPr>
        <p:spPr>
          <a:xfrm>
            <a:off x="4211640" y="3789360"/>
            <a:ext cx="647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23"/>
          <p:cNvSpPr/>
          <p:nvPr/>
        </p:nvSpPr>
        <p:spPr>
          <a:xfrm>
            <a:off x="2987640" y="4292640"/>
            <a:ext cx="115092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ат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д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од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25"/>
          <p:cNvSpPr/>
          <p:nvPr/>
        </p:nvSpPr>
        <p:spPr>
          <a:xfrm>
            <a:off x="4284720" y="4292640"/>
            <a:ext cx="115092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ат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д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од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26"/>
          <p:cNvSpPr/>
          <p:nvPr/>
        </p:nvSpPr>
        <p:spPr>
          <a:xfrm>
            <a:off x="3276720" y="5734080"/>
            <a:ext cx="457200" cy="45720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27"/>
          <p:cNvSpPr/>
          <p:nvPr/>
        </p:nvSpPr>
        <p:spPr>
          <a:xfrm>
            <a:off x="4643280" y="5734080"/>
            <a:ext cx="457200" cy="45720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28"/>
          <p:cNvSpPr/>
          <p:nvPr/>
        </p:nvSpPr>
        <p:spPr>
          <a:xfrm>
            <a:off x="6732720" y="2060640"/>
            <a:ext cx="457200" cy="45720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29"/>
          <p:cNvSpPr/>
          <p:nvPr/>
        </p:nvSpPr>
        <p:spPr>
          <a:xfrm>
            <a:off x="7093080" y="1773360"/>
            <a:ext cx="457200" cy="45720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30"/>
          <p:cNvSpPr/>
          <p:nvPr/>
        </p:nvSpPr>
        <p:spPr>
          <a:xfrm>
            <a:off x="7451640" y="2060640"/>
            <a:ext cx="457200" cy="45720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31"/>
          <p:cNvSpPr/>
          <p:nvPr/>
        </p:nvSpPr>
        <p:spPr>
          <a:xfrm>
            <a:off x="6300720" y="2565360"/>
            <a:ext cx="2160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олекул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32"/>
          <p:cNvSpPr/>
          <p:nvPr/>
        </p:nvSpPr>
        <p:spPr>
          <a:xfrm flipH="1">
            <a:off x="6732360" y="3860640"/>
            <a:ext cx="64764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33"/>
          <p:cNvSpPr/>
          <p:nvPr/>
        </p:nvSpPr>
        <p:spPr>
          <a:xfrm>
            <a:off x="7380360" y="3860640"/>
            <a:ext cx="64764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34"/>
          <p:cNvSpPr/>
          <p:nvPr/>
        </p:nvSpPr>
        <p:spPr>
          <a:xfrm>
            <a:off x="7380360" y="386064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35"/>
          <p:cNvSpPr/>
          <p:nvPr/>
        </p:nvSpPr>
        <p:spPr>
          <a:xfrm>
            <a:off x="6590160" y="4365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36"/>
          <p:cNvSpPr/>
          <p:nvPr/>
        </p:nvSpPr>
        <p:spPr>
          <a:xfrm>
            <a:off x="7166520" y="4653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38"/>
          <p:cNvSpPr/>
          <p:nvPr/>
        </p:nvSpPr>
        <p:spPr>
          <a:xfrm>
            <a:off x="7812000" y="436572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39"/>
          <p:cNvSpPr/>
          <p:nvPr/>
        </p:nvSpPr>
        <p:spPr>
          <a:xfrm>
            <a:off x="7164360" y="5300640"/>
            <a:ext cx="457200" cy="45720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40"/>
          <p:cNvSpPr/>
          <p:nvPr/>
        </p:nvSpPr>
        <p:spPr>
          <a:xfrm>
            <a:off x="6300720" y="4869000"/>
            <a:ext cx="457200" cy="45720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41"/>
          <p:cNvSpPr/>
          <p:nvPr/>
        </p:nvSpPr>
        <p:spPr>
          <a:xfrm>
            <a:off x="8028000" y="4941720"/>
            <a:ext cx="457200" cy="45720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 Narrow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Тело – вещество – молекула – атом – химический элемент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1116000" y="2276640"/>
            <a:ext cx="7035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Химический элемент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пределенный вид атом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5"/>
          <p:cNvSpPr/>
          <p:nvPr/>
        </p:nvSpPr>
        <p:spPr>
          <a:xfrm>
            <a:off x="1116000" y="4149720"/>
            <a:ext cx="7035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Химический знак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бозначает один атом химического элемент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 Narrow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молекула. атом.вещество.wmv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 Narrow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207"/>
                    </p:tgtEl>
                  </p:cond>
                </p:stCondLst>
                <p:childTnLst>
                  <p:par>
                    <p:cTn id="15" nodeType="clickEffect" fill="hold">
                      <p:stCondLst>
                        <p:cond evt="onClick">
                          <p:tgtEl>
                            <p:spTgt spid="207"/>
                          </p:tgtEl>
                        </p:cond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2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Narrow"/>
              </a:rPr>
              <a:t>Закрепление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Что обозначает запись?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 Narrow"/>
              </a:rPr>
              <a:t>О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3</a:t>
            </a: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 (озон)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 Narrow"/>
              </a:rPr>
              <a:t>СН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4</a:t>
            </a: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 (метан)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 (</a:t>
            </a: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азот)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Cl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 (</a:t>
            </a: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хлор)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 Narrow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Narrow"/>
              </a:rPr>
              <a:t>Характеристика тела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77300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Дать характеристику любому природному телу по плану: тело, вещество, молекула, атомы, химические элементы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Пример: Сосулька (тело) – вода (вещество) – молекула (молекула воды) – атомы (атомы водорода и кислорода) – химические элементы (водород и кислород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 Narrow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Narrow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77300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Параграф 9, 10 (читать, выучить определения);  рабочая тетрадь задание 34-35, 36-38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 Narrow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" descr="water"/>
          <p:cNvPicPr/>
          <p:nvPr/>
        </p:nvPicPr>
        <p:blipFill>
          <a:blip r:embed="rId1"/>
          <a:stretch/>
        </p:blipFill>
        <p:spPr>
          <a:xfrm>
            <a:off x="6400800" y="914400"/>
            <a:ext cx="2438280" cy="22366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i"/>
          <p:cNvPicPr/>
          <p:nvPr/>
        </p:nvPicPr>
        <p:blipFill>
          <a:blip r:embed="rId2"/>
          <a:stretch/>
        </p:blipFill>
        <p:spPr>
          <a:xfrm>
            <a:off x="4343400" y="1905120"/>
            <a:ext cx="1890720" cy="19098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Z7ZV1XCATNEC85CAEVXSOQCAW1FG3XCAS9WATOCAKK2JIECAGA8B77CASVFZEWCAH3KFU6CAZWXY81CA62H4H6CAMVH3XNCAKD2TPRCALKLVYDCA0X6BBBCAL4ANZ4CAIM1XSQCA2SALKFCA0Z6VNICAYI31YV"/>
          <p:cNvPicPr/>
          <p:nvPr/>
        </p:nvPicPr>
        <p:blipFill>
          <a:blip r:embed="rId3"/>
          <a:stretch/>
        </p:blipFill>
        <p:spPr>
          <a:xfrm>
            <a:off x="2209680" y="3200400"/>
            <a:ext cx="1981440" cy="17524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" descr="WVQTL8CA02E0KFCAPXD3H6CA4WV9I6CAOPO1WCCA0U1XUZCAP9QKHWCA7LZXNZCA1ECVYKCAAPM939CABQDRO0CAGT3ZBKCA0H56D4CALDB4GSCAAUQ59BCAPIPGEVCA4SMA6VCAP6DHUKCAK8SWMDCA0KMLIF"/>
          <p:cNvPicPr/>
          <p:nvPr/>
        </p:nvPicPr>
        <p:blipFill>
          <a:blip r:embed="rId4"/>
          <a:stretch/>
        </p:blipFill>
        <p:spPr>
          <a:xfrm>
            <a:off x="380880" y="5029200"/>
            <a:ext cx="1828800" cy="15955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8" descr="T2SHAGCAF2VETQCA7106ZXCAYVOB0ICA8GSAOVCATBWV3WCA3G1LDFCATV4J07CA0QL5KKCAWHC6KECAKHG526CADM8LDYCAA2304ICABMN7GNCAL2CTFYCA0X729VCABP0WNOCAMMAFG8CA95O98HCA6FQX77"/>
          <p:cNvPicPr/>
          <p:nvPr/>
        </p:nvPicPr>
        <p:blipFill>
          <a:blip r:embed="rId5"/>
          <a:stretch/>
        </p:blipFill>
        <p:spPr>
          <a:xfrm>
            <a:off x="4572000" y="4419720"/>
            <a:ext cx="1397160" cy="179064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9"/>
          <p:cNvSpPr/>
          <p:nvPr/>
        </p:nvSpPr>
        <p:spPr>
          <a:xfrm>
            <a:off x="6732720" y="3716280"/>
            <a:ext cx="190476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Кни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Древес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Мя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Рез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Капля в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в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0"/>
          <p:cNvSpPr/>
          <p:nvPr/>
        </p:nvSpPr>
        <p:spPr>
          <a:xfrm>
            <a:off x="2124000" y="189000"/>
            <a:ext cx="424836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Что из перечисленного является физическим телом, а что веществом?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 Narrow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Narrow"/>
              </a:rPr>
              <a:t>С телами и веществами происходят различные изменения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 Narrow"/>
              </a:rPr>
              <a:t>Что произойдет с кусочком льда в теплой комнате?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 Narrow"/>
              </a:rPr>
              <a:t>Что происходит с сахаром в воде?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 Narrow"/>
              </a:rPr>
              <a:t>Что происходит с водой в чайнике, поставленном на огонь?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 Narrow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828800" y="206028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Narrow"/>
              </a:rPr>
              <a:t>Проблемный вопрос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395280" y="3933360"/>
            <a:ext cx="8353440" cy="25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4000" spc="-1" strike="noStrike">
                <a:solidFill>
                  <a:srgbClr val="006600"/>
                </a:solidFill>
                <a:latin typeface="Arial Narrow"/>
              </a:rPr>
              <a:t>Как можно объяснить эти и множество других явлений?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 Narrow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178920" y="1628640"/>
            <a:ext cx="864252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…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На морском берегу, разбивающем волны,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Платье сыреет всегда, а на солнце вися, оно сохнет.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Видеть, однако, нельзя, как влага на нем оседает,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Да и не видно того, как она исчезает от зноя.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Значит дробиться вода на такие мельчайшие части,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Что недоступны они совершенно для нашего взгляда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Тит Лукреций Кар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«Природа вещей»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 Narrow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395280" y="1981080"/>
            <a:ext cx="8353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Русский ученый М.В.Ломоносов (1711 – 1765) в своих трудах впервые стал говорить о сложных частицах, которые состоят из простых частиц. 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В </a:t>
            </a: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XIX</a:t>
            </a: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 веке ученые доказали существование мельчайших частиц вещества, «между которыми есть пустые промежутки».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 Narrow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Narrow"/>
              </a:rPr>
              <a:t>Тело – вещество - молекула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47" name="Picture 4" descr="84679_3"/>
          <p:cNvPicPr/>
          <p:nvPr/>
        </p:nvPicPr>
        <p:blipFill>
          <a:blip r:embed="rId1"/>
          <a:stretch/>
        </p:blipFill>
        <p:spPr>
          <a:xfrm>
            <a:off x="539640" y="1916280"/>
            <a:ext cx="2159280" cy="25905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" descr="84679_1"/>
          <p:cNvPicPr/>
          <p:nvPr/>
        </p:nvPicPr>
        <p:blipFill>
          <a:blip r:embed="rId2"/>
          <a:stretch/>
        </p:blipFill>
        <p:spPr>
          <a:xfrm>
            <a:off x="3492360" y="1916280"/>
            <a:ext cx="2159280" cy="25905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6" descr="84679_2"/>
          <p:cNvPicPr/>
          <p:nvPr/>
        </p:nvPicPr>
        <p:blipFill>
          <a:blip r:embed="rId3"/>
          <a:stretch/>
        </p:blipFill>
        <p:spPr>
          <a:xfrm>
            <a:off x="6588000" y="1916280"/>
            <a:ext cx="2160720" cy="259236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11"/>
          <p:cNvSpPr/>
          <p:nvPr/>
        </p:nvSpPr>
        <p:spPr>
          <a:xfrm>
            <a:off x="685800" y="4581360"/>
            <a:ext cx="177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лекулы га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2"/>
          <p:cNvSpPr/>
          <p:nvPr/>
        </p:nvSpPr>
        <p:spPr>
          <a:xfrm>
            <a:off x="3419280" y="458136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лекулы жидк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3"/>
          <p:cNvSpPr/>
          <p:nvPr/>
        </p:nvSpPr>
        <p:spPr>
          <a:xfrm>
            <a:off x="6156360" y="4581360"/>
            <a:ext cx="28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лекулы твердого те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4"/>
          <p:cNvSpPr/>
          <p:nvPr/>
        </p:nvSpPr>
        <p:spPr>
          <a:xfrm>
            <a:off x="1258920" y="5157720"/>
            <a:ext cx="669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Молекулы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– частицы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з которых состоят веще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 Narrow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76000" y="456840"/>
            <a:ext cx="7667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Каждому веществу соответстует определенный вид молекул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56" name="Picture 4" descr="p4"/>
          <p:cNvPicPr/>
          <p:nvPr/>
        </p:nvPicPr>
        <p:blipFill>
          <a:blip r:embed="rId1"/>
          <a:stretch/>
        </p:blipFill>
        <p:spPr>
          <a:xfrm>
            <a:off x="684360" y="1844640"/>
            <a:ext cx="7710480" cy="4854600"/>
          </a:xfrm>
          <a:prstGeom prst="rect">
            <a:avLst/>
          </a:prstGeom>
          <a:ln w="0">
            <a:noFill/>
          </a:ln>
        </p:spPr>
      </p:pic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 Narrow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Narrow"/>
              </a:rPr>
              <a:t>Характеристика молекул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3640" y="1981080"/>
            <a:ext cx="856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Молекула – наименьшая частица вещества.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Молекулы одного и того же вещества одинаковы.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Размеры молекул очень малы.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Между молекулами есть промежутки.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Молекулы постоянно находятся в движении.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 Narrow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9T06:24:52Z</dcterms:created>
  <dc:creator>st1-9</dc:creator>
  <dc:description/>
  <dc:language>en-US</dc:language>
  <cp:lastModifiedBy>LEGION</cp:lastModifiedBy>
  <dcterms:modified xsi:type="dcterms:W3CDTF">2015-05-01T11:25:25Z</dcterms:modified>
  <cp:revision>76</cp:revision>
  <dc:subject/>
  <dc:title>Атомы</dc:title>
</cp:coreProperties>
</file>