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7F9C-ED28-451A-B0F3-3CBADEA390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60A9-0022-4272-A800-114F63204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A9B1-282F-4E78-88F2-B7B2E642B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D966-6A81-4BFB-801C-A6E2CCA22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4746-21E3-419C-A73E-6D60896C8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3781-2516-48CB-BCA6-C989B743FB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ет несколько толкований происхождения слова «алхимия». Согласно одному из них, корень слова «алхимия» — «khem» означает «черную землю» или «черную страну». Так называли Древний Египет, с которым связывают искусство черных магов, рудознатцев, золотых дел масте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14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8F8B-892F-4007-88C4-E98577A33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7C52-1C66-4205-8E57-42D17EA11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F17B-EA99-4F1A-B247-3C7288A6F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ADD-589A-40A7-A4BB-CF48761DE7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3CAB-AA7F-4A3C-8499-C8DEF7564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8E32-6AAA-4E10-897D-236E26355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C8A-01A5-44BC-AF4C-ACAE6CC7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996-D753-4D31-B9E4-2FFE058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00B-54CB-476A-B1A1-85DCA46A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6A1-A58C-4B71-AC69-4825F8D4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E52-007B-407F-B3FB-E0DEA51D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C4E-E096-4647-830F-5A824AB6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1E1-3A99-4B44-9F26-B274AC27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AD7-DAFE-4524-97D6-AF4D9C7C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C90-BE4D-4CAE-8F67-3AB68A38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424-AF9D-4FE1-B262-6A93C90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047-1017-459B-A837-06E873A1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EBD-BCF1-4044-AF0D-F9DC8FD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BEAE-ADAD-4127-8372-CBC7268E3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80880" y="985680"/>
            <a:ext cx="8305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000099"/>
                    </a:gs>
                    <a:gs pos="100000">
                      <a:srgbClr val="ccecff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едмет химии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ccecff"/>
                  </a:gs>
                  <a:gs pos="5000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5" descr="chemistry"/>
          <p:cNvPicPr/>
          <p:nvPr/>
        </p:nvPicPr>
        <p:blipFill>
          <a:blip r:embed="rId1"/>
          <a:stretch/>
        </p:blipFill>
        <p:spPr>
          <a:xfrm>
            <a:off x="5105520" y="2311560"/>
            <a:ext cx="3262320" cy="300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08760" y="5665680"/>
            <a:ext cx="51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узнецова Ольг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БОУ "Лицей № 3" г.Нориль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00400" y="19810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Же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257800" y="3230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9810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648320" y="4678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OWL"/>
          <p:cNvPicPr/>
          <p:nvPr/>
        </p:nvPicPr>
        <p:blipFill>
          <a:blip r:embed="rId1"/>
          <a:stretch/>
        </p:blipFill>
        <p:spPr>
          <a:xfrm>
            <a:off x="6477120" y="228600"/>
            <a:ext cx="22669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657600" y="1905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71600" y="2819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34120" y="2849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7200" y="4114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Бесформ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876920" y="4114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 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5364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растворимо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72000" y="5105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ддается обработке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OWL"/>
          <p:cNvPicPr/>
          <p:nvPr/>
        </p:nvPicPr>
        <p:blipFill>
          <a:blip r:embed="rId1"/>
          <a:stretch/>
        </p:blipFill>
        <p:spPr>
          <a:xfrm>
            <a:off x="6400800" y="228600"/>
            <a:ext cx="2406600" cy="25891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219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MOLECL2"/>
          <p:cNvPicPr/>
          <p:nvPr/>
        </p:nvPicPr>
        <p:blipFill>
          <a:blip r:embed="rId1"/>
          <a:stretch/>
        </p:blipFill>
        <p:spPr>
          <a:xfrm>
            <a:off x="5029200" y="457200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514600" y="16765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Химический 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22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б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124080" y="396252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0958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1600200" y="3352680"/>
            <a:ext cx="18288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5791320" y="3352680"/>
            <a:ext cx="190476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295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TESTTUB1"/>
          <p:cNvPicPr/>
          <p:nvPr/>
        </p:nvPicPr>
        <p:blipFill>
          <a:blip r:embed="rId1"/>
          <a:stretch/>
        </p:blipFill>
        <p:spPr>
          <a:xfrm>
            <a:off x="2209680" y="2743200"/>
            <a:ext cx="4672080" cy="3795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1219320"/>
            <a:ext cx="807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9680" y="2286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  </a:t>
            </a: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Тела           Вещества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43000" y="1295280"/>
            <a:ext cx="2133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о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943600" y="1295280"/>
            <a:ext cx="2514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е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ирамиды..."/>
          <p:cNvPicPr/>
          <p:nvPr/>
        </p:nvPicPr>
        <p:blipFill>
          <a:blip r:embed="rId1"/>
          <a:stretch/>
        </p:blipFill>
        <p:spPr>
          <a:xfrm>
            <a:off x="250920" y="1447920"/>
            <a:ext cx="4316400" cy="3384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24480" y="475920"/>
            <a:ext cx="46195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494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Великий"/>
          <p:cNvPicPr/>
          <p:nvPr/>
        </p:nvPicPr>
        <p:blipFill>
          <a:blip r:embed="rId1"/>
          <a:stretch/>
        </p:blipFill>
        <p:spPr>
          <a:xfrm>
            <a:off x="5148360" y="838080"/>
            <a:ext cx="3398760" cy="475164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3600"/>
            <a:ext cx="4392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m_043"/>
          <p:cNvPicPr/>
          <p:nvPr/>
        </p:nvPicPr>
        <p:blipFill>
          <a:blip r:embed="rId1"/>
          <a:stretch/>
        </p:blipFill>
        <p:spPr>
          <a:xfrm>
            <a:off x="5364000" y="1773360"/>
            <a:ext cx="3429000" cy="3816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14600" y="7621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Химия изу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3124080" y="2895480"/>
            <a:ext cx="289584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22860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601992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е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1676160" y="2438280"/>
            <a:ext cx="1600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5943600" y="2438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ATOM"/>
          <p:cNvPicPr/>
          <p:nvPr/>
        </p:nvPicPr>
        <p:blipFill>
          <a:blip r:embed="rId1"/>
          <a:stretch/>
        </p:blipFill>
        <p:spPr>
          <a:xfrm>
            <a:off x="6902280" y="380880"/>
            <a:ext cx="200376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CHEMIST"/>
          <p:cNvPicPr/>
          <p:nvPr/>
        </p:nvPicPr>
        <p:blipFill>
          <a:blip r:embed="rId2"/>
          <a:stretch/>
        </p:blipFill>
        <p:spPr>
          <a:xfrm>
            <a:off x="304920" y="304920"/>
            <a:ext cx="1895400" cy="2298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глрп"/>
          <p:cNvPicPr/>
          <p:nvPr/>
        </p:nvPicPr>
        <p:blipFill>
          <a:blip r:embed="rId1"/>
          <a:stretch/>
        </p:blipFill>
        <p:spPr>
          <a:xfrm>
            <a:off x="2876400" y="2743200"/>
            <a:ext cx="33721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22860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20" y="2201760"/>
            <a:ext cx="41907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Хруп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верд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зра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льзя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проводит тепло и 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267080" y="2201760"/>
            <a:ext cx="464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прозра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жно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епло - и электропров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42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90656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581280" y="1981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М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3200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124080" y="3809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562720" y="335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990720" y="4876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62720" y="480060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OWL"/>
          <p:cNvPicPr/>
          <p:nvPr/>
        </p:nvPicPr>
        <p:blipFill>
          <a:blip r:embed="rId1"/>
          <a:stretch/>
        </p:blipFill>
        <p:spPr>
          <a:xfrm>
            <a:off x="6324480" y="304920"/>
            <a:ext cx="24796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1:19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