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B625-551A-4A94-889A-D3CD39C22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D49B-1C57-4F7A-B60E-B75F9B523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28A9-7756-4AB4-A440-A684508179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BE9-9DBC-431E-B062-1C59937AC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D9B0-CA52-4F63-8799-98D0F43E4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6416-9038-43D8-9A7B-18717CC42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ет несколько толкований происхождения слова «алхимия». Согласно одному из них, корень слова «алхимия» — «khem» означает «черную землю» или «черную страну». Так называли Древний Египет, с которым связывают искусство черных магов, рудознатцев, золотых дел масте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14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A0CA-A54C-4E36-9EBA-DFE65791E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03DC-9174-449C-AD74-E0FCE215D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E7A5-DF30-4E6B-85EC-8FDA34C18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F4BF-5D3B-473F-A079-E966B58D8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48CB-F731-44B3-9695-5D884A7F7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7539-C293-4571-A94A-1BE67343E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DD4-3613-4B8A-808F-6962F203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76C-900C-4869-9BA2-AB75EFB7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746-4887-41C3-BF4A-15C7EAB9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0CA-75DF-4FA2-82A7-D0B17998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553-CFF0-41ED-8870-D2B2133A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A8B-D09B-4D82-84A1-52CF03EF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126-9C7B-4AD5-A471-D0728F9B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A30-BEDE-4067-A16E-C98B4DF1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43E-C681-40E5-B8D4-3F40B365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18C-D944-47DC-8DC4-115F0CD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8D3-0D29-4852-A711-7311206F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9EC-053C-4956-AC3C-C3BE1724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B8FF-B50D-4A66-8602-727DC58C3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80880" y="985680"/>
            <a:ext cx="8305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ccecff"/>
                    </a:gs>
                    <a:gs pos="50000">
                      <a:srgbClr val="000099"/>
                    </a:gs>
                    <a:gs pos="100000">
                      <a:srgbClr val="ccecff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редмет химии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ccecff"/>
                  </a:gs>
                  <a:gs pos="5000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5" descr="chemistry"/>
          <p:cNvPicPr/>
          <p:nvPr/>
        </p:nvPicPr>
        <p:blipFill>
          <a:blip r:embed="rId1"/>
          <a:stretch/>
        </p:blipFill>
        <p:spPr>
          <a:xfrm>
            <a:off x="5105520" y="2311560"/>
            <a:ext cx="3262320" cy="300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08760" y="5665680"/>
            <a:ext cx="51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узнецова Ольг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БОУ "Лицей № 3" г.Нориль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00400" y="19810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Же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257800" y="3230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9810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648320" y="4678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OWL"/>
          <p:cNvPicPr/>
          <p:nvPr/>
        </p:nvPicPr>
        <p:blipFill>
          <a:blip r:embed="rId1"/>
          <a:stretch/>
        </p:blipFill>
        <p:spPr>
          <a:xfrm>
            <a:off x="6477120" y="228600"/>
            <a:ext cx="22669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657600" y="1905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71600" y="2819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34120" y="2849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7200" y="4114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Бесформ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876920" y="4114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 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5364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растворимо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72000" y="51055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оддается обработке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OWL"/>
          <p:cNvPicPr/>
          <p:nvPr/>
        </p:nvPicPr>
        <p:blipFill>
          <a:blip r:embed="rId1"/>
          <a:stretch/>
        </p:blipFill>
        <p:spPr>
          <a:xfrm>
            <a:off x="6400800" y="228600"/>
            <a:ext cx="2406600" cy="25891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219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MOLECL2"/>
          <p:cNvPicPr/>
          <p:nvPr/>
        </p:nvPicPr>
        <p:blipFill>
          <a:blip r:embed="rId1"/>
          <a:stretch/>
        </p:blipFill>
        <p:spPr>
          <a:xfrm>
            <a:off x="5029200" y="4572000"/>
            <a:ext cx="266688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514600" y="16765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Химический 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1522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б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124080" y="396252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0958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1600200" y="3352680"/>
            <a:ext cx="182880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5791320" y="3352680"/>
            <a:ext cx="190476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295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TESTTUB1"/>
          <p:cNvPicPr/>
          <p:nvPr/>
        </p:nvPicPr>
        <p:blipFill>
          <a:blip r:embed="rId1"/>
          <a:stretch/>
        </p:blipFill>
        <p:spPr>
          <a:xfrm>
            <a:off x="2209680" y="2743200"/>
            <a:ext cx="4672080" cy="3795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1219320"/>
            <a:ext cx="807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9680" y="2286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  </a:t>
            </a: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Тела           Вещества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43000" y="1295280"/>
            <a:ext cx="2133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о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ров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943600" y="1295280"/>
            <a:ext cx="2514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е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Фар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ирамиды..."/>
          <p:cNvPicPr/>
          <p:nvPr/>
        </p:nvPicPr>
        <p:blipFill>
          <a:blip r:embed="rId1"/>
          <a:stretch/>
        </p:blipFill>
        <p:spPr>
          <a:xfrm>
            <a:off x="250920" y="1447920"/>
            <a:ext cx="4316400" cy="3384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24480" y="475920"/>
            <a:ext cx="46195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494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Великий"/>
          <p:cNvPicPr/>
          <p:nvPr/>
        </p:nvPicPr>
        <p:blipFill>
          <a:blip r:embed="rId1"/>
          <a:stretch/>
        </p:blipFill>
        <p:spPr>
          <a:xfrm>
            <a:off x="5148360" y="838080"/>
            <a:ext cx="3398760" cy="475164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23600"/>
            <a:ext cx="4392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m_043"/>
          <p:cNvPicPr/>
          <p:nvPr/>
        </p:nvPicPr>
        <p:blipFill>
          <a:blip r:embed="rId1"/>
          <a:stretch/>
        </p:blipFill>
        <p:spPr>
          <a:xfrm>
            <a:off x="5364000" y="1773360"/>
            <a:ext cx="3429000" cy="3816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14600" y="7621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Химия изу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3124080" y="2895480"/>
            <a:ext cx="289584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22860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601992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е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1676160" y="2438280"/>
            <a:ext cx="1600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5943600" y="2438280"/>
            <a:ext cx="17524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ATOM"/>
          <p:cNvPicPr/>
          <p:nvPr/>
        </p:nvPicPr>
        <p:blipFill>
          <a:blip r:embed="rId1"/>
          <a:stretch/>
        </p:blipFill>
        <p:spPr>
          <a:xfrm>
            <a:off x="6902280" y="380880"/>
            <a:ext cx="200376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CHEMIST"/>
          <p:cNvPicPr/>
          <p:nvPr/>
        </p:nvPicPr>
        <p:blipFill>
          <a:blip r:embed="rId2"/>
          <a:stretch/>
        </p:blipFill>
        <p:spPr>
          <a:xfrm>
            <a:off x="304920" y="304920"/>
            <a:ext cx="1895400" cy="2298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глрп"/>
          <p:cNvPicPr/>
          <p:nvPr/>
        </p:nvPicPr>
        <p:blipFill>
          <a:blip r:embed="rId1"/>
          <a:stretch/>
        </p:blipFill>
        <p:spPr>
          <a:xfrm>
            <a:off x="2876400" y="2743200"/>
            <a:ext cx="33721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22860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20" y="2201760"/>
            <a:ext cx="41907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Хруп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верд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зра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льзя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проводит тепло и 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267080" y="2201760"/>
            <a:ext cx="464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прозра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жно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епло - и электропров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42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190656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581280" y="1981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М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3200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124080" y="3809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562720" y="335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990720" y="4876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562720" y="4800600"/>
            <a:ext cx="28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OWL"/>
          <p:cNvPicPr/>
          <p:nvPr/>
        </p:nvPicPr>
        <p:blipFill>
          <a:blip r:embed="rId1"/>
          <a:stretch/>
        </p:blipFill>
        <p:spPr>
          <a:xfrm>
            <a:off x="6324480" y="304920"/>
            <a:ext cx="24796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1:19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