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80C8-EDE7-4F7B-9568-895CC1DB59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Металлическ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FE6E-7F3E-4617-B1E2-DBE0770E200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 — химическая связь, обусловленная наличием относительно свободных электронов. Характерна как для чистых металлов, так и их сплавов и интерметалл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1B07-BEFA-4EA9-AE69-26074CB6362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кристаллическая решетка и металлическая связь определяют следующие свойства металлов: ковкость, пластичность, электро- и теплопроводность, металлический блеск, способность к образованию спла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E190-C78C-418D-8BD8-F936492EE3A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 — это способность тела проводить электрический ток, а также физическая величина, характеризующая эту способность и обратная электрическому сопроти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чшие проводники медь и сереб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6033-6769-4423-8C17-E09A896C2D8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чность – важнейшее свойство металлов, выражается в их способности деформироваться под действием механической нагру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пластичны золото, медь, сереб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зделия из золот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745B-B83F-4262-A737-F371553709E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ость – объясняется высокой подвижность. Электронов, которые, сталкиваясь с колеблющимися в узлах решетки атом - ионами металлов, обмениваются с ними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3245-B821-442C-A95C-3BE4EDD0250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дкая поверхность металла или металлического изделия имеет металлический блеск, который является результатом отражения световых лу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отражательной способностью обладают ртуть, серебро, палладий, алюми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AF8C-B19F-4128-992D-1E92F81342C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 имеет чер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а с ковалентной связ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таллической связи общее 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ой – образование 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ой – обобществ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DD97-8C4A-4098-92CD-53BDB23C969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металлической связи с ионной и ковалент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A55D-77C3-4BFB-AE26-79C45BB6BAC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24F-2AE5-434A-8F76-488EFFE2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929-577C-4BE0-A039-1FB8B7C7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261-77AF-40A6-919A-18762200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9AF-B670-4A90-93E7-1D01FD83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F584-303C-4D48-82EF-BEA06FF3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6F08-3EF4-485D-93C1-BF6E8B02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3197-7860-4714-9FAB-EA3DF113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2F27-5E29-4249-A1F8-AF3A0B05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8962-3F81-4C23-A9E1-B79731D0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5E53-47B9-408C-AB78-0D92EBBB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AF6E-B548-4C24-93E6-F1E0E606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F68-2CA6-4037-82A2-5AA331D2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A018-DFE2-495F-BD92-8FC00077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06D3-194B-43E2-97D0-2ECBF09B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4365-24D8-41E1-9098-B51914E6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F840-150B-4475-8836-6C06EA3C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9563-6E93-4E13-89DF-16027E9C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1EA-6556-4179-8CF8-764DDE2C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C5C-CCF2-4B4D-A1C1-2F2F97FC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C77-736D-4214-BA6C-A7882C6D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F9C-669C-4EBC-AB68-28167D46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5C4-F445-4FB6-BA9F-3916737F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7CB-8FFA-429C-A99A-6EBB4D5A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B52-8744-4A6B-B9BB-C6FEA9C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75D0-0861-4B31-BB93-DC651B68B3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7602-2D68-48B6-833A-663562CC27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7"/>
          <p:cNvSpPr txBox="1"/>
          <p:nvPr/>
        </p:nvSpPr>
        <p:spPr>
          <a:xfrm>
            <a:off x="1042920" y="2133720"/>
            <a:ext cx="770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таллическая химическая связь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аллическая связь — химическая связь, обусловленная наличием относительно свободных электронов. Характерна как для чистых металлов, так и их сплавов и интерметаллических соединен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400720" cy="31082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таллическая кристаллическая решетка и металлическая связь определяют следующие свойства металлов: ковкость, пластичность, электро- и теплопроводность, металлический блеск, способность к образованию сплав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16360" cy="387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619800" cy="3301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проводность — это способность тела проводить электрический ток, а также физическая величина, характеризующая эту способность и обратная электрическому сопротивлени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Лучшие проводники медь и серебр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2952720" cy="23367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1486080"/>
            <a:ext cx="5256360" cy="5256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ластичность – важнейшее свойство металлов, выражается в их способности деформироваться под действием механической нагрузк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иболее пластичны золото, медь, серебр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зделия из золо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плопроводность – объясняется высокой подвижность. Электронов, которые, сталкиваясь с колеблющимися в узлах решетки атом - ионами металлов, обмениваются с ними энерги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411280" y="3489480"/>
            <a:ext cx="5289840" cy="33685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адкая поверхность металла или металлического изделия имеет металлический блеск, который является результатом отражения световых луч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окой отражательной способностью обладают ртуть, серебро, палладий, алюмини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аллическая связь имеет черты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ходства с ковалентной связью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 металлической связи общее с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онной – образование ион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валентной – обобществленны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н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личия металлической связи с ионной и ковалентно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45720" cy="5472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19:08Z</dcterms:created>
  <dc:creator>Марина</dc:creator>
  <dc:description/>
  <dc:language>en-US</dc:language>
  <cp:lastModifiedBy>LEGION</cp:lastModifiedBy>
  <dcterms:modified xsi:type="dcterms:W3CDTF">2015-05-01T11:19:33Z</dcterms:modified>
  <cp:revision>5</cp:revision>
  <dc:subject/>
  <dc:title>Металлическая химическая связь</dc:title>
</cp:coreProperties>
</file>