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908D-7BE4-43A5-A3A3-E18EE7B404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Металлическ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8F45-7905-4713-98E6-92BEF5E3EBC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 — химическая связь, обусловленная наличием относительно свободных электронов. Характерна как для чистых металлов, так и их сплавов и интерметалл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D899-B2CB-4549-95C9-B81507270CE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кристаллическая решетка и металлическая связь определяют следующие свойства металлов: ковкость, пластичность, электро- и теплопроводность, металлический блеск, способность к образованию спла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9AF4-51D9-4967-8B62-51433E180E1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 — это способность тела проводить электрический ток, а также физическая величина, характеризующая эту способность и обратная электрическому сопроти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чшие проводники медь и сереб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1756-AA67-4BFE-9FE8-F27D50E949E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чность – важнейшее свойство металлов, выражается в их способности деформироваться под действием механической нагру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пластичны золото, медь, сереб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зделия из золот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79F7-CEA0-4008-9FE2-0D62F5B7422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ость – объясняется высокой подвижность. Электронов, которые, сталкиваясь с колеблющимися в узлах решетки атом - ионами металлов, обмениваются с ними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95F6-BEF6-4DB6-9E72-BFF2C2D01BC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дкая поверхность металла или металлического изделия имеет металлический блеск, который является результатом отражения световых лу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отражательной способностью обладают ртуть, серебро, палладий, алюми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948B-9C17-46BB-9CC6-AB19D6517FC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 имеет чер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а с ковалентной связ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таллической связи общее 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ой – образование 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ой – обобществ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09F1-91B9-4877-8E3F-38C6DE7EEBF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металлической связи с ионной и ковалент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4BE9-21A5-453A-89AA-CD85DD1691A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28DD-0E79-4D42-BEFF-C8A8F674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7D2-4378-4097-A048-B7EAB3D9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32B-AD43-4C9A-9C4F-A35401C0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CD3-0D5B-46D7-86AD-3799D45A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4878-2ECE-437A-8C04-13DE47B8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1013-1922-43F4-9779-CAACD788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9DDF-660B-4BB7-94CF-A0D85E9D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C904-2435-44D4-9FFB-472B02FA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DD03-64E3-44A5-A4AD-97F16DAF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923E-CC34-4C36-8355-45A375BE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2169-FE4E-4B46-AB8E-763FA74C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297-154B-4F05-BE05-3CB5949A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F76E-2AFC-4AB8-BDEE-B01C0453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0490-B237-42CD-81B8-3333504A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F033-90C8-4EF0-90F7-D6B0AD13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5495-45A5-451B-9E9E-DBFC81BF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911D-11A2-41C6-AF0D-D72C001E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66B-606D-4740-AEE4-56A91187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E9D-DA0E-4CE5-9421-6654C77B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502-7080-4F13-AAC2-B32BAF89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DE3-9F06-4B55-9F44-8E251B55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065A-112E-4481-83D5-8A18E603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0B0-9074-425D-92A5-2BE6391F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98A-1B2C-407A-9E1B-4CB3F58E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2AA3-8035-4E7E-8F48-897B806828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1696-E66C-4587-ABF1-573D76A937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7"/>
          <p:cNvSpPr txBox="1"/>
          <p:nvPr/>
        </p:nvSpPr>
        <p:spPr>
          <a:xfrm>
            <a:off x="1042920" y="2133720"/>
            <a:ext cx="770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таллическая химическая связь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аллическая связь — химическая связь, обусловленная наличием относительно свободных электронов. Характерна как для чистых металлов, так и их сплавов и интерметаллических соединен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400720" cy="31082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таллическая кристаллическая решетка и металлическая связь определяют следующие свойства металлов: ковкость, пластичность, электро- и теплопроводность, металлический блеск, способность к образованию сплав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16360" cy="387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619800" cy="3301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проводность — это способность тела проводить электрический ток, а также физическая величина, характеризующая эту способность и обратная электрическому сопротивлени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Лучшие проводники медь и серебр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2952720" cy="23367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1486080"/>
            <a:ext cx="5256360" cy="5256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ластичность – важнейшее свойство металлов, выражается в их способности деформироваться под действием механической нагрузк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иболее пластичны золото, медь, серебр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зделия из золо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плопроводность – объясняется высокой подвижность. Электронов, которые, сталкиваясь с колеблющимися в узлах решетки атом - ионами металлов, обмениваются с ними энерги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411280" y="3489480"/>
            <a:ext cx="5289840" cy="33685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адкая поверхность металла или металлического изделия имеет металлический блеск, который является результатом отражения световых луч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окой отражательной способностью обладают ртуть, серебро, палладий, алюмини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аллическая связь имеет черты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ходства с ковалентной связью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 металлической связи общее с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онной – образование ион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валентной – обобществленны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н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личия металлической связи с ионной и ковалентно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45720" cy="5472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19:08Z</dcterms:created>
  <dc:creator>Марина</dc:creator>
  <dc:description/>
  <dc:language>en-US</dc:language>
  <cp:lastModifiedBy>LEGION</cp:lastModifiedBy>
  <dcterms:modified xsi:type="dcterms:W3CDTF">2015-05-01T11:19:33Z</dcterms:modified>
  <cp:revision>5</cp:revision>
  <dc:subject/>
  <dc:title>Металлическая химическая связь</dc:title>
</cp:coreProperties>
</file>