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37324-BD46-4E13-8E24-109AB5557E2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Металлическая химическ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8AF26-DB31-4906-B1CE-E3D89584E6B1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ллическая связь — химическая связь, обусловленная наличием относительно свободных электронов. Характерна как для чистых металлов, так и их сплавов и интерметаллических соедин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5C10B-5182-40B3-AAA5-305275CA2AE4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ллическая кристаллическая решетка и металлическая связь определяют следующие свойства металлов: ковкость, пластичность, электро- и теплопроводность, металлический блеск, способность к образованию сплав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6E4B7-9910-4306-B4A8-3E2286369B1B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проводность — это способность тела проводить электрический ток, а также физическая величина, характеризующая эту способность и обратная электрическому сопротивлен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учшие проводники медь и серебр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67943-6DB6-46B8-AEE4-0B183F349B1A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стичность – важнейшее свойство металлов, выражается в их способности деформироваться под действием механической нагруз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пластичны золото, медь, серебр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Изделия из золота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FE278-E9FF-48D0-BEDC-3442C56671AC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лопроводность – объясняется высокой подвижность. Электронов, которые, сталкиваясь с колеблющимися в узлах решетки атом - ионами металлов, обмениваются с ними энерг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53F0B-1076-48D2-AB0E-C39D23A10F56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дкая поверхность металла или металлического изделия имеет металлический блеск, который является результатом отражения световых луч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ой отражательной способностью обладают ртуть, серебро, палладий, алюми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44E73-48D3-4E4E-89B5-F3EBD47D4C96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ллическая связь имеет чер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одства с ковалентной связ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металлической связи общее 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онной – образование и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валентной – обобществл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9A690-1602-4478-90AF-D62B83834098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ия металлической связи с ионной и ковалент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B7D39-B7F6-49B1-B238-FA44A1772AF4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A66B-A480-4E5E-94D8-111CD1666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BC62-4AFA-4F1C-8528-B8283DACB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F42C-E035-48CB-BECB-74F593615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A244-82B7-42CD-8D40-1EB0293B3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DAA23-C75E-4BC4-AD15-9B899C2F4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361EF-667D-4660-B033-049C97E3D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58DBA-D85D-4C9A-B5B1-9D064FB31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E6258-0423-4DAC-83E9-931B0EB66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E5C6F-1C10-489F-BA3D-A1FF7680B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8B895-476D-47FB-ACD6-612F74216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66DAB-7408-4437-AE87-DA07F7D8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8339-AF37-4354-B030-3298C2764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F1AA8-9D64-460C-8696-13F81747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7714F-1613-450B-AE6A-F9AF9D63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C4F37-A5EA-400D-B193-51A60E03E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CA800-792A-419E-A283-3895B457E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12E7E-98D6-4C0F-B5BA-261D7D72A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CB80-8187-4CB6-90DC-F3DE2EE7D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A59B-05F2-431D-BD8A-E15DC892D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179D-6FA2-4B1E-8BCE-B6EE9ED79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1D1D-87DF-4CFC-8ADF-03D90C710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7767-87BB-4AD7-AB0A-22FBF9A6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E068-E3D3-4342-B80D-B4E93D5E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3729-DE3D-485E-8D6F-EE45FD85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5F1B8-546B-48C8-82BB-6888BB3934E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04523-3EB6-4CCD-B7FB-B4621519267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7"/>
          <p:cNvSpPr txBox="1"/>
          <p:nvPr/>
        </p:nvSpPr>
        <p:spPr>
          <a:xfrm>
            <a:off x="1042920" y="2133720"/>
            <a:ext cx="770436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еталлическая химическая связь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Металлическая связь — химическая связь, обусловленная наличием относительно свободных электронов. Характерна как для чистых металлов, так и их сплавов и интерметаллических соединений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1835280" y="3284640"/>
            <a:ext cx="5400720" cy="310824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Металлическая кристаллическая решетка и металлическая связь определяют следующие свойства металлов: ковкость, пластичность, электро- и теплопроводность, металлический блеск, способность к образованию сплавов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395280" y="2349360"/>
            <a:ext cx="3816360" cy="3878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2"/>
          <a:stretch/>
        </p:blipFill>
        <p:spPr>
          <a:xfrm>
            <a:off x="4643280" y="2492280"/>
            <a:ext cx="3619800" cy="330192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Электропроводность — это способность тела проводить электрический ток, а также физическая величина, характеризующая эту способность и обратная электрическому сопротивлению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Лучшие проводники медь и серебро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539640" y="3789360"/>
            <a:ext cx="2952720" cy="233676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3492360" y="1486080"/>
            <a:ext cx="5256360" cy="5256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ластичность – важнейшее свойство металлов, выражается в их способности деформироваться под действием механической нагрузки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Наиболее пластичны золото, медь, серебро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Изделия из золота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Теплопроводность – объясняется высокой подвижность. Электронов, которые, сталкиваясь с колеблющимися в узлах решетки атом - ионами металлов, обмениваются с ними энергией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2411280" y="3489480"/>
            <a:ext cx="5289840" cy="336852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Гладкая поверхность металла или металлического изделия имеет металлический блеск, который является результатом отражения световых лучей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ысокой отражательной способностью обладают ртуть, серебро, палладий, алюминий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Металлическая связь имеет черты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ходства с ковалентной связью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У металлической связи общее с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Ионной – образование ионов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Ковалентной – обобществленные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электроны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Различия металлической связи с ионной и ковалентной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8145720" cy="54720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2T17:19:08Z</dcterms:created>
  <dc:creator>Марина</dc:creator>
  <dc:description/>
  <dc:language>en-US</dc:language>
  <cp:lastModifiedBy>LEGION</cp:lastModifiedBy>
  <dcterms:modified xsi:type="dcterms:W3CDTF">2015-05-01T11:19:33Z</dcterms:modified>
  <cp:revision>5</cp:revision>
  <dc:subject/>
  <dc:title>Металлическая химическая связь</dc:title>
</cp:coreProperties>
</file>