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0F14-3AB5-427D-91F4-3CDCC5F246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  <a:ea typeface="Times New Roman"/>
              </a:rPr>
              <a:t>Природа как ценность. Антропоцентризм и натуроцентризм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3877-28E6-46A5-B0F9-52969A1BC0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488b"/>
                </a:solidFill>
                <a:latin typeface="Calibri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егодня находит отражение реализация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деи гармонии человека с природой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: подходить к природе с точки зрения интересов всего человечества, при этом имея в виду не только интересы нынешнего поколения, но и грядущих поколений людей; проявлять заботливость, бережливость и разумность по отношению ко всем природным ресурсам, сводить к минимуму вред, наносимый живым творениям природы и всем другим.    В этом   смысле   наглядным   примером    служит   стихотворение И.В. Гёте  «Нашел», которое приводит Э. Фромм в своей кни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A38B-25ED-44CB-A1B7-2043E500DE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A24E-9DA2-4902-A128-8AECC8E137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роду легче всего подчинить, повинуясь 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Фрэнсис Бэ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2528-DF84-4883-B24B-82E832172B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сновные направления в понимании сути взаимодействия человека и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6379-84E5-4862-A767-8D0950250C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488b"/>
                </a:solidFill>
                <a:latin typeface="Calibri"/>
              </a:rPr>
              <a:t>Антропоцентр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илософии под антропоцентризмом понимается воззрение, согласно которому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человек есть центр и высшая цель мироз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о присутствует в общественном сознании, начиная с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классической антич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приобретает центральное место в идеологии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Нового време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80C5-4B41-4C18-B89B-8D25D0E888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Основные особенности антропоцентризм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1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ысшую ценность представляет человек.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Лишь он самоценен, все остальное в природе ценно лишь постольку, поскольку оно может быть полезно человеку. Природа объявляется собственностью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2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ерархическая картина мира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 На вершине пирамиды стоит человек, несколько ниже — вещи, созданные человеком и для человека, еще ниже располагаются различные объекты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3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Целью взаимодействия с природой является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удовлетворение тех или иных прагматических потребностей, т. е. получение определенного «полезного продукта». Сущность его выражается словом «использов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4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Характер взаимодействия с природой определяется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воего рода «прагматическим императивом»: правильно и разрешено то, что полезно человеку и человече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5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Этические нормы и правила действуют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только в мир людей и не распространяются на взаимодействие с миром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6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 Дальнейшее развитие природы мыслится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как процесс, который должен быть подчинен процессу развит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0BC0-8C8D-4D0A-892B-D5928EA12D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1488b"/>
                </a:solidFill>
                <a:latin typeface="Calibri"/>
              </a:rPr>
              <a:t>Идеи антропоцентризма в концепции христианской морали (Б. Калликотт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Бог </a:t>
            </a:r>
            <a:r>
              <a:rPr b="0" lang="ru-RU" sz="1200" spc="-1" strike="noStrike">
                <a:solidFill>
                  <a:srgbClr val="31859c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царство священного и таинственного </a:t>
            </a:r>
            <a:r>
              <a:rPr b="0" lang="ru-RU" sz="1200" spc="-1" strike="noStrike">
                <a:solidFill>
                  <a:srgbClr val="31859c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олицетворяет приро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2.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еловек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оздан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по образу и подобию Божьему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и тем самым обособлен от всей остальной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. Бог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предоставил человеку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управление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природным ми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. Бог заповедал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человеку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размножаться и покорять природу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 Богоподобие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еловека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является основанием для него считать себя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ысшей ценностью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 Поскольку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природные объекты лишены богоподобия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, они считаются морально несовершенными. В лучшем случае за ними признается инструментальная ц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5. Все сказанное было закреплено в аристотелетомистской телеологии: рациональная жизнь </a:t>
            </a:r>
            <a:r>
              <a:rPr b="0" lang="ru-RU" sz="1200" spc="-1" strike="noStrike">
                <a:solidFill>
                  <a:srgbClr val="31859c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гарант существования природы; неразумные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ещи существуют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лишь в качестве средства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для поддержания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наделенного разумом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еловека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CA55-17CF-4AE8-A15C-103B2A675C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деи К. Маркса и Ф. Энгельса в трудах «Капитал» и «Диалектика природы»</a:t>
            </a:r>
            <a:br>
              <a:rPr sz="1200"/>
            </a:b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(на рубеже XIX и XX в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 позиции диалектического материализма в этих работах подчеркивалось, что человек не в состоянии отменить или изменить законы природы — они объективны и действуют помимо его воли. Человек не может господствовать над природой, он принадлежит ей и находится внутри нее. Господство человека над природой есть не что иное, как деятельность, основанная на использовании ее законов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 К. Маркс писал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: «Человеческие проекты, не считающиеся с великими законами природы, приносят только несчастье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B873-AC76-4ADE-9B64-4A8026063B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488b"/>
                </a:solidFill>
                <a:latin typeface="Calibri"/>
              </a:rPr>
              <a:t>Натуроцентр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Направление выделяется довольно условно, тем не менее первые наброски такого подхода можно найти как в религиозных системах, например, в комплексе даостско-буддистского миропонимания, так и в филосо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идеях Франциска  Ассизского, сформулировавшего альтернативный взгляд на приро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вера в добродетель смирения не только отдельного человека, но и человечества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он низводит человека с его трона монархического господства над каждой тварью и устанавливает демократию между всеми формами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утверждается духовная самоценность всего, что есть в при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человек должен признать эту самоценность и не вмешиваться своей деятельностью в естественный ход собы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4A47-1049-458C-88AB-952F48165E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orbel"/>
              </a:rPr>
              <a:t>Связь антропоцентризма и натуроцентриз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При всей полярности отмеченные подходы имеют между собой общие черты. В них природа рассматривается как нечто внешнее по отношению к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В логике подобной дихотомии развивается анализ двух основных способов существования человека: обладания и бытия, осуществляемый Э. Фроммом в книге «Иметь или быть».  Э. Фромм приводит два стихотворения. Первое принадлежит перу английского поэта </a:t>
            </a:r>
            <a:r>
              <a:rPr b="0" lang="en-US" sz="1200" spc="-1" strike="noStrike">
                <a:solidFill>
                  <a:srgbClr val="31859c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в. Теннисо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озросший средь руин цвет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ебя из трещин Древних извлека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ы предо мною весь </a:t>
            </a:r>
            <a:r>
              <a:rPr b="0" lang="ru-RU" sz="1200" spc="-1" strike="noStrike">
                <a:solidFill>
                  <a:srgbClr val="1f497d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вот корень, стебелек, здесь, на моей ладо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ы мал, цветок, но если бы я поня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Что есть твой корень, стебелек, и в чем вся суть твоя, цвет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огда я Бога суть и человека суть познал 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Автором второго стихотворения является японский поэт </a:t>
            </a:r>
            <a:r>
              <a:rPr b="0" lang="en-US" sz="1200" spc="-1" strike="noStrike">
                <a:solidFill>
                  <a:srgbClr val="31859c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в. Ба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нимательно вглядись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Цветы «пастушьей сумк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Увидишь под плетне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D2E1-C4E3-40E9-881D-DAFF423217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A19F-2885-4E0E-9D56-911CBD21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943C-5F90-4635-A3AB-9ECA546B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5244-98CC-4FFF-AC6C-1378495B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CE92-B67B-42F2-B3F7-88F70BF6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FAC7-B29C-439D-B54D-AE273A4F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A3E6-F8B2-4B4A-8986-BCD57D4B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4AED-BEC3-473D-94D4-338141CE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5288-470C-4DC2-8FA8-29DD3AA8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6C16-9267-463F-95D6-CA079D09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B571-88F4-4166-9861-E016EF19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8D23-F4A6-4628-89A5-8E9EFA2C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F6F6-B2BB-478C-9736-3E7CE49A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4633-D980-48DF-94B1-6F390B63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3D57-AE5A-4035-A025-2453239B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BD3C-54CD-4639-B0AA-38C2423E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0782-A078-4060-88A9-AF6B58A2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710F-0123-4418-8F33-DB21BE8A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B76CC-ABC3-4D5D-BA66-92E2C02C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686A8-F7B0-4BC0-85FE-51370CF6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5EF22-E283-4994-907E-972D652A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125A6-6F21-4BCA-B43C-4049F6AB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4C414-4333-4677-857B-1C1900A6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FD17-4229-4B8A-A06F-7D40CBE0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4239E-7CEB-4F65-85DE-512A0AE8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166F4-761F-4D43-8298-82230042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112B2-89D0-40A5-B55C-63CE6ED9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460C0-25CD-4EE8-BB92-B03F43C8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5C190-C6A4-423D-BDE6-F499E5CF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898B7-8FDD-4AC1-8E23-2CF90F3B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CEF47-D789-464B-AE13-7AD38DD7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6E931-1DB9-4F1E-BD99-D8EA4E4C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C716D-A0AC-4723-8448-873868E4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BBEFA-7BE0-4C02-A1CB-196ECFC0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1239-E94E-4399-A77A-F97A628F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F7677-F8B0-4DB0-9028-650EBD17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32061-19FC-437B-9516-DE8C640A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8E1A0-8AB3-4D69-ADA2-FB937045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8284A-23EF-4A4F-AE83-9F08DD75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B78F0-45D9-4487-83CD-D99B5612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88AF0-DC47-49E4-8A01-59356989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72BB2-43CC-4FF8-A810-221E1BA9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23535-3CD2-4864-9C7C-600DAED5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14C93-F76C-4ABC-A9A7-17427C45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7914B-0102-4E35-B8F9-21C9BAE2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147-BB5B-4227-BC94-A4BB594D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5284B-231C-403E-8A46-EA284A2B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5265E-BE41-45A9-BE9A-38592ACE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978FA-1434-4C13-AAAC-C825AB41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960A9-5187-4CCE-BE0F-36256DEA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CE964-EFFE-4D45-9C97-3D17455B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13E5B-4689-4BA2-BC02-D30BFCE4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C8EAF-EAC4-4037-A879-D5BF607A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8C123-FCC3-4A60-B729-41DA9854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32D27-E246-44DA-8000-30EF13BA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E106D-779A-4C27-9376-671F8FEB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B140-69DA-4E0F-A49F-944FDFD4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235D0-1E1C-4976-82FE-2AFA8331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B5121-1F9A-432A-AFDB-7DA061DE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73CCC-1322-44E0-937C-A30A7200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019B5-44D5-4041-8A6E-23BCD611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8AF90-503B-4108-A596-D6050414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D48F3-CB28-489C-9D3E-3AA9B2D8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44163-AACB-4496-9352-93404455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2BD4E-A5D4-4561-8693-41C7D895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69E11-9C1D-4F09-9F27-B7224AC4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29550-EE38-49ED-87D3-54F636DB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A188-AD65-4B4E-9C7F-73D28241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919E6-C8AE-49C9-A85E-DD078282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B0EA0-5E28-41A3-95AA-A2521773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A6998-EE7A-4986-ACB8-02D5AAC6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2072B-263A-4F9A-BDBE-8850E6F9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F0AD2-85D0-4F26-812C-8AC7F92B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E07E0-707C-461D-9D47-D3A21D02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9BF61-337B-4D70-A8ED-2A45C849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D73BA-8A49-4321-9BD4-A19975BF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00B74-980D-4D6A-AD48-418A1370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2B75F-5ABB-454F-B113-27C82725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30BC-DEE4-437F-91B2-18E75FF1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87A40-AC67-4F24-881C-B6781C9A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19022-F401-459C-BB40-1A15CD11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EB08B-163D-418F-A961-43551E8A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99937-92DE-448C-A2D6-7606615B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4A6E1-EA6B-4514-90E4-7D2D72DD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553-804D-4172-9F38-7259D088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DB2A-FE34-45B8-9B99-D39ECE954C6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BB87-32C0-4051-8D11-A9FD94943B5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F8B6-C07A-4726-8A89-C90419DCF6D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737E-2E77-4BB5-9B95-703D53AA9CB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1E5E-537E-40E1-ADCB-8A2800F69B8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FE08-38BB-4D62-8E56-C08DB35F276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4AED-8647-4724-A670-2B703832C22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5F88-11C9-4C57-AFE5-777F94EE6FE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6A3E-D3F5-4B46-9DB6-14581B5996F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0BB0-C53E-4AEB-9F8B-9E05439408A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3982-860C-45C8-9F08-437583F324B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60AC-DF50-4503-8446-C7DBE977DE6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7A13-D4E7-410B-99D6-CE030B0771C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15E8-CD21-477D-9172-AE6D4A98BBE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990720"/>
            <a:ext cx="749772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71c"/>
                </a:solidFill>
                <a:latin typeface="Corbel"/>
                <a:ea typeface="Times New Roman"/>
              </a:rPr>
              <a:t>Природа как ценность. Антропоцентризм и натуроцентризм</a:t>
            </a:r>
            <a:br>
              <a:rPr sz="48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80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Заключени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14040" y="9903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Сегодня находит отражение реализация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идеи гармонии человека с природой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: подходить к природе с точки зрения интересов всего человечества, при этом имея в виду не только интересы нынешнего поколения, но и грядущих поколений людей; проявлять заботливость, бережливость и разумность по отношению ко всем природным ресурсам, сводить к минимуму вред, наносимый живым творениям природы и всем другим.    В этом   смысле   наглядным   примером    служит   стихотворение И.В. Гёте  «Нашел», которое приводит Э. Фромм в своей книге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6019920" y="762120"/>
            <a:ext cx="3657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Бродил я лесо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 глуши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Найти не чая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Я нич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Смотрю, цветоч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 тени ветв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сех глаз прекрасн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сех звезд светлей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Простер я ру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Но молвил 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«Ужель погибну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Я осужден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Я взял с кор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Питомца ро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И в сад прохла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К себе отн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 тиши местеч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Ему отве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Цветет он сно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Как прежде цве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4"/>
          <p:cNvSpPr/>
          <p:nvPr/>
        </p:nvSpPr>
        <p:spPr>
          <a:xfrm>
            <a:off x="6661440" y="38088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И.В. Гёте  «Наше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http://www.novoshakhtinsk.org/upload/iblock/10a/10a4974d8b842b367b9e9358c21dfb21.jpg"/>
          <p:cNvPicPr/>
          <p:nvPr/>
        </p:nvPicPr>
        <p:blipFill>
          <a:blip r:embed="rId1"/>
          <a:srcRect l="13341" t="0" r="6664" b="0"/>
          <a:stretch/>
        </p:blipFill>
        <p:spPr>
          <a:xfrm>
            <a:off x="4876920" y="1143000"/>
            <a:ext cx="1752480" cy="163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http://cs421726.userapi.com/v421726437/921/tLMX6chKNVU.jpg"/>
          <p:cNvPicPr/>
          <p:nvPr/>
        </p:nvPicPr>
        <p:blipFill>
          <a:blip r:embed="rId2"/>
          <a:srcRect l="14999" t="0" r="14999" b="0"/>
          <a:stretch/>
        </p:blipFill>
        <p:spPr>
          <a:xfrm>
            <a:off x="4876920" y="3886200"/>
            <a:ext cx="1842840" cy="175248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599840" y="22860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Corbe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4" name="Picture 2" descr="http://t2.gstatic.com/images?q=tbn:ANd9GcQOq1M_7HXqtR04VCdggHgJyw6iDnXxYc-znGclC18WYGkg49uV"/>
          <p:cNvPicPr/>
          <p:nvPr/>
        </p:nvPicPr>
        <p:blipFill>
          <a:blip r:embed="rId1"/>
          <a:stretch/>
        </p:blipFill>
        <p:spPr>
          <a:xfrm>
            <a:off x="2362320" y="1066680"/>
            <a:ext cx="2257200" cy="2028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ttp://i.imgur.com/27UVN.jpg"/>
          <p:cNvPicPr/>
          <p:nvPr/>
        </p:nvPicPr>
        <p:blipFill>
          <a:blip r:embed="rId2"/>
          <a:stretch/>
        </p:blipFill>
        <p:spPr>
          <a:xfrm>
            <a:off x="1905120" y="2895480"/>
            <a:ext cx="6095880" cy="3524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http://www.rossahar.ru/netcat_files/userfiles/files/Rossahar/Images/ekologiya.jpg"/>
          <p:cNvPicPr/>
          <p:nvPr/>
        </p:nvPicPr>
        <p:blipFill>
          <a:blip r:embed="rId3"/>
          <a:stretch/>
        </p:blipFill>
        <p:spPr>
          <a:xfrm>
            <a:off x="5181480" y="10666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971440" y="1066680"/>
            <a:ext cx="6032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Природу легче всего подчинить, повинуясь ей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Фрэнсис Бэкон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8" name="Picture 2" descr="http://dayevents.ru/uploads/f911af3e4838_C6DC/2038843764_u89zW3VU_jean_paul02.jpg"/>
          <p:cNvPicPr/>
          <p:nvPr/>
        </p:nvPicPr>
        <p:blipFill>
          <a:blip r:embed="rId1"/>
          <a:stretch/>
        </p:blipFill>
        <p:spPr>
          <a:xfrm>
            <a:off x="1447920" y="31240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123720" y="60948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f271c"/>
                </a:solidFill>
                <a:latin typeface="Corbel"/>
              </a:rPr>
              <a:t>Основные направления в понимании сути взаимодействия человека и природы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Прямоугольник 3"/>
          <p:cNvSpPr/>
          <p:nvPr/>
        </p:nvSpPr>
        <p:spPr>
          <a:xfrm>
            <a:off x="3124080" y="533520"/>
            <a:ext cx="3657600" cy="137160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4"/>
          <p:cNvSpPr/>
          <p:nvPr/>
        </p:nvSpPr>
        <p:spPr>
          <a:xfrm>
            <a:off x="1295280" y="3429000"/>
            <a:ext cx="3505320" cy="14479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5"/>
          <p:cNvSpPr/>
          <p:nvPr/>
        </p:nvSpPr>
        <p:spPr>
          <a:xfrm>
            <a:off x="5257800" y="3429000"/>
            <a:ext cx="3657600" cy="14479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ая соединительная линия 9"/>
          <p:cNvSpPr/>
          <p:nvPr/>
        </p:nvSpPr>
        <p:spPr>
          <a:xfrm flipH="1" flipV="1">
            <a:off x="2437920" y="1219320"/>
            <a:ext cx="68580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ая соединительная линия 11"/>
          <p:cNvSpPr/>
          <p:nvPr/>
        </p:nvSpPr>
        <p:spPr>
          <a:xfrm>
            <a:off x="6781680" y="1219320"/>
            <a:ext cx="60984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Прямая со стрелкой 13"/>
          <p:cNvCxnSpPr/>
          <p:nvPr/>
        </p:nvCxnSpPr>
        <p:spPr>
          <a:xfrm flipH="1">
            <a:off x="2436120" y="1220400"/>
            <a:ext cx="3960" cy="2057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37" name="Прямая со стрелкой 15"/>
          <p:cNvCxnSpPr/>
          <p:nvPr/>
        </p:nvCxnSpPr>
        <p:spPr>
          <a:xfrm flipH="1">
            <a:off x="7389000" y="1220400"/>
            <a:ext cx="3960" cy="2057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38" name="Прямоугольник 16"/>
          <p:cNvSpPr/>
          <p:nvPr/>
        </p:nvSpPr>
        <p:spPr>
          <a:xfrm>
            <a:off x="1767600" y="396252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АНТРОП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7"/>
          <p:cNvSpPr/>
          <p:nvPr/>
        </p:nvSpPr>
        <p:spPr>
          <a:xfrm>
            <a:off x="5885280" y="396252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НАТУР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Антропоцентризм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66680" y="14475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философии под антропоцентризмом понимается воззрение, согласно которому </a:t>
            </a:r>
            <a:r>
              <a:rPr b="0" lang="ru-RU" sz="2400" spc="-1" strike="noStrike">
                <a:solidFill>
                  <a:srgbClr val="713204"/>
                </a:solidFill>
                <a:latin typeface="Corbel"/>
              </a:rPr>
              <a:t>человек есть центр и высшая цель мироздан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но присутствует в общественном сознании, начиная с </a:t>
            </a:r>
            <a:r>
              <a:rPr b="0" lang="ru-RU" sz="2400" spc="-1" strike="noStrike">
                <a:solidFill>
                  <a:srgbClr val="713204"/>
                </a:solidFill>
                <a:latin typeface="Corbel"/>
              </a:rPr>
              <a:t>классической античност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, и приобретает центральное место в идеологии </a:t>
            </a:r>
            <a:r>
              <a:rPr b="0" lang="ru-RU" sz="2400" spc="-1" strike="noStrike">
                <a:solidFill>
                  <a:srgbClr val="713204"/>
                </a:solidFill>
                <a:latin typeface="Corbel"/>
              </a:rPr>
              <a:t>Нового времен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3" name="Picture 1" descr="C:\Users\с1фа\Desktop\Рисунок1.jpg"/>
          <p:cNvPicPr/>
          <p:nvPr/>
        </p:nvPicPr>
        <p:blipFill>
          <a:blip r:embed="rId1"/>
          <a:stretch/>
        </p:blipFill>
        <p:spPr>
          <a:xfrm>
            <a:off x="5867280" y="1828800"/>
            <a:ext cx="2895840" cy="369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4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сновные особенности антропоцентризма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218960" y="1219320"/>
            <a:ext cx="7708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1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Высшую ценность представляет человек.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Лишь он самоценен, все остальное в природе ценно лишь постольку, поскольку оно может быть полезно человеку. Природа объявляется собственностью человечеств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2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Иерархическая картина мира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. На вершине пирамиды стоит человек, несколько ниже — вещи, созданные человеком и для человека, еще ниже располагаются различные объекты природы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3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Целью взаимодействия с природой является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удовлетворение тех или иных прагматических потребностей, т. е. получение определенного «полезного продукта». Сущность его выражается словом «использование»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4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Характер взаимодействия с природой определяется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своего рода «прагматическим императивом»: правильно и разрешено то, что полезно человеку и человечеству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5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Этические нормы и правила действуют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только в мир людей и не распространяются на взаимодействие с миром природы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6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. Дальнейшее развитие природы мыслится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как процесс, который должен быть подчинен процессу развития человек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Идеи антропоцентризма в концепции христианской морали (Б. Калликотт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990720" y="1218960"/>
            <a:ext cx="4952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1.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 Бог </a:t>
            </a:r>
            <a:r>
              <a:rPr b="0" lang="ru-RU" sz="1800" spc="-1" strike="noStrike">
                <a:solidFill>
                  <a:srgbClr val="713204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царство священного и таинственного </a:t>
            </a:r>
            <a:r>
              <a:rPr b="0" lang="ru-RU" sz="1800" spc="-1" strike="noStrike">
                <a:solidFill>
                  <a:srgbClr val="713204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олицетворяет природу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2.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Человек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создан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по образу и подобию Божьему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и тем самым обособлен от всей остальной природы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3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. Бог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предоставил человеку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управление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природным миром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4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. Бог заповедал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человеку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размножаться и покорять природу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. Богоподобие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человека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является основанием для него считать себя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высшей ценностью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. Поскольку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природные объекты лишены богоподобия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, они считаются морально несовершенными. В лучшем случае за ними признается инструментальная ценность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5. Все сказанное было закреплено в аристотелетомистской телеологии: рациональная жизнь </a:t>
            </a:r>
            <a:r>
              <a:rPr b="0" lang="ru-RU" sz="1800" spc="-1" strike="noStrike">
                <a:solidFill>
                  <a:srgbClr val="713204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гарант существования природы; неразумные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вещи существуют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лишь в качестве средства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для поддержания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наделенного разумом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человека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0" name="Рисунок 4" descr="49809486_1255364429_007.jpg"/>
          <p:cNvPicPr/>
          <p:nvPr/>
        </p:nvPicPr>
        <p:blipFill>
          <a:blip r:embed="rId1"/>
          <a:stretch/>
        </p:blipFill>
        <p:spPr>
          <a:xfrm>
            <a:off x="6019920" y="1295280"/>
            <a:ext cx="2971800" cy="312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1" name="Рисунок 5" descr="1227624102Sotvorenie.jpg"/>
          <p:cNvPicPr/>
          <p:nvPr/>
        </p:nvPicPr>
        <p:blipFill>
          <a:blip r:embed="rId2"/>
          <a:srcRect l="0" t="141" r="622" b="0"/>
          <a:stretch/>
        </p:blipFill>
        <p:spPr>
          <a:xfrm>
            <a:off x="6248520" y="4572000"/>
            <a:ext cx="2590560" cy="208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Идеи К. Маркса и Ф. Энгельса в трудах «Капитал» и «Диалектика природы»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(на рубеже XIX и XX вв.)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4" name="Picture 2" descr="http://krotov.info/pictures/maps/12/01285ch.jpg"/>
          <p:cNvPicPr/>
          <p:nvPr/>
        </p:nvPicPr>
        <p:blipFill>
          <a:blip r:embed="rId1"/>
          <a:srcRect l="2881" t="2110" r="1966" b="9181"/>
          <a:stretch/>
        </p:blipFill>
        <p:spPr>
          <a:xfrm>
            <a:off x="5867280" y="1676520"/>
            <a:ext cx="3124440" cy="387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5" name="Прямоугольник 4"/>
          <p:cNvSpPr/>
          <p:nvPr/>
        </p:nvSpPr>
        <p:spPr>
          <a:xfrm>
            <a:off x="1219320" y="160020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С позиции диалектического материализма в этих работах подчеркивалось, что человек не в состоянии отменить или изменить законы природы — они объективны и действуют помимо его воли. Человек не может господствовать над природой, он принадлежит ей и находится внутри нее. Господство человека над природой есть не что иное, как деятельность, основанная на использовании ее законов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. К. Маркс писал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: «Человеческие проекты, не считающиеся с великими законами природы, приносят только несчастье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Натуроцентризм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66680" y="914040"/>
            <a:ext cx="56390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Направление выделяется довольно условно, тем не менее первые наброски такого подхода можно найти как в религиозных системах, например, в комплексе даостско-буддистского миропонимания, так и в философии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f271c"/>
                </a:solidFill>
                <a:latin typeface="Corbel"/>
              </a:rPr>
              <a:t>В идеях Франциска  Ассизского, сформулировавшего альтернативный взгляд на природу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вера в добродетель смирения не только отдельного человека, но и человечества в целом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он низводит человека с его трона монархического господства над каждой тварью и устанавливает демократию между всеми формами жизни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утверждается духовная самоценность всего, что есть в природе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человек должен признать эту самоценность и не вмешиваться своей деятельностью в естественный ход событий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2" descr="RLFOA"/>
          <p:cNvPicPr/>
          <p:nvPr/>
        </p:nvPicPr>
        <p:blipFill>
          <a:blip r:embed="rId1"/>
          <a:stretch/>
        </p:blipFill>
        <p:spPr>
          <a:xfrm>
            <a:off x="6858000" y="990720"/>
            <a:ext cx="2154240" cy="2743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http://cs319531.userapi.com/v319531659/3d50/8FlFfCrThzQ.jpg"/>
          <p:cNvPicPr/>
          <p:nvPr/>
        </p:nvPicPr>
        <p:blipFill>
          <a:blip r:embed="rId2"/>
          <a:stretch/>
        </p:blipFill>
        <p:spPr>
          <a:xfrm>
            <a:off x="6781680" y="4114800"/>
            <a:ext cx="2178000" cy="24382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6"/>
          <p:cNvSpPr/>
          <p:nvPr/>
        </p:nvSpPr>
        <p:spPr>
          <a:xfrm>
            <a:off x="6705720" y="37339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713204"/>
                </a:solidFill>
                <a:latin typeface="Corbel"/>
              </a:rPr>
              <a:t> </a:t>
            </a:r>
            <a:r>
              <a:rPr b="0" lang="ru-RU" sz="1300" spc="-1" strike="noStrike">
                <a:solidFill>
                  <a:srgbClr val="713204"/>
                </a:solidFill>
                <a:latin typeface="Corbel"/>
              </a:rPr>
              <a:t>(5 июля 1182-3 октября 122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990360" y="12193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При всей полярности отмеченные подходы имеют между собой общие черты. В них природа рассматривается как нечто внешнее по отношению к человеку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В логике подобной дихотомии развивается анализ двух основных способов существования человека: обладания и бытия, осуществляемый Э. Фроммом в книге «Иметь или быть».  Э. Фромм приводит два стихотворения. Первое принадлежит перу английского поэта </a:t>
            </a:r>
            <a:r>
              <a:rPr b="0" lang="en-US" sz="1800" spc="-1" strike="noStrike">
                <a:solidFill>
                  <a:srgbClr val="713204"/>
                </a:solidFill>
                <a:latin typeface="Gill Sans MT"/>
              </a:rPr>
              <a:t>XIX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в. Теннисона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озросший средь руин цветок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ебя из трещин Древних извлекаю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ы предо мною весь </a:t>
            </a:r>
            <a:r>
              <a:rPr b="0" lang="ru-RU" sz="1800" spc="-1" strike="noStrike">
                <a:solidFill>
                  <a:srgbClr val="4f271c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вот корень, стебелек, здесь, на моей ладони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ы мал, цветок, но если бы я понял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Что есть твой корень, стебелек, и в чем вся суть твоя, цветок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огда я Бога суть и человека суть познал бы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 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Автором второго стихотворения является японский поэт </a:t>
            </a:r>
            <a:r>
              <a:rPr b="0" lang="en-US" sz="1800" spc="-1" strike="noStrike">
                <a:solidFill>
                  <a:srgbClr val="713204"/>
                </a:solidFill>
                <a:latin typeface="Gill Sans MT"/>
              </a:rPr>
              <a:t>XVII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в. Басе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нимательно вглядись!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Цветы «пастушьей сумки»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Увидишь под плетнем!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Прямоугольник 5"/>
          <p:cNvSpPr/>
          <p:nvPr/>
        </p:nvSpPr>
        <p:spPr>
          <a:xfrm>
            <a:off x="1219320" y="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Связь антропоцентризма и натуроцентр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7:26:09Z</dcterms:created>
  <dc:creator>с1фа</dc:creator>
  <dc:description/>
  <dc:language>en-US</dc:language>
  <cp:lastModifiedBy>LEGION</cp:lastModifiedBy>
  <dcterms:modified xsi:type="dcterms:W3CDTF">2014-11-11T08:59:10Z</dcterms:modified>
  <cp:revision>21</cp:revision>
  <dc:subject/>
  <dc:title>Слайд 1</dc:title>
</cp:coreProperties>
</file>