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8B000-2E00-4C1F-88ED-AD01CDE14A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  <a:ea typeface="Times New Roman"/>
              </a:rPr>
              <a:t>Природа как ценность. Антропоцентризм и натуроцентризм</a:t>
            </a: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34D66-EA8C-4D13-9B56-9C2AA8C5BD1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488b"/>
                </a:solidFill>
                <a:latin typeface="Calibri"/>
              </a:rPr>
              <a:t>Заключ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Сегодня находит отражение реализация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идеи гармонии человека с природой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: подходить к природе с точки зрения интересов всего человечества, при этом имея в виду не только интересы нынешнего поколения, но и грядущих поколений людей; проявлять заботливость, бережливость и разумность по отношению ко всем природным ресурсам, сводить к минимуму вред, наносимый живым творениям природы и всем другим.    В этом   смысле   наглядным   примером    служит   стихотворение И.В. Гёте  «Нашел», которое приводит Э. Фромм в своей кни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5AED4-E9B6-450D-846F-11EC4FAEBD7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895D7-0175-4C70-8D6E-EFA55E485E5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рироду легче всего подчинить, повинуясь 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558ed5"/>
                </a:solidFill>
                <a:latin typeface="Calibri"/>
              </a:rPr>
              <a:t>Фрэнсис Бэк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4A65D-1D8A-4BDC-A8B2-96DDA10E13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Основные направления в понимании сути взаимодействия человека и прир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394C3-1983-4B82-A0E9-4E1651F373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488b"/>
                </a:solidFill>
                <a:latin typeface="Calibri"/>
              </a:rPr>
              <a:t>Антропоцентриз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философии под антропоцентризмом понимается воззрение, согласно которому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человек есть центр и высшая цель мироз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о присутствует в общественном сознании, начиная с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классической антич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 приобретает центральное место в идеологии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Нового времен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B4E74-771D-4D84-9E57-C87908A591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1488b"/>
                </a:solidFill>
                <a:latin typeface="Calibri"/>
              </a:rPr>
              <a:t>Основные особенности антропоцентризма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1. 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ысшую ценность представляет человек.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Лишь он самоценен, все остальное в природе ценно лишь постольку, поскольку оно может быть полезно человеку. Природа объявляется собственностью челове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2. 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Иерархическая картина мира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. На вершине пирамиды стоит человек, несколько ниже — вещи, созданные человеком и для человека, еще ниже располагаются различные объекты прир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3. 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Целью взаимодействия с природой является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удовлетворение тех или иных прагматических потребностей, т. е. получение определенного «полезного продукта». Сущность его выражается словом «использовани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4. 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Характер взаимодействия с природой определяется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своего рода «прагматическим императивом»: правильно и разрешено то, что полезно человеку и человечест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5. 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Этические нормы и правила действуют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только в мир людей и не распространяются на взаимодействие с миром прир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6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. Дальнейшее развитие природы мыслится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как процесс, который должен быть подчинен процессу развития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6A088-0EC3-4089-94BC-81ADF39C542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1488b"/>
                </a:solidFill>
                <a:latin typeface="Calibri"/>
              </a:rPr>
              <a:t>Идеи антропоцентризма в концепции христианской морали (Б. Калликотт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1.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Бог </a:t>
            </a:r>
            <a:r>
              <a:rPr b="0" lang="ru-RU" sz="1200" spc="-1" strike="noStrike">
                <a:solidFill>
                  <a:srgbClr val="31859c"/>
                </a:solidFill>
                <a:latin typeface="Symbol"/>
                <a:ea typeface="Symbol"/>
              </a:rPr>
              <a:t>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 царство священного и таинственного </a:t>
            </a:r>
            <a:r>
              <a:rPr b="0" lang="ru-RU" sz="1200" spc="-1" strike="noStrike">
                <a:solidFill>
                  <a:srgbClr val="31859c"/>
                </a:solidFill>
                <a:latin typeface="Symbol"/>
                <a:ea typeface="Symbol"/>
              </a:rPr>
              <a:t>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 олицетворяет природ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2.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Человек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создан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по образу и подобию Божьему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и тем самым обособлен от всей остальной прир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. Бог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предоставил человеку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управление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 природным ми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4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. Бог заповедал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человеку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размножаться и покорять природу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. Богоподобие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человека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 является основанием для него считать себя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высшей ценностью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. Поскольку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природные объекты лишены богоподобия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, они считаются морально несовершенными. В лучшем случае за ними признается инструментальная цен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5. Все сказанное было закреплено в аристотелетомистской телеологии: рациональная жизнь </a:t>
            </a:r>
            <a:r>
              <a:rPr b="0" lang="ru-RU" sz="1200" spc="-1" strike="noStrike">
                <a:solidFill>
                  <a:srgbClr val="31859c"/>
                </a:solidFill>
                <a:latin typeface="Symbol"/>
                <a:ea typeface="Symbol"/>
              </a:rPr>
              <a:t>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 гарант существования природы; неразумные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вещи существуют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лишь в качестве средства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для поддержания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 наделенного разумом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человека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04FCC-B085-4D44-94CC-B7075D54410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Идеи К. Маркса и Ф. Энгельса в трудах «Капитал» и «Диалектика природы»</a:t>
            </a:r>
            <a:br>
              <a:rPr sz="1200"/>
            </a:b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(на рубеже XIX и XX вв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С позиции диалектического материализма в этих работах подчеркивалось, что человек не в состоянии отменить или изменить законы природы — они объективны и действуют помимо его воли. Человек не может господствовать над природой, он принадлежит ей и находится внутри нее. Господство человека над природой есть не что иное, как деятельность, основанная на использовании ее законов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. К. Маркс писал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: «Человеческие проекты, не считающиеся с великими законами природы, приносят только несчастье»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AB0BF-A99F-4806-A3BA-7E14B6C2393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488b"/>
                </a:solidFill>
                <a:latin typeface="Calibri"/>
              </a:rPr>
              <a:t>Натуроцентриз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Направление выделяется довольно условно, тем не менее первые наброски такого подхода можно найти как в религиозных системах, например, в комплексе даостско-буддистского миропонимания, так и в философ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 идеях Франциска  Ассизского, сформулировавшего альтернативный взгляд на природ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31859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вера в добродетель смирения не только отдельного человека, но и человечества в цел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31859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он низводит человека с его трона монархического господства над каждой тварью и устанавливает демократию между всеми формами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31859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утверждается духовная самоценность всего, что есть в приро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31859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человек должен признать эту самоценность и не вмешиваться своей деятельностью в естественный ход собы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6A90A-4720-43AC-A6D4-ED17D850842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orbel"/>
              </a:rPr>
              <a:t>Связь антропоцентризма и натуроцентриз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1859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При всей полярности отмеченные подходы имеют между собой общие черты. В них природа рассматривается как нечто внешнее по отношению к челове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1859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В логике подобной дихотомии развивается анализ двух основных способов существования человека: обладания и бытия, осуществляемый Э. Фроммом в книге «Иметь или быть».  Э. Фромм приводит два стихотворения. Первое принадлежит перу английского поэта </a:t>
            </a:r>
            <a:r>
              <a:rPr b="0" lang="en-US" sz="1200" spc="-1" strike="noStrike">
                <a:solidFill>
                  <a:srgbClr val="31859c"/>
                </a:solidFill>
                <a:latin typeface="Calibri"/>
              </a:rPr>
              <a:t>XIX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 в. Теннисо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озросший средь руин цветок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Тебя из трещин Древних извлекаю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Ты предо мною весь </a:t>
            </a:r>
            <a:r>
              <a:rPr b="0" lang="ru-RU" sz="1200" spc="-1" strike="noStrike">
                <a:solidFill>
                  <a:srgbClr val="1f497d"/>
                </a:solidFill>
                <a:latin typeface="Symbol"/>
                <a:ea typeface="Symbol"/>
              </a:rPr>
              <a:t>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вот корень, стебелек, здесь, на моей ладо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Ты мал, цветок, но если бы я понял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Что есть твой корень, стебелек, и в чем вся суть твоя, цветок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Тогда я Бога суть и человека суть познал б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Автором второго стихотворения является японский поэт </a:t>
            </a:r>
            <a:r>
              <a:rPr b="0" lang="en-US" sz="1200" spc="-1" strike="noStrike">
                <a:solidFill>
                  <a:srgbClr val="31859c"/>
                </a:solidFill>
                <a:latin typeface="Calibri"/>
              </a:rPr>
              <a:t>XVII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 в. Бас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нимательно вглядись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Цветы «пастушьей сумки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Увидишь под плетнем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B37E2-9BE4-4520-B9FF-7F6E65ABCEB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BCAC-75A0-42D0-836B-A9D4B35E4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09A5-EAAD-4DB9-8394-93E4623B7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774F-E70E-48F5-9290-B418F72DE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0DDE-93E2-4BD0-BCB8-3B01C1C2E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4AF82-AC45-4BD7-A80B-71D9765C6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F5AAC-EC25-4857-8559-CFFA1011D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D923F-1876-4252-BC6A-601C8BCF8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BB188-5E31-4C1F-A313-AE3B57E21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C66BF-9C8E-4E84-84CC-5A1603148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BA20E-0B0A-4FA5-BBE5-4FD94C2B9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24749-8406-41C7-B12E-63AEDC6A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DB7B-A4B1-4521-B806-83846ABD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A1247-04C0-48C5-B15A-E6E0BF5D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3F4E1-6979-4663-96E4-18EED821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206C3-0CE1-4A57-93BE-BB4B0FA07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65516-3A09-4EB6-9AEF-0D408D7DE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FD966-9A30-4617-9DBD-05BE08EC7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AE01E-7F96-41DA-9971-F4AE93F97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658A7-8092-45FA-B688-BBDB4A11F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056BB-03B8-4756-AD34-E29D3B94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D8F89-AABA-4F29-9680-D010ECF8F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9EF08-B339-47B5-B5E4-F1BD610C0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08A9-B778-4FD0-8EAB-513CCC56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77B84-68F1-48BF-BE2B-4AE62808D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3319F-9622-4F95-BA02-87D3AE51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94B17-4F17-4CD6-92BE-3D531BC2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5E775-DEC9-467F-9A83-2463580C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29AF5-B3F8-4377-9AE0-C0D4C1023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68E21-EDB2-4CCF-9B1C-40404F2E1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C6033-323D-4E44-934C-F5EF6E709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47DB8-78B6-4DE4-8266-C57714F71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F1BF1-AE12-4D05-BA7E-246B0F0C0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66BB9-C234-4A44-91E7-04C79A53E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8C5C-152A-45F0-A7B1-D0E7EBF6D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01970-FA1E-41D2-BF62-126DFEE12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88BBE-30F7-4A82-8B0B-47A9B99BC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08D6A-A016-4F5A-A9D7-CFA0D7429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4188C-1AAB-4C34-86B9-7C92B6B3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47FFA-875A-4308-AEB1-8962FC6B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8B60B-DCA0-452A-AA30-02B7FA49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1FCE6-DE5F-447D-AD6E-6AAEAA85A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F1F6D-A692-47F7-BF1F-E3438690E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51A79-515A-4D1E-9589-0C351CE8E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EE3943-56FC-4025-94EF-569754DA3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69F8-1584-4A1C-9A96-2E9EA5A39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CE050-1C90-4CB0-BDE9-A92894845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E350F-901B-453E-AA75-F245EFB5E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6C862-3DEF-4E3F-B8EA-EDCD0DC4E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1F6EE-9FA5-4BCA-BAB9-EBFC43A44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027B6-11C8-47D1-82E6-B993CD9C9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A2C52-0D0E-488D-9A11-BBDC48A7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70A54-6730-4D7D-A750-DC7C5401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42EBF-F2F7-40E4-BF13-CF03848F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5AEDB-4379-4244-A709-99787410B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5232E-EFF2-45A4-B731-ACF27A4B7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0537-7A65-4D32-9357-0D5103408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4F843-462B-4537-BF9D-373F1B53F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538DA-8ED0-4F14-99EC-0EE617B43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4CCD6-01A8-472B-B90D-CFB2F7C8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E1823-89BB-4296-9DA0-F8AA5332D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3B3D3-AAE0-4A96-A72F-407443015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46DEE-CDD0-4FA1-8A71-7BBD9A594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215D3-BD0C-4B6E-AA9E-49673CAEA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22190-26B3-47C5-8FD7-B4268AB2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44234-2FF4-4608-AD76-57F8A1E4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EB8D4-89C9-424F-AB71-887267E3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56EF-8904-413E-8F3D-0428AED4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55DF78-02CD-479B-864B-5A00EAB84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5E250B-D99D-4091-A872-C9C1B4C0C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71333-77D4-4B3A-98AE-348B042AA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26C50-5242-4D6E-9012-3CEAB0853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67D341-9403-4611-BBDD-E7038B4E8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57FB4B-EC07-438D-A8EE-4CE4E0E3C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4D2A7-9000-4D8E-9F31-C8549738D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5BA93-EB3F-4B61-A5BB-2DC9F45CF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4A297-A970-4050-9071-C9A92BEA9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592AE4-862B-46B1-A8CE-B8AF1432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5A9C-78BE-4041-BB6C-016520A0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82667-329E-41B6-AC8E-E0FDE64F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1AD831-33D0-4563-9FCE-43472A84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68F2C0-B544-41BD-907D-4FED119FB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89FCC7-FCCB-4C4C-8F07-788F98B4B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052E3-2A4F-4ADA-8C5E-73CE163F5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2184-50B4-4419-A75E-0C949E95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6D2FD-36BD-42FE-8AFE-0012CAAB0115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6AEB8-0683-41CD-989A-0D489BC90C3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D444C-12CC-4E5B-A2E9-165FD1EE83E0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E2F3F-7805-4CA9-BA54-68871D57B91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EBB87-77E0-463D-9112-EF0AF5206940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84FFF-524A-4528-A26C-2BABAE67C8F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79D08-3408-40A4-ADBD-587158953A63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E7873-B23F-4367-82A5-61F1DF162B3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124B5-5959-4672-829D-881BCF218ACE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9EBAC-6333-4B82-8C9B-F7E0062260B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E77E1-69B8-42E6-8A7F-437577CB1966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155A5-53F3-4AAB-A147-BB3EBC90CA2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76931-C081-4A36-AB68-E7EA91A6649B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77919-AFE3-43AC-BE61-6CED77DB990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47560" y="990720"/>
            <a:ext cx="749772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71c"/>
                </a:solidFill>
                <a:latin typeface="Corbel"/>
                <a:ea typeface="Times New Roman"/>
              </a:rPr>
              <a:t>Природа как ценность. Антропоцентризм и натуроцентризм</a:t>
            </a:r>
            <a:br>
              <a:rPr sz="4800"/>
            </a:b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8044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Заключение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914040" y="990360"/>
            <a:ext cx="38098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Сегодня находит отражение реализация </a:t>
            </a: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идеи гармонии человека с природой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: подходить к природе с точки зрения интересов всего человечества, при этом имея в виду не только интересы нынешнего поколения, но и грядущих поколений людей; проявлять заботливость, бережливость и разумность по отношению ко всем природным ресурсам, сводить к минимуму вред, наносимый живым творениям природы и всем другим.    В этом   смысле   наглядным   примером    служит   стихотворение И.В. Гёте  «Нашел», которое приводит Э. Фромм в своей книге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Прямоугольник 3"/>
          <p:cNvSpPr/>
          <p:nvPr/>
        </p:nvSpPr>
        <p:spPr>
          <a:xfrm>
            <a:off x="6019920" y="762120"/>
            <a:ext cx="36576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Бродил я лесом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В глуши е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Найти не чая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Я нич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Смотрю, цветоче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В тени ветве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Всех глаз прекрасне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Всех звезд светлей.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Простер я рук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Но молвил о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«Ужель погибну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Я осужден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Я взял с корн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Питомца ро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И в сад прохлад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К себе отне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В тиши местечк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Ему отве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Цветет он сно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Как прежде цве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оугольник 4"/>
          <p:cNvSpPr/>
          <p:nvPr/>
        </p:nvSpPr>
        <p:spPr>
          <a:xfrm>
            <a:off x="6661440" y="380880"/>
            <a:ext cx="228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И.В. Гёте  «Нашел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2" descr="http://www.novoshakhtinsk.org/upload/iblock/10a/10a4974d8b842b367b9e9358c21dfb21.jpg"/>
          <p:cNvPicPr/>
          <p:nvPr/>
        </p:nvPicPr>
        <p:blipFill>
          <a:blip r:embed="rId1"/>
          <a:srcRect l="13341" t="0" r="6664" b="0"/>
          <a:stretch/>
        </p:blipFill>
        <p:spPr>
          <a:xfrm>
            <a:off x="4876920" y="1143000"/>
            <a:ext cx="1752480" cy="16351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http://cs421726.userapi.com/v421726437/921/tLMX6chKNVU.jpg"/>
          <p:cNvPicPr/>
          <p:nvPr/>
        </p:nvPicPr>
        <p:blipFill>
          <a:blip r:embed="rId2"/>
          <a:srcRect l="14999" t="0" r="14999" b="0"/>
          <a:stretch/>
        </p:blipFill>
        <p:spPr>
          <a:xfrm>
            <a:off x="4876920" y="3886200"/>
            <a:ext cx="1842840" cy="1752480"/>
          </a:xfrm>
          <a:prstGeom prst="rect">
            <a:avLst/>
          </a:prstGeom>
          <a:ln w="0">
            <a:noFill/>
          </a:ln>
        </p:spPr>
      </p:pic>
      <p:sp>
        <p:nvSpPr>
          <p:cNvPr id="372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1599840" y="22860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f271c"/>
                </a:solidFill>
                <a:latin typeface="Corbel"/>
              </a:rPr>
              <a:t>Спасибо за внимание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4" name="Picture 2" descr="http://t2.gstatic.com/images?q=tbn:ANd9GcQOq1M_7HXqtR04VCdggHgJyw6iDnXxYc-znGclC18WYGkg49uV"/>
          <p:cNvPicPr/>
          <p:nvPr/>
        </p:nvPicPr>
        <p:blipFill>
          <a:blip r:embed="rId1"/>
          <a:stretch/>
        </p:blipFill>
        <p:spPr>
          <a:xfrm>
            <a:off x="2362320" y="1066680"/>
            <a:ext cx="2257200" cy="202896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http://i.imgur.com/27UVN.jpg"/>
          <p:cNvPicPr/>
          <p:nvPr/>
        </p:nvPicPr>
        <p:blipFill>
          <a:blip r:embed="rId2"/>
          <a:stretch/>
        </p:blipFill>
        <p:spPr>
          <a:xfrm>
            <a:off x="1905120" y="2895480"/>
            <a:ext cx="6095880" cy="35244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6" descr="http://www.rossahar.ru/netcat_files/userfiles/files/Rossahar/Images/ekologiya.jpg"/>
          <p:cNvPicPr/>
          <p:nvPr/>
        </p:nvPicPr>
        <p:blipFill>
          <a:blip r:embed="rId3"/>
          <a:stretch/>
        </p:blipFill>
        <p:spPr>
          <a:xfrm>
            <a:off x="5181480" y="1066680"/>
            <a:ext cx="2590920" cy="1676520"/>
          </a:xfrm>
          <a:prstGeom prst="rect">
            <a:avLst/>
          </a:prstGeom>
          <a:ln w="0">
            <a:noFill/>
          </a:ln>
        </p:spPr>
      </p:pic>
      <p:sp>
        <p:nvSpPr>
          <p:cNvPr id="377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2971440" y="1066680"/>
            <a:ext cx="60325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271c"/>
                </a:solidFill>
                <a:latin typeface="Corbel"/>
              </a:rPr>
              <a:t>Природу легче всего подчинить, повинуясь ей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654c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c0654c"/>
                </a:solidFill>
                <a:latin typeface="Corbel"/>
              </a:rPr>
              <a:t>Фрэнсис Бэкон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8" name="Picture 2" descr="http://dayevents.ru/uploads/f911af3e4838_C6DC/2038843764_u89zW3VU_jean_paul02.jpg"/>
          <p:cNvPicPr/>
          <p:nvPr/>
        </p:nvPicPr>
        <p:blipFill>
          <a:blip r:embed="rId1"/>
          <a:stretch/>
        </p:blipFill>
        <p:spPr>
          <a:xfrm>
            <a:off x="1447920" y="31240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329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3123720" y="609480"/>
            <a:ext cx="3505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f271c"/>
                </a:solidFill>
                <a:latin typeface="Corbel"/>
              </a:rPr>
              <a:t>Основные направления в понимании сути взаимодействия человека и природы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Прямоугольник 3"/>
          <p:cNvSpPr/>
          <p:nvPr/>
        </p:nvSpPr>
        <p:spPr>
          <a:xfrm>
            <a:off x="3124080" y="533520"/>
            <a:ext cx="3657600" cy="137160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оугольник 4"/>
          <p:cNvSpPr/>
          <p:nvPr/>
        </p:nvSpPr>
        <p:spPr>
          <a:xfrm>
            <a:off x="1295280" y="3429000"/>
            <a:ext cx="3505320" cy="144792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5"/>
          <p:cNvSpPr/>
          <p:nvPr/>
        </p:nvSpPr>
        <p:spPr>
          <a:xfrm>
            <a:off x="5257800" y="3429000"/>
            <a:ext cx="3657600" cy="144792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ая соединительная линия 9"/>
          <p:cNvSpPr/>
          <p:nvPr/>
        </p:nvSpPr>
        <p:spPr>
          <a:xfrm flipH="1" flipV="1">
            <a:off x="2437920" y="1219320"/>
            <a:ext cx="685800" cy="14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ая соединительная линия 11"/>
          <p:cNvSpPr/>
          <p:nvPr/>
        </p:nvSpPr>
        <p:spPr>
          <a:xfrm>
            <a:off x="6781680" y="1219320"/>
            <a:ext cx="609840" cy="14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6" name="Прямая со стрелкой 13"/>
          <p:cNvCxnSpPr/>
          <p:nvPr/>
        </p:nvCxnSpPr>
        <p:spPr>
          <a:xfrm flipH="1">
            <a:off x="2436120" y="1220400"/>
            <a:ext cx="3960" cy="20577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37" name="Прямая со стрелкой 15"/>
          <p:cNvCxnSpPr/>
          <p:nvPr/>
        </p:nvCxnSpPr>
        <p:spPr>
          <a:xfrm flipH="1">
            <a:off x="7389000" y="1220400"/>
            <a:ext cx="3960" cy="20577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38" name="Прямоугольник 16"/>
          <p:cNvSpPr/>
          <p:nvPr/>
        </p:nvSpPr>
        <p:spPr>
          <a:xfrm>
            <a:off x="1767600" y="3962520"/>
            <a:ext cx="25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АНТРОПОЦЕНТР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оугольник 17"/>
          <p:cNvSpPr/>
          <p:nvPr/>
        </p:nvSpPr>
        <p:spPr>
          <a:xfrm>
            <a:off x="5885280" y="3962520"/>
            <a:ext cx="23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НАТУРОЦЕНТР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2314"/>
                </a:solidFill>
                <a:latin typeface="Corbel"/>
              </a:rPr>
              <a:t>Антропоцентризм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066680" y="1447560"/>
            <a:ext cx="4572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 философии под антропоцентризмом понимается воззрение, согласно которому </a:t>
            </a:r>
            <a:r>
              <a:rPr b="0" lang="ru-RU" sz="2400" spc="-1" strike="noStrike">
                <a:solidFill>
                  <a:srgbClr val="713204"/>
                </a:solidFill>
                <a:latin typeface="Corbel"/>
              </a:rPr>
              <a:t>человек есть центр и высшая цель мироздания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но присутствует в общественном сознании, начиная с </a:t>
            </a:r>
            <a:r>
              <a:rPr b="0" lang="ru-RU" sz="2400" spc="-1" strike="noStrike">
                <a:solidFill>
                  <a:srgbClr val="713204"/>
                </a:solidFill>
                <a:latin typeface="Corbel"/>
              </a:rPr>
              <a:t>классической античности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, и приобретает центральное место в идеологии </a:t>
            </a:r>
            <a:r>
              <a:rPr b="0" lang="ru-RU" sz="2400" spc="-1" strike="noStrike">
                <a:solidFill>
                  <a:srgbClr val="713204"/>
                </a:solidFill>
                <a:latin typeface="Corbel"/>
              </a:rPr>
              <a:t>Нового времени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3" name="Picture 1" descr="C:\Users\с1фа\Desktop\Рисунок1.jpg"/>
          <p:cNvPicPr/>
          <p:nvPr/>
        </p:nvPicPr>
        <p:blipFill>
          <a:blip r:embed="rId1"/>
          <a:stretch/>
        </p:blipFill>
        <p:spPr>
          <a:xfrm>
            <a:off x="5867280" y="1828800"/>
            <a:ext cx="2895840" cy="369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44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Основные особенности антропоцентризма 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218960" y="1219320"/>
            <a:ext cx="7708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13204"/>
                </a:solidFill>
                <a:latin typeface="Corbel"/>
              </a:rPr>
              <a:t>1. </a:t>
            </a:r>
            <a:r>
              <a:rPr b="0" lang="ru-RU" sz="2000" spc="-1" strike="noStrike">
                <a:solidFill>
                  <a:srgbClr val="4f271c"/>
                </a:solidFill>
                <a:latin typeface="Corbel"/>
              </a:rPr>
              <a:t>Высшую ценность представляет человек. </a:t>
            </a:r>
            <a:r>
              <a:rPr b="0" lang="ru-RU" sz="2000" spc="-1" strike="noStrike">
                <a:solidFill>
                  <a:srgbClr val="713204"/>
                </a:solidFill>
                <a:latin typeface="Corbel"/>
              </a:rPr>
              <a:t>Лишь он самоценен, все остальное в природе ценно лишь постольку, поскольку оно может быть полезно человеку. Природа объявляется собственностью человечества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13204"/>
                </a:solidFill>
                <a:latin typeface="Corbel"/>
              </a:rPr>
              <a:t>2. </a:t>
            </a:r>
            <a:r>
              <a:rPr b="0" lang="ru-RU" sz="2000" spc="-1" strike="noStrike">
                <a:solidFill>
                  <a:srgbClr val="4f271c"/>
                </a:solidFill>
                <a:latin typeface="Corbel"/>
              </a:rPr>
              <a:t>Иерархическая картина мира</a:t>
            </a:r>
            <a:r>
              <a:rPr b="0" lang="ru-RU" sz="2000" spc="-1" strike="noStrike">
                <a:solidFill>
                  <a:srgbClr val="713204"/>
                </a:solidFill>
                <a:latin typeface="Corbel"/>
              </a:rPr>
              <a:t>. На вершине пирамиды стоит человек, несколько ниже — вещи, созданные человеком и для человека, еще ниже располагаются различные объекты природы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13204"/>
                </a:solidFill>
                <a:latin typeface="Corbel"/>
              </a:rPr>
              <a:t>3. </a:t>
            </a:r>
            <a:r>
              <a:rPr b="0" lang="ru-RU" sz="2000" spc="-1" strike="noStrike">
                <a:solidFill>
                  <a:srgbClr val="4f271c"/>
                </a:solidFill>
                <a:latin typeface="Corbel"/>
              </a:rPr>
              <a:t>Целью взаимодействия с природой является </a:t>
            </a:r>
            <a:r>
              <a:rPr b="0" lang="ru-RU" sz="2000" spc="-1" strike="noStrike">
                <a:solidFill>
                  <a:srgbClr val="713204"/>
                </a:solidFill>
                <a:latin typeface="Corbel"/>
              </a:rPr>
              <a:t>удовлетворение тех или иных прагматических потребностей, т. е. получение определенного «полезного продукта». Сущность его выражается словом «использование»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13204"/>
                </a:solidFill>
                <a:latin typeface="Corbel"/>
              </a:rPr>
              <a:t>4. </a:t>
            </a:r>
            <a:r>
              <a:rPr b="0" lang="ru-RU" sz="2000" spc="-1" strike="noStrike">
                <a:solidFill>
                  <a:srgbClr val="4f271c"/>
                </a:solidFill>
                <a:latin typeface="Corbel"/>
              </a:rPr>
              <a:t>Характер взаимодействия с природой определяется </a:t>
            </a:r>
            <a:r>
              <a:rPr b="0" lang="ru-RU" sz="2000" spc="-1" strike="noStrike">
                <a:solidFill>
                  <a:srgbClr val="713204"/>
                </a:solidFill>
                <a:latin typeface="Corbel"/>
              </a:rPr>
              <a:t>своего рода «прагматическим императивом»: правильно и разрешено то, что полезно человеку и человечеству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13204"/>
                </a:solidFill>
                <a:latin typeface="Corbel"/>
              </a:rPr>
              <a:t>5. </a:t>
            </a:r>
            <a:r>
              <a:rPr b="0" lang="ru-RU" sz="2000" spc="-1" strike="noStrike">
                <a:solidFill>
                  <a:srgbClr val="4f271c"/>
                </a:solidFill>
                <a:latin typeface="Corbel"/>
              </a:rPr>
              <a:t>Этические нормы и правила действуют </a:t>
            </a:r>
            <a:r>
              <a:rPr b="0" lang="ru-RU" sz="2000" spc="-1" strike="noStrike">
                <a:solidFill>
                  <a:srgbClr val="713204"/>
                </a:solidFill>
                <a:latin typeface="Corbel"/>
              </a:rPr>
              <a:t>только в мир людей и не распространяются на взаимодействие с миром природы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13204"/>
                </a:solidFill>
                <a:latin typeface="Corbel"/>
              </a:rPr>
              <a:t>6</a:t>
            </a:r>
            <a:r>
              <a:rPr b="0" lang="ru-RU" sz="2000" spc="-1" strike="noStrike">
                <a:solidFill>
                  <a:srgbClr val="4f271c"/>
                </a:solidFill>
                <a:latin typeface="Corbel"/>
              </a:rPr>
              <a:t>. Дальнейшее развитие природы мыслится </a:t>
            </a:r>
            <a:r>
              <a:rPr b="0" lang="ru-RU" sz="2000" spc="-1" strike="noStrike">
                <a:solidFill>
                  <a:srgbClr val="713204"/>
                </a:solidFill>
                <a:latin typeface="Corbel"/>
              </a:rPr>
              <a:t>как процесс, который должен быть подчинен процессу развития человека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Идеи антропоцентризма в концепции христианской морали (Б. Калликотт)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990720" y="1218960"/>
            <a:ext cx="49528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1.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 Бог </a:t>
            </a:r>
            <a:r>
              <a:rPr b="0" lang="ru-RU" sz="1800" spc="-1" strike="noStrike">
                <a:solidFill>
                  <a:srgbClr val="713204"/>
                </a:solidFill>
                <a:latin typeface="Symbol"/>
                <a:ea typeface="Symbol"/>
              </a:rPr>
              <a:t>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 царство священного и таинственного </a:t>
            </a:r>
            <a:r>
              <a:rPr b="0" lang="ru-RU" sz="1800" spc="-1" strike="noStrike">
                <a:solidFill>
                  <a:srgbClr val="713204"/>
                </a:solidFill>
                <a:latin typeface="Symbol"/>
                <a:ea typeface="Symbol"/>
              </a:rPr>
              <a:t>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 олицетворяет природу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2. 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Человек 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создан 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по образу и подобию Божьему 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и тем самым обособлен от всей остальной природы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3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. Бог 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предоставил человеку 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управление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 природным миром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4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. Бог заповедал 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человеку 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размножаться и покорять природу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. Богоподобие 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человека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 является основанием для него считать себя 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высшей ценностью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. Поскольку 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природные объекты лишены богоподобия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, они считаются морально несовершенными. В лучшем случае за ними признается инструментальная ценность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5. Все сказанное было закреплено в аристотелетомистской телеологии: рациональная жизнь </a:t>
            </a:r>
            <a:r>
              <a:rPr b="0" lang="ru-RU" sz="1800" spc="-1" strike="noStrike">
                <a:solidFill>
                  <a:srgbClr val="713204"/>
                </a:solidFill>
                <a:latin typeface="Symbol"/>
                <a:ea typeface="Symbol"/>
              </a:rPr>
              <a:t>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 гарант существования природы; неразумные 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вещи существуют 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лишь в качестве средства 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для поддержания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 наделенного разумом 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человека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0" name="Рисунок 4" descr="49809486_1255364429_007.jpg"/>
          <p:cNvPicPr/>
          <p:nvPr/>
        </p:nvPicPr>
        <p:blipFill>
          <a:blip r:embed="rId1"/>
          <a:stretch/>
        </p:blipFill>
        <p:spPr>
          <a:xfrm>
            <a:off x="6019920" y="1295280"/>
            <a:ext cx="2971800" cy="3124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51" name="Рисунок 5" descr="1227624102Sotvorenie.jpg"/>
          <p:cNvPicPr/>
          <p:nvPr/>
        </p:nvPicPr>
        <p:blipFill>
          <a:blip r:embed="rId2"/>
          <a:srcRect l="0" t="141" r="622" b="0"/>
          <a:stretch/>
        </p:blipFill>
        <p:spPr>
          <a:xfrm>
            <a:off x="6248520" y="4572000"/>
            <a:ext cx="2590560" cy="2085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52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Идеи К. Маркса и Ф. Энгельса в трудах «Капитал» и «Диалектика природы»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(на рубеже XIX и XX вв.)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54" name="Picture 2" descr="http://krotov.info/pictures/maps/12/01285ch.jpg"/>
          <p:cNvPicPr/>
          <p:nvPr/>
        </p:nvPicPr>
        <p:blipFill>
          <a:blip r:embed="rId1"/>
          <a:srcRect l="2881" t="2110" r="1966" b="9181"/>
          <a:stretch/>
        </p:blipFill>
        <p:spPr>
          <a:xfrm>
            <a:off x="5867280" y="1676520"/>
            <a:ext cx="3124440" cy="3876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55" name="Прямоугольник 4"/>
          <p:cNvSpPr/>
          <p:nvPr/>
        </p:nvSpPr>
        <p:spPr>
          <a:xfrm>
            <a:off x="1219320" y="1600200"/>
            <a:ext cx="457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С позиции диалектического материализма в этих работах подчеркивалось, что человек не в состоянии отменить или изменить законы природы — они объективны и действуют помимо его воли. Человек не может господствовать над природой, он принадлежит ей и находится внутри нее. Господство человека над природой есть не что иное, как деятельность, основанная на использовании ее законов</a:t>
            </a: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. К. Маркс писал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: «Человеческие проекты, не считающиеся с великими законами природы, приносят только несчастье»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47560" y="151920"/>
            <a:ext cx="7391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2314"/>
                </a:solidFill>
                <a:latin typeface="Corbel"/>
              </a:rPr>
              <a:t>Натуроцентризм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066680" y="914040"/>
            <a:ext cx="56390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713204"/>
                </a:solidFill>
                <a:latin typeface="Corbel"/>
              </a:rPr>
              <a:t>Направление выделяется довольно условно, тем не менее первые наброски такого подхода можно найти как в религиозных системах, например, в комплексе даостско-буддистского миропонимания, так и в философии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f271c"/>
                </a:solidFill>
                <a:latin typeface="Corbel"/>
              </a:rPr>
              <a:t>В идеях Франциска  Ассизского, сформулировавшего альтернативный взгляд на природу: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713204"/>
                </a:solidFill>
                <a:latin typeface="Corbel"/>
              </a:rPr>
              <a:t>вера в добродетель смирения не только отдельного человека, но и человечества в целом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713204"/>
                </a:solidFill>
                <a:latin typeface="Corbel"/>
              </a:rPr>
              <a:t>он низводит человека с его трона монархического господства над каждой тварью и устанавливает демократию между всеми формами жизни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713204"/>
                </a:solidFill>
                <a:latin typeface="Corbel"/>
              </a:rPr>
              <a:t>утверждается духовная самоценность всего, что есть в природе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713204"/>
                </a:solidFill>
                <a:latin typeface="Corbel"/>
              </a:rPr>
              <a:t>человек должен признать эту самоценность и не вмешиваться своей деятельностью в естественный ход событий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9" name="Picture 2" descr="RLFOA"/>
          <p:cNvPicPr/>
          <p:nvPr/>
        </p:nvPicPr>
        <p:blipFill>
          <a:blip r:embed="rId1"/>
          <a:stretch/>
        </p:blipFill>
        <p:spPr>
          <a:xfrm>
            <a:off x="6858000" y="990720"/>
            <a:ext cx="2154240" cy="27432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4" descr="http://cs319531.userapi.com/v319531659/3d50/8FlFfCrThzQ.jpg"/>
          <p:cNvPicPr/>
          <p:nvPr/>
        </p:nvPicPr>
        <p:blipFill>
          <a:blip r:embed="rId2"/>
          <a:stretch/>
        </p:blipFill>
        <p:spPr>
          <a:xfrm>
            <a:off x="6781680" y="4114800"/>
            <a:ext cx="2178000" cy="2438280"/>
          </a:xfrm>
          <a:prstGeom prst="rect">
            <a:avLst/>
          </a:prstGeom>
          <a:ln w="0">
            <a:noFill/>
          </a:ln>
        </p:spPr>
      </p:pic>
      <p:sp>
        <p:nvSpPr>
          <p:cNvPr id="361" name="Прямоугольник 6"/>
          <p:cNvSpPr/>
          <p:nvPr/>
        </p:nvSpPr>
        <p:spPr>
          <a:xfrm>
            <a:off x="6705720" y="3733920"/>
            <a:ext cx="228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713204"/>
                </a:solidFill>
                <a:latin typeface="Corbel"/>
              </a:rPr>
              <a:t> </a:t>
            </a:r>
            <a:r>
              <a:rPr b="0" lang="ru-RU" sz="1300" spc="-1" strike="noStrike">
                <a:solidFill>
                  <a:srgbClr val="713204"/>
                </a:solidFill>
                <a:latin typeface="Corbel"/>
              </a:rPr>
              <a:t>(5 июля 1182-3 октября 1226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990360" y="121932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При всей полярности отмеченные подходы имеют между собой общие черты. В них природа рассматривается как нечто внешнее по отношению к человеку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В логике подобной дихотомии развивается анализ двух основных способов существования человека: обладания и бытия, осуществляемый Э. Фроммом в книге «Иметь или быть».  Э. Фромм приводит два стихотворения. Первое принадлежит перу английского поэта </a:t>
            </a:r>
            <a:r>
              <a:rPr b="0" lang="en-US" sz="1800" spc="-1" strike="noStrike">
                <a:solidFill>
                  <a:srgbClr val="713204"/>
                </a:solidFill>
                <a:latin typeface="Gill Sans MT"/>
              </a:rPr>
              <a:t>XIX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 в. Теннисона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Возросший средь руин цветок,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f271c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Тебя из трещин Древних извлекаю,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Ты предо мною весь </a:t>
            </a:r>
            <a:r>
              <a:rPr b="0" lang="ru-RU" sz="1800" spc="-1" strike="noStrike">
                <a:solidFill>
                  <a:srgbClr val="4f271c"/>
                </a:solidFill>
                <a:latin typeface="Symbol"/>
                <a:ea typeface="Symbol"/>
              </a:rPr>
              <a:t></a:t>
            </a: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 вот корень, стебелек, здесь, на моей ладони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Ты мал, цветок, но если бы я понял,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Что есть твой корень, стебелек, и в чем вся суть твоя, цветок,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Тогда я Бога суть и человека суть познал бы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 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Автором второго стихотворения является японский поэт </a:t>
            </a:r>
            <a:r>
              <a:rPr b="0" lang="en-US" sz="1800" spc="-1" strike="noStrike">
                <a:solidFill>
                  <a:srgbClr val="713204"/>
                </a:solidFill>
                <a:latin typeface="Gill Sans MT"/>
              </a:rPr>
              <a:t>XVII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 в. Басе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Внимательно вглядись!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Цветы «пастушьей сумки»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Увидишь под плетнем!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Прямоугольник 5"/>
          <p:cNvSpPr/>
          <p:nvPr/>
        </p:nvSpPr>
        <p:spPr>
          <a:xfrm>
            <a:off x="1219320" y="0"/>
            <a:ext cx="76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271c"/>
                </a:solidFill>
                <a:latin typeface="Corbel"/>
              </a:rPr>
              <a:t>Связь антропоцентризма и натуроцентриз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7:26:09Z</dcterms:created>
  <dc:creator>с1фа</dc:creator>
  <dc:description/>
  <dc:language>en-US</dc:language>
  <cp:lastModifiedBy>LEGION</cp:lastModifiedBy>
  <dcterms:modified xsi:type="dcterms:W3CDTF">2014-11-11T08:59:10Z</dcterms:modified>
  <cp:revision>21</cp:revision>
  <dc:subject/>
  <dc:title>Слайд 1</dc:title>
</cp:coreProperties>
</file>