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0992-4D16-4A12-B953-7A662832A1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рода как ценность. Антропоцентризм и натуроцентризм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7B28-7696-4047-B2B0-7BB00710EC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егодня находит отражение реализаци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деи гармонии человека с природой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BEAB-498C-4A35-8E10-81E16B5EB5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824B-D786-4F28-B074-9ED9DC7551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роду легче всего подчинить, повинуясь 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Фрэнсис Бэ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9FA5-C1A6-430E-9F4A-BC8F11E81D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сновные направления в понимании сути взаимодействия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7185-7FE0-41DA-AE8A-D2814D30E5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Антропоцент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лософии под антропоцентризмом понимается воззрение, согласно которо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есть центр и высшая цель миро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присутствует в общественном сознании, начиная с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лассической а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приобретает центральное место в идеологии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ового време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2DBB-9778-4D1F-9DDF-459EA5EA7F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Основные особенности антропоцентризм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ысшую ценность представляет человек.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ерархическая картина мир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елью взаимодействия с природой яв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Характер взаимодействия с природой опреде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тические нормы и правила дей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только в мир людей и не распространяются на взаимодействие с миром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 Дальнейшее развитие природы мысли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ак процесс, который должен быть подчинен процессу развит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DB27-C9F1-4C32-A9EE-4B8B1BDB2B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1488b"/>
                </a:solidFill>
                <a:latin typeface="Calibri"/>
              </a:rPr>
              <a:t>Идеи антропоцентризма в концепции христианской морали (Б. Калликотт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Бог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царство священного и таинственного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олицетворяет прир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оздан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о образу и подобию Божье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и тем самым обособлен от всей остальной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едоставил 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управление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природным ми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заповедал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множаться и покорять природу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Богоподоби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является основанием для него считать себя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ысшей ценностью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Посколь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иродные объекты лишены богоподоб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гарант существования природы; неразумны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ещи суще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в качестве средства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ля поддержа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наделенного разумом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9A23-B78B-4A14-B540-E6B76249E8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деи К. Маркса и Ф. Энгельса в трудах «Капитал» и «Диалектика природы»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(на рубеже XIX и XX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К. Маркс писал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D228-3295-404D-8233-06332CF163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488b"/>
                </a:solidFill>
                <a:latin typeface="Calibri"/>
              </a:rPr>
              <a:t>Натуроцентр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идеях Франциска  Ассизского, сформулировавшего альтернативный взгляд на приро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ера в добродетель смирения не только отдельного человека, но и человечеств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тверждается духовная самоценность всего, что есть в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72B6-8BD3-4261-A56B-AA1CEF913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Теннис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росший средь руин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бя из трещин Древних извлека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предо мною весь </a:t>
            </a:r>
            <a:r>
              <a:rPr b="0" lang="ru-RU" sz="1200" spc="-1" strike="noStrike">
                <a:solidFill>
                  <a:srgbClr val="1f497d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от корень, стебелек, здесь, на моей ладо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мал, цветок, но если бы я поня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то есть твой корень, стебелек, и в чем вся суть твоя,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огда я Бога суть и человека суть познал 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Автором второго стихотворения является японский поэт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Ба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нимательно вглядис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веты «пастушьей сум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видишь под плетн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8CD3-E35C-44DA-88E5-9DC32A7E26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B5C-08F5-4E0C-8E41-9BDDA000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84F-FCBC-4CD4-B0E1-C2CB274E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05A-90AA-43D7-8D89-4801EE53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B0D-D141-44F1-83E3-EE434F61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72CB-A50F-4AD4-8C98-5D35B913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D728-3645-4662-B4AB-7437F99B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22B5-1C53-4D21-8784-8ABA8887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97F3-6B67-4F9F-B035-905261E0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3A0F-1719-4E45-BE0F-3DFB7131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3E37-2D2A-4488-B43C-CEB8DCEA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43BE-CE1D-4E92-AE63-4AD7AFA0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8D2-51A4-4CCF-B0FA-10B0555E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9E46-E845-486A-8F0D-6A84295C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4D6D-A504-4FBA-884D-3845638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33E3-1254-4550-B980-43AA7A1E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9C30-FF3A-4E4E-BB6C-9597A74D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9319-5FA7-4CB4-A0CC-9C0BEA3D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F555-AD07-4F08-9A0C-F5C8CF64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231F-9BEA-4B3D-921B-67CBC70C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FC93-304F-4541-8308-1ED8CC50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F7A1D-9602-4BFC-9683-F73EB36C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0AD4-9B44-41FA-A498-B5BF09C2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2D8-4658-48AB-A7F2-88BBF9F3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A459-B551-4F8B-B915-7A17EBE8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8C8E-38E7-4A59-937C-13DE615B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5678-3998-428D-A519-38B2C8CF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3694-ED31-4D25-81F7-D369095C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CB07-3219-40EF-B906-8ADCE105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17C1-8905-456C-B673-E458A530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A125-DED4-4D91-9E1A-60D16E8F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E81E-6DCE-425C-A035-813BA023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BD69-835A-443E-BE29-4C793FF9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F00C2-526F-40F3-968D-7FA2B543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E14-E238-4028-A481-33D606F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90A15-55DD-402F-9683-D5FE9A75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327E-568E-40EF-AD6C-F502F6EA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75181-ED61-4616-A3AD-9080557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9E7C-1197-4CB6-AE68-830028DD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E8E1-6E42-472F-B61F-D53CD231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ED2D-5A43-4431-8835-2CA2385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1F1A6-5265-4F06-AB45-BA93C76D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1092-2B29-40C8-AB6B-05551772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557DF-D748-463F-9F0E-087E704C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E4E9-809D-4079-A819-CBABC907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C87-F862-4546-BBAE-AA624BFA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F11D9-F56B-4AF9-A97A-BA0F1BF2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CDB48-8F87-4055-A7CE-0F44B1D2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219E-34E5-454D-85EF-8AFAC4C7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C907C-DC3C-4EA0-BDA4-04BDD1D3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4FB7-813E-47DA-951A-E8798176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846E1-FF59-4060-A150-9428008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5D50-D07E-414F-8D67-FA4D8F2C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A0545-896A-4B65-8132-812A24C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C6243-C83C-4D9F-976C-E69F011A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9AD41-90CC-4BA9-810A-367A1EB7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D2A-4C8E-4FBC-9269-DFA99BC7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4A0F5-DFDC-4341-8981-14F768DE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136BA-D0EF-4442-B2E0-7E047C60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9BD01-D24F-46B3-91DB-2ACFBA7B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98DD9-B998-4157-BBD6-51AFC6EA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BC32C-ABAE-4F3A-A151-8150D85C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2C153-5869-427B-9523-22111D47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E2958-0788-48C0-B702-8B452284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97145-4C37-4788-A2B1-7F9CECC7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B2628-2622-4DEF-8199-951117A7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144F3-9530-455C-B69D-35393BC5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635-05F4-4C1A-8C03-6311B38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491E3-CB12-4F1A-B2B3-A46C3E8C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63048-7E0A-4703-949C-16334B33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5D76A-9538-452F-8B89-F9BE7A8D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788A8-CD84-4A91-9E9D-D082EA4C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BC10F-899D-4B09-880C-D72BBA2B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1E3D9-C661-458E-BBFB-F67E14A5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976EB-B11A-4BCD-B455-FBD2B668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9D0EE-BAD6-41F7-A8C0-495BD742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A5FF7-18A5-4E26-8308-5C658740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B03DE-38A6-4DCD-9706-4C83691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EE4-F25A-44B7-B9B3-B93370E6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1A94F-F69A-4286-989A-6F16C8A4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45FCB-CD65-45E9-9390-DAD8CF92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D2DD4-54AF-4DEA-AA24-257E41D8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581BB-A5F4-41B7-BB30-E478F6BD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53D0-2418-481F-96A2-FA753EE4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186-11B0-4143-B424-ED3AA00C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1A59-9618-434A-AECD-1DC57FEB5BB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D740-8D9A-466B-9667-A112BD80E5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EED1-BDDF-4D76-9FA0-4674D48D2D5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7DF9-A08F-422A-A6D4-6DB8B9BA83A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27E1-9847-4FF8-A88E-F3C17BFFFC4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6652-F19B-44CB-8004-CBB4A4B8A63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35E0-89DC-4976-AE7A-56B0128848A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ECFE-0439-4F68-9256-C494DE1D4BB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CD7D-A15B-4135-B27D-0C1BE51A2A7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A738-E72E-4EF9-B833-B1DDD292C76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FAFB-365F-477B-B202-3DA8634C9AA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B7C5-0870-419D-83C5-1CFF74410EE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F7E3-5D71-489B-9DEB-C26B8319393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90E-EC31-46FD-99DE-254BCBBB5CD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orbel"/>
                <a:ea typeface="Times New Roman"/>
              </a:rPr>
              <a:t>Природа как ценность. Антропоцентризм и натуроцентризм</a:t>
            </a:r>
            <a:br>
              <a:rPr sz="48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80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040" y="9903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егодня находит отражение реализация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деи гармонии человека с природой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6019920" y="762120"/>
            <a:ext cx="3657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Бродил я лесо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глуш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айти не ча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ни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Смотрю, цветоч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ени ветв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глаз прекрас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звезд светл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ростер я ру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о молвил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«Ужель погиб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осужден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взял с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итомца 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 в сад прохла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 себе отн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иши месте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му отв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ет он сн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ак прежде цв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6661440" y="3808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.В. Гёте  «Наш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www.novoshakhtinsk.org/upload/iblock/10a/10a4974d8b842b367b9e9358c21dfb21.jpg"/>
          <p:cNvPicPr/>
          <p:nvPr/>
        </p:nvPicPr>
        <p:blipFill>
          <a:blip r:embed="rId1"/>
          <a:srcRect l="13341" t="0" r="6664" b="0"/>
          <a:stretch/>
        </p:blipFill>
        <p:spPr>
          <a:xfrm>
            <a:off x="4876920" y="1143000"/>
            <a:ext cx="1752480" cy="163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cs421726.userapi.com/v421726437/921/tLMX6chKNVU.jpg"/>
          <p:cNvPicPr/>
          <p:nvPr/>
        </p:nvPicPr>
        <p:blipFill>
          <a:blip r:embed="rId2"/>
          <a:srcRect l="14999" t="0" r="14999" b="0"/>
          <a:stretch/>
        </p:blipFill>
        <p:spPr>
          <a:xfrm>
            <a:off x="4876920" y="3886200"/>
            <a:ext cx="1842840" cy="17524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998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Corbe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http://t2.gstatic.com/images?q=tbn:ANd9GcQOq1M_7HXqtR04VCdggHgJyw6iDnXxYc-znGclC18WYGkg49uV"/>
          <p:cNvPicPr/>
          <p:nvPr/>
        </p:nvPicPr>
        <p:blipFill>
          <a:blip r:embed="rId1"/>
          <a:stretch/>
        </p:blipFill>
        <p:spPr>
          <a:xfrm>
            <a:off x="2362320" y="10666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i.imgur.com/27UVN.jpg"/>
          <p:cNvPicPr/>
          <p:nvPr/>
        </p:nvPicPr>
        <p:blipFill>
          <a:blip r:embed="rId2"/>
          <a:stretch/>
        </p:blipFill>
        <p:spPr>
          <a:xfrm>
            <a:off x="1905120" y="2895480"/>
            <a:ext cx="6095880" cy="352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rossahar.ru/netcat_files/userfiles/files/Rossahar/Images/ekologiya.jpg"/>
          <p:cNvPicPr/>
          <p:nvPr/>
        </p:nvPicPr>
        <p:blipFill>
          <a:blip r:embed="rId3"/>
          <a:stretch/>
        </p:blipFill>
        <p:spPr>
          <a:xfrm>
            <a:off x="5181480" y="10666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971440" y="1066680"/>
            <a:ext cx="603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Природу легче всего подчинить, повинуясь е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Фрэнсис Бэкон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dayevents.ru/uploads/f911af3e4838_C6DC/2038843764_u89zW3VU_jean_paul02.jpg"/>
          <p:cNvPicPr/>
          <p:nvPr/>
        </p:nvPicPr>
        <p:blipFill>
          <a:blip r:embed="rId1"/>
          <a:stretch/>
        </p:blipFill>
        <p:spPr>
          <a:xfrm>
            <a:off x="144792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3720" y="609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f271c"/>
                </a:solidFill>
                <a:latin typeface="Corbel"/>
              </a:rPr>
              <a:t>Основные направления в понимании сути взаимодействия человека и природы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3124080" y="533520"/>
            <a:ext cx="3657600" cy="13716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"/>
          <p:cNvSpPr/>
          <p:nvPr/>
        </p:nvSpPr>
        <p:spPr>
          <a:xfrm>
            <a:off x="1295280" y="3429000"/>
            <a:ext cx="350532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5257800" y="3429000"/>
            <a:ext cx="365760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9"/>
          <p:cNvSpPr/>
          <p:nvPr/>
        </p:nvSpPr>
        <p:spPr>
          <a:xfrm flipH="1" flipV="1">
            <a:off x="2437920" y="1219320"/>
            <a:ext cx="68580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1"/>
          <p:cNvSpPr/>
          <p:nvPr/>
        </p:nvSpPr>
        <p:spPr>
          <a:xfrm>
            <a:off x="6781680" y="1219320"/>
            <a:ext cx="6098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 стрелкой 13"/>
          <p:cNvCxnSpPr/>
          <p:nvPr/>
        </p:nvCxnSpPr>
        <p:spPr>
          <a:xfrm flipH="1">
            <a:off x="243612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7" name="Прямая со стрелкой 15"/>
          <p:cNvCxnSpPr/>
          <p:nvPr/>
        </p:nvCxnSpPr>
        <p:spPr>
          <a:xfrm flipH="1">
            <a:off x="738900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8" name="Прямоугольник 16"/>
          <p:cNvSpPr/>
          <p:nvPr/>
        </p:nvSpPr>
        <p:spPr>
          <a:xfrm>
            <a:off x="1767600" y="39625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АНТРОП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7"/>
          <p:cNvSpPr/>
          <p:nvPr/>
        </p:nvSpPr>
        <p:spPr>
          <a:xfrm>
            <a:off x="5885280" y="3962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НАТУР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Антроп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философии под антропоцентризмом понимается воззрение, согласно которому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человек есть центр и высшая цель мирозд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о присутствует в общественном сознании, начиная с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классической антич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и приобретает центральное место в идеологии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Ново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1" descr="C:\Users\с1фа\Desktop\Рисунок1.jpg"/>
          <p:cNvPicPr/>
          <p:nvPr/>
        </p:nvPicPr>
        <p:blipFill>
          <a:blip r:embed="rId1"/>
          <a:stretch/>
        </p:blipFill>
        <p:spPr>
          <a:xfrm>
            <a:off x="5867280" y="1828800"/>
            <a:ext cx="2895840" cy="369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особенности антропоцентризма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218960" y="1219320"/>
            <a:ext cx="770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1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Высшую ценность представляет человек.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2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Иерархическая картина мира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3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Целью взаимодействия с природой яв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4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Характер взаимодействия с природой опреде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5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Этические нормы и правила действуют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только в мир людей и не распространяются на взаимодействие с миром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. Дальнейшее развитие природы мысли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как процесс, который должен быть подчинен процессу развития челове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деи антропоцентризма в концепции христианской морали (Б. Калликотт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90720" y="12189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1.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 Бог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царство священного и таинственного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олицетворяет природ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2.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оздан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о образу и подобию Божьему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 тем самым обособлен от всей остальной прир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3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едоставил 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управление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природным миром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4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заповедал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размножаться и покорять природу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Богоподоби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является основанием для него считать себя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ысшей ценностью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Посколь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риродные объекты лишены богоподоб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гарант существования природы; неразумны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ещи существуют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лишь в качестве средства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для поддержан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наделенного разумом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Рисунок 4" descr="49809486_1255364429_007.jpg"/>
          <p:cNvPicPr/>
          <p:nvPr/>
        </p:nvPicPr>
        <p:blipFill>
          <a:blip r:embed="rId1"/>
          <a:stretch/>
        </p:blipFill>
        <p:spPr>
          <a:xfrm>
            <a:off x="6019920" y="1295280"/>
            <a:ext cx="2971800" cy="31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1" name="Рисунок 5" descr="1227624102Sotvorenie.jpg"/>
          <p:cNvPicPr/>
          <p:nvPr/>
        </p:nvPicPr>
        <p:blipFill>
          <a:blip r:embed="rId2"/>
          <a:srcRect l="0" t="141" r="622" b="0"/>
          <a:stretch/>
        </p:blipFill>
        <p:spPr>
          <a:xfrm>
            <a:off x="6248520" y="4572000"/>
            <a:ext cx="2590560" cy="20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деи К. Маркса и Ф. Энгельса в трудах «Капитал» и «Диалектика природы»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(на рубеже XIX и XX вв.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4" name="Picture 2" descr="http://krotov.info/pictures/maps/12/01285ch.jpg"/>
          <p:cNvPicPr/>
          <p:nvPr/>
        </p:nvPicPr>
        <p:blipFill>
          <a:blip r:embed="rId1"/>
          <a:srcRect l="2881" t="2110" r="1966" b="9181"/>
          <a:stretch/>
        </p:blipFill>
        <p:spPr>
          <a:xfrm>
            <a:off x="5867280" y="1676520"/>
            <a:ext cx="3124440" cy="38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5" name="Прямоугольник 4"/>
          <p:cNvSpPr/>
          <p:nvPr/>
        </p:nvSpPr>
        <p:spPr>
          <a:xfrm>
            <a:off x="1219320" y="16002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 К. Маркс писал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Натур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66680" y="914040"/>
            <a:ext cx="56390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f271c"/>
                </a:solidFill>
                <a:latin typeface="Corbel"/>
              </a:rPr>
              <a:t>В идеях Франциска  Ассизского, сформулировавшего альтернативный взгляд на природу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вера в добродетель смирения не только отдельного человека, но и человечества в цело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утверждается духовная самоценность всего, что есть в природе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RLFOA"/>
          <p:cNvPicPr/>
          <p:nvPr/>
        </p:nvPicPr>
        <p:blipFill>
          <a:blip r:embed="rId1"/>
          <a:stretch/>
        </p:blipFill>
        <p:spPr>
          <a:xfrm>
            <a:off x="6858000" y="990720"/>
            <a:ext cx="2154240" cy="274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cs319531.userapi.com/v319531659/3d50/8FlFfCrThzQ.jpg"/>
          <p:cNvPicPr/>
          <p:nvPr/>
        </p:nvPicPr>
        <p:blipFill>
          <a:blip r:embed="rId2"/>
          <a:stretch/>
        </p:blipFill>
        <p:spPr>
          <a:xfrm>
            <a:off x="6781680" y="4114800"/>
            <a:ext cx="2178000" cy="24382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6"/>
          <p:cNvSpPr/>
          <p:nvPr/>
        </p:nvSpPr>
        <p:spPr>
          <a:xfrm>
            <a:off x="6705720" y="37339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(5 июля 1182-3 октября 122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360" y="12193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IX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Теннисона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озросший средь руин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ебя из трещин Древних извлека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предо мною весь </a:t>
            </a:r>
            <a:r>
              <a:rPr b="0" lang="ru-RU" sz="1800" spc="-1" strike="noStrike">
                <a:solidFill>
                  <a:srgbClr val="4f271c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вот корень, стебелек, здесь, на моей ладон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мал, цветок, но если бы я понял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 есть твой корень, стебелек, и в чем вся суть твоя,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огда я Бога суть и человека суть познал б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Автором второго стихотворения является японский поэт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Басе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нимательно вглядись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ы «пастушьей сумки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Увидишь под плетнем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1219320" y="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7:26:09Z</dcterms:created>
  <dc:creator>с1фа</dc:creator>
  <dc:description/>
  <dc:language>en-US</dc:language>
  <cp:lastModifiedBy>LEGION</cp:lastModifiedBy>
  <dcterms:modified xsi:type="dcterms:W3CDTF">2014-11-11T08:59:10Z</dcterms:modified>
  <cp:revision>21</cp:revision>
  <dc:subject/>
  <dc:title>Слайд 1</dc:title>
</cp:coreProperties>
</file>