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C3C8-1B4C-44F6-B4F7-0CCCD040E9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Природа как ценность. Антропоцентризм и натуроцентризм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3E27-8B1A-445A-8A22-915C88F09F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488b"/>
                </a:solidFill>
                <a:latin typeface="Calibri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егодня находит отражение реализация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деи гармонии человека с природой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: подходить к природе с точки зрения интересов всего человечества, при этом имея в виду не только интересы нынешнего поколения, но и грядущих поколений людей; проявлять заботливость, бережливость и разумность по отношению ко всем природным ресурсам, сводить к минимуму вред, наносимый живым творениям природы и всем другим.    В этом   смысле   наглядным   примером    служит   стихотворение И.В. Гёте  «Нашел», которое приводит Э. Фромм в своей кни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1EEA-D5E2-4EE6-8CDB-187B9FCFBB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B9BC-E446-4F6A-8B3D-02570911DF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роду легче всего подчинить, повинуясь 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Фрэнсис Бэ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7085-F2B6-4D94-9462-4029E65829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сновные направления в понимании сути взаимодействия человека и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57B0-A45C-48E0-8CCF-56B13DEAA4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488b"/>
                </a:solidFill>
                <a:latin typeface="Calibri"/>
              </a:rPr>
              <a:t>Антропоцентр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илософии под антропоцентризмом понимается воззрение, согласно которому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 есть центр и высшая цель мироз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присутствует в общественном сознании, начиная с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классической ант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приобретает центральное место в идеологии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Нового време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2505-136F-4CC3-A0A8-D6112444FE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Основные особенности антропоцентризм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1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ысшую ценность представляет человек.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Лишь он самоценен, все остальное в природе ценно лишь постольку, поскольку оно может быть полезно человеку. Природа объявляется собственностью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2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ерархическая картина мир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На вершине пирамиды стоит человек, несколько ниже — вещи, созданные человеком и для человека, еще ниже располагаются различные объекты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3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Целью взаимодействия с природой являе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удовлетворение тех или иных прагматических потребностей, т. е. получение определенного «полезного продукта». Сущность его выражается словом «использ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4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Характер взаимодействия с природой определяе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воего рода «прагматическим императивом»: правильно и разрешено то, что полезно человеку и человеч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5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Этические нормы и правила действуют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только в мир людей и не распространяются на взаимодействие с миром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 Дальнейшее развитие природы мысли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как процесс, который должен быть подчинен процессу развит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97E5-1971-437A-95E3-6F80DB6397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1488b"/>
                </a:solidFill>
                <a:latin typeface="Calibri"/>
              </a:rPr>
              <a:t>Идеи антропоцентризма в концепции христианской морали (Б. Калликотт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Бог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царство священного и таинственного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олицетворяет прир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2.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оздан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о образу и подобию Божьему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и тем самым обособлен от всей остальной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. Бог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предоставил челове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управление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природным ми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. Бог заповедал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размножаться и покорять природу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Богоподобие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является основанием для него считать себя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ысшей ценностью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Посколь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риродные объекты лишены богоподоб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, они считаются морально несовершенными. В лучшем случае за ними признается инструментальная ц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5. Все сказанное было закреплено в аристотелетомистской телеологии: рациональная жизнь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гарант существования природы; неразумные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ещи существуют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лишь в качестве средства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для поддержан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наделенного разумом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E624-D443-48C0-9DE5-89665E7089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деи К. Маркса и Ф. Энгельса в трудах «Капитал» и «Диалектика природы»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(на рубеже XIX и XX 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 позиции диалектического материализма в этих работах подчеркивалось, что человек не в состоянии отменить или изменить законы природы — они объективны и действуют помимо его воли. Человек не может господствовать над природой, он принадлежит ей и находится внутри нее. Господство человека над природой есть не что иное, как деятельность, основанная на использовании ее законов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К. Маркс писал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: «Человеческие проекты, не считающиеся с великими законами природы, приносят только несчастье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0C29-6CFA-4A8F-8979-D872CC69FA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488b"/>
                </a:solidFill>
                <a:latin typeface="Calibri"/>
              </a:rPr>
              <a:t>Натуроцентр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Направление выделяется довольно условно, тем не менее первые наброски такого подхода можно найти как в религиозных системах, например, в комплексе даостско-буддистского миропонимания, так и в филосо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идеях Франциска  Ассизского, сформулировавшего альтернативный взгляд на приро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вера в добродетель смирения не только отдельного человека, но и человечества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он низводит человека с его трона монархического господства над каждой тварью и устанавливает демократию между всеми формами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утверждается духовная самоценность всего, что есть в при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 должен признать эту самоценность и не вмешиваться своей деятельностью в естественный ход собы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B096-3BE4-4B15-A996-9CA14DCE51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rbel"/>
              </a:rPr>
              <a:t>Связь антропоцентризма и натуроцентри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При всей полярности отмеченные подходы имеют между собой общие черты. В них природа рассматривается как нечто внешнее по отношению к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В логике подобной дихотомии развивается анализ двух основных способов существования человека: обладания и бытия, осуществляемый Э. Фроммом в книге «Иметь или быть».  Э. Фромм приводит два стихотворения. Первое принадлежит перу английского поэта </a:t>
            </a:r>
            <a:r>
              <a:rPr b="0" lang="en-US" sz="1200" spc="-1" strike="noStrike">
                <a:solidFill>
                  <a:srgbClr val="31859c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в. Теннисо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озросший средь руин цвет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ебя из трещин Древних извлека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ы предо мною весь </a:t>
            </a:r>
            <a:r>
              <a:rPr b="0" lang="ru-RU" sz="1200" spc="-1" strike="noStrike">
                <a:solidFill>
                  <a:srgbClr val="1f497d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от корень, стебелек, здесь, на моей ладо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ы мал, цветок, но если бы я поня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Что есть твой корень, стебелек, и в чем вся суть твоя, цвет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огда я Бога суть и человека суть познал 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Автором второго стихотворения является японский поэт </a:t>
            </a:r>
            <a:r>
              <a:rPr b="0" lang="en-US" sz="1200" spc="-1" strike="noStrike">
                <a:solidFill>
                  <a:srgbClr val="31859c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в. Ба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нимательно вглядись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Цветы «пастушьей сум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видишь под плетн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C4E1-02C2-4B00-9017-F4F9B434A4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711-66E4-471E-B3F7-FF7891DF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439-7D65-4699-9B6B-7BC6D02F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58E-B0CC-4FB8-9EA0-3D2DB38F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1E1A-C340-4DBE-9D47-20C997AC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0424-6545-4533-BF60-C8D7700C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6840-A4CB-4EF6-8B00-C34F7A73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6596-96AB-42BA-A72A-84B0F583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58AA-FA43-48D6-8048-377629CA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AB84-8E3C-4293-A862-784D451D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86E6-BD16-4E0A-8BD7-F4C2A99E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1154-ADE3-42EF-A6D3-0EE670AE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E65-FA5B-440A-AFFA-D033A025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5CC6-9614-48FC-853B-CF139B61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DCD7-6B36-4464-8791-262BD5EF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BC49-F4FE-4E65-80F7-E2FB3DF5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9625-CE76-4F14-AF69-CDB36682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8E9C-60FE-4A8D-A7EB-669F29B0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DC17E-E48D-4446-AE3C-47AB4C95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12D3-E860-4377-8C91-ECF2266A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02C05-699E-417D-8B08-E0581912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A7701-A10C-482A-BC51-6AD952FB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B2A62-969E-48BD-BA26-5F7F9C35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F02-14F3-4E4A-8CCE-BC481A86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81D0E-9FE8-45D2-9D11-9D442AB8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EFDC9-723B-4864-B9E6-84BF4514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09BE0-8EB4-42ED-96C3-E6B361B8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F46F4-EE01-43B4-9DCA-0C81DF10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F510C-30BE-464E-8DFA-03A97E4A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21FF2-7DF1-41C9-A70D-2A14B1FB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94F3E-FE70-4976-85B3-43F61FAF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C5428-6C62-486C-A9DE-9887231A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8CC4D-80BB-43EE-AE95-A3C4C814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0AEE3-122F-4A6B-AF17-47B5708D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54C-5577-4AFF-B325-3CF5DC4F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CAE87-09F5-4392-A6EC-AD579088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78063-A7CC-4A0D-99DC-F14720FB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E927F-711A-42B5-9887-4A8BFCB4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D9FEF-B2AD-4A24-9360-D7429147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EB939-4C92-4586-98D2-D433BF55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BDA1B-F0D5-4350-81FB-07E225D5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7B589-0957-46C9-B95D-92CDD3D9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5450A-A6AE-47F5-96A3-7E3685A7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BAF6A-F4BE-4940-84D1-AE4460B9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48EDD-F0EA-490A-ABE2-AEFCCDB5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F27-ED26-4655-A9F2-FDCC3ADA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78998-C869-4C23-8ED4-B16A2B66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6D221-C94A-45E0-A81E-3C652C61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C691E-FE9F-4BB9-A6D9-FD0DFD39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C9D33-4580-4CF8-93A7-1B21CA4A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E2720-B4F5-4120-BC5E-30DDA3F0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9ECA6-86BC-4C88-9FFF-E12FF053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7679B-AA6F-4AF2-A623-F811053D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AB6C8-8A5D-4C02-BA9B-3FFF1052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B7EC3-EB70-4E7E-A738-D433735E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70EBD-74A2-4ECA-85E4-E5CA4FCC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8B2-C097-42B5-A6C8-0293878A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6F989-E7CF-4DAE-99CF-84F5FBC3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84AB3-3EF0-4EF1-AE9F-2AC60A72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F1EAC-156D-4ED3-A915-11D422D5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5CEA5-DDE9-443B-B993-A6B930C0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B45C9-FCE1-4C0E-85AD-2640303B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C84A8-8146-475B-B26D-1B0046C3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0D17C-B708-4413-97FF-26FD8447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B8D6E-36E1-4BC5-AC44-6A7DA483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2BFD4-4399-40D6-A01C-1146E4C1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AFF31-E9F7-4270-A410-986DEAF7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01D-522A-4576-8E19-6681AADC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BE5A9-81A6-4802-BDCE-D66C86E6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C74FF-9B3B-4FA3-8B16-7D9A4CFC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422C1-ED56-4595-A3BE-825027AF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D87FD-454E-48A6-8AC1-5F26B132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730FF-B6A9-4634-AA28-B51D3C06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AED2A-AD87-41CC-901B-1C556122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9A96A-9032-4FC5-907E-B0358516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91FD4-C734-4D38-92A4-652556A3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10F6F-FDCE-4CB4-A092-56179F43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9AEB3-2C24-4C91-AC5A-6767DC65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616D-87E2-4CB4-B29B-38C5A874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F2C0B-BA83-4E73-ADAC-20DAB513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8A0B6-5B62-4462-8982-2C882A3B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C8978-7848-445E-9B53-5516C16B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6DE6B-7DCD-4BD8-95FC-1BA59C95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C52A0-C2C0-41A9-BEE3-BCD5E5C1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099-A5F8-4432-A23E-F3F8CC47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C76C-D347-4A02-A13E-58F5584403B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02FD-0FEB-4E54-9B6E-8DD3BDFFBE4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B54C-4D16-4053-AF34-6D1A787B54B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C9F5-48A2-4243-9DA6-9708554D2A8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07D6-5F6C-4D59-BAAC-83DF27926CE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F098-85E8-43ED-B248-CDC1A29B20E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A05E-BEA1-444E-B44D-58329E91552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5876-8044-4658-979E-2C0FABE2D9E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A6FD-8411-44C6-96F1-A8209749BB6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C36B-F958-4244-8394-027E5366408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552D-A10B-4AF2-B716-23CD0AA1971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A849-EAF3-4963-A5D6-453E8B939DE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591A-1091-45A1-85C0-1391F50F8D1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9CF8-7155-4E74-B86E-632830449EA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990720"/>
            <a:ext cx="749772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71c"/>
                </a:solidFill>
                <a:latin typeface="Corbel"/>
                <a:ea typeface="Times New Roman"/>
              </a:rPr>
              <a:t>Природа как ценность. Антропоцентризм и натуроцентризм</a:t>
            </a:r>
            <a:br>
              <a:rPr sz="48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80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040" y="9903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егодня находит отражение реализация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идеи гармонии человека с природой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: подходить к природе с точки зрения интересов всего человечества, при этом имея в виду не только интересы нынешнего поколения, но и грядущих поколений людей; проявлять заботливость, бережливость и разумность по отношению ко всем природным ресурсам, сводить к минимуму вред, наносимый живым творениям природы и всем другим.    В этом   смысле   наглядным   примером    служит   стихотворение И.В. Гёте  «Нашел», которое приводит Э. Фромм в своей книг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6019920" y="762120"/>
            <a:ext cx="3657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Бродил я лесо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глуши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Найти не чая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нич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Смотрю, цветоч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тени ветв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сех глаз прекрасн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сех звезд светл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Простер я ру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Но молвил 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«Ужель погибну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осужден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взял с кор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Питомца ро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И в сад прохла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К себе отн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тиши местеч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Ему отв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ет он сн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Как прежде цв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4"/>
          <p:cNvSpPr/>
          <p:nvPr/>
        </p:nvSpPr>
        <p:spPr>
          <a:xfrm>
            <a:off x="6661440" y="3808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И.В. Гёте  «Наше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://www.novoshakhtinsk.org/upload/iblock/10a/10a4974d8b842b367b9e9358c21dfb21.jpg"/>
          <p:cNvPicPr/>
          <p:nvPr/>
        </p:nvPicPr>
        <p:blipFill>
          <a:blip r:embed="rId1"/>
          <a:srcRect l="13341" t="0" r="6664" b="0"/>
          <a:stretch/>
        </p:blipFill>
        <p:spPr>
          <a:xfrm>
            <a:off x="4876920" y="1143000"/>
            <a:ext cx="1752480" cy="163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http://cs421726.userapi.com/v421726437/921/tLMX6chKNVU.jpg"/>
          <p:cNvPicPr/>
          <p:nvPr/>
        </p:nvPicPr>
        <p:blipFill>
          <a:blip r:embed="rId2"/>
          <a:srcRect l="14999" t="0" r="14999" b="0"/>
          <a:stretch/>
        </p:blipFill>
        <p:spPr>
          <a:xfrm>
            <a:off x="4876920" y="3886200"/>
            <a:ext cx="1842840" cy="17524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599840" y="2286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Corbe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2" descr="http://t2.gstatic.com/images?q=tbn:ANd9GcQOq1M_7HXqtR04VCdggHgJyw6iDnXxYc-znGclC18WYGkg49uV"/>
          <p:cNvPicPr/>
          <p:nvPr/>
        </p:nvPicPr>
        <p:blipFill>
          <a:blip r:embed="rId1"/>
          <a:stretch/>
        </p:blipFill>
        <p:spPr>
          <a:xfrm>
            <a:off x="2362320" y="1066680"/>
            <a:ext cx="2257200" cy="2028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i.imgur.com/27UVN.jpg"/>
          <p:cNvPicPr/>
          <p:nvPr/>
        </p:nvPicPr>
        <p:blipFill>
          <a:blip r:embed="rId2"/>
          <a:stretch/>
        </p:blipFill>
        <p:spPr>
          <a:xfrm>
            <a:off x="1905120" y="2895480"/>
            <a:ext cx="6095880" cy="3524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rossahar.ru/netcat_files/userfiles/files/Rossahar/Images/ekologiya.jpg"/>
          <p:cNvPicPr/>
          <p:nvPr/>
        </p:nvPicPr>
        <p:blipFill>
          <a:blip r:embed="rId3"/>
          <a:stretch/>
        </p:blipFill>
        <p:spPr>
          <a:xfrm>
            <a:off x="5181480" y="10666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971440" y="1066680"/>
            <a:ext cx="6032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Природу легче всего подчинить, повинуясь е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Фрэнсис Бэкон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Picture 2" descr="http://dayevents.ru/uploads/f911af3e4838_C6DC/2038843764_u89zW3VU_jean_paul02.jpg"/>
          <p:cNvPicPr/>
          <p:nvPr/>
        </p:nvPicPr>
        <p:blipFill>
          <a:blip r:embed="rId1"/>
          <a:stretch/>
        </p:blipFill>
        <p:spPr>
          <a:xfrm>
            <a:off x="1447920" y="31240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123720" y="6094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f271c"/>
                </a:solidFill>
                <a:latin typeface="Corbel"/>
              </a:rPr>
              <a:t>Основные направления в понимании сути взаимодействия человека и природы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3124080" y="533520"/>
            <a:ext cx="3657600" cy="137160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4"/>
          <p:cNvSpPr/>
          <p:nvPr/>
        </p:nvSpPr>
        <p:spPr>
          <a:xfrm>
            <a:off x="1295280" y="3429000"/>
            <a:ext cx="3505320" cy="1447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5"/>
          <p:cNvSpPr/>
          <p:nvPr/>
        </p:nvSpPr>
        <p:spPr>
          <a:xfrm>
            <a:off x="5257800" y="3429000"/>
            <a:ext cx="3657600" cy="1447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9"/>
          <p:cNvSpPr/>
          <p:nvPr/>
        </p:nvSpPr>
        <p:spPr>
          <a:xfrm flipH="1" flipV="1">
            <a:off x="2437920" y="1219320"/>
            <a:ext cx="68580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11"/>
          <p:cNvSpPr/>
          <p:nvPr/>
        </p:nvSpPr>
        <p:spPr>
          <a:xfrm>
            <a:off x="6781680" y="1219320"/>
            <a:ext cx="60984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Прямая со стрелкой 13"/>
          <p:cNvCxnSpPr/>
          <p:nvPr/>
        </p:nvCxnSpPr>
        <p:spPr>
          <a:xfrm flipH="1">
            <a:off x="2436120" y="1220400"/>
            <a:ext cx="3960" cy="2057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7" name="Прямая со стрелкой 15"/>
          <p:cNvCxnSpPr/>
          <p:nvPr/>
        </p:nvCxnSpPr>
        <p:spPr>
          <a:xfrm flipH="1">
            <a:off x="7389000" y="1220400"/>
            <a:ext cx="3960" cy="2057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8" name="Прямоугольник 16"/>
          <p:cNvSpPr/>
          <p:nvPr/>
        </p:nvSpPr>
        <p:spPr>
          <a:xfrm>
            <a:off x="1767600" y="396252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АНТРОП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7"/>
          <p:cNvSpPr/>
          <p:nvPr/>
        </p:nvSpPr>
        <p:spPr>
          <a:xfrm>
            <a:off x="5885280" y="39625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НАТУР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Антропоцентризм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66680" y="14475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философии под антропоцентризмом понимается воззрение, согласно которому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человек есть центр и высшая цель мирозд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но присутствует в общественном сознании, начиная с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классической античност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и приобретает центральное место в идеологии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Нового времен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Picture 1" descr="C:\Users\с1фа\Desktop\Рисунок1.jpg"/>
          <p:cNvPicPr/>
          <p:nvPr/>
        </p:nvPicPr>
        <p:blipFill>
          <a:blip r:embed="rId1"/>
          <a:stretch/>
        </p:blipFill>
        <p:spPr>
          <a:xfrm>
            <a:off x="5867280" y="1828800"/>
            <a:ext cx="2895840" cy="369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сновные особенности антропоцентризма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218960" y="1219320"/>
            <a:ext cx="7708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1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Высшую ценность представляет человек.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Лишь он самоценен, все остальное в природе ценно лишь постольку, поскольку оно может быть полезно человеку. Природа объявляется собственностью человечеств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2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Иерархическая картина мира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. На вершине пирамиды стоит человек, несколько ниже — вещи, созданные человеком и для человека, еще ниже располагаются различные объекты природ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3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Целью взаимодействия с природой являе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удовлетворение тех или иных прагматических потребностей, т. е. получение определенного «полезного продукта». Сущность его выражается словом «использование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4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Характер взаимодействия с природой определяе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своего рода «прагматическим императивом»: правильно и разрешено то, что полезно человеку и человечеств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5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Этические нормы и правила действуют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только в мир людей и не распространяются на взаимодействие с миром природ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. Дальнейшее развитие природы мысли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как процесс, который должен быть подчинен процессу развития человек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Идеи антропоцентризма в концепции христианской морали (Б. Калликотт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90720" y="1218960"/>
            <a:ext cx="4952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1.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 Бог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царство священного и таинственного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олицетворяет природу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2.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оздан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по образу и подобию Божьему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и тем самым обособлен от всей остальной природ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3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. Бог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предоставил челове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управление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природным миром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4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. Бог заповедал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челове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размножаться и покорять природу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 Богоподобие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а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является основанием для него считать себя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высшей ценностью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 Посколь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природные объекты лишены богоподобия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, они считаются морально несовершенными. В лучшем случае за ними признается инструментальная ценность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5. Все сказанное было закреплено в аристотелетомистской телеологии: рациональная жизнь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гарант существования природы; неразумные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вещи существуют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лишь в качестве средства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для поддержания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наделенного разумом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а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Рисунок 4" descr="49809486_1255364429_007.jpg"/>
          <p:cNvPicPr/>
          <p:nvPr/>
        </p:nvPicPr>
        <p:blipFill>
          <a:blip r:embed="rId1"/>
          <a:stretch/>
        </p:blipFill>
        <p:spPr>
          <a:xfrm>
            <a:off x="6019920" y="1295280"/>
            <a:ext cx="2971800" cy="312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1" name="Рисунок 5" descr="1227624102Sotvorenie.jpg"/>
          <p:cNvPicPr/>
          <p:nvPr/>
        </p:nvPicPr>
        <p:blipFill>
          <a:blip r:embed="rId2"/>
          <a:srcRect l="0" t="141" r="622" b="0"/>
          <a:stretch/>
        </p:blipFill>
        <p:spPr>
          <a:xfrm>
            <a:off x="6248520" y="4572000"/>
            <a:ext cx="2590560" cy="208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Идеи К. Маркса и Ф. Энгельса в трудах «Капитал» и «Диалектика природы»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(на рубеже XIX и XX вв.)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4" name="Picture 2" descr="http://krotov.info/pictures/maps/12/01285ch.jpg"/>
          <p:cNvPicPr/>
          <p:nvPr/>
        </p:nvPicPr>
        <p:blipFill>
          <a:blip r:embed="rId1"/>
          <a:srcRect l="2881" t="2110" r="1966" b="9181"/>
          <a:stretch/>
        </p:blipFill>
        <p:spPr>
          <a:xfrm>
            <a:off x="5867280" y="1676520"/>
            <a:ext cx="3124440" cy="387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5" name="Прямоугольник 4"/>
          <p:cNvSpPr/>
          <p:nvPr/>
        </p:nvSpPr>
        <p:spPr>
          <a:xfrm>
            <a:off x="1219320" y="16002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 позиции диалектического материализма в этих работах подчеркивалось, что человек не в состоянии отменить или изменить законы природы — они объективны и действуют помимо его воли. Человек не может господствовать над природой, он принадлежит ей и находится внутри нее. Господство человека над природой есть не что иное, как деятельность, основанная на использовании ее законов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. К. Маркс писал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: «Человеческие проекты, не считающиеся с великими законами природы, приносят только несчасть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Натуроцентризм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66680" y="914040"/>
            <a:ext cx="56390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Направление выделяется довольно условно, тем не менее первые наброски такого подхода можно найти как в религиозных системах, например, в комплексе даостско-буддистского миропонимания, так и в философии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f271c"/>
                </a:solidFill>
                <a:latin typeface="Corbel"/>
              </a:rPr>
              <a:t>В идеях Франциска  Ассизского, сформулировавшего альтернативный взгляд на природу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вера в добродетель смирения не только отдельного человека, но и человечества в целом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он низводит человека с его трона монархического господства над каждой тварью и устанавливает демократию между всеми формами жизни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утверждается духовная самоценность всего, что есть в природе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человек должен признать эту самоценность и не вмешиваться своей деятельностью в естественный ход событий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2" descr="RLFOA"/>
          <p:cNvPicPr/>
          <p:nvPr/>
        </p:nvPicPr>
        <p:blipFill>
          <a:blip r:embed="rId1"/>
          <a:stretch/>
        </p:blipFill>
        <p:spPr>
          <a:xfrm>
            <a:off x="6858000" y="990720"/>
            <a:ext cx="2154240" cy="2743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http://cs319531.userapi.com/v319531659/3d50/8FlFfCrThzQ.jpg"/>
          <p:cNvPicPr/>
          <p:nvPr/>
        </p:nvPicPr>
        <p:blipFill>
          <a:blip r:embed="rId2"/>
          <a:stretch/>
        </p:blipFill>
        <p:spPr>
          <a:xfrm>
            <a:off x="6781680" y="4114800"/>
            <a:ext cx="2178000" cy="24382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6"/>
          <p:cNvSpPr/>
          <p:nvPr/>
        </p:nvSpPr>
        <p:spPr>
          <a:xfrm>
            <a:off x="6705720" y="37339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713204"/>
                </a:solidFill>
                <a:latin typeface="Corbel"/>
              </a:rPr>
              <a:t> </a:t>
            </a:r>
            <a:r>
              <a:rPr b="0" lang="ru-RU" sz="1300" spc="-1" strike="noStrike">
                <a:solidFill>
                  <a:srgbClr val="713204"/>
                </a:solidFill>
                <a:latin typeface="Corbel"/>
              </a:rPr>
              <a:t>(5 июля 1182-3 октября 122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90360" y="12193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При всей полярности отмеченные подходы имеют между собой общие черты. В них природа рассматривается как нечто внешнее по отношению к человеку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В логике подобной дихотомии развивается анализ двух основных способов существования человека: обладания и бытия, осуществляемый Э. Фроммом в книге «Иметь или быть».  Э. Фромм приводит два стихотворения. Первое принадлежит перу английского поэта </a:t>
            </a:r>
            <a:r>
              <a:rPr b="0" lang="en-US" sz="1800" spc="-1" strike="noStrike">
                <a:solidFill>
                  <a:srgbClr val="713204"/>
                </a:solidFill>
                <a:latin typeface="Gill Sans MT"/>
              </a:rPr>
              <a:t>XIX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в. Теннисона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озросший средь руин цветок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ебя из трещин Древних извлекаю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ы предо мною весь </a:t>
            </a:r>
            <a:r>
              <a:rPr b="0" lang="ru-RU" sz="1800" spc="-1" strike="noStrike">
                <a:solidFill>
                  <a:srgbClr val="4f271c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вот корень, стебелек, здесь, на моей ладон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ы мал, цветок, но если бы я понял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Что есть твой корень, стебелек, и в чем вся суть твоя, цветок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огда я Бога суть и человека суть познал б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 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Автором второго стихотворения является японский поэт </a:t>
            </a:r>
            <a:r>
              <a:rPr b="0" lang="en-US" sz="1800" spc="-1" strike="noStrike">
                <a:solidFill>
                  <a:srgbClr val="713204"/>
                </a:solidFill>
                <a:latin typeface="Gill Sans MT"/>
              </a:rPr>
              <a:t>XVII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в. Басе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нимательно вглядись!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ы «пастушьей сумки»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Увидишь под плетнем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Прямоугольник 5"/>
          <p:cNvSpPr/>
          <p:nvPr/>
        </p:nvSpPr>
        <p:spPr>
          <a:xfrm>
            <a:off x="1219320" y="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Связь антропоцентризма и натуроцентр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7:26:09Z</dcterms:created>
  <dc:creator>с1фа</dc:creator>
  <dc:description/>
  <dc:language>en-US</dc:language>
  <cp:lastModifiedBy>LEGION</cp:lastModifiedBy>
  <dcterms:modified xsi:type="dcterms:W3CDTF">2014-11-11T08:59:10Z</dcterms:modified>
  <cp:revision>21</cp:revision>
  <dc:subject/>
  <dc:title>Слайд 1</dc:title>
</cp:coreProperties>
</file>