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BA31-9864-4E4C-BAB8-F8D28F607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www.physchem.chimfak.rsu.ru/Source/History/Persones/Aristoteles.html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651A-A9E4-4132-A3BF-0C0894155E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е проблемы науки и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иен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ина Алекс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 возникновения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-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. до 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евняя Гре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 - первоначало неразложимые части т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то же до первоначал, то они еще больше имеют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редств для того, чтоб из них возникали различные вещи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 ни одной из вещей, доступных для нашего взора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тоб она из начал состояла вполне однородных..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рвоначала вещей уносятся собственным весо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ли толчками других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 природе веще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ит Лукреций Кар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89E3-163D-44F8-8F47-54E03C88E0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тайская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н и Ин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рево, огонь, земля,  металл, 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 000 вещей, в том числе -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707D-CA78-49C9-8D1D-8C0475E1FE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ристотел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из Стагиры (384-322 до н. э.)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 нового тела (с иным сочетанием элементов) возможно, по Аристотелю, в результат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иксис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стинного смешивания (в отличие от механического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9351-1E71-4203-9038-A615ACB546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руктурная 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вещества определяются структурой молекулы вещества, т.е. её элементным составом, порядком соединения атомов между собой и их расположением в пространств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структурной химии становится молекула химического вещества как единое цел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FABD-6FA3-4058-B7FC-0B55E4F470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– открытие явления изом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25 г. Иоганн Юстус фон Либих обнаружил, что элементный состав фульминовой кислоты в точности соответствует составу циановой кислоты, которую за год до этого получил Фридрих Вёл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30 г. Й.Я. Берцелиус установил, что виноградная и виннокаменная кислоты также имеют одинаковый состав, но различаются по свойствам. Берцелиус предложил для обнаруженного явления термин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"изомерия"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т греческого ισοζ μερον) – равной ме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A193-6538-49A5-B2AB-79ED6E88A7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Учение о химическом процессе – вторая полов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вещества определяются его составом, структурой и организацией системы, в которой это вещество находи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ом изучения химии становится вся кинетическая система, в которой состав вещества и структура его молекул представлены лишь как част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A2CF-1B8B-4F4D-A608-5AEF6C869E3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волюционная 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50 – 1960 гг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  - самопроизвольный  (без участия человека) синтез новых химических со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69 г. появилась общая теория химической эволюции и биогенеза, выдвинутая ранее в общих положениях профессором Московского университета А.П. Руден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BAD5-8AAD-4359-BF66-20197BC0C4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B752-C525-4DF1-8E09-EA568222C3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азвития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алхимический период (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химический период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 – X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в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становления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-XV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в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количественных законов (атомно-молекулярной теории): 1789 – 1860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классической химии: 1860 г. – конец XIX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период: с начала XX века по настоящее врем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438A-6CFE-4A28-B695-9A212CA208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химически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лександрийская алхим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абская ал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л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19B7-4DD2-4BA8-B92F-F5170FE67E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е проблемы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288F-CC2D-4EDA-8360-32662EE404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лександрийская Академия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ана А.Македонским в 332 г. до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теории (античной натурфилософии) и практических знаний о веществах, их свойствах и превращениях; из этого соединения и зародилась новая наука – kheme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9982-4423-4DC4-A680-46A33DE4D5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ос Демокритос (Псевдо - Демокрит) (ок. 200 г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первых представителей александрийской ал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Физика и мис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улирована идея трансмутации мет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ывалась на основе теории четырех элементов - стих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FE1B-FF9B-4ACE-B55C-B3F6940E73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и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цилийский астроном Юлиус Матерн Фирмик (336 г.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сима – греческий алхимик, даёт мистико-аллегорическое описание химических операций, в частности «священного искусства» сообщать неблагородным металлам серебристо-белый и золотисто-жёлтый ц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DE80-93D5-4E0A-B4F1-5E8745D884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зумрудная скрижаль» Герм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, что есть, произошло из или является результатом размышлений Единой Сущности. Следовательно, все, что есть, представляет собой лишь различные формы этой Сущности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це его отец, а Луна его мать. Ветер выносил его, а земля выпестовала 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7F18-C983-432D-901E-390678266B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алхимические 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6F0F-1A37-4DE9-8BA1-1BEF4A37F4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ижения греко-римских алхим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овершенствован способ извлечения золота и серебра из руд, для чего применялась рту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 очистки золота купелированием – нагреванием руды со свинцом и селитр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улирована иде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ансмутации метал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впервые у Болоса Демокритоса «Физика и мистика»)– превращения одного металла в другой, прежде всего неблагородных металлов (свинца или железа) в золото, ставшая основной задачей всего алхимического пери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4FD7-0C4C-45D9-BD36-C71004B1A2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абская ал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у Муса Джабир ибн Хайан (721-815), разработал ртутно-серную теорию происхождения металл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всех металлов лежат два принципа – Ртуть (философская Ртуть) и Сера (философская Сера). Ртуть 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ципом металл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Сера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ципом горюче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новой теории являются носителями определённых свойств металлов, установленных в результате экспериментального изучения действия высоких температур на металл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B1AB-7761-4289-944F-FB0E90E5D0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бу Бакр Мухаммед ибн Закария Ар-Раз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65 г. – 92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ь = неделимые элементы + пустое простр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– вечные, неизменные, обладают определенным разме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вещества - определяются размерами составляющих их атомов и пустот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, составляющие металлы: ртуть, сера, 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D408-D82B-4B6E-B83E-F0E26BB8D8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нига тайн» Ар-Ра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ь материал алхимии делится на три разде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ознание вещест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ознание прибор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ознание опер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и класса вещест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истые (минеральные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Раст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живот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EFEA-CA90-4C24-9329-07CD5595B3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параты и приборы, описанные в сочинениях Ар-Рази: кубки, колбы, тазы, стеклянные блюдца для кристаллизации, кувшины, кастрюли, горелки, нефтяные лампы, жаровни и печи, печи для плавки, напильники, шпатели, ковши, ножницы, молотки, щипцы, песчаные и водяные бани, фильтры из тканей и шерсти, алембики, воронки, ступки с пестиками, сита металлические, волосяные и шелковые и другие приборы и принадлеж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операции: плавление тел, декантация, фильтрование, дигерирование (настаивание при повышенной температуре), дистилляцию, сублимацию, амальгамацию, растворение, коагуляцию (сгущ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8331-D574-4C3A-9EC6-E4AB92B249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ые системы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ергетика как современная научная метод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891E-980B-4ACE-88C0-7C991D211E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европейской алхим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 Приготовление Эликсира или Философского Камня (Lapis Philosoiphoru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 Создание гомункулу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 Приготовление алкагеста – универсального растворите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 Палигенез, или восстановление растений из пеп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 Приготовление мирового духа (spiritus mundi) – магической субстанции, одно из свойств которой – способность растворять золо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  Извлечение квинтэсс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  Приготовление жидкого золота (aurum potabile), совершеннейшего средства для изл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A59E-FB87-48AF-BC8E-6112682C26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лхим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берт Великий (1193-1280) «Книга об Алхимии», «Малый Алхимический сво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жер Бэкон (1214-1292) «Зеркало Алхим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монд Луллий (1235-1313) – философский кам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навентура (1121-1274) - «Книге, составленной на основе многих опытов», установил свойство «крепкой водки» (азотной кислоты) растворять серебро, отделяя его от золота. Применял «царскую водку» (раствор нашатыря в «крепкой водке») и заметил её способность растворять золо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2B1B-8896-43C4-B1EF-302BC5FCAE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цепт философского камня. Раймунд Луллий, XIII 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тобы приготовить эликсир мудрецов, или философский камень, возьми, сын мой, философской ртути и накаливай, пока она не превратится в зеленого льва. После этого прокаливай сильнее, и она превратится в красного льва. Дигерируй этого красного льва на песчаной бане с кислым виноградным спиртом, выпари жидкость, и ртуть превратится в камедеобразное вещество, которое можно резать ножом. Положи его в обмазанную глиной реторту и не спеша дистиллируй. Собери отдельно жидкости различной природы, которые появятся при этом. Ты получишь безвкусную флегму, спирт и красные капли. Киммерийские тени покроют реторту своим темным покрывалом, и ты найдешь внутри нее истинного дракона, потому что он пожирает свой хвост. Возьми этого черного дракона, разотри на камне и прикоснись к нему раскаленным углем. Он загорится и, приняв вскоре великолепный лимонный цвет, вновь воспроизведет зеленого льва. Сделай так, чтобы он пожрал свой хвост, и снова дистиллируй продукт. Наконец, мой сын, тщательно ректифицируй, и ты увидишь появление горючей воды и человеческой крови..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B413-0BDF-48A4-9512-AB0D018373C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зультаты алхимическо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значительного запаса знаний о веществ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овление эмпирического (опытного) подхода к изучению свойств ве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химиками была разработана ртутно-серная теория (теория трёх принципов), призванная обобщить опытные дан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F826-292E-4F25-98A4-BEE39A747F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ческая химия и ятро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ноччо Бирингуччо (1480-1539) "О пиротехнии" и Георг Бауэра (1494-1555), "De Re Metallica". Сочинения посвящённы минералогии, металлургии, горному делу, производству кера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врач и алхимик Филипп Ауреол Теофраст Бомбаст фон Гогенгейм (Парацельс):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Химия – один из столпов, на которые должна опираться врачебная наука. Задача химии вовсе не в том, чтобы делать золото и серебро, а в том, чтобы готовить лекар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Здоровый организм – равновесие 3 принципов – Ртуть, Сера, Со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1B09-FB92-4936-9731-CEE8461E01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ергетика как наука и научная метод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62F5-B144-465D-BEBF-1E80BA9941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ергетика - теория самоорганизации нелинейных динамических сре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2C38-8112-43B8-AEE4-2F37768778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синергетикии – сложные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сложностью синергетика понимает способность к самоорганизации, усложнению своей пространственно-временной структуры на макроскопическом уровне в силу происходящих на микроуровне измен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D2CD-E5AC-426D-BB43-62D2344AF3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идеи си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организ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е сис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иней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73D4-99EE-44B8-A80A-4E6FDC4B47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сис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оминирование роли целого над частны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ое больше суммы своих ч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бладает структурой с определенным расположением и связью ее составных ч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бладает множеством состояний, соответствующих ее различным свойствам, которые описываются набором параметр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системы как целого определяются не только свойствами ее отдельных элементов, но и свойствами структуры системы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выделяется из среды своими качествами. Системы бывают открытые и закрыт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система имеет параметры, которые являются для нее основными, или жизненно важными. От них зависит существование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7C89-656B-4DE5-9E14-DBF250078D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ые системы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11BC-67D1-4B4A-BAF6-A25CAD44971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линейност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даментальная концепция новой синергетической парадигмы. За нелинейностью стоит представление о возможности очень быстрого развития процессов в системе на определенных стадиях ее эволю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лавном изменении параметров нелинейной системы ее состояние и свойства могут кардинально меняться скачками и стохастичес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947C-848F-4ACE-92E3-BABED6E5892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ая обратная связь призвана создавать устойчивость в систем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действия отрицательной обратной связи: когда некое изменение угрожает изменить заданный уровень, оно пода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20A2-194E-4BC5-8AC7-1258F90D75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ительная обратная связь призвана не подавлять изменение в системе, а увеличивать его, может реагировать на малое отклонение, или "ввести" изменения в систе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E7CA-8A84-4D9A-95BA-80CD97FFFE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е школы си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юссельская школа лауреата Нобелевской премии И.Р. Пригожкина, разрабатывающего теорию диссипативных структур, раскрывающую исторические предпосылки и мировоззренческие основания теории само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Г.Хакена, профессора Института синергетики и теоретической физики в Штутгар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катастроф, представленная российским математиком В.И. Арнольдом и французским математиком Р. Тома. Разрабатывается математический аппарат для описания катастрофических процесс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38CA-8669-492E-994C-65F26A54E4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Школа академика А.А. Самарского и члена–корр. РАН С.П. Курдюмова. Эта школа выдвинула ряд идей для понимания механизмов возникновения и эволюции относительно устойчивых структур в открытых (нелинейных) сред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Школа академика Н. Н. Моисеева, разрабатывающего идеи универсального эволюционизма и коэволюции человека и приро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034A-98FC-467B-BF79-A9F17C1062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ь химии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ить вещество с заданными св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актичес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пособы управления свойствами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еоретическа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причин происхождения и обусловленности свойств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EE71-433C-43F1-9D69-63EB37AA06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организации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 Субатомные част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 Атомы химических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 Молекулы химических веществ как унитарные (единые)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 Микро- и макроскопические системы реагирующих молеку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 Мегасистемы (Солнечная система, Галактика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7EAB-A334-4C25-892A-AD11915750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кторы, от которых зависит свойство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 Элементарный состав ве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 Структура молекулы вещества;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 Организация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335D-12AF-4443-8B74-5B8BB41132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 Учение о состав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 Структурная хим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 Учение о химическом проце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1725-A0A1-476B-8913-F7CEDFAFD1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чение о соста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вещества определяются его составом, т.е. тем, из каких элементов и в каком их соотношении образовано данное вещест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учения о составе является вещество как совокупность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4D94-87DB-4C99-9FF6-9690265F9C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4B5-C120-4D34-9567-609E83BD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D17-5199-49DE-85B4-CBEDF6C2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D447-C9C5-4FB8-B02A-1481C340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479-1FED-4289-8DCF-7B21473C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08E0-E082-40AD-B168-DC1208A6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BCF9-1131-4014-8619-134D001A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2164-D28B-4B99-BEA2-96C98915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EBE9-0084-467D-A714-39ED3F03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6C19-7AE6-4EB5-A5CD-53488283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EA37-2513-491A-941E-98132E7C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9BA5-9C82-404B-8F49-B696A9D2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8969-BD01-441A-9050-1B89AE0F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75F2-ACDF-41FE-83F6-26E8C49B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C8D3-CBE4-4518-9AB3-F3CBDAA0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A4C0-546F-44A0-AD46-563C7024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8E56-0B23-4334-B30F-DAB040D2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FDBC-0E42-4F44-B901-216DDDEA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6E3-E50C-425D-9D38-DB4D617A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E912-C795-4AF8-9D97-E858069C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420-26AD-4175-A7EE-06FC5B5D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4648-035E-4639-BFFC-FBE5BB12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841-D1DA-4E8D-AB95-AC671501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026-7A3A-4461-BC2C-59B8D96C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85DB-B358-4003-97F0-8C777C72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830C-DF3D-4E9E-8CF2-263F3815E4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2FFD-B992-47C1-B62C-9ED7D274B5F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hyschem.chimfak.rsu.ru/Source/History/Persones/Aristoteles.html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Философские проблемы науки и техник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иен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ина Алексе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ериод возникновения 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VI-V 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в. до н.э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ревняя Греция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 - первоначало неразложимые части т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то же до первоначал, то они еще больше имеют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редств для того, чтоб из них возникали различные вещи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ет ни одной из вещей, доступных для нашего взора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тоб она из начал состояла вполне однородных..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рвоначала вещей уносятся собственным весом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ли толчками других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 природе вещей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Тит Лукреций Кар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итайская философ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н и Ин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рево, огонь, земля,  металл,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0 000 вещей, в том числе -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321440" cy="4424400"/>
          </a:xfrm>
          <a:prstGeom prst="rect">
            <a:avLst/>
          </a:prstGeom>
          <a:ln w="0">
            <a:noFill/>
          </a:ln>
        </p:spPr>
      </p:pic>
      <p:sp>
        <p:nvSpPr>
          <p:cNvPr id="191" name="Line 9"/>
          <p:cNvSpPr/>
          <p:nvPr/>
        </p:nvSpPr>
        <p:spPr>
          <a:xfrm>
            <a:off x="1332000" y="314172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7040" y="382680"/>
            <a:ext cx="7931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Аристотель</a:t>
            </a: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 из Стагиры (384-322 до н. э.) 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1600200"/>
            <a:ext cx="403848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3938400"/>
            <a:ext cx="8229600" cy="21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зование нового тела (с иным сочетанием элементов) возможно, по Аристотелю, в результате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иксис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истинного смешивания (в отличие от механического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8" descr="Элементы Аристотеля: квадрат противоположностей"/>
          <p:cNvPicPr/>
          <p:nvPr/>
        </p:nvPicPr>
        <p:blipFill>
          <a:blip r:embed="rId2"/>
          <a:stretch/>
        </p:blipFill>
        <p:spPr>
          <a:xfrm>
            <a:off x="981000" y="977760"/>
            <a:ext cx="4454640" cy="2581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http://www.tonnel.ru/gzl/249518943_tonnel.gif"/>
          <p:cNvPicPr/>
          <p:nvPr/>
        </p:nvPicPr>
        <p:blipFill>
          <a:blip r:embed="rId3"/>
          <a:stretch/>
        </p:blipFill>
        <p:spPr>
          <a:xfrm>
            <a:off x="6084720" y="836640"/>
            <a:ext cx="2160720" cy="258912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2. Структурная хим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йства вещества определяются структурой молекулы вещества, т.е. её элементным составом, порядком соединения атомов между собой и их расположением в пространств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ктом структурной химии становится молекула химического вещества как единое цел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XIX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в. – открытие явления изомер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25 г. Иоганн Юстус фон Либих обнаружил, что элементный состав фульминовой кислоты в точности соответствует составу циановой кислоты, которую за год до этого получил Фридрих Вёл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30 г. Й.Я. Берцелиус установил, что виноградная и виннокаменная кислоты также имеют одинаковый состав, но различаются по свойствам. Берцелиус предложил для обнаруженного явления термин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изомерия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от греческого ισοζ μερον) – равной ме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3. Учение о химическом процессе – вторая половина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XIX 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йства вещества определяются его составом, структурой и организацией системы, в которой это вещество находи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ом изучения химии становится вся кинетическая система, в которой состав вещества и структура его молекул представлены лишь как част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волюционная хим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50 – 1960 гг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   - самопроизвольный  (без участия человека) синтез новых химических соедин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69 г. появилась общая теория химической эволюции и биогенеза, выдвинутая ранее в общих положениях профессором Московского университета А.П. Руден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История хими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тапы развития хим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алхимический период (д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н.э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химический период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 – 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 становления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-XV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 количественных законов (атомно-молекулярной теории): 1789 – 1860 г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 классической химии: 1860 г. – конец XIX 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ый период: с начала XX века по настоящее врем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лхимический период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ксандрийская алхим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абская алхи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вропейская алхи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6" descr="http://oko-project.ru/index/Azoth.jpg"/>
          <p:cNvPicPr/>
          <p:nvPr/>
        </p:nvPicPr>
        <p:blipFill>
          <a:blip r:embed="rId1"/>
          <a:stretch/>
        </p:blipFill>
        <p:spPr>
          <a:xfrm>
            <a:off x="4572000" y="1700280"/>
            <a:ext cx="4191120" cy="4190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Философские проблемы хими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9440" y="277920"/>
            <a:ext cx="82170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Александрийская Академия </a:t>
            </a: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основана А.Македонским в 332 г. до н.э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единение теории (античной натурфилософии) и практических знаний о веществах, их свойствах и превращениях; из этого соединения и зародилась новая наука – kheme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Болос Демокритос (Псевдо - Демокрит) (ок. 200 г. до н.э.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ин из первых представителей александрийской ал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Физика и мистика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формулирована идея трансмутации метал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сновывалась на основе теории четырех элементов - стих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Химия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цилийский астроном Юлиус Матерн Фирмик (336 г.н.э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осима – греческий алхимик, даёт мистико-аллегорическое описание химических операций, в частности «священного искусства» сообщать неблагородным металлам серебристо-белый и золотисто-жёлтый цв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«Изумрудная скрижаль» Герме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III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, что есть, произошло из или является результатом размышлений Единой Сущности. Следовательно, все, что есть, представляет собой лишь различные формы этой Сущности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IV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нце его отец, а Луна его мать. Ветер выносил его, а земля выпестовала е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жнейшие алхимические знак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7" name="Picture 12" descr="Moon_symbol_crescent-1"/>
          <p:cNvPicPr/>
          <p:nvPr/>
        </p:nvPicPr>
        <p:blipFill>
          <a:blip r:embed="rId1"/>
          <a:stretch/>
        </p:blipFill>
        <p:spPr>
          <a:xfrm>
            <a:off x="684360" y="1268280"/>
            <a:ext cx="380880" cy="720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Mercury_symbol-1"/>
          <p:cNvPicPr/>
          <p:nvPr/>
        </p:nvPicPr>
        <p:blipFill>
          <a:blip r:embed="rId2"/>
          <a:stretch/>
        </p:blipFill>
        <p:spPr>
          <a:xfrm>
            <a:off x="684360" y="2136600"/>
            <a:ext cx="380880" cy="570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9" descr="Venus_symbol-1"/>
          <p:cNvPicPr/>
          <p:nvPr/>
        </p:nvPicPr>
        <p:blipFill>
          <a:blip r:embed="rId3"/>
          <a:stretch/>
        </p:blipFill>
        <p:spPr>
          <a:xfrm>
            <a:off x="684360" y="2921040"/>
            <a:ext cx="380880" cy="58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5"/>
          <p:cNvSpPr/>
          <p:nvPr/>
        </p:nvSpPr>
        <p:spPr>
          <a:xfrm>
            <a:off x="1332000" y="141300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ебро, Луна, понедель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22" descr="Sun_symbol-1"/>
          <p:cNvPicPr/>
          <p:nvPr/>
        </p:nvPicPr>
        <p:blipFill>
          <a:blip r:embed="rId4"/>
          <a:stretch/>
        </p:blipFill>
        <p:spPr>
          <a:xfrm>
            <a:off x="684360" y="3646440"/>
            <a:ext cx="380880" cy="579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5" descr="Mars_symbol-1"/>
          <p:cNvPicPr/>
          <p:nvPr/>
        </p:nvPicPr>
        <p:blipFill>
          <a:blip r:embed="rId5"/>
          <a:stretch/>
        </p:blipFill>
        <p:spPr>
          <a:xfrm>
            <a:off x="684360" y="4292640"/>
            <a:ext cx="380880" cy="503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6" descr="Jupiter_symbol-1"/>
          <p:cNvPicPr/>
          <p:nvPr/>
        </p:nvPicPr>
        <p:blipFill>
          <a:blip r:embed="rId6"/>
          <a:stretch/>
        </p:blipFill>
        <p:spPr>
          <a:xfrm>
            <a:off x="684360" y="4797360"/>
            <a:ext cx="380880" cy="649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7" descr="Saturn_symbol-1"/>
          <p:cNvPicPr/>
          <p:nvPr/>
        </p:nvPicPr>
        <p:blipFill>
          <a:blip r:embed="rId7"/>
          <a:stretch/>
        </p:blipFill>
        <p:spPr>
          <a:xfrm>
            <a:off x="684360" y="5300640"/>
            <a:ext cx="380880" cy="576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8" descr="Alchemy_transmutation_symbol-2"/>
          <p:cNvPicPr/>
          <p:nvPr/>
        </p:nvPicPr>
        <p:blipFill>
          <a:blip r:embed="rId8"/>
          <a:stretch/>
        </p:blipFill>
        <p:spPr>
          <a:xfrm>
            <a:off x="684360" y="5877000"/>
            <a:ext cx="341280" cy="5252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9"/>
          <p:cNvSpPr/>
          <p:nvPr/>
        </p:nvSpPr>
        <p:spPr>
          <a:xfrm>
            <a:off x="1258200" y="227664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туть, Меркурий, среда, философская рту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1260360" y="299736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дь, Венера, пятни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1187280" y="3716280"/>
            <a:ext cx="33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олото, Солнце, воскресень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1332720" y="436572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лезо, Марс, втор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1260000" y="49417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лово, Юпитер, четвер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1240560" y="5321160"/>
            <a:ext cx="28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инец, Сатурн, субб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1095480" y="596916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ликое делание, трансмут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Достижения греко-римских алхимиков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овершенствован способ извлечения золота и серебра из руд, для чего применялась рту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 очистки золота купелированием – нагреванием руды со свинцом и селитр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формулирована иде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ансмутации металл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впервые у Болоса Демокритоса «Физика и мистика»)– превращения одного металла в другой, прежде всего неблагородных металлов (свинца или железа) в золото, ставшая основной задачей всего алхимического пери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рабская алхим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бу Муса Джабир ибн Хайан (721-815), разработал ртутно-серную теорию происхождения металл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снове всех металлов лежат два принципа – Ртуть (философская Ртуть) и Сера (философская Сера). Ртуть является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инципом металлично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Сера –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инципом горюче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ципы новой теории являются носителями определённых свойств металлов, установленных в результате экспериментального изучения действия высоких температур на металл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Picture 4" descr="Merc_Sulf"/>
          <p:cNvPicPr/>
          <p:nvPr/>
        </p:nvPicPr>
        <p:blipFill>
          <a:blip r:embed="rId1"/>
          <a:stretch/>
        </p:blipFill>
        <p:spPr>
          <a:xfrm>
            <a:off x="1476360" y="5300640"/>
            <a:ext cx="6191280" cy="109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Абу Бакр Мухаммед ибн Закария Ар-Рази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865 г. – 925 г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щь = неделимые элементы + пустое простран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ы – вечные, неизменные, обладают определенным разме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йства вещества - определяются размерами составляющих их атомов и пустот между ни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ы, составляющие металлы: ртуть, сера, со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5219640" y="1600200"/>
            <a:ext cx="3467160" cy="399420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Книга тайн» Ар-Раз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сь материал алхимии делится на три раздел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Познание веществ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Познание прибор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Познание операц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ри класса вещест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емлистые (минеральные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Раститель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живот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ппараты и приборы, описанные в сочинениях Ар-Рази: кубки, колбы, тазы, стеклянные блюдца для кристаллизации, кувшины, кастрюли, горелки, нефтяные лампы, жаровни и печи, печи для плавки, напильники, шпатели, ковши, ножницы, молотки, щипцы, песчаные и водяные бани, фильтры из тканей и шерсти, алембики, воронки, ступки с пестиками, сита металлические, волосяные и шелковые и другие приборы и принадлеж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имические операции: плавление тел, декантация, фильтрование, дигерирование (настаивание при повышенной температуре), дистилляцию, сублимацию, амальгамацию, растворение, коагуляцию (сгущен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цептуальные системы 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рия 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ергетика как современная научная метод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и европейской алхими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1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  Приготовление Эликсира или Философского Камня (Lapis Philosoiphorum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  Создание гомункулус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  Приготовление алкагеста – универсального растворител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  Палигенез, или восстановление растений из пеп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  Приготовление мирового духа (spiritus mundi) – магической субстанции, одно из свойств которой – способность растворять золот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  Извлечение квинтэссен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.  Приготовление жидкого золота (aurum potabile), совершеннейшего средства для излеч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95640" y="2707920"/>
            <a:ext cx="288612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Picture 6" descr="http://luxaur.narod.ru/biblio/2/tr/atal21.gif"/>
          <p:cNvPicPr/>
          <p:nvPr/>
        </p:nvPicPr>
        <p:blipFill>
          <a:blip r:embed="rId1"/>
          <a:stretch/>
        </p:blipFill>
        <p:spPr>
          <a:xfrm>
            <a:off x="5796000" y="2060640"/>
            <a:ext cx="2981160" cy="27432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Европейская алхимия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льберт Великий (1193-1280) «Книга об Алхимии», «Малый Алхимический свод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жер Бэкон (1214-1292) «Зеркало Алхими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ймонд Луллий (1235-1313) – философский каме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навентура (1121-1274) - «Книге, составленной на основе многих опытов», установил свойство «крепкой водки» (азотной кислоты) растворять серебро, отделяя его от золота. Применял «царскую водку» (раствор нашатыря в «крепкой водке») и заметил её способность растворять золо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цепт философского камня. Раймунд Луллий, XIII 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Чтобы приготовить эликсир мудрецов, или философский камень, возьми, сын мой, философской ртути и накаливай, пока она не превратится в зеленого льва. После этого прокаливай сильнее, и она превратится в красного льва. Дигерируй этого красного льва на песчаной бане с кислым виноградным спиртом, выпари жидкость, и ртуть превратится в камедеобразное вещество, которое можно резать ножом. Положи его в обмазанную глиной реторту и не спеша дистиллируй. Собери отдельно жидкости различной природы, которые появятся при этом. Ты получишь безвкусную флегму, спирт и красные капли. Киммерийские тени покроют реторту своим темным покрывалом, и ты найдешь внутри нее истинного дракона, потому что он пожирает свой хвост. Возьми этого черного дракона, разотри на камне и прикоснись к нему раскаленным углем. Он загорится и, приняв вскоре великолепный лимонный цвет, вновь воспроизведет зеленого льва. Сделай так, чтобы он пожрал свой хвост, и снова дистиллируй продукт. Наконец, мой сын, тщательно ректифицируй, и ты увидишь появление горючей воды и человеческой крови..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Результаты алхимического период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копление значительного запаса знаний о веществ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овление эмпирического (опытного) подхода к изучению свойств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химиками была разработана ртутно-серная теория (теория трёх принципов), призванная обобщить опытные данны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хническая химия и ятрохим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ноччо Бирингуччо (1480-1539) "О пиротехнии" и Георг Бауэра (1494-1555), "De Re Metallica". Сочинения посвящённы минералогии, металлургии, горному делу, производству кера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мецкий врач и алхимик Филипп Ауреол Теофраст Бомбаст фон Гогенгейм (Парацельс): «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Химия – один из столпов, на которые должна опираться врачебная наука. Задача химии вовсе не в том, чтобы делать золото и серебро, а в том, чтобы готовить лекар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. Здоровый организм – равновесие 3 принципов – Ртуть, Сера, Сол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ергетика как наука и научная метод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Picture 7" descr="Изображение “http://vladimir.socio.msu.ru/3_SYNERGY/SYNERGY_01/03_nonlinear.jpg” не может быть показано, так как содержит ошибки."/>
          <p:cNvPicPr/>
          <p:nvPr/>
        </p:nvPicPr>
        <p:blipFill>
          <a:blip r:embed="rId1"/>
          <a:stretch/>
        </p:blipFill>
        <p:spPr>
          <a:xfrm>
            <a:off x="2843280" y="3933720"/>
            <a:ext cx="3816360" cy="208764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642920" y="3500280"/>
            <a:ext cx="4248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86756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ергетика - теория самоорганизации нелинейных динамических сре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6" name="Picture 7" descr="Изображение “http://vladimir.socio.msu.ru/3_SYNERGY/SYNERGY_01/01_galaxy-001.jpg” не может быть показано, так как содержит ошибки."/>
          <p:cNvPicPr/>
          <p:nvPr/>
        </p:nvPicPr>
        <p:blipFill>
          <a:blip r:embed="rId1"/>
          <a:stretch/>
        </p:blipFill>
        <p:spPr>
          <a:xfrm>
            <a:off x="4859280" y="3789360"/>
            <a:ext cx="3960720" cy="2664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4"/>
          <p:cNvSpPr/>
          <p:nvPr/>
        </p:nvSpPr>
        <p:spPr>
          <a:xfrm>
            <a:off x="391680" y="2076480"/>
            <a:ext cx="88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вое употребление терм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Хакен «Кооперативные явления в сильно неравновесных и нефизическ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стемах 1973г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 синергетикии – сложные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сложностью синергетика понимает способность к самоорганизации, усложнению своей пространственно-временной структуры на макроскопическом уровне в силу происходящих на микроуровне измене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лючевые идеи синергети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амоорганизац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крытые системы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линей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онцепция систем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инирование роли целого над частны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ое больше суммы своих час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обладает структурой с определенным расположением и связью ее составных час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обладает множеством состояний, соответствующих ее различным свойствам, которые описываются набором параметров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истемы как целого определяются не только свойствами ее отдельных элементов, но и свойствами структуры системы в цел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выделяется из среды своими качествами. Системы бывают открытые и закрыты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ждая система имеет параметры, которые являются для нее основными, или жизненно важными. От них зависит существование систем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онцептуальные системы хим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40384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    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линейност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ундаментальная концепция новой синергетической парадигмы. За нелинейностью стоит представление о возможности очень быстрого развития процессов в системе на определенных стадиях ее эволюц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лавном изменении параметров нелинейной системы ее состояние и свойства могут кардинально меняться скачками и стохастически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0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3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3" name="Picture 9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ицательная обратная связь призвана создавать устойчивость в системе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цесс действия отрицательной обратной связи: когда некое изменение угрожает изменить заданный уровень, оно подавляе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ожительная обратная связь призвана не подавлять изменение в системе, а увеличивать его, может реагировать на малое отклонение, или "ввести" изменения в систем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учные школы синергети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юссельская школа лауреата Нобелевской премии И.Р. Пригожкина, разрабатывающего теорию диссипативных структур, раскрывающую исторические предпосылки и мировоззренческие основания теории самоорганиз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а Г.Хакена, профессора Института синергетики и теоретической физики в Штутгар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ория катастроф, представленная российским математиком В.И. Арнольдом и французским математиком Р. Тома. Разрабатывается математический аппарат для описания катастрофических процессов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а академика А.А. Самарского и члена–корр. РАН С.П. Курдюмова. Эта школа выдвинула ряд идей для понимания механизмов возникновения и эволюции относительно устойчивых структур в открытых (нелинейных) среда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Школа академика Н. Н. Моисеева, разрабатывающего идеи универсального эволюционизма и коэволюции человека и природ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Цель химии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учить вещество с заданными свойств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актическая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пособы управления свойствами ве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еоретическая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ение причин происхождения и обусловленности свойств ве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Уровни организации веществ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 Субатомные час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 Атомы химических элемен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 Молекулы химических веществ как унитарные (единые)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  Микро- и макроскопические системы реагирующих молеку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  Мегасистемы (Солнечная система, Галактика и т.п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от которых зависит свойство вещест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24240"/>
            <a:ext cx="8229600" cy="37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 Элементарный состав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 Структура молекулы вещества;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 Организация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онцептуальные систем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424240"/>
            <a:ext cx="8229600" cy="37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 Учение о состав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 Структурная хим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 Учение о химическом процесс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1.Учение о состав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йства вещества определяются его составом, т.е. тем, из каких элементов и в каком их соотношении образовано данное веществ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ктом учения о составе является вещество как совокупность атом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2:24:16Z</dcterms:created>
  <dc:creator>Inspiron</dc:creator>
  <dc:description/>
  <dc:language>en-US</dc:language>
  <cp:lastModifiedBy>LEGION</cp:lastModifiedBy>
  <dcterms:modified xsi:type="dcterms:W3CDTF">2015-05-01T11:20:50Z</dcterms:modified>
  <cp:revision>50</cp:revision>
  <dc:subject/>
  <dc:title>Философские проблемы науки и техники</dc:title>
</cp:coreProperties>
</file>