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C961-3C83-4426-AEA2-05B696E46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physchem.chimfak.rsu.ru/Source/History/Persones/Aristoteles.html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10BA-E875-4263-9EDD-8A3C7445DC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е проблемы науки и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и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ина Алекс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 возникновения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-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.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евняя Гре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 - первоначало неразложимые части т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 же до первоначал, то они еще больше имеют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редств для того, чтоб из них возникали различные вещи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 ни одной из вещей, доступных для нашего взора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б она из начал состояла вполне однородных..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рвоначала вещей уносятся собственным весо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ли толчками других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 природе веще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ит Лукреций Кар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EDE9-DC2E-4B57-8648-D28D871EE0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тай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и Ин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рево, огонь, земля,  металл, 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000 вещей, в том числе -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7F1D-F15E-4D54-8528-EB85851EC9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ристотел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из Стагиры (384-322 до н. э.)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 нового тела (с иным сочетанием элементов) возможно, по Аристотелю, в результат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икси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стинного смешивания (в отличие от механическог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F377-AD07-4285-8EE1-D9CF481C24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руктурная 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структурой молекулы вещества, т.е. её элементным составом, порядком соединения атомов между собой и их расположением в простран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структурной химии становится молекула химического вещества как единое цел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10AB-0134-47AF-A827-DA4E32D043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– открытие явления изом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25 г. Иоганн Юстус фон Либих обнаружил, что элементный состав фульминовой кислоты в точности соответствует составу циановой кислоты, которую за год до этого получил Фридрих Вёл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30 г. Й.Я. Берцелиус установил, что виноградная и виннокаменная кислоты также имеют одинаковый состав, но различаются по свойствам. Берцелиус предложил для обнаруженного явления термин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"изомерия"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 греческого ισοζ μερον) – равной ме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AC7A-C52E-4C4A-8C33-E948CC42E2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чение о химическом процессе – втора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его составом, структурой и организацией системы, в которой это вещество наход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ом изучения химии становится вся кинетическая система, в которой состав вещества и структура его молекул представлены лишь как час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CB56-5ECD-4FAA-97A0-D7134628DB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онная 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50 – 1960 гг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  - самопроизвольный  (без участия человека) синтез новых химически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69 г. появилась общая теория химической эволюции и биогенеза, выдвинутая ранее в общих положениях профессором Московского университета А.П. Руд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8167-940B-4C96-8694-DCBB1BDE2D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028D-BB81-447E-BF0E-7A8539EA4E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алхимический период (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ческий период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 – 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становления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-XV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количественных законов (атомно-молекулярной теории): 1789 – 1860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классической химии: 1860 г. – конец XIX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период: с начала XX века по настоящее врем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66B6-2E5C-4E1D-9C11-9DED1BE9C7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чески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лександрийская алхим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аб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942B-318C-4D24-9158-379E834BA0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е пробл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F767-EFB6-463C-A002-E4604BFD12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лександрийская Академия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ана А.Македонским в 332 г. до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ии (античной натурфилософии) и практических знаний о веществах, их свойствах и превращениях; из этого соединения и зародилась новая наука – khem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DAC9-C276-4DC4-AF0C-5A72640D9E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ос Демокритос (Псевдо - Демокрит) (ок. 200 г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первых представителей александрийской ал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изика и мис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улирована идея трансмутации мет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ывалась на основе теории четырех элементов - стих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92B7-2EC2-449A-A91D-E04FF927D1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и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цилийский астроном Юлиус Матерн Фирмик (336 г.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сима – греческий алхимик, даёт мистико-аллегорическое описание химических операций, в частности «священного искусства» сообщать неблагородным металлам серебристо-белый и золотисто-жёлтый ц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F7FD-570A-44A3-957B-2BF28DE269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зумрудная скрижаль» Герм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, что есть, произошло из или является результатом размышлений Единой Сущности. Следовательно, все, что есть, представляет собой лишь различные формы этой Сущности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це его отец, а Луна его мать. Ветер выносил его, а земля выпестовала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0F15-1A29-4371-BC2B-B440A22781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алхимические 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A624-5ABA-4238-8D68-5FA9E4178A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ижения греко-римских алхим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овершенствован способ извлечения золота и серебра из руд, для чего применялась рту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 очистки золота купелированием – нагреванием руды со свинцом и селитр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улирована иде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ансмутации мет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впервые у Болоса Демокритоса «Физика и мистика»)– превращения одного металла в другой, прежде всего неблагородных металлов (свинца или железа) в золото, ставшая основной задачей всего алхимического пери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B59B-0D8D-4D08-85D7-2016000F7E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аб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 Муса Джабир ибн Хайан (721-815), разработал ртутно-серную теорию происхождения металл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всех металлов лежат два принципа – Ртуть (философская Ртуть) и Сера (философская Сера). Ртуть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ципом метал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ера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ципом горюче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новой теории являются носителями определённых свойств металлов, установленных в результате экспериментального изучения действия высоких температур на металл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854D-E88A-4F96-9646-41AF0FBA04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бу Бакр Мухаммед ибн Закария Ар-Раз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65 г. – 92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 = неделимые элементы + пустое простр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– вечные, неизменные, обладают определенным разме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вещества - определяются размерами составляющих их атомов и пустот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, составляющие металлы: ртуть, сера, 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7458-A103-4AE4-8732-C0B43E10CD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нига тайн» Ар-Ра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ь материал алхимии делится на три разде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ознание веще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ознание прибор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знание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 класса вещест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истые (минераль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ст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живо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DB58-21A6-4E5B-AA3F-5EBBAFED74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параты и приборы, описанные в сочинениях Ар-Рази: кубки, колбы, тазы, стеклянные блюдца для кристаллизации, кувшины, кастрюли, горелки, нефтяные лампы, жаровни и печи, печи для плавки, напильники, шпатели, ковши, ножницы, молотки, щипцы, песчаные и водяные бани, фильтры из тканей и шерсти, алембики, воронки, ступки с пестиками, сита металлические, волосяные и шелковые и другие приборы и принадле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операции: плавление тел, декантация, фильтрование, дигерирование (настаивание при повышенной температуре), дистилляцию, сублимацию, амальгамацию, растворение, коагуляцию (сгущ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FAAC-C3A4-4F51-81A9-6722D0E449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как современная научная метод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0D0E-4F17-4FBB-875C-9F2F79D291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европейской алхим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 Приготовление Эликсира или Философского Камня (Lapis Philosoiphoru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 Создание гомункулу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 Приготовление алкагеста – универсального раствор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 Палигенез, или восстановление растений из пеп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 Приготовление мирового духа (spiritus mundi) – магической субстанции, одно из свойств которой – способность растворять золо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 Извлечение квинтэсс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 Приготовление жидкого золота (aurum potabile), совершеннейшего средства для из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FF28-36A4-4D87-B01E-95FC56EA56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лхим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ерт Великий (1193-1280) «Книга об Алхимии», «Малый Алхимический сво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жер Бэкон (1214-1292) «Зеркало Ал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монд Луллий (1235-1313) – философский кам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навентура (1121-1274) - «Книге, составленной на основе многих опытов», установил свойство «крепкой водки» (азотной кислоты) растворять серебро, отделяя его от золота. Применял «царскую водку» (раствор нашатыря в «крепкой водке») и заметил её способность растворять золо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9477-9266-4A2B-B128-B3BCCD2EAF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цепт философского камня. Раймунд Луллий, XIII 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тобы приготовить эликсир мудрецов, или философский камень, возьми, сын мой, философской ртути и накаливай, пока она не превратится в зеленого льва. После этого прокаливай сильнее, и она превратится в красного льва. Дигерируй этого красного льва на песчаной бане с кислым виноградным спиртом, выпари жидкость, и ртуть превратится в камедеобразное вещество, которое можно резать ножом. Положи его в обмазанную глиной реторту и не спеша дистиллируй. Собери отдельно жидкости различной природы, которые появятся при этом. Ты получишь безвкусную флегму, спирт и красные капли. Киммерийские тени покроют реторту своим темным покрывалом, и ты найдешь внутри нее истинного дракона, потому что он пожирает свой хвост. Возьми этого черного дракона, разотри на камне и прикоснись к нему раскаленным углем. Он загорится и, приняв вскоре великолепный лимонный цвет, вновь воспроизведет зеленого льва. Сделай так, чтобы он пожрал свой хвост, и снова дистиллируй продукт. Наконец, мой сын, тщательно ректифицируй, и ты увидишь появление горючей воды и человеческой крови..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4A23-F879-4133-9098-6CAD12DDAB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ы алхимическ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значительного запаса знаний о вещест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ление эмпирического (опытного) подхода к изучению свойств ве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ками была разработана ртутно-серная теория (теория трёх принципов), призванная обобщить опытные дан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42E9-1CC6-4344-9BB9-209FCEA27F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ая химия и ятро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ноччо Бирингуччо (1480-1539) "О пиротехнии" и Георг Бауэра (1494-1555), "De Re Metallica". Сочинения посвящённы минералогии, металлургии, горному делу, производству кера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врач и алхимик Филипп Ауреол Теофраст Бомбаст фон Гогенгейм (Парацельс):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имия – один из столпов, на которые должна опираться врачебная наука. Задача химии вовсе не в том, чтобы делать золото и серебро, а в том, чтобы готовить лекар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Здоровый организм – равновесие 3 принципов – Ртуть, Сера, С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79E6-D778-46AA-A168-27514F12D7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как наука и научная метод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37E0-5031-4A47-ABE9-A2E2D1E031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- теория самоорганизации нелинейных динамических с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058E-B1CE-428B-8FDB-459A0264CC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синергетикии – сложные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сложностью синергетика понимает способность к самоорганизации, усложнению своей пространственно-временной структуры на макроскопическом уровне в силу происходящих на микроуровне измен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D0C4-37F7-49E3-AB5E-C01E73C033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идеи си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рганиз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е сис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ине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1440-F43A-4C8B-A097-A03D069203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минирование роли целого над частны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ое больше суммы своих ч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бладает структурой с определенным расположением и связью ее составных ч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бладает множеством состояний, соответствующих ее различным свойствам, которые описываются набором параметр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системы как целого определяются не только свойствами ее отдельных элементов, но и свойствами структуры системы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выделяется из среды своими качествами. Системы бывают открытые и закрыт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истема имеет параметры, которые являются для нее основными, или жизненно важными. От них зависит существование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3FC3-BB4A-4432-8E2D-7FF2505232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8588-5290-4F67-A5D8-E1610F1650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инейност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даментальная концепция новой синергетической парадигмы. За нелинейностью стоит представление о возможности очень быстрого развития процессов в системе на определенных стадиях ее эволю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лавном изменении параметров нелинейной системы ее состояние и свойства могут кардинально меняться скачками и стохастичес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25E0-7942-44B3-8FB5-AB76F8FE3E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ая обратная связь призвана создавать устойчивость в систем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действия отрицательной обратной связи: когда некое изменение угрожает изменить заданный уровень, оно пода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D67C-1DEC-4994-B597-55A175228A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ая обратная связь призвана не подавлять изменение в системе, а увеличивать его, может реагировать на малое отклонение, или "ввести" изменения в систе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7AC8-BB33-4B4C-9D8A-C89234D0D2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школы си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юссельская школа лауреата Нобелевской премии И.Р. Пригожкина, разрабатывающего теорию диссипативных структур, раскрывающую исторические предпосылки и мировоззренческие основания теории само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Г.Хакена, профессора Института синергетики и теоретической физики в Штутгар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катастроф, представленная российским математиком В.И. Арнольдом и французским математиком Р. Тома. Разрабатывается математический аппарат для описания катастрофических процесс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CAC2-E9BA-4F10-8273-7C47348DCF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Школа академика А.А. Самарского и члена–корр. РАН С.П. Курдюмова. Эта школа выдвинула ряд идей для понимания механизмов возникновения и эволюции относительно устойчивых структур в открытых (нелинейных) сред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Школа академика Н. Н. Моисеева, разрабатывающего идеи универсального эволюционизма и коэволюции человека и прир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8692-E68B-463A-A334-C88BD19245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 химии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ь вещество с заданными св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акт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пособы управления свойствами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еоретическа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причин происхождения и обусловленности свойств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E200-29F8-4F84-8006-202364EA26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организации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Субатомные част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Атомы химических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Молекулы химических веществ как унитарные (единые)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 Микро- и макроскопические системы реагирующих молеку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 Мегасистемы (Солнечная система, Галактика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C70A-4B46-4310-88D5-648DD730C2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ры, от которых зависит свойство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Элементарный состав ве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Структура молекулы вещества;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Организация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B74E-44E9-4C48-A3B2-30CCC33CFC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Учение о состав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Структурная хим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Учение о химическом проце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3E43-F701-400A-8E90-E710FE39CA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чение о сост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его составом, т.е. тем, из каких элементов и в каком их соотношении образовано данн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учения о составе является вещество как совокупность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B3E8-F404-4396-BD3D-DB48BB5588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F60-AF19-457D-98C1-863DBC54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C237-5B0D-4E76-BBAE-1DC0AEBA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B4EF-43A2-4782-B174-0D816452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811-76F7-4AE1-95B0-4BF715F4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6A76-52C9-438E-AC21-CAF9D475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D62E-FFA7-4F06-AC6E-E3B0A613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C17C-7B6E-44D7-B5FA-8265F4CD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4964-AD4F-4B3A-829D-68CE52A8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5B90-977D-474B-80C9-B8C078B1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8AF1-39F7-4D44-9E1C-C939D8A7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3DEE-0725-49E2-A09C-65EE7B0B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A35-2FC8-4F9C-BC91-03B6D58F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4029-DF80-45A2-B022-1215C94D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B35B-9420-49E4-8B08-C6CFF47B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B858-ABB0-49B6-A55A-C98F40F4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5707-5F0C-436D-8EFA-E887655F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85D2-B763-4D2D-B8A5-4A4CA92B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9C6-021B-474D-B653-2BF53731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52E-C390-4358-888F-B7921FE4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D6F-95DB-4997-8126-8F48525E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E44-177C-47C9-B14F-9FBF3C11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519-0199-4526-A82C-CFAC6ED9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CDC-3AF4-4996-8358-CEB2689C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3E2B-9533-4B83-86F8-AB8F338B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F1B3-7491-47C8-BBD4-67EB13B4BF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FEA7-DFEF-483E-B530-2FEED47B19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hyschem.chimfak.rsu.ru/Source/History/Persones/Aristoteles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Философские проблемы науки и техник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иен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ина Алексе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ериод возникновения 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I-V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в. до н.э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ревняя Греция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 - первоначало неразложимые части т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то же до первоначал, то они еще больше имеют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редств для того, чтоб из них возникали различные вещи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ет ни одной из вещей, доступных для нашего взора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тоб она из начал состояла вполне однородных..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оначала вещей уносятся собственным весом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ли толчками других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 природе веще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Тит Лукреций Кар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итайская философ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н и Ин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рево, огонь, земля,  металл,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0 000 вещей, в том числе -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321440" cy="4424400"/>
          </a:xfrm>
          <a:prstGeom prst="rect">
            <a:avLst/>
          </a:prstGeom>
          <a:ln w="0">
            <a:noFill/>
          </a:ln>
        </p:spPr>
      </p:pic>
      <p:sp>
        <p:nvSpPr>
          <p:cNvPr id="191" name="Line 9"/>
          <p:cNvSpPr/>
          <p:nvPr/>
        </p:nvSpPr>
        <p:spPr>
          <a:xfrm>
            <a:off x="1332000" y="314172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7040" y="382680"/>
            <a:ext cx="7931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Аристотель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из Стагиры (384-322 до н. э.) 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1600200"/>
            <a:ext cx="403848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1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зование нового тела (с иным сочетанием элементов) возможно, по Аристотелю, в результате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иксис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истинного смешивания (в отличие от механического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8" descr="Элементы Аристотеля: квадрат противоположностей"/>
          <p:cNvPicPr/>
          <p:nvPr/>
        </p:nvPicPr>
        <p:blipFill>
          <a:blip r:embed="rId2"/>
          <a:stretch/>
        </p:blipFill>
        <p:spPr>
          <a:xfrm>
            <a:off x="981000" y="977760"/>
            <a:ext cx="4454640" cy="2581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http://www.tonnel.ru/gzl/249518943_tonnel.gif"/>
          <p:cNvPicPr/>
          <p:nvPr/>
        </p:nvPicPr>
        <p:blipFill>
          <a:blip r:embed="rId3"/>
          <a:stretch/>
        </p:blipFill>
        <p:spPr>
          <a:xfrm>
            <a:off x="6084720" y="836640"/>
            <a:ext cx="2160720" cy="25891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2. Структурная 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структурой молекулы вещества, т.е. её элементным составом, порядком соединения атомов между собой и их расположением в пространств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ом структурной химии становится молекула химического вещества как единое цел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в. – открытие явления изомер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25 г. Иоганн Юстус фон Либих обнаружил, что элементный состав фульминовой кислоты в точности соответствует составу циановой кислоты, которую за год до этого получил Фридрих Вёл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30 г. Й.Я. Берцелиус установил, что виноградная и виннокаменная кислоты также имеют одинаковый состав, но различаются по свойствам. Берцелиус предложил для обнаруженного явления термин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изомерия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от греческого ισοζ μερον) – равной ме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3. Учение о химическом процессе – вторая половина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XIX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его составом, структурой и организацией системы, в которой это вещество находи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ом изучения химии становится вся кинетическая система, в которой состав вещества и структура его молекул представлены лишь как част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волюционная 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50 – 1960 гг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   - самопроизвольный  (без участия человека) синтез новых химических соеди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69 г. появилась общая теория химической эволюции и биогенеза, выдвинутая ранее в общих положениях профессором Московского университета А.П. Руден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История хим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тапы развития хим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алхимический период (д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н.э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химический период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 – 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становления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-XV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количественных законов (атомно-молекулярной теории): 1789 – 1860 г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классической химии: 1860 г. – конец XIX 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й период: с начала XX века по настоящее врем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лхимический перио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андрийская алхим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абская алхи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вропейская алхи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6" descr="http://oko-project.ru/index/Azoth.jpg"/>
          <p:cNvPicPr/>
          <p:nvPr/>
        </p:nvPicPr>
        <p:blipFill>
          <a:blip r:embed="rId1"/>
          <a:stretch/>
        </p:blipFill>
        <p:spPr>
          <a:xfrm>
            <a:off x="4572000" y="1700280"/>
            <a:ext cx="4191120" cy="4190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Философские проблемы хим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9440" y="277920"/>
            <a:ext cx="82170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Александрийская Академия </a:t>
            </a: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основана А.Македонским в 332 г. до н.э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единение теории (античной натурфилософии) и практических знаний о веществах, их свойствах и превращениях; из этого соединения и зародилась новая наука – kheme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Болос Демокритос (Псевдо - Демокрит) (ок. 200 г. до н.э.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ин из первых представителей александрийской ал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Физика и мистика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формулирована идея трансмутации метал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сновывалась на основе теории четырех элементов - стих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Химия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цилийский астроном Юлиус Матерн Фирмик (336 г.н.э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осима – греческий алхимик, даёт мистико-аллегорическое описание химических операций, в частности «священного искусства» сообщать неблагородным металлам серебристо-белый и золотисто-жёлтый цв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«Изумрудная скрижаль» Герме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III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, что есть, произошло из или является результатом размышлений Единой Сущности. Следовательно, все, что есть, представляет собой лишь различные формы этой Сущности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IV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нце его отец, а Луна его мать. Ветер выносил его, а земля выпестовала е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жнейшие алхимические зна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7" name="Picture 12" descr="Moon_symbol_crescent-1"/>
          <p:cNvPicPr/>
          <p:nvPr/>
        </p:nvPicPr>
        <p:blipFill>
          <a:blip r:embed="rId1"/>
          <a:stretch/>
        </p:blipFill>
        <p:spPr>
          <a:xfrm>
            <a:off x="684360" y="1268280"/>
            <a:ext cx="380880" cy="720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Mercury_symbol-1"/>
          <p:cNvPicPr/>
          <p:nvPr/>
        </p:nvPicPr>
        <p:blipFill>
          <a:blip r:embed="rId2"/>
          <a:stretch/>
        </p:blipFill>
        <p:spPr>
          <a:xfrm>
            <a:off x="684360" y="2136600"/>
            <a:ext cx="380880" cy="570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9" descr="Venus_symbol-1"/>
          <p:cNvPicPr/>
          <p:nvPr/>
        </p:nvPicPr>
        <p:blipFill>
          <a:blip r:embed="rId3"/>
          <a:stretch/>
        </p:blipFill>
        <p:spPr>
          <a:xfrm>
            <a:off x="684360" y="2921040"/>
            <a:ext cx="380880" cy="58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5"/>
          <p:cNvSpPr/>
          <p:nvPr/>
        </p:nvSpPr>
        <p:spPr>
          <a:xfrm>
            <a:off x="1332000" y="141300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ебро, Луна, понедель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22" descr="Sun_symbol-1"/>
          <p:cNvPicPr/>
          <p:nvPr/>
        </p:nvPicPr>
        <p:blipFill>
          <a:blip r:embed="rId4"/>
          <a:stretch/>
        </p:blipFill>
        <p:spPr>
          <a:xfrm>
            <a:off x="684360" y="3646440"/>
            <a:ext cx="380880" cy="579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5" descr="Mars_symbol-1"/>
          <p:cNvPicPr/>
          <p:nvPr/>
        </p:nvPicPr>
        <p:blipFill>
          <a:blip r:embed="rId5"/>
          <a:stretch/>
        </p:blipFill>
        <p:spPr>
          <a:xfrm>
            <a:off x="684360" y="4292640"/>
            <a:ext cx="380880" cy="50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6" descr="Jupiter_symbol-1"/>
          <p:cNvPicPr/>
          <p:nvPr/>
        </p:nvPicPr>
        <p:blipFill>
          <a:blip r:embed="rId6"/>
          <a:stretch/>
        </p:blipFill>
        <p:spPr>
          <a:xfrm>
            <a:off x="684360" y="4797360"/>
            <a:ext cx="380880" cy="649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7" descr="Saturn_symbol-1"/>
          <p:cNvPicPr/>
          <p:nvPr/>
        </p:nvPicPr>
        <p:blipFill>
          <a:blip r:embed="rId7"/>
          <a:stretch/>
        </p:blipFill>
        <p:spPr>
          <a:xfrm>
            <a:off x="684360" y="5300640"/>
            <a:ext cx="380880" cy="57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8" descr="Alchemy_transmutation_symbol-2"/>
          <p:cNvPicPr/>
          <p:nvPr/>
        </p:nvPicPr>
        <p:blipFill>
          <a:blip r:embed="rId8"/>
          <a:stretch/>
        </p:blipFill>
        <p:spPr>
          <a:xfrm>
            <a:off x="684360" y="5877000"/>
            <a:ext cx="341280" cy="5252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9"/>
          <p:cNvSpPr/>
          <p:nvPr/>
        </p:nvSpPr>
        <p:spPr>
          <a:xfrm>
            <a:off x="1258200" y="227664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туть, Меркурий, среда, философская рту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1260360" y="299736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дь, Венера, пятни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1187280" y="3716280"/>
            <a:ext cx="33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то, Солнце, воскресень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1332720" y="436572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езо, Марс, втор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1260000" y="49417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лово, Юпитер, четвер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1240560" y="532116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инец, Сатурн, субб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1095480" y="59691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кое делание, трансмут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Достижения греко-римских алхимик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овершенствован способ извлечения золота и серебра из руд, для чего применялась рту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 очистки золота купелированием – нагреванием руды со свинцом и селитр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формулирована иде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ансмутации металл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первые у Болоса Демокритоса «Физика и мистика»)– превращения одного металла в другой, прежде всего неблагородных металлов (свинца или железа) в золото, ставшая основной задачей всего алхимического пери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рабская ал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бу Муса Джабир ибн Хайан (721-815), разработал ртутно-серную теорию происхождения металл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снове всех металлов лежат два принципа – Ртуть (философская Ртуть) и Сера (философская Сера). Ртуть является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инципом металлич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ера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инципом горюче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ципы новой теории являются носителями определённых свойств металлов, установленных в результате экспериментального изучения действия высоких температур на металл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4" descr="Merc_Sulf"/>
          <p:cNvPicPr/>
          <p:nvPr/>
        </p:nvPicPr>
        <p:blipFill>
          <a:blip r:embed="rId1"/>
          <a:stretch/>
        </p:blipFill>
        <p:spPr>
          <a:xfrm>
            <a:off x="1476360" y="5300640"/>
            <a:ext cx="6191280" cy="10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Абу Бакр Мухаммед ибн Закария Ар-Рази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865 г. – 925 г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щь = неделимые элементы + пустое простран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ы – вечные, неизменные, обладают определенным разме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йства вещества - определяются размерами составляющих их атомов и пустот между ни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ы, составляющие металлы: ртуть, сера, с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5219640" y="1600200"/>
            <a:ext cx="3467160" cy="399420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Книга тайн» Ар-Раз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сь материал алхимии делится на три раздел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Познание веществ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Познание прибор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Познание операц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и класса вещест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листые (минеральные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Растите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живот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ппараты и приборы, описанные в сочинениях Ар-Рази: кубки, колбы, тазы, стеклянные блюдца для кристаллизации, кувшины, кастрюли, горелки, нефтяные лампы, жаровни и печи, печи для плавки, напильники, шпатели, ковши, ножницы, молотки, щипцы, песчаные и водяные бани, фильтры из тканей и шерсти, алембики, воронки, ступки с пестиками, сита металлические, волосяные и шелковые и другие приборы и принадлеж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имические операции: плавление тел, декантация, фильтрование, дигерирование (настаивание при повышенной температуре), дистилляцию, сублимацию, амальгамацию, растворение, коагуляцию (сгуще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цептуальные системы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я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как современная научная метод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 европейской алхими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1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  Приготовление Эликсира или Философского Камня (Lapis Philosoiphoru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  Создание гомункулу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  Приготовление алкагеста – универсального растворител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  Палигенез, или восстановление растений из пеп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  Приготовление мирового духа (spiritus mundi) – магической субстанции, одно из свойств которой – способность растворять золот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  Извлечение квинтэссен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.  Приготовление жидкого золота (aurum potabile), совершеннейшего средства для излеч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95640" y="2707920"/>
            <a:ext cx="288612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Picture 6" descr="http://luxaur.narod.ru/biblio/2/tr/atal21.gif"/>
          <p:cNvPicPr/>
          <p:nvPr/>
        </p:nvPicPr>
        <p:blipFill>
          <a:blip r:embed="rId1"/>
          <a:stretch/>
        </p:blipFill>
        <p:spPr>
          <a:xfrm>
            <a:off x="5796000" y="2060640"/>
            <a:ext cx="2981160" cy="27432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Европейская алхимия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ьберт Великий (1193-1280) «Книга об Алхимии», «Малый Алхимический свод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жер Бэкон (1214-1292) «Зеркало Алхими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ймонд Луллий (1235-1313) – философский кам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навентура (1121-1274) - «Книге, составленной на основе многих опытов», установил свойство «крепкой водки» (азотной кислоты) растворять серебро, отделяя его от золота. Применял «царскую водку» (раствор нашатыря в «крепкой водке») и заметил её способность растворять золо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цепт философского камня. Раймунд Луллий, XIII 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Чтобы приготовить эликсир мудрецов, или философский камень, возьми, сын мой, философской ртути и накаливай, пока она не превратится в зеленого льва. После этого прокаливай сильнее, и она превратится в красного льва. Дигерируй этого красного льва на песчаной бане с кислым виноградным спиртом, выпари жидкость, и ртуть превратится в камедеобразное вещество, которое можно резать ножом. Положи его в обмазанную глиной реторту и не спеша дистиллируй. Собери отдельно жидкости различной природы, которые появятся при этом. Ты получишь безвкусную флегму, спирт и красные капли. Киммерийские тени покроют реторту своим темным покрывалом, и ты найдешь внутри нее истинного дракона, потому что он пожирает свой хвост. Возьми этого черного дракона, разотри на камне и прикоснись к нему раскаленным углем. Он загорится и, приняв вскоре великолепный лимонный цвет, вновь воспроизведет зеленого льва. Сделай так, чтобы он пожрал свой хвост, и снова дистиллируй продукт. Наконец, мой сын, тщательно ректифицируй, и ты увидишь появление горючей воды и человеческой крови..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езультаты алхимического период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копление значительного запаса знаний о веществ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овление эмпирического (опытного) подхода к изучению свойств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химиками была разработана ртутно-серная теория (теория трёх принципов), призванная обобщить опытные данны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хническая химия и ятрохим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ноччо Бирингуччо (1480-1539) "О пиротехнии" и Георг Бауэра (1494-1555), "De Re Metallica". Сочинения посвящённы минералогии, металлургии, горному делу, производству кера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ецкий врач и алхимик Филипп Ауреол Теофраст Бомбаст фон Гогенгейм (Парацельс):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имия – один из столпов, на которые должна опираться врачебная наука. Задача химии вовсе не в том, чтобы делать золото и серебро, а в том, чтобы готовить лекар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. Здоровый организм – равновесие 3 принципов – Ртуть, Сера, Сол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как наука и научная метод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Picture 7" descr="Изображение “http://vladimir.socio.msu.ru/3_SYNERGY/SYNERGY_01/03_nonlinear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2843280" y="3933720"/>
            <a:ext cx="3816360" cy="208764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42920" y="3500280"/>
            <a:ext cx="4248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86756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- теория самоорганизации нелинейных динамических сре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Picture 7" descr="Изображение “http://vladimir.socio.msu.ru/3_SYNERGY/SYNERGY_01/01_galaxy-001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4859280" y="3789360"/>
            <a:ext cx="3960720" cy="2664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4"/>
          <p:cNvSpPr/>
          <p:nvPr/>
        </p:nvSpPr>
        <p:spPr>
          <a:xfrm>
            <a:off x="391680" y="2076480"/>
            <a:ext cx="88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ое употребление терм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Хакен «Кооперативные явления в сильно неравновесных и нефизическ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стемах 1973г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 синергетикии – сложные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сложностью синергетика понимает способность к самоорганизации, усложнению своей пространственно-временной структуры на макроскопическом уровне в силу происходящих на микроуровне измене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лючевые идеи синергет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амоорганизац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крытые системы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линей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нцепция систем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инирование роли целого над част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ое больше суммы своих ча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обладает структурой с определенным расположением и связью ее составных ча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обладает множеством состояний, соответствующих ее различным свойствам, которые описываются набором параметров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истемы как целого определяются не только свойствами ее отдельных элементов, но и свойствами структуры системы в цел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выделяется из среды своими качествами. Системы бывают открытые и закрыты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ая система имеет параметры, которые являются для нее основными, или жизненно важными. От них зависит существование систем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онцептуальные системы хим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384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  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линейно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ундаментальная концепция новой синергетической парадигмы. За нелинейностью стоит представление о возможности очень быстрого развития процессов в системе на определенных стадиях ее эволю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лавном изменении параметров нелинейной системы ее состояние и свойства могут кардинально меняться скачками и стохастически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0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3" name="Picture 9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ицательная обратная связь призвана создавать устойчивость в систем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цесс действия отрицательной обратной связи: когда некое изменение угрожает изменить заданный уровень, оно подавляе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ожительная обратная связь призвана не подавлять изменение в системе, а увеличивать его, может реагировать на малое отклонение, или "ввести" изменения в систе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учные школы синергет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юссельская школа лауреата Нобелевской премии И.Р. Пригожкина, разрабатывающего теорию диссипативных структур, раскрывающую исторические предпосылки и мировоззренческие основания теории самоорганиз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Г.Хакена, профессора Института синергетики и теоретической физики в Штутг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ория катастроф, представленная российским математиком В.И. Арнольдом и французским математиком Р. Тома. Разрабатывается математический аппарат для описания катастрофических процессов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академика А.А. Самарского и члена–корр. РАН С.П. Курдюмова. Эта школа выдвинула ряд идей для понимания механизмов возникновения и эволюции относительно устойчивых структур в открытых (нелинейных) сред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Школа академика Н. Н. Моисеева, разрабатывающего идеи универсального эволюционизма и коэволюции человека и природ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Цель химии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ить вещество с заданными свойств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актическая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пособы управления свойствами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еоретическая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ие причин происхождения и обусловленности свойств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Уровни организации веществ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Субатомные час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Атомы химических эле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Молекулы химических веществ как унитарные (единые)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  Микро- и макроскопические системы реагирующих молеку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  Мегасистемы (Солнечная система, Галактика и т.п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от которых зависит свойство веще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Элементарный состав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Структура молекулы вещества;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Организация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нцептуальные систе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Учение о состав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Структурная хим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Учение о химическом процесс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1.Учение о состав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его составом, т.е. тем, из каких элементов и в каком их соотношении образовано данное вещест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ом учения о составе является вещество как совокупность атом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2:24:16Z</dcterms:created>
  <dc:creator>Inspiron</dc:creator>
  <dc:description/>
  <dc:language>en-US</dc:language>
  <cp:lastModifiedBy>LEGION</cp:lastModifiedBy>
  <dcterms:modified xsi:type="dcterms:W3CDTF">2015-05-01T11:20:50Z</dcterms:modified>
  <cp:revision>50</cp:revision>
  <dc:subject/>
  <dc:title>Философские проблемы науки и техники</dc:title>
</cp:coreProperties>
</file>