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6C2-A17F-4994-9A81-0365C15CE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DC03-E01E-4953-8EB2-FFDE147F1E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науки и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и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на Алекс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возникновен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-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яя Гре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 - первоначало неразложимые части т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же до первоначал, то они еще больше име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редств для того, чтоб из них возникали различные вещи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 ни одной из вещей, доступных для нашего взора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б она из начал состояла вполне однородных..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воначала вещей уносятся собственным весо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ли толчками других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природе вещ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т Лукреций Кар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34FA-6FCE-49DB-949D-91839E14E5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ай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и Ин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рево, огонь, земля,  металл,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000 вещей, в том числе -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EED2-11A0-48E3-9EEB-BE13E56E06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з Стагиры (384-322 до н. э.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кси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стинного смешивания (в отличие от механическог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13E9-30D7-469D-B1EA-BF7014814E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руктур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942C-94C5-4294-9DF4-7CD056D498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открытие явления изом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"изомерия"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греческого ισοζ μερον) – равной 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3D82-5162-4D20-AFC5-82E5D263E1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6538-CFCD-44D4-9654-C095AE586B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он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50 – 1960 гг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0593-CD15-4081-A7F5-5D0D4EAB50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3E9B-4F19-4E87-B15D-5EE73B9C0A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алхимический период (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– 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становления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-XV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оличественных законов (атомно-молекулярной теории): 1789 – 1860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лассической химии: 1860 г. – конец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период: с начала XX века по настоящее врем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12D5-77A7-40BA-BD70-B65BE444C6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лександрийская алхим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3917-0C30-4236-8ED1-00436CF357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CD1E-E1CE-4577-81E2-6F2E587A2B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ександрийская Академи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ана А.Македонским в 332 г.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0C62-B1FD-48BB-9819-27589C7594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первых представителей александрийской ал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зика и мис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трансмутации мет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ывалась на основе теории четырех элементов - стих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FA3F-0ABA-4AAB-872A-BDF1AA8D90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и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цилийский астроном Юлиус Матерн Фирмик (336 г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3FFB-07AF-48C3-B448-279E335226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зумрудная скрижаль» Герм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его отец, а Луна его мать. Ветер выносил его, а земля выпестовала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AD40-1203-4FDE-A947-B923AD7BDC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алхимические 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23A9-E414-478A-875F-5FBF9FA1E7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я греко-римских алхим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очистки золота купелированием – нагреванием руды со свинцом и селитр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нсмутации мет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D4F2-FDA0-41CA-A006-C4204B65C6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метал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ера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горюче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D97A-0DE0-4ECF-A867-C3F7D2E188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бу Бакр Мухаммед ибн Закария Ар-Раз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65 г. – 92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 = неделимые элементы + пустое простр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– вечные, неизменные, обладают определенным разме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, составляющие металлы: ртуть, сера, 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588-EF9F-4699-B734-5EDBB7CD21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нига тайн» Ар-Ра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ь материал алхимии делится на три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ознание ве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ознание прибор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знание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 класса веще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стые (минераль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с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живо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6589-531A-44B5-BFDD-1621457096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4898-F844-4E4C-A49A-EBB219DFED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современная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08E6-A5DC-4F0A-AC62-9BCEB08932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европейской алхим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Приготовление Эликсира или Философского Камня (Lapis Philosoiphoru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 Создание гомункул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 Приготовление алкагеста – универсального раствор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 Палигенез, или восстановление растений из пеп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 Извлечение квинтэсс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 Приготовление жидкого золота (aurum potabile), совершеннейшего средства для из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0516-B12C-465A-A842-A1899B0AB3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Великий (1193-1280) «Книга об Алхимии», «Малый Алхимический св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 Бэкон (1214-1292) «Зеркало Ал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монд Луллий (1235-1313) – философский ка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7A2F-49CC-499B-9B1D-1EB81E7E58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 философского камня. Раймунд Луллий, XIII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4BB9-E6DD-46BA-8FE9-ECCBC5DEB0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алхимическ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значительного запаса знаний о вещест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эмпирического (опытного) подхода к изучению свойст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C1B6-8DE8-4DF3-B8C3-3C63D92B43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ая химия и ятро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Здоровый организм – равновесие 3 принципов – Ртуть, Сера, С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E8DE-D5B4-47AA-9F12-3DC994FDA3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наука и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70CA-C194-4DB2-B7A3-C4C3AF7089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- теория самоорганизации нелинейных динамических с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7248-6F79-49C3-81D4-497B90B2E9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синергетикии – сложны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99B9-07C4-48FA-87BB-C39831E80C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идеи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рган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е сис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691B-43E6-4A88-B9C5-5A85479098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минирование роли целого над частны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ое больше суммы свои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выделяется из среды своими качествами. Системы бывают открытые и закрыт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FED5-7943-4B9C-B9AC-A1DE3896A8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4675-C0DC-4368-B8BB-F23ABD7513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2E4C-40E3-414B-845E-958DC50C2E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обратная связь призвана создавать устойчивость в систем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3FDE-BDBB-4D74-9079-4FFCE118B4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3F12-AF80-4F8B-B630-A6555A1546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Г.Хакена, профессора Института синергетики и теоретической физики в Штутгар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3C8E-7952-49FD-B2EC-51161AF0C5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4E30-D0F7-47FB-84BA-91249A8410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хими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вещество с заданны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кт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пособы управления свойствам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еоретическа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причин происхождения и обусловленности свойств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20FC-2AF0-40D3-A5CB-94D5805561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организаци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Субатомные част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Атомы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Молекулы химических веществ как унитарные (единые)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 Микро- и макроскопические системы реагирующих молеку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 Мегасистемы (Солнечная система, Галактик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FE2-727B-44A6-8F47-D177DACDB2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Элементарный соста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а молекулы вещества;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Организац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0AC4-24B8-4122-854E-A9C9F7CDF9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Учение о соста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ная хим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Учение о химическом проце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BACB-E047-4B54-B6F0-089D08386C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чение о сост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учения о составе является вещество как совокупность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9791-8FDB-4370-ABAE-92CFE667ED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19E-A156-4357-9E44-89F7D9E7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8DB-6210-4FD0-8712-874ED274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460-BBE0-40D1-ABEC-68B367B1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6E7-1A30-4269-97FE-C425329D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F010-003B-4BFA-B76E-30907B62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6130-3E35-4B80-A065-2C536F1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F998-4205-44DC-A030-EFF7280F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CFA3-C4AB-4ADB-94A2-EB237442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30E2-D68B-462A-BF8B-8CEE8A9F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70DC-DB09-48A4-9C6C-A562B34E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832B-BDFC-4AF8-AB03-F6E68717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F14-F148-4FBC-A2BA-4F25F68F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4187-1794-4F15-AE04-8ABFD67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84F1-790A-4424-8942-FA15AB4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50F1-7E59-40B4-BCCD-ED393072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4FC5-7D0B-4FF9-A642-582C5D87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3C89-4541-4D37-A59F-E579B65D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652-BFEC-4A47-B2B9-57916E9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FBC-9A1B-480F-8F9E-6D60764E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2BE-42BB-4063-A2F0-DD279606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6A2-C375-433D-9FFC-ABD85E1B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90B-0F40-47A7-9B3A-795B9CB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28D-7839-4A4B-BCAF-D02E261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1A4-716D-4790-8CD4-5DB3D69F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B12F-FF95-4A4E-9C92-70716D869C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7BF8-218E-4376-A18D-ED1A464ED3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науки и тех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и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на Алексе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ериод возникновения 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I-V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ревняя Греци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 - первоначало неразложимые части 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 же до первоначал, то они еще больше имеют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едств для того, чтоб из них возникали различные вещи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ет ни одной из вещей, доступных для нашего взора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б она из начал состояла вполне однородных..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оначала вещей уносятся собственным весом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ли толчками других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 природе веще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ит Лукреций Кар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итайская философ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н и И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ево, огонь, земля,  металл,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0 000 вещей, в том числе -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424400"/>
          </a:xfrm>
          <a:prstGeom prst="rect">
            <a:avLst/>
          </a:prstGeom>
          <a:ln w="0">
            <a:noFill/>
          </a:ln>
        </p:spPr>
      </p:pic>
      <p:sp>
        <p:nvSpPr>
          <p:cNvPr id="191" name="Line 9"/>
          <p:cNvSpPr/>
          <p:nvPr/>
        </p:nvSpPr>
        <p:spPr>
          <a:xfrm>
            <a:off x="1332000" y="314172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7040" y="382680"/>
            <a:ext cx="7931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из Стагиры (384-322 до н. э.)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60020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икси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тинного смешивания (в отличие от механического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Элементы Аристотеля: квадрат противоположностей"/>
          <p:cNvPicPr/>
          <p:nvPr/>
        </p:nvPicPr>
        <p:blipFill>
          <a:blip r:embed="rId2"/>
          <a:stretch/>
        </p:blipFill>
        <p:spPr>
          <a:xfrm>
            <a:off x="981000" y="977760"/>
            <a:ext cx="4454640" cy="2581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http://www.tonnel.ru/gzl/249518943_tonnel.gif"/>
          <p:cNvPicPr/>
          <p:nvPr/>
        </p:nvPicPr>
        <p:blipFill>
          <a:blip r:embed="rId3"/>
          <a:stretch/>
        </p:blipFill>
        <p:spPr>
          <a:xfrm>
            <a:off x="6084720" y="836640"/>
            <a:ext cx="2160720" cy="25891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2. Структур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в. – открытие явления изомер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изомерия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т греческого ισοζ μερον) – равной ме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волюцион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50 – 1960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История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тапы развития хим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алхимический период (д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н.э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химический период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– 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становления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-XV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оличественных законов (атомно-молекулярной теории): 1789 – 1860 г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лассической химии: 1860 г. – конец XIX 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й период: с начала XX века по настоящее врем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лхимический пери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ийская алхим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аб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вропей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http://oko-project.ru/index/Azoth.jpg"/>
          <p:cNvPicPr/>
          <p:nvPr/>
        </p:nvPicPr>
        <p:blipFill>
          <a:blip r:embed="rId1"/>
          <a:stretch/>
        </p:blipFill>
        <p:spPr>
          <a:xfrm>
            <a:off x="4572000" y="170028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9440" y="277920"/>
            <a:ext cx="82170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Александрийская Академия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снована А.Македонским в 332 г. до н.э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первых представителей александрийской ал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Физика и мистик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улирована идея трансмутации мет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сновывалась на основе теории четырех элементов - стих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Химия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цилийский астроном Юлиус Матерн Фирмик (336 г.н.э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Изумрудная скрижаль» Герме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II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V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це его отец, а Луна его мать. Ветер выносил его, а земля выпестовала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жнейшие алхимические зна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7" name="Picture 12" descr="Moon_symbol_crescent-1"/>
          <p:cNvPicPr/>
          <p:nvPr/>
        </p:nvPicPr>
        <p:blipFill>
          <a:blip r:embed="rId1"/>
          <a:stretch/>
        </p:blipFill>
        <p:spPr>
          <a:xfrm>
            <a:off x="684360" y="1268280"/>
            <a:ext cx="38088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ercury_symbol-1"/>
          <p:cNvPicPr/>
          <p:nvPr/>
        </p:nvPicPr>
        <p:blipFill>
          <a:blip r:embed="rId2"/>
          <a:stretch/>
        </p:blipFill>
        <p:spPr>
          <a:xfrm>
            <a:off x="684360" y="2136600"/>
            <a:ext cx="380880" cy="570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Venus_symbol-1"/>
          <p:cNvPicPr/>
          <p:nvPr/>
        </p:nvPicPr>
        <p:blipFill>
          <a:blip r:embed="rId3"/>
          <a:stretch/>
        </p:blipFill>
        <p:spPr>
          <a:xfrm>
            <a:off x="684360" y="2921040"/>
            <a:ext cx="380880" cy="58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1332000" y="1413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ебро, Луна, понедель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22" descr="Sun_symbol-1"/>
          <p:cNvPicPr/>
          <p:nvPr/>
        </p:nvPicPr>
        <p:blipFill>
          <a:blip r:embed="rId4"/>
          <a:stretch/>
        </p:blipFill>
        <p:spPr>
          <a:xfrm>
            <a:off x="684360" y="3646440"/>
            <a:ext cx="380880" cy="57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5" descr="Mars_symbol-1"/>
          <p:cNvPicPr/>
          <p:nvPr/>
        </p:nvPicPr>
        <p:blipFill>
          <a:blip r:embed="rId5"/>
          <a:stretch/>
        </p:blipFill>
        <p:spPr>
          <a:xfrm>
            <a:off x="684360" y="4292640"/>
            <a:ext cx="380880" cy="5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Jupiter_symbol-1"/>
          <p:cNvPicPr/>
          <p:nvPr/>
        </p:nvPicPr>
        <p:blipFill>
          <a:blip r:embed="rId6"/>
          <a:stretch/>
        </p:blipFill>
        <p:spPr>
          <a:xfrm>
            <a:off x="684360" y="4797360"/>
            <a:ext cx="380880" cy="649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7" descr="Saturn_symbol-1"/>
          <p:cNvPicPr/>
          <p:nvPr/>
        </p:nvPicPr>
        <p:blipFill>
          <a:blip r:embed="rId7"/>
          <a:stretch/>
        </p:blipFill>
        <p:spPr>
          <a:xfrm>
            <a:off x="684360" y="5300640"/>
            <a:ext cx="38088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Alchemy_transmutation_symbol-2"/>
          <p:cNvPicPr/>
          <p:nvPr/>
        </p:nvPicPr>
        <p:blipFill>
          <a:blip r:embed="rId8"/>
          <a:stretch/>
        </p:blipFill>
        <p:spPr>
          <a:xfrm>
            <a:off x="684360" y="5877000"/>
            <a:ext cx="341280" cy="525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9"/>
          <p:cNvSpPr/>
          <p:nvPr/>
        </p:nvSpPr>
        <p:spPr>
          <a:xfrm>
            <a:off x="1258200" y="227664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туть, Меркурий, среда, философская рту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260360" y="29973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ь, Венера, пятн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187280" y="3716280"/>
            <a:ext cx="33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, Солнце, воскресен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332720" y="436572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о, Марс, втор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60000" y="49417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лово, Юпитер, четве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240560" y="53211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инец, Сатурн, субб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1095480" y="59691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е делание, трансмут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остижения греко-римских алхими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очистки золота купелированием – нагреванием руды со свинцом и селитр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улирована иде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ансмутации мет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рабская ал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металлич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ера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горюче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4" descr="Merc_Sulf"/>
          <p:cNvPicPr/>
          <p:nvPr/>
        </p:nvPicPr>
        <p:blipFill>
          <a:blip r:embed="rId1"/>
          <a:stretch/>
        </p:blipFill>
        <p:spPr>
          <a:xfrm>
            <a:off x="1476360" y="5300640"/>
            <a:ext cx="619128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Абу Бакр Мухаммед ибн Закария Ар-Рази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865 г. – 925 г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ь = неделимые элементы + пустое простран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 – вечные, неизменные, обладают определенным раз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, составляющие металлы: ртуть, сера, с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3467160" cy="39942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Книга тайн» Ар-Раз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ь материал алхимии делится на три раздел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Познание вещест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Познание прибор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ние опера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 класса вещест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истые (минеральные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Растите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живо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птуальные системы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современная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европейской алхим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1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  Приготовление Эликсира или Философского Камня (Lapis Philosoiphoru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  Создание гомункулу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  Приготовление алкагеста – универсального растворите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  Палигенез, или восстановление растений из пеп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  Извлечение квинтэссен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  Приготовление жидкого золота (aurum potabile), совершеннейшего средства для изле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95640" y="2707920"/>
            <a:ext cx="28861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6" descr="http://luxaur.narod.ru/biblio/2/tr/atal21.gif"/>
          <p:cNvPicPr/>
          <p:nvPr/>
        </p:nvPicPr>
        <p:blipFill>
          <a:blip r:embed="rId1"/>
          <a:stretch/>
        </p:blipFill>
        <p:spPr>
          <a:xfrm>
            <a:off x="5796000" y="2060640"/>
            <a:ext cx="2981160" cy="27432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вропейская алхим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ьберт Великий (1193-1280) «Книга об Алхимии», «Малый Алхимический сво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жер Бэкон (1214-1292) «Зеркало Алхими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ймонд Луллий (1235-1313) – философский кам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 философского камня. Раймунд Луллий, XIII 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езультаты алхимического период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копление значительного запаса знаний о веществ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эмпирического (опытного) подхода к изучению свойст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хническая химия и ятрохим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Здоровый организм – равновесие 3 принципов – Ртуть, Сера, С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наука и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7" descr="Изображение “http://vladimir.socio.msu.ru/3_SYNERGY/SYNERGY_01/03_nonlinear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2843280" y="3933720"/>
            <a:ext cx="3816360" cy="208764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2920" y="3500280"/>
            <a:ext cx="424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- теория самоорганизации нелинейных динамических с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7" descr="Изображение “http://vladimir.socio.msu.ru/3_SYNERGY/SYNERGY_01/01_galaxy-001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4859280" y="3789360"/>
            <a:ext cx="3960720" cy="2664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4"/>
          <p:cNvSpPr/>
          <p:nvPr/>
        </p:nvSpPr>
        <p:spPr>
          <a:xfrm>
            <a:off x="391680" y="2076480"/>
            <a:ext cx="88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е употребление тер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Хакен «Кооперативные явления в сильно неравновесных и нефизическ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х 1973г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синергетикии – сложные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ючевые идеи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организац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ые систем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ция систем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инирование роли целого над част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ое больше суммы свои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выделяется из среды своими качествами. Системы бывают открытые и закрыт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онцептуальные системы хим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 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ая обратная связь призвана создавать устойчивость в систем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е школы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Г.Хакена, профессора Института синергетики и теоретической физики в Штутг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ь химии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ь вещество с заданными свойств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актическ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пособы управления свойствами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еоретическая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причин происхождения и обусловленности свойств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ровни организации вещест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Субатомные час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Атомы химических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Молекулы химических веществ как унитарные (единые)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 Микро- и макроскопические системы реагирующих молеку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 Мегасистемы (Солнечная система, Галактика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Элементарный соста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а молекулы вещества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Организация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туальные сист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Учение о соста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ная хим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Учение о химическом проце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1.Учение о состав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учения о составе является вещество как совокупность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24:16Z</dcterms:created>
  <dc:creator>Inspiron</dc:creator>
  <dc:description/>
  <dc:language>en-US</dc:language>
  <cp:lastModifiedBy>LEGION</cp:lastModifiedBy>
  <dcterms:modified xsi:type="dcterms:W3CDTF">2015-05-01T11:20:50Z</dcterms:modified>
  <cp:revision>50</cp:revision>
  <dc:subject/>
  <dc:title>Философские проблемы науки и техники</dc:title>
</cp:coreProperties>
</file>