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20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97DB-7C10-430E-9524-C53A9D4851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hyperlink" Target="http://www.physchem.chimfak.rsu.ru/Source/History/Persones/Aristoteles.html" TargetMode="External"/><Relationship Id="rId2" Type="http://schemas.openxmlformats.org/officeDocument/2006/relationships/slide" Target="../slides/slide12.xml"/><Relationship Id="rId3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E74B-5B1B-4834-8033-D61A0E7F32A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кие проблемы науки и тех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иенк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ина Алексе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иод возникновения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-V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. до н.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ревняя Греция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 - первоначало неразложимые части т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то же до первоначал, то они еще больше имеют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редств для того, чтоб из них возникали различные вещи,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ет ни одной из вещей, доступных для нашего взора,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тоб она из начал состояла вполне однородных..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ервоначала вещей уносятся собственным весом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ли толчками других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 природе вещей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ит Лукреций Кар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0380-5C43-40AE-A2AC-F34A2190EAD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тайская философ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н и Ин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рево, огонь, земля,  металл, в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0 000 вещей, в том числе -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8EC5-8133-4295-B9CA-0A3975B7F87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Аристотель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из Стагиры (384-322 до н. э.)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ние нового тела (с иным сочетанием элементов) возможно, по Аристотелю, в результате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иксис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истинного смешивания (в отличие от механического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19D7-1361-4B67-AD9B-8D2F9CD945B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труктурная хи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войства вещества определяются структурой молекулы вещества, т.е. её элементным составом, порядком соединения атомов между собой и их расположением в пространств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ом структурной химии становится молекула химического вещества как единое цел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0BBA-0028-4BF7-BD6E-43AA97C6AAC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. – открытие явления изоме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25 г. Иоганн Юстус фон Либих обнаружил, что элементный состав фульминовой кислоты в точности соответствует составу циановой кислоты, которую за год до этого получил Фридрих Вёл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30 г. Й.Я. Берцелиус установил, что виноградная и виннокаменная кислоты также имеют одинаковый состав, но различаются по свойствам. Берцелиус предложил для обнаруженного явления термин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"изомерия"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от греческого ισοζ μερον) – равной ме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3E83-5931-4F9A-A8B5-61C758796EA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Учение о химическом процессе – вторая полови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войства вещества определяются его составом, структурой и организацией системы, в которой это вещество находитс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ом изучения химии становится вся кинетическая система, в которой состав вещества и структура его молекул представлены лишь как част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2AF5-887D-4615-A3E5-14E467CE1F5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волюционная хи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50 – 1960 гг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  - самопроизвольный  (без участия человека) синтез новых химических соеди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69 г. появилась общая теория химической эволюции и биогенеза, выдвинутая ранее в общих положениях профессором Московского университета А.П. Руденк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FD1B-D0AB-411F-B908-77EDF2D175C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8595-D69B-4734-A2B0-99C03F200EF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ы развития 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алхимический период (до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н.э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химический период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I – XV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в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становления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VII-XVI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в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количественных законов (атомно-молекулярной теории): 1789 – 1860 г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классической химии: 1860 г. – конец XIX 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й период: с начала XX века по настоящее врем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8634-4352-4812-9130-9CF11A33A89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химически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Александрийская алхим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абская алхи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ейская алхи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6437-507F-4285-9D1E-89D9FBB7770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кие проблемы 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E602-B595-4FB2-9185-11898A8D014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лександрийская Академия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ана А.Македонским в 332 г. до н.э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единение теории (античной натурфилософии) и практических знаний о веществах, их свойствах и превращениях; из этого соединения и зародилась новая наука – kheme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A9D6-E7E7-4614-A0BE-E409C8D8EDC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лос Демокритос (Псевдо - Демокрит) (ок. 200 г. до н.э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ин из первых представителей александрийской ал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Физика и мистик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ормулирована идея трансмутации метал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ывалась на основе теории четырех элементов - стих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573C-1323-43B0-AF5D-EE713CEE08B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Хим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цилийский астроном Юлиус Матерн Фирмик (336 г.н.э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осима – греческий алхимик, даёт мистико-аллегорическое описание химических операций, в частности «священного искусства» сообщать неблагородным металлам серебристо-белый и золотисто-жёлтый ц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1B8C-C857-4CFC-A17E-CE48482F106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Изумрудная скрижаль» Герм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, что есть, произошло из или является результатом размышлений Единой Сущности. Следовательно, все, что есть, представляет собой лишь различные формы этой Сущности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IV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нце его отец, а Луна его мать. Ветер выносил его, а земля выпестовала е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13DF-064F-443D-AA52-FDC193EE5D2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ейшие алхимические зна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3AF7-8EE5-40FC-A5E7-3D1F5222F89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ижения греко-римских алхим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овершенствован способ извлечения золота и серебра из руд, для чего применялась рту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 очистки золота купелированием – нагреванием руды со свинцом и селитр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ормулирована иде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рансмутации металл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впервые у Болоса Демокритоса «Физика и мистика»)– превращения одного металла в другой, прежде всего неблагородных металлов (свинца или железа) в золото, ставшая основной задачей всего алхимического перио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DED0-F143-43F0-8219-05BB700945F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абская алхи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бу Муса Джабир ибн Хайан (721-815), разработал ртутно-серную теорию происхождения металл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всех металлов лежат два принципа – Ртуть (философская Ртуть) и Сера (философская Сера). Ртуть являетс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инципом металлич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Сера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инципом горюче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новой теории являются носителями определённых свойств металлов, установленных в результате экспериментального изучения действия высоких температур на металл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12F3-2D6D-413D-A556-004A0040168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бу Бакр Мухаммед ибн Закария Ар-Раз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65 г. – 925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ь = неделимые элементы + пустое простра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– вечные, неизменные, обладают определенным размер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йства вещества - определяются размерами составляющих их атомов и пустот между н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, составляющие металлы: ртуть, сера, с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4936-D6EB-446A-9723-99CA0779B09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нига тайн» Ар-Ра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сь материал алхимии делится на три раздел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ознание веществ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ознание приборов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Познание опера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ри класса вещест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истые (минеральные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Растите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живот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AA54-CDEE-45B5-899C-DBCE6FC2B64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ппараты и приборы, описанные в сочинениях Ар-Рази: кубки, колбы, тазы, стеклянные блюдца для кристаллизации, кувшины, кастрюли, горелки, нефтяные лампы, жаровни и печи, печи для плавки, напильники, шпатели, ковши, ножницы, молотки, щипцы, песчаные и водяные бани, фильтры из тканей и шерсти, алембики, воронки, ступки с пестиками, сита металлические, волосяные и шелковые и другие приборы и принадлеж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ие операции: плавление тел, декантация, фильтрование, дигерирование (настаивание при повышенной температуре), дистилляцию, сублимацию, амальгамацию, растворение, коагуляцию (сгущ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6F84-E0B5-4E1B-98E5-743B9B07980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туальные системы 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нергетика как современная научная метод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FEC2-5551-42EC-8DCF-4B2E3C44DC4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европейской алхим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 Приготовление Эликсира или Философского Камня (Lapis Philosoiphoru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  Создание гомункулу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  Приготовление алкагеста – универсального растворител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  Палигенез, или восстановление растений из пепл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  Приготовление мирового духа (spiritus mundi) – магической субстанции, одно из свойств которой – способность растворять золот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  Извлечение квинтэссен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  Приготовление жидкого золота (aurum potabile), совершеннейшего средства для изле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3D40-836B-4267-936B-9A1C4D9DE30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ейская алхим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ьберт Великий (1193-1280) «Книга об Алхимии», «Малый Алхимический свод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жер Бэкон (1214-1292) «Зеркало Алхим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ймонд Луллий (1235-1313) – философский кам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навентура (1121-1274) - «Книге, составленной на основе многих опытов», установил свойство «крепкой водки» (азотной кислоты) растворять серебро, отделяя его от золота. Применял «царскую водку» (раствор нашатыря в «крепкой водке») и заметил её способность растворять золот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C100-8D96-4CC8-9F4B-5750A3761A1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цепт философского камня. Раймунд Луллий, XIII в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Чтобы приготовить эликсир мудрецов, или философский камень, возьми, сын мой, философской ртути и накаливай, пока она не превратится в зеленого льва. После этого прокаливай сильнее, и она превратится в красного льва. Дигерируй этого красного льва на песчаной бане с кислым виноградным спиртом, выпари жидкость, и ртуть превратится в камедеобразное вещество, которое можно резать ножом. Положи его в обмазанную глиной реторту и не спеша дистиллируй. Собери отдельно жидкости различной природы, которые появятся при этом. Ты получишь безвкусную флегму, спирт и красные капли. Киммерийские тени покроют реторту своим темным покрывалом, и ты найдешь внутри нее истинного дракона, потому что он пожирает свой хвост. Возьми этого черного дракона, разотри на камне и прикоснись к нему раскаленным углем. Он загорится и, приняв вскоре великолепный лимонный цвет, вновь воспроизведет зеленого льва. Сделай так, чтобы он пожрал свой хвост, и снова дистиллируй продукт. Наконец, мой сын, тщательно ректифицируй, и ты увидишь появление горючей воды и человеческой крови..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D879-C147-4ADE-873F-394D279B150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зультаты алхимического пери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опление значительного запаса знаний о веществ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новление эмпирического (опытного) подхода к изучению свойств веще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химиками была разработана ртутно-серная теория (теория трёх принципов), призванная обобщить опытные данны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1BCD-C33A-4D4E-88AB-B66BB0BD143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ическая химия и ятрохим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ноччо Бирингуччо (1480-1539) "О пиротехнии" и Георг Бауэра (1494-1555), "De Re Metallica". Сочинения посвящённы минералогии, металлургии, горному делу, производству кера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цкий врач и алхимик Филипп Ауреол Теофраст Бомбаст фон Гогенгейм (Парацельс): «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Химия – один из столпов, на которые должна опираться врачебная наука. Задача химии вовсе не в том, чтобы делать золото и серебро, а в том, чтобы готовить лекарств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. Здоровый организм – равновесие 3 принципов – Ртуть, Сера, Сол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8C5C-80C2-4E9C-86C1-1D7D548B433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нергетика как наука и научная метод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2D3E-6F0F-4F06-8F5E-8DB02BF924E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нергетика - теория самоорганизации нелинейных динамических сре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82B0-63B9-4CBF-953B-05CB675AFC2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синергетикии – сложные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сложностью синергетика понимает способность к самоорганизации, усложнению своей пространственно-временной структуры на макроскопическом уровне в силу происходящих на микроуровне измен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D177-2EDF-492C-B6D5-4AC74B9FD37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евые идеи синерге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организ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ые систе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линей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5603-A4D5-487E-9BE6-50EE1015956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систе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оминирование роли целого над частным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ое больше суммы своих час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обладает структурой с определенным расположением и связью ее составных час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обладает множеством состояний, соответствующих ее различным свойствам, которые описываются набором параметров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йства системы как целого определяются не только свойствами ее отдельных элементов, но и свойствами структуры системы в це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выделяется из среды своими качествами. Системы бывают открытые и закрыты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система имеет параметры, которые являются для нее основными, или жизненно важными. От них зависит существование систем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C1C9-2A00-44E8-9D9D-5903D4691B2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туальные системы 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D4FF-E23E-4721-8A8F-3FCEEFB3E29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линейность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даментальная концепция новой синергетической парадигмы. За нелинейностью стоит представление о возможности очень быстрого развития процессов в системе на определенных стадиях ее эволю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лавном изменении параметров нелинейной системы ее состояние и свойства могут кардинально меняться скачками и стохастическ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2511-F5E8-48D7-B405-B00F8071F11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ицательная обратная связь призвана создавать устойчивость в систем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действия отрицательной обратной связи: когда некое изменение угрожает изменить заданный уровень, оно подавляе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A024-2A21-42E3-A449-A895FAAA3E5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жительная обратная связь призвана не подавлять изменение в системе, а увеличивать его, может реагировать на малое отклонение, или "ввести" изменения в систем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D834-10F5-4A4B-BAC0-2EC1BAF3DC8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ые школы синерге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юссельская школа лауреата Нобелевской премии И.Р. Пригожкина, разрабатывающего теорию диссипативных структур, раскрывающую исторические предпосылки и мировоззренческие основания теории самоорган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а Г.Хакена, профессора Института синергетики и теоретической физики в Штутгар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катастроф, представленная российским математиком В.И. Арнольдом и французским математиком Р. Тома. Разрабатывается математический аппарат для описания катастрофических процессов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5676-0701-4875-9E6B-8A96D4DDEAE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Школа академика А.А. Самарского и члена–корр. РАН С.П. Курдюмова. Эта школа выдвинула ряд идей для понимания механизмов возникновения и эволюции относительно устойчивых структур в открытых (нелинейных) сред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Школа академика Н. Н. Моисеева, разрабатывающего идеи универсального эволюционизма и коэволюции человека и природ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1834-8E34-4797-A0EE-E63DFA1823F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Цель химии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ить вещество с заданными свойств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актическ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способы управления свойствами ве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Теоретическая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причин происхождения и обусловленности свойств ве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D96F-B655-4542-B667-E8F247E2CD8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организации ве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 Субатомные частиц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  Атомы химических эле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  Молекулы химических веществ как унитарные (единые)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  Микро- и макроскопические системы реагирующих молеку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  Мегасистемы (Солнечная система, Галактика и т.п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6ABC-FCCF-4ADB-A8AB-8285E7296A5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акторы, от которых зависит свойство вещ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 Элементарный состав веще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  Структура молекулы вещества;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  Организация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5890-C9E5-48A9-8648-E9F26AFA533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туальные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 Учение о состав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  Структурная хим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  Учение о химическом процес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64EC-DA2F-48F6-A37A-0214991C52B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Учение о соста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войства вещества определяются его составом, т.е. тем, из каких элементов и в каком их соотношении образовано данное веществ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ом учения о составе является вещество как совокупность ато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936E-5839-4BF7-8F5B-72D5CACFDAC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3365-AA65-4E59-9287-A3D44BDC1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267B-5253-4883-AD04-9D6956BB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D0A4-4084-43D4-BF7A-BA1E897C6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2A09-6DB0-4FBF-864F-6530D3A0C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929CC-44F4-4C2D-AEE2-F345F8003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C6AE-C0CE-448F-8653-6EA235C5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7AA2C-F458-458A-90B4-0AD59601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781B-45A7-4559-ACAD-7342BD6F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E505-7AF0-4CDE-983A-385AE02D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428E-4479-4155-8B74-D9D4F1B0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380A6-DCD7-4FAC-90B9-6C309B7A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62B4-D1EA-4544-844D-7A7E2A36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B11E-3EBB-4662-9018-B51029D1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6E21-F50A-4A0A-91C2-58C7AAED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2F11-F0C6-45F3-957A-512CF4D5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873D-420A-4FB1-913E-EF6C201CB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16638-002B-46D6-B44B-8DEC77074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F26F-16CE-495C-9C56-9DCAD2CD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77A9-AFCF-4FC1-8307-A9CDF40B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DD94-57B6-4F8C-B322-55BE9AE3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8124-851E-4C0E-9F05-2EC3EB52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0938-641B-4B54-B2EB-73B45025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EAE3-EA7E-44D5-8E49-4358A224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AAB7-468C-402B-8CAA-1871A08E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D23C-1909-4A21-8B88-21E0E4937F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7F32-C3E2-45A9-A00C-BC5A7E780E7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physchem.chimfak.rsu.ru/Source/History/Persones/Aristoteles.html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Философские проблемы науки и техники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киенк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рина Алексее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Период возникновения  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VI-V 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в. до н.э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ревняя Греция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лемент - первоначало неразложимые части те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Что же до первоначал, то они еще больше имеют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редств для того, чтоб из них возникали различные вещи,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Нет ни одной из вещей, доступных для нашего взора,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Чтоб она из начал состояла вполне однородных...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ервоначала вещей уносятся собственным весом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Или толчками других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О природе вещей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Тит Лукреций Кар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Китайская философ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н и Инь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ерево, огонь, земля,  металл, в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10 000 вещей, в том числе - чел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4643280" y="1557360"/>
            <a:ext cx="4321440" cy="4424400"/>
          </a:xfrm>
          <a:prstGeom prst="rect">
            <a:avLst/>
          </a:prstGeom>
          <a:ln w="0">
            <a:noFill/>
          </a:ln>
        </p:spPr>
      </p:pic>
      <p:sp>
        <p:nvSpPr>
          <p:cNvPr id="191" name="Line 9"/>
          <p:cNvSpPr/>
          <p:nvPr/>
        </p:nvSpPr>
        <p:spPr>
          <a:xfrm>
            <a:off x="1332000" y="3141720"/>
            <a:ext cx="1511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17040" y="382680"/>
            <a:ext cx="79311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66"/>
                </a:solidFill>
                <a:uFillTx/>
                <a:latin typeface="Arial"/>
                <a:hlinkClick r:id="rId1"/>
              </a:rPr>
              <a:t>Аристотель</a:t>
            </a:r>
            <a:r>
              <a:rPr b="0" lang="ru-RU" sz="2400" spc="-1" strike="noStrike">
                <a:solidFill>
                  <a:srgbClr val="dbbd71"/>
                </a:solidFill>
                <a:latin typeface="Arial"/>
              </a:rPr>
              <a:t> из Стагиры (384-322 до н. э.) </a:t>
            </a:r>
            <a:br>
              <a:rPr sz="2400"/>
            </a:b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648320" y="1600200"/>
            <a:ext cx="4038480" cy="21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3938400"/>
            <a:ext cx="8229600" cy="21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разование нового тела (с иным сочетанием элементов) возможно, по Аристотелю, в результате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иксис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истинного смешивания (в отличие от механического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Picture 8" descr="Элементы Аристотеля: квадрат противоположностей"/>
          <p:cNvPicPr/>
          <p:nvPr/>
        </p:nvPicPr>
        <p:blipFill>
          <a:blip r:embed="rId2"/>
          <a:stretch/>
        </p:blipFill>
        <p:spPr>
          <a:xfrm>
            <a:off x="981000" y="977760"/>
            <a:ext cx="4454640" cy="2581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http://www.tonnel.ru/gzl/249518943_tonnel.gif"/>
          <p:cNvPicPr/>
          <p:nvPr/>
        </p:nvPicPr>
        <p:blipFill>
          <a:blip r:embed="rId3"/>
          <a:stretch/>
        </p:blipFill>
        <p:spPr>
          <a:xfrm>
            <a:off x="6084720" y="836640"/>
            <a:ext cx="2160720" cy="258912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2. Структурная хим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войства вещества определяются структурой молекулы вещества, т.е. её элементным составом, порядком соединения атомов между собой и их расположением в пространств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ъектом структурной химии становится молекула химического вещества как единое цело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XIX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в. – открытие явления изомер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825 г. Иоганн Юстус фон Либих обнаружил, что элементный состав фульминовой кислоты в точности соответствует составу циановой кислоты, которую за год до этого получил Фридрих Вёле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830 г. Й.Я. Берцелиус установил, что виноградная и виннокаменная кислоты также имеют одинаковый состав, но различаются по свойствам. Берцелиус предложил для обнаруженного явления термин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"изомерия"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от греческого ισοζ μερον) – равной мер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3. Учение о химическом процессе – вторая половина 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XIX 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войства вещества определяются его составом, структурой и организацией системы, в которой это вещество находитс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метом изучения химии становится вся кинетическая система, в которой состав вещества и структура его молекул представлены лишь как частн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Эволюционная хим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950 – 1960 гг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X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мет   - самопроизвольный  (без участия человека) синтез новых химических соедин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969 г. появилась общая теория химической эволюции и биогенеза, выдвинутая ранее в общих положениях профессором Московского университета А.П. Руденк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История химии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Этапы развития хими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алхимический период (до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.н.э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химический период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 – XV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в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иод становления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II-XV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в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иод количественных законов (атомно-молекулярной теории): 1789 – 1860 гг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иод классической химии: 1860 г. – конец XIX в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временный период: с начала XX века по настоящее время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Алхимический период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ександрийская алхим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рабская алхим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вропейская алхим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0" name="Picture 6" descr="http://oko-project.ru/index/Azoth.jpg"/>
          <p:cNvPicPr/>
          <p:nvPr/>
        </p:nvPicPr>
        <p:blipFill>
          <a:blip r:embed="rId1"/>
          <a:stretch/>
        </p:blipFill>
        <p:spPr>
          <a:xfrm>
            <a:off x="4572000" y="1700280"/>
            <a:ext cx="4191120" cy="41907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bbd71"/>
                </a:solidFill>
                <a:latin typeface="Arial"/>
              </a:rPr>
              <a:t>Философские проблемы химии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9440" y="277920"/>
            <a:ext cx="821700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bbd71"/>
                </a:solidFill>
                <a:latin typeface="Arial"/>
              </a:rPr>
              <a:t>Александрийская Академия </a:t>
            </a:r>
            <a:br>
              <a:rPr sz="3200"/>
            </a:br>
            <a:r>
              <a:rPr b="1" lang="ru-RU" sz="3200" spc="-1" strike="noStrike">
                <a:solidFill>
                  <a:srgbClr val="dbbd71"/>
                </a:solidFill>
                <a:latin typeface="Arial"/>
              </a:rPr>
              <a:t>основана А.Македонским в 332 г. до н.э.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384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единение теории (античной натурфилософии) и практических знаний о веществах, их свойствах и превращениях; из этого соединения и зародилась новая наука – khemei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Picture 10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Болос Демокритос (Псевдо - Демокрит) (ок. 200 г. до н.э.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ин из первых представителей александрийской алхим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Физика и мистика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формулирована идея трансмутации металл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основывалась на основе теории четырех элементов - стих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«Химия»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цилийский астроном Юлиус Матерн Фирмик (336 г.н.э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осима – греческий алхимик, даёт мистико-аллегорическое описание химических операций, в частности «священного искусства» сообщать неблагородным металлам серебристо-белый и золотисто-жёлтый цв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«Изумрудная скрижаль» Гермес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III.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е, что есть, произошло из или является результатом размышлений Единой Сущности. Следовательно, все, что есть, представляет собой лишь различные формы этой Сущности.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IV.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лнце его отец, а Луна его мать. Ветер выносил его, а земля выпестовала ег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6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Важнейшие алхимические знак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37" name="Picture 12" descr="Moon_symbol_crescent-1"/>
          <p:cNvPicPr/>
          <p:nvPr/>
        </p:nvPicPr>
        <p:blipFill>
          <a:blip r:embed="rId1"/>
          <a:stretch/>
        </p:blipFill>
        <p:spPr>
          <a:xfrm>
            <a:off x="684360" y="1268280"/>
            <a:ext cx="380880" cy="720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6" descr="Mercury_symbol-1"/>
          <p:cNvPicPr/>
          <p:nvPr/>
        </p:nvPicPr>
        <p:blipFill>
          <a:blip r:embed="rId2"/>
          <a:stretch/>
        </p:blipFill>
        <p:spPr>
          <a:xfrm>
            <a:off x="684360" y="2136600"/>
            <a:ext cx="380880" cy="5702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9" descr="Venus_symbol-1"/>
          <p:cNvPicPr/>
          <p:nvPr/>
        </p:nvPicPr>
        <p:blipFill>
          <a:blip r:embed="rId3"/>
          <a:stretch/>
        </p:blipFill>
        <p:spPr>
          <a:xfrm>
            <a:off x="684360" y="2921040"/>
            <a:ext cx="380880" cy="58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5"/>
          <p:cNvSpPr/>
          <p:nvPr/>
        </p:nvSpPr>
        <p:spPr>
          <a:xfrm>
            <a:off x="1332000" y="1413000"/>
            <a:ext cx="32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ребро, Луна, понедельн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Picture 22" descr="Sun_symbol-1"/>
          <p:cNvPicPr/>
          <p:nvPr/>
        </p:nvPicPr>
        <p:blipFill>
          <a:blip r:embed="rId4"/>
          <a:stretch/>
        </p:blipFill>
        <p:spPr>
          <a:xfrm>
            <a:off x="684360" y="3646440"/>
            <a:ext cx="380880" cy="5796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5" descr="Mars_symbol-1"/>
          <p:cNvPicPr/>
          <p:nvPr/>
        </p:nvPicPr>
        <p:blipFill>
          <a:blip r:embed="rId5"/>
          <a:stretch/>
        </p:blipFill>
        <p:spPr>
          <a:xfrm>
            <a:off x="684360" y="4292640"/>
            <a:ext cx="380880" cy="503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6" descr="Jupiter_symbol-1"/>
          <p:cNvPicPr/>
          <p:nvPr/>
        </p:nvPicPr>
        <p:blipFill>
          <a:blip r:embed="rId6"/>
          <a:stretch/>
        </p:blipFill>
        <p:spPr>
          <a:xfrm>
            <a:off x="684360" y="4797360"/>
            <a:ext cx="380880" cy="6494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7" descr="Saturn_symbol-1"/>
          <p:cNvPicPr/>
          <p:nvPr/>
        </p:nvPicPr>
        <p:blipFill>
          <a:blip r:embed="rId7"/>
          <a:stretch/>
        </p:blipFill>
        <p:spPr>
          <a:xfrm>
            <a:off x="684360" y="5300640"/>
            <a:ext cx="380880" cy="5763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8" descr="Alchemy_transmutation_symbol-2"/>
          <p:cNvPicPr/>
          <p:nvPr/>
        </p:nvPicPr>
        <p:blipFill>
          <a:blip r:embed="rId8"/>
          <a:stretch/>
        </p:blipFill>
        <p:spPr>
          <a:xfrm>
            <a:off x="684360" y="5877000"/>
            <a:ext cx="341280" cy="52524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29"/>
          <p:cNvSpPr/>
          <p:nvPr/>
        </p:nvSpPr>
        <p:spPr>
          <a:xfrm>
            <a:off x="1258200" y="2276640"/>
            <a:ext cx="49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туть, Меркурий, среда, философская рту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Text Box 30"/>
          <p:cNvSpPr/>
          <p:nvPr/>
        </p:nvSpPr>
        <p:spPr>
          <a:xfrm>
            <a:off x="1260360" y="2997360"/>
            <a:ext cx="26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дь, Венера, пятниц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Text Box 31"/>
          <p:cNvSpPr/>
          <p:nvPr/>
        </p:nvSpPr>
        <p:spPr>
          <a:xfrm>
            <a:off x="1187280" y="3716280"/>
            <a:ext cx="33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олото, Солнце, воскресень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Text Box 32"/>
          <p:cNvSpPr/>
          <p:nvPr/>
        </p:nvSpPr>
        <p:spPr>
          <a:xfrm>
            <a:off x="1332720" y="4365720"/>
            <a:ext cx="26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елезо, Марс, вторни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Text Box 33"/>
          <p:cNvSpPr/>
          <p:nvPr/>
        </p:nvSpPr>
        <p:spPr>
          <a:xfrm>
            <a:off x="1260000" y="4941720"/>
            <a:ext cx="27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лово, Юпитер, четвер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Text Box 34"/>
          <p:cNvSpPr/>
          <p:nvPr/>
        </p:nvSpPr>
        <p:spPr>
          <a:xfrm>
            <a:off x="1240560" y="5321160"/>
            <a:ext cx="284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винец, Сатурн, суббо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Text Box 35"/>
          <p:cNvSpPr/>
          <p:nvPr/>
        </p:nvSpPr>
        <p:spPr>
          <a:xfrm>
            <a:off x="1095480" y="5969160"/>
            <a:ext cx="36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ликое делание, трансмута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Достижения греко-римских алхимиков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овершенствован способ извлечения золота и серебра из руд, для чего применялась рту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особ очистки золота купелированием – нагреванием руды со свинцом и селитро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формулирована идея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трансмутации металлов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впервые у Болоса Демокритоса «Физика и мистика»)– превращения одного металла в другой, прежде всего неблагородных металлов (свинца или железа) в золото, ставшая основной задачей всего алхимического период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Арабская алхим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бу Муса Джабир ибн Хайан (721-815), разработал ртутно-серную теорию происхождения металло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снове всех металлов лежат два принципа – Ртуть (философская Ртуть) и Сера (философская Сера). Ртуть является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ринципом металличност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Сера –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ринципом горючест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нципы новой теории являются носителями определённых свойств металлов, установленных в результате экспериментального изучения действия высоких температур на металл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9" name="Picture 4" descr="Merc_Sulf"/>
          <p:cNvPicPr/>
          <p:nvPr/>
        </p:nvPicPr>
        <p:blipFill>
          <a:blip r:embed="rId1"/>
          <a:stretch/>
        </p:blipFill>
        <p:spPr>
          <a:xfrm>
            <a:off x="1476360" y="5300640"/>
            <a:ext cx="6191280" cy="1096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6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bd71"/>
                </a:solidFill>
                <a:latin typeface="Arial"/>
              </a:rPr>
              <a:t>Абу Бакр Мухаммед ибн Закария Ар-Рази</a:t>
            </a:r>
            <a:br>
              <a:rPr sz="2800"/>
            </a:b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865 г. – 925 г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83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щь = неделимые элементы + пустое пространс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лементы – вечные, неизменные, обладают определенным размер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ойства вещества - определяются размерами составляющих их атомов и пустот между ни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лементы, составляющие металлы: ртуть, сера, со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5219640" y="1600200"/>
            <a:ext cx="3467160" cy="3994200"/>
          </a:xfrm>
          <a:prstGeom prst="rect">
            <a:avLst/>
          </a:prstGeom>
          <a:ln w="0">
            <a:noFill/>
          </a:ln>
        </p:spPr>
      </p:pic>
      <p:sp>
        <p:nvSpPr>
          <p:cNvPr id="2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«Книга тайн» Ар-Раз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сь материал алхимии делится на три раздела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) Познание веществ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) Познание приборов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) Познание операци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Три класса веществ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емлистые (минеральные)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) Раститель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) животны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ппараты и приборы, описанные в сочинениях Ар-Рази: кубки, колбы, тазы, стеклянные блюдца для кристаллизации, кувшины, кастрюли, горелки, нефтяные лампы, жаровни и печи, печи для плавки, напильники, шпатели, ковши, ножницы, молотки, щипцы, песчаные и водяные бани, фильтры из тканей и шерсти, алембики, воронки, ступки с пестиками, сита металлические, волосяные и шелковые и другие приборы и принадлеж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имические операции: плавление тел, декантация, фильтрование, дигерирование (настаивание при повышенной температуре), дистилляцию, сублимацию, амальгамацию, растворение, коагуляцию (сгущени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Вопросы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цептуальные системы хим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стория хим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нергетика как современная научная методолог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Задачи европейской алхимии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21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  Приготовление Эликсира или Философского Камня (Lapis Philosoiphorum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  Создание гомункулус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  Приготовление алкагеста – универсального растворител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  Палигенез, или восстановление растений из пепл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5.  Приготовление мирового духа (spiritus mundi) – магической субстанции, одно из свойств которой – способность растворять золот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6.  Извлечение квинтэссен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7.  Приготовление жидкого золота (aurum potabile), совершеннейшего средства для излеч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795640" y="2707920"/>
            <a:ext cx="288612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4" name="Picture 6" descr="http://luxaur.narod.ru/biblio/2/tr/atal21.gif"/>
          <p:cNvPicPr/>
          <p:nvPr/>
        </p:nvPicPr>
        <p:blipFill>
          <a:blip r:embed="rId1"/>
          <a:stretch/>
        </p:blipFill>
        <p:spPr>
          <a:xfrm>
            <a:off x="5796000" y="2060640"/>
            <a:ext cx="2981160" cy="274320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Европейская алхимия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льберт Великий (1193-1280) «Книга об Алхимии», «Малый Алхимический свод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джер Бэкон (1214-1292) «Зеркало Алхимии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ймонд Луллий (1235-1313) – философский камен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навентура (1121-1274) - «Книге, составленной на основе многих опытов», установил свойство «крепкой водки» (азотной кислоты) растворять серебро, отделяя его от золота. Применял «царскую водку» (раствор нашатыря в «крепкой водке») и заметил её способность растворять золот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ецепт философского камня. Раймунд Луллий, XIII ве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Чтобы приготовить эликсир мудрецов, или философский камень, возьми, сын мой, философской ртути и накаливай, пока она не превратится в зеленого льва. После этого прокаливай сильнее, и она превратится в красного льва. Дигерируй этого красного льва на песчаной бане с кислым виноградным спиртом, выпари жидкость, и ртуть превратится в камедеобразное вещество, которое можно резать ножом. Положи его в обмазанную глиной реторту и не спеша дистиллируй. Собери отдельно жидкости различной природы, которые появятся при этом. Ты получишь безвкусную флегму, спирт и красные капли. Киммерийские тени покроют реторту своим темным покрывалом, и ты найдешь внутри нее истинного дракона, потому что он пожирает свой хвост. Возьми этого черного дракона, разотри на камне и прикоснись к нему раскаленным углем. Он загорится и, приняв вскоре великолепный лимонный цвет, вновь воспроизведет зеленого льва. Сделай так, чтобы он пожрал свой хвост, и снова дистиллируй продукт. Наконец, мой сын, тщательно ректифицируй, и ты увидишь появление горючей воды и человеческой крови...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Результаты алхимического период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копление значительного запаса знаний о веществе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новление эмпирического (опытного) подхода к изучению свойств вещест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лхимиками была разработана ртутно-серная теория (теория трёх принципов), призванная обобщить опытные данны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Техническая химия и ятрохим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аноччо Бирингуччо (1480-1539) "О пиротехнии" и Георг Бауэра (1494-1555), "De Re Metallica". Сочинения посвящённы минералогии, металлургии, горному делу, производству керам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мецкий врач и алхимик Филипп Ауреол Теофраст Бомбаст фон Гогенгейм (Парацельс): «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Химия – один из столпов, на которые должна опираться врачебная наука. Задача химии вовсе не в том, чтобы делать золото и серебро, а в том, чтобы готовить лекарств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». Здоровый организм – равновесие 3 принципов – Ртуть, Сера, Сол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нергетика как наука и научная методолог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393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1" name="Picture 7" descr="Изображение “http://vladimir.socio.msu.ru/3_SYNERGY/SYNERGY_01/03_nonlinear.jpg” не может быть показано, так как содержит ошибки."/>
          <p:cNvPicPr/>
          <p:nvPr/>
        </p:nvPicPr>
        <p:blipFill>
          <a:blip r:embed="rId1"/>
          <a:stretch/>
        </p:blipFill>
        <p:spPr>
          <a:xfrm>
            <a:off x="2843280" y="3933720"/>
            <a:ext cx="3816360" cy="2087640"/>
          </a:xfrm>
          <a:prstGeom prst="rect">
            <a:avLst/>
          </a:prstGeom>
          <a:ln w="0">
            <a:noFill/>
          </a:ln>
        </p:spPr>
      </p:pic>
      <p:sp>
        <p:nvSpPr>
          <p:cNvPr id="29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642920" y="3500280"/>
            <a:ext cx="424836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-360" y="620640"/>
            <a:ext cx="867564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нергетика - теория самоорганизации нелинейных динамических сре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6" name="Picture 7" descr="Изображение “http://vladimir.socio.msu.ru/3_SYNERGY/SYNERGY_01/01_galaxy-001.jpg” не может быть показано, так как содержит ошибки."/>
          <p:cNvPicPr/>
          <p:nvPr/>
        </p:nvPicPr>
        <p:blipFill>
          <a:blip r:embed="rId1"/>
          <a:stretch/>
        </p:blipFill>
        <p:spPr>
          <a:xfrm>
            <a:off x="4859280" y="3789360"/>
            <a:ext cx="3960720" cy="266400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14"/>
          <p:cNvSpPr/>
          <p:nvPr/>
        </p:nvSpPr>
        <p:spPr>
          <a:xfrm>
            <a:off x="391680" y="2076480"/>
            <a:ext cx="882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рвое употребление терми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.Хакен «Кооперативные явления в сильно неравновесных и нефизически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истемах 1973г.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61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мет синергетикии – сложные систем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 сложностью синергетика понимает способность к самоорганизации, усложнению своей пространственно-временной структуры на макроскопическом уровне в силу происходящих на микроуровне изменени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Ключевые идеи синергетик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9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амоорганизация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9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ткрытые системы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9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елинейно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Концепция системы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минирование роли целого над частны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лое больше суммы своих част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истема обладает структурой с определенным расположением и связью ее составных част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истема обладает множеством состояний, соответствующих ее различным свойствам, которые описываются набором параметров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йства системы как целого определяются не только свойствами ее отдельных элементов, но и свойствами структуры системы в цело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истема выделяется из среды своими качествами. Системы бывают открытые и закрыты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ждая система имеет параметры, которые являются для нее основными, или жизненно важными. От них зависит существование систем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Концептуальные системы химии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403848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     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линейность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ундаментальная концепция новой синергетической парадигмы. За нелинейностью стоит представление о возможности очень быстрого развития процессов в системе на определенных стадиях ее эволюци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плавном изменении параметров нелинейной системы ее состояние и свойства могут кардинально меняться скачками и стохастически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0" name="Picture 6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31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13" name="Picture 9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229600" cy="21891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393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рицательная обратная связь призвана создавать устойчивость в системе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цесс действия отрицательной обратной связи: когда некое изменение угрожает изменить заданный уровень, оно подавляетс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17" name="Picture 5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229600" cy="218916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393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ложительная обратная связь призвана не подавлять изменение в системе, а увеличивать его, может реагировать на малое отклонение, или "ввести" изменения в систем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Научные школы синергетик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рюссельская школа лауреата Нобелевской премии И.Р. Пригожкина, разрабатывающего теорию диссипативных структур, раскрывающую исторические предпосылки и мировоззренческие основания теории самоорганизац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кола Г.Хакена, профессора Института синергетики и теоретической физики в Штутгарт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ория катастроф, представленная российским математиком В.И. Арнольдом и французским математиком Р. Тома. Разрабатывается математический аппарат для описания катастрофических процессов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кола академика А.А. Самарского и члена–корр. РАН С.П. Курдюмова. Эта школа выдвинула ряд идей для понимания механизмов возникновения и эволюции относительно устойчивых структур в открытых (нелинейных) средах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. Школа академика Н. Н. Моисеева, разрабатывающего идеи универсального эволюционизма и коэволюции человека и природ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Цель химии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учить вещество с заданными свойств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рактическая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способы управления свойствами вещ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Теоретическая –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явление причин происхождения и обусловленности свойств вещ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Уровни организации веществ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  Субатомные частиц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  Атомы химических элемен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  Молекулы химических веществ как унитарные (единые) систем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  Микро- и макроскопические системы реагирующих молеку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  Мегасистемы (Солнечная система, Галактика и т.п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Факторы, от которых зависит свойство вещества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424240"/>
            <a:ext cx="8229600" cy="37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  Элементарный состав вещест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  Структура молекулы вещества;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  Организация систем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Концептуальные системы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424240"/>
            <a:ext cx="8229600" cy="37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  Учение о состав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  Структурная хим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  Учение о химическом процесс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1.Учение о составе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войства вещества определяются его составом, т.е. тем, из каких элементов и в каком их соотношении образовано данное веществ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ъектом учения о составе является вещество как совокупность атом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2:24:16Z</dcterms:created>
  <dc:creator>Inspiron</dc:creator>
  <dc:description/>
  <dc:language>en-US</dc:language>
  <cp:lastModifiedBy>LEGION</cp:lastModifiedBy>
  <dcterms:modified xsi:type="dcterms:W3CDTF">2015-05-01T11:20:50Z</dcterms:modified>
  <cp:revision>50</cp:revision>
  <dc:subject/>
  <dc:title>Философские проблемы науки и техники</dc:title>
</cp:coreProperties>
</file>