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D240-993F-493E-B9E4-6BE0CF013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608-1DE9-4FE2-9359-9D1A3C4A13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науки и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и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на Алекс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возникновен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-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яя Гре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 - первоначало неразложимые части т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же до первоначал, то они еще больше име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редств для того, чтоб из них возникали различные вещи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 ни одной из вещей, доступных для нашего взора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б она из начал состояла вполне однородных..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воначала вещей уносятся собственным весо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ли толчками других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природе вещ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т Лукреций Кар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1A95-DC34-430F-92CE-0A92F9BB98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ай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и Ин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рево, огонь, земля,  металл,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000 вещей, в том числе -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3AA5-02BB-404A-8C51-882EE04C6C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з Стагиры (384-322 до н. э.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кси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стинного смешивания (в отличие от механическог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6545-2567-49CD-B695-341F8B1FA8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руктур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E297-3B21-4AD4-B0DA-6835931B97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открытие явления изом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"изомерия"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греческого ισοζ μερον) – равной 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A32D-9245-4EC2-B92E-47FB3A5F37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266C-C57B-4FE2-AF34-A542DDDE62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он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50 – 1960 гг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1600-C251-43E8-BFD1-E540078F70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527D-0DD0-44C3-8E7B-006FD36141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алхимический период (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– 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становления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-XV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оличественных законов (атомно-молекулярной теории): 1789 – 1860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лассической химии: 1860 г. – конец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период: с начала XX века по настоящее врем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0EB1-5ED1-4B6B-96CE-CD7C2ABA9A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лександрийская алхим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B414-6C29-4421-B89C-5CC77B4CBF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BF72-88A1-4FB8-999E-4F583F93F7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ександрийская Академи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ана А.Македонским в 332 г.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101A-E7D2-48DF-9941-7E8A526366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первых представителей александрийской ал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зика и мис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трансмутации мет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ывалась на основе теории четырех элементов - стих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FA53-AEA2-45F6-9CF3-07C70F5E4B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и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цилийский астроном Юлиус Матерн Фирмик (336 г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A47B-9192-416A-BE3C-07C796E6CF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зумрудная скрижаль» Герм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его отец, а Луна его мать. Ветер выносил его, а земля выпестовала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1F0A-2A18-46E3-B3A4-9C879C181D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алхимические 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2C07-9687-4030-AC78-3FB404E38A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я греко-римских алхим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очистки золота купелированием – нагреванием руды со свинцом и селитр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нсмутации мет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FA88-013C-4BA0-821A-E70043D47B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метал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ера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горюче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F8BA-94DB-414C-9F57-E2E921331A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бу Бакр Мухаммед ибн Закария Ар-Раз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65 г. – 92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 = неделимые элементы + пустое простр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– вечные, неизменные, обладают определенным разме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, составляющие металлы: ртуть, сера, 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782E-4EC3-4837-8A46-C3C66F608C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нига тайн» Ар-Ра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ь материал алхимии делится на три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ознание ве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ознание прибор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знание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 класса веще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стые (минераль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с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живо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0EAB-56AF-4702-A4DE-FA74CE279F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64A3-2557-4997-B906-5632BA7F0F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современная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3ADF-5323-4AA1-99B3-CA8122048C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европейской алхим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Приготовление Эликсира или Философского Камня (Lapis Philosoiphoru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 Создание гомункул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 Приготовление алкагеста – универсального раствор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 Палигенез, или восстановление растений из пеп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 Извлечение квинтэсс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 Приготовление жидкого золота (aurum potabile), совершеннейшего средства для из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E111-CD6B-4225-B84E-FD2ABE9D1F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Великий (1193-1280) «Книга об Алхимии», «Малый Алхимический св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 Бэкон (1214-1292) «Зеркало Ал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монд Луллий (1235-1313) – философский ка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D8B4-ACAF-4295-BDBF-E30BBB76ED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 философского камня. Раймунд Луллий, XIII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0048-9C7E-49BD-96E0-DEC656F6D8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алхимическ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значительного запаса знаний о вещест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эмпирического (опытного) подхода к изучению свойст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9658-AFD3-4672-A9A0-245B0A062B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ая химия и ятро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Здоровый организм – равновесие 3 принципов – Ртуть, Сера, С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2351-B245-437E-8B14-C286E94CB9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наука и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BD75-DFCA-4DCA-96A2-375021DCBB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- теория самоорганизации нелинейных динамических с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D040-FEAC-442F-9C67-FDDB069F85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синергетикии – сложны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CD4D-E4D7-46FF-AC54-F2E5241E48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идеи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рган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е сис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9107-0A37-42D0-A568-5B5DCF960E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минирование роли целого над частны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ое больше суммы свои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выделяется из среды своими качествами. Системы бывают открытые и закрыт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57C-1FD2-476A-95D2-731B46CC2B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91E8-3E64-4209-AE4D-98CBCC6B70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8F38-4D86-443A-8FFD-1FE17EF65F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обратная связь призвана создавать устойчивость в систем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22C-68A3-4E62-8AB2-9E90E650C2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EB3B-8ACB-4DE9-9034-BBBF47B301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Г.Хакена, профессора Института синергетики и теоретической физики в Штутгар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F4A-018D-42DD-B7E8-149484BCCE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7C86-0447-4283-9533-A2328D4EF3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хими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вещество с заданны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кт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пособы управления свойствам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еоретическа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причин происхождения и обусловленности свойств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4083-DD0E-4B28-B1FF-61759706D5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организаци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Субатомные част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Атомы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Молекулы химических веществ как унитарные (единые)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 Микро- и макроскопические системы реагирующих молеку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 Мегасистемы (Солнечная система, Галактик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95DD-1EF6-40EF-911F-292726A8C6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Элементарный соста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а молекулы вещества;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Организац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BC7C-5A1A-4B3C-8030-EAEB2F4214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Учение о соста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ная хим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Учение о химическом проце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0CCA-2870-4664-96D0-65DD463C09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чение о сост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учения о составе является вещество как совокупность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BDD-B2E3-4D44-A912-DD2ADF6183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D0E-3EE9-4DF8-AE49-F1CF2371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431-1AFE-4CFD-B91C-A0B98699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199-DA6D-4A2F-8B89-281AD5A2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38D-C728-49D3-A103-38627645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0A77-E9B0-4E6F-8C05-2B50C4C4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8875-1964-4FDA-964B-312A052B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A652-0587-4DAC-8EBF-C2B0E27B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9865-FFED-4224-B468-BE264248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FC5-1B09-41A2-962C-59B26C82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9414-1BA3-4298-A1D8-F0606474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C49B-6AAA-4025-9A1D-BD4AC1F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36C-723D-4940-B0FB-58465D9B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B247-291F-44E2-8B5C-CF0F2C5A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74DE-5AAF-4827-A7A4-030AA18B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6896-D801-4781-AA84-680B3282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55BE-7C45-466D-9225-A2716AB1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0977-B364-48D8-9710-570BC7CF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D17-155C-47E9-9A79-54F33A2C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839-1433-4E50-A56C-63C1E711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578-E3BD-4B81-ABBE-9F9BDD5C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105-8003-4288-ABA4-FC7685F1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A25-F21F-4E22-9574-C632261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234-54AD-4719-86C8-311890B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864-22A7-442A-81A7-A381DC0A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4BBB-144C-48FC-9E8C-B36DA0D134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7732-D702-44CB-BF6F-3ABA43AAAF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науки и тех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и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на Алексе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ериод возникновения 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I-V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ревняя Греци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 - первоначало неразложимые части 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 же до первоначал, то они еще больше имеют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едств для того, чтоб из них возникали различные вещи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ет ни одной из вещей, доступных для нашего взора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б она из начал состояла вполне однородных..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оначала вещей уносятся собственным весом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ли толчками других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 природе веще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ит Лукреций Кар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итайская философ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н и И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ево, огонь, земля,  металл,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0 000 вещей, в том числе -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424400"/>
          </a:xfrm>
          <a:prstGeom prst="rect">
            <a:avLst/>
          </a:prstGeom>
          <a:ln w="0">
            <a:noFill/>
          </a:ln>
        </p:spPr>
      </p:pic>
      <p:sp>
        <p:nvSpPr>
          <p:cNvPr id="191" name="Line 9"/>
          <p:cNvSpPr/>
          <p:nvPr/>
        </p:nvSpPr>
        <p:spPr>
          <a:xfrm>
            <a:off x="1332000" y="314172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7040" y="382680"/>
            <a:ext cx="7931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из Стагиры (384-322 до н. э.)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60020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икси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тинного смешивания (в отличие от механического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Элементы Аристотеля: квадрат противоположностей"/>
          <p:cNvPicPr/>
          <p:nvPr/>
        </p:nvPicPr>
        <p:blipFill>
          <a:blip r:embed="rId2"/>
          <a:stretch/>
        </p:blipFill>
        <p:spPr>
          <a:xfrm>
            <a:off x="981000" y="977760"/>
            <a:ext cx="4454640" cy="2581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http://www.tonnel.ru/gzl/249518943_tonnel.gif"/>
          <p:cNvPicPr/>
          <p:nvPr/>
        </p:nvPicPr>
        <p:blipFill>
          <a:blip r:embed="rId3"/>
          <a:stretch/>
        </p:blipFill>
        <p:spPr>
          <a:xfrm>
            <a:off x="6084720" y="836640"/>
            <a:ext cx="2160720" cy="25891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2. Структур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в. – открытие явления изомер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изомерия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т греческого ισοζ μερον) – равной ме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волюцион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50 – 1960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История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тапы развития хим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алхимический период (д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н.э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химический период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– 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становления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-XV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оличественных законов (атомно-молекулярной теории): 1789 – 1860 г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лассической химии: 1860 г. – конец XIX 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й период: с начала XX века по настоящее врем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лхимический пери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ийская алхим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аб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вропей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http://oko-project.ru/index/Azoth.jpg"/>
          <p:cNvPicPr/>
          <p:nvPr/>
        </p:nvPicPr>
        <p:blipFill>
          <a:blip r:embed="rId1"/>
          <a:stretch/>
        </p:blipFill>
        <p:spPr>
          <a:xfrm>
            <a:off x="4572000" y="170028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9440" y="277920"/>
            <a:ext cx="82170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Александрийская Академия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снована А.Македонским в 332 г. до н.э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первых представителей александрийской ал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Физика и мистик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улирована идея трансмутации мет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сновывалась на основе теории четырех элементов - стих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Химия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цилийский астроном Юлиус Матерн Фирмик (336 г.н.э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Изумрудная скрижаль» Герме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II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V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це его отец, а Луна его мать. Ветер выносил его, а земля выпестовала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жнейшие алхимические зна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7" name="Picture 12" descr="Moon_symbol_crescent-1"/>
          <p:cNvPicPr/>
          <p:nvPr/>
        </p:nvPicPr>
        <p:blipFill>
          <a:blip r:embed="rId1"/>
          <a:stretch/>
        </p:blipFill>
        <p:spPr>
          <a:xfrm>
            <a:off x="684360" y="1268280"/>
            <a:ext cx="38088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ercury_symbol-1"/>
          <p:cNvPicPr/>
          <p:nvPr/>
        </p:nvPicPr>
        <p:blipFill>
          <a:blip r:embed="rId2"/>
          <a:stretch/>
        </p:blipFill>
        <p:spPr>
          <a:xfrm>
            <a:off x="684360" y="2136600"/>
            <a:ext cx="380880" cy="570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Venus_symbol-1"/>
          <p:cNvPicPr/>
          <p:nvPr/>
        </p:nvPicPr>
        <p:blipFill>
          <a:blip r:embed="rId3"/>
          <a:stretch/>
        </p:blipFill>
        <p:spPr>
          <a:xfrm>
            <a:off x="684360" y="2921040"/>
            <a:ext cx="380880" cy="58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1332000" y="1413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ебро, Луна, понедель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22" descr="Sun_symbol-1"/>
          <p:cNvPicPr/>
          <p:nvPr/>
        </p:nvPicPr>
        <p:blipFill>
          <a:blip r:embed="rId4"/>
          <a:stretch/>
        </p:blipFill>
        <p:spPr>
          <a:xfrm>
            <a:off x="684360" y="3646440"/>
            <a:ext cx="380880" cy="57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5" descr="Mars_symbol-1"/>
          <p:cNvPicPr/>
          <p:nvPr/>
        </p:nvPicPr>
        <p:blipFill>
          <a:blip r:embed="rId5"/>
          <a:stretch/>
        </p:blipFill>
        <p:spPr>
          <a:xfrm>
            <a:off x="684360" y="4292640"/>
            <a:ext cx="380880" cy="5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Jupiter_symbol-1"/>
          <p:cNvPicPr/>
          <p:nvPr/>
        </p:nvPicPr>
        <p:blipFill>
          <a:blip r:embed="rId6"/>
          <a:stretch/>
        </p:blipFill>
        <p:spPr>
          <a:xfrm>
            <a:off x="684360" y="4797360"/>
            <a:ext cx="380880" cy="649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7" descr="Saturn_symbol-1"/>
          <p:cNvPicPr/>
          <p:nvPr/>
        </p:nvPicPr>
        <p:blipFill>
          <a:blip r:embed="rId7"/>
          <a:stretch/>
        </p:blipFill>
        <p:spPr>
          <a:xfrm>
            <a:off x="684360" y="5300640"/>
            <a:ext cx="38088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Alchemy_transmutation_symbol-2"/>
          <p:cNvPicPr/>
          <p:nvPr/>
        </p:nvPicPr>
        <p:blipFill>
          <a:blip r:embed="rId8"/>
          <a:stretch/>
        </p:blipFill>
        <p:spPr>
          <a:xfrm>
            <a:off x="684360" y="5877000"/>
            <a:ext cx="341280" cy="525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9"/>
          <p:cNvSpPr/>
          <p:nvPr/>
        </p:nvSpPr>
        <p:spPr>
          <a:xfrm>
            <a:off x="1258200" y="227664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туть, Меркурий, среда, философская рту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260360" y="29973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ь, Венера, пятн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187280" y="3716280"/>
            <a:ext cx="33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, Солнце, воскресен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332720" y="436572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о, Марс, втор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60000" y="49417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лово, Юпитер, четве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240560" y="53211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инец, Сатурн, субб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1095480" y="59691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е делание, трансмут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остижения греко-римских алхими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очистки золота купелированием – нагреванием руды со свинцом и селитр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улирована иде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ансмутации мет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рабская ал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металлич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ера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горюче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4" descr="Merc_Sulf"/>
          <p:cNvPicPr/>
          <p:nvPr/>
        </p:nvPicPr>
        <p:blipFill>
          <a:blip r:embed="rId1"/>
          <a:stretch/>
        </p:blipFill>
        <p:spPr>
          <a:xfrm>
            <a:off x="1476360" y="5300640"/>
            <a:ext cx="619128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Абу Бакр Мухаммед ибн Закария Ар-Рази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865 г. – 925 г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ь = неделимые элементы + пустое простран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 – вечные, неизменные, обладают определенным раз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, составляющие металлы: ртуть, сера, с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3467160" cy="39942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Книга тайн» Ар-Раз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ь материал алхимии делится на три раздел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Познание вещест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Познание прибор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ние опера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 класса вещест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истые (минеральные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Растите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живо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птуальные системы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современная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европейской алхим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1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  Приготовление Эликсира или Философского Камня (Lapis Philosoiphoru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  Создание гомункулу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  Приготовление алкагеста – универсального растворите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  Палигенез, или восстановление растений из пеп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  Извлечение квинтэссен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  Приготовление жидкого золота (aurum potabile), совершеннейшего средства для изле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95640" y="2707920"/>
            <a:ext cx="28861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6" descr="http://luxaur.narod.ru/biblio/2/tr/atal21.gif"/>
          <p:cNvPicPr/>
          <p:nvPr/>
        </p:nvPicPr>
        <p:blipFill>
          <a:blip r:embed="rId1"/>
          <a:stretch/>
        </p:blipFill>
        <p:spPr>
          <a:xfrm>
            <a:off x="5796000" y="2060640"/>
            <a:ext cx="2981160" cy="27432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вропейская алхим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ьберт Великий (1193-1280) «Книга об Алхимии», «Малый Алхимический сво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жер Бэкон (1214-1292) «Зеркало Алхими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ймонд Луллий (1235-1313) – философский кам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 философского камня. Раймунд Луллий, XIII 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езультаты алхимического период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копление значительного запаса знаний о веществ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эмпирического (опытного) подхода к изучению свойст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хническая химия и ятрохим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Здоровый организм – равновесие 3 принципов – Ртуть, Сера, С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наука и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7" descr="Изображение “http://vladimir.socio.msu.ru/3_SYNERGY/SYNERGY_01/03_nonlinear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2843280" y="3933720"/>
            <a:ext cx="3816360" cy="208764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2920" y="3500280"/>
            <a:ext cx="424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- теория самоорганизации нелинейных динамических с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7" descr="Изображение “http://vladimir.socio.msu.ru/3_SYNERGY/SYNERGY_01/01_galaxy-001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4859280" y="3789360"/>
            <a:ext cx="3960720" cy="2664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4"/>
          <p:cNvSpPr/>
          <p:nvPr/>
        </p:nvSpPr>
        <p:spPr>
          <a:xfrm>
            <a:off x="391680" y="2076480"/>
            <a:ext cx="88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е употребление тер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Хакен «Кооперативные явления в сильно неравновесных и нефизическ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х 1973г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синергетикии – сложные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ючевые идеи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организац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ые систем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ция систем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инирование роли целого над част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ое больше суммы свои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выделяется из среды своими качествами. Системы бывают открытые и закрыт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онцептуальные системы хим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 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ая обратная связь призвана создавать устойчивость в систем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е школы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Г.Хакена, профессора Института синергетики и теоретической физики в Штутг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ь химии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ь вещество с заданными свойств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актическ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пособы управления свойствами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еоретическая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причин происхождения и обусловленности свойств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ровни организации вещест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Субатомные час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Атомы химических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Молекулы химических веществ как унитарные (единые)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 Микро- и макроскопические системы реагирующих молеку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 Мегасистемы (Солнечная система, Галактика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Элементарный соста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а молекулы вещества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Организация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туальные сист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Учение о соста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ная хим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Учение о химическом проце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1.Учение о состав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учения о составе является вещество как совокупность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24:16Z</dcterms:created>
  <dc:creator>Inspiron</dc:creator>
  <dc:description/>
  <dc:language>en-US</dc:language>
  <cp:lastModifiedBy>LEGION</cp:lastModifiedBy>
  <dcterms:modified xsi:type="dcterms:W3CDTF">2015-05-01T11:20:50Z</dcterms:modified>
  <cp:revision>50</cp:revision>
  <dc:subject/>
  <dc:title>Философские проблемы науки и техники</dc:title>
</cp:coreProperties>
</file>