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BF1D-0304-4784-8C18-52B23A4829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2" Type="http://schemas.openxmlformats.org/officeDocument/2006/relationships/hyperlink" Target="http://ru.wikipedia.org/wiki/&#1042;&#1077;&#1097;&#1077;&#1089;&#1090;&#1074;&#1086;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личество вещества, число Авогадро, молярная масса, молярный объём, уравнени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цапкина  Людмила  Василье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химии ГБОУ гимназии 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вского района Санкт-Петербур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4405-DF1C-4944-B9DB-FDC588D099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Уравнение 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7D77-8798-41B4-A001-006434BA42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 (закреп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число молекул в 2 молях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массу 3 моль углекислого газа (СО2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ссчитайте массу 112 л водорода (н.у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яжелее: 2 моль СО2 или 2 моль СаО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дите количество вещества серной кислоты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H2SO4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ссой 4,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ой объем займет сернистый газ (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O2)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масса которого равна 3,2 г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4EB9-D2E9-4B5D-BACE-1E3260061D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ом вещества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C5B5-0836-4883-B4BA-27143ED648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изическая величин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ве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атомы, молекулы, ионы  или любые другие частицы). Единицей измерения количества вещества в СИ служит  моль. Нужно знать, что моль содержит столько же структурных частиц, сколько содержится атомов в 12г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14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14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E29B-9D5D-4625-A858-CB520DDB53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ярная  м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масса одного моля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/мол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лярная масса численно равна молекулярной м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 отсюд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68CA-F993-4FFB-924A-EC8A1432AF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Закон объем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яя объемы, и объемы газов, в результате реакци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Л. Гей-Люсс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закон газовых (объемных) 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3D2D-3109-4CB0-BAA2-7FFE983857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Н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F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12FD-6BFF-4C7C-BBE3-2D9780DD69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C4A3-BCC0-41CA-9FF9-AB4BE0E516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ледствия (для газ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н.у. 1 моль любого газа занимает      объе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2,4 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6DFB-7940-4FE4-986E-51A6FA4B50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B70-8B11-4BAF-8DF6-07C5B3BA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40B-4DEA-4D68-B5B8-7FC8134A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024-4AA9-4853-A5D1-6CEE6465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366-090C-4EAB-9393-ABC839EF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C13-AF2C-469C-A4D1-EEC91736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14BE-087B-49BA-84C3-2B847641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2F7-B1D5-41E0-8365-F4AB372C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1FE-534B-4EDF-A48C-9944E9AB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B87-7848-4088-82ED-CF401A64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E79-BB9C-49D7-8173-1072BBC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3F0-35EA-4C17-B2DE-EB9DD2C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525-7061-418B-A66C-B8C3132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9520-5E03-47AB-BCDB-E9E6ECF4CA3E}" type="datetime">
              <a:rPr b="0" lang="ru-RU" sz="1200" spc="-1" strike="noStrike">
                <a:solidFill>
                  <a:srgbClr val="898989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1847-EA03-460E-8B66-7957F48EB42A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0;&#1080;&#1079;&#1080;&#1095;&#1077;&#1089;&#1082;&#1072;&#1103;_&#1074;&#1077;&#1083;&#1080;&#1095;&#1080;&#1085;&#1072;" TargetMode="External"/><Relationship Id="rId3" Type="http://schemas.openxmlformats.org/officeDocument/2006/relationships/hyperlink" Target="http://ru.wikipedia.org/wiki/&#1042;&#1077;&#1097;&#1077;&#1089;&#1090;&#1074;&#1086;" TargetMode="External"/><Relationship Id="rId4" Type="http://schemas.openxmlformats.org/officeDocument/2006/relationships/hyperlink" Target="http://ru.wikipedia.org/wiki/&#1040;&#1090;&#1086;&#1084;" TargetMode="External"/><Relationship Id="rId5" Type="http://schemas.openxmlformats.org/officeDocument/2006/relationships/hyperlink" Target="http://ru.wikipedia.org/wiki/&#1052;&#1086;&#1083;&#1077;&#1082;&#1091;&#1083;&#1072;" TargetMode="External"/><Relationship Id="rId6" Type="http://schemas.openxmlformats.org/officeDocument/2006/relationships/hyperlink" Target="http://ru.wikipedia.org/wiki/&#1048;&#1086;&#1085;" TargetMode="External"/><Relationship Id="rId7" Type="http://schemas.openxmlformats.org/officeDocument/2006/relationships/hyperlink" Target="http://ru.wikipedia.org/wiki/&#1045;&#1076;&#1080;&#1085;&#1080;&#1094;&#1072;_&#1080;&#1079;&#1084;&#1077;&#1088;&#1077;&#1085;&#1080;&#1103;" TargetMode="External"/><Relationship Id="rId8" Type="http://schemas.openxmlformats.org/officeDocument/2006/relationships/hyperlink" Target="http://ru.wikipedia.org/wiki/&#1057;&#1048;" TargetMode="External"/><Relationship Id="rId9" Type="http://schemas.openxmlformats.org/officeDocument/2006/relationships/hyperlink" Target="http://ru.wikipedia.org/wiki/&#1052;&#1086;&#1083;&#1100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1d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501040" cy="27147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Количество вещества, число Авогадро, молярная масса, молярный объём, уравнение связ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99800" y="4214520"/>
            <a:ext cx="6572520" cy="1785960"/>
          </a:xfrm>
          <a:prstGeom prst="rect">
            <a:avLst/>
          </a:prstGeom>
          <a:gradFill rotWithShape="0">
            <a:gsLst>
              <a:gs pos="0">
                <a:srgbClr val="f1edf7"/>
              </a:gs>
              <a:gs pos="100000">
                <a:srgbClr val="d3c9e4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уцапкина  Людмила  Васильев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читель химии ГБОУ гимназии 34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в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785880" y="1143000"/>
            <a:ext cx="6653160" cy="49798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113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000160" y="9302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Calibri"/>
              </a:rPr>
              <a:t>Уравнение 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1" descr="n = \frac{m}{M} = \frac{N}{N_A} = \frac{V}{V_m}"/>
          <p:cNvPicPr/>
          <p:nvPr/>
        </p:nvPicPr>
        <p:blipFill>
          <a:blip r:embed="rId2"/>
          <a:stretch/>
        </p:blipFill>
        <p:spPr>
          <a:xfrm>
            <a:off x="1071720" y="2214720"/>
            <a:ext cx="6000480" cy="2071440"/>
          </a:xfrm>
          <a:prstGeom prst="rect">
            <a:avLst/>
          </a:prstGeom>
          <a:ln w="9360">
            <a:solidFill>
              <a:srgbClr val="7030a0"/>
            </a:solidFill>
            <a:miter/>
          </a:ln>
          <a:effectLst>
            <a:outerShdw dist="24840" dir="5400000" blurRad="0" rotWithShape="0">
              <a:srgbClr val="472e66">
                <a:alpha val="38000"/>
              </a:srgbClr>
            </a:outerShdw>
          </a:effectLst>
        </p:spPr>
      </p:pic>
      <p:sp>
        <p:nvSpPr>
          <p:cNvPr id="116" name="TextBox 21"/>
          <p:cNvSpPr/>
          <p:nvPr/>
        </p:nvSpPr>
        <p:spPr>
          <a:xfrm>
            <a:off x="1214280" y="485784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-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веществ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(мо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4"/>
          <p:cNvSpPr/>
          <p:nvPr/>
        </p:nvSpPr>
        <p:spPr>
          <a:xfrm>
            <a:off x="5434560" y="3500280"/>
            <a:ext cx="21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000080" y="1357200"/>
            <a:ext cx="657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и  (закрепл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число молекул в 2 молях вод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массу 3 моль углекислого газа (СО2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читайте массу 112 л водорода (н.у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яжелее: 2 моль СО2 или 2 моль Са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дите количество вещества серной кислоты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2SO4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ссой 4,9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 объем займет сернистый газ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2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масса которого равна 3,2 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1214280" y="1571760"/>
            <a:ext cx="6286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уществует физическая величина, прямо пропорциональная числу частиц, составляющих данное вещество и входящих во взятую порцию этого вещества, которую называют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количеством вещества (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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5"/>
          <p:cNvSpPr/>
          <p:nvPr/>
        </p:nvSpPr>
        <p:spPr>
          <a:xfrm>
            <a:off x="714240" y="1214280"/>
            <a:ext cx="70009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изическая велич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ющая количество однотипных структурных единиц, которые содержатся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ве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д структурными единицами понимаются любые частицы, из которых состоит вещество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то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молеку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и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ли любые другие частицы).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Единицей измер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а вещества в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лужит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мо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ужно знать, что моль содержит столько же структурных частиц, сколько содержится атомов в 12г угле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Число Авогадро (</a:t>
            </a:r>
            <a:r>
              <a:rPr b="0" i="1" lang="pl-PL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l-PL" sz="2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=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6,02*10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23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 моль</a:t>
            </a:r>
            <a:r>
              <a:rPr b="0" lang="pl-PL" sz="2800" spc="-1" strike="noStrike" baseline="30000">
                <a:solidFill>
                  <a:srgbClr val="ff0000"/>
                </a:solidFill>
                <a:latin typeface="Arial"/>
              </a:rPr>
              <a:t>−1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000160" y="1143000"/>
            <a:ext cx="542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Молярная  м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571680" y="2214720"/>
            <a:ext cx="70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это масса одного моля веществ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=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/моль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(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молярная масса численно равна молекулярной масс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,  отсюда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714240" y="4286160"/>
                <a:ext cx="1714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4786200" y="4429080"/>
                <a:ext cx="2643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1440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0"/>
          <p:cNvSpPr/>
          <p:nvPr/>
        </p:nvSpPr>
        <p:spPr>
          <a:xfrm>
            <a:off x="5286240" y="5786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gaylussac"/>
          <p:cNvPicPr/>
          <p:nvPr/>
        </p:nvPicPr>
        <p:blipFill>
          <a:blip r:embed="rId2"/>
          <a:stretch/>
        </p:blipFill>
        <p:spPr>
          <a:xfrm>
            <a:off x="857160" y="178596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Закон объемных отношени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Прямоугольник 14"/>
          <p:cNvSpPr/>
          <p:nvPr/>
        </p:nvSpPr>
        <p:spPr>
          <a:xfrm>
            <a:off x="3786120" y="107172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меряя объемы, и объемы газов, в результате реакции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крыл закон газовых (объемных) отно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5"/>
          <p:cNvSpPr/>
          <p:nvPr/>
        </p:nvSpPr>
        <p:spPr>
          <a:xfrm>
            <a:off x="285840" y="528624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.Л. Гей-Люс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571920" y="3786120"/>
            <a:ext cx="50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При постоянном давлении и температуре объемы вступающих в реакцию газов  относятся друг к другу как небольшие простые целые числ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7162920" cy="3002040"/>
        </p:xfrm>
        <a:graphic>
          <a:graphicData uri="http://schemas.openxmlformats.org/drawingml/2006/table">
            <a:tbl>
              <a:tblPr/>
              <a:tblGrid>
                <a:gridCol w="3284640"/>
                <a:gridCol w="387828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O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2714760" y="1143000"/>
            <a:ext cx="38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5880" y="2214720"/>
          <a:ext cx="7000920" cy="3643200"/>
        </p:xfrm>
        <a:graphic>
          <a:graphicData uri="http://schemas.openxmlformats.org/drawingml/2006/table">
            <a:tbl>
              <a:tblPr/>
              <a:tblGrid>
                <a:gridCol w="3209760"/>
                <a:gridCol w="3791160"/>
              </a:tblGrid>
              <a:tr h="1236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ческая    реа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объемов газ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0" lang="ru-RU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+3H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:1: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+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</a:t>
                      </a:r>
                      <a:r>
                        <a:rPr b="1" lang="en-US" sz="2800" spc="-1" strike="noStrike" baseline="-30000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C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: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71760" y="856800"/>
            <a:ext cx="640080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98989"/>
              </a:solidFill>
              <a:latin typeface="Arial Black"/>
            </a:endParaRPr>
          </a:p>
        </p:txBody>
      </p:sp>
      <p:pic>
        <p:nvPicPr>
          <p:cNvPr id="85" name="Рисунок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Закон объёмных отношений позволил итальянскому учёному А. Авогадр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едположить,  что молекул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простых газов состоя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из двух одинаковых атом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(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6" descr="C:\Users\User\Desktop\nitrogeno_-molecular-.jpg"/>
          <p:cNvPicPr/>
          <p:nvPr/>
        </p:nvPicPr>
        <p:blipFill>
          <a:blip r:embed="rId2"/>
          <a:stretch/>
        </p:blipFill>
        <p:spPr>
          <a:xfrm>
            <a:off x="5786280" y="5143680"/>
            <a:ext cx="1428840" cy="1250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42960" y="3500280"/>
            <a:ext cx="7143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го лишь восемь элементов в природе существуют в виде двухатомных молекул: 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е галогены: F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C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I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; At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857160" y="5460840"/>
            <a:ext cx="47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лекула азота имеет такой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" name="Picture 6" descr="gaylussac"/>
          <p:cNvPicPr/>
          <p:nvPr/>
        </p:nvPicPr>
        <p:blipFill>
          <a:blip r:embed="rId1"/>
          <a:stretch/>
        </p:blipFill>
        <p:spPr>
          <a:xfrm>
            <a:off x="838080" y="167652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499896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3" descr="bac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vogadro"/>
          <p:cNvPicPr/>
          <p:nvPr/>
        </p:nvPicPr>
        <p:blipFill>
          <a:blip r:embed="rId3"/>
          <a:stretch/>
        </p:blipFill>
        <p:spPr>
          <a:xfrm>
            <a:off x="1500120" y="1000080"/>
            <a:ext cx="3848040" cy="3643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7"/>
          <p:cNvSpPr/>
          <p:nvPr/>
        </p:nvSpPr>
        <p:spPr>
          <a:xfrm>
            <a:off x="5214960" y="2286000"/>
            <a:ext cx="2286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.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8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71680" y="4714920"/>
            <a:ext cx="75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льянский ученый Амадео Авогадро сформулировал закон (для газов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содержится одинаковое число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Содержимое 3" descr="bac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1714680" y="10000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едствия (для г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642960" y="1500120"/>
            <a:ext cx="7072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тношение массы определённого объёма одного газа к массе такого же объёма другого газа, взятого при тех же условиях, называется плотностью первого газа по втор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дно и то же число молекул различных газов при одинаковых условиях занимает одинаковые объ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При н.у. 1 моль любого газа занимает      объем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Documents and Settings\Кирилл\Рабочий стол\Мама\z26_2.gif"/>
          <p:cNvPicPr/>
          <p:nvPr/>
        </p:nvPicPr>
        <p:blipFill>
          <a:blip r:embed="rId2"/>
          <a:stretch/>
        </p:blipFill>
        <p:spPr>
          <a:xfrm>
            <a:off x="5500800" y="3071880"/>
            <a:ext cx="1714320" cy="928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30:29Z</dcterms:created>
  <dc:creator>Кирилл</dc:creator>
  <dc:description/>
  <dc:language>en-US</dc:language>
  <cp:lastModifiedBy>LEGION</cp:lastModifiedBy>
  <dcterms:modified xsi:type="dcterms:W3CDTF">2015-05-01T11:23:01Z</dcterms:modified>
  <cp:revision>166</cp:revision>
  <dc:subject/>
  <dc:title>Количество вещества, число Авогадро, молярная масса, молярный объём, уравнение связи</dc:title>
</cp:coreProperties>
</file>