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86A6-6DB5-41DF-9EFC-ACCC6DBF0D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Предмет химии. Вещества и их физиче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6112-32AB-4EFB-A79B-507D5E1434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тел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07AE-47E5-498C-A8B9-A2BDB9AA9F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DC3-C7B3-445B-835D-B20DEB1D49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, задания 1-4 (письменно), подготовиться к практической работе №1 (стр. 193-1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FC2C-E891-460F-B842-B7CFB1E748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мифологическое мыш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 становление научного знания (древнегреческая натур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4425-5076-46A5-9FB3-85D1810097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ксимен (585-521 гг. до н.э.) –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едокл (490-430 гг. до н.э.) – 4 стихии (огонь, вода, воздух, земля) и 2 силы (любовь и враж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DB84-1D43-41C9-BBD9-EF70666DCE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 эпоха алхими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до н.э.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F51E-EAF4-4CF9-9206-6F60203A17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– последователь Ф. Бекона. Опроверг теорию Аристо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уан Лавуазье к конц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0016-8362-418C-81E4-9AFA975C4A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щество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ве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пич, пищевая сод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A0D2-616F-491B-A6C3-47C1E29663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ряду расположены только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варенная соль, сахар, све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да, железо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Медь, гвоздь, кисл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ирпич, медная монета, керамический ста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FDD0-C17F-4F46-B66D-C0A6C2142D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ие свойства веще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н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а плавления и кип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040B-6505-4B81-A7A3-11B2BADB5A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еречня признаков (свойств) выпишите те, которые относятся к вещества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009B-037B-48FE-97C4-488AEDA0CB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99C-D029-48B1-8074-F02CC715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EDA-09B5-4355-A805-FB8EC557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2EF-BAD1-4AEE-98B6-20C1D988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81A-9AA6-4C9C-9701-63F69774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3983-5415-4275-BAAF-E68E04D9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8618-E8A1-4716-A906-C705EFC9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5BC-CA28-4B4F-BD17-2EE0EFE4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85E5-880C-4878-B791-012345C0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B53F-4A2B-45C9-B3FA-CB27101E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E759-75F7-4E2E-9CA8-8DFE4F33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E181-A391-4141-AE6E-89C18584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49C-E4CA-4829-8B27-40E65F34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F2AF-DD71-4165-AED0-397A002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E331-8982-4432-8C53-9684947F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2D35-0F8F-47F0-95B2-1F92358F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BF73-B892-4577-8040-AB68638A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598B-8CA9-4638-A3C1-3694C423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84E-1334-4230-909C-C2370F52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9E8-7E50-45FE-83CB-84B6D2AC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F76-7757-4928-9AB3-BF223490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351-443E-4F8C-9624-73482681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291-3212-406E-A5C1-DD2E52CA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24F-C2F3-4D7E-8E6F-5750BCA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BCB-3D0B-4BA4-B34D-88B0719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798C-CEFB-4BA3-B54F-108C36A2C7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6528-BA25-4DF4-93E3-5527C15CA2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Предмет химии. Вещества и их физические свой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435640" y="6093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химии: Шохина К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тел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плопроводный, мягкий, круглый, плоский, бесцветный, деревянный, нерастворимый, прозрачный, газообразный, твердый, кристаллический, длинный, тяжелый, овальный, растворимый, квадратный, жел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имия – это наука о веществах, их строении, свойствах, превращениях и явлениях, которыми сопровождаются эти прев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1, задания 1-4 (письменно), подготовиться к практической работе №1 (стр. 193-1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рия хим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этап – мифологическое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этап – становление научного знания (древнегреческая натурфилософ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аклит: «Мир единый из всего, не созданный никем из богов и никем из людей, представляет собой вечный огонь, закономерно возгорающий и закономерно затуха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ксимен (585-521 гг. до н.э.) – 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педокл (490-430 гг. до н.э.) – 4 стихии (огонь, вода, воздух, земля) и 2 силы (любовь и вражд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истотель (384-322 гг. до н.э.) – единство противоположностей начал: сухость и влажность, тепло и холод. Сочетаясь между собой эти начала образуют 4 стихии Эмпедок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этап – эпоха алхимии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до н.э. п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 н.э.). Поиски философского камня, получение различных веществ, развитие ремесел (выделка кожи, отбеливание тканей, консервирование продуктов, выплавка метал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енсис Бекон (1561-1626) – английский философ. Главным методом исследования химии должен быть ЭКСПЕРИ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берт Бойль – последователь Ф. Бекона. Опроверг теорию Аристо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уан Лавуазье к конц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Завершил т.н. «химическую революцию». С этого времени химию стали считать наукой о получении и свойствах простых и сложны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щество – это то, из чего состоят физические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ве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рпич, пищевая сод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ряду расположены только те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оваренная соль, сахар, све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Вода, железо, с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Медь, гвоздь,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ирпич, медная монета, керамический ста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выпишите названия веществ: гвоздь, стакан, графит, линейка, алюминий, железо, воронка, крахмал, уксусная кислота, глюко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Физические свойства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грегатн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плавления и кип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перечня признаков (свойств) выпишите те, которые относятся к вещества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имый, круглый, легкий, кристаллический, выпуклый, газообразный, твердый, плоский, зеленый, электропроводный, овальный, хрупкий, стеклянный, жид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08:35:07Z</dcterms:created>
  <dc:creator>Пользователь</dc:creator>
  <dc:description/>
  <dc:language>en-US</dc:language>
  <cp:lastModifiedBy>LEGION</cp:lastModifiedBy>
  <dcterms:modified xsi:type="dcterms:W3CDTF">2015-05-01T11:25:50Z</dcterms:modified>
  <cp:revision>8</cp:revision>
  <dc:subject/>
  <dc:title>Тема: Предмет химии</dc:title>
</cp:coreProperties>
</file>