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3736-CA55-435C-A32A-21D685F978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Предмет химии. Вещества и их физиче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5AB4-4AAD-4B18-819E-19A0F3ADE2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тел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042D-14E3-4A8F-8834-41D5A7AAEB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903D-5F76-4FEA-834A-97683B6BDA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, задания 1-4 (письменно), подготовиться к практической работе №1 (стр. 193-19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35CD-92A3-43F6-9A21-A0E8CB1DB8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мифологическое мыш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 становление научного знания (древнегреческая натур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D854-4875-476C-B11F-43A9712DFD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ксимен (585-521 гг. до н.э.) –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едокл (490-430 гг. до н.э.) – 4 стихии (огонь, вода, воздух, земля) и 2 силы (любовь и враж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FFB7-4F73-4D6D-841A-9FE431C7BE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 эпоха алхими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до н.э. п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6A54-7849-4148-87D7-0B80024CD4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– последователь Ф. Бекона. Опроверг теорию Аристо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уан Лавуазье к конц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88C8-1416-4689-95A4-4CC0DACDF7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щество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ве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пич, пищевая сод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B7B9-1E85-4554-8D7F-5FECA3465B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ирпич, медная монет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9408-8D0C-4B1B-9390-CF10468F0F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ие свойства веще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н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а плавления и кип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DCB2-ABE6-4295-8BA9-3F760FAF73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веществ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54A5-4D56-460E-997D-F01DA016E5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361-F3F7-4F43-8D62-EF61BE05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30F-077B-4C27-AF78-68CD5B04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A8CD-B73D-4C44-AEB2-CB6C493E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0DF-4E4E-4BD6-9B5B-80CA70B6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9036-EA23-4ADE-8923-C984AF17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6BFA-7762-4BA6-9C87-0A8D6632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B313-C221-4E64-AC47-3F5A3070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DA9E-B930-495D-AB85-7765258B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382D-1552-4085-B804-B6ED2F46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9404-2EB8-442F-BD27-E49A9C30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2250-1315-44E3-98C8-402DB4A5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012-08F2-47A7-8E59-85E45ACB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18D0-C427-4C57-998B-69D606B0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B178-8C80-4F5F-96CD-15A17CB0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63BC-C8CC-4E83-BC22-6133F68E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A5A1-8022-40BD-A8CB-9590767C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9B75-69C9-4B4B-B7BD-EA82C83D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9B9-12B2-4E50-9926-CAA9D4F7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918-BD6C-4DB8-B066-27671273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D1B-9D90-41B5-866E-EA211E41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FD1-CD82-4EB4-B5B3-E3A900EC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FE4-1E70-400E-B461-9BFF5D80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EF57-C293-4059-AEF1-2E3A3B11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F14-5EE2-4E0A-ABF8-A02F0B10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FED2-0864-4BD0-9669-2A24A0B74F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D4A8-9BB9-4E35-809E-9CCCCAE64B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ма: Предмет химии. Вещества и их физические свойств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435640" y="6093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химии: Шохина К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тел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1, задания 1-4 (письменно), подготовиться к практической работе №1 (стр. 193-1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тория хим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этап – мифологическое мыш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этап – становление научного знания (древнегреческая натурфилософ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ксимен (585-521 гг. до н.э.) – 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педокл (490-430 гг. до н.э.) – 4 стихии (огонь, вода, воздух, земля) и 2 силы (любовь и вражд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этап – эпоха алхимии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до н.э. п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берт Бойль – последователь Ф. Бекона. Опроверг теорию Аристо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уан Лавуазье к конц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ещество – это то, из чего состоят физические т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веще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рпич, пищевая сод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те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Кирпич, медная монет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Физические свойства вещест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грегатн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ература плавления и кип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провод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веществ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08:35:07Z</dcterms:created>
  <dc:creator>Пользователь</dc:creator>
  <dc:description/>
  <dc:language>en-US</dc:language>
  <cp:lastModifiedBy>LEGION</cp:lastModifiedBy>
  <dcterms:modified xsi:type="dcterms:W3CDTF">2015-05-01T11:25:50Z</dcterms:modified>
  <cp:revision>8</cp:revision>
  <dc:subject/>
  <dc:title>Тема: Предмет химии</dc:title>
</cp:coreProperties>
</file>