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3137-88B7-4B53-9BF8-86BA6AB301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Предмет химии. Вещества и их физиче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77F9-341A-43A5-B33A-B545B61072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тел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FF9F-94DA-4E03-9B88-A4465289A6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CF04-6CC4-4F91-B456-64B94DA1BD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, задания 1-4 (письменно), подготовиться к практической работе №1 (стр. 193-1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72D5-A277-48F7-BBA6-9FF47DCAE4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мифологическое мыш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становление научного знания (древнегреческая натур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EBEB-73C7-48F1-8161-F7312A8AC4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ксимен (585-521 гг. до н.э.) –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едокл (490-430 гг. до н.э.) – 4 стихии (огонь, вода, воздух, земля) и 2 силы (любовь и враж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BAEB-7401-45D9-BC2B-FDFCBF8E99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эпоха алхими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до н.э.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4697-B2F4-463C-9D16-40CD6E9767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– последователь Ф. Бекона. Опроверг теорию Аристо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уан Лавуазье к конц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A893-D54B-41B4-8987-019650FE96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щество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ве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пич, пищевая сод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7110-9D1B-414E-8C17-08026CF04D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ирпич, медная монет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CA5C-39D8-4DFA-84A5-B9EC62044E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ие свойства вещ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н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а плавления и кип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9CF7-0786-42BC-9A15-71D7AB5572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веществ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F425-CCFC-4C20-AB69-0ADA29192C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6B3-CA5F-45E4-A40F-C942FED9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0FC-EBA2-49D1-8D1B-D9649877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68F-43FB-4FE7-BFF2-728A2A0E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0C9-A83D-4AFE-9EA3-5239566C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51F0-0121-43B4-BAAD-3D673698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C262-7AEB-431B-B3FB-40776EDE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D9C7-8130-41BD-9DBF-484A46A1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0E66-0B78-4E52-8841-720F8D51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749D-C3F2-4D57-8738-75FDECE2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B37A-D629-43E4-A47D-3050927A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579C-C1A7-44D6-B9FA-4AB1CCFF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B90-6F66-4F60-A88E-67E635E4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5669-C450-43F7-B993-EA870F5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1DFB-93B3-4B9C-A931-A49F5552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5E97-E1A6-4E30-9B64-2ED820E1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FA0E-C2D7-4932-AF1C-5C70228D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5B39-0E4B-4D49-9383-0F58C989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A2F-7FFB-4FB5-B9F7-C5DE8691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601-852D-4E04-BAFD-63BCEC8F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F85-37A6-455E-BF5E-EFF579C9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4A2-3E5E-4BDC-9DBC-8FC96CBD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CC3-2463-4667-900A-76F10384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921-383C-48A6-8831-41F3A4C2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69A-712A-46B5-AF64-23D9E5D8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6325-2DB5-48C8-937A-75B5687E15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B8B7-C96D-4B97-87C5-41ED26EAF2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Предмет химии. Вещества и их физические свой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435640" y="609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: Шохина К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тел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, задания 1-4 (письменно), подготовиться к практической работе №1 (стр. 193-1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рия хим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 – мифологическое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 – становление научного знания (древнегреческая натурфилософ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ксимен (585-521 гг. до н.э.) – 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педокл (490-430 гг. до н.э.) – 4 стихии (огонь, вода, воздух, земля) и 2 силы (любовь и вражд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этап – эпоха алхимии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до н.э. п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берт Бойль – последователь Ф. Бекона. Опроверг теорию Аристо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уан Лавуазье к конц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щество – это то, из чего состоят физические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ве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ищевая сод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те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ирпич, медная монет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Физические свойства вещест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егатн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плавления и кип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веществ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08:35:07Z</dcterms:created>
  <dc:creator>Пользователь</dc:creator>
  <dc:description/>
  <dc:language>en-US</dc:language>
  <cp:lastModifiedBy>LEGION</cp:lastModifiedBy>
  <dcterms:modified xsi:type="dcterms:W3CDTF">2015-05-01T11:25:50Z</dcterms:modified>
  <cp:revision>8</cp:revision>
  <dc:subject/>
  <dc:title>Тема: Предмет химии</dc:title>
</cp:coreProperties>
</file>