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1EF9-F77C-47B6-BF84-34BB737263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Предмет химии. Вещества и их физиче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283B-315A-46CF-BA0E-BF55DAEC10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тел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E11F-B2DA-48FD-9F03-FF0824D997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3D0C-C689-4452-BEAD-DBCB162123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, задания 1-4 (письменно), подготовиться к практической работе №1 (стр. 193-1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745D-C711-4421-ACB6-53E18D8C41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мифологическое мыш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становление научного знания (древнегреческая натур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4EEC-2102-44E8-8745-467F91B76C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ксимен (585-521 гг. до н.э.) –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едокл (490-430 гг. до н.э.) – 4 стихии (огонь, вода, воздух, земля) и 2 силы (любовь и враж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611D-7B6D-4E91-80C3-8DFA07F34B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эпоха алхими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до н.э.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0971-29D6-409B-BF2B-78029316AA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– последователь Ф. Бекона. Опроверг теорию Аристо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уан Лавуазье к конц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E92D-E5F8-4BE5-9D5D-8D8032D25A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щество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ве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пич, пищевая сод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BCF4-80EE-4917-B7EC-3CF564ADBB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ирпич, медная монет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95C2-C5D4-4449-B1DE-BC24503267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ие свойства вещ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н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а плавления и кип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977E-6E91-477C-979C-56A1C6AE65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веществ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1936-9479-4756-9A7C-A2ECA7E790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030-D88E-4542-BDBB-A4D205F9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1F4-CE23-46C0-93C4-490E91DB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56F-C9B0-4A86-8D16-5A9855FC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BC9-EB64-4FF4-96F6-05F1DBE5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C196-FB64-4442-B67D-9AE8489A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2180-554C-4D79-97BC-A54FAC6D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59DE-32E7-42B3-B344-135504D9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3B3D-F708-4334-8657-23236A39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379D-2F15-4B6E-8F84-E1C1A248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A2AA-11F4-4E1F-AE97-3DEE2877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899F-2B21-444B-9C0E-CF82F57F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505-B7F7-449D-8621-08AF01A4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3B94-FE3E-472E-AEC3-193CA1E5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C3B1-9D30-4A49-A2B5-B67CDB42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DD41-8721-4A2D-9C47-1694616E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C283-25BF-4814-9140-E0EEBA2E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1618-DC1B-4C66-AA29-79A83BDC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DFC-7A0E-43B9-BAEB-6641F6C8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77E-3070-40DF-BE7D-8B08BF9D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E7D-6B30-421C-B267-5B5CA1F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77B-8DF0-43EC-A814-458DDE63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B15-37CB-408B-BD68-96AB8FAA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B63-0F1A-48F1-A792-5809C007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93F-F4C5-454B-9407-CBDCD2CC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E439-A934-4E3B-8FDA-315320FF80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60E6-EF98-4F21-A1F8-9EED92D717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Предмет химии. Вещества и их физические свой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435640" y="609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: Шохина К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тел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, задания 1-4 (письменно), подготовиться к практической работе №1 (стр. 193-1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рия хим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 – мифологическое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 – становление научного знания (древнегреческая натурфилософ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ксимен (585-521 гг. до н.э.) – 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педокл (490-430 гг. до н.э.) – 4 стихии (огонь, вода, воздух, земля) и 2 силы (любовь и вражд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этап – эпоха алхимии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до н.э. п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берт Бойль – последователь Ф. Бекона. Опроверг теорию Аристо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уан Лавуазье к конц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щество – это то, из чего состоят физические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ве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ищевая сод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те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ирпич, медная монет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Физические свойства вещест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егатн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плавления и кип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веществ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08:35:07Z</dcterms:created>
  <dc:creator>Пользователь</dc:creator>
  <dc:description/>
  <dc:language>en-US</dc:language>
  <cp:lastModifiedBy>LEGION</cp:lastModifiedBy>
  <dcterms:modified xsi:type="dcterms:W3CDTF">2015-05-01T11:25:50Z</dcterms:modified>
  <cp:revision>8</cp:revision>
  <dc:subject/>
  <dc:title>Тема: Предмет химии</dc:title>
</cp:coreProperties>
</file>