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81B7-4976-4B5F-8046-D97ACA342F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5764-E966-4C83-B6A9-C500E10A69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ХИМИЧЕСКИЕ СВО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1. Диссоц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↔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+ 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по внешне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→KFe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3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→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с участием лига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4HCl→4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+Cu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+3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04CE-52A4-477C-B0D8-A13903DBFE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лексны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асителей (кобальтовые краски), ядохимикаты, удоб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тановления жесткости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тимуляторов биохим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деления некоторых металлов (лантаноидов) и получения металлов высокой чист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алитической химии для определения ионов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E97B-0AE2-44A7-A359-D3CFF15DA4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Mg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584C-B82F-45FB-B6C8-0B7A28A16A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форм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Гесацианоферрат (3)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Тетрагидроксоцинкат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ексафторалюминат натр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Хлорид гексааквахрома (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Тетрацианомеркурат (2)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идроксид диаминсеребра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4C88-CE45-4B56-BF33-2D6CC4A6EC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Zn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l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Cr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a[Hg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415E-5F85-4310-95F1-DCE2C42F53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1C51-DB20-46AE-882D-BB155BBDF7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Основные положения координационной теории  (1893г. Альфред Верне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ообразов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ган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Центральный ион (атом) с лигандами обра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 координационную сфер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ения, которую при написании заключают в квадратные ско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ординационным числ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которое чаще всего принимает значения 2,4,6,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юю координационн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29EE-111A-4EA6-91EF-12FB8B5674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BE1-3D84-4C78-9206-6D59EE17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776-9EAD-4634-83B2-2386C9FD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6A56E-FC63-4761-BEA9-B3B44F72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62FBE-1BE5-495D-B098-725BB068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5078A-D457-4D91-8018-54D4E84C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AA15A-7FCF-4A8D-B0C3-11DA2E08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EB117-0005-4122-B8C8-59087171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469A1-205C-4F27-9F99-C4145D7D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9169E-44BA-49AA-B3D9-542F67F7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5555F-6A2A-4D87-B601-9FA030FB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28494-01C1-4CE2-80C7-94EE2FFE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71390-328A-4B6B-9944-94782CC6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D0A-85D6-4CC2-A82B-E12769EB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0C11F-D50F-4BFA-9A3A-FD917B1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122D6-EA41-4540-B6F7-59128907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DA90F-92D6-4FB2-8771-B2238E5F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5E129-D220-466D-8B43-2346D7AE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160B3-631D-490E-B04F-F4057F71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32A19-0122-4528-8A74-9ED1962C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4F36C-4B6D-4C63-9B3E-18F6BCAE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90CF3-620D-431B-BA96-E774B2A2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1FCED-7F70-4B5B-B2A3-5112A8E6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898A0-391D-4CED-9035-5B2690E3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8B6-6ABA-48CA-9609-19935841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2AC06-226E-4B68-9D30-E8768456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BFA11-622B-4ECB-92A4-2643A7B7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04153-5D29-4B12-9379-66DF3031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2BB7D-191E-4192-8A39-EFDC80D3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8A0B8-1330-4BF2-B8EA-DABCCFCC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6193A-2B99-413F-9719-D04A9802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E3130-D788-4A08-BAF2-3F75E853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B3A09-BECD-4C01-BB7E-7E3504A5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16A23-5E48-46CF-8106-CB3DC67E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83F69-ADA6-4D5A-9600-1DA1FC6F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6E5B-E7B4-4926-BEAB-6D8FEAD7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18F4A-1236-44B6-A6B9-548837C8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9F493-8B11-4029-9EC2-66F6F970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9E936-33DB-45B1-91A6-CD72ED3F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CE2090-0698-4118-B8A3-FAC9E34D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199E89-DD19-4498-AD1B-2AA50DA9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AC2DDF-EA0A-4F7E-B574-3577191F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CDC455-48F0-44B6-94D7-678FF45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CD4980-FE25-4657-BE24-F9732914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5BD239-529A-42FA-877D-04399432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4891AB-D820-4BDF-A95E-4C4251F3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1734-996F-440F-935C-F103498D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4D2CFD-67C1-4AB5-8CE7-8B04208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69B903-5717-4159-9579-4621FB7D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EF0017-311E-49EE-99BE-F21F1BD6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CC0EF0-6A8A-4DB9-880C-BED9FC00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F900B4-3FB3-4F7D-89AC-42A3223B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492D2-781E-4E5B-9661-71869E89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82E8C-12DF-4FC4-B79D-0A47D2DE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AB914-41B4-453D-AB60-408A67BB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23BB6-03D9-4D3A-8B66-6A527DF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3CF62-CBD6-49C3-86F3-00A8354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0280-9E5D-47C2-ACAA-201FE9B3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AC4FF-DB85-4F67-951E-712D9C31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1AE05-DE80-448E-AA5B-48DD7272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DAD8C-3998-4DCF-A0B4-C3E6814E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94195-A159-4809-9ED4-F315C7DF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5C95F-1442-4D17-AD00-2DA37E57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C45C8-FE88-481C-9C6C-39D2655F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A4C97-5FA2-42FE-A5CF-4A68BF26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FB92A-2193-4BE5-BFC8-7E93B5AC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6FBA7-A490-4163-A68E-1A32A80C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46582-67D9-4B81-8315-BF2FD9D6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B04D-0DF6-4487-BFF5-81094872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CF2B6-E77D-4733-905E-80A83910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C048E-7486-4A7C-BA66-9AE24B2E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F82EC-67EB-42A0-8A6C-2496D17F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27C48-D4C3-4030-9E54-FA0785FD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6A355-9E56-4E96-BC1D-52A991B1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4CB6C-C868-4101-BE4B-1B84F03F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52B57-3556-465F-8679-D15D29BD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54DD0-F160-40EF-8C4E-8D6C3F0B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A2B81-52D8-4E17-8642-1AD64F6A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03CA-2E6B-481A-AB4A-E704A453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420B-25CE-448F-9A0B-5A767F7D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6D40-B056-498A-A2AF-E07947BE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73D-F534-4502-95A7-FBE7B3FB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4FE7-B844-4C74-80C0-D5B8FB68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64A1-A48D-43A8-9447-ED33E435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EA45-E349-4E90-87B7-E1512DE1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C57F-64CC-4E0F-91D6-014C9D3D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0116-F09E-44EE-8136-2835152E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6C35-F7B7-41CB-86F6-B26AF276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1841-B8AC-417C-968D-0C84BECB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729DD-222D-4E6B-B96E-099B26DB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205E-1B16-49A1-AB52-FABE1A6E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E897-02B8-4F83-9F68-11D65C01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C7A-351D-4D00-8560-F7C5F2E3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7D6F-8E98-4EC0-8AED-DCE92DDF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EF3A-6D03-41F0-AFCD-3A022F33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8B499-66C9-411E-9739-44C51F83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A303-F630-466B-9969-68C2F1FB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5516-5C6A-4310-9652-1391A37B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4C22-067B-470A-9CCA-CF54FC6A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ECF9-0D1F-4E0E-847B-93240F5B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40ACC-38C8-4108-B63A-A88746A5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2E49-2F95-4C4A-9511-01016EA4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707FD-7F98-468F-A7CD-1E73B5F8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03F-5BA8-4E8F-BF66-E1F08B17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6EAF5-FA38-4969-9BAF-62023299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4D4A-B9C4-483E-8852-8BEDD62E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D1088-FD9D-4706-80B0-E78FB7FB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C9304-FC99-445A-B347-B9CFA7C0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2679-54BE-4B07-8BB2-4504B17E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DCD80-2BC7-4B68-A37B-1826156C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02C1D-655F-4A1E-9772-6072AD7E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55A4-97BB-4976-9EEE-B5338BA9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44C91-1EE4-4F9A-8055-69993F75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0A282-2514-4BED-AEAE-CBBB8ED7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704-5B79-47E0-A633-98454B0E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C8244-6CD7-4619-BA1F-137A1A99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3EA91-EA65-4A65-AEAA-3206F065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6E134-8CED-4794-9C23-67EBDEEA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14F31-8682-41E2-914A-CC4EE26F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2AFFC-CBF7-45F9-8E9E-99BA8C06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8CDC8-BAE6-4D7F-8E4D-A5D01058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51C38-8BDC-4A99-A18A-CDCEB5F2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08F2B-F36C-410B-81B8-A7F0036C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2C26-F19A-4C21-B4BA-E4A5F93D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F4DBC-D050-47A4-9287-6B881C67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09A-FCD7-4247-BA75-FAD658C7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F5A7-2868-4BB7-90DF-21D4B389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6D968-BF93-4B50-9AA5-D56C0579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D0C4C-E403-4FFF-85E7-09515B7C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A8273-7549-4E30-BF9C-E0794A02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5DDB7-A81A-403E-8E74-C440CCFE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5DFEF-C51E-44AA-9DC4-E3CAA43E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7FEA4-786C-453C-AFD9-F21029C9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F3102-C27A-45A5-B3CA-BD81BCCD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CA937-B55C-4530-8F59-3E11F7D0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C856C-2DB2-4E7B-B36E-D689334B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288-98DC-4DB8-8D2B-C20388C1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A7296-1C07-4307-A691-D2018E15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C046-8622-4D1A-9A24-D5DAE5BD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F1F9D-F92A-4770-963B-6F4E71FA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D4E8F-18D5-40A1-AA3E-BFC12287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70D2B-DC17-46A8-B4D5-159303BC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32ED3-D5B5-474A-A85A-E77748C5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C7D21-2866-41F6-AE8F-030F41EB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44703-E3AB-4520-9F61-C4E7032E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0E7AF-D341-4C90-84D9-31E07208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5FA87-F674-4628-9204-091EB3DB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2B5-425A-47E0-950D-D538791E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52734-7729-4366-B0A3-E3454AD0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62F2D-B5E5-484E-AB48-A74AFBC9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BB2F5-CB62-447D-B8F0-2B359245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CFCFA-D588-49B9-9270-2AB21718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15CB7-7AA7-43CE-92A7-DC0D7840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FD837-DF5F-4156-8FB0-2E579BD1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FA45A-0219-4B56-AF9A-E5A931A5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69D9E-D06B-4BBE-8133-F823CEF0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E3CF6-4397-4DAE-B6A0-BEE4C0A0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89038-E933-4CAB-8D59-5EBA817B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8C9-F6F0-4C32-B197-02DDA0D7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F2F98-9A48-4109-A35F-CF987816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81D28-2C85-47F1-ABB5-6E2FF586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0F762-B3AB-4611-9294-3EF2BAEE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196B8-D440-4021-A17E-1C39B348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FD525-B0D7-4182-9283-435D8861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3E904-ACFE-4211-A794-B82CA876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C03A6-2ED3-4B28-A5CF-9832EA53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3D913-6A68-4B0E-BBBF-4D32C131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7A620-EFDA-49C2-B05D-37382E35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A1CB4-0B28-42D2-8F59-7F678C4A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65D3-CFAA-4350-BBCB-91DB729222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28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12FF-AC53-4A1A-9032-B9CE402721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5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2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4A59-E24B-47EF-9FD9-75222734AA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60C6-60CA-4FC5-B1C9-DB6B821A51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156A-1235-4245-9CBF-CE2F3BC8C0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3798-F88B-4A50-A8C5-F17CC4D1A8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B0AB-036B-4955-9038-7B61608337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5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5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5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6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7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7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1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9C1E-8644-4D37-8027-C48CB13EE3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9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F7FD-3F47-464B-821B-A92874FDE4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868A-739B-43EC-AA87-D7A2507DEC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561E-5D9A-4C28-BD4C-22CC103920F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9248-845E-4C4E-A169-6696B266356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6C11-92AD-4E21-9D7C-E01B40402D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462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642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648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4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FC08-E55C-47B1-9FB7-AE382DD5EC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9930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КОМПЛЕКСНЫЕ </a:t>
            </a:r>
            <a:br>
              <a:rPr sz="4400"/>
            </a:b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СОЕДИН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8436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Monotype Corsiva"/>
              </a:rPr>
              <a:t>Муниципальное общеобразовательное учреждение Сусанинская средня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4356000" y="4365720"/>
            <a:ext cx="439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Bookman Old Style"/>
              </a:rPr>
              <a:t>Выполнила: учитель хим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176"/>
                </a:solidFill>
                <a:latin typeface="Bookman Old Style"/>
              </a:rPr>
              <a:t>                        </a:t>
            </a:r>
            <a:r>
              <a:rPr b="1" i="1" lang="ru-RU" sz="2000" spc="-1" strike="noStrike">
                <a:solidFill>
                  <a:srgbClr val="404176"/>
                </a:solidFill>
                <a:latin typeface="Bookman Old Style"/>
              </a:rPr>
              <a:t>Обливанова Светлана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12"/>
          <p:cNvSpPr/>
          <p:nvPr/>
        </p:nvSpPr>
        <p:spPr>
          <a:xfrm>
            <a:off x="5003640" y="162864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3"/>
          <p:cNvSpPr/>
          <p:nvPr/>
        </p:nvSpPr>
        <p:spPr>
          <a:xfrm>
            <a:off x="3635280" y="1628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идрок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4284720" y="162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2411280" y="907920"/>
            <a:ext cx="13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Na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78800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OH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3492360" y="907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Zn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6804000" y="162864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на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18"/>
          <p:cNvSpPr/>
          <p:nvPr/>
        </p:nvSpPr>
        <p:spPr>
          <a:xfrm>
            <a:off x="2268360" y="2492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Cr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9"/>
          <p:cNvSpPr/>
          <p:nvPr/>
        </p:nvSpPr>
        <p:spPr>
          <a:xfrm>
            <a:off x="3419640" y="2492280"/>
            <a:ext cx="1942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H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O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0"/>
          <p:cNvSpPr/>
          <p:nvPr/>
        </p:nvSpPr>
        <p:spPr>
          <a:xfrm>
            <a:off x="5076720" y="249228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1"/>
          <p:cNvSpPr/>
          <p:nvPr/>
        </p:nvSpPr>
        <p:spPr>
          <a:xfrm>
            <a:off x="5508720" y="249228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Cl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2"/>
          <p:cNvSpPr/>
          <p:nvPr/>
        </p:nvSpPr>
        <p:spPr>
          <a:xfrm>
            <a:off x="611280" y="3716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хлори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3"/>
          <p:cNvSpPr/>
          <p:nvPr/>
        </p:nvSpPr>
        <p:spPr>
          <a:xfrm>
            <a:off x="4500720" y="3716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24"/>
          <p:cNvSpPr/>
          <p:nvPr/>
        </p:nvSpPr>
        <p:spPr>
          <a:xfrm>
            <a:off x="3132000" y="371628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5796000" y="3716280"/>
            <a:ext cx="33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x</a:t>
            </a: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ром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27"/>
          <p:cNvSpPr/>
          <p:nvPr/>
        </p:nvSpPr>
        <p:spPr>
          <a:xfrm>
            <a:off x="3059280" y="450864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K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28"/>
          <p:cNvSpPr/>
          <p:nvPr/>
        </p:nvSpPr>
        <p:spPr>
          <a:xfrm>
            <a:off x="3995640" y="450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Hg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9"/>
          <p:cNvSpPr/>
          <p:nvPr/>
        </p:nvSpPr>
        <p:spPr>
          <a:xfrm>
            <a:off x="5148360" y="4581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I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30"/>
          <p:cNvSpPr/>
          <p:nvPr/>
        </p:nvSpPr>
        <p:spPr>
          <a:xfrm>
            <a:off x="5796000" y="4508640"/>
            <a:ext cx="72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31"/>
          <p:cNvSpPr/>
          <p:nvPr/>
        </p:nvSpPr>
        <p:spPr>
          <a:xfrm>
            <a:off x="250920" y="530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32"/>
          <p:cNvSpPr/>
          <p:nvPr/>
        </p:nvSpPr>
        <p:spPr>
          <a:xfrm>
            <a:off x="2050920" y="5300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й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33"/>
          <p:cNvSpPr/>
          <p:nvPr/>
        </p:nvSpPr>
        <p:spPr>
          <a:xfrm>
            <a:off x="3348000" y="530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меркурат 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7020000" y="530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ал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L -0.54705 0.00139 E">
                                      <p:cBhvr>
                                        <p:cTn id="630" dur="1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10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69942E-006 L -0.2243 0.00139 E">
                                      <p:cBhvr>
                                        <p:cTn id="643" dur="1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10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7" dur="2000" fill="hold"/>
                                        <p:tgtEl>
                                          <p:spTgt spid="10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9" dur="2000" fill="hold"/>
                                        <p:tgtEl>
                                          <p:spTgt spid="1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2000" fill="hold"/>
                                        <p:tgtEl>
                                          <p:spTgt spid="10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10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9" dur="2000" fill="hold"/>
                                        <p:tgtEl>
                                          <p:spTgt spid="10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1" dur="2000" fill="hold"/>
                                        <p:tgtEl>
                                          <p:spTgt spid="1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2000" fill="hold"/>
                                        <p:tgtEl>
                                          <p:spTgt spid="1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2000" fill="hold"/>
                                        <p:tgtEl>
                                          <p:spTgt spid="1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1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2987640" y="981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2843280" y="263700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2700360" y="4149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фтор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1692360" y="328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Тетрагидрокс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1835280" y="5157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ционоферр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2627280" y="98100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ульфат тетраамминмеди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2627280" y="249228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g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0"/>
          <p:cNvSpPr/>
          <p:nvPr/>
        </p:nvSpPr>
        <p:spPr>
          <a:xfrm>
            <a:off x="1692360" y="342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диамминсереб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11"/>
          <p:cNvSpPr/>
          <p:nvPr/>
        </p:nvSpPr>
        <p:spPr>
          <a:xfrm>
            <a:off x="1619280" y="5373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гексааквахрома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2"/>
          <p:cNvSpPr/>
          <p:nvPr/>
        </p:nvSpPr>
        <p:spPr>
          <a:xfrm>
            <a:off x="2556000" y="4365720"/>
            <a:ext cx="460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O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3"/>
          <p:cNvSpPr/>
          <p:nvPr/>
        </p:nvSpPr>
        <p:spPr>
          <a:xfrm>
            <a:off x="1692360" y="1484280"/>
            <a:ext cx="54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6"/>
          <p:cNvSpPr/>
          <p:nvPr/>
        </p:nvSpPr>
        <p:spPr>
          <a:xfrm>
            <a:off x="684360" y="765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хлороплатинат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IV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7"/>
          <p:cNvSpPr/>
          <p:nvPr/>
        </p:nvSpPr>
        <p:spPr>
          <a:xfrm>
            <a:off x="468360" y="220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Нитрат хлоронитротетраамминкобальта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1258920" y="3500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гидроксохром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111600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ОСТАВЬТЕ ФОРМУЛЫ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539640" y="2781360"/>
            <a:ext cx="83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o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Cl]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 Box 11"/>
          <p:cNvSpPr/>
          <p:nvPr/>
        </p:nvSpPr>
        <p:spPr>
          <a:xfrm>
            <a:off x="1908000" y="4149720"/>
            <a:ext cx="547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826920" y="501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итрат гексаамминникеля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4"/>
          <p:cNvSpPr/>
          <p:nvPr/>
        </p:nvSpPr>
        <p:spPr>
          <a:xfrm>
            <a:off x="1258920" y="5734080"/>
            <a:ext cx="66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Ni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(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0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2"/>
          <p:cNvSpPr/>
          <p:nvPr/>
        </p:nvSpPr>
        <p:spPr>
          <a:xfrm>
            <a:off x="97164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ЛУЧЕНИЕ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250920" y="765000"/>
            <a:ext cx="842472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тетрагидроксоалюмината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l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3NaOH = 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OH = Na[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0" y="3573360"/>
            <a:ext cx="90360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гидроксида тетраамминмеди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u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+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 = 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4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[Cu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Bookman Old Style"/>
              </a:rPr>
              <a:t>ХИМИЧЕСКИЕ СВОЙСТВ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1. Диссоци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↔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+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по внешне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e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→KFe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K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→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с участием лиган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4HCl→4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+Cu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+3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"/>
          <p:cNvSpPr/>
          <p:nvPr/>
        </p:nvSpPr>
        <p:spPr>
          <a:xfrm>
            <a:off x="3132000" y="4653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менение комплексных соедин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красителей (кобальтовые краски), ядохимикаты, удоб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ления жесткости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стимуляторов биохимических проце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зделения некоторых металлов (лантаноидов) и получения металлов высокой чист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налитической химии для определения ионов, например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+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2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2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2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e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Mg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формул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Гесацианоферрат (3)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Тетрагидроксоцинкат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Гексафторалюминат натр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Хлорид гексааквахрома (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Тетрацианомеркурат (2) каль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Гидроксид диаминсеребра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6" name="Picture 4" descr="Research"/>
          <p:cNvPicPr/>
          <p:nvPr/>
        </p:nvPicPr>
        <p:blipFill>
          <a:blip r:embed="rId1"/>
          <a:stretch/>
        </p:blipFill>
        <p:spPr>
          <a:xfrm>
            <a:off x="7451640" y="-316080"/>
            <a:ext cx="1152720" cy="1440000"/>
          </a:xfrm>
          <a:prstGeom prst="rect">
            <a:avLst/>
          </a:prstGeom>
          <a:ln w="0">
            <a:noFill/>
          </a:ln>
        </p:spPr>
      </p:pic>
      <p:sp>
        <p:nvSpPr>
          <p:cNvPr id="115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Fe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Zn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l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Cr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[Hg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Picture 4" descr="image595"/>
          <p:cNvPicPr/>
          <p:nvPr/>
        </p:nvPicPr>
        <p:blipFill>
          <a:blip r:embed="rId1"/>
          <a:stretch/>
        </p:blipFill>
        <p:spPr>
          <a:xfrm>
            <a:off x="7885080" y="62064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4"/>
          <p:cNvSpPr/>
          <p:nvPr/>
        </p:nvSpPr>
        <p:spPr>
          <a:xfrm>
            <a:off x="900000" y="1844640"/>
            <a:ext cx="7920000" cy="25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612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Основные положения координационной теории  (1893г. Альфред Верне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516880" cy="488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лексообразова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иган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Центральный ион (атом) с лигандами образу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утреннюю координационную сфер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единения, которую при написании заключают в квадратные ско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ординационным числ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оторое чаще всего принимает значения 2,4,6,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ешнюю координационную сфер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7"/>
          <p:cNvSpPr/>
          <p:nvPr/>
        </p:nvSpPr>
        <p:spPr>
          <a:xfrm>
            <a:off x="179280" y="404640"/>
            <a:ext cx="89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Bookman Old Style"/>
              </a:rPr>
              <a:t>СТРОЕНИЕ КОМПЛЕКСНЫХ СОЕДИН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WordArt 4"/>
          <p:cNvSpPr txBox="1"/>
          <p:nvPr/>
        </p:nvSpPr>
        <p:spPr>
          <a:xfrm>
            <a:off x="3708360" y="278136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WordArt 5"/>
          <p:cNvSpPr txBox="1"/>
          <p:nvPr/>
        </p:nvSpPr>
        <p:spPr>
          <a:xfrm>
            <a:off x="2340000" y="2852640"/>
            <a:ext cx="64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WordArt 6"/>
          <p:cNvSpPr txBox="1"/>
          <p:nvPr/>
        </p:nvSpPr>
        <p:spPr>
          <a:xfrm>
            <a:off x="5003640" y="2781360"/>
            <a:ext cx="64944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WordArt 7"/>
          <p:cNvSpPr txBox="1"/>
          <p:nvPr/>
        </p:nvSpPr>
        <p:spPr>
          <a:xfrm>
            <a:off x="3708360" y="450864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WordArt 8"/>
          <p:cNvSpPr txBox="1"/>
          <p:nvPr/>
        </p:nvSpPr>
        <p:spPr>
          <a:xfrm>
            <a:off x="7093080" y="2565360"/>
            <a:ext cx="8650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WordArt 13"/>
          <p:cNvSpPr txBox="1"/>
          <p:nvPr/>
        </p:nvSpPr>
        <p:spPr>
          <a:xfrm>
            <a:off x="4643280" y="765000"/>
            <a:ext cx="57636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WordArt 14"/>
          <p:cNvSpPr txBox="1"/>
          <p:nvPr/>
        </p:nvSpPr>
        <p:spPr>
          <a:xfrm>
            <a:off x="8172360" y="2349360"/>
            <a:ext cx="505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WordArt 15"/>
          <p:cNvSpPr txBox="1"/>
          <p:nvPr/>
        </p:nvSpPr>
        <p:spPr>
          <a:xfrm>
            <a:off x="1908000" y="692280"/>
            <a:ext cx="432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8" name="WordArt 16"/>
          <p:cNvSpPr txBox="1"/>
          <p:nvPr/>
        </p:nvSpPr>
        <p:spPr>
          <a:xfrm>
            <a:off x="5796000" y="692280"/>
            <a:ext cx="50472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9" name="WordArt 18"/>
          <p:cNvSpPr txBox="1"/>
          <p:nvPr/>
        </p:nvSpPr>
        <p:spPr>
          <a:xfrm>
            <a:off x="3203640" y="299736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WordArt 19"/>
          <p:cNvSpPr txBox="1"/>
          <p:nvPr/>
        </p:nvSpPr>
        <p:spPr>
          <a:xfrm>
            <a:off x="3635280" y="2276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WordArt 20"/>
          <p:cNvSpPr txBox="1"/>
          <p:nvPr/>
        </p:nvSpPr>
        <p:spPr>
          <a:xfrm>
            <a:off x="4140360" y="2276640"/>
            <a:ext cx="358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WordArt 21"/>
          <p:cNvSpPr txBox="1"/>
          <p:nvPr/>
        </p:nvSpPr>
        <p:spPr>
          <a:xfrm>
            <a:off x="4643280" y="2997360"/>
            <a:ext cx="287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WordArt 22"/>
          <p:cNvSpPr txBox="1"/>
          <p:nvPr/>
        </p:nvSpPr>
        <p:spPr>
          <a:xfrm>
            <a:off x="3780000" y="407664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WordArt 23"/>
          <p:cNvSpPr txBox="1"/>
          <p:nvPr/>
        </p:nvSpPr>
        <p:spPr>
          <a:xfrm>
            <a:off x="320364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WordArt 25"/>
          <p:cNvSpPr txBox="1"/>
          <p:nvPr/>
        </p:nvSpPr>
        <p:spPr>
          <a:xfrm>
            <a:off x="464328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WordArt 26"/>
          <p:cNvSpPr txBox="1"/>
          <p:nvPr/>
        </p:nvSpPr>
        <p:spPr>
          <a:xfrm>
            <a:off x="4284720" y="4076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3780000" y="1052640"/>
            <a:ext cx="180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NH</a:t>
            </a:r>
            <a:r>
              <a:rPr b="1" lang="en-US" sz="36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WordArt 29"/>
          <p:cNvSpPr txBox="1"/>
          <p:nvPr/>
        </p:nvSpPr>
        <p:spPr>
          <a:xfrm>
            <a:off x="3708360" y="1125360"/>
            <a:ext cx="64944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1403280" y="4437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2700360" y="51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125892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ОРДИНАЦИОННОЕ ЧИСЛО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1763640" y="587700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119640" y="486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1835280" y="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341E-006 L -0.32691 0.00416 E">
                                      <p:cBhvr>
                                        <p:cTn id="145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1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4"/>
          <p:cNvSpPr/>
          <p:nvPr/>
        </p:nvSpPr>
        <p:spPr>
          <a:xfrm>
            <a:off x="2195640" y="620640"/>
            <a:ext cx="5111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1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900000" y="3068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5651640" y="2637000"/>
            <a:ext cx="252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H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1042920" y="21337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1042920" y="3933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10"/>
          <p:cNvSpPr/>
          <p:nvPr/>
        </p:nvSpPr>
        <p:spPr>
          <a:xfrm>
            <a:off x="6659640" y="3645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1116000" y="479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12"/>
          <p:cNvSpPr/>
          <p:nvPr/>
        </p:nvSpPr>
        <p:spPr>
          <a:xfrm>
            <a:off x="3564000" y="4508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13"/>
          <p:cNvSpPr/>
          <p:nvPr/>
        </p:nvSpPr>
        <p:spPr>
          <a:xfrm>
            <a:off x="1042920" y="558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14"/>
          <p:cNvSpPr/>
          <p:nvPr/>
        </p:nvSpPr>
        <p:spPr>
          <a:xfrm>
            <a:off x="5148360" y="566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7164360" y="5445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 Box 6"/>
          <p:cNvSpPr/>
          <p:nvPr/>
        </p:nvSpPr>
        <p:spPr>
          <a:xfrm>
            <a:off x="493236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4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356400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2556000" y="9079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9"/>
          <p:cNvSpPr/>
          <p:nvPr/>
        </p:nvSpPr>
        <p:spPr>
          <a:xfrm>
            <a:off x="1979640" y="177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+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10"/>
          <p:cNvSpPr/>
          <p:nvPr/>
        </p:nvSpPr>
        <p:spPr>
          <a:xfrm>
            <a:off x="3635280" y="17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1"/>
          <p:cNvSpPr/>
          <p:nvPr/>
        </p:nvSpPr>
        <p:spPr>
          <a:xfrm>
            <a:off x="4356000" y="17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(-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644364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3348000" y="907920"/>
            <a:ext cx="50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4"/>
          <p:cNvSpPr/>
          <p:nvPr/>
        </p:nvSpPr>
        <p:spPr>
          <a:xfrm>
            <a:off x="298764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5"/>
          <p:cNvSpPr/>
          <p:nvPr/>
        </p:nvSpPr>
        <p:spPr>
          <a:xfrm>
            <a:off x="5940360" y="177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4 =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7"/>
          <p:cNvSpPr/>
          <p:nvPr/>
        </p:nvSpPr>
        <p:spPr>
          <a:xfrm>
            <a:off x="2411280" y="2637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0-2+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8"/>
          <p:cNvSpPr/>
          <p:nvPr/>
        </p:nvSpPr>
        <p:spPr>
          <a:xfrm>
            <a:off x="2411280" y="33577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9"/>
          <p:cNvSpPr/>
          <p:nvPr/>
        </p:nvSpPr>
        <p:spPr>
          <a:xfrm>
            <a:off x="2340000" y="4797360"/>
            <a:ext cx="431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5"/>
          <p:cNvSpPr/>
          <p:nvPr/>
        </p:nvSpPr>
        <p:spPr>
          <a:xfrm>
            <a:off x="468360" y="26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АССТАВЬТЕ СТЕПЕНЬ ОКИСЛЕНИЯ ИОНА КОМПЛЕКСООБРАЗОВАТЕ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7"/>
          <p:cNvSpPr/>
          <p:nvPr/>
        </p:nvSpPr>
        <p:spPr>
          <a:xfrm>
            <a:off x="0" y="1413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8"/>
          <p:cNvSpPr/>
          <p:nvPr/>
        </p:nvSpPr>
        <p:spPr>
          <a:xfrm>
            <a:off x="3564000" y="1413000"/>
            <a:ext cx="52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9"/>
          <p:cNvSpPr/>
          <p:nvPr/>
        </p:nvSpPr>
        <p:spPr>
          <a:xfrm>
            <a:off x="0" y="227664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[Mg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0" y="306864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179280" y="3933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179280" y="4797360"/>
            <a:ext cx="324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0" y="5661000"/>
            <a:ext cx="360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348000" y="306864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564000" y="2276640"/>
            <a:ext cx="51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M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3348000" y="393372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CN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17"/>
          <p:cNvSpPr/>
          <p:nvPr/>
        </p:nvSpPr>
        <p:spPr>
          <a:xfrm>
            <a:off x="3492360" y="4797360"/>
            <a:ext cx="5651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3203640" y="5661000"/>
            <a:ext cx="594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[Cu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(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11"/>
          <p:cNvSpPr/>
          <p:nvPr/>
        </p:nvSpPr>
        <p:spPr>
          <a:xfrm>
            <a:off x="755640" y="112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2"/>
          <p:cNvSpPr/>
          <p:nvPr/>
        </p:nvSpPr>
        <p:spPr>
          <a:xfrm>
            <a:off x="75564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4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755640" y="17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3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4"/>
          <p:cNvSpPr/>
          <p:nvPr/>
        </p:nvSpPr>
        <p:spPr>
          <a:xfrm>
            <a:off x="75564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5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5"/>
          <p:cNvSpPr/>
          <p:nvPr/>
        </p:nvSpPr>
        <p:spPr>
          <a:xfrm>
            <a:off x="755640" y="386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6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6"/>
          <p:cNvSpPr/>
          <p:nvPr/>
        </p:nvSpPr>
        <p:spPr>
          <a:xfrm>
            <a:off x="1547640" y="1052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д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8"/>
          <p:cNvSpPr/>
          <p:nvPr/>
        </p:nvSpPr>
        <p:spPr>
          <a:xfrm>
            <a:off x="154764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р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147636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20"/>
          <p:cNvSpPr/>
          <p:nvPr/>
        </p:nvSpPr>
        <p:spPr>
          <a:xfrm>
            <a:off x="1476360" y="3141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пент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1"/>
          <p:cNvSpPr/>
          <p:nvPr/>
        </p:nvSpPr>
        <p:spPr>
          <a:xfrm>
            <a:off x="1476360" y="3860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22"/>
          <p:cNvSpPr/>
          <p:nvPr/>
        </p:nvSpPr>
        <p:spPr>
          <a:xfrm>
            <a:off x="468360" y="76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ЧИСЛ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23"/>
          <p:cNvSpPr/>
          <p:nvPr/>
        </p:nvSpPr>
        <p:spPr>
          <a:xfrm>
            <a:off x="421164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ЛИГАН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24"/>
          <p:cNvSpPr/>
          <p:nvPr/>
        </p:nvSpPr>
        <p:spPr>
          <a:xfrm>
            <a:off x="4427640" y="112536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26"/>
          <p:cNvSpPr/>
          <p:nvPr/>
        </p:nvSpPr>
        <p:spPr>
          <a:xfrm>
            <a:off x="4356000" y="1773360"/>
            <a:ext cx="288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27"/>
          <p:cNvSpPr/>
          <p:nvPr/>
        </p:nvSpPr>
        <p:spPr>
          <a:xfrm>
            <a:off x="4427640" y="24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карбон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4427640" y="328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Н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гидрокс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4427640" y="39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)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ци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30"/>
          <p:cNvSpPr/>
          <p:nvPr/>
        </p:nvSpPr>
        <p:spPr>
          <a:xfrm>
            <a:off x="900000" y="522936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F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C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Br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I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фторо-, хлоро-, бромо-, йод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31"/>
          <p:cNvSpPr/>
          <p:nvPr/>
        </p:nvSpPr>
        <p:spPr>
          <a:xfrm>
            <a:off x="4356000" y="4581360"/>
            <a:ext cx="338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)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ни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140328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АНИОН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2050920" y="134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Fe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фер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16"/>
          <p:cNvSpPr/>
          <p:nvPr/>
        </p:nvSpPr>
        <p:spPr>
          <a:xfrm>
            <a:off x="2050920" y="2060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C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куп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17"/>
          <p:cNvSpPr/>
          <p:nvPr/>
        </p:nvSpPr>
        <p:spPr>
          <a:xfrm>
            <a:off x="2050920" y="2708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ргент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2050920" y="3429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19"/>
          <p:cNvSpPr/>
          <p:nvPr/>
        </p:nvSpPr>
        <p:spPr>
          <a:xfrm>
            <a:off x="1979640" y="4149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H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мерк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20"/>
          <p:cNvSpPr/>
          <p:nvPr/>
        </p:nvSpPr>
        <p:spPr>
          <a:xfrm>
            <a:off x="205092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l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люмин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21"/>
          <p:cNvSpPr/>
          <p:nvPr/>
        </p:nvSpPr>
        <p:spPr>
          <a:xfrm>
            <a:off x="2050920" y="486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Zn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2:29:01Z</dcterms:created>
  <dc:creator>Марина</dc:creator>
  <dc:description/>
  <dc:language>en-US</dc:language>
  <cp:lastModifiedBy>LEGION</cp:lastModifiedBy>
  <dcterms:modified xsi:type="dcterms:W3CDTF">2015-05-01T11:26:32Z</dcterms:modified>
  <cp:revision>64</cp:revision>
  <dc:subject/>
  <dc:title>Комплексные соединения</dc:title>
</cp:coreProperties>
</file>