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18.gif" ContentType="image/gi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9.gif" ContentType="image/gif"/>
  <Override PartName="/ppt/media/image1.png" ContentType="image/png"/>
  <Override PartName="/ppt/media/image2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3FA4-6E88-44DE-9BC4-3D05D351970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МПЛЕКСНЫЕ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ЕДИ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B505-4FBD-4F95-BF38-60F7DC411FC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ХИМИЧЕСКИЕ СВОЙСТ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1. Диссоци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[Cu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Arial"/>
              </a:rPr>
              <a:t>↔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[Cu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</a:t>
            </a:r>
            <a:r>
              <a:rPr b="0" lang="en-US" sz="1200" spc="-1" strike="noStrike" baseline="30000">
                <a:solidFill>
                  <a:srgbClr val="000000"/>
                </a:solidFill>
                <a:latin typeface="Bookman Old Style"/>
              </a:rPr>
              <a:t>2+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+ 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Bookman Old Style"/>
              </a:rPr>
              <a:t>2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2.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еакции по внешней 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Fe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+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[Fe(CN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→KFe[Fe(CN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+3K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[Cu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+Ba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→[Cu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+Ba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еакции с участием лиган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[Cu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+4HCl→4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Cl+Cu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4.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Реакции по центральному ио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бменные: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[Ag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Cl + KI → AgI↓ + KCl + 2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кислительно-восстановитель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2[Ag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OH+R-C=O →2Ag↓+RCOO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+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O+3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EF5C-3407-422D-8A17-7B652F7266A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нение комплексных соедин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красителей (кобальтовые краски), ядохимикаты, удоб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установления жесткости во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стимуляторов биохимических процес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зделения некоторых металлов (лантаноидов) и получения металлов высокой чисто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налитической химии для определения ионов, например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+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+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139F-A213-48E3-B9FA-A3BB9015462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тересные ф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Изучение комплексных соединений – одна из интереснейших областей химии, в том числе биологической хим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Так, красное вещество гем, составная часть гемоглобина крови теплокровных животных и человека – это комплексное соединение: комплексообразователь – ион </a:t>
            </a:r>
            <a:r>
              <a:rPr b="0" lang="en-US" sz="1200" spc="-1" strike="noStrike">
                <a:solidFill>
                  <a:srgbClr val="006600"/>
                </a:solidFill>
                <a:latin typeface="Calibri"/>
              </a:rPr>
              <a:t>Fe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2+, лиганды – четыре кольца пиррола, имеющие боковые цепи. Похожее строение у хлорофилла, но в нем комплексообразователем служит ион </a:t>
            </a:r>
            <a:r>
              <a:rPr b="0" lang="en-US" sz="1200" spc="-1" strike="noStrike">
                <a:solidFill>
                  <a:srgbClr val="006600"/>
                </a:solidFill>
                <a:latin typeface="Calibri"/>
              </a:rPr>
              <a:t>Mg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2+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DE8B-CF4A-4559-ADA2-C4F09B66FF8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те формул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Гесацианоферрат (3) кал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Тетрагидроксоцинкат кал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Гексафторалюминат натр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Хлорид гексааквахрома (3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Тетрацианомеркурат (2) кальц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Гидроксид диаминсеребра (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4528-A87E-47F6-8315-5C13594F7AA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[Fe(CN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[Zn(OH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[Al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[Cr(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O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a[Hg(CN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[Ag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8BA5-9DAE-447C-A726-E174BF791F5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Bookman Old Style"/>
              </a:rPr>
              <a:t>Соединения, имеющие в своем составе комплексные ионы, относят к </a:t>
            </a:r>
            <a:r>
              <a:rPr b="1" lang="ru-RU" sz="1200" spc="-1" strike="noStrike" u="sng">
                <a:solidFill>
                  <a:srgbClr val="0000ff"/>
                </a:solidFill>
                <a:uFillTx/>
                <a:latin typeface="Bookman Old Style"/>
              </a:rPr>
              <a:t>комплексным соедин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8874-9F36-4F4D-B228-DE401A82903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Calibri"/>
              </a:rPr>
              <a:t>Основные положения координационной теории  (1893г. Альфред Вернер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В комплексном соединении один из ионов или атомов считается центральным, его называю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мплексообразова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Вокруг центрального иона (атома) – комплексообразователя расположено (координировано) определенное число противоположно заряженных ионов или полярных молекул, называемых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ган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Центральный ион (атом) с лигандами образуе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нутреннюю координационную сфер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единения, которую при написании заключают в квадратные скоб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В большинстве случаев число лигандов, непосредственно связанных с центральным ионом (атомом), называет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ординационным числ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которое чаще всего принимает значения 2,4,6,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Ионы, которые располагаются на более далеком расстоянии от центрального иона (атома), образую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нешнюю координационную сф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BB6A-ED7D-4112-BFFE-4FBF9339465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1348-0595-4932-B99C-82050074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9CD8-3EF7-4880-BBDE-324C9F78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B98B0-5D82-4C3C-95C5-054D8B51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8483E-E7E1-41A3-B92C-73BA30AD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A30D7-7EEC-4B3F-9D18-10F60181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46F96-36B6-4213-9B4F-051C9CCB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836DC-9D80-42A7-AF68-D53888E8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0755D-D78D-45C1-A5FC-E4E159E5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6712C-C2B3-4CBD-9192-DF193C20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F62D3-2E94-4A02-9700-F65BAFDCC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F6931-4FBD-454E-A0F9-4ED29C90E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B5826D-AA79-49F6-9DB7-35467C278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6789-533D-46AC-BCE7-94FA44D87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0A9C72-B862-4723-B89E-49635CD7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4DE20B-6DD2-4A8B-910B-656E83FE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DFBD69-CB2C-45DC-BAD1-F48D8DCE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55B8C8-400E-426F-81BB-2B740ED1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B84C29-71E5-4965-AEB0-6AF6A7BC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C5CE94-05A5-49C3-BD0F-A3EDB462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D902C0-EC33-4261-B045-B8B145A5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FD3124-0C1A-4292-A5A3-38DA8FB9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507B95-7484-4783-A9C9-1596DC32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7AF4AC-613F-4778-9B25-26672A510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B45C-E3AE-4B69-AF72-684BE3328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BDDB22-D9BC-44EB-A616-F1AE338D4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0D156-B753-4DF8-B3F5-20F87C8D7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BE364-EE1A-4656-80C4-639FA021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2BC6C-1F95-4CB5-A453-0DA9FDB5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DAC1B-DE81-4631-8A2C-9EDFEF80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854C4-FA41-41E1-9DB7-67AC35FF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AD83B-ACBF-4B0A-AEF4-F590B50F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16DB3-011F-4BDD-87CF-BA22F8C9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846A6-CAB7-486C-9B1A-B5CFA563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798B7-ADAA-4E13-9258-8C3D9A93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3558-5379-4CA1-A99C-29B028F58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CD6DD-B22F-4CEA-9940-DD743A2F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99BAF-0B87-4A5B-8A9C-9E1BF32B3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5516B-8BC4-4A31-A719-55CC366A4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C7C1729-311F-4186-8ECF-E28F1E1FF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8F90C97-4E0F-4121-A6F8-46BA7742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B95BF25-A694-47CA-AE28-332E3569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AD3738-0AA5-4C3C-815B-882FF796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E37E1CE-F867-4A71-8954-3A378EB1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EB2499-B181-4E02-B34E-449E5814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3A74CB0-69EA-4410-A215-3D01327D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C2A9-A0EC-4DFA-948F-B03A97E5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CFDF2EB-1BE7-46B4-BCF0-C6B13B33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A1B3A11-2EDA-4436-BBFA-EF603533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FA2C6A5-BC9D-41B1-9CEE-118664C4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AF2853-A196-40C5-BC73-E13C2317D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F3BD146-2A4A-4D18-8200-F9AB1253C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A022D4-5232-437B-B02A-873034FA8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11523B-5DC1-477A-AA48-1236F934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74A1C0-B8FB-4B3B-82F8-A625E902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C97104-E338-4FA7-8EEF-D247EFE5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3564DD-2F95-4442-BAD2-2FACECC5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E1CA-E621-482D-9C87-84AB338C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927A0E-3275-40A6-A50C-7722D939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CD3605-2D05-4655-ABFA-5D7C26F6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4BA360-2147-413F-929D-69C3EF5C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91D1B4-FD3C-4801-BE80-93117D3B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3C44B3-C4CC-431C-887B-48EDD45A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A9C2A5-C999-4DE9-A8A3-FAB12DF4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C05512-CE78-43D8-9357-E6A67A371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42DACD-66A5-49CE-A437-940EE63D8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29443C-0AA5-40C2-B5B8-6DF29B5C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5C8FD8-E6BE-4E53-9D99-428ED6A6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26E1-497A-4F58-BB1F-A088C32D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74FC3B-8586-4A1D-8ADC-AA76202C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5F15F2-351C-4123-9DD4-87466E99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2A104D-1E9F-4F39-ABFB-2F7D7A3C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28A80F-D5CF-4966-92EF-F3CD0539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E3AB0C-F281-419B-9EB8-C8AD636F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4A1EA0-2A27-4CBC-974D-3B9C52A2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51C8A6-F2EE-4B3C-B858-771F2052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153590-BA43-4692-9E2C-FADB2DE3D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E1B743-8B86-4CCE-BF57-F62552DA8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0C31-8785-4C81-9017-EF3E4AA5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1DC6-7C5E-4205-AAA3-BFE5D1D1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E0E7-5A64-430D-ACD2-5D6BBC89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3487-F78C-4CCF-AF2B-6DBD7B26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26E0-5244-409C-9840-8BF125FD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84E9-10BD-4B18-8E02-C1A0C256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3FA6-710B-4A5D-AEC6-5E40AF62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5F5C-0B61-42D3-B153-1BB6E94F0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3FAC-68A0-4F10-B9F7-8842632E7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33CAC-AAB8-4411-AD96-2E38F1AE3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92DC4-BB54-4899-9EC0-EABC9303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37746-9812-4145-B53C-66BEB01B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3A525-62E9-4F42-A03F-70450F91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9D27C-5E4E-49DC-8B31-AE6D141E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B0F3-CE8A-4EA3-BAA5-1962F602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3ACA1-4CF9-45F9-B2AC-8982E8AF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15F1D-A837-433B-8FA7-1A6C34E3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0F5B4-C54A-430A-8C03-883531FC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60F0A-B016-4D99-A58C-E934F695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F5E99-C9BE-4443-8B06-ECB03FCD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2C539-C65F-4C8B-A12E-04F689DE7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E5116-DA03-4728-9FDA-69E990BE2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CFD13-D1FB-4A72-BD3D-B1F37C59E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01F90-6C10-444B-8260-83E22146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219F8-206C-4315-975B-544D1E2F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4696-76F7-4043-96F6-5F9FB7B0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200FA-D53F-4377-B23C-9B9A9585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1EE32-C95A-4174-B05E-A56C4BBB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975F9-4AF7-41E3-8399-4AFAC622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94B61-1A8D-4317-8E0B-D2626F14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74885-6FC6-48A5-9D49-726AE6C9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83425-F30E-484A-B387-EADD3EB6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F8B74-E47A-4712-8CDF-ABDB4357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3AEBA-F95C-483D-8845-DB827F6CA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572ED-4ACC-4D45-B7C6-BE9DC30AE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19B8B-D320-4233-BE64-56C47C98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202B-0D9C-4BAD-9E91-DAAACBC5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29255-A2D5-4AD4-A0D2-CFCD733F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9EAFB-6255-4B01-97A9-D1F57B62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B4C8B-87F0-4C27-BB95-2DE5E634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7C62D-B6D1-4DF1-9F9C-9F56F18B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45220-BC5D-44A6-8C57-058EA67D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99AAD-8157-42B9-AF4B-235D48EF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FAA45-103C-43B8-B777-9D6FBB7B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83379-A717-40BF-93E4-A615F5C5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A9007-5E22-467F-965C-0ED2BFF6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780E6-5BA0-45C9-8E4C-277FB131F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7465-3FA9-444B-A111-399A9DCE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D34CE-7FC8-4BC5-9822-7BA98A70E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B8F2D-71FB-4906-B583-E5D2A1299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3C47D-893B-4879-BB34-33ACB35B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05284-D35D-49B0-979A-B631F2E8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C0293-28A3-4B0D-B638-29448F8E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2E3F1-249F-4B4B-81AA-076F3B2D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85A66-6512-4ED8-9AFC-903A02A8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971C6-A3E3-4C37-86C4-9BEB25FB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9FDA8-5ADC-488A-915B-A1AF18BA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0D633-1FE6-48D3-AA73-8D549AC6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4CAE-F942-42BA-9187-0997E93F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8FC76-7E1C-4B8C-A9E5-D3CC7BEB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D98F7-4D5E-469F-A78B-341B697B4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CAAA6-5FD3-4E6F-B786-1B01DA94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EC473-3A64-4D89-89A5-006C03B77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E2839-0987-4AE8-B1C4-74B4A8DB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72A6A-0DC6-4470-A8C3-89EA530D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D5D6F-8595-4D10-9995-82EB74A7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0185A-D8D2-40F7-A131-76680D58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BA470-7BAC-48C2-9B82-6FD66344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26732-DDF3-4771-A1D1-654B563F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903C-BA66-42AD-A794-00A8920B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6A0E6-6B78-44CC-8CCC-5B5DAEF2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FA787-29E6-4717-97A3-70CE2AE5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B59C5-6EC3-4E68-8F50-CCEF336A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286A7-5D95-4E28-A3BA-CD07CF0BA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3AA5A-3C8C-40FC-B373-385E21541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26AFD-1FFA-40FD-8BFE-E1ED49D9A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BF1B2-F6F1-4B63-874F-3A5CAAB1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D81D5-62B7-4567-8B00-FD21E2C3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FBF74-3506-44C4-991C-BE66772A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5DBC8-97CE-4A64-AC45-997205B6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C46A-DD79-457E-9D9C-C40E6AAD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0CC38-CB85-4B6A-8914-364AA733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1CF05-C68E-4E95-B6A5-4A6321C5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BA851-7450-4CD5-A0A7-AF7F54DF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892A0-34CE-4848-B56B-A28566A7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4EDD9-CD18-45BD-8784-B9071B16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54974-000E-43DC-80C9-0979E49FF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9C47A-0642-4551-93CE-1471F66BA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D6CD2-BC24-4364-B9FF-40BA8FA14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864692-6814-425F-9609-4F6CE97B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039E0-34FA-4D44-BCBD-249E2302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9234-93E0-4D5B-A168-DB3E5A4915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sldNum" idx="28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F571-A01D-4095-8F11-D4F70F588D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29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dt" idx="30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75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ftr" idx="32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6009-CAD4-4308-A165-DFFBD7873D5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C6B4-66FF-4501-B220-A0A8B8DA6B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4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EAA9-B07D-4D93-AB6F-2AFB69129FF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89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 type="dt" idx="4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 type="ftr" idx="4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8F67-1F30-469B-B642-DE1440096F6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16BC-7231-4721-AB15-4F4531EE87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5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5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5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6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7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7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8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8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8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9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9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9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10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10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10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11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dt" idx="7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ftr" idx="8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9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14E3-E50D-4F78-827F-3631996B15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96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0FC9-CD5F-4EE2-826C-1379088DD08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F674-5279-49E1-8159-E0FFBB4A13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8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D1E4-1673-4FA9-ADBE-5FC8DBD20ED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3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8122-C08E-415F-8603-D7082F03A7B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14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0CAA-CD8A-4F8C-8BB2-0809F8F8F6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462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1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642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7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648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64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A2B5-93F5-4BF4-8021-E11A3332F0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5.png"/><Relationship Id="rId28" Type="http://schemas.openxmlformats.org/officeDocument/2006/relationships/image" Target="../media/image15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image" Target="../media/image17.png"/><Relationship Id="rId36" Type="http://schemas.openxmlformats.org/officeDocument/2006/relationships/image" Target="../media/image17.png"/><Relationship Id="rId3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10920" y="1915920"/>
            <a:ext cx="7993080" cy="15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04176"/>
                </a:solidFill>
                <a:latin typeface="Times New Roman"/>
              </a:rPr>
              <a:t>КОМПЛЕКСНЫЕ </a:t>
            </a:r>
            <a:br>
              <a:rPr sz="4400"/>
            </a:br>
            <a:r>
              <a:rPr b="1" i="1" lang="ru-RU" sz="4400" spc="-1" strike="noStrike">
                <a:solidFill>
                  <a:srgbClr val="404176"/>
                </a:solidFill>
                <a:latin typeface="Times New Roman"/>
              </a:rPr>
              <a:t>СОЕДИНЕНИЯ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81" name="Text Box 4"/>
          <p:cNvSpPr/>
          <p:nvPr/>
        </p:nvSpPr>
        <p:spPr>
          <a:xfrm>
            <a:off x="684360" y="11592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Monotype Corsiva"/>
              </a:rPr>
              <a:t>Муниципальное общеобразовательное учреждение Сусанинская средняя шко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Text Box 5"/>
          <p:cNvSpPr/>
          <p:nvPr/>
        </p:nvSpPr>
        <p:spPr>
          <a:xfrm>
            <a:off x="4356000" y="4365720"/>
            <a:ext cx="4392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176"/>
                </a:solidFill>
                <a:latin typeface="Bookman Old Style"/>
              </a:rPr>
              <a:t>Выполнила: учитель хим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176"/>
                </a:solidFill>
                <a:latin typeface="Bookman Old Style"/>
              </a:rPr>
              <a:t>                        </a:t>
            </a:r>
            <a:r>
              <a:rPr b="1" i="1" lang="ru-RU" sz="2000" spc="-1" strike="noStrike">
                <a:solidFill>
                  <a:srgbClr val="404176"/>
                </a:solidFill>
                <a:latin typeface="Bookman Old Style"/>
              </a:rPr>
              <a:t>Обливанова Светлана Виктор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Text Box 12"/>
          <p:cNvSpPr/>
          <p:nvPr/>
        </p:nvSpPr>
        <p:spPr>
          <a:xfrm>
            <a:off x="5003640" y="1628640"/>
            <a:ext cx="179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тет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Text Box 13"/>
          <p:cNvSpPr/>
          <p:nvPr/>
        </p:nvSpPr>
        <p:spPr>
          <a:xfrm>
            <a:off x="3635280" y="1628640"/>
            <a:ext cx="29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гидрокс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Text Box 15"/>
          <p:cNvSpPr/>
          <p:nvPr/>
        </p:nvSpPr>
        <p:spPr>
          <a:xfrm>
            <a:off x="4284720" y="1628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цинк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Text Box 4"/>
          <p:cNvSpPr/>
          <p:nvPr/>
        </p:nvSpPr>
        <p:spPr>
          <a:xfrm>
            <a:off x="25092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Bookman Old Style"/>
              </a:rPr>
              <a:t>НОМЕНКЛАТУРА КОМПЛЕКСНЫХ СОЕДИ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Text Box 5"/>
          <p:cNvSpPr/>
          <p:nvPr/>
        </p:nvSpPr>
        <p:spPr>
          <a:xfrm>
            <a:off x="2411280" y="907920"/>
            <a:ext cx="1368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Na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+</a:t>
            </a: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Text Box 10"/>
          <p:cNvSpPr/>
          <p:nvPr/>
        </p:nvSpPr>
        <p:spPr>
          <a:xfrm>
            <a:off x="6012000" y="907920"/>
            <a:ext cx="718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4</a:t>
            </a: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Text Box 11"/>
          <p:cNvSpPr/>
          <p:nvPr/>
        </p:nvSpPr>
        <p:spPr>
          <a:xfrm>
            <a:off x="4788000" y="9079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(OH)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Text Box 14"/>
          <p:cNvSpPr/>
          <p:nvPr/>
        </p:nvSpPr>
        <p:spPr>
          <a:xfrm>
            <a:off x="3492360" y="90792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[Zn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+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Text Box 16"/>
          <p:cNvSpPr/>
          <p:nvPr/>
        </p:nvSpPr>
        <p:spPr>
          <a:xfrm>
            <a:off x="6804000" y="1628640"/>
            <a:ext cx="23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натр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Text Box 18"/>
          <p:cNvSpPr/>
          <p:nvPr/>
        </p:nvSpPr>
        <p:spPr>
          <a:xfrm>
            <a:off x="2268360" y="249228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[Cr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+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Text Box 19"/>
          <p:cNvSpPr/>
          <p:nvPr/>
        </p:nvSpPr>
        <p:spPr>
          <a:xfrm>
            <a:off x="3419640" y="2492280"/>
            <a:ext cx="1942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(H</a:t>
            </a: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2</a:t>
            </a: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O)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Text Box 20"/>
          <p:cNvSpPr/>
          <p:nvPr/>
        </p:nvSpPr>
        <p:spPr>
          <a:xfrm>
            <a:off x="5076720" y="2492280"/>
            <a:ext cx="576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Text Box 21"/>
          <p:cNvSpPr/>
          <p:nvPr/>
        </p:nvSpPr>
        <p:spPr>
          <a:xfrm>
            <a:off x="5508720" y="2492280"/>
            <a:ext cx="115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Cl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Text Box 22"/>
          <p:cNvSpPr/>
          <p:nvPr/>
        </p:nvSpPr>
        <p:spPr>
          <a:xfrm>
            <a:off x="611280" y="371628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хлори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Text Box 23"/>
          <p:cNvSpPr/>
          <p:nvPr/>
        </p:nvSpPr>
        <p:spPr>
          <a:xfrm>
            <a:off x="4500720" y="3716280"/>
            <a:ext cx="179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ак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Text Box 24"/>
          <p:cNvSpPr/>
          <p:nvPr/>
        </p:nvSpPr>
        <p:spPr>
          <a:xfrm>
            <a:off x="3132000" y="3716280"/>
            <a:ext cx="179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гекс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Text Box 25"/>
          <p:cNvSpPr/>
          <p:nvPr/>
        </p:nvSpPr>
        <p:spPr>
          <a:xfrm>
            <a:off x="5796000" y="3716280"/>
            <a:ext cx="33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x</a:t>
            </a: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рома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 (II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Text Box 27"/>
          <p:cNvSpPr/>
          <p:nvPr/>
        </p:nvSpPr>
        <p:spPr>
          <a:xfrm>
            <a:off x="3059280" y="4508640"/>
            <a:ext cx="115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K</a:t>
            </a:r>
            <a:r>
              <a:rPr b="1" lang="en-US" sz="4000" spc="-1" strike="noStrike" baseline="30000">
                <a:solidFill>
                  <a:srgbClr val="ff3300"/>
                </a:solidFill>
                <a:latin typeface="Bookman Old Style"/>
              </a:rPr>
              <a:t>+</a:t>
            </a: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Text Box 28"/>
          <p:cNvSpPr/>
          <p:nvPr/>
        </p:nvSpPr>
        <p:spPr>
          <a:xfrm>
            <a:off x="3995640" y="450864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[Hg</a:t>
            </a:r>
            <a:r>
              <a:rPr b="1" lang="en-US" sz="4000" spc="-1" strike="noStrike" baseline="30000">
                <a:solidFill>
                  <a:srgbClr val="ff3300"/>
                </a:solidFill>
                <a:latin typeface="Bookman Old Style"/>
              </a:rPr>
              <a:t>+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Text Box 29"/>
          <p:cNvSpPr/>
          <p:nvPr/>
        </p:nvSpPr>
        <p:spPr>
          <a:xfrm>
            <a:off x="5148360" y="458136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I</a:t>
            </a:r>
            <a:r>
              <a:rPr b="1" lang="en-US" sz="40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Text Box 30"/>
          <p:cNvSpPr/>
          <p:nvPr/>
        </p:nvSpPr>
        <p:spPr>
          <a:xfrm>
            <a:off x="5796000" y="4508640"/>
            <a:ext cx="720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4</a:t>
            </a: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Text Box 31"/>
          <p:cNvSpPr/>
          <p:nvPr/>
        </p:nvSpPr>
        <p:spPr>
          <a:xfrm>
            <a:off x="250920" y="5300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тет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Text Box 32"/>
          <p:cNvSpPr/>
          <p:nvPr/>
        </p:nvSpPr>
        <p:spPr>
          <a:xfrm>
            <a:off x="2050920" y="530064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йод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Text Box 33"/>
          <p:cNvSpPr/>
          <p:nvPr/>
        </p:nvSpPr>
        <p:spPr>
          <a:xfrm>
            <a:off x="3348000" y="5300640"/>
            <a:ext cx="39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меркурат 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(I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Text Box 34"/>
          <p:cNvSpPr/>
          <p:nvPr/>
        </p:nvSpPr>
        <p:spPr>
          <a:xfrm>
            <a:off x="7020000" y="530064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кал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0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2" dur="1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2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7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1" dur="2000" fill="hold"/>
                                        <p:tgtEl>
                                          <p:spTgt spid="10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69942E-006 L -0.54705 0.00139 E">
                                      <p:cBhvr>
                                        <p:cTn id="630" dur="1000" fill="hold"/>
                                        <p:tgtEl>
                                          <p:spTgt spid="10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4" dur="2000" fill="hold"/>
                                        <p:tgtEl>
                                          <p:spTgt spid="10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69942E-006 L -0.2243 0.00139 E">
                                      <p:cBhvr>
                                        <p:cTn id="643" dur="1000" fill="hold"/>
                                        <p:tgtEl>
                                          <p:spTgt spid="10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7" dur="2000" fill="hold"/>
                                        <p:tgtEl>
                                          <p:spTgt spid="10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7" dur="2000" fill="hold"/>
                                        <p:tgtEl>
                                          <p:spTgt spid="10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0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5" dur="1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0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5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9" dur="2000" fill="hold"/>
                                        <p:tgtEl>
                                          <p:spTgt spid="1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9" dur="2000" fill="hold"/>
                                        <p:tgtEl>
                                          <p:spTgt spid="10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9" dur="2000" fill="hold"/>
                                        <p:tgtEl>
                                          <p:spTgt spid="10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9" dur="2000" fill="hold"/>
                                        <p:tgtEl>
                                          <p:spTgt spid="10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7" dur="1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2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7" dur="1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1" dur="2000" fill="hold"/>
                                        <p:tgtEl>
                                          <p:spTgt spid="1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1" dur="2000" fill="hold"/>
                                        <p:tgtEl>
                                          <p:spTgt spid="1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1" dur="2000" fill="hold"/>
                                        <p:tgtEl>
                                          <p:spTgt spid="1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1" dur="2000" fill="hold"/>
                                        <p:tgtEl>
                                          <p:spTgt spid="1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Text Box 2"/>
          <p:cNvSpPr/>
          <p:nvPr/>
        </p:nvSpPr>
        <p:spPr>
          <a:xfrm>
            <a:off x="25092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НАЗОВИТЕ КОМПЛЕКСНЫЕ СОЕДИ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Text Box 11"/>
          <p:cNvSpPr/>
          <p:nvPr/>
        </p:nvSpPr>
        <p:spPr>
          <a:xfrm>
            <a:off x="2987640" y="981000"/>
            <a:ext cx="259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F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Text Box 12"/>
          <p:cNvSpPr/>
          <p:nvPr/>
        </p:nvSpPr>
        <p:spPr>
          <a:xfrm>
            <a:off x="2843280" y="2637000"/>
            <a:ext cx="3203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[Al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Text Box 13"/>
          <p:cNvSpPr/>
          <p:nvPr/>
        </p:nvSpPr>
        <p:spPr>
          <a:xfrm>
            <a:off x="2700360" y="4149720"/>
            <a:ext cx="3313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Fe(CN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Text Box 14"/>
          <p:cNvSpPr/>
          <p:nvPr/>
        </p:nvSpPr>
        <p:spPr>
          <a:xfrm>
            <a:off x="1908000" y="170028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Гексафтороалюминат нат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Text Box 15"/>
          <p:cNvSpPr/>
          <p:nvPr/>
        </p:nvSpPr>
        <p:spPr>
          <a:xfrm>
            <a:off x="1692360" y="3284640"/>
            <a:ext cx="71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Тетрагидроксоалюминат нат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Text Box 16"/>
          <p:cNvSpPr/>
          <p:nvPr/>
        </p:nvSpPr>
        <p:spPr>
          <a:xfrm>
            <a:off x="1835280" y="515772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Гексационоферрат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II)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 кал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0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6" dur="1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8" dur="1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0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2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Text Box 2"/>
          <p:cNvSpPr/>
          <p:nvPr/>
        </p:nvSpPr>
        <p:spPr>
          <a:xfrm>
            <a:off x="25092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НАЗОВИТЕ КОМПЛЕКСНЫЕ СОЕДИ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Text Box 3"/>
          <p:cNvSpPr/>
          <p:nvPr/>
        </p:nvSpPr>
        <p:spPr>
          <a:xfrm>
            <a:off x="2627280" y="981000"/>
            <a:ext cx="4608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Text Box 6"/>
          <p:cNvSpPr/>
          <p:nvPr/>
        </p:nvSpPr>
        <p:spPr>
          <a:xfrm>
            <a:off x="1908000" y="170028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Сульфат тетраамминмеди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I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Text Box 9"/>
          <p:cNvSpPr/>
          <p:nvPr/>
        </p:nvSpPr>
        <p:spPr>
          <a:xfrm>
            <a:off x="2627280" y="2492280"/>
            <a:ext cx="4608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g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C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Text Box 10"/>
          <p:cNvSpPr/>
          <p:nvPr/>
        </p:nvSpPr>
        <p:spPr>
          <a:xfrm>
            <a:off x="1692360" y="342900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Хлорид диамминсереб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Text Box 11"/>
          <p:cNvSpPr/>
          <p:nvPr/>
        </p:nvSpPr>
        <p:spPr>
          <a:xfrm>
            <a:off x="1619280" y="537372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Хлорид гексааквахрома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II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Text Box 12"/>
          <p:cNvSpPr/>
          <p:nvPr/>
        </p:nvSpPr>
        <p:spPr>
          <a:xfrm>
            <a:off x="2556000" y="4365720"/>
            <a:ext cx="4608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Cr(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O)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nodeType="clickEffect" fill="hold">
                      <p:stCondLst>
                        <p:cond delay="0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1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3" dur="1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5" dur="1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7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Text Box 3"/>
          <p:cNvSpPr/>
          <p:nvPr/>
        </p:nvSpPr>
        <p:spPr>
          <a:xfrm>
            <a:off x="1692360" y="1484280"/>
            <a:ext cx="5472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 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K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Pt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Text Box 6"/>
          <p:cNvSpPr/>
          <p:nvPr/>
        </p:nvSpPr>
        <p:spPr>
          <a:xfrm>
            <a:off x="684360" y="76500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Гексахлороплатинат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(IV)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 кал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Text Box 7"/>
          <p:cNvSpPr/>
          <p:nvPr/>
        </p:nvSpPr>
        <p:spPr>
          <a:xfrm>
            <a:off x="468360" y="220500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Нитрат хлоронитротетраамминкобальта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Text Box 8"/>
          <p:cNvSpPr/>
          <p:nvPr/>
        </p:nvSpPr>
        <p:spPr>
          <a:xfrm>
            <a:off x="1258920" y="350028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Гексагидроксохромат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III)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 нат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Text Box 9"/>
          <p:cNvSpPr/>
          <p:nvPr/>
        </p:nvSpPr>
        <p:spPr>
          <a:xfrm>
            <a:off x="1116000" y="1890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СОСТАВЬТЕ ФОРМУЛЫ 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Text Box 10"/>
          <p:cNvSpPr/>
          <p:nvPr/>
        </p:nvSpPr>
        <p:spPr>
          <a:xfrm>
            <a:off x="539640" y="2781360"/>
            <a:ext cx="8353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 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Co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Cl]NO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Text Box 11"/>
          <p:cNvSpPr/>
          <p:nvPr/>
        </p:nvSpPr>
        <p:spPr>
          <a:xfrm>
            <a:off x="1908000" y="4149720"/>
            <a:ext cx="547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 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Cr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Text Box 13"/>
          <p:cNvSpPr/>
          <p:nvPr/>
        </p:nvSpPr>
        <p:spPr>
          <a:xfrm>
            <a:off x="826920" y="5013360"/>
            <a:ext cx="79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Нитрат гексаамминникеля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I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Text Box 14"/>
          <p:cNvSpPr/>
          <p:nvPr/>
        </p:nvSpPr>
        <p:spPr>
          <a:xfrm>
            <a:off x="1258920" y="5734080"/>
            <a:ext cx="6696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 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Ni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(NO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nodeType="clickEffect" fill="hold">
                      <p:stCondLst>
                        <p:cond delay="0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6" dur="1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2" dur="1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4" dur="1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6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8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Text Box 2"/>
          <p:cNvSpPr/>
          <p:nvPr/>
        </p:nvSpPr>
        <p:spPr>
          <a:xfrm>
            <a:off x="971640" y="260280"/>
            <a:ext cx="76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ОЛУЧЕНИЕ КОМПЛЕКСНЫХ СОЕДИ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Text Box 10"/>
          <p:cNvSpPr/>
          <p:nvPr/>
        </p:nvSpPr>
        <p:spPr>
          <a:xfrm>
            <a:off x="250920" y="765000"/>
            <a:ext cx="8424720" cy="25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олучение тетрагидроксоалюмината нат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Al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+3NaOH = Al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+3Na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NaOH = Na[Al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Text Box 11"/>
          <p:cNvSpPr/>
          <p:nvPr/>
        </p:nvSpPr>
        <p:spPr>
          <a:xfrm>
            <a:off x="0" y="3573360"/>
            <a:ext cx="903600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олучение гидроксида тетраамминмеди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(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Cu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+2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+2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O = Cu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+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4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[Cu(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nodeType="clickEffect" fill="hold">
                      <p:stCondLst>
                        <p:cond delay="0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2" dur="1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3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Bookman Old Style"/>
              </a:rPr>
              <a:t>ХИМИЧЕСКИЕ СВОЙСТВА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78544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1. Диссоци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↔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man Old Style"/>
              </a:rPr>
              <a:t>2+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+ 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man Old Style"/>
              </a:rPr>
              <a:t>2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2. </a:t>
            </a: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Реакции по внешней сфе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eCl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+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[Fe(CN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→KFe[Fe(CN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+3K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+BaCl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→[Cu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Cl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+Ba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3. </a:t>
            </a: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Реакции с участием лиганд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+4HCl→4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l+Cu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4. </a:t>
            </a:r>
            <a:r>
              <a:rPr b="0" lang="ru-RU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Реакции по центральному ион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Обменные: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[Ag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Cl + KI → AgI↓ + KCl + 2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Окислительно-восстановительны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2[Ag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OH+R-C=O →2Ag↓+RCOO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+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O+3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Line 4"/>
          <p:cNvSpPr/>
          <p:nvPr/>
        </p:nvSpPr>
        <p:spPr>
          <a:xfrm>
            <a:off x="3132000" y="4653000"/>
            <a:ext cx="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500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3" dur="500"/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8" dur="500"/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6" dur="500"/>
                                        <p:tgtEl>
                                          <p:spTgt spid="1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1" dur="500"/>
                                        <p:tgtEl>
                                          <p:spTgt spid="1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1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0" dur="500"/>
                                        <p:tgtEl>
                                          <p:spTgt spid="1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1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500"/>
                                        <p:tgtEl>
                                          <p:spTgt spid="1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1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1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9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именение комплексных соединений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ачестве красителей (кобальтовые краски), ядохимикаты, удобр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установления жесткости вод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ачестве стимуляторов биохимических процес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разделения некоторых металлов (лантаноидов) и получения металлов высокой чисто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аналитической химии для определения ионов, например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+ 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+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2" dur="500"/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7" dur="500"/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2" dur="500"/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7" dur="500"/>
                                        <p:tgtEl>
                                          <p:spTgt spid="1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2" dur="500"/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Arial"/>
              </a:rPr>
              <a:t>Интересные факт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1907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Verdana"/>
              </a:rPr>
              <a:t>Изучение комплексных соединений – одна из интереснейших областей химии, в том числе биологической хими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Verdana"/>
              </a:rPr>
              <a:t>Так, красное вещество гем, составная часть гемоглобина крови теплокровных животных и человека – это комплексное соединение: комплексообразователь – ион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Fe</a:t>
            </a:r>
            <a:r>
              <a:rPr b="0" lang="ru-RU" sz="2400" spc="-1" strike="noStrike">
                <a:solidFill>
                  <a:srgbClr val="006600"/>
                </a:solidFill>
                <a:latin typeface="Verdana"/>
              </a:rPr>
              <a:t>2+, лиганды – четыре кольца пиррола, имеющие боковые цепи. Похожее строение у хлорофилла, но в нем комплексообразователем служит ион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Mg</a:t>
            </a:r>
            <a:r>
              <a:rPr b="0" lang="ru-RU" sz="2400" spc="-1" strike="noStrike">
                <a:solidFill>
                  <a:srgbClr val="006600"/>
                </a:solidFill>
                <a:latin typeface="Verdana"/>
              </a:rPr>
              <a:t>2+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1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1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1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1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авьте формул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Гесацианоферрат (3) кал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Тетрагидроксоцинкат кал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Гексафторалюминат натр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Хлорид гексааквахрома (3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 Тетрацианомеркурат (2) кальц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. Гидроксид диаминсеребра (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6" name="Picture 4" descr="Research"/>
          <p:cNvPicPr/>
          <p:nvPr/>
        </p:nvPicPr>
        <p:blipFill>
          <a:blip r:embed="rId1"/>
          <a:stretch/>
        </p:blipFill>
        <p:spPr>
          <a:xfrm>
            <a:off x="7451640" y="-316080"/>
            <a:ext cx="1152720" cy="1440000"/>
          </a:xfrm>
          <a:prstGeom prst="rect">
            <a:avLst/>
          </a:prstGeom>
          <a:ln w="0">
            <a:noFill/>
          </a:ln>
        </p:spPr>
      </p:pic>
      <p:sp>
        <p:nvSpPr>
          <p:cNvPr id="115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1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1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1000"/>
                                        <p:tgtEl>
                                          <p:spTgt spid="1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1000"/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1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1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1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1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1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1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1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1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1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тв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Fe(CN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Zn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Al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Cr(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[Hg(CN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Ag(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O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0" name="Picture 4" descr="image595"/>
          <p:cNvPicPr/>
          <p:nvPr/>
        </p:nvPicPr>
        <p:blipFill>
          <a:blip r:embed="rId1"/>
          <a:stretch/>
        </p:blipFill>
        <p:spPr>
          <a:xfrm>
            <a:off x="7885080" y="62064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116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1000"/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1000"/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1000"/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1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1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6" dur="1000"/>
                                        <p:tgtEl>
                                          <p:spTgt spid="1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1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1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3" dur="1000"/>
                                        <p:tgtEl>
                                          <p:spTgt spid="1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1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1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0" dur="1000"/>
                                        <p:tgtEl>
                                          <p:spTgt spid="1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Text Box 4"/>
          <p:cNvSpPr/>
          <p:nvPr/>
        </p:nvSpPr>
        <p:spPr>
          <a:xfrm>
            <a:off x="900000" y="1844640"/>
            <a:ext cx="7920000" cy="2531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4000" spc="-1" strike="noStrike">
                <a:solidFill>
                  <a:srgbClr val="0000ff"/>
                </a:solidFill>
                <a:latin typeface="Bookman Old Style"/>
              </a:rPr>
              <a:t>Соединения, имеющие в своем составе комплексные ионы, относят к 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Bookman Old Style"/>
              </a:rPr>
              <a:t>комплексным соединения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66124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Основные положения координационной теории  (1893г. Альфред Вернер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516880" cy="488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В комплексном соединении один из ионов или атомов считается центральным, его называют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омплексообразователе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Вокруг центрального иона (атома) – комплексообразователя расположено (координировано) определенное число противоположно заряженных ионов или полярных молекул, называемых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лиганда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Центральный ион (атом) с лигандами образует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нутреннюю координационную сферу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единения, которую при написании заключают в квадратные скоб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В большинстве случаев число лигандов, непосредственно связанных с центральным ионом (атомом), называется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оординационным число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которое чаще всего принимает значения 2,4,6,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Ионы, которые располагаются на более далеком расстоянии от центрального иона (атома), образуют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нешнюю координационную сфер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Text Box 27"/>
          <p:cNvSpPr/>
          <p:nvPr/>
        </p:nvSpPr>
        <p:spPr>
          <a:xfrm>
            <a:off x="179280" y="404640"/>
            <a:ext cx="896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b7"/>
                </a:solidFill>
                <a:latin typeface="Bookman Old Style"/>
              </a:rPr>
              <a:t>СТРОЕНИЕ КОМПЛЕКСНЫХ СОЕДИНЕНИ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WordArt 4"/>
          <p:cNvSpPr txBox="1"/>
          <p:nvPr/>
        </p:nvSpPr>
        <p:spPr>
          <a:xfrm>
            <a:off x="3708360" y="2781360"/>
            <a:ext cx="720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1" name="WordArt 5"/>
          <p:cNvSpPr txBox="1"/>
          <p:nvPr/>
        </p:nvSpPr>
        <p:spPr>
          <a:xfrm>
            <a:off x="2340000" y="2852640"/>
            <a:ext cx="649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2" name="WordArt 6"/>
          <p:cNvSpPr txBox="1"/>
          <p:nvPr/>
        </p:nvSpPr>
        <p:spPr>
          <a:xfrm>
            <a:off x="5003640" y="2781360"/>
            <a:ext cx="649440" cy="12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3" name="WordArt 7"/>
          <p:cNvSpPr txBox="1"/>
          <p:nvPr/>
        </p:nvSpPr>
        <p:spPr>
          <a:xfrm>
            <a:off x="3708360" y="4508640"/>
            <a:ext cx="72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4" name="WordArt 8"/>
          <p:cNvSpPr txBox="1"/>
          <p:nvPr/>
        </p:nvSpPr>
        <p:spPr>
          <a:xfrm>
            <a:off x="7093080" y="2565360"/>
            <a:ext cx="865080" cy="14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l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5" name="WordArt 13"/>
          <p:cNvSpPr txBox="1"/>
          <p:nvPr/>
        </p:nvSpPr>
        <p:spPr>
          <a:xfrm>
            <a:off x="4643280" y="765000"/>
            <a:ext cx="576360" cy="56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6" name="WordArt 14"/>
          <p:cNvSpPr txBox="1"/>
          <p:nvPr/>
        </p:nvSpPr>
        <p:spPr>
          <a:xfrm>
            <a:off x="8172360" y="2349360"/>
            <a:ext cx="50508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</a:t>
            </a:r>
            <a:endParaRPr b="0" lang="en-US" sz="18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7" name="WordArt 15"/>
          <p:cNvSpPr txBox="1"/>
          <p:nvPr/>
        </p:nvSpPr>
        <p:spPr>
          <a:xfrm>
            <a:off x="1908000" y="692280"/>
            <a:ext cx="43200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[</a:t>
            </a:r>
            <a:endParaRPr b="0" lang="en-US" sz="18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8" name="WordArt 16"/>
          <p:cNvSpPr txBox="1"/>
          <p:nvPr/>
        </p:nvSpPr>
        <p:spPr>
          <a:xfrm>
            <a:off x="5796000" y="692280"/>
            <a:ext cx="504720" cy="51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[</a:t>
            </a:r>
            <a:endParaRPr b="0" lang="en-US" sz="1800" spc="1" strike="noStrike">
              <a:ln w="0">
                <a:noFill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9" name="WordArt 18"/>
          <p:cNvSpPr txBox="1"/>
          <p:nvPr/>
        </p:nvSpPr>
        <p:spPr>
          <a:xfrm>
            <a:off x="3203640" y="2997360"/>
            <a:ext cx="288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0" name="WordArt 19"/>
          <p:cNvSpPr txBox="1"/>
          <p:nvPr/>
        </p:nvSpPr>
        <p:spPr>
          <a:xfrm>
            <a:off x="3635280" y="2276640"/>
            <a:ext cx="2890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1" name="WordArt 20"/>
          <p:cNvSpPr txBox="1"/>
          <p:nvPr/>
        </p:nvSpPr>
        <p:spPr>
          <a:xfrm>
            <a:off x="4140360" y="2276640"/>
            <a:ext cx="3585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2" name="WordArt 21"/>
          <p:cNvSpPr txBox="1"/>
          <p:nvPr/>
        </p:nvSpPr>
        <p:spPr>
          <a:xfrm>
            <a:off x="4643280" y="2997360"/>
            <a:ext cx="287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3" name="WordArt 22"/>
          <p:cNvSpPr txBox="1"/>
          <p:nvPr/>
        </p:nvSpPr>
        <p:spPr>
          <a:xfrm>
            <a:off x="3780000" y="4076640"/>
            <a:ext cx="2156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4" name="WordArt 23"/>
          <p:cNvSpPr txBox="1"/>
          <p:nvPr/>
        </p:nvSpPr>
        <p:spPr>
          <a:xfrm>
            <a:off x="3203640" y="357336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</a:t>
            </a:r>
            <a:endParaRPr b="0" lang="en-US" sz="1800" spc="1" strike="noStrike">
              <a:ln w="0">
                <a:noFill/>
              </a:ln>
              <a:blipFill rotWithShape="0">
                <a:blip r:embed="rId3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5" name="WordArt 25"/>
          <p:cNvSpPr txBox="1"/>
          <p:nvPr/>
        </p:nvSpPr>
        <p:spPr>
          <a:xfrm>
            <a:off x="4643280" y="357336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</a:t>
            </a:r>
            <a:endParaRPr b="0" lang="en-US" sz="1800" spc="1" strike="noStrike">
              <a:ln w="0">
                <a:noFill/>
              </a:ln>
              <a:blipFill rotWithShape="0">
                <a:blip r:embed="rId3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6" name="WordArt 26"/>
          <p:cNvSpPr txBox="1"/>
          <p:nvPr/>
        </p:nvSpPr>
        <p:spPr>
          <a:xfrm>
            <a:off x="4284720" y="407664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</a:t>
            </a:r>
            <a:endParaRPr b="0" lang="en-US" sz="1800" spc="1" strike="noStrike">
              <a:ln w="0">
                <a:noFill/>
              </a:ln>
              <a:blipFill rotWithShape="0">
                <a:blip r:embed="rId3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7" name="Text Box 28"/>
          <p:cNvSpPr/>
          <p:nvPr/>
        </p:nvSpPr>
        <p:spPr>
          <a:xfrm>
            <a:off x="3780000" y="1052640"/>
            <a:ext cx="1800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Bookman Old Style"/>
              </a:rPr>
              <a:t>NH</a:t>
            </a:r>
            <a:r>
              <a:rPr b="1" lang="en-US" sz="3600" spc="-1" strike="noStrike" baseline="-25000">
                <a:solidFill>
                  <a:srgbClr val="ffffb7"/>
                </a:solidFill>
                <a:latin typeface="Bookman Old Style"/>
              </a:rPr>
              <a:t>4</a:t>
            </a:r>
            <a:r>
              <a:rPr b="1" lang="en-US" sz="3600" spc="-1" strike="noStrike">
                <a:solidFill>
                  <a:srgbClr val="ffffb7"/>
                </a:solidFill>
                <a:latin typeface="Bookman Old Style"/>
              </a:rPr>
              <a:t>C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WordArt 29"/>
          <p:cNvSpPr txBox="1"/>
          <p:nvPr/>
        </p:nvSpPr>
        <p:spPr>
          <a:xfrm>
            <a:off x="3708360" y="1125360"/>
            <a:ext cx="649440" cy="100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</a:t>
            </a:r>
            <a:endParaRPr b="0" lang="en-US" sz="1800" spc="1" strike="noStrike">
              <a:ln w="0">
                <a:noFill/>
              </a:ln>
              <a:blipFill rotWithShape="0">
                <a:blip r:embed="rId3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9" name="Text Box 30"/>
          <p:cNvSpPr/>
          <p:nvPr/>
        </p:nvSpPr>
        <p:spPr>
          <a:xfrm>
            <a:off x="1403280" y="443700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КОМПЛЕКСООБРАЗОВАТ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Text Box 31"/>
          <p:cNvSpPr/>
          <p:nvPr/>
        </p:nvSpPr>
        <p:spPr>
          <a:xfrm>
            <a:off x="2700360" y="515772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ЛИГАН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Text Box 32"/>
          <p:cNvSpPr/>
          <p:nvPr/>
        </p:nvSpPr>
        <p:spPr>
          <a:xfrm>
            <a:off x="1258920" y="616572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КООРДИНАЦИОННОЕ ЧИСЛО -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Text Box 33"/>
          <p:cNvSpPr/>
          <p:nvPr/>
        </p:nvSpPr>
        <p:spPr>
          <a:xfrm>
            <a:off x="1763640" y="5877000"/>
            <a:ext cx="48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ВНУТРЕННЯЯ СФ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6119640" y="4869000"/>
            <a:ext cx="30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ВНЕШНЯЯ СФ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Text Box 35"/>
          <p:cNvSpPr/>
          <p:nvPr/>
        </p:nvSpPr>
        <p:spPr>
          <a:xfrm>
            <a:off x="1835280" y="0"/>
            <a:ext cx="48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КОМПЛЕКСНЫЙ И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10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7341E-006 L -0.32691 0.00416 E">
                                      <p:cBhvr>
                                        <p:cTn id="145" dur="2000" fill="hold"/>
                                        <p:tgtEl>
                                          <p:spTgt spid="10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95" dur="1000" fill="hold"/>
                                        <p:tgtEl>
                                          <p:spTgt spid="9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Text Box 4"/>
          <p:cNvSpPr/>
          <p:nvPr/>
        </p:nvSpPr>
        <p:spPr>
          <a:xfrm>
            <a:off x="2195640" y="620640"/>
            <a:ext cx="51116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[N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-3</a:t>
            </a: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H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+1</a:t>
            </a:r>
            <a:r>
              <a:rPr b="1" lang="en-US" sz="5400" spc="-1" strike="noStrike" baseline="-25000">
                <a:solidFill>
                  <a:srgbClr val="ffffb7"/>
                </a:solidFill>
                <a:latin typeface="Bookman Old Style"/>
              </a:rPr>
              <a:t>4</a:t>
            </a: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]Cl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-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Text Box 5"/>
          <p:cNvSpPr/>
          <p:nvPr/>
        </p:nvSpPr>
        <p:spPr>
          <a:xfrm>
            <a:off x="900000" y="3068640"/>
            <a:ext cx="48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КОМПЛЕКСНЫЙ И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Text Box 7"/>
          <p:cNvSpPr/>
          <p:nvPr/>
        </p:nvSpPr>
        <p:spPr>
          <a:xfrm>
            <a:off x="5651640" y="2637000"/>
            <a:ext cx="25207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[NH</a:t>
            </a:r>
            <a:r>
              <a:rPr b="1" lang="en-US" sz="5400" spc="-1" strike="noStrike" baseline="-25000">
                <a:solidFill>
                  <a:srgbClr val="ffffb7"/>
                </a:solidFill>
                <a:latin typeface="Bookman Old Style"/>
              </a:rPr>
              <a:t>4</a:t>
            </a: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]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Text Box 8"/>
          <p:cNvSpPr/>
          <p:nvPr/>
        </p:nvSpPr>
        <p:spPr>
          <a:xfrm>
            <a:off x="1042920" y="2133720"/>
            <a:ext cx="48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ВНУТРЕННЯЯ СФЕРА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Text Box 9"/>
          <p:cNvSpPr/>
          <p:nvPr/>
        </p:nvSpPr>
        <p:spPr>
          <a:xfrm>
            <a:off x="1042920" y="393372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КОМПЛЕКСООБРАЗОВАТЕЛЬ</a:t>
            </a:r>
            <a:r>
              <a:rPr b="1" lang="en-US" sz="2800" spc="-1" strike="noStrike">
                <a:solidFill>
                  <a:srgbClr val="ffffb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Text Box 10"/>
          <p:cNvSpPr/>
          <p:nvPr/>
        </p:nvSpPr>
        <p:spPr>
          <a:xfrm>
            <a:off x="6659640" y="364500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N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-3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Text Box 11"/>
          <p:cNvSpPr/>
          <p:nvPr/>
        </p:nvSpPr>
        <p:spPr>
          <a:xfrm>
            <a:off x="1116000" y="4797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ЛИГАН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Text Box 12"/>
          <p:cNvSpPr/>
          <p:nvPr/>
        </p:nvSpPr>
        <p:spPr>
          <a:xfrm>
            <a:off x="3564000" y="4508640"/>
            <a:ext cx="107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H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Text Box 13"/>
          <p:cNvSpPr/>
          <p:nvPr/>
        </p:nvSpPr>
        <p:spPr>
          <a:xfrm>
            <a:off x="1042920" y="558972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ВНЕШНЯЯ СФ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Text Box 14"/>
          <p:cNvSpPr/>
          <p:nvPr/>
        </p:nvSpPr>
        <p:spPr>
          <a:xfrm>
            <a:off x="5148360" y="5661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АНИ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Text Box 15"/>
          <p:cNvSpPr/>
          <p:nvPr/>
        </p:nvSpPr>
        <p:spPr>
          <a:xfrm>
            <a:off x="7164360" y="5445000"/>
            <a:ext cx="11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Cl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Text Box 6"/>
          <p:cNvSpPr/>
          <p:nvPr/>
        </p:nvSpPr>
        <p:spPr>
          <a:xfrm>
            <a:off x="4932360" y="90792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OH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Text Box 4"/>
          <p:cNvSpPr/>
          <p:nvPr/>
        </p:nvSpPr>
        <p:spPr>
          <a:xfrm>
            <a:off x="6012000" y="907920"/>
            <a:ext cx="718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Text Box 5"/>
          <p:cNvSpPr/>
          <p:nvPr/>
        </p:nvSpPr>
        <p:spPr>
          <a:xfrm>
            <a:off x="3564000" y="90792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Z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Text Box 8"/>
          <p:cNvSpPr/>
          <p:nvPr/>
        </p:nvSpPr>
        <p:spPr>
          <a:xfrm>
            <a:off x="2556000" y="90792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Text Box 9"/>
          <p:cNvSpPr/>
          <p:nvPr/>
        </p:nvSpPr>
        <p:spPr>
          <a:xfrm>
            <a:off x="1979640" y="177336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+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Text Box 10"/>
          <p:cNvSpPr/>
          <p:nvPr/>
        </p:nvSpPr>
        <p:spPr>
          <a:xfrm>
            <a:off x="3635280" y="1773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+ 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Text Box 11"/>
          <p:cNvSpPr/>
          <p:nvPr/>
        </p:nvSpPr>
        <p:spPr>
          <a:xfrm>
            <a:off x="4356000" y="177336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+ (-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Text Box 12"/>
          <p:cNvSpPr/>
          <p:nvPr/>
        </p:nvSpPr>
        <p:spPr>
          <a:xfrm>
            <a:off x="6443640" y="90792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Text Box 13"/>
          <p:cNvSpPr/>
          <p:nvPr/>
        </p:nvSpPr>
        <p:spPr>
          <a:xfrm>
            <a:off x="3348000" y="907920"/>
            <a:ext cx="5032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Text Box 14"/>
          <p:cNvSpPr/>
          <p:nvPr/>
        </p:nvSpPr>
        <p:spPr>
          <a:xfrm>
            <a:off x="2987640" y="177336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·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Text Box 15"/>
          <p:cNvSpPr/>
          <p:nvPr/>
        </p:nvSpPr>
        <p:spPr>
          <a:xfrm>
            <a:off x="5940360" y="177336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·4 = 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Text Box 17"/>
          <p:cNvSpPr/>
          <p:nvPr/>
        </p:nvSpPr>
        <p:spPr>
          <a:xfrm>
            <a:off x="2411280" y="2637000"/>
            <a:ext cx="32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x = 0-2+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Text Box 18"/>
          <p:cNvSpPr/>
          <p:nvPr/>
        </p:nvSpPr>
        <p:spPr>
          <a:xfrm>
            <a:off x="2411280" y="3357720"/>
            <a:ext cx="32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x = +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Text Box 19"/>
          <p:cNvSpPr/>
          <p:nvPr/>
        </p:nvSpPr>
        <p:spPr>
          <a:xfrm>
            <a:off x="2340000" y="4797360"/>
            <a:ext cx="4319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Z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OH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5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Text Box 5"/>
          <p:cNvSpPr/>
          <p:nvPr/>
        </p:nvSpPr>
        <p:spPr>
          <a:xfrm>
            <a:off x="468360" y="260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РАССТАВЬТЕ СТЕПЕНЬ ОКИСЛЕНИЯ ИОНА КОМПЛЕКСООБРАЗОВАТЕЛ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Text Box 7"/>
          <p:cNvSpPr/>
          <p:nvPr/>
        </p:nvSpPr>
        <p:spPr>
          <a:xfrm>
            <a:off x="0" y="1413000"/>
            <a:ext cx="259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F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Text Box 8"/>
          <p:cNvSpPr/>
          <p:nvPr/>
        </p:nvSpPr>
        <p:spPr>
          <a:xfrm>
            <a:off x="3564000" y="1413000"/>
            <a:ext cx="5256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 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Text Box 9"/>
          <p:cNvSpPr/>
          <p:nvPr/>
        </p:nvSpPr>
        <p:spPr>
          <a:xfrm>
            <a:off x="0" y="2276640"/>
            <a:ext cx="259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K[Mg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Text Box 10"/>
          <p:cNvSpPr/>
          <p:nvPr/>
        </p:nvSpPr>
        <p:spPr>
          <a:xfrm>
            <a:off x="0" y="3068640"/>
            <a:ext cx="3203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[Al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Text Box 11"/>
          <p:cNvSpPr/>
          <p:nvPr/>
        </p:nvSpPr>
        <p:spPr>
          <a:xfrm>
            <a:off x="179280" y="3933720"/>
            <a:ext cx="3313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Fe(CN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Text Box 12"/>
          <p:cNvSpPr/>
          <p:nvPr/>
        </p:nvSpPr>
        <p:spPr>
          <a:xfrm>
            <a:off x="179280" y="4797360"/>
            <a:ext cx="3241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Text Box 13"/>
          <p:cNvSpPr/>
          <p:nvPr/>
        </p:nvSpPr>
        <p:spPr>
          <a:xfrm>
            <a:off x="0" y="5661000"/>
            <a:ext cx="3600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Text Box 14"/>
          <p:cNvSpPr/>
          <p:nvPr/>
        </p:nvSpPr>
        <p:spPr>
          <a:xfrm>
            <a:off x="3348000" y="3068640"/>
            <a:ext cx="5796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 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OH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Text Box 15"/>
          <p:cNvSpPr/>
          <p:nvPr/>
        </p:nvSpPr>
        <p:spPr>
          <a:xfrm>
            <a:off x="3564000" y="2276640"/>
            <a:ext cx="5148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 K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Mg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Text Box 16"/>
          <p:cNvSpPr/>
          <p:nvPr/>
        </p:nvSpPr>
        <p:spPr>
          <a:xfrm>
            <a:off x="3348000" y="3933720"/>
            <a:ext cx="5796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F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CN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Text Box 17"/>
          <p:cNvSpPr/>
          <p:nvPr/>
        </p:nvSpPr>
        <p:spPr>
          <a:xfrm>
            <a:off x="3492360" y="4797360"/>
            <a:ext cx="5651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OH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Text Box 18"/>
          <p:cNvSpPr/>
          <p:nvPr/>
        </p:nvSpPr>
        <p:spPr>
          <a:xfrm>
            <a:off x="3203640" y="5661000"/>
            <a:ext cx="5940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[Cu</a:t>
            </a:r>
            <a:r>
              <a:rPr b="0" lang="en-US" sz="3600" spc="-1" strike="noStrike" baseline="30000">
                <a:solidFill>
                  <a:srgbClr val="ffffff"/>
                </a:solidFill>
                <a:latin typeface="Bookman Old Style"/>
              </a:rPr>
              <a:t>+2</a:t>
            </a: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(N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3600" spc="-1" strike="noStrike" baseline="30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]Cl</a:t>
            </a:r>
            <a:r>
              <a:rPr b="0" lang="en-US" sz="36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Text Box 2"/>
          <p:cNvSpPr/>
          <p:nvPr/>
        </p:nvSpPr>
        <p:spPr>
          <a:xfrm>
            <a:off x="25092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Bookman Old Style"/>
              </a:rPr>
              <a:t>НОМЕНКЛАТУРА КОМПЛЕКСНЫХ СОЕДИ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Text Box 11"/>
          <p:cNvSpPr/>
          <p:nvPr/>
        </p:nvSpPr>
        <p:spPr>
          <a:xfrm>
            <a:off x="755640" y="1125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2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Text Box 12"/>
          <p:cNvSpPr/>
          <p:nvPr/>
        </p:nvSpPr>
        <p:spPr>
          <a:xfrm>
            <a:off x="755640" y="2421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4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Text Box 13"/>
          <p:cNvSpPr/>
          <p:nvPr/>
        </p:nvSpPr>
        <p:spPr>
          <a:xfrm>
            <a:off x="755640" y="1773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3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Text Box 14"/>
          <p:cNvSpPr/>
          <p:nvPr/>
        </p:nvSpPr>
        <p:spPr>
          <a:xfrm>
            <a:off x="755640" y="314172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5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Text Box 15"/>
          <p:cNvSpPr/>
          <p:nvPr/>
        </p:nvSpPr>
        <p:spPr>
          <a:xfrm>
            <a:off x="755640" y="3860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6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Text Box 16"/>
          <p:cNvSpPr/>
          <p:nvPr/>
        </p:nvSpPr>
        <p:spPr>
          <a:xfrm>
            <a:off x="1547640" y="1052640"/>
            <a:ext cx="11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ди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Text Box 18"/>
          <p:cNvSpPr/>
          <p:nvPr/>
        </p:nvSpPr>
        <p:spPr>
          <a:xfrm>
            <a:off x="1547640" y="177336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три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Text Box 19"/>
          <p:cNvSpPr/>
          <p:nvPr/>
        </p:nvSpPr>
        <p:spPr>
          <a:xfrm>
            <a:off x="1476360" y="2421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тетра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Text Box 20"/>
          <p:cNvSpPr/>
          <p:nvPr/>
        </p:nvSpPr>
        <p:spPr>
          <a:xfrm>
            <a:off x="1476360" y="3141720"/>
            <a:ext cx="21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пента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Text Box 21"/>
          <p:cNvSpPr/>
          <p:nvPr/>
        </p:nvSpPr>
        <p:spPr>
          <a:xfrm>
            <a:off x="1476360" y="386064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гекса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Text Box 22"/>
          <p:cNvSpPr/>
          <p:nvPr/>
        </p:nvSpPr>
        <p:spPr>
          <a:xfrm>
            <a:off x="468360" y="76500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Bookman Old Style"/>
              </a:rPr>
              <a:t>ЧИСЛИТЕЛЬНЫ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Text Box 23"/>
          <p:cNvSpPr/>
          <p:nvPr/>
        </p:nvSpPr>
        <p:spPr>
          <a:xfrm>
            <a:off x="4211640" y="76500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Bookman Old Style"/>
              </a:rPr>
              <a:t>НАЗВАНИЯ ЛИГАНД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Text Box 24"/>
          <p:cNvSpPr/>
          <p:nvPr/>
        </p:nvSpPr>
        <p:spPr>
          <a:xfrm>
            <a:off x="4427640" y="1125360"/>
            <a:ext cx="2592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Bookman Old Style"/>
              </a:rPr>
              <a:t>2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O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ак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Text Box 26"/>
          <p:cNvSpPr/>
          <p:nvPr/>
        </p:nvSpPr>
        <p:spPr>
          <a:xfrm>
            <a:off x="4356000" y="1773360"/>
            <a:ext cx="2881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NH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Bookman Old Style"/>
              </a:rPr>
              <a:t>3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ам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Text Box 27"/>
          <p:cNvSpPr/>
          <p:nvPr/>
        </p:nvSpPr>
        <p:spPr>
          <a:xfrm>
            <a:off x="4427640" y="249228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Bookman Old Style"/>
              </a:rPr>
              <a:t>С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O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карбони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Text Box 28"/>
          <p:cNvSpPr/>
          <p:nvPr/>
        </p:nvSpPr>
        <p:spPr>
          <a:xfrm>
            <a:off x="4427640" y="328464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O</a:t>
            </a:r>
            <a:r>
              <a:rPr b="1" lang="ru-RU" sz="3200" spc="-1" strike="noStrike">
                <a:solidFill>
                  <a:srgbClr val="ff3300"/>
                </a:solidFill>
                <a:latin typeface="Bookman Old Style"/>
              </a:rPr>
              <a:t>Н</a:t>
            </a:r>
            <a:r>
              <a:rPr b="1" lang="ru-RU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гидроксо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Text Box 29"/>
          <p:cNvSpPr/>
          <p:nvPr/>
        </p:nvSpPr>
        <p:spPr>
          <a:xfrm>
            <a:off x="4427640" y="393372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Bookman Old Style"/>
              </a:rPr>
              <a:t>(С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N)</a:t>
            </a:r>
            <a:r>
              <a:rPr b="1" lang="en-US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циа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Text Box 30"/>
          <p:cNvSpPr/>
          <p:nvPr/>
        </p:nvSpPr>
        <p:spPr>
          <a:xfrm>
            <a:off x="900000" y="5229360"/>
            <a:ext cx="69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F</a:t>
            </a:r>
            <a:r>
              <a:rPr b="1" lang="en-US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, Cl</a:t>
            </a:r>
            <a:r>
              <a:rPr b="1" lang="en-US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, Br</a:t>
            </a:r>
            <a:r>
              <a:rPr b="1" lang="en-US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, I</a:t>
            </a:r>
            <a:r>
              <a:rPr b="1" lang="en-US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фторо-, хлоро-, бромо-, йодо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Text Box 31"/>
          <p:cNvSpPr/>
          <p:nvPr/>
        </p:nvSpPr>
        <p:spPr>
          <a:xfrm>
            <a:off x="4356000" y="4581360"/>
            <a:ext cx="3384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Bookman Old Style"/>
              </a:rPr>
              <a:t>(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NO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Bookman Old Style"/>
              </a:rPr>
              <a:t>3</a:t>
            </a:r>
            <a:r>
              <a:rPr b="1" lang="ru-RU" sz="3200" spc="-1" strike="noStrike">
                <a:solidFill>
                  <a:srgbClr val="ff3300"/>
                </a:solidFill>
                <a:latin typeface="Bookman Old Style"/>
              </a:rPr>
              <a:t>)</a:t>
            </a:r>
            <a:r>
              <a:rPr b="1" lang="ru-RU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нитр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Text Box 2"/>
          <p:cNvSpPr/>
          <p:nvPr/>
        </p:nvSpPr>
        <p:spPr>
          <a:xfrm>
            <a:off x="25092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Bookman Old Style"/>
              </a:rPr>
              <a:t>НОМЕНКЛАТУРА КОМПЛЕКСНЫХ СОЕДИ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Text Box 14"/>
          <p:cNvSpPr/>
          <p:nvPr/>
        </p:nvSpPr>
        <p:spPr>
          <a:xfrm>
            <a:off x="1403280" y="76500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Bookman Old Style"/>
              </a:rPr>
              <a:t>НАЗВАНИЯ АНИОН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Text Box 15"/>
          <p:cNvSpPr/>
          <p:nvPr/>
        </p:nvSpPr>
        <p:spPr>
          <a:xfrm>
            <a:off x="2050920" y="1341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Fe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ферр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Text Box 16"/>
          <p:cNvSpPr/>
          <p:nvPr/>
        </p:nvSpPr>
        <p:spPr>
          <a:xfrm>
            <a:off x="2050920" y="206064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Cu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купр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Text Box 17"/>
          <p:cNvSpPr/>
          <p:nvPr/>
        </p:nvSpPr>
        <p:spPr>
          <a:xfrm>
            <a:off x="2050920" y="270828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Ag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аргент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Text Box 18"/>
          <p:cNvSpPr/>
          <p:nvPr/>
        </p:nvSpPr>
        <p:spPr>
          <a:xfrm>
            <a:off x="2050920" y="342900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Au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аур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Text Box 19"/>
          <p:cNvSpPr/>
          <p:nvPr/>
        </p:nvSpPr>
        <p:spPr>
          <a:xfrm>
            <a:off x="1979640" y="414972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Hg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меркур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Text Box 20"/>
          <p:cNvSpPr/>
          <p:nvPr/>
        </p:nvSpPr>
        <p:spPr>
          <a:xfrm>
            <a:off x="2050920" y="5516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Al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алюмин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Text Box 21"/>
          <p:cNvSpPr/>
          <p:nvPr/>
        </p:nvSpPr>
        <p:spPr>
          <a:xfrm>
            <a:off x="2050920" y="486900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Zn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цинк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1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8T12:29:01Z</dcterms:created>
  <dc:creator>Марина</dc:creator>
  <dc:description/>
  <dc:language>en-US</dc:language>
  <cp:lastModifiedBy>LEGION</cp:lastModifiedBy>
  <dcterms:modified xsi:type="dcterms:W3CDTF">2015-05-01T11:26:32Z</dcterms:modified>
  <cp:revision>64</cp:revision>
  <dc:subject/>
  <dc:title>Комплексные соединения</dc:title>
</cp:coreProperties>
</file>