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1B7C-9C3B-4B77-A38F-D2398C42A8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4DF7-A227-4383-99E7-0BEAE7E635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ХИМИЧЕСКИЕ СВО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1. Диссоц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↔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+ 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по внешне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→KFe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3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→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с участием лига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4HCl→4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+Cu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+3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D7A7-5419-4451-A0FF-540E99B7EA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лексны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асителей (кобальтовые краски), ядохимикаты, удоб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тановления жесткости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тимуляторов биохим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деления некоторых металлов (лантаноидов) и получения металлов высокой чист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алитической химии для определения ионов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4C49-ECCF-4E42-8E15-C4E969205A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Mg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2505-9089-47B3-BAF5-9DD0FBA8A4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форм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Гесацианоферрат (3)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Тетрагидроксоцинкат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ексафторалюминат натр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Хлорид гексааквахрома (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Тетрацианомеркурат (2)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идроксид диаминсеребра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23C7-0F7D-43E1-B8B1-7A4054075C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Zn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l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Cr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a[Hg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BF6C-D93C-4BD0-9A35-DF8B60966E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9FE6-CD32-4BEB-B806-A9D51067AB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Основные положения координационной теории  (1893г. Альфред Верне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ообразов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ган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Центральный ион (атом) с лигандами обра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 координационную сфер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ения, которую при написании заключают в квадратные ско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ординационным числ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которое чаще всего принимает значения 2,4,6,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юю координационн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BAAF-215C-46BA-970D-9790E95B34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FF6-F634-44EC-8ADF-1F474E19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698-DD74-4F32-A300-91A64E7D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776C1-D5F1-4079-9D9B-3EEB149E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BE587-6CE7-4E49-B187-92A91154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CBDAE-913D-422C-A85F-E1BACEBE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0639E-AF9D-42C7-96A1-521EFC44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CAC13-2B6E-4FD1-8DFC-D2B48F02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9428A-02C8-4EF0-9DB5-4008A8AF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ABA7A-6C65-4064-A0D6-79EBE1EC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C2883-EF18-4918-B88C-923D2908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06EFA-B49D-4412-886A-9FD41A36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9740F-D520-49D6-A934-9AA27A90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44F-7D3B-440B-9AD8-767E1175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99FA5-C0FA-4D8B-AB71-DC2510EE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C7411-B9BB-4F25-B14B-3A2308B7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947F7-BE63-47A5-A8B8-20AAA5EC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AD27F-4165-43C9-B588-DA42264F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107C4-9153-4475-9573-023D1A4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7F51D-97F5-4F25-BDF9-6E9B2779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A37A6-8766-40F8-9356-08BA104F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BDDF3-EEC7-434E-BD4E-15BF97D8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B3FF4-9D3A-4D65-9FC4-0D03444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7D912-01CE-40B2-9D30-7BC11F70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2F3-B1D6-4615-8AE7-7CC7B887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3FA71-6A8E-4F9C-B1EE-3C07A867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82D48-394F-4292-8B7B-FCD3689F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883B4-AA87-4204-A902-22CBE2B3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90E74-4AEB-4211-B038-74F99264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5F41E-BD1E-4A86-9EBB-1ADB01C2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636CF-AD29-4992-BADE-ECC0E155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107AE-9B4F-49AD-B3C7-5FBF7D0A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C00A3-68D6-4973-9C9A-717156EF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E0BC6-1FF0-489B-8F83-AEA2E7AC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A7F9C-EAD6-44EB-BF47-4DD4F38D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4347-F2DC-4643-8324-9555C58E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48F02-AAAD-478D-A7A4-580BC57A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1289F-725F-44F5-8883-6D036E56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AD001-6944-4555-A307-2B52CA6F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DFC02E-E5FB-4C84-8B75-12EC9BEB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9AD9EB-AFE6-4FEE-8DE8-845C2C88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4E9C43-2281-4FA3-AF7A-2F94ABCD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E48F7E-2B0B-4AFC-BF8E-8A9565B6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765574-B323-41EE-8B87-64D77C03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C4BAF0-DA5E-4044-BFAA-5DC5D704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59560E-F7C0-4F8C-860D-14A2C69A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E154-1C38-4D6E-9A38-AB574E3E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F28091-BECC-4219-A7F8-CE9A489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5964EE-5F08-4A2C-A2F7-E20561B7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0CD544-A178-4356-9253-8F99061D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59D40D-167D-4811-9448-65195A83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3EA386-258B-4CC0-A9EC-B1DF0F3D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B92C9-82E1-460B-97FD-A6E8F464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709ECF-2340-4363-A039-CACB5FC1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A14FF-690A-4A4C-B1B1-58F6B4E7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4DE5D-9851-441F-8005-B28E262F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13955-017C-43B0-BBAE-1C4FF397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5749-482B-4A93-B4A0-0AB70B51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9806B-C55E-47BE-81C5-9D381C27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D0CF9-031E-4939-8D8E-C606CBA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4EF1E-64FE-4462-9011-604D3C0A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CF445-D848-485A-BB54-DFA94AB3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A99D3-CB67-44CB-840B-4C173950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D4438-9450-40FE-942F-84557C85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19957-F28B-4997-95B2-89FD9F5C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2BEFC-C0AC-4275-A82E-7DBCE695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82D38-7B19-4918-93C3-BAF7B4E3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A2BA2-D71F-4CB4-B8C4-3FB04BE7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4AB3-F57D-4F0A-9EC9-7D6FB41D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3AEE2-DB2A-4687-85D4-850BC39D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3BC55-583D-4300-A2DF-907742E0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F9794-9932-4257-8D60-61F75F70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95C75-C106-412C-9B8C-3996175C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041B72-B497-4381-BC8C-4F858361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5F00E-3202-42B8-9396-9EA97D09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299FB-7EA6-471A-A49D-1A4F6183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B3FA3-2828-4665-8563-D6FE86BE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BA59B-D058-4853-AA32-61E999D3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D385-E12F-44CE-BFB1-B8C4E28C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CDD6-22D5-404B-B6A1-C70FA077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67E2-D283-40AC-8C42-E5132340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D1D-312C-4077-AA7A-03F42B0E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2758-319D-49AA-9ED3-6534AC49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8EED-500F-4192-93C3-62E27C9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5CE2-3777-40CB-B719-BBEB18B9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6705-1E3D-43DF-AAAE-CE767CD8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E7C6-555F-413C-A024-444679AC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0C7FD-8F5B-422C-9C42-D741E72A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9434-C239-4C1C-8C24-F95B4800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B575F-3AE8-4DB3-962A-F2DF24C8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2D978-0F86-4DBD-A958-F3C078F4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57961-5775-4A80-ACC1-D242C60D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2DE-31B4-4D13-AA5B-1D708C3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3BF8-CA9D-4175-A495-54EB4D73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FB69A-BF1B-4A19-968E-036E9CC6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8A3BC-35B6-4277-9EE2-84C1B3B4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C72D-42FE-48F8-8ECB-15582D8A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90B8-EE87-4780-B7DB-753A6A3D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27BB7-FC9B-4B86-A24C-8C95AF73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D166C-F89D-42CC-9D2A-D85EF542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5D492-6693-45DD-B4C1-6F1FE159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E88C1-2D02-4C20-BDD8-8602D7AA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62F7-D133-4B4A-921F-16B4A69E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A2CA-A42E-4BF7-A4A4-D14D07CC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9961-6BD4-4CDE-A00D-4785908E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68368-3AC4-46B2-B7BC-BC1830F4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9AF79-6973-4D98-B21A-AD356465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A9A0B-0016-4261-AD72-36EB47E3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6FE5-4F36-4EFF-960F-805D9E3F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2826-9212-4711-B2C4-8C3BC09A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6724C-376D-4EFB-87F7-3274A4AA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8DFBE-5647-44FA-B921-A9010F97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EA35B-B7A4-4708-8598-F4D47896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10A46-9326-45DB-834C-310F5D15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F1F-CAB8-4811-89D9-9ED02ECC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43ACF-8746-4469-83B1-51298A82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19200-143F-4D55-9A8E-8389EBAD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F6720-9BFF-48E0-897D-30417426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8C6BE-318E-4463-887B-F63EDF5D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60A26-BC63-433E-8723-47F49A10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2906E-49FA-40B5-872F-F2273EE9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C630E-897D-4F7B-9D63-E20C405F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00184-13A7-49E8-8921-C2C43705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30E7E-A5B8-4454-90B6-F11C6781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C314C-5B33-49E5-A8BB-9F8C43B1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F46-8E69-4A70-8E42-640FD185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081B-DC6D-4A1F-9B43-B520CAFC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FAFC4-F61E-4EBD-8C22-5C5EF426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8275D-DA3B-4E0A-966B-7966D609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463D-F642-4EED-9422-E07F0733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47552-B79F-433E-AA66-2E0074DA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C686D-19FC-4EB4-AEBD-6E73851C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04CDA-2F42-4125-B73B-3260A6B9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35A6-999D-4A58-881B-0B14D287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3EA3F-0010-4948-AE57-091C64F3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D1623-1F12-4AC7-A431-25DCB3AA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26D-5DCD-4AD1-A20D-FF7F3FB7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1CC20-A90C-4FEA-AF32-5AB28B25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74854-E6AB-4BC2-ACEF-F1389CC6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770CA-91AC-4F92-9CC2-F6A115F7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F40AE-9CB4-4A89-BFE4-147C57FF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A15FA-DD1E-4699-BBD3-1A603CBA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00016-E2F7-4DC4-8179-5C9CF408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8828-BF3C-412D-8BFC-6E966D4E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53E06-F046-407D-9459-230426C5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72AE0-F838-4F92-9CB1-ACF61233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AB97E-D7F4-44C4-9682-DC1E2E72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D73-CB54-40BF-82DB-F7E05D6C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E2853-F421-4997-B1FA-C47EDE1B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D7B32-7A05-45D2-8169-180E3F00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319B3-F718-4DF5-B048-44178703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FBB82-D242-480D-82A8-FDC8C4FA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34553-C1AB-4863-8B64-49F3F3A6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DA5F9-112F-41D5-9780-2CF97E1C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20887-83EF-4E6D-910C-6C360BC0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92E8A-A255-4C91-B2F7-27144842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E4398-F697-48C7-965D-2AF8C5E9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682CC-CCA1-4C99-B327-FFEFCE27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A2E-D381-4524-9F2A-43F35FAF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1FD0C-6881-46F9-A84E-33223290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2C6FA-37CC-444A-AE29-AE5BDB34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CC225-2BAD-4729-9D21-C262873D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F193C-AD54-4FFA-B816-332C8BE9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74CB6-01B3-4526-87BF-338FD5CB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0B452-F043-4D65-8EA6-8D85D158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1E6BD-975D-4F06-8E72-F677F7B0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DE837-B7EE-4B13-A905-A94D6EFF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3CAAB-A26B-453E-9314-E49EC32B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D3312-906F-482B-8F0B-9DEFA46F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6DBA-A5F4-4F73-82F2-A515137057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28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FA6F-A6B8-46AE-A8A5-C0C932EB55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dt" idx="3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5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2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9CEA-0D92-44F0-BC5C-9A9C40B5A8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699C-0B36-4A3C-A8C2-CCD28BED4A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4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3D0E-999F-478E-BEC6-3E0FF421573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F359-3960-4227-899C-4C466683D81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06EA-C530-47A9-8D36-DA3843F5A4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5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5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5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6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7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7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8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8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8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9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9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9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0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0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0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1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0449-B371-4F69-9337-DBE7793A35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9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3FB0-0E39-41B3-8E13-8A9C2FD93C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6196-AEA0-4A73-81B0-076C3737DA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CBED-8A6F-4AD1-9965-45762D90E4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0356-D0A7-4AD6-B5C7-76EFDA8ED14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892E-CE10-4810-B9F5-FEBADC3C25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462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642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648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4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05FF-5E3F-4347-88C8-043E6F56F3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9930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КОМПЛЕКСНЫЕ </a:t>
            </a:r>
            <a:br>
              <a:rPr sz="4400"/>
            </a:b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СОЕДИН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84360" y="1159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Monotype Corsiva"/>
              </a:rPr>
              <a:t>Муниципальное общеобразовательное учреждение Сусанинская средня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4356000" y="4365720"/>
            <a:ext cx="439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176"/>
                </a:solidFill>
                <a:latin typeface="Bookman Old Style"/>
              </a:rPr>
              <a:t>Выполнила: учитель хим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176"/>
                </a:solidFill>
                <a:latin typeface="Bookman Old Style"/>
              </a:rPr>
              <a:t>                        </a:t>
            </a:r>
            <a:r>
              <a:rPr b="1" i="1" lang="ru-RU" sz="2000" spc="-1" strike="noStrike">
                <a:solidFill>
                  <a:srgbClr val="404176"/>
                </a:solidFill>
                <a:latin typeface="Bookman Old Style"/>
              </a:rPr>
              <a:t>Обливанова Светлана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12"/>
          <p:cNvSpPr/>
          <p:nvPr/>
        </p:nvSpPr>
        <p:spPr>
          <a:xfrm>
            <a:off x="5003640" y="162864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3"/>
          <p:cNvSpPr/>
          <p:nvPr/>
        </p:nvSpPr>
        <p:spPr>
          <a:xfrm>
            <a:off x="3635280" y="1628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идрок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4284720" y="162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2411280" y="907920"/>
            <a:ext cx="136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Na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788000" y="907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OH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4"/>
          <p:cNvSpPr/>
          <p:nvPr/>
        </p:nvSpPr>
        <p:spPr>
          <a:xfrm>
            <a:off x="3492360" y="907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Zn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6804000" y="162864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на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18"/>
          <p:cNvSpPr/>
          <p:nvPr/>
        </p:nvSpPr>
        <p:spPr>
          <a:xfrm>
            <a:off x="2268360" y="2492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Cr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9"/>
          <p:cNvSpPr/>
          <p:nvPr/>
        </p:nvSpPr>
        <p:spPr>
          <a:xfrm>
            <a:off x="3419640" y="2492280"/>
            <a:ext cx="1942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H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O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20"/>
          <p:cNvSpPr/>
          <p:nvPr/>
        </p:nvSpPr>
        <p:spPr>
          <a:xfrm>
            <a:off x="5076720" y="249228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21"/>
          <p:cNvSpPr/>
          <p:nvPr/>
        </p:nvSpPr>
        <p:spPr>
          <a:xfrm>
            <a:off x="5508720" y="249228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Cl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2"/>
          <p:cNvSpPr/>
          <p:nvPr/>
        </p:nvSpPr>
        <p:spPr>
          <a:xfrm>
            <a:off x="611280" y="3716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хлори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3"/>
          <p:cNvSpPr/>
          <p:nvPr/>
        </p:nvSpPr>
        <p:spPr>
          <a:xfrm>
            <a:off x="4500720" y="3716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24"/>
          <p:cNvSpPr/>
          <p:nvPr/>
        </p:nvSpPr>
        <p:spPr>
          <a:xfrm>
            <a:off x="3132000" y="371628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25"/>
          <p:cNvSpPr/>
          <p:nvPr/>
        </p:nvSpPr>
        <p:spPr>
          <a:xfrm>
            <a:off x="5796000" y="3716280"/>
            <a:ext cx="33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x</a:t>
            </a: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ром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27"/>
          <p:cNvSpPr/>
          <p:nvPr/>
        </p:nvSpPr>
        <p:spPr>
          <a:xfrm>
            <a:off x="3059280" y="450864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K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28"/>
          <p:cNvSpPr/>
          <p:nvPr/>
        </p:nvSpPr>
        <p:spPr>
          <a:xfrm>
            <a:off x="3995640" y="450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Hg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9"/>
          <p:cNvSpPr/>
          <p:nvPr/>
        </p:nvSpPr>
        <p:spPr>
          <a:xfrm>
            <a:off x="5148360" y="4581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I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30"/>
          <p:cNvSpPr/>
          <p:nvPr/>
        </p:nvSpPr>
        <p:spPr>
          <a:xfrm>
            <a:off x="5796000" y="4508640"/>
            <a:ext cx="72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31"/>
          <p:cNvSpPr/>
          <p:nvPr/>
        </p:nvSpPr>
        <p:spPr>
          <a:xfrm>
            <a:off x="250920" y="530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32"/>
          <p:cNvSpPr/>
          <p:nvPr/>
        </p:nvSpPr>
        <p:spPr>
          <a:xfrm>
            <a:off x="2050920" y="5300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й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 Box 33"/>
          <p:cNvSpPr/>
          <p:nvPr/>
        </p:nvSpPr>
        <p:spPr>
          <a:xfrm>
            <a:off x="3348000" y="530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меркурат 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7020000" y="530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ал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L -0.54705 0.00139 E">
                                      <p:cBhvr>
                                        <p:cTn id="630" dur="1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10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69942E-006 L -0.2243 0.00139 E">
                                      <p:cBhvr>
                                        <p:cTn id="643" dur="1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2000" fill="hold"/>
                                        <p:tgtEl>
                                          <p:spTgt spid="10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7" dur="2000" fill="hold"/>
                                        <p:tgtEl>
                                          <p:spTgt spid="10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9" dur="2000" fill="hold"/>
                                        <p:tgtEl>
                                          <p:spTgt spid="1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2000" fill="hold"/>
                                        <p:tgtEl>
                                          <p:spTgt spid="10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10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9" dur="2000" fill="hold"/>
                                        <p:tgtEl>
                                          <p:spTgt spid="10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1" dur="2000" fill="hold"/>
                                        <p:tgtEl>
                                          <p:spTgt spid="1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1" dur="2000" fill="hold"/>
                                        <p:tgtEl>
                                          <p:spTgt spid="1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1" dur="2000" fill="hold"/>
                                        <p:tgtEl>
                                          <p:spTgt spid="1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1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2987640" y="981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2843280" y="263700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3"/>
          <p:cNvSpPr/>
          <p:nvPr/>
        </p:nvSpPr>
        <p:spPr>
          <a:xfrm>
            <a:off x="2700360" y="4149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фтор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1692360" y="328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Тетрагидрокс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1835280" y="5157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ционоферр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2627280" y="98100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ульфат тетраамминмеди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9"/>
          <p:cNvSpPr/>
          <p:nvPr/>
        </p:nvSpPr>
        <p:spPr>
          <a:xfrm>
            <a:off x="2627280" y="249228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g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10"/>
          <p:cNvSpPr/>
          <p:nvPr/>
        </p:nvSpPr>
        <p:spPr>
          <a:xfrm>
            <a:off x="1692360" y="342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диамминсереб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11"/>
          <p:cNvSpPr/>
          <p:nvPr/>
        </p:nvSpPr>
        <p:spPr>
          <a:xfrm>
            <a:off x="1619280" y="5373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гексааквахрома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2"/>
          <p:cNvSpPr/>
          <p:nvPr/>
        </p:nvSpPr>
        <p:spPr>
          <a:xfrm>
            <a:off x="2556000" y="4365720"/>
            <a:ext cx="460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O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3"/>
          <p:cNvSpPr/>
          <p:nvPr/>
        </p:nvSpPr>
        <p:spPr>
          <a:xfrm>
            <a:off x="1692360" y="1484280"/>
            <a:ext cx="54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6"/>
          <p:cNvSpPr/>
          <p:nvPr/>
        </p:nvSpPr>
        <p:spPr>
          <a:xfrm>
            <a:off x="684360" y="765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хлороплатинат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(IV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7"/>
          <p:cNvSpPr/>
          <p:nvPr/>
        </p:nvSpPr>
        <p:spPr>
          <a:xfrm>
            <a:off x="468360" y="2205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Нитрат хлоронитротетраамминкобальта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1258920" y="3500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гидроксохром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111600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ОСТАВЬТЕ ФОРМУЛЫ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539640" y="2781360"/>
            <a:ext cx="8353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o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Cl]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 Box 11"/>
          <p:cNvSpPr/>
          <p:nvPr/>
        </p:nvSpPr>
        <p:spPr>
          <a:xfrm>
            <a:off x="1908000" y="4149720"/>
            <a:ext cx="547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13"/>
          <p:cNvSpPr/>
          <p:nvPr/>
        </p:nvSpPr>
        <p:spPr>
          <a:xfrm>
            <a:off x="826920" y="501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итрат гексаамминникеля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4"/>
          <p:cNvSpPr/>
          <p:nvPr/>
        </p:nvSpPr>
        <p:spPr>
          <a:xfrm>
            <a:off x="1258920" y="5734080"/>
            <a:ext cx="66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Ni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(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0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4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2"/>
          <p:cNvSpPr/>
          <p:nvPr/>
        </p:nvSpPr>
        <p:spPr>
          <a:xfrm>
            <a:off x="97164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ЛУЧЕНИЕ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250920" y="765000"/>
            <a:ext cx="8424720" cy="25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тетрагидроксоалюмината на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l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3NaOH = 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OH = Na[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0" y="3573360"/>
            <a:ext cx="90360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гидроксида тетраамминмеди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u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+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 = 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4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[Cu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Bookman Old Style"/>
              </a:rPr>
              <a:t>ХИМИЧЕСКИЕ СВОЙСТВ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1. Диссоци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↔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+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+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по внешне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e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→KFe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K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→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с участием лиган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4HCl→4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+Cu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+3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"/>
          <p:cNvSpPr/>
          <p:nvPr/>
        </p:nvSpPr>
        <p:spPr>
          <a:xfrm>
            <a:off x="3132000" y="4653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менение комплексных соединен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красителей (кобальтовые краски), ядохимикаты, удоб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ления жесткости 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стимуляторов биохимических проце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зделения некоторых металлов (лантаноидов) и получения металлов высокой чист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налитической химии для определения ионов, например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+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2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500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2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2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e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Mg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формул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Гесацианоферрат (3)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Тетрагидроксоцинкат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Гексафторалюминат натр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Хлорид гексааквахрома (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Тетрацианомеркурат (2) каль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Гидроксид диаминсеребра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6" name="Picture 4" descr="Research"/>
          <p:cNvPicPr/>
          <p:nvPr/>
        </p:nvPicPr>
        <p:blipFill>
          <a:blip r:embed="rId1"/>
          <a:stretch/>
        </p:blipFill>
        <p:spPr>
          <a:xfrm>
            <a:off x="7451640" y="-316080"/>
            <a:ext cx="1152720" cy="1440000"/>
          </a:xfrm>
          <a:prstGeom prst="rect">
            <a:avLst/>
          </a:prstGeom>
          <a:ln w="0">
            <a:noFill/>
          </a:ln>
        </p:spPr>
      </p:pic>
      <p:sp>
        <p:nvSpPr>
          <p:cNvPr id="115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Fe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Zn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l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Cr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[Hg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0" name="Picture 4" descr="image595"/>
          <p:cNvPicPr/>
          <p:nvPr/>
        </p:nvPicPr>
        <p:blipFill>
          <a:blip r:embed="rId1"/>
          <a:stretch/>
        </p:blipFill>
        <p:spPr>
          <a:xfrm>
            <a:off x="7885080" y="62064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1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4"/>
          <p:cNvSpPr/>
          <p:nvPr/>
        </p:nvSpPr>
        <p:spPr>
          <a:xfrm>
            <a:off x="900000" y="1844640"/>
            <a:ext cx="7920000" cy="25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612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Основные положения координационной теории  (1893г. Альфред Верне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516880" cy="488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лексообразова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иган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Центральный ион (атом) с лигандами образуе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утреннюю координационную сфер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единения, которую при написании заключают в квадратные скоб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ординационным числ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которое чаще всего принимает значения 2,4,6,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ешнюю координационную сфер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7"/>
          <p:cNvSpPr/>
          <p:nvPr/>
        </p:nvSpPr>
        <p:spPr>
          <a:xfrm>
            <a:off x="179280" y="404640"/>
            <a:ext cx="896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Bookman Old Style"/>
              </a:rPr>
              <a:t>СТРОЕНИЕ КОМПЛЕКСНЫХ СОЕДИН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WordArt 4"/>
          <p:cNvSpPr txBox="1"/>
          <p:nvPr/>
        </p:nvSpPr>
        <p:spPr>
          <a:xfrm>
            <a:off x="3708360" y="278136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WordArt 5"/>
          <p:cNvSpPr txBox="1"/>
          <p:nvPr/>
        </p:nvSpPr>
        <p:spPr>
          <a:xfrm>
            <a:off x="2340000" y="2852640"/>
            <a:ext cx="64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WordArt 6"/>
          <p:cNvSpPr txBox="1"/>
          <p:nvPr/>
        </p:nvSpPr>
        <p:spPr>
          <a:xfrm>
            <a:off x="5003640" y="2781360"/>
            <a:ext cx="64944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WordArt 7"/>
          <p:cNvSpPr txBox="1"/>
          <p:nvPr/>
        </p:nvSpPr>
        <p:spPr>
          <a:xfrm>
            <a:off x="3708360" y="450864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WordArt 8"/>
          <p:cNvSpPr txBox="1"/>
          <p:nvPr/>
        </p:nvSpPr>
        <p:spPr>
          <a:xfrm>
            <a:off x="7093080" y="2565360"/>
            <a:ext cx="8650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l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WordArt 13"/>
          <p:cNvSpPr txBox="1"/>
          <p:nvPr/>
        </p:nvSpPr>
        <p:spPr>
          <a:xfrm>
            <a:off x="4643280" y="765000"/>
            <a:ext cx="57636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WordArt 14"/>
          <p:cNvSpPr txBox="1"/>
          <p:nvPr/>
        </p:nvSpPr>
        <p:spPr>
          <a:xfrm>
            <a:off x="8172360" y="2349360"/>
            <a:ext cx="5050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WordArt 15"/>
          <p:cNvSpPr txBox="1"/>
          <p:nvPr/>
        </p:nvSpPr>
        <p:spPr>
          <a:xfrm>
            <a:off x="1908000" y="692280"/>
            <a:ext cx="432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8" name="WordArt 16"/>
          <p:cNvSpPr txBox="1"/>
          <p:nvPr/>
        </p:nvSpPr>
        <p:spPr>
          <a:xfrm>
            <a:off x="5796000" y="692280"/>
            <a:ext cx="50472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9" name="WordArt 18"/>
          <p:cNvSpPr txBox="1"/>
          <p:nvPr/>
        </p:nvSpPr>
        <p:spPr>
          <a:xfrm>
            <a:off x="3203640" y="2997360"/>
            <a:ext cx="28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WordArt 19"/>
          <p:cNvSpPr txBox="1"/>
          <p:nvPr/>
        </p:nvSpPr>
        <p:spPr>
          <a:xfrm>
            <a:off x="3635280" y="2276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WordArt 20"/>
          <p:cNvSpPr txBox="1"/>
          <p:nvPr/>
        </p:nvSpPr>
        <p:spPr>
          <a:xfrm>
            <a:off x="4140360" y="2276640"/>
            <a:ext cx="358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WordArt 21"/>
          <p:cNvSpPr txBox="1"/>
          <p:nvPr/>
        </p:nvSpPr>
        <p:spPr>
          <a:xfrm>
            <a:off x="4643280" y="2997360"/>
            <a:ext cx="287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WordArt 22"/>
          <p:cNvSpPr txBox="1"/>
          <p:nvPr/>
        </p:nvSpPr>
        <p:spPr>
          <a:xfrm>
            <a:off x="3780000" y="407664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WordArt 23"/>
          <p:cNvSpPr txBox="1"/>
          <p:nvPr/>
        </p:nvSpPr>
        <p:spPr>
          <a:xfrm>
            <a:off x="320364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WordArt 25"/>
          <p:cNvSpPr txBox="1"/>
          <p:nvPr/>
        </p:nvSpPr>
        <p:spPr>
          <a:xfrm>
            <a:off x="464328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WordArt 26"/>
          <p:cNvSpPr txBox="1"/>
          <p:nvPr/>
        </p:nvSpPr>
        <p:spPr>
          <a:xfrm>
            <a:off x="4284720" y="4076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3780000" y="1052640"/>
            <a:ext cx="180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NH</a:t>
            </a:r>
            <a:r>
              <a:rPr b="1" lang="en-US" sz="36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WordArt 29"/>
          <p:cNvSpPr txBox="1"/>
          <p:nvPr/>
        </p:nvSpPr>
        <p:spPr>
          <a:xfrm>
            <a:off x="3708360" y="1125360"/>
            <a:ext cx="64944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1403280" y="4437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2700360" y="515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125892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ОРДИНАЦИОННОЕ ЧИСЛО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1763640" y="587700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119640" y="486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1835280" y="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341E-006 L -0.32691 0.00416 E">
                                      <p:cBhvr>
                                        <p:cTn id="145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5" dur="1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4"/>
          <p:cNvSpPr/>
          <p:nvPr/>
        </p:nvSpPr>
        <p:spPr>
          <a:xfrm>
            <a:off x="2195640" y="620640"/>
            <a:ext cx="5111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1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900000" y="3068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5651640" y="2637000"/>
            <a:ext cx="252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H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1042920" y="21337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1042920" y="3933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10"/>
          <p:cNvSpPr/>
          <p:nvPr/>
        </p:nvSpPr>
        <p:spPr>
          <a:xfrm>
            <a:off x="6659640" y="3645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11"/>
          <p:cNvSpPr/>
          <p:nvPr/>
        </p:nvSpPr>
        <p:spPr>
          <a:xfrm>
            <a:off x="1116000" y="479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12"/>
          <p:cNvSpPr/>
          <p:nvPr/>
        </p:nvSpPr>
        <p:spPr>
          <a:xfrm>
            <a:off x="3564000" y="4508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13"/>
          <p:cNvSpPr/>
          <p:nvPr/>
        </p:nvSpPr>
        <p:spPr>
          <a:xfrm>
            <a:off x="1042920" y="558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14"/>
          <p:cNvSpPr/>
          <p:nvPr/>
        </p:nvSpPr>
        <p:spPr>
          <a:xfrm>
            <a:off x="5148360" y="566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7164360" y="54450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 Box 6"/>
          <p:cNvSpPr/>
          <p:nvPr/>
        </p:nvSpPr>
        <p:spPr>
          <a:xfrm>
            <a:off x="493236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 Box 4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5"/>
          <p:cNvSpPr/>
          <p:nvPr/>
        </p:nvSpPr>
        <p:spPr>
          <a:xfrm>
            <a:off x="356400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8"/>
          <p:cNvSpPr/>
          <p:nvPr/>
        </p:nvSpPr>
        <p:spPr>
          <a:xfrm>
            <a:off x="2556000" y="9079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9"/>
          <p:cNvSpPr/>
          <p:nvPr/>
        </p:nvSpPr>
        <p:spPr>
          <a:xfrm>
            <a:off x="1979640" y="177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+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10"/>
          <p:cNvSpPr/>
          <p:nvPr/>
        </p:nvSpPr>
        <p:spPr>
          <a:xfrm>
            <a:off x="3635280" y="17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1"/>
          <p:cNvSpPr/>
          <p:nvPr/>
        </p:nvSpPr>
        <p:spPr>
          <a:xfrm>
            <a:off x="4356000" y="17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(-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12"/>
          <p:cNvSpPr/>
          <p:nvPr/>
        </p:nvSpPr>
        <p:spPr>
          <a:xfrm>
            <a:off x="644364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13"/>
          <p:cNvSpPr/>
          <p:nvPr/>
        </p:nvSpPr>
        <p:spPr>
          <a:xfrm>
            <a:off x="3348000" y="907920"/>
            <a:ext cx="50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4"/>
          <p:cNvSpPr/>
          <p:nvPr/>
        </p:nvSpPr>
        <p:spPr>
          <a:xfrm>
            <a:off x="298764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5"/>
          <p:cNvSpPr/>
          <p:nvPr/>
        </p:nvSpPr>
        <p:spPr>
          <a:xfrm>
            <a:off x="5940360" y="177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4 =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7"/>
          <p:cNvSpPr/>
          <p:nvPr/>
        </p:nvSpPr>
        <p:spPr>
          <a:xfrm>
            <a:off x="2411280" y="2637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0-2+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8"/>
          <p:cNvSpPr/>
          <p:nvPr/>
        </p:nvSpPr>
        <p:spPr>
          <a:xfrm>
            <a:off x="2411280" y="335772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9"/>
          <p:cNvSpPr/>
          <p:nvPr/>
        </p:nvSpPr>
        <p:spPr>
          <a:xfrm>
            <a:off x="2340000" y="4797360"/>
            <a:ext cx="431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5"/>
          <p:cNvSpPr/>
          <p:nvPr/>
        </p:nvSpPr>
        <p:spPr>
          <a:xfrm>
            <a:off x="468360" y="260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АССТАВЬТЕ СТЕПЕНЬ ОКИСЛЕНИЯ ИОНА КОМПЛЕКСООБРАЗОВАТЕ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7"/>
          <p:cNvSpPr/>
          <p:nvPr/>
        </p:nvSpPr>
        <p:spPr>
          <a:xfrm>
            <a:off x="0" y="1413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8"/>
          <p:cNvSpPr/>
          <p:nvPr/>
        </p:nvSpPr>
        <p:spPr>
          <a:xfrm>
            <a:off x="3564000" y="1413000"/>
            <a:ext cx="52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9"/>
          <p:cNvSpPr/>
          <p:nvPr/>
        </p:nvSpPr>
        <p:spPr>
          <a:xfrm>
            <a:off x="0" y="227664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[Mg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0" y="306864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179280" y="3933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179280" y="4797360"/>
            <a:ext cx="324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0" y="5661000"/>
            <a:ext cx="360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348000" y="306864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564000" y="2276640"/>
            <a:ext cx="51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M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3348000" y="393372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CN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17"/>
          <p:cNvSpPr/>
          <p:nvPr/>
        </p:nvSpPr>
        <p:spPr>
          <a:xfrm>
            <a:off x="3492360" y="4797360"/>
            <a:ext cx="5651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3203640" y="5661000"/>
            <a:ext cx="594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[Cu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(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11"/>
          <p:cNvSpPr/>
          <p:nvPr/>
        </p:nvSpPr>
        <p:spPr>
          <a:xfrm>
            <a:off x="755640" y="112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2"/>
          <p:cNvSpPr/>
          <p:nvPr/>
        </p:nvSpPr>
        <p:spPr>
          <a:xfrm>
            <a:off x="75564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4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755640" y="17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3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4"/>
          <p:cNvSpPr/>
          <p:nvPr/>
        </p:nvSpPr>
        <p:spPr>
          <a:xfrm>
            <a:off x="755640" y="314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5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5"/>
          <p:cNvSpPr/>
          <p:nvPr/>
        </p:nvSpPr>
        <p:spPr>
          <a:xfrm>
            <a:off x="755640" y="386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6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6"/>
          <p:cNvSpPr/>
          <p:nvPr/>
        </p:nvSpPr>
        <p:spPr>
          <a:xfrm>
            <a:off x="1547640" y="1052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д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8"/>
          <p:cNvSpPr/>
          <p:nvPr/>
        </p:nvSpPr>
        <p:spPr>
          <a:xfrm>
            <a:off x="154764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р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147636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20"/>
          <p:cNvSpPr/>
          <p:nvPr/>
        </p:nvSpPr>
        <p:spPr>
          <a:xfrm>
            <a:off x="1476360" y="314172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пент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1"/>
          <p:cNvSpPr/>
          <p:nvPr/>
        </p:nvSpPr>
        <p:spPr>
          <a:xfrm>
            <a:off x="1476360" y="3860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 Box 22"/>
          <p:cNvSpPr/>
          <p:nvPr/>
        </p:nvSpPr>
        <p:spPr>
          <a:xfrm>
            <a:off x="468360" y="76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ЧИСЛИ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23"/>
          <p:cNvSpPr/>
          <p:nvPr/>
        </p:nvSpPr>
        <p:spPr>
          <a:xfrm>
            <a:off x="421164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ЛИГАН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24"/>
          <p:cNvSpPr/>
          <p:nvPr/>
        </p:nvSpPr>
        <p:spPr>
          <a:xfrm>
            <a:off x="4427640" y="112536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26"/>
          <p:cNvSpPr/>
          <p:nvPr/>
        </p:nvSpPr>
        <p:spPr>
          <a:xfrm>
            <a:off x="4356000" y="1773360"/>
            <a:ext cx="288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27"/>
          <p:cNvSpPr/>
          <p:nvPr/>
        </p:nvSpPr>
        <p:spPr>
          <a:xfrm>
            <a:off x="4427640" y="2492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карбон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28"/>
          <p:cNvSpPr/>
          <p:nvPr/>
        </p:nvSpPr>
        <p:spPr>
          <a:xfrm>
            <a:off x="4427640" y="328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Н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гидрокс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29"/>
          <p:cNvSpPr/>
          <p:nvPr/>
        </p:nvSpPr>
        <p:spPr>
          <a:xfrm>
            <a:off x="4427640" y="39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)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ци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30"/>
          <p:cNvSpPr/>
          <p:nvPr/>
        </p:nvSpPr>
        <p:spPr>
          <a:xfrm>
            <a:off x="900000" y="522936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F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C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Br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I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фторо-, хлоро-, бромо-, йод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31"/>
          <p:cNvSpPr/>
          <p:nvPr/>
        </p:nvSpPr>
        <p:spPr>
          <a:xfrm>
            <a:off x="4356000" y="4581360"/>
            <a:ext cx="338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)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ни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140328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АНИОН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2050920" y="134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Fe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фер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16"/>
          <p:cNvSpPr/>
          <p:nvPr/>
        </p:nvSpPr>
        <p:spPr>
          <a:xfrm>
            <a:off x="2050920" y="2060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C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куп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17"/>
          <p:cNvSpPr/>
          <p:nvPr/>
        </p:nvSpPr>
        <p:spPr>
          <a:xfrm>
            <a:off x="2050920" y="2708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ргент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18"/>
          <p:cNvSpPr/>
          <p:nvPr/>
        </p:nvSpPr>
        <p:spPr>
          <a:xfrm>
            <a:off x="2050920" y="3429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19"/>
          <p:cNvSpPr/>
          <p:nvPr/>
        </p:nvSpPr>
        <p:spPr>
          <a:xfrm>
            <a:off x="1979640" y="4149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H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мерк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 Box 20"/>
          <p:cNvSpPr/>
          <p:nvPr/>
        </p:nvSpPr>
        <p:spPr>
          <a:xfrm>
            <a:off x="2050920" y="551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l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люмин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21"/>
          <p:cNvSpPr/>
          <p:nvPr/>
        </p:nvSpPr>
        <p:spPr>
          <a:xfrm>
            <a:off x="2050920" y="4869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Zn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2:29:01Z</dcterms:created>
  <dc:creator>Марина</dc:creator>
  <dc:description/>
  <dc:language>en-US</dc:language>
  <cp:lastModifiedBy>LEGION</cp:lastModifiedBy>
  <dcterms:modified xsi:type="dcterms:W3CDTF">2015-05-01T11:26:32Z</dcterms:modified>
  <cp:revision>64</cp:revision>
  <dc:subject/>
  <dc:title>Комплексные соединения</dc:title>
</cp:coreProperties>
</file>