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1ADD-973D-47AF-96DF-5240A8E6755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Е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AA66-3624-443C-ABFD-AA59D8F2D6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ХИМИЧЕСКИЕ СВОЙ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1. Диссоци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Arial"/>
              </a:rPr>
              <a:t>↔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+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+ 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Bookman Old Style"/>
              </a:rPr>
              <a:t>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по внешней 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Fe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→KFe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+3K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→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Ba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еакции с участием лига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[Cu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]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+4HCl→4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l+Cu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4.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2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O+3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Bookman Old Style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D489-DD76-4226-B716-166BD1CB9A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комплексных соедин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красителей (кобальтовые краски), ядохимикаты, удоб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становления жесткости во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стимуляторов биохим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деления некоторых металлов (лантаноидов) и получения металлов высокой чист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налитической химии для определения ионов, например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+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D3B0-0B3F-4384-A827-8FCD256AC3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ресные ф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Fe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1200" spc="-1" strike="noStrike">
                <a:solidFill>
                  <a:srgbClr val="006600"/>
                </a:solidFill>
                <a:latin typeface="Calibri"/>
              </a:rPr>
              <a:t>Mg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2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3DD9-85EE-47EB-B3E4-B46C06C560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форму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Гесацианоферрат (3)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Тетрагидроксоцинкат кал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ексафторалюминат натр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Хлорид гексааквахрома (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Тетрацианомеркурат (2)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Гидроксид диаминсеребра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4D86-2867-4398-882E-1C538288D3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Fe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Zn(OH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l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Cr(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Cl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a[Hg(CN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[Ag(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]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6872-7317-4F19-973E-E58201B75A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3C32-5EE3-4408-8CD6-EAD4D63C875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Calibri"/>
              </a:rPr>
              <a:t>Основные положения координационной теории  (1893г. Альфред Вернер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ообразовате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ган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Центральный ион (атом) с лигандами обра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утреннюю координационную сфер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ения, которую при написании заключают в квадратные ско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ординационным числ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которое чаще всего принимает значения 2,4,6,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нешнюю координационную 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69CB-E076-4794-B0C0-784CC850C7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BF0-931B-4E5D-9DF7-E3D72A77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8DD0-8AD0-4000-9E83-978852B3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EC1A0-8795-45CC-8185-EEAA7A2A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FC9A1-D48D-48BA-BCB5-1EEBEA31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D19AC-9FA2-4608-AC6F-BE291856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0C365-4F49-4F73-AB82-DB0D0996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A6BBC-3B47-48B0-A7DF-706F36A5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F5372-0488-457D-A090-B9EE51F5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49AE6-4247-4699-B1BE-D3B37292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7CA3D-5567-487F-847E-10245C9A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41687-DBC2-4800-A8AF-14284EE9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7E261-4DA2-468A-84A8-13E96D244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6230-2534-49FE-A6CC-130F9968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BF4F99-7DFC-466F-996B-44FA27AA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26BA07-4B5C-4147-8EEA-8D3D0309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EFDDBD-D174-4714-BA0F-152FADFD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6DB8D-CDA1-425D-80D8-90B24D01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A44AF-BD03-403F-9DA8-146CE1B1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3D6731-8D53-4BAA-BBF6-F897FD45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F66E53-91C4-487E-82EC-10153F99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7B910-3B23-4386-BA80-843236F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0537A-36E4-423A-8793-D58A4730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55B37-889D-41EB-9375-05924142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D08-8A81-44BA-9D82-2268A856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2F3F52-ED82-49C0-B0C3-7A98F1D6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0E45F-B4AD-4C61-9730-42B50847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98226-CFF7-4CD0-BF0E-48287AF7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9535F-8687-4FA2-9073-16C7EB77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B5BC0-0252-493C-8B23-AE722DE0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C2E74-1B99-457C-ABAE-7C49E30F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410C3-689C-41A1-A739-045FE7A8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3DF37-9AA4-44B1-A78E-1C690FF4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E01E4-79D0-43E0-BB6D-40828C02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7CB25-BB3D-4F00-B767-390B5744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3D15-FF33-4AB2-976C-9BC30CD76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91E56-AA0D-40E5-90ED-0838D6B2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C5C43-138B-4D43-93EF-5F0FFB21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B853E-B02F-43DF-AFE8-134EB685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31484A-B49E-4201-A9C2-8529A002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B8F649-124F-48CE-BC31-0A728A5C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2CA2F4-E0C9-4D4E-8FBC-87D18AE5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4D8CE9-F6AA-48F7-AEB0-8850D74A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ABD3D7-9D65-4774-A9C4-35DAD99E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205C2F-6F14-4510-9645-EF4E4B1B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844BE3-6766-4513-B474-8C24ED6D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E7EA-6BBC-4AB7-80BE-0C735343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95CE0E-E87F-446C-8FD2-1BA628A2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6F28673-D368-46B7-B659-DABD250A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FDE736-E0DE-4E78-85B1-91FAC961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674997-A485-48A2-B1AB-990BBE05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016FFC-636E-490F-9D68-6E5653EA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2AB23D-3EC1-4E93-9248-FECF55A0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6632A4-E1D4-4265-A7BB-CDE48DD5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0B026-8B8A-4DDE-9210-64141F6B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A419B-A582-4ADA-BB71-C9472A1F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73E69-B026-45D2-B200-B868985F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D191-954F-4F3B-BCB4-0B5398B7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CE241-C100-4E5A-8B0E-73B556F1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6F0C1D-71D0-4D36-9BAF-9EF62E5A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B0836-8AFB-4650-86D3-B136501D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A6BFA-0294-4C47-B935-067B4FA8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9657E-2D1A-485A-9949-327B1BF5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9028C-D935-404C-BAA1-5B3671DA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AF1466-617D-4B97-BA76-FCE4321B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6BFE2-8C9B-4003-982C-C55A2402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81893B-9050-420F-AF36-9D696AA4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D98DE3-E7B3-4B78-AA9D-B3DE9259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2968-C900-4E25-8169-1BBBCB2F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7660A9-F0E8-493E-ACAD-F7955B3D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DA9272-21F2-4B75-9B3A-A272D6EF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5548C-13A7-4BB4-8653-16D0E09D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E1D83-B696-49E4-9DA5-5A63F282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923C4-EAC2-42DC-9F09-00ED34D1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AC9B6-E97E-4F33-AF94-9B5239AD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07307-207D-4DEC-8DE8-980EA2DA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3413BC-329D-4F4F-B5FE-E2372041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3B33C-D555-4876-BFCE-0AB9D60F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8D84-A158-49E1-B3F5-17F0D4BB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A5CD-26A0-455D-A200-F08CC39A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51CE-72C7-4D1A-9456-3B881394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8C7-1CF3-4192-AC1A-58B5B238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35D1-067C-4357-BA3E-317FFE05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2DA86-CA18-4B85-A33C-31A233A3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07BC-0240-476E-9864-282E9706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96BF-416C-41AF-8935-02C867E0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AEF1-25D7-4894-BDBD-C4CD74F9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81316-AC8B-4C4E-B8EC-07064F47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2EE08-9E14-45F8-B1B0-F5E23FBC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1305D-309E-4136-9DF9-D6BA321A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DE92F-2215-4D82-ABD7-39D0FB0B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7AD90-43B7-4BFC-B664-ED21860B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9B10-5A01-4B2C-A48E-A26F032E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04FF2-9721-4519-BCB7-8A1E997B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D6696-9181-4381-BA16-B29D5231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A1A7C-6C22-4776-ABEB-85D98FEE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11D43-D08F-497E-8E13-DFAC0A24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96ECF-FD1D-4DBA-B2A8-89EB409B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E6BE1-F802-44A0-BA8A-94EC9A7C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2B19C-F32D-4045-8004-C86A602B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AE61C-9CA5-427D-B878-3674511A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ACEAB-3B5A-418F-8EF3-1C2ECE93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8A1BC-850B-47E4-B85F-8C2553DB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A3F-4B4D-4D96-9EE7-A52AB6D3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71944-9BFE-4954-937C-669849D4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CB43D-5E31-480A-94F9-8CAB36BA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41D80-51FB-4FAF-87A7-4AAF3BDB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CC85C-B27E-4F2A-AEC1-3F705A8F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5043E-938C-4E70-9423-C7BF15E0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02EA4-9F29-4249-993C-370BA11A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6B653-0695-4ADA-A4F6-4C09EE0C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910B0-C432-4A91-AAA1-6BDC2946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87090-A204-4414-A97D-70D63928E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06620-343B-4D7C-9931-6B6C77BB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8C6A-4D93-4BEF-81EB-8F15804F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88E4F-E5B9-42C9-A008-05299F37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810EE-9D58-437D-8E64-056EAECD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264E7-658D-4C0E-B6A7-1FBA942B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2405C-DDA2-4B8F-9AB4-4E7D0519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AC791-7575-447A-8BCA-50FAD80E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6515D-0E3F-413B-9B4D-EA66AE50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E9E5F-EF28-437E-8AF1-8F5932E8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2E02D-3E9D-46F6-B67D-73B7DC84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83A4E-513A-4EB9-8EB2-2522B194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7410D-D1FD-4D84-96D9-BDFACE25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48A-11EE-4B7C-AB65-42328EDB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864DB-BD80-49F5-90C9-FBE3C67E0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61B5C-4003-4714-894B-BB87FFD6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D5FAA-4B48-4DB8-B3AB-ADE633DF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0B8E7-7F5F-48BC-81C0-BD16CFE0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FF905-9B1B-457D-BADF-B41337CB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420C5-CB3E-448E-92AC-243D931B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49B74-2EF6-4C55-9289-AA9CC064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C23B5-41F0-45F1-94EF-D623123F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88628-AF59-4E06-92D4-5E4B7971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5FE87-4DED-4861-80DE-C140097D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DD7E-CFAC-44D9-B723-60316A4D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D5368-93C3-47E4-BFA5-4CA192A7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795AA-0F53-4B17-A6E1-F8006F5C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5C97A-5C67-4FA3-AABD-BDEF9D21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C36C0-A937-4B8E-9862-DF35F84F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DA6BA-ED16-480D-9266-F7D8AB16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A0A84-DE10-402A-A698-210D5297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A3450-C68C-4FA8-B338-466366F6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541F4-1104-4836-950D-9A0F8EAD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C057C-59BF-4D77-9405-E4EF84E3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96E36-544B-4464-8C97-89426663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E41-A6D1-4DA1-9BC8-967F37EC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5B88B-E08C-470F-AB56-46F87768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8CDFA-2DAF-4D0A-A649-BB39A050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41B6C-7113-42EE-B894-0854F739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463F3-FA28-4071-9142-2AD79EF7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EE387-F24C-43B0-AF61-DCAEB653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59F53-8686-4EBB-9183-E66890BB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D4746-EA75-46CD-90F3-C21F517C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AFB29-8035-48F7-8472-6EE5652A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68EBD-3E71-4D1E-A1B4-1AC95125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3F7C5-BB9F-49F4-A728-E1D2D0DA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DA4-3F41-42F3-BA97-471B35BE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C0F29-20F7-4F93-BE50-B5B543D2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6448B-F995-4BCB-9EAA-C71A5B85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910C9-3D0D-4630-A7B5-B3C0E789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76176-9B17-4643-AC25-DBECF732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3A732-B966-4531-A825-FE4E1E62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244C1-7787-49BE-9EEF-30D0AE50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8F813-AA46-4589-990D-F62623A9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7424D-FFAD-4D50-9EF9-5CDFFCC9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5766E-801E-4DB6-886A-E8DC1E57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ECFD7-AF48-401E-8483-432C3D10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D5F4-686C-4CC2-8FCE-FCB6702117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28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7FF8-F0B8-4C10-96C6-2FDF38C7B6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29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dt" idx="30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75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32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D963-DBDD-4343-A539-4A5CE74E2A7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64CD-B98C-4918-8D22-5D58A82C5E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4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A823-A2C5-4285-BCAF-DD7D130AD35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9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dt" idx="4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ftr" idx="4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67E0-5EB0-440D-9A3D-59C2B952EF5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21C2-2F64-4D99-AD30-6592CE09BB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5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5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5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6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7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7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8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8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8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9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9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9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10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10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10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11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974D-EE32-472F-A00E-6DE82C63A8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96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rc 4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F43B-7D65-4EC4-B4EB-413C1DC817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AFAC-AE74-4B28-AA74-8B2D43B848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B03D-F57A-4788-9E08-83CA8E534BF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3BD9-234F-4F6D-BDF8-73AF3287270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1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933B-47C4-4CB7-9C6A-247DA5A781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462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642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648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4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9388-851C-47CB-BF6B-F5EF84E3E2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10920" y="1915920"/>
            <a:ext cx="7993080" cy="15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КОМПЛЕКСНЫЕ </a:t>
            </a:r>
            <a:br>
              <a:rPr sz="4400"/>
            </a:br>
            <a:r>
              <a:rPr b="1" i="1" lang="ru-RU" sz="4400" spc="-1" strike="noStrike">
                <a:solidFill>
                  <a:srgbClr val="404176"/>
                </a:solidFill>
                <a:latin typeface="Times New Roman"/>
              </a:rPr>
              <a:t>СОЕДИНЕНИЯ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84360" y="11592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176"/>
                </a:solidFill>
                <a:latin typeface="Monotype Corsiva"/>
              </a:rPr>
              <a:t>Муниципальное общеобразовательное учреждение Сусанинская средняя 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4356000" y="4365720"/>
            <a:ext cx="439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176"/>
                </a:solidFill>
                <a:latin typeface="Bookman Old Style"/>
              </a:rPr>
              <a:t>Выполнила: учитель хим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176"/>
                </a:solidFill>
                <a:latin typeface="Bookman Old Style"/>
              </a:rPr>
              <a:t>                        </a:t>
            </a:r>
            <a:r>
              <a:rPr b="1" i="1" lang="ru-RU" sz="2000" spc="-1" strike="noStrike">
                <a:solidFill>
                  <a:srgbClr val="404176"/>
                </a:solidFill>
                <a:latin typeface="Bookman Old Style"/>
              </a:rPr>
              <a:t>Обливанова Светлана Виктор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 Box 12"/>
          <p:cNvSpPr/>
          <p:nvPr/>
        </p:nvSpPr>
        <p:spPr>
          <a:xfrm>
            <a:off x="5003640" y="162864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Text Box 13"/>
          <p:cNvSpPr/>
          <p:nvPr/>
        </p:nvSpPr>
        <p:spPr>
          <a:xfrm>
            <a:off x="3635280" y="16286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идрокс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Text Box 15"/>
          <p:cNvSpPr/>
          <p:nvPr/>
        </p:nvSpPr>
        <p:spPr>
          <a:xfrm>
            <a:off x="4284720" y="1628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Text Box 4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Text Box 5"/>
          <p:cNvSpPr/>
          <p:nvPr/>
        </p:nvSpPr>
        <p:spPr>
          <a:xfrm>
            <a:off x="2411280" y="907920"/>
            <a:ext cx="136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Na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Text Box 10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Text Box 11"/>
          <p:cNvSpPr/>
          <p:nvPr/>
        </p:nvSpPr>
        <p:spPr>
          <a:xfrm>
            <a:off x="4788000" y="9079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OH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Text Box 14"/>
          <p:cNvSpPr/>
          <p:nvPr/>
        </p:nvSpPr>
        <p:spPr>
          <a:xfrm>
            <a:off x="3492360" y="9079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Zn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Text Box 16"/>
          <p:cNvSpPr/>
          <p:nvPr/>
        </p:nvSpPr>
        <p:spPr>
          <a:xfrm>
            <a:off x="6804000" y="162864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натр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Text Box 18"/>
          <p:cNvSpPr/>
          <p:nvPr/>
        </p:nvSpPr>
        <p:spPr>
          <a:xfrm>
            <a:off x="2268360" y="249228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Cr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+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Text Box 19"/>
          <p:cNvSpPr/>
          <p:nvPr/>
        </p:nvSpPr>
        <p:spPr>
          <a:xfrm>
            <a:off x="3419640" y="2492280"/>
            <a:ext cx="1942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(H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O)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20"/>
          <p:cNvSpPr/>
          <p:nvPr/>
        </p:nvSpPr>
        <p:spPr>
          <a:xfrm>
            <a:off x="5076720" y="2492280"/>
            <a:ext cx="576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21"/>
          <p:cNvSpPr/>
          <p:nvPr/>
        </p:nvSpPr>
        <p:spPr>
          <a:xfrm>
            <a:off x="5508720" y="249228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Cl</a:t>
            </a:r>
            <a:r>
              <a:rPr b="1" lang="ru-RU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Text Box 22"/>
          <p:cNvSpPr/>
          <p:nvPr/>
        </p:nvSpPr>
        <p:spPr>
          <a:xfrm>
            <a:off x="611280" y="3716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хлори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Text Box 23"/>
          <p:cNvSpPr/>
          <p:nvPr/>
        </p:nvSpPr>
        <p:spPr>
          <a:xfrm>
            <a:off x="4500720" y="371628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Text Box 24"/>
          <p:cNvSpPr/>
          <p:nvPr/>
        </p:nvSpPr>
        <p:spPr>
          <a:xfrm>
            <a:off x="3132000" y="3716280"/>
            <a:ext cx="17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Text Box 25"/>
          <p:cNvSpPr/>
          <p:nvPr/>
        </p:nvSpPr>
        <p:spPr>
          <a:xfrm>
            <a:off x="5796000" y="3716280"/>
            <a:ext cx="33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x</a:t>
            </a: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ром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 (I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Text Box 27"/>
          <p:cNvSpPr/>
          <p:nvPr/>
        </p:nvSpPr>
        <p:spPr>
          <a:xfrm>
            <a:off x="3059280" y="4508640"/>
            <a:ext cx="115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K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</a:t>
            </a: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Text Box 28"/>
          <p:cNvSpPr/>
          <p:nvPr/>
        </p:nvSpPr>
        <p:spPr>
          <a:xfrm>
            <a:off x="3995640" y="4508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[Hg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Text Box 29"/>
          <p:cNvSpPr/>
          <p:nvPr/>
        </p:nvSpPr>
        <p:spPr>
          <a:xfrm>
            <a:off x="5148360" y="4581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I</a:t>
            </a:r>
            <a:r>
              <a:rPr b="1" lang="en-US" sz="40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30"/>
          <p:cNvSpPr/>
          <p:nvPr/>
        </p:nvSpPr>
        <p:spPr>
          <a:xfrm>
            <a:off x="5796000" y="4508640"/>
            <a:ext cx="720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 Box 31"/>
          <p:cNvSpPr/>
          <p:nvPr/>
        </p:nvSpPr>
        <p:spPr>
          <a:xfrm>
            <a:off x="250920" y="5300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 Box 32"/>
          <p:cNvSpPr/>
          <p:nvPr/>
        </p:nvSpPr>
        <p:spPr>
          <a:xfrm>
            <a:off x="2050920" y="5300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йод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 Box 33"/>
          <p:cNvSpPr/>
          <p:nvPr/>
        </p:nvSpPr>
        <p:spPr>
          <a:xfrm>
            <a:off x="3348000" y="5300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меркурат 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(I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7020000" y="530064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кал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0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2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1" dur="2000" fill="hold"/>
                                        <p:tgtEl>
                                          <p:spTgt spid="10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69942E-006 L -0.54705 0.00139 E">
                                      <p:cBhvr>
                                        <p:cTn id="630" dur="1000" fill="hold"/>
                                        <p:tgtEl>
                                          <p:spTgt spid="10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0" fill="hold"/>
                                        <p:tgtEl>
                                          <p:spTgt spid="10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69942E-006 L -0.2243 0.00139 E">
                                      <p:cBhvr>
                                        <p:cTn id="643" dur="1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7" dur="2000" fill="hold"/>
                                        <p:tgtEl>
                                          <p:spTgt spid="10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7" dur="2000" fill="hold"/>
                                        <p:tgtEl>
                                          <p:spTgt spid="10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5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5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9" dur="2000" fill="hold"/>
                                        <p:tgtEl>
                                          <p:spTgt spid="1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2000" fill="hold"/>
                                        <p:tgtEl>
                                          <p:spTgt spid="10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2000" fill="hold"/>
                                        <p:tgtEl>
                                          <p:spTgt spid="10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9" dur="2000" fill="hold"/>
                                        <p:tgtEl>
                                          <p:spTgt spid="10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1" dur="2000" fill="hold"/>
                                        <p:tgtEl>
                                          <p:spTgt spid="1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1" dur="2000" fill="hold"/>
                                        <p:tgtEl>
                                          <p:spTgt spid="1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1" dur="2000" fill="hold"/>
                                        <p:tgtEl>
                                          <p:spTgt spid="1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remove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1" dur="2000" fill="hold"/>
                                        <p:tgtEl>
                                          <p:spTgt spid="1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Text Box 11"/>
          <p:cNvSpPr/>
          <p:nvPr/>
        </p:nvSpPr>
        <p:spPr>
          <a:xfrm>
            <a:off x="2987640" y="981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Text Box 12"/>
          <p:cNvSpPr/>
          <p:nvPr/>
        </p:nvSpPr>
        <p:spPr>
          <a:xfrm>
            <a:off x="2843280" y="263700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Text Box 13"/>
          <p:cNvSpPr/>
          <p:nvPr/>
        </p:nvSpPr>
        <p:spPr>
          <a:xfrm>
            <a:off x="2700360" y="4149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14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фтор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15"/>
          <p:cNvSpPr/>
          <p:nvPr/>
        </p:nvSpPr>
        <p:spPr>
          <a:xfrm>
            <a:off x="1692360" y="328464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Тетрагидроксоалюминат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16"/>
          <p:cNvSpPr/>
          <p:nvPr/>
        </p:nvSpPr>
        <p:spPr>
          <a:xfrm>
            <a:off x="1835280" y="5157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ционоферр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0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6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8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НАЗОВИТЕ КОМПЛЕКСНЫЕ СОЕДИ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 Box 3"/>
          <p:cNvSpPr/>
          <p:nvPr/>
        </p:nvSpPr>
        <p:spPr>
          <a:xfrm>
            <a:off x="2627280" y="98100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908000" y="1700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Сульфат тетраамминмеди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9"/>
          <p:cNvSpPr/>
          <p:nvPr/>
        </p:nvSpPr>
        <p:spPr>
          <a:xfrm>
            <a:off x="2627280" y="2492280"/>
            <a:ext cx="4608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g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10"/>
          <p:cNvSpPr/>
          <p:nvPr/>
        </p:nvSpPr>
        <p:spPr>
          <a:xfrm>
            <a:off x="1692360" y="3429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диамминсереб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 Box 11"/>
          <p:cNvSpPr/>
          <p:nvPr/>
        </p:nvSpPr>
        <p:spPr>
          <a:xfrm>
            <a:off x="1619280" y="53737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Хлорид гексааквахрома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12"/>
          <p:cNvSpPr/>
          <p:nvPr/>
        </p:nvSpPr>
        <p:spPr>
          <a:xfrm>
            <a:off x="2556000" y="4365720"/>
            <a:ext cx="460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O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0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1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3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Text Box 3"/>
          <p:cNvSpPr/>
          <p:nvPr/>
        </p:nvSpPr>
        <p:spPr>
          <a:xfrm>
            <a:off x="1692360" y="1484280"/>
            <a:ext cx="5472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Pt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Text Box 6"/>
          <p:cNvSpPr/>
          <p:nvPr/>
        </p:nvSpPr>
        <p:spPr>
          <a:xfrm>
            <a:off x="684360" y="7650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хлороплатинат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(IV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ка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Text Box 7"/>
          <p:cNvSpPr/>
          <p:nvPr/>
        </p:nvSpPr>
        <p:spPr>
          <a:xfrm>
            <a:off x="468360" y="220500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Нитрат хлоронитротетраамминкобальта 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8"/>
          <p:cNvSpPr/>
          <p:nvPr/>
        </p:nvSpPr>
        <p:spPr>
          <a:xfrm>
            <a:off x="1258920" y="3500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Гексагидроксохромат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I)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нат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Text Box 9"/>
          <p:cNvSpPr/>
          <p:nvPr/>
        </p:nvSpPr>
        <p:spPr>
          <a:xfrm>
            <a:off x="1116000" y="189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ОСТАВЬТЕ ФОРМУЛЫ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Text Box 10"/>
          <p:cNvSpPr/>
          <p:nvPr/>
        </p:nvSpPr>
        <p:spPr>
          <a:xfrm>
            <a:off x="539640" y="2781360"/>
            <a:ext cx="8353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o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N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Cl]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Text Box 11"/>
          <p:cNvSpPr/>
          <p:nvPr/>
        </p:nvSpPr>
        <p:spPr>
          <a:xfrm>
            <a:off x="1908000" y="4149720"/>
            <a:ext cx="547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r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Text Box 13"/>
          <p:cNvSpPr/>
          <p:nvPr/>
        </p:nvSpPr>
        <p:spPr>
          <a:xfrm>
            <a:off x="826920" y="501336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Нитрат гексаамминникеля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Text Box 14"/>
          <p:cNvSpPr/>
          <p:nvPr/>
        </p:nvSpPr>
        <p:spPr>
          <a:xfrm>
            <a:off x="1258920" y="5734080"/>
            <a:ext cx="66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 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Ni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(NO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0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4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8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Text Box 2"/>
          <p:cNvSpPr/>
          <p:nvPr/>
        </p:nvSpPr>
        <p:spPr>
          <a:xfrm>
            <a:off x="971640" y="260280"/>
            <a:ext cx="76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ПОЛУЧЕНИЕ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10"/>
          <p:cNvSpPr/>
          <p:nvPr/>
        </p:nvSpPr>
        <p:spPr>
          <a:xfrm>
            <a:off x="250920" y="765000"/>
            <a:ext cx="8424720" cy="25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тетрагидроксоалюмината нат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l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3NaOH = 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Na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NaOH = Na[Al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11"/>
          <p:cNvSpPr/>
          <p:nvPr/>
        </p:nvSpPr>
        <p:spPr>
          <a:xfrm>
            <a:off x="0" y="3573360"/>
            <a:ext cx="903600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олучение гидроксида тетраамминмеди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(I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u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+2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+2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O = 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4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[Cu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nodeType="clickEffect" fill="hold">
                      <p:stCondLst>
                        <p:cond delay="0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Bookman Old Style"/>
              </a:rPr>
              <a:t>ХИМИЧЕСКИЕ СВОЙСТВ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1. Диссоци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Arial"/>
              </a:rPr>
              <a:t>↔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+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+ 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Bookman Old Style"/>
              </a:rPr>
              <a:t>2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2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по внешней сфе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Fe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→KFe[Fe(CN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+3K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→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Ba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3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</a:rPr>
              <a:t>Реакции с участием лиган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]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+4HCl→4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</a:rPr>
              <a:t>Cl+CuS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4. </a:t>
            </a: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Реакции по центральному ио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бменные: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l + KI → AgI↓ + KCl + 2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Окислительно-восстановитель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2[Ag(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)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H+R-C=O →2Ag↓+RCOO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+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O+3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Bookman Old Style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"/>
          <p:cNvSpPr/>
          <p:nvPr/>
        </p:nvSpPr>
        <p:spPr>
          <a:xfrm>
            <a:off x="3132000" y="465300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500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1" dur="500"/>
                                        <p:tgtEl>
                                          <p:spTgt spid="1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1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1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1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1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1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1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именение комплексных соединени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красителей (кобальтовые краски), ядохимикаты, удобр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ления жесткости вод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качестве стимуляторов биохимических процес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разделения некоторых металлов (лантаноидов) и получения металлов высокой чист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налитической химии для определения ионов, например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+ 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+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2" dur="500"/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7" dur="500"/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2" dur="500"/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7" dur="500"/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2" dur="500"/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Arial"/>
              </a:rPr>
              <a:t>Интересные факт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50920" y="1904760"/>
            <a:ext cx="8594640" cy="41907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Изучение комплексных соединений – одна из интереснейших областей химии, в том числе биологической хими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Так, красное вещество гем, составная часть гемоглобина крови теплокровных животных и человека – это комплексное соединение: комплексообразователь –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Fe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, лиганды – четыре кольца пиррола, имеющие боковые цепи. Похожее строение у хлорофилла, но в нем комплексообразователем служит ион </a:t>
            </a: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Mg</a:t>
            </a:r>
            <a:r>
              <a:rPr b="0" lang="ru-RU" sz="2400" spc="-1" strike="noStrike">
                <a:solidFill>
                  <a:srgbClr val="006600"/>
                </a:solidFill>
                <a:latin typeface="Verdana"/>
              </a:rPr>
              <a:t>2+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1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1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ьте формул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Гесацианоферрат (3)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Тетрагидроксоцинкат кал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Гексафторалюминат натр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Хлорид гексааквахрома (3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Тетрацианомеркурат (2) кальци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Гидроксид диаминсеребра (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6" name="Picture 4" descr="Research"/>
          <p:cNvPicPr/>
          <p:nvPr/>
        </p:nvPicPr>
        <p:blipFill>
          <a:blip r:embed="rId1"/>
          <a:stretch/>
        </p:blipFill>
        <p:spPr>
          <a:xfrm>
            <a:off x="7451640" y="-316080"/>
            <a:ext cx="1152720" cy="1440000"/>
          </a:xfrm>
          <a:prstGeom prst="rect">
            <a:avLst/>
          </a:prstGeom>
          <a:ln w="0">
            <a:noFill/>
          </a:ln>
        </p:spPr>
      </p:pic>
      <p:sp>
        <p:nvSpPr>
          <p:cNvPr id="115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1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1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1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1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тв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Fe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Zn(OH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l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Cr(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Cl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[Hg(CN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[Ag(N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]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0" name="Picture 4" descr="image595"/>
          <p:cNvPicPr/>
          <p:nvPr/>
        </p:nvPicPr>
        <p:blipFill>
          <a:blip r:embed="rId1"/>
          <a:stretch/>
        </p:blipFill>
        <p:spPr>
          <a:xfrm>
            <a:off x="7885080" y="62064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11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1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1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1000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0" dur="1000"/>
                                        <p:tgtEl>
                                          <p:spTgt spid="1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4"/>
          <p:cNvSpPr/>
          <p:nvPr/>
        </p:nvSpPr>
        <p:spPr>
          <a:xfrm>
            <a:off x="900000" y="1844640"/>
            <a:ext cx="7920000" cy="2531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ru-RU" sz="4000" spc="-1" strike="noStrike">
                <a:solidFill>
                  <a:srgbClr val="0000ff"/>
                </a:solidFill>
                <a:latin typeface="Bookman Old Style"/>
              </a:rPr>
              <a:t>Соединения, имеющие в своем составе комплексные ионы, относят к </a:t>
            </a:r>
            <a:r>
              <a:rPr b="1" lang="ru-RU" sz="4000" spc="-1" strike="noStrike" u="sng">
                <a:solidFill>
                  <a:srgbClr val="0000ff"/>
                </a:solidFill>
                <a:uFillTx/>
                <a:latin typeface="Bookman Old Style"/>
              </a:rPr>
              <a:t>комплексным соединения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9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612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Основные положения координационной теории  (1893г. Альфред Верне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516880" cy="488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В комплексном соединении один из ионов или атомов считается центральным, его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плексообразовател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Вокруг центрального иона (атома) – комплексообразователя расположено (координировано) определенное число противоположно заряженных ионов или полярных молекул, называемых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лиганд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Центральный ион (атом) с лигандами образуе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утреннюю координационную сфер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единения, которую при написании заключают в квадратные скоб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В большинстве случаев число лигандов, непосредственно связанных с центральным ионом (атомом),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ординационным число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которое чаще всего принимает значения 2,4,6,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Ионы, которые располагаются на более далеком расстоянии от центрального иона (атома), образуют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нешнюю координационную сфер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Text Box 27"/>
          <p:cNvSpPr/>
          <p:nvPr/>
        </p:nvSpPr>
        <p:spPr>
          <a:xfrm>
            <a:off x="179280" y="404640"/>
            <a:ext cx="896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b7"/>
                </a:solidFill>
                <a:latin typeface="Bookman Old Style"/>
              </a:rPr>
              <a:t>СТРОЕНИЕ КОМПЛЕКСНЫХ СОЕДИНЕН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WordArt 4"/>
          <p:cNvSpPr txBox="1"/>
          <p:nvPr/>
        </p:nvSpPr>
        <p:spPr>
          <a:xfrm>
            <a:off x="3708360" y="2781360"/>
            <a:ext cx="72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1" name="WordArt 5"/>
          <p:cNvSpPr txBox="1"/>
          <p:nvPr/>
        </p:nvSpPr>
        <p:spPr>
          <a:xfrm>
            <a:off x="2340000" y="2852640"/>
            <a:ext cx="64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2" name="WordArt 6"/>
          <p:cNvSpPr txBox="1"/>
          <p:nvPr/>
        </p:nvSpPr>
        <p:spPr>
          <a:xfrm>
            <a:off x="5003640" y="2781360"/>
            <a:ext cx="64944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3" name="WordArt 7"/>
          <p:cNvSpPr txBox="1"/>
          <p:nvPr/>
        </p:nvSpPr>
        <p:spPr>
          <a:xfrm>
            <a:off x="3708360" y="4508640"/>
            <a:ext cx="72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4" name="WordArt 8"/>
          <p:cNvSpPr txBox="1"/>
          <p:nvPr/>
        </p:nvSpPr>
        <p:spPr>
          <a:xfrm>
            <a:off x="7093080" y="2565360"/>
            <a:ext cx="865080" cy="14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l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5" name="WordArt 13"/>
          <p:cNvSpPr txBox="1"/>
          <p:nvPr/>
        </p:nvSpPr>
        <p:spPr>
          <a:xfrm>
            <a:off x="4643280" y="765000"/>
            <a:ext cx="576360" cy="56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+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6" name="WordArt 14"/>
          <p:cNvSpPr txBox="1"/>
          <p:nvPr/>
        </p:nvSpPr>
        <p:spPr>
          <a:xfrm>
            <a:off x="8172360" y="2349360"/>
            <a:ext cx="50508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7" name="WordArt 15"/>
          <p:cNvSpPr txBox="1"/>
          <p:nvPr/>
        </p:nvSpPr>
        <p:spPr>
          <a:xfrm>
            <a:off x="1908000" y="692280"/>
            <a:ext cx="4320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8" name="WordArt 16"/>
          <p:cNvSpPr txBox="1"/>
          <p:nvPr/>
        </p:nvSpPr>
        <p:spPr>
          <a:xfrm>
            <a:off x="5796000" y="692280"/>
            <a:ext cx="50472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[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9" name="WordArt 18"/>
          <p:cNvSpPr txBox="1"/>
          <p:nvPr/>
        </p:nvSpPr>
        <p:spPr>
          <a:xfrm>
            <a:off x="3203640" y="2997360"/>
            <a:ext cx="288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0" name="WordArt 19"/>
          <p:cNvSpPr txBox="1"/>
          <p:nvPr/>
        </p:nvSpPr>
        <p:spPr>
          <a:xfrm>
            <a:off x="3635280" y="2276640"/>
            <a:ext cx="28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1" name="WordArt 20"/>
          <p:cNvSpPr txBox="1"/>
          <p:nvPr/>
        </p:nvSpPr>
        <p:spPr>
          <a:xfrm>
            <a:off x="4140360" y="2276640"/>
            <a:ext cx="358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2" name="WordArt 21"/>
          <p:cNvSpPr txBox="1"/>
          <p:nvPr/>
        </p:nvSpPr>
        <p:spPr>
          <a:xfrm>
            <a:off x="4643280" y="2997360"/>
            <a:ext cx="287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3" name="WordArt 22"/>
          <p:cNvSpPr txBox="1"/>
          <p:nvPr/>
        </p:nvSpPr>
        <p:spPr>
          <a:xfrm>
            <a:off x="3780000" y="407664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*</a:t>
            </a:r>
            <a:endParaRPr b="0" lang="en-US" sz="1800" spc="1" strike="noStrike">
              <a:ln w="0">
                <a:noFill/>
              </a:ln>
              <a:blipFill rotWithShape="0">
                <a:blip r:embed="rId2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4" name="WordArt 23"/>
          <p:cNvSpPr txBox="1"/>
          <p:nvPr/>
        </p:nvSpPr>
        <p:spPr>
          <a:xfrm>
            <a:off x="320364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5" name="WordArt 25"/>
          <p:cNvSpPr txBox="1"/>
          <p:nvPr/>
        </p:nvSpPr>
        <p:spPr>
          <a:xfrm>
            <a:off x="4643280" y="357336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6" name="WordArt 26"/>
          <p:cNvSpPr txBox="1"/>
          <p:nvPr/>
        </p:nvSpPr>
        <p:spPr>
          <a:xfrm>
            <a:off x="4284720" y="407664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3780000" y="1052640"/>
            <a:ext cx="1800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NH</a:t>
            </a:r>
            <a:r>
              <a:rPr b="1" lang="en-US" sz="36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3600" spc="-1" strike="noStrike">
                <a:solidFill>
                  <a:srgbClr val="ffffb7"/>
                </a:solidFill>
                <a:latin typeface="Bookman Old Style"/>
              </a:rPr>
              <a:t>C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WordArt 29"/>
          <p:cNvSpPr txBox="1"/>
          <p:nvPr/>
        </p:nvSpPr>
        <p:spPr>
          <a:xfrm>
            <a:off x="3708360" y="1125360"/>
            <a:ext cx="649440" cy="10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1403280" y="4437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2700360" y="51577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1258920" y="6165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ОРДИНАЦИОННОЕ ЧИСЛО -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1763640" y="587700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6119640" y="4869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1835280" y="0"/>
            <a:ext cx="48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0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341E-006 L -0.32691 0.00416 E">
                                      <p:cBhvr>
                                        <p:cTn id="145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95" dur="1000" fill="hold"/>
                                        <p:tgtEl>
                                          <p:spTgt spid="9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 Box 4"/>
          <p:cNvSpPr/>
          <p:nvPr/>
        </p:nvSpPr>
        <p:spPr>
          <a:xfrm>
            <a:off x="2195640" y="620640"/>
            <a:ext cx="51116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1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1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900000" y="306864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КОМПЛЕКСНЫЙ И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7"/>
          <p:cNvSpPr/>
          <p:nvPr/>
        </p:nvSpPr>
        <p:spPr>
          <a:xfrm>
            <a:off x="5651640" y="2637000"/>
            <a:ext cx="25207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[NH</a:t>
            </a:r>
            <a:r>
              <a:rPr b="1" lang="en-US" sz="5400" spc="-1" strike="noStrike" baseline="-25000">
                <a:solidFill>
                  <a:srgbClr val="ffffb7"/>
                </a:solidFill>
                <a:latin typeface="Bookman Old Style"/>
              </a:rPr>
              <a:t>4</a:t>
            </a: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]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8"/>
          <p:cNvSpPr/>
          <p:nvPr/>
        </p:nvSpPr>
        <p:spPr>
          <a:xfrm>
            <a:off x="1042920" y="213372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УТРЕННЯЯ СФЕРА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Text Box 9"/>
          <p:cNvSpPr/>
          <p:nvPr/>
        </p:nvSpPr>
        <p:spPr>
          <a:xfrm>
            <a:off x="1042920" y="393372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КОМПЛЕКСООБРАЗОВАТЕЛЬ</a:t>
            </a: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Text Box 10"/>
          <p:cNvSpPr/>
          <p:nvPr/>
        </p:nvSpPr>
        <p:spPr>
          <a:xfrm>
            <a:off x="6659640" y="364500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N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3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Text Box 11"/>
          <p:cNvSpPr/>
          <p:nvPr/>
        </p:nvSpPr>
        <p:spPr>
          <a:xfrm>
            <a:off x="1116000" y="4797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ЛИГАН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Text Box 12"/>
          <p:cNvSpPr/>
          <p:nvPr/>
        </p:nvSpPr>
        <p:spPr>
          <a:xfrm>
            <a:off x="3564000" y="450864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H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+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Text Box 13"/>
          <p:cNvSpPr/>
          <p:nvPr/>
        </p:nvSpPr>
        <p:spPr>
          <a:xfrm>
            <a:off x="1042920" y="55897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ВНЕШНЯЯ СФ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Text Box 14"/>
          <p:cNvSpPr/>
          <p:nvPr/>
        </p:nvSpPr>
        <p:spPr>
          <a:xfrm>
            <a:off x="5148360" y="5661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"/>
              </a:rPr>
              <a:t>АНИ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15"/>
          <p:cNvSpPr/>
          <p:nvPr/>
        </p:nvSpPr>
        <p:spPr>
          <a:xfrm>
            <a:off x="7164360" y="5445000"/>
            <a:ext cx="11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Bookman Old Style"/>
              </a:rPr>
              <a:t>Cl</a:t>
            </a:r>
            <a:r>
              <a:rPr b="1" lang="en-US" sz="5400" spc="-1" strike="noStrike" baseline="30000">
                <a:solidFill>
                  <a:srgbClr val="ffffb7"/>
                </a:solidFill>
                <a:latin typeface="Bookman Old Style"/>
              </a:rPr>
              <a:t>-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Text Box 6"/>
          <p:cNvSpPr/>
          <p:nvPr/>
        </p:nvSpPr>
        <p:spPr>
          <a:xfrm>
            <a:off x="493236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Text Box 4"/>
          <p:cNvSpPr/>
          <p:nvPr/>
        </p:nvSpPr>
        <p:spPr>
          <a:xfrm>
            <a:off x="6012000" y="907920"/>
            <a:ext cx="7189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Text Box 5"/>
          <p:cNvSpPr/>
          <p:nvPr/>
        </p:nvSpPr>
        <p:spPr>
          <a:xfrm>
            <a:off x="3564000" y="9079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Text Box 8"/>
          <p:cNvSpPr/>
          <p:nvPr/>
        </p:nvSpPr>
        <p:spPr>
          <a:xfrm>
            <a:off x="2556000" y="90792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Text Box 9"/>
          <p:cNvSpPr/>
          <p:nvPr/>
        </p:nvSpPr>
        <p:spPr>
          <a:xfrm>
            <a:off x="1979640" y="177336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+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Text Box 10"/>
          <p:cNvSpPr/>
          <p:nvPr/>
        </p:nvSpPr>
        <p:spPr>
          <a:xfrm>
            <a:off x="3635280" y="17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Text Box 11"/>
          <p:cNvSpPr/>
          <p:nvPr/>
        </p:nvSpPr>
        <p:spPr>
          <a:xfrm>
            <a:off x="4356000" y="1773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+ (-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Text Box 12"/>
          <p:cNvSpPr/>
          <p:nvPr/>
        </p:nvSpPr>
        <p:spPr>
          <a:xfrm>
            <a:off x="6443640" y="9079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 Box 13"/>
          <p:cNvSpPr/>
          <p:nvPr/>
        </p:nvSpPr>
        <p:spPr>
          <a:xfrm>
            <a:off x="3348000" y="907920"/>
            <a:ext cx="503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14"/>
          <p:cNvSpPr/>
          <p:nvPr/>
        </p:nvSpPr>
        <p:spPr>
          <a:xfrm>
            <a:off x="2987640" y="17733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15"/>
          <p:cNvSpPr/>
          <p:nvPr/>
        </p:nvSpPr>
        <p:spPr>
          <a:xfrm>
            <a:off x="5940360" y="1773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·4 = 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 Box 17"/>
          <p:cNvSpPr/>
          <p:nvPr/>
        </p:nvSpPr>
        <p:spPr>
          <a:xfrm>
            <a:off x="2411280" y="263700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0-2+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Text Box 18"/>
          <p:cNvSpPr/>
          <p:nvPr/>
        </p:nvSpPr>
        <p:spPr>
          <a:xfrm>
            <a:off x="2411280" y="335772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x = +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Text Box 19"/>
          <p:cNvSpPr/>
          <p:nvPr/>
        </p:nvSpPr>
        <p:spPr>
          <a:xfrm>
            <a:off x="2340000" y="4797360"/>
            <a:ext cx="4319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Z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Text Box 5"/>
          <p:cNvSpPr/>
          <p:nvPr/>
        </p:nvSpPr>
        <p:spPr>
          <a:xfrm>
            <a:off x="468360" y="260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АССТАВЬТЕ СТЕПЕНЬ ОКИСЛЕНИЯ ИОНА КОМПЛЕКСООБРАЗОВАТЕ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7"/>
          <p:cNvSpPr/>
          <p:nvPr/>
        </p:nvSpPr>
        <p:spPr>
          <a:xfrm>
            <a:off x="0" y="141300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F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8"/>
          <p:cNvSpPr/>
          <p:nvPr/>
        </p:nvSpPr>
        <p:spPr>
          <a:xfrm>
            <a:off x="3564000" y="1413000"/>
            <a:ext cx="525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F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9"/>
          <p:cNvSpPr/>
          <p:nvPr/>
        </p:nvSpPr>
        <p:spPr>
          <a:xfrm>
            <a:off x="0" y="2276640"/>
            <a:ext cx="2592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K[Mg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10"/>
          <p:cNvSpPr/>
          <p:nvPr/>
        </p:nvSpPr>
        <p:spPr>
          <a:xfrm>
            <a:off x="0" y="3068640"/>
            <a:ext cx="3203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179280" y="3933720"/>
            <a:ext cx="33130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(CN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179280" y="4797360"/>
            <a:ext cx="3241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(OH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0" y="5661000"/>
            <a:ext cx="3600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Cu(N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348000" y="306864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564000" y="2276640"/>
            <a:ext cx="5148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 K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Mg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C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3348000" y="3933720"/>
            <a:ext cx="5796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F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CN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Text Box 17"/>
          <p:cNvSpPr/>
          <p:nvPr/>
        </p:nvSpPr>
        <p:spPr>
          <a:xfrm>
            <a:off x="3492360" y="4797360"/>
            <a:ext cx="56516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Na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ru-RU" sz="40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[Al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+3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(OH)</a:t>
            </a:r>
            <a:r>
              <a:rPr b="0" lang="en-US" sz="40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Bookman Old Style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Bookman Old Style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Text Box 18"/>
          <p:cNvSpPr/>
          <p:nvPr/>
        </p:nvSpPr>
        <p:spPr>
          <a:xfrm>
            <a:off x="3203640" y="5661000"/>
            <a:ext cx="594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man Old Style"/>
              </a:rPr>
              <a:t>Ответ: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[Cu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+2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(N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)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0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Bookman Old Style"/>
              </a:rPr>
              <a:t>]C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Bookman Old Style"/>
              </a:rPr>
              <a:t>-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 Box 11"/>
          <p:cNvSpPr/>
          <p:nvPr/>
        </p:nvSpPr>
        <p:spPr>
          <a:xfrm>
            <a:off x="755640" y="112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2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 Box 12"/>
          <p:cNvSpPr/>
          <p:nvPr/>
        </p:nvSpPr>
        <p:spPr>
          <a:xfrm>
            <a:off x="75564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4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 Box 13"/>
          <p:cNvSpPr/>
          <p:nvPr/>
        </p:nvSpPr>
        <p:spPr>
          <a:xfrm>
            <a:off x="755640" y="1773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3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 Box 14"/>
          <p:cNvSpPr/>
          <p:nvPr/>
        </p:nvSpPr>
        <p:spPr>
          <a:xfrm>
            <a:off x="755640" y="314172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5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15"/>
          <p:cNvSpPr/>
          <p:nvPr/>
        </p:nvSpPr>
        <p:spPr>
          <a:xfrm>
            <a:off x="755640" y="3860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Bookman Old Style"/>
              </a:rPr>
              <a:t>6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Text Box 16"/>
          <p:cNvSpPr/>
          <p:nvPr/>
        </p:nvSpPr>
        <p:spPr>
          <a:xfrm>
            <a:off x="1547640" y="105264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д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Text Box 18"/>
          <p:cNvSpPr/>
          <p:nvPr/>
        </p:nvSpPr>
        <p:spPr>
          <a:xfrm>
            <a:off x="1547640" y="1773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ри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Text Box 19"/>
          <p:cNvSpPr/>
          <p:nvPr/>
        </p:nvSpPr>
        <p:spPr>
          <a:xfrm>
            <a:off x="1476360" y="2421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тетр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Text Box 20"/>
          <p:cNvSpPr/>
          <p:nvPr/>
        </p:nvSpPr>
        <p:spPr>
          <a:xfrm>
            <a:off x="1476360" y="314172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пент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21"/>
          <p:cNvSpPr/>
          <p:nvPr/>
        </p:nvSpPr>
        <p:spPr>
          <a:xfrm>
            <a:off x="1476360" y="3860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Bookman Old Style"/>
              </a:rPr>
              <a:t>гекса</a:t>
            </a:r>
            <a:r>
              <a:rPr b="1" lang="en-US" sz="4000" spc="-1" strike="noStrike">
                <a:solidFill>
                  <a:srgbClr val="993300"/>
                </a:solidFill>
                <a:latin typeface="Bookman Old Style"/>
              </a:rPr>
              <a:t>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Text Box 22"/>
          <p:cNvSpPr/>
          <p:nvPr/>
        </p:nvSpPr>
        <p:spPr>
          <a:xfrm>
            <a:off x="468360" y="76500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ЧИСЛИТЕЛЬНЫ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Text Box 23"/>
          <p:cNvSpPr/>
          <p:nvPr/>
        </p:nvSpPr>
        <p:spPr>
          <a:xfrm>
            <a:off x="421164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ЛИГАНД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Text Box 24"/>
          <p:cNvSpPr/>
          <p:nvPr/>
        </p:nvSpPr>
        <p:spPr>
          <a:xfrm>
            <a:off x="4427640" y="1125360"/>
            <a:ext cx="2592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к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Text Box 26"/>
          <p:cNvSpPr/>
          <p:nvPr/>
        </p:nvSpPr>
        <p:spPr>
          <a:xfrm>
            <a:off x="4356000" y="1773360"/>
            <a:ext cx="288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H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ам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Text Box 27"/>
          <p:cNvSpPr/>
          <p:nvPr/>
        </p:nvSpPr>
        <p:spPr>
          <a:xfrm>
            <a:off x="4427640" y="2492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карбони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 Box 28"/>
          <p:cNvSpPr/>
          <p:nvPr/>
        </p:nvSpPr>
        <p:spPr>
          <a:xfrm>
            <a:off x="4427640" y="328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Н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гидрокс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 Box 29"/>
          <p:cNvSpPr/>
          <p:nvPr/>
        </p:nvSpPr>
        <p:spPr>
          <a:xfrm>
            <a:off x="4427640" y="39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С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)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66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циа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 Box 30"/>
          <p:cNvSpPr/>
          <p:nvPr/>
        </p:nvSpPr>
        <p:spPr>
          <a:xfrm>
            <a:off x="900000" y="5229360"/>
            <a:ext cx="69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F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Cl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Br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, I</a:t>
            </a:r>
            <a:r>
              <a:rPr b="1" lang="en-US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фторо-, хлоро-, бромо-, йодо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Text Box 31"/>
          <p:cNvSpPr/>
          <p:nvPr/>
        </p:nvSpPr>
        <p:spPr>
          <a:xfrm>
            <a:off x="4356000" y="4581360"/>
            <a:ext cx="338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NO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Bookman Old Style"/>
              </a:rPr>
              <a:t>3</a:t>
            </a: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)</a:t>
            </a:r>
            <a:r>
              <a:rPr b="1" lang="ru-RU" sz="3200" spc="-1" strike="noStrike" baseline="30000">
                <a:solidFill>
                  <a:srgbClr val="ff3300"/>
                </a:solidFill>
                <a:latin typeface="Bookman Old Style"/>
              </a:rPr>
              <a:t>-</a:t>
            </a:r>
            <a:r>
              <a:rPr b="1" lang="en-US" sz="24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200" spc="-1" strike="noStrike">
                <a:solidFill>
                  <a:srgbClr val="993300"/>
                </a:solidFill>
                <a:latin typeface="Bookman Old Style"/>
              </a:rPr>
              <a:t>нитр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Box 2"/>
          <p:cNvSpPr/>
          <p:nvPr/>
        </p:nvSpPr>
        <p:spPr>
          <a:xfrm>
            <a:off x="25092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Bookman Old Style"/>
              </a:rPr>
              <a:t>НОМЕНКЛАТУРА КОМПЛЕКСНЫХ СОЕДИ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1403280" y="76500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Bookman Old Style"/>
              </a:rPr>
              <a:t>НАЗВАНИЯ АНИОН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 Box 15"/>
          <p:cNvSpPr/>
          <p:nvPr/>
        </p:nvSpPr>
        <p:spPr>
          <a:xfrm>
            <a:off x="2050920" y="134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Fe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фер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 Box 16"/>
          <p:cNvSpPr/>
          <p:nvPr/>
        </p:nvSpPr>
        <p:spPr>
          <a:xfrm>
            <a:off x="2050920" y="2060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C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куп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Text Box 17"/>
          <p:cNvSpPr/>
          <p:nvPr/>
        </p:nvSpPr>
        <p:spPr>
          <a:xfrm>
            <a:off x="2050920" y="270828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ргент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Text Box 18"/>
          <p:cNvSpPr/>
          <p:nvPr/>
        </p:nvSpPr>
        <p:spPr>
          <a:xfrm>
            <a:off x="2050920" y="3429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u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Text Box 19"/>
          <p:cNvSpPr/>
          <p:nvPr/>
        </p:nvSpPr>
        <p:spPr>
          <a:xfrm>
            <a:off x="1979640" y="414972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Hg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меркур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Text Box 20"/>
          <p:cNvSpPr/>
          <p:nvPr/>
        </p:nvSpPr>
        <p:spPr>
          <a:xfrm>
            <a:off x="2050920" y="551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Al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алюмин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 Box 21"/>
          <p:cNvSpPr/>
          <p:nvPr/>
        </p:nvSpPr>
        <p:spPr>
          <a:xfrm>
            <a:off x="2050920" y="48690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Zn</a:t>
            </a:r>
            <a:r>
              <a:rPr b="1" lang="en-US" sz="3600" spc="-1" strike="noStrike">
                <a:solidFill>
                  <a:srgbClr val="996600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Bookman Old Style"/>
              </a:rPr>
              <a:t>- </a:t>
            </a:r>
            <a:r>
              <a:rPr b="1" lang="ru-RU" sz="3600" spc="-1" strike="noStrike">
                <a:solidFill>
                  <a:srgbClr val="993300"/>
                </a:solidFill>
                <a:latin typeface="Bookman Old Style"/>
              </a:rPr>
              <a:t>цинка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2:29:01Z</dcterms:created>
  <dc:creator>Марина</dc:creator>
  <dc:description/>
  <dc:language>en-US</dc:language>
  <cp:lastModifiedBy>LEGION</cp:lastModifiedBy>
  <dcterms:modified xsi:type="dcterms:W3CDTF">2015-05-01T11:26:32Z</dcterms:modified>
  <cp:revision>64</cp:revision>
  <dc:subject/>
  <dc:title>Комплексные соединения</dc:title>
</cp:coreProperties>
</file>