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DD73F-00CC-49F1-B0A3-6E9D3A875C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ная лекц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федра биологической химии (биохимии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 сентября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29DE7-25D4-458B-A90E-02B19D521F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ис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ерменты и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тализаторы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иваторы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гиби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ермен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белков-ферментов характерна высокая степень структурир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лекулы, благодаря чему возможен катализ химической реакции 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ласти активного центра и регуляция активности фермента чере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действие эффекторов с аллостерическим центром. Извест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лки-активаторы (апопротеин ) и ингибиторы ( ингиби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ипсина из поджелудочной железы, соевых бобов; ингиби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еиназ из яда гадюки, ингибитор химотрипсина из картофеля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мо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правило, белки (м. м. 20-30 кДа), которые содержат небольш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рагменты определяющие гормональную активность; относятся 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е непроникающих в клетку гормонов, на поверхности клет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действуют с рецепторами, гормональный эффект реализуе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рез внутриклеточные посредники (гормоны гипоталамус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офиза, поджелудочной железы, паращитовидных желез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улятор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л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стоны стабилизируют структуру ДНК и регулирую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онирование генома (проявление матричной активности ДН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ослаблении связей с гистонами); гетерогенная груп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гистоновых белков (м. м. 5-200 кДа) участвует в формирова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уклеосом и взаимодействии с хроматином гормон - рецептор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лексов, в регуляции процессов репликации, транскрипции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нсляции; белки теплового шока (стрессовые белки);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белк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улирующие синтез циклических нуклеотидов; онкобелки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ионкобелки, определяющие малигнизацию клет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5A1BF-DC47-4FCF-A34F-6CA5349885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ные бел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итела (иммуноглобулины) вырабатываются в ответ на вве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игенов; белки системы свертывания крови; белки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лемента; ферменты обезвреживания ксенобиот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фероны, интерлейкины, лизоцим; белки-антифризы рыб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ивирусные белки растений; антибактериальные бел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кс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окомолекулярные белковые токсины микроорганизмов и раст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лены тремя типами белков. Мультимерные дифтерий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холерный токсины, токсин шигеллы построены 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ой субъединицы типа А (20, 28 и 32 кДа, соответственно) и пя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ъединиц типа В (25, 12 и 7,7 кДа, соответственно); субъединицы 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ываются с клеточной поверхностью, а субъединица А проника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утрь клетки, где блокирует синтез белков на рибосом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огично действуют растительные токсины — рицин, абрин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цин, лектин. Энтеротоксин стафилококка или гемолиз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ишечной палочки, встраиваясь в плазматическую мембрану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уют в ней поры, через которые теряются важные компонен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топлазмы клеток. Токсины ядов змей представлены малы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лками — 6,7-7 кДа (примерно 60 аминокислотных остатков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ксические пептиды ядов скорпиона, пчелы и осы состоят 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нем из 45 аминокислотных остатков. Эти токсины связываются 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линергическими белками и оказывают нейротоксическ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йств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51216-7F6C-4CBD-BBBA-753AE38031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нспорт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л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ьбумины и глобулины — переносчики различных веществ 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зме крови. Порины — образуют поры для переноса веще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рез клеточные мембраны. Транслоказы — обеспечивают обм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онентами различных компартментов клет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л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ные белки мембран являются их структурны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онентами, склонны к агрегации и специфически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действиям (процессы самосборки), содержат в своем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е до 20 % гидрофобных аминокислотных остатков и до 40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ходится на долю а-спиральных участков. Эти белки легк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действуют с фосфолипидами мембран. Структур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выполняют также белки межклеточного матрик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коллаген, ретикулин, кератин), кристаллины, белки ядерн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рикса, белки цитоплазматического скел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кратите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л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вуют в механическом сокращении для осуществления движения(обладают, как правило, аденозинтрифосфатазной активностью):актин и миозин мышц, белки центральных и периферических фибрилл жгутиков и ресничек простейших, жгутиков сперматозоидов, тубулин аппарата движения хромосом в процессе митоза, миксомиозин — нитевидный белок из плазмодия гриба физариума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5C74F-2A9C-482A-9D74-D9F051043F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ункциональное многообразие бел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цептор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л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 внутренней среде организма служат для взаимодействия 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лекулами-биорегуляторами (сигнальными молекулам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кализуются в мембранных структурах клеток, а также могут быть в растворенном состоянии. Клетка, содержащая рецептор, является клеткой-мишенью для управляющего химического сигнала, а также для взаимодействия с липопротеинами или вирусами. Для восприятия сигналов внешней среды известны фоторецепторные белки (опсин), для оценки вкуса сладкочувствительный белок, для восприятия запаха обонятельный белок, для восприятия звука холинорецепторные белки; в жизнедеятельности живых организмов важное место занимает рецепция ферромонов, аттрактантов, репеллентов, стрессогенных веществ ра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014CB-598D-488A-BBEE-CDFF16F11E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роение фермент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оме активного центра у ряда ферментов имеется </a:t>
            </a:r>
            <a:r>
              <a:rPr b="0" i="1" lang="ru-RU" sz="1200" spc="-1" strike="noStrike">
                <a:solidFill>
                  <a:srgbClr val="ff0000"/>
                </a:solidFill>
                <a:latin typeface="Arial"/>
              </a:rPr>
              <a:t>регуляторный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ил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ff0000"/>
                </a:solidFill>
                <a:latin typeface="Arial"/>
              </a:rPr>
              <a:t>аллостерический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т греч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s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иной, чужой) центр, который в молекуле фермента, как правило, пространственно отделен от активного центра. К аллостерическому центру присоединяются вещества — </a:t>
            </a:r>
            <a:r>
              <a:rPr b="0" i="1" lang="ru-RU" sz="1200" spc="-1" strike="noStrike">
                <a:solidFill>
                  <a:srgbClr val="ff0000"/>
                </a:solidFill>
                <a:latin typeface="Arial"/>
              </a:rPr>
              <a:t>эффекторы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торые делятся на </a:t>
            </a:r>
            <a:r>
              <a:rPr b="0" i="1" lang="ru-RU" sz="1200" spc="-1" strike="noStrike">
                <a:solidFill>
                  <a:srgbClr val="ff0000"/>
                </a:solidFill>
                <a:latin typeface="Arial"/>
              </a:rPr>
              <a:t>активаторы и ингибиторы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соединение эффектора к аллостерическому центру приводит к изменению третичной и/ или четвертичной структуры молекулы фермента и соответственно конфигурации активного центра, вызывая снижение или повышение ферментативной активности. Ферменты, имеющие аллостерический центр, называются </a:t>
            </a:r>
            <a:r>
              <a:rPr b="0" i="1" lang="ru-RU" sz="1200" spc="-1" strike="noStrike">
                <a:solidFill>
                  <a:srgbClr val="ff0000"/>
                </a:solidFill>
                <a:latin typeface="Arial"/>
              </a:rPr>
              <a:t>аллостерическими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рехмерной структуре фермента выделяют несколько участков, несущих определенную функцию. В молекуле фермента выделяют </a:t>
            </a:r>
            <a:r>
              <a:rPr b="0" i="1" lang="ru-RU" sz="1200" spc="-1" strike="noStrike">
                <a:solidFill>
                  <a:srgbClr val="ff0000"/>
                </a:solidFill>
                <a:latin typeface="Arial"/>
              </a:rPr>
              <a:t>активный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центр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т. е. участок, с которым связывается субстрат и где протекает каталитическая реакц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щества, вступающие в ферментативную реакцию, называются </a:t>
            </a:r>
            <a:r>
              <a:rPr b="0" i="1" lang="ru-RU" sz="1200" spc="-1" strike="noStrike">
                <a:solidFill>
                  <a:srgbClr val="ff0000"/>
                </a:solidFill>
                <a:latin typeface="Arial"/>
              </a:rPr>
              <a:t>субстратами.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езультате ферментативных превращений получаются </a:t>
            </a:r>
            <a:r>
              <a:rPr b="0" i="1" lang="ru-RU" sz="1200" spc="-1" strike="noStrike">
                <a:solidFill>
                  <a:srgbClr val="ff0000"/>
                </a:solidFill>
                <a:latin typeface="Arial"/>
              </a:rPr>
              <a:t>продукты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реак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9FB78-0C03-4EA8-A41F-FEDC8C910F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роение фермент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0ABB1-B9E9-414F-8EE9-CA52B69454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роение фермент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2E542-217A-4210-9AB8-BAD0497947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378E1-3BE4-4DC3-820B-DC8010D94F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кции и ферменты их катализирующие делят на 6 классов, каждый из которых состоит из 4—13 подклассов: оксидореКлассификация ферментов, отличие ферментов от биологических катализатор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уктазы, трансферазы, гидролазы, лиазы, изомеразы, лигазы (синтетазы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ерменты называются добавлением суффикса —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за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названию субстрата, на который данный фермент действует. Например, уреаза катализирует гидролиз мочевины; ферменты, гидролизующие крахмал (амилон), были названы амилазами; гидролизующис жиры (липос) — липазами; ферменты, гидролизующис белки (протеины) — протеиназам 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Используются названия для групп фермент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катализирующих сходные по механизму реакции. Их название строится по принципу — «субстрат-тип реакции». Например, ферменты, которые переносят остаток фосфорной кислоты от АТФ на другую молекулу, называются киназами (глюкокиназа катализирует перенос фосфорильного остатка от АТФ на глюкозу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Тривиальные назван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е показывают механизма действия, но они широко используются. Например, пепсин, трипсин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Международный Совет Биохимик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UB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предложил систематическое название и классификацию ферментов по типу и механизму катализируемой реак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исимость скорости ферментативной реакции от температуры, рН среды, концентрации фермента и субстрат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667FC-2E51-49A6-8682-9CA8C75223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исимость скорости ферментативной реакции от температуры, рН среды, концентрации фермента и субстрат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35C07-26F4-43C6-8E2C-2A96905160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 ЛЕ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Предмет и задачи биохим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Строение и свойства белк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Функциональное многообразие белк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Классификация белков по биологическим функци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Строение фермент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Классификация ферментов, отличие ферментов от биологических катализатор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Зависимость скорости ферментативной реакции от температуры, рН среды, концентрации фермента и субстра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Активаторы и ингибиторы ферментативных реакций. Применение ферментов в медицин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B2F91-B8E2-4A20-A043-8DD39DD87E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исимость скорости ферментативной реакции от температуры, рН среды, концентрации фермента и субстрат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Величина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K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вна концентрации субстрата [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|, при которой половина мест связывания в активном центре фермента заполнена субстратом. Или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m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ленно равна концентрации субстрата [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],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которой скорость реакции равна половине максимальн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ряда ферментов установлено, что величин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m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изка к концентрации субстрат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vivo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Величина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Km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соответствуе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онстанте диссоциации фермент-субстратного комплекса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, если к1&lt; к2. В этих условиях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m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изует прочность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омплекса (аффинность, сродство субстрата к ферменту): высокое значени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видетельствует о слабом связывании субстрата с активным центром фермента, низкое значени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m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казывает на сильное связывание (высокое сродство субстрата к ферменту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71436-9509-437B-ABA7-586FB569E8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A265C-1A2F-4099-AEED-4A4F8DF98E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47FDE-0426-4AF7-86B4-E5DAF40DF0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ферментов в медицин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ерменты в течение многих лет приме­няются в различных областях практи­ческой деятельности человека: в коже­венной, пищевой, текстильной, фармацевтической и других отраслях промышленности, а также в медицине, сельском хозяйстве, химическом синте­зе. Эффективность действия ферментов многократно выше по сравнению с хи­мическими катализаторами, однако их промышленное применение затруднено из-за неустойчивости при хранении и температурных воздействи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Энзимодиагностик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исследование ферментов в биологических средах организма с диагностической цел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льные уровни активности ферментов в сыворотке крови отражают соотношение между биосинтезом и высвобождением ферментов (при обычном обновлении клеток), а также их клиренсом из кровотока. Повышение скорости обновления ферментов, повреждения клеток или индуцирование синтеза обычно приводят к повышению активности ферментов в сыворотке крови. В сыворотке крови выделяют три группы ферментов: </a:t>
            </a:r>
            <a:r>
              <a:rPr b="0" i="1" lang="ru-RU" sz="1200" spc="-1" strike="noStrike">
                <a:solidFill>
                  <a:srgbClr val="333399"/>
                </a:solidFill>
                <a:latin typeface="Arial"/>
              </a:rPr>
              <a:t>клеточные, секреторные и экскреторные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ферментов в медицин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Arial"/>
              </a:rPr>
              <a:t>Клеточные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фермент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 зависимости от локализации в тканях делят на несколько групп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Неспецифические фермент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которые катализируют общие для всех тканей реакции обменов белков, углеводов, липидов и находятся в большинстве органов и тканей. При повреждении мембран клеток и гистогематических барьеров эти ферменты появляются в крови или повышается их количество. Определение повышенного количества этих ферментов в крови не позволяет локализовать патологический процес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Органоспецифические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ли индикаторные, ферменты, специфичные только для определенного типа тканей. Как правило, эти ферменты катализируют реакции, обеспечивающие специфические функции органа. В клетках других органов этих ферментов нет или находят следы. Выход органоспецифических ферментов в кровь сигнализирует о поражении определен¬ного орга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Изофермент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— группа или семейство ферментов с четвертичной структурой, которые катализируют одну и ту же реакцию, но отличаются по строению (т. е. первичной структуре) субъединиц и физико-химическим свойствам. Например, фермент лактатдегидрогеназ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Ферменты, локализованные в органеллах клето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окислительно-восстановительные в митохондриях; кислые гидролазы в лизосомах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др.), выходя в кровь, сигнализируют о глубоком поражении клет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82BA0-FE34-4221-BC07-BAB774EDD1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ферментов в медицин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Arial"/>
              </a:rPr>
              <a:t>Секреторные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фермент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псевдохолинэстераза) поступают непосредственно в кровь и выполняют в ней специфические функции. Эти ферменты синтезируются в печени и постоянно высвобождаются в кров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х активность в сыворотке крови выше, чем в клетках или тканях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нарушении функции печени их активность в сыворотке крови становится ниже нор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F4CC3-D28F-44C7-ABED-4049554526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ферментов в медицин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Arial"/>
              </a:rPr>
              <a:t>Экскреторные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фермент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бразуются органами пищеварительной системы (поджелудочной железой, слизистой оболочкой кишечника, печенью, эндотелием желчных путей). К ним относятся 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амилаза, щелочная фосфатаза. В норме их активность в сыворотке крови низкая и постоянная. Однако при патологии, когда блокирован любой из обычных путей экскреции, активность этих ферментов в сыворотке крови значительно увеличиваетс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E9933-E1F6-456C-8EBF-C6CCC8F525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ферментов в медицин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следственные энзимопат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яд пороков обмена веществ является результатом наследственного дефицита определенных ферментов. В этом случае диагноз ставится, главным образом, на основе исследования показателей обмена этих ферментативных реакций (биохимический диагноз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EBC5F-5B5C-48BF-9534-EEC80D49CC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ферментов в медицин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Энзимотерапи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использование ферментов и метаболитов в качестве лечебных средст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Arial"/>
              </a:rPr>
              <a:t>заместитель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терапия ферментами используется при болезнях желудочно-кишечного факта (пепсин, трипсин, химотрипсин, амилаза, липаз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Arial"/>
              </a:rPr>
              <a:t>для очистки ран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воздействия на избыточно разрастающуюся соединительную ткань применяют гиалуронидазу, трипсин, химотрипси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ли применение </a:t>
            </a:r>
            <a:r>
              <a:rPr b="0" lang="ru-RU" sz="1200" spc="-1" strike="noStrike">
                <a:solidFill>
                  <a:srgbClr val="262673"/>
                </a:solidFill>
                <a:latin typeface="Arial"/>
              </a:rPr>
              <a:t>регулятор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активаторы и ингибиторы) ферментов. Например, ингибиторы моноаминооксидазы используют при нервных и психических заболеваниях; тканевые ингибиторы протеиназ эффективны при лечении панкреатита, эмфиземы легких, инфаркте миокар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F6526-8A8F-4DC0-8A8B-C2418F747F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ферментов в медицин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Ферменты как аналитические реаген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ироко применяются в практике лабораторных исследований при определении субстратов, нуклеотидов и пр. В настоящее время выпускается ряд наборов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определения глюкозы, этанола, молочной кислоты, АТФ и п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нцип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 исследуемом материале содержится неизвестное количество субстрата. Чтобы определить его количество, вводят фермент, катализирующий превращение только этого субстрата, создают оптимальные условия реакции (рН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др.) и регистрируют скорость реакции (по образованию продукта или изменению кофермента). Затем определяют концентрацию искомого субстрата по скорости реакции, используя калибровочный графи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9D50D-FD98-4086-9304-81E6E7BC65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дмет и задачи биохим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ологическая химия изучает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имическую природу веществ, входящих в состав живых организм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х превращ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ь этих превращений с деятельностью клеток, тканей, органов и организма в цел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 биохими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яснить, как функционируют живые системы с точки зрения молекулярных процессов в состоянии «здоровья»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яснить молекулярные процессы, лежащие в основе заболеваний и их эффективного леч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охимия изучает химию живой природы в широком диапазоне: от человека и позвоночных до бактерий, а также молекулярные основы взаимодействия живых объектов с физическими (например, излучения), химическими (например, ксенобиотики) или биологическими (например, вирусы) факторами окружающей среды.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 зависимости от объекта исследова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55822-39C3-4742-862C-0F23EF5124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5C0EC-A8BA-41E0-A095-0CA61963EF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дмет и задачи биохим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 зависимости от объекта исследований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но выделяют: 1) биохимию микроорганизмов; 2) биохимию простейших; 3) биохимию растений; 4) биохим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вотных (ветеринарную биохимию); 5) биохимию человека (медицинскую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охимию). Однако, несмотря на определенные, порой принципиальные различия в химическом составе и обмене веществ тех или иных видов живых организмов, существует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биохимическое единство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х форм жиз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 биохимии: 1) объяснить, как функционируют живые системы с точки зрения молекулярных процессов в состоянии «здоровья»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объяснить молекулярные процессы, лежащие в основе заболеваний и их эффективного леч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охимия изучает химию живой природы в широком диапазоне: от человека и позвоночных до бактерий, а также молекулярные основы взаимодействия живых объектов с физическими (например, излучения), химическими (например, ксенобиотики) или биологическими (например, вирусы) факторами окружающей среды. Основные разделы и направления в биохим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яют разделы биохимии по направлениям исследований: техническая биохимия (молекулярные основы хлебопечения, сыроварения, виноделия и пр.); медицинская биохимия (биохимические процессы в организме человека в норме и при патологии), эволюционная биохимия (эволюция обмена веществ в рамках эволюции живых организмов); квантовая биохимия (квантово-физические характеристики метаболитов и их превращений в живом организме); энзимология.(структура, свойства и механизм действия ферментов)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8CEC9-BA20-4CE5-ADE9-516A4ADC23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дмет и задачи биохим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едицинской биохимии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яют три основных раздел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статическая биохим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— изучает химическую природу организм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динамическая биохим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— изучает превращения химических веществ в организме (метаболизм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функциональная биохим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ает роль превращений химических веществ в проявлении функций клеток, тканей. органов, организ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едицинской биохимии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яют несколько направлений (частная биохимия)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биохимию систем органов (нервной, гепатобилпарной, сердечно-сосудистой, эндокринной и др.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биохимию основных процессов (движения, пищеварения, размножения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прикладную биохимию (клиническая биохимия, биохимическая лабораторная диагностика и др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E224D-27AE-4274-9DDD-B3114C1AD9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9A00C-3F15-454B-B2DE-FBFFDA3458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рмин «белок» происходит от немецкого слова «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weiB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, что означает яичный белок или вообще белок. Другое название — протеины, происходит от греческого слова «протос» — первичны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роение и свойства бел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лки являются линейными неразветвленными полимерами построенными из аминокислот. Информация о структуре белка закодирована в ДНК. Все живые организмы используют 20 идентичных аминокислот и, за некоторым исключением, имеют одинаковый генетический к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роение и свойства бел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труктурные функции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ми структурными белками являются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оллаген, эластин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формируют костный матрикс, сосудистую систему и другие органы) 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-кератин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рисутствует в эпидермальной ткан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Динамические функции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 функции реализую разнообразные белки: ферменты, гормоны, факторы свертывания крови, иммуноглобулины, мембранные рецепторы, резервные белки, сократительные белки, дыхательные белки и д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2AFCD-00D5-4371-8E74-F49B925EF0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ункциональное многообразие бел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личают несколько принципов классификации белков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) по функци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) по химической структуре и растворим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3) по биологической (пищевой) ценност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0FCAD-4FE8-4A71-8FF0-DFAD936156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668C-B5EE-488D-BED8-DB6EF182A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DCD1-02C6-4145-A4F8-CCE81DE8A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31AB-602B-45BF-902E-9030697BC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730B-0D5D-466D-976D-D32C28B04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7BB0-245C-4559-B280-74FDE159E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7934-FF70-4795-A5C0-6E8112555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A530-11BA-46BC-BC61-A491419D0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1899-3CF6-434A-8AEC-86C18C538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79E0-9381-4F20-9B09-36A2BD514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D4D3-0688-48D7-AA64-E42A8A24E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BBC8-A6BE-40E1-A455-47BA164F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305D-3092-4A1D-BB32-A4E990A5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4776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9C296-43C5-437D-9FBA-ADFED86C45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водная лекци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-360" y="5589360"/>
            <a:ext cx="878508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федра биологической химии (биохимии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сентября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611280" y="3860640"/>
            <a:ext cx="802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СТОМАТОЛОГИЧЕСК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ИЙ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 ФАКУЛЬТЕТ (ОЧНО-ЗАОЧНОЕ ОТДЕЛЕНИЕ) НА ТРЕТИЙ СЕМЕСТР 2013/2014уч.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468360" y="260280"/>
          <a:ext cx="8229600" cy="5999400"/>
        </p:xfrm>
        <a:graphic>
          <a:graphicData uri="http://schemas.openxmlformats.org/drawingml/2006/table">
            <a:tbl>
              <a:tblPr/>
              <a:tblGrid>
                <a:gridCol w="1708200"/>
                <a:gridCol w="6521400"/>
              </a:tblGrid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унк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арактерис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ерменты и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атализаторы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ктиваторы 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гибито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ермен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белков-ферментов характерна высокая степень структурир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лекулы, благодаря чему возможен катализ химической реакции 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и активного центра и регуляция активности фермента чере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аимодействие эффекторов с аллостерическим центром. Извест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лки-активаторы (апопротеин ) и ингибиторы ( ингибито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ипсина из поджелудочной железы, соевых бобов; ингибито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теиназ из яда гадюки, ингибитор химотрипсина из картофеля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54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ормо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правило, белки (м. м. 20-30 кДа), которые содержат небольш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рагменты определяющие гормональную активность; относятся 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е непроникающих в клетку гормонов, на поверхности клет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аимодействуют с рецепторами, гормональный эффект реализует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ез внутриклеточные посредники (гормоны гипоталамуса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пофиза, поджелудочной железы, паращитовидных желез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6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гулятор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л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стоны стабилизируют структуру ДНК и регулирую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онирование генома (проявление матричной активности ДН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ослаблении связей с гистонами); гетерогенная груп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гистоновых белков (м. м. 5-200 кДа) участвует в формирован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уклеосом и взаимодействии с хроматином гормон - ре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пторн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ексов, в регуляции процессов репликации, транскрипции 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ляции; белки теплового шока (стрессовые белки);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белки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улирующие синтез циклических нуклеотидов; онкобелки 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ионкобелки, определяющие малигнизацию клетк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250920" y="274680"/>
          <a:ext cx="8642160" cy="5546520"/>
        </p:xfrm>
        <a:graphic>
          <a:graphicData uri="http://schemas.openxmlformats.org/drawingml/2006/table">
            <a:tbl>
              <a:tblPr/>
              <a:tblGrid>
                <a:gridCol w="1793880"/>
                <a:gridCol w="6848280"/>
              </a:tblGrid>
              <a:tr h="1311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щитные бел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нтитела (иммуноглобулины) вырабатываются в ответ на введ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нтигенов; белки системы свертывания крови; белки систе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мплемента; ферменты обезвреживания ксенобиотиков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терфероны, интерлейкины, лизоцим; белки-антифризы рыб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нтивирусные белки растений; антибактериальные бел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354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оксическ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омолекулярные белковые токсины микроорганизмов и раст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ставлены тремя типами белков. Мультимерные дифтерий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холерный токсины, токсин шигеллы построены и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ной субъединицы типа А (20, 28 и 32 кДа, соответственно) и пя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ъединиц типа В (25, 12 и 7,7 кДа, соответственно); субъединицы 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язываются с клеточной поверхностью, а субъединица А проника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утрь клетки, где блокирует синтез белков на рибосома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огично действуют растительные токсины — рицин, абрин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децин, лектин. Энтеротоксин стафилококка или гемолиз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шечной палочки, встраиваясь в плазматическую мембрану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уют в ней поры, через которые теряются важные компонен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топлазмы клеток. Токсины ядов змей представлены малы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лками — 6,7-7 кДа (примерно 60 аминокислотных остатков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ксические пептиды ядов скорпиона, пчелы и осы состоят 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м из 45 аминокислотных остатков. Эти токсины связываются 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линергическими белками и оказывают нейротоксическ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и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250920" y="692280"/>
          <a:ext cx="8497800" cy="5222880"/>
        </p:xfrm>
        <a:graphic>
          <a:graphicData uri="http://schemas.openxmlformats.org/drawingml/2006/table">
            <a:tbl>
              <a:tblPr/>
              <a:tblGrid>
                <a:gridCol w="1873080"/>
                <a:gridCol w="6624720"/>
              </a:tblGrid>
              <a:tr h="113796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ранспорт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л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льбумины и глобулины — переносчики различных веществ 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лазме крови. Порины — образуют поры для переноса вещест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ерез клеточные мембраны. Транслоказы — обеспечивают обме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мпонентами различных компартментов клеток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60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уктур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л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уктурные белки мембран являются их структурны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мпонентами, склонны к агрегации и специфически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заимодействиям (процессы самосборки), содержат в своем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ставе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 20 % гидрофобных аминокислотных остатков и до 40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ходится на долю а-спиральных участков. Эти белки легк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заимодействуют с фосфолипидами мембран. Структурны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ункции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полняют также белки межклеточного матрикс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коллаген,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тикулин, кератин), кристаллины, белки ядерног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атрикса,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лки цитоплазматического скелет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989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кратитель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л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частвуют в механическом сокращении для осуществления движения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ладают, как правило, аденозинтрифосфатазной активностью):актин и миозин мышц, белки центральных и периферических фибрилл жгутиков и ресничек простейших, жгутиков сперматозоидов, тубулин аппарата движения хромосом в процессе митоза, миксомиозин — нитевидный белок из плазмодия гриба физариума и д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ункциональное многообразие бел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68360" y="1916280"/>
          <a:ext cx="8229600" cy="3260520"/>
        </p:xfrm>
        <a:graphic>
          <a:graphicData uri="http://schemas.openxmlformats.org/drawingml/2006/table">
            <a:tbl>
              <a:tblPr/>
              <a:tblGrid>
                <a:gridCol w="1577880"/>
                <a:gridCol w="6651720"/>
              </a:tblGrid>
              <a:tr h="3260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цептор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л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 внутренней среде организма служат для взаимодействия 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лекулами-биорегуляторами (сигнальными молекулами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окализуются в мембранных структурах клеток, а также могут быть в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створенном состоянии. Клетка, содержащая рецептор, является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еткой-мишенью для управляющего химического сигнала, а также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ля взаимодействия с липопротеинами или вирусами. Для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сприятия сигналов внешней среды известны фоторецепторные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лки (опсин), для оценки вкуса сладкочувствительный белок,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ля восприятия запаха обонятельный белок, для восприятия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вука холинорецепторные белки; в жизнедеятельности живых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ганизмов важное место занимает рецепция ферромонов,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ттрактантов, репеллентов, стрессогенных веществ ра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троение ферментов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611280" y="906840"/>
            <a:ext cx="82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Ферменты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ологические катализаторы белковой природы (от греч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zyme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в дрожжах или от лат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rmentatio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брожени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684360" y="1699920"/>
            <a:ext cx="813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щества, вступающие в ферментативную реакцию, называются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субстратами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езультате ферментативных превращений получаются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продукты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реак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684360" y="249228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трехмерной структуре фермента выделяют несколько участков, несущих определенную функцию. В молекуле фермента выделяют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активный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цент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. е. участок, с которым связывается субстрат и где протекает каталитическая реак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684360" y="3832920"/>
            <a:ext cx="8135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оме активного центра у ряда ферментов имеется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регуляторный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ил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аллостерический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от греч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s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иной, чужой) центр, который в молекуле фермента, как правило, пространственно отделен от активного центра. К аллостерическому центру присоединяются вещества —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эффекторы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торые делятся на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активаторы и ингибиторы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соединение эффектора к аллостерическому центру приводит к изменению третичной и/ или четвертичной структуры молекулы фермента и соответственно конфигурации активного центра, вызывая снижение или повышение ферментативной активности. Ферменты, имеющие аллостерический центр, называются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аллостерическими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304920" y="976320"/>
            <a:ext cx="4114800" cy="2452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228600" y="5132520"/>
            <a:ext cx="5280120" cy="14652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4"/>
          <p:cNvGrpSpPr/>
          <p:nvPr/>
        </p:nvGrpSpPr>
        <p:grpSpPr>
          <a:xfrm>
            <a:off x="1066680" y="4191120"/>
            <a:ext cx="2928600" cy="1828800"/>
            <a:chOff x="1066680" y="4191120"/>
            <a:chExt cx="2928600" cy="1828800"/>
          </a:xfrm>
        </p:grpSpPr>
        <p:sp>
          <p:nvSpPr>
            <p:cNvPr id="96" name="Line 5"/>
            <p:cNvSpPr/>
            <p:nvPr/>
          </p:nvSpPr>
          <p:spPr>
            <a:xfrm flipH="1">
              <a:off x="1066680" y="4191120"/>
              <a:ext cx="19080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6"/>
            <p:cNvSpPr/>
            <p:nvPr/>
          </p:nvSpPr>
          <p:spPr>
            <a:xfrm>
              <a:off x="1257480" y="419112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7"/>
            <p:cNvSpPr/>
            <p:nvPr/>
          </p:nvSpPr>
          <p:spPr>
            <a:xfrm>
              <a:off x="1257480" y="4191120"/>
              <a:ext cx="38196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8"/>
            <p:cNvSpPr/>
            <p:nvPr/>
          </p:nvSpPr>
          <p:spPr>
            <a:xfrm>
              <a:off x="1257480" y="4191120"/>
              <a:ext cx="184644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9"/>
            <p:cNvSpPr/>
            <p:nvPr/>
          </p:nvSpPr>
          <p:spPr>
            <a:xfrm>
              <a:off x="1257480" y="4191120"/>
              <a:ext cx="27378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Text Box 10"/>
          <p:cNvSpPr/>
          <p:nvPr/>
        </p:nvSpPr>
        <p:spPr>
          <a:xfrm>
            <a:off x="0" y="3505320"/>
            <a:ext cx="47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минокислоты, образующие активный цен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5875200" y="4535640"/>
            <a:ext cx="11858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Участ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связы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6934320" y="4556160"/>
            <a:ext cx="154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Каталитический участ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3"/>
          <p:cNvSpPr/>
          <p:nvPr/>
        </p:nvSpPr>
        <p:spPr>
          <a:xfrm rot="5400000">
            <a:off x="6977880" y="3186000"/>
            <a:ext cx="331920" cy="2313000"/>
          </a:xfrm>
          <a:custGeom>
            <a:avLst/>
            <a:gdLst>
              <a:gd name="textAreaLeft" fmla="*/ 0 w 331920"/>
              <a:gd name="textAreaRight" fmla="*/ 119880 w 331920"/>
              <a:gd name="textAreaTop" fmla="*/ 53640 h 2313000"/>
              <a:gd name="textAreaBottom" fmla="*/ 2259360 h 231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01"/>
                  <a:pt x="10800" y="1602"/>
                </a:cubicBezTo>
                <a:lnTo>
                  <a:pt x="10800" y="8298"/>
                </a:lnTo>
                <a:cubicBezTo>
                  <a:pt x="10800" y="9099"/>
                  <a:pt x="16200" y="9900"/>
                  <a:pt x="21600" y="9900"/>
                </a:cubicBezTo>
                <a:cubicBezTo>
                  <a:pt x="16200" y="9900"/>
                  <a:pt x="10800" y="10701"/>
                  <a:pt x="10800" y="11502"/>
                </a:cubicBezTo>
                <a:lnTo>
                  <a:pt x="10800" y="19998"/>
                </a:lnTo>
                <a:cubicBezTo>
                  <a:pt x="10800" y="20799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4"/>
          <p:cNvSpPr/>
          <p:nvPr/>
        </p:nvSpPr>
        <p:spPr>
          <a:xfrm>
            <a:off x="6270480" y="3987720"/>
            <a:ext cx="203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Активный цент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15"/>
          <p:cNvGrpSpPr/>
          <p:nvPr/>
        </p:nvGrpSpPr>
        <p:grpSpPr>
          <a:xfrm>
            <a:off x="5410080" y="2637000"/>
            <a:ext cx="3260880" cy="3066840"/>
            <a:chOff x="5410080" y="2637000"/>
            <a:chExt cx="3260880" cy="3066840"/>
          </a:xfrm>
        </p:grpSpPr>
        <p:sp>
          <p:nvSpPr>
            <p:cNvPr id="107" name="Freeform 16"/>
            <p:cNvSpPr/>
            <p:nvPr/>
          </p:nvSpPr>
          <p:spPr>
            <a:xfrm>
              <a:off x="5410080" y="3309840"/>
              <a:ext cx="3260880" cy="2394000"/>
            </a:xfrm>
            <a:custGeom>
              <a:avLst/>
              <a:gdLst/>
              <a:ahLst/>
              <a:rect l="l" t="t" r="r" b="b"/>
              <a:pathLst>
                <a:path w="2774" h="1733">
                  <a:moveTo>
                    <a:pt x="2495" y="135"/>
                  </a:moveTo>
                  <a:cubicBezTo>
                    <a:pt x="2440" y="137"/>
                    <a:pt x="2251" y="125"/>
                    <a:pt x="2172" y="179"/>
                  </a:cubicBezTo>
                  <a:cubicBezTo>
                    <a:pt x="2093" y="233"/>
                    <a:pt x="2078" y="452"/>
                    <a:pt x="2024" y="458"/>
                  </a:cubicBezTo>
                  <a:cubicBezTo>
                    <a:pt x="1970" y="464"/>
                    <a:pt x="1970" y="260"/>
                    <a:pt x="1849" y="214"/>
                  </a:cubicBezTo>
                  <a:cubicBezTo>
                    <a:pt x="1728" y="168"/>
                    <a:pt x="1421" y="144"/>
                    <a:pt x="1299" y="179"/>
                  </a:cubicBezTo>
                  <a:cubicBezTo>
                    <a:pt x="1177" y="214"/>
                    <a:pt x="1199" y="379"/>
                    <a:pt x="1116" y="423"/>
                  </a:cubicBezTo>
                  <a:cubicBezTo>
                    <a:pt x="1033" y="467"/>
                    <a:pt x="891" y="483"/>
                    <a:pt x="802" y="441"/>
                  </a:cubicBezTo>
                  <a:cubicBezTo>
                    <a:pt x="713" y="399"/>
                    <a:pt x="683" y="0"/>
                    <a:pt x="584" y="170"/>
                  </a:cubicBezTo>
                  <a:cubicBezTo>
                    <a:pt x="485" y="340"/>
                    <a:pt x="0" y="1218"/>
                    <a:pt x="208" y="1462"/>
                  </a:cubicBezTo>
                  <a:cubicBezTo>
                    <a:pt x="416" y="1706"/>
                    <a:pt x="1429" y="1613"/>
                    <a:pt x="1832" y="1636"/>
                  </a:cubicBezTo>
                  <a:cubicBezTo>
                    <a:pt x="2119" y="1663"/>
                    <a:pt x="2491" y="1733"/>
                    <a:pt x="2626" y="1601"/>
                  </a:cubicBezTo>
                  <a:cubicBezTo>
                    <a:pt x="2774" y="1445"/>
                    <a:pt x="2743" y="941"/>
                    <a:pt x="2722" y="702"/>
                  </a:cubicBezTo>
                  <a:cubicBezTo>
                    <a:pt x="2701" y="463"/>
                    <a:pt x="2540" y="260"/>
                    <a:pt x="2502" y="166"/>
                  </a:cubicBezTo>
                  <a:cubicBezTo>
                    <a:pt x="2464" y="72"/>
                    <a:pt x="2550" y="133"/>
                    <a:pt x="2495" y="135"/>
                  </a:cubicBezTo>
                  <a:close/>
                </a:path>
              </a:pathLst>
            </a:custGeom>
            <a:blipFill rotWithShape="0">
              <a:blip r:embed="rId3">
                <a:alphaModFix amt="35000"/>
              </a:blip>
              <a:srcRect/>
              <a:stretch/>
            </a:blip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Group 17"/>
            <p:cNvGrpSpPr/>
            <p:nvPr/>
          </p:nvGrpSpPr>
          <p:grpSpPr>
            <a:xfrm>
              <a:off x="6294600" y="2637000"/>
              <a:ext cx="1858680" cy="1350720"/>
              <a:chOff x="6294600" y="2637000"/>
              <a:chExt cx="1858680" cy="1350720"/>
            </a:xfrm>
          </p:grpSpPr>
          <p:sp>
            <p:nvSpPr>
              <p:cNvPr id="109" name="Freeform 18"/>
              <p:cNvSpPr/>
              <p:nvPr/>
            </p:nvSpPr>
            <p:spPr>
              <a:xfrm>
                <a:off x="6294600" y="2637000"/>
                <a:ext cx="1838160" cy="1350720"/>
              </a:xfrm>
              <a:custGeom>
                <a:avLst/>
                <a:gdLst/>
                <a:ahLst/>
                <a:rect l="l" t="t" r="r" b="b"/>
                <a:pathLst>
                  <a:path w="1158" h="851">
                    <a:moveTo>
                      <a:pt x="1158" y="291"/>
                    </a:moveTo>
                    <a:cubicBezTo>
                      <a:pt x="1137" y="311"/>
                      <a:pt x="1076" y="344"/>
                      <a:pt x="1038" y="405"/>
                    </a:cubicBezTo>
                    <a:cubicBezTo>
                      <a:pt x="1001" y="466"/>
                      <a:pt x="974" y="636"/>
                      <a:pt x="934" y="653"/>
                    </a:cubicBezTo>
                    <a:cubicBezTo>
                      <a:pt x="893" y="671"/>
                      <a:pt x="881" y="538"/>
                      <a:pt x="793" y="512"/>
                    </a:cubicBezTo>
                    <a:cubicBezTo>
                      <a:pt x="705" y="485"/>
                      <a:pt x="498" y="453"/>
                      <a:pt x="405" y="489"/>
                    </a:cubicBezTo>
                    <a:cubicBezTo>
                      <a:pt x="311" y="525"/>
                      <a:pt x="286" y="684"/>
                      <a:pt x="234" y="727"/>
                    </a:cubicBezTo>
                    <a:cubicBezTo>
                      <a:pt x="183" y="771"/>
                      <a:pt x="123" y="851"/>
                      <a:pt x="94" y="748"/>
                    </a:cubicBezTo>
                    <a:cubicBezTo>
                      <a:pt x="65" y="645"/>
                      <a:pt x="0" y="216"/>
                      <a:pt x="58" y="108"/>
                    </a:cubicBezTo>
                    <a:cubicBezTo>
                      <a:pt x="116" y="0"/>
                      <a:pt x="313" y="100"/>
                      <a:pt x="442" y="99"/>
                    </a:cubicBezTo>
                    <a:cubicBezTo>
                      <a:pt x="571" y="98"/>
                      <a:pt x="737" y="101"/>
                      <a:pt x="835" y="99"/>
                    </a:cubicBezTo>
                    <a:cubicBezTo>
                      <a:pt x="1000" y="112"/>
                      <a:pt x="976" y="56"/>
                      <a:pt x="1030" y="88"/>
                    </a:cubicBezTo>
                    <a:cubicBezTo>
                      <a:pt x="1084" y="120"/>
                      <a:pt x="1131" y="249"/>
                      <a:pt x="1158" y="291"/>
                    </a:cubicBezTo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41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 Box 19"/>
              <p:cNvSpPr/>
              <p:nvPr/>
            </p:nvSpPr>
            <p:spPr>
              <a:xfrm>
                <a:off x="6629400" y="3036960"/>
                <a:ext cx="152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1400" spc="-1" strike="noStrike">
                    <a:solidFill>
                      <a:srgbClr val="ffffff"/>
                    </a:solidFill>
                    <a:latin typeface="Arial"/>
                  </a:rPr>
                  <a:t>Субстрат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ext Box 20"/>
          <p:cNvSpPr/>
          <p:nvPr/>
        </p:nvSpPr>
        <p:spPr>
          <a:xfrm>
            <a:off x="5257800" y="1295280"/>
            <a:ext cx="3657600" cy="70380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роение активного центра  ферм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троение ферментов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703440" y="1168560"/>
            <a:ext cx="42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703440" y="457200"/>
            <a:ext cx="42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4"/>
          <p:cNvGrpSpPr/>
          <p:nvPr/>
        </p:nvGrpSpPr>
        <p:grpSpPr>
          <a:xfrm>
            <a:off x="228600" y="457200"/>
            <a:ext cx="1951200" cy="6235200"/>
            <a:chOff x="228600" y="457200"/>
            <a:chExt cx="1951200" cy="6235200"/>
          </a:xfrm>
        </p:grpSpPr>
        <p:sp>
          <p:nvSpPr>
            <p:cNvPr id="117" name="Text Box 5"/>
            <p:cNvSpPr/>
            <p:nvPr/>
          </p:nvSpPr>
          <p:spPr>
            <a:xfrm>
              <a:off x="990720" y="6248520"/>
              <a:ext cx="426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6"/>
            <p:cNvGrpSpPr/>
            <p:nvPr/>
          </p:nvGrpSpPr>
          <p:grpSpPr>
            <a:xfrm>
              <a:off x="228600" y="457200"/>
              <a:ext cx="1951200" cy="6235200"/>
              <a:chOff x="228600" y="457200"/>
              <a:chExt cx="1951200" cy="6235200"/>
            </a:xfrm>
          </p:grpSpPr>
          <p:grpSp>
            <p:nvGrpSpPr>
              <p:cNvPr id="119" name="Group 7"/>
              <p:cNvGrpSpPr/>
              <p:nvPr/>
            </p:nvGrpSpPr>
            <p:grpSpPr>
              <a:xfrm>
                <a:off x="533520" y="457200"/>
                <a:ext cx="1447560" cy="1219320"/>
                <a:chOff x="533520" y="457200"/>
                <a:chExt cx="1447560" cy="1219320"/>
              </a:xfrm>
            </p:grpSpPr>
            <p:sp>
              <p:nvSpPr>
                <p:cNvPr id="120" name="Freeform 8"/>
                <p:cNvSpPr/>
                <p:nvPr/>
              </p:nvSpPr>
              <p:spPr>
                <a:xfrm>
                  <a:off x="619200" y="1054080"/>
                  <a:ext cx="1361880" cy="622440"/>
                </a:xfrm>
                <a:custGeom>
                  <a:avLst/>
                  <a:gdLst>
                    <a:gd name="textAreaLeft" fmla="*/ 0 w 1361880"/>
                    <a:gd name="textAreaRight" fmla="*/ 1362240 w 1361880"/>
                    <a:gd name="textAreaTop" fmla="*/ 0 h 622440"/>
                    <a:gd name="textAreaBottom" fmla="*/ 622800 h 622440"/>
                  </a:gdLst>
                  <a:ahLst/>
                  <a:rect l="textAreaLeft" t="textAreaTop" r="textAreaRight" b="textAreaBottom"/>
                  <a:pathLst>
                    <a:path w="1187" h="1431">
                      <a:moveTo>
                        <a:pt x="0" y="0"/>
                      </a:moveTo>
                      <a:lnTo>
                        <a:pt x="0" y="1431"/>
                      </a:lnTo>
                      <a:lnTo>
                        <a:pt x="1187" y="1431"/>
                      </a:lnTo>
                      <a:lnTo>
                        <a:pt x="1187" y="0"/>
                      </a:lnTo>
                    </a:path>
                  </a:pathLst>
                </a:custGeom>
                <a:noFill/>
                <a:ln w="41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9"/>
                <p:cNvSpPr/>
                <p:nvPr/>
              </p:nvSpPr>
              <p:spPr>
                <a:xfrm>
                  <a:off x="619200" y="1047600"/>
                  <a:ext cx="1361880" cy="139680"/>
                </a:xfrm>
                <a:custGeom>
                  <a:avLst/>
                  <a:gdLst>
                    <a:gd name="textAreaLeft" fmla="*/ 0 w 1361880"/>
                    <a:gd name="textAreaRight" fmla="*/ 1362240 w 1361880"/>
                    <a:gd name="textAreaTop" fmla="*/ 0 h 139680"/>
                    <a:gd name="textAreaBottom" fmla="*/ 140040 h 139680"/>
                  </a:gdLst>
                  <a:ahLst/>
                  <a:rect l="textAreaLeft" t="textAreaTop" r="textAreaRight" b="textAreaBottom"/>
                  <a:pathLst>
                    <a:path w="1920" h="192">
                      <a:moveTo>
                        <a:pt x="0" y="18"/>
                      </a:moveTo>
                      <a:lnTo>
                        <a:pt x="192" y="18"/>
                      </a:lnTo>
                      <a:lnTo>
                        <a:pt x="192" y="184"/>
                      </a:lnTo>
                      <a:lnTo>
                        <a:pt x="506" y="184"/>
                      </a:lnTo>
                      <a:lnTo>
                        <a:pt x="506" y="18"/>
                      </a:lnTo>
                      <a:lnTo>
                        <a:pt x="742" y="18"/>
                      </a:lnTo>
                      <a:lnTo>
                        <a:pt x="751" y="175"/>
                      </a:lnTo>
                      <a:lnTo>
                        <a:pt x="951" y="175"/>
                      </a:lnTo>
                      <a:lnTo>
                        <a:pt x="951" y="0"/>
                      </a:lnTo>
                      <a:lnTo>
                        <a:pt x="1283" y="0"/>
                      </a:lnTo>
                      <a:lnTo>
                        <a:pt x="1283" y="192"/>
                      </a:lnTo>
                      <a:lnTo>
                        <a:pt x="1763" y="192"/>
                      </a:lnTo>
                      <a:lnTo>
                        <a:pt x="1920" y="35"/>
                      </a:lnTo>
                    </a:path>
                  </a:pathLst>
                </a:custGeom>
                <a:noFill/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2" name="Group 10"/>
                <p:cNvGrpSpPr/>
                <p:nvPr/>
              </p:nvGrpSpPr>
              <p:grpSpPr>
                <a:xfrm>
                  <a:off x="533520" y="457200"/>
                  <a:ext cx="1447560" cy="507960"/>
                  <a:chOff x="533520" y="457200"/>
                  <a:chExt cx="1447560" cy="507960"/>
                </a:xfrm>
              </p:grpSpPr>
              <p:grpSp>
                <p:nvGrpSpPr>
                  <p:cNvPr id="123" name="Group 11"/>
                  <p:cNvGrpSpPr/>
                  <p:nvPr/>
                </p:nvGrpSpPr>
                <p:grpSpPr>
                  <a:xfrm>
                    <a:off x="533520" y="485640"/>
                    <a:ext cx="833040" cy="474480"/>
                    <a:chOff x="533520" y="485640"/>
                    <a:chExt cx="833040" cy="474480"/>
                  </a:xfrm>
                </p:grpSpPr>
                <p:sp>
                  <p:nvSpPr>
                    <p:cNvPr id="124" name="Freeform 12"/>
                    <p:cNvSpPr/>
                    <p:nvPr/>
                  </p:nvSpPr>
                  <p:spPr>
                    <a:xfrm>
                      <a:off x="533520" y="485640"/>
                      <a:ext cx="833040" cy="355320"/>
                    </a:xfrm>
                    <a:custGeom>
                      <a:avLst/>
                      <a:gdLst>
                        <a:gd name="textAreaLeft" fmla="*/ 0 w 833040"/>
                        <a:gd name="textAreaRight" fmla="*/ 833400 w 833040"/>
                        <a:gd name="textAreaTop" fmla="*/ 0 h 355320"/>
                        <a:gd name="textAreaBottom" fmla="*/ 355680 h 355320"/>
                      </a:gdLst>
                      <a:ahLst/>
                      <a:rect l="textAreaLeft" t="textAreaTop" r="textAreaRight" b="textAreaBottom"/>
                      <a:pathLst>
                        <a:path w="1100" h="570">
                          <a:moveTo>
                            <a:pt x="0" y="570"/>
                          </a:moveTo>
                          <a:lnTo>
                            <a:pt x="0" y="0"/>
                          </a:lnTo>
                          <a:lnTo>
                            <a:pt x="1100" y="4"/>
                          </a:lnTo>
                          <a:lnTo>
                            <a:pt x="1100" y="301"/>
                          </a:lnTo>
                          <a:lnTo>
                            <a:pt x="1100" y="493"/>
                          </a:lnTo>
                        </a:path>
                      </a:pathLst>
                    </a:custGeom>
                    <a:noFill/>
                    <a:ln w="414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" name="Freeform 13"/>
                    <p:cNvSpPr/>
                    <p:nvPr/>
                  </p:nvSpPr>
                  <p:spPr>
                    <a:xfrm>
                      <a:off x="533520" y="787320"/>
                      <a:ext cx="833040" cy="172800"/>
                    </a:xfrm>
                    <a:custGeom>
                      <a:avLst/>
                      <a:gdLst>
                        <a:gd name="textAreaLeft" fmla="*/ 0 w 833040"/>
                        <a:gd name="textAreaRight" fmla="*/ 833400 w 833040"/>
                        <a:gd name="textAreaTop" fmla="*/ 0 h 172800"/>
                        <a:gd name="textAreaBottom" fmla="*/ 173160 h 172800"/>
                      </a:gdLst>
                      <a:ahLst/>
                      <a:rect l="textAreaLeft" t="textAreaTop" r="textAreaRight" b="textAreaBottom"/>
                      <a:pathLst>
                        <a:path w="1100" h="277">
                          <a:moveTo>
                            <a:pt x="0" y="77"/>
                          </a:moveTo>
                          <a:lnTo>
                            <a:pt x="218" y="67"/>
                          </a:lnTo>
                          <a:lnTo>
                            <a:pt x="253" y="259"/>
                          </a:lnTo>
                          <a:lnTo>
                            <a:pt x="436" y="277"/>
                          </a:lnTo>
                          <a:lnTo>
                            <a:pt x="463" y="76"/>
                          </a:lnTo>
                          <a:lnTo>
                            <a:pt x="742" y="77"/>
                          </a:lnTo>
                          <a:lnTo>
                            <a:pt x="812" y="259"/>
                          </a:lnTo>
                          <a:lnTo>
                            <a:pt x="899" y="250"/>
                          </a:lnTo>
                          <a:lnTo>
                            <a:pt x="890" y="85"/>
                          </a:lnTo>
                          <a:lnTo>
                            <a:pt x="1100" y="0"/>
                          </a:lnTo>
                        </a:path>
                      </a:pathLst>
                    </a:custGeom>
                    <a:noFill/>
                    <a:ln w="31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6" name="Line 14"/>
                  <p:cNvSpPr/>
                  <p:nvPr/>
                </p:nvSpPr>
                <p:spPr>
                  <a:xfrm>
                    <a:off x="1369800" y="635400"/>
                    <a:ext cx="181440" cy="0"/>
                  </a:xfrm>
                  <a:prstGeom prst="line">
                    <a:avLst/>
                  </a:prstGeom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7" name="Group 15"/>
                  <p:cNvGrpSpPr/>
                  <p:nvPr/>
                </p:nvGrpSpPr>
                <p:grpSpPr>
                  <a:xfrm>
                    <a:off x="1544760" y="457200"/>
                    <a:ext cx="436320" cy="507960"/>
                    <a:chOff x="1544760" y="457200"/>
                    <a:chExt cx="436320" cy="507960"/>
                  </a:xfrm>
                </p:grpSpPr>
                <p:sp>
                  <p:nvSpPr>
                    <p:cNvPr id="128" name="Freeform 16"/>
                    <p:cNvSpPr/>
                    <p:nvPr/>
                  </p:nvSpPr>
                  <p:spPr>
                    <a:xfrm>
                      <a:off x="1551600" y="457200"/>
                      <a:ext cx="429480" cy="507960"/>
                    </a:xfrm>
                    <a:custGeom>
                      <a:avLst/>
                      <a:gdLst>
                        <a:gd name="textAreaLeft" fmla="*/ 0 w 429480"/>
                        <a:gd name="textAreaRight" fmla="*/ 429840 w 429480"/>
                        <a:gd name="textAreaTop" fmla="*/ 0 h 507960"/>
                        <a:gd name="textAreaBottom" fmla="*/ 508320 h 507960"/>
                      </a:gdLst>
                      <a:ahLst/>
                      <a:rect l="textAreaLeft" t="textAreaTop" r="textAreaRight" b="textAreaBottom"/>
                      <a:pathLst>
                        <a:path w="567" h="815">
                          <a:moveTo>
                            <a:pt x="0" y="0"/>
                          </a:moveTo>
                          <a:lnTo>
                            <a:pt x="0" y="815"/>
                          </a:lnTo>
                          <a:lnTo>
                            <a:pt x="393" y="792"/>
                          </a:lnTo>
                          <a:lnTo>
                            <a:pt x="567" y="600"/>
                          </a:lnTo>
                          <a:lnTo>
                            <a:pt x="432" y="110"/>
                          </a:lnTo>
                        </a:path>
                      </a:pathLst>
                    </a:custGeom>
                    <a:noFill/>
                    <a:ln w="414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" name="Freeform 17"/>
                    <p:cNvSpPr/>
                    <p:nvPr/>
                  </p:nvSpPr>
                  <p:spPr>
                    <a:xfrm>
                      <a:off x="1544760" y="461520"/>
                      <a:ext cx="334080" cy="263520"/>
                    </a:xfrm>
                    <a:custGeom>
                      <a:avLst/>
                      <a:gdLst>
                        <a:gd name="textAreaLeft" fmla="*/ 0 w 334080"/>
                        <a:gd name="textAreaRight" fmla="*/ 334440 w 334080"/>
                        <a:gd name="textAreaTop" fmla="*/ 0 h 263520"/>
                        <a:gd name="textAreaBottom" fmla="*/ 263880 h 263520"/>
                      </a:gdLst>
                      <a:ahLst/>
                      <a:rect l="textAreaLeft" t="textAreaTop" r="textAreaRight" b="textAreaBottom"/>
                      <a:pathLst>
                        <a:path w="441" h="423">
                          <a:moveTo>
                            <a:pt x="0" y="0"/>
                          </a:moveTo>
                          <a:lnTo>
                            <a:pt x="95" y="178"/>
                          </a:lnTo>
                          <a:lnTo>
                            <a:pt x="108" y="402"/>
                          </a:lnTo>
                          <a:lnTo>
                            <a:pt x="180" y="423"/>
                          </a:lnTo>
                          <a:lnTo>
                            <a:pt x="191" y="189"/>
                          </a:lnTo>
                          <a:lnTo>
                            <a:pt x="300" y="190"/>
                          </a:lnTo>
                          <a:lnTo>
                            <a:pt x="328" y="402"/>
                          </a:lnTo>
                          <a:lnTo>
                            <a:pt x="362" y="392"/>
                          </a:lnTo>
                          <a:lnTo>
                            <a:pt x="359" y="199"/>
                          </a:lnTo>
                          <a:lnTo>
                            <a:pt x="441" y="100"/>
                          </a:lnTo>
                        </a:path>
                      </a:pathLst>
                    </a:custGeom>
                    <a:noFill/>
                    <a:ln w="31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30" name="Line 18"/>
              <p:cNvSpPr/>
              <p:nvPr/>
            </p:nvSpPr>
            <p:spPr>
              <a:xfrm>
                <a:off x="1219320" y="1752480"/>
                <a:ext cx="0" cy="38124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" name="Group 19"/>
              <p:cNvGrpSpPr/>
              <p:nvPr/>
            </p:nvGrpSpPr>
            <p:grpSpPr>
              <a:xfrm>
                <a:off x="609480" y="2133720"/>
                <a:ext cx="1371600" cy="1218240"/>
                <a:chOff x="609480" y="2133720"/>
                <a:chExt cx="1371600" cy="1218240"/>
              </a:xfrm>
            </p:grpSpPr>
            <p:grpSp>
              <p:nvGrpSpPr>
                <p:cNvPr id="132" name="Group 20"/>
                <p:cNvGrpSpPr/>
                <p:nvPr/>
              </p:nvGrpSpPr>
              <p:grpSpPr>
                <a:xfrm>
                  <a:off x="609480" y="2582640"/>
                  <a:ext cx="1371600" cy="769320"/>
                  <a:chOff x="609480" y="2582640"/>
                  <a:chExt cx="1371600" cy="769320"/>
                </a:xfrm>
              </p:grpSpPr>
              <p:sp>
                <p:nvSpPr>
                  <p:cNvPr id="133" name="Freeform 21"/>
                  <p:cNvSpPr/>
                  <p:nvPr/>
                </p:nvSpPr>
                <p:spPr>
                  <a:xfrm>
                    <a:off x="609480" y="2590560"/>
                    <a:ext cx="1371600" cy="761400"/>
                  </a:xfrm>
                  <a:custGeom>
                    <a:avLst/>
                    <a:gdLst>
                      <a:gd name="textAreaLeft" fmla="*/ 0 w 1371600"/>
                      <a:gd name="textAreaRight" fmla="*/ 1371960 w 1371600"/>
                      <a:gd name="textAreaTop" fmla="*/ 0 h 761400"/>
                      <a:gd name="textAreaBottom" fmla="*/ 761760 h 761400"/>
                    </a:gdLst>
                    <a:ahLst/>
                    <a:rect l="textAreaLeft" t="textAreaTop" r="textAreaRight" b="textAreaBottom"/>
                    <a:pathLst>
                      <a:path w="1187" h="1431">
                        <a:moveTo>
                          <a:pt x="0" y="0"/>
                        </a:moveTo>
                        <a:lnTo>
                          <a:pt x="0" y="1431"/>
                        </a:lnTo>
                        <a:lnTo>
                          <a:pt x="1187" y="1431"/>
                        </a:lnTo>
                        <a:lnTo>
                          <a:pt x="1187" y="0"/>
                        </a:lnTo>
                      </a:path>
                    </a:pathLst>
                  </a:custGeom>
                  <a:noFill/>
                  <a:ln w="41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Freeform 22"/>
                  <p:cNvSpPr/>
                  <p:nvPr/>
                </p:nvSpPr>
                <p:spPr>
                  <a:xfrm>
                    <a:off x="609480" y="2582640"/>
                    <a:ext cx="1371600" cy="171000"/>
                  </a:xfrm>
                  <a:custGeom>
                    <a:avLst/>
                    <a:gdLst>
                      <a:gd name="textAreaLeft" fmla="*/ 0 w 1371600"/>
                      <a:gd name="textAreaRight" fmla="*/ 1371960 w 1371600"/>
                      <a:gd name="textAreaTop" fmla="*/ 0 h 171000"/>
                      <a:gd name="textAreaBottom" fmla="*/ 171360 h 171000"/>
                    </a:gdLst>
                    <a:ahLst/>
                    <a:rect l="textAreaLeft" t="textAreaTop" r="textAreaRight" b="textAreaBottom"/>
                    <a:pathLst>
                      <a:path w="1920" h="192">
                        <a:moveTo>
                          <a:pt x="0" y="18"/>
                        </a:moveTo>
                        <a:lnTo>
                          <a:pt x="192" y="18"/>
                        </a:lnTo>
                        <a:lnTo>
                          <a:pt x="192" y="184"/>
                        </a:lnTo>
                        <a:lnTo>
                          <a:pt x="506" y="184"/>
                        </a:lnTo>
                        <a:lnTo>
                          <a:pt x="506" y="18"/>
                        </a:lnTo>
                        <a:lnTo>
                          <a:pt x="742" y="18"/>
                        </a:lnTo>
                        <a:lnTo>
                          <a:pt x="751" y="175"/>
                        </a:lnTo>
                        <a:lnTo>
                          <a:pt x="951" y="175"/>
                        </a:lnTo>
                        <a:lnTo>
                          <a:pt x="951" y="0"/>
                        </a:lnTo>
                        <a:lnTo>
                          <a:pt x="1283" y="0"/>
                        </a:lnTo>
                        <a:lnTo>
                          <a:pt x="1283" y="192"/>
                        </a:lnTo>
                        <a:lnTo>
                          <a:pt x="1763" y="192"/>
                        </a:lnTo>
                        <a:lnTo>
                          <a:pt x="1920" y="35"/>
                        </a:lnTo>
                      </a:path>
                    </a:pathLst>
                  </a:custGeom>
                  <a:noFill/>
                  <a:ln w="223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" name="Freeform 23"/>
                <p:cNvSpPr/>
                <p:nvPr/>
              </p:nvSpPr>
              <p:spPr>
                <a:xfrm>
                  <a:off x="609480" y="2168280"/>
                  <a:ext cx="753120" cy="434160"/>
                </a:xfrm>
                <a:custGeom>
                  <a:avLst/>
                  <a:gdLst>
                    <a:gd name="textAreaLeft" fmla="*/ 0 w 753120"/>
                    <a:gd name="textAreaRight" fmla="*/ 753480 w 753120"/>
                    <a:gd name="textAreaTop" fmla="*/ 0 h 434160"/>
                    <a:gd name="textAreaBottom" fmla="*/ 434520 h 434160"/>
                  </a:gdLst>
                  <a:ahLst/>
                  <a:rect l="textAreaLeft" t="textAreaTop" r="textAreaRight" b="textAreaBottom"/>
                  <a:pathLst>
                    <a:path w="1100" h="570">
                      <a:moveTo>
                        <a:pt x="0" y="570"/>
                      </a:moveTo>
                      <a:lnTo>
                        <a:pt x="0" y="0"/>
                      </a:lnTo>
                      <a:lnTo>
                        <a:pt x="1100" y="4"/>
                      </a:lnTo>
                      <a:lnTo>
                        <a:pt x="1100" y="301"/>
                      </a:lnTo>
                      <a:lnTo>
                        <a:pt x="1100" y="493"/>
                      </a:lnTo>
                    </a:path>
                  </a:pathLst>
                </a:custGeom>
                <a:noFill/>
                <a:ln w="41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24"/>
                <p:cNvSpPr/>
                <p:nvPr/>
              </p:nvSpPr>
              <p:spPr>
                <a:xfrm>
                  <a:off x="609480" y="2529000"/>
                  <a:ext cx="753120" cy="213840"/>
                </a:xfrm>
                <a:custGeom>
                  <a:avLst/>
                  <a:gdLst>
                    <a:gd name="textAreaLeft" fmla="*/ 0 w 753120"/>
                    <a:gd name="textAreaRight" fmla="*/ 753480 w 753120"/>
                    <a:gd name="textAreaTop" fmla="*/ 0 h 213840"/>
                    <a:gd name="textAreaBottom" fmla="*/ 214200 h 213840"/>
                  </a:gdLst>
                  <a:ahLst/>
                  <a:rect l="textAreaLeft" t="textAreaTop" r="textAreaRight" b="textAreaBottom"/>
                  <a:pathLst>
                    <a:path w="580" h="160">
                      <a:moveTo>
                        <a:pt x="0" y="50"/>
                      </a:moveTo>
                      <a:lnTo>
                        <a:pt x="136" y="40"/>
                      </a:lnTo>
                      <a:lnTo>
                        <a:pt x="128" y="136"/>
                      </a:lnTo>
                      <a:lnTo>
                        <a:pt x="256" y="144"/>
                      </a:lnTo>
                      <a:lnTo>
                        <a:pt x="240" y="0"/>
                      </a:lnTo>
                      <a:lnTo>
                        <a:pt x="424" y="0"/>
                      </a:lnTo>
                      <a:lnTo>
                        <a:pt x="416" y="152"/>
                      </a:lnTo>
                      <a:lnTo>
                        <a:pt x="512" y="160"/>
                      </a:lnTo>
                      <a:lnTo>
                        <a:pt x="520" y="72"/>
                      </a:lnTo>
                      <a:lnTo>
                        <a:pt x="580" y="6"/>
                      </a:lnTo>
                    </a:path>
                  </a:pathLst>
                </a:custGeom>
                <a:noFill/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Line 25"/>
                <p:cNvSpPr/>
                <p:nvPr/>
              </p:nvSpPr>
              <p:spPr>
                <a:xfrm>
                  <a:off x="1365480" y="2351520"/>
                  <a:ext cx="164880" cy="0"/>
                </a:xfrm>
                <a:prstGeom prst="line">
                  <a:avLst/>
                </a:prstGeom>
                <a:ln w="34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8" name="Group 26"/>
                <p:cNvGrpSpPr/>
                <p:nvPr/>
              </p:nvGrpSpPr>
              <p:grpSpPr>
                <a:xfrm>
                  <a:off x="1544400" y="2133720"/>
                  <a:ext cx="394920" cy="621360"/>
                  <a:chOff x="1544400" y="2133720"/>
                  <a:chExt cx="394920" cy="621360"/>
                </a:xfrm>
              </p:grpSpPr>
              <p:sp>
                <p:nvSpPr>
                  <p:cNvPr id="139" name="Freeform 27"/>
                  <p:cNvSpPr/>
                  <p:nvPr/>
                </p:nvSpPr>
                <p:spPr>
                  <a:xfrm>
                    <a:off x="1550520" y="2133720"/>
                    <a:ext cx="388800" cy="621360"/>
                  </a:xfrm>
                  <a:custGeom>
                    <a:avLst/>
                    <a:gdLst>
                      <a:gd name="textAreaLeft" fmla="*/ 0 w 388800"/>
                      <a:gd name="textAreaRight" fmla="*/ 389160 w 388800"/>
                      <a:gd name="textAreaTop" fmla="*/ 0 h 621360"/>
                      <a:gd name="textAreaBottom" fmla="*/ 621720 h 621360"/>
                    </a:gdLst>
                    <a:ahLst/>
                    <a:rect l="textAreaLeft" t="textAreaTop" r="textAreaRight" b="textAreaBottom"/>
                    <a:pathLst>
                      <a:path w="567" h="815">
                        <a:moveTo>
                          <a:pt x="0" y="0"/>
                        </a:moveTo>
                        <a:lnTo>
                          <a:pt x="0" y="815"/>
                        </a:lnTo>
                        <a:lnTo>
                          <a:pt x="393" y="792"/>
                        </a:lnTo>
                        <a:lnTo>
                          <a:pt x="567" y="600"/>
                        </a:lnTo>
                        <a:lnTo>
                          <a:pt x="432" y="110"/>
                        </a:lnTo>
                      </a:path>
                    </a:pathLst>
                  </a:custGeom>
                  <a:noFill/>
                  <a:ln w="41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28"/>
                  <p:cNvSpPr/>
                  <p:nvPr/>
                </p:nvSpPr>
                <p:spPr>
                  <a:xfrm>
                    <a:off x="1544400" y="2138760"/>
                    <a:ext cx="302400" cy="322200"/>
                  </a:xfrm>
                  <a:custGeom>
                    <a:avLst/>
                    <a:gdLst>
                      <a:gd name="textAreaLeft" fmla="*/ 0 w 302400"/>
                      <a:gd name="textAreaRight" fmla="*/ 302760 w 302400"/>
                      <a:gd name="textAreaTop" fmla="*/ 0 h 322200"/>
                      <a:gd name="textAreaBottom" fmla="*/ 322560 h 322200"/>
                    </a:gdLst>
                    <a:ahLst/>
                    <a:rect l="textAreaLeft" t="textAreaTop" r="textAreaRight" b="textAreaBottom"/>
                    <a:pathLst>
                      <a:path w="441" h="423">
                        <a:moveTo>
                          <a:pt x="0" y="0"/>
                        </a:moveTo>
                        <a:lnTo>
                          <a:pt x="95" y="178"/>
                        </a:lnTo>
                        <a:lnTo>
                          <a:pt x="108" y="402"/>
                        </a:lnTo>
                        <a:lnTo>
                          <a:pt x="180" y="423"/>
                        </a:lnTo>
                        <a:lnTo>
                          <a:pt x="191" y="189"/>
                        </a:lnTo>
                        <a:lnTo>
                          <a:pt x="300" y="190"/>
                        </a:lnTo>
                        <a:lnTo>
                          <a:pt x="328" y="402"/>
                        </a:lnTo>
                        <a:lnTo>
                          <a:pt x="362" y="392"/>
                        </a:lnTo>
                        <a:lnTo>
                          <a:pt x="359" y="199"/>
                        </a:lnTo>
                        <a:lnTo>
                          <a:pt x="441" y="100"/>
                        </a:lnTo>
                      </a:path>
                    </a:pathLst>
                  </a:custGeom>
                  <a:noFill/>
                  <a:ln w="31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1" name="Line 29"/>
              <p:cNvSpPr/>
              <p:nvPr/>
            </p:nvSpPr>
            <p:spPr>
              <a:xfrm>
                <a:off x="1219320" y="3429000"/>
                <a:ext cx="0" cy="38088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2" name="Group 30"/>
              <p:cNvGrpSpPr/>
              <p:nvPr/>
            </p:nvGrpSpPr>
            <p:grpSpPr>
              <a:xfrm>
                <a:off x="609480" y="4280040"/>
                <a:ext cx="1295640" cy="672480"/>
                <a:chOff x="609480" y="4280040"/>
                <a:chExt cx="1295640" cy="672480"/>
              </a:xfrm>
            </p:grpSpPr>
            <p:sp>
              <p:nvSpPr>
                <p:cNvPr id="143" name="Freeform 31"/>
                <p:cNvSpPr/>
                <p:nvPr/>
              </p:nvSpPr>
              <p:spPr>
                <a:xfrm>
                  <a:off x="609480" y="4286880"/>
                  <a:ext cx="1295640" cy="665640"/>
                </a:xfrm>
                <a:custGeom>
                  <a:avLst/>
                  <a:gdLst>
                    <a:gd name="textAreaLeft" fmla="*/ 0 w 1295640"/>
                    <a:gd name="textAreaRight" fmla="*/ 1296000 w 1295640"/>
                    <a:gd name="textAreaTop" fmla="*/ 0 h 665640"/>
                    <a:gd name="textAreaBottom" fmla="*/ 666000 h 665640"/>
                  </a:gdLst>
                  <a:ahLst/>
                  <a:rect l="textAreaLeft" t="textAreaTop" r="textAreaRight" b="textAreaBottom"/>
                  <a:pathLst>
                    <a:path w="1187" h="1431">
                      <a:moveTo>
                        <a:pt x="0" y="0"/>
                      </a:moveTo>
                      <a:lnTo>
                        <a:pt x="0" y="1431"/>
                      </a:lnTo>
                      <a:lnTo>
                        <a:pt x="1187" y="1431"/>
                      </a:lnTo>
                      <a:lnTo>
                        <a:pt x="1187" y="0"/>
                      </a:lnTo>
                    </a:path>
                  </a:pathLst>
                </a:custGeom>
                <a:noFill/>
                <a:ln w="41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32"/>
                <p:cNvSpPr/>
                <p:nvPr/>
              </p:nvSpPr>
              <p:spPr>
                <a:xfrm>
                  <a:off x="609480" y="4280040"/>
                  <a:ext cx="1295640" cy="149400"/>
                </a:xfrm>
                <a:custGeom>
                  <a:avLst/>
                  <a:gdLst>
                    <a:gd name="textAreaLeft" fmla="*/ 0 w 1295640"/>
                    <a:gd name="textAreaRight" fmla="*/ 1296000 w 1295640"/>
                    <a:gd name="textAreaTop" fmla="*/ 0 h 149400"/>
                    <a:gd name="textAreaBottom" fmla="*/ 149760 h 149400"/>
                  </a:gdLst>
                  <a:ahLst/>
                  <a:rect l="textAreaLeft" t="textAreaTop" r="textAreaRight" b="textAreaBottom"/>
                  <a:pathLst>
                    <a:path w="1920" h="192">
                      <a:moveTo>
                        <a:pt x="0" y="18"/>
                      </a:moveTo>
                      <a:lnTo>
                        <a:pt x="192" y="18"/>
                      </a:lnTo>
                      <a:lnTo>
                        <a:pt x="192" y="184"/>
                      </a:lnTo>
                      <a:lnTo>
                        <a:pt x="506" y="184"/>
                      </a:lnTo>
                      <a:lnTo>
                        <a:pt x="506" y="18"/>
                      </a:lnTo>
                      <a:lnTo>
                        <a:pt x="742" y="18"/>
                      </a:lnTo>
                      <a:lnTo>
                        <a:pt x="751" y="175"/>
                      </a:lnTo>
                      <a:lnTo>
                        <a:pt x="951" y="175"/>
                      </a:lnTo>
                      <a:lnTo>
                        <a:pt x="951" y="0"/>
                      </a:lnTo>
                      <a:lnTo>
                        <a:pt x="1283" y="0"/>
                      </a:lnTo>
                      <a:lnTo>
                        <a:pt x="1283" y="192"/>
                      </a:lnTo>
                      <a:lnTo>
                        <a:pt x="1763" y="192"/>
                      </a:lnTo>
                      <a:lnTo>
                        <a:pt x="1920" y="35"/>
                      </a:lnTo>
                    </a:path>
                  </a:pathLst>
                </a:custGeom>
                <a:noFill/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" name="Group 33"/>
              <p:cNvGrpSpPr/>
              <p:nvPr/>
            </p:nvGrpSpPr>
            <p:grpSpPr>
              <a:xfrm>
                <a:off x="609480" y="3886200"/>
                <a:ext cx="711360" cy="507960"/>
                <a:chOff x="609480" y="3886200"/>
                <a:chExt cx="711360" cy="507960"/>
              </a:xfrm>
            </p:grpSpPr>
            <p:sp>
              <p:nvSpPr>
                <p:cNvPr id="146" name="Freeform 34"/>
                <p:cNvSpPr/>
                <p:nvPr/>
              </p:nvSpPr>
              <p:spPr>
                <a:xfrm>
                  <a:off x="609480" y="3886200"/>
                  <a:ext cx="711360" cy="381240"/>
                </a:xfrm>
                <a:custGeom>
                  <a:avLst/>
                  <a:gdLst>
                    <a:gd name="textAreaLeft" fmla="*/ 0 w 711360"/>
                    <a:gd name="textAreaRight" fmla="*/ 711720 w 711360"/>
                    <a:gd name="textAreaTop" fmla="*/ 0 h 381240"/>
                    <a:gd name="textAreaBottom" fmla="*/ 381600 h 381240"/>
                  </a:gdLst>
                  <a:ahLst/>
                  <a:rect l="textAreaLeft" t="textAreaTop" r="textAreaRight" b="textAreaBottom"/>
                  <a:pathLst>
                    <a:path w="1100" h="570">
                      <a:moveTo>
                        <a:pt x="0" y="570"/>
                      </a:moveTo>
                      <a:lnTo>
                        <a:pt x="0" y="0"/>
                      </a:lnTo>
                      <a:lnTo>
                        <a:pt x="1100" y="4"/>
                      </a:lnTo>
                      <a:lnTo>
                        <a:pt x="1100" y="301"/>
                      </a:lnTo>
                      <a:lnTo>
                        <a:pt x="1100" y="493"/>
                      </a:lnTo>
                    </a:path>
                  </a:pathLst>
                </a:custGeom>
                <a:noFill/>
                <a:ln w="41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35"/>
                <p:cNvSpPr/>
                <p:nvPr/>
              </p:nvSpPr>
              <p:spPr>
                <a:xfrm>
                  <a:off x="609480" y="4191120"/>
                  <a:ext cx="711360" cy="203040"/>
                </a:xfrm>
                <a:custGeom>
                  <a:avLst/>
                  <a:gdLst>
                    <a:gd name="textAreaLeft" fmla="*/ 0 w 711360"/>
                    <a:gd name="textAreaRight" fmla="*/ 711720 w 711360"/>
                    <a:gd name="textAreaTop" fmla="*/ 0 h 203040"/>
                    <a:gd name="textAreaBottom" fmla="*/ 203400 h 203040"/>
                  </a:gdLst>
                  <a:ahLst/>
                  <a:rect l="textAreaLeft" t="textAreaTop" r="textAreaRight" b="textAreaBottom"/>
                  <a:pathLst>
                    <a:path w="448" h="128">
                      <a:moveTo>
                        <a:pt x="0" y="37"/>
                      </a:moveTo>
                      <a:lnTo>
                        <a:pt x="105" y="30"/>
                      </a:lnTo>
                      <a:lnTo>
                        <a:pt x="99" y="100"/>
                      </a:lnTo>
                      <a:lnTo>
                        <a:pt x="180" y="112"/>
                      </a:lnTo>
                      <a:lnTo>
                        <a:pt x="185" y="0"/>
                      </a:lnTo>
                      <a:lnTo>
                        <a:pt x="328" y="0"/>
                      </a:lnTo>
                      <a:lnTo>
                        <a:pt x="336" y="112"/>
                      </a:lnTo>
                      <a:lnTo>
                        <a:pt x="388" y="128"/>
                      </a:lnTo>
                      <a:lnTo>
                        <a:pt x="402" y="53"/>
                      </a:lnTo>
                      <a:lnTo>
                        <a:pt x="448" y="4"/>
                      </a:lnTo>
                    </a:path>
                  </a:pathLst>
                </a:custGeom>
                <a:noFill/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" name="Group 36"/>
              <p:cNvGrpSpPr/>
              <p:nvPr/>
            </p:nvGrpSpPr>
            <p:grpSpPr>
              <a:xfrm>
                <a:off x="1523880" y="3809880"/>
                <a:ext cx="373320" cy="544680"/>
                <a:chOff x="1523880" y="3809880"/>
                <a:chExt cx="373320" cy="544680"/>
              </a:xfrm>
            </p:grpSpPr>
            <p:sp>
              <p:nvSpPr>
                <p:cNvPr id="149" name="Freeform 37"/>
                <p:cNvSpPr/>
                <p:nvPr/>
              </p:nvSpPr>
              <p:spPr>
                <a:xfrm>
                  <a:off x="1529640" y="3809880"/>
                  <a:ext cx="367560" cy="544680"/>
                </a:xfrm>
                <a:custGeom>
                  <a:avLst/>
                  <a:gdLst>
                    <a:gd name="textAreaLeft" fmla="*/ 0 w 367560"/>
                    <a:gd name="textAreaRight" fmla="*/ 367920 w 367560"/>
                    <a:gd name="textAreaTop" fmla="*/ 0 h 544680"/>
                    <a:gd name="textAreaBottom" fmla="*/ 545040 h 544680"/>
                  </a:gdLst>
                  <a:ahLst/>
                  <a:rect l="textAreaLeft" t="textAreaTop" r="textAreaRight" b="textAreaBottom"/>
                  <a:pathLst>
                    <a:path w="567" h="815">
                      <a:moveTo>
                        <a:pt x="0" y="0"/>
                      </a:moveTo>
                      <a:lnTo>
                        <a:pt x="0" y="815"/>
                      </a:lnTo>
                      <a:lnTo>
                        <a:pt x="393" y="792"/>
                      </a:lnTo>
                      <a:lnTo>
                        <a:pt x="567" y="600"/>
                      </a:lnTo>
                      <a:lnTo>
                        <a:pt x="432" y="110"/>
                      </a:lnTo>
                    </a:path>
                  </a:pathLst>
                </a:custGeom>
                <a:noFill/>
                <a:ln w="41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Freeform 38"/>
                <p:cNvSpPr/>
                <p:nvPr/>
              </p:nvSpPr>
              <p:spPr>
                <a:xfrm>
                  <a:off x="1523880" y="3814560"/>
                  <a:ext cx="285840" cy="282600"/>
                </a:xfrm>
                <a:custGeom>
                  <a:avLst/>
                  <a:gdLst>
                    <a:gd name="textAreaLeft" fmla="*/ 0 w 285840"/>
                    <a:gd name="textAreaRight" fmla="*/ 286200 w 285840"/>
                    <a:gd name="textAreaTop" fmla="*/ 0 h 282600"/>
                    <a:gd name="textAreaBottom" fmla="*/ 282960 h 282600"/>
                  </a:gdLst>
                  <a:ahLst/>
                  <a:rect l="textAreaLeft" t="textAreaTop" r="textAreaRight" b="textAreaBottom"/>
                  <a:pathLst>
                    <a:path w="441" h="423">
                      <a:moveTo>
                        <a:pt x="0" y="0"/>
                      </a:moveTo>
                      <a:lnTo>
                        <a:pt x="95" y="178"/>
                      </a:lnTo>
                      <a:lnTo>
                        <a:pt x="108" y="402"/>
                      </a:lnTo>
                      <a:lnTo>
                        <a:pt x="180" y="423"/>
                      </a:lnTo>
                      <a:lnTo>
                        <a:pt x="191" y="189"/>
                      </a:lnTo>
                      <a:lnTo>
                        <a:pt x="300" y="190"/>
                      </a:lnTo>
                      <a:lnTo>
                        <a:pt x="328" y="402"/>
                      </a:lnTo>
                      <a:lnTo>
                        <a:pt x="362" y="392"/>
                      </a:lnTo>
                      <a:lnTo>
                        <a:pt x="359" y="199"/>
                      </a:lnTo>
                      <a:lnTo>
                        <a:pt x="441" y="100"/>
                      </a:lnTo>
                    </a:path>
                  </a:pathLst>
                </a:custGeom>
                <a:noFill/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Line 39"/>
              <p:cNvSpPr/>
              <p:nvPr/>
            </p:nvSpPr>
            <p:spPr>
              <a:xfrm>
                <a:off x="1219320" y="5105520"/>
                <a:ext cx="0" cy="38088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" name="Group 40"/>
              <p:cNvGrpSpPr/>
              <p:nvPr/>
            </p:nvGrpSpPr>
            <p:grpSpPr>
              <a:xfrm>
                <a:off x="533520" y="6019920"/>
                <a:ext cx="1295280" cy="672480"/>
                <a:chOff x="533520" y="6019920"/>
                <a:chExt cx="1295280" cy="672480"/>
              </a:xfrm>
            </p:grpSpPr>
            <p:sp>
              <p:nvSpPr>
                <p:cNvPr id="153" name="Freeform 41"/>
                <p:cNvSpPr/>
                <p:nvPr/>
              </p:nvSpPr>
              <p:spPr>
                <a:xfrm>
                  <a:off x="533520" y="6026760"/>
                  <a:ext cx="1295280" cy="665640"/>
                </a:xfrm>
                <a:custGeom>
                  <a:avLst/>
                  <a:gdLst>
                    <a:gd name="textAreaLeft" fmla="*/ 0 w 1295280"/>
                    <a:gd name="textAreaRight" fmla="*/ 1295280 w 1295280"/>
                    <a:gd name="textAreaTop" fmla="*/ 0 h 665640"/>
                    <a:gd name="textAreaBottom" fmla="*/ 666000 h 665640"/>
                  </a:gdLst>
                  <a:ahLst/>
                  <a:rect l="textAreaLeft" t="textAreaTop" r="textAreaRight" b="textAreaBottom"/>
                  <a:pathLst>
                    <a:path w="1187" h="1431">
                      <a:moveTo>
                        <a:pt x="0" y="0"/>
                      </a:moveTo>
                      <a:lnTo>
                        <a:pt x="0" y="1431"/>
                      </a:lnTo>
                      <a:lnTo>
                        <a:pt x="1187" y="1431"/>
                      </a:lnTo>
                      <a:lnTo>
                        <a:pt x="1187" y="0"/>
                      </a:lnTo>
                    </a:path>
                  </a:pathLst>
                </a:custGeom>
                <a:noFill/>
                <a:ln w="41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Freeform 42"/>
                <p:cNvSpPr/>
                <p:nvPr/>
              </p:nvSpPr>
              <p:spPr>
                <a:xfrm>
                  <a:off x="533520" y="6019920"/>
                  <a:ext cx="1295280" cy="149400"/>
                </a:xfrm>
                <a:custGeom>
                  <a:avLst/>
                  <a:gdLst>
                    <a:gd name="textAreaLeft" fmla="*/ 0 w 1295280"/>
                    <a:gd name="textAreaRight" fmla="*/ 1295640 w 1295280"/>
                    <a:gd name="textAreaTop" fmla="*/ 0 h 149400"/>
                    <a:gd name="textAreaBottom" fmla="*/ 149760 h 149400"/>
                  </a:gdLst>
                  <a:ahLst/>
                  <a:rect l="textAreaLeft" t="textAreaTop" r="textAreaRight" b="textAreaBottom"/>
                  <a:pathLst>
                    <a:path w="1920" h="192">
                      <a:moveTo>
                        <a:pt x="0" y="18"/>
                      </a:moveTo>
                      <a:lnTo>
                        <a:pt x="192" y="18"/>
                      </a:lnTo>
                      <a:lnTo>
                        <a:pt x="192" y="184"/>
                      </a:lnTo>
                      <a:lnTo>
                        <a:pt x="506" y="184"/>
                      </a:lnTo>
                      <a:lnTo>
                        <a:pt x="506" y="18"/>
                      </a:lnTo>
                      <a:lnTo>
                        <a:pt x="742" y="18"/>
                      </a:lnTo>
                      <a:lnTo>
                        <a:pt x="751" y="175"/>
                      </a:lnTo>
                      <a:lnTo>
                        <a:pt x="951" y="175"/>
                      </a:lnTo>
                      <a:lnTo>
                        <a:pt x="951" y="0"/>
                      </a:lnTo>
                      <a:lnTo>
                        <a:pt x="1283" y="0"/>
                      </a:lnTo>
                      <a:lnTo>
                        <a:pt x="1283" y="192"/>
                      </a:lnTo>
                      <a:lnTo>
                        <a:pt x="1763" y="192"/>
                      </a:lnTo>
                      <a:lnTo>
                        <a:pt x="1920" y="35"/>
                      </a:lnTo>
                    </a:path>
                  </a:pathLst>
                </a:custGeom>
                <a:noFill/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5" name="Group 43"/>
              <p:cNvGrpSpPr/>
              <p:nvPr/>
            </p:nvGrpSpPr>
            <p:grpSpPr>
              <a:xfrm>
                <a:off x="228600" y="5334120"/>
                <a:ext cx="711360" cy="507960"/>
                <a:chOff x="228600" y="5334120"/>
                <a:chExt cx="711360" cy="507960"/>
              </a:xfrm>
            </p:grpSpPr>
            <p:sp>
              <p:nvSpPr>
                <p:cNvPr id="156" name="Freeform 44"/>
                <p:cNvSpPr/>
                <p:nvPr/>
              </p:nvSpPr>
              <p:spPr>
                <a:xfrm>
                  <a:off x="228600" y="5334120"/>
                  <a:ext cx="711360" cy="381240"/>
                </a:xfrm>
                <a:custGeom>
                  <a:avLst/>
                  <a:gdLst>
                    <a:gd name="textAreaLeft" fmla="*/ 0 w 711360"/>
                    <a:gd name="textAreaRight" fmla="*/ 711720 w 711360"/>
                    <a:gd name="textAreaTop" fmla="*/ 0 h 381240"/>
                    <a:gd name="textAreaBottom" fmla="*/ 381600 h 381240"/>
                  </a:gdLst>
                  <a:ahLst/>
                  <a:rect l="textAreaLeft" t="textAreaTop" r="textAreaRight" b="textAreaBottom"/>
                  <a:pathLst>
                    <a:path w="1100" h="570">
                      <a:moveTo>
                        <a:pt x="0" y="570"/>
                      </a:moveTo>
                      <a:lnTo>
                        <a:pt x="0" y="0"/>
                      </a:lnTo>
                      <a:lnTo>
                        <a:pt x="1100" y="4"/>
                      </a:lnTo>
                      <a:lnTo>
                        <a:pt x="1100" y="301"/>
                      </a:lnTo>
                      <a:lnTo>
                        <a:pt x="1100" y="493"/>
                      </a:lnTo>
                    </a:path>
                  </a:pathLst>
                </a:custGeom>
                <a:noFill/>
                <a:ln w="41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45"/>
                <p:cNvSpPr/>
                <p:nvPr/>
              </p:nvSpPr>
              <p:spPr>
                <a:xfrm>
                  <a:off x="228600" y="5639040"/>
                  <a:ext cx="711360" cy="203040"/>
                </a:xfrm>
                <a:custGeom>
                  <a:avLst/>
                  <a:gdLst>
                    <a:gd name="textAreaLeft" fmla="*/ 0 w 711360"/>
                    <a:gd name="textAreaRight" fmla="*/ 711720 w 711360"/>
                    <a:gd name="textAreaTop" fmla="*/ 0 h 203040"/>
                    <a:gd name="textAreaBottom" fmla="*/ 203400 h 203040"/>
                  </a:gdLst>
                  <a:ahLst/>
                  <a:rect l="textAreaLeft" t="textAreaTop" r="textAreaRight" b="textAreaBottom"/>
                  <a:pathLst>
                    <a:path w="448" h="128">
                      <a:moveTo>
                        <a:pt x="0" y="37"/>
                      </a:moveTo>
                      <a:lnTo>
                        <a:pt x="105" y="30"/>
                      </a:lnTo>
                      <a:lnTo>
                        <a:pt x="99" y="100"/>
                      </a:lnTo>
                      <a:lnTo>
                        <a:pt x="180" y="112"/>
                      </a:lnTo>
                      <a:lnTo>
                        <a:pt x="185" y="0"/>
                      </a:lnTo>
                      <a:lnTo>
                        <a:pt x="328" y="0"/>
                      </a:lnTo>
                      <a:lnTo>
                        <a:pt x="336" y="112"/>
                      </a:lnTo>
                      <a:lnTo>
                        <a:pt x="388" y="128"/>
                      </a:lnTo>
                      <a:lnTo>
                        <a:pt x="402" y="53"/>
                      </a:lnTo>
                      <a:lnTo>
                        <a:pt x="448" y="4"/>
                      </a:lnTo>
                    </a:path>
                  </a:pathLst>
                </a:custGeom>
                <a:noFill/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" name="Group 46"/>
              <p:cNvGrpSpPr/>
              <p:nvPr/>
            </p:nvGrpSpPr>
            <p:grpSpPr>
              <a:xfrm>
                <a:off x="1752480" y="5257800"/>
                <a:ext cx="373320" cy="544680"/>
                <a:chOff x="1752480" y="5257800"/>
                <a:chExt cx="373320" cy="544680"/>
              </a:xfrm>
            </p:grpSpPr>
            <p:sp>
              <p:nvSpPr>
                <p:cNvPr id="159" name="Freeform 47"/>
                <p:cNvSpPr/>
                <p:nvPr/>
              </p:nvSpPr>
              <p:spPr>
                <a:xfrm>
                  <a:off x="1758240" y="5257800"/>
                  <a:ext cx="367560" cy="544680"/>
                </a:xfrm>
                <a:custGeom>
                  <a:avLst/>
                  <a:gdLst>
                    <a:gd name="textAreaLeft" fmla="*/ 0 w 367560"/>
                    <a:gd name="textAreaRight" fmla="*/ 367920 w 367560"/>
                    <a:gd name="textAreaTop" fmla="*/ 0 h 544680"/>
                    <a:gd name="textAreaBottom" fmla="*/ 545040 h 544680"/>
                  </a:gdLst>
                  <a:ahLst/>
                  <a:rect l="textAreaLeft" t="textAreaTop" r="textAreaRight" b="textAreaBottom"/>
                  <a:pathLst>
                    <a:path w="567" h="815">
                      <a:moveTo>
                        <a:pt x="0" y="0"/>
                      </a:moveTo>
                      <a:lnTo>
                        <a:pt x="0" y="815"/>
                      </a:lnTo>
                      <a:lnTo>
                        <a:pt x="393" y="792"/>
                      </a:lnTo>
                      <a:lnTo>
                        <a:pt x="567" y="600"/>
                      </a:lnTo>
                      <a:lnTo>
                        <a:pt x="432" y="110"/>
                      </a:lnTo>
                    </a:path>
                  </a:pathLst>
                </a:custGeom>
                <a:noFill/>
                <a:ln w="41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48"/>
                <p:cNvSpPr/>
                <p:nvPr/>
              </p:nvSpPr>
              <p:spPr>
                <a:xfrm>
                  <a:off x="1752480" y="5262480"/>
                  <a:ext cx="285840" cy="282600"/>
                </a:xfrm>
                <a:custGeom>
                  <a:avLst/>
                  <a:gdLst>
                    <a:gd name="textAreaLeft" fmla="*/ 0 w 285840"/>
                    <a:gd name="textAreaRight" fmla="*/ 286200 w 285840"/>
                    <a:gd name="textAreaTop" fmla="*/ 0 h 282600"/>
                    <a:gd name="textAreaBottom" fmla="*/ 282960 h 282600"/>
                  </a:gdLst>
                  <a:ahLst/>
                  <a:rect l="textAreaLeft" t="textAreaTop" r="textAreaRight" b="textAreaBottom"/>
                  <a:pathLst>
                    <a:path w="441" h="423">
                      <a:moveTo>
                        <a:pt x="0" y="0"/>
                      </a:moveTo>
                      <a:lnTo>
                        <a:pt x="95" y="178"/>
                      </a:lnTo>
                      <a:lnTo>
                        <a:pt x="108" y="402"/>
                      </a:lnTo>
                      <a:lnTo>
                        <a:pt x="180" y="423"/>
                      </a:lnTo>
                      <a:lnTo>
                        <a:pt x="191" y="189"/>
                      </a:lnTo>
                      <a:lnTo>
                        <a:pt x="300" y="190"/>
                      </a:lnTo>
                      <a:lnTo>
                        <a:pt x="328" y="402"/>
                      </a:lnTo>
                      <a:lnTo>
                        <a:pt x="362" y="392"/>
                      </a:lnTo>
                      <a:lnTo>
                        <a:pt x="359" y="199"/>
                      </a:lnTo>
                      <a:lnTo>
                        <a:pt x="441" y="100"/>
                      </a:lnTo>
                    </a:path>
                  </a:pathLst>
                </a:custGeom>
                <a:noFill/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49"/>
              <p:cNvSpPr/>
              <p:nvPr/>
            </p:nvSpPr>
            <p:spPr>
              <a:xfrm>
                <a:off x="380880" y="5334120"/>
                <a:ext cx="4273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Р</a:t>
                </a:r>
                <a:r>
                  <a:rPr b="1" lang="ru-RU" sz="1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Text Box 50"/>
              <p:cNvSpPr/>
              <p:nvPr/>
            </p:nvSpPr>
            <p:spPr>
              <a:xfrm>
                <a:off x="1752480" y="5486400"/>
                <a:ext cx="4273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Р</a:t>
                </a:r>
                <a:r>
                  <a:rPr b="1" lang="ru-RU" sz="1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3" name="Line 51"/>
          <p:cNvSpPr/>
          <p:nvPr/>
        </p:nvSpPr>
        <p:spPr>
          <a:xfrm>
            <a:off x="3276720" y="1676520"/>
            <a:ext cx="0" cy="457200"/>
          </a:xfrm>
          <a:prstGeom prst="line">
            <a:avLst/>
          </a:prstGeom>
          <a:ln w="889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2"/>
          <p:cNvSpPr/>
          <p:nvPr/>
        </p:nvSpPr>
        <p:spPr>
          <a:xfrm>
            <a:off x="2819520" y="838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 +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3"/>
          <p:cNvSpPr/>
          <p:nvPr/>
        </p:nvSpPr>
        <p:spPr>
          <a:xfrm>
            <a:off x="2971800" y="2514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54"/>
          <p:cNvSpPr/>
          <p:nvPr/>
        </p:nvSpPr>
        <p:spPr>
          <a:xfrm>
            <a:off x="3200400" y="3352680"/>
            <a:ext cx="0" cy="457200"/>
          </a:xfrm>
          <a:prstGeom prst="line">
            <a:avLst/>
          </a:prstGeom>
          <a:ln w="889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5"/>
          <p:cNvSpPr/>
          <p:nvPr/>
        </p:nvSpPr>
        <p:spPr>
          <a:xfrm>
            <a:off x="2971800" y="4267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56"/>
          <p:cNvSpPr/>
          <p:nvPr/>
        </p:nvSpPr>
        <p:spPr>
          <a:xfrm>
            <a:off x="3200400" y="5029200"/>
            <a:ext cx="0" cy="457200"/>
          </a:xfrm>
          <a:prstGeom prst="line">
            <a:avLst/>
          </a:prstGeom>
          <a:ln w="889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7"/>
          <p:cNvSpPr/>
          <p:nvPr/>
        </p:nvSpPr>
        <p:spPr>
          <a:xfrm>
            <a:off x="2743200" y="5943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 +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8"/>
          <p:cNvSpPr/>
          <p:nvPr/>
        </p:nvSpPr>
        <p:spPr>
          <a:xfrm>
            <a:off x="4876920" y="762120"/>
            <a:ext cx="4038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ближение и ориентация субстрата относительно активного цент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9"/>
          <p:cNvSpPr/>
          <p:nvPr/>
        </p:nvSpPr>
        <p:spPr>
          <a:xfrm>
            <a:off x="4876920" y="2362320"/>
            <a:ext cx="4038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разование фермент – субстратного комплек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0"/>
          <p:cNvSpPr/>
          <p:nvPr/>
        </p:nvSpPr>
        <p:spPr>
          <a:xfrm>
            <a:off x="4876920" y="4191120"/>
            <a:ext cx="4038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разование нестабильного комплекса фермент - продук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1"/>
          <p:cNvSpPr/>
          <p:nvPr/>
        </p:nvSpPr>
        <p:spPr>
          <a:xfrm>
            <a:off x="4876920" y="5791320"/>
            <a:ext cx="4038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пад комплекса с высвобождением продуктов реак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62"/>
          <p:cNvGrpSpPr/>
          <p:nvPr/>
        </p:nvGrpSpPr>
        <p:grpSpPr>
          <a:xfrm>
            <a:off x="3809880" y="685800"/>
            <a:ext cx="838080" cy="762120"/>
            <a:chOff x="3809880" y="685800"/>
            <a:chExt cx="838080" cy="762120"/>
          </a:xfrm>
        </p:grpSpPr>
        <p:sp>
          <p:nvSpPr>
            <p:cNvPr id="175" name="Oval 63"/>
            <p:cNvSpPr/>
            <p:nvPr/>
          </p:nvSpPr>
          <p:spPr>
            <a:xfrm>
              <a:off x="3809880" y="685800"/>
              <a:ext cx="838080" cy="762120"/>
            </a:xfrm>
            <a:prstGeom prst="ellipse">
              <a:avLst/>
            </a:prstGeom>
            <a:solidFill>
              <a:srgbClr val="ff99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4038480" y="8384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65"/>
          <p:cNvGrpSpPr/>
          <p:nvPr/>
        </p:nvGrpSpPr>
        <p:grpSpPr>
          <a:xfrm>
            <a:off x="3809880" y="2286000"/>
            <a:ext cx="838080" cy="762120"/>
            <a:chOff x="3809880" y="2286000"/>
            <a:chExt cx="838080" cy="762120"/>
          </a:xfrm>
        </p:grpSpPr>
        <p:sp>
          <p:nvSpPr>
            <p:cNvPr id="178" name="Oval 66"/>
            <p:cNvSpPr/>
            <p:nvPr/>
          </p:nvSpPr>
          <p:spPr>
            <a:xfrm>
              <a:off x="3809880" y="2286000"/>
              <a:ext cx="838080" cy="762120"/>
            </a:xfrm>
            <a:prstGeom prst="ellipse">
              <a:avLst/>
            </a:prstGeom>
            <a:solidFill>
              <a:srgbClr val="ff99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4038480" y="24386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68"/>
          <p:cNvGrpSpPr/>
          <p:nvPr/>
        </p:nvGrpSpPr>
        <p:grpSpPr>
          <a:xfrm>
            <a:off x="3809880" y="4114800"/>
            <a:ext cx="838080" cy="762120"/>
            <a:chOff x="3809880" y="4114800"/>
            <a:chExt cx="838080" cy="762120"/>
          </a:xfrm>
        </p:grpSpPr>
        <p:sp>
          <p:nvSpPr>
            <p:cNvPr id="181" name="Oval 69"/>
            <p:cNvSpPr/>
            <p:nvPr/>
          </p:nvSpPr>
          <p:spPr>
            <a:xfrm>
              <a:off x="3809880" y="4114800"/>
              <a:ext cx="838080" cy="762120"/>
            </a:xfrm>
            <a:prstGeom prst="ellipse">
              <a:avLst/>
            </a:prstGeom>
            <a:solidFill>
              <a:srgbClr val="ff99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70"/>
            <p:cNvSpPr/>
            <p:nvPr/>
          </p:nvSpPr>
          <p:spPr>
            <a:xfrm>
              <a:off x="4038480" y="42674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71"/>
          <p:cNvGrpSpPr/>
          <p:nvPr/>
        </p:nvGrpSpPr>
        <p:grpSpPr>
          <a:xfrm>
            <a:off x="3809880" y="5715000"/>
            <a:ext cx="838080" cy="762120"/>
            <a:chOff x="3809880" y="5715000"/>
            <a:chExt cx="838080" cy="762120"/>
          </a:xfrm>
        </p:grpSpPr>
        <p:sp>
          <p:nvSpPr>
            <p:cNvPr id="184" name="Oval 72"/>
            <p:cNvSpPr/>
            <p:nvPr/>
          </p:nvSpPr>
          <p:spPr>
            <a:xfrm>
              <a:off x="3809880" y="5715000"/>
              <a:ext cx="838080" cy="762120"/>
            </a:xfrm>
            <a:prstGeom prst="ellipse">
              <a:avLst/>
            </a:prstGeom>
            <a:solidFill>
              <a:srgbClr val="ff99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73"/>
            <p:cNvSpPr/>
            <p:nvPr/>
          </p:nvSpPr>
          <p:spPr>
            <a:xfrm>
              <a:off x="4038480" y="58676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троение ферменто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лассификация ферментов, отличие ферментов от биологических катализаторо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250920" y="1700280"/>
            <a:ext cx="853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ерменты называются добавлением суффикса —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за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названию субстрата, на который данный фермент действует. Например, уреаза катализирует гидролиз мочевины; ферменты, гидролизующие крахмал (амилон), были названы амилазами; гидролизующис жиры (липос) — липазами; ферменты, гидролизующис белки (протеины) — протеиназам 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250920" y="3278880"/>
            <a:ext cx="849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Используются названия для групп фермент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катализирующих сходные по механизму реакции. Их название строится по принципу — «субстрат-тип реакции». Например, ферменты, которые переносят остаток фосфорной кислоты от АТФ на другую молекулу, называются киназами (глюкокиназа катализирует перенос фосфорильного остатка от АТФ на глюкозу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Тривиальные назв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е показывают механизма действия, но они широко используются. Например, пепсин, трипсин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Международный Совет Биохимик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U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предложил систематическое название и классификацию ферментов по типу и механизму катализируемой реак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висимость скорости ферментативной реакции от температуры, рН среды, концентрации фермента и субстрата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rcRect l="3180" t="3339" r="3119" b="2756"/>
          <a:stretch/>
        </p:blipFill>
        <p:spPr>
          <a:xfrm rot="21540000">
            <a:off x="1906200" y="1698120"/>
            <a:ext cx="4683240" cy="4318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4" name=""/>
          <p:cNvGraphicFramePr/>
          <p:nvPr/>
        </p:nvGraphicFramePr>
        <p:xfrm>
          <a:off x="1258920" y="6021360"/>
          <a:ext cx="6481800" cy="604800"/>
        </p:xfrm>
        <a:graphic>
          <a:graphicData uri="http://schemas.openxmlformats.org/drawingml/2006/table">
            <a:tbl>
              <a:tblPr/>
              <a:tblGrid>
                <a:gridCol w="648180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исимость скорости реакции от концентрации фермент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висимость скорости ферментативной реакции от температуры, рН среды, концентрации фермента и субстрата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1" descr=""/>
          <p:cNvPicPr/>
          <p:nvPr/>
        </p:nvPicPr>
        <p:blipFill>
          <a:blip r:embed="rId1"/>
          <a:srcRect l="3695" t="9417" r="48418" b="5008"/>
          <a:stretch/>
        </p:blipFill>
        <p:spPr>
          <a:xfrm>
            <a:off x="2050920" y="1698480"/>
            <a:ext cx="4819680" cy="403560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12"/>
          <p:cNvSpPr/>
          <p:nvPr/>
        </p:nvSpPr>
        <p:spPr>
          <a:xfrm>
            <a:off x="1127880" y="5804640"/>
            <a:ext cx="69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висимость скорости реакции от концентрации субст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ДЕРЖАНИЕ ЛЕК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 flipV="1" rot="10800000">
            <a:off x="682560" y="1847520"/>
            <a:ext cx="80676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Предмет и задачи биохим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Строение и свойства бел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Функциональное многообразие бел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Классификация белков по биологическим функци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Строение фермен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Классификация ферментов, отличие ферментов от биологических катализатор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Зависимость скорости ферментативной реакции от температуры, рН среды, концентрации фермента и субстра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Активаторы и ингибиторы ферментативных реакций. Применение ферментов в медицин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висимость скорости ферментативной реакции от температуры, рН среды, концентрации фермента и субстрата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539640" y="1563840"/>
            <a:ext cx="792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еличина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K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вна концентрации субстрата [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|, при которой половина мест связывания в активном центре фермента заполнена субстратом. Или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m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сленно равна концентрации субстрата [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]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которой скорость реакции равна половине максималь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ряда ферментов установлено, что величи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m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изка к концентрации субстрат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vivo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611280" y="3498840"/>
            <a:ext cx="8064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еличина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Km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оответству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онстанте диссоциации фермент-субстратного комплекса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, если к1&lt; к2. В этих условиях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m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арактеризует прочност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омплекса (аффинность, сродство субстрата к ферменту): высокое значени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видетельствует о слабом связывании субстрата с активным центром фермента, низкое значени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m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казывает на сильное связывание (высокое сродство субстрата к ферменту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висимость скорости ферментативной реакции от температуры, рН среды, концентрации фермента и субстрата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1238040" y="5869800"/>
            <a:ext cx="666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висимость скорости реакции от рН (А) и температуры (Б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9" descr=""/>
          <p:cNvPicPr/>
          <p:nvPr/>
        </p:nvPicPr>
        <p:blipFill>
          <a:blip r:embed="rId1"/>
          <a:srcRect l="2833" t="4230" r="4250" b="1861"/>
          <a:stretch/>
        </p:blipFill>
        <p:spPr>
          <a:xfrm>
            <a:off x="361800" y="1849320"/>
            <a:ext cx="8240760" cy="366732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менение ферментов в медицин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539640" y="1989360"/>
            <a:ext cx="8101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нзимодиагностик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исследование ферментов в биологических средах организма с диагностической цел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рмальные уровни активности ферментов в сыворотке крови отражают соотношение между биосинтезом и высвобождением ферментов (при обычном обновлении клеток), а также их клиренсом из кровотока. Повышение скорости обновления ферментов, повреждения клеток или индуцирование синтеза обычно приводят к повышению активности ферментов в сыворотке крови. В сыворотке крови выделяют три группы ферментов: </a:t>
            </a: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клеточные, секреторные и экскреторные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4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менение ферментов в медицин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250920" y="622800"/>
            <a:ext cx="85690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Клеточные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фермен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зависимости от локализации в тканях делят на несколько групп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Неспецифические фермен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которые катализируют общие для всех тканей реакции обменов белков, углеводов, липидов и находятся в большинстве органов и тканей. При повреждении мембран клеток и гистогематических барьеров эти ферменты появляются в крови или повышается их количество. Определение повышенного количества этих ферментов в крови не позволяет локализовать патологический процес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Органоспецифические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ли индикаторные, ферменты, специфичные только для определенного типа тканей. Как правило, эти ферменты катализируют реакции, обеспечивающие специфические функции органа. В клетках других органов этих ферментов нет или находят следы. Выход органоспецифических ферментов в кровь сигнализирует о поражении определен¬ного орга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Изофермен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группа или семейство ферментов с четвертичной структурой, которые катализируют одну и ту же реакцию, но отличаются по строению (т. е. первичной структуре) субъединиц и физико-химическим свойствам. Например, фермент лактатдегидрогена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Ферменты, локализованные в органеллах клето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окислительно-восстановительные в митохондриях; кислые гидролазы в лизосомах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др.), выходя в кровь, сигнализируют о глубоком поражении клет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менение ферментов в медицин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324000" y="1773360"/>
            <a:ext cx="8618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Секреторные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фермен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псевдохолинэстераза) поступают непосредственно в кровь и выполняют в ней специфические функции. Эти ферменты синтезируются в печени и постоянно высвобождаются в кров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х активность в сыворотке крови выше, чем в клетках или тканях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нарушении функции печени их активность в сыворотке крови становится ниже нор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менение ферментов в медицин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611280" y="1844640"/>
            <a:ext cx="8197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Экскреторные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фермен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разуются органами пищеварительной системы (поджелудочной железой, слизистой оболочкой кишечника, печенью, эндотелием желчных путей). К ним относятся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амилаза, щелочная фосфатаза. В норме их активность в сыворотке крови низкая и постоянная. Однако при патологии, когда блокирован любой из обычных путей экскреции, активность этих ферментов в сыворотке крови значительно увеличивает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менение ферментов в медицин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611280" y="1614240"/>
            <a:ext cx="80946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следственные энзимопат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яд пороков обмена веществ является результатом наследственного дефицита определенных ферментов. В этом случае диагноз ставится, главным образом, на основе исследования показателей обмена этих ферментативных реакций (биохимический диагноз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менение ферментов в медицин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3"/>
          <p:cNvSpPr/>
          <p:nvPr/>
        </p:nvSpPr>
        <p:spPr>
          <a:xfrm>
            <a:off x="9720360" y="2878200"/>
            <a:ext cx="0" cy="288720"/>
          </a:xfrm>
          <a:prstGeom prst="line">
            <a:avLst/>
          </a:prstGeom>
          <a:ln w="4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684360" y="1579680"/>
            <a:ext cx="7991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нзимотерап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использование ферментов и метаболитов в качестве лечебных средст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73"/>
                </a:solidFill>
                <a:latin typeface="Arial"/>
              </a:rPr>
              <a:t>заместитель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терапия ферментами используется при болезнях желудочно-кишечного факта (пепсин, трипсин, химотрипсин, амилаза, липаз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73"/>
                </a:solidFill>
                <a:latin typeface="Arial"/>
              </a:rPr>
              <a:t>для очистки ран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воздействия на избыточно разрастающуюся соединительную ткань применяют гиалуронидазу, трипсин, химотрипсин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шли применение </a:t>
            </a:r>
            <a:r>
              <a:rPr b="0" lang="ru-RU" sz="1800" spc="-1" strike="noStrike">
                <a:solidFill>
                  <a:srgbClr val="262673"/>
                </a:solidFill>
                <a:latin typeface="Arial"/>
              </a:rPr>
              <a:t>регулятор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активаторы и ингибиторы) ферментов. Например, ингибиторы моноаминооксидазы используют при нервных и психических заболеваниях; тканевые ингибиторы протеиназ эффективны при лечении панкреатита, эмфиземы легких, инфаркте миокар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3"/>
          <p:cNvSpPr/>
          <p:nvPr/>
        </p:nvSpPr>
        <p:spPr>
          <a:xfrm>
            <a:off x="324000" y="2199240"/>
            <a:ext cx="849600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Ферменты как аналитические реаген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ироко применяются в практике лабораторных исследований при определении субстратов, нуклеотидов и пр. В настоящее время выпускается ряд наборо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определения глюкозы, этанола, молочной кислоты, АТФ и п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нцип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исследуемом материале содержится неизвестное количество субстрата. Чтобы определить его количество, вводят фермент, катализирующий превращение только этого субстрата, создают оптимальные условия реакции (рН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др.) и регистрируют скорость реакции (по образованию продукта или изменению кофермента). Затем определяют концентрацию искомого субстрата по скорости реакции, используя калибровочный граф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менение ферментов в медицин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едмет и задачи биохим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755640" y="1125360"/>
            <a:ext cx="748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ологическая  химия  - это  наука  о молекулярных  основах  жизни,  которая  изучает  химический состав и химические  процессы,  лежащие  в основе  жизнедеятельности организм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684360" y="1787760"/>
            <a:ext cx="7775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ологическая химия изучае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4112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имическую природу веществ, входящих в состав живых организм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4112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х превращ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4112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язь этих превращений с деятельностью клеток, тканей, органов и организма в цел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чи биохими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4112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ъяснить, как функционируют живые системы с точки зрения молекулярных процессов в состоянии «здоровья»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4112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ъяснить молекулярные процессы, лежащие в основе заболеваний и их эффективного ле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охимия изучает химию живой природы в широком диапазоне: от человека и позвоночных до бактерий, а также молекулярные основы взаимодействия живых объектов с физическими (например, излучения), химическими (например, ксенобиотики) или биологическими (например, вирусы) факторами окружающей среды.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 зависимости от объекта исследова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едмет и задачи биохим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539640" y="1623240"/>
            <a:ext cx="8280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чи биохимии: 1) объяснить, как функционируют живые системы с точки зрения молекулярных процессов в состоянии «здоровья»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объяснить молекулярные процессы, лежащие в основе заболеваний и их эффективного ле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охимия изучает химию живой природы в широком диапазоне: от человека и позвоночных до бактерий, а также молекулярные основы взаимодействия живых объектов с физическими (например, излучения), химическими (например, ксенобиотики) или биологическими (например, вирусы) факторами окружающей среды. Основные разделы и направления в биохим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95280" y="1986120"/>
            <a:ext cx="828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деляют разделы биохимии по направлениям исследований: техническая биохимия (молекулярные основы хлебопечения, сыроварения, виноделия и пр.); медицинская биохимия (биохимические процессы в организме человека в норме и при патологии), эволюционная биохимия (эволюция обмена веществ в рамках эволюции живых организмов); квантовая биохимия (квантово-физические характеристики метаболитов и их превращений в живом организме); энзимология.(структура, свойства и механизм действия ферментов)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едмет и задачи биохим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едмет и задачи биохим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0" y="1968480"/>
            <a:ext cx="914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едицинской биохими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деляют три основных раздел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татическая биохим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изучает химическую природу организ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динамическая биохим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изучает превращения химических веществ в организме (метаболизм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функциональная биохим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учает роль превращений химических веществ в проявлении функций клеток, тканей. органов, организ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едицинской биохими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деляют несколько направлений (частная биохимия)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биохимию систем органов (нервной, гепатобилпарной, сердечно-сосудистой, эндокринной и др.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биохимию основных процессов (движения, пищеварения, размножения и др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прикладную биохимию (клиническая биохимия, биохимическая лабораторная диагностика и др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троение и свойства бел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539640" y="184428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Белки являются основными биополимерами клеток, за счет которых осуществляются практически все функции организм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395280" y="2781360"/>
            <a:ext cx="7705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лки являются линейными неразветвленными полимерами построенными из аминокислот. Информация о структуре белка закодирована в ДНК. Все живые организмы используют 20 идентичных аминокислот и, за некоторым исключением, имеют одинаковый генетический к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троение и свойства бел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755640" y="1782720"/>
            <a:ext cx="796464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труктурные функции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ыми структурными белками являются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оллаген, эластин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формируют костный матрикс, сосудистую систему и другие органы) 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-кератин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рисутствует в эпидермальной ткан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инамические функции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и функции реализую разнообразные белки: ферменты, гормоны, факторы свертывания крови, иммуноглобулины, мембранные рецепторы, резервные белки, сократительные белки, дыхательные белки и д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ункциональное многообразие бел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2"/>
          <p:cNvSpPr/>
          <p:nvPr/>
        </p:nvSpPr>
        <p:spPr>
          <a:xfrm>
            <a:off x="504720" y="1581480"/>
            <a:ext cx="8639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личают несколько принципов классификации белков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) по функци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) по химической структуре и растворим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3) по биологической (пищевой) ценн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6T07:50:01Z</dcterms:created>
  <dc:creator>KozochkinDA</dc:creator>
  <dc:description/>
  <dc:language>en-US</dc:language>
  <cp:lastModifiedBy>LEGION</cp:lastModifiedBy>
  <dcterms:modified xsi:type="dcterms:W3CDTF">2015-05-01T12:04:22Z</dcterms:modified>
  <cp:revision>11</cp:revision>
  <dc:subject/>
  <dc:title>Вводная лекция</dc:title>
</cp:coreProperties>
</file>