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917C-CA7E-4C99-A668-62CDB017C6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 лек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биологической химии (биохими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сентября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FC48-415F-4EDA-8264-9333B4E236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ы 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ализат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аторы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гиб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белков-ферментов характерна высокая степень структур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екулы, благодаря чему возможен катализ химической реакции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и активного центра и регуляция активности фермента чере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эффекторов с аллостерическим центром. Извест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-активаторы (апопротеин ) и ингибиторы ( ингиб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псина из поджелудочной железы, соевых бобов; ингиб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иназ из яда гадюки, ингибитор химотрипсина из картофел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м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белки (м. м. 20-30 кДа), которые содержат небольш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ы определяющие гормональную активность; относятся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е непроникающих в клетку гормонов, на поверхности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уют с рецепторами, гормональный эффект реал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внутриклеточные посредники (гормоны гипоталамус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физа, поджелудочной железы, паращитовидных желез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стоны стабилизируют структуру ДНК и регулиру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онирование генома (проявление матричной активности ДН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слаблении связей с гистонами); гетерогенная груп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истоновых белков (м. м. 5-200 кДа) участвует в формир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клеосом и взаимодействии с хроматином гормон - рецептор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ов, в регуляции процессов репликации, транскрипции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ляции; белки теплового шока (стрессовые белки)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бел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ющие синтез циклических нуклеотидов; онкобелки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онкобелки, определяющие малигнизацию кле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FABA-F4FC-474E-9BAE-8FFA470820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ые 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тела (иммуноглобулины) вырабатываются в ответ на 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генов; белки системы свертывания крови; белки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мента; ферменты обезвреживания ксенобиот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фероны, интерлейкины, лизоцим; белки-антифризы рыб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вирусные белки растений; антибактериальные 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кс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молекулярные белковые токсины микроорганизмов и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ы тремя типами белков. Мультимерные дифтерий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холерный токсины, токсин шигеллы построены 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субъединицы типа А (20, 28 и 32 кДа, соответственно) и п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диниц типа В (25, 12 и 7,7 кДа, соответственно); субъединицы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ываются с клеточной поверхностью, а субъединица А проник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ь клетки, где блокирует синтез белков на рибосом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огично действуют растительные токсины — рицин, абр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цин, лектин. Энтеротоксин стафилококка или гемолиз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шечной палочки, встраиваясь в плазматическую мембран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уют в ней поры, через которые теряются важные компон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оплазмы клеток. Токсины ядов змей представлены мал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ами — 6,7-7 кДа (примерно 60 аминокислотных остатк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ксические пептиды ядов скорпиона, пчелы и осы состоят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м из 45 аминокислотных остатков. Эти токсины связываются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линергическими белками и оказывают нейротокс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4847-9A5D-4BE3-931E-0AC329146A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бумины и глобулины — переносчики различных веществ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зме крови. Порины — образуют поры для переноса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клеточные мембраны. Транслоказы — обеспечивают обм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ами различных компартментов кл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ые белки мембран являются их структур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ами, склонны к агрегации и специфическ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ям (процессы самосборки), содержат в своем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е до 20 % гидрофобных аминокислотных остатков и до 4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ходится на долю а-спиральных участков. Эти белки лег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уют с фосфолипидами мембран. Структур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выполняют также белки межклеточного матрик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коллаген, ретикулин, кератин), кристаллины, белки ядер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рикса, белки цитоплазматического скел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т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ют в механическом сокращении для осуществления движения(обладают, как правило, аденозинтрифосфатазной активностью):актин и миозин мышц, белки центральных и периферических фибрилл жгутиков и ресничек простейших, жгутиков сперматозоидов, тубулин аппарата движения хромосом в процессе митоза, миксомиозин — нитевидный белок из плазмодия гриба физариум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46FA-D3D4-44A0-96D1-FA1320521C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епт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нутренней среде организма служат для взаимодействия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екулами-биорегуляторами (сигнальными молекула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кализуются в мембранных структурах клеток, а также могут быть в растворенном состоянии. Клетка, содержащая рецептор, является клеткой-мишенью для управляющего химического сигнала, а также для взаимодействия с липопротеинами или вирусами. Для восприятия сигналов внешней среды известны фоторецепторные белки (опсин), для оценки вкуса сладкочувствительный белок, для восприятия запаха обонятельный белок, для восприятия звука холинорецепторные белки; в жизнедеятельности живых организмов важное место занимает рецепция ферромонов, аттрактантов, репеллентов, стрессогенных веществ 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8338-2D49-4E05-910A-D9254C1569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активного центра у ряда ферментов имее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регуляторный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ллостерически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s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иной, чужой) центр, который в молекуле фермента, как правило, пространственно отделен от активного центра. К аллостерическому центру присоединяются вещества —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эффекторы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делятся на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ктиваторы и ингибиторы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оединение эффектора к аллостерическому центру приводит к изменению третичной и/ или четвертичной структуры молекулы фермента и соответственно конфигурации активного центра, вызывая снижение или повышение ферментативной активности. Ферменты, имеющие аллостерический центр, называю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ллостерическим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рехмерной структуре фермента выделяют несколько участков, несущих определенную функцию. В молекуле фермента выделяют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ктивный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цент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. е. участок, с которым связывается субстрат и где протекает каталитическая реа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а, вступающие в ферментативную реакцию, называю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субстратами.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ферментативных превращений получаю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родукты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реа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0EE0-19BE-4C9B-807B-4F6363A300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B0D1-8244-442D-8D37-B0BCC36BF9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FE2E-239A-42C4-A2D4-A19B160350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EE25-0A9D-49A9-A92F-3F7A83AF2C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кции и ферменты их катализирующие делят на 6 классов, каждый из которых состоит из 4—13 подклассов: оксидореКлассификация ферментов, отличие ферментов от биологических катализат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ктазы, трансферазы, гидролазы, лиазы, изомеразы, лигазы (синтетазы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ы называются добавлением суффикса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за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азванию субстрата, на который данный фермент действует. Например, уреаза катализирует гидролиз мочевины; ферменты, гидролизующие крахмал (амилон), были названы амилазами; гидролизующис жиры (липос) — липазами; ферменты, гидролизующис белки (протеины) — протеиназам 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спользуются названия для групп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атализирующих сходные по механизму реакции. Их название строится по принципу — «субстрат-тип реакции». Например, ферменты, которые переносят остаток фосфорной кислоты от АТФ на другую молекулу, называются киназами (глюкокиназа катализирует перенос фосфорильного остатка от АТФ на глюкоз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Тривиальные назва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 показывают механизма действия, но они широко используются. Например, пепсин, трипси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Международный Совет Биохимик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U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предложил систематическое название и классификацию ферментов по типу и механизму катализируемой реа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D142-84F0-4EE6-A4F9-47F2D57C86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06E1-79A9-45AF-9069-BFD1304C55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Л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редмет и задачи биохим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Строение и свойства бел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Функциональное многообразие бел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Классификация белков по биологическим функ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Строение ферм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Классификация ферментов, отличие ферментов от биологических катализа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Зависимость скорости ферментативной реакции от температуры, рН среды, концентрации фермента и субстра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Активаторы и ингибиторы ферментативных реакций. 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DE28-AFCA-4BD8-B68B-D3A8AAB744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K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а концентрации субстрата [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|, при которой половина мест связывания в активном центре фермента заполнена субстратом. Или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енно равна концентрации субстрата [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которой скорость реакции равна половине максималь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ряда ферментов установлено, что величи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зка к концентрации субстрат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viv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оответству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нстанте диссоциации фермент-субстратного комплекс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если к1&lt; к2. В этих условия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 прочнос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плекса (аффинность, сродство субстрата к ферменту): высокое знач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видетельствует о слабом связывании субстрата с активным центром фермента, низкое знач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зывает на сильное связывание (высокое сродство субстрата к ферменту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8CEB-B733-476A-BCFF-D62059B73F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7BA4-896C-4B3F-838E-E65FE2CBBB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6304-970D-4994-AFFA-70670F66DD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ы в течение многих лет приме­няются в различных областях практи­ческой деятельности человека: в коже­венной, пищевой, текстильной, фармацевтической и других отраслях промышленности, а также в медицине, сельском хозяйстве, химическом синте­зе. Эффективность действия ферментов многократно выше по сравнению с хи­мическими катализаторами, однако их промышленное применение затруднено из-за неустойчивости при хранении и температурных воздейст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Энзимодиагно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исследование ферментов в биологических средах организма с диагностической цел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е уровни активности ферментов в сыворотке крови отражают соотношение между биосинтезом и высвобождением ферментов (при обычном обновлении клеток), а также их клиренсом из кровотока. Повышение скорости обновления ферментов, повреждения клеток или индуцирование синтеза обычно приводят к повышению активности ферментов в сыворотке крови. В сыворотке крови выделяют три группы ферментов: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клеточные, секреторные и экскреторные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Клеточные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зависимости от локализации в тканях делят на несколько груп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Неспецифические 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ые катализируют общие для всех тканей реакции обменов белков, углеводов, липидов и находятся в большинстве органов и тканей. При повреждении мембран клеток и гистогематических барьеров эти ферменты появляются в крови или повышается их количество. Определение повышенного количества этих ферментов в крови не позволяет локализовать патологический проце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Органоспецифические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ли индикаторные, ферменты, специфичные только для определенного типа тканей. Как правило, эти ферменты катализируют реакции, обеспечивающие специфические функции органа. В клетках других органов этих ферментов нет или находят следы. Выход органоспецифических ферментов в кровь сигнализирует о поражении определен¬ного орг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зо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группа или семейство ферментов с четвертичной структурой, которые катализируют одну и ту же реакцию, но отличаются по строению (т. е. первичной структуре) субъединиц и физико-химическим свойствам. Например, фермент лактатдегидроген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ерменты, локализованные в органеллах клето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кислительно-восстановительные в митохондриях; кислые гидролазы в лизосома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), выходя в кровь, сигнализируют о глубоком поражении клет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D906-9182-49A0-85BE-8EA802E27A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Секреторные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псевдохолинэстераза) поступают непосредственно в кровь и выполняют в ней специфические функции. Эти ферменты синтезируются в печени и постоянно высвобождаются в кров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активность в сыворотке крови выше, чем в клетках или тканя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нарушении функции печени их активность в сыворотке крови становится ниже но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2D3A-C2C1-4ADA-B8D5-DE75B1FD53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Экскреторные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органами пищеварительной системы (поджелудочной железой, слизистой оболочкой кишечника, печенью, эндотелием желчных путей). К ним относятся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милаза, щелочная фосфатаза. В норме их активность в сыворотке крови низкая и постоянная. Однако при патологии, когда блокирован любой из обычных путей экскреции, активность этих ферментов в сыворотке крови значительно увеличива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5AC6-F8EC-4E6A-AC66-72E836033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следственные энзимопат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яд пороков обмена веществ является результатом наследственного дефицита определенных ферментов. В этом случае диагноз ставится, главным образом, на основе исследования показателей обмена этих ферментативных реакций (биохимический диагно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1439-825D-47CE-A1E4-D91A3844A0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Энзимотерап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использование ферментов и метаболитов в качестве лечебных 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Arial"/>
              </a:rPr>
              <a:t>заместитель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ерапия ферментами используется при болезнях желудочно-кишечного факта (пепсин, трипсин, химотрипсин, амилаза, липаз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Arial"/>
              </a:rPr>
              <a:t>для очистки ра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оздействия на избыточно разрастающуюся соединительную ткань применяют гиалуронидазу, трипсин, химотрипси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ли применение </a:t>
            </a:r>
            <a:r>
              <a:rPr b="0" lang="ru-RU" sz="1200" spc="-1" strike="noStrike">
                <a:solidFill>
                  <a:srgbClr val="262673"/>
                </a:solidFill>
                <a:latin typeface="Arial"/>
              </a:rPr>
              <a:t>регулято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активаторы и ингибиторы) ферментов. Например, ингибиторы моноаминооксидазы используют при нервных и психических заболеваниях; тканевые ингибиторы протеиназ эффективны при лечении панкреатита, эмфиземы легких, инфаркте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18CD-A65C-48A9-96DF-B018350646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Ферменты как аналитические реаге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 применяются в практике лабораторных исследований при определении субстратов, нуклеотидов и пр. В настоящее время выпускается ряд набор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пределения глюкозы, этанола, молочной кислоты, АТФ и п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нцип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исследуемом материале содержится неизвестное количество субстрата. Чтобы определить его количество, вводят фермент, катализирующий превращение только этого субстрата, создают оптимальные условия реакции (рН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) и регистрируют скорость реакции (по образованию продукта или изменению кофермента). Затем определяют концентрацию искомого субстрата по скорости реакции, используя калибровочный граф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2E92-2E77-440F-8BE9-73C158BA76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ая химия изучае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ую природу веществ, входящих в состав живых 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евращ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этих превращений с деятельностью клеток, тканей, органов и организма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биохим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ь, как функционируют живые системы с точки зрения молекулярных процессов в состоянии «здоровья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ь молекулярные процессы, лежащие в основе заболеваний и их эффективного л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зависимости от объекта исслед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AE27-06DD-48B2-80EC-66251662A7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DD76-F716-4834-883E-183233DD01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зависимости от объекта исследовани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о выделяют: 1) биохимию микроорганизмов; 2) биохимию простейших; 3) биохимию растений; 4) биохим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х (ветеринарную биохимию); 5) биохимию человека (медицинскую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химию). Однако, несмотря на определенные, порой принципиальные различия в химическом составе и обмене веществ тех или иных видов живых организмов, существу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иохимическое един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х форм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биохимии: 1) объяснить, как функционируют живые системы с точки зрения молекулярных процессов в состоянии «здоровья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объяснить молекулярные процессы, лежащие в основе заболеваний и их эффективного л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Основные разделы и направления в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разделы биохимии по направлениям исследований: техническая биохимия (молекулярные основы хлебопечения, сыроварения, виноделия и пр.); медицинская биохимия (биохимические процессы в организме человека в норме и при патологии), эволюционная биохимия (эволюция обмена веществ в рамках эволюции живых организмов); квантовая биохимия (квантово-физические характеристики метаболитов и их превращений в живом организме); энзимология.(структура, свойства и механизм действия ферментов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9E80-9A75-48F1-ACFD-148EF16921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три основных разде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татическая биохим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изучает химическую природу организ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инамическая биохим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изучает превращения химических веществ в организме (метаболизм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ункциональная биохим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ает роль превращений химических веществ в проявлении функций клеток, тканей. органов, орг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несколько направлений (частная биохимия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биохимию систем органов (нервной, гепатобилпарной, сердечно-сосудистой, эндокринной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биохимию основных процессов (движения, пищеварения, размножения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рикладную биохимию (клиническая биохимия, биохимическая лабораторная диагностик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3C9B-17F5-49ED-978A-6EDBB5489E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B0B9-2080-4917-BA16-BB51982643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«белок» происходит от немецкого слова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wei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, что означает яичный белок или вообще белок. Другое название — протеины, происходит от греческого слова «протос» — первич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 являются линейными неразветвленными полимерами построенными из аминокислот. Информация о структуре белка закодирована в ДНК. Все живые организмы используют 20 идентичных аминокислот и, за некоторым исключением, имеют одинаковый генетический к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труктурные функци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структурными белками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ллаген, эласти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формируют костный матрикс, сосудистую систему и другие органы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-керати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исутствует в эпидермальной ткан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инамические функци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функции реализую разнообразные белки: ферменты, гормоны, факторы свертывания крови, иммуноглобулины, мембранные рецепторы, резервные белки, сократительные белки, дыхательные белки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1EAE-73C3-4AC6-A39F-1034C96129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ают несколько принципов классификации белк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по функ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по химической структуре и растворим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по биологической (пищевой) цен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DCD4-7CAA-4497-97F4-1915EC1B27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385-48B7-4CA2-B798-35BEFEC0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AEBF-F7EC-484D-BA5B-5CA9610D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A22-AE1E-4191-B318-7CC54036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16A-5935-4AA8-8AFE-9AAC6E72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F210-CA7B-4DEF-9E98-0BCD5B25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72B-7D2E-4D1C-9FB2-8E88FF02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772-A390-4281-A014-CF874CF4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B3FE-DA5B-4126-ACE3-27CB9130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854-21F4-4CC4-AF9E-43B7083A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3574-F473-43B4-8895-515129C5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179-FB9F-4CEB-AD10-B258BB0B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BB1E-7B6D-4976-8472-642BAFE5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3008-AF6D-46DF-87FC-305A6254AD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одная лекц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5589360"/>
            <a:ext cx="878508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 биологической химии (биохими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сентября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611280" y="3860640"/>
            <a:ext cx="802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СТОМАТОЛОГИЧЕС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И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 ФАКУЛЬТЕТ (ОЧНО-ЗАОЧНОЕ ОТДЕЛЕНИЕ) НА ТРЕТИЙ СЕМЕСТР 2013/2014уч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68360" y="260280"/>
          <a:ext cx="8229600" cy="5999400"/>
        </p:xfrm>
        <a:graphic>
          <a:graphicData uri="http://schemas.openxmlformats.org/drawingml/2006/table">
            <a:tbl>
              <a:tblPr/>
              <a:tblGrid>
                <a:gridCol w="1708200"/>
                <a:gridCol w="65214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ерменты 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ализатор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тиваторы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гиби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ерм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лков-ферментов характерна высокая степень структур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екулы, благодаря чему возможен катализ химической реакции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и активного центра и регуляция активности фермента чере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эффекторов с аллостерическим центром. Извест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-активаторы (апопротеин ) и ингибиторы ( ингиби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псина из поджелудочной железы, соевых бобов; ингиби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еиназ из яда гадюки, ингибитор химотрипсина из картофеля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м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о, белки (м. м. 20-30 кДа), которые содержат небольш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гменты определяющие гормональную активность; относятся 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е непроникающих в клетку гормонов, на поверхности кле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уют с рецепторами, гормональный эффект реализу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внутриклеточные посредники (гормоны гипоталамус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физа, поджелудочной железы, паращитовидных желез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улятор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ны стабилизируют структуру ДНК и регулиру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генома (проявление матричной активности ДН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слаблении связей с гистонами); гетерогенн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истоновых белков (м. м. 5-200 кДа) участвует в формиров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клеосом и взаимодействии с хроматином гормон - р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птор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ов, в регуляции процессов репликации, транскрипции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ляции; белки теплового шока (стрессовые белки);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елк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ирующие синтез циклических нуклеотидов; онкобелки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нкобелки, определяющие малигнизацию клет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274680"/>
          <a:ext cx="8642160" cy="5546520"/>
        </p:xfrm>
        <a:graphic>
          <a:graphicData uri="http://schemas.openxmlformats.org/drawingml/2006/table">
            <a:tbl>
              <a:tblPr/>
              <a:tblGrid>
                <a:gridCol w="1793880"/>
                <a:gridCol w="684828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щитные 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титела (иммуноглобулины) вырабатываются в ответ на в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тигенов; белки системы свертывания крови; белки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лемента; ферменты обезвреживания ксенобиотик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фероны, интерлейкины, лизоцим; белки-антифризы рыб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тивирусные белки растений; антибактериальные 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5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кс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молекулярные белковые токсины микроорганизмов и раст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ы тремя типами белков. Мультимерные дифтерий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холерный токсины, токсин шигеллы построены 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й субъединицы типа А (20, 28 и 32 кДа, соответственно) и пя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диниц типа В (25, 12 и 7,7 кДа, соответственно); субъединицы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ываются с клеточной поверхностью, а субъединица А проник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ь клетки, где блокирует синтез белков на рибосом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о действуют растительные токсины — рицин, абрин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цин, лектин. Энтеротоксин стафилококка или гемолиз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ой палочки, встраиваясь в плазматическую мембрану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уют в ней поры, через которые теряются важные компон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плазмы клеток. Токсины ядов змей представлены мал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ами — 6,7-7 кДа (примерно 60 аминокислотных остатков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ческие пептиды ядов скорпиона, пчелы и осы состоят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м из 45 аминокислотных остатков. Эти токсины связываются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линергическими белками и оказывают нейротокс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50920" y="692280"/>
          <a:ext cx="8497800" cy="5222880"/>
        </p:xfrm>
        <a:graphic>
          <a:graphicData uri="http://schemas.openxmlformats.org/drawingml/2006/table">
            <a:tbl>
              <a:tblPr/>
              <a:tblGrid>
                <a:gridCol w="1873080"/>
                <a:gridCol w="6624720"/>
              </a:tblGrid>
              <a:tr h="1137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ьбумины и глобулины — переносчики различных веществ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зме крови. Порины — образуют поры для переноса веще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рез клеточные мембраны. Транслоказы — обеспечивают об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ами различных компартментов клет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ные белки мембран являются их структурн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ами, склонны к агрегации и специфическ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заимодействиям (процессы самосборки), содержат в своем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20 % гидрофобных аминокислотных остатков и до 4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ходится на долю а-спиральных участков. Эти белки лег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заимодействуют с фосфолипидами мембран. Структур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к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яют также белки межклеточного матрикс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оллаген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тикулин, кератин), кристаллины, белки ядерно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трикса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 цитоплазматического скел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8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крати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ствуют в механическом сокращении для осуществления движе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ладают, как правило, аденозинтрифосфатазной активностью):актин и миозин мышц, белки центральных и периферических фибрилл жгутиков и ресничек простейших, жгутиков сперматозоидов, тубулин аппарата движения хромосом в процессе митоза, миксомиозин — нитевидный белок из плазмодия гриба физариума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8360" y="1916280"/>
          <a:ext cx="8229600" cy="3260520"/>
        </p:xfrm>
        <a:graphic>
          <a:graphicData uri="http://schemas.openxmlformats.org/drawingml/2006/table">
            <a:tbl>
              <a:tblPr/>
              <a:tblGrid>
                <a:gridCol w="1577880"/>
                <a:gridCol w="6651720"/>
              </a:tblGrid>
              <a:tr h="32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цептор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 внутренней среде организма служат для взаимодействия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лекулами-биорегуляторами (сигнальными молекулам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кализуются в мембранных структурах клеток, а также могут быть 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творенном состоянии. Клетка, содержащая рецептор, являетс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еткой-мишенью для управляющего химического сигнала, а такж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взаимодействия с липопротеинами или вирусами. Дл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риятия сигналов внешней среды известны фоторецепторны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 (опсин), для оценки вкуса сладкочувствительный белок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восприятия запаха обонятельный белок, для восприят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вука холинорецепторные белки; в жизнедеятельности живы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мов важное место занимает рецепция ферромонов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трактантов, репеллентов, стрессогенных веществ ра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11280" y="90684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Фермент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логические катализаторы белковой природы (от греч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в дрожжах или от лат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rmentati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брож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84360" y="169992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, вступающие в ферментативную реакцию, называю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субстратами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ферментативных превращений получаю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родукты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еа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684360" y="249228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хмерной структуре фермента выделяют несколько участков, несущих определенную функцию. В молекуле фермента выделяют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ктивный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нт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 е. участок, с которым связывается субстрат и где протекает каталитическая реа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84360" y="3832920"/>
            <a:ext cx="813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активного центра у ряда ферментов имее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регуляторны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ллостерически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ной, чужой) центр, который в молекуле фермента, как правило, пространственно отделен от активного центра. К аллостерическому центру присоединяются вещества —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эффектор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делятся на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ктиваторы и ингибитор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оединение эффектора к аллостерическому центру приводит к изменению третичной и/ или четвертичной структуры молекулы фермента и соответственно конфигурации активного центра, вызывая снижение или повышение ферментативной активности. Ферменты, имеющие аллостерический центр, называю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ллостерическим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04920" y="976320"/>
            <a:ext cx="4114800" cy="2452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228600" y="5132520"/>
            <a:ext cx="5280120" cy="14652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4"/>
          <p:cNvGrpSpPr/>
          <p:nvPr/>
        </p:nvGrpSpPr>
        <p:grpSpPr>
          <a:xfrm>
            <a:off x="1066680" y="4191120"/>
            <a:ext cx="2928600" cy="1828800"/>
            <a:chOff x="1066680" y="4191120"/>
            <a:chExt cx="2928600" cy="1828800"/>
          </a:xfrm>
        </p:grpSpPr>
        <p:sp>
          <p:nvSpPr>
            <p:cNvPr id="96" name="Line 5"/>
            <p:cNvSpPr/>
            <p:nvPr/>
          </p:nvSpPr>
          <p:spPr>
            <a:xfrm flipH="1">
              <a:off x="1066680" y="4191120"/>
              <a:ext cx="1908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6"/>
            <p:cNvSpPr/>
            <p:nvPr/>
          </p:nvSpPr>
          <p:spPr>
            <a:xfrm>
              <a:off x="1257480" y="41911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7"/>
            <p:cNvSpPr/>
            <p:nvPr/>
          </p:nvSpPr>
          <p:spPr>
            <a:xfrm>
              <a:off x="1257480" y="4191120"/>
              <a:ext cx="3819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"/>
            <p:cNvSpPr/>
            <p:nvPr/>
          </p:nvSpPr>
          <p:spPr>
            <a:xfrm>
              <a:off x="1257480" y="4191120"/>
              <a:ext cx="184644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1257480" y="4191120"/>
              <a:ext cx="2737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10"/>
          <p:cNvSpPr/>
          <p:nvPr/>
        </p:nvSpPr>
        <p:spPr>
          <a:xfrm>
            <a:off x="0" y="350532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минокислоты, образующие активный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875200" y="4535640"/>
            <a:ext cx="11858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ча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вязы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934320" y="4556160"/>
            <a:ext cx="154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талитический уча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 rot="5400000">
            <a:off x="6977880" y="3186000"/>
            <a:ext cx="331920" cy="2313000"/>
          </a:xfrm>
          <a:custGeom>
            <a:avLst/>
            <a:gdLst>
              <a:gd name="textAreaLeft" fmla="*/ 0 w 331920"/>
              <a:gd name="textAreaRight" fmla="*/ 119880 w 331920"/>
              <a:gd name="textAreaTop" fmla="*/ 53640 h 2313000"/>
              <a:gd name="textAreaBottom" fmla="*/ 2259360 h 231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1"/>
                  <a:pt x="10800" y="1602"/>
                </a:cubicBezTo>
                <a:lnTo>
                  <a:pt x="10800" y="8298"/>
                </a:lnTo>
                <a:cubicBezTo>
                  <a:pt x="10800" y="9099"/>
                  <a:pt x="16200" y="9900"/>
                  <a:pt x="21600" y="9900"/>
                </a:cubicBezTo>
                <a:cubicBezTo>
                  <a:pt x="16200" y="9900"/>
                  <a:pt x="10800" y="10701"/>
                  <a:pt x="10800" y="11502"/>
                </a:cubicBezTo>
                <a:lnTo>
                  <a:pt x="10800" y="19998"/>
                </a:lnTo>
                <a:cubicBezTo>
                  <a:pt x="10800" y="2079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6270480" y="3987720"/>
            <a:ext cx="20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ктивный цен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5410080" y="2637000"/>
            <a:ext cx="3260880" cy="3066840"/>
            <a:chOff x="5410080" y="2637000"/>
            <a:chExt cx="3260880" cy="3066840"/>
          </a:xfrm>
        </p:grpSpPr>
        <p:sp>
          <p:nvSpPr>
            <p:cNvPr id="107" name="Freeform 16"/>
            <p:cNvSpPr/>
            <p:nvPr/>
          </p:nvSpPr>
          <p:spPr>
            <a:xfrm>
              <a:off x="5410080" y="3309840"/>
              <a:ext cx="3260880" cy="2394000"/>
            </a:xfrm>
            <a:custGeom>
              <a:avLst/>
              <a:gdLst/>
              <a:ahLst/>
              <a:rect l="l" t="t" r="r" b="b"/>
              <a:pathLst>
                <a:path w="2774" h="1733">
                  <a:moveTo>
                    <a:pt x="2495" y="135"/>
                  </a:moveTo>
                  <a:cubicBezTo>
                    <a:pt x="2440" y="137"/>
                    <a:pt x="2251" y="125"/>
                    <a:pt x="2172" y="179"/>
                  </a:cubicBezTo>
                  <a:cubicBezTo>
                    <a:pt x="2093" y="233"/>
                    <a:pt x="2078" y="452"/>
                    <a:pt x="2024" y="458"/>
                  </a:cubicBezTo>
                  <a:cubicBezTo>
                    <a:pt x="1970" y="464"/>
                    <a:pt x="1970" y="260"/>
                    <a:pt x="1849" y="214"/>
                  </a:cubicBezTo>
                  <a:cubicBezTo>
                    <a:pt x="1728" y="168"/>
                    <a:pt x="1421" y="144"/>
                    <a:pt x="1299" y="179"/>
                  </a:cubicBezTo>
                  <a:cubicBezTo>
                    <a:pt x="1177" y="214"/>
                    <a:pt x="1199" y="379"/>
                    <a:pt x="1116" y="423"/>
                  </a:cubicBezTo>
                  <a:cubicBezTo>
                    <a:pt x="1033" y="467"/>
                    <a:pt x="891" y="483"/>
                    <a:pt x="802" y="441"/>
                  </a:cubicBezTo>
                  <a:cubicBezTo>
                    <a:pt x="713" y="399"/>
                    <a:pt x="683" y="0"/>
                    <a:pt x="584" y="170"/>
                  </a:cubicBezTo>
                  <a:cubicBezTo>
                    <a:pt x="485" y="340"/>
                    <a:pt x="0" y="1218"/>
                    <a:pt x="208" y="1462"/>
                  </a:cubicBezTo>
                  <a:cubicBezTo>
                    <a:pt x="416" y="1706"/>
                    <a:pt x="1429" y="1613"/>
                    <a:pt x="1832" y="1636"/>
                  </a:cubicBezTo>
                  <a:cubicBezTo>
                    <a:pt x="2119" y="1663"/>
                    <a:pt x="2491" y="1733"/>
                    <a:pt x="2626" y="1601"/>
                  </a:cubicBezTo>
                  <a:cubicBezTo>
                    <a:pt x="2774" y="1445"/>
                    <a:pt x="2743" y="941"/>
                    <a:pt x="2722" y="702"/>
                  </a:cubicBezTo>
                  <a:cubicBezTo>
                    <a:pt x="2701" y="463"/>
                    <a:pt x="2540" y="260"/>
                    <a:pt x="2502" y="166"/>
                  </a:cubicBezTo>
                  <a:cubicBezTo>
                    <a:pt x="2464" y="72"/>
                    <a:pt x="2550" y="133"/>
                    <a:pt x="2495" y="135"/>
                  </a:cubicBezTo>
                  <a:close/>
                </a:path>
              </a:pathLst>
            </a:custGeom>
            <a:blipFill rotWithShape="0">
              <a:blip r:embed="rId3">
                <a:alphaModFix amt="35000"/>
              </a:blip>
              <a:srcRect/>
              <a:stretch/>
            </a:blip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17"/>
            <p:cNvGrpSpPr/>
            <p:nvPr/>
          </p:nvGrpSpPr>
          <p:grpSpPr>
            <a:xfrm>
              <a:off x="6294600" y="2637000"/>
              <a:ext cx="1858680" cy="1350720"/>
              <a:chOff x="6294600" y="2637000"/>
              <a:chExt cx="1858680" cy="1350720"/>
            </a:xfrm>
          </p:grpSpPr>
          <p:sp>
            <p:nvSpPr>
              <p:cNvPr id="109" name="Freeform 18"/>
              <p:cNvSpPr/>
              <p:nvPr/>
            </p:nvSpPr>
            <p:spPr>
              <a:xfrm>
                <a:off x="6294600" y="2637000"/>
                <a:ext cx="1838160" cy="1350720"/>
              </a:xfrm>
              <a:custGeom>
                <a:avLst/>
                <a:gdLst/>
                <a:ahLst/>
                <a:rect l="l" t="t" r="r" b="b"/>
                <a:pathLst>
                  <a:path w="1158" h="851">
                    <a:moveTo>
                      <a:pt x="1158" y="291"/>
                    </a:moveTo>
                    <a:cubicBezTo>
                      <a:pt x="1137" y="311"/>
                      <a:pt x="1076" y="344"/>
                      <a:pt x="1038" y="405"/>
                    </a:cubicBezTo>
                    <a:cubicBezTo>
                      <a:pt x="1001" y="466"/>
                      <a:pt x="974" y="636"/>
                      <a:pt x="934" y="653"/>
                    </a:cubicBezTo>
                    <a:cubicBezTo>
                      <a:pt x="893" y="671"/>
                      <a:pt x="881" y="538"/>
                      <a:pt x="793" y="512"/>
                    </a:cubicBezTo>
                    <a:cubicBezTo>
                      <a:pt x="705" y="485"/>
                      <a:pt x="498" y="453"/>
                      <a:pt x="405" y="489"/>
                    </a:cubicBezTo>
                    <a:cubicBezTo>
                      <a:pt x="311" y="525"/>
                      <a:pt x="286" y="684"/>
                      <a:pt x="234" y="727"/>
                    </a:cubicBezTo>
                    <a:cubicBezTo>
                      <a:pt x="183" y="771"/>
                      <a:pt x="123" y="851"/>
                      <a:pt x="94" y="748"/>
                    </a:cubicBezTo>
                    <a:cubicBezTo>
                      <a:pt x="65" y="645"/>
                      <a:pt x="0" y="216"/>
                      <a:pt x="58" y="108"/>
                    </a:cubicBezTo>
                    <a:cubicBezTo>
                      <a:pt x="116" y="0"/>
                      <a:pt x="313" y="100"/>
                      <a:pt x="442" y="99"/>
                    </a:cubicBezTo>
                    <a:cubicBezTo>
                      <a:pt x="571" y="98"/>
                      <a:pt x="737" y="101"/>
                      <a:pt x="835" y="99"/>
                    </a:cubicBezTo>
                    <a:cubicBezTo>
                      <a:pt x="1000" y="112"/>
                      <a:pt x="976" y="56"/>
                      <a:pt x="1030" y="88"/>
                    </a:cubicBezTo>
                    <a:cubicBezTo>
                      <a:pt x="1084" y="120"/>
                      <a:pt x="1131" y="249"/>
                      <a:pt x="1158" y="291"/>
                    </a:cubicBez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19"/>
              <p:cNvSpPr/>
              <p:nvPr/>
            </p:nvSpPr>
            <p:spPr>
              <a:xfrm>
                <a:off x="6629400" y="3036960"/>
                <a:ext cx="152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ffffff"/>
                    </a:solidFill>
                    <a:latin typeface="Arial"/>
                  </a:rPr>
                  <a:t>Субстра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ext Box 20"/>
          <p:cNvSpPr/>
          <p:nvPr/>
        </p:nvSpPr>
        <p:spPr>
          <a:xfrm>
            <a:off x="5257800" y="1295280"/>
            <a:ext cx="3657600" cy="7038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оение активного центра  фер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703440" y="1168560"/>
            <a:ext cx="42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03440" y="457200"/>
            <a:ext cx="42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228600" y="457200"/>
            <a:ext cx="1951200" cy="6235200"/>
            <a:chOff x="228600" y="457200"/>
            <a:chExt cx="1951200" cy="6235200"/>
          </a:xfrm>
        </p:grpSpPr>
        <p:sp>
          <p:nvSpPr>
            <p:cNvPr id="117" name="Text Box 5"/>
            <p:cNvSpPr/>
            <p:nvPr/>
          </p:nvSpPr>
          <p:spPr>
            <a:xfrm>
              <a:off x="990720" y="6248520"/>
              <a:ext cx="42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6"/>
            <p:cNvGrpSpPr/>
            <p:nvPr/>
          </p:nvGrpSpPr>
          <p:grpSpPr>
            <a:xfrm>
              <a:off x="228600" y="457200"/>
              <a:ext cx="1951200" cy="6235200"/>
              <a:chOff x="228600" y="457200"/>
              <a:chExt cx="1951200" cy="6235200"/>
            </a:xfrm>
          </p:grpSpPr>
          <p:grpSp>
            <p:nvGrpSpPr>
              <p:cNvPr id="119" name="Group 7"/>
              <p:cNvGrpSpPr/>
              <p:nvPr/>
            </p:nvGrpSpPr>
            <p:grpSpPr>
              <a:xfrm>
                <a:off x="533520" y="457200"/>
                <a:ext cx="1447560" cy="1219320"/>
                <a:chOff x="533520" y="457200"/>
                <a:chExt cx="1447560" cy="1219320"/>
              </a:xfrm>
            </p:grpSpPr>
            <p:sp>
              <p:nvSpPr>
                <p:cNvPr id="120" name="Freeform 8"/>
                <p:cNvSpPr/>
                <p:nvPr/>
              </p:nvSpPr>
              <p:spPr>
                <a:xfrm>
                  <a:off x="619200" y="1054080"/>
                  <a:ext cx="1361880" cy="622440"/>
                </a:xfrm>
                <a:custGeom>
                  <a:avLst/>
                  <a:gdLst>
                    <a:gd name="textAreaLeft" fmla="*/ 0 w 1361880"/>
                    <a:gd name="textAreaRight" fmla="*/ 1362240 w 1361880"/>
                    <a:gd name="textAreaTop" fmla="*/ 0 h 622440"/>
                    <a:gd name="textAreaBottom" fmla="*/ 622800 h 622440"/>
                  </a:gdLst>
                  <a:ahLst/>
                  <a:rect l="textAreaLeft" t="textAreaTop" r="textAreaRight" b="textAreaBottom"/>
                  <a:pathLst>
                    <a:path w="1187" h="1431">
                      <a:moveTo>
                        <a:pt x="0" y="0"/>
                      </a:moveTo>
                      <a:lnTo>
                        <a:pt x="0" y="1431"/>
                      </a:lnTo>
                      <a:lnTo>
                        <a:pt x="1187" y="1431"/>
                      </a:lnTo>
                      <a:lnTo>
                        <a:pt x="1187" y="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9"/>
                <p:cNvSpPr/>
                <p:nvPr/>
              </p:nvSpPr>
              <p:spPr>
                <a:xfrm>
                  <a:off x="619200" y="1047600"/>
                  <a:ext cx="1361880" cy="139680"/>
                </a:xfrm>
                <a:custGeom>
                  <a:avLst/>
                  <a:gdLst>
                    <a:gd name="textAreaLeft" fmla="*/ 0 w 1361880"/>
                    <a:gd name="textAreaRight" fmla="*/ 1362240 w 136188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920" h="192">
                      <a:moveTo>
                        <a:pt x="0" y="18"/>
                      </a:moveTo>
                      <a:lnTo>
                        <a:pt x="192" y="18"/>
                      </a:lnTo>
                      <a:lnTo>
                        <a:pt x="192" y="184"/>
                      </a:lnTo>
                      <a:lnTo>
                        <a:pt x="506" y="184"/>
                      </a:lnTo>
                      <a:lnTo>
                        <a:pt x="506" y="18"/>
                      </a:lnTo>
                      <a:lnTo>
                        <a:pt x="742" y="18"/>
                      </a:lnTo>
                      <a:lnTo>
                        <a:pt x="751" y="175"/>
                      </a:lnTo>
                      <a:lnTo>
                        <a:pt x="951" y="175"/>
                      </a:lnTo>
                      <a:lnTo>
                        <a:pt x="951" y="0"/>
                      </a:lnTo>
                      <a:lnTo>
                        <a:pt x="1283" y="0"/>
                      </a:lnTo>
                      <a:lnTo>
                        <a:pt x="1283" y="192"/>
                      </a:lnTo>
                      <a:lnTo>
                        <a:pt x="1763" y="192"/>
                      </a:lnTo>
                      <a:lnTo>
                        <a:pt x="1920" y="35"/>
                      </a:ln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Group 10"/>
                <p:cNvGrpSpPr/>
                <p:nvPr/>
              </p:nvGrpSpPr>
              <p:grpSpPr>
                <a:xfrm>
                  <a:off x="533520" y="457200"/>
                  <a:ext cx="1447560" cy="507960"/>
                  <a:chOff x="533520" y="457200"/>
                  <a:chExt cx="1447560" cy="507960"/>
                </a:xfrm>
              </p:grpSpPr>
              <p:grpSp>
                <p:nvGrpSpPr>
                  <p:cNvPr id="123" name="Group 11"/>
                  <p:cNvGrpSpPr/>
                  <p:nvPr/>
                </p:nvGrpSpPr>
                <p:grpSpPr>
                  <a:xfrm>
                    <a:off x="533520" y="485640"/>
                    <a:ext cx="833040" cy="474480"/>
                    <a:chOff x="533520" y="485640"/>
                    <a:chExt cx="833040" cy="474480"/>
                  </a:xfrm>
                </p:grpSpPr>
                <p:sp>
                  <p:nvSpPr>
                    <p:cNvPr id="124" name="Freeform 12"/>
                    <p:cNvSpPr/>
                    <p:nvPr/>
                  </p:nvSpPr>
                  <p:spPr>
                    <a:xfrm>
                      <a:off x="533520" y="485640"/>
                      <a:ext cx="833040" cy="355320"/>
                    </a:xfrm>
                    <a:custGeom>
                      <a:avLst/>
                      <a:gdLst>
                        <a:gd name="textAreaLeft" fmla="*/ 0 w 833040"/>
                        <a:gd name="textAreaRight" fmla="*/ 833400 w 833040"/>
                        <a:gd name="textAreaTop" fmla="*/ 0 h 355320"/>
                        <a:gd name="textAreaBottom" fmla="*/ 355680 h 355320"/>
                      </a:gdLst>
                      <a:ahLst/>
                      <a:rect l="textAreaLeft" t="textAreaTop" r="textAreaRight" b="textAreaBottom"/>
                      <a:pathLst>
                        <a:path w="1100" h="570">
                          <a:moveTo>
                            <a:pt x="0" y="570"/>
                          </a:moveTo>
                          <a:lnTo>
                            <a:pt x="0" y="0"/>
                          </a:lnTo>
                          <a:lnTo>
                            <a:pt x="1100" y="4"/>
                          </a:lnTo>
                          <a:lnTo>
                            <a:pt x="1100" y="301"/>
                          </a:lnTo>
                          <a:lnTo>
                            <a:pt x="1100" y="493"/>
                          </a:lnTo>
                        </a:path>
                      </a:pathLst>
                    </a:custGeom>
                    <a:noFill/>
                    <a:ln w="41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Freeform 13"/>
                    <p:cNvSpPr/>
                    <p:nvPr/>
                  </p:nvSpPr>
                  <p:spPr>
                    <a:xfrm>
                      <a:off x="533520" y="787320"/>
                      <a:ext cx="833040" cy="172800"/>
                    </a:xfrm>
                    <a:custGeom>
                      <a:avLst/>
                      <a:gdLst>
                        <a:gd name="textAreaLeft" fmla="*/ 0 w 833040"/>
                        <a:gd name="textAreaRight" fmla="*/ 833400 w 833040"/>
                        <a:gd name="textAreaTop" fmla="*/ 0 h 172800"/>
                        <a:gd name="textAreaBottom" fmla="*/ 173160 h 172800"/>
                      </a:gdLst>
                      <a:ahLst/>
                      <a:rect l="textAreaLeft" t="textAreaTop" r="textAreaRight" b="textAreaBottom"/>
                      <a:pathLst>
                        <a:path w="1100" h="277">
                          <a:moveTo>
                            <a:pt x="0" y="77"/>
                          </a:moveTo>
                          <a:lnTo>
                            <a:pt x="218" y="67"/>
                          </a:lnTo>
                          <a:lnTo>
                            <a:pt x="253" y="259"/>
                          </a:lnTo>
                          <a:lnTo>
                            <a:pt x="436" y="277"/>
                          </a:lnTo>
                          <a:lnTo>
                            <a:pt x="463" y="76"/>
                          </a:lnTo>
                          <a:lnTo>
                            <a:pt x="742" y="77"/>
                          </a:lnTo>
                          <a:lnTo>
                            <a:pt x="812" y="259"/>
                          </a:lnTo>
                          <a:lnTo>
                            <a:pt x="899" y="250"/>
                          </a:lnTo>
                          <a:lnTo>
                            <a:pt x="890" y="85"/>
                          </a:lnTo>
                          <a:lnTo>
                            <a:pt x="1100" y="0"/>
                          </a:lnTo>
                        </a:path>
                      </a:pathLst>
                    </a:custGeom>
                    <a:noFill/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" name="Line 14"/>
                  <p:cNvSpPr/>
                  <p:nvPr/>
                </p:nvSpPr>
                <p:spPr>
                  <a:xfrm>
                    <a:off x="1369800" y="635400"/>
                    <a:ext cx="18144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Group 15"/>
                  <p:cNvGrpSpPr/>
                  <p:nvPr/>
                </p:nvGrpSpPr>
                <p:grpSpPr>
                  <a:xfrm>
                    <a:off x="1544760" y="457200"/>
                    <a:ext cx="436320" cy="507960"/>
                    <a:chOff x="1544760" y="457200"/>
                    <a:chExt cx="436320" cy="507960"/>
                  </a:xfrm>
                </p:grpSpPr>
                <p:sp>
                  <p:nvSpPr>
                    <p:cNvPr id="128" name="Freeform 16"/>
                    <p:cNvSpPr/>
                    <p:nvPr/>
                  </p:nvSpPr>
                  <p:spPr>
                    <a:xfrm>
                      <a:off x="1551600" y="457200"/>
                      <a:ext cx="429480" cy="507960"/>
                    </a:xfrm>
                    <a:custGeom>
                      <a:avLst/>
                      <a:gdLst>
                        <a:gd name="textAreaLeft" fmla="*/ 0 w 429480"/>
                        <a:gd name="textAreaRight" fmla="*/ 429840 w 429480"/>
                        <a:gd name="textAreaTop" fmla="*/ 0 h 507960"/>
                        <a:gd name="textAreaBottom" fmla="*/ 508320 h 507960"/>
                      </a:gdLst>
                      <a:ahLst/>
                      <a:rect l="textAreaLeft" t="textAreaTop" r="textAreaRight" b="textAreaBottom"/>
                      <a:pathLst>
                        <a:path w="567" h="815">
                          <a:moveTo>
                            <a:pt x="0" y="0"/>
                          </a:moveTo>
                          <a:lnTo>
                            <a:pt x="0" y="815"/>
                          </a:lnTo>
                          <a:lnTo>
                            <a:pt x="393" y="792"/>
                          </a:lnTo>
                          <a:lnTo>
                            <a:pt x="567" y="600"/>
                          </a:lnTo>
                          <a:lnTo>
                            <a:pt x="432" y="110"/>
                          </a:lnTo>
                        </a:path>
                      </a:pathLst>
                    </a:custGeom>
                    <a:noFill/>
                    <a:ln w="41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Freeform 17"/>
                    <p:cNvSpPr/>
                    <p:nvPr/>
                  </p:nvSpPr>
                  <p:spPr>
                    <a:xfrm>
                      <a:off x="1544760" y="461520"/>
                      <a:ext cx="334080" cy="263520"/>
                    </a:xfrm>
                    <a:custGeom>
                      <a:avLst/>
                      <a:gdLst>
                        <a:gd name="textAreaLeft" fmla="*/ 0 w 334080"/>
                        <a:gd name="textAreaRight" fmla="*/ 334440 w 334080"/>
                        <a:gd name="textAreaTop" fmla="*/ 0 h 263520"/>
                        <a:gd name="textAreaBottom" fmla="*/ 263880 h 263520"/>
                      </a:gdLst>
                      <a:ahLst/>
                      <a:rect l="textAreaLeft" t="textAreaTop" r="textAreaRight" b="textAreaBottom"/>
                      <a:pathLst>
                        <a:path w="441" h="423">
                          <a:moveTo>
                            <a:pt x="0" y="0"/>
                          </a:moveTo>
                          <a:lnTo>
                            <a:pt x="95" y="178"/>
                          </a:lnTo>
                          <a:lnTo>
                            <a:pt x="108" y="402"/>
                          </a:lnTo>
                          <a:lnTo>
                            <a:pt x="180" y="423"/>
                          </a:lnTo>
                          <a:lnTo>
                            <a:pt x="191" y="189"/>
                          </a:lnTo>
                          <a:lnTo>
                            <a:pt x="300" y="190"/>
                          </a:lnTo>
                          <a:lnTo>
                            <a:pt x="328" y="402"/>
                          </a:lnTo>
                          <a:lnTo>
                            <a:pt x="362" y="392"/>
                          </a:lnTo>
                          <a:lnTo>
                            <a:pt x="359" y="199"/>
                          </a:lnTo>
                          <a:lnTo>
                            <a:pt x="441" y="100"/>
                          </a:lnTo>
                        </a:path>
                      </a:pathLst>
                    </a:custGeom>
                    <a:noFill/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30" name="Line 18"/>
              <p:cNvSpPr/>
              <p:nvPr/>
            </p:nvSpPr>
            <p:spPr>
              <a:xfrm>
                <a:off x="1219320" y="1752480"/>
                <a:ext cx="0" cy="38124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Group 19"/>
              <p:cNvGrpSpPr/>
              <p:nvPr/>
            </p:nvGrpSpPr>
            <p:grpSpPr>
              <a:xfrm>
                <a:off x="609480" y="2133720"/>
                <a:ext cx="1371600" cy="1218240"/>
                <a:chOff x="609480" y="2133720"/>
                <a:chExt cx="1371600" cy="1218240"/>
              </a:xfrm>
            </p:grpSpPr>
            <p:grpSp>
              <p:nvGrpSpPr>
                <p:cNvPr id="132" name="Group 20"/>
                <p:cNvGrpSpPr/>
                <p:nvPr/>
              </p:nvGrpSpPr>
              <p:grpSpPr>
                <a:xfrm>
                  <a:off x="609480" y="2582640"/>
                  <a:ext cx="1371600" cy="769320"/>
                  <a:chOff x="609480" y="2582640"/>
                  <a:chExt cx="1371600" cy="769320"/>
                </a:xfrm>
              </p:grpSpPr>
              <p:sp>
                <p:nvSpPr>
                  <p:cNvPr id="133" name="Freeform 21"/>
                  <p:cNvSpPr/>
                  <p:nvPr/>
                </p:nvSpPr>
                <p:spPr>
                  <a:xfrm>
                    <a:off x="609480" y="2590560"/>
                    <a:ext cx="1371600" cy="761400"/>
                  </a:xfrm>
                  <a:custGeom>
                    <a:avLst/>
                    <a:gdLst>
                      <a:gd name="textAreaLeft" fmla="*/ 0 w 1371600"/>
                      <a:gd name="textAreaRight" fmla="*/ 1371960 w 1371600"/>
                      <a:gd name="textAreaTop" fmla="*/ 0 h 761400"/>
                      <a:gd name="textAreaBottom" fmla="*/ 761760 h 761400"/>
                    </a:gdLst>
                    <a:ahLst/>
                    <a:rect l="textAreaLeft" t="textAreaTop" r="textAreaRight" b="textAreaBottom"/>
                    <a:pathLst>
                      <a:path w="1187" h="1431">
                        <a:moveTo>
                          <a:pt x="0" y="0"/>
                        </a:moveTo>
                        <a:lnTo>
                          <a:pt x="0" y="1431"/>
                        </a:lnTo>
                        <a:lnTo>
                          <a:pt x="1187" y="1431"/>
                        </a:lnTo>
                        <a:lnTo>
                          <a:pt x="1187" y="0"/>
                        </a:lnTo>
                      </a:path>
                    </a:pathLst>
                  </a:custGeom>
                  <a:noFill/>
                  <a:ln w="41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22"/>
                  <p:cNvSpPr/>
                  <p:nvPr/>
                </p:nvSpPr>
                <p:spPr>
                  <a:xfrm>
                    <a:off x="609480" y="2582640"/>
                    <a:ext cx="1371600" cy="171000"/>
                  </a:xfrm>
                  <a:custGeom>
                    <a:avLst/>
                    <a:gdLst>
                      <a:gd name="textAreaLeft" fmla="*/ 0 w 1371600"/>
                      <a:gd name="textAreaRight" fmla="*/ 1371960 w 13716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1920" h="192">
                        <a:moveTo>
                          <a:pt x="0" y="18"/>
                        </a:moveTo>
                        <a:lnTo>
                          <a:pt x="192" y="18"/>
                        </a:lnTo>
                        <a:lnTo>
                          <a:pt x="192" y="184"/>
                        </a:lnTo>
                        <a:lnTo>
                          <a:pt x="506" y="184"/>
                        </a:lnTo>
                        <a:lnTo>
                          <a:pt x="506" y="18"/>
                        </a:lnTo>
                        <a:lnTo>
                          <a:pt x="742" y="18"/>
                        </a:lnTo>
                        <a:lnTo>
                          <a:pt x="751" y="175"/>
                        </a:lnTo>
                        <a:lnTo>
                          <a:pt x="951" y="175"/>
                        </a:lnTo>
                        <a:lnTo>
                          <a:pt x="951" y="0"/>
                        </a:lnTo>
                        <a:lnTo>
                          <a:pt x="1283" y="0"/>
                        </a:lnTo>
                        <a:lnTo>
                          <a:pt x="1283" y="192"/>
                        </a:lnTo>
                        <a:lnTo>
                          <a:pt x="1763" y="192"/>
                        </a:lnTo>
                        <a:lnTo>
                          <a:pt x="1920" y="35"/>
                        </a:lnTo>
                      </a:path>
                    </a:pathLst>
                  </a:custGeom>
                  <a:noFill/>
                  <a:ln w="22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" name="Freeform 23"/>
                <p:cNvSpPr/>
                <p:nvPr/>
              </p:nvSpPr>
              <p:spPr>
                <a:xfrm>
                  <a:off x="609480" y="2168280"/>
                  <a:ext cx="753120" cy="434160"/>
                </a:xfrm>
                <a:custGeom>
                  <a:avLst/>
                  <a:gdLst>
                    <a:gd name="textAreaLeft" fmla="*/ 0 w 753120"/>
                    <a:gd name="textAreaRight" fmla="*/ 753480 w 753120"/>
                    <a:gd name="textAreaTop" fmla="*/ 0 h 434160"/>
                    <a:gd name="textAreaBottom" fmla="*/ 434520 h 434160"/>
                  </a:gdLst>
                  <a:ahLst/>
                  <a:rect l="textAreaLeft" t="textAreaTop" r="textAreaRight" b="textAreaBottom"/>
                  <a:pathLst>
                    <a:path w="1100" h="570">
                      <a:moveTo>
                        <a:pt x="0" y="570"/>
                      </a:moveTo>
                      <a:lnTo>
                        <a:pt x="0" y="0"/>
                      </a:lnTo>
                      <a:lnTo>
                        <a:pt x="1100" y="4"/>
                      </a:lnTo>
                      <a:lnTo>
                        <a:pt x="1100" y="301"/>
                      </a:lnTo>
                      <a:lnTo>
                        <a:pt x="1100" y="493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24"/>
                <p:cNvSpPr/>
                <p:nvPr/>
              </p:nvSpPr>
              <p:spPr>
                <a:xfrm>
                  <a:off x="609480" y="2529000"/>
                  <a:ext cx="753120" cy="213840"/>
                </a:xfrm>
                <a:custGeom>
                  <a:avLst/>
                  <a:gdLst>
                    <a:gd name="textAreaLeft" fmla="*/ 0 w 753120"/>
                    <a:gd name="textAreaRight" fmla="*/ 753480 w 75312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580" h="160">
                      <a:moveTo>
                        <a:pt x="0" y="50"/>
                      </a:moveTo>
                      <a:lnTo>
                        <a:pt x="136" y="40"/>
                      </a:lnTo>
                      <a:lnTo>
                        <a:pt x="128" y="136"/>
                      </a:lnTo>
                      <a:lnTo>
                        <a:pt x="256" y="144"/>
                      </a:lnTo>
                      <a:lnTo>
                        <a:pt x="240" y="0"/>
                      </a:lnTo>
                      <a:lnTo>
                        <a:pt x="424" y="0"/>
                      </a:lnTo>
                      <a:lnTo>
                        <a:pt x="416" y="152"/>
                      </a:lnTo>
                      <a:lnTo>
                        <a:pt x="512" y="160"/>
                      </a:lnTo>
                      <a:lnTo>
                        <a:pt x="520" y="72"/>
                      </a:lnTo>
                      <a:lnTo>
                        <a:pt x="580" y="6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25"/>
                <p:cNvSpPr/>
                <p:nvPr/>
              </p:nvSpPr>
              <p:spPr>
                <a:xfrm>
                  <a:off x="1365480" y="2351520"/>
                  <a:ext cx="16488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26"/>
                <p:cNvGrpSpPr/>
                <p:nvPr/>
              </p:nvGrpSpPr>
              <p:grpSpPr>
                <a:xfrm>
                  <a:off x="1544400" y="2133720"/>
                  <a:ext cx="394920" cy="621360"/>
                  <a:chOff x="1544400" y="2133720"/>
                  <a:chExt cx="394920" cy="621360"/>
                </a:xfrm>
              </p:grpSpPr>
              <p:sp>
                <p:nvSpPr>
                  <p:cNvPr id="139" name="Freeform 27"/>
                  <p:cNvSpPr/>
                  <p:nvPr/>
                </p:nvSpPr>
                <p:spPr>
                  <a:xfrm>
                    <a:off x="1550520" y="2133720"/>
                    <a:ext cx="388800" cy="621360"/>
                  </a:xfrm>
                  <a:custGeom>
                    <a:avLst/>
                    <a:gdLst>
                      <a:gd name="textAreaLeft" fmla="*/ 0 w 388800"/>
                      <a:gd name="textAreaRight" fmla="*/ 389160 w 388800"/>
                      <a:gd name="textAreaTop" fmla="*/ 0 h 621360"/>
                      <a:gd name="textAreaBottom" fmla="*/ 621720 h 621360"/>
                    </a:gdLst>
                    <a:ahLst/>
                    <a:rect l="textAreaLeft" t="textAreaTop" r="textAreaRight" b="textAreaBottom"/>
                    <a:pathLst>
                      <a:path w="567" h="815">
                        <a:moveTo>
                          <a:pt x="0" y="0"/>
                        </a:moveTo>
                        <a:lnTo>
                          <a:pt x="0" y="815"/>
                        </a:lnTo>
                        <a:lnTo>
                          <a:pt x="393" y="792"/>
                        </a:lnTo>
                        <a:lnTo>
                          <a:pt x="567" y="600"/>
                        </a:lnTo>
                        <a:lnTo>
                          <a:pt x="432" y="110"/>
                        </a:lnTo>
                      </a:path>
                    </a:pathLst>
                  </a:custGeom>
                  <a:noFill/>
                  <a:ln w="41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28"/>
                  <p:cNvSpPr/>
                  <p:nvPr/>
                </p:nvSpPr>
                <p:spPr>
                  <a:xfrm>
                    <a:off x="1544400" y="2138760"/>
                    <a:ext cx="302400" cy="322200"/>
                  </a:xfrm>
                  <a:custGeom>
                    <a:avLst/>
                    <a:gdLst>
                      <a:gd name="textAreaLeft" fmla="*/ 0 w 302400"/>
                      <a:gd name="textAreaRight" fmla="*/ 302760 w 302400"/>
                      <a:gd name="textAreaTop" fmla="*/ 0 h 322200"/>
                      <a:gd name="textAreaBottom" fmla="*/ 322560 h 322200"/>
                    </a:gdLst>
                    <a:ahLst/>
                    <a:rect l="textAreaLeft" t="textAreaTop" r="textAreaRight" b="textAreaBottom"/>
                    <a:pathLst>
                      <a:path w="441" h="423">
                        <a:moveTo>
                          <a:pt x="0" y="0"/>
                        </a:moveTo>
                        <a:lnTo>
                          <a:pt x="95" y="178"/>
                        </a:lnTo>
                        <a:lnTo>
                          <a:pt x="108" y="402"/>
                        </a:lnTo>
                        <a:lnTo>
                          <a:pt x="180" y="423"/>
                        </a:lnTo>
                        <a:lnTo>
                          <a:pt x="191" y="189"/>
                        </a:lnTo>
                        <a:lnTo>
                          <a:pt x="300" y="190"/>
                        </a:lnTo>
                        <a:lnTo>
                          <a:pt x="328" y="402"/>
                        </a:lnTo>
                        <a:lnTo>
                          <a:pt x="362" y="392"/>
                        </a:lnTo>
                        <a:lnTo>
                          <a:pt x="359" y="199"/>
                        </a:lnTo>
                        <a:lnTo>
                          <a:pt x="441" y="100"/>
                        </a:lnTo>
                      </a:path>
                    </a:pathLst>
                  </a:custGeom>
                  <a:noFill/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" name="Line 29"/>
              <p:cNvSpPr/>
              <p:nvPr/>
            </p:nvSpPr>
            <p:spPr>
              <a:xfrm>
                <a:off x="1219320" y="3429000"/>
                <a:ext cx="0" cy="3808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30"/>
              <p:cNvGrpSpPr/>
              <p:nvPr/>
            </p:nvGrpSpPr>
            <p:grpSpPr>
              <a:xfrm>
                <a:off x="609480" y="4280040"/>
                <a:ext cx="1295640" cy="672480"/>
                <a:chOff x="609480" y="4280040"/>
                <a:chExt cx="1295640" cy="672480"/>
              </a:xfrm>
            </p:grpSpPr>
            <p:sp>
              <p:nvSpPr>
                <p:cNvPr id="143" name="Freeform 31"/>
                <p:cNvSpPr/>
                <p:nvPr/>
              </p:nvSpPr>
              <p:spPr>
                <a:xfrm>
                  <a:off x="609480" y="4286880"/>
                  <a:ext cx="1295640" cy="665640"/>
                </a:xfrm>
                <a:custGeom>
                  <a:avLst/>
                  <a:gdLst>
                    <a:gd name="textAreaLeft" fmla="*/ 0 w 1295640"/>
                    <a:gd name="textAreaRight" fmla="*/ 1296000 w 1295640"/>
                    <a:gd name="textAreaTop" fmla="*/ 0 h 665640"/>
                    <a:gd name="textAreaBottom" fmla="*/ 666000 h 665640"/>
                  </a:gdLst>
                  <a:ahLst/>
                  <a:rect l="textAreaLeft" t="textAreaTop" r="textAreaRight" b="textAreaBottom"/>
                  <a:pathLst>
                    <a:path w="1187" h="1431">
                      <a:moveTo>
                        <a:pt x="0" y="0"/>
                      </a:moveTo>
                      <a:lnTo>
                        <a:pt x="0" y="1431"/>
                      </a:lnTo>
                      <a:lnTo>
                        <a:pt x="1187" y="1431"/>
                      </a:lnTo>
                      <a:lnTo>
                        <a:pt x="1187" y="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32"/>
                <p:cNvSpPr/>
                <p:nvPr/>
              </p:nvSpPr>
              <p:spPr>
                <a:xfrm>
                  <a:off x="609480" y="4280040"/>
                  <a:ext cx="1295640" cy="149400"/>
                </a:xfrm>
                <a:custGeom>
                  <a:avLst/>
                  <a:gdLst>
                    <a:gd name="textAreaLeft" fmla="*/ 0 w 1295640"/>
                    <a:gd name="textAreaRight" fmla="*/ 1296000 w 129564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1920" h="192">
                      <a:moveTo>
                        <a:pt x="0" y="18"/>
                      </a:moveTo>
                      <a:lnTo>
                        <a:pt x="192" y="18"/>
                      </a:lnTo>
                      <a:lnTo>
                        <a:pt x="192" y="184"/>
                      </a:lnTo>
                      <a:lnTo>
                        <a:pt x="506" y="184"/>
                      </a:lnTo>
                      <a:lnTo>
                        <a:pt x="506" y="18"/>
                      </a:lnTo>
                      <a:lnTo>
                        <a:pt x="742" y="18"/>
                      </a:lnTo>
                      <a:lnTo>
                        <a:pt x="751" y="175"/>
                      </a:lnTo>
                      <a:lnTo>
                        <a:pt x="951" y="175"/>
                      </a:lnTo>
                      <a:lnTo>
                        <a:pt x="951" y="0"/>
                      </a:lnTo>
                      <a:lnTo>
                        <a:pt x="1283" y="0"/>
                      </a:lnTo>
                      <a:lnTo>
                        <a:pt x="1283" y="192"/>
                      </a:lnTo>
                      <a:lnTo>
                        <a:pt x="1763" y="192"/>
                      </a:lnTo>
                      <a:lnTo>
                        <a:pt x="1920" y="35"/>
                      </a:ln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33"/>
              <p:cNvGrpSpPr/>
              <p:nvPr/>
            </p:nvGrpSpPr>
            <p:grpSpPr>
              <a:xfrm>
                <a:off x="609480" y="3886200"/>
                <a:ext cx="711360" cy="507960"/>
                <a:chOff x="609480" y="3886200"/>
                <a:chExt cx="711360" cy="507960"/>
              </a:xfrm>
            </p:grpSpPr>
            <p:sp>
              <p:nvSpPr>
                <p:cNvPr id="146" name="Freeform 34"/>
                <p:cNvSpPr/>
                <p:nvPr/>
              </p:nvSpPr>
              <p:spPr>
                <a:xfrm>
                  <a:off x="609480" y="3886200"/>
                  <a:ext cx="711360" cy="3812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381240"/>
                    <a:gd name="textAreaBottom" fmla="*/ 381600 h 381240"/>
                  </a:gdLst>
                  <a:ahLst/>
                  <a:rect l="textAreaLeft" t="textAreaTop" r="textAreaRight" b="textAreaBottom"/>
                  <a:pathLst>
                    <a:path w="1100" h="570">
                      <a:moveTo>
                        <a:pt x="0" y="570"/>
                      </a:moveTo>
                      <a:lnTo>
                        <a:pt x="0" y="0"/>
                      </a:lnTo>
                      <a:lnTo>
                        <a:pt x="1100" y="4"/>
                      </a:lnTo>
                      <a:lnTo>
                        <a:pt x="1100" y="301"/>
                      </a:lnTo>
                      <a:lnTo>
                        <a:pt x="1100" y="493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35"/>
                <p:cNvSpPr/>
                <p:nvPr/>
              </p:nvSpPr>
              <p:spPr>
                <a:xfrm>
                  <a:off x="609480" y="4191120"/>
                  <a:ext cx="711360" cy="2030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448" h="128">
                      <a:moveTo>
                        <a:pt x="0" y="37"/>
                      </a:moveTo>
                      <a:lnTo>
                        <a:pt x="105" y="30"/>
                      </a:lnTo>
                      <a:lnTo>
                        <a:pt x="99" y="100"/>
                      </a:lnTo>
                      <a:lnTo>
                        <a:pt x="180" y="112"/>
                      </a:lnTo>
                      <a:lnTo>
                        <a:pt x="185" y="0"/>
                      </a:lnTo>
                      <a:lnTo>
                        <a:pt x="328" y="0"/>
                      </a:lnTo>
                      <a:lnTo>
                        <a:pt x="336" y="112"/>
                      </a:lnTo>
                      <a:lnTo>
                        <a:pt x="388" y="128"/>
                      </a:lnTo>
                      <a:lnTo>
                        <a:pt x="402" y="53"/>
                      </a:lnTo>
                      <a:lnTo>
                        <a:pt x="448" y="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36"/>
              <p:cNvGrpSpPr/>
              <p:nvPr/>
            </p:nvGrpSpPr>
            <p:grpSpPr>
              <a:xfrm>
                <a:off x="1523880" y="3809880"/>
                <a:ext cx="373320" cy="544680"/>
                <a:chOff x="1523880" y="3809880"/>
                <a:chExt cx="373320" cy="544680"/>
              </a:xfrm>
            </p:grpSpPr>
            <p:sp>
              <p:nvSpPr>
                <p:cNvPr id="149" name="Freeform 37"/>
                <p:cNvSpPr/>
                <p:nvPr/>
              </p:nvSpPr>
              <p:spPr>
                <a:xfrm>
                  <a:off x="1529640" y="3809880"/>
                  <a:ext cx="367560" cy="544680"/>
                </a:xfrm>
                <a:custGeom>
                  <a:avLst/>
                  <a:gdLst>
                    <a:gd name="textAreaLeft" fmla="*/ 0 w 367560"/>
                    <a:gd name="textAreaRight" fmla="*/ 367920 w 367560"/>
                    <a:gd name="textAreaTop" fmla="*/ 0 h 544680"/>
                    <a:gd name="textAreaBottom" fmla="*/ 545040 h 544680"/>
                  </a:gdLst>
                  <a:ahLst/>
                  <a:rect l="textAreaLeft" t="textAreaTop" r="textAreaRight" b="textAreaBottom"/>
                  <a:pathLst>
                    <a:path w="567" h="815">
                      <a:moveTo>
                        <a:pt x="0" y="0"/>
                      </a:moveTo>
                      <a:lnTo>
                        <a:pt x="0" y="815"/>
                      </a:lnTo>
                      <a:lnTo>
                        <a:pt x="393" y="792"/>
                      </a:lnTo>
                      <a:lnTo>
                        <a:pt x="567" y="600"/>
                      </a:lnTo>
                      <a:lnTo>
                        <a:pt x="432" y="11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38"/>
                <p:cNvSpPr/>
                <p:nvPr/>
              </p:nvSpPr>
              <p:spPr>
                <a:xfrm>
                  <a:off x="1523880" y="3814560"/>
                  <a:ext cx="285840" cy="282600"/>
                </a:xfrm>
                <a:custGeom>
                  <a:avLst/>
                  <a:gdLst>
                    <a:gd name="textAreaLeft" fmla="*/ 0 w 285840"/>
                    <a:gd name="textAreaRight" fmla="*/ 286200 w 28584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441" h="423">
                      <a:moveTo>
                        <a:pt x="0" y="0"/>
                      </a:moveTo>
                      <a:lnTo>
                        <a:pt x="95" y="178"/>
                      </a:lnTo>
                      <a:lnTo>
                        <a:pt x="108" y="402"/>
                      </a:lnTo>
                      <a:lnTo>
                        <a:pt x="180" y="423"/>
                      </a:lnTo>
                      <a:lnTo>
                        <a:pt x="191" y="189"/>
                      </a:lnTo>
                      <a:lnTo>
                        <a:pt x="300" y="190"/>
                      </a:lnTo>
                      <a:lnTo>
                        <a:pt x="328" y="402"/>
                      </a:lnTo>
                      <a:lnTo>
                        <a:pt x="362" y="392"/>
                      </a:lnTo>
                      <a:lnTo>
                        <a:pt x="359" y="199"/>
                      </a:lnTo>
                      <a:lnTo>
                        <a:pt x="441" y="100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Line 39"/>
              <p:cNvSpPr/>
              <p:nvPr/>
            </p:nvSpPr>
            <p:spPr>
              <a:xfrm>
                <a:off x="1219320" y="5105520"/>
                <a:ext cx="0" cy="3808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Group 40"/>
              <p:cNvGrpSpPr/>
              <p:nvPr/>
            </p:nvGrpSpPr>
            <p:grpSpPr>
              <a:xfrm>
                <a:off x="533520" y="6019920"/>
                <a:ext cx="1295280" cy="672480"/>
                <a:chOff x="533520" y="6019920"/>
                <a:chExt cx="1295280" cy="672480"/>
              </a:xfrm>
            </p:grpSpPr>
            <p:sp>
              <p:nvSpPr>
                <p:cNvPr id="153" name="Freeform 41"/>
                <p:cNvSpPr/>
                <p:nvPr/>
              </p:nvSpPr>
              <p:spPr>
                <a:xfrm>
                  <a:off x="533520" y="6026760"/>
                  <a:ext cx="1295280" cy="665640"/>
                </a:xfrm>
                <a:custGeom>
                  <a:avLst/>
                  <a:gdLst>
                    <a:gd name="textAreaLeft" fmla="*/ 0 w 1295280"/>
                    <a:gd name="textAreaRight" fmla="*/ 1295280 w 1295280"/>
                    <a:gd name="textAreaTop" fmla="*/ 0 h 665640"/>
                    <a:gd name="textAreaBottom" fmla="*/ 666000 h 665640"/>
                  </a:gdLst>
                  <a:ahLst/>
                  <a:rect l="textAreaLeft" t="textAreaTop" r="textAreaRight" b="textAreaBottom"/>
                  <a:pathLst>
                    <a:path w="1187" h="1431">
                      <a:moveTo>
                        <a:pt x="0" y="0"/>
                      </a:moveTo>
                      <a:lnTo>
                        <a:pt x="0" y="1431"/>
                      </a:lnTo>
                      <a:lnTo>
                        <a:pt x="1187" y="1431"/>
                      </a:lnTo>
                      <a:lnTo>
                        <a:pt x="1187" y="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42"/>
                <p:cNvSpPr/>
                <p:nvPr/>
              </p:nvSpPr>
              <p:spPr>
                <a:xfrm>
                  <a:off x="533520" y="6019920"/>
                  <a:ext cx="1295280" cy="149400"/>
                </a:xfrm>
                <a:custGeom>
                  <a:avLst/>
                  <a:gdLst>
                    <a:gd name="textAreaLeft" fmla="*/ 0 w 1295280"/>
                    <a:gd name="textAreaRight" fmla="*/ 1295640 w 129528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1920" h="192">
                      <a:moveTo>
                        <a:pt x="0" y="18"/>
                      </a:moveTo>
                      <a:lnTo>
                        <a:pt x="192" y="18"/>
                      </a:lnTo>
                      <a:lnTo>
                        <a:pt x="192" y="184"/>
                      </a:lnTo>
                      <a:lnTo>
                        <a:pt x="506" y="184"/>
                      </a:lnTo>
                      <a:lnTo>
                        <a:pt x="506" y="18"/>
                      </a:lnTo>
                      <a:lnTo>
                        <a:pt x="742" y="18"/>
                      </a:lnTo>
                      <a:lnTo>
                        <a:pt x="751" y="175"/>
                      </a:lnTo>
                      <a:lnTo>
                        <a:pt x="951" y="175"/>
                      </a:lnTo>
                      <a:lnTo>
                        <a:pt x="951" y="0"/>
                      </a:lnTo>
                      <a:lnTo>
                        <a:pt x="1283" y="0"/>
                      </a:lnTo>
                      <a:lnTo>
                        <a:pt x="1283" y="192"/>
                      </a:lnTo>
                      <a:lnTo>
                        <a:pt x="1763" y="192"/>
                      </a:lnTo>
                      <a:lnTo>
                        <a:pt x="1920" y="35"/>
                      </a:ln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43"/>
              <p:cNvGrpSpPr/>
              <p:nvPr/>
            </p:nvGrpSpPr>
            <p:grpSpPr>
              <a:xfrm>
                <a:off x="228600" y="5334120"/>
                <a:ext cx="711360" cy="507960"/>
                <a:chOff x="228600" y="5334120"/>
                <a:chExt cx="711360" cy="507960"/>
              </a:xfrm>
            </p:grpSpPr>
            <p:sp>
              <p:nvSpPr>
                <p:cNvPr id="156" name="Freeform 44"/>
                <p:cNvSpPr/>
                <p:nvPr/>
              </p:nvSpPr>
              <p:spPr>
                <a:xfrm>
                  <a:off x="228600" y="5334120"/>
                  <a:ext cx="711360" cy="3812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381240"/>
                    <a:gd name="textAreaBottom" fmla="*/ 381600 h 381240"/>
                  </a:gdLst>
                  <a:ahLst/>
                  <a:rect l="textAreaLeft" t="textAreaTop" r="textAreaRight" b="textAreaBottom"/>
                  <a:pathLst>
                    <a:path w="1100" h="570">
                      <a:moveTo>
                        <a:pt x="0" y="570"/>
                      </a:moveTo>
                      <a:lnTo>
                        <a:pt x="0" y="0"/>
                      </a:lnTo>
                      <a:lnTo>
                        <a:pt x="1100" y="4"/>
                      </a:lnTo>
                      <a:lnTo>
                        <a:pt x="1100" y="301"/>
                      </a:lnTo>
                      <a:lnTo>
                        <a:pt x="1100" y="493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45"/>
                <p:cNvSpPr/>
                <p:nvPr/>
              </p:nvSpPr>
              <p:spPr>
                <a:xfrm>
                  <a:off x="228600" y="5639040"/>
                  <a:ext cx="711360" cy="2030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448" h="128">
                      <a:moveTo>
                        <a:pt x="0" y="37"/>
                      </a:moveTo>
                      <a:lnTo>
                        <a:pt x="105" y="30"/>
                      </a:lnTo>
                      <a:lnTo>
                        <a:pt x="99" y="100"/>
                      </a:lnTo>
                      <a:lnTo>
                        <a:pt x="180" y="112"/>
                      </a:lnTo>
                      <a:lnTo>
                        <a:pt x="185" y="0"/>
                      </a:lnTo>
                      <a:lnTo>
                        <a:pt x="328" y="0"/>
                      </a:lnTo>
                      <a:lnTo>
                        <a:pt x="336" y="112"/>
                      </a:lnTo>
                      <a:lnTo>
                        <a:pt x="388" y="128"/>
                      </a:lnTo>
                      <a:lnTo>
                        <a:pt x="402" y="53"/>
                      </a:lnTo>
                      <a:lnTo>
                        <a:pt x="448" y="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46"/>
              <p:cNvGrpSpPr/>
              <p:nvPr/>
            </p:nvGrpSpPr>
            <p:grpSpPr>
              <a:xfrm>
                <a:off x="1752480" y="5257800"/>
                <a:ext cx="373320" cy="544680"/>
                <a:chOff x="1752480" y="5257800"/>
                <a:chExt cx="373320" cy="544680"/>
              </a:xfrm>
            </p:grpSpPr>
            <p:sp>
              <p:nvSpPr>
                <p:cNvPr id="159" name="Freeform 47"/>
                <p:cNvSpPr/>
                <p:nvPr/>
              </p:nvSpPr>
              <p:spPr>
                <a:xfrm>
                  <a:off x="1758240" y="5257800"/>
                  <a:ext cx="367560" cy="544680"/>
                </a:xfrm>
                <a:custGeom>
                  <a:avLst/>
                  <a:gdLst>
                    <a:gd name="textAreaLeft" fmla="*/ 0 w 367560"/>
                    <a:gd name="textAreaRight" fmla="*/ 367920 w 367560"/>
                    <a:gd name="textAreaTop" fmla="*/ 0 h 544680"/>
                    <a:gd name="textAreaBottom" fmla="*/ 545040 h 544680"/>
                  </a:gdLst>
                  <a:ahLst/>
                  <a:rect l="textAreaLeft" t="textAreaTop" r="textAreaRight" b="textAreaBottom"/>
                  <a:pathLst>
                    <a:path w="567" h="815">
                      <a:moveTo>
                        <a:pt x="0" y="0"/>
                      </a:moveTo>
                      <a:lnTo>
                        <a:pt x="0" y="815"/>
                      </a:lnTo>
                      <a:lnTo>
                        <a:pt x="393" y="792"/>
                      </a:lnTo>
                      <a:lnTo>
                        <a:pt x="567" y="600"/>
                      </a:lnTo>
                      <a:lnTo>
                        <a:pt x="432" y="11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48"/>
                <p:cNvSpPr/>
                <p:nvPr/>
              </p:nvSpPr>
              <p:spPr>
                <a:xfrm>
                  <a:off x="1752480" y="5262480"/>
                  <a:ext cx="285840" cy="282600"/>
                </a:xfrm>
                <a:custGeom>
                  <a:avLst/>
                  <a:gdLst>
                    <a:gd name="textAreaLeft" fmla="*/ 0 w 285840"/>
                    <a:gd name="textAreaRight" fmla="*/ 286200 w 28584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441" h="423">
                      <a:moveTo>
                        <a:pt x="0" y="0"/>
                      </a:moveTo>
                      <a:lnTo>
                        <a:pt x="95" y="178"/>
                      </a:lnTo>
                      <a:lnTo>
                        <a:pt x="108" y="402"/>
                      </a:lnTo>
                      <a:lnTo>
                        <a:pt x="180" y="423"/>
                      </a:lnTo>
                      <a:lnTo>
                        <a:pt x="191" y="189"/>
                      </a:lnTo>
                      <a:lnTo>
                        <a:pt x="300" y="190"/>
                      </a:lnTo>
                      <a:lnTo>
                        <a:pt x="328" y="402"/>
                      </a:lnTo>
                      <a:lnTo>
                        <a:pt x="362" y="392"/>
                      </a:lnTo>
                      <a:lnTo>
                        <a:pt x="359" y="199"/>
                      </a:lnTo>
                      <a:lnTo>
                        <a:pt x="441" y="100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49"/>
              <p:cNvSpPr/>
              <p:nvPr/>
            </p:nvSpPr>
            <p:spPr>
              <a:xfrm>
                <a:off x="380880" y="5334120"/>
                <a:ext cx="427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r>
                  <a:rPr b="1" lang="ru-RU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50"/>
              <p:cNvSpPr/>
              <p:nvPr/>
            </p:nvSpPr>
            <p:spPr>
              <a:xfrm>
                <a:off x="1752480" y="5486400"/>
                <a:ext cx="427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r>
                  <a:rPr b="1" lang="ru-RU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Line 51"/>
          <p:cNvSpPr/>
          <p:nvPr/>
        </p:nvSpPr>
        <p:spPr>
          <a:xfrm>
            <a:off x="3276720" y="1676520"/>
            <a:ext cx="0" cy="457200"/>
          </a:xfrm>
          <a:prstGeom prst="line">
            <a:avLst/>
          </a:prstGeom>
          <a:ln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2"/>
          <p:cNvSpPr/>
          <p:nvPr/>
        </p:nvSpPr>
        <p:spPr>
          <a:xfrm>
            <a:off x="2819520" y="838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+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3"/>
          <p:cNvSpPr/>
          <p:nvPr/>
        </p:nvSpPr>
        <p:spPr>
          <a:xfrm>
            <a:off x="29718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4"/>
          <p:cNvSpPr/>
          <p:nvPr/>
        </p:nvSpPr>
        <p:spPr>
          <a:xfrm>
            <a:off x="3200400" y="3352680"/>
            <a:ext cx="0" cy="457200"/>
          </a:xfrm>
          <a:prstGeom prst="line">
            <a:avLst/>
          </a:prstGeom>
          <a:ln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5"/>
          <p:cNvSpPr/>
          <p:nvPr/>
        </p:nvSpPr>
        <p:spPr>
          <a:xfrm>
            <a:off x="2971800" y="426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6"/>
          <p:cNvSpPr/>
          <p:nvPr/>
        </p:nvSpPr>
        <p:spPr>
          <a:xfrm>
            <a:off x="3200400" y="5029200"/>
            <a:ext cx="0" cy="457200"/>
          </a:xfrm>
          <a:prstGeom prst="line">
            <a:avLst/>
          </a:prstGeom>
          <a:ln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7"/>
          <p:cNvSpPr/>
          <p:nvPr/>
        </p:nvSpPr>
        <p:spPr>
          <a:xfrm>
            <a:off x="274320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8"/>
          <p:cNvSpPr/>
          <p:nvPr/>
        </p:nvSpPr>
        <p:spPr>
          <a:xfrm>
            <a:off x="4876920" y="7621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ближение и ориентация субстрата относительно актив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9"/>
          <p:cNvSpPr/>
          <p:nvPr/>
        </p:nvSpPr>
        <p:spPr>
          <a:xfrm>
            <a:off x="4876920" y="23623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ние фермент – субстратного комплек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0"/>
          <p:cNvSpPr/>
          <p:nvPr/>
        </p:nvSpPr>
        <p:spPr>
          <a:xfrm>
            <a:off x="4876920" y="41911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ние нестабильного комплекса фермент - проду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1"/>
          <p:cNvSpPr/>
          <p:nvPr/>
        </p:nvSpPr>
        <p:spPr>
          <a:xfrm>
            <a:off x="4876920" y="57913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пад комплекса с высвобождением продуктов реа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62"/>
          <p:cNvGrpSpPr/>
          <p:nvPr/>
        </p:nvGrpSpPr>
        <p:grpSpPr>
          <a:xfrm>
            <a:off x="3809880" y="685800"/>
            <a:ext cx="838080" cy="762120"/>
            <a:chOff x="3809880" y="685800"/>
            <a:chExt cx="838080" cy="762120"/>
          </a:xfrm>
        </p:grpSpPr>
        <p:sp>
          <p:nvSpPr>
            <p:cNvPr id="175" name="Oval 63"/>
            <p:cNvSpPr/>
            <p:nvPr/>
          </p:nvSpPr>
          <p:spPr>
            <a:xfrm>
              <a:off x="3809880" y="6858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4038480" y="838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5"/>
          <p:cNvGrpSpPr/>
          <p:nvPr/>
        </p:nvGrpSpPr>
        <p:grpSpPr>
          <a:xfrm>
            <a:off x="3809880" y="2286000"/>
            <a:ext cx="838080" cy="762120"/>
            <a:chOff x="3809880" y="2286000"/>
            <a:chExt cx="838080" cy="762120"/>
          </a:xfrm>
        </p:grpSpPr>
        <p:sp>
          <p:nvSpPr>
            <p:cNvPr id="178" name="Oval 66"/>
            <p:cNvSpPr/>
            <p:nvPr/>
          </p:nvSpPr>
          <p:spPr>
            <a:xfrm>
              <a:off x="3809880" y="22860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4038480" y="243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68"/>
          <p:cNvGrpSpPr/>
          <p:nvPr/>
        </p:nvGrpSpPr>
        <p:grpSpPr>
          <a:xfrm>
            <a:off x="3809880" y="4114800"/>
            <a:ext cx="838080" cy="762120"/>
            <a:chOff x="3809880" y="4114800"/>
            <a:chExt cx="838080" cy="762120"/>
          </a:xfrm>
        </p:grpSpPr>
        <p:sp>
          <p:nvSpPr>
            <p:cNvPr id="181" name="Oval 69"/>
            <p:cNvSpPr/>
            <p:nvPr/>
          </p:nvSpPr>
          <p:spPr>
            <a:xfrm>
              <a:off x="3809880" y="41148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0"/>
            <p:cNvSpPr/>
            <p:nvPr/>
          </p:nvSpPr>
          <p:spPr>
            <a:xfrm>
              <a:off x="4038480" y="4267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1"/>
          <p:cNvGrpSpPr/>
          <p:nvPr/>
        </p:nvGrpSpPr>
        <p:grpSpPr>
          <a:xfrm>
            <a:off x="3809880" y="5715000"/>
            <a:ext cx="838080" cy="762120"/>
            <a:chOff x="3809880" y="5715000"/>
            <a:chExt cx="838080" cy="762120"/>
          </a:xfrm>
        </p:grpSpPr>
        <p:sp>
          <p:nvSpPr>
            <p:cNvPr id="184" name="Oval 72"/>
            <p:cNvSpPr/>
            <p:nvPr/>
          </p:nvSpPr>
          <p:spPr>
            <a:xfrm>
              <a:off x="3809880" y="57150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73"/>
            <p:cNvSpPr/>
            <p:nvPr/>
          </p:nvSpPr>
          <p:spPr>
            <a:xfrm>
              <a:off x="4038480" y="5867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ификация ферментов, отличие ферментов от биологических катализатор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50920" y="1700280"/>
            <a:ext cx="85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рменты называются добавлением суффикса —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за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названию субстрата, на который данный фермент действует. Например, уреаза катализирует гидролиз мочевины; ферменты, гидролизующие крахмал (амилон), были названы амилазами; гидролизующис жиры (липос) — липазами; ферменты, гидролизующис белки (протеины) — протеиназам 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50920" y="327888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спользуются названия для групп ферме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тализирующих сходные по механизму реакции. Их название строится по принципу — «субстрат-тип реакции». Например, ферменты, которые переносят остаток фосфорной кислоты от АТФ на другую молекулу, называются киназами (глюкокиназа катализирует перенос фосфорильного остатка от АТФ на глюкоз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ривиальные наз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показывают механизма действия, но они широко используются. Например, пепсин, трипсин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еждународный Совет Биохим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U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редложил систематическое название и классификацию ферментов по типу и механизму катализируемой реа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rcRect l="3180" t="3339" r="3119" b="2756"/>
          <a:stretch/>
        </p:blipFill>
        <p:spPr>
          <a:xfrm rot="21540000">
            <a:off x="1906200" y="1698120"/>
            <a:ext cx="4683240" cy="431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1258920" y="6021360"/>
          <a:ext cx="6481800" cy="60480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мость скорости реакции от концентрации фермен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1" descr=""/>
          <p:cNvPicPr/>
          <p:nvPr/>
        </p:nvPicPr>
        <p:blipFill>
          <a:blip r:embed="rId1"/>
          <a:srcRect l="3695" t="9417" r="48418" b="5008"/>
          <a:stretch/>
        </p:blipFill>
        <p:spPr>
          <a:xfrm>
            <a:off x="2050920" y="1698480"/>
            <a:ext cx="4819680" cy="40356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2"/>
          <p:cNvSpPr/>
          <p:nvPr/>
        </p:nvSpPr>
        <p:spPr>
          <a:xfrm>
            <a:off x="1127880" y="5804640"/>
            <a:ext cx="69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исимость скорости реакции от концентрации субст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 Л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 flipV="1" rot="10800000">
            <a:off x="682560" y="1847520"/>
            <a:ext cx="8067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едмет и задачи биохим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Строение и свойства бел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Функциональное многообразие бел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Классификация белков по биологическим функц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Строение фер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Классификация ферментов, отличие ферментов от биологических катализат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Зависимость скорости ферментативной реакции от температуры, рН среды, концентрации фермента и субстр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Активаторы и ингибиторы ферментативных реакций. Применение ферментов в медиц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539640" y="15638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а концентрации субстрата 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|, при которой половина мест связывания в активном центре фермента заполнена субстратом. Ил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енно равна концентрации субстрата 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которой скорость реакции равна половине максима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ряда ферментов установлено, что велич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зка к концентрации субстра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viv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11280" y="3498840"/>
            <a:ext cx="80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ответству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нстанте диссоциации фермент-субстратного комплекс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если к1&lt; к2. В этих условия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зует прочн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мплекса (аффинность, сродство субстрата к ферменту): высокое знач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идетельствует о слабом связывании субстрата с активным центром фермента, низкое знач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ет на сильное связывание (высокое сродство субстрата к ферменту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238040" y="5869800"/>
            <a:ext cx="66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исимость скорости реакции от рН (А) и температуры (Б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"/>
          <p:cNvPicPr/>
          <p:nvPr/>
        </p:nvPicPr>
        <p:blipFill>
          <a:blip r:embed="rId1"/>
          <a:srcRect l="2833" t="4230" r="4250" b="1861"/>
          <a:stretch/>
        </p:blipFill>
        <p:spPr>
          <a:xfrm>
            <a:off x="361800" y="1849320"/>
            <a:ext cx="8240760" cy="366732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539640" y="1989360"/>
            <a:ext cx="810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нзимодиагно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сследование ферментов в биологических средах организма с диагностической це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льные уровни активности ферментов в сыворотке крови отражают соотношение между биосинтезом и высвобождением ферментов (при обычном обновлении клеток), а также их клиренсом из кровотока. Повышение скорости обновления ферментов, повреждения клеток или индуцирование синтеза обычно приводят к повышению активности ферментов в сыворотке крови. В сыворотке крови выделяют три группы ферментов: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клеточные, секреторные и экскреторны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250920" y="622800"/>
            <a:ext cx="85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леточны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ависимости от локализации в тканях делят на несколько груп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еспецифические 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е катализируют общие для всех тканей реакции обменов белков, углеводов, липидов и находятся в большинстве органов и тканей. При повреждении мембран клеток и гистогематических барьеров эти ферменты появляются в крови или повышается их количество. Определение повышенного количества этих ферментов в крови не позволяет локализовать патологический проце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рганоспецифические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индикаторные, ферменты, специфичные только для определенного типа тканей. Как правило, эти ферменты катализируют реакции, обеспечивающие специфические функции органа. В клетках других органов этих ферментов нет или находят следы. Выход органоспецифических ферментов в кровь сигнализирует о поражении определен¬ного орг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зо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группа или семейство ферментов с четвертичной структурой, которые катализируют одну и ту же реакцию, но отличаются по строению (т. е. первичной структуре) субъединиц и физико-химическим свойствам. Например, фермент лактатдегидроген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ерменты, локализованные в органеллах кле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кислительно-восстановительные в митохондриях; кислые гидролазы в лизосома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), выходя в кровь, сигнализируют о глубоком поражении кле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4000" y="1773360"/>
            <a:ext cx="8618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Секреторны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севдохолинэстераза) поступают непосредственно в кровь и выполняют в ней специфические функции. Эти ферменты синтезируются в печени и постоянно высвобождаются в кр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активность в сыворотке крови выше, чем в клетках или тканя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арушении функции печени их активность в сыворотке крови становится ниже н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11280" y="1844640"/>
            <a:ext cx="819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Экскреторны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разуются органами пищеварительной системы (поджелудочной железой, слизистой оболочкой кишечника, печенью, эндотелием желчных путей). К ним относятся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милаза, щелочная фосфатаза. В норме их активность в сыворотке крови низкая и постоянная. Однако при патологии, когда блокирован любой из обычных путей экскреции, активность этих ферментов в сыворотке крови значительно увеличива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611280" y="1614240"/>
            <a:ext cx="8094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ледственные энзимопа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яд пороков обмена веществ является результатом наследственного дефицита определенных ферментов. В этом случае диагноз ставится, главным образом, на основе исследования показателей обмена этих ферментативных реакций (биохимический диагноз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9720360" y="2878200"/>
            <a:ext cx="0" cy="288720"/>
          </a:xfrm>
          <a:prstGeom prst="line">
            <a:avLst/>
          </a:prstGeom>
          <a:ln w="4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684360" y="1579680"/>
            <a:ext cx="799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нзимотерап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спользование ферментов и метаболитов в качестве лечебных средст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замести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рапия ферментами используется при болезнях желудочно-кишечного факта (пепсин, трипсин, химотрипсин, амилаза, лип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для очистки ра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здействия на избыточно разрастающуюся соединительную ткань применяют гиалуронидазу, трипсин, химотрипс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ли применение 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регулят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активаторы и ингибиторы) ферментов. Например, ингибиторы моноаминооксидазы используют при нервных и психических заболеваниях; тканевые ингибиторы протеиназ эффективны при лечении панкреатита, эмфиземы легких, инфаркте миокар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324000" y="2199240"/>
            <a:ext cx="84960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ерменты как аналитические реаг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око применяются в практике лабораторных исследований при определении субстратов, нуклеотидов и пр. В настоящее время выпускается ряд набор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пределения глюкозы, этанола, молочной кислоты, АТФ и п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цип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исследуемом материале содержится неизвестное количество субстрата. Чтобы определить его количество, вводят фермент, катализирующий превращение только этого субстрата, создают оптимальные условия реакции (рН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) и регистрируют скорость реакции (по образованию продукта или изменению кофермента). Затем определяют концентрацию искомого субстрата по скорости реакции, используя калибровочный граф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755640" y="112536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ческая  химия  - это  наука  о молекулярных  основах  жизни,  которая  изучает  химический состав и химические  процессы,  лежащие  в основе  жизнедеятельности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84360" y="1787760"/>
            <a:ext cx="7775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ческая химия изуч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ческую природу веществ, входящих в состав живых организ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превращ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 этих превращений с деятельностью клеток, тканей, органов и организма в ц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биохим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ить, как функционируют живые системы с точки зрения молекулярных процессов в состоянии «здоровья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ить молекулярные процессы, лежащие в основе заболеваний и их эффективного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зависимости от объекта исследов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39640" y="162324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биохимии: 1) объяснить, как функционируют живые системы с точки зрения молекулярных процессов в состоянии «здоровья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объяснить молекулярные процессы, лежащие в основе заболеваний и их эффективного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Основные разделы и направления в био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95280" y="198612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яют разделы биохимии по направлениям исследований: техническая биохимия (молекулярные основы хлебопечения, сыроварения, виноделия и пр.); медицинская биохимия (биохимические процессы в организме человека в норме и при патологии), эволюционная биохимия (эволюция обмена веществ в рамках эволюции живых организмов); квантовая биохимия (квантово-физические характеристики метаболитов и их превращений в живом организме); энзимология.(структура, свойства и механизм действия ферментов)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196848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яют три основных разде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татическая био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зучает химическую природу орга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инамическая био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зучает превращения химических веществ в организме (метаболиз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ункциональная био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ет роль превращений химических веществ в проявлении функций клеток, тканей. органов,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яют несколько направлений (частная биохимия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биохимию систем органов (нервной, гепатобилпарной, сердечно-сосудистой, эндокринной и др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биохимию основных процессов (движения, пищеварения, размножения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рикладную биохимию (клиническая биохимия, биохимическая лабораторная диагностика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539640" y="1844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елки являются основными биополимерами клеток, за счет которых осуществляются практически все функции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95280" y="278136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и являются линейными неразветвленными полимерами построенными из аминокислот. Информация о структуре белка закодирована в ДНК. Все живые организмы используют 20 идентичных аминокислот и, за некоторым исключением, имеют одинаковый генетический 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755640" y="1782720"/>
            <a:ext cx="79646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уктурные функц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ми структурными белками являю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ллаген, эласти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ормируют костный матрикс, сосудистую систему и другие органы) 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-керати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исутствует в эпидермальной тка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намические функц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функции реализую разнообразные белки: ферменты, гормоны, факторы свертывания крови, иммуноглобулины, мембранные рецепторы, резервные белки, сократительные белки, дыхательные белки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504720" y="1581480"/>
            <a:ext cx="863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ают несколько принципов классификации белк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) по функ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) по химической структуре и растворим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) по биологической (пищевой) цен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07:50:01Z</dcterms:created>
  <dc:creator>KozochkinDA</dc:creator>
  <dc:description/>
  <dc:language>en-US</dc:language>
  <cp:lastModifiedBy>LEGION</cp:lastModifiedBy>
  <dcterms:modified xsi:type="dcterms:W3CDTF">2015-05-01T12:04:22Z</dcterms:modified>
  <cp:revision>11</cp:revision>
  <dc:subject/>
  <dc:title>Вводная лекция</dc:title>
</cp:coreProperties>
</file>