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6.gif" ContentType="image/gif"/>
  <Override PartName="/ppt/media/image8.wmf" ContentType="image/x-wmf"/>
  <Override PartName="/ppt/media/image17.gif" ContentType="image/gif"/>
  <Override PartName="/ppt/media/image1.gif" ContentType="image/gif"/>
  <Override PartName="/ppt/media/image2.gif" ContentType="image/gif"/>
  <Override PartName="/ppt/media/image10.wmf" ContentType="image/x-wmf"/>
  <Override PartName="/ppt/media/image11.png" ContentType="image/png"/>
  <Override PartName="/ppt/media/image14.wmf" ContentType="image/x-wmf"/>
  <Override PartName="/ppt/media/image3.gif" ContentType="image/gif"/>
  <Override PartName="/ppt/media/image15.wmf" ContentType="image/x-wmf"/>
  <Override PartName="/ppt/media/image4.gif" ContentType="image/gif"/>
  <Override PartName="/ppt/media/image12.png" ContentType="image/png"/>
  <Override PartName="/ppt/media/image7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7FE1-486F-47D4-87F9-874F0BD22E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 </a:t>
            </a:r>
            <a:br>
              <a:rPr sz="1200"/>
            </a:b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г</a:t>
            </a:r>
            <a:r>
              <a:rPr b="0" i="1" lang="ru-RU" sz="12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1200" spc="-1" strike="noStrike">
                <a:solidFill>
                  <a:srgbClr val="83bcc1"/>
                </a:solidFill>
                <a:latin typeface="Calibri"/>
              </a:rPr>
              <a:t>нетическая связь</a:t>
            </a:r>
            <a:r>
              <a:rPr b="0" lang="ru-RU" sz="1200" spc="-1" strike="noStrike">
                <a:solidFill>
                  <a:srgbClr val="83bcc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классами органических 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ы опытно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кспериментальной работы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темова О.Г., Стесякова М.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F184-DBAE-4DF5-9B66-9AF82DBCF5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BCDD-2075-49CE-816F-F10A294428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D83A-C0DD-4296-9605-AF93B6C52C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6A36-AE3D-40CB-9C85-89C00D6175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ы - связи между классами не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C50E-05B6-4D82-877D-0A470AB077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 предложенных веществ составьте как минимум 2 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их ряд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FB49-5FE1-4368-BAAB-920F5DB8F3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AC40-EB61-4E6F-9EDE-8AB5A6F763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12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A025-BB4F-4C54-A93F-162B7B64A8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, используя условия ре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BBF2-D7DC-4346-A4BE-322CCFB8B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уществить превращения по следующей схеме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6FF8-17D4-49FF-A250-93CDBFB159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ическ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04D4-5E97-4D64-8608-2849ED4192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8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8CF3-29F4-41F5-8CB3-7325B7A9F5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диагностики в конце года (10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E579-A0BB-43D7-B70D-F0AE13893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лись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и особенности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ли диагностику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и схемы-связи меж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ами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406-0C3A-4511-BB60-F06AA82B08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арев Б. Н. Любознательным об органической химии.— М.: Химия,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ие по химии для поступающих в вузы./ Хомченко Г.П. Новая волна,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ткрытые уроки хим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гибнева Е.П., Скачков А.В. «Феникс» Ростов-на-Дону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, справочные материалы, под ред. Третьякова Ю.Д., М., Просвещение, 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дин А.М., Сучков В.Н., Коростелин Ю.А.,  «Химия для вас» - М. 198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B3A7-BC9D-42F4-A148-CC50DB7D74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0308-B310-4E5E-B2C9-21A9B533AA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DBD1-6413-4292-BAF7-5E8EC728A4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отиворечия между необходимостью использования понятия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ем полученных знан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стью разработки методического обеспеч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системы в формировании понят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методических рекомендаций по особенностям освоения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7AF6-0568-42E0-BF1E-AFA28893AD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пределиться с особенностями освоения учащимися понятия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B571-7F99-4EC6-A56E-821BB7B000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собенностей освоения поняти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59C-73BA-4ACF-9770-82CD31DBE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иться с опытом известных учителей России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собенности освоения понятия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нетическая связ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классами неорганических и органических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диагностику учащихся по сформированности пон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схемы-связи между классами для освоения понятия генетическая связ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8A61-5C5A-4724-A5BB-6F3972215B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освоен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е осв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хем – связей в процессе изучения классов соед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ноуровне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возможностей Ц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формы взаимодействия учащихся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6105-EB4B-4945-933E-8ABFB4C34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иагностического тест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8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3833-0E3A-4E17-89FD-5D74FDB180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71E-A2C2-47A0-8A4E-A50082A2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380-32AC-4EF0-AA39-9527E673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56B-0D7A-4098-85D9-BE484EAA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25F-9584-4DAA-8087-B739BED3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5A35-BBFE-4C45-BB99-58120580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63E5-C76F-4CF9-9CDF-8845D334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49F0-C4A8-4219-A7B1-70B31622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A88B-D8D3-4739-8E63-89277EC3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22D2-01B7-4628-A674-294F5E64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3C7C-B578-4B0B-AEF3-44ACEFA3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56AD-8D82-45F2-AFC4-A39D00A7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FFE-5F4C-4F5D-9B14-7DDA911A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984D-0F15-408A-991A-8EA39E1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EA10-2CE8-4633-9260-5854B5DB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91A5-18D5-4B77-A3AE-410621B7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B4E8-42F0-4978-B9AF-D18A847F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F43-D18D-449D-BC3D-DB9C6271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B7582-274E-4B2B-A2C9-631691E8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00B76-287F-4839-A040-4D3DE961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C65DF-0B19-454C-9AA2-5F07714A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59D1E-5F46-4D1B-BCAA-12E20C06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B8401-F60A-47FD-AFD8-BD9E52C5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CB36-4632-4358-9192-115AC2D8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E12D9-3512-431E-99C1-D389ADCC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B0D05-05D9-431C-B37E-137EB2AA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9085F-74F9-403A-A2A1-E5CE011E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F7008-68ED-4AE7-9F27-3785C07E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ADE54-CB58-4A39-820A-FF7582FA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86867-1D65-49DB-B7F3-F0C2377B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CD6D8-D513-482D-BD2E-845D38CA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5462E-E2A8-4FEF-81D0-3F9FF174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8FC9-34A2-409C-911E-C3263E48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842D2-A64D-4FA6-B024-304E5A9F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7AD8-9A3E-4AB4-9027-2DD0C806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1B70E-6DAE-42FC-904A-8DCBDEF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AD91-74A6-422F-A171-2E5B6805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7C89F-58F1-498B-87E7-CE8067A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645F-7C09-4FA7-BE71-3C13BCCA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6F2C-4C26-4EAE-8D6A-4F50C34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88FE2-9FDA-4887-ACD6-C5606A7F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A014-589E-4FA1-AB9A-0673F14B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870C-C4DA-45B9-BCAF-A2A6602B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072E-1596-45E2-9B12-BACDE71B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96647-8FB2-42B7-8F94-33B41FB8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19E-3727-4C83-9E5E-083A215F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B13E5-4DFD-41A3-A97F-6591B788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AEA92-075D-4BA6-AEB2-19D3BDE6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2BDAE-E5B9-4623-9856-C17DEC9D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F882C-9B15-4BB2-830F-BE4F0220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D1155-2620-4379-828E-75F2A9FE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DF269-8DE7-463D-8718-E971EBD3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A680D-ADBE-4A9F-801A-B1E65EF8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05145-0008-4D0E-8AC3-2E696F47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27366-8F50-4736-AA1D-83E72374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A8AA4-2F86-431A-85F2-5E9DF4C7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E69-27F8-4A3C-A26A-B8E51894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6C0F4-96B5-43E3-8309-0EE57640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735A0-6F6F-4434-B981-55EDCEEB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D31E0-5CFC-4809-A94C-248176FA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2964C-1CCD-4EAB-9466-3DBB2A41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51E76-C6BA-4FBF-964F-ED5FDA26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0DDF5-8AAB-4C23-B264-610F762C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A5EAB-75B6-4B33-8DD4-7BE4CB26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1120D-0529-453D-A5EF-04B45667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34DB0-9ED3-427F-BF63-F47F129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EA2E8-3010-4CA9-A633-12E701D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95A-1327-4E30-ACED-3DFDE56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F95CD-CBDB-4DEC-92B4-370B8DB5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FDD1E3-A9B5-4A27-83C4-588AC6C5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605B5-67F1-448C-86AA-E15330EF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A02-C1FC-4DC5-96A9-D4413005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2B1-7DC5-4406-A1C6-4D47684F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2681-A446-410F-AE7E-9D8AE45E30DD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08E7-7407-492E-8961-93541D4B4A0E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8294-8293-4E9A-B5ED-E04E32FC88D6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4564-A7D2-4D80-BF62-A7C50E441AF8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A068-4883-4C5E-86B7-99C649EA3BFA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Times New Roman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1711-065C-46F2-88E4-964B0C5902A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984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Особенности освоения понятия </a:t>
            </a:r>
            <a:br>
              <a:rPr sz="4000"/>
            </a:b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г</a:t>
            </a:r>
            <a:r>
              <a:rPr b="0" i="1" lang="ru-RU" sz="4000" spc="-1" strike="noStrike">
                <a:solidFill>
                  <a:srgbClr val="83bcc1"/>
                </a:solidFill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83bcc1"/>
                </a:solidFill>
                <a:latin typeface="Trebuchet MS"/>
              </a:rPr>
              <a:t>нетическая связь</a:t>
            </a:r>
            <a:r>
              <a:rPr b="0" lang="ru-RU" sz="4000" spc="-1" strike="noStrike">
                <a:solidFill>
                  <a:srgbClr val="83bcc1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между классами органических и неорганических вещест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779640" y="4413240"/>
            <a:ext cx="532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вторы опытно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экспериментальной работы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: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Артемова О.Г., Стесякова М.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MM900356765"/>
          <p:cNvPicPr/>
          <p:nvPr/>
        </p:nvPicPr>
        <p:blipFill>
          <a:blip r:embed="rId1"/>
          <a:stretch/>
        </p:blipFill>
        <p:spPr>
          <a:xfrm>
            <a:off x="826920" y="42195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10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ей дегидрирования можно осуществить генетическую связь между классами углеводор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ходиться в одном генетическом ряд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тан, бутадиен, бензо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одной реакцией получить пропан из проп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    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9"/>
          <p:cNvSpPr/>
          <p:nvPr/>
        </p:nvSpPr>
        <p:spPr>
          <a:xfrm>
            <a:off x="262728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0"/>
          <p:cNvSpPr/>
          <p:nvPr/>
        </p:nvSpPr>
        <p:spPr>
          <a:xfrm>
            <a:off x="399564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4" name="Object 7"/>
          <p:cNvGraphicFramePr/>
          <p:nvPr/>
        </p:nvGraphicFramePr>
        <p:xfrm>
          <a:off x="779400" y="914400"/>
          <a:ext cx="78375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914400"/>
                    <a:ext cx="78375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5446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355680" y="914400"/>
          <a:ext cx="854712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914400"/>
                    <a:ext cx="854712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неорганических веществ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82" name="Group 23"/>
          <p:cNvGrpSpPr/>
          <p:nvPr/>
        </p:nvGrpSpPr>
        <p:grpSpPr>
          <a:xfrm>
            <a:off x="684360" y="1843200"/>
            <a:ext cx="7990920" cy="865080"/>
            <a:chOff x="684360" y="1843200"/>
            <a:chExt cx="7990920" cy="865080"/>
          </a:xfrm>
        </p:grpSpPr>
        <p:sp>
          <p:nvSpPr>
            <p:cNvPr id="383" name="Rectangle 24"/>
            <p:cNvSpPr/>
            <p:nvPr/>
          </p:nvSpPr>
          <p:spPr>
            <a:xfrm>
              <a:off x="68436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неметалл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5"/>
            <p:cNvSpPr/>
            <p:nvPr/>
          </p:nvSpPr>
          <p:spPr>
            <a:xfrm>
              <a:off x="28198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26"/>
            <p:cNvSpPr/>
            <p:nvPr/>
          </p:nvSpPr>
          <p:spPr>
            <a:xfrm>
              <a:off x="495540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ИДРОКСИ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7"/>
            <p:cNvSpPr/>
            <p:nvPr/>
          </p:nvSpPr>
          <p:spPr>
            <a:xfrm>
              <a:off x="7091280" y="1843200"/>
              <a:ext cx="1584000" cy="865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226836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404240" y="2241720"/>
              <a:ext cx="55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6541560" y="2241720"/>
              <a:ext cx="5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22" descr=""/>
          <p:cNvPicPr/>
          <p:nvPr/>
        </p:nvPicPr>
        <p:blipFill>
          <a:blip r:embed="rId1"/>
          <a:srcRect l="3030" t="14516" r="8234" b="4957"/>
          <a:stretch/>
        </p:blipFill>
        <p:spPr>
          <a:xfrm>
            <a:off x="2771640" y="2925720"/>
            <a:ext cx="3719520" cy="3672000"/>
          </a:xfrm>
          <a:prstGeom prst="rect">
            <a:avLst/>
          </a:prstGeom>
          <a:ln w="0">
            <a:noFill/>
          </a:ln>
        </p:spPr>
      </p:pic>
      <p:sp>
        <p:nvSpPr>
          <p:cNvPr id="39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1"/>
          <p:cNvGrpSpPr/>
          <p:nvPr/>
        </p:nvGrpSpPr>
        <p:grpSpPr>
          <a:xfrm>
            <a:off x="684360" y="1990800"/>
            <a:ext cx="7703640" cy="574560"/>
            <a:chOff x="684360" y="1990800"/>
            <a:chExt cx="7703640" cy="574560"/>
          </a:xfrm>
        </p:grpSpPr>
        <p:sp>
          <p:nvSpPr>
            <p:cNvPr id="393" name="Rectangle 10"/>
            <p:cNvSpPr/>
            <p:nvPr/>
          </p:nvSpPr>
          <p:spPr>
            <a:xfrm>
              <a:off x="68436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5"/>
            <p:cNvSpPr/>
            <p:nvPr/>
          </p:nvSpPr>
          <p:spPr>
            <a:xfrm>
              <a:off x="274320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480204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Л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7"/>
            <p:cNvSpPr/>
            <p:nvPr/>
          </p:nvSpPr>
          <p:spPr>
            <a:xfrm>
              <a:off x="6860880" y="1990800"/>
              <a:ext cx="1527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РЕ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221148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4270320" y="2255400"/>
              <a:ext cx="53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6330960" y="22554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2"/>
          <p:cNvSpPr/>
          <p:nvPr/>
        </p:nvSpPr>
        <p:spPr>
          <a:xfrm>
            <a:off x="324000" y="6922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Схемы - связи между классами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4" descr=""/>
          <p:cNvPicPr/>
          <p:nvPr/>
        </p:nvPicPr>
        <p:blipFill>
          <a:blip r:embed="rId1"/>
          <a:srcRect l="0" t="3360" r="2614" b="2954"/>
          <a:stretch/>
        </p:blipFill>
        <p:spPr>
          <a:xfrm>
            <a:off x="2050920" y="2924280"/>
            <a:ext cx="5329440" cy="367344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Из предложенных веществ составьте как минимум 2 г</a:t>
            </a:r>
            <a:r>
              <a:rPr b="1" lang="ru-RU" sz="32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нетических ряд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79280" y="2062080"/>
            <a:ext cx="82090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Н=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835280" y="4292640"/>
            <a:ext cx="815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OH, 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111600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Рисунок 2" descr="J0076135"/>
          <p:cNvPicPr/>
          <p:nvPr/>
        </p:nvPicPr>
        <p:blipFill>
          <a:blip r:embed="rId1"/>
          <a:stretch/>
        </p:blipFill>
        <p:spPr>
          <a:xfrm>
            <a:off x="539640" y="4581360"/>
            <a:ext cx="2571840" cy="184788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. Под клетками с формулами подпиши названия классов веществ. Напиши соответствующие этим схемам уравнения химических реакций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410" name="Group 59"/>
          <p:cNvGrpSpPr/>
          <p:nvPr/>
        </p:nvGrpSpPr>
        <p:grpSpPr>
          <a:xfrm>
            <a:off x="400320" y="2313720"/>
            <a:ext cx="8203680" cy="3636000"/>
            <a:chOff x="400320" y="2313720"/>
            <a:chExt cx="8203680" cy="3636000"/>
          </a:xfrm>
        </p:grpSpPr>
        <p:sp>
          <p:nvSpPr>
            <p:cNvPr id="411" name="Text Box 38"/>
            <p:cNvSpPr/>
            <p:nvPr/>
          </p:nvSpPr>
          <p:spPr>
            <a:xfrm>
              <a:off x="626040" y="2773440"/>
              <a:ext cx="137628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34"/>
            <p:cNvSpPr/>
            <p:nvPr/>
          </p:nvSpPr>
          <p:spPr>
            <a:xfrm>
              <a:off x="22766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7"/>
            <p:cNvSpPr/>
            <p:nvPr/>
          </p:nvSpPr>
          <p:spPr>
            <a:xfrm>
              <a:off x="392724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577840" y="2760480"/>
              <a:ext cx="137592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36"/>
            <p:cNvSpPr/>
            <p:nvPr/>
          </p:nvSpPr>
          <p:spPr>
            <a:xfrm>
              <a:off x="7227720" y="2760480"/>
              <a:ext cx="1376280" cy="576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8"/>
            <p:cNvSpPr/>
            <p:nvPr/>
          </p:nvSpPr>
          <p:spPr>
            <a:xfrm>
              <a:off x="626040" y="3754080"/>
              <a:ext cx="1376280" cy="574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6260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626040" y="53730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9"/>
            <p:cNvSpPr/>
            <p:nvPr/>
          </p:nvSpPr>
          <p:spPr>
            <a:xfrm>
              <a:off x="227664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8"/>
            <p:cNvSpPr/>
            <p:nvPr/>
          </p:nvSpPr>
          <p:spPr>
            <a:xfrm>
              <a:off x="22766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22766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3"/>
            <p:cNvSpPr/>
            <p:nvPr/>
          </p:nvSpPr>
          <p:spPr>
            <a:xfrm>
              <a:off x="3927240" y="3743280"/>
              <a:ext cx="1376280" cy="576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й окси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2"/>
            <p:cNvSpPr/>
            <p:nvPr/>
          </p:nvSpPr>
          <p:spPr>
            <a:xfrm>
              <a:off x="392724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927240" y="5360400"/>
              <a:ext cx="137628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(N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77840" y="3738960"/>
              <a:ext cx="137592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7227720" y="3738960"/>
              <a:ext cx="1376280" cy="5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5577840" y="4543920"/>
              <a:ext cx="137592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7227720" y="4543920"/>
              <a:ext cx="1376280" cy="576720"/>
            </a:xfrm>
            <a:prstGeom prst="rect">
              <a:avLst/>
            </a:prstGeom>
            <a:solidFill>
              <a:srgbClr val="67af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5577840" y="5360400"/>
              <a:ext cx="3026160" cy="576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PO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9"/>
            <p:cNvSpPr/>
            <p:nvPr/>
          </p:nvSpPr>
          <p:spPr>
            <a:xfrm>
              <a:off x="131364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>
              <a:off x="131364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>
              <a:off x="131364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30"/>
            <p:cNvSpPr/>
            <p:nvPr/>
          </p:nvSpPr>
          <p:spPr>
            <a:xfrm>
              <a:off x="29638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"/>
            <p:cNvSpPr/>
            <p:nvPr/>
          </p:nvSpPr>
          <p:spPr>
            <a:xfrm>
              <a:off x="29638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"/>
            <p:cNvSpPr/>
            <p:nvPr/>
          </p:nvSpPr>
          <p:spPr>
            <a:xfrm>
              <a:off x="29638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461628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"/>
            <p:cNvSpPr/>
            <p:nvPr/>
          </p:nvSpPr>
          <p:spPr>
            <a:xfrm>
              <a:off x="461628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>
              <a:off x="461628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62665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33"/>
            <p:cNvSpPr/>
            <p:nvPr/>
          </p:nvSpPr>
          <p:spPr>
            <a:xfrm>
              <a:off x="7917120" y="33951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62665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917120" y="42858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62665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7917120" y="51015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400320" y="2313720"/>
              <a:ext cx="715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1)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2)                              3)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4)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dobe Song Std L"/>
                </a:rPr>
                <a:t>5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Rectangle 40"/>
          <p:cNvSpPr/>
          <p:nvPr/>
        </p:nvSpPr>
        <p:spPr>
          <a:xfrm>
            <a:off x="1800" y="25444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1"/>
          <p:cNvSpPr/>
          <p:nvPr/>
        </p:nvSpPr>
        <p:spPr>
          <a:xfrm>
            <a:off x="2160" y="3231000"/>
            <a:ext cx="39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dobe Song Std 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>
            <a:off x="0" y="353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24456"/>
                </a:solidFill>
                <a:latin typeface="Trebuchet MS"/>
              </a:rPr>
              <a:t>Закончи составление основных генетических рядов углеводородов. Напиши соответствующие этим схемам уравнения химических реакций</a:t>
            </a:r>
            <a:r>
              <a:rPr b="0" lang="ru-RU" sz="2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0" y="316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8"/>
          <p:cNvGrpSpPr/>
          <p:nvPr/>
        </p:nvGrpSpPr>
        <p:grpSpPr>
          <a:xfrm>
            <a:off x="660240" y="2492280"/>
            <a:ext cx="7872480" cy="3335400"/>
            <a:chOff x="660240" y="2492280"/>
            <a:chExt cx="7872480" cy="3335400"/>
          </a:xfrm>
        </p:grpSpPr>
        <p:sp>
          <p:nvSpPr>
            <p:cNvPr id="453" name="Rectangle 20"/>
            <p:cNvSpPr/>
            <p:nvPr/>
          </p:nvSpPr>
          <p:spPr>
            <a:xfrm>
              <a:off x="660240" y="2492280"/>
              <a:ext cx="160992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2n+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280656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9"/>
            <p:cNvSpPr/>
            <p:nvPr/>
          </p:nvSpPr>
          <p:spPr>
            <a:xfrm>
              <a:off x="4775040" y="2492280"/>
              <a:ext cx="16113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8"/>
            <p:cNvSpPr/>
            <p:nvPr/>
          </p:nvSpPr>
          <p:spPr>
            <a:xfrm>
              <a:off x="6923160" y="2492280"/>
              <a:ext cx="1609560" cy="550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CH</a:t>
              </a:r>
              <a:r>
                <a:rPr b="1" lang="en-US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25"/>
            <p:cNvGrpSpPr/>
            <p:nvPr/>
          </p:nvGrpSpPr>
          <p:grpSpPr>
            <a:xfrm>
              <a:off x="660240" y="3440160"/>
              <a:ext cx="7872480" cy="2387520"/>
              <a:chOff x="660240" y="3440160"/>
              <a:chExt cx="7872480" cy="2387520"/>
            </a:xfrm>
          </p:grpSpPr>
          <p:sp>
            <p:nvSpPr>
              <p:cNvPr id="458" name="Rectangle 16"/>
              <p:cNvSpPr/>
              <p:nvPr/>
            </p:nvSpPr>
            <p:spPr>
              <a:xfrm>
                <a:off x="660240" y="3440160"/>
                <a:ext cx="160992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5"/>
              <p:cNvSpPr/>
              <p:nvPr/>
            </p:nvSpPr>
            <p:spPr>
              <a:xfrm>
                <a:off x="280656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5"/>
              <p:cNvSpPr/>
              <p:nvPr/>
            </p:nvSpPr>
            <p:spPr>
              <a:xfrm>
                <a:off x="4775040" y="3440160"/>
                <a:ext cx="16113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6"/>
              <p:cNvSpPr/>
              <p:nvPr/>
            </p:nvSpPr>
            <p:spPr>
              <a:xfrm>
                <a:off x="6923160" y="3440160"/>
                <a:ext cx="1609560" cy="5508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280656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660240" y="4357440"/>
                <a:ext cx="160992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280656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"/>
              <p:cNvSpPr/>
              <p:nvPr/>
            </p:nvSpPr>
            <p:spPr>
              <a:xfrm>
                <a:off x="660240" y="5276880"/>
                <a:ext cx="160992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r>
                  <a:rPr b="1" lang="ru-RU" sz="20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2"/>
              <p:cNvSpPr/>
              <p:nvPr/>
            </p:nvSpPr>
            <p:spPr>
              <a:xfrm>
                <a:off x="6923160" y="4357440"/>
                <a:ext cx="16095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4775040" y="4357440"/>
                <a:ext cx="1611360" cy="551160"/>
              </a:xfrm>
              <a:prstGeom prst="rect">
                <a:avLst/>
              </a:prstGeom>
              <a:solidFill>
                <a:srgbClr val="67af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лкадие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1"/>
              <p:cNvSpPr/>
              <p:nvPr/>
            </p:nvSpPr>
            <p:spPr>
              <a:xfrm>
                <a:off x="4775040" y="5276880"/>
                <a:ext cx="16113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0"/>
              <p:cNvSpPr/>
              <p:nvPr/>
            </p:nvSpPr>
            <p:spPr>
              <a:xfrm>
                <a:off x="6923160" y="5276880"/>
                <a:ext cx="1609560" cy="55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и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Line 26"/>
            <p:cNvSpPr/>
            <p:nvPr/>
          </p:nvSpPr>
          <p:spPr>
            <a:xfrm>
              <a:off x="147636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3564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558000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7740720" y="30193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147636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147636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32"/>
            <p:cNvSpPr/>
            <p:nvPr/>
          </p:nvSpPr>
          <p:spPr>
            <a:xfrm>
              <a:off x="3564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33"/>
            <p:cNvSpPr/>
            <p:nvPr/>
          </p:nvSpPr>
          <p:spPr>
            <a:xfrm>
              <a:off x="3564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34"/>
            <p:cNvSpPr/>
            <p:nvPr/>
          </p:nvSpPr>
          <p:spPr>
            <a:xfrm>
              <a:off x="558000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35"/>
            <p:cNvSpPr/>
            <p:nvPr/>
          </p:nvSpPr>
          <p:spPr>
            <a:xfrm>
              <a:off x="5580000" y="48909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36"/>
            <p:cNvSpPr/>
            <p:nvPr/>
          </p:nvSpPr>
          <p:spPr>
            <a:xfrm>
              <a:off x="7740720" y="39560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37"/>
            <p:cNvSpPr/>
            <p:nvPr/>
          </p:nvSpPr>
          <p:spPr>
            <a:xfrm>
              <a:off x="7740720" y="48927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, используя условия реакци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23"/>
          <p:cNvGrpSpPr/>
          <p:nvPr/>
        </p:nvGrpSpPr>
        <p:grpSpPr>
          <a:xfrm>
            <a:off x="1978560" y="2408400"/>
            <a:ext cx="5255280" cy="648720"/>
            <a:chOff x="1978560" y="2408400"/>
            <a:chExt cx="5255280" cy="648720"/>
          </a:xfrm>
        </p:grpSpPr>
        <p:sp>
          <p:nvSpPr>
            <p:cNvPr id="487" name="Rectangle 15"/>
            <p:cNvSpPr/>
            <p:nvPr/>
          </p:nvSpPr>
          <p:spPr>
            <a:xfrm>
              <a:off x="1978560" y="2442240"/>
              <a:ext cx="108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Fe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8" name="Object 16"/>
                <p:cNvSpPr txBox="1"/>
                <p:nvPr/>
              </p:nvSpPr>
              <p:spPr>
                <a:xfrm>
                  <a:off x="3113640" y="2514240"/>
                  <a:ext cx="79956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89" name="Rectangle 18"/>
            <p:cNvSpPr/>
            <p:nvPr/>
          </p:nvSpPr>
          <p:spPr>
            <a:xfrm>
              <a:off x="4129200" y="2408400"/>
              <a:ext cx="695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Object 19"/>
                <p:cNvSpPr txBox="1"/>
                <p:nvPr/>
              </p:nvSpPr>
              <p:spPr>
                <a:xfrm>
                  <a:off x="5127480" y="2514240"/>
                  <a:ext cx="1215720" cy="48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HCl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Rectangle 22"/>
            <p:cNvSpPr/>
            <p:nvPr/>
          </p:nvSpPr>
          <p:spPr>
            <a:xfrm>
              <a:off x="6650640" y="24084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Line 24"/>
          <p:cNvSpPr/>
          <p:nvPr/>
        </p:nvSpPr>
        <p:spPr>
          <a:xfrm>
            <a:off x="125892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-236880" y="4728960"/>
            <a:ext cx="8446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КОН (спирт. р-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бромбутан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            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2627280" y="5229360"/>
            <a:ext cx="5040360" cy="0"/>
            <a:chOff x="2627280" y="5229360"/>
            <a:chExt cx="5040360" cy="0"/>
          </a:xfrm>
        </p:grpSpPr>
        <p:sp>
          <p:nvSpPr>
            <p:cNvPr id="495" name="Line 26"/>
            <p:cNvSpPr/>
            <p:nvPr/>
          </p:nvSpPr>
          <p:spPr>
            <a:xfrm>
              <a:off x="2627280" y="5229360"/>
              <a:ext cx="12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4643280" y="5229360"/>
              <a:ext cx="71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6011640" y="5229360"/>
              <a:ext cx="165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существить превращения по следующей схеме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72360" y="2512440"/>
            <a:ext cx="7304400" cy="751320"/>
            <a:chOff x="972360" y="2512440"/>
            <a:chExt cx="7304400" cy="751320"/>
          </a:xfrm>
        </p:grpSpPr>
        <p:sp>
          <p:nvSpPr>
            <p:cNvPr id="501" name="Rectangle 5"/>
            <p:cNvSpPr/>
            <p:nvPr/>
          </p:nvSpPr>
          <p:spPr>
            <a:xfrm>
              <a:off x="972360" y="2578320"/>
              <a:ext cx="8132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ccecff"/>
                  </a:solidFill>
                  <a:latin typeface="Arial"/>
                </a:rPr>
                <a:t>C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2982960" y="2544480"/>
              <a:ext cx="69588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99ccff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99ccff"/>
                  </a:solidFill>
                  <a:latin typeface="Arial"/>
                </a:rPr>
                <a:t>1</a:t>
              </a:r>
              <a:r>
                <a:rPr b="1" lang="ru-RU" sz="3200" spc="-1" strike="noStrike">
                  <a:solidFill>
                    <a:srgbClr val="99cc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4823640" y="2512440"/>
              <a:ext cx="58320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67afbd"/>
                  </a:solidFill>
                  <a:latin typeface="Arial"/>
                </a:rPr>
                <a:t>X</a:t>
              </a:r>
              <a:r>
                <a:rPr b="1" lang="ru-RU" sz="3200" spc="-1" strike="noStrike" baseline="-25000">
                  <a:solidFill>
                    <a:srgbClr val="67afbd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1931400" y="2938320"/>
              <a:ext cx="9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377388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5535000" y="2938320"/>
              <a:ext cx="96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6744240" y="2615040"/>
              <a:ext cx="1532520" cy="64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CaSO</a:t>
              </a:r>
              <a:r>
                <a:rPr b="1" lang="pt-PT" sz="3200" spc="-1" strike="noStrike" baseline="-25000">
                  <a:solidFill>
                    <a:srgbClr val="33cccc"/>
                  </a:solidFill>
                  <a:latin typeface="Arial"/>
                </a:rPr>
                <a:t>4</a:t>
              </a:r>
              <a:r>
                <a:rPr b="1" lang="pt-PT" sz="3200" spc="-1" strike="noStrike">
                  <a:solidFill>
                    <a:srgbClr val="33cc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15"/>
          <p:cNvSpPr/>
          <p:nvPr/>
        </p:nvSpPr>
        <p:spPr>
          <a:xfrm>
            <a:off x="1187280" y="3789360"/>
            <a:ext cx="6551640" cy="0"/>
          </a:xfrm>
          <a:prstGeom prst="line">
            <a:avLst/>
          </a:prstGeom>
          <a:ln w="38160">
            <a:solidFill>
              <a:srgbClr val="438086"/>
            </a:solidFill>
            <a:prstDash val="sys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08000" y="4583880"/>
            <a:ext cx="9144000" cy="5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Н</a:t>
            </a:r>
            <a:r>
              <a:rPr b="1" lang="ru-RU" sz="26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СООН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99ccff"/>
                </a:solidFill>
                <a:latin typeface="Arial"/>
              </a:rPr>
              <a:t>X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Х</a:t>
            </a:r>
            <a:r>
              <a:rPr b="1" lang="ru-RU" sz="26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H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5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CI</a:t>
            </a:r>
            <a:r>
              <a:rPr b="1" lang="ru-RU" sz="2600" spc="-1" strike="noStrike">
                <a:solidFill>
                  <a:srgbClr val="67afb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7afbd"/>
                </a:solidFill>
                <a:latin typeface="Arial"/>
              </a:rPr>
              <a:t>       X</a:t>
            </a:r>
            <a:r>
              <a:rPr b="1" lang="ru-RU" sz="2600" spc="-1" strike="noStrike" baseline="-25000">
                <a:solidFill>
                  <a:srgbClr val="67afbd"/>
                </a:solidFill>
                <a:latin typeface="Arial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600" spc="-1" strike="noStrike">
                <a:solidFill>
                  <a:srgbClr val="33cccc"/>
                </a:solidFill>
                <a:latin typeface="Arial"/>
              </a:rPr>
              <a:t>этан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23"/>
          <p:cNvGrpSpPr/>
          <p:nvPr/>
        </p:nvGrpSpPr>
        <p:grpSpPr>
          <a:xfrm>
            <a:off x="2340000" y="4869000"/>
            <a:ext cx="5472000" cy="0"/>
            <a:chOff x="2340000" y="4869000"/>
            <a:chExt cx="5472000" cy="0"/>
          </a:xfrm>
        </p:grpSpPr>
        <p:sp>
          <p:nvSpPr>
            <p:cNvPr id="511" name="Line 17"/>
            <p:cNvSpPr/>
            <p:nvPr/>
          </p:nvSpPr>
          <p:spPr>
            <a:xfrm>
              <a:off x="2340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341964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45720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637380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7380360" y="4869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</a:t>
            </a: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е</a:t>
            </a: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нетическая связ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6840" y="19130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язь между веществами разных классов, основанная на их взаимопревращениях и отражающая единство их происхождения, то есть генезис вещест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5" name="Picture 6" descr="MM900356744"/>
          <p:cNvPicPr/>
          <p:nvPr/>
        </p:nvPicPr>
        <p:blipFill>
          <a:blip r:embed="rId1"/>
          <a:stretch/>
        </p:blipFill>
        <p:spPr>
          <a:xfrm>
            <a:off x="4052880" y="4005360"/>
            <a:ext cx="1095480" cy="1511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MM900356742"/>
          <p:cNvPicPr/>
          <p:nvPr/>
        </p:nvPicPr>
        <p:blipFill>
          <a:blip r:embed="rId2"/>
          <a:stretch/>
        </p:blipFill>
        <p:spPr>
          <a:xfrm>
            <a:off x="6659640" y="4292640"/>
            <a:ext cx="1439640" cy="11095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MM900356743"/>
          <p:cNvPicPr/>
          <p:nvPr/>
        </p:nvPicPr>
        <p:blipFill>
          <a:blip r:embed="rId3"/>
          <a:stretch/>
        </p:blipFill>
        <p:spPr>
          <a:xfrm>
            <a:off x="1332000" y="4184640"/>
            <a:ext cx="1096920" cy="1332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8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18" name="Object 7"/>
          <p:cNvGraphicFramePr/>
          <p:nvPr/>
        </p:nvGraphicFramePr>
        <p:xfrm>
          <a:off x="826920" y="914400"/>
          <a:ext cx="7594920" cy="53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5949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Результаты диагностики в конце года (10 класс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522" name="Object 3"/>
          <p:cNvGraphicFramePr/>
          <p:nvPr/>
        </p:nvGraphicFramePr>
        <p:xfrm>
          <a:off x="1198440" y="981000"/>
          <a:ext cx="7118640" cy="55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981000"/>
                    <a:ext cx="7118640" cy="55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Выв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лись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ли особенности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ли диагностику уча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 algn="just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ли схемы-связи меж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лассами соединен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своения понятия </a:t>
            </a: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7" name="Picture 4" descr="MC900353772"/>
          <p:cNvPicPr/>
          <p:nvPr/>
        </p:nvPicPr>
        <p:blipFill>
          <a:blip r:embed="rId1"/>
          <a:stretch/>
        </p:blipFill>
        <p:spPr>
          <a:xfrm>
            <a:off x="7164360" y="3716280"/>
            <a:ext cx="1792440" cy="29973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920" y="777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Используемая литера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арев Б. Н. Любознательным об органической химии.— М.: Химия, 198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собие по химии для поступающих в вузы./ Хомченко Г.П. Новая волна, 200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тапов В. М., Чертков И. Н. Строение и свойства органических веществ.— М.: Просвещение, 1985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ременные открытые уроки химии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гибнева Е.П., Скачков А.В. «Феникс» Ростов-на-Дону 200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имия, справочные материалы, под ред. Третьякова Ю.Д., М., Просвещение, 198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520" indent="-51732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Юдин А.М., Сучков В.Н., Коростелин Ю.А.,  «Химия для вас» - М. 1987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1" name="Picture 4" descr="MM900354499"/>
          <p:cNvPicPr/>
          <p:nvPr/>
        </p:nvPicPr>
        <p:blipFill>
          <a:blip r:embed="rId1"/>
          <a:stretch/>
        </p:blipFill>
        <p:spPr>
          <a:xfrm>
            <a:off x="7507440" y="841320"/>
            <a:ext cx="1312560" cy="10033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1600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2268360" y="3860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Актуа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2249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оответствии с новым образовательным стандартом необходимо освоение учащимися понятия </a:t>
            </a:r>
            <a:r>
              <a:rPr b="1" lang="ru-RU" sz="28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Picture 5" descr="MM900254466"/>
          <p:cNvPicPr/>
          <p:nvPr/>
        </p:nvPicPr>
        <p:blipFill>
          <a:blip r:embed="rId1"/>
          <a:stretch/>
        </p:blipFill>
        <p:spPr>
          <a:xfrm>
            <a:off x="5867280" y="4387680"/>
            <a:ext cx="2305080" cy="17053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Противоречия между необходимостью использования понятия </a:t>
            </a:r>
            <a:r>
              <a:rPr b="1" lang="ru-RU" sz="2900" spc="-1" strike="noStrike">
                <a:solidFill>
                  <a:srgbClr val="438086"/>
                </a:solidFill>
                <a:latin typeface="Trebuchet MS"/>
              </a:rPr>
              <a:t>генетическая связь</a:t>
            </a:r>
            <a:r>
              <a:rPr b="1" lang="ru-RU" sz="2900" spc="-1" strike="noStrike">
                <a:solidFill>
                  <a:srgbClr val="424456"/>
                </a:solidFill>
                <a:latin typeface="Trebuchet MS"/>
              </a:rPr>
              <a:t> и</a:t>
            </a:r>
            <a:r>
              <a:rPr b="1" lang="en-US" sz="2900" spc="-1" strike="noStrike">
                <a:solidFill>
                  <a:srgbClr val="424456"/>
                </a:solidFill>
                <a:latin typeface="Trebuchet MS"/>
              </a:rPr>
              <a:t>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711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ровнем полученных знан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достаточностью разработки методического обеспечен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системы в формировании понятия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сутствием методических рекомендаций по особенностям освоения понят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Гипотез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2708280"/>
            <a:ext cx="7570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определиться с особенностями освоения учащимися понятия     </a:t>
            </a:r>
            <a:r>
              <a:rPr b="1" lang="ru-RU" sz="3200" spc="-1" strike="noStrike">
                <a:solidFill>
                  <a:srgbClr val="438086"/>
                </a:solidFill>
                <a:latin typeface="Times New Roman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различных соединений и предложить методики освоения, то повысится качество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4" descr="MM900205403"/>
          <p:cNvPicPr/>
          <p:nvPr/>
        </p:nvPicPr>
        <p:blipFill>
          <a:blip r:embed="rId1"/>
          <a:stretch/>
        </p:blipFill>
        <p:spPr>
          <a:xfrm>
            <a:off x="6227640" y="765000"/>
            <a:ext cx="1843200" cy="15940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Цел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особенностей освоения понятия </a:t>
            </a: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соединений для повышения качества знаний по предмету хим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2" name="Picture 5" descr="MC900237411"/>
          <p:cNvPicPr/>
          <p:nvPr/>
        </p:nvPicPr>
        <p:blipFill>
          <a:blip r:embed="rId1"/>
          <a:stretch/>
        </p:blipFill>
        <p:spPr>
          <a:xfrm>
            <a:off x="6227640" y="4292640"/>
            <a:ext cx="2438640" cy="2189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ч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162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знакомиться с опытом известных учителей России по данной тем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особенности освоения понятия </a:t>
            </a:r>
            <a:r>
              <a:rPr b="1" lang="ru-RU" sz="2400" spc="-1" strike="noStrike">
                <a:solidFill>
                  <a:srgbClr val="438086"/>
                </a:solidFill>
                <a:latin typeface="Georgia"/>
              </a:rPr>
              <a:t>генетическая связ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между классами неорганических 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диагностику учащихся по сформированности понят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аботать схемы-связи между классами для освоения понятия генетическая связ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Picture 5" descr="MC900215584"/>
          <p:cNvPicPr/>
          <p:nvPr/>
        </p:nvPicPr>
        <p:blipFill>
          <a:blip r:embed="rId1"/>
          <a:stretch/>
        </p:blipFill>
        <p:spPr>
          <a:xfrm>
            <a:off x="7885080" y="4005360"/>
            <a:ext cx="1093680" cy="27082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70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Особенности освоения понят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ледовательное освоен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схем – связей в процессе изучения классов соедин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разноуровневых зад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пользование возможностей ЦД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личные формы взаимодействия учащихся на урок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Вопросы диагностического теста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(8 </a:t>
            </a: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класс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981080"/>
          <a:ext cx="8229600" cy="4273560"/>
        </p:xfrm>
        <a:graphic>
          <a:graphicData uri="http://schemas.openxmlformats.org/drawingml/2006/table">
            <a:tbl>
              <a:tblPr/>
              <a:tblGrid>
                <a:gridCol w="442800"/>
                <a:gridCol w="5400720"/>
                <a:gridCol w="719280"/>
                <a:gridCol w="720720"/>
                <a:gridCol w="94608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ая связь показывает связи, при которых из одних веществ получаются дру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етический ряд - это группа соединений, имеющих в своем составе одинаковое число ато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й оксид и кислота относятся к одному генетическому ря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ли получить одной реакцией из оксида фосфора фосфорную кислот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а из одного генетического ряда могут взаимодействовать между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             CaO                 Ca(OH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CaC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Line 58"/>
          <p:cNvSpPr/>
          <p:nvPr/>
        </p:nvSpPr>
        <p:spPr>
          <a:xfrm>
            <a:off x="147492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9"/>
          <p:cNvSpPr/>
          <p:nvPr/>
        </p:nvSpPr>
        <p:spPr>
          <a:xfrm>
            <a:off x="2914560" y="5877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0"/>
          <p:cNvSpPr/>
          <p:nvPr/>
        </p:nvSpPr>
        <p:spPr>
          <a:xfrm>
            <a:off x="4788000" y="587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1:42:18Z</dcterms:created>
  <dc:creator>Student</dc:creator>
  <dc:description/>
  <dc:language>en-US</dc:language>
  <cp:lastModifiedBy>LEGION</cp:lastModifiedBy>
  <dcterms:modified xsi:type="dcterms:W3CDTF">2015-05-01T12:05:06Z</dcterms:modified>
  <cp:revision>41</cp:revision>
  <dc:subject/>
  <dc:title>Особенности освоения понятия генетическая связь между классами органических и неорганических веществ</dc:title>
</cp:coreProperties>
</file>