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4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5D10-AB68-4552-9A09-0538E0B441D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СПЕКТИВЫ МЕДИЦИНСКОГО ОБРАЗОВАНИЯ В РОССИИ: НОВЫЕ ОБРАЗОВАТЕЛЬНЫЕ СТАНДАР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Проректор, проф.Масуев К.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BA93-2CD6-4324-A133-7C08C94D1FB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ac090"/>
                </a:solidFill>
                <a:latin typeface="Helios"/>
              </a:rPr>
              <a:t>КОНЦЕПЦИЯ РАЗВИТИЯ ЗДРАВООХРАНЕНИЯ РФ </a:t>
            </a:r>
            <a:br>
              <a:rPr sz="1200"/>
            </a:br>
            <a:r>
              <a:rPr b="1" lang="ru-RU" sz="1200" spc="-1" strike="noStrike">
                <a:solidFill>
                  <a:srgbClr val="fac090"/>
                </a:solidFill>
                <a:latin typeface="Helios"/>
              </a:rPr>
              <a:t>ДО 2020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7f7f7f"/>
                </a:solidFill>
                <a:latin typeface="Helios"/>
              </a:rPr>
              <a:t>РОССИЯ 2009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D65A-60A4-4C06-9B92-A108E4433D4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FCDC-91A2-4F7E-92AF-B398D0DEB08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РЕБОВАНИЯ К РЕЗУЛЬТАТАМ ОСВОЕНИЯ ОО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ПУСКНИК ДОЛЖЕН ОБЛАДАТЬ ОБЩЕКУЛЬТУРНЫМИ И ПРОФЕССИОНАЛЬНЫМИ КОМПЕТЕНЦИЯМИ (НАВЫКАМ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03F2-9F23-44B7-A2DD-CD124EDF5D7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КУЛЬТУРНЫЕ КОМПЕТЕ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C281-C8B2-4C8B-AB0C-75CB098E476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ФЕССИОНАЛЬНЫЕ КОМПЕТЕ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C617-65F0-42AF-9447-1212AAD5F6D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0381-8BD6-409B-B129-389184F5073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6449-8569-4FB8-AE75-3FA70C0DEAB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3fa3c"/>
                </a:solidFill>
                <a:latin typeface="Calibri"/>
              </a:rPr>
              <a:t>Федеральный закон от 21 ноября 2011 г. № 323-ФЗ «Об основах охраны здоровья граждан в Российской Федерац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ВРАЧЕБНЫЕ КОМПЕТЕ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АУЧНО-ИССЛЕДОВАТЕЛЬСКОЙ ДЕЯТЕЛЬНОСТИ:                                                   - СПОСОБНОСТЬЮ И ГОТОВНОСТЬЮ ИЗУЧАТЬ НАУЧНО-МЕДИЦИНСКУЮ ИНФОРМАЦИЮ, ОТЕЧЕСТВЕННЫЙ И ЗАРУБЕЖНЫЙ ОПЫТ ПО ТЕМАТИКЕ ИССЛЕДОВАНИЯ (ПК 3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СПОСОБНОСТЬЮ И ГОТОВНОСТЬЮ К ОСВОЕНИЮ СОВРЕМЕННЫХ МЕТОДОВ ИССЛЕДОВАНИЯ С ЦЕЛЬЮ ПРАКТИЧЕСКОГО ИХ ВНЕДРЕНИЯ (ПК 3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1559-727B-4A02-B1E1-4A95FC56BEF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ятельность будущего профессионала должна быть в основе всех преобразований в системе образования и явится фактором для ликвидации проблемы недостаточной практической подготовки выпускников вузов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AD85-93C7-4392-AF72-4CC6C40245C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тернатура, введенная в 1969 г., способствовала повышению уровня практической подготовки врачей. Непосредственное руководство по принципу наставничества осуществляли заведующие отделениями и имеющие большой стаж и высокую профессиональную квалификацию ведущие специалист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8F73-E1E9-4469-BC42-192E0FC3DCF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B7FE-DF9F-491D-8C68-7E0C2BDB95A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 сравнение качества практической профессиональной подготовки врачей в России и развитых странах Западной Европы, Северной Америки и Азии, по мнению зарубежных и отечественных экспертов, далеко не в пользу врачей Росс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24AD-1605-4FC4-B2A1-51CAA732E16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льшинство зарубежных специалистов отмечают более высокую и качественную теоретическую подготовку российских студентов в процессе их обучения в медицинских вузах по сравнению со студентами зарубежных стран, в т.ч. и лидеров в области высшего образования, которыми признаны США и Япо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FFF9-6291-41DE-8DDD-287F05993C9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ЭТО ПРОИСХОДИТ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BB61-152E-49E9-91EE-8DA518D3D1A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ктическая подготовка учащихся не соответствует требованиям подготовки современного специалиста  и    безопасности допуска их  к осуществлению медицинской помощи пациента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D12A-7B73-4D62-B3F4-EC97EFC492E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ле получения диплома и сертификата специалиста, выпускник, имея тот же самый недостаточный уровень профессиональной подготовки, теперь допускается к помощи пациентам, наверстывая в процессе ее осуществления свою практическую подготовку. Причем это обучение происходит методом проб и ошибок в условиях дефицита времени, отпускаемого на прием каждого паци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сюда рост раздражения и грубости, за масками которых скрывается незнание очевидных, простых профессиональных приё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26FE-7B44-4A2F-BAA2-007A2EFF99E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сновными причинами врачебных ошибок по результатам независимых экспертиз являются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охо собранный анамнез – в 23% случае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атки в клиническом обследовании (осмотр, пальпация, аускультация) - 20,3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атки в лечебно-профилактических мероприятиях - 19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атки в лабораторно-инструментальном обследовании - 14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атки в форме ведения приема - 11,2 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шибки в экспертизе трудоспособности - 7,2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E478-D663-4FA2-A3EF-07FF2C7E4CB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 методы обучения (чтение лекций, просмотр видеофильмов, наблюдение за работой специалистов, изучение нагляд-ных пособий и препаратов, проведение учебного исследования, решение ситуационных задач, участие в конференции, семинаре, учебная игра и т.д.), можно свести к двум принципиально разным методам обуч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«ознакомление с информацией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«выполнение обучающих заданий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B317-0C91-4283-AD7F-91DF66F6765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0f93d"/>
                </a:solidFill>
                <a:latin typeface="Calibri"/>
              </a:rPr>
              <a:t>Новые ФГОСы основную задачу обучения определяют как «овладение компетенциям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0f93d"/>
                </a:solidFill>
                <a:latin typeface="Calibri"/>
              </a:rPr>
              <a:t>Если в целях обучения стоит задача усилить практическую подготовку, то это означает, что метод обучения «выполнения обучающих заданий» должен преобладать над методом «ознакомления с информацией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6D32-4E8D-4B4B-8340-4B07DE76C3C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0f93d"/>
                </a:solidFill>
                <a:latin typeface="Calibri"/>
              </a:rPr>
              <a:t>Формирование практических умений и навыков может осуществляться только с применением деятельностного подхода в обуч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0f93d"/>
                </a:solidFill>
                <a:latin typeface="Calibri"/>
              </a:rPr>
              <a:t>Суть методик деятельностного подхода в том, чтобы учить деятельности, действиям, а не знаниям и умениям их применять</a:t>
            </a:r>
            <a:r>
              <a:rPr b="0" lang="ru-RU" sz="1200" spc="-1" strike="noStrike">
                <a:solidFill>
                  <a:srgbClr val="f0f93d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74A7-6821-4FFE-B431-53D558A4471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обучении нужно создавать условия для выполнения обучающимся действия неоднократно, под контролем правильности его выполнения, до полного овладения 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26D9-A166-4777-B96A-6A13D32E9ED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авное состоит в том, что для значительного повышения качества практической подготовки студентов и собственно обучения их врачебному искусству, требуется наличие у медицинских вузов достаточной клинической баз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 обучение у постели больного имеет существенный недостаток: оно может нарушить право пациента на оказание ему качественной медицинской услуги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Приказ МЗ СР РФ «Об утверждении порядка допуска студентов высших и средних медицинских учебных заведений к участию в оказании медицинской помощи гражданам» от 15 января 2007 г. № 30)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AD78-B52C-4345-B91F-8EA11367101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едицинских вузах РФ стали организовываться фантомные центры практической подготовки или отдельные модули фантомного обучения на соответствующих кафедр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их обучение практическим врачебным умениям (от инъекции лекарственных препаратов до проведения сердечно-легочной реанимации) проводится на тренажерах, муляжах и фантом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новационным проектом в Российском образовании стало создание отдельного структурного подразделения - Центра практической подготовки, позволившего использовать междисциплинарный (межкафедрального) подход в обучении как студентов, так и слушателей системы послевузовской подготовки врачей (интернов, ординаторов и п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9766-75A4-4F1A-8B7C-52C37CE6B87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ние фантомных центров диктуется также требованиями приказа МЗ СР РФ «Об утверждении порядка допуска студентов высших и средних медицинских учебных заведений к участию в оказании медицинской помощи гражданам» от 15 января 2007 г. № 30, в соответствии с которым «…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 участию в оказании медицинской помощи гражданам допускаются студенты высших и средних медицинских учебных заведений, успешно прошедшие необходимую теоретическую подготовку, имеющие практические навыки, приобретенные на муляжах (фантомах), тренажерах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4E55-0136-44A8-8806-39A7144F4C7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центрах тренажерного обучения возможно широкое использование такого метода обучения как ролевая иг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левая игра помещает обучающегося в ситуацию, которая включает те же ограничения, мотивацию и принуждение, какие существуют в жизни, но это не становится реальной трагедией, и даёт возможность понять, достаточна ли подготовка, что осталось упущенным в ходе обучения, имеющего строго дисциплинарный подход с регламентированными лекциями и практическими занятиям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BEFB-0B27-4238-9D60-F130585AFC8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ходе ролевой игры студенту необходимо актуализировать имеющиеся у него умения и сведения, не только те, которые он готовил к конкретной теме занятия, а все, что у него имеются, в том числе именно здесь начинают становиться остро востребованными компетенции по таким дисциплинам как психология, биоэтика, правоведение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8896-3700-420D-8C0B-8FD67889387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ыт создания и функционирования Центра для практической подготовки вне клиники, выявил, что такое обучение имеет некоторые ограничения. Прежде всего оно требует больших материальных затрат, т.к. тренажеры стоят дорого из-за технической слож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8E80-CC1C-4567-914E-08DB36FFD73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ние и функционирование Центра позволяет реализовывать требования Международного стандарта медицинского образования Всемирной Федерации Медицинского Образования (ВФМО), направленные на улучшение качества медицинско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2C45-4B41-40D8-86A6-C59B985FA82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численные выше преобразования требуют пересмотра действующих учебных планов медицинских вузов, значительных первоначальных капиталовложений для закупки тренажеров, изменений организационных подходов в финансировании учебного процесса и разработку специальных методик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8033-1831-48D7-B708-66078BF3949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нако для обеспечения высокого качества практической подготовки только наличия тренажеров не достаточно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з больного научить врачебным умениям студента невозмож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рганы здравоохранения не озабочены предоставлением клиническим кафедрам условий для качественной подготовки врач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36BA-4D15-46BA-A7D0-5EC1C880463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в ближайшее время не будут созданы условия для обучения на больном, то через десяток лет преподавание медицины может стать заочны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ятие «Положения о клинической больнице» в 2020 год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E344-2E81-4482-8BF7-A4407ACECD0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й закон РФ N 323-ФЗ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 21 ноября 2011 г.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"Об основах охраны здоровья граждан в Российской Федераци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ья 77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и подготовки медицинских работников и фармацевтических раб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6703-80DE-437B-BA23-BD54F3B795D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актическая подготовка лиц, получающих высшее и послевузовское медицинское или фармацевтическое образование…, обеспечивается путем их участия в осуществлении медицинской деятельности и фармацевтической деятельности в соответствии с образовательными программами и организу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на базе структурных подразделений образовательных организаций, осуществляющих медицинскую деятельность (клиник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на базе медицинских организаций…, в которых располагаются структурные подразделения образовательных организаций (клинической баз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на базе организаций – аптечных, судебно-экспертных учреждений и иных организаций, осуществляющих деятельность в сфере охраны здоровья, …в которых располагаются структурные подразделения образовательных и научных организ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6B9A-EA21-43D0-AF97-265595D10E5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рганизация практической подготовки медицинских работников….., осуществляется на основании договора, заключаемого между образовательной организацией и медицинской организацией….. …….Указанный договор должен содержать положения, определяющие порядок и условия использования имущества сторон договора, необходимого для организации практической подготовки, </a:t>
            </a:r>
            <a:r>
              <a:rPr b="1" i="1" lang="ru-RU" sz="1200" spc="-1" strike="noStrike">
                <a:solidFill>
                  <a:srgbClr val="f0f93d"/>
                </a:solidFill>
                <a:latin typeface="Calibri"/>
              </a:rPr>
              <a:t>участия обучающихся и работников образовательных …организаций в медицинской и фармацевтической деятельности, в том числе порядок их участия в оказании медицинской помощи гражданам, порядок участия работников медицинских организаций…..или иных организаций, осуществляющих деятельность в сфере охраны здоровья, в образовательном проце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E082-C6EE-4C4D-85F2-DF8EE3BCEA0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актическая подготовка на базе государственных и муниципальных организаций, осуществляющих деятельность в сфере охраны здоровья, организуется для государственной или муниципальной образовательной ….. организации на </a:t>
            </a:r>
            <a:r>
              <a:rPr b="0" i="1" lang="ru-RU" sz="1200" spc="-1" strike="noStrike">
                <a:solidFill>
                  <a:srgbClr val="f0f93d"/>
                </a:solidFill>
                <a:latin typeface="Calibri"/>
              </a:rPr>
              <a:t>безвозмездной осно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1914-AFE4-4865-9538-4160050E29A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При оказании медицинской помощи в рамках практической подготовки медицинских работников пациент должен быть проинформирован об участии обучающихся в оказании ему медицинской помощи и вправе отказаться от участия обучающихся в оказании ему медицинской помощи. В этом случае медицинская организация обязана оказать такому пациенту медицинскую помощь без участия обучаю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2B30-C056-4C51-9B78-60A850C69C9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69B0-0DB9-4F42-9463-099F551BB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518B-43D5-4E55-BABC-DCE71D12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08C6-1E69-4A07-8A0F-F749CA851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85AE-69DA-47AD-9316-5C4F353A0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68B2-CF51-4EDF-9546-EB4DF7687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C3DE-667E-4F00-BC40-7988F4A7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0853-4A39-472A-84E2-835814FE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F102-28FC-4BDB-96C2-33DDB8ED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2D5C-6833-4A16-BA06-94D6CAF5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A420-9A59-45CC-A6EF-9AC81075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571F-7011-4AFC-BB62-4E0062E5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F075-0621-494E-9C81-7957C9EB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8E63-366E-4BBA-AB98-5355E113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0D1C-E788-4561-B52D-9B6910D7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4968-450B-435B-9775-62E6A135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F501-55D7-4647-85DB-910C758B4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E7A2-1A90-4092-9718-24DD3A5C8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3F3F5-ED33-41D8-A811-562DB465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5AA58-1E2D-4B93-867B-699C7597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F0085-71A4-4737-A943-5D896F42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41ECB-06D2-4A62-87F1-35D1BCBE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6D7B8-1086-45DB-A251-7CDB9308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9A7C-8828-4EC3-82AB-A4E60F93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06F95-92AB-41ED-9F05-4B233853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EFCA8-F4E1-4FB6-AD3B-81A31E01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571FE-5306-4583-8989-21760454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5C534-7EC2-4EEC-920A-EC7A4862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EEAAA-3F4A-4905-9AC4-A1DEFE74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F9AFE-8292-43AD-B973-A1C6D85F7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A5E93-0657-461E-93DC-0AA05BD08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EF537-5DFE-4CD5-9F66-6610157F6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D6A28-6144-4041-B73F-C93B099F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8442C-0070-4AE3-B957-74F84E6D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F373-53A5-43C4-AF10-664C11EA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58506-FC9D-4ED1-8F40-E8A22CD1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3C8C3-2FE2-4A27-8B03-6B47427A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C393B-C457-4578-8065-58B6C2D9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3D310-84B9-4CD1-9D78-C0EB1D98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57D9A-9C9B-483D-B28D-66D66FC3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67952-4DC9-4C3D-A0CC-D6C7E855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F4E33-6ED6-4B81-BAD8-05D6D877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B4D0B-964E-4062-A9E0-84EEB235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0845D-2C12-4AD0-884A-A1830008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C48E-6315-4D69-A7D6-538AD134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B274-EE00-40B3-AFF6-5BD0E72E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6DE7-5313-4AE9-B80E-DF5BDE0E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85ED-CBE8-4059-B939-067F46C3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CDB1-0B61-4C93-AE17-7FF1484C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74C7-3BBA-4D12-8FEB-C448150BA531}" type="datetime">
              <a:rPr b="0" lang="ru-RU" sz="1200" spc="-1" strike="noStrike">
                <a:solidFill>
                  <a:srgbClr val="000000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066A-163D-4509-B3BE-69C651C679A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9B46-DAF1-4D3B-86C7-98987EDD89AC}" type="datetime">
              <a:rPr b="0" lang="ru-RU" sz="1200" spc="-1" strike="noStrike">
                <a:solidFill>
                  <a:srgbClr val="bcbcbc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D980-83C4-498F-BC68-D130CB56C622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CE61-3B76-4093-9497-D1086F03F190}" type="datetime">
              <a:rPr b="0" lang="ru-RU" sz="1200" spc="-1" strike="noStrike">
                <a:solidFill>
                  <a:srgbClr val="000000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1DF7-FD02-48F8-A557-8344B0D8C54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2AB2-6945-4925-8F14-57986F48967A}" type="datetime">
              <a:rPr b="0" lang="ru-RU" sz="1200" spc="-1" strike="noStrike">
                <a:solidFill>
                  <a:srgbClr val="bcbcbc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61CB-C37D-41FF-ADE6-E60591B9E549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Rectangle 2" descr=""/>
          <p:cNvPicPr/>
          <p:nvPr/>
        </p:nvPicPr>
        <p:blipFill>
          <a:blip r:embed="rId1"/>
          <a:stretch/>
        </p:blipFill>
        <p:spPr>
          <a:xfrm>
            <a:off x="420840" y="701640"/>
            <a:ext cx="8474040" cy="46386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403280" y="5368680"/>
            <a:ext cx="6400800" cy="74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 Проректор, проф.Масуев К.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3"/>
          <p:cNvSpPr/>
          <p:nvPr/>
        </p:nvSpPr>
        <p:spPr>
          <a:xfrm>
            <a:off x="0" y="2000160"/>
            <a:ext cx="9144000" cy="42865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85520" y="285732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12"/>
                </a:solidFill>
                <a:latin typeface="Helios"/>
              </a:rPr>
              <a:t>КОНЦЕПЦИЯ РАЗВИТИЯ ЗДРАВООХРАНЕНИЯ РФ </a:t>
            </a:r>
            <a:br>
              <a:rPr sz="4400"/>
            </a:br>
            <a:r>
              <a:rPr b="1" lang="ru-RU" sz="4400" spc="-1" strike="noStrike">
                <a:solidFill>
                  <a:srgbClr val="ffff12"/>
                </a:solidFill>
                <a:latin typeface="Helios"/>
              </a:rPr>
              <a:t>ДО 2020 ГОД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571800" y="6214680"/>
            <a:ext cx="171468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Helios"/>
              </a:rPr>
              <a:t>РОССИЯ 200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Прямоугольник 4"/>
          <p:cNvSpPr/>
          <p:nvPr/>
        </p:nvSpPr>
        <p:spPr>
          <a:xfrm>
            <a:off x="6715080" y="6072120"/>
            <a:ext cx="1428840" cy="142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Прямая соединительная линия 9"/>
          <p:cNvSpPr/>
          <p:nvPr/>
        </p:nvSpPr>
        <p:spPr>
          <a:xfrm>
            <a:off x="631800" y="2565360"/>
            <a:ext cx="0" cy="287964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Прямоугольник 11"/>
          <p:cNvSpPr/>
          <p:nvPr/>
        </p:nvSpPr>
        <p:spPr>
          <a:xfrm>
            <a:off x="0" y="2000160"/>
            <a:ext cx="9144000" cy="285840"/>
          </a:xfrm>
          <a:prstGeom prst="rect">
            <a:avLst/>
          </a:prstGeom>
          <a:solidFill>
            <a:srgbClr val="228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9" name="Рисунок 10" descr="logo.jpg"/>
          <p:cNvPicPr/>
          <p:nvPr/>
        </p:nvPicPr>
        <p:blipFill>
          <a:blip r:embed="rId1"/>
          <a:stretch/>
        </p:blipFill>
        <p:spPr>
          <a:xfrm>
            <a:off x="1571760" y="285840"/>
            <a:ext cx="3071520" cy="1387440"/>
          </a:xfrm>
          <a:prstGeom prst="rect">
            <a:avLst/>
          </a:prstGeom>
          <a:ln w="0">
            <a:noFill/>
          </a:ln>
        </p:spPr>
      </p:pic>
      <p:sp>
        <p:nvSpPr>
          <p:cNvPr id="30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Прямая соединительная линия 9"/>
          <p:cNvSpPr/>
          <p:nvPr/>
        </p:nvSpPr>
        <p:spPr>
          <a:xfrm flipH="1">
            <a:off x="855720" y="6286680"/>
            <a:ext cx="144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Прямоугольник 13"/>
          <p:cNvSpPr/>
          <p:nvPr/>
        </p:nvSpPr>
        <p:spPr>
          <a:xfrm>
            <a:off x="8501040" y="3714840"/>
            <a:ext cx="64296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Calibri"/>
              </a:rPr>
              <a:t>!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5" name="Рисунок 10" descr="logo.jpg"/>
          <p:cNvPicPr/>
          <p:nvPr/>
        </p:nvPicPr>
        <p:blipFill>
          <a:blip r:embed="rId1"/>
          <a:stretch/>
        </p:blipFill>
        <p:spPr>
          <a:xfrm>
            <a:off x="1042920" y="6227640"/>
            <a:ext cx="1297080" cy="5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6" name="Object 8"/>
          <p:cNvGraphicFramePr/>
          <p:nvPr/>
        </p:nvGraphicFramePr>
        <p:xfrm>
          <a:off x="0" y="500040"/>
          <a:ext cx="8786880" cy="603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00040"/>
                    <a:ext cx="878688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Подзаголовок 2"/>
          <p:cNvSpPr/>
          <p:nvPr/>
        </p:nvSpPr>
        <p:spPr>
          <a:xfrm>
            <a:off x="8532720" y="6429240"/>
            <a:ext cx="61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 Black"/>
              </a:rPr>
              <a:t>3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Прямоугольник 13"/>
          <p:cNvSpPr/>
          <p:nvPr/>
        </p:nvSpPr>
        <p:spPr>
          <a:xfrm>
            <a:off x="8501040" y="4643280"/>
            <a:ext cx="642960" cy="57168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Прямая соединительная линия 9"/>
          <p:cNvSpPr/>
          <p:nvPr/>
        </p:nvSpPr>
        <p:spPr>
          <a:xfrm flipH="1">
            <a:off x="855720" y="6286680"/>
            <a:ext cx="144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Заголовок 1"/>
          <p:cNvSpPr/>
          <p:nvPr/>
        </p:nvSpPr>
        <p:spPr>
          <a:xfrm>
            <a:off x="3143160" y="6357960"/>
            <a:ext cx="3286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6" name="Рисунок 10" descr="logo.jpg"/>
          <p:cNvPicPr/>
          <p:nvPr/>
        </p:nvPicPr>
        <p:blipFill>
          <a:blip r:embed="rId1"/>
          <a:stretch/>
        </p:blipFill>
        <p:spPr>
          <a:xfrm>
            <a:off x="1042920" y="6227640"/>
            <a:ext cx="1297080" cy="5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7" name="Object 9"/>
          <p:cNvGraphicFramePr/>
          <p:nvPr/>
        </p:nvGraphicFramePr>
        <p:xfrm>
          <a:off x="182520" y="0"/>
          <a:ext cx="8961480" cy="638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8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520" y="0"/>
                    <a:ext cx="8961480" cy="63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Подзаголовок 2"/>
          <p:cNvSpPr/>
          <p:nvPr/>
        </p:nvSpPr>
        <p:spPr>
          <a:xfrm>
            <a:off x="8532720" y="6429240"/>
            <a:ext cx="61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 Black"/>
              </a:rPr>
              <a:t>3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Прямая соединительная линия 9"/>
          <p:cNvSpPr/>
          <p:nvPr/>
        </p:nvSpPr>
        <p:spPr>
          <a:xfrm flipH="1">
            <a:off x="855720" y="6286680"/>
            <a:ext cx="144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Заголовок 1"/>
          <p:cNvSpPr/>
          <p:nvPr/>
        </p:nvSpPr>
        <p:spPr>
          <a:xfrm>
            <a:off x="3143160" y="6357960"/>
            <a:ext cx="3286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6" name="Рисунок 10" descr="logo.jpg"/>
          <p:cNvPicPr/>
          <p:nvPr/>
        </p:nvPicPr>
        <p:blipFill>
          <a:blip r:embed="rId1"/>
          <a:stretch/>
        </p:blipFill>
        <p:spPr>
          <a:xfrm>
            <a:off x="1042920" y="6227640"/>
            <a:ext cx="1297080" cy="5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7" name="Object 9"/>
          <p:cNvGraphicFramePr/>
          <p:nvPr/>
        </p:nvGraphicFramePr>
        <p:xfrm>
          <a:off x="66600" y="189000"/>
          <a:ext cx="9026640" cy="58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8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600" y="189000"/>
                    <a:ext cx="9026640" cy="58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Подзаголовок 2"/>
          <p:cNvSpPr/>
          <p:nvPr/>
        </p:nvSpPr>
        <p:spPr>
          <a:xfrm>
            <a:off x="8532720" y="6429240"/>
            <a:ext cx="61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 Black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Прямоугольник 1"/>
          <p:cNvSpPr/>
          <p:nvPr/>
        </p:nvSpPr>
        <p:spPr>
          <a:xfrm>
            <a:off x="571680" y="500040"/>
            <a:ext cx="8358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Федеральные государственные образовательные стандарты (ФГОС) представляют собой совокупность требований, обязательных при реализации основных образовательных программ общего и высшего профессионального образования образовательными учреждениями, имеющими государственную аккредитац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8224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357120" y="1225440"/>
            <a:ext cx="8421840" cy="5275440"/>
          </a:xfrm>
          <a:prstGeom prst="rect">
            <a:avLst/>
          </a:prstGeom>
          <a:ln w="0">
            <a:noFill/>
          </a:ln>
        </p:spPr>
      </p:pic>
      <p:sp>
        <p:nvSpPr>
          <p:cNvPr id="338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ТРЕБОВАНИЯ К РЕЗУЛЬТАТАМ ОСВОЕНИЯ ООП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14200" y="2285640"/>
            <a:ext cx="87868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ЫПУСКНИК ДОЛЖЕН ОБЛАДАТЬ ОБЩЕКУЛЬТУРНЫМИ И ПРОФЕССИОНАЛЬНЫМИ КОМПЕТЕНЦИЯМИ (НАВЫКАМ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bd71"/>
                </a:solidFill>
                <a:latin typeface="Arial"/>
              </a:rPr>
              <a:t>ОБЩЕКУЛЬТУРНЫЕ КОМПЕТЕНЦ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229600" cy="28465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"/>
          <p:cNvPicPr/>
          <p:nvPr/>
        </p:nvPicPr>
        <p:blipFill>
          <a:blip r:embed="rId2"/>
          <a:stretch/>
        </p:blipFill>
        <p:spPr>
          <a:xfrm>
            <a:off x="285840" y="4714920"/>
            <a:ext cx="8410320" cy="1595520"/>
          </a:xfrm>
          <a:prstGeom prst="rect">
            <a:avLst/>
          </a:prstGeom>
          <a:ln w="0">
            <a:noFill/>
          </a:ln>
        </p:spPr>
      </p:pic>
      <p:sp>
        <p:nvSpPr>
          <p:cNvPr id="345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ПРОФЕССИОНАЛЬНЫЕ КОМПЕТЕН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357120" y="2143080"/>
            <a:ext cx="8512200" cy="3718080"/>
          </a:xfrm>
          <a:prstGeom prst="rect">
            <a:avLst/>
          </a:prstGeom>
          <a:ln w="0">
            <a:noFill/>
          </a:ln>
        </p:spPr>
      </p:pic>
      <p:sp>
        <p:nvSpPr>
          <p:cNvPr id="348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3"/>
          <p:cNvSpPr/>
          <p:nvPr/>
        </p:nvSpPr>
        <p:spPr>
          <a:xfrm>
            <a:off x="0" y="2000160"/>
            <a:ext cx="9144000" cy="428796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7429680" y="6357600"/>
            <a:ext cx="1714320" cy="428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900" spc="-1" strike="noStrike">
                <a:solidFill>
                  <a:srgbClr val="7f7f7f"/>
                </a:solidFill>
                <a:latin typeface="Helios"/>
              </a:rPr>
              <a:t>РОССИЯ 2011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Прямоугольник 4"/>
          <p:cNvSpPr/>
          <p:nvPr/>
        </p:nvSpPr>
        <p:spPr>
          <a:xfrm>
            <a:off x="6715080" y="6215040"/>
            <a:ext cx="1428840" cy="142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Прямая соединительная линия 9"/>
          <p:cNvSpPr/>
          <p:nvPr/>
        </p:nvSpPr>
        <p:spPr>
          <a:xfrm flipH="1">
            <a:off x="684360" y="2565360"/>
            <a:ext cx="1440" cy="32259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Прямоугольник 11"/>
          <p:cNvSpPr/>
          <p:nvPr/>
        </p:nvSpPr>
        <p:spPr>
          <a:xfrm>
            <a:off x="0" y="2000160"/>
            <a:ext cx="9144000" cy="287280"/>
          </a:xfrm>
          <a:prstGeom prst="rect">
            <a:avLst/>
          </a:prstGeom>
          <a:solidFill>
            <a:srgbClr val="228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9" name="Рисунок 10" descr="logo.jpg"/>
          <p:cNvPicPr/>
          <p:nvPr/>
        </p:nvPicPr>
        <p:blipFill>
          <a:blip r:embed="rId1"/>
          <a:stretch/>
        </p:blipFill>
        <p:spPr>
          <a:xfrm>
            <a:off x="185760" y="189000"/>
            <a:ext cx="2154240" cy="9716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12"/>
          <p:cNvSpPr/>
          <p:nvPr/>
        </p:nvSpPr>
        <p:spPr>
          <a:xfrm>
            <a:off x="838080" y="3098160"/>
            <a:ext cx="8126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fa3c"/>
                </a:solidFill>
                <a:latin typeface="Calibri"/>
              </a:rPr>
              <a:t>Федеральный закон от 21 ноября 2011 г. № 323-ФЗ «Об основах охраны здоровья граждан в Российской Федераци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ОБЩЕВРАЧЕБНЫЕ КОМПЕТЕНЦ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2560" y="1714680"/>
            <a:ext cx="900108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НАУЧНО-ИССЛЕДОВАТЕЛЬСКОЙ ДЕЯТЕЛЬНОСТИ:                                                   - СПОСОБНОСТЬЮ И ГОТОВНОСТЬЮ ИЗУЧАТЬ НАУЧНО-МЕДИЦИНСКУЮ ИНФОРМАЦИЮ, ОТЕЧЕСТВЕННЫЙ И ЗАРУБЕЖНЫЙ ОПЫТ ПО ТЕМАТИКЕ ИССЛЕДОВАНИЯ (ПК 31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- СПОСОБНОСТЬЮ И ГОТОВНОСТЬЮ К ОСВОЕНИЮ СОВРЕМЕННЫХ МЕТОДОВ ИССЛЕДОВАНИЯ С ЦЕЛЬЮ ПРАКТИЧЕСКОГО ИХ ВНЕДРЕНИЯ (ПК 3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428760" y="142920"/>
            <a:ext cx="7858080" cy="15238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"/>
          <p:cNvPicPr/>
          <p:nvPr/>
        </p:nvPicPr>
        <p:blipFill>
          <a:blip r:embed="rId2"/>
          <a:stretch/>
        </p:blipFill>
        <p:spPr>
          <a:xfrm>
            <a:off x="428760" y="2071800"/>
            <a:ext cx="7929360" cy="20714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"/>
          <p:cNvPicPr/>
          <p:nvPr/>
        </p:nvPicPr>
        <p:blipFill>
          <a:blip r:embed="rId3"/>
          <a:stretch/>
        </p:blipFill>
        <p:spPr>
          <a:xfrm>
            <a:off x="357120" y="4572000"/>
            <a:ext cx="8005680" cy="1604880"/>
          </a:xfrm>
          <a:prstGeom prst="rect">
            <a:avLst/>
          </a:prstGeom>
          <a:ln w="0">
            <a:noFill/>
          </a:ln>
        </p:spPr>
      </p:pic>
      <p:sp>
        <p:nvSpPr>
          <p:cNvPr id="356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0" y="1785960"/>
            <a:ext cx="9144000" cy="242892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7068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285840" y="1981080"/>
            <a:ext cx="8794800" cy="402588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500040" y="214200"/>
            <a:ext cx="8229600" cy="13320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179280" y="2773440"/>
            <a:ext cx="8964720" cy="281628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8358120" cy="27939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500040" y="142920"/>
            <a:ext cx="8358120" cy="13431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3"/>
          <a:stretch/>
        </p:blipFill>
        <p:spPr>
          <a:xfrm>
            <a:off x="500040" y="4929120"/>
            <a:ext cx="8434440" cy="1243080"/>
          </a:xfrm>
          <a:prstGeom prst="rect">
            <a:avLst/>
          </a:prstGeom>
          <a:ln w="0">
            <a:noFill/>
          </a:ln>
        </p:spPr>
      </p:pic>
      <p:sp>
        <p:nvSpPr>
          <p:cNvPr id="374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285840" y="1196640"/>
            <a:ext cx="8858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еятельность будущего профессионала должна быть в основе всех преобразований в системе образования и явится фактором для ликвидации проблемы недостаточной практической подготовки выпускников вузов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28400" y="92880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нтернатура, введенная в 1969 г., способствовала повышению уровня практической подготовки врачей. Непосредственное руководство по принципу наставничества осуществляли заведующие отделениями и имеющие большой стаж и высокую профессиональную квалификацию ведущие специалисты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Прямая соединительная линия 9"/>
          <p:cNvSpPr/>
          <p:nvPr/>
        </p:nvSpPr>
        <p:spPr>
          <a:xfrm>
            <a:off x="790560" y="6286680"/>
            <a:ext cx="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Заголовок 1"/>
          <p:cNvSpPr/>
          <p:nvPr/>
        </p:nvSpPr>
        <p:spPr>
          <a:xfrm>
            <a:off x="3143160" y="6357960"/>
            <a:ext cx="3286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Заголовок 11"/>
          <p:cNvSpPr/>
          <p:nvPr/>
        </p:nvSpPr>
        <p:spPr>
          <a:xfrm>
            <a:off x="971640" y="189000"/>
            <a:ext cx="8064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Подзаголовок 2"/>
          <p:cNvSpPr/>
          <p:nvPr/>
        </p:nvSpPr>
        <p:spPr>
          <a:xfrm>
            <a:off x="8532720" y="6429240"/>
            <a:ext cx="61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9" name="Object 2"/>
          <p:cNvGraphicFramePr/>
          <p:nvPr/>
        </p:nvGraphicFramePr>
        <p:xfrm>
          <a:off x="3240" y="189000"/>
          <a:ext cx="9061560" cy="604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89000"/>
                    <a:ext cx="9061560" cy="60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1" name="Рисунок 10" descr="logo.jpg"/>
          <p:cNvPicPr/>
          <p:nvPr/>
        </p:nvPicPr>
        <p:blipFill>
          <a:blip r:embed="rId3"/>
          <a:stretch/>
        </p:blipFill>
        <p:spPr>
          <a:xfrm>
            <a:off x="838080" y="6227640"/>
            <a:ext cx="1297080" cy="58608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1"/>
          <p:cNvSpPr/>
          <p:nvPr/>
        </p:nvSpPr>
        <p:spPr>
          <a:xfrm>
            <a:off x="8604360" y="6345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c00"/>
                </a:solidFill>
                <a:latin typeface="Calibri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63" name="Object 3"/>
          <p:cNvGraphicFramePr/>
          <p:nvPr/>
        </p:nvGraphicFramePr>
        <p:xfrm>
          <a:off x="0" y="214200"/>
          <a:ext cx="9061560" cy="6040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4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14200"/>
                    <a:ext cx="9061560" cy="60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о сравнение качества практической профессиональной подготовки врачей в России и развитых странах Западной Европы, Северной Америки и Азии, по мнению зарубежных и отечественных экспертов, далеко не в пользу врачей России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Большинство зарубежных специалистов отмечают более высокую и качественную теоретическую подготовку российских студентов в процессе их обучения в медицинских вузах по сравнению со студентами зарубежных стран, в т.ч. и лидеров в области высшего образования, которыми признаны США и Япо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0" y="2781360"/>
            <a:ext cx="9144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ОЧЕМУ ЭТО ПРОИСХОДИТ?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актическая подготовка учащихся не соответствует требованиям подготовки современного специалиста  и    безопасности допуска их  к осуществлению медицинской помощи пациента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14200" y="857160"/>
            <a:ext cx="87868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сле получения диплома и сертификата специалиста, выпускник, имея тот же самый недостаточный уровень профессиональной подготовки, теперь допускается к помощи пациентам, наверстывая в процессе ее осуществления свою практическую подготовку. Причем это обучение происходит методом проб и ошибок в условиях дефицита времени, отпускаемого на прием каждого пациент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тсюда рост раздражения и грубости, за масками которых скрывается незнание очевидных, простых профессиональных приём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212760" y="-133200"/>
            <a:ext cx="8718480" cy="19857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500040" y="1856880"/>
            <a:ext cx="842976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лохо собранный анамнез – в 23% случае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достатки в клиническом обследовании (осмотр, пальпация, аускультация) - 20,3%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достатки в лечебно-профилактических мероприятиях - 19%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достатки в лабораторно-инструментальном обследовании - 14%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достатки в форме ведения приема - 11,2 %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шибки в экспертизе трудоспособности - 7,2%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250920" y="1341000"/>
            <a:ext cx="867888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се методы обучения (чтение лекций, просмотр видеофильмов, наблюдение за работой специалистов, изучение нагляд-ных пособий и препаратов, проведение учебного исследования, решение ситуационных задач, участие в конференции, семинаре, учебная игра и т.д.), можно свести к двум принципиально разным методам обучения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- «ознакомление с информацией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- «выполнение обучающих заданий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28760" y="11430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Tahoma"/>
              </a:rPr>
              <a:t>Новые ФГОСы основную задачу обучения определяют как «овладение компетенциям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Tahoma"/>
              </a:rPr>
              <a:t>Если в целях обучения стоит задача усилить практическую подготовку, то это означает, что метод обучения «выполнения обучающих заданий» должен преобладать над методом «ознакомления с информацией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Tahoma"/>
              </a:rPr>
              <a:t>Формирование практических умений и навыков может осуществляться только с применением деятельностного подхода в обучени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f93d"/>
                </a:solidFill>
                <a:latin typeface="Tahoma"/>
              </a:rPr>
              <a:t>Суть методик деятельностного подхода в том, чтобы учить деятельности, действиям, а не знаниям и умениям их применять</a:t>
            </a:r>
            <a:r>
              <a:rPr b="0" lang="ru-RU" sz="3200" spc="-1" strike="noStrike">
                <a:solidFill>
                  <a:srgbClr val="f0f93d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и обучении нужно создавать условия для выполнения обучающимся действия неоднократно, под контролем правильности его выполнения, до полного овладения и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Прямая соединительная линия 9"/>
          <p:cNvSpPr/>
          <p:nvPr/>
        </p:nvSpPr>
        <p:spPr>
          <a:xfrm>
            <a:off x="790560" y="6286680"/>
            <a:ext cx="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Заголовок 1"/>
          <p:cNvSpPr/>
          <p:nvPr/>
        </p:nvSpPr>
        <p:spPr>
          <a:xfrm>
            <a:off x="3143160" y="6357960"/>
            <a:ext cx="3286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Заголовок 11"/>
          <p:cNvSpPr/>
          <p:nvPr/>
        </p:nvSpPr>
        <p:spPr>
          <a:xfrm>
            <a:off x="971640" y="189000"/>
            <a:ext cx="8064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Подзаголовок 2"/>
          <p:cNvSpPr/>
          <p:nvPr/>
        </p:nvSpPr>
        <p:spPr>
          <a:xfrm>
            <a:off x="8532720" y="6429240"/>
            <a:ext cx="61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73" name="Object 2"/>
          <p:cNvGraphicFramePr/>
          <p:nvPr/>
        </p:nvGraphicFramePr>
        <p:xfrm>
          <a:off x="203040" y="260280"/>
          <a:ext cx="8832960" cy="588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" y="260280"/>
                    <a:ext cx="8832960" cy="588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5" name="Рисунок 10" descr="logo.jpg"/>
          <p:cNvPicPr/>
          <p:nvPr/>
        </p:nvPicPr>
        <p:blipFill>
          <a:blip r:embed="rId3"/>
          <a:stretch/>
        </p:blipFill>
        <p:spPr>
          <a:xfrm>
            <a:off x="838080" y="6227640"/>
            <a:ext cx="1297080" cy="58608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1"/>
          <p:cNvSpPr/>
          <p:nvPr/>
        </p:nvSpPr>
        <p:spPr>
          <a:xfrm>
            <a:off x="8604360" y="6345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c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4c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500040" y="49968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лавное состоит в том, что для значительного повышения качества практической подготовки студентов и собственно обучения их врачебному искусству, требуется наличие у медицинских вузов достаточной клинической баз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о обучение у постели больного имеет существенный недостаток: оно может нарушить право пациента на оказание ему качественной медицинской услуги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Приказ МЗ СР РФ «Об утверждении порядка допуска студентов высших и средних медицинских учебных заведений к участию в оказании медицинской помощи гражданам» от 15 января 2007 г. № 30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0" y="260280"/>
            <a:ext cx="896472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медицинских вузах РФ стали организовываться фантомные центры практической подготовки или отдельные модули фантомного обучения на соответствующих кафедра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них обучение практическим врачебным умениям (от инъекции лекарственных препаратов до проведения сердечно-легочной реанимации) проводится на тренажерах, муляжах и фантома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новационным проектом в Российском образовании стало создание отдельного структурного подразделения - Центра практической подготовки, позволившего использовать междисциплинарный (межкафедрального) подход в обучении как студентов, так и слушателей системы послевузовской подготовки врачей (интернов, ординаторов и пр.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250560" y="333360"/>
            <a:ext cx="88930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здание фантомных центров диктуется также требованиями приказа МЗ СР РФ «Об утверждении порядка допуска студентов высших и средних медицинских учебных заведений к участию в оказании медицинской помощи гражданам» от 15 января 2007 г. № 30, в соответствии с которым «…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к участию в оказании медицинской помощи гражданам допускаются студенты высших и средних медицинских учебных заведений, успешно прошедшие необходимую теоретическую подготовку, имеющие практические навыки, приобретенные на муляжах (фантомах), тренажерах»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68000" y="8366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центрах тренажерного обучения возможно широкое использование такого метода обучения как ролевая игр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олевая игра помещает обучающегося в ситуацию, которая включает те же ограничения, мотивацию и принуждение, какие существуют в жизни, но это не становится реальной трагедией, и даёт возможность понять, достаточна ли подготовка, что осталось упущенным в ходе обучения, имеющего строго дисциплинарный подход с регламентированными лекциями и практическими занятиями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95280" y="83628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ходе ролевой игры студенту необходимо актуализировать имеющиеся у него умения и сведения, не только те, которые он готовил к конкретной теме занятия, а все, что у него имеются, в том числе именно здесь начинают становиться остро востребованными компетенции по таким дисциплинам как психология, биоэтика, правоведение и т.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285480" y="1500120"/>
            <a:ext cx="86756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пыт создания и функционирования Центра для практической подготовки вне клиники, выявил, что такое обучение имеет некоторые ограничения. Прежде всего оно требует больших материальных затрат, т.к. тренажеры стоят дорого из-за технической слож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68000" y="105228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оздание и функционирование Центра позволяет реализовывать требования Международного стандарта медицинского образования Всемирной Федерации Медицинского Образования (ВФМО), направленные на улучшение качества медицинского образов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еречисленные выше преобразования требуют пересмотра действующих учебных планов медицинских вузов, значительных первоначальных капиталовложений для закупки тренажеров, изменений организационных подходов в финансировании учебного процесса и разработку специальных методик обуч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56760" y="713880"/>
            <a:ext cx="854388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днако для обеспечения высокого качества практической подготовки только наличия тренажеров не достаточно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Без больного научить врачебным умениям студента невозмож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рганы здравоохранения не озабочены предоставлением клиническим кафедрам условий для качественной подготовки врач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214200" y="1599840"/>
            <a:ext cx="87868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Если в ближайшее время не будут созданы условия для обучения на больном, то через десяток лет преподавание медицины может стать заочным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инятие «Положения о клинической больнице» в 2020 год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85816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bd71"/>
                </a:solidFill>
                <a:latin typeface="Arial"/>
              </a:rPr>
              <a:t>Федеральный закон РФ N 323-ФЗ </a:t>
            </a:r>
            <a:br>
              <a:rPr sz="3200"/>
            </a:br>
            <a:r>
              <a:rPr b="1" lang="ru-RU" sz="3200" spc="-1" strike="noStrike">
                <a:solidFill>
                  <a:srgbClr val="dbbd71"/>
                </a:solidFill>
                <a:latin typeface="Arial"/>
              </a:rPr>
              <a:t>от 21 ноября 2011 г.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dbbd71"/>
                </a:solidFill>
                <a:latin typeface="Arial"/>
              </a:rPr>
              <a:t>"Об основах охраны здоровья граждан в Российской Федерации" 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3357360"/>
            <a:ext cx="8229600" cy="27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тья 77.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собенности подготовки медицинских работников и фармацевтических работни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549360"/>
            <a:ext cx="90010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1. Практическая подготовка лиц, получающих высшее и послевузовское медицинское или фармацевтическое образование…, обеспечивается путем их участия в осуществлении медицинской деятельности и фармацевтической деятельности в соответствии с образовательными программами и организуется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1) на базе структурных подразделений образовательных организаций, осуществляющих медицинскую деятельность (клиник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2) на базе медицинских организаций…, в которых располагаются структурные подразделения образовательных организаций (клинической базе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3) на базе организаций – аптечных, судебно-экспертных учреждений и иных организаций, осуществляющих деятельность в сфере охраны здоровья, …в которых располагаются структурные подразделения образовательных и научных организаций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999720"/>
            <a:ext cx="8229600" cy="55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2. Организация практической подготовки медицинских работников….., осуществляется на основании договора, заключаемого между образовательной организацией и медицинской организацией….. …….Указанный договор должен содержать положения, определяющие порядок и условия использования имущества сторон договора, необходимого для организации практической подготовки, </a:t>
            </a:r>
            <a:r>
              <a:rPr b="1" i="1" lang="ru-RU" sz="2200" spc="-1" strike="noStrike">
                <a:solidFill>
                  <a:srgbClr val="f0f93d"/>
                </a:solidFill>
                <a:latin typeface="Tahoma"/>
              </a:rPr>
              <a:t>участия обучающихся и работников образовательных …организаций в медицинской и фармацевтической деятельности, в том числе порядок их участия в оказании медицинской помощи гражданам, порядок участия работников медицинских организаций…..или иных организаций, осуществляющих деятельность в сфере охраны здоровья, в образовательном процессе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Практическая подготовка на базе государственных и муниципальных организаций, осуществляющих деятельность в сфере охраны здоровья, организуется для государственной или муниципальной образовательной ….. организации на </a:t>
            </a:r>
            <a:r>
              <a:rPr b="0" i="1" lang="ru-RU" sz="3200" spc="-1" strike="noStrike">
                <a:solidFill>
                  <a:srgbClr val="f0f93d"/>
                </a:solidFill>
                <a:latin typeface="Tahoma"/>
              </a:rPr>
              <a:t>безвозмездной осно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1000080"/>
            <a:ext cx="847260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. При оказании медицинской помощи в рамках практической подготовки медицинских работников пациент должен быть проинформирован об участии обучающихся в оказании ему медицинской помощи и вправе отказаться от участия обучающихся в оказании ему медицинской помощи. В этом случае медицинская организация обязана оказать такому пациенту медицинскую помощь без участия обучающих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06:49:56Z</dcterms:created>
  <dc:creator>Администратор</dc:creator>
  <dc:description/>
  <dc:language>en-US</dc:language>
  <cp:lastModifiedBy>RomaK</cp:lastModifiedBy>
  <dcterms:modified xsi:type="dcterms:W3CDTF">2014-10-31T13:53:47Z</dcterms:modified>
  <cp:revision>88</cp:revision>
  <dc:subject/>
  <dc:title>РАЗВИТИЕ МЕДИЦИНСКОГО ОБРАЗОВАНИЯ В РОССИИ: НОВЫЕ ОБРАЗОВАТЕЛЬНЫЕ СТАНДАРТЫ.</dc:title>
</cp:coreProperties>
</file>