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BB0-2C75-4908-B1F2-DAEF4965983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ПЕКТИВЫ МЕДИЦИНСКОГО ОБРАЗОВАНИЯ В РОССИИ: НОВЫЕ ОБРАЗОВАТЕЛЬНЫЕ СТАНД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роректор, проф.Масуев К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693B-FA0D-43C7-88AA-2E44FB0862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КОНЦЕПЦИЯ РАЗВИТИЯ ЗДРАВООХРАНЕНИЯ РФ </a:t>
            </a:r>
            <a:br>
              <a:rPr sz="1200"/>
            </a:b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ДО 202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60E1-9D6C-4603-B601-2AB46F175A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9550-0D4B-4F22-96C1-37B4EA6544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732B-31BB-4710-BD0C-A81F3E42FC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F4C0-C796-427F-AE8D-4DEE21F69A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B624-2B4C-47D8-9C5C-431C000EC2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93A9-7792-44E7-AE05-9E11A375CA0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CFF1-2593-489F-8715-98DC858B44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ВРАЧЕБ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D707-101C-48B7-9942-32249734E2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3113-3385-4006-ACD3-F0B550B7F9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97BF-AE8E-446C-82F3-27C30DF8E7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373B-28E8-4D01-A5CF-68BB2A37A6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FC1-6DAB-4E1D-94C3-B444B804A6D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7D0B-EB1D-4B93-9DF7-1C8404CDDD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ЭТО ПРОИСХОДИТ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0882-7D56-4976-A2B6-B433DA25FD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4395-0FB3-4CC8-A11B-7DEDA36A37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3C28-6102-45F0-A830-DE1FB928192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ми причинами врачебных ошибок по результатам независимых экспертиз являютс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хо собранный анамнез – в 23% случа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клиническом обследовании (осмотр, пальпация, аускультация) - 2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ечебно-профилактических мероприятиях - 1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абораторно-инструментальном обследовании - 1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форме ведения приема - 11,2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 в экспертизе трудоспособности - 7,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169-864B-4E07-AC07-1E28A64D30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ознакомление с информаци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выполнение обучающих задан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684B-7226-4E0B-8A30-C5F4C3E2EA4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Новые ФГОСы основную задачу обучения определяют как «овладение компетенция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908A-8A20-43CC-8354-6FDDC9CD28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1200" spc="-1" strike="noStrike">
                <a:solidFill>
                  <a:srgbClr val="f0f93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B84A-B490-4AFF-BA93-C73ADA3444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9AF5-EA84-4194-AF90-BB5E9135CC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328B-E1E1-4FBA-AD32-3A644D3041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C199-A9EA-4DD7-844E-C706CAD877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340E-5B11-4A4E-B6B3-A417B31C96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3410-1C99-4FE5-9787-4929F88261D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C764-4FCC-46C0-8FA4-039B6567C58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2563-6211-402A-8381-F4D0807699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8D78-0E4A-4AC8-B162-1D106F0A060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F208-4B14-4101-9C10-B3875D2B1D1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больного научить врачебным умениям студента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BF2B-CBAA-48FC-B4F1-387D76B4DD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ятие «Положения о клинической больнице» в 2020 г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8012-7DE6-44F2-8804-63D9FE3AF5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Ф N 323-ФЗ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21 ноября 2011 г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Об основах охраны здоровья граждан в Российской Федер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77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подготовки медицинских работников и фармацевт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2B02-F80E-4EB4-B3B7-6AD1CA68F2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F899-3156-4C17-BCD5-04468FCDCAC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1200" spc="-1" strike="noStrike">
                <a:solidFill>
                  <a:srgbClr val="f0f93d"/>
                </a:solidFill>
                <a:latin typeface="Calibri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2561-6D8C-4E58-95EA-6B6636EBAE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1200" spc="-1" strike="noStrike">
                <a:solidFill>
                  <a:srgbClr val="f0f93d"/>
                </a:solidFill>
                <a:latin typeface="Calibri"/>
              </a:rPr>
              <a:t>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E4CE-D822-4DCB-8E59-2FFA4569A02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DD50-6B64-4F3F-8C61-228AEA66E0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847-830B-45BE-BEA6-FE994A87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AE5-8644-433C-B889-AF7D1AC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342-2162-4BB8-AD83-558B1399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4CA-140A-463E-A32E-AEF65C2D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E79F-FD05-4E5B-A31A-0FE9A509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3CFD-D5CD-4671-AB1B-4DDEEFC6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8FCE-2285-4B78-8AE6-FC55D848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4A9B-5F0B-4A93-83EB-FAFACA3B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B680-328F-47A1-8C2F-EA94DA7A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4F7C-9C4B-4DBC-ABC5-810CBD5D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43A8-90F5-4B6C-B057-97E52B1B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A2D-6AE3-4F81-97EB-1E31B894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8354-03B9-4012-A8B2-1978C304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1E6B-A97A-4CAA-B384-A613AD19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088F-CD2D-41A2-9754-4E9B98B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F138-309D-40FD-9591-7AB945A0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CDF5-9BFD-4748-93D5-81E754C5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5679-6134-4EF5-8270-CA26F1D8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6BB3-038F-4E39-AF5B-C9B6871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1D072-B0C0-4222-9014-6E5CE06D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A2EF-943E-4272-B151-0A1D4D35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0FE3-F1BD-4367-9A6D-12EFF7B7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B3E-6A41-493A-AEAF-503D52FA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BAC8-2C05-4BA8-9565-1A54D363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69DB-6F82-40A0-A537-700C61C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50B5-1F7C-4552-87E9-35D3177C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1D59-7C70-4CD7-8928-5BAF081A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A007-B16A-4D48-A926-9BC6DB89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7DF2B-AE1A-46C8-9E65-6B7602B7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3643-D6EA-493F-ACB6-088BE871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D2CB-F024-4714-B790-80A9F333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9641B-D94D-4453-A786-DA32CA70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E1027-6A38-40BF-B09A-0F197FF6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B83-C160-4CCA-9CDA-5C75A9C8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9E9C-0E71-41ED-B095-54E2FBFF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A518-A4FA-4D3E-99BF-7785FBE1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66B6-CDFF-49B9-8076-0AB891AF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E076A-D2D0-4C38-962E-2D1A69F6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2947-E912-4887-9272-6D10F13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4B69-11F6-48FA-8645-1B1C9658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99DD-7E10-458E-81E5-4F8F74CD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B05B-43E0-452C-A3A1-12C4CB55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743DD-C794-4DA2-BE45-51130D0A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8F4-4AD4-40A7-9FA0-FAB29F40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434-79E3-4B89-BB2B-261D5DC6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7AA-EB5A-4B9F-93CD-21E587A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2A8-FE06-4453-9421-E309C253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C60-1333-4772-A3B4-492BFBE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4714-E9CF-40E5-92A4-CBFCB175CBD1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AFF3-5483-42A7-80B4-72FABC7837D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7189-1855-4C1F-AA52-E5514E4A2F1D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EC31-5595-4CEC-8FA6-B5A044B6C84D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15F1-DB38-4F22-B2CE-91EE73FA80A8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4EDB-E3FF-48C9-845E-F3D01ED5634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64BA-44F1-4377-9EE7-E5E677C8418C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E3A5-7772-4B4E-893D-A421A7BE4C76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474040" cy="4638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536868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Проректор, проф.Масуев К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285732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КОНЦЕПЦИЯ РАЗВИТИЯ ЗДРАВООХРАНЕНИЯ РФ </a:t>
            </a:r>
            <a:br>
              <a:rPr sz="4400"/>
            </a:b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ДО 2020 Г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571800" y="6214680"/>
            <a:ext cx="17146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715080" y="607212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>
            <a:off x="631800" y="256536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8501040" y="3714840"/>
            <a:ext cx="64296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8"/>
          <p:cNvGraphicFramePr/>
          <p:nvPr/>
        </p:nvGraphicFramePr>
        <p:xfrm>
          <a:off x="0" y="500040"/>
          <a:ext cx="8786880" cy="60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0040"/>
                    <a:ext cx="87868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3"/>
          <p:cNvSpPr/>
          <p:nvPr/>
        </p:nvSpPr>
        <p:spPr>
          <a:xfrm>
            <a:off x="8501040" y="4643280"/>
            <a:ext cx="642960" cy="57168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9"/>
          <p:cNvGraphicFramePr/>
          <p:nvPr/>
        </p:nvGraphicFramePr>
        <p:xfrm>
          <a:off x="182520" y="0"/>
          <a:ext cx="8961480" cy="63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0"/>
                    <a:ext cx="89614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9"/>
          <p:cNvGraphicFramePr/>
          <p:nvPr/>
        </p:nvGraphicFramePr>
        <p:xfrm>
          <a:off x="66600" y="189000"/>
          <a:ext cx="9026640" cy="58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89000"/>
                    <a:ext cx="90266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571680" y="5000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общего и высшего профессиона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357120" y="1225440"/>
            <a:ext cx="8421840" cy="527544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РЕБОВАНИЯ К РЕЗУЛЬТАТАМ ОСВОЕНИЯ ООП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4200" y="2285640"/>
            <a:ext cx="8786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ЩЕКУЛЬТУРНЫЕ КОМПЕТЕН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2846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285840" y="4714920"/>
            <a:ext cx="8410320" cy="1595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РОФЕССИОНАЛЬ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512200" cy="37180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0" y="2000160"/>
            <a:ext cx="9144000" cy="428796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429680" y="6357600"/>
            <a:ext cx="1714320" cy="4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Helios"/>
              </a:rPr>
              <a:t>РОССИЯ 201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Прямая соединительная линия 9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Рисунок 10" descr="logo.jpg"/>
          <p:cNvPicPr/>
          <p:nvPr/>
        </p:nvPicPr>
        <p:blipFill>
          <a:blip r:embed="rId1"/>
          <a:stretch/>
        </p:blipFill>
        <p:spPr>
          <a:xfrm>
            <a:off x="185760" y="189000"/>
            <a:ext cx="2154240" cy="97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838080" y="3098160"/>
            <a:ext cx="812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ЩЕВРАЧЕБ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714680"/>
            <a:ext cx="9001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78580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7929360" cy="20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57120" y="4572000"/>
            <a:ext cx="8005680" cy="160488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8794800" cy="4025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13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79280" y="2773440"/>
            <a:ext cx="8964720" cy="28162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279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0040" y="142920"/>
            <a:ext cx="8358120" cy="134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43444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1196640"/>
            <a:ext cx="885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928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3240" y="189000"/>
          <a:ext cx="906156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890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0" y="214200"/>
          <a:ext cx="9061560" cy="604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42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781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ЧЕМУ ЭТО ПРОИСХОДИ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12760" y="-133200"/>
            <a:ext cx="8718480" cy="1985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856880"/>
            <a:ext cx="8429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 собранный анамнез – в 23% случае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клиническом обследовании (осмотр, пальпация, аускультация) - 20,3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ечебно-профилактических мероприятиях - 19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абораторно-инструментальном обследовании - 14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форме ведения приема - 11,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и в экспертизе трудоспособности - 7,2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341000"/>
            <a:ext cx="86788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ознакомление с информац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выполнение обучающих задан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Новые ФГОСы основную задачу обучения определяют как «овладение компетенция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3200" spc="-1" strike="noStrike">
                <a:solidFill>
                  <a:srgbClr val="f0f9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3040" y="260280"/>
          <a:ext cx="883296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60280"/>
                    <a:ext cx="883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4996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26028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836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836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5480" y="150012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052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713880"/>
            <a:ext cx="85438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 больного научить врачебным умениям студента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4200" y="1599840"/>
            <a:ext cx="8786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ятие «Положения о клинической больнице» в 2020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Федеральный закон РФ N 323-ФЗ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т 21 ноября 2011 г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"Об основах охраны здоровья граждан в Российской Федерации"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ья 77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подготовки медицинских работников и фармацевтических работ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54936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2200" spc="-1" strike="noStrike">
                <a:solidFill>
                  <a:srgbClr val="f0f93d"/>
                </a:solidFill>
                <a:latin typeface="Tahoma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3200" spc="-1" strike="noStrike">
                <a:solidFill>
                  <a:srgbClr val="f0f93d"/>
                </a:solidFill>
                <a:latin typeface="Tahoma"/>
              </a:rPr>
              <a:t>безвозмездной осн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000080"/>
            <a:ext cx="8472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6:49:56Z</dcterms:created>
  <dc:creator>Администратор</dc:creator>
  <dc:description/>
  <dc:language>en-US</dc:language>
  <cp:lastModifiedBy>RomaK</cp:lastModifiedBy>
  <dcterms:modified xsi:type="dcterms:W3CDTF">2014-10-31T13:53:47Z</dcterms:modified>
  <cp:revision>88</cp:revision>
  <dc:subject/>
  <dc:title>РАЗВИТИЕ МЕДИЦИНСКОГО ОБРАЗОВАНИЯ В РОССИИ: НОВЫЕ ОБРАЗОВАТЕЛЬНЫЕ СТАНДАРТЫ.</dc:title>
</cp:coreProperties>
</file>