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F293-6ED2-467C-B939-D240EBDF651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ПЕКТИВЫ МЕДИЦИНСКОГО ОБРАЗОВАНИЯ В РОССИИ: НОВЫЕ ОБРАЗОВАТЕЛЬНЫЕ СТАНД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роректор, проф.Масуев К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A6B7-C184-4F9D-8156-B58CA9EA26B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КОНЦЕПЦИЯ РАЗВИТИЯ ЗДРАВООХРАНЕНИЯ РФ </a:t>
            </a:r>
            <a:br>
              <a:rPr sz="1200"/>
            </a:b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ДО 202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E453-D1F8-449A-B107-FE1D328AD1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7C6F-7C89-4932-B05B-50E212D84FC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0EA7-203D-40EE-9EF0-AA0EAF2701F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2476-0DA4-444A-9B89-C1698EBDED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A89F-7F7C-4528-817F-78EF08497D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0F83-CA08-4F3A-94CE-768B78F5F9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CE74-EF38-4BB4-80FA-2E868DBF2A7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ВРАЧЕБ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D1E0-95AE-4A69-863B-3A6B66DB4DF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FD19-E360-4D7A-AC2B-2E317E0F3DB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228F-EE92-4612-A7CF-F4A28D0403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6F92-5A44-4F12-A826-86D7E7B6C5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8FCC-09C2-41AB-8C8A-2809258C559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B86D-4001-4C41-AF9D-81D389D4DF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ЭТО ПРОИСХОДИТ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BD3A-9662-4822-9E89-1D9DA2F6D53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C629-1548-435B-BF7D-974A0FCAA44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EEBC-F767-4E49-A291-E24DCE74110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ми причинами врачебных ошибок по результатам независимых экспертиз являютс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хо собранный анамнез – в 23% случа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клиническом обследовании (осмотр, пальпация, аускультация) - 2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ечебно-профилактических мероприятиях - 19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абораторно-инструментальном обследовании - 1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форме ведения приема - 11,2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 в экспертизе трудоспособности - 7,2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6837-FA1C-4B74-8970-4A6DD9F90F9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ознакомление с информаци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выполнение обучающих задан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F06E-EE27-40D7-A705-632A61501E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Новые ФГОСы основную задачу обучения определяют как «овладение компетенция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AC3D-7D36-4F34-8D11-CA1E74672E3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1200" spc="-1" strike="noStrike">
                <a:solidFill>
                  <a:srgbClr val="f0f93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C91E-E2D1-4423-85DF-B2A6D52E59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DB56-ED5D-463F-9AA4-620F2BC6DB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C7DA-DEB9-44B7-BDF3-ADC5B5C75D2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4FB7-6023-4A61-A483-413CD99BB99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A8F8-556A-493A-882A-7101422D50A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BB8C-926B-40C5-8D87-8AAAA46C0E5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FD75-F933-4166-83F2-9B93941DF96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EFFB-3CB9-4E28-9246-79157221A5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A09E-50C0-40A0-8FC4-92E0A71CAE8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5C94-A6E7-496D-A6B3-D50A0D8DCEF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больного научить врачебным умениям студента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5519-5E76-4768-BABB-7577E91887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ятие «Положения о клинической больнице» в 2020 г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9720-D740-4C8D-8B41-9864392C525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Ф N 323-ФЗ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21 ноября 2011 г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Об основах охраны здоровья граждан в Российской Федер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77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подготовки медицинских работников и фармацевт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07C8-DF9F-41D3-9432-3FB976DDCE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8EF5-0A51-4112-BDC6-A77B27D32D3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1200" spc="-1" strike="noStrike">
                <a:solidFill>
                  <a:srgbClr val="f0f93d"/>
                </a:solidFill>
                <a:latin typeface="Calibri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EA6F-5B8A-44C2-80E1-DCE6253BA12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1200" spc="-1" strike="noStrike">
                <a:solidFill>
                  <a:srgbClr val="f0f93d"/>
                </a:solidFill>
                <a:latin typeface="Calibri"/>
              </a:rPr>
              <a:t>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2C50-D09D-45D7-A785-84E4EC5630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CE7E-21AE-4A21-BCD3-16453C8C6A8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ABE-F2C4-498E-9838-A4418826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DB5-74B8-40CB-A1B7-3D1FA12A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276-04ED-4792-9F8B-EB6A8B0D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D4A-6378-4151-83AA-3AB6370C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C77E-4548-463D-AF3F-596598DA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13F3-FE84-4059-9061-309BAC6D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9B67-0C69-4D94-9F7C-B8FA5309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1441-01D1-4C4C-BF5B-4FC2A299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8CB4-DFAB-4B5F-AAB5-A0C57EAA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FD67-6FD3-47B4-9497-1D160AD7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D90D-0FA8-4E45-9139-C98318F7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F58-FDA7-4FF9-9B83-3D6F0008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210A-FDF8-467E-B066-BE2DF5F6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FD02-C354-4E54-8086-63AEB99E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5146-4CED-49B2-9FA1-2B3FB1DC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C9E5-BA6F-47AC-9847-9D6ED8E5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D744-7C8C-467A-A27E-2BB5BB1A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751B1-B6EC-4323-B29F-5DF7110F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17F1-82FF-4486-B969-36A63612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B047-806D-4043-B8E0-96AE66AB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9EC2-9846-4C30-A1A8-D601D04D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BC94-D4B4-41B7-AEE3-488D3CBD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94C-85F2-4B1B-8BB6-CEE697EE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E93A-5E15-4306-9062-D7E78AD3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DE2F-7E9B-42B5-B406-AFBB53C5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9CB99-48DD-45F4-8C7D-0FBBBEC9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C210-6B8E-44B5-8369-7BBEA433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73757-B09F-47B6-9F51-3650C3AB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551E-24CE-4B1F-A8B5-8E77B589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799D-0EAC-4135-873A-D96733A3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ADBDF-6D80-4380-A704-E98AD78D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56F9-94EB-401F-A12F-F93B166B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572ED-56E1-420A-89ED-665917AF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F67-45E9-4EAF-87D5-6C35C523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AA12-A3D8-4677-A515-3659A3FE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39DB-11D6-4B6C-9ECC-6E55B364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55280-305F-4BAD-9334-121AE76F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89DC-A5AC-439F-9E71-B93B8864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84344-18A5-4FC2-BBD9-09455CA9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D450-0EFA-4AD4-9A4E-461DDE14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BFFE-EE76-4CFB-A587-EFE75753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A31C1-59EC-4AD8-A508-2F03C2C2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FC88-FC49-4ADA-B556-69A008D3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7CD-79AC-44ED-BFE7-EED3A5D2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311-EC2A-417B-A915-15AD94A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BAC-B7FF-4F99-A8DE-8C2E4B4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5E8-6797-4DBE-83B9-A649C59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119-D462-492F-B0E2-8E72D7CE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105C-D50A-481C-9DB0-95F7648CA67A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0180-EFB3-4D75-A470-766A893CDA2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7404-58B5-4D91-8EAD-54F87E331827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F8E3-43ED-466B-AD9E-14F77C29ED3C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6C01-B34C-43DA-B581-B0F7863C5B46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07F-0CF1-4DCC-BEB2-20AC68A6C1A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1F2E-A542-45A3-877F-154B7323444C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0947-58B3-46C3-A3A0-141262485CFA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474040" cy="4638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03280" y="536868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Проректор, проф.Масуев К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5520" y="285732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КОНЦЕПЦИЯ РАЗВИТИЯ ЗДРАВООХРАНЕНИЯ РФ </a:t>
            </a:r>
            <a:br>
              <a:rPr sz="4400"/>
            </a:b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ДО 2020 ГО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571800" y="6214680"/>
            <a:ext cx="17146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6715080" y="607212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Прямая соединительная линия 9"/>
          <p:cNvSpPr/>
          <p:nvPr/>
        </p:nvSpPr>
        <p:spPr>
          <a:xfrm>
            <a:off x="631800" y="2565360"/>
            <a:ext cx="0" cy="2879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8501040" y="3714840"/>
            <a:ext cx="64296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8"/>
          <p:cNvGraphicFramePr/>
          <p:nvPr/>
        </p:nvGraphicFramePr>
        <p:xfrm>
          <a:off x="0" y="500040"/>
          <a:ext cx="8786880" cy="603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0040"/>
                    <a:ext cx="87868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3"/>
          <p:cNvSpPr/>
          <p:nvPr/>
        </p:nvSpPr>
        <p:spPr>
          <a:xfrm>
            <a:off x="8501040" y="4643280"/>
            <a:ext cx="642960" cy="57168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9"/>
          <p:cNvGraphicFramePr/>
          <p:nvPr/>
        </p:nvGraphicFramePr>
        <p:xfrm>
          <a:off x="182520" y="0"/>
          <a:ext cx="8961480" cy="638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0"/>
                    <a:ext cx="89614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9"/>
          <p:cNvGraphicFramePr/>
          <p:nvPr/>
        </p:nvGraphicFramePr>
        <p:xfrm>
          <a:off x="66600" y="189000"/>
          <a:ext cx="9026640" cy="58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89000"/>
                    <a:ext cx="90266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571680" y="5000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едеральные государственные образовательные стандарты (ФГОС) представляют собой совокупность требований, обязательных при реализации основных образовательных программ общего и высшего профессионально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357120" y="1225440"/>
            <a:ext cx="8421840" cy="527544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РЕБОВАНИЯ К РЕЗУЛЬТАТАМ ОСВОЕНИЯ ООП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14200" y="2285640"/>
            <a:ext cx="8786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БЩЕКУЛЬТУРНЫЕ КОМПЕТЕН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29600" cy="2846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285840" y="4714920"/>
            <a:ext cx="8410320" cy="1595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РОФЕССИОНАЛЬ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8512200" cy="37180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0" y="2000160"/>
            <a:ext cx="9144000" cy="428796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429680" y="6357600"/>
            <a:ext cx="1714320" cy="428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Helios"/>
              </a:rPr>
              <a:t>РОССИЯ 2011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Прямая соединительная линия 9"/>
          <p:cNvSpPr/>
          <p:nvPr/>
        </p:nvSpPr>
        <p:spPr>
          <a:xfrm flipH="1">
            <a:off x="684360" y="2565360"/>
            <a:ext cx="1440" cy="3225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0" y="2000160"/>
            <a:ext cx="9144000" cy="28728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Рисунок 10" descr="logo.jpg"/>
          <p:cNvPicPr/>
          <p:nvPr/>
        </p:nvPicPr>
        <p:blipFill>
          <a:blip r:embed="rId1"/>
          <a:stretch/>
        </p:blipFill>
        <p:spPr>
          <a:xfrm>
            <a:off x="185760" y="189000"/>
            <a:ext cx="2154240" cy="971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838080" y="3098160"/>
            <a:ext cx="812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БЩЕВРАЧЕБ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2560" y="1714680"/>
            <a:ext cx="9001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7858080" cy="1523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428760" y="2071800"/>
            <a:ext cx="7929360" cy="207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57120" y="4572000"/>
            <a:ext cx="8005680" cy="160488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2428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8794800" cy="4025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133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79280" y="2773440"/>
            <a:ext cx="8964720" cy="28162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279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500040" y="142920"/>
            <a:ext cx="8358120" cy="134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43444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85840" y="1196640"/>
            <a:ext cx="885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9288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3240" y="189000"/>
          <a:ext cx="9061560" cy="60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890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0" y="214200"/>
          <a:ext cx="9061560" cy="604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42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2781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ЧЕМУ ЭТО ПРОИСХОДИТ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12760" y="-133200"/>
            <a:ext cx="8718480" cy="1985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00040" y="1856880"/>
            <a:ext cx="8429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охо собранный анамнез – в 23% случае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клиническом обследовании (осмотр, пальпация, аускультация) - 20,3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ечебно-профилактических мероприятиях - 19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абораторно-инструментальном обследовании - 14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форме ведения приема - 11,2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шибки в экспертизе трудоспособности - 7,2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1341000"/>
            <a:ext cx="86788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ознакомление с информацие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выполнение обучающих задани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Новые ФГОСы основную задачу обучения определяют как «овладение компетенция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3200" spc="-1" strike="noStrike">
                <a:solidFill>
                  <a:srgbClr val="f0f9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3040" y="260280"/>
          <a:ext cx="8832960" cy="58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60280"/>
                    <a:ext cx="883296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0040" y="4996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260280"/>
            <a:ext cx="8964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836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95280" y="836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85480" y="150012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000" y="1052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6760" y="713880"/>
            <a:ext cx="854388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з больного научить врачебным умениям студента не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4200" y="1599840"/>
            <a:ext cx="8786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ятие «Положения о клинической больнице» в 2020 г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Федеральный закон РФ N 323-ФЗ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т 21 ноября 2011 г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"Об основах охраны здоровья граждан в Российской Федерации"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тья 77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подготовки медицинских работников и фармацевтических работ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54936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2200" spc="-1" strike="noStrike">
                <a:solidFill>
                  <a:srgbClr val="f0f93d"/>
                </a:solidFill>
                <a:latin typeface="Tahoma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3200" spc="-1" strike="noStrike">
                <a:solidFill>
                  <a:srgbClr val="f0f93d"/>
                </a:solidFill>
                <a:latin typeface="Tahoma"/>
              </a:rPr>
              <a:t>безвозмездной осн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000080"/>
            <a:ext cx="8472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6:49:56Z</dcterms:created>
  <dc:creator>Администратор</dc:creator>
  <dc:description/>
  <dc:language>en-US</dc:language>
  <cp:lastModifiedBy>RomaK</cp:lastModifiedBy>
  <dcterms:modified xsi:type="dcterms:W3CDTF">2014-10-31T13:53:47Z</dcterms:modified>
  <cp:revision>88</cp:revision>
  <dc:subject/>
  <dc:title>РАЗВИТИЕ МЕДИЦИНСКОГО ОБРАЗОВАНИЯ В РОССИИ: НОВЫЕ ОБРАЗОВАТЕЛЬНЫЕ СТАНДАРТЫ.</dc:title>
</cp:coreProperties>
</file>