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png" ContentType="image/png"/>
  <Override PartName="/ppt/media/image8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2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583D-26C9-46D1-A32D-F40144C010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1415-27DE-4570-A767-EE4F04B726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Тема 1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</a:t>
            </a:r>
            <a:br>
              <a:rPr sz="1000"/>
            </a:br>
            <a:br>
              <a:rPr sz="10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екарт и Спиноза</a:t>
            </a:r>
            <a:br>
              <a:rPr sz="14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рациона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CAB1-2551-4A1C-9A31-B62EA0E909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FC03-044E-4DBF-9B48-12FD1E492A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Онт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ализм духа и мате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BC95-8579-4D26-927D-480F09687D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бстанции их атрибу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4F7E-1C6B-4837-B5E2-CF6764654C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устое пространство и психика живо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89D5-FA50-4644-90B3-D4C5ED3A2F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44E4-3EDA-4CF8-BCE1-8381523F77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«Врождённые иде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6933-E872-4E22-85DC-49D2D1FBE8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«Шишковидная желез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EB53-DC60-41C7-A166-F9339C6483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ьные и духовные процессы согласованны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добно тому как две пары часов показывают одно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то же время, хотя они и не взаимодействуют между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бой – об этом позаботился Мудрый Часовщ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3A13-3B06-4786-B77F-7E8C6F5D1B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BA7F-1FB8-43BA-BB2E-D9F9CDFC91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ртезианский окказион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Окказион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occasio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лучай, повод) –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ая концепция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рицающая возможност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заимодействи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ьной (протяжённой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духовной (мыслящей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бстанций и  утверждающая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то то, что представляетс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лесной причиной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ысли (или акта воли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и психической причиной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идеей или желанием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зического движения ест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 более чем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вод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occasio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ля истинной причины, каковой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жет быть только Бо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вижущая сила тел…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наход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движущихся телах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бо эта движущая сил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ть не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что иное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 воля Божья…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Естественная причин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есть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реальна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истинная причина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чина случайна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пределяющая решен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ворца природы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ействовать тем ил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ным образо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том или ином случа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093E-2082-4D5D-A3F8-9356B2681B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31 марта 1596 г. в Лаэ (ныне Дека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ся к колеже Ла Флеш (1606-16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ды путешестви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18-16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льмское «озарение»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0 ноября 1619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ь в Париже (1625-16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миграции в Нидерландах (1628-16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Париж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644, 1647, 16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езд в Швецию (16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1 февраля 1650 г. в Стокголь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E25B-6B9D-448E-BE84-8AC92E5075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2-16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24 ноября 1632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Амстерда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Великое отлучение» (165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21 февраля 1677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Гаа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1A0E-FEC6-43B5-80C5-5F53F979D6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632-167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философии Декарта, доказанные геометрическим способом (166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ословско-политический трактат (167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(1663-167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E96F-8430-4F9B-B5BE-F78476D969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иноз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нистический рац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 Спи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енность суб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енность атрибутов суб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 творя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 сотворё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ние случайности (необусловле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бода как обусловленность собственной приро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свобода как внешняя обусловленность (принужд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Спи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Геометрический»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ождествление физической и  логической необход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Спиноз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ум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B4DD-E87B-45E8-95FF-93F535471E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4836-E542-487E-BBDD-1639791266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E41C-2412-4C03-8FDF-988747CF63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2D31-B8DC-494A-9C9B-45C2A0A982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нтеизм: природа творящая и сотвор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B46D-8BA7-448D-B26E-D5BD63C8AB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A8D2-96F7-40AB-8254-1AEDD6ED19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2FCC-2D9F-40E8-855E-D38DC2D256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Гносеология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Геометрический метод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32B1-436E-4CF4-A0FD-BFA07793FA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, или Трактат о свете (163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ссуждение о методе (163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змышления о перво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философии (16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начала философии (164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DA36-722E-4EEA-BB46-59CAEB91F7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зическая и логическая необход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3A6D-BAB9-4092-8DB9-B83F7E1D0B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зическая и логическая необход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руг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существующий в природе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дея этого круга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находящая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акже в Боге,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есть одна и та ж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ещь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выраженная различным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трибутами. Так что, будем л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ы представлять природу под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трибутом протяжения, или под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трибутом мышления, или под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им-либо иным атрибутом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ы во всех случаях найдё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дин и тот же порядок, иным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ловами,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ну и ту же связь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чин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т.е. что те же самы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ещи следуют друг за друго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5301-ACAE-449B-8BD1-DFF4F3DBA0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C704-D17E-4D83-8AB1-14A5FE3030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знание первого рода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200" spc="-1" strike="noStrike">
                <a:solidFill>
                  <a:srgbClr val="0066ff"/>
                </a:solidFill>
                <a:latin typeface="Arial"/>
              </a:rPr>
              <a:t>мнение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 или </a:t>
            </a:r>
            <a:r>
              <a:rPr b="1" i="1" lang="ru-RU" sz="1200" spc="-1" strike="noStrike">
                <a:solidFill>
                  <a:srgbClr val="0066ff"/>
                </a:solidFill>
                <a:latin typeface="Arial"/>
              </a:rPr>
              <a:t>воображение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единственная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чина ложност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знание же второго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200" spc="-1" strike="noStrike">
                <a:solidFill>
                  <a:srgbClr val="0066ff"/>
                </a:solidFill>
                <a:latin typeface="Arial"/>
              </a:rPr>
              <a:t>рассудок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ретьего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200" spc="-1" strike="noStrike">
                <a:solidFill>
                  <a:srgbClr val="0066ff"/>
                </a:solidFill>
                <a:latin typeface="Arial"/>
              </a:rPr>
              <a:t>интуиция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рода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обходимо истинно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82D6-9316-41BD-8265-9FE1C03D74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Этика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зум и своб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03E0-BA06-49EE-A6D7-D0B0B228F8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14D8-0BD0-47E3-9745-D11428856E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стический рац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Де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дикальное сом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Я мыслю, следовательно, существую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я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тественный свет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 Де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ализм духа и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бстанции и их атрибу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ние пустого пространства и психики живо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ественный свет разума («врождённые идеи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Шишковидная желез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 в картезианстве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казионализм А. Гейлинкса и Н. Мальбран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5EC9-B304-48A8-891C-DF85866CA4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дикальное сом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7B24-1C34-4219-993D-5A2EA4C399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Я мыслю, следовательно, существую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E8F5-896A-4797-A175-A8FCA4A10C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я Бог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0092-DFDB-4A75-8135-1FFC72C6A8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стественный свет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E8BF-724A-41AF-B1A8-C04EF2BDDE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EE39-D2E5-4F3E-A2DD-9FB5CB33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38A8-2FF4-4590-A268-2B8EB2D2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CFC8-7824-4124-9814-E4400288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36E8-5E38-4D56-B84D-D147EA0B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09F9-2365-4480-9A27-D9BBD67E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90B5-E2C1-46AA-B2A6-C7AB15C0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C909-2663-4948-87A8-E0B867BA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F295-C579-48CD-975A-EC4A2ACB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1C91-B2B6-4950-8470-8EB0E122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437A-A483-40B9-86F9-EAD523BC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8841-498F-483C-BABD-2567A106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8810-41A1-4945-A1AF-4AFDB487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CA3A-7DA0-43AF-9E73-62B06DF901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ы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11240" y="3598920"/>
            <a:ext cx="7121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 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екарт и Спиноза</a:t>
            </a:r>
            <a:br>
              <a:rPr sz="40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основание рационал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4965840" y="28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957480" y="287820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4462560" y="28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210200" y="28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2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713120" y="287820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94948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3201840" y="179856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45456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3957480" y="179856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421020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46256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496584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521820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370692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2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4713120" y="179856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5468760" y="179856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572148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597384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622476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484020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383220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433548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408456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2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458784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509112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4587840" y="395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4840200" y="395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5091120" y="395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1"/>
          <p:cNvSpPr/>
          <p:nvPr/>
        </p:nvSpPr>
        <p:spPr>
          <a:xfrm>
            <a:off x="4587840" y="431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4840200" y="431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5091120" y="431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383220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5"/>
          <p:cNvSpPr/>
          <p:nvPr/>
        </p:nvSpPr>
        <p:spPr>
          <a:xfrm>
            <a:off x="408456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6"/>
          <p:cNvSpPr/>
          <p:nvPr/>
        </p:nvSpPr>
        <p:spPr>
          <a:xfrm>
            <a:off x="433548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458784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484020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509112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0"/>
          <p:cNvSpPr/>
          <p:nvPr/>
        </p:nvSpPr>
        <p:spPr>
          <a:xfrm>
            <a:off x="4335480" y="503712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4587840" y="503712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4840200" y="503712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4335480" y="46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4"/>
          <p:cNvSpPr/>
          <p:nvPr/>
        </p:nvSpPr>
        <p:spPr>
          <a:xfrm>
            <a:off x="4587840" y="46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5"/>
          <p:cNvSpPr/>
          <p:nvPr/>
        </p:nvSpPr>
        <p:spPr>
          <a:xfrm>
            <a:off x="4840200" y="46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6"/>
          <p:cNvSpPr/>
          <p:nvPr/>
        </p:nvSpPr>
        <p:spPr>
          <a:xfrm>
            <a:off x="5091120" y="46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7"/>
          <p:cNvSpPr/>
          <p:nvPr/>
        </p:nvSpPr>
        <p:spPr>
          <a:xfrm>
            <a:off x="3832200" y="539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8"/>
          <p:cNvSpPr/>
          <p:nvPr/>
        </p:nvSpPr>
        <p:spPr>
          <a:xfrm>
            <a:off x="4084560" y="539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9"/>
          <p:cNvSpPr/>
          <p:nvPr/>
        </p:nvSpPr>
        <p:spPr>
          <a:xfrm>
            <a:off x="4335480" y="539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4587840" y="539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1"/>
          <p:cNvSpPr/>
          <p:nvPr/>
        </p:nvSpPr>
        <p:spPr>
          <a:xfrm>
            <a:off x="358920" y="2662200"/>
            <a:ext cx="26985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о т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ся у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сным и отчётлив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2"/>
          <p:cNvSpPr/>
          <p:nvPr/>
        </p:nvSpPr>
        <p:spPr>
          <a:xfrm>
            <a:off x="358920" y="3525840"/>
            <a:ext cx="26985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ение на ча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до достиж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ной яс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3"/>
          <p:cNvSpPr/>
          <p:nvPr/>
        </p:nvSpPr>
        <p:spPr>
          <a:xfrm>
            <a:off x="358920" y="4389480"/>
            <a:ext cx="26985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ледовательно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е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от прос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ложном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54"/>
          <p:cNvSpPr/>
          <p:nvPr/>
        </p:nvSpPr>
        <p:spPr>
          <a:xfrm>
            <a:off x="358920" y="5253120"/>
            <a:ext cx="26985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ечни и обзор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чтобы нич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упусти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55"/>
          <p:cNvSpPr/>
          <p:nvPr/>
        </p:nvSpPr>
        <p:spPr>
          <a:xfrm>
            <a:off x="7556400" y="2662200"/>
            <a:ext cx="1258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-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57"/>
          <p:cNvSpPr/>
          <p:nvPr/>
        </p:nvSpPr>
        <p:spPr>
          <a:xfrm>
            <a:off x="7556400" y="3525840"/>
            <a:ext cx="1258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-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8"/>
          <p:cNvSpPr/>
          <p:nvPr/>
        </p:nvSpPr>
        <p:spPr>
          <a:xfrm>
            <a:off x="7556400" y="4389480"/>
            <a:ext cx="1258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-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59"/>
          <p:cNvSpPr/>
          <p:nvPr/>
        </p:nvSpPr>
        <p:spPr>
          <a:xfrm>
            <a:off x="7556400" y="5253120"/>
            <a:ext cx="1258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-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нт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зм духа и мат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3057480" y="1798560"/>
            <a:ext cx="302256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сё сущ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898560" y="3381480"/>
            <a:ext cx="302256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ещ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ыслящие</a:t>
            </a:r>
            <a:br>
              <a:rPr sz="20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cogitans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5218200" y="3381480"/>
            <a:ext cx="302256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ещ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тяжённые</a:t>
            </a:r>
            <a:br>
              <a:rPr sz="20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extensa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>
            <a:off x="4570560" y="287784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08" name="Line 7"/>
          <p:cNvSpPr/>
          <p:nvPr/>
        </p:nvSpPr>
        <p:spPr>
          <a:xfrm>
            <a:off x="2409840" y="3130560"/>
            <a:ext cx="4317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AutoShape 8"/>
          <p:cNvCxnSpPr/>
          <p:nvPr/>
        </p:nvCxnSpPr>
        <p:spPr>
          <a:xfrm>
            <a:off x="2409840" y="313020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10" name="AutoShape 9"/>
          <p:cNvCxnSpPr/>
          <p:nvPr/>
        </p:nvCxnSpPr>
        <p:spPr>
          <a:xfrm>
            <a:off x="6729480" y="313020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11" name="AutoShape 11"/>
          <p:cNvSpPr/>
          <p:nvPr/>
        </p:nvSpPr>
        <p:spPr>
          <a:xfrm>
            <a:off x="790560" y="4749840"/>
            <a:ext cx="7558200" cy="180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полагаю, что вес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д причин, направлен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пределённой цели, не может иметь никакого примен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бласти физики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дь я допускаю, что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легкомыслию можно пытаться прослеживать цели Б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станции их атрибу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03280" y="3957480"/>
            <a:ext cx="3959280" cy="25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убстанц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substantia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-лежа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вод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ύπόστασι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уществует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амостоятель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само по себе)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что устойчивое и постоян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 отличие от изменчив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реходящег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1042920" y="1798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5289480" y="1798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ат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4749840" y="3957480"/>
            <a:ext cx="3959280" cy="25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трибут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attributum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данное, приписанно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пределяющий призна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ачество, предикат) субстанц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статочный для её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нтификации и необходим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её существ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1042920" y="287820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ш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5289480" y="287820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яжё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устое пространство и психика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82560" y="1546200"/>
            <a:ext cx="3598920" cy="12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ождествление телес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протяжённость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дёт к отрицанию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устого простра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4929120" y="1546200"/>
            <a:ext cx="3598920" cy="12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ождествление психи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логическим мышлени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дёт к отрицанию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сихики у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5331240" y="626112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отные – автом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466560" y="611676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олняющая всё простран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я движется вихреобраз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CIRCLE_LIMIT_III (red)"/>
          <p:cNvPicPr/>
          <p:nvPr/>
        </p:nvPicPr>
        <p:blipFill>
          <a:blip r:embed="rId1"/>
          <a:stretch/>
        </p:blipFill>
        <p:spPr>
          <a:xfrm>
            <a:off x="934920" y="2986200"/>
            <a:ext cx="3059280" cy="305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betemachine-descartes"/>
          <p:cNvPicPr/>
          <p:nvPr/>
        </p:nvPicPr>
        <p:blipFill>
          <a:blip r:embed="rId2"/>
          <a:stretch/>
        </p:blipFill>
        <p:spPr>
          <a:xfrm>
            <a:off x="5073480" y="2986200"/>
            <a:ext cx="3343320" cy="30574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00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1042920" y="1798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5289480" y="1798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ат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042920" y="287820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5289480" y="287820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ыс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5289480" y="359892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яжё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1042920" y="359892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ротяжё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1042920" y="4317840"/>
            <a:ext cx="2879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ел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5289480" y="4317840"/>
            <a:ext cx="2879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3"/>
          <p:cNvSpPr/>
          <p:nvPr/>
        </p:nvSpPr>
        <p:spPr>
          <a:xfrm>
            <a:off x="4605480" y="1619280"/>
            <a:ext cx="0" cy="3598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1116720" y="5397480"/>
            <a:ext cx="699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дух и материя не имеют друг с другом ничего общег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возможно их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заимодейств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каким образ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ух может иметь идею материального тела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обще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на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то-то о материальных тел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4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«Врождённые иде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3419280" cy="36003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2063520" y="596736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 = 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6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4646880" y="5397480"/>
            <a:ext cx="40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 вложил в человеческую душ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ю материальной субстанц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знание об основных законах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торым она подчин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Descartes (3)"/>
          <p:cNvPicPr/>
          <p:nvPr/>
        </p:nvPicPr>
        <p:blipFill>
          <a:blip r:embed="rId2"/>
          <a:stretch/>
        </p:blipFill>
        <p:spPr>
          <a:xfrm>
            <a:off x="5181480" y="1798560"/>
            <a:ext cx="3019680" cy="326700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0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9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1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10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2"/>
          <p:cNvSpPr/>
          <p:nvPr/>
        </p:nvSpPr>
        <p:spPr>
          <a:xfrm rot="10800000">
            <a:off x="611280" y="2059920"/>
            <a:ext cx="6981840" cy="1468440"/>
          </a:xfrm>
          <a:custGeom>
            <a:avLst/>
            <a:gdLst>
              <a:gd name="textAreaLeft" fmla="*/ 1221840 w 6981840"/>
              <a:gd name="textAreaRight" fmla="*/ 5061960 w 6981840"/>
              <a:gd name="textAreaTop" fmla="*/ 196560 h 1468440"/>
              <a:gd name="textAreaBottom" fmla="*/ 1271880 h 146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«Шишковидная желез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6"/>
          <p:cNvSpPr/>
          <p:nvPr/>
        </p:nvSpPr>
        <p:spPr>
          <a:xfrm>
            <a:off x="2124000" y="2924280"/>
            <a:ext cx="1436760" cy="7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7"/>
          <p:cNvSpPr/>
          <p:nvPr/>
        </p:nvSpPr>
        <p:spPr>
          <a:xfrm>
            <a:off x="2122560" y="2925720"/>
            <a:ext cx="1436760" cy="7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жи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555200" y="5757840"/>
            <a:ext cx="64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кализуемая Декартом в мозгу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шишковидная желез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образу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увственные (физические) воздейств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мысли и мысли – в физические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9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0" descr="Knight"/>
          <p:cNvPicPr/>
          <p:nvPr/>
        </p:nvPicPr>
        <p:blipFill>
          <a:blip r:embed="rId1"/>
          <a:stretch/>
        </p:blipFill>
        <p:spPr>
          <a:xfrm>
            <a:off x="1582560" y="3525840"/>
            <a:ext cx="1195560" cy="1800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6" descr="Lion (5)"/>
          <p:cNvPicPr/>
          <p:nvPr/>
        </p:nvPicPr>
        <p:blipFill>
          <a:blip r:embed="rId2"/>
          <a:stretch/>
        </p:blipFill>
        <p:spPr>
          <a:xfrm>
            <a:off x="5900760" y="2770200"/>
            <a:ext cx="2158920" cy="1968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nodeType="clickEffect" fill="hold">
                      <p:stCondLst>
                        <p:cond delay="0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9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1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3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15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j0183290"/>
          <p:cNvPicPr/>
          <p:nvPr/>
        </p:nvPicPr>
        <p:blipFill>
          <a:blip r:embed="rId1"/>
          <a:stretch/>
        </p:blipFill>
        <p:spPr>
          <a:xfrm>
            <a:off x="6837480" y="1798560"/>
            <a:ext cx="1724040" cy="1849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AClock_l"/>
          <p:cNvPicPr/>
          <p:nvPr/>
        </p:nvPicPr>
        <p:blipFill>
          <a:blip r:embed="rId2"/>
          <a:stretch/>
        </p:blipFill>
        <p:spPr>
          <a:xfrm>
            <a:off x="719280" y="3238560"/>
            <a:ext cx="2144520" cy="21445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clock_013"/>
          <p:cNvPicPr/>
          <p:nvPr/>
        </p:nvPicPr>
        <p:blipFill>
          <a:blip r:embed="rId3"/>
          <a:stretch/>
        </p:blipFill>
        <p:spPr>
          <a:xfrm>
            <a:off x="3598920" y="3598920"/>
            <a:ext cx="2144520" cy="28591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9"/>
          <p:cNvSpPr/>
          <p:nvPr/>
        </p:nvSpPr>
        <p:spPr>
          <a:xfrm>
            <a:off x="6368400" y="5757840"/>
            <a:ext cx="2565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нольд Гейлинк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4-16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6229800" y="5013360"/>
            <a:ext cx="2648160" cy="3988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имер двух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218520" y="1619280"/>
            <a:ext cx="632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ьные и духовные процессы согласованны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обно тому как две пары часов показывают од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то же время, хотя они и не взаимодействуют межд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й – об этом позаботился Мудрый Часовщ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nodeType="clickEffect" fill="hold">
                      <p:stCondLst>
                        <p:cond delay="0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5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6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7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j0183290"/>
          <p:cNvPicPr/>
          <p:nvPr/>
        </p:nvPicPr>
        <p:blipFill>
          <a:blip r:embed="rId1"/>
          <a:stretch/>
        </p:blipFill>
        <p:spPr>
          <a:xfrm>
            <a:off x="6837480" y="1978200"/>
            <a:ext cx="1724040" cy="18493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6115680" y="5757840"/>
            <a:ext cx="267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иколя Мальбранш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8-17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ANNIMATEDfelixTHEcat"/>
          <p:cNvPicPr/>
          <p:nvPr/>
        </p:nvPicPr>
        <p:blipFill>
          <a:blip r:embed="rId2"/>
          <a:stretch/>
        </p:blipFill>
        <p:spPr>
          <a:xfrm>
            <a:off x="2338560" y="5229360"/>
            <a:ext cx="3286080" cy="1428480"/>
          </a:xfrm>
          <a:prstGeom prst="rect">
            <a:avLst/>
          </a:prstGeom>
          <a:ln w="0">
            <a:noFill/>
          </a:ln>
        </p:spPr>
      </p:pic>
      <p:sp>
        <p:nvSpPr>
          <p:cNvPr id="270" name="Oval 7"/>
          <p:cNvSpPr/>
          <p:nvPr/>
        </p:nvSpPr>
        <p:spPr>
          <a:xfrm>
            <a:off x="5257800" y="1809720"/>
            <a:ext cx="1371600" cy="1371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ANNIMATEDfelixTHEcat"/>
          <p:cNvPicPr/>
          <p:nvPr/>
        </p:nvPicPr>
        <p:blipFill>
          <a:blip r:embed="rId3"/>
          <a:stretch/>
        </p:blipFill>
        <p:spPr>
          <a:xfrm>
            <a:off x="5397480" y="2241720"/>
            <a:ext cx="1093680" cy="474480"/>
          </a:xfrm>
          <a:prstGeom prst="rect">
            <a:avLst/>
          </a:prstGeom>
          <a:ln w="0">
            <a:noFill/>
          </a:ln>
        </p:spPr>
      </p:pic>
      <p:sp>
        <p:nvSpPr>
          <p:cNvPr id="272" name="Oval 9"/>
          <p:cNvSpPr/>
          <p:nvPr/>
        </p:nvSpPr>
        <p:spPr>
          <a:xfrm>
            <a:off x="2068560" y="2060640"/>
            <a:ext cx="960480" cy="960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0" descr="ANNIMATEDfelixTHEcat"/>
          <p:cNvPicPr/>
          <p:nvPr/>
        </p:nvPicPr>
        <p:blipFill>
          <a:blip r:embed="rId4"/>
          <a:stretch/>
        </p:blipFill>
        <p:spPr>
          <a:xfrm>
            <a:off x="2122560" y="2349360"/>
            <a:ext cx="871560" cy="3780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1"/>
          <p:cNvSpPr/>
          <p:nvPr/>
        </p:nvSpPr>
        <p:spPr>
          <a:xfrm>
            <a:off x="5938200" y="4821120"/>
            <a:ext cx="2812680" cy="703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идение всех вещей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 Бо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2"/>
          <p:cNvSpPr/>
          <p:nvPr/>
        </p:nvSpPr>
        <p:spPr>
          <a:xfrm rot="13500000">
            <a:off x="1907280" y="46407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3"/>
          <p:cNvSpPr/>
          <p:nvPr/>
        </p:nvSpPr>
        <p:spPr>
          <a:xfrm flipH="1" flipV="1">
            <a:off x="2039040" y="4521600"/>
            <a:ext cx="763560" cy="76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 flipH="1">
            <a:off x="2039400" y="4522320"/>
            <a:ext cx="763200" cy="763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5"/>
          <p:cNvSpPr/>
          <p:nvPr/>
        </p:nvSpPr>
        <p:spPr>
          <a:xfrm rot="8700000">
            <a:off x="4235040" y="4078080"/>
            <a:ext cx="2951280" cy="485640"/>
          </a:xfrm>
          <a:prstGeom prst="rightArrow">
            <a:avLst>
              <a:gd name="adj1" fmla="val 50000"/>
              <a:gd name="adj2" fmla="val 1519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6"/>
          <p:cNvSpPr/>
          <p:nvPr/>
        </p:nvSpPr>
        <p:spPr>
          <a:xfrm rot="10800000">
            <a:off x="3165480" y="2230200"/>
            <a:ext cx="1908000" cy="485640"/>
          </a:xfrm>
          <a:prstGeom prst="rightArrow">
            <a:avLst>
              <a:gd name="adj1" fmla="val 50000"/>
              <a:gd name="adj2" fmla="val 982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7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0" descr="Knight"/>
          <p:cNvPicPr/>
          <p:nvPr/>
        </p:nvPicPr>
        <p:blipFill>
          <a:blip r:embed="rId5"/>
          <a:stretch/>
        </p:blipFill>
        <p:spPr>
          <a:xfrm>
            <a:off x="324000" y="2085840"/>
            <a:ext cx="1792080" cy="269892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nodeType="clickEffect" fill="hold">
                      <p:stCondLst>
                        <p:cond delay="0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8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8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7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ртезианский окказ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287280" y="1546200"/>
            <a:ext cx="3994200" cy="4965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кказионал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ccasio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учай, повод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ая концепц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ющая возмож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действ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ьной (протяжённой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уховной (мыслящей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бстанций и  утверждающа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то, что представ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лесной причи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сли (или акта воли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психической причи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деей или желанием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зического движения е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более чем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во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ccasio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истинной причины, каков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жет быть только Б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8"/>
          <p:cNvSpPr/>
          <p:nvPr/>
        </p:nvSpPr>
        <p:spPr>
          <a:xfrm rot="10800000">
            <a:off x="4462200" y="1545840"/>
            <a:ext cx="449892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ущая сила тел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аход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движущихся тел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эта движущая си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н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и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воля Божья…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ественная прич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еа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истинная причин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а случай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яющая реш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ца при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овать тем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ым образ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м или ином случа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5257800" y="5973840"/>
            <a:ext cx="277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Мальбранш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азыскание истин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47400" y="1816200"/>
            <a:ext cx="377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31 марта 1596 г. в Лаэ (ныне Дека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ся к колеже Ла Флеш (1606-16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ды путешестви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18-16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льмское «озарение»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0 ноября 1619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ь в Париже (1625-16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миграции в Нидерландах (1628-16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Париж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644, 1647, 16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езд в Швецию (16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1 февраля 1650 г. в Стокголь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Oval 9"/>
          <p:cNvSpPr/>
          <p:nvPr/>
        </p:nvSpPr>
        <p:spPr>
          <a:xfrm>
            <a:off x="6686640" y="3645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851160" y="3309840"/>
            <a:ext cx="91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ри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30"/>
          <p:cNvSpPr/>
          <p:nvPr/>
        </p:nvSpPr>
        <p:spPr>
          <a:xfrm>
            <a:off x="6413400" y="4005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1"/>
          <p:cNvSpPr/>
          <p:nvPr/>
        </p:nvSpPr>
        <p:spPr>
          <a:xfrm>
            <a:off x="5846040" y="4149720"/>
            <a:ext cx="5936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3"/>
          <p:cNvSpPr/>
          <p:nvPr/>
        </p:nvSpPr>
        <p:spPr>
          <a:xfrm>
            <a:off x="6270480" y="3716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4"/>
          <p:cNvSpPr/>
          <p:nvPr/>
        </p:nvSpPr>
        <p:spPr>
          <a:xfrm>
            <a:off x="4980600" y="3645000"/>
            <a:ext cx="11880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 Фле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6"/>
          <p:cNvSpPr/>
          <p:nvPr/>
        </p:nvSpPr>
        <p:spPr>
          <a:xfrm>
            <a:off x="7556400" y="37782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7"/>
          <p:cNvSpPr/>
          <p:nvPr/>
        </p:nvSpPr>
        <p:spPr>
          <a:xfrm>
            <a:off x="7748280" y="3860640"/>
            <a:ext cx="7765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8"/>
          <p:cNvSpPr/>
          <p:nvPr/>
        </p:nvSpPr>
        <p:spPr>
          <a:xfrm>
            <a:off x="6948360" y="2997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9"/>
          <p:cNvSpPr/>
          <p:nvPr/>
        </p:nvSpPr>
        <p:spPr>
          <a:xfrm>
            <a:off x="7171560" y="2781360"/>
            <a:ext cx="10173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ейд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0"/>
          <p:cNvSpPr/>
          <p:nvPr/>
        </p:nvSpPr>
        <p:spPr>
          <a:xfrm>
            <a:off x="838836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1"/>
          <p:cNvSpPr/>
          <p:nvPr/>
        </p:nvSpPr>
        <p:spPr>
          <a:xfrm>
            <a:off x="6880320" y="1773360"/>
            <a:ext cx="14000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окго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47400" y="1816200"/>
            <a:ext cx="377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4 ноября 1632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Амстерда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еликое отлучение» (16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21 февраля 1677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Гаа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32-16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91" name="Oval 13"/>
          <p:cNvSpPr/>
          <p:nvPr/>
        </p:nvSpPr>
        <p:spPr>
          <a:xfrm>
            <a:off x="6980400" y="2986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7172640" y="2781360"/>
            <a:ext cx="14594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мстер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7"/>
          <p:cNvSpPr/>
          <p:nvPr/>
        </p:nvSpPr>
        <p:spPr>
          <a:xfrm>
            <a:off x="6908760" y="3094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6667560" y="3273480"/>
            <a:ext cx="784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32-16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190520" y="6189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4570560" y="3057480"/>
            <a:ext cx="43178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ы философии Декарта, доказанные геометрическим способо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ословско-политический трактат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63-16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5037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Spinoza (4)"/>
          <p:cNvPicPr/>
          <p:nvPr/>
        </p:nvPicPr>
        <p:blipFill>
          <a:blip r:embed="rId1"/>
          <a:stretch/>
        </p:blipFill>
        <p:spPr>
          <a:xfrm>
            <a:off x="431640" y="1619280"/>
            <a:ext cx="382608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0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0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1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иноз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нистический рац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75760" y="1491840"/>
            <a:ext cx="85899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 Спи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енность суб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енность атрибутов суб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 творя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 сотворё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ние случайности (необусловле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бода как обусловленность собственной приро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свобода как внешняя обусловленность (принужд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Спи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Геометрический»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ождествление физической и  логической необход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Спиноз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ум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атрибутом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разумею т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м представляет в субстан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оставляющее её сущ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субстанция, состоящ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бесконечно многих атрибут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 существ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оме Бога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ая субстан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ни существов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ыть представля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станцие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я разумею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существует само в себ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ся само через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веще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бы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вух или более субстанций одной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й же природ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ыми словам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одним и тем же атрибу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4680000" y="1546200"/>
            <a:ext cx="19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ределение 3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4"/>
          <p:cNvSpPr/>
          <p:nvPr/>
        </p:nvSpPr>
        <p:spPr>
          <a:xfrm>
            <a:off x="5759640" y="2625840"/>
            <a:ext cx="19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ределение 4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5"/>
          <p:cNvSpPr/>
          <p:nvPr/>
        </p:nvSpPr>
        <p:spPr>
          <a:xfrm>
            <a:off x="6839280" y="370692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6"/>
          <p:cNvSpPr/>
          <p:nvPr/>
        </p:nvSpPr>
        <p:spPr>
          <a:xfrm>
            <a:off x="1332360" y="478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7"/>
          <p:cNvSpPr/>
          <p:nvPr/>
        </p:nvSpPr>
        <p:spPr>
          <a:xfrm>
            <a:off x="2412000" y="586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4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9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0" descr="Spinoza (2-med)"/>
          <p:cNvPicPr/>
          <p:nvPr/>
        </p:nvPicPr>
        <p:blipFill>
          <a:blip r:embed="rId1"/>
          <a:stretch/>
        </p:blipFill>
        <p:spPr>
          <a:xfrm>
            <a:off x="7197840" y="358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nodeType="clickEffect" fill="hold">
                      <p:stCondLst>
                        <p:cond delay="indefinite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7"/>
          <p:cNvSpPr/>
          <p:nvPr/>
        </p:nvSpPr>
        <p:spPr>
          <a:xfrm rot="10800000">
            <a:off x="3886200" y="1690200"/>
            <a:ext cx="503856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сюда самым ясны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ом следу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что Бог един, т.е. чт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вещей существу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лько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а субстан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эта субстанц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о бесконечн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что вещь протяжён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щь мыслящая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extensa et res cogitans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ют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трибут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состояния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модусы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ов Бог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4574520" y="6153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0"/>
          <p:cNvSpPr/>
          <p:nvPr/>
        </p:nvSpPr>
        <p:spPr>
          <a:xfrm>
            <a:off x="2016000" y="3130560"/>
            <a:ext cx="216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ролларии 1 и 2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14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1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nodeType="clickEffect" fill="hold">
                      <p:stCondLst>
                        <p:cond delay="indefinite"/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1" descr="Spinoza (2-med)"/>
          <p:cNvPicPr/>
          <p:nvPr/>
        </p:nvPicPr>
        <p:blipFill>
          <a:blip r:embed="rId1"/>
          <a:stretch/>
        </p:blipFill>
        <p:spPr>
          <a:xfrm>
            <a:off x="7197840" y="358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30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необходимости божеств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должно вытек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е множество вещ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 многими способ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 дей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 законам своей при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ез чьего-либо прин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манентная прич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х вещ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действующая изв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, что только существуе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ет в Бог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без Бог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ни существов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ыть представляе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есть производящая причин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х веще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ие только могу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ть представле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ым разу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4"/>
          <p:cNvSpPr/>
          <p:nvPr/>
        </p:nvSpPr>
        <p:spPr>
          <a:xfrm>
            <a:off x="4680360" y="154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5"/>
          <p:cNvSpPr/>
          <p:nvPr/>
        </p:nvSpPr>
        <p:spPr>
          <a:xfrm>
            <a:off x="5760000" y="262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6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6838920" y="3598920"/>
            <a:ext cx="176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ролларий 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16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1332360" y="478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2412000" y="586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8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2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nodeType="clickEffect" fill="hold">
                      <p:stCondLst>
                        <p:cond delay="0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nodeType="clickEffect" fill="hold">
                      <p:stCondLst>
                        <p:cond delay="indefinite"/>
                      </p:stCondLst>
                      <p:childTnLst>
                        <p:par>
                          <p:cTn id="1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nodeType="clickEffect" fill="hold">
                      <p:stCondLst>
                        <p:cond delay="indefinite"/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нтеизм: природа творящая и сотворё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4"/>
          <p:cNvSpPr/>
          <p:nvPr/>
        </p:nvSpPr>
        <p:spPr>
          <a:xfrm rot="10800000">
            <a:off x="3598560" y="1545840"/>
            <a:ext cx="5398920" cy="4570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ой порождаю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м должно понимать т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само по себ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ся само через себ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ыми словами, такие атрибут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станции, которые выраж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чную и бесконечную сущ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Бога, поскольку 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сматривается как свобод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ина. А 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ождённ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я понимаю всё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вытекает из необходим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Бога, т.е. все модус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ов Бога, поскольку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сматриваются как вещ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существуют в Бог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4501440" y="6261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2233440" y="4570560"/>
            <a:ext cx="161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29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357120" y="1619280"/>
            <a:ext cx="352764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анте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παν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ё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θεός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лигиозно-философск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трина, согласно котор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 и мир суть од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Бог имманентен миру),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ук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: «Бог во всём» и/ил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сё божествен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9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0" descr="Spinoza (2-med)"/>
          <p:cNvPicPr/>
          <p:nvPr/>
        </p:nvPicPr>
        <p:blipFill>
          <a:blip r:embed="rId1"/>
          <a:stretch/>
        </p:blipFill>
        <p:spPr>
          <a:xfrm>
            <a:off x="7197840" y="358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ь, которая определена 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му-либо действию, необходим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а таким образом Бог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а себя определить не мож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гли быть произведе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ом никаким другим образ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 в каком другом порядк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ед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по нашему представлен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ходится во власти Бог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 существ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вещ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 ничего случайно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 вс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о из необходим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жественной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ь, которая определена Бог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му-либо действию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а себя сдел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определённой к н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4680360" y="154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29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5760000" y="262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26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6"/>
          <p:cNvSpPr/>
          <p:nvPr/>
        </p:nvSpPr>
        <p:spPr>
          <a:xfrm>
            <a:off x="6934680" y="370692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2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1332360" y="478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33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8"/>
          <p:cNvSpPr/>
          <p:nvPr/>
        </p:nvSpPr>
        <p:spPr>
          <a:xfrm>
            <a:off x="2412000" y="586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3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21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8" dur="indefinite" restart="never" nodeType="tmRoot">
          <p:childTnLst>
            <p:seq>
              <p:cTn id="1689" dur="indefinite" nodeType="mainSeq">
                <p:childTnLst>
                  <p:par>
                    <p:cTn id="1690" nodeType="clickEffect" fill="hold">
                      <p:stCondLst>
                        <p:cond delay="0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nodeType="clickEffect" fill="hold">
                      <p:stCondLst>
                        <p:cond delay="indefinite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nodeType="clickEffect" fill="hold">
                      <p:stCondLst>
                        <p:cond delay="indefinite"/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 rot="10800000">
            <a:off x="4173480" y="1582200"/>
            <a:ext cx="485784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вободн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зыв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ая вещь, котор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по одной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сти сво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ственной природы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еделяется к действ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лько сама собой.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бходим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же и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учше сказать,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инуждё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зывается такая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тор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м-либо иным опреде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существованию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ию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 известному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ённому образ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4717080" y="6153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2384640" y="4497480"/>
            <a:ext cx="19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ределение 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669960" y="1654200"/>
            <a:ext cx="3598920" cy="25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личие между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вобод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свобод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в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сутств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личии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детерминац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в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обще нет нич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етерминированного), 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шь в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личии характера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этой детермин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8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6" dur="indefinite" restart="never" nodeType="tmRoot">
          <p:childTnLst>
            <p:seq>
              <p:cTn id="1767" dur="indefinite" nodeType="mainSeq">
                <p:childTnLst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nodeType="clickEffect" fill="hold">
                      <p:stCondLst>
                        <p:cond delay="indefinite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13"/>
          <p:cNvSpPr/>
          <p:nvPr/>
        </p:nvSpPr>
        <p:spPr>
          <a:xfrm>
            <a:off x="4317840" y="4462560"/>
            <a:ext cx="486000" cy="1295280"/>
          </a:xfrm>
          <a:prstGeom prst="downArrow">
            <a:avLst>
              <a:gd name="adj1" fmla="val 50000"/>
              <a:gd name="adj2" fmla="val 666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2"/>
          <p:cNvSpPr/>
          <p:nvPr/>
        </p:nvSpPr>
        <p:spPr>
          <a:xfrm>
            <a:off x="4911840" y="42559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1"/>
          <p:cNvSpPr/>
          <p:nvPr/>
        </p:nvSpPr>
        <p:spPr>
          <a:xfrm>
            <a:off x="3417840" y="42559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0"/>
          <p:cNvSpPr/>
          <p:nvPr/>
        </p:nvSpPr>
        <p:spPr>
          <a:xfrm>
            <a:off x="5829480" y="31226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9"/>
          <p:cNvSpPr/>
          <p:nvPr/>
        </p:nvSpPr>
        <p:spPr>
          <a:xfrm>
            <a:off x="2571840" y="31226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Геометрический мето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3"/>
          <p:cNvSpPr/>
          <p:nvPr/>
        </p:nvSpPr>
        <p:spPr>
          <a:xfrm>
            <a:off x="1150920" y="2500200"/>
            <a:ext cx="251928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сио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4"/>
          <p:cNvSpPr/>
          <p:nvPr/>
        </p:nvSpPr>
        <p:spPr>
          <a:xfrm>
            <a:off x="5468760" y="2500200"/>
            <a:ext cx="251964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у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3309840" y="363384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ор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>
            <a:off x="898560" y="4767120"/>
            <a:ext cx="251928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Ле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5649840" y="4767120"/>
            <a:ext cx="251928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оролла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>
            <a:off x="3309840" y="575784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хо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5"/>
          <p:cNvSpPr/>
          <p:nvPr/>
        </p:nvSpPr>
        <p:spPr>
          <a:xfrm>
            <a:off x="4317840" y="2338560"/>
            <a:ext cx="486000" cy="1295280"/>
          </a:xfrm>
          <a:prstGeom prst="downArrow">
            <a:avLst>
              <a:gd name="adj1" fmla="val 50000"/>
              <a:gd name="adj2" fmla="val 666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6"/>
          <p:cNvSpPr/>
          <p:nvPr/>
        </p:nvSpPr>
        <p:spPr>
          <a:xfrm>
            <a:off x="3309840" y="151128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9" dur="indefinite" restart="never" nodeType="tmRoot">
          <p:childTnLst>
            <p:seq>
              <p:cTn id="1790" dur="indefinite" nodeType="mainSeq">
                <p:childTnLst>
                  <p:par>
                    <p:cTn id="1791" nodeType="clickEffect" fill="hold">
                      <p:stCondLst>
                        <p:cond delay="indefinite"/>
                      </p:stCondLst>
                      <p:childTnLst>
                        <p:par>
                          <p:cTn id="1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nodeType="clickEffect" fill="hold">
                      <p:stCondLst>
                        <p:cond delay="indefinite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nodeType="clickEffect" fill="hold">
                      <p:stCondLst>
                        <p:cond delay="indefinite"/>
                      </p:stCondLst>
                      <p:childTnLst>
                        <p:par>
                          <p:cTn id="1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nodeType="clickEffect" fill="hold">
                      <p:stCondLst>
                        <p:cond delay="indefinite"/>
                      </p:stCondLst>
                      <p:childTnLst>
                        <p:par>
                          <p:cTn id="1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nodeType="clickEffect" fill="hold">
                      <p:stCondLst>
                        <p:cond delay="indefinite"/>
                      </p:stCondLst>
                      <p:childTnLst>
                        <p:par>
                          <p:cTn id="1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nodeType="clickEffect" fill="hold">
                      <p:stCondLst>
                        <p:cond delay="indefinite"/>
                      </p:stCondLst>
                      <p:childTnLst>
                        <p:par>
                          <p:cTn id="1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770400" y="6041880"/>
            <a:ext cx="317700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копия утраченного портрета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боты Ф. Хальс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389480" y="3057480"/>
            <a:ext cx="45338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, или Трактат о свет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суждение о метод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мышления о перво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оначала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7" descr="Uknown (after Hals), Descartes (c 1650, Louvre)_red"/>
          <p:cNvPicPr/>
          <p:nvPr/>
        </p:nvPicPr>
        <p:blipFill>
          <a:blip r:embed="rId1"/>
          <a:stretch/>
        </p:blipFill>
        <p:spPr>
          <a:xfrm>
            <a:off x="466560" y="1619280"/>
            <a:ext cx="369900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95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9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яжение составляет атрибу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ыми словами Бог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ь протяжённая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extensa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вытекает из бесконеч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Бог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альн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том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е и той же связи проистек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Боге из его иде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ая и логическая необходи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ядок и связь идей те ж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порядок и связь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шление составляет атрибу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ыми словам Бог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ь мыслящая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cogitans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станция мыслящая и субстан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яжённая составляю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у и т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 субстанцию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ассматриваем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разными атрибу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4"/>
          <p:cNvSpPr/>
          <p:nvPr/>
        </p:nvSpPr>
        <p:spPr>
          <a:xfrm>
            <a:off x="4680000" y="154620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5"/>
          <p:cNvSpPr/>
          <p:nvPr/>
        </p:nvSpPr>
        <p:spPr>
          <a:xfrm>
            <a:off x="5723280" y="262584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2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6"/>
          <p:cNvSpPr/>
          <p:nvPr/>
        </p:nvSpPr>
        <p:spPr>
          <a:xfrm>
            <a:off x="6840000" y="3598920"/>
            <a:ext cx="155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и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7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7"/>
          <p:cNvSpPr/>
          <p:nvPr/>
        </p:nvSpPr>
        <p:spPr>
          <a:xfrm>
            <a:off x="1223640" y="4678200"/>
            <a:ext cx="157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роллар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7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8"/>
          <p:cNvSpPr/>
          <p:nvPr/>
        </p:nvSpPr>
        <p:spPr>
          <a:xfrm>
            <a:off x="2519640" y="586584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9" descr="Spinoza (2-med)"/>
          <p:cNvPicPr/>
          <p:nvPr/>
        </p:nvPicPr>
        <p:blipFill>
          <a:blip r:embed="rId1"/>
          <a:stretch/>
        </p:blipFill>
        <p:spPr>
          <a:xfrm>
            <a:off x="7197840" y="1366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4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nodeType="clickEffect" fill="hold">
                      <p:stCondLst>
                        <p:cond delay="indefinite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nodeType="clickEffect" fill="hold">
                      <p:stCondLst>
                        <p:cond delay="indefinite"/>
                      </p:stCondLst>
                      <p:childTnLst>
                        <p:par>
                          <p:cTn id="1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nodeType="clickEffect" fill="hold">
                      <p:stCondLst>
                        <p:cond delay="indefinite"/>
                      </p:stCondLst>
                      <p:childTnLst>
                        <p:par>
                          <p:cTn id="1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ая и логическая необходи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3"/>
          <p:cNvSpPr/>
          <p:nvPr/>
        </p:nvSpPr>
        <p:spPr>
          <a:xfrm rot="10800000">
            <a:off x="3669840" y="1690200"/>
            <a:ext cx="52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уг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уществующий в природ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 этого кру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ходящая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же в Боге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 одна и та ж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ь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ыраженная различны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ами. Так что, будем 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представлять природу п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ом протяжения, или п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ом мышления, или п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-либо иным атрибу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во всех случаях найд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 и тот же порядок, ины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ми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у и ту же связ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что те же сам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и следуют друг за друг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4466520" y="6153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2233440" y="3238560"/>
            <a:ext cx="148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8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2" dur="indefinite" restart="never" nodeType="tmRoot">
          <p:childTnLst>
            <p:seq>
              <p:cTn id="1933" dur="indefinite" nodeType="mainSeq">
                <p:childTnLst>
                  <p:par>
                    <p:cTn id="1934" nodeType="clickEffect" fill="hold">
                      <p:stCondLst>
                        <p:cond delay="indefinite"/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8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3"/>
          <p:cNvSpPr/>
          <p:nvPr/>
        </p:nvSpPr>
        <p:spPr>
          <a:xfrm>
            <a:off x="3165480" y="1690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AutoShape 4"/>
          <p:cNvCxnSpPr/>
          <p:nvPr/>
        </p:nvCxnSpPr>
        <p:spPr>
          <a:xfrm>
            <a:off x="4605480" y="276984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20" name="Line 5"/>
          <p:cNvSpPr/>
          <p:nvPr/>
        </p:nvSpPr>
        <p:spPr>
          <a:xfrm>
            <a:off x="2338560" y="313056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6"/>
          <p:cNvSpPr/>
          <p:nvPr/>
        </p:nvSpPr>
        <p:spPr>
          <a:xfrm>
            <a:off x="3525840" y="3490920"/>
            <a:ext cx="215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ассу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AutoShape 7"/>
          <p:cNvCxnSpPr/>
          <p:nvPr/>
        </p:nvCxnSpPr>
        <p:spPr>
          <a:xfrm>
            <a:off x="460548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23" name="AutoShape 8"/>
          <p:cNvSpPr/>
          <p:nvPr/>
        </p:nvSpPr>
        <p:spPr>
          <a:xfrm>
            <a:off x="1258920" y="3490920"/>
            <a:ext cx="215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н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ооб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AutoShape 9"/>
          <p:cNvCxnSpPr/>
          <p:nvPr/>
        </p:nvCxnSpPr>
        <p:spPr>
          <a:xfrm>
            <a:off x="233856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25" name="AutoShape 10"/>
          <p:cNvCxnSpPr/>
          <p:nvPr/>
        </p:nvCxnSpPr>
        <p:spPr>
          <a:xfrm>
            <a:off x="2338560" y="457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26" name="AutoShape 11"/>
          <p:cNvSpPr/>
          <p:nvPr/>
        </p:nvSpPr>
        <p:spPr>
          <a:xfrm>
            <a:off x="179280" y="5289480"/>
            <a:ext cx="2087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знание через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беспорядочный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пы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AutoShape 12"/>
          <p:cNvCxnSpPr/>
          <p:nvPr/>
        </p:nvCxnSpPr>
        <p:spPr>
          <a:xfrm>
            <a:off x="1221840" y="492876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28" name="AutoShape 13"/>
          <p:cNvSpPr/>
          <p:nvPr/>
        </p:nvSpPr>
        <p:spPr>
          <a:xfrm>
            <a:off x="2409840" y="5289480"/>
            <a:ext cx="2087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знани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з зна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4"/>
          <p:cNvSpPr/>
          <p:nvPr/>
        </p:nvSpPr>
        <p:spPr>
          <a:xfrm>
            <a:off x="1222200" y="4929120"/>
            <a:ext cx="1116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5"/>
          <p:cNvSpPr/>
          <p:nvPr/>
        </p:nvSpPr>
        <p:spPr>
          <a:xfrm>
            <a:off x="2338560" y="4929120"/>
            <a:ext cx="111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AutoShape 16"/>
          <p:cNvCxnSpPr/>
          <p:nvPr/>
        </p:nvCxnSpPr>
        <p:spPr>
          <a:xfrm>
            <a:off x="3454560" y="492876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32" name="Line 17"/>
          <p:cNvSpPr/>
          <p:nvPr/>
        </p:nvSpPr>
        <p:spPr>
          <a:xfrm>
            <a:off x="4605480" y="313056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AutoShape 18"/>
          <p:cNvCxnSpPr/>
          <p:nvPr/>
        </p:nvCxnSpPr>
        <p:spPr>
          <a:xfrm>
            <a:off x="687240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34" name="AutoShape 19"/>
          <p:cNvSpPr/>
          <p:nvPr/>
        </p:nvSpPr>
        <p:spPr>
          <a:xfrm>
            <a:off x="5792760" y="3490920"/>
            <a:ext cx="215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Интуи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AutoShape 20"/>
          <p:cNvCxnSpPr/>
          <p:nvPr/>
        </p:nvCxnSpPr>
        <p:spPr>
          <a:xfrm>
            <a:off x="4605480" y="457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36" name="Line 21"/>
          <p:cNvSpPr/>
          <p:nvPr/>
        </p:nvSpPr>
        <p:spPr>
          <a:xfrm>
            <a:off x="4605480" y="4929120"/>
            <a:ext cx="107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22"/>
          <p:cNvSpPr/>
          <p:nvPr/>
        </p:nvSpPr>
        <p:spPr>
          <a:xfrm>
            <a:off x="4641840" y="5289480"/>
            <a:ext cx="2087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знание из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бщих пон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AutoShape 23"/>
          <p:cNvCxnSpPr/>
          <p:nvPr/>
        </p:nvCxnSpPr>
        <p:spPr>
          <a:xfrm>
            <a:off x="5684400" y="492876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39" name="AutoShape 24"/>
          <p:cNvCxnSpPr/>
          <p:nvPr/>
        </p:nvCxnSpPr>
        <p:spPr>
          <a:xfrm>
            <a:off x="6872400" y="457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40" name="Line 25"/>
          <p:cNvSpPr/>
          <p:nvPr/>
        </p:nvSpPr>
        <p:spPr>
          <a:xfrm>
            <a:off x="6872400" y="4929120"/>
            <a:ext cx="1042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AutoShape 26"/>
          <p:cNvCxnSpPr/>
          <p:nvPr/>
        </p:nvCxnSpPr>
        <p:spPr>
          <a:xfrm>
            <a:off x="7916400" y="492876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42" name="AutoShape 27"/>
          <p:cNvSpPr/>
          <p:nvPr/>
        </p:nvSpPr>
        <p:spPr>
          <a:xfrm>
            <a:off x="6872400" y="5289480"/>
            <a:ext cx="2087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посредствен-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ое усмотрени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ущности вещ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9" dur="indefinite" restart="never" nodeType="tmRoot">
          <p:childTnLst>
            <p:seq>
              <p:cTn id="1950" dur="indefinite" nodeType="mainSeq">
                <p:childTnLst>
                  <p:par>
                    <p:cTn id="1951" nodeType="clickEffect" fill="hold">
                      <p:stCondLst>
                        <p:cond delay="indefinite"/>
                      </p:stCondLst>
                      <p:childTnLst>
                        <p:par>
                          <p:cTn id="1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nodeType="clickEffect" fill="hold">
                      <p:stCondLst>
                        <p:cond delay="indefinite"/>
                      </p:stCondLst>
                      <p:childTnLst>
                        <p:par>
                          <p:cTn id="1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3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nodeType="clickEffect" fill="hold">
                      <p:stCondLst>
                        <p:cond delay="indefinite"/>
                      </p:stCondLst>
                      <p:childTnLst>
                        <p:par>
                          <p:cTn id="1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nodeType="clickEffect" fill="hold">
                      <p:stCondLst>
                        <p:cond delay="indefinite"/>
                      </p:stCondLst>
                      <p:childTnLst>
                        <p:par>
                          <p:cTn id="1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nodeType="clickEffect" fill="hold">
                      <p:stCondLst>
                        <p:cond delay="indefinite"/>
                      </p:stCondLst>
                      <p:childTnLst>
                        <p:par>
                          <p:cTn id="2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nodeType="clickEffect" fill="hold">
                      <p:stCondLst>
                        <p:cond delay="indefinite"/>
                      </p:stCondLst>
                      <p:childTnLst>
                        <p:par>
                          <p:cTn id="2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2"/>
          <p:cNvSpPr/>
          <p:nvPr/>
        </p:nvSpPr>
        <p:spPr>
          <a:xfrm rot="10800000">
            <a:off x="4317840" y="1978200"/>
            <a:ext cx="446256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е первого рода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мнение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 или 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воображени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а лож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е же второго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рассудок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етьего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интуиция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од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 истинн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3"/>
          <p:cNvSpPr/>
          <p:nvPr/>
        </p:nvSpPr>
        <p:spPr>
          <a:xfrm>
            <a:off x="4717080" y="5937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4"/>
          <p:cNvSpPr/>
          <p:nvPr/>
        </p:nvSpPr>
        <p:spPr>
          <a:xfrm>
            <a:off x="2594520" y="323856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4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5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4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4" dur="indefinite" restart="never" nodeType="tmRoot">
          <p:childTnLst>
            <p:seq>
              <p:cTn id="2075" dur="indefinite" nodeType="mainSeq">
                <p:childTnLst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ффект может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граничен или уничтоже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противоположным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ее сильным аффек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[Интеллектуальная]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бовь к Богу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третий, высший, род познания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ет самое высшее бла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которому мы можем стрем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тика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ум и своб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ознание если и н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чтож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фект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, по крайней мер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игает того, что они составля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именьшую часть ду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душе нет никакой абсолютной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ной воли;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хотению душ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еделяется причино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а другой причиной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двух благ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ы по руководств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а будем следов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óльше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двух зо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ньш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4680360" y="154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48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5759640" y="262584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6839640" y="370692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6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6"/>
          <p:cNvSpPr/>
          <p:nvPr/>
        </p:nvSpPr>
        <p:spPr>
          <a:xfrm>
            <a:off x="831600" y="4678200"/>
            <a:ext cx="200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ы 20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7"/>
          <p:cNvSpPr/>
          <p:nvPr/>
        </p:nvSpPr>
        <p:spPr>
          <a:xfrm>
            <a:off x="2304360" y="5757840"/>
            <a:ext cx="168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и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20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9" descr="Spinoza (2-med)"/>
          <p:cNvPicPr/>
          <p:nvPr/>
        </p:nvPicPr>
        <p:blipFill>
          <a:blip r:embed="rId1"/>
          <a:stretch/>
        </p:blipFill>
        <p:spPr>
          <a:xfrm>
            <a:off x="7197840" y="358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4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nodeType="clickEffect" fill="hold">
                      <p:stCondLst>
                        <p:cond delay="indefinite"/>
                      </p:stCondLst>
                      <p:childTnLst>
                        <p:par>
                          <p:cTn id="2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nodeType="clickEffect" fill="hold">
                      <p:stCondLst>
                        <p:cond delay="indefinite"/>
                      </p:stCondLst>
                      <p:childTnLst>
                        <p:par>
                          <p:cTn id="2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2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nodeType="clickEffect" fill="hold">
                      <p:stCondLst>
                        <p:cond delay="indefinite"/>
                      </p:stCondLst>
                      <p:childTnLst>
                        <p:par>
                          <p:cTn id="2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7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nodeType="clickEffect" fill="hold">
                      <p:stCondLst>
                        <p:cond delay="indefinite"/>
                      </p:stCondLst>
                      <p:childTnLst>
                        <p:par>
                          <p:cTn id="2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2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nodeType="clickEffect" fill="hold">
                      <p:stCondLst>
                        <p:cond delay="indefinite"/>
                      </p:stCondLst>
                      <p:childTnLst>
                        <p:par>
                          <p:cTn id="2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7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3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4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3" dur="indefinite" restart="never" nodeType="tmRoot">
          <p:childTnLst>
            <p:seq>
              <p:cTn id="2164" dur="indefinite" nodeType="mainSeq">
                <p:childTnLst>
                  <p:par>
                    <p:cTn id="2165" nodeType="clickEffect" fill="hold">
                      <p:stCondLst>
                        <p:cond delay="0"/>
                      </p:stCondLst>
                      <p:childTnLst>
                        <p:par>
                          <p:cTn id="2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nodeType="clickEffect" fill="hold">
                      <p:stCondLst>
                        <p:cond delay="indefinite"/>
                      </p:stCondLst>
                      <p:childTnLst>
                        <p:par>
                          <p:cTn id="2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4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nodeType="clickEffect" fill="hold">
                      <p:stCondLst>
                        <p:cond delay="indefinite"/>
                      </p:stCondLst>
                      <p:childTnLst>
                        <p:par>
                          <p:cTn id="2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5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0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1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стический рац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Де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дикальное сом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Я мыслю, следовательно, существую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я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тественный свет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 Де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ализм духа и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бстанции и их атрибу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ние пустого пространства и психики живо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ественный свет разума («врождённые идеи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Шишковидная желез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 в картезианстве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казионализм А. Гейлинкса и Н. Мальбран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е необходимо до основа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рушить эту постройк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я хочу установить в наук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-то прочное и постоян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ко, коль скор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себ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чём-то убеди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начи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всё же существова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дикальное сом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ий раз, как я произношу слова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«Я существую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воспринима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ысказывание умом, о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сти является исти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ишком многие ложные мнения 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имал за истинны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слиш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мнительны положения, принят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е этих ложных м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допускаю, что всё видимое мно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жно и предполагаю никогда 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вшим всё, что я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амять; 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лностью лишён чув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4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мнение есть акт мысл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сомневаюс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мыс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ё собственное существование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сомненная ис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Я мыслю, следовательно, существу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раз моя увере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обственном существова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иждется на факте мыш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я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ящее сущ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могу усомниться во всём,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не в том, 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сомневаюс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самим фактом сомнения я лиш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тверждаю, что сомневаю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я не мог бы мыслить,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уществовал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мыслю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едовательно я существ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1334880" y="5942160"/>
            <a:ext cx="2341800" cy="485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gito ergo sum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5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6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 из моих наиболее ясных ид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 Бог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идея бесконечно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зависимой, в высшей степе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ной и всемогущей субста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 Бога не может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едена из каких-то других ид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содержит в себ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и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 любая другая ид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я Б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 Бога может исходить лишь о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о, что содержит в себе не мен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и, чем мыслится в эт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е, т.е.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самого Б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мыслящее существо, я нахож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еб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ожество иде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дни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х представляю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мутны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сными и отчётлив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 Бога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ой субстанции не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ходить от меня сам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 я конеч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4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5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даж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сные и отчётливые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гли разве быть вложены в мен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-нибудь могуществен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локозненным обманщик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, чтобы Бог мен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манывал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едь во всяком обма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лючено нечто несовершенное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хотел, чтобы я заблужда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тественный свет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я могу доверя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ественному свету разум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условии, конечн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правильно им пользую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касается других идей, 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мутны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я, по-видим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у полагаться как на исти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тя я ощущаю в себ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жде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зволяющ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личать истину от заблужд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гу ли я полагаться на неё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4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Принимать за истинное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, что представляется моему у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ль ясно и отчётливо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дать повод к сом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) Располагать свои мы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пределённ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ядк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чи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предметов простейших и восход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епенно до наиболее слож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) Делать перечни столь полны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зоры столь всеохватывающ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 быть уверен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чего не пропуще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место большого числа прави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ющих логику, достаточ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тырё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едующих, лишь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людать их без отступ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дую из труд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столько частей, ск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ребуется, чтобы луч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разреш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3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4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8T15:00:42Z</dcterms:created>
  <dc:creator>Николай Бирюков / Nikolai Biryukov</dc:creator>
  <dc:description>Редакция февраля 2007 г.</dc:description>
  <dc:language>en-US</dc:language>
  <cp:lastModifiedBy>LEGION</cp:lastModifiedBy>
  <dcterms:modified xsi:type="dcterms:W3CDTF">2014-11-11T09:01:36Z</dcterms:modified>
  <cp:revision>229</cp:revision>
  <dc:subject>Основы философии - Тема 11</dc:subject>
  <dc:title>Декарт и Спиноза: Обоснование рационализма</dc:title>
</cp:coreProperties>
</file>