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2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200D-4601-4584-BF6B-D7B2540B5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69AD-105F-45D3-86A8-F1611507E9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3116-24CF-4B3C-AE49-0B86D979B7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4861-B3A5-43D7-9B57-856C908CCA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DEB0-99EF-4758-BBAD-C8AFA316D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4496-A98F-4E09-BE7C-173D1485A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681A-C704-4A17-83BD-A542703E7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AC07-260F-4FF3-A946-F5B6D8E94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DFA4-37C8-414E-9A89-04A3A603CF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22C9-8D5F-40ED-AFDC-8B5D87C6A2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D539-3F67-4CB0-8DE1-CF4B27586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0A66-72B6-4AEE-9448-08E02CB2D0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602B-1085-4BEB-9C2E-1FEE81A739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C6B2-F7F8-485D-BE67-52EE3A78B6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DAB2-B3F1-46AC-988C-76112BE19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(166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(167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тика (1663-16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2142-5041-45B7-911C-EE84EB4DE4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750A-48DD-42AF-94D4-C15EA05338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CEA9-21D9-4ADC-9DEA-C71C40648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6672-CD55-4A81-9811-6800DBE942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5AA5-FCCA-4D79-8BA5-81C80DECE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1662-964C-4EA3-AFAE-197FE26D70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F7F5-CAC4-4FE5-A5E5-BEFE5F77E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6485-92C5-40F2-B296-2EBEC54EB5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4151-A304-49E2-A46E-01802A3029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ир, или Трактат о свете (163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ссуждение о методе (16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философии (16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оначала философии (164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194F-B5ED-445E-B8A3-0BCBAB2F19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949F6-D157-4ECB-B6A7-0AB7528A6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477-BCE5-438A-BD6A-06C5116424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F049-1466-4ABD-AA1B-59FE2A1CA4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2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2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40DD-985E-47F9-BD7E-A8DC798CE4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1AC6-35FE-4B66-9DCC-5C75FF5232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9264-0D57-4148-ABE6-92650FC0B3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99E8-C9FE-4110-8B96-69ADDDDB66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3C9D-1DA4-4659-ADCB-2376AA834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17C-8CDC-491E-9E4D-74EC864D25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AD18-061D-4CB3-A599-4EFF73FA68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3265-D095-46A1-BF75-21197F2014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190-21FC-4CC1-B043-F30B3796F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DA30-EEA3-4668-865C-C122C1BD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140-B07B-4F28-9885-430C1623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1757-CAAC-4DED-80BA-3B89AF5D7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319-0207-440C-BE76-D3281909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C05-2AD6-4179-996C-7CD55A11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C4A7-9CD4-4D52-97D5-63FD36D6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232-E52B-4DB6-BCBC-DAE1D8EEB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FC0F-58C5-43E1-94D1-C60004181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E33-B9BB-4C0F-98FC-B9B9DE5B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D44-A7D6-4538-85FA-251928BF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FC1-D003-48F2-9A11-A13E1A55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44CA-0B6E-46D5-A4F1-6B0B9D8F33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карт и Спиноза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рационал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96584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95748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46256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10200" y="28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4713120" y="287820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2949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320184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3454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95748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4210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3"/>
          <p:cNvSpPr/>
          <p:nvPr/>
        </p:nvSpPr>
        <p:spPr>
          <a:xfrm>
            <a:off x="44625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4965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5"/>
          <p:cNvSpPr/>
          <p:nvPr/>
        </p:nvSpPr>
        <p:spPr>
          <a:xfrm>
            <a:off x="521820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6"/>
          <p:cNvSpPr/>
          <p:nvPr/>
        </p:nvSpPr>
        <p:spPr>
          <a:xfrm>
            <a:off x="370692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7"/>
          <p:cNvSpPr/>
          <p:nvPr/>
        </p:nvSpPr>
        <p:spPr>
          <a:xfrm>
            <a:off x="471312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8"/>
          <p:cNvSpPr/>
          <p:nvPr/>
        </p:nvSpPr>
        <p:spPr>
          <a:xfrm>
            <a:off x="5468760" y="1798560"/>
            <a:ext cx="252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9"/>
          <p:cNvSpPr/>
          <p:nvPr/>
        </p:nvSpPr>
        <p:spPr>
          <a:xfrm>
            <a:off x="572148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597384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"/>
          <p:cNvSpPr/>
          <p:nvPr/>
        </p:nvSpPr>
        <p:spPr>
          <a:xfrm>
            <a:off x="6224760" y="179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2"/>
          <p:cNvSpPr/>
          <p:nvPr/>
        </p:nvSpPr>
        <p:spPr>
          <a:xfrm>
            <a:off x="4840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3"/>
          <p:cNvSpPr/>
          <p:nvPr/>
        </p:nvSpPr>
        <p:spPr>
          <a:xfrm>
            <a:off x="383220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4"/>
          <p:cNvSpPr/>
          <p:nvPr/>
        </p:nvSpPr>
        <p:spPr>
          <a:xfrm>
            <a:off x="433548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5"/>
          <p:cNvSpPr/>
          <p:nvPr/>
        </p:nvSpPr>
        <p:spPr>
          <a:xfrm>
            <a:off x="408456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2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6"/>
          <p:cNvSpPr/>
          <p:nvPr/>
        </p:nvSpPr>
        <p:spPr>
          <a:xfrm>
            <a:off x="458784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7"/>
          <p:cNvSpPr/>
          <p:nvPr/>
        </p:nvSpPr>
        <p:spPr>
          <a:xfrm>
            <a:off x="5091120" y="233856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8"/>
          <p:cNvSpPr/>
          <p:nvPr/>
        </p:nvSpPr>
        <p:spPr>
          <a:xfrm>
            <a:off x="458784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9"/>
          <p:cNvSpPr/>
          <p:nvPr/>
        </p:nvSpPr>
        <p:spPr>
          <a:xfrm>
            <a:off x="484020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0"/>
          <p:cNvSpPr/>
          <p:nvPr/>
        </p:nvSpPr>
        <p:spPr>
          <a:xfrm>
            <a:off x="5091120" y="395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1"/>
          <p:cNvSpPr/>
          <p:nvPr/>
        </p:nvSpPr>
        <p:spPr>
          <a:xfrm>
            <a:off x="458784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484020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5091120" y="431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4"/>
          <p:cNvSpPr/>
          <p:nvPr/>
        </p:nvSpPr>
        <p:spPr>
          <a:xfrm>
            <a:off x="3832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5"/>
          <p:cNvSpPr/>
          <p:nvPr/>
        </p:nvSpPr>
        <p:spPr>
          <a:xfrm>
            <a:off x="408456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6"/>
          <p:cNvSpPr/>
          <p:nvPr/>
        </p:nvSpPr>
        <p:spPr>
          <a:xfrm>
            <a:off x="433548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7"/>
          <p:cNvSpPr/>
          <p:nvPr/>
        </p:nvSpPr>
        <p:spPr>
          <a:xfrm>
            <a:off x="458784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484020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5091120" y="575784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433548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458784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4840200" y="503712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433548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458784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484020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5091120" y="467820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383220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08456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33548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587840" y="5397480"/>
            <a:ext cx="25236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51"/>
          <p:cNvSpPr/>
          <p:nvPr/>
        </p:nvSpPr>
        <p:spPr>
          <a:xfrm>
            <a:off x="358920" y="266220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 и отчётли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52"/>
          <p:cNvSpPr/>
          <p:nvPr/>
        </p:nvSpPr>
        <p:spPr>
          <a:xfrm>
            <a:off x="358920" y="352584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ение на ча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до достиж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ной яс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3"/>
          <p:cNvSpPr/>
          <p:nvPr/>
        </p:nvSpPr>
        <p:spPr>
          <a:xfrm>
            <a:off x="358920" y="438948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дователь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от прост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сложном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4"/>
          <p:cNvSpPr/>
          <p:nvPr/>
        </p:nvSpPr>
        <p:spPr>
          <a:xfrm>
            <a:off x="358920" y="5253120"/>
            <a:ext cx="269856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речни и обзор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чтобы нич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упусти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5"/>
          <p:cNvSpPr/>
          <p:nvPr/>
        </p:nvSpPr>
        <p:spPr>
          <a:xfrm>
            <a:off x="7556400" y="266220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57"/>
          <p:cNvSpPr/>
          <p:nvPr/>
        </p:nvSpPr>
        <p:spPr>
          <a:xfrm>
            <a:off x="7556400" y="352584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8"/>
          <p:cNvSpPr/>
          <p:nvPr/>
        </p:nvSpPr>
        <p:spPr>
          <a:xfrm>
            <a:off x="7556400" y="438948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59"/>
          <p:cNvSpPr/>
          <p:nvPr/>
        </p:nvSpPr>
        <p:spPr>
          <a:xfrm>
            <a:off x="7556400" y="5253120"/>
            <a:ext cx="1258920" cy="863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-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ави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8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3057480" y="1798560"/>
            <a:ext cx="302256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сё сущ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"/>
          <p:cNvSpPr/>
          <p:nvPr/>
        </p:nvSpPr>
        <p:spPr>
          <a:xfrm>
            <a:off x="89856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ыслящи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5218200" y="3381480"/>
            <a:ext cx="302256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яжённые</a:t>
            </a:r>
            <a:br>
              <a:rPr sz="20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>
            <a:off x="4570560" y="287784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8" name="Line 7"/>
          <p:cNvSpPr/>
          <p:nvPr/>
        </p:nvSpPr>
        <p:spPr>
          <a:xfrm>
            <a:off x="2409840" y="3130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AutoShape 8"/>
          <p:cNvCxnSpPr/>
          <p:nvPr/>
        </p:nvCxnSpPr>
        <p:spPr>
          <a:xfrm>
            <a:off x="240984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10" name="AutoShape 9"/>
          <p:cNvCxnSpPr/>
          <p:nvPr/>
        </p:nvCxnSpPr>
        <p:spPr>
          <a:xfrm>
            <a:off x="6729480" y="3130200"/>
            <a:ext cx="2160" cy="253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11" name="AutoShape 11"/>
          <p:cNvSpPr/>
          <p:nvPr/>
        </p:nvSpPr>
        <p:spPr>
          <a:xfrm>
            <a:off x="790560" y="4749840"/>
            <a:ext cx="755820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олагаю, что вес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 причин, направленн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определённой цели, не может иметь никакого примене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бласти физики: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едь я допускаю, что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 легкомыслию можно пытаться прослеживать цели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станции их атрибу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50328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убстанция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substantia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-лежа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вод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ύπόστασι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ует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амостоятель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само по себе)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что устойчивое и постоя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 отличие от изменчив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еходящег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6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4749840" y="3957480"/>
            <a:ext cx="3959280" cy="25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трибут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attributum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данное, приписан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пределяющий призна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качество, предикат) субстанц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аточный для её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нтификации и необходим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её существ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ш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Пустое пространство и психика живот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68256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телесност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протяжённость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устого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4929120" y="1546200"/>
            <a:ext cx="3598920" cy="1258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ождествление психи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логическим мышлени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ёт к отрицанию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сихики у живот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5331240" y="6261120"/>
            <a:ext cx="28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отные – автома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66560" y="611676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олняющая всё простран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движется вихреобраз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7" descr="CIRCLE_LIMIT_III (red)"/>
          <p:cNvPicPr/>
          <p:nvPr/>
        </p:nvPicPr>
        <p:blipFill>
          <a:blip r:embed="rId1"/>
          <a:stretch/>
        </p:blipFill>
        <p:spPr>
          <a:xfrm>
            <a:off x="934920" y="2986200"/>
            <a:ext cx="3059280" cy="305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betemachine-descartes"/>
          <p:cNvPicPr/>
          <p:nvPr/>
        </p:nvPicPr>
        <p:blipFill>
          <a:blip r:embed="rId2"/>
          <a:stretch/>
        </p:blipFill>
        <p:spPr>
          <a:xfrm>
            <a:off x="5073480" y="2986200"/>
            <a:ext cx="3343320" cy="30574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9" dur="indefinite" restart="never" nodeType="tmRoot">
          <p:childTnLst>
            <p:seq>
              <p:cTn id="960" dur="indefinite" nodeType="mainSeq">
                <p:childTnLst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7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9" autoRev="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800000">
                                      <p:cBhvr>
                                        <p:cTn id="1000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уализм духа и мате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04292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5289480" y="1798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ат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04292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5289480" y="287820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ысл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528948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042920" y="3598920"/>
            <a:ext cx="28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ротяж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104292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е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5289480" y="4317840"/>
            <a:ext cx="28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3"/>
          <p:cNvSpPr/>
          <p:nvPr/>
        </p:nvSpPr>
        <p:spPr>
          <a:xfrm>
            <a:off x="4605480" y="1619280"/>
            <a:ext cx="0" cy="3598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4"/>
          <p:cNvSpPr/>
          <p:nvPr/>
        </p:nvSpPr>
        <p:spPr>
          <a:xfrm>
            <a:off x="1116720" y="5397480"/>
            <a:ext cx="699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дух и материя не имеют друг с другом ничего обще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возможно и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заимодейств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каким образ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ух может иметь идею материального тела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-то о материальных тела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4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Врождённые иде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719280" y="1798560"/>
            <a:ext cx="3419280" cy="360036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2063520" y="5967360"/>
            <a:ext cx="9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 = x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6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4646880" y="5397480"/>
            <a:ext cx="40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вложил в человеческую душ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материальной субстанци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знание об основных закона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ым она подчин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Descartes (3)"/>
          <p:cNvPicPr/>
          <p:nvPr/>
        </p:nvPicPr>
        <p:blipFill>
          <a:blip r:embed="rId2"/>
          <a:stretch/>
        </p:blipFill>
        <p:spPr>
          <a:xfrm>
            <a:off x="5181480" y="1798560"/>
            <a:ext cx="3019680" cy="3267000"/>
          </a:xfrm>
          <a:prstGeom prst="rect">
            <a:avLst/>
          </a:prstGeom>
          <a:ln w="0">
            <a:noFill/>
          </a:ln>
        </p:spPr>
      </p:pic>
      <p:sp>
        <p:nvSpPr>
          <p:cNvPr id="2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nodeType="clickEffect" fill="hold">
                      <p:stCondLst>
                        <p:cond delay="0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1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2"/>
          <p:cNvSpPr/>
          <p:nvPr/>
        </p:nvSpPr>
        <p:spPr>
          <a:xfrm rot="10800000">
            <a:off x="611280" y="2059920"/>
            <a:ext cx="6981840" cy="1468440"/>
          </a:xfrm>
          <a:custGeom>
            <a:avLst/>
            <a:gdLst>
              <a:gd name="textAreaLeft" fmla="*/ 1221840 w 6981840"/>
              <a:gd name="textAreaRight" fmla="*/ 5061960 w 6981840"/>
              <a:gd name="textAreaTop" fmla="*/ 196560 h 1468440"/>
              <a:gd name="textAreaBottom" fmla="*/ 1271880 h 146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«Шишковидная желез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2124000" y="292428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е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7"/>
          <p:cNvSpPr/>
          <p:nvPr/>
        </p:nvSpPr>
        <p:spPr>
          <a:xfrm>
            <a:off x="2122560" y="2925720"/>
            <a:ext cx="1436760" cy="790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ж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1555200" y="5757840"/>
            <a:ext cx="640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кализуемая Декартом в мозгу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ишковидная желез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образу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увственные (физические) воз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мысли и мысли – в физические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" descr="Knight"/>
          <p:cNvPicPr/>
          <p:nvPr/>
        </p:nvPicPr>
        <p:blipFill>
          <a:blip r:embed="rId1"/>
          <a:stretch/>
        </p:blipFill>
        <p:spPr>
          <a:xfrm>
            <a:off x="1582560" y="3525840"/>
            <a:ext cx="1195560" cy="18003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Lion (5)"/>
          <p:cNvPicPr/>
          <p:nvPr/>
        </p:nvPicPr>
        <p:blipFill>
          <a:blip r:embed="rId2"/>
          <a:stretch/>
        </p:blipFill>
        <p:spPr>
          <a:xfrm>
            <a:off x="5900760" y="2770200"/>
            <a:ext cx="2158920" cy="1968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0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3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9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1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3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1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9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after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5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AClock_l"/>
          <p:cNvPicPr/>
          <p:nvPr/>
        </p:nvPicPr>
        <p:blipFill>
          <a:blip r:embed="rId2"/>
          <a:stretch/>
        </p:blipFill>
        <p:spPr>
          <a:xfrm>
            <a:off x="719280" y="3238560"/>
            <a:ext cx="2144520" cy="21445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clock_013"/>
          <p:cNvPicPr/>
          <p:nvPr/>
        </p:nvPicPr>
        <p:blipFill>
          <a:blip r:embed="rId3"/>
          <a:stretch/>
        </p:blipFill>
        <p:spPr>
          <a:xfrm>
            <a:off x="3598920" y="3598920"/>
            <a:ext cx="2144520" cy="285912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9"/>
          <p:cNvSpPr/>
          <p:nvPr/>
        </p:nvSpPr>
        <p:spPr>
          <a:xfrm>
            <a:off x="6368400" y="5757840"/>
            <a:ext cx="256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нольд Гейлинкс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4-16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0"/>
          <p:cNvSpPr/>
          <p:nvPr/>
        </p:nvSpPr>
        <p:spPr>
          <a:xfrm>
            <a:off x="6229800" y="5013360"/>
            <a:ext cx="2648160" cy="3988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Пример двух ча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218520" y="1619280"/>
            <a:ext cx="632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ые и духовные процессы согласованны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бно тому как две пары часов показывают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то же время, хотя они и не взаимодействуют между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бой – об этом позаботился Мудрый Часовщ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nodeType="clickEffect" fill="hold">
                      <p:stCondLst>
                        <p:cond delay="0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5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6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7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j0183290"/>
          <p:cNvPicPr/>
          <p:nvPr/>
        </p:nvPicPr>
        <p:blipFill>
          <a:blip r:embed="rId1"/>
          <a:stretch/>
        </p:blipFill>
        <p:spPr>
          <a:xfrm>
            <a:off x="6837480" y="1978200"/>
            <a:ext cx="1724040" cy="184932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6115680" y="5757840"/>
            <a:ext cx="267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иколя Мальбранш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8-17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ANNIMATEDfelixTHEcat"/>
          <p:cNvPicPr/>
          <p:nvPr/>
        </p:nvPicPr>
        <p:blipFill>
          <a:blip r:embed="rId2"/>
          <a:stretch/>
        </p:blipFill>
        <p:spPr>
          <a:xfrm>
            <a:off x="2338560" y="5229360"/>
            <a:ext cx="3286080" cy="1428480"/>
          </a:xfrm>
          <a:prstGeom prst="rect">
            <a:avLst/>
          </a:prstGeom>
          <a:ln w="0">
            <a:noFill/>
          </a:ln>
        </p:spPr>
      </p:pic>
      <p:sp>
        <p:nvSpPr>
          <p:cNvPr id="270" name="Oval 7"/>
          <p:cNvSpPr/>
          <p:nvPr/>
        </p:nvSpPr>
        <p:spPr>
          <a:xfrm>
            <a:off x="5257800" y="1809720"/>
            <a:ext cx="1371600" cy="1371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ANNIMATEDfelixTHEcat"/>
          <p:cNvPicPr/>
          <p:nvPr/>
        </p:nvPicPr>
        <p:blipFill>
          <a:blip r:embed="rId3"/>
          <a:stretch/>
        </p:blipFill>
        <p:spPr>
          <a:xfrm>
            <a:off x="5397480" y="2241720"/>
            <a:ext cx="1093680" cy="474480"/>
          </a:xfrm>
          <a:prstGeom prst="rect">
            <a:avLst/>
          </a:prstGeom>
          <a:ln w="0">
            <a:noFill/>
          </a:ln>
        </p:spPr>
      </p:pic>
      <p:sp>
        <p:nvSpPr>
          <p:cNvPr id="272" name="Oval 9"/>
          <p:cNvSpPr/>
          <p:nvPr/>
        </p:nvSpPr>
        <p:spPr>
          <a:xfrm>
            <a:off x="2068560" y="2060640"/>
            <a:ext cx="960480" cy="960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0" descr="ANNIMATEDfelixTHEcat"/>
          <p:cNvPicPr/>
          <p:nvPr/>
        </p:nvPicPr>
        <p:blipFill>
          <a:blip r:embed="rId4"/>
          <a:stretch/>
        </p:blipFill>
        <p:spPr>
          <a:xfrm>
            <a:off x="2122560" y="2349360"/>
            <a:ext cx="87156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11"/>
          <p:cNvSpPr/>
          <p:nvPr/>
        </p:nvSpPr>
        <p:spPr>
          <a:xfrm>
            <a:off x="5938200" y="4821120"/>
            <a:ext cx="2812680" cy="703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идение всех вещей</a:t>
            </a:r>
            <a:br>
              <a:rPr sz="2000"/>
            </a:b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 Бог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2"/>
          <p:cNvSpPr/>
          <p:nvPr/>
        </p:nvSpPr>
        <p:spPr>
          <a:xfrm rot="13500000">
            <a:off x="1907280" y="46407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3"/>
          <p:cNvSpPr/>
          <p:nvPr/>
        </p:nvSpPr>
        <p:spPr>
          <a:xfrm flipH="1" flipV="1">
            <a:off x="2039040" y="4521600"/>
            <a:ext cx="763560" cy="763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4"/>
          <p:cNvSpPr/>
          <p:nvPr/>
        </p:nvSpPr>
        <p:spPr>
          <a:xfrm flipH="1">
            <a:off x="2039400" y="4522320"/>
            <a:ext cx="763200" cy="763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5"/>
          <p:cNvSpPr/>
          <p:nvPr/>
        </p:nvSpPr>
        <p:spPr>
          <a:xfrm rot="8700000">
            <a:off x="4235040" y="4078080"/>
            <a:ext cx="2951280" cy="485640"/>
          </a:xfrm>
          <a:prstGeom prst="rightArrow">
            <a:avLst>
              <a:gd name="adj1" fmla="val 50000"/>
              <a:gd name="adj2" fmla="val 15192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6"/>
          <p:cNvSpPr/>
          <p:nvPr/>
        </p:nvSpPr>
        <p:spPr>
          <a:xfrm rot="10800000">
            <a:off x="3165480" y="2230200"/>
            <a:ext cx="1908000" cy="485640"/>
          </a:xfrm>
          <a:prstGeom prst="rightArrow">
            <a:avLst>
              <a:gd name="adj1" fmla="val 50000"/>
              <a:gd name="adj2" fmla="val 982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7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0" descr="Knight"/>
          <p:cNvPicPr/>
          <p:nvPr/>
        </p:nvPicPr>
        <p:blipFill>
          <a:blip r:embed="rId5"/>
          <a:stretch/>
        </p:blipFill>
        <p:spPr>
          <a:xfrm>
            <a:off x="324000" y="2085840"/>
            <a:ext cx="1792080" cy="269892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4" dur="indefinite" restart="never" nodeType="tmRoot">
          <p:childTnLst>
            <p:seq>
              <p:cTn id="1215" dur="indefinite" nodeType="mainSeq">
                <p:childTnLst>
                  <p:par>
                    <p:cTn id="1216" nodeType="clickEffect" fill="hold">
                      <p:stCondLst>
                        <p:cond delay="0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8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8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7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ртезианский окказ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287280" y="1546200"/>
            <a:ext cx="3994200" cy="4965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кказионал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occas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, повод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ская концепци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ая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заимодейств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альной (протяжённо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уховной (мыслящей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й и  утверждающая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то, что представля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лесн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 (или акта воли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ли психической причин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деей или желанием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зического движения е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более чем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вод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ccasio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ля истинной причины, каков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жет быть только Б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 rot="10800000">
            <a:off x="4462200" y="1545840"/>
            <a:ext cx="449892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ижущая сила тел…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нах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вижущихся тела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эта движущая си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не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ино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воля Божья…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еаль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стинная причин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случайна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яющая реш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ворца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овать тем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 образ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или ином случа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5257800" y="5973840"/>
            <a:ext cx="277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альбранш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Разыскание ист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3" dur="indefinite" restart="never" nodeType="tmRoot">
          <p:childTnLst>
            <p:seq>
              <p:cTn id="1304" dur="indefinite" nodeType="mainSeq">
                <p:childTnLst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31 марта 1596 г. в Лаэ (ныне Декар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ится к колеже Ла Флеш (1606-16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оды путешестви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18-16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льмское «озарение»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0 ноября 1619 г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знь в Париже (1625-162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миграции в Нидерландах (1628-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Париж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644, 1647, 164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езд в Швецию (164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1 февраля 1650 г. в Стокголь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7" name="Oval 9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6413400" y="4005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5846040" y="4149720"/>
            <a:ext cx="5936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3"/>
          <p:cNvSpPr/>
          <p:nvPr/>
        </p:nvSpPr>
        <p:spPr>
          <a:xfrm>
            <a:off x="6270480" y="3716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4980600" y="3645000"/>
            <a:ext cx="11880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а Фле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6"/>
          <p:cNvSpPr/>
          <p:nvPr/>
        </p:nvSpPr>
        <p:spPr>
          <a:xfrm>
            <a:off x="7556400" y="3778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7"/>
          <p:cNvSpPr/>
          <p:nvPr/>
        </p:nvSpPr>
        <p:spPr>
          <a:xfrm>
            <a:off x="7748280" y="3860640"/>
            <a:ext cx="7765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8"/>
          <p:cNvSpPr/>
          <p:nvPr/>
        </p:nvSpPr>
        <p:spPr>
          <a:xfrm>
            <a:off x="6948360" y="2997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9"/>
          <p:cNvSpPr/>
          <p:nvPr/>
        </p:nvSpPr>
        <p:spPr>
          <a:xfrm>
            <a:off x="7171560" y="2781360"/>
            <a:ext cx="1017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ейд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40"/>
          <p:cNvSpPr/>
          <p:nvPr/>
        </p:nvSpPr>
        <p:spPr>
          <a:xfrm>
            <a:off x="838836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1"/>
          <p:cNvSpPr/>
          <p:nvPr/>
        </p:nvSpPr>
        <p:spPr>
          <a:xfrm>
            <a:off x="6880320" y="1773360"/>
            <a:ext cx="14000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кголь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4 ноября 1632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Амстерда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еликое отлучение» (16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1 февраля 1677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Гаа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91" name="Oval 13"/>
          <p:cNvSpPr/>
          <p:nvPr/>
        </p:nvSpPr>
        <p:spPr>
          <a:xfrm>
            <a:off x="6980400" y="2986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7172640" y="2781360"/>
            <a:ext cx="1459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мстер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7"/>
          <p:cNvSpPr/>
          <p:nvPr/>
        </p:nvSpPr>
        <p:spPr>
          <a:xfrm>
            <a:off x="6908760" y="3094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6667560" y="3273480"/>
            <a:ext cx="784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аа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nodeType="clickEffect" fill="hold">
                      <p:stCondLst>
                        <p:cond delay="indefinite"/>
                      </p:stCondLst>
                      <p:childTnLst>
                        <p:par>
                          <p:cTn id="1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32-16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1190520" y="61898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енедикт Спин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4570560" y="3057480"/>
            <a:ext cx="431784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новы философии Декарта, доказанные геометрическим способ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ословско-политический трактат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тик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-16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503712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Spinoza (4)"/>
          <p:cNvPicPr/>
          <p:nvPr/>
        </p:nvPicPr>
        <p:blipFill>
          <a:blip r:embed="rId1"/>
          <a:stretch/>
        </p:blipFill>
        <p:spPr>
          <a:xfrm>
            <a:off x="431640" y="1619280"/>
            <a:ext cx="3826080" cy="431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nodeType="clickEffect" fill="hold">
                      <p:stCondLst>
                        <p:cond delay="indefinite"/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0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пиноза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н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75760" y="1491840"/>
            <a:ext cx="8589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енность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жественность атрибутов субстан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творя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а сотворё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случайности (необусловлен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обода как обусловленность собственной приро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свобода как внешняя обусловленность (принужд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Геометрический» мет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ождествление физической и  логической необход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2" dur="indefinite" restart="never" nodeType="tmRoot">
          <p:childTnLst>
            <p:seq>
              <p:cTn id="1413" dur="indefinite" nodeType="mainSeq">
                <p:childTnLst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7" dur="5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nodeType="clickEffect" fill="hold">
                      <p:stCondLst>
                        <p:cond delay="indefinite"/>
                      </p:stCondLst>
                      <p:childTnLst>
                        <p:par>
                          <p:cTn id="1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500" fill="hold"/>
                                        <p:tgtEl>
                                          <p:spTgt spid="3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атрибутом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разумею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представляет в субстанц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ставляющее её сущ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субстанция, состоящ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бесконечно многих атрибут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оме Бога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ая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бстанцие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разумею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существует само в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вух или более субстанций одно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й же 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одним и тем же атрибу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"/>
          <p:cNvSpPr/>
          <p:nvPr/>
        </p:nvSpPr>
        <p:spPr>
          <a:xfrm>
            <a:off x="4680000" y="154620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759640" y="262584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5"/>
          <p:cNvSpPr/>
          <p:nvPr/>
        </p:nvSpPr>
        <p:spPr>
          <a:xfrm>
            <a:off x="6839280" y="370692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6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7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19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nodeType="clickEffect" fill="hold">
                      <p:stCondLst>
                        <p:cond delay="indefinite"/>
                      </p:stCondLst>
                      <p:childTnLst>
                        <p:par>
                          <p:cTn id="1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nodeType="clickEffect" fill="hold">
                      <p:stCondLst>
                        <p:cond delay="indefinite"/>
                      </p:stCondLst>
                      <p:childTnLst>
                        <p:par>
                          <p:cTn id="1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4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9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4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ду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7"/>
          <p:cNvSpPr/>
          <p:nvPr/>
        </p:nvSpPr>
        <p:spPr>
          <a:xfrm rot="10800000">
            <a:off x="3886200" y="1690200"/>
            <a:ext cx="503856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юда самым ясны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следу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что Бог един, т.е.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 суще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а субстанц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а субстанц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но бесконечна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что вещь протяжё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 мыслящая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 et 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т 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трибуты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состояния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одусы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4574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0"/>
          <p:cNvSpPr/>
          <p:nvPr/>
        </p:nvSpPr>
        <p:spPr>
          <a:xfrm>
            <a:off x="2016000" y="3130560"/>
            <a:ext cx="216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и 1 и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4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21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0" dur="indefinite" restart="never" nodeType="tmRoot">
          <p:childTnLst>
            <p:seq>
              <p:cTn id="1571" dur="indefinite" nodeType="mainSeq">
                <p:childTnLst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1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обходимости божеств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должно вытек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е множество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есконечно многими способ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ейству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законам свое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без чьего-либо прину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мманентная прич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х вещ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действующая изв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ё, что только существуе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ет в Бог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без Бог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ни существов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быть представляе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 есть производящая причин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х вещ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ие только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пред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 разу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6"/>
          <p:cNvSpPr/>
          <p:nvPr/>
        </p:nvSpPr>
        <p:spPr>
          <a:xfrm>
            <a:off x="6838920" y="3598920"/>
            <a:ext cx="176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1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2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nodeType="clickEffect" fill="hold">
                      <p:stCondLst>
                        <p:cond delay="0"/>
                      </p:stCondLst>
                      <p:childTnLst>
                        <p:par>
                          <p:cTn id="1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теизм: природа творящая и сотворё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4"/>
          <p:cNvSpPr/>
          <p:nvPr/>
        </p:nvSpPr>
        <p:spPr>
          <a:xfrm rot="10800000">
            <a:off x="3598560" y="1545840"/>
            <a:ext cx="5398920" cy="45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 порождающ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м должно понимать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само по себ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ляется само через себ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ными словами, такие атрибут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и, которые выраж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чную и бесконечную сущн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.е. Бога, поскольку 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ется как свобод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чина. А под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ождён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 понимаю всё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ытекает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, т.е. все модус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в Бога, поскольку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сматриваются как ве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существуют в Бог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4501440" y="6261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233440" y="4570560"/>
            <a:ext cx="161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57120" y="1619280"/>
            <a:ext cx="3527640" cy="2519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антеизм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παν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θεός</a:t>
            </a:r>
            <a:r>
              <a:rPr b="1" lang="ru-RU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трина, согласно котор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 и мир суть одн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Бог имманентен миру),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: «Бог во всём» и/ил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Всё божественн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9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0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таким образом Бог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определить не мож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гли быть произведен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ом никаким други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 в каком другом порядк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звед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по нашему представлени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ится во власти Бог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существу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вещ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ничего случайно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о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о из необходим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жественной прир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, которая определена Бог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ому-либо действи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а себя сдела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определённой к н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4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9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5"/>
          <p:cNvSpPr/>
          <p:nvPr/>
        </p:nvSpPr>
        <p:spPr>
          <a:xfrm>
            <a:off x="5760000" y="262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6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6"/>
          <p:cNvSpPr/>
          <p:nvPr/>
        </p:nvSpPr>
        <p:spPr>
          <a:xfrm>
            <a:off x="693468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1332360" y="478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3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2412000" y="586584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3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1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8" dur="indefinite" restart="never" nodeType="tmRoot">
          <p:childTnLst>
            <p:seq>
              <p:cTn id="1689" dur="indefinite" nodeType="mainSeq">
                <p:childTnLst>
                  <p:par>
                    <p:cTn id="1690" nodeType="clickEffect" fill="hold">
                      <p:stCondLst>
                        <p:cond delay="0"/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6" nodeType="clickEffect" fill="hold">
                      <p:stCondLst>
                        <p:cond delay="indefinite"/>
                      </p:stCondLst>
                      <p:childTnLst>
                        <p:par>
                          <p:cTn id="1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нт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терми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 rot="10800000">
            <a:off x="4173480" y="1582200"/>
            <a:ext cx="485784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вободн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зыв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ая вещь,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ет по одной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бходимости сво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ственной природы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к действию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лько сама собой.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бходимой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же 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учше сказать,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инуждё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зывается такая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м-либо иным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существованию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йствию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 известному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ённому образ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471708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2384640" y="4497480"/>
            <a:ext cx="190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ределени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7"/>
          <p:cNvSpPr/>
          <p:nvPr/>
        </p:nvSpPr>
        <p:spPr>
          <a:xfrm>
            <a:off x="669960" y="1654200"/>
            <a:ext cx="3598920" cy="251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личие между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вободо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вободой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заключ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аличии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детерминаци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(в приро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обще нет нич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детерминированного), 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ишь в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различии характера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этой детермин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3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13"/>
          <p:cNvSpPr/>
          <p:nvPr/>
        </p:nvSpPr>
        <p:spPr>
          <a:xfrm>
            <a:off x="4317840" y="4462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12"/>
          <p:cNvSpPr/>
          <p:nvPr/>
        </p:nvSpPr>
        <p:spPr>
          <a:xfrm>
            <a:off x="4911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1"/>
          <p:cNvSpPr/>
          <p:nvPr/>
        </p:nvSpPr>
        <p:spPr>
          <a:xfrm>
            <a:off x="3417840" y="4255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582948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2571840" y="31226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Геометрический метод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/>
          <p:cNvSpPr/>
          <p:nvPr/>
        </p:nvSpPr>
        <p:spPr>
          <a:xfrm>
            <a:off x="1150920" y="250020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ксио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4"/>
          <p:cNvSpPr/>
          <p:nvPr/>
        </p:nvSpPr>
        <p:spPr>
          <a:xfrm>
            <a:off x="5468760" y="2500200"/>
            <a:ext cx="251964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у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3309840" y="3633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ор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9856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е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5649840" y="4767120"/>
            <a:ext cx="2519280" cy="90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оролла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3309840" y="575784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хо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15"/>
          <p:cNvSpPr/>
          <p:nvPr/>
        </p:nvSpPr>
        <p:spPr>
          <a:xfrm>
            <a:off x="4317840" y="2338560"/>
            <a:ext cx="486000" cy="1295280"/>
          </a:xfrm>
          <a:prstGeom prst="downArrow">
            <a:avLst>
              <a:gd name="adj1" fmla="val 50000"/>
              <a:gd name="adj2" fmla="val 666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16"/>
          <p:cNvSpPr/>
          <p:nvPr/>
        </p:nvSpPr>
        <p:spPr>
          <a:xfrm>
            <a:off x="3309840" y="1511280"/>
            <a:ext cx="251964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9" dur="indefinite" restart="never" nodeType="tmRoot">
          <p:childTnLst>
            <p:seq>
              <p:cTn id="1790" dur="indefinite" nodeType="mainSeq">
                <p:childTnLst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nodeType="clickEffect" fill="hold">
                      <p:stCondLst>
                        <p:cond delay="indefinite"/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nodeType="clickEffect" fill="hold">
                      <p:stCondLst>
                        <p:cond delay="indefinite"/>
                      </p:stCondLst>
                      <p:childTnLst>
                        <p:par>
                          <p:cTn id="1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nodeType="clickEffect" fill="hold">
                      <p:stCondLst>
                        <p:cond delay="indefinite"/>
                      </p:stCondLst>
                      <p:childTnLst>
                        <p:par>
                          <p:cTn id="1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nodeType="clickEffect" fill="hold">
                      <p:stCondLst>
                        <p:cond delay="indefinite"/>
                      </p:stCondLst>
                      <p:childTnLst>
                        <p:par>
                          <p:cTn id="1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8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nodeType="clickEffect" fill="hold">
                      <p:stCondLst>
                        <p:cond delay="indefinite"/>
                      </p:stCondLst>
                      <p:childTnLst>
                        <p:par>
                          <p:cTn id="1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96-16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770400" y="6041880"/>
            <a:ext cx="317700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копия утраченного портрета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боты Ф. Хальс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4389480" y="3057480"/>
            <a:ext cx="4533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р, или Трактат о свет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суждение о мет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мышления о перво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воначала философ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4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Uknown (after Hals), Descartes (c 1650, Louvre)_red"/>
          <p:cNvPicPr/>
          <p:nvPr/>
        </p:nvPicPr>
        <p:blipFill>
          <a:blip r:embed="rId1"/>
          <a:stretch/>
        </p:blipFill>
        <p:spPr>
          <a:xfrm>
            <a:off x="466560" y="1619280"/>
            <a:ext cx="369900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9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9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яж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и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протяжённ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extensa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ё, что вытекает из бесконеч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ы Бог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ормаль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том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рядке и той же связи происте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Боге из его иде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ъектив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ок и связь идей те ж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порядок и связь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шление составляет атрибу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ными словам Бог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ь мыслящая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res cogitans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бстанция мыслящая и субстанц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яжённая составляю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 субстанцию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ассматриваем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 разными атрибу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4"/>
          <p:cNvSpPr/>
          <p:nvPr/>
        </p:nvSpPr>
        <p:spPr>
          <a:xfrm>
            <a:off x="4680000" y="154620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5"/>
          <p:cNvSpPr/>
          <p:nvPr/>
        </p:nvSpPr>
        <p:spPr>
          <a:xfrm>
            <a:off x="572328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2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6"/>
          <p:cNvSpPr/>
          <p:nvPr/>
        </p:nvSpPr>
        <p:spPr>
          <a:xfrm>
            <a:off x="6840000" y="3598920"/>
            <a:ext cx="155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7"/>
          <p:cNvSpPr/>
          <p:nvPr/>
        </p:nvSpPr>
        <p:spPr>
          <a:xfrm>
            <a:off x="1223640" y="4678200"/>
            <a:ext cx="1578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роллар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2519640" y="586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1366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6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nodeType="clickEffect" fill="hold">
                      <p:stCondLst>
                        <p:cond delay="indefinite"/>
                      </p:stCondLst>
                      <p:childTnLst>
                        <p:par>
                          <p:cTn id="1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6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изическая и логическая необходим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utoShape 3"/>
          <p:cNvSpPr/>
          <p:nvPr/>
        </p:nvSpPr>
        <p:spPr>
          <a:xfrm rot="10800000">
            <a:off x="3669840" y="1690200"/>
            <a:ext cx="5218200" cy="431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руг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ществующий в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этого кру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щая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же в Боге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дна и та ж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щ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раженная различ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ами. Так что, будем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едставлять природу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протяж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трибутом мышления, или под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либо иным атрибу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о всех случаях найд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и тот же порядок, ины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ми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у и ту же связ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.е. что те же сам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и следуют друг за друг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4466520" y="6153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"/>
          <p:cNvSpPr/>
          <p:nvPr/>
        </p:nvSpPr>
        <p:spPr>
          <a:xfrm>
            <a:off x="2233440" y="3238560"/>
            <a:ext cx="148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8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/>
          <p:cNvSpPr/>
          <p:nvPr/>
        </p:nvSpPr>
        <p:spPr>
          <a:xfrm>
            <a:off x="3165480" y="169056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зн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9" name="AutoShape 4"/>
          <p:cNvCxnSpPr/>
          <p:nvPr/>
        </p:nvCxnSpPr>
        <p:spPr>
          <a:xfrm>
            <a:off x="4605480" y="2769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0" name="Line 5"/>
          <p:cNvSpPr/>
          <p:nvPr/>
        </p:nvSpPr>
        <p:spPr>
          <a:xfrm>
            <a:off x="233856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6"/>
          <p:cNvSpPr/>
          <p:nvPr/>
        </p:nvSpPr>
        <p:spPr>
          <a:xfrm>
            <a:off x="352584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ассуд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2" name="AutoShape 7"/>
          <p:cNvCxnSpPr/>
          <p:nvPr/>
        </p:nvCxnSpPr>
        <p:spPr>
          <a:xfrm>
            <a:off x="460548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3" name="AutoShape 8"/>
          <p:cNvSpPr/>
          <p:nvPr/>
        </p:nvSpPr>
        <p:spPr>
          <a:xfrm>
            <a:off x="125892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ообра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4" name="AutoShape 9"/>
          <p:cNvCxnSpPr/>
          <p:nvPr/>
        </p:nvCxnSpPr>
        <p:spPr>
          <a:xfrm>
            <a:off x="233856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25" name="AutoShape 10"/>
          <p:cNvCxnSpPr/>
          <p:nvPr/>
        </p:nvCxnSpPr>
        <p:spPr>
          <a:xfrm>
            <a:off x="233856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6" name="AutoShape 11"/>
          <p:cNvSpPr/>
          <p:nvPr/>
        </p:nvSpPr>
        <p:spPr>
          <a:xfrm>
            <a:off x="17928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чере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беспорядочный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пы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AutoShape 12"/>
          <p:cNvCxnSpPr/>
          <p:nvPr/>
        </p:nvCxnSpPr>
        <p:spPr>
          <a:xfrm>
            <a:off x="122184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28" name="AutoShape 13"/>
          <p:cNvSpPr/>
          <p:nvPr/>
        </p:nvSpPr>
        <p:spPr>
          <a:xfrm>
            <a:off x="2409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з зна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4"/>
          <p:cNvSpPr/>
          <p:nvPr/>
        </p:nvSpPr>
        <p:spPr>
          <a:xfrm>
            <a:off x="1222200" y="4929120"/>
            <a:ext cx="1116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5"/>
          <p:cNvSpPr/>
          <p:nvPr/>
        </p:nvSpPr>
        <p:spPr>
          <a:xfrm>
            <a:off x="2338560" y="4929120"/>
            <a:ext cx="1116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AutoShape 16"/>
          <p:cNvCxnSpPr/>
          <p:nvPr/>
        </p:nvCxnSpPr>
        <p:spPr>
          <a:xfrm>
            <a:off x="3454560" y="492876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2" name="Line 17"/>
          <p:cNvSpPr/>
          <p:nvPr/>
        </p:nvSpPr>
        <p:spPr>
          <a:xfrm>
            <a:off x="4605480" y="3130560"/>
            <a:ext cx="22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AutoShape 18"/>
          <p:cNvCxnSpPr/>
          <p:nvPr/>
        </p:nvCxnSpPr>
        <p:spPr>
          <a:xfrm>
            <a:off x="6872400" y="313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4" name="AutoShape 19"/>
          <p:cNvSpPr/>
          <p:nvPr/>
        </p:nvSpPr>
        <p:spPr>
          <a:xfrm>
            <a:off x="5792760" y="3490920"/>
            <a:ext cx="215892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Интуи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AutoShape 20"/>
          <p:cNvCxnSpPr/>
          <p:nvPr/>
        </p:nvCxnSpPr>
        <p:spPr>
          <a:xfrm>
            <a:off x="460548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36" name="Line 21"/>
          <p:cNvSpPr/>
          <p:nvPr/>
        </p:nvSpPr>
        <p:spPr>
          <a:xfrm>
            <a:off x="4605480" y="4929120"/>
            <a:ext cx="107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2"/>
          <p:cNvSpPr/>
          <p:nvPr/>
        </p:nvSpPr>
        <p:spPr>
          <a:xfrm>
            <a:off x="4641840" y="5289480"/>
            <a:ext cx="2087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знание из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бщих по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AutoShape 23"/>
          <p:cNvCxnSpPr/>
          <p:nvPr/>
        </p:nvCxnSpPr>
        <p:spPr>
          <a:xfrm>
            <a:off x="5684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39" name="AutoShape 24"/>
          <p:cNvCxnSpPr/>
          <p:nvPr/>
        </p:nvCxnSpPr>
        <p:spPr>
          <a:xfrm>
            <a:off x="6872400" y="4570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0" name="Line 25"/>
          <p:cNvSpPr/>
          <p:nvPr/>
        </p:nvSpPr>
        <p:spPr>
          <a:xfrm>
            <a:off x="6872400" y="4929120"/>
            <a:ext cx="1042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26"/>
          <p:cNvCxnSpPr/>
          <p:nvPr/>
        </p:nvCxnSpPr>
        <p:spPr>
          <a:xfrm>
            <a:off x="7916400" y="492876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42" name="AutoShape 27"/>
          <p:cNvSpPr/>
          <p:nvPr/>
        </p:nvSpPr>
        <p:spPr>
          <a:xfrm>
            <a:off x="6872400" y="5289480"/>
            <a:ext cx="2087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посредствен-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ое усмотрение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ущности вещ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9" dur="indefinite" restart="never" nodeType="tmRoot">
          <p:childTnLst>
            <p:seq>
              <p:cTn id="1950" dur="indefinite" nodeType="mainSeq">
                <p:childTnLst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2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3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8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nodeType="clickEffect" fill="hold">
                      <p:stCondLst>
                        <p:cond delay="indefinite"/>
                      </p:stCondLst>
                      <p:childTnLst>
                        <p:par>
                          <p:cTn id="2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и рода по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2"/>
          <p:cNvSpPr/>
          <p:nvPr/>
        </p:nvSpPr>
        <p:spPr>
          <a:xfrm rot="10800000">
            <a:off x="4317840" y="1978200"/>
            <a:ext cx="446256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первого рода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мнение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 или 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воображ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динстве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чина лож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нание же второго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рассудок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i="1" lang="ru-RU" sz="1800" spc="-1" strike="noStrike">
                <a:solidFill>
                  <a:srgbClr val="0066ff"/>
                </a:solidFill>
                <a:latin typeface="Arial"/>
              </a:rPr>
              <a:t>интуиц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род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 истин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3"/>
          <p:cNvSpPr/>
          <p:nvPr/>
        </p:nvSpPr>
        <p:spPr>
          <a:xfrm>
            <a:off x="4717080" y="5937120"/>
            <a:ext cx="364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Спиноза. «Этика». – Час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24"/>
          <p:cNvSpPr/>
          <p:nvPr/>
        </p:nvSpPr>
        <p:spPr>
          <a:xfrm>
            <a:off x="2594520" y="323856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1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25" descr="Spinoza (2-med)"/>
          <p:cNvPicPr/>
          <p:nvPr/>
        </p:nvPicPr>
        <p:blipFill>
          <a:blip r:embed="rId1"/>
          <a:stretch/>
        </p:blipFill>
        <p:spPr>
          <a:xfrm>
            <a:off x="324000" y="442584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4" dur="indefinite" restart="never" nodeType="tmRoot">
          <p:childTnLst>
            <p:seq>
              <p:cTn id="2075" dur="indefinite" nodeType="mainSeq">
                <p:childTnLst>
                  <p:par>
                    <p:cTn id="2076" nodeType="clickEffect" fill="hold">
                      <p:stCondLst>
                        <p:cond delay="indefinite"/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0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2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4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5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6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ффект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граничен или уничтоже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противоположным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ее сильным аффек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[Интеллектуальная]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вь к Богу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третий, высший, род познания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ет самое высшее бла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которому мы можем стрем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ика Спинозы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зум и своб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знание если и н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ничтожа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фект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, по крайней мер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стигает того, что они состав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меньшую часть ду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душе нет никакой абсолютной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ободной воли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хотению душ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пределяется причино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ределена другой причиной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1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 по руководств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а будем следова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óльш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двух зо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ньш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3"/>
          <p:cNvSpPr/>
          <p:nvPr/>
        </p:nvSpPr>
        <p:spPr>
          <a:xfrm>
            <a:off x="4680360" y="154620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48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759640" y="2625840"/>
            <a:ext cx="134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7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6839640" y="3706920"/>
            <a:ext cx="14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а 65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16"/>
          <p:cNvSpPr/>
          <p:nvPr/>
        </p:nvSpPr>
        <p:spPr>
          <a:xfrm>
            <a:off x="831600" y="4678200"/>
            <a:ext cx="200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казательств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емы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2304360" y="5757840"/>
            <a:ext cx="168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л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теореме 20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сти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9" descr="Spinoza (2-med)"/>
          <p:cNvPicPr/>
          <p:nvPr/>
        </p:nvPicPr>
        <p:blipFill>
          <a:blip r:embed="rId1"/>
          <a:stretch/>
        </p:blipFill>
        <p:spPr>
          <a:xfrm>
            <a:off x="7197840" y="358920"/>
            <a:ext cx="1685880" cy="216216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nodeType="clickEffect" fill="hold">
                      <p:stCondLst>
                        <p:cond delay="indefinite"/>
                      </p:stCondLst>
                      <p:childTnLst>
                        <p:par>
                          <p:cTn id="2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2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nodeType="clickEffect" fill="hold">
                      <p:stCondLst>
                        <p:cond delay="indefinite"/>
                      </p:stCondLst>
                      <p:childTnLst>
                        <p:par>
                          <p:cTn id="2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7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7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3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4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3" dur="indefinite" restart="never" nodeType="tmRoot">
          <p:childTnLst>
            <p:seq>
              <p:cTn id="2164" dur="indefinite" nodeType="mainSeq">
                <p:childTnLst>
                  <p:par>
                    <p:cTn id="2165" nodeType="clickEffect" fill="hold">
                      <p:stCondLst>
                        <p:cond delay="0"/>
                      </p:stCondLst>
                      <p:childTnLst>
                        <p:par>
                          <p:cTn id="2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8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9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0" nodeType="clickEffect" fill="hold">
                      <p:stCondLst>
                        <p:cond delay="indefinite"/>
                      </p:stCondLst>
                      <p:childTnLst>
                        <p:par>
                          <p:cTn id="2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4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5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8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9" dur="5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ене Декарт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уалистический рацион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нтология Де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уализм духа и мат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бстанции и их атрибу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ние пустого пространства и психики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ественный свет разума («врождённые идеи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Шишковидная желез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ихофизический паралл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взаимодействия субстанций в картезианстве: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казионализм А. Гейлинкса и Н. Мальбранш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е необходимо до основан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рушить эту построй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я хочу установить в наук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-то прочное и постоян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, коль скор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еб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-то убеди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значи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всё же существов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дикальное сом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ий раз, как я произношу слова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«Я существую»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ли воспринима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ысказывание умом, о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сти является исти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ишком многие ложные мнения 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нимал за истинны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слишк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ительны положения, принят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основе этих ложных м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допускаю, что всё видимое мно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ожно и предполагаю никогда 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вшим всё, что я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мять; 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ностью лишён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мнение есть акт мысл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ё собственное существование –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сомненная и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Я мыслю, следовательно, существую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 моя увере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обственном существова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иждется на факте мыш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я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ящее су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могу усомниться во всём, 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лько не в том, 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сомневаюс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амим фактом сомнения я лиш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тверждаю, что сомнева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я не мог бы мыслить, если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овал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 мыслю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ледовательно я существ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1334880" y="5942160"/>
            <a:ext cx="2341800" cy="485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gito ergo sum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5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6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 из моих наиболее ясных и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Бог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идея бесконечно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ависимой, в высшей степе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зумной и всемогущей субстан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ведена из каких-то других и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содержит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льш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и,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м любая другая ид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ея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может исходить лишь о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о, что содержит в себе не мень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альности, чем мыслится в эт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е, т.е.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самого Б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мыслящее существо, я нахож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ножество идей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дни и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х представляю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ми и отчётлив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 Бога ка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ой субстанции не 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ходить от меня сам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 я конеч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4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да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ясные и отчётливые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ли разве быть вложены в мен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могуществ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козненным обманщик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а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Бог мен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манывал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о всяком обман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лючено нечто несовершенное)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хотел, чтобы я заблужда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Естественный свет разу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я могу доверя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ественному свету разум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 условии, конечн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правильно им пользую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других идей, 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мутны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я, по-видим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гу полагаться как на исти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я ощущаю в себ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пособно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жден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зволяющую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личать истину от заблужд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гу ли я полагаться на неё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3"/>
          <p:cNvSpPr/>
          <p:nvPr/>
        </p:nvSpPr>
        <p:spPr>
          <a:xfrm>
            <a:off x="3957480" y="5425920"/>
            <a:ext cx="576360" cy="95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167040 h 954360"/>
              <a:gd name="textAreaBottom" fmla="*/ 691920 h 95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>
            <a:off x="2878200" y="434664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798560" y="3267000"/>
            <a:ext cx="576360" cy="954000"/>
          </a:xfrm>
          <a:custGeom>
            <a:avLst/>
            <a:gdLst>
              <a:gd name="textAreaLeft" fmla="*/ 77040 w 576360"/>
              <a:gd name="textAreaRight" fmla="*/ 499320 w 57636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719280" y="2187720"/>
            <a:ext cx="576000" cy="954000"/>
          </a:xfrm>
          <a:custGeom>
            <a:avLst/>
            <a:gdLst>
              <a:gd name="textAreaLeft" fmla="*/ 77040 w 576000"/>
              <a:gd name="textAreaRight" fmla="*/ 498960 w 576000"/>
              <a:gd name="textAreaTop" fmla="*/ 166680 h 954000"/>
              <a:gd name="textAreaBottom" fmla="*/ 691560 h 95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1295280" y="2446200"/>
            <a:ext cx="43912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) Принимать за истинное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, что представляется моему у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ль ясно и отчётливо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дать повод к сом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454560" y="460548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) Располагать свои мыс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пределё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ядке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чи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предметов простейших и восход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тепенно до наиболее сл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5760" y="274680"/>
            <a:ext cx="858996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Декарт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етод достижен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0"/>
          <p:cNvSpPr/>
          <p:nvPr/>
        </p:nvSpPr>
        <p:spPr>
          <a:xfrm>
            <a:off x="4533840" y="568476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) Делать перечни столь полны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зоры столь всеохватывающ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быть уверен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не пропущ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16000" y="136692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о большого числа прави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ляющих логику, достаточ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тырё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ледующих, лишь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блюдать их без отступ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2"/>
          <p:cNvSpPr/>
          <p:nvPr/>
        </p:nvSpPr>
        <p:spPr>
          <a:xfrm>
            <a:off x="2374920" y="3525840"/>
            <a:ext cx="43909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ели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ждую из труд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столько частей, ск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требуется, чтобы лучш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разреш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3"/>
          <p:cNvSpPr/>
          <p:nvPr/>
        </p:nvSpPr>
        <p:spPr>
          <a:xfrm>
            <a:off x="216000" y="5757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4" descr="Descartes (4)"/>
          <p:cNvPicPr/>
          <p:nvPr/>
        </p:nvPicPr>
        <p:blipFill>
          <a:blip r:embed="rId1"/>
          <a:stretch/>
        </p:blipFill>
        <p:spPr>
          <a:xfrm>
            <a:off x="7016760" y="1366920"/>
            <a:ext cx="1809720" cy="21574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5:00:42Z</dcterms:created>
  <dc:creator>Николай Бирюков / Nikolai Biryukov</dc:creator>
  <dc:description>Редакция февраля 2007 г.</dc:description>
  <dc:language>en-US</dc:language>
  <cp:lastModifiedBy>LEGION</cp:lastModifiedBy>
  <dcterms:modified xsi:type="dcterms:W3CDTF">2014-11-11T09:01:36Z</dcterms:modified>
  <cp:revision>229</cp:revision>
  <dc:subject>Основы философии - Тема 11</dc:subject>
  <dc:title>Декарт и Спиноза: Обоснование рационализма</dc:title>
</cp:coreProperties>
</file>