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png" ContentType="image/png"/>
  <Override PartName="/ppt/media/image8.wmf" ContentType="image/x-wmf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2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F896-6F53-4F5C-BD9E-FB11C80792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0FE8-7D19-4D52-B42C-36623DAEBC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ы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Тема 1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</a:t>
            </a:r>
            <a:br>
              <a:rPr sz="1000"/>
            </a:br>
            <a:br>
              <a:rPr sz="10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екарт и Спиноза</a:t>
            </a:r>
            <a:br>
              <a:rPr sz="14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основание рационал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CCD9-F70F-45E3-B135-FBF6C38CC9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тод достижения ист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CC5B-0EC9-418D-ACE2-4AED31122C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Онтология Декарт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уализм духа и мате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428D-ABE2-403B-BCC8-349B955C2F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уализм духа и материи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бстанции их атрибу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A361-5E4E-4902-A052-FEFD7CB2CF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уализм духа и материи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устое пространство и психика живот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2E55-8C6B-46CF-B18E-49814740CA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уализм духа и мате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E757-96E5-40D4-98B9-90B22B0396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 «Врождённые идеи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9A77-0221-4E98-BE81-7AD832019D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 «Шишковидная железа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BAD5-F9D6-4EAA-804D-61281B935F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сихофизический паралле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атериальные и духовные процессы согласованны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добно тому как две пары часов показывают одно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то же время, хотя они и не взаимодействуют между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бой – об этом позаботился Мудрый Часовщ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6182-661E-4460-BF17-F5B2AE3011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сихофизический паралле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041F-8054-4876-9516-A93EB90429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артезианский окказиона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Окказион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occasio</a:t>
            </a: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лучай, повод) –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ская концепция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трицающая возможность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заимодействия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атериальной (протяжённой)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духовной (мыслящей)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бстанций и  утверждающая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что то, что представляется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лесной причиной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ысли (или акта воли)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ли психической причиной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идеей или желанием)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зического движения есть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 более чем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повод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occasio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ля истинной причины, каковой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ожет быть только Бо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вижущая сила тел…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е находи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движущихся телах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бо эта движущая сила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ть не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что иное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как воля Божья…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Естественная причина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е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есть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реальна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 истинная причина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ичина случайная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пределяющая решени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ворца природы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ействовать тем или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ным образо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том или ином случа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6D15-4C71-4E4E-8D2B-4DDBEE9489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не Декар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596-16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31 марта 1596 г. в Лаэ (ныне Декар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ится к колеже Ла Флеш (1606-16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оды путешестви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18-16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льмское «озарение»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0 ноября 1619 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знь в Париже (1625-162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эмиграции в Нидерландах (1628-16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ездки в Париж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644, 1647, 164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езд в Швецию (16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1 февраля 1650 г. в Стокголь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26F8-9467-4B49-B725-1D467A118E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енедикт Спиноза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32-167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од. 24 ноября 1632 г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Амстерда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Великое отлучение» (165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м. 21 февраля 1677 г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Гаа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1179-94DE-4D8F-84B8-93EA352888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енедикт Спиноз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632-167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ы философии Декарта, доказанные геометрическим способом (166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огословско-политический трактат (167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(1663-167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5435-184A-46B4-A306-FEF97580F6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иноз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нистический рацион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я Спин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дуа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динственность субста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жественность атрибутов субста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нте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а творя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а сотворё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термин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рицание случайности (необусловлен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вобода как обусловленность собственной природ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свобода как внешняя обусловленность (принужд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носеология Спин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Геометрический» мет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ождествление физической и  логической необход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рода по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тика Спинозы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ум и своб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C74E-1141-43A7-9FB7-3C41996D8C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нтология Спинозы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ритика дуализ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32F3-2B4D-4DF5-B0E5-682A0AACB0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ритика дуализ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4E14-4FF0-4A2F-B30A-59EAEAD143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анте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3555-4724-44C1-894B-BCCBD84434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нтеизм: природа творящая и сотворё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536A-7B12-4947-B9C4-94B241FBC1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Детермин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D3B5-8E8C-47CB-88C8-98D186F9EF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Детермин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DC77-591A-4F0C-BA75-3A9DEDDCED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Гносеология Спиноз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Геометрический метод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D217-C10A-477B-93B6-EE20DA7FBD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не Декарт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596-165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ир, или Трактат о свете (163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ссуждение о методе (163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змышления о первой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философии (164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оначала философии (164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8F31-7454-49E0-A572-1E56F6BF10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зическая и логическая необход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9F69-E4BD-4CEE-8717-64114F2D09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зическая и логическая необход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руг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существующий в природе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идея этого круга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находящая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акже в Боге,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есть одна и та же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ещь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выраженная различными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трибутами. Так что, будем ли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мы представлять природу под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трибутом протяжения, или под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трибутом мышления, или под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каким-либо иным атрибутом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мы во всех случаях найдё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дин и тот же порядок, иными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ловами,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дну и ту же связь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ичин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т.е. что те же самы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ещи следуют друг за друго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74C7-D0E2-4F86-9D6B-52E8DB3AD5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Три рода по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3EC2-5FBF-4219-8C1A-518E8B661F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Три рода по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ознание первого рода</a:t>
            </a:r>
            <a:br>
              <a:rPr sz="1200"/>
            </a:b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i="1" lang="ru-RU" sz="1200" spc="-1" strike="noStrike">
                <a:solidFill>
                  <a:srgbClr val="0066ff"/>
                </a:solidFill>
                <a:latin typeface="Arial"/>
              </a:rPr>
              <a:t>мнение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 или </a:t>
            </a:r>
            <a:r>
              <a:rPr b="1" i="1" lang="ru-RU" sz="1200" spc="-1" strike="noStrike">
                <a:solidFill>
                  <a:srgbClr val="0066ff"/>
                </a:solidFill>
                <a:latin typeface="Arial"/>
              </a:rPr>
              <a:t>воображение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]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единственная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ичина ложности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ознание же второго</a:t>
            </a:r>
            <a:br>
              <a:rPr sz="1200"/>
            </a:b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i="1" lang="ru-RU" sz="1200" spc="-1" strike="noStrike">
                <a:solidFill>
                  <a:srgbClr val="0066ff"/>
                </a:solidFill>
                <a:latin typeface="Arial"/>
              </a:rPr>
              <a:t>рассудок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и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ретьего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i="1" lang="ru-RU" sz="1200" spc="-1" strike="noStrike">
                <a:solidFill>
                  <a:srgbClr val="0066ff"/>
                </a:solidFill>
                <a:latin typeface="Arial"/>
              </a:rPr>
              <a:t>интуиция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рода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необходимо истинно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AF15-AEEC-4D0E-8933-EB95E7AB0E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Этика Спиноз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зум и своб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72C5-DF6A-48CA-8ED3-31EF12E2D1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02BE-F90A-4B4B-BFA1-A3B1BDCBEE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не Декар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уалистический рацион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носеология Дек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дикальное сом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Я мыслю, следовательно, существую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я Б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стественный свет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 достижения ист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я Дек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ализм духа и мате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бстанции и их атрибу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рицание пустого пространства и психики живо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тественный свет разума («врождённые идеи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Шишковидная желез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ихофизический паралле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 в картезианстве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казионализм А. Гейлинкса и Н. Мальбран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5326-7A74-4A19-B9F1-F81178675E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Гносеология Декарт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дикальное сом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B09A-AEFF-4488-982E-56C8094EF4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Я мыслю, следовательно, существую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9A55-B508-47E6-A05F-987BEFC2DF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я Бог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0E44-EA8F-4499-85F6-044B78890A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стественный свет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8476-F82A-4F10-9DAD-44D4ABAD1F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тод достижения ист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9F1F-AC43-4556-964D-030606D01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8B62-FB9A-4BB8-AEDF-1638BF30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75AE-B44A-494E-94F9-343081A33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7794-931C-4B9B-BE00-42A34D71D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6EDD-86CB-4017-8452-8A6EB1B1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A57A-4619-4EDE-A808-DF1DEA05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5BD7-11EE-4DE9-AF51-02658EF7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37C8-751F-4AD6-82E0-1D1C3977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1A18-C011-4477-A1DC-5BF01DCD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B154-E619-4971-B7C3-9E2A9FBD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7E73-1B1A-4D9B-BC8B-E75B0800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226C-1A07-4C6C-B18E-40CAF1F9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4583-5884-4788-95A3-9B77815804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6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новы философ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11240" y="3598920"/>
            <a:ext cx="7121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ма 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екарт и Спиноза</a:t>
            </a:r>
            <a:br>
              <a:rPr sz="4000"/>
            </a:br>
            <a:br>
              <a:rPr sz="12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основание рационал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тод достижения ис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4965840" y="287820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3957480" y="2878200"/>
            <a:ext cx="25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4462560" y="287820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210200" y="287820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82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4713120" y="2878200"/>
            <a:ext cx="25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94948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3201840" y="1798560"/>
            <a:ext cx="25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345456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3957480" y="1798560"/>
            <a:ext cx="25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421020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446256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496584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5"/>
          <p:cNvSpPr/>
          <p:nvPr/>
        </p:nvSpPr>
        <p:spPr>
          <a:xfrm>
            <a:off x="521820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370692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82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4713120" y="1798560"/>
            <a:ext cx="25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5468760" y="1798560"/>
            <a:ext cx="25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572148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597384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622476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2"/>
          <p:cNvSpPr/>
          <p:nvPr/>
        </p:nvSpPr>
        <p:spPr>
          <a:xfrm>
            <a:off x="4840200" y="233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3"/>
          <p:cNvSpPr/>
          <p:nvPr/>
        </p:nvSpPr>
        <p:spPr>
          <a:xfrm>
            <a:off x="3832200" y="233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4"/>
          <p:cNvSpPr/>
          <p:nvPr/>
        </p:nvSpPr>
        <p:spPr>
          <a:xfrm>
            <a:off x="4335480" y="233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5"/>
          <p:cNvSpPr/>
          <p:nvPr/>
        </p:nvSpPr>
        <p:spPr>
          <a:xfrm>
            <a:off x="4084560" y="233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82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6"/>
          <p:cNvSpPr/>
          <p:nvPr/>
        </p:nvSpPr>
        <p:spPr>
          <a:xfrm>
            <a:off x="4587840" y="233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7"/>
          <p:cNvSpPr/>
          <p:nvPr/>
        </p:nvSpPr>
        <p:spPr>
          <a:xfrm>
            <a:off x="5091120" y="233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8"/>
          <p:cNvSpPr/>
          <p:nvPr/>
        </p:nvSpPr>
        <p:spPr>
          <a:xfrm>
            <a:off x="4587840" y="395748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9"/>
          <p:cNvSpPr/>
          <p:nvPr/>
        </p:nvSpPr>
        <p:spPr>
          <a:xfrm>
            <a:off x="4840200" y="395748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0"/>
          <p:cNvSpPr/>
          <p:nvPr/>
        </p:nvSpPr>
        <p:spPr>
          <a:xfrm>
            <a:off x="5091120" y="395748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1"/>
          <p:cNvSpPr/>
          <p:nvPr/>
        </p:nvSpPr>
        <p:spPr>
          <a:xfrm>
            <a:off x="4587840" y="431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2"/>
          <p:cNvSpPr/>
          <p:nvPr/>
        </p:nvSpPr>
        <p:spPr>
          <a:xfrm>
            <a:off x="4840200" y="431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3"/>
          <p:cNvSpPr/>
          <p:nvPr/>
        </p:nvSpPr>
        <p:spPr>
          <a:xfrm>
            <a:off x="5091120" y="431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4"/>
          <p:cNvSpPr/>
          <p:nvPr/>
        </p:nvSpPr>
        <p:spPr>
          <a:xfrm>
            <a:off x="3832200" y="575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5"/>
          <p:cNvSpPr/>
          <p:nvPr/>
        </p:nvSpPr>
        <p:spPr>
          <a:xfrm>
            <a:off x="4084560" y="575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6"/>
          <p:cNvSpPr/>
          <p:nvPr/>
        </p:nvSpPr>
        <p:spPr>
          <a:xfrm>
            <a:off x="4335480" y="575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7"/>
          <p:cNvSpPr/>
          <p:nvPr/>
        </p:nvSpPr>
        <p:spPr>
          <a:xfrm>
            <a:off x="4587840" y="575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8"/>
          <p:cNvSpPr/>
          <p:nvPr/>
        </p:nvSpPr>
        <p:spPr>
          <a:xfrm>
            <a:off x="4840200" y="575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9"/>
          <p:cNvSpPr/>
          <p:nvPr/>
        </p:nvSpPr>
        <p:spPr>
          <a:xfrm>
            <a:off x="5091120" y="575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0"/>
          <p:cNvSpPr/>
          <p:nvPr/>
        </p:nvSpPr>
        <p:spPr>
          <a:xfrm>
            <a:off x="4335480" y="503712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1"/>
          <p:cNvSpPr/>
          <p:nvPr/>
        </p:nvSpPr>
        <p:spPr>
          <a:xfrm>
            <a:off x="4587840" y="503712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2"/>
          <p:cNvSpPr/>
          <p:nvPr/>
        </p:nvSpPr>
        <p:spPr>
          <a:xfrm>
            <a:off x="4840200" y="503712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3"/>
          <p:cNvSpPr/>
          <p:nvPr/>
        </p:nvSpPr>
        <p:spPr>
          <a:xfrm>
            <a:off x="4335480" y="467820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4"/>
          <p:cNvSpPr/>
          <p:nvPr/>
        </p:nvSpPr>
        <p:spPr>
          <a:xfrm>
            <a:off x="4587840" y="467820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5"/>
          <p:cNvSpPr/>
          <p:nvPr/>
        </p:nvSpPr>
        <p:spPr>
          <a:xfrm>
            <a:off x="4840200" y="467820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6"/>
          <p:cNvSpPr/>
          <p:nvPr/>
        </p:nvSpPr>
        <p:spPr>
          <a:xfrm>
            <a:off x="5091120" y="467820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7"/>
          <p:cNvSpPr/>
          <p:nvPr/>
        </p:nvSpPr>
        <p:spPr>
          <a:xfrm>
            <a:off x="3832200" y="539748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8"/>
          <p:cNvSpPr/>
          <p:nvPr/>
        </p:nvSpPr>
        <p:spPr>
          <a:xfrm>
            <a:off x="4084560" y="539748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9"/>
          <p:cNvSpPr/>
          <p:nvPr/>
        </p:nvSpPr>
        <p:spPr>
          <a:xfrm>
            <a:off x="4335480" y="539748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0"/>
          <p:cNvSpPr/>
          <p:nvPr/>
        </p:nvSpPr>
        <p:spPr>
          <a:xfrm>
            <a:off x="4587840" y="539748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51"/>
          <p:cNvSpPr/>
          <p:nvPr/>
        </p:nvSpPr>
        <p:spPr>
          <a:xfrm>
            <a:off x="358920" y="2662200"/>
            <a:ext cx="269856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о то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ляется у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сным и отчётлив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2"/>
          <p:cNvSpPr/>
          <p:nvPr/>
        </p:nvSpPr>
        <p:spPr>
          <a:xfrm>
            <a:off x="358920" y="3525840"/>
            <a:ext cx="269856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ление на ча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до достиж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ной яс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3"/>
          <p:cNvSpPr/>
          <p:nvPr/>
        </p:nvSpPr>
        <p:spPr>
          <a:xfrm>
            <a:off x="358920" y="4389480"/>
            <a:ext cx="269856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ледовательно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сле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от прост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сложном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54"/>
          <p:cNvSpPr/>
          <p:nvPr/>
        </p:nvSpPr>
        <p:spPr>
          <a:xfrm>
            <a:off x="358920" y="5253120"/>
            <a:ext cx="269856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ечни и обзор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чтобы нич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упусти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55"/>
          <p:cNvSpPr/>
          <p:nvPr/>
        </p:nvSpPr>
        <p:spPr>
          <a:xfrm>
            <a:off x="7556400" y="2662200"/>
            <a:ext cx="125892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-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и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57"/>
          <p:cNvSpPr/>
          <p:nvPr/>
        </p:nvSpPr>
        <p:spPr>
          <a:xfrm>
            <a:off x="7556400" y="3525840"/>
            <a:ext cx="125892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-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и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58"/>
          <p:cNvSpPr/>
          <p:nvPr/>
        </p:nvSpPr>
        <p:spPr>
          <a:xfrm>
            <a:off x="7556400" y="4389480"/>
            <a:ext cx="125892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-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и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59"/>
          <p:cNvSpPr/>
          <p:nvPr/>
        </p:nvSpPr>
        <p:spPr>
          <a:xfrm>
            <a:off x="7556400" y="5253120"/>
            <a:ext cx="125892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-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и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нтология Декарт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уализм духа и мат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3"/>
          <p:cNvSpPr/>
          <p:nvPr/>
        </p:nvSpPr>
        <p:spPr>
          <a:xfrm>
            <a:off x="3057480" y="1798560"/>
            <a:ext cx="302256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сё сущ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4"/>
          <p:cNvSpPr/>
          <p:nvPr/>
        </p:nvSpPr>
        <p:spPr>
          <a:xfrm>
            <a:off x="898560" y="3381480"/>
            <a:ext cx="302256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ещ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ыслящие</a:t>
            </a:r>
            <a:br>
              <a:rPr sz="20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es cogitans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5218200" y="3381480"/>
            <a:ext cx="302256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ещ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тяжённые</a:t>
            </a:r>
            <a:br>
              <a:rPr sz="20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es extensa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>
            <a:off x="4570560" y="2877840"/>
            <a:ext cx="216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08" name="Line 7"/>
          <p:cNvSpPr/>
          <p:nvPr/>
        </p:nvSpPr>
        <p:spPr>
          <a:xfrm>
            <a:off x="2409840" y="3130560"/>
            <a:ext cx="43178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AutoShape 8"/>
          <p:cNvCxnSpPr/>
          <p:nvPr/>
        </p:nvCxnSpPr>
        <p:spPr>
          <a:xfrm>
            <a:off x="2409840" y="3130200"/>
            <a:ext cx="216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10" name="AutoShape 9"/>
          <p:cNvCxnSpPr/>
          <p:nvPr/>
        </p:nvCxnSpPr>
        <p:spPr>
          <a:xfrm>
            <a:off x="6729480" y="3130200"/>
            <a:ext cx="216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11" name="AutoShape 11"/>
          <p:cNvSpPr/>
          <p:nvPr/>
        </p:nvSpPr>
        <p:spPr>
          <a:xfrm>
            <a:off x="790560" y="4749840"/>
            <a:ext cx="7558200" cy="1800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полагаю, что вес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од причин, направленны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определённой цели, не может иметь никакого применен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области физики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едь я допускаю, что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легкомыслию можно пытаться прослеживать цели Бо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уализм духа и материи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станции их атрибу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03280" y="3957480"/>
            <a:ext cx="3959280" cy="251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убстанция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substantia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-лежаще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вод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ύπόστασι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уществует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амостоятельн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само по себе)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что устойчивое и постоянно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в отличие от изменчив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преходящег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1042920" y="1798560"/>
            <a:ext cx="287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5289480" y="1798560"/>
            <a:ext cx="287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ате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4749840" y="3957480"/>
            <a:ext cx="3959280" cy="251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трибут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attributum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данное, приписанно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пределяющий призна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качество, предикат) субстанци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статочный для её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нтификации и необходимы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её существ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1042920" y="2878200"/>
            <a:ext cx="2879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ш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5289480" y="2878200"/>
            <a:ext cx="2879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яжё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уализм духа и материи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Пустое пространство и психика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682560" y="1546200"/>
            <a:ext cx="3598920" cy="125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ождествление телесност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протяжённостью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дёт к отрицанию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устого простран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4929120" y="1546200"/>
            <a:ext cx="3598920" cy="125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ождествление психик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логическим мышлени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дёт к отрицанию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сихики у живот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5331240" y="6261120"/>
            <a:ext cx="28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вотные – автома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466560" y="611676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олняющая всё пространств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я движется вихреобраз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7" descr="CIRCLE_LIMIT_III (red)"/>
          <p:cNvPicPr/>
          <p:nvPr/>
        </p:nvPicPr>
        <p:blipFill>
          <a:blip r:embed="rId1"/>
          <a:stretch/>
        </p:blipFill>
        <p:spPr>
          <a:xfrm>
            <a:off x="934920" y="2986200"/>
            <a:ext cx="3059280" cy="3058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betemachine-descartes"/>
          <p:cNvPicPr/>
          <p:nvPr/>
        </p:nvPicPr>
        <p:blipFill>
          <a:blip r:embed="rId2"/>
          <a:stretch/>
        </p:blipFill>
        <p:spPr>
          <a:xfrm>
            <a:off x="5073480" y="2986200"/>
            <a:ext cx="3343320" cy="305748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1000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уализм духа и мате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1042920" y="1798560"/>
            <a:ext cx="287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5289480" y="1798560"/>
            <a:ext cx="287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ате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1042920" y="2878200"/>
            <a:ext cx="2879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5289480" y="2878200"/>
            <a:ext cx="2879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ысл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5289480" y="3598920"/>
            <a:ext cx="2879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яжё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1042920" y="3598920"/>
            <a:ext cx="2879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протяжё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1042920" y="4317840"/>
            <a:ext cx="287964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дел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5289480" y="4317840"/>
            <a:ext cx="287964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л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3"/>
          <p:cNvSpPr/>
          <p:nvPr/>
        </p:nvSpPr>
        <p:spPr>
          <a:xfrm>
            <a:off x="4605480" y="1619280"/>
            <a:ext cx="0" cy="35989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1116720" y="5397480"/>
            <a:ext cx="699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дух и материя не имеют друг с другом ничего общего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возможно их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заимодействи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каким образ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ух может иметь идею материального тела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обще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на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то-то о материальных тел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4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5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6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«Врождённые иде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719280" y="1798560"/>
            <a:ext cx="3419280" cy="360036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5"/>
          <p:cNvSpPr/>
          <p:nvPr/>
        </p:nvSpPr>
        <p:spPr>
          <a:xfrm>
            <a:off x="2063520" y="596736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 = 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6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4646880" y="5397480"/>
            <a:ext cx="40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г вложил в человеческую душ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ю материальной субстанц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знание об основных законах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торым она подчин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8" descr="Descartes (3)"/>
          <p:cNvPicPr/>
          <p:nvPr/>
        </p:nvPicPr>
        <p:blipFill>
          <a:blip r:embed="rId2"/>
          <a:stretch/>
        </p:blipFill>
        <p:spPr>
          <a:xfrm>
            <a:off x="5181480" y="1798560"/>
            <a:ext cx="3019680" cy="326700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nodeType="clickEffect" fill="hold">
                      <p:stCondLst>
                        <p:cond delay="0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9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0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1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nodeType="afterEffect" fill="hold">
                            <p:stCondLst>
                              <p:cond delay="4040"/>
                            </p:stCondLst>
                            <p:childTnLst>
                              <p:par>
                                <p:cTn id="10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AutoShape 2"/>
          <p:cNvSpPr/>
          <p:nvPr/>
        </p:nvSpPr>
        <p:spPr>
          <a:xfrm rot="10800000">
            <a:off x="611280" y="2059920"/>
            <a:ext cx="6981840" cy="1468440"/>
          </a:xfrm>
          <a:custGeom>
            <a:avLst/>
            <a:gdLst>
              <a:gd name="textAreaLeft" fmla="*/ 1221840 w 6981840"/>
              <a:gd name="textAreaRight" fmla="*/ 5061960 w 6981840"/>
              <a:gd name="textAreaTop" fmla="*/ 196560 h 1468440"/>
              <a:gd name="textAreaBottom" fmla="*/ 1271880 h 146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«Шишковидная желез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6"/>
          <p:cNvSpPr/>
          <p:nvPr/>
        </p:nvSpPr>
        <p:spPr>
          <a:xfrm>
            <a:off x="2124000" y="2924280"/>
            <a:ext cx="1436760" cy="790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ев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7"/>
          <p:cNvSpPr/>
          <p:nvPr/>
        </p:nvSpPr>
        <p:spPr>
          <a:xfrm>
            <a:off x="2122560" y="2925720"/>
            <a:ext cx="1436760" cy="790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жи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1555200" y="5757840"/>
            <a:ext cx="640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окализуемая Декартом в мозгу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шишковидная желез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образу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увственные (физические) воздейств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мысли и мысли – в физические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9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0" descr="Knight"/>
          <p:cNvPicPr/>
          <p:nvPr/>
        </p:nvPicPr>
        <p:blipFill>
          <a:blip r:embed="rId1"/>
          <a:stretch/>
        </p:blipFill>
        <p:spPr>
          <a:xfrm>
            <a:off x="1582560" y="3525840"/>
            <a:ext cx="1195560" cy="18003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6" descr="Lion (5)"/>
          <p:cNvPicPr/>
          <p:nvPr/>
        </p:nvPicPr>
        <p:blipFill>
          <a:blip r:embed="rId2"/>
          <a:stretch/>
        </p:blipFill>
        <p:spPr>
          <a:xfrm>
            <a:off x="5900760" y="2770200"/>
            <a:ext cx="2158920" cy="196848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nodeType="clickEffect" fill="hold">
                      <p:stCondLst>
                        <p:cond delay="0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3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4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5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77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9" dur="770" fill="hold"/>
                                        <p:tgtEl>
                                          <p:spTgt spid="2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1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3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15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сихофизический паралле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" descr="j0183290"/>
          <p:cNvPicPr/>
          <p:nvPr/>
        </p:nvPicPr>
        <p:blipFill>
          <a:blip r:embed="rId1"/>
          <a:stretch/>
        </p:blipFill>
        <p:spPr>
          <a:xfrm>
            <a:off x="6837480" y="1798560"/>
            <a:ext cx="1724040" cy="18496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AClock_l"/>
          <p:cNvPicPr/>
          <p:nvPr/>
        </p:nvPicPr>
        <p:blipFill>
          <a:blip r:embed="rId2"/>
          <a:stretch/>
        </p:blipFill>
        <p:spPr>
          <a:xfrm>
            <a:off x="719280" y="3238560"/>
            <a:ext cx="2144520" cy="21445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clock_013"/>
          <p:cNvPicPr/>
          <p:nvPr/>
        </p:nvPicPr>
        <p:blipFill>
          <a:blip r:embed="rId3"/>
          <a:stretch/>
        </p:blipFill>
        <p:spPr>
          <a:xfrm>
            <a:off x="3598920" y="3598920"/>
            <a:ext cx="2144520" cy="285912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9"/>
          <p:cNvSpPr/>
          <p:nvPr/>
        </p:nvSpPr>
        <p:spPr>
          <a:xfrm>
            <a:off x="6368400" y="5757840"/>
            <a:ext cx="2565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рнольд Гейлинкс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24-166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6229800" y="5013360"/>
            <a:ext cx="2648160" cy="3988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имер двух ча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1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218520" y="1619280"/>
            <a:ext cx="632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ьные и духовные процессы согласованны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обно тому как две пары часов показывают од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то же время, хотя они и не взаимодействуют межд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бой – об этом позаботился Мудрый Часовщ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nodeType="clickEffect" fill="hold">
                      <p:stCondLst>
                        <p:cond delay="0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5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6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7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1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сихофизический паралле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3" descr="j0183290"/>
          <p:cNvPicPr/>
          <p:nvPr/>
        </p:nvPicPr>
        <p:blipFill>
          <a:blip r:embed="rId1"/>
          <a:stretch/>
        </p:blipFill>
        <p:spPr>
          <a:xfrm>
            <a:off x="6837480" y="1978200"/>
            <a:ext cx="1724040" cy="184932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6115680" y="5757840"/>
            <a:ext cx="267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иколя Мальбранш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38-17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ANNIMATEDfelixTHEcat"/>
          <p:cNvPicPr/>
          <p:nvPr/>
        </p:nvPicPr>
        <p:blipFill>
          <a:blip r:embed="rId2"/>
          <a:stretch/>
        </p:blipFill>
        <p:spPr>
          <a:xfrm>
            <a:off x="2338560" y="5229360"/>
            <a:ext cx="3286080" cy="1428480"/>
          </a:xfrm>
          <a:prstGeom prst="rect">
            <a:avLst/>
          </a:prstGeom>
          <a:ln w="0">
            <a:noFill/>
          </a:ln>
        </p:spPr>
      </p:pic>
      <p:sp>
        <p:nvSpPr>
          <p:cNvPr id="270" name="Oval 7"/>
          <p:cNvSpPr/>
          <p:nvPr/>
        </p:nvSpPr>
        <p:spPr>
          <a:xfrm>
            <a:off x="5257800" y="1809720"/>
            <a:ext cx="1371600" cy="1371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8" descr="ANNIMATEDfelixTHEcat"/>
          <p:cNvPicPr/>
          <p:nvPr/>
        </p:nvPicPr>
        <p:blipFill>
          <a:blip r:embed="rId3"/>
          <a:stretch/>
        </p:blipFill>
        <p:spPr>
          <a:xfrm>
            <a:off x="5397480" y="2241720"/>
            <a:ext cx="1093680" cy="474480"/>
          </a:xfrm>
          <a:prstGeom prst="rect">
            <a:avLst/>
          </a:prstGeom>
          <a:ln w="0">
            <a:noFill/>
          </a:ln>
        </p:spPr>
      </p:pic>
      <p:sp>
        <p:nvSpPr>
          <p:cNvPr id="272" name="Oval 9"/>
          <p:cNvSpPr/>
          <p:nvPr/>
        </p:nvSpPr>
        <p:spPr>
          <a:xfrm>
            <a:off x="2068560" y="2060640"/>
            <a:ext cx="960480" cy="960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0" descr="ANNIMATEDfelixTHEcat"/>
          <p:cNvPicPr/>
          <p:nvPr/>
        </p:nvPicPr>
        <p:blipFill>
          <a:blip r:embed="rId4"/>
          <a:stretch/>
        </p:blipFill>
        <p:spPr>
          <a:xfrm>
            <a:off x="2122560" y="2349360"/>
            <a:ext cx="871560" cy="3780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11"/>
          <p:cNvSpPr/>
          <p:nvPr/>
        </p:nvSpPr>
        <p:spPr>
          <a:xfrm>
            <a:off x="5938200" y="4821120"/>
            <a:ext cx="2812680" cy="703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идение всех вещей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 Бо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2"/>
          <p:cNvSpPr/>
          <p:nvPr/>
        </p:nvSpPr>
        <p:spPr>
          <a:xfrm rot="13500000">
            <a:off x="1907280" y="46407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3"/>
          <p:cNvSpPr/>
          <p:nvPr/>
        </p:nvSpPr>
        <p:spPr>
          <a:xfrm flipH="1" flipV="1">
            <a:off x="2039040" y="4521600"/>
            <a:ext cx="763560" cy="763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4"/>
          <p:cNvSpPr/>
          <p:nvPr/>
        </p:nvSpPr>
        <p:spPr>
          <a:xfrm flipH="1">
            <a:off x="2039400" y="4522320"/>
            <a:ext cx="763200" cy="763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5"/>
          <p:cNvSpPr/>
          <p:nvPr/>
        </p:nvSpPr>
        <p:spPr>
          <a:xfrm rot="8700000">
            <a:off x="4235040" y="4078080"/>
            <a:ext cx="2951280" cy="485640"/>
          </a:xfrm>
          <a:prstGeom prst="rightArrow">
            <a:avLst>
              <a:gd name="adj1" fmla="val 50000"/>
              <a:gd name="adj2" fmla="val 1519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6"/>
          <p:cNvSpPr/>
          <p:nvPr/>
        </p:nvSpPr>
        <p:spPr>
          <a:xfrm rot="10800000">
            <a:off x="3165480" y="2230200"/>
            <a:ext cx="1908000" cy="485640"/>
          </a:xfrm>
          <a:prstGeom prst="rightArrow">
            <a:avLst>
              <a:gd name="adj1" fmla="val 50000"/>
              <a:gd name="adj2" fmla="val 982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7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0" descr="Knight"/>
          <p:cNvPicPr/>
          <p:nvPr/>
        </p:nvPicPr>
        <p:blipFill>
          <a:blip r:embed="rId5"/>
          <a:stretch/>
        </p:blipFill>
        <p:spPr>
          <a:xfrm>
            <a:off x="324000" y="2085840"/>
            <a:ext cx="1792080" cy="2698920"/>
          </a:xfrm>
          <a:prstGeom prst="rect">
            <a:avLst/>
          </a:prstGeom>
          <a:ln w="0">
            <a:noFill/>
          </a:ln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4" dur="indefinite" restart="never" nodeType="tmRoot">
          <p:childTnLst>
            <p:seq>
              <p:cTn id="1215" dur="indefinite" nodeType="mainSeq">
                <p:childTnLst>
                  <p:par>
                    <p:cTn id="1216" nodeType="clickEffect" fill="hold">
                      <p:stCondLst>
                        <p:cond delay="0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3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6" dur="8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7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6" dur="8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7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ртезианский окказион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287280" y="1546200"/>
            <a:ext cx="3994200" cy="4965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0" bIns="90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кказионализм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occasio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учай, повод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ская концепц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рицающая возмож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заимодейств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ьной (протяжённой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духовной (мыслящей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бстанций и  утверждающа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то, что представля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лесной причин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сли (или акта воли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ли психической причин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идеей или желанием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зического движения е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более чем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овод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ccasio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истинной причины, каков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ожет быть только Б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8"/>
          <p:cNvSpPr/>
          <p:nvPr/>
        </p:nvSpPr>
        <p:spPr>
          <a:xfrm rot="10800000">
            <a:off x="4462200" y="1545840"/>
            <a:ext cx="449892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ижущая сила тел…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наход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движущихся тела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эта движущая си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не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и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воля Божья…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ественная причи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реаль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истинная причин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чина случайн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яющая реш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ворца прир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овать тем 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ым образ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м или ином случа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9"/>
          <p:cNvSpPr/>
          <p:nvPr/>
        </p:nvSpPr>
        <p:spPr>
          <a:xfrm>
            <a:off x="5257800" y="5973840"/>
            <a:ext cx="277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 Мальбранш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азыскание истин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3" dur="indefinite" restart="never" nodeType="tmRoot">
          <p:childTnLst>
            <p:seq>
              <p:cTn id="1304" dur="indefinite" nodeType="mainSeq">
                <p:childTnLst>
                  <p:par>
                    <p:cTn id="1305" nodeType="clickEffect" fill="hold">
                      <p:stCondLst>
                        <p:cond delay="indefinite"/>
                      </p:stCondLst>
                      <p:childTnLst>
                        <p:par>
                          <p:cTn id="1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nodeType="clickEffect" fill="hold">
                      <p:stCondLst>
                        <p:cond delay="indefinite"/>
                      </p:stCondLst>
                      <p:childTnLst>
                        <p:par>
                          <p:cTn id="1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47400" y="1816200"/>
            <a:ext cx="377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31 марта 1596 г. в Лаэ (ныне Декар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ится к колеже Ла Флеш (1606-16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оды путешестви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18-16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льмское «озарение»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0 ноября 1619 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знь в Париже (1625-162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эмиграции в Нидерландах (1628-16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ездки в Париж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644, 1647, 164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езд в Швецию (16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1 февраля 1650 г. в Стокголь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не Декар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596-16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europe (5) - cut (min)"/>
          <p:cNvPicPr/>
          <p:nvPr/>
        </p:nvPicPr>
        <p:blipFill>
          <a:blip r:embed="rId1"/>
          <a:stretch/>
        </p:blipFill>
        <p:spPr>
          <a:xfrm>
            <a:off x="4379760" y="1619280"/>
            <a:ext cx="4368960" cy="48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7" name="Oval 9"/>
          <p:cNvSpPr/>
          <p:nvPr/>
        </p:nvSpPr>
        <p:spPr>
          <a:xfrm>
            <a:off x="6686640" y="3645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6851160" y="3309840"/>
            <a:ext cx="91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ари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30"/>
          <p:cNvSpPr/>
          <p:nvPr/>
        </p:nvSpPr>
        <p:spPr>
          <a:xfrm>
            <a:off x="6413400" y="4005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1"/>
          <p:cNvSpPr/>
          <p:nvPr/>
        </p:nvSpPr>
        <p:spPr>
          <a:xfrm>
            <a:off x="5846040" y="4149720"/>
            <a:ext cx="5936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а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3"/>
          <p:cNvSpPr/>
          <p:nvPr/>
        </p:nvSpPr>
        <p:spPr>
          <a:xfrm>
            <a:off x="6270480" y="3716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4"/>
          <p:cNvSpPr/>
          <p:nvPr/>
        </p:nvSpPr>
        <p:spPr>
          <a:xfrm>
            <a:off x="4980600" y="3645000"/>
            <a:ext cx="11880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а Фле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6"/>
          <p:cNvSpPr/>
          <p:nvPr/>
        </p:nvSpPr>
        <p:spPr>
          <a:xfrm>
            <a:off x="7556400" y="37782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7"/>
          <p:cNvSpPr/>
          <p:nvPr/>
        </p:nvSpPr>
        <p:spPr>
          <a:xfrm>
            <a:off x="7748280" y="3860640"/>
            <a:ext cx="7765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ль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38"/>
          <p:cNvSpPr/>
          <p:nvPr/>
        </p:nvSpPr>
        <p:spPr>
          <a:xfrm>
            <a:off x="6948360" y="2997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9"/>
          <p:cNvSpPr/>
          <p:nvPr/>
        </p:nvSpPr>
        <p:spPr>
          <a:xfrm>
            <a:off x="7171560" y="2781360"/>
            <a:ext cx="10173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ейд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0"/>
          <p:cNvSpPr/>
          <p:nvPr/>
        </p:nvSpPr>
        <p:spPr>
          <a:xfrm>
            <a:off x="8388360" y="162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1"/>
          <p:cNvSpPr/>
          <p:nvPr/>
        </p:nvSpPr>
        <p:spPr>
          <a:xfrm>
            <a:off x="6880320" y="1773360"/>
            <a:ext cx="14000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окголь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47400" y="1816200"/>
            <a:ext cx="377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24 ноября 1632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Амстерда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еликое отлучение» (165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21 февраля 1677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Гаа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енедикт Спиноз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632-167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europe (5) - cut (min)"/>
          <p:cNvPicPr/>
          <p:nvPr/>
        </p:nvPicPr>
        <p:blipFill>
          <a:blip r:embed="rId1"/>
          <a:stretch/>
        </p:blipFill>
        <p:spPr>
          <a:xfrm>
            <a:off x="4379760" y="1619280"/>
            <a:ext cx="4368960" cy="48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91" name="Oval 13"/>
          <p:cNvSpPr/>
          <p:nvPr/>
        </p:nvSpPr>
        <p:spPr>
          <a:xfrm>
            <a:off x="6980400" y="2986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7172640" y="2781360"/>
            <a:ext cx="14594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мстерд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7"/>
          <p:cNvSpPr/>
          <p:nvPr/>
        </p:nvSpPr>
        <p:spPr>
          <a:xfrm>
            <a:off x="6908760" y="3094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8"/>
          <p:cNvSpPr/>
          <p:nvPr/>
        </p:nvSpPr>
        <p:spPr>
          <a:xfrm>
            <a:off x="6667560" y="3273480"/>
            <a:ext cx="7840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аа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nodeType="clickEffect" fill="hold">
                      <p:stCondLst>
                        <p:cond delay="indefinite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nodeType="clickEffect" fill="hold">
                      <p:stCondLst>
                        <p:cond delay="indefinite"/>
                      </p:stCondLst>
                      <p:childTnLst>
                        <p:par>
                          <p:cTn id="1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nodeType="clickEffect" fill="hold">
                      <p:stCondLst>
                        <p:cond delay="indefinite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енедикт Спиноз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632-167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1190520" y="61898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недикт Спин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4570560" y="3057480"/>
            <a:ext cx="431784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ы философии Декарта, доказанные геометрическим способо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6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ословско-политический трактат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63-167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503712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7" descr="Spinoza (4)"/>
          <p:cNvPicPr/>
          <p:nvPr/>
        </p:nvPicPr>
        <p:blipFill>
          <a:blip r:embed="rId1"/>
          <a:stretch/>
        </p:blipFill>
        <p:spPr>
          <a:xfrm>
            <a:off x="431640" y="1619280"/>
            <a:ext cx="382608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3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8" dur="indefinite" restart="never" nodeType="tmRoot">
          <p:childTnLst>
            <p:seq>
              <p:cTn id="1369" dur="indefinite" nodeType="mainSeq">
                <p:childTnLst>
                  <p:par>
                    <p:cTn id="1370" nodeType="clickEffect" fill="hold">
                      <p:stCondLst>
                        <p:cond delay="indefinite"/>
                      </p:stCondLst>
                      <p:childTnLst>
                        <p:par>
                          <p:cTn id="1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nodeType="clickEffect" fill="hold">
                      <p:stCondLst>
                        <p:cond delay="indefinite"/>
                      </p:stCondLst>
                      <p:childTnLst>
                        <p:par>
                          <p:cTn id="1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nodeType="clickEffect" fill="hold">
                      <p:stCondLst>
                        <p:cond delay="indefinite"/>
                      </p:stCondLst>
                      <p:childTnLst>
                        <p:par>
                          <p:cTn id="1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0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0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1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1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иноз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нистический рацион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75760" y="1491840"/>
            <a:ext cx="85899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я Спин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дуа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динственность субста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жественность атрибутов субста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нте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а творя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а сотворё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термин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рицание случайности (необусловлен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вобода как обусловленность собственной природ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свобода как внешняя обусловленность (принужд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носеология Спин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Геометрический» мет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ождествление физической и  логической необход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рода по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тика Спинозы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ум и своб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2" dur="indefinite" restart="never" nodeType="tmRoot">
          <p:childTnLst>
            <p:seq>
              <p:cTn id="1413" dur="indefinite" nodeType="mainSeq">
                <p:childTnLst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nodeType="clickEffect" fill="hold">
                      <p:stCondLst>
                        <p:cond delay="indefinite"/>
                      </p:stCondLst>
                      <p:childTnLst>
                        <p:par>
                          <p:cTn id="1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3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3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3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3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3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3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nodeType="clickEffect" fill="hold">
                      <p:stCondLst>
                        <p:cond delay="indefinite"/>
                      </p:stCondLst>
                      <p:childTnLst>
                        <p:par>
                          <p:cTn id="1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3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3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3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3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атрибутом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разумею то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м представляет в субстан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оставляющее её сущ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ли субстанция, состоящ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бесконечно многих атрибуто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 существу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нт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дуа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роме Бога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какая субстанц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жет ни существова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быть представляе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станцие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я разумею 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существует само в себе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ляется само через с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ироде веще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жет бы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вух или более субстанций одной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й же природ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ными словами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одним и тем же атрибу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3"/>
          <p:cNvSpPr/>
          <p:nvPr/>
        </p:nvSpPr>
        <p:spPr>
          <a:xfrm>
            <a:off x="4680000" y="1546200"/>
            <a:ext cx="190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ределение 3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4"/>
          <p:cNvSpPr/>
          <p:nvPr/>
        </p:nvSpPr>
        <p:spPr>
          <a:xfrm>
            <a:off x="5759640" y="2625840"/>
            <a:ext cx="190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ределение 4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5"/>
          <p:cNvSpPr/>
          <p:nvPr/>
        </p:nvSpPr>
        <p:spPr>
          <a:xfrm>
            <a:off x="6839280" y="3706920"/>
            <a:ext cx="13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5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6"/>
          <p:cNvSpPr/>
          <p:nvPr/>
        </p:nvSpPr>
        <p:spPr>
          <a:xfrm>
            <a:off x="1332360" y="478620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11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7"/>
          <p:cNvSpPr/>
          <p:nvPr/>
        </p:nvSpPr>
        <p:spPr>
          <a:xfrm>
            <a:off x="2412000" y="586584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14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19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0" descr="Spinoza (2-med)"/>
          <p:cNvPicPr/>
          <p:nvPr/>
        </p:nvPicPr>
        <p:blipFill>
          <a:blip r:embed="rId1"/>
          <a:stretch/>
        </p:blipFill>
        <p:spPr>
          <a:xfrm>
            <a:off x="7197840" y="35892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3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8" dur="indefinite" restart="never" nodeType="tmRoot">
          <p:childTnLst>
            <p:seq>
              <p:cTn id="1489" dur="indefinite" nodeType="mainSeq">
                <p:childTnLst>
                  <p:par>
                    <p:cTn id="1490" nodeType="clickEffect" fill="hold">
                      <p:stCondLst>
                        <p:cond delay="indefinite"/>
                      </p:stCondLst>
                      <p:childTnLst>
                        <p:par>
                          <p:cTn id="1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nodeType="clickEffect" fill="hold">
                      <p:stCondLst>
                        <p:cond delay="indefinite"/>
                      </p:stCondLst>
                      <p:childTnLst>
                        <p:par>
                          <p:cTn id="1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nodeType="clickEffect" fill="hold">
                      <p:stCondLst>
                        <p:cond delay="indefinite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nodeType="clickEffect" fill="hold">
                      <p:stCondLst>
                        <p:cond delay="indefinite"/>
                      </p:stCondLst>
                      <p:childTnLst>
                        <p:par>
                          <p:cTn id="1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nodeType="clickEffect" fill="hold">
                      <p:stCondLst>
                        <p:cond delay="indefinite"/>
                      </p:stCondLst>
                      <p:childTnLst>
                        <p:par>
                          <p:cTn id="1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9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nodeType="clickEffect" fill="hold">
                      <p:stCondLst>
                        <p:cond delay="indefinite"/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4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дуа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17"/>
          <p:cNvSpPr/>
          <p:nvPr/>
        </p:nvSpPr>
        <p:spPr>
          <a:xfrm rot="10800000">
            <a:off x="3886200" y="1690200"/>
            <a:ext cx="503856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сюда самым ясным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разом следу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) что Бог един, т.е. чт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ироде вещей существу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лько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а субстанц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эта субстанц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олютно бесконечна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) что вещь протяжён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ещь мыслящая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es extensa et res cogitans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авляют 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трибут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состояния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модусы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трибутов Бог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9"/>
          <p:cNvSpPr/>
          <p:nvPr/>
        </p:nvSpPr>
        <p:spPr>
          <a:xfrm>
            <a:off x="4574520" y="6153120"/>
            <a:ext cx="36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. Спиноза. «Этика». – Част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0"/>
          <p:cNvSpPr/>
          <p:nvPr/>
        </p:nvSpPr>
        <p:spPr>
          <a:xfrm>
            <a:off x="2016000" y="3130560"/>
            <a:ext cx="216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ролларии 1 и 2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теореме 14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21" descr="Spinoza (2-med)"/>
          <p:cNvPicPr/>
          <p:nvPr/>
        </p:nvPicPr>
        <p:blipFill>
          <a:blip r:embed="rId1"/>
          <a:stretch/>
        </p:blipFill>
        <p:spPr>
          <a:xfrm>
            <a:off x="324000" y="442584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0" dur="indefinite" restart="never" nodeType="tmRoot">
          <p:childTnLst>
            <p:seq>
              <p:cTn id="1571" dur="indefinite" nodeType="mainSeq">
                <p:childTnLst>
                  <p:par>
                    <p:cTn id="1572" nodeType="clickEffect" fill="hold">
                      <p:stCondLst>
                        <p:cond delay="indefinite"/>
                      </p:stCondLst>
                      <p:childTnLst>
                        <p:par>
                          <p:cTn id="1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1" descr="Spinoza (2-med)"/>
          <p:cNvPicPr/>
          <p:nvPr/>
        </p:nvPicPr>
        <p:blipFill>
          <a:blip r:embed="rId1"/>
          <a:stretch/>
        </p:blipFill>
        <p:spPr>
          <a:xfrm>
            <a:off x="7197840" y="35892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330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необходимости божествен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ды должно вытека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ое множество вещ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о многими способ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 действу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ен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 законам своей прир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ез чьего-либо прину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нте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манентная причи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х вещ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 действующая изв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ё, что только существует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ует в Бог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без Бог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жет ни существова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быть представляем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 есть производящая причин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х вещей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акие только могу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ть представле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конечным разум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4"/>
          <p:cNvSpPr/>
          <p:nvPr/>
        </p:nvSpPr>
        <p:spPr>
          <a:xfrm>
            <a:off x="4680360" y="154620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15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5"/>
          <p:cNvSpPr/>
          <p:nvPr/>
        </p:nvSpPr>
        <p:spPr>
          <a:xfrm>
            <a:off x="5760000" y="262584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16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6"/>
          <p:cNvSpPr/>
          <p:nvPr/>
        </p:nvSpPr>
        <p:spPr>
          <a:xfrm>
            <a:off x="6838920" y="3598920"/>
            <a:ext cx="176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ролларий 1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теореме 16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7"/>
          <p:cNvSpPr/>
          <p:nvPr/>
        </p:nvSpPr>
        <p:spPr>
          <a:xfrm>
            <a:off x="1332360" y="478620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17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8"/>
          <p:cNvSpPr/>
          <p:nvPr/>
        </p:nvSpPr>
        <p:spPr>
          <a:xfrm>
            <a:off x="2412000" y="586584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18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2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7" dur="indefinite" restart="never" nodeType="tmRoot">
          <p:childTnLst>
            <p:seq>
              <p:cTn id="1588" dur="indefinite" nodeType="mainSeq">
                <p:childTnLst>
                  <p:par>
                    <p:cTn id="1589" nodeType="clickEffect" fill="hold">
                      <p:stCondLst>
                        <p:cond delay="0"/>
                      </p:stCondLst>
                      <p:childTnLst>
                        <p:par>
                          <p:cTn id="1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nodeType="clickEffect" fill="hold">
                      <p:stCondLst>
                        <p:cond delay="indefinite"/>
                      </p:stCondLst>
                      <p:childTnLst>
                        <p:par>
                          <p:cTn id="1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nodeType="clickEffect" fill="hold">
                      <p:stCondLst>
                        <p:cond delay="indefinite"/>
                      </p:stCondLst>
                      <p:childTnLst>
                        <p:par>
                          <p:cTn id="1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nodeType="clickEffect" fill="hold">
                      <p:stCondLst>
                        <p:cond delay="indefinite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9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nodeType="clickEffect" fill="hold">
                      <p:stCondLst>
                        <p:cond delay="indefinite"/>
                      </p:stCondLst>
                      <p:childTnLst>
                        <p:par>
                          <p:cTn id="1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nodeType="clickEffect" fill="hold">
                      <p:stCondLst>
                        <p:cond delay="indefinite"/>
                      </p:stCondLst>
                      <p:childTnLst>
                        <p:par>
                          <p:cTn id="1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3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нтеизм: природа творящая и сотворё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4"/>
          <p:cNvSpPr/>
          <p:nvPr/>
        </p:nvSpPr>
        <p:spPr>
          <a:xfrm rot="10800000">
            <a:off x="3598560" y="1545840"/>
            <a:ext cx="5398920" cy="4570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родой порождающ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м должно понимать то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ет само по себе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ляется само через себ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ыми словами, такие атрибут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станции, которые выража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чную и бесконечную сущн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Бога, поскольку о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ссматривается как свобод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чина. А под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род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рождённо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я понимаю всё 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вытекает из необходим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ды Бога, т.е. все модус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трибутов Бога, поскольку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ссматриваются как вещ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существуют в Бог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4501440" y="6261120"/>
            <a:ext cx="36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. Спиноза. «Этика». – Част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2233440" y="4570560"/>
            <a:ext cx="161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л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теореме 29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357120" y="1619280"/>
            <a:ext cx="3527640" cy="25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антеизм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παν</a:t>
            </a:r>
            <a:r>
              <a:rPr b="1" lang="ru-RU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ё,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θεός</a:t>
            </a:r>
            <a:r>
              <a:rPr b="1" lang="ru-RU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г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лигиозно-философска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ктрина, согласно котор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г и мир суть од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Бог имманентен миру),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ук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: «Бог во всём» и/ил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сё божествен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9" descr="Spinoza (2-med)"/>
          <p:cNvPicPr/>
          <p:nvPr/>
        </p:nvPicPr>
        <p:blipFill>
          <a:blip r:embed="rId1"/>
          <a:stretch/>
        </p:blipFill>
        <p:spPr>
          <a:xfrm>
            <a:off x="324000" y="442584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3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5" dur="indefinite" restart="never" nodeType="tmRoot">
          <p:childTnLst>
            <p:seq>
              <p:cTn id="1666" dur="indefinite" nodeType="mainSeq">
                <p:childTnLst>
                  <p:par>
                    <p:cTn id="1667" nodeType="clickEffect" fill="hold">
                      <p:stCondLst>
                        <p:cond delay="indefinite"/>
                      </p:stCondLst>
                      <p:childTnLst>
                        <p:par>
                          <p:cTn id="1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nodeType="clickEffect" fill="hold">
                      <p:stCondLst>
                        <p:cond delay="indefinite"/>
                      </p:stCondLst>
                      <p:childTnLst>
                        <p:par>
                          <p:cTn id="1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0" descr="Spinoza (2-med)"/>
          <p:cNvPicPr/>
          <p:nvPr/>
        </p:nvPicPr>
        <p:blipFill>
          <a:blip r:embed="rId1"/>
          <a:stretch/>
        </p:blipFill>
        <p:spPr>
          <a:xfrm>
            <a:off x="7197840" y="35892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ь, которая определена 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ому-либо действию, необходим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ена таким образом Бог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а себя определить не мож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гли быть произведе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ом никаким другим образ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 в каком другом порядк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м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звед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термин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, что по нашему представлени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ходится во власти Бога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 существу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ироде вещ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т ничего случайног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о всё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ено из необходим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жественной прир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ь, которая определена Бог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ому-либо действию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жет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а себя сдела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определённой к н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4"/>
          <p:cNvSpPr/>
          <p:nvPr/>
        </p:nvSpPr>
        <p:spPr>
          <a:xfrm>
            <a:off x="4680360" y="154620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29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5"/>
          <p:cNvSpPr/>
          <p:nvPr/>
        </p:nvSpPr>
        <p:spPr>
          <a:xfrm>
            <a:off x="5760000" y="262584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26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6"/>
          <p:cNvSpPr/>
          <p:nvPr/>
        </p:nvSpPr>
        <p:spPr>
          <a:xfrm>
            <a:off x="6934680" y="370692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27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7"/>
          <p:cNvSpPr/>
          <p:nvPr/>
        </p:nvSpPr>
        <p:spPr>
          <a:xfrm>
            <a:off x="1332360" y="478620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33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8"/>
          <p:cNvSpPr/>
          <p:nvPr/>
        </p:nvSpPr>
        <p:spPr>
          <a:xfrm>
            <a:off x="2412000" y="586584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35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21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8" dur="indefinite" restart="never" nodeType="tmRoot">
          <p:childTnLst>
            <p:seq>
              <p:cTn id="1689" dur="indefinite" nodeType="mainSeq">
                <p:childTnLst>
                  <p:par>
                    <p:cTn id="1690" nodeType="clickEffect" fill="hold">
                      <p:stCondLst>
                        <p:cond delay="0"/>
                      </p:stCondLst>
                      <p:childTnLst>
                        <p:par>
                          <p:cTn id="1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nodeType="clickEffect" fill="hold">
                      <p:stCondLst>
                        <p:cond delay="indefinite"/>
                      </p:stCondLst>
                      <p:childTnLst>
                        <p:par>
                          <p:cTn id="1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nodeType="clickEffect" fill="hold">
                      <p:stCondLst>
                        <p:cond delay="indefinite"/>
                      </p:stCondLst>
                      <p:childTnLst>
                        <p:par>
                          <p:cTn id="1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5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nodeType="clickEffect" fill="hold">
                      <p:stCondLst>
                        <p:cond delay="indefinite"/>
                      </p:stCondLst>
                      <p:childTnLst>
                        <p:par>
                          <p:cTn id="1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nodeType="clickEffect" fill="hold">
                      <p:stCondLst>
                        <p:cond delay="indefinite"/>
                      </p:stCondLst>
                      <p:childTnLst>
                        <p:par>
                          <p:cTn id="1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5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nodeType="clickEffect" fill="hold">
                      <p:stCondLst>
                        <p:cond delay="indefinite"/>
                      </p:stCondLst>
                      <p:childTnLst>
                        <p:par>
                          <p:cTn id="1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термин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4"/>
          <p:cNvSpPr/>
          <p:nvPr/>
        </p:nvSpPr>
        <p:spPr>
          <a:xfrm rot="10800000">
            <a:off x="4173480" y="1582200"/>
            <a:ext cx="485784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вободно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азыв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ая вещь, котор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ет по одной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ости сво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бственной природы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ределяется к действ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лько сама собой.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обходимо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же ил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учше сказать,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ринуждён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зывается такая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тора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м-либо иным определяе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существованию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йствию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 известному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ённому образу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4717080" y="6153120"/>
            <a:ext cx="36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. Спиноза. «Этика». – Част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2384640" y="4497480"/>
            <a:ext cx="190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ределение 7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7"/>
          <p:cNvSpPr/>
          <p:nvPr/>
        </p:nvSpPr>
        <p:spPr>
          <a:xfrm>
            <a:off x="669960" y="1654200"/>
            <a:ext cx="3598920" cy="25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личие между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вобод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свобод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аключа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в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тсутств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аличии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детерминац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в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обще нет ниче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етерминированного), 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шь в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личии характера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этой детермин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8" descr="Spinoza (2-med)"/>
          <p:cNvPicPr/>
          <p:nvPr/>
        </p:nvPicPr>
        <p:blipFill>
          <a:blip r:embed="rId1"/>
          <a:stretch/>
        </p:blipFill>
        <p:spPr>
          <a:xfrm>
            <a:off x="324000" y="442584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3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6" dur="indefinite" restart="never" nodeType="tmRoot">
          <p:childTnLst>
            <p:seq>
              <p:cTn id="1767" dur="indefinite" nodeType="mainSeq">
                <p:childTnLst>
                  <p:par>
                    <p:cTn id="1768" nodeType="clickEffect" fill="hold">
                      <p:stCondLst>
                        <p:cond delay="indefinite"/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2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nodeType="clickEffect" fill="hold">
                      <p:stCondLst>
                        <p:cond delay="indefinite"/>
                      </p:stCondLst>
                      <p:childTnLst>
                        <p:par>
                          <p:cTn id="1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utoShape 13"/>
          <p:cNvSpPr/>
          <p:nvPr/>
        </p:nvSpPr>
        <p:spPr>
          <a:xfrm>
            <a:off x="4317840" y="4462560"/>
            <a:ext cx="486000" cy="1295280"/>
          </a:xfrm>
          <a:prstGeom prst="downArrow">
            <a:avLst>
              <a:gd name="adj1" fmla="val 50000"/>
              <a:gd name="adj2" fmla="val 666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2"/>
          <p:cNvSpPr/>
          <p:nvPr/>
        </p:nvSpPr>
        <p:spPr>
          <a:xfrm>
            <a:off x="4911840" y="42559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1"/>
          <p:cNvSpPr/>
          <p:nvPr/>
        </p:nvSpPr>
        <p:spPr>
          <a:xfrm>
            <a:off x="3417840" y="42559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0"/>
          <p:cNvSpPr/>
          <p:nvPr/>
        </p:nvSpPr>
        <p:spPr>
          <a:xfrm>
            <a:off x="5829480" y="31226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9"/>
          <p:cNvSpPr/>
          <p:nvPr/>
        </p:nvSpPr>
        <p:spPr>
          <a:xfrm>
            <a:off x="2571840" y="31226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носе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Геометрический метод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3"/>
          <p:cNvSpPr/>
          <p:nvPr/>
        </p:nvSpPr>
        <p:spPr>
          <a:xfrm>
            <a:off x="1150920" y="2500200"/>
            <a:ext cx="251928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сио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4"/>
          <p:cNvSpPr/>
          <p:nvPr/>
        </p:nvSpPr>
        <p:spPr>
          <a:xfrm>
            <a:off x="5468760" y="2500200"/>
            <a:ext cx="251964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у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5"/>
          <p:cNvSpPr/>
          <p:nvPr/>
        </p:nvSpPr>
        <p:spPr>
          <a:xfrm>
            <a:off x="3309840" y="363384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ор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>
            <a:off x="898560" y="4767120"/>
            <a:ext cx="251928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Ле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5649840" y="4767120"/>
            <a:ext cx="251928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оролла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8"/>
          <p:cNvSpPr/>
          <p:nvPr/>
        </p:nvSpPr>
        <p:spPr>
          <a:xfrm>
            <a:off x="3309840" y="575784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хол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5"/>
          <p:cNvSpPr/>
          <p:nvPr/>
        </p:nvSpPr>
        <p:spPr>
          <a:xfrm>
            <a:off x="4317840" y="2338560"/>
            <a:ext cx="486000" cy="1295280"/>
          </a:xfrm>
          <a:prstGeom prst="downArrow">
            <a:avLst>
              <a:gd name="adj1" fmla="val 50000"/>
              <a:gd name="adj2" fmla="val 666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6"/>
          <p:cNvSpPr/>
          <p:nvPr/>
        </p:nvSpPr>
        <p:spPr>
          <a:xfrm>
            <a:off x="3309840" y="151128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9" dur="indefinite" restart="never" nodeType="tmRoot">
          <p:childTnLst>
            <p:seq>
              <p:cTn id="1790" dur="indefinite" nodeType="mainSeq">
                <p:childTnLst>
                  <p:par>
                    <p:cTn id="1791" nodeType="clickEffect" fill="hold">
                      <p:stCondLst>
                        <p:cond delay="indefinite"/>
                      </p:stCondLst>
                      <p:childTnLst>
                        <p:par>
                          <p:cTn id="1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nodeType="clickEffect" fill="hold">
                      <p:stCondLst>
                        <p:cond delay="indefinite"/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nodeType="clickEffect" fill="hold">
                      <p:stCondLst>
                        <p:cond delay="indefinite"/>
                      </p:stCondLst>
                      <p:childTnLst>
                        <p:par>
                          <p:cTn id="1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nodeType="clickEffect" fill="hold">
                      <p:stCondLst>
                        <p:cond delay="indefinite"/>
                      </p:stCondLst>
                      <p:childTnLst>
                        <p:par>
                          <p:cTn id="1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7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nodeType="clickEffect" fill="hold">
                      <p:stCondLst>
                        <p:cond delay="indefinite"/>
                      </p:stCondLst>
                      <p:childTnLst>
                        <p:par>
                          <p:cTn id="1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8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nodeType="clickEffect" fill="hold">
                      <p:stCondLst>
                        <p:cond delay="indefinite"/>
                      </p:stCondLst>
                      <p:childTnLst>
                        <p:par>
                          <p:cTn id="1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nodeType="clickEffect" fill="hold">
                      <p:stCondLst>
                        <p:cond delay="indefinite"/>
                      </p:stCondLst>
                      <p:childTnLst>
                        <p:par>
                          <p:cTn id="1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3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4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9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не Декар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596-16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770400" y="6041880"/>
            <a:ext cx="317700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не Декар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копия утраченного портрета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боты Ф. Хальс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4389480" y="3057480"/>
            <a:ext cx="45338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, или Трактат о свет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3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суждение о метод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мышления о первой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оначала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4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48578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7" descr="Uknown (after Hals), Descartes (c 1650, Louvre)_red"/>
          <p:cNvPicPr/>
          <p:nvPr/>
        </p:nvPicPr>
        <p:blipFill>
          <a:blip r:embed="rId1"/>
          <a:stretch/>
        </p:blipFill>
        <p:spPr>
          <a:xfrm>
            <a:off x="466560" y="1619280"/>
            <a:ext cx="369900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95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19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яжение составляет атрибу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ными словами Бог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ь протяжённая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es extensa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, что вытекает из бесконеч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ды Бог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альн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том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ядке и той же связи проистек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Боге из его иде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ив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зическая и логическая необходим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рядок и связь идей те ж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то порядок и связь вещ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шление составляет атрибу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ными словам Бог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ь мыслящая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es cogitans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станция мыслящая и субстанц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яжённая составляю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у и т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же субстанцию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рассматриваем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 разными атрибу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4"/>
          <p:cNvSpPr/>
          <p:nvPr/>
        </p:nvSpPr>
        <p:spPr>
          <a:xfrm>
            <a:off x="4680000" y="1546200"/>
            <a:ext cx="13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1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5"/>
          <p:cNvSpPr/>
          <p:nvPr/>
        </p:nvSpPr>
        <p:spPr>
          <a:xfrm>
            <a:off x="5723280" y="2625840"/>
            <a:ext cx="13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2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6"/>
          <p:cNvSpPr/>
          <p:nvPr/>
        </p:nvSpPr>
        <p:spPr>
          <a:xfrm>
            <a:off x="6840000" y="3598920"/>
            <a:ext cx="155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лия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теореме 7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7"/>
          <p:cNvSpPr/>
          <p:nvPr/>
        </p:nvSpPr>
        <p:spPr>
          <a:xfrm>
            <a:off x="1223640" y="4678200"/>
            <a:ext cx="157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роллари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теореме 7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8"/>
          <p:cNvSpPr/>
          <p:nvPr/>
        </p:nvSpPr>
        <p:spPr>
          <a:xfrm>
            <a:off x="2519640" y="5865840"/>
            <a:ext cx="13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7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19" descr="Spinoza (2-med)"/>
          <p:cNvPicPr/>
          <p:nvPr/>
        </p:nvPicPr>
        <p:blipFill>
          <a:blip r:embed="rId1"/>
          <a:stretch/>
        </p:blipFill>
        <p:spPr>
          <a:xfrm>
            <a:off x="7197840" y="136692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4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0" dur="indefinite" restart="never" nodeType="tmRoot">
          <p:childTnLst>
            <p:seq>
              <p:cTn id="1861" dur="indefinite" nodeType="mainSeq">
                <p:childTnLst>
                  <p:par>
                    <p:cTn id="1862" nodeType="clickEffect" fill="hold">
                      <p:stCondLst>
                        <p:cond delay="indefinite"/>
                      </p:stCondLst>
                      <p:childTnLst>
                        <p:par>
                          <p:cTn id="1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6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nodeType="clickEffect" fill="hold">
                      <p:stCondLst>
                        <p:cond delay="indefinite"/>
                      </p:stCondLst>
                      <p:childTnLst>
                        <p:par>
                          <p:cTn id="1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1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nodeType="clickEffect" fill="hold">
                      <p:stCondLst>
                        <p:cond delay="indefinite"/>
                      </p:stCondLst>
                      <p:childTnLst>
                        <p:par>
                          <p:cTn id="1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6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nodeType="clickEffect" fill="hold">
                      <p:stCondLst>
                        <p:cond delay="indefinite"/>
                      </p:stCondLst>
                      <p:childTnLst>
                        <p:par>
                          <p:cTn id="1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1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nodeType="clickEffect" fill="hold">
                      <p:stCondLst>
                        <p:cond delay="indefinite"/>
                      </p:stCondLst>
                      <p:childTnLst>
                        <p:par>
                          <p:cTn id="1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6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зическая и логическая необходим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3"/>
          <p:cNvSpPr/>
          <p:nvPr/>
        </p:nvSpPr>
        <p:spPr>
          <a:xfrm rot="10800000">
            <a:off x="3669840" y="1690200"/>
            <a:ext cx="52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руг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уществующий в природ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я этого круг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аходящая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же в Боге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ь одна и та ж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щь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ыраженная различны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трибутами. Так что, будем 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представлять природу по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трибутом протяжения, или по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трибутом мышления, или по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им-либо иным атрибут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во всех случаях найдё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ин и тот же порядок, ины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вами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у и ту же связ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чин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.е. что те же сам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и следуют друг за друго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4466520" y="6153120"/>
            <a:ext cx="36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. Спиноза. «Этика». – Часть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2233440" y="3238560"/>
            <a:ext cx="148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л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теореме 7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8" descr="Spinoza (2-med)"/>
          <p:cNvPicPr/>
          <p:nvPr/>
        </p:nvPicPr>
        <p:blipFill>
          <a:blip r:embed="rId1"/>
          <a:stretch/>
        </p:blipFill>
        <p:spPr>
          <a:xfrm>
            <a:off x="324000" y="442584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4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2" dur="indefinite" restart="never" nodeType="tmRoot">
          <p:childTnLst>
            <p:seq>
              <p:cTn id="1933" dur="indefinite" nodeType="mainSeq">
                <p:childTnLst>
                  <p:par>
                    <p:cTn id="1934" nodeType="clickEffect" fill="hold">
                      <p:stCondLst>
                        <p:cond delay="indefinite"/>
                      </p:stCondLst>
                      <p:childTnLst>
                        <p:par>
                          <p:cTn id="1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8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и рода по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3"/>
          <p:cNvSpPr/>
          <p:nvPr/>
        </p:nvSpPr>
        <p:spPr>
          <a:xfrm>
            <a:off x="3165480" y="1690560"/>
            <a:ext cx="287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9" name="AutoShape 4"/>
          <p:cNvCxnSpPr/>
          <p:nvPr/>
        </p:nvCxnSpPr>
        <p:spPr>
          <a:xfrm>
            <a:off x="4605480" y="276984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20" name="Line 5"/>
          <p:cNvSpPr/>
          <p:nvPr/>
        </p:nvSpPr>
        <p:spPr>
          <a:xfrm>
            <a:off x="2338560" y="3130560"/>
            <a:ext cx="226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6"/>
          <p:cNvSpPr/>
          <p:nvPr/>
        </p:nvSpPr>
        <p:spPr>
          <a:xfrm>
            <a:off x="3525840" y="3490920"/>
            <a:ext cx="215892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Рассу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2" name="AutoShape 7"/>
          <p:cNvCxnSpPr/>
          <p:nvPr/>
        </p:nvCxnSpPr>
        <p:spPr>
          <a:xfrm>
            <a:off x="4605480" y="313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23" name="AutoShape 8"/>
          <p:cNvSpPr/>
          <p:nvPr/>
        </p:nvSpPr>
        <p:spPr>
          <a:xfrm>
            <a:off x="1258920" y="3490920"/>
            <a:ext cx="215892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Мнен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ли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вообра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4" name="AutoShape 9"/>
          <p:cNvCxnSpPr/>
          <p:nvPr/>
        </p:nvCxnSpPr>
        <p:spPr>
          <a:xfrm>
            <a:off x="2338560" y="313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25" name="AutoShape 10"/>
          <p:cNvCxnSpPr/>
          <p:nvPr/>
        </p:nvCxnSpPr>
        <p:spPr>
          <a:xfrm>
            <a:off x="2338560" y="457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26" name="AutoShape 11"/>
          <p:cNvSpPr/>
          <p:nvPr/>
        </p:nvSpPr>
        <p:spPr>
          <a:xfrm>
            <a:off x="179280" y="5289480"/>
            <a:ext cx="2087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знание через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беспорядочный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пы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AutoShape 12"/>
          <p:cNvCxnSpPr/>
          <p:nvPr/>
        </p:nvCxnSpPr>
        <p:spPr>
          <a:xfrm>
            <a:off x="1221840" y="4928760"/>
            <a:ext cx="252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28" name="AutoShape 13"/>
          <p:cNvSpPr/>
          <p:nvPr/>
        </p:nvSpPr>
        <p:spPr>
          <a:xfrm>
            <a:off x="2409840" y="5289480"/>
            <a:ext cx="2087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знание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з зна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4"/>
          <p:cNvSpPr/>
          <p:nvPr/>
        </p:nvSpPr>
        <p:spPr>
          <a:xfrm>
            <a:off x="1222200" y="4929120"/>
            <a:ext cx="1116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5"/>
          <p:cNvSpPr/>
          <p:nvPr/>
        </p:nvSpPr>
        <p:spPr>
          <a:xfrm>
            <a:off x="2338560" y="4929120"/>
            <a:ext cx="111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1" name="AutoShape 16"/>
          <p:cNvCxnSpPr/>
          <p:nvPr/>
        </p:nvCxnSpPr>
        <p:spPr>
          <a:xfrm>
            <a:off x="3454560" y="492876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32" name="Line 17"/>
          <p:cNvSpPr/>
          <p:nvPr/>
        </p:nvSpPr>
        <p:spPr>
          <a:xfrm>
            <a:off x="4605480" y="3130560"/>
            <a:ext cx="226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3" name="AutoShape 18"/>
          <p:cNvCxnSpPr/>
          <p:nvPr/>
        </p:nvCxnSpPr>
        <p:spPr>
          <a:xfrm>
            <a:off x="6872400" y="313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34" name="AutoShape 19"/>
          <p:cNvSpPr/>
          <p:nvPr/>
        </p:nvSpPr>
        <p:spPr>
          <a:xfrm>
            <a:off x="5792760" y="3490920"/>
            <a:ext cx="215892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Интуи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" name="AutoShape 20"/>
          <p:cNvCxnSpPr/>
          <p:nvPr/>
        </p:nvCxnSpPr>
        <p:spPr>
          <a:xfrm>
            <a:off x="4605480" y="457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36" name="Line 21"/>
          <p:cNvSpPr/>
          <p:nvPr/>
        </p:nvSpPr>
        <p:spPr>
          <a:xfrm>
            <a:off x="4605480" y="4929120"/>
            <a:ext cx="107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22"/>
          <p:cNvSpPr/>
          <p:nvPr/>
        </p:nvSpPr>
        <p:spPr>
          <a:xfrm>
            <a:off x="4641840" y="5289480"/>
            <a:ext cx="2087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знание из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бщих понят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8" name="AutoShape 23"/>
          <p:cNvCxnSpPr/>
          <p:nvPr/>
        </p:nvCxnSpPr>
        <p:spPr>
          <a:xfrm>
            <a:off x="5684400" y="4928760"/>
            <a:ext cx="252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39" name="AutoShape 24"/>
          <p:cNvCxnSpPr/>
          <p:nvPr/>
        </p:nvCxnSpPr>
        <p:spPr>
          <a:xfrm>
            <a:off x="6872400" y="457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40" name="Line 25"/>
          <p:cNvSpPr/>
          <p:nvPr/>
        </p:nvSpPr>
        <p:spPr>
          <a:xfrm>
            <a:off x="6872400" y="4929120"/>
            <a:ext cx="1042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1" name="AutoShape 26"/>
          <p:cNvCxnSpPr/>
          <p:nvPr/>
        </p:nvCxnSpPr>
        <p:spPr>
          <a:xfrm>
            <a:off x="7916400" y="4928760"/>
            <a:ext cx="252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42" name="AutoShape 27"/>
          <p:cNvSpPr/>
          <p:nvPr/>
        </p:nvSpPr>
        <p:spPr>
          <a:xfrm>
            <a:off x="6872400" y="5289480"/>
            <a:ext cx="2087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епосредствен-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ое усмотрение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ущности вещ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9" dur="indefinite" restart="never" nodeType="tmRoot">
          <p:childTnLst>
            <p:seq>
              <p:cTn id="1950" dur="indefinite" nodeType="mainSeq">
                <p:childTnLst>
                  <p:par>
                    <p:cTn id="1951" nodeType="clickEffect" fill="hold">
                      <p:stCondLst>
                        <p:cond delay="indefinite"/>
                      </p:stCondLst>
                      <p:childTnLst>
                        <p:par>
                          <p:cTn id="1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nodeType="clickEffect" fill="hold">
                      <p:stCondLst>
                        <p:cond delay="indefinite"/>
                      </p:stCondLst>
                      <p:childTnLst>
                        <p:par>
                          <p:cTn id="1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6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3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nodeType="clickEffect" fill="hold">
                      <p:stCondLst>
                        <p:cond delay="indefinite"/>
                      </p:stCondLst>
                      <p:childTnLst>
                        <p:par>
                          <p:cTn id="1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2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3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nodeType="clickEffect" fill="hold">
                      <p:stCondLst>
                        <p:cond delay="indefinite"/>
                      </p:stCondLst>
                      <p:childTnLst>
                        <p:par>
                          <p:cTn id="1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7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8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nodeType="clickEffect" fill="hold">
                      <p:stCondLst>
                        <p:cond delay="indefinite"/>
                      </p:stCondLst>
                      <p:childTnLst>
                        <p:par>
                          <p:cTn id="2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8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nodeType="clickEffect" fill="hold">
                      <p:stCondLst>
                        <p:cond delay="indefinite"/>
                      </p:stCondLst>
                      <p:childTnLst>
                        <p:par>
                          <p:cTn id="2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7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nodeType="clickEffect" fill="hold">
                      <p:stCondLst>
                        <p:cond delay="indefinite"/>
                      </p:stCondLst>
                      <p:childTnLst>
                        <p:par>
                          <p:cTn id="2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2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nodeType="clickEffect" fill="hold">
                      <p:stCondLst>
                        <p:cond delay="indefinite"/>
                      </p:stCondLst>
                      <p:childTnLst>
                        <p:par>
                          <p:cTn id="2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2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3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и рода по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22"/>
          <p:cNvSpPr/>
          <p:nvPr/>
        </p:nvSpPr>
        <p:spPr>
          <a:xfrm rot="10800000">
            <a:off x="4317840" y="1978200"/>
            <a:ext cx="446256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нание первого рода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i="1" lang="ru-RU" sz="1800" spc="-1" strike="noStrike">
                <a:solidFill>
                  <a:srgbClr val="0066ff"/>
                </a:solidFill>
                <a:latin typeface="Arial"/>
              </a:rPr>
              <a:t>мнение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 или </a:t>
            </a:r>
            <a:r>
              <a:rPr b="1" i="1" lang="ru-RU" sz="1800" spc="-1" strike="noStrike">
                <a:solidFill>
                  <a:srgbClr val="0066ff"/>
                </a:solidFill>
                <a:latin typeface="Arial"/>
              </a:rPr>
              <a:t>воображение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енна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чина лож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нание же второго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i="1" lang="ru-RU" sz="1800" spc="-1" strike="noStrike">
                <a:solidFill>
                  <a:srgbClr val="0066ff"/>
                </a:solidFill>
                <a:latin typeface="Arial"/>
              </a:rPr>
              <a:t>рассудок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ретьего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i="1" lang="ru-RU" sz="1800" spc="-1" strike="noStrike">
                <a:solidFill>
                  <a:srgbClr val="0066ff"/>
                </a:solidFill>
                <a:latin typeface="Arial"/>
              </a:rPr>
              <a:t>интуиция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род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 истинн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23"/>
          <p:cNvSpPr/>
          <p:nvPr/>
        </p:nvSpPr>
        <p:spPr>
          <a:xfrm>
            <a:off x="4717080" y="5937120"/>
            <a:ext cx="36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. Спиноза. «Этика». – Часть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4"/>
          <p:cNvSpPr/>
          <p:nvPr/>
        </p:nvSpPr>
        <p:spPr>
          <a:xfrm>
            <a:off x="2594520" y="323856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41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25" descr="Spinoza (2-med)"/>
          <p:cNvPicPr/>
          <p:nvPr/>
        </p:nvPicPr>
        <p:blipFill>
          <a:blip r:embed="rId1"/>
          <a:stretch/>
        </p:blipFill>
        <p:spPr>
          <a:xfrm>
            <a:off x="324000" y="442584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4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4" dur="indefinite" restart="never" nodeType="tmRoot">
          <p:childTnLst>
            <p:seq>
              <p:cTn id="2075" dur="indefinite" nodeType="mainSeq">
                <p:childTnLst>
                  <p:par>
                    <p:cTn id="2076" nodeType="clickEffect" fill="hold">
                      <p:stCondLst>
                        <p:cond delay="indefinite"/>
                      </p:stCondLst>
                      <p:childTnLst>
                        <p:par>
                          <p:cTn id="2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0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ффект может бы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граничен или уничтоже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лько противоположным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ее сильным аффек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[Интеллектуальная]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юбовь к Богу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третий, высший, род познания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авляет самое высшее бла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которому мы можем стрем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Этика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ум и своб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познание если и н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ничтожа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фект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о, по крайней мер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стигает того, что они составля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именьшую часть ду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душе нет никакой абсолютной 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бодной воли;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хотению душ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ределяется причиной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ена другой причиной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двух благ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ы по руководств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а будем следов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óльше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двух зо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ньш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3"/>
          <p:cNvSpPr/>
          <p:nvPr/>
        </p:nvSpPr>
        <p:spPr>
          <a:xfrm>
            <a:off x="4680360" y="154620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48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4"/>
          <p:cNvSpPr/>
          <p:nvPr/>
        </p:nvSpPr>
        <p:spPr>
          <a:xfrm>
            <a:off x="5759640" y="2625840"/>
            <a:ext cx="13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7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5"/>
          <p:cNvSpPr/>
          <p:nvPr/>
        </p:nvSpPr>
        <p:spPr>
          <a:xfrm>
            <a:off x="6839640" y="370692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65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6"/>
          <p:cNvSpPr/>
          <p:nvPr/>
        </p:nvSpPr>
        <p:spPr>
          <a:xfrm>
            <a:off x="831600" y="4678200"/>
            <a:ext cx="200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казательств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ы 20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7"/>
          <p:cNvSpPr/>
          <p:nvPr/>
        </p:nvSpPr>
        <p:spPr>
          <a:xfrm>
            <a:off x="2304360" y="5757840"/>
            <a:ext cx="168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лия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теореме 20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9" descr="Spinoza (2-med)"/>
          <p:cNvPicPr/>
          <p:nvPr/>
        </p:nvPicPr>
        <p:blipFill>
          <a:blip r:embed="rId1"/>
          <a:stretch/>
        </p:blipFill>
        <p:spPr>
          <a:xfrm>
            <a:off x="7197840" y="35892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4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1" dur="indefinite" restart="never" nodeType="tmRoot">
          <p:childTnLst>
            <p:seq>
              <p:cTn id="2092" dur="indefinite" nodeType="mainSeq">
                <p:childTnLst>
                  <p:par>
                    <p:cTn id="2093" nodeType="clickEffect" fill="hold">
                      <p:stCondLst>
                        <p:cond delay="indefinite"/>
                      </p:stCondLst>
                      <p:childTnLst>
                        <p:par>
                          <p:cTn id="2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7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nodeType="clickEffect" fill="hold">
                      <p:stCondLst>
                        <p:cond delay="indefinite"/>
                      </p:stCondLst>
                      <p:childTnLst>
                        <p:par>
                          <p:cTn id="2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2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nodeType="clickEffect" fill="hold">
                      <p:stCondLst>
                        <p:cond delay="indefinite"/>
                      </p:stCondLst>
                      <p:childTnLst>
                        <p:par>
                          <p:cTn id="2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7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nodeType="clickEffect" fill="hold">
                      <p:stCondLst>
                        <p:cond delay="indefinite"/>
                      </p:stCondLst>
                      <p:childTnLst>
                        <p:par>
                          <p:cTn id="2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2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nodeType="clickEffect" fill="hold">
                      <p:stCondLst>
                        <p:cond delay="indefinite"/>
                      </p:stCondLst>
                      <p:childTnLst>
                        <p:par>
                          <p:cTn id="2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7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3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4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4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3" dur="indefinite" restart="never" nodeType="tmRoot">
          <p:childTnLst>
            <p:seq>
              <p:cTn id="2164" dur="indefinite" nodeType="mainSeq">
                <p:childTnLst>
                  <p:par>
                    <p:cTn id="2165" nodeType="clickEffect" fill="hold">
                      <p:stCondLst>
                        <p:cond delay="0"/>
                      </p:stCondLst>
                      <p:childTnLst>
                        <p:par>
                          <p:cTn id="2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6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7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8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9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0" nodeType="clickEffect" fill="hold">
                      <p:stCondLst>
                        <p:cond delay="indefinite"/>
                      </p:stCondLst>
                      <p:childTnLst>
                        <p:par>
                          <p:cTn id="2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4" dur="5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5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8" dur="5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5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nodeType="clickEffect" fill="hold">
                      <p:stCondLst>
                        <p:cond delay="indefinite"/>
                      </p:stCondLst>
                      <p:childTnLst>
                        <p:par>
                          <p:cTn id="2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4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5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0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1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3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не Декар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уалистический рацион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носеология Дек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дикальное сом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Я мыслю, следовательно, существую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я Б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стественный свет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 достижения ист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я Дек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ализм духа и мате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бстанции и их атрибу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рицание пустого пространства и психики живо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тественный свет разума («врождённые идеи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Шишковидная желез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ихофизический паралле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 в картезианстве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казионализм А. Гейлинкса и Н. Мальбран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3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7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не необходимо до основан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рушить эту постройк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я хочу установить в наук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-то прочное и постоян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ако, коль скор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себ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чём-то убедил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начит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всё же существова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носеология Декарт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дикальное сом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який раз, как я произношу слова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«Я существую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ли воспринима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высказывание умом, о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сти является истин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1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ишком многие ложные мнения 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имал за истинны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слишк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мнительны положения, принят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основе этих ложных м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2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допускаю, что всё видимое мно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ожно и предполагаю никогда 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вшим всё, что явля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амять; 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лностью лишён чув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3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4" descr="Descartes (4)"/>
          <p:cNvPicPr/>
          <p:nvPr/>
        </p:nvPicPr>
        <p:blipFill>
          <a:blip r:embed="rId1"/>
          <a:stretch/>
        </p:blipFill>
        <p:spPr>
          <a:xfrm>
            <a:off x="7016760" y="1366920"/>
            <a:ext cx="1809720" cy="215748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3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мнение есть акт мысл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сомневаюс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мыс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ё собственное существование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сомненная ист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Я мыслю, следовательно, существую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0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раз моя уверен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обственном существова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иждется на факте мышле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чит я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слящее суще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1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могу усомниться во всём, 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лько не в том, ч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сомневаюс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самим фактом сомнения я лиш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тверждаю, что сомневаю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2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я не мог бы мыслить, если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уществовал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мыслю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едовательно я существ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1334880" y="5942160"/>
            <a:ext cx="2341800" cy="485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gito ergo sum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5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6" descr="Descartes (4)"/>
          <p:cNvPicPr/>
          <p:nvPr/>
        </p:nvPicPr>
        <p:blipFill>
          <a:blip r:embed="rId1"/>
          <a:stretch/>
        </p:blipFill>
        <p:spPr>
          <a:xfrm>
            <a:off x="7016760" y="1366920"/>
            <a:ext cx="1809720" cy="21574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3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а из моих наиболее ясных ид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я Бог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идея бесконечно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зависимой, в высшей степе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ной и всемогущей субстан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 Бога не может бы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ведена из каких-то других ид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содержит в себ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ьш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сти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м любая другая иде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я Б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0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 Бога может исходить лишь о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го, что содержит в себе не меньш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и, чем мыслится в эт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е, т.е.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 самого Бо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1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мыслящее существо, я нахож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еб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ножество идей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дни и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х представляю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мутны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сными и отчётлив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2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 Бога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конечной субстанции не 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ходить от меня сам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 я конеч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4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5" descr="Descartes (4)"/>
          <p:cNvPicPr/>
          <p:nvPr/>
        </p:nvPicPr>
        <p:blipFill>
          <a:blip r:embed="rId1"/>
          <a:stretch/>
        </p:blipFill>
        <p:spPr>
          <a:xfrm>
            <a:off x="7016760" y="1366920"/>
            <a:ext cx="1809720" cy="215748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3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даж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сные и отчётливые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гли разве быть вложены в мен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им-нибудь могущественны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локозненным обманщик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ак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озможно, чтобы Бог мен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манывал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ведь во всяком обма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лючено нечто несовершенное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хотел, чтобы я заблужда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стественный свет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0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я могу доверя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м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ественному свету разум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условии, конечно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правильно им пользую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касается других идей, 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мутны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я, по-видим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гу полагаться как на истин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2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Хотя я ощущаю в себ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пособно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жде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зволяющ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личать истину от заблужде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гу ли я полагаться на неё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3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4" descr="Descartes (4)"/>
          <p:cNvPicPr/>
          <p:nvPr/>
        </p:nvPicPr>
        <p:blipFill>
          <a:blip r:embed="rId1"/>
          <a:stretch/>
        </p:blipFill>
        <p:spPr>
          <a:xfrm>
            <a:off x="7016760" y="1366920"/>
            <a:ext cx="1809720" cy="215748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3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) Принимать за истинное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, что представляется моему у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ль ясно и отчётливо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жет дать повод к сомн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) Располагать свои мыс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определённо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рядк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ачи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предметов простейших и восход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епенно до наиболее слож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тод достижения ис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) Делать перечни столь полные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зоры столь всеохватывающ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бы быть уверенны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чего не пропуще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место большого числа прави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авляющих логику, достаточ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тырёх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ледующих, лишь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блюдать их без отступ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)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ли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ждую из трудн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столько частей, ск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требуется, чтобы лучш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разреш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3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4" descr="Descartes (4)"/>
          <p:cNvPicPr/>
          <p:nvPr/>
        </p:nvPicPr>
        <p:blipFill>
          <a:blip r:embed="rId1"/>
          <a:stretch/>
        </p:blipFill>
        <p:spPr>
          <a:xfrm>
            <a:off x="7016760" y="1366920"/>
            <a:ext cx="1809720" cy="215748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8T15:00:42Z</dcterms:created>
  <dc:creator>Николай Бирюков / Nikolai Biryukov</dc:creator>
  <dc:description>Редакция февраля 2007 г.</dc:description>
  <dc:language>en-US</dc:language>
  <cp:lastModifiedBy>LEGION</cp:lastModifiedBy>
  <dcterms:modified xsi:type="dcterms:W3CDTF">2014-11-11T09:01:36Z</dcterms:modified>
  <cp:revision>229</cp:revision>
  <dc:subject>Основы философии - Тема 11</dc:subject>
  <dc:title>Декарт и Спиноза: Обоснование рационализма</dc:title>
</cp:coreProperties>
</file>