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CCA-262E-4EAC-889E-8C7441FB1A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: «140 лет дому, который построил Д.И. Менделее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пиграф уро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одаватель ГОУ СПО СТФК, Сладков С.Н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литамакский техникум физической куль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терлитамак, Республика Башкорто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CE7C-81E7-4774-A338-4A0037B1924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ИЛЬЯМ ОД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A21-6E38-4A58-ABAA-895BA91AC89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ОН НЬЮЛЕНД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6344-1958-46A3-AC1B-5C9D07DFFD6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таблицы Дж. Ньюлен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7C73-AAFA-4D29-9763-6D26971F0AD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йер Ло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транный член - корреспондент Петербургской АН с 18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8CC1-6798-4899-9D57-88C5D2BB18D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Лотара Ме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0628-DBAC-484C-BD88-567A15FA5D1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делеев Дмитрий Иванович (1834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611E-F7BC-4986-8F26-647D56FD14D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ериодическая система элементов 1870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CE04-DA87-45A2-8D91-65FA0E9D473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ОК ДЕ БУОБОДРА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РС ФРЕДЕРИК НИЛЬСО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ИМЕНС ВИНКЛЕ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– утвердители Периодического зак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667C-5191-40EF-A0FB-2DFB8B53D9C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0F93-806B-4B8B-AC7E-D6A6FE4CAB3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еская система построена в порядке возрастания атомной мас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 периодической системе всего 7 периодов, 1,2,3 малые и 4,5,6,7 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ериод начинается с щелочного металла и заканчивается инертном г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ериод – это расположение элементов по горизонт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ериод показывает количество энергетически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Количество элементов на периодах: 1-2, 2-8, 3-8, 4-18, 5-18, 6-32, 7-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периодической системе находится 116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3D0B-34D9-4DCC-8418-0AA0090BD52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етодическая цель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бразовательная ц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Развивающ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Воспитательн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BEBB-4C18-42BB-BC6C-ED46DFA9AB0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уппа – это расположение элементов по вертик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 периодической системе всего 8 групп, каждая группа подразделя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Группа показывает наивысшую валентность по кислор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овый номер п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Заряд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Количество электронов, которые движутся вокруг атома и несут отрицательный зар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Количество прот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B29-6737-4C47-B608-CD6B835F395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ая викто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акой химический элемент сначала обнаружили на Солнце потом на Зем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элемент может быть легким, как сажа, а твердый как алм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цвет имеет 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звание элемента похоже на план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звать химический элемент, состоящий из двух млекопита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Химический элемент названный в честь наше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Химические элементы названные в честь гор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Элементы названные в честь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амый распространенный элемент на план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Назвать благородные метал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Назвать металл, который обладает наивысшей электропровод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Назвать самый тверды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Назвать самый легки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Назвать самый тяжелы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Какой цвет имеет х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Назвать аллотропную модификацию кисл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Назвать второй по распространенности химический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Назвать третий по распространенности химический эле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Назвать газ необходимый для дыхания 20. Назвать самый сильный окисл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Назвать жидки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. Назвать химический элемент №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. Назвать химический элемент №1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. Назвать химический элемент №1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 Назвать химический элемент №1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. Назвать химический элемент №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A7C9-E157-4168-AA0A-4889C8EE2AA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7537-B0AA-49B0-BD80-F0490C3E93F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Блок видел в Дмитрии Ивановиче воплощение гения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наменовала для поэт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рже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са над хаосо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ое пости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армонии и музык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Д.И. Менделеева и А.Н. Бекетова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витии науки и производительных сил Росс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озвал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ряде стихотворений Бл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DBEF-419C-4E00-986D-B20D4001C3E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ключительное слово преподав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, работа не всякая, а осмысленная, сознательная, нужная людя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9C34-56E7-45A9-A35E-879E825BA63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бин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A9F8-4F82-4BB4-8DDF-9F9726DDE00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-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Актуализация опор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1. Написать химические реакции ( Задание по карточкам. Метод - индивидуальный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2. Охарактеризовать основные понятия и законы химии (Метод - фронталь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3. Задание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ормирова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1. История открытия периодического закона и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2. Предпосылки создания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3. Открыт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 Структура периодической систем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1. 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2. 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3. 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4. 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5. 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6. 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7. Характеристика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8. Периодические свойства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9. Значен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 Примене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1. Фронтальный 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2. 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 Обобщение и систематизац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1. Химическая викторина (прило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6. Подведение итогов урока.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Заключительное слово преподав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E9FC-A372-4A1E-B7BA-338B6BDC96C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ктуализация опор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+ Н2О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О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2 SO4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+ H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C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(OH)3 + H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(OH)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2O3 +H2 SO4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 +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4F9F-2DEC-4AA8-9A3A-A19AF12D4B6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едпосылки создания периодического зако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 серед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было 63 эле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ано понятие о химическом эле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ены молярные массы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ведено понятие о вален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ведено понятие о химическ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ервая попытка классификации элементов. Доберейнер 1817 г. Закон три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Третья попытка классификации. Генрих «Радикально- круговая табл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етвёртая попытка классификации элементов. Шанкартуа «Винтовая лестн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ятая попытка классификации. «Томсон - Бор» «Лестниц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FFE0-366F-43BC-8CDC-8FD2F9ADB8D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нтуан Лавуаз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Бертолле и другими учеными основал в 1789 гг. журнал "Annalees de Chimi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BFA8-FBCB-4053-AA70-B833FE97281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еберейнер Иоганн Вольфганг (1780-18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E417-09AA-4DEB-AE37-8405486FE64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 И. Деберейнера (Закон три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р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 - 23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3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6,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- 31,0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як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- 74,9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рьма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 - 12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- 40,0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нц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 - 87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ий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 - 137,3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а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32,0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ен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- 79,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лур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 - 12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67CA-F12D-4A4E-8524-159A1106B19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307-F757-40CA-B29D-CE23D938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676-FC7F-4FC8-B947-273B3746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E38-37C9-468E-9931-897D0A8F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BD1-A90D-4350-9E25-7CB64485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880C-4AA7-49FC-A099-FF07D9EA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3E0D-FA20-4679-8A23-77696D8D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C7E9-91F9-4293-873C-A69FBC42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3F8F-5140-4DFB-8833-94C4B883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20BF-45CA-4C57-A5E6-06707FA5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352B-463B-429D-85BE-B6A968B8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9ECA-F43F-43C3-9F09-8C0BE942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9C2-7BD7-4B8A-9A3E-1223B359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7CF4-5EE3-4036-93E4-D6047E95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091C-5D4F-473B-83A7-187B43DF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EA67-408E-4339-9C74-3F88D5F4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99CF-EA94-4ACE-9130-0866B9BD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74A9-5AF3-4132-94D6-69D813DD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AB1-5DE9-47DA-9B78-BE1F7879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73B-DDBC-475F-B753-465B90A2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B38-8475-4722-80AA-24841370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F75-4AC4-4206-881D-8CE1E20A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31C-BCEC-4FF2-AAFC-7EB99E9B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B0B-3A91-40AE-A575-CF6930C6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05B-83C6-47AC-B2D3-E8A8BFF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4561-DFE6-4E91-8585-5F38C5D8D4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1BF4-04D7-49DE-A456-6DDEBDD0029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ема: «140 лет дому, который построил Д.И. Менделеев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04920" y="16765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пиграф урока: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одготовил: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реподаватель ГОУ СПО СТФК, Сладков С.Н.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терлитамакский техникум физической культуры,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г. Стерлитамак, Республика Башкортоста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40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УИЛЬЯМ ОДЛИН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514600"/>
          <a:ext cx="8389800" cy="436248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1170000"/>
                <a:gridCol w="1143000"/>
                <a:gridCol w="1123920"/>
                <a:gridCol w="990360"/>
                <a:gridCol w="7621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         1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   3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       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1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        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  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    79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    1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        14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        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       7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    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     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     2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    48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  117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      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      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       3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      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    4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  1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   5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      4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   59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e 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   1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   27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      6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    26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   32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    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    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  10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d   5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t    98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 19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ЖОН НЬЮЛЕНД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Newlands"/>
          <p:cNvPicPr/>
          <p:nvPr/>
        </p:nvPicPr>
        <p:blipFill>
          <a:blip r:embed="rId1"/>
          <a:stretch/>
        </p:blipFill>
        <p:spPr>
          <a:xfrm>
            <a:off x="5195880" y="2043000"/>
            <a:ext cx="3068640" cy="3603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ариант таблицы Дж. Ньюлендц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905120"/>
          <a:ext cx="8534160" cy="4603680"/>
        </p:xfrm>
        <a:graphic>
          <a:graphicData uri="http://schemas.openxmlformats.org/drawingml/2006/table">
            <a:tbl>
              <a:tblPr/>
              <a:tblGrid>
                <a:gridCol w="1065240"/>
                <a:gridCol w="1068120"/>
                <a:gridCol w="1065240"/>
                <a:gridCol w="1068480"/>
                <a:gridCol w="1065240"/>
                <a:gridCol w="1068480"/>
                <a:gridCol w="1065240"/>
                <a:gridCol w="10681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.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.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.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.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.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.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.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.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.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.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.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.C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.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.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.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.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.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.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.Co,N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.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.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Z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.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.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.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0.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.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.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.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4.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5.R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6.P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7.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8.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.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.S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.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.I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.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.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.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.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.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8.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.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.P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.T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.P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.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.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.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.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82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1588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ктав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йер Лотар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Иностранный член - корреспондент Петербургской АН с 1809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Meyer"/>
          <p:cNvPicPr/>
          <p:nvPr/>
        </p:nvPicPr>
        <p:blipFill>
          <a:blip r:embed="rId1"/>
          <a:stretch/>
        </p:blipFill>
        <p:spPr>
          <a:xfrm>
            <a:off x="5267160" y="1974960"/>
            <a:ext cx="3167280" cy="37400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Вариант Лотара Мейе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905120"/>
          <a:ext cx="8534520" cy="3908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  <a:gridCol w="1218960"/>
                <a:gridCol w="12193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-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ность м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(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(8,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(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(1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(1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(19,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(2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(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(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(3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(3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(35,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(3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(4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(7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(7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(8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(8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(87,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(11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(12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(1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(12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(13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(13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(20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i(20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(20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5120" y="266400"/>
            <a:ext cx="67053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нделеев Дмитрий Иванович (1834-190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8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3520" y="1295280"/>
          <a:ext cx="7924680" cy="526428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16040"/>
                <a:gridCol w="715680"/>
                <a:gridCol w="716040"/>
                <a:gridCol w="716040"/>
                <a:gridCol w="716040"/>
                <a:gridCol w="716040"/>
                <a:gridCol w="717480"/>
                <a:gridCol w="1322280"/>
              </a:tblGrid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,Co,Ni,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u,Rh,Pd,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s,Ir,Pt,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ая окис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и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.соед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4107"/>
          <p:cNvSpPr/>
          <p:nvPr/>
        </p:nvSpPr>
        <p:spPr>
          <a:xfrm>
            <a:off x="2133720" y="152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риодическая система элементов 1870 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КОК ДЕ БУОБОДРА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АРС ФРЕДЕРИК НИЛЬСО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ЛИМЕНС ВИНКЛЕР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утвердители Периодического зако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Портрет Винклера Клеменса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Портрет Лекока де Буабодрана Поля"/>
          <p:cNvPicPr/>
          <p:nvPr/>
        </p:nvPicPr>
        <p:blipFill>
          <a:blip r:embed="rId2"/>
          <a:stretch/>
        </p:blipFill>
        <p:spPr>
          <a:xfrm>
            <a:off x="152280" y="1905120"/>
            <a:ext cx="297180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Nilson"/>
          <p:cNvPicPr/>
          <p:nvPr/>
        </p:nvPicPr>
        <p:blipFill>
          <a:blip r:embed="rId3"/>
          <a:stretch/>
        </p:blipFill>
        <p:spPr>
          <a:xfrm>
            <a:off x="3276720" y="2209680"/>
            <a:ext cx="2877840" cy="3198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иодическая система химических элемен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.И. Менделеев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47815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еская система построена в порядке возрастания атомной массы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А) В периодической системе всего 7 периодов, 1,2,3 малые и 4,5,6,7 больш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Б) Период начинается с щелочного металла и заканчивается инертном газо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) Период – это расположение элементов по горизонтал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) Период показывает количество энергетических уровн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Д) Количество элементов на периодах: 1-2, 2-8, 3-8, 4-18, 5-18, 6-32, 7-2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 настоящее время в периодической системе находится 116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тодическая цель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бразовательная цель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Развивающ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Воспитательн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групп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Группа – это расположение элементов по вертикал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В периодической системе всего 8 групп, каждая группа подразделяется на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Группа показывает наивысшую валентность по кислород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порядкового ном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рядковый номер показывает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Заряд ядра атом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Количество электронов, которые движутся вокруг атома и несут отрицательный заря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Количество протон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ая викторин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168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. Какой химический элемент сначала обнаружили на Солнце потом на Земл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. Какой элемент может быть легким, как сажа, а твердый как алмаз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3. Какой цвет имеет и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4. Название элемента похоже на планету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5. Назвать химический элемент, состоящий из двух млекопитающи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6. Химический элемент названный в честь нашей стра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7. Химические элементы названные в честь гор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8. Элементы названные в честь стран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9. Самый распространенный элемент на планет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0. Назвать благородные металл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1. Назвать металл, который обладает наивысшей электропроводностью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2. Назвать самый тверды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200" y="121932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3. Назвать самый легки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4. Назвать самый тяжелы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5. Какой цвет имеет хло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6. Назвать аллотропную модификацию кислорода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7. Назвать второй по распространенности химический эле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8. Назвать третий по распространенности химический элемен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9. Назвать газ необходимый для дыхания 20. Назвать самый сильный окислитель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1. Назвать жидки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2. Назвать химический элемент №104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3. Назвать химический элемент №105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4. Назвать химический элемент №106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5. Назвать химический элемент №107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6. Назвать химический элемент №10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3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3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3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3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3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3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3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3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3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30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30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ий кроссворд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Group 113"/>
          <p:cNvGrpSpPr/>
          <p:nvPr/>
        </p:nvGrpSpPr>
        <p:grpSpPr>
          <a:xfrm>
            <a:off x="533520" y="1600200"/>
            <a:ext cx="8381880" cy="4952880"/>
            <a:chOff x="533520" y="1600200"/>
            <a:chExt cx="8381880" cy="4952880"/>
          </a:xfrm>
        </p:grpSpPr>
        <p:sp>
          <p:nvSpPr>
            <p:cNvPr id="194" name="Rectangle 9"/>
            <p:cNvSpPr/>
            <p:nvPr/>
          </p:nvSpPr>
          <p:spPr>
            <a:xfrm>
              <a:off x="533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33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533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533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3520" y="5410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533520" y="5791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53352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53352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533520" y="6172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914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1295280" y="2362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295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1295280" y="1600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1295280" y="1981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1295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1295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1295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34"/>
            <p:cNvSpPr/>
            <p:nvPr/>
          </p:nvSpPr>
          <p:spPr>
            <a:xfrm>
              <a:off x="1295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35"/>
            <p:cNvSpPr/>
            <p:nvPr/>
          </p:nvSpPr>
          <p:spPr>
            <a:xfrm>
              <a:off x="1295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36"/>
            <p:cNvSpPr/>
            <p:nvPr/>
          </p:nvSpPr>
          <p:spPr>
            <a:xfrm>
              <a:off x="1295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37"/>
            <p:cNvSpPr/>
            <p:nvPr/>
          </p:nvSpPr>
          <p:spPr>
            <a:xfrm>
              <a:off x="1676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>
              <a:off x="2057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2438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>
              <a:off x="2819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2819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2819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3200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48"/>
            <p:cNvSpPr/>
            <p:nvPr/>
          </p:nvSpPr>
          <p:spPr>
            <a:xfrm>
              <a:off x="3581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49"/>
            <p:cNvSpPr/>
            <p:nvPr/>
          </p:nvSpPr>
          <p:spPr>
            <a:xfrm>
              <a:off x="3581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3581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3581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81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3581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62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434340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434340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62"/>
            <p:cNvSpPr/>
            <p:nvPr/>
          </p:nvSpPr>
          <p:spPr>
            <a:xfrm>
              <a:off x="4343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63"/>
            <p:cNvSpPr/>
            <p:nvPr/>
          </p:nvSpPr>
          <p:spPr>
            <a:xfrm>
              <a:off x="434340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64"/>
            <p:cNvSpPr/>
            <p:nvPr/>
          </p:nvSpPr>
          <p:spPr>
            <a:xfrm>
              <a:off x="434340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65"/>
            <p:cNvSpPr/>
            <p:nvPr/>
          </p:nvSpPr>
          <p:spPr>
            <a:xfrm>
              <a:off x="434340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4724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68"/>
            <p:cNvSpPr/>
            <p:nvPr/>
          </p:nvSpPr>
          <p:spPr>
            <a:xfrm>
              <a:off x="5105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69"/>
            <p:cNvSpPr/>
            <p:nvPr/>
          </p:nvSpPr>
          <p:spPr>
            <a:xfrm>
              <a:off x="5105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71"/>
            <p:cNvSpPr/>
            <p:nvPr/>
          </p:nvSpPr>
          <p:spPr>
            <a:xfrm>
              <a:off x="5105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867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" name="Group 75"/>
            <p:cNvGrpSpPr/>
            <p:nvPr/>
          </p:nvGrpSpPr>
          <p:grpSpPr>
            <a:xfrm>
              <a:off x="6248520" y="2743200"/>
              <a:ext cx="380880" cy="1523520"/>
              <a:chOff x="6248520" y="2743200"/>
              <a:chExt cx="380880" cy="1523520"/>
            </a:xfrm>
          </p:grpSpPr>
          <p:sp>
            <p:nvSpPr>
              <p:cNvPr id="240" name="Rectangle 76"/>
              <p:cNvSpPr/>
              <p:nvPr/>
            </p:nvSpPr>
            <p:spPr>
              <a:xfrm>
                <a:off x="6248520" y="350496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Rectangle 77"/>
              <p:cNvSpPr/>
              <p:nvPr/>
            </p:nvSpPr>
            <p:spPr>
              <a:xfrm>
                <a:off x="6248520" y="388584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Rectangle 78"/>
              <p:cNvSpPr/>
              <p:nvPr/>
            </p:nvSpPr>
            <p:spPr>
              <a:xfrm>
                <a:off x="6248520" y="274320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Rectangle 79"/>
              <p:cNvSpPr/>
              <p:nvPr/>
            </p:nvSpPr>
            <p:spPr>
              <a:xfrm>
                <a:off x="6248520" y="312408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82"/>
            <p:cNvSpPr/>
            <p:nvPr/>
          </p:nvSpPr>
          <p:spPr>
            <a:xfrm>
              <a:off x="5486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83"/>
            <p:cNvSpPr/>
            <p:nvPr/>
          </p:nvSpPr>
          <p:spPr>
            <a:xfrm>
              <a:off x="6248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Rectangle 84"/>
            <p:cNvSpPr/>
            <p:nvPr/>
          </p:nvSpPr>
          <p:spPr>
            <a:xfrm>
              <a:off x="5105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Rectangle 93"/>
            <p:cNvSpPr/>
            <p:nvPr/>
          </p:nvSpPr>
          <p:spPr>
            <a:xfrm>
              <a:off x="8534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Rectangle 96"/>
            <p:cNvSpPr/>
            <p:nvPr/>
          </p:nvSpPr>
          <p:spPr>
            <a:xfrm>
              <a:off x="6629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Rectangle 97"/>
            <p:cNvSpPr/>
            <p:nvPr/>
          </p:nvSpPr>
          <p:spPr>
            <a:xfrm>
              <a:off x="7010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7391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7391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Rectangle 102"/>
            <p:cNvSpPr/>
            <p:nvPr/>
          </p:nvSpPr>
          <p:spPr>
            <a:xfrm>
              <a:off x="7391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103"/>
            <p:cNvSpPr/>
            <p:nvPr/>
          </p:nvSpPr>
          <p:spPr>
            <a:xfrm>
              <a:off x="7772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104"/>
            <p:cNvSpPr/>
            <p:nvPr/>
          </p:nvSpPr>
          <p:spPr>
            <a:xfrm>
              <a:off x="8153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819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581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434340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5105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6248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7391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WordArt 114"/>
          <p:cNvSpPr txBox="1"/>
          <p:nvPr/>
        </p:nvSpPr>
        <p:spPr>
          <a:xfrm>
            <a:off x="684360" y="316224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115"/>
          <p:cNvSpPr txBox="1"/>
          <p:nvPr/>
        </p:nvSpPr>
        <p:spPr>
          <a:xfrm>
            <a:off x="684360" y="469584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116"/>
          <p:cNvSpPr txBox="1"/>
          <p:nvPr/>
        </p:nvSpPr>
        <p:spPr>
          <a:xfrm>
            <a:off x="684360" y="512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17"/>
          <p:cNvSpPr txBox="1"/>
          <p:nvPr/>
        </p:nvSpPr>
        <p:spPr>
          <a:xfrm>
            <a:off x="684360" y="548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118"/>
          <p:cNvSpPr txBox="1"/>
          <p:nvPr/>
        </p:nvSpPr>
        <p:spPr>
          <a:xfrm>
            <a:off x="684360" y="584208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119"/>
          <p:cNvSpPr txBox="1"/>
          <p:nvPr/>
        </p:nvSpPr>
        <p:spPr>
          <a:xfrm>
            <a:off x="684360" y="3914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20"/>
          <p:cNvSpPr txBox="1"/>
          <p:nvPr/>
        </p:nvSpPr>
        <p:spPr>
          <a:xfrm>
            <a:off x="684360" y="354024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121"/>
          <p:cNvSpPr txBox="1"/>
          <p:nvPr/>
        </p:nvSpPr>
        <p:spPr>
          <a:xfrm>
            <a:off x="684360" y="429588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122"/>
          <p:cNvSpPr txBox="1"/>
          <p:nvPr/>
        </p:nvSpPr>
        <p:spPr>
          <a:xfrm>
            <a:off x="684360" y="620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123"/>
          <p:cNvSpPr txBox="1"/>
          <p:nvPr/>
        </p:nvSpPr>
        <p:spPr>
          <a:xfrm>
            <a:off x="450072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24"/>
          <p:cNvSpPr txBox="1"/>
          <p:nvPr/>
        </p:nvSpPr>
        <p:spPr>
          <a:xfrm>
            <a:off x="2195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125"/>
          <p:cNvSpPr txBox="1"/>
          <p:nvPr/>
        </p:nvSpPr>
        <p:spPr>
          <a:xfrm>
            <a:off x="2556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26"/>
          <p:cNvSpPr txBox="1"/>
          <p:nvPr/>
        </p:nvSpPr>
        <p:spPr>
          <a:xfrm>
            <a:off x="2987640" y="3141720"/>
            <a:ext cx="1015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27"/>
          <p:cNvSpPr txBox="1"/>
          <p:nvPr/>
        </p:nvSpPr>
        <p:spPr>
          <a:xfrm>
            <a:off x="334800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128"/>
          <p:cNvSpPr txBox="1"/>
          <p:nvPr/>
        </p:nvSpPr>
        <p:spPr>
          <a:xfrm>
            <a:off x="3708360" y="314172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129"/>
          <p:cNvSpPr txBox="1"/>
          <p:nvPr/>
        </p:nvSpPr>
        <p:spPr>
          <a:xfrm>
            <a:off x="414036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130"/>
          <p:cNvSpPr txBox="1"/>
          <p:nvPr/>
        </p:nvSpPr>
        <p:spPr>
          <a:xfrm>
            <a:off x="45007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131"/>
          <p:cNvSpPr txBox="1"/>
          <p:nvPr/>
        </p:nvSpPr>
        <p:spPr>
          <a:xfrm>
            <a:off x="48592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132"/>
          <p:cNvSpPr txBox="1"/>
          <p:nvPr/>
        </p:nvSpPr>
        <p:spPr>
          <a:xfrm>
            <a:off x="521964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33"/>
          <p:cNvSpPr txBox="1"/>
          <p:nvPr/>
        </p:nvSpPr>
        <p:spPr>
          <a:xfrm>
            <a:off x="5651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34"/>
          <p:cNvSpPr txBox="1"/>
          <p:nvPr/>
        </p:nvSpPr>
        <p:spPr>
          <a:xfrm>
            <a:off x="6012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135"/>
          <p:cNvSpPr txBox="1"/>
          <p:nvPr/>
        </p:nvSpPr>
        <p:spPr>
          <a:xfrm>
            <a:off x="637236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WordArt 136"/>
          <p:cNvSpPr txBox="1"/>
          <p:nvPr/>
        </p:nvSpPr>
        <p:spPr>
          <a:xfrm>
            <a:off x="673272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37"/>
          <p:cNvSpPr txBox="1"/>
          <p:nvPr/>
        </p:nvSpPr>
        <p:spPr>
          <a:xfrm>
            <a:off x="3708360" y="422100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138"/>
          <p:cNvSpPr txBox="1"/>
          <p:nvPr/>
        </p:nvSpPr>
        <p:spPr>
          <a:xfrm>
            <a:off x="521964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WordArt 139"/>
          <p:cNvSpPr txBox="1"/>
          <p:nvPr/>
        </p:nvSpPr>
        <p:spPr>
          <a:xfrm>
            <a:off x="10429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40"/>
          <p:cNvSpPr txBox="1"/>
          <p:nvPr/>
        </p:nvSpPr>
        <p:spPr>
          <a:xfrm>
            <a:off x="14032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41"/>
          <p:cNvSpPr txBox="1"/>
          <p:nvPr/>
        </p:nvSpPr>
        <p:spPr>
          <a:xfrm>
            <a:off x="183528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42"/>
          <p:cNvSpPr txBox="1"/>
          <p:nvPr/>
        </p:nvSpPr>
        <p:spPr>
          <a:xfrm>
            <a:off x="752472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43"/>
          <p:cNvSpPr txBox="1"/>
          <p:nvPr/>
        </p:nvSpPr>
        <p:spPr>
          <a:xfrm>
            <a:off x="824400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WordArt 144"/>
          <p:cNvSpPr txBox="1"/>
          <p:nvPr/>
        </p:nvSpPr>
        <p:spPr>
          <a:xfrm>
            <a:off x="752472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145"/>
          <p:cNvSpPr txBox="1"/>
          <p:nvPr/>
        </p:nvSpPr>
        <p:spPr>
          <a:xfrm>
            <a:off x="140328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146"/>
          <p:cNvSpPr txBox="1"/>
          <p:nvPr/>
        </p:nvSpPr>
        <p:spPr>
          <a:xfrm>
            <a:off x="370836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47"/>
          <p:cNvSpPr txBox="1"/>
          <p:nvPr/>
        </p:nvSpPr>
        <p:spPr>
          <a:xfrm>
            <a:off x="140328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148"/>
          <p:cNvSpPr txBox="1"/>
          <p:nvPr/>
        </p:nvSpPr>
        <p:spPr>
          <a:xfrm>
            <a:off x="752472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WordArt 149"/>
          <p:cNvSpPr txBox="1"/>
          <p:nvPr/>
        </p:nvSpPr>
        <p:spPr>
          <a:xfrm>
            <a:off x="4500720" y="5013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150"/>
          <p:cNvSpPr txBox="1"/>
          <p:nvPr/>
        </p:nvSpPr>
        <p:spPr>
          <a:xfrm>
            <a:off x="4500720" y="465300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51"/>
          <p:cNvSpPr txBox="1"/>
          <p:nvPr/>
        </p:nvSpPr>
        <p:spPr>
          <a:xfrm>
            <a:off x="1403280" y="206064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WordArt 152"/>
          <p:cNvSpPr txBox="1"/>
          <p:nvPr/>
        </p:nvSpPr>
        <p:spPr>
          <a:xfrm>
            <a:off x="140328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53"/>
          <p:cNvSpPr txBox="1"/>
          <p:nvPr/>
        </p:nvSpPr>
        <p:spPr>
          <a:xfrm>
            <a:off x="867564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4"/>
          <p:cNvSpPr txBox="1"/>
          <p:nvPr/>
        </p:nvSpPr>
        <p:spPr>
          <a:xfrm>
            <a:off x="370836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55"/>
          <p:cNvSpPr txBox="1"/>
          <p:nvPr/>
        </p:nvSpPr>
        <p:spPr>
          <a:xfrm>
            <a:off x="78850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156"/>
          <p:cNvSpPr txBox="1"/>
          <p:nvPr/>
        </p:nvSpPr>
        <p:spPr>
          <a:xfrm>
            <a:off x="3708360" y="465300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WordArt 157"/>
          <p:cNvSpPr txBox="1"/>
          <p:nvPr/>
        </p:nvSpPr>
        <p:spPr>
          <a:xfrm>
            <a:off x="6372360" y="429264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WordArt 158"/>
          <p:cNvSpPr txBox="1"/>
          <p:nvPr/>
        </p:nvSpPr>
        <p:spPr>
          <a:xfrm>
            <a:off x="1403280" y="2421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59"/>
          <p:cNvSpPr txBox="1"/>
          <p:nvPr/>
        </p:nvSpPr>
        <p:spPr>
          <a:xfrm>
            <a:off x="4500720" y="422100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60"/>
          <p:cNvSpPr txBox="1"/>
          <p:nvPr/>
        </p:nvSpPr>
        <p:spPr>
          <a:xfrm>
            <a:off x="450072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1"/>
          <p:cNvSpPr txBox="1"/>
          <p:nvPr/>
        </p:nvSpPr>
        <p:spPr>
          <a:xfrm>
            <a:off x="521964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162"/>
          <p:cNvSpPr txBox="1"/>
          <p:nvPr/>
        </p:nvSpPr>
        <p:spPr>
          <a:xfrm>
            <a:off x="637236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WordArt 163"/>
          <p:cNvSpPr txBox="1"/>
          <p:nvPr/>
        </p:nvSpPr>
        <p:spPr>
          <a:xfrm>
            <a:off x="4500720" y="386064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164"/>
          <p:cNvSpPr txBox="1"/>
          <p:nvPr/>
        </p:nvSpPr>
        <p:spPr>
          <a:xfrm>
            <a:off x="298764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165"/>
          <p:cNvSpPr txBox="1"/>
          <p:nvPr/>
        </p:nvSpPr>
        <p:spPr>
          <a:xfrm>
            <a:off x="637236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166"/>
          <p:cNvSpPr txBox="1"/>
          <p:nvPr/>
        </p:nvSpPr>
        <p:spPr>
          <a:xfrm>
            <a:off x="5219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167"/>
          <p:cNvSpPr txBox="1"/>
          <p:nvPr/>
        </p:nvSpPr>
        <p:spPr>
          <a:xfrm>
            <a:off x="70930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68"/>
          <p:cNvSpPr txBox="1"/>
          <p:nvPr/>
        </p:nvSpPr>
        <p:spPr>
          <a:xfrm>
            <a:off x="2987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69"/>
          <p:cNvSpPr txBox="1"/>
          <p:nvPr/>
        </p:nvSpPr>
        <p:spPr>
          <a:xfrm>
            <a:off x="1403280" y="170028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170"/>
          <p:cNvSpPr txBox="1"/>
          <p:nvPr/>
        </p:nvSpPr>
        <p:spPr>
          <a:xfrm>
            <a:off x="521964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71"/>
          <p:cNvSpPr txBox="1"/>
          <p:nvPr/>
        </p:nvSpPr>
        <p:spPr>
          <a:xfrm>
            <a:off x="298764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172"/>
          <p:cNvSpPr txBox="1"/>
          <p:nvPr/>
        </p:nvSpPr>
        <p:spPr>
          <a:xfrm>
            <a:off x="140328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173"/>
          <p:cNvSpPr txBox="1"/>
          <p:nvPr/>
        </p:nvSpPr>
        <p:spPr>
          <a:xfrm>
            <a:off x="140328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174"/>
          <p:cNvSpPr txBox="1"/>
          <p:nvPr/>
        </p:nvSpPr>
        <p:spPr>
          <a:xfrm>
            <a:off x="6372360" y="242100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75"/>
          <p:cNvSpPr txBox="1"/>
          <p:nvPr/>
        </p:nvSpPr>
        <p:spPr>
          <a:xfrm>
            <a:off x="7524720" y="242100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176"/>
          <p:cNvSpPr txBox="1"/>
          <p:nvPr/>
        </p:nvSpPr>
        <p:spPr>
          <a:xfrm>
            <a:off x="370836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177"/>
          <p:cNvSpPr txBox="1"/>
          <p:nvPr/>
        </p:nvSpPr>
        <p:spPr>
          <a:xfrm>
            <a:off x="140328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178"/>
          <p:cNvSpPr txBox="1"/>
          <p:nvPr/>
        </p:nvSpPr>
        <p:spPr>
          <a:xfrm>
            <a:off x="370836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179"/>
          <p:cNvSpPr txBox="1"/>
          <p:nvPr/>
        </p:nvSpPr>
        <p:spPr>
          <a:xfrm>
            <a:off x="6372360" y="386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лександр Блок видел в Дмитрии Ивановиче воплощение гения России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ериодическая система элементо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меновала для поэта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ржество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смоса над хаосом,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аучное постижени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армонии и музыки приро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деи Д.И. Менделеева и А.Н. Бекетова о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развитии науки и производительных сил Росси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тозвалис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ряде стихотворений Бл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аключительное слово преподавател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Труд, работа не всякая, а осмысленная, сознательная, нужная людям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592600" y="52578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мбинированны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лан-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1. Организационный мо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 Актуализация опорн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1. Написать химические реакции ( Задание по карточкам. Метод - индивидуальный 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2. Охарактеризовать основные понятия и законы химии (Метод - фронтальный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3. Задание по карточка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 Формирова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1. История открытия периодического закона и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2. Предпосылки создания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3. Открыт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4. Структура периодической системы</a:t>
            </a: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3.4.1. 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3.4.2. 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3.4.3. 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4. 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5. Понятие групп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6. Понятие порядкового номе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7. Характеристика химического элемен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8. Периодические свойства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9. Значен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 Примене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1. Фронтальный опро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2. Самостоятельная рабо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 Обобщение и систематизация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1. Химическая викторина (приложение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6. Подведение итогов урока. Домашнее задан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Заключительное слово преподавател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ктуализация опорных знаний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62040" y="190476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+ Н2О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О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19160" y="1904760"/>
            <a:ext cx="381492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2 SO4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2040" y="4030560"/>
            <a:ext cx="381456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 + H2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Cl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(OH)3 + HCl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(OH)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19160" y="4030560"/>
            <a:ext cx="381492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g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2O3 +H2 SO4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 + H2SO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2SO4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едпосылки создания периодического закон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. К середине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ека было 63 элемент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. Дано понятие о химическом элемент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. Определены молярные массы элемент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. Введено понятие о валент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 Введено понятие о химической связ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Первая попытка классификации элементов. Доберейнер 1817 г. Закон триад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Третья попытка классификации. Генрих «Радикально- круговая табл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Четвёртая попытка классификации элементов. Шанкартуа «Винтовая лестн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Пятая попытка классификации. «Томсон - Бор» «Лестниц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нтуан Лавуазь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овместно с Бертолле и другими учеными основал в 1789 гг. журнал "Annalees de Chimie"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toine_lavoisier"/>
          <p:cNvPicPr/>
          <p:nvPr/>
        </p:nvPicPr>
        <p:blipFill>
          <a:blip r:embed="rId1"/>
          <a:stretch/>
        </p:blipFill>
        <p:spPr>
          <a:xfrm>
            <a:off x="4724280" y="2362320"/>
            <a:ext cx="3919680" cy="3852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Деберейнер Иоганн Вольфганг (1780-184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7" descr="Johann_Wolfgang_Doebereiner"/>
          <p:cNvPicPr/>
          <p:nvPr/>
        </p:nvPicPr>
        <p:blipFill>
          <a:blip r:embed="rId1"/>
          <a:stretch/>
        </p:blipFill>
        <p:spPr>
          <a:xfrm>
            <a:off x="5388120" y="1905120"/>
            <a:ext cx="3375000" cy="3581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499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500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ариант И. Деберейнера (Закон триад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тр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  - 23,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 - 39,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т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6,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сфор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 - 31,04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шьяк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- 74,9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урьма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b - 121,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ьц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- 40,07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онц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r - 87,63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арий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 - 137,37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а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 - 32,0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лен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 - 79,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еллур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 - 127,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2:07:23Z</dcterms:modified>
  <cp:revision>25</cp:revision>
  <dc:subject/>
  <dc:title>Тема: «140 лет дому, который построил Д.И. Менделее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