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62E77-1955-49B5-B682-5F10F02927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ема: «140 лет дому, который построил Д.И. Менделеев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Эпиграф урока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удущее не грозит периодическому закону разрушением, а только надстройки и развитие обещает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дготовил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подаватель ГОУ СПО СТФК, Сладков С.Н.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ерлитамакский техникум физической культуры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. Стерлитамак, Республика Башкортост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4ACC2-7634-45A6-8BE9-7E90DE1ED3B5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ИЛЬЯМ ОДЛИН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глийский химик, член Лондонского королевского общества. Основные работы посвящены теоретической химии. Последователь теории типов, относил к типу воды все кислоты и соли. Внес важный вклад в подготовку теории валентности. Разрабатывал проблему систематизации химических элементов, составив несколько таблиц. Среди них особый интерес представляет таблица 1868 года, в которой элементы расположены в порядке увеличения их относительных атомных масс; ее анализировал в своих работах Менделее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C3470-7BB4-407E-8833-31C5F0FEF2A8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ЖОН НЬЮЛЕНД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татье, датированной 20 августа 1864 г., он отметил, что  в этом ряду наблюдается периодическое появление химически сходных элементов. Пронумеровав элементы (элементы, имеющие одинаковые веса, имели и один и тот же номер) и сопоставив номера со свойствами элементов, Ньюлендс сделал вывод: «Разность в номерах наименьшего члена группы и следующего за ним равна семи; иначе говоря, восьмой элемент, начиная с данного элемента, является своего рода повторением первого, подобно восьмой ноте октавы в музыке…». Тем самым им впервые была высказана идея о периодичности изменения свойств элемент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устя год, 18 августа 1865 г., Ньюлендс опубликовал новую таблицу элементов, назвав её «законом октав», который формулировался следующим образом: «Номера аналогичных элементов, как правило, отличаются или на целое число семь, или на кратное семи; другими словами, члены одной и той же группы соотносятся друг с другом в том же отношении, как и крайние точки одной или больше октав в музыке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2876E-E609-479D-BC81-C46558926819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Вариант таблицы Дж. Ньюленд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D7CDE-43D8-4A6C-93AA-FD6A8E0AF840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ейер Лота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мецкий химик, с 1888 г. член - корреспондент Берлинской АН. Родился в Фареле (Ольденбург). До 1854 г. учился в Вюрцбургском университете, затем в Гейдельбергском и Кенигсбергском и в университете Бреслау, доктор философии в 1858 г. С 1859 г. работал в университете Бреслау, c 1866 г. профессор университета в Эберсвальде, с 1868 г. Политехникума в Карлсруэ, с 1876 г. Тюбингенского университ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ы относятся к неорганической, органической и физической химии. Исследовал газы крови в 1854 г., физические свойства углеводородов. Автор книги "Современные теории химии и их значение для химической статики" в 1864 г., в которой предпринял попытку дать систематику химических элементов. После открытия Д.И. Менделеевым периодического закона химических элементов опубликовал в марте 1870 г. статью "Природа химических элементов как функция их атомных весов", в которой привел графическую кривую зависимости атомных объемов от атомной массы (кривая Мейр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остранный член - корреспондент Петербургской АН с 1809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75365-ACED-42D9-923C-DFFA4FF69F3C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Вариант Лотара Мей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92D81-1A6F-4525-AF96-2C1C7A5F237E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Менделеев Дмитрий Иванович (1834-190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усский ученый-энциклопедист, с 1876 г. член-корреспондент Петербургской АН. Родился в Тобольске. В 1855 г. окончил Главный педагогический институт в Петербурге. В 1855-1856 гг. учитель гимназии при Ришельевском лицее в Одессе. В 1857-1890 гг. преподавал в Петербургском университете, с 1865 г. профессор, одновременно в 1864-1872 гг. профессор Технологического института в Петербурге. В 1859 - феврале 1861 гг. находился в научной командировке за границей, работал в собственной лаборатории в Гейдельберге. С 1892 г. ученый хранитель Депо образцовых мер и весов, которое по его инициативе в 1893 г. преобразовано в Главную палату мер и весов, с 1893 г. управляющ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иболее полную характеристику Д. И. Менделееву дал Л. А. Чугаев: "Гениальный химик, первоклассный физик, плодотворный исследователь в области гидродинамики, метеорологии, геологии, в различных отделах химической технологии (взрывчатые вещества, нефть, учение о топливе) и других сопредельных с химией и физикой дисциплинах, глубокий знаток химической промышленности вообще, особенно русской, оригинальный мыслитель в области учения о народном хозяйстве...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лен и почетный член более 90 академий наук, научных обществ, университетов и институтов разных стран мира. Один из основателей в 1868 г. В честь Д. И. Менделеева названы химический элемент с порядковым номером 101, минерал, кратер на обратной стороне Луны, подводный горный хребе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1B35C-C6EA-43C1-87D5-6799D6114AEA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Периодическая система элементов 1870 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BCFA6-4FD2-4D4D-A64E-72F345717046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ЕКОК ДЕ БУОБОДРАН,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АРС ФРЕДЕРИК НИЛЬСОН,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ЛИМЕНС ВИНКЛЕР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– утвердители Периодического закон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61624-3D79-43B0-8C25-C7748F2D12FD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иодическая система химических элементо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.И. Менделее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A859F-07DB-4005-BAEB-E8DF5863B3A7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Структура периодической системы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Формулировка периодического зак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войства простых тел находятся в периодической зависимости от заряда атомного ядр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Принцип построения периодической 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ериодическая система построена в порядке возрастания атомной массы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Принцип периодич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ериодичность - это повторение химических свойств через каждые семь элементов на восьм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Понятие пери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В периодической системе всего 7 периодов, 1,2,3 малые и 4,5,6,7 больш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Период начинается с щелочного металла и заканчивается инертном газ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) Период – это расположение элементов по горизонта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) Период показывает количество энергетических уровн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) Количество элементов на периодах: 1-2, 2-8, 3-8, 4-18, 5-18, 6-32, 7-2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настоящее время в периодической системе находится 116 элемен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6849E-2DF6-4ACD-9991-9432FEC0C732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Цели уро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Методическая цель</a:t>
            </a: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Развитие познавательной деятельности и познавательной активности на уроке химии, путем применения наглядных средств обучения с элементами дидактических игр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Образовательная цель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«Изучить принцип построения, явление периодичности, периодический закон и периодическую систему, структуру периодической системы на основе учения о строении атом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66"/>
                </a:solidFill>
                <a:latin typeface="Arial"/>
              </a:rPr>
              <a:t>Развивающая цель: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Развивать у студентов мышление на основе исторических фактах связывая с современными данными»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66"/>
                </a:solidFill>
                <a:latin typeface="Arial"/>
              </a:rPr>
              <a:t>Воспитательная цель: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 «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оспитывать у студентов национальную гордость и патриотизм к своей Родине, при изучении периодического закона и периодической системы Д. И. Менделеева»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09D5F-5FDA-49BB-82D5-3892A630A430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Структура периодической систем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Понятие груп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Группа – это расположение элементов по вертикал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В периодической системе всего 8 групп, каждая группа подразделяется н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ую, в которой происходит заполнение электронов на внешнем энергетическом уровне и побочную в которой происходит заполнение предвнешнего энергетического уровн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) Группа показывает количество электронов на внешнем энергетическом уровне только в главных подгрупп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) Группа показывает наивысшую валентность по кислород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Понятие порядкового ном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ядковый номер показывае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Заряд ядра ато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Количество электронов, которые движутся вокруг атома и несут отрицательный заря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) Количество протон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) Количество нейтронов, которые вычисляются между разностью молярной масс и порядковым номер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04101-5580-44DC-B337-D8762BC07AEC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имическая виктори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Какой химический элемент сначала обнаружили на Солнце потом на Земл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Какой элемент может быть легким, как сажа, а твердый как алмаз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Какой цвет имеет ио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Название элемента похоже на планет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Назвать химический элемент, состоящий из двух млекопитающи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Химический элемент названный в честь нашей стра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Химические элементы названные в честь гор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 Элементы названные в честь стр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 Самый распространенный элемент на планет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. Назвать благородные металл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. Назвать металл, который обладает наивысшей электропроводность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. Назвать самый твердый метал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. Назвать самый легкий метал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. Назвать самый тяжелый метал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. Какой цвет имеет хл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6. Назвать аллотропную модификацию кислород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7. Назвать второй по распространенности химический элеме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8. Назвать третий по распространенности химический элемен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. Назвать газ необходимый для дыхания 20. Назвать самый сильный окислител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1. Назвать жидкий метал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2. Назвать химический элемент №10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3. Назвать химический элемент №10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4. Назвать химический элемент №10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. Назвать химический элемент №10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6. Назвать химический элемент №1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1B42A-8E62-4916-A905-992BB0CDDB33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имический кроссвор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46B9B-5E64-406D-BAB2-8F8A28471F30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лександр Блок видел в Дмитрии Ивановиче воплощение гения Росс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ериодическая система элемент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знаменовала для поэта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оржество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смоса над хаосом,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учное постиже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гармонии и музыки прир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деи Д.И. Менделеева и А.Н. Бекетова о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развитии науки и производительных сил Росс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тозвалис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 ряде стихотворений Бло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FC953-6A11-4A8C-8E27-9B1BDC0AB952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Заключительное слово преподавателя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Труд, работа не всякая, а осмысленная, сознательная, нужная людям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Д.И. Менделее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ами, трудясь, вы сделаете все и для близких, и для себя, а если при труде успеха не будет, будет неудача – не беда, пробуйте еще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810C8-9316-4B77-A466-091D9A8C208A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Структура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Тип урока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 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омбинирован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Принципы обучения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 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знательности, активности, наглядности, системности, последовательности, прочности, доступности, научности, связи теории и практ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Методы обучения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 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глядные, практические, словесные, проблемного изло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037EB-B5C1-44F9-A86B-5CBA052B3770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-структура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1. Организационный моме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2. Актуализация опорных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2.1. Написать химические реакции ( Задание по карточкам. Метод - индивидуальный 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2.2. Охарактеризовать основные понятия и законы химии (Метод - фронтальны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2.3. Задание по карточк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3. Формирование новых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3.1. История открытия периодического закона и периодической 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3.2. Предпосылки создания периодического зак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3.3. Открытие периодического зак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3.4. Структура периодической системы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3.4.1. Формулировка периодического зак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3.4.2. Принцип построения периодической 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3.4.3. Принцип периодич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3.4.4. Понятие пери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3.4.5. Понятие груп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3.4.6. Понятие порядкового ном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3.4.7. Характеристика химического эле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3.4.8. Периодические свойства элемен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3.4.9. Значение периодического зак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4. Применение новых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4.1. Фронтальный опр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4.2. Самостоятельная раб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5. Обобщение и систематизация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5.1. Химическая викторина (приложение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6. Подведение итогов урока. Домашнее зад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Заключительное слово преподават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6114B-FD41-4EEE-BF86-298B1A0F5453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Актуализация опорных знани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Вариант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+ Н2О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О + Н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OH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+ Н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(ОН)2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Вариант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 + Cl2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O + H2 SO4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(ОН)2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Вариант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 + H2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O + HCl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(OH)3 + HC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(OH)3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Вариант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g + Cl2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2O3 +H2 SO4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OH + H2SO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SO4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6A09E-814D-49C4-8B10-5C059BF34345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Предпосылки создания периодического закон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К середин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ека было 63 элем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Дано понятие о химическом элемен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Определены молярные массы элемен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Введено понятие о валент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Введено понятие о химической связ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Первая попытка классификации элементов. Доберейнер 1817 г. Закон триад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Вторая попытка классификации элементов. Дж. Ньюленд « по возрастанию атомных масс». Закон окта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 Третья попытка классификации. Генрих «Радикально- круговая таблиц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 Четвёртая попытка классификации элементов. Шанкартуа «Винтовая лестниц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. Пятая попытка классификации. «Томсон - Бор» «Лестниц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757B1-3DD1-4B25-BF31-28C8C181188B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Антуан Лавуаз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ранцузский химик, с 1772 г. член Парижской АН. Родился в Париже. В 1764 г. окончил юридический факультет Парижского университета. Слушал курс лекций по химии в Ботаническом саду в Париже в 1764-1766 гг. В 1775-1791 гг. директор Управления порохов и селитр. Один из основоположников классической химии. Ввел в химию строгие количест-венные методы исследования. Своими экспериментальными работами - сжигание серы и фосфора, нагреванием олова в герметически запаянном сосуде - положил начало опровержению теории флогистона в 1774 г. С целью проверки опытов К. В. Шееле и Дж. Доказал, что процесс дыхания подобен горению и что образование углекислого газа при дыхании является главным источником теплоты в живом организм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местно с Бертолле и другими учеными основал в 1789 гг. журнал "Annalees de Chimie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A8C34-9A2E-4BFA-AA6F-02B1A20B374C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Деберейнер Иоганн Вольфганг (1780-184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мецкий химик. Родился в Хофе. Учился самостоятельно. С 1810 г. профессор Йенского университ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следования посвящены проблемам классификации элементов, изучению платиновых металлов, катализу. Обнаружил в 1821 и 1822 гг., что мелко раздробленная платина (платиновая чернь) способна вызывать, сама при этом не изменяясь, химические реакции, например окисление винного спирта в уксусную кислоту или сернистого ангидрида в серный. Эти работы наряду с исследованиями Г. Дэви заложили основу каталитической химии с использованием платины. Подметил в 1817 г., а затем в1829 г., что если в триадах кальций - стронций - барий; литий - натрий - калий; сера - селен - теллур и хлор - бром - йод элементы расположены в порядке возрастания их атомных масс, то атомная масса среднего из них приблизительно равна полусумме атомных масс двух крайних. Это "правило триад" было использовано в дальнейших работах по классификации химических элемен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8DFA1-480D-476D-BEE8-B8C6BEC6F948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риант И. Деберейнера (Закон триад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трий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  - 23,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лий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 - 39,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тий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6,9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сфор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- 31,04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шьяк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- 74,96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рьма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b - 121,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льций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 - 40,07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нций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r - 87,63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рий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 - 137,3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ра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- 32,06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лен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 - 79,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ллур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 - 127,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5F4ED-C073-4586-8C4F-E266BF9EA57C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69A9-C48B-42D8-B1C5-EEB11832D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77AF-6C18-483B-9F46-B267CBEBF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2638-FEF7-45FC-9EDB-964BCDF7C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5AB7-8F5D-4003-B5A8-EEA8E8073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CE610-3315-4C1E-B7E3-4F642AE6F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516C2-2D69-431A-B745-AF0C6891F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A2C83-275F-455D-9A96-941B2DDAD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2A02C-4531-4B3E-8115-0F4225147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E06DD-988D-433C-87CD-DCBDFC17F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F58ED-3BBC-4370-A617-9598FBBDD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2145B-1E4B-4B26-BB37-BD012CCD8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69C3-4DC3-47CD-87B6-C983E11ED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BCE87-00F1-4496-85FE-B4E4DF514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5DB1F-81DE-4819-94B6-5926D2ED2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5C5E3-1115-4B07-93C1-E55AF99B3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3F9E5-E67A-4B81-9767-AC2EAD541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6ADCD-7507-449B-81C5-AE52174EF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B3FB-A560-44F4-BDFA-5FCE531D6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CCA1-6ABA-4238-BD38-D78D83325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CAD3-74F6-40A6-9D54-EF9FEFF0A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7321-72BE-4895-8FE7-FC9BBEEBE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4A4D-CB6A-4F66-8741-3E701D028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5ED6-6895-4D83-B6A9-AE57C7F72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0084-38F1-4682-AEE4-E46084BA1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9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647C0-4864-49AD-836A-C87E3E0531D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2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3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5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6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0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7D276-BB67-49CD-AC7D-CE1670FD3107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Тема: «140 лет дому, который построил Д.И. Менделеев»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Rectangle 31"/>
          <p:cNvSpPr/>
          <p:nvPr/>
        </p:nvSpPr>
        <p:spPr>
          <a:xfrm>
            <a:off x="304920" y="1676520"/>
            <a:ext cx="8305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19160" y="190512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Эпиграф урока:</a:t>
            </a: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aeaea"/>
                </a:solidFill>
                <a:latin typeface="Times New Roman"/>
              </a:rPr>
              <a:t>«</a:t>
            </a:r>
            <a:r>
              <a:rPr b="1" lang="ru-RU" sz="2000" spc="-1" strike="noStrike">
                <a:solidFill>
                  <a:srgbClr val="eaeaea"/>
                </a:solidFill>
                <a:latin typeface="Times New Roman"/>
              </a:rPr>
              <a:t>Будущее не грозит периодическому закону разрушением, а только надстройки и развитие обещает»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Times New Roman"/>
              </a:rPr>
              <a:t>Подготовил: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Times New Roman"/>
              </a:rPr>
              <a:t>преподаватель ГОУ СПО СТФК, Сладков С.Н.,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Times New Roman"/>
              </a:rPr>
              <a:t>Стерлитамакский техникум физической культуры,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Times New Roman"/>
              </a:rPr>
              <a:t>г. Стерлитамак, Республика Башкортостан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2" name="Picture 40" descr="501px-Medeleeff_by_repin"/>
          <p:cNvPicPr/>
          <p:nvPr/>
        </p:nvPicPr>
        <p:blipFill>
          <a:blip r:embed="rId1"/>
          <a:stretch/>
        </p:blipFill>
        <p:spPr>
          <a:xfrm>
            <a:off x="920880" y="1905120"/>
            <a:ext cx="3574800" cy="411480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УИЛЬЯМ ОДЛИНГ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8253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Английский химик, член Лондонского королевского общества. Основные работы посвящены теоретической химии. Последователь теории типов, относил к типу воды все кислоты и соли. Внес важный вклад в подготовку теории валентности. Разрабатывал проблему систематизации химических элементов, составив несколько таблиц. Среди них особый интерес представляет таблица 1868 года, в которой элементы расположены в порядке увеличения их относительных атомных масс; ее анализировал в своих работах Менделеев.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04920" y="2514600"/>
          <a:ext cx="8389800" cy="4362480"/>
        </p:xfrm>
        <a:graphic>
          <a:graphicData uri="http://schemas.openxmlformats.org/drawingml/2006/table">
            <a:tbl>
              <a:tblPr/>
              <a:tblGrid>
                <a:gridCol w="1828800"/>
                <a:gridCol w="1371600"/>
                <a:gridCol w="1170000"/>
                <a:gridCol w="1143000"/>
                <a:gridCol w="1123920"/>
                <a:gridCol w="990360"/>
                <a:gridCol w="762120"/>
              </a:tblGrid>
              <a:tr h="3049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F         19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I   35,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Br       8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Y     127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            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O        16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        3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e    79,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Te    128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            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N        14 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P        31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As       7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b    12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            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B     14,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i     28,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Ti    48,4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n  117,8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            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Li      6,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Na      23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K       39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            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a      2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r    43,8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Ba   68,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            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Mg  12,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Zn   32,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d   55,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            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G      4,7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Y      3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Th   59,6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Ye      46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            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AL   13,7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Mn   276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Zn   33,6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Ur      6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            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r    26,3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Fe      28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V     68,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o  29,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u   32,6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            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Mo     46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Fe      28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V     68,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Ni  29,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W    9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            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Hg    10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Pb  106,6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Ag 108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            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Pd   53,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Pt    98,6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Au 196,6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            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447880" y="228600"/>
            <a:ext cx="35434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ДЖОН НЬЮЛЕНДС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В статье, датированной 20 августа 1864 г., он отметил, что  в этом ряду наблюдается периодическое появление химически сходных элементов. Пронумеровав элементы (элементы, имеющие одинаковые веса, имели и один и тот же номер) и сопоставив номера со свойствами элементов, Ньюлендс сделал вывод: «Разность в номерах наименьшего члена группы и следующего за ним равна семи; иначе говоря, восьмой элемент, начиная с данного элемента, является своего рода повторением первого, подобно восьмой ноте октавы в музыке…». Тем самым им впервые была высказана идея о периодичности изменения свойств элементов.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Спустя год, 18 августа 1865 г., Ньюлендс опубликовал новую таблицу элементов, назвав её «законом октав», который формулировался следующим образом: «Номера аналогичных элементов, как правило, отличаются или на целое число семь, или на кратное семи; другими словами, члены одной и той же группы соотносятся друг с другом в том же отношении, как и крайние точки одной или больше октав в музыке».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3" name="Picture 4" descr="Newlands"/>
          <p:cNvPicPr/>
          <p:nvPr/>
        </p:nvPicPr>
        <p:blipFill>
          <a:blip r:embed="rId1"/>
          <a:stretch/>
        </p:blipFill>
        <p:spPr>
          <a:xfrm>
            <a:off x="5195880" y="2043000"/>
            <a:ext cx="3068640" cy="360360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4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9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Times New Roman"/>
              </a:rPr>
              <a:t>Вариант таблицы Дж. Ньюлендца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04920" y="1905120"/>
          <a:ext cx="8534160" cy="4603680"/>
        </p:xfrm>
        <a:graphic>
          <a:graphicData uri="http://schemas.openxmlformats.org/drawingml/2006/table">
            <a:tbl>
              <a:tblPr/>
              <a:tblGrid>
                <a:gridCol w="1065240"/>
                <a:gridCol w="1068120"/>
                <a:gridCol w="1065240"/>
                <a:gridCol w="1068480"/>
                <a:gridCol w="1065240"/>
                <a:gridCol w="1068480"/>
                <a:gridCol w="1065240"/>
                <a:gridCol w="1068120"/>
              </a:tblGrid>
              <a:tr h="32605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.H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.Li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.Be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.B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.C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6.N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7.O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8.F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9.Na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0.Mg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1.AL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2.Si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3.P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4.S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5.CL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6.K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7.Ca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8.Ti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9.Cr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0.Mn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1.Fe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2.Co,Ni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3.Cu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4.V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5.Zn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5.In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7.As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8.Se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9.Br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0.Rb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1.Sr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2.Ge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3.Zr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4.Mo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5.Ru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6.Pd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7.Ag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8.Cd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9.U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0.Sn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1.Sb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2.Ie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3.I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4.Cs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5.Ba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6.Ta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7.W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8.Nb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9.Au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0.Pt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1.TL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2.Pr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3.Th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4.Hg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5.Bi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6.Os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</a:tr>
              <a:tr h="8272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я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я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я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я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6я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7я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8я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</a:tr>
              <a:tr h="515880">
                <a:tc gridSpan="8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Октавы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7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447880" y="228600"/>
            <a:ext cx="35434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Мейер Лотар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403884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Немецкий химик, с 1888 г. член - корреспондент Берлинской АН. Родился в Фареле (Ольденбург). До 1854 г. учился в Вюрцбургском университете, затем в Гейдельбергском и Кенигсбергском и в университете Бреслау, доктор философии в 1858 г. С 1859 г. работал в университете Бреслау, c 1866 г. профессор университета в Эберсвальде, с 1868 г. Политехникума в Карлсруэ, с 1876 г. Тюбингенского университета.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Работы относятся к неорганической, органической и физической химии. Исследовал газы крови в 1854 г., физические свойства углеводородов. Автор книги "Современные теории химии и их значение для химической статики" в 1864 г., в которой предпринял попытку дать систематику химических элементов. После открытия Д.И. Менделеевым периодического закона химических элементов опубликовал в марте 1870 г. статью "Природа химических элементов как функция их атомных весов", в которой привел графическую кривую зависимости атомных объемов от атомной массы (кривая Мейра).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Иностранный член - корреспондент Петербургской АН с 1809 г.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0" name="Picture 11" descr="Meyer"/>
          <p:cNvPicPr/>
          <p:nvPr/>
        </p:nvPicPr>
        <p:blipFill>
          <a:blip r:embed="rId1"/>
          <a:stretch/>
        </p:blipFill>
        <p:spPr>
          <a:xfrm>
            <a:off x="5267160" y="1974960"/>
            <a:ext cx="3167280" cy="374004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15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3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3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3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3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3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3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3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3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3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3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3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3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3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3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3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3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imes New Roman"/>
              </a:rPr>
              <a:t>Вариант Лотара Мейер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380880" y="1905120"/>
          <a:ext cx="8534520" cy="390816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  <a:gridCol w="1218960"/>
                <a:gridCol w="1219320"/>
              </a:tblGrid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-</a:t>
                      </a: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атомны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-атомны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-атомны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-атомны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-атомны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-атомны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Разность масс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Li(7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Be(8,3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(12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N(14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O(16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F(19,9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Na(23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Ma(24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i(28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P(31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(32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I(35,5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K(39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a(40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As(75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e(79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Br(80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Rb(85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r(87,6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n(117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b(120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Te(128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I(126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s(133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Ba(137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Pb(207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Di(203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Ti(204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4" dur="3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2" dur="5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05120" y="266400"/>
            <a:ext cx="6705360" cy="81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Менделеев Дмитрий Иванович (1834-1907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495320" y="1447560"/>
            <a:ext cx="449604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aeaea"/>
                </a:solidFill>
                <a:latin typeface="Times New Roman"/>
              </a:rPr>
              <a:t>Русский ученый-энциклопедист, с 1876 г. член-корреспондент Петербургской АН. Родился в Тобольске. В 1855 г. окончил Главный педагогический институт в Петербурге. В 1855-1856 гг. учитель гимназии при Ришельевском лицее в Одессе. В 1857-1890 гг. преподавал в Петербургском университете, с 1865 г. профессор, одновременно в 1864-1872 гг. профессор Технологического института в Петербурге. В 1859 - феврале 1861 гг. находился в научной командировке за границей, работал в собственной лаборатории в Гейдельберге. С 1892 г. ученый хранитель Депо образцовых мер и весов, которое по его инициативе в 1893 г. преобразовано в Главную палату мер и весов, с 1893 г. управляющий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aeaea"/>
                </a:solidFill>
                <a:latin typeface="Times New Roman"/>
              </a:rPr>
              <a:t>Наиболее полную характеристику Д. И. Менделееву дал Л. А. Чугаев: "Гениальный химик, первоклассный физик, плодотворный исследователь в области гидродинамики, метеорологии, геологии, в различных отделах химической технологии (взрывчатые вещества, нефть, учение о топливе) и других сопредельных с химией и физикой дисциплинах, глубокий знаток химической промышленности вообще, особенно русской, оригинальный мыслитель в области учения о народном хозяйстве..."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aeaea"/>
                </a:solidFill>
                <a:latin typeface="Times New Roman"/>
              </a:rPr>
              <a:t>Член и почетный член более 90 академий наук, научных обществ, университетов и институтов разных стран мира. Один из основателей в 1868 г. В честь Д. И. Менделеева названы химический элемент с порядковым номером 101, минерал, кратер на обратной стороне Луны, подводный горный хребет.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7" name="Picture 8" descr="501px-Medeleeff_by_repin"/>
          <p:cNvPicPr/>
          <p:nvPr/>
        </p:nvPicPr>
        <p:blipFill>
          <a:blip r:embed="rId1"/>
          <a:stretch/>
        </p:blipFill>
        <p:spPr>
          <a:xfrm>
            <a:off x="920880" y="1905120"/>
            <a:ext cx="3574800" cy="411480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0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7" dur="3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2" dur="3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7" dur="3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"/>
          <p:cNvGraphicFramePr/>
          <p:nvPr/>
        </p:nvGraphicFramePr>
        <p:xfrm>
          <a:off x="533520" y="1295280"/>
          <a:ext cx="7924680" cy="5264280"/>
        </p:xfrm>
        <a:graphic>
          <a:graphicData uri="http://schemas.openxmlformats.org/drawingml/2006/table">
            <a:tbl>
              <a:tblPr/>
              <a:tblGrid>
                <a:gridCol w="815760"/>
                <a:gridCol w="773280"/>
                <a:gridCol w="716040"/>
                <a:gridCol w="715680"/>
                <a:gridCol w="716040"/>
                <a:gridCol w="716040"/>
                <a:gridCol w="716040"/>
                <a:gridCol w="716040"/>
                <a:gridCol w="717480"/>
                <a:gridCol w="1322280"/>
              </a:tblGrid>
              <a:tr h="33372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Группы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Элементы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Li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Be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 период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 </a:t>
                      </a: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ряд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Na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Mg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AI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i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I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 ряд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a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Ti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r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Mn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Fe,Co,Ni,Cu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 период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 ряд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u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In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As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e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Br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 ряд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Rb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r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Zr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Nb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Mo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Ru,Rh,Pd,Ag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 период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 ряд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Ar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Ih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h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b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Te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6 ряд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s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Ba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e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 период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7 ряд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8 ряд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Ta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W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Os,Ir,Pt,Au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 период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9 ряд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Au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Hg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Ti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Db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Bi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0 ряд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Th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Ur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964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Высшая окись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r>
                        <a:rPr b="0" lang="en-US" sz="1600" spc="-1" strike="noStrike" baseline="-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 O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RO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r>
                        <a:rPr b="0" lang="en-US" sz="1600" spc="-1" strike="noStrike" baseline="-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 O</a:t>
                      </a:r>
                      <a:r>
                        <a:rPr b="0" lang="en-US" sz="1600" spc="-1" strike="noStrike" baseline="-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RO</a:t>
                      </a:r>
                      <a:r>
                        <a:rPr b="0" lang="en-US" sz="1600" spc="-1" strike="noStrike" baseline="-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r>
                        <a:rPr b="0" lang="en-US" sz="1600" spc="-1" strike="noStrike" baseline="-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 O</a:t>
                      </a:r>
                      <a:r>
                        <a:rPr b="0" lang="en-US" sz="1600" spc="-1" strike="noStrike" baseline="-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RO</a:t>
                      </a:r>
                      <a:r>
                        <a:rPr b="0" lang="en-US" sz="1600" spc="-1" strike="noStrike" baseline="-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r>
                        <a:rPr b="0" lang="en-US" sz="1600" spc="-1" strike="noStrike" baseline="-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 O</a:t>
                      </a:r>
                      <a:r>
                        <a:rPr b="0" lang="en-US" sz="1600" spc="-1" strike="noStrike" baseline="-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RO</a:t>
                      </a:r>
                      <a:r>
                        <a:rPr b="0" lang="en-US" sz="1600" spc="-1" strike="noStrike" baseline="-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Высшие</a:t>
                      </a: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в.соед.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RH</a:t>
                      </a:r>
                      <a:r>
                        <a:rPr b="0" lang="en-US" sz="1600" spc="-1" strike="noStrike" baseline="-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RH</a:t>
                      </a:r>
                      <a:r>
                        <a:rPr b="0" lang="en-US" sz="1600" spc="-1" strike="noStrike" baseline="-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RH</a:t>
                      </a:r>
                      <a:r>
                        <a:rPr b="0" lang="en-US" sz="1600" spc="-1" strike="noStrike" baseline="-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RH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Text Box 4107"/>
          <p:cNvSpPr/>
          <p:nvPr/>
        </p:nvSpPr>
        <p:spPr>
          <a:xfrm>
            <a:off x="2133720" y="15228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Периодическая система элементов 1870 г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ЛЕКОК ДЕ БУОБОДРАН, </a:t>
            </a:r>
            <a:br>
              <a:rPr sz="2800"/>
            </a:b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ЛАРС ФРЕДЕРИК НИЛЬСОН, </a:t>
            </a:r>
            <a:br>
              <a:rPr sz="2800"/>
            </a:b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КЛИМЕНС ВИНКЛЕР</a:t>
            </a: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– утвердители Периодического закон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3" name="Picture 4" descr="Портрет Винклера Клеменса"/>
          <p:cNvPicPr/>
          <p:nvPr/>
        </p:nvPicPr>
        <p:blipFill>
          <a:blip r:embed="rId1"/>
          <a:stretch/>
        </p:blipFill>
        <p:spPr>
          <a:xfrm>
            <a:off x="6324480" y="1905120"/>
            <a:ext cx="2819520" cy="3581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Портрет Лекока де Буабодрана Поля"/>
          <p:cNvPicPr/>
          <p:nvPr/>
        </p:nvPicPr>
        <p:blipFill>
          <a:blip r:embed="rId2"/>
          <a:stretch/>
        </p:blipFill>
        <p:spPr>
          <a:xfrm>
            <a:off x="152280" y="1905120"/>
            <a:ext cx="2971800" cy="35812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Nilson"/>
          <p:cNvPicPr/>
          <p:nvPr/>
        </p:nvPicPr>
        <p:blipFill>
          <a:blip r:embed="rId3"/>
          <a:stretch/>
        </p:blipFill>
        <p:spPr>
          <a:xfrm>
            <a:off x="3276720" y="2209680"/>
            <a:ext cx="2877840" cy="3198960"/>
          </a:xfrm>
          <a:prstGeom prst="rect">
            <a:avLst/>
          </a:prstGeom>
          <a:ln w="0">
            <a:noFill/>
          </a:ln>
        </p:spPr>
      </p:pic>
      <p:sp>
        <p:nvSpPr>
          <p:cNvPr id="176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Периодическая система химических элементов 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Д.И. Менделеева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76320" y="1905120"/>
            <a:ext cx="8839080" cy="478152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5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Times New Roman"/>
              </a:rPr>
              <a:t>Структура периодической системы:</a:t>
            </a: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Формулировка периодического закона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«Свойства простых тел находятся в периодической зависимости от заряда атомного ядра»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Принцип построения периодической системы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«Периодическая система построена в порядке возрастания атомной массы»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Принцип периодичности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«Периодичность - это повторение химических свойств через каждые семь элементов на восьмой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19160" y="190512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Понятие периода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А) В периодической системе всего 7 периодов, 1,2,3 малые и 4,5,6,7 большие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Б) Период начинается с щелочного металла и заканчивается инертном газом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В) Период – это расположение элементов по горизонтали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Г) Период показывает количество энергетических уровней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Д) Количество элементов на периодах: 1-2, 2-8, 3-8, 4-18, 5-18, 6-32, 7-28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В настоящее время в периодической системе находится 116 элементов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0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5" dur="2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0" dur="2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5" dur="2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0" dur="2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5" dur="20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3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3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3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3" dur="3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3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3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3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3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3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3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3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30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3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3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3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7" dur="30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3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3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3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5" dur="30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30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30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30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3" dur="30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30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30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30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30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imes New Roman"/>
              </a:rPr>
              <a:t>Цели урока: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Методическая цель</a:t>
            </a:r>
            <a:r>
              <a:rPr b="0" lang="ru-RU" sz="2000" spc="-1" strike="noStrike">
                <a:solidFill>
                  <a:srgbClr val="ff0066"/>
                </a:solidFill>
                <a:latin typeface="Times New Roman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«Развитие познавательной деятельности и познавательной активности на уроке химии, путем применения наглядных средств обучения с элементами дидактических игр»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Образовательная цель: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 «Изучить принцип построения, явление периодичности, периодический закон и периодическую систему, структуру периодической системы на основе учения о строении атома»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19160" y="190512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Развивающая цель:</a:t>
            </a: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«</a:t>
            </a: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Развивать у студентов мышление на основе исторических фактах связывая с современными данными»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Воспитательная цель:</a:t>
            </a: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 «</a:t>
            </a: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Воспитывать у студентов национальную гордость и патриотизм к своей Родине, при изучении периодического закона и периодической системы Д. И. Менделеева»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2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Times New Roman"/>
              </a:rPr>
              <a:t>Структура периодической системы: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Понятие группы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А) Группа – это расположение элементов по вертикале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Б) В периодической системе всего 8 групп, каждая группа подразделяется на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главную, в которой происходит заполнение электронов на внешнем энергетическом уровне и побочную в которой происходит заполнение предвнешнего энергетического уровня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В) Группа показывает количество электронов на внешнем энергетическом уровне только в главных подгруппах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Г) Группа показывает наивысшую валентность по кислороду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19160" y="190512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Понятие порядкового номера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Порядковый номер показывает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А) Заряд ядра атома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Б) Количество электронов, которые движутся вокруг атома и несут отрицательный заряд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В) Количество протонов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Г) Количество нейтронов, которые вычисляются между разностью молярной масс и порядковым номером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Химическая викторин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61680" y="16765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1. Какой химический элемент сначала обнаружили на Солнце потом на Земле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2. Какой элемент может быть легким, как сажа, а твердый как алмаз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3. Какой цвет имеет иод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4. Название элемента похоже на планету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5. Назвать химический элемент, состоящий из двух млекопитающих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6. Химический элемент названный в честь нашей страны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7. Химические элементы названные в честь городов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8. Элементы названные в честь стран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9. Самый распространенный элемент на планете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10. Назвать благородные металлы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11. Назвать металл, который обладает наивысшей электропроводностью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12. Назвать самый твердый металл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24200" y="1219320"/>
            <a:ext cx="38098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13. Назвать самый легкий металл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14. Назвать самый тяжелый металл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15. Какой цвет имеет хлор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16. Назвать аллотропную модификацию кислорода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17. Назвать второй по распространенности химический элемент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18. Назвать третий по распространенности химический элемент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19. Назвать газ необходимый для дыхания 20. Назвать самый сильный окислитель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21. Назвать жидкий металл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22. Назвать химический элемент №104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23. Назвать химический элемент №105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24. Назвать химический элемент №106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25. Назвать химический элемент №107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26. Назвать химический элемент №108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6" dur="indefinite" restart="never" nodeType="tmRoot">
          <p:childTnLst>
            <p:seq>
              <p:cTn id="937" dur="indefinite" nodeType="mainSeq">
                <p:childTnLst>
                  <p:par>
                    <p:cTn id="938" nodeType="clickEffect" fill="hold">
                      <p:stCondLst>
                        <p:cond delay="indefinite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3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3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8" dur="3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3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3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1" dur="3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3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3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3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9" dur="3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nodeType="clickEffect" fill="hold">
                      <p:stCondLst>
                        <p:cond delay="indefinite"/>
                      </p:stCondLst>
                      <p:childTnLst>
                        <p:par>
                          <p:cTn id="9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3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3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3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7" dur="3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3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3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3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5" dur="3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nodeType="clickEffect" fill="hold">
                      <p:stCondLst>
                        <p:cond delay="indefinite"/>
                      </p:stCondLst>
                      <p:childTnLst>
                        <p:par>
                          <p:cTn id="9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3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3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3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3" dur="30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nodeType="clickEffect" fill="hold">
                      <p:stCondLst>
                        <p:cond delay="indefinite"/>
                      </p:stCondLst>
                      <p:childTnLst>
                        <p:par>
                          <p:cTn id="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3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3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3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1" dur="30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nodeType="clickEffect" fill="hold">
                      <p:stCondLst>
                        <p:cond delay="indefinite"/>
                      </p:stCondLst>
                      <p:childTnLst>
                        <p:par>
                          <p:cTn id="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30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30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30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9" dur="3000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nodeType="clickEffect" fill="hold">
                      <p:stCondLst>
                        <p:cond delay="indefinite"/>
                      </p:stCondLst>
                      <p:childTnLst>
                        <p:par>
                          <p:cTn id="1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30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30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30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7" dur="3000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nodeType="clickEffect" fill="hold">
                      <p:stCondLst>
                        <p:cond delay="indefinite"/>
                      </p:stCondLst>
                      <p:childTnLst>
                        <p:par>
                          <p:cTn id="1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2" dur="3000" fill="hold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3000" fill="hold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3000" fill="hold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5" dur="3000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3000" fill="hold"/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3000" fill="hold"/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3000" fill="hold"/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3" dur="3000"/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nodeType="clickEffect" fill="hold">
                      <p:stCondLst>
                        <p:cond delay="indefinite"/>
                      </p:stCondLst>
                      <p:childTnLst>
                        <p:par>
                          <p:cTn id="10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8" dur="3000" fill="hold"/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3000" fill="hold"/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3000" fill="hold"/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1" dur="3000"/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nodeType="clickEffect" fill="hold">
                      <p:stCondLst>
                        <p:cond delay="indefinite"/>
                      </p:stCondLst>
                      <p:childTnLst>
                        <p:par>
                          <p:cTn id="1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6" dur="3000" fill="hold"/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3000" fill="hold"/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3000" fill="hold"/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9" dur="3000"/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nodeType="clickEffect" fill="hold">
                      <p:stCondLst>
                        <p:cond delay="indefinite"/>
                      </p:stCondLst>
                      <p:childTnLst>
                        <p:par>
                          <p:cTn id="1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4" dur="3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3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3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7" dur="3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nodeType="clickEffect" fill="hold">
                      <p:stCondLst>
                        <p:cond delay="indefinite"/>
                      </p:stCondLst>
                      <p:childTnLst>
                        <p:par>
                          <p:cTn id="1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3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3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3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5" dur="3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nodeType="clickEffect" fill="hold">
                      <p:stCondLst>
                        <p:cond delay="indefinite"/>
                      </p:stCondLst>
                      <p:childTnLst>
                        <p:par>
                          <p:cTn id="1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0" dur="3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3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3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3" dur="3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nodeType="clickEffect" fill="hold">
                      <p:stCondLst>
                        <p:cond delay="indefinite"/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8" dur="3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3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3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1" dur="3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nodeType="clickEffect" fill="hold">
                      <p:stCondLst>
                        <p:cond delay="indefinite"/>
                      </p:stCondLst>
                      <p:childTnLst>
                        <p:par>
                          <p:cTn id="10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30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30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30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9" dur="3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nodeType="clickEffect" fill="hold">
                      <p:stCondLst>
                        <p:cond delay="indefinite"/>
                      </p:stCondLst>
                      <p:childTnLst>
                        <p:par>
                          <p:cTn id="10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4" dur="30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30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30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7" dur="3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2" dur="30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30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30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5" dur="3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nodeType="clickEffect" fill="hold">
                      <p:stCondLst>
                        <p:cond delay="indefinite"/>
                      </p:stCondLst>
                      <p:childTnLst>
                        <p:par>
                          <p:cTn id="1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0" dur="30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30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30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3" dur="3000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nodeType="clickEffect" fill="hold">
                      <p:stCondLst>
                        <p:cond delay="indefinite"/>
                      </p:stCondLst>
                      <p:childTnLst>
                        <p:par>
                          <p:cTn id="1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30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30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30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1" dur="3000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nodeType="clickEffect" fill="hold">
                      <p:stCondLst>
                        <p:cond delay="indefinite"/>
                      </p:stCondLst>
                      <p:childTnLst>
                        <p:par>
                          <p:cTn id="1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6" dur="3000" fill="hold"/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3000" fill="hold"/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3000" fill="hold"/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9" dur="3000"/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4" dur="3000" fill="hold"/>
                                        <p:tgtEl>
                                          <p:spTgt spid="1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3000" fill="hold"/>
                                        <p:tgtEl>
                                          <p:spTgt spid="1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3000" fill="hold"/>
                                        <p:tgtEl>
                                          <p:spTgt spid="1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7" dur="3000"/>
                                        <p:tgtEl>
                                          <p:spTgt spid="1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nodeType="clickEffect" fill="hold">
                      <p:stCondLst>
                        <p:cond delay="indefinite"/>
                      </p:stCondLst>
                      <p:childTnLst>
                        <p:par>
                          <p:cTn id="1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2" dur="3000" fill="hold"/>
                                        <p:tgtEl>
                                          <p:spTgt spid="1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3000" fill="hold"/>
                                        <p:tgtEl>
                                          <p:spTgt spid="1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3000" fill="hold"/>
                                        <p:tgtEl>
                                          <p:spTgt spid="1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5" dur="3000"/>
                                        <p:tgtEl>
                                          <p:spTgt spid="1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nodeType="clickEffect" fill="hold">
                      <p:stCondLst>
                        <p:cond delay="indefinite"/>
                      </p:stCondLst>
                      <p:childTnLst>
                        <p:par>
                          <p:cTn id="1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0" dur="3000" fill="hold"/>
                                        <p:tgtEl>
                                          <p:spTgt spid="1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3000" fill="hold"/>
                                        <p:tgtEl>
                                          <p:spTgt spid="1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3000" fill="hold"/>
                                        <p:tgtEl>
                                          <p:spTgt spid="1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3" dur="3000"/>
                                        <p:tgtEl>
                                          <p:spTgt spid="1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Химический кроссворд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93" name="Group 113"/>
          <p:cNvGrpSpPr/>
          <p:nvPr/>
        </p:nvGrpSpPr>
        <p:grpSpPr>
          <a:xfrm>
            <a:off x="533520" y="1600200"/>
            <a:ext cx="8381880" cy="4952880"/>
            <a:chOff x="533520" y="1600200"/>
            <a:chExt cx="8381880" cy="4952880"/>
          </a:xfrm>
        </p:grpSpPr>
        <p:sp>
          <p:nvSpPr>
            <p:cNvPr id="194" name="Rectangle 9"/>
            <p:cNvSpPr/>
            <p:nvPr/>
          </p:nvSpPr>
          <p:spPr>
            <a:xfrm>
              <a:off x="533520" y="388620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" name="Rectangle 11"/>
            <p:cNvSpPr/>
            <p:nvPr/>
          </p:nvSpPr>
          <p:spPr>
            <a:xfrm>
              <a:off x="533520" y="4267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" name="Rectangle 12"/>
            <p:cNvSpPr/>
            <p:nvPr/>
          </p:nvSpPr>
          <p:spPr>
            <a:xfrm>
              <a:off x="533520" y="3124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" name="Rectangle 13"/>
            <p:cNvSpPr/>
            <p:nvPr/>
          </p:nvSpPr>
          <p:spPr>
            <a:xfrm>
              <a:off x="533520" y="350532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" name="Rectangle 16"/>
            <p:cNvSpPr/>
            <p:nvPr/>
          </p:nvSpPr>
          <p:spPr>
            <a:xfrm>
              <a:off x="533520" y="5410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" name="Rectangle 17"/>
            <p:cNvSpPr/>
            <p:nvPr/>
          </p:nvSpPr>
          <p:spPr>
            <a:xfrm>
              <a:off x="533520" y="579132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" name="Rectangle 18"/>
            <p:cNvSpPr/>
            <p:nvPr/>
          </p:nvSpPr>
          <p:spPr>
            <a:xfrm>
              <a:off x="533520" y="464832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" name="Rectangle 19"/>
            <p:cNvSpPr/>
            <p:nvPr/>
          </p:nvSpPr>
          <p:spPr>
            <a:xfrm>
              <a:off x="533520" y="502920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" name="Rectangle 20"/>
            <p:cNvSpPr/>
            <p:nvPr/>
          </p:nvSpPr>
          <p:spPr>
            <a:xfrm>
              <a:off x="533520" y="617220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" name="Rectangle 24"/>
            <p:cNvSpPr/>
            <p:nvPr/>
          </p:nvSpPr>
          <p:spPr>
            <a:xfrm>
              <a:off x="914400" y="3124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" name="Rectangle 27"/>
            <p:cNvSpPr/>
            <p:nvPr/>
          </p:nvSpPr>
          <p:spPr>
            <a:xfrm>
              <a:off x="1295280" y="2362320"/>
              <a:ext cx="38124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" name="Rectangle 28"/>
            <p:cNvSpPr/>
            <p:nvPr/>
          </p:nvSpPr>
          <p:spPr>
            <a:xfrm>
              <a:off x="1295280" y="2743200"/>
              <a:ext cx="38124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" name="Rectangle 29"/>
            <p:cNvSpPr/>
            <p:nvPr/>
          </p:nvSpPr>
          <p:spPr>
            <a:xfrm>
              <a:off x="1295280" y="1600200"/>
              <a:ext cx="38124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" name="Rectangle 30"/>
            <p:cNvSpPr/>
            <p:nvPr/>
          </p:nvSpPr>
          <p:spPr>
            <a:xfrm>
              <a:off x="1295280" y="1981080"/>
              <a:ext cx="38124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" name="Rectangle 31"/>
            <p:cNvSpPr/>
            <p:nvPr/>
          </p:nvSpPr>
          <p:spPr>
            <a:xfrm>
              <a:off x="1295280" y="3886200"/>
              <a:ext cx="38124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" name="Rectangle 32"/>
            <p:cNvSpPr/>
            <p:nvPr/>
          </p:nvSpPr>
          <p:spPr>
            <a:xfrm>
              <a:off x="1295280" y="4267080"/>
              <a:ext cx="38124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" name="Rectangle 33"/>
            <p:cNvSpPr/>
            <p:nvPr/>
          </p:nvSpPr>
          <p:spPr>
            <a:xfrm>
              <a:off x="1295280" y="3124080"/>
              <a:ext cx="38124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" name="Rectangle 34"/>
            <p:cNvSpPr/>
            <p:nvPr/>
          </p:nvSpPr>
          <p:spPr>
            <a:xfrm>
              <a:off x="1295280" y="3505320"/>
              <a:ext cx="38124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" name="Rectangle 35"/>
            <p:cNvSpPr/>
            <p:nvPr/>
          </p:nvSpPr>
          <p:spPr>
            <a:xfrm>
              <a:off x="1295280" y="4648320"/>
              <a:ext cx="38124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" name="Rectangle 36"/>
            <p:cNvSpPr/>
            <p:nvPr/>
          </p:nvSpPr>
          <p:spPr>
            <a:xfrm>
              <a:off x="1295280" y="5029200"/>
              <a:ext cx="38124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" name="Rectangle 37"/>
            <p:cNvSpPr/>
            <p:nvPr/>
          </p:nvSpPr>
          <p:spPr>
            <a:xfrm>
              <a:off x="1676520" y="3124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" name="Rectangle 38"/>
            <p:cNvSpPr/>
            <p:nvPr/>
          </p:nvSpPr>
          <p:spPr>
            <a:xfrm>
              <a:off x="2057400" y="3124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" name="Rectangle 39"/>
            <p:cNvSpPr/>
            <p:nvPr/>
          </p:nvSpPr>
          <p:spPr>
            <a:xfrm>
              <a:off x="2438280" y="3124080"/>
              <a:ext cx="38124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" name="Rectangle 41"/>
            <p:cNvSpPr/>
            <p:nvPr/>
          </p:nvSpPr>
          <p:spPr>
            <a:xfrm>
              <a:off x="2819520" y="3124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" name="Rectangle 43"/>
            <p:cNvSpPr/>
            <p:nvPr/>
          </p:nvSpPr>
          <p:spPr>
            <a:xfrm>
              <a:off x="2819520" y="388620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" name="Rectangle 44"/>
            <p:cNvSpPr/>
            <p:nvPr/>
          </p:nvSpPr>
          <p:spPr>
            <a:xfrm>
              <a:off x="2819520" y="350532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" name="Rectangle 45"/>
            <p:cNvSpPr/>
            <p:nvPr/>
          </p:nvSpPr>
          <p:spPr>
            <a:xfrm>
              <a:off x="3200400" y="3124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" name="Rectangle 48"/>
            <p:cNvSpPr/>
            <p:nvPr/>
          </p:nvSpPr>
          <p:spPr>
            <a:xfrm>
              <a:off x="3581280" y="3505320"/>
              <a:ext cx="38124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" name="Rectangle 49"/>
            <p:cNvSpPr/>
            <p:nvPr/>
          </p:nvSpPr>
          <p:spPr>
            <a:xfrm>
              <a:off x="3581280" y="3886200"/>
              <a:ext cx="38124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" name="Rectangle 51"/>
            <p:cNvSpPr/>
            <p:nvPr/>
          </p:nvSpPr>
          <p:spPr>
            <a:xfrm>
              <a:off x="3581280" y="3124080"/>
              <a:ext cx="38124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" name="Rectangle 52"/>
            <p:cNvSpPr/>
            <p:nvPr/>
          </p:nvSpPr>
          <p:spPr>
            <a:xfrm>
              <a:off x="3581280" y="5029200"/>
              <a:ext cx="38124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" name="Rectangle 54"/>
            <p:cNvSpPr/>
            <p:nvPr/>
          </p:nvSpPr>
          <p:spPr>
            <a:xfrm>
              <a:off x="3581280" y="4267080"/>
              <a:ext cx="38124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" name="Rectangle 55"/>
            <p:cNvSpPr/>
            <p:nvPr/>
          </p:nvSpPr>
          <p:spPr>
            <a:xfrm>
              <a:off x="3581280" y="4648320"/>
              <a:ext cx="38124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" name="Rectangle 57"/>
            <p:cNvSpPr/>
            <p:nvPr/>
          </p:nvSpPr>
          <p:spPr>
            <a:xfrm>
              <a:off x="3962520" y="3124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" name="Rectangle 59"/>
            <p:cNvSpPr/>
            <p:nvPr/>
          </p:nvSpPr>
          <p:spPr>
            <a:xfrm>
              <a:off x="4343400" y="350532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" name="Rectangle 60"/>
            <p:cNvSpPr/>
            <p:nvPr/>
          </p:nvSpPr>
          <p:spPr>
            <a:xfrm>
              <a:off x="4343400" y="388620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" name="Rectangle 62"/>
            <p:cNvSpPr/>
            <p:nvPr/>
          </p:nvSpPr>
          <p:spPr>
            <a:xfrm>
              <a:off x="4343400" y="3124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" name="Rectangle 63"/>
            <p:cNvSpPr/>
            <p:nvPr/>
          </p:nvSpPr>
          <p:spPr>
            <a:xfrm>
              <a:off x="4343400" y="502920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" name="Rectangle 64"/>
            <p:cNvSpPr/>
            <p:nvPr/>
          </p:nvSpPr>
          <p:spPr>
            <a:xfrm>
              <a:off x="4343400" y="4267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" name="Rectangle 65"/>
            <p:cNvSpPr/>
            <p:nvPr/>
          </p:nvSpPr>
          <p:spPr>
            <a:xfrm>
              <a:off x="4343400" y="464832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4" name="Rectangle 66"/>
            <p:cNvSpPr/>
            <p:nvPr/>
          </p:nvSpPr>
          <p:spPr>
            <a:xfrm>
              <a:off x="4724280" y="3124080"/>
              <a:ext cx="38124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" name="Rectangle 68"/>
            <p:cNvSpPr/>
            <p:nvPr/>
          </p:nvSpPr>
          <p:spPr>
            <a:xfrm>
              <a:off x="5105520" y="350532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" name="Rectangle 69"/>
            <p:cNvSpPr/>
            <p:nvPr/>
          </p:nvSpPr>
          <p:spPr>
            <a:xfrm>
              <a:off x="5105520" y="388620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" name="Rectangle 71"/>
            <p:cNvSpPr/>
            <p:nvPr/>
          </p:nvSpPr>
          <p:spPr>
            <a:xfrm>
              <a:off x="5105520" y="3124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8" name="Rectangle 74"/>
            <p:cNvSpPr/>
            <p:nvPr/>
          </p:nvSpPr>
          <p:spPr>
            <a:xfrm>
              <a:off x="5867280" y="3124080"/>
              <a:ext cx="38124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239" name="Group 75"/>
            <p:cNvGrpSpPr/>
            <p:nvPr/>
          </p:nvGrpSpPr>
          <p:grpSpPr>
            <a:xfrm>
              <a:off x="6248520" y="2743200"/>
              <a:ext cx="380880" cy="1523520"/>
              <a:chOff x="6248520" y="2743200"/>
              <a:chExt cx="380880" cy="1523520"/>
            </a:xfrm>
          </p:grpSpPr>
          <p:sp>
            <p:nvSpPr>
              <p:cNvPr id="240" name="Rectangle 76"/>
              <p:cNvSpPr/>
              <p:nvPr/>
            </p:nvSpPr>
            <p:spPr>
              <a:xfrm>
                <a:off x="6248520" y="3504960"/>
                <a:ext cx="380880" cy="380520"/>
              </a:xfrm>
              <a:prstGeom prst="rect">
                <a:avLst/>
              </a:prstGeom>
              <a:solidFill>
                <a:srgbClr val="ffffcc"/>
              </a:solidFill>
              <a:ln w="22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" name="Rectangle 77"/>
              <p:cNvSpPr/>
              <p:nvPr/>
            </p:nvSpPr>
            <p:spPr>
              <a:xfrm>
                <a:off x="6248520" y="3885840"/>
                <a:ext cx="380880" cy="380880"/>
              </a:xfrm>
              <a:prstGeom prst="rect">
                <a:avLst/>
              </a:prstGeom>
              <a:solidFill>
                <a:srgbClr val="ffffcc"/>
              </a:solidFill>
              <a:ln w="22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" name="Rectangle 78"/>
              <p:cNvSpPr/>
              <p:nvPr/>
            </p:nvSpPr>
            <p:spPr>
              <a:xfrm>
                <a:off x="6248520" y="2743200"/>
                <a:ext cx="380880" cy="380880"/>
              </a:xfrm>
              <a:prstGeom prst="rect">
                <a:avLst/>
              </a:prstGeom>
              <a:solidFill>
                <a:srgbClr val="ffffcc"/>
              </a:solidFill>
              <a:ln w="22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" name="Rectangle 79"/>
              <p:cNvSpPr/>
              <p:nvPr/>
            </p:nvSpPr>
            <p:spPr>
              <a:xfrm>
                <a:off x="6248520" y="3124080"/>
                <a:ext cx="380880" cy="380520"/>
              </a:xfrm>
              <a:prstGeom prst="rect">
                <a:avLst/>
              </a:prstGeom>
              <a:solidFill>
                <a:srgbClr val="ffffcc"/>
              </a:solidFill>
              <a:ln w="22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244" name="Rectangle 82"/>
            <p:cNvSpPr/>
            <p:nvPr/>
          </p:nvSpPr>
          <p:spPr>
            <a:xfrm>
              <a:off x="5486400" y="3124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5" name="Rectangle 83"/>
            <p:cNvSpPr/>
            <p:nvPr/>
          </p:nvSpPr>
          <p:spPr>
            <a:xfrm>
              <a:off x="6248520" y="4267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6" name="Rectangle 84"/>
            <p:cNvSpPr/>
            <p:nvPr/>
          </p:nvSpPr>
          <p:spPr>
            <a:xfrm>
              <a:off x="5105520" y="4267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7" name="Rectangle 93"/>
            <p:cNvSpPr/>
            <p:nvPr/>
          </p:nvSpPr>
          <p:spPr>
            <a:xfrm>
              <a:off x="8534520" y="3124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8" name="Rectangle 96"/>
            <p:cNvSpPr/>
            <p:nvPr/>
          </p:nvSpPr>
          <p:spPr>
            <a:xfrm>
              <a:off x="6629400" y="3124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9" name="Rectangle 97"/>
            <p:cNvSpPr/>
            <p:nvPr/>
          </p:nvSpPr>
          <p:spPr>
            <a:xfrm>
              <a:off x="7010280" y="3124080"/>
              <a:ext cx="38124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0" name="Rectangle 99"/>
            <p:cNvSpPr/>
            <p:nvPr/>
          </p:nvSpPr>
          <p:spPr>
            <a:xfrm>
              <a:off x="7391520" y="3124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1" name="Rectangle 100"/>
            <p:cNvSpPr/>
            <p:nvPr/>
          </p:nvSpPr>
          <p:spPr>
            <a:xfrm>
              <a:off x="7391520" y="350532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2" name="Rectangle 102"/>
            <p:cNvSpPr/>
            <p:nvPr/>
          </p:nvSpPr>
          <p:spPr>
            <a:xfrm>
              <a:off x="7391520" y="274320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3" name="Rectangle 103"/>
            <p:cNvSpPr/>
            <p:nvPr/>
          </p:nvSpPr>
          <p:spPr>
            <a:xfrm>
              <a:off x="7772400" y="3124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" name="Rectangle 104"/>
            <p:cNvSpPr/>
            <p:nvPr/>
          </p:nvSpPr>
          <p:spPr>
            <a:xfrm>
              <a:off x="8153280" y="3124080"/>
              <a:ext cx="38124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" name="Rectangle 107"/>
            <p:cNvSpPr/>
            <p:nvPr/>
          </p:nvSpPr>
          <p:spPr>
            <a:xfrm>
              <a:off x="2819520" y="274320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baseline="30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" name="Rectangle 108"/>
            <p:cNvSpPr/>
            <p:nvPr/>
          </p:nvSpPr>
          <p:spPr>
            <a:xfrm>
              <a:off x="3581280" y="2743200"/>
              <a:ext cx="38124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baseline="30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" name="Rectangle 109"/>
            <p:cNvSpPr/>
            <p:nvPr/>
          </p:nvSpPr>
          <p:spPr>
            <a:xfrm>
              <a:off x="4343400" y="274320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baseline="30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" name="Rectangle 110"/>
            <p:cNvSpPr/>
            <p:nvPr/>
          </p:nvSpPr>
          <p:spPr>
            <a:xfrm>
              <a:off x="5105520" y="274320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baseline="30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" name="Rectangle 111"/>
            <p:cNvSpPr/>
            <p:nvPr/>
          </p:nvSpPr>
          <p:spPr>
            <a:xfrm>
              <a:off x="6248520" y="236232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baseline="30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" name="Rectangle 112"/>
            <p:cNvSpPr/>
            <p:nvPr/>
          </p:nvSpPr>
          <p:spPr>
            <a:xfrm>
              <a:off x="7391520" y="236232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baseline="30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61" name="WordArt 114"/>
          <p:cNvSpPr txBox="1"/>
          <p:nvPr/>
        </p:nvSpPr>
        <p:spPr>
          <a:xfrm>
            <a:off x="684360" y="3162240"/>
            <a:ext cx="11412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э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2" name="WordArt 115"/>
          <p:cNvSpPr txBox="1"/>
          <p:nvPr/>
        </p:nvSpPr>
        <p:spPr>
          <a:xfrm>
            <a:off x="684360" y="4695840"/>
            <a:ext cx="950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3" name="WordArt 116"/>
          <p:cNvSpPr txBox="1"/>
          <p:nvPr/>
        </p:nvSpPr>
        <p:spPr>
          <a:xfrm>
            <a:off x="684360" y="5121360"/>
            <a:ext cx="11412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4" name="WordArt 117"/>
          <p:cNvSpPr txBox="1"/>
          <p:nvPr/>
        </p:nvSpPr>
        <p:spPr>
          <a:xfrm>
            <a:off x="684360" y="5481720"/>
            <a:ext cx="11412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5" name="WordArt 118"/>
          <p:cNvSpPr txBox="1"/>
          <p:nvPr/>
        </p:nvSpPr>
        <p:spPr>
          <a:xfrm>
            <a:off x="684360" y="584208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6" name="WordArt 119"/>
          <p:cNvSpPr txBox="1"/>
          <p:nvPr/>
        </p:nvSpPr>
        <p:spPr>
          <a:xfrm>
            <a:off x="684360" y="3914640"/>
            <a:ext cx="11412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7" name="WordArt 120"/>
          <p:cNvSpPr txBox="1"/>
          <p:nvPr/>
        </p:nvSpPr>
        <p:spPr>
          <a:xfrm>
            <a:off x="684360" y="354024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8" name="WordArt 121"/>
          <p:cNvSpPr txBox="1"/>
          <p:nvPr/>
        </p:nvSpPr>
        <p:spPr>
          <a:xfrm>
            <a:off x="684360" y="4295880"/>
            <a:ext cx="11412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9" name="WordArt 122"/>
          <p:cNvSpPr txBox="1"/>
          <p:nvPr/>
        </p:nvSpPr>
        <p:spPr>
          <a:xfrm>
            <a:off x="684360" y="6200640"/>
            <a:ext cx="11412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0" name="WordArt 123"/>
          <p:cNvSpPr txBox="1"/>
          <p:nvPr/>
        </p:nvSpPr>
        <p:spPr>
          <a:xfrm>
            <a:off x="4500720" y="2781360"/>
            <a:ext cx="11412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1" name="WordArt 124"/>
          <p:cNvSpPr txBox="1"/>
          <p:nvPr/>
        </p:nvSpPr>
        <p:spPr>
          <a:xfrm>
            <a:off x="2195640" y="3141720"/>
            <a:ext cx="950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2" name="WordArt 125"/>
          <p:cNvSpPr txBox="1"/>
          <p:nvPr/>
        </p:nvSpPr>
        <p:spPr>
          <a:xfrm>
            <a:off x="2556000" y="3141720"/>
            <a:ext cx="11412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3" name="WordArt 126"/>
          <p:cNvSpPr txBox="1"/>
          <p:nvPr/>
        </p:nvSpPr>
        <p:spPr>
          <a:xfrm>
            <a:off x="2987640" y="3141720"/>
            <a:ext cx="10152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4" name="WordArt 127"/>
          <p:cNvSpPr txBox="1"/>
          <p:nvPr/>
        </p:nvSpPr>
        <p:spPr>
          <a:xfrm>
            <a:off x="3348000" y="3141720"/>
            <a:ext cx="11448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5" name="WordArt 128"/>
          <p:cNvSpPr txBox="1"/>
          <p:nvPr/>
        </p:nvSpPr>
        <p:spPr>
          <a:xfrm>
            <a:off x="3708360" y="3141720"/>
            <a:ext cx="9540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6" name="WordArt 129"/>
          <p:cNvSpPr txBox="1"/>
          <p:nvPr/>
        </p:nvSpPr>
        <p:spPr>
          <a:xfrm>
            <a:off x="4140360" y="3141720"/>
            <a:ext cx="11412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7" name="WordArt 130"/>
          <p:cNvSpPr txBox="1"/>
          <p:nvPr/>
        </p:nvSpPr>
        <p:spPr>
          <a:xfrm>
            <a:off x="4500720" y="314172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8" name="WordArt 131"/>
          <p:cNvSpPr txBox="1"/>
          <p:nvPr/>
        </p:nvSpPr>
        <p:spPr>
          <a:xfrm>
            <a:off x="4859280" y="314172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ц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9" name="WordArt 132"/>
          <p:cNvSpPr txBox="1"/>
          <p:nvPr/>
        </p:nvSpPr>
        <p:spPr>
          <a:xfrm>
            <a:off x="5219640" y="3141720"/>
            <a:ext cx="11448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0" name="WordArt 133"/>
          <p:cNvSpPr txBox="1"/>
          <p:nvPr/>
        </p:nvSpPr>
        <p:spPr>
          <a:xfrm>
            <a:off x="5651640" y="3141720"/>
            <a:ext cx="950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1" name="WordArt 134"/>
          <p:cNvSpPr txBox="1"/>
          <p:nvPr/>
        </p:nvSpPr>
        <p:spPr>
          <a:xfrm>
            <a:off x="6012000" y="3141720"/>
            <a:ext cx="11412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2" name="WordArt 135"/>
          <p:cNvSpPr txBox="1"/>
          <p:nvPr/>
        </p:nvSpPr>
        <p:spPr>
          <a:xfrm>
            <a:off x="6372360" y="314172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3" name="WordArt 136"/>
          <p:cNvSpPr txBox="1"/>
          <p:nvPr/>
        </p:nvSpPr>
        <p:spPr>
          <a:xfrm>
            <a:off x="6732720" y="3141720"/>
            <a:ext cx="10476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ь</a:t>
            </a:r>
            <a:endParaRPr b="0" lang="en-US" sz="1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4" name="WordArt 137"/>
          <p:cNvSpPr txBox="1"/>
          <p:nvPr/>
        </p:nvSpPr>
        <p:spPr>
          <a:xfrm>
            <a:off x="3708360" y="4221000"/>
            <a:ext cx="12384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5" name="WordArt 138"/>
          <p:cNvSpPr txBox="1"/>
          <p:nvPr/>
        </p:nvSpPr>
        <p:spPr>
          <a:xfrm>
            <a:off x="5219640" y="3500280"/>
            <a:ext cx="11448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6" name="WordArt 139"/>
          <p:cNvSpPr txBox="1"/>
          <p:nvPr/>
        </p:nvSpPr>
        <p:spPr>
          <a:xfrm>
            <a:off x="1042920" y="314172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7" name="WordArt 140"/>
          <p:cNvSpPr txBox="1"/>
          <p:nvPr/>
        </p:nvSpPr>
        <p:spPr>
          <a:xfrm>
            <a:off x="1403280" y="3141720"/>
            <a:ext cx="11448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8" name="WordArt 141"/>
          <p:cNvSpPr txBox="1"/>
          <p:nvPr/>
        </p:nvSpPr>
        <p:spPr>
          <a:xfrm>
            <a:off x="1835280" y="3141720"/>
            <a:ext cx="11412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9" name="WordArt 142"/>
          <p:cNvSpPr txBox="1"/>
          <p:nvPr/>
        </p:nvSpPr>
        <p:spPr>
          <a:xfrm>
            <a:off x="7524720" y="3141720"/>
            <a:ext cx="11448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0" name="WordArt 143"/>
          <p:cNvSpPr txBox="1"/>
          <p:nvPr/>
        </p:nvSpPr>
        <p:spPr>
          <a:xfrm>
            <a:off x="8244000" y="3141720"/>
            <a:ext cx="950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1" name="WordArt 144"/>
          <p:cNvSpPr txBox="1"/>
          <p:nvPr/>
        </p:nvSpPr>
        <p:spPr>
          <a:xfrm>
            <a:off x="7524720" y="3500280"/>
            <a:ext cx="11448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2" name="WordArt 145"/>
          <p:cNvSpPr txBox="1"/>
          <p:nvPr/>
        </p:nvSpPr>
        <p:spPr>
          <a:xfrm>
            <a:off x="1403280" y="465300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3" name="WordArt 146"/>
          <p:cNvSpPr txBox="1"/>
          <p:nvPr/>
        </p:nvSpPr>
        <p:spPr>
          <a:xfrm>
            <a:off x="3708360" y="2781360"/>
            <a:ext cx="11448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4" name="WordArt 147"/>
          <p:cNvSpPr txBox="1"/>
          <p:nvPr/>
        </p:nvSpPr>
        <p:spPr>
          <a:xfrm>
            <a:off x="1403280" y="3860640"/>
            <a:ext cx="11448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5" name="WordArt 148"/>
          <p:cNvSpPr txBox="1"/>
          <p:nvPr/>
        </p:nvSpPr>
        <p:spPr>
          <a:xfrm>
            <a:off x="7524720" y="278136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6" name="WordArt 149"/>
          <p:cNvSpPr txBox="1"/>
          <p:nvPr/>
        </p:nvSpPr>
        <p:spPr>
          <a:xfrm>
            <a:off x="4500720" y="5013360"/>
            <a:ext cx="11412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7" name="WordArt 150"/>
          <p:cNvSpPr txBox="1"/>
          <p:nvPr/>
        </p:nvSpPr>
        <p:spPr>
          <a:xfrm>
            <a:off x="4500720" y="4653000"/>
            <a:ext cx="950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8" name="WordArt 151"/>
          <p:cNvSpPr txBox="1"/>
          <p:nvPr/>
        </p:nvSpPr>
        <p:spPr>
          <a:xfrm>
            <a:off x="1403280" y="2060640"/>
            <a:ext cx="11448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9" name="WordArt 152"/>
          <p:cNvSpPr txBox="1"/>
          <p:nvPr/>
        </p:nvSpPr>
        <p:spPr>
          <a:xfrm>
            <a:off x="1403280" y="3500280"/>
            <a:ext cx="12384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0" name="WordArt 153"/>
          <p:cNvSpPr txBox="1"/>
          <p:nvPr/>
        </p:nvSpPr>
        <p:spPr>
          <a:xfrm>
            <a:off x="8675640" y="3141720"/>
            <a:ext cx="10476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ь</a:t>
            </a:r>
            <a:endParaRPr b="0" lang="en-US" sz="1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1" name="WordArt 154"/>
          <p:cNvSpPr txBox="1"/>
          <p:nvPr/>
        </p:nvSpPr>
        <p:spPr>
          <a:xfrm>
            <a:off x="3708360" y="3500280"/>
            <a:ext cx="11448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2" name="WordArt 155"/>
          <p:cNvSpPr txBox="1"/>
          <p:nvPr/>
        </p:nvSpPr>
        <p:spPr>
          <a:xfrm>
            <a:off x="7885080" y="3141720"/>
            <a:ext cx="11448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3" name="WordArt 156"/>
          <p:cNvSpPr txBox="1"/>
          <p:nvPr/>
        </p:nvSpPr>
        <p:spPr>
          <a:xfrm>
            <a:off x="3708360" y="4653000"/>
            <a:ext cx="11448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4" name="WordArt 157"/>
          <p:cNvSpPr txBox="1"/>
          <p:nvPr/>
        </p:nvSpPr>
        <p:spPr>
          <a:xfrm>
            <a:off x="6372360" y="4292640"/>
            <a:ext cx="10476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ь</a:t>
            </a:r>
            <a:endParaRPr b="0" lang="en-US" sz="1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5" name="WordArt 158"/>
          <p:cNvSpPr txBox="1"/>
          <p:nvPr/>
        </p:nvSpPr>
        <p:spPr>
          <a:xfrm>
            <a:off x="1403280" y="242100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6" name="WordArt 159"/>
          <p:cNvSpPr txBox="1"/>
          <p:nvPr/>
        </p:nvSpPr>
        <p:spPr>
          <a:xfrm>
            <a:off x="4500720" y="4221000"/>
            <a:ext cx="11412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7" name="WordArt 160"/>
          <p:cNvSpPr txBox="1"/>
          <p:nvPr/>
        </p:nvSpPr>
        <p:spPr>
          <a:xfrm>
            <a:off x="4500720" y="3500280"/>
            <a:ext cx="11412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8" name="WordArt 161"/>
          <p:cNvSpPr txBox="1"/>
          <p:nvPr/>
        </p:nvSpPr>
        <p:spPr>
          <a:xfrm>
            <a:off x="5219640" y="4221000"/>
            <a:ext cx="11448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9" name="WordArt 162"/>
          <p:cNvSpPr txBox="1"/>
          <p:nvPr/>
        </p:nvSpPr>
        <p:spPr>
          <a:xfrm>
            <a:off x="6372360" y="2781360"/>
            <a:ext cx="11412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0" name="WordArt 163"/>
          <p:cNvSpPr txBox="1"/>
          <p:nvPr/>
        </p:nvSpPr>
        <p:spPr>
          <a:xfrm>
            <a:off x="4500720" y="3860640"/>
            <a:ext cx="12384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1" name="WordArt 164"/>
          <p:cNvSpPr txBox="1"/>
          <p:nvPr/>
        </p:nvSpPr>
        <p:spPr>
          <a:xfrm>
            <a:off x="2987640" y="3500280"/>
            <a:ext cx="12384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2" name="WordArt 165"/>
          <p:cNvSpPr txBox="1"/>
          <p:nvPr/>
        </p:nvSpPr>
        <p:spPr>
          <a:xfrm>
            <a:off x="6372360" y="3500280"/>
            <a:ext cx="11412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3" name="WordArt 166"/>
          <p:cNvSpPr txBox="1"/>
          <p:nvPr/>
        </p:nvSpPr>
        <p:spPr>
          <a:xfrm>
            <a:off x="5219640" y="3860640"/>
            <a:ext cx="11448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4" name="WordArt 167"/>
          <p:cNvSpPr txBox="1"/>
          <p:nvPr/>
        </p:nvSpPr>
        <p:spPr>
          <a:xfrm>
            <a:off x="7093080" y="314172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5" name="WordArt 168"/>
          <p:cNvSpPr txBox="1"/>
          <p:nvPr/>
        </p:nvSpPr>
        <p:spPr>
          <a:xfrm>
            <a:off x="2987640" y="3860640"/>
            <a:ext cx="11448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6" name="WordArt 169"/>
          <p:cNvSpPr txBox="1"/>
          <p:nvPr/>
        </p:nvSpPr>
        <p:spPr>
          <a:xfrm>
            <a:off x="1403280" y="1700280"/>
            <a:ext cx="11448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7" name="WordArt 170"/>
          <p:cNvSpPr txBox="1"/>
          <p:nvPr/>
        </p:nvSpPr>
        <p:spPr>
          <a:xfrm>
            <a:off x="5219640" y="2781360"/>
            <a:ext cx="11448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8" name="WordArt 171"/>
          <p:cNvSpPr txBox="1"/>
          <p:nvPr/>
        </p:nvSpPr>
        <p:spPr>
          <a:xfrm>
            <a:off x="2987640" y="278136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9" name="WordArt 172"/>
          <p:cNvSpPr txBox="1"/>
          <p:nvPr/>
        </p:nvSpPr>
        <p:spPr>
          <a:xfrm>
            <a:off x="1403280" y="501336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0" name="WordArt 173"/>
          <p:cNvSpPr txBox="1"/>
          <p:nvPr/>
        </p:nvSpPr>
        <p:spPr>
          <a:xfrm>
            <a:off x="1403280" y="278136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1" name="WordArt 174"/>
          <p:cNvSpPr txBox="1"/>
          <p:nvPr/>
        </p:nvSpPr>
        <p:spPr>
          <a:xfrm>
            <a:off x="6372360" y="2421000"/>
            <a:ext cx="11412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щ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2" name="WordArt 175"/>
          <p:cNvSpPr txBox="1"/>
          <p:nvPr/>
        </p:nvSpPr>
        <p:spPr>
          <a:xfrm>
            <a:off x="7524720" y="2421000"/>
            <a:ext cx="9540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х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3" name="WordArt 176"/>
          <p:cNvSpPr txBox="1"/>
          <p:nvPr/>
        </p:nvSpPr>
        <p:spPr>
          <a:xfrm>
            <a:off x="3708360" y="3860640"/>
            <a:ext cx="11448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4" name="WordArt 177"/>
          <p:cNvSpPr txBox="1"/>
          <p:nvPr/>
        </p:nvSpPr>
        <p:spPr>
          <a:xfrm>
            <a:off x="1403280" y="4221000"/>
            <a:ext cx="11448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5" name="WordArt 178"/>
          <p:cNvSpPr txBox="1"/>
          <p:nvPr/>
        </p:nvSpPr>
        <p:spPr>
          <a:xfrm>
            <a:off x="3708360" y="501336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6" name="WordArt 179"/>
          <p:cNvSpPr txBox="1"/>
          <p:nvPr/>
        </p:nvSpPr>
        <p:spPr>
          <a:xfrm>
            <a:off x="6372360" y="3860640"/>
            <a:ext cx="11412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7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4" dur="indefinite" restart="never" nodeType="tmRoot">
          <p:childTnLst>
            <p:seq>
              <p:cTn id="1145" dur="indefinite" nodeType="mainSeq">
                <p:childTnLst>
                  <p:par>
                    <p:cTn id="1146" nodeType="clickEffect" fill="hold">
                      <p:stCondLst>
                        <p:cond delay="indefinite"/>
                      </p:stCondLst>
                      <p:childTnLst>
                        <p:par>
                          <p:cTn id="1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2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5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7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0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2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5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7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2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5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7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2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5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7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0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2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nodeType="clickEffect" fill="hold">
                      <p:stCondLst>
                        <p:cond delay="indefinite"/>
                      </p:stCondLst>
                      <p:childTnLst>
                        <p:par>
                          <p:cTn id="1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7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nodeType="clickEffect" fill="hold">
                      <p:stCondLst>
                        <p:cond delay="indefinite"/>
                      </p:stCondLst>
                      <p:childTnLst>
                        <p:par>
                          <p:cTn id="1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0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20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20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20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nodeType="clickEffect" fill="hold">
                      <p:stCondLst>
                        <p:cond delay="indefinite"/>
                      </p:stCondLst>
                      <p:childTnLst>
                        <p:par>
                          <p:cTn id="1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2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4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7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9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2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4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7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9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2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4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9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4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7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9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2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4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7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9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nodeType="clickEffect" fill="hold">
                      <p:stCondLst>
                        <p:cond delay="indefinite"/>
                      </p:stCondLst>
                      <p:childTnLst>
                        <p:par>
                          <p:cTn id="1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6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9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1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6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9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1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nodeType="clickEffect" fill="hold">
                      <p:stCondLst>
                        <p:cond delay="indefinite"/>
                      </p:stCondLst>
                      <p:childTnLst>
                        <p:par>
                          <p:cTn id="1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6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8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1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3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6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8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1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3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6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8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1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3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6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8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nodeType="clickEffect" fill="hold">
                      <p:stCondLst>
                        <p:cond delay="indefinite"/>
                      </p:stCondLst>
                      <p:childTnLst>
                        <p:par>
                          <p:cTn id="1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3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5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8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0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3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5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8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0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3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5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8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0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5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nodeType="clickEffect" fill="hold">
                      <p:stCondLst>
                        <p:cond delay="indefinite"/>
                      </p:stCondLst>
                      <p:childTnLst>
                        <p:par>
                          <p:cTn id="1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0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2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5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7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0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2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5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7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0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2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nodeType="clickEffect" fill="hold">
                      <p:stCondLst>
                        <p:cond delay="indefinite"/>
                      </p:stCondLst>
                      <p:childTnLst>
                        <p:par>
                          <p:cTn id="1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7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9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2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4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9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2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4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7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8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9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2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4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nodeType="clickEffect" fill="hold">
                      <p:stCondLst>
                        <p:cond delay="indefinite"/>
                      </p:stCondLst>
                      <p:childTnLst>
                        <p:par>
                          <p:cTn id="1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9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1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4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6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9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1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4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6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9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5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7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1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7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3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5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9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5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6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1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2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7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9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0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3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9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0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1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5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8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1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2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7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8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3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9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1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2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5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1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3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4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7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8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9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3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4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9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1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3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6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6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6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56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8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6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7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7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57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3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7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7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7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57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8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7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5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3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8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8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8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58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8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8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9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9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59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3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9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9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9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59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8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9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0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0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60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3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0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0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0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60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8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0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1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1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61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3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1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1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1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61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8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1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2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2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62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3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2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2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2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62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8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2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3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3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63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3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3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3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3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63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8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3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4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4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64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3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4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4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4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64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8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4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5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5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65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3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5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5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5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65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8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5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6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6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66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3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6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6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6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66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Александр Блок видел в Дмитрии Ивановиче воплощение гения России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eaeaea"/>
                </a:solidFill>
                <a:latin typeface="Times New Roman"/>
              </a:rPr>
              <a:t>Периодическая система элементов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знаменовала для поэта </a:t>
            </a: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торжество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космоса над хаосом, </a:t>
            </a: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научное постижение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гармонии и музыки природы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2420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Идеи Д.И. Менделеева и А.Н. Бекетова о </a:t>
            </a:r>
            <a:r>
              <a:rPr b="0" i="1" lang="ru-RU" sz="2800" spc="-1" strike="noStrike">
                <a:solidFill>
                  <a:srgbClr val="eaeaea"/>
                </a:solidFill>
                <a:latin typeface="Times New Roman"/>
              </a:rPr>
              <a:t>развитии науки и производительных сил России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отозвались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в ряде стихотворений Блока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1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8" dur="indefinite" restart="never" nodeType="tmRoot">
          <p:childTnLst>
            <p:seq>
              <p:cTn id="1669" dur="indefinite" nodeType="mainSeq">
                <p:childTnLst>
                  <p:par>
                    <p:cTn id="1670" nodeType="clickEffect" fill="hold">
                      <p:stCondLst>
                        <p:cond delay="indefinite"/>
                      </p:stCondLst>
                      <p:childTnLst>
                        <p:par>
                          <p:cTn id="1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74" dur="5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nodeType="clickEffect" fill="hold">
                      <p:stCondLst>
                        <p:cond delay="indefinite"/>
                      </p:stCondLst>
                      <p:childTnLst>
                        <p:par>
                          <p:cTn id="1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9" dur="5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5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1" dur="5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2" dur="5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3" nodeType="clickEffect" fill="hold">
                      <p:stCondLst>
                        <p:cond delay="indefinite"/>
                      </p:stCondLst>
                      <p:childTnLst>
                        <p:par>
                          <p:cTn id="1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7" dur="30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8" dur="30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9" dur="30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0" dur="30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Times New Roman"/>
              </a:rPr>
              <a:t>Заключительное слово преподавателя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«Труд, работа не всякая, а осмысленная, сознательная, нужная людям»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Д.И. Менделеев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2420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«Сами, трудясь, вы сделаете все и для близких, и для себя, а если при труде успеха не будет, будет неудача – не беда, пробуйте еще»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5" name="Rectangle 5"/>
          <p:cNvSpPr/>
          <p:nvPr/>
        </p:nvSpPr>
        <p:spPr>
          <a:xfrm>
            <a:off x="5592600" y="5257800"/>
            <a:ext cx="26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Д.И. Менделеев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6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1" dur="indefinite" restart="never" nodeType="tmRoot">
          <p:childTnLst>
            <p:seq>
              <p:cTn id="1692" dur="indefinite" nodeType="mainSeq">
                <p:childTnLst>
                  <p:par>
                    <p:cTn id="1693" nodeType="clickEffect" fill="hold">
                      <p:stCondLst>
                        <p:cond delay="indefinite"/>
                      </p:stCondLst>
                      <p:childTnLst>
                        <p:par>
                          <p:cTn id="1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7" dur="3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8" dur="3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9" dur="3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3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nodeType="clickEffect" fill="hold">
                      <p:stCondLst>
                        <p:cond delay="indefinite"/>
                      </p:stCondLst>
                      <p:childTnLst>
                        <p:par>
                          <p:cTn id="1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5" dur="20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6" nodeType="clickEffect" fill="hold">
                      <p:stCondLst>
                        <p:cond delay="indefinite"/>
                      </p:stCondLst>
                      <p:childTnLst>
                        <p:par>
                          <p:cTn id="1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0" dur="20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1" nodeType="clickEffect" fill="hold">
                      <p:stCondLst>
                        <p:cond delay="indefinite"/>
                      </p:stCondLst>
                      <p:childTnLst>
                        <p:par>
                          <p:cTn id="1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9" nodeType="clickEffect" fill="hold">
                      <p:stCondLst>
                        <p:cond delay="indefinite"/>
                      </p:stCondLst>
                      <p:childTnLst>
                        <p:par>
                          <p:cTn id="1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imes New Roman"/>
              </a:rPr>
              <a:t>Структура урок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Тип урока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 -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комбинированный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Принципы обучения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 -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сознательности, активности, наглядности, системности, последовательности, прочности, доступности, научности, связи теории и практики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19160" y="190512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Методы обучения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 -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наглядные, практические, словесные, проблемного изложения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План-структура урок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c3300"/>
                </a:solidFill>
                <a:uFillTx/>
                <a:latin typeface="Times New Roman"/>
                <a:hlinkClick r:id="rId1" action="ppaction://hlinksldjump"/>
              </a:rPr>
              <a:t>1. Организационный момент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cc"/>
                </a:solidFill>
                <a:uFillTx/>
                <a:latin typeface="Times New Roman"/>
              </a:rPr>
              <a:t>2. Актуализация опорных знаний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cc"/>
                </a:solidFill>
                <a:uFillTx/>
                <a:latin typeface="Times New Roman"/>
              </a:rPr>
              <a:t>2.1. Написать химические реакции ( Задание по карточкам. Метод - индивидуальный )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cc"/>
                </a:solidFill>
                <a:uFillTx/>
                <a:latin typeface="Times New Roman"/>
              </a:rPr>
              <a:t>2.2. Охарактеризовать основные понятия и законы химии (Метод - фронтальный)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cc"/>
                </a:solidFill>
                <a:uFillTx/>
                <a:latin typeface="Times New Roman"/>
              </a:rPr>
              <a:t>2.3. Задание по карточкам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cc"/>
                </a:solidFill>
                <a:uFillTx/>
                <a:latin typeface="Times New Roman"/>
              </a:rPr>
              <a:t>3. Формирование новых знаний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cc"/>
                </a:solidFill>
                <a:uFillTx/>
                <a:latin typeface="Times New Roman"/>
              </a:rPr>
              <a:t>3.1. История открытия периодического закона и периодической системы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cc"/>
                </a:solidFill>
                <a:uFillTx/>
                <a:latin typeface="Times New Roman"/>
              </a:rPr>
              <a:t>3.2. Предпосылки создания периодического закона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cc"/>
                </a:solidFill>
                <a:uFillTx/>
                <a:latin typeface="Times New Roman"/>
              </a:rPr>
              <a:t>3.3. Открытие периодического закона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cc"/>
                </a:solidFill>
                <a:uFillTx/>
                <a:latin typeface="Times New Roman"/>
              </a:rPr>
              <a:t>3.4. Структура периодической системы</a:t>
            </a:r>
            <a:r>
              <a:rPr b="1" lang="ru-RU" sz="1200" spc="-1" strike="noStrike" u="sng">
                <a:solidFill>
                  <a:srgbClr val="ffffcc"/>
                </a:solidFill>
                <a:uFillTx/>
                <a:latin typeface="Times New Roman"/>
              </a:rPr>
              <a:t>: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cc"/>
                </a:solidFill>
                <a:uFillTx/>
                <a:latin typeface="Times New Roman"/>
              </a:rPr>
              <a:t> </a:t>
            </a:r>
            <a:r>
              <a:rPr b="0" lang="ru-RU" sz="1600" spc="-1" strike="noStrike" u="sng">
                <a:solidFill>
                  <a:srgbClr val="cc3300"/>
                </a:solidFill>
                <a:uFillTx/>
                <a:latin typeface="Times New Roman"/>
                <a:hlinkClick r:id="rId2" action="ppaction://hlinksldjump"/>
              </a:rPr>
              <a:t>3.4.1. Формулировка периодического закона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c3300"/>
                </a:solidFill>
                <a:uFillTx/>
                <a:latin typeface="Times New Roman"/>
                <a:hlinkClick r:id="rId3" action="ppaction://hlinksldjump"/>
              </a:rPr>
              <a:t>3.4.2. Принцип построения периодической системы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48320" y="1447920"/>
            <a:ext cx="41148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c3300"/>
                </a:solidFill>
                <a:uFillTx/>
                <a:latin typeface="Times New Roman"/>
                <a:hlinkClick r:id="rId4" action="ppaction://hlinksldjump"/>
              </a:rPr>
              <a:t>3.4.3. Принцип периодичности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66"/>
                </a:solidFill>
                <a:uFillTx/>
                <a:latin typeface="Times New Roman"/>
              </a:rPr>
              <a:t>3.4.4. Понятие периода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66"/>
                </a:solidFill>
                <a:uFillTx/>
                <a:latin typeface="Times New Roman"/>
              </a:rPr>
              <a:t>3.4.5. Понятие группы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66"/>
                </a:solidFill>
                <a:uFillTx/>
                <a:latin typeface="Times New Roman"/>
              </a:rPr>
              <a:t>3.4.6. Понятие порядкового номера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66"/>
                </a:solidFill>
                <a:uFillTx/>
                <a:latin typeface="Times New Roman"/>
              </a:rPr>
              <a:t>3.4.7. Характеристика химического элемента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66"/>
                </a:solidFill>
                <a:uFillTx/>
                <a:latin typeface="Times New Roman"/>
              </a:rPr>
              <a:t>3.4.8. Периодические свойства элементов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66"/>
                </a:solidFill>
                <a:uFillTx/>
                <a:latin typeface="Times New Roman"/>
              </a:rPr>
              <a:t>3.4.9. Значение периодического закона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66"/>
                </a:solidFill>
                <a:uFillTx/>
                <a:latin typeface="Times New Roman"/>
              </a:rPr>
              <a:t>4. Применение новых знаний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66"/>
                </a:solidFill>
                <a:uFillTx/>
                <a:latin typeface="Times New Roman"/>
              </a:rPr>
              <a:t>4.1. Фронтальный опрос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66"/>
                </a:solidFill>
                <a:uFillTx/>
                <a:latin typeface="Times New Roman"/>
              </a:rPr>
              <a:t>4.2. Самостоятельная работа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66"/>
                </a:solidFill>
                <a:uFillTx/>
                <a:latin typeface="Times New Roman"/>
              </a:rPr>
              <a:t>5. Обобщение и систематизация знаний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66"/>
                </a:solidFill>
                <a:uFillTx/>
                <a:latin typeface="Times New Roman"/>
              </a:rPr>
              <a:t>5.1. Химическая викторина (приложение)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66"/>
                </a:solidFill>
                <a:uFillTx/>
                <a:latin typeface="Times New Roman"/>
              </a:rPr>
              <a:t>6. Подведение итогов урока. Домашнее задание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66"/>
                </a:solidFill>
                <a:uFillTx/>
                <a:latin typeface="Times New Roman"/>
              </a:rPr>
              <a:t>Заключительное слово преподавателя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Times New Roman"/>
              </a:rPr>
              <a:t>Актуализация опорных знаний</a:t>
            </a: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62040" y="1904760"/>
            <a:ext cx="3814560" cy="198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Вариант 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К + Н2О =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СаО + НС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aOH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+ НС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Си(ОН)2 =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19160" y="1904760"/>
            <a:ext cx="3814920" cy="198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Вариант 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a + Cl2 =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O + H2 SO4 =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КОН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+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Н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О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3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Са(ОН)2 =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62040" y="4030560"/>
            <a:ext cx="3814560" cy="198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Вариант 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a + H2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O + HCl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e(OH)3 + HCl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l(OH)3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619160" y="4030560"/>
            <a:ext cx="3814920" cy="198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Вариант 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g + Cl2 =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l2O3 +H2 SO4=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aOH + H2SO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H2SO4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Times New Roman"/>
              </a:rPr>
              <a:t>Предпосылки создания периодического закона</a:t>
            </a: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1. К середине 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XIX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 века было 63 элемента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2. Дано понятие о химическом элементе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3. Определены молярные массы элементов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4. Введено понятие о валентности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5. Введено понятие о химической связи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6. Первая попытка классификации элементов. Доберейнер 1817 г. Закон триад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7. Вторая попытка классификации элементов. Дж. Ньюленд « по возрастанию атомных масс». Закон октав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8. Третья попытка классификации. Генрих «Радикально- круговая таблица»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9. Четвёртая попытка классификации элементов. Шанкартуа «Винтовая лестница»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10. Пятая попытка классификации. «Томсон - Бор» «Лестница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447880" y="228600"/>
            <a:ext cx="35434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Антуан Лавуазье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Французский химик, с 1772 г. член Парижской АН. Родился в Париже. В 1764 г. окончил юридический факультет Парижского университета. Слушал курс лекций по химии в Ботаническом саду в Париже в 1764-1766 гг. В 1775-1791 гг. директор Управления порохов и селитр. Один из основоположников классической химии. Ввел в химию строгие количест-венные методы исследования. Своими экспериментальными работами - сжигание серы и фосфора, нагреванием олова в герметически запаянном сосуде - положил начало опровержению теории флогистона в 1774 г. С целью проверки опытов К. В. Шееле и Дж. Доказал, что процесс дыхания подобен горению и что образование углекислого газа при дыхании является главным источником теплоты в живом организме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Совместно с Бертолле и другими учеными основал в 1789 гг. журнал "Annalees de Chimie"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7" name="Picture 4" descr="Antoine_lavoisier"/>
          <p:cNvPicPr/>
          <p:nvPr/>
        </p:nvPicPr>
        <p:blipFill>
          <a:blip r:embed="rId1"/>
          <a:stretch/>
        </p:blipFill>
        <p:spPr>
          <a:xfrm>
            <a:off x="4724280" y="2362320"/>
            <a:ext cx="3919680" cy="385272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6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447880" y="228600"/>
            <a:ext cx="35434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Деберейнер Иоганн Вольфганг (1780-1849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7242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Немецкий химик. Родился в Хофе. Учился самостоятельно. С 1810 г. профессор Йенского университета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Исследования посвящены проблемам классификации элементов, изучению платиновых металлов, катализу. Обнаружил в 1821 и 1822 гг., что мелко раздробленная платина (платиновая чернь) способна вызывать, сама при этом не изменяясь, химические реакции, например окисление винного спирта в уксусную кислоту или сернистого ангидрида в серный. Эти работы наряду с исследованиями Г. Дэви заложили основу каталитической химии с использованием платины. Подметил в 1817 г., а затем в1829 г., что если в триадах кальций - стронций - барий; литий - натрий - калий; сера - селен - теллур и хлор - бром - йод элементы расположены в порядке возрастания их атомных масс, то атомная масса среднего из них приблизительно равна полусумме атомных масс двух крайних. Это "правило триад" было использовано в дальнейших работах по классификации химических элементов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1" name="Picture 7" descr="Johann_Wolfgang_Doebereiner"/>
          <p:cNvPicPr/>
          <p:nvPr/>
        </p:nvPicPr>
        <p:blipFill>
          <a:blip r:embed="rId1"/>
          <a:stretch/>
        </p:blipFill>
        <p:spPr>
          <a:xfrm>
            <a:off x="5388120" y="1905120"/>
            <a:ext cx="3375000" cy="358128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8" dur="1000" autoRev="1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763b"/>
                                      </p:to>
                                    </p:animClr>
                                    <p:animClr clrSpc="rgb">
                                      <p:cBhvr>
                                        <p:cTn id="499" dur="1000" autoRev="1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763b"/>
                                      </p:to>
                                    </p:animClr>
                                    <p:set>
                                      <p:cBhvr>
                                        <p:cTn id="500" dur="1000" autoRev="1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2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2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2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Вариант И. Деберейнера (Закон триад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Натрий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a  - 23,0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Калий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K - 39,1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Литий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i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- 6,94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Фосфор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 - 31,04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Мышьяк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s - 74,96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Сурьма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b - 121,8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2420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Кальций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 - 40,07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Стронций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r - 87,63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Барий   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a - 137,37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Сера      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 - 32,06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Селен    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 - 79,2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Теллур  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e - 127,5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9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4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9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4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4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4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4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9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4" dur="5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5-01T12:07:23Z</dcterms:modified>
  <cp:revision>25</cp:revision>
  <dc:subject/>
  <dc:title>Тема: «140 лет дому, который построил Д.И. Менделеев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