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005E-75B0-4A55-92D9-BFFA8B241B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ма: «140 лет дому, который построил Д.И. Менделеев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Эпиграф урока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дущее не грозит периодическому закону разрушением, а только надстройки и развитие обещает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готовил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подаватель ГОУ СПО СТФК, Сладков С.Н.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ерлитамакский техникум физической культур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. Стерлитамак, Республика Башкортост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820E-E586-4128-9A80-29C03307FDDD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ИЛЬЯМ ОДЛИН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глийский химик, член Лондонского королевского общества. Основные работы посвящены теоретической химии. Последователь теории типов, относил к типу воды все кислоты и соли. Внес важный вклад в подготовку теории валентности. Разрабатывал проблему систематизации химических элементов, составив несколько таблиц. Среди них особый интерес представляет таблица 1868 года, в которой элементы расположены в порядке увеличения их относительных атомных масс; ее анализировал в своих работах Менделе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208C-560D-4219-A22D-7B655F790C41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ЖОН НЬЮЛЕНД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татье, датированной 20 августа 1864 г., он отметил, что  в этом ряду наблюдается периодическое появление химически сходных элементов. Пронумеровав элементы (элементы, имеющие одинаковые веса, имели и один и тот же номер) и сопоставив номера со свойствами элементов, Ньюлендс сделал вывод: «Разность в номерах наименьшего члена группы и следующего за ним равна семи; иначе говоря, восьмой элемент, начиная с данного элемента, является своего рода повторением первого, подобно восьмой ноте октавы в музыке…». Тем самым им впервые была высказана идея о периодичности изменения свойств элемент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устя год, 18 августа 1865 г., Ньюлендс опубликовал новую таблицу элементов, назвав её «законом октав», который формулировался следующим образом: «Номера аналогичных элементов, как правило, отличаются или на целое число семь, или на кратное семи; другими словами, члены одной и той же группы соотносятся друг с другом в том же отношении, как и крайние точки одной или больше октав в музык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07D1-9014-4AD4-8B39-D8C759CF85FD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ариант таблицы Дж. Ньюлен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3CC0-07EC-4924-9686-121FF57EECE0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йер Лота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цкий химик, с 1888 г. член - корреспондент Берлинской АН. Родился в Фареле (Ольденбург). До 1854 г. учился в Вюрцбургском университете, затем в Гейдельбергском и Кенигсбергском и в университете Бреслау, доктор философии в 1858 г. С 1859 г. работал в университете Бреслау, c 1866 г. профессор университета в Эберсвальде, с 1868 г. Политехникума в Карлсруэ, с 1876 г. Тюбингенского университ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ы относятся к неорганической, органической и физической химии. Исследовал газы крови в 1854 г., физические свойства углеводородов. Автор книги "Современные теории химии и их значение для химической статики" в 1864 г., в которой предпринял попытку дать систематику химических элементов. После открытия Д.И. Менделеевым периодического закона химических элементов опубликовал в марте 1870 г. статью "Природа химических элементов как функция их атомных весов", в которой привел графическую кривую зависимости атомных объемов от атомной массы (кривая Мейр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остранный член - корреспондент Петербургской АН с 18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CCA5-49D2-46E8-A5EE-6AB93110AC24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ариант Лотара Мей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8D10-D558-4C0A-BD3E-63F469AFB302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Менделеев Дмитрий Иванович (1834-19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усский ученый-энциклопедист, с 1876 г. член-корреспондент Петербургской АН. Родился в Тобольске. В 1855 г. окончил Главный педагогический институт в Петербурге. В 1855-1856 гг. учитель гимназии при Ришельевском лицее в Одессе. В 1857-1890 гг. преподавал в Петербургском университете, с 1865 г. профессор, одновременно в 1864-1872 гг. профессор Технологического института в Петербурге. В 1859 - феврале 1861 гг. находился в научной командировке за границей, работал в собственной лаборатории в Гейдельберге. С 1892 г. ученый хранитель Депо образцовых мер и весов, которое по его инициативе в 1893 г. преобразовано в Главную палату мер и весов, с 1893 г. управляющ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иболее полную характеристику Д. И. Менделееву дал Л. А. Чугаев: "Гениальный химик, первоклассный физик, плодотворный исследователь в области гидродинамики, метеорологии, геологии, в различных отделах химической технологии (взрывчатые вещества, нефть, учение о топливе) и других сопредельных с химией и физикой дисциплинах, глубокий знаток химической промышленности вообще, особенно русской, оригинальный мыслитель в области учения о народном хозяйстве...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лен и почетный член более 90 академий наук, научных обществ, университетов и институтов разных стран мира. Один из основателей в 1868 г. В честь Д. И. Менделеева названы химический элемент с порядковым номером 101, минерал, кратер на обратной стороне Луны, подводный горный хреб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CCBE-F63D-4124-A645-C92C5F5166B2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Периодическая система элементов 1870 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9D0E-7D3F-4736-8787-70F67250D5E2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ЕКОК ДЕ БУОБОДРАН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АРС ФРЕДЕРИК НИЛЬСОН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ЛИМЕНС ВИНКЛЕР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– утвердители Периодического закон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2E30-8D40-4852-A9DE-EEBB81AF82AF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ическая система химических элемент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.И. Менделее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3140-9098-43E2-A9B9-C991ED1A6884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Структура периодической системы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Формулировка периодического зак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войства простых тел находятся в периодической зависимости от заряда атомного ядр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Принцип построения периодическ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ериодическая система построена в порядке возрастания атомной массы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Принцип период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ериодичность - это повторение химических свойств через каждые семь элементов на восьм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Понятие пери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В периодической системе всего 7 периодов, 1,2,3 малые и 4,5,6,7 больш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Период начинается с щелочного металла и заканчивается инертном газ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Период – это расположение элементов по горизонта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Период показывает количество энергетических уров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) Количество элементов на периодах: 1-2, 2-8, 3-8, 4-18, 5-18, 6-32, 7-2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стоящее время в периодической системе находится 116 эле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C1FA-DDB4-4BAB-B036-2497C1AFB8E3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Методическая цель</a:t>
            </a: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Развитие познавательной деятельности и познавательной активности на уроке химии, путем применения наглядных средств обучения с элементами дидактических игр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Образовательная цел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«Изучить принцип построения, явление периодичности, периодический закон и периодическую систему, структуру периодической системы на основе учения о строении атом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66"/>
                </a:solidFill>
                <a:latin typeface="Arial"/>
              </a:rPr>
              <a:t>Развивающая цель: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азвивать у студентов мышление на основе исторических фактах связывая с современными данными»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66"/>
                </a:solidFill>
                <a:latin typeface="Arial"/>
              </a:rPr>
              <a:t>Воспитательная цель: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оспитывать у студентов национальную гордость и патриотизм к своей Родине, при изучении периодического закона и периодической системы Д. И. Менделеева»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A434-010E-4C25-B0B5-B9CF6850DF63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Структура периодической систе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Понятие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Группа – это расположение элементов по вертикал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В периодической системе всего 8 групп, каждая группа подразделяется н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ую, в которой происходит заполнение электронов на внешнем энергетическом уровне и побочную в которой происходит заполнение предвнешнего энергетического уровн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Группа показывает количество электронов на внешнем энергетическом уровне только в главных подгрупп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Группа показывает наивысшую валентность по кислоро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Понятие порядкового ном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ковый номер показыв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Заряд ядра ато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Количество электронов, которые движутся вокруг атома и несут отрицательный заря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Количество прот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Количество нейтронов, которые вычисляются между разностью молярной масс и порядковым номер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5B7C-4F93-48FD-BD54-3526A0E07974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ая виктор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Какой химический элемент сначала обнаружили на Солнце потом на Земл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Какой элемент может быть легким, как сажа, а твердый как алма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Какой цвет имеет и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Название элемента похоже на плане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Назвать химический элемент, состоящий из двух млекопитающ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Химический элемент названный в честь нашей ст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Химические элементы названные в честь гор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Элементы названные в честь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Самый распространенный элемент на планет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Назвать благородные метал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Назвать металл, который обладает наивысшей электропроводность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. Назвать самый твердый метал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. Назвать самый легкий метал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. Назвать самый тяжелый метал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. Какой цвет имеет хл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. Назвать аллотропную модификацию кислоро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. Назвать второй по распространенности химический эле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. Назвать третий по распространенности химический элемен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. Назвать газ необходимый для дыхания 20. Назвать самый сильный окислител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. Назвать жидкий метал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. Назвать химический элемент №10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. Назвать химический элемент №10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. Назвать химический элемент №10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 Назвать химический элемент №10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6. Назвать химический элемент №1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C608-DCB6-491F-B8EF-5C7A9FBA770C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ий кроссвор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1040-3458-483C-88DE-B2DB46174B4E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лександр Блок видел в Дмитрии Ивановиче воплощение гения Росс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ериодическая система элемен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знаменовала для поэта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ржеств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моса над хаосом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учное постиж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гармонии и музыки прир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и Д.И. Менделеева и А.Н. Бекетова 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азвитии науки и производительных сил Росс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озвалис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ряде стихотворений Бло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F35B-285D-47E6-994C-E6040C22C957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Заключительное слово преподавателя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Труд, работа не всякая, а осмысленная, сознательная, нужная людям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Д.И. Менделее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ами, трудясь, вы сделаете все и для близких, и для себя, а если при труде успеха не будет, будет неудача – не беда, пробуйте ещ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BBDA-E379-406A-8EC5-B48C2757EF50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Структура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Тип урока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мбинирован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Принципы обучения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знательности, активности, наглядности, системности, последовательности, прочности, доступности, научности, связи теории и прак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Методы обучения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глядные, практические, словесные, проблемного из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E9D2-F416-439D-9EA3-BDD8CE4B6D5E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-структура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1. Организационный мо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2. Актуализация опорны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2.1. Написать химические реакции ( Задание по карточкам. Метод - индивидуальный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2.2. Охарактеризовать основные понятия и законы химии (Метод - фронтальны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2.3. Задание по карточ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 Формирование новы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1. История открытия периодического закона и периодическ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2. Предпосылки создания периодического зак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3. Открытие периодического зак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4. Структура периодической системы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4.1. Формулировка периодического зак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4.2. Принцип построения периодическ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3.4.3. Принцип период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3.4.4. Понятие пери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3.4.5. Понятие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3.4.6. Понятие порядкового ном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3.4.7. Характеристика химического эле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3.4.8. Периодические свойства эле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3.4.9. Значение периодического зак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4. Применение новы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4.1. Фронтальный о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4.2. Самостоятельн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5. Обобщение и систематизация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5.1. Химическая викторина (приложени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6. Подведение итогов урока. Домашнее зад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Заключительное слово преподава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024B-D45A-4140-B2B8-CF174565A3A9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Актуализация опорных знан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ариант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+ Н2О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О + Н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+ Н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(ОН)2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ариант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 + Cl2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O + H2 SO4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(ОН)2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ариант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 + H2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O + HCl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(OH)3 + HC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(OH)3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ариант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 + Cl2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2O3 +H2 SO4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OH + H2S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SO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7D6A-CBDC-4ACD-BA92-A3FAA5926B13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Предпосылки создания периодического закон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К середин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ека было 63 эле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Дано понятие о химическом элемен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пределены молярные массы эле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Введено понятие о валент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Введено понятие о химической связ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Первая попытка классификации элементов. Доберейнер 1817 г. Закон триа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Вторая попытка классификации элементов. Дж. Ньюленд « по возрастанию атомных масс». Закон окта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Третья попытка классификации. Генрих «Радикально- круговая таблиц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Четвёртая попытка классификации элементов. Шанкартуа «Винтовая лестниц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Пятая попытка классификации. «Томсон - Бор» «Лестниц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5454-782F-4CA0-9DD7-A8129D39732B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Антуан Лавуаз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нцузский химик, с 1772 г. член Парижской АН. Родился в Париже. В 1764 г. окончил юридический факультет Парижского университета. Слушал курс лекций по химии в Ботаническом саду в Париже в 1764-1766 гг. В 1775-1791 гг. директор Управления порохов и селитр. Один из основоположников классической химии. Ввел в химию строгие количест-венные методы исследования. Своими экспериментальными работами - сжигание серы и фосфора, нагреванием олова в герметически запаянном сосуде - положил начало опровержению теории флогистона в 1774 г. С целью проверки опытов К. В. Шееле и Дж. Доказал, что процесс дыхания подобен горению и что образование углекислого газа при дыхании является главным источником теплоты в живом организ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 с Бертолле и другими учеными основал в 1789 гг. журнал "Annalees de Chimie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AC52-4F0D-447B-99B2-1530E6ABE000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Деберейнер Иоганн Вольфганг (1780-184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цкий химик. Родился в Хофе. Учился самостоятельно. С 1810 г. профессор Йенского университ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я посвящены проблемам классификации элементов, изучению платиновых металлов, катализу. Обнаружил в 1821 и 1822 гг., что мелко раздробленная платина (платиновая чернь) способна вызывать, сама при этом не изменяясь, химические реакции, например окисление винного спирта в уксусную кислоту или сернистого ангидрида в серный. Эти работы наряду с исследованиями Г. Дэви заложили основу каталитической химии с использованием платины. Подметил в 1817 г., а затем в1829 г., что если в триадах кальций - стронций - барий; литий - натрий - калий; сера - селен - теллур и хлор - бром - йод элементы расположены в порядке возрастания их атомных масс, то атомная масса среднего из них приблизительно равна полусумме атомных масс двух крайних. Это "правило триад" было использовано в дальнейших работах по классификации химических эле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D0E6-3226-4357-8ED3-EB315EB1B6D5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риант И. Деберейнера (Закон триа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трий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  - 23,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лий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- 39,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ий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6,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сфор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- 31,0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шьяк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- 74,96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рьма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b - 121,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льций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 - 40,07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нций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r - 87,6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рий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 - 137,3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ра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- 32,06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лен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- 79,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лур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 - 127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6EF3-038A-49EC-ABA2-574747103687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301B-89A8-44A8-9DD7-A1FB5A276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3965-23B5-4C30-AD63-71C8654D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3886-BE9E-46E8-B23B-A869D9A57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BA7E-C3A2-49F5-9D4F-143FCBD17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8EAD-DB4F-41F0-AB06-7BDD1EFE5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C040-FC70-4B40-9D8B-B1B2ED11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1121-6A9E-44B4-8A6F-5F75DED4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0F87-9E93-462B-A738-680C6FA5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1232D-BB84-4235-B42B-6F1B567D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F421-D13C-42A1-BFF0-ED6F878D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22762-12B0-48FA-9024-546CC025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3EC1-F913-4F60-B595-99AE1B36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3F04-1F2A-4EA2-A955-219B82B1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1B6E-EB48-4C4E-A97E-1CE2802E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72FE-DC53-4BD0-BA45-CA1F03D7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1E1B-AD68-4B53-8B55-20DB318DF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2211-0DC4-41F9-89DA-5B7C18D70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CCFF-CA71-4653-A989-291B4A82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825D-3B82-4168-8E37-E33EAFD7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AB4D-BD2A-40E9-94F5-DAA0C3BC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091A-107B-4D0A-B8B2-7AFC254C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683E-F76D-4D66-8B02-BED70584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EC52-47DF-4CA6-9694-030A981C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852B-F89B-486A-A8A8-2497D00A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C050-1711-4ADA-9D88-BF195C357D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8784-C3E0-4957-A3D6-19012118CF5E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Тема: «140 лет дому, который построил Д.И. Менделеев»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Rectangle 31"/>
          <p:cNvSpPr/>
          <p:nvPr/>
        </p:nvSpPr>
        <p:spPr>
          <a:xfrm>
            <a:off x="304920" y="1676520"/>
            <a:ext cx="8305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Эпиграф урока: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aeaea"/>
                </a:solidFill>
                <a:latin typeface="Times New Roman"/>
              </a:rPr>
              <a:t>«</a:t>
            </a:r>
            <a:r>
              <a:rPr b="1" lang="ru-RU" sz="2000" spc="-1" strike="noStrike">
                <a:solidFill>
                  <a:srgbClr val="eaeaea"/>
                </a:solidFill>
                <a:latin typeface="Times New Roman"/>
              </a:rPr>
              <a:t>Будущее не грозит периодическому закону разрушением, а только надстройки и развитие обещает»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Подготовил: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преподаватель ГОУ СПО СТФК, Сладков С.Н.,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Стерлитамакский техникум физической культуры,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г. Стерлитамак, Республика Башкортостан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2" name="Picture 40" descr="501px-Medeleeff_by_repin"/>
          <p:cNvPicPr/>
          <p:nvPr/>
        </p:nvPicPr>
        <p:blipFill>
          <a:blip r:embed="rId1"/>
          <a:stretch/>
        </p:blipFill>
        <p:spPr>
          <a:xfrm>
            <a:off x="920880" y="1905120"/>
            <a:ext cx="3574800" cy="41148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УИЛЬЯМ ОДЛИНГ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253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Английский химик, член Лондонского королевского общества. Основные работы посвящены теоретической химии. Последователь теории типов, относил к типу воды все кислоты и соли. Внес важный вклад в подготовку теории валентности. Разрабатывал проблему систематизации химических элементов, составив несколько таблиц. Среди них особый интерес представляет таблица 1868 года, в которой элементы расположены в порядке увеличения их относительных атомных масс; ее анализировал в своих работах Менделеев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04920" y="2514600"/>
          <a:ext cx="8389800" cy="4362480"/>
        </p:xfrm>
        <a:graphic>
          <a:graphicData uri="http://schemas.openxmlformats.org/drawingml/2006/table">
            <a:tbl>
              <a:tblPr/>
              <a:tblGrid>
                <a:gridCol w="1828800"/>
                <a:gridCol w="1371600"/>
                <a:gridCol w="1170000"/>
                <a:gridCol w="1143000"/>
                <a:gridCol w="1123920"/>
                <a:gridCol w="990360"/>
                <a:gridCol w="76212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         19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I   35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r       8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Y     12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O        1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        3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e    79,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e    12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        14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        3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s       7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b    12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     14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i     28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i    48,4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n  117,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Li      6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a      2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K       39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a      2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r    43,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a   68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g  12,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Zn   32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d   55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G      4,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Y      3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h   59,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Ye      4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L   13,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n   27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Zn   33,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Ur      6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r    26,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e      2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V     68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o  29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u   32,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o     4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e      2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V     68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i  29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W    9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Hg    10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b  106,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g 10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d   53,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t    98,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u 196,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47880" y="228600"/>
            <a:ext cx="35434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ДЖОН НЬЮЛЕНДС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В статье, датированной 20 августа 1864 г., он отметил, что  в этом ряду наблюдается периодическое появление химически сходных элементов. Пронумеровав элементы (элементы, имеющие одинаковые веса, имели и один и тот же номер) и сопоставив номера со свойствами элементов, Ньюлендс сделал вывод: «Разность в номерах наименьшего члена группы и следующего за ним равна семи; иначе говоря, восьмой элемент, начиная с данного элемента, является своего рода повторением первого, подобно восьмой ноте октавы в музыке…». Тем самым им впервые была высказана идея о периодичности изменения свойств элементов.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Спустя год, 18 августа 1865 г., Ньюлендс опубликовал новую таблицу элементов, назвав её «законом октав», который формулировался следующим образом: «Номера аналогичных элементов, как правило, отличаются или на целое число семь, или на кратное семи; другими словами, члены одной и той же группы соотносятся друг с другом в том же отношении, как и крайние точки одной или больше октав в музыке»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3" name="Picture 4" descr="Newlands"/>
          <p:cNvPicPr/>
          <p:nvPr/>
        </p:nvPicPr>
        <p:blipFill>
          <a:blip r:embed="rId1"/>
          <a:stretch/>
        </p:blipFill>
        <p:spPr>
          <a:xfrm>
            <a:off x="5195880" y="2043000"/>
            <a:ext cx="3068640" cy="36036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Вариант таблицы Дж. Ньюлендца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04920" y="1905120"/>
          <a:ext cx="8534160" cy="4603680"/>
        </p:xfrm>
        <a:graphic>
          <a:graphicData uri="http://schemas.openxmlformats.org/drawingml/2006/table">
            <a:tbl>
              <a:tblPr/>
              <a:tblGrid>
                <a:gridCol w="1065240"/>
                <a:gridCol w="1068120"/>
                <a:gridCol w="1065240"/>
                <a:gridCol w="1068480"/>
                <a:gridCol w="1065240"/>
                <a:gridCol w="1068480"/>
                <a:gridCol w="1065240"/>
                <a:gridCol w="1068120"/>
              </a:tblGrid>
              <a:tr h="32605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.H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.L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.B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.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.C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.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.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.F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.N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.Mg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.A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2.S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3.P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4.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5.C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6.K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7.C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8.T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9.C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0.M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1.F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2.Co,N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3.C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4.V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5.Z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5.I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7.A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8.S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9.B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0.R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1.S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2.G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3.Z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4.M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5.R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6.Pd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7.Ag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8.Cd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9.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0.S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1.S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2.I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3.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4.C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5.B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6.T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7.W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8.N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9.A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0.Pt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1.T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2.P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3.Th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4.Hg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5.B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6.O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8272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515880">
                <a:tc gridSpan="8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ктавы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47880" y="228600"/>
            <a:ext cx="35434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Мейер Лотар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40388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Немецкий химик, с 1888 г. член - корреспондент Берлинской АН. Родился в Фареле (Ольденбург). До 1854 г. учился в Вюрцбургском университете, затем в Гейдельбергском и Кенигсбергском и в университете Бреслау, доктор философии в 1858 г. С 1859 г. работал в университете Бреслау, c 1866 г. профессор университета в Эберсвальде, с 1868 г. Политехникума в Карлсруэ, с 1876 г. Тюбингенского университета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Работы относятся к неорганической, органической и физической химии. Исследовал газы крови в 1854 г., физические свойства углеводородов. Автор книги "Современные теории химии и их значение для химической статики" в 1864 г., в которой предпринял попытку дать систематику химических элементов. После открытия Д.И. Менделеевым периодического закона химических элементов опубликовал в марте 1870 г. статью "Природа химических элементов как функция их атомных весов", в которой привел графическую кривую зависимости атомных объемов от атомной массы (кривая Мейра)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Иностранный член - корреспондент Петербургской АН с 1809 г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0" name="Picture 11" descr="Meyer"/>
          <p:cNvPicPr/>
          <p:nvPr/>
        </p:nvPicPr>
        <p:blipFill>
          <a:blip r:embed="rId1"/>
          <a:stretch/>
        </p:blipFill>
        <p:spPr>
          <a:xfrm>
            <a:off x="5267160" y="1974960"/>
            <a:ext cx="3167280" cy="374004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3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3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3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3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3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3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3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3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3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3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3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Вариант Лотара Мейер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80880" y="1905120"/>
          <a:ext cx="8534520" cy="390816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  <a:gridCol w="1218960"/>
                <a:gridCol w="1219320"/>
              </a:tblGrid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-</a:t>
                      </a: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атомны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-атомны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-атомны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-атомны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-атомны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-атомны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Разность мас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Li(7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e(8,3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(12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(14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O(16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(19,9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a(23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a(24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i(28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(31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(32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I(35,5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K(39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a(40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s(75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e(79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r(80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b(85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r(87,6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n(117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b(120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e(128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I(126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s(133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a(137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b(207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i(203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i(204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5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05120" y="266400"/>
            <a:ext cx="6705360" cy="81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Менделеев Дмитрий Иванович (1834-1907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495320" y="1447560"/>
            <a:ext cx="449604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aeaea"/>
                </a:solidFill>
                <a:latin typeface="Times New Roman"/>
              </a:rPr>
              <a:t>Русский ученый-энциклопедист, с 1876 г. член-корреспондент Петербургской АН. Родился в Тобольске. В 1855 г. окончил Главный педагогический институт в Петербурге. В 1855-1856 гг. учитель гимназии при Ришельевском лицее в Одессе. В 1857-1890 гг. преподавал в Петербургском университете, с 1865 г. профессор, одновременно в 1864-1872 гг. профессор Технологического института в Петербурге. В 1859 - феврале 1861 гг. находился в научной командировке за границей, работал в собственной лаборатории в Гейдельберге. С 1892 г. ученый хранитель Депо образцовых мер и весов, которое по его инициативе в 1893 г. преобразовано в Главную палату мер и весов, с 1893 г. управляющий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aeaea"/>
                </a:solidFill>
                <a:latin typeface="Times New Roman"/>
              </a:rPr>
              <a:t>Наиболее полную характеристику Д. И. Менделееву дал Л. А. Чугаев: "Гениальный химик, первоклассный физик, плодотворный исследователь в области гидродинамики, метеорологии, геологии, в различных отделах химической технологии (взрывчатые вещества, нефть, учение о топливе) и других сопредельных с химией и физикой дисциплинах, глубокий знаток химической промышленности вообще, особенно русской, оригинальный мыслитель в области учения о народном хозяйстве..."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aeaea"/>
                </a:solidFill>
                <a:latin typeface="Times New Roman"/>
              </a:rPr>
              <a:t>Член и почетный член более 90 академий наук, научных обществ, университетов и институтов разных стран мира. Один из основателей в 1868 г. В честь Д. И. Менделеева названы химический элемент с порядковым номером 101, минерал, кратер на обратной стороне Луны, подводный горный хребет.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7" name="Picture 8" descr="501px-Medeleeff_by_repin"/>
          <p:cNvPicPr/>
          <p:nvPr/>
        </p:nvPicPr>
        <p:blipFill>
          <a:blip r:embed="rId1"/>
          <a:stretch/>
        </p:blipFill>
        <p:spPr>
          <a:xfrm>
            <a:off x="920880" y="1905120"/>
            <a:ext cx="3574800" cy="41148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3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2" dur="3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3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533520" y="1295280"/>
          <a:ext cx="7924680" cy="5264280"/>
        </p:xfrm>
        <a:graphic>
          <a:graphicData uri="http://schemas.openxmlformats.org/drawingml/2006/table">
            <a:tbl>
              <a:tblPr/>
              <a:tblGrid>
                <a:gridCol w="815760"/>
                <a:gridCol w="773280"/>
                <a:gridCol w="716040"/>
                <a:gridCol w="715680"/>
                <a:gridCol w="716040"/>
                <a:gridCol w="716040"/>
                <a:gridCol w="716040"/>
                <a:gridCol w="716040"/>
                <a:gridCol w="717480"/>
                <a:gridCol w="1322280"/>
              </a:tblGrid>
              <a:tr h="3337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руппы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Элементы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L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 перио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e,Co,Ni,C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 перио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I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Z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u,Rh,Pd,Ag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 перио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Ih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h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 перио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Os,Ir,Pt,A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 перио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Hg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h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U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ысшая окись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O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O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O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O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O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O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ысшие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.соед.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H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H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H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H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Text Box 4107"/>
          <p:cNvSpPr/>
          <p:nvPr/>
        </p:nvSpPr>
        <p:spPr>
          <a:xfrm>
            <a:off x="2133720" y="15228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Периодическая система элементов 1870 г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ЛЕКОК ДЕ БУОБОДРАН,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ЛАРС ФРЕДЕРИК НИЛЬСОН,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КЛИМЕНС ВИНКЛЕР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– утвердители Периодического закон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3" name="Picture 4" descr="Портрет Винклера Клеменса"/>
          <p:cNvPicPr/>
          <p:nvPr/>
        </p:nvPicPr>
        <p:blipFill>
          <a:blip r:embed="rId1"/>
          <a:stretch/>
        </p:blipFill>
        <p:spPr>
          <a:xfrm>
            <a:off x="6324480" y="1905120"/>
            <a:ext cx="2819520" cy="3581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Портрет Лекока де Буабодрана Поля"/>
          <p:cNvPicPr/>
          <p:nvPr/>
        </p:nvPicPr>
        <p:blipFill>
          <a:blip r:embed="rId2"/>
          <a:stretch/>
        </p:blipFill>
        <p:spPr>
          <a:xfrm>
            <a:off x="152280" y="1905120"/>
            <a:ext cx="2971800" cy="3581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Nilson"/>
          <p:cNvPicPr/>
          <p:nvPr/>
        </p:nvPicPr>
        <p:blipFill>
          <a:blip r:embed="rId3"/>
          <a:stretch/>
        </p:blipFill>
        <p:spPr>
          <a:xfrm>
            <a:off x="3276720" y="2209680"/>
            <a:ext cx="2877840" cy="319896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Периодическая система химических элементов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Д.И. Менделеева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76320" y="1905120"/>
            <a:ext cx="8839080" cy="478152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Структура периодической системы: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Формулировка периодического закон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«Свойства простых тел находятся в периодической зависимости от заряда атомного ядра»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инцип построения периодической системы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«Периодическая система построена в порядке возрастания атомной массы»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инцип периодичности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«Периодичность - это повторение химических свойств через каждые семь элементов на восьмой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онятие период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А) В периодической системе всего 7 периодов, 1,2,3 малые и 4,5,6,7 большие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Б) Период начинается с щелочного металла и заканчивается инертном газом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В) Период – это расположение элементов по горизонтали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Г) Период показывает количество энергетических уровней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Д) Количество элементов на периодах: 1-2, 2-8, 3-8, 4-18, 5-18, 6-32, 7-28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В настоящее время в периодической системе находится 116 элементов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5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3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3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3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3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3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3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3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3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3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3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3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3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3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3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3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3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3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3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3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3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3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3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3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3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3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3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3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30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Цели урока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Методическая цель</a:t>
            </a: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«Развитие познавательной деятельности и познавательной активности на уроке химии, путем применения наглядных средств обучения с элементами дидактических игр»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бразовательная цель: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«Изучить принцип построения, явление периодичности, периодический закон и периодическую систему, структуру периодической системы на основе учения о строении атома»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Развивающая цель:</a:t>
            </a: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«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Развивать у студентов мышление на основе исторических фактах связывая с современными данными»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Воспитательная цель:</a:t>
            </a: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 «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Воспитывать у студентов национальную гордость и патриотизм к своей Родине, при изучении периодического закона и периодической системы Д. И. Менделеева»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Структура периодической системы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Понятие группы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А) Группа – это расположение элементов по вертикале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Б) В периодической системе всего 8 групп, каждая группа подразделяется на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главную, в которой происходит заполнение электронов на внешнем энергетическом уровне и побочную в которой происходит заполнение предвнешнего энергетического уровня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В) Группа показывает количество электронов на внешнем энергетическом уровне только в главных подгруппах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Г) Группа показывает наивысшую валентность по кислороду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Понятие порядкового номера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Порядковый номер показывает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А) Заряд ядра атома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Б) Количество электронов, которые движутся вокруг атома и несут отрицательный заряд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В) Количество протонов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Г) Количество нейтронов, которые вычисляются между разностью молярной масс и порядковым номером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Химическая викторин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61680" y="16765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. Какой химический элемент сначала обнаружили на Солнце потом на Земле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2. Какой элемент может быть легким, как сажа, а твердый как алмаз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3. Какой цвет имеет иод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4. Название элемента похоже на планету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5. Назвать химический элемент, состоящий из двух млекопитающих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6. Химический элемент названный в честь нашей страны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7. Химические элементы названные в честь городов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8. Элементы названные в честь стран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9. Самый распространенный элемент на планете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0. Назвать благородные металлы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1. Назвать металл, который обладает наивысшей электропроводностью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2. Назвать самый твердый металл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24200" y="1219320"/>
            <a:ext cx="3809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3. Назвать самый легкий металл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4. Назвать самый тяжелый металл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5. Какой цвет имеет хлор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6. Назвать аллотропную модификацию кислорода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7. Назвать второй по распространенности химический элемент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8. Назвать третий по распространенности химический элемент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9. Назвать газ необходимый для дыхания 20. Назвать самый сильный окислитель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21. Назвать жидкий металл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22. Назвать химический элемент №104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23. Назвать химический элемент №105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24. Назвать химический элемент №106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25. Назвать химический элемент №107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26. Назвать химический элемент №108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3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3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3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3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3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3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3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3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3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3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3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3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3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3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3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3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3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3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3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3" dur="3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3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3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3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3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3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3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3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30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3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3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3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7" dur="30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30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30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30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3000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30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30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30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3" dur="3000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30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30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30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3000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30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30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30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9" dur="3000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3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3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3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3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3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3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3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5" dur="3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3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3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3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3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3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3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3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3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3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3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3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3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3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3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3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3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3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3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3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3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30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30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30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30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30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30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30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1" dur="30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30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30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30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9" dur="3000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3000" fill="hold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3000" fill="hold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3000" fill="hold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7" dur="3000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3000" fill="hold"/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3000" fill="hold"/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3000" fill="hold"/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3000"/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3000" fill="hold"/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3000" fill="hold"/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3000" fill="hold"/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3" dur="3000"/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Химический кроссворд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3" name="Group 113"/>
          <p:cNvGrpSpPr/>
          <p:nvPr/>
        </p:nvGrpSpPr>
        <p:grpSpPr>
          <a:xfrm>
            <a:off x="533520" y="1600200"/>
            <a:ext cx="8381880" cy="4952880"/>
            <a:chOff x="533520" y="1600200"/>
            <a:chExt cx="8381880" cy="4952880"/>
          </a:xfrm>
        </p:grpSpPr>
        <p:sp>
          <p:nvSpPr>
            <p:cNvPr id="194" name="Rectangle 9"/>
            <p:cNvSpPr/>
            <p:nvPr/>
          </p:nvSpPr>
          <p:spPr>
            <a:xfrm>
              <a:off x="533520" y="3886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" name="Rectangle 11"/>
            <p:cNvSpPr/>
            <p:nvPr/>
          </p:nvSpPr>
          <p:spPr>
            <a:xfrm>
              <a:off x="533520" y="4267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" name="Rectangle 12"/>
            <p:cNvSpPr/>
            <p:nvPr/>
          </p:nvSpPr>
          <p:spPr>
            <a:xfrm>
              <a:off x="53352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" name="Rectangle 13"/>
            <p:cNvSpPr/>
            <p:nvPr/>
          </p:nvSpPr>
          <p:spPr>
            <a:xfrm>
              <a:off x="533520" y="3505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" name="Rectangle 16"/>
            <p:cNvSpPr/>
            <p:nvPr/>
          </p:nvSpPr>
          <p:spPr>
            <a:xfrm>
              <a:off x="533520" y="5410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" name="Rectangle 17"/>
            <p:cNvSpPr/>
            <p:nvPr/>
          </p:nvSpPr>
          <p:spPr>
            <a:xfrm>
              <a:off x="533520" y="5791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" name="Rectangle 18"/>
            <p:cNvSpPr/>
            <p:nvPr/>
          </p:nvSpPr>
          <p:spPr>
            <a:xfrm>
              <a:off x="533520" y="4648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" name="Rectangle 19"/>
            <p:cNvSpPr/>
            <p:nvPr/>
          </p:nvSpPr>
          <p:spPr>
            <a:xfrm>
              <a:off x="533520" y="5029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" name="Rectangle 20"/>
            <p:cNvSpPr/>
            <p:nvPr/>
          </p:nvSpPr>
          <p:spPr>
            <a:xfrm>
              <a:off x="533520" y="6172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" name="Rectangle 24"/>
            <p:cNvSpPr/>
            <p:nvPr/>
          </p:nvSpPr>
          <p:spPr>
            <a:xfrm>
              <a:off x="91440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" name="Rectangle 27"/>
            <p:cNvSpPr/>
            <p:nvPr/>
          </p:nvSpPr>
          <p:spPr>
            <a:xfrm>
              <a:off x="1295280" y="236232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" name="Rectangle 28"/>
            <p:cNvSpPr/>
            <p:nvPr/>
          </p:nvSpPr>
          <p:spPr>
            <a:xfrm>
              <a:off x="1295280" y="274320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" name="Rectangle 29"/>
            <p:cNvSpPr/>
            <p:nvPr/>
          </p:nvSpPr>
          <p:spPr>
            <a:xfrm>
              <a:off x="1295280" y="160020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" name="Rectangle 30"/>
            <p:cNvSpPr/>
            <p:nvPr/>
          </p:nvSpPr>
          <p:spPr>
            <a:xfrm>
              <a:off x="1295280" y="1981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" name="Rectangle 31"/>
            <p:cNvSpPr/>
            <p:nvPr/>
          </p:nvSpPr>
          <p:spPr>
            <a:xfrm>
              <a:off x="1295280" y="388620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" name="Rectangle 32"/>
            <p:cNvSpPr/>
            <p:nvPr/>
          </p:nvSpPr>
          <p:spPr>
            <a:xfrm>
              <a:off x="1295280" y="4267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" name="Rectangle 33"/>
            <p:cNvSpPr/>
            <p:nvPr/>
          </p:nvSpPr>
          <p:spPr>
            <a:xfrm>
              <a:off x="1295280" y="3124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" name="Rectangle 34"/>
            <p:cNvSpPr/>
            <p:nvPr/>
          </p:nvSpPr>
          <p:spPr>
            <a:xfrm>
              <a:off x="1295280" y="350532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" name="Rectangle 35"/>
            <p:cNvSpPr/>
            <p:nvPr/>
          </p:nvSpPr>
          <p:spPr>
            <a:xfrm>
              <a:off x="1295280" y="464832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" name="Rectangle 36"/>
            <p:cNvSpPr/>
            <p:nvPr/>
          </p:nvSpPr>
          <p:spPr>
            <a:xfrm>
              <a:off x="1295280" y="502920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" name="Rectangle 37"/>
            <p:cNvSpPr/>
            <p:nvPr/>
          </p:nvSpPr>
          <p:spPr>
            <a:xfrm>
              <a:off x="167652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" name="Rectangle 38"/>
            <p:cNvSpPr/>
            <p:nvPr/>
          </p:nvSpPr>
          <p:spPr>
            <a:xfrm>
              <a:off x="205740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" name="Rectangle 39"/>
            <p:cNvSpPr/>
            <p:nvPr/>
          </p:nvSpPr>
          <p:spPr>
            <a:xfrm>
              <a:off x="2438280" y="3124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" name="Rectangle 41"/>
            <p:cNvSpPr/>
            <p:nvPr/>
          </p:nvSpPr>
          <p:spPr>
            <a:xfrm>
              <a:off x="281952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" name="Rectangle 43"/>
            <p:cNvSpPr/>
            <p:nvPr/>
          </p:nvSpPr>
          <p:spPr>
            <a:xfrm>
              <a:off x="2819520" y="3886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" name="Rectangle 44"/>
            <p:cNvSpPr/>
            <p:nvPr/>
          </p:nvSpPr>
          <p:spPr>
            <a:xfrm>
              <a:off x="2819520" y="3505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" name="Rectangle 45"/>
            <p:cNvSpPr/>
            <p:nvPr/>
          </p:nvSpPr>
          <p:spPr>
            <a:xfrm>
              <a:off x="320040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" name="Rectangle 48"/>
            <p:cNvSpPr/>
            <p:nvPr/>
          </p:nvSpPr>
          <p:spPr>
            <a:xfrm>
              <a:off x="3581280" y="350532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" name="Rectangle 49"/>
            <p:cNvSpPr/>
            <p:nvPr/>
          </p:nvSpPr>
          <p:spPr>
            <a:xfrm>
              <a:off x="3581280" y="388620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" name="Rectangle 51"/>
            <p:cNvSpPr/>
            <p:nvPr/>
          </p:nvSpPr>
          <p:spPr>
            <a:xfrm>
              <a:off x="3581280" y="3124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" name="Rectangle 52"/>
            <p:cNvSpPr/>
            <p:nvPr/>
          </p:nvSpPr>
          <p:spPr>
            <a:xfrm>
              <a:off x="3581280" y="502920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" name="Rectangle 54"/>
            <p:cNvSpPr/>
            <p:nvPr/>
          </p:nvSpPr>
          <p:spPr>
            <a:xfrm>
              <a:off x="3581280" y="4267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" name="Rectangle 55"/>
            <p:cNvSpPr/>
            <p:nvPr/>
          </p:nvSpPr>
          <p:spPr>
            <a:xfrm>
              <a:off x="3581280" y="464832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" name="Rectangle 57"/>
            <p:cNvSpPr/>
            <p:nvPr/>
          </p:nvSpPr>
          <p:spPr>
            <a:xfrm>
              <a:off x="396252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" name="Rectangle 59"/>
            <p:cNvSpPr/>
            <p:nvPr/>
          </p:nvSpPr>
          <p:spPr>
            <a:xfrm>
              <a:off x="4343400" y="3505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" name="Rectangle 60"/>
            <p:cNvSpPr/>
            <p:nvPr/>
          </p:nvSpPr>
          <p:spPr>
            <a:xfrm>
              <a:off x="4343400" y="3886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" name="Rectangle 62"/>
            <p:cNvSpPr/>
            <p:nvPr/>
          </p:nvSpPr>
          <p:spPr>
            <a:xfrm>
              <a:off x="434340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" name="Rectangle 63"/>
            <p:cNvSpPr/>
            <p:nvPr/>
          </p:nvSpPr>
          <p:spPr>
            <a:xfrm>
              <a:off x="4343400" y="5029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" name="Rectangle 64"/>
            <p:cNvSpPr/>
            <p:nvPr/>
          </p:nvSpPr>
          <p:spPr>
            <a:xfrm>
              <a:off x="4343400" y="4267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" name="Rectangle 65"/>
            <p:cNvSpPr/>
            <p:nvPr/>
          </p:nvSpPr>
          <p:spPr>
            <a:xfrm>
              <a:off x="4343400" y="4648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" name="Rectangle 66"/>
            <p:cNvSpPr/>
            <p:nvPr/>
          </p:nvSpPr>
          <p:spPr>
            <a:xfrm>
              <a:off x="4724280" y="3124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" name="Rectangle 68"/>
            <p:cNvSpPr/>
            <p:nvPr/>
          </p:nvSpPr>
          <p:spPr>
            <a:xfrm>
              <a:off x="5105520" y="3505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" name="Rectangle 69"/>
            <p:cNvSpPr/>
            <p:nvPr/>
          </p:nvSpPr>
          <p:spPr>
            <a:xfrm>
              <a:off x="5105520" y="3886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" name="Rectangle 71"/>
            <p:cNvSpPr/>
            <p:nvPr/>
          </p:nvSpPr>
          <p:spPr>
            <a:xfrm>
              <a:off x="510552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" name="Rectangle 74"/>
            <p:cNvSpPr/>
            <p:nvPr/>
          </p:nvSpPr>
          <p:spPr>
            <a:xfrm>
              <a:off x="5867280" y="3124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39" name="Group 75"/>
            <p:cNvGrpSpPr/>
            <p:nvPr/>
          </p:nvGrpSpPr>
          <p:grpSpPr>
            <a:xfrm>
              <a:off x="6248520" y="2743200"/>
              <a:ext cx="380880" cy="1523520"/>
              <a:chOff x="6248520" y="2743200"/>
              <a:chExt cx="380880" cy="1523520"/>
            </a:xfrm>
          </p:grpSpPr>
          <p:sp>
            <p:nvSpPr>
              <p:cNvPr id="240" name="Rectangle 76"/>
              <p:cNvSpPr/>
              <p:nvPr/>
            </p:nvSpPr>
            <p:spPr>
              <a:xfrm>
                <a:off x="6248520" y="3504960"/>
                <a:ext cx="380880" cy="380520"/>
              </a:xfrm>
              <a:prstGeom prst="rect">
                <a:avLst/>
              </a:prstGeom>
              <a:solidFill>
                <a:srgbClr val="ffffcc"/>
              </a:solidFill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" name="Rectangle 77"/>
              <p:cNvSpPr/>
              <p:nvPr/>
            </p:nvSpPr>
            <p:spPr>
              <a:xfrm>
                <a:off x="6248520" y="3885840"/>
                <a:ext cx="380880" cy="380880"/>
              </a:xfrm>
              <a:prstGeom prst="rect">
                <a:avLst/>
              </a:prstGeom>
              <a:solidFill>
                <a:srgbClr val="ffffcc"/>
              </a:solidFill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" name="Rectangle 78"/>
              <p:cNvSpPr/>
              <p:nvPr/>
            </p:nvSpPr>
            <p:spPr>
              <a:xfrm>
                <a:off x="6248520" y="2743200"/>
                <a:ext cx="380880" cy="380880"/>
              </a:xfrm>
              <a:prstGeom prst="rect">
                <a:avLst/>
              </a:prstGeom>
              <a:solidFill>
                <a:srgbClr val="ffffcc"/>
              </a:solidFill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" name="Rectangle 79"/>
              <p:cNvSpPr/>
              <p:nvPr/>
            </p:nvSpPr>
            <p:spPr>
              <a:xfrm>
                <a:off x="6248520" y="3124080"/>
                <a:ext cx="380880" cy="380520"/>
              </a:xfrm>
              <a:prstGeom prst="rect">
                <a:avLst/>
              </a:prstGeom>
              <a:solidFill>
                <a:srgbClr val="ffffcc"/>
              </a:solidFill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44" name="Rectangle 82"/>
            <p:cNvSpPr/>
            <p:nvPr/>
          </p:nvSpPr>
          <p:spPr>
            <a:xfrm>
              <a:off x="548640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" name="Rectangle 83"/>
            <p:cNvSpPr/>
            <p:nvPr/>
          </p:nvSpPr>
          <p:spPr>
            <a:xfrm>
              <a:off x="6248520" y="4267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" name="Rectangle 84"/>
            <p:cNvSpPr/>
            <p:nvPr/>
          </p:nvSpPr>
          <p:spPr>
            <a:xfrm>
              <a:off x="5105520" y="4267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" name="Rectangle 93"/>
            <p:cNvSpPr/>
            <p:nvPr/>
          </p:nvSpPr>
          <p:spPr>
            <a:xfrm>
              <a:off x="853452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" name="Rectangle 96"/>
            <p:cNvSpPr/>
            <p:nvPr/>
          </p:nvSpPr>
          <p:spPr>
            <a:xfrm>
              <a:off x="662940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" name="Rectangle 97"/>
            <p:cNvSpPr/>
            <p:nvPr/>
          </p:nvSpPr>
          <p:spPr>
            <a:xfrm>
              <a:off x="7010280" y="3124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" name="Rectangle 99"/>
            <p:cNvSpPr/>
            <p:nvPr/>
          </p:nvSpPr>
          <p:spPr>
            <a:xfrm>
              <a:off x="739152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" name="Rectangle 100"/>
            <p:cNvSpPr/>
            <p:nvPr/>
          </p:nvSpPr>
          <p:spPr>
            <a:xfrm>
              <a:off x="7391520" y="3505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" name="Rectangle 102"/>
            <p:cNvSpPr/>
            <p:nvPr/>
          </p:nvSpPr>
          <p:spPr>
            <a:xfrm>
              <a:off x="7391520" y="2743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" name="Rectangle 103"/>
            <p:cNvSpPr/>
            <p:nvPr/>
          </p:nvSpPr>
          <p:spPr>
            <a:xfrm>
              <a:off x="777240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" name="Rectangle 104"/>
            <p:cNvSpPr/>
            <p:nvPr/>
          </p:nvSpPr>
          <p:spPr>
            <a:xfrm>
              <a:off x="8153280" y="3124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" name="Rectangle 107"/>
            <p:cNvSpPr/>
            <p:nvPr/>
          </p:nvSpPr>
          <p:spPr>
            <a:xfrm>
              <a:off x="2819520" y="2743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" name="Rectangle 108"/>
            <p:cNvSpPr/>
            <p:nvPr/>
          </p:nvSpPr>
          <p:spPr>
            <a:xfrm>
              <a:off x="3581280" y="274320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" name="Rectangle 109"/>
            <p:cNvSpPr/>
            <p:nvPr/>
          </p:nvSpPr>
          <p:spPr>
            <a:xfrm>
              <a:off x="4343400" y="2743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" name="Rectangle 110"/>
            <p:cNvSpPr/>
            <p:nvPr/>
          </p:nvSpPr>
          <p:spPr>
            <a:xfrm>
              <a:off x="5105520" y="2743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" name="Rectangle 111"/>
            <p:cNvSpPr/>
            <p:nvPr/>
          </p:nvSpPr>
          <p:spPr>
            <a:xfrm>
              <a:off x="6248520" y="2362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" name="Rectangle 112"/>
            <p:cNvSpPr/>
            <p:nvPr/>
          </p:nvSpPr>
          <p:spPr>
            <a:xfrm>
              <a:off x="7391520" y="2362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61" name="WordArt 114"/>
          <p:cNvSpPr txBox="1"/>
          <p:nvPr/>
        </p:nvSpPr>
        <p:spPr>
          <a:xfrm>
            <a:off x="684360" y="316224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" name="WordArt 115"/>
          <p:cNvSpPr txBox="1"/>
          <p:nvPr/>
        </p:nvSpPr>
        <p:spPr>
          <a:xfrm>
            <a:off x="684360" y="4695840"/>
            <a:ext cx="950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3" name="WordArt 116"/>
          <p:cNvSpPr txBox="1"/>
          <p:nvPr/>
        </p:nvSpPr>
        <p:spPr>
          <a:xfrm>
            <a:off x="684360" y="512136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4" name="WordArt 117"/>
          <p:cNvSpPr txBox="1"/>
          <p:nvPr/>
        </p:nvSpPr>
        <p:spPr>
          <a:xfrm>
            <a:off x="684360" y="548172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WordArt 118"/>
          <p:cNvSpPr txBox="1"/>
          <p:nvPr/>
        </p:nvSpPr>
        <p:spPr>
          <a:xfrm>
            <a:off x="684360" y="584208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6" name="WordArt 119"/>
          <p:cNvSpPr txBox="1"/>
          <p:nvPr/>
        </p:nvSpPr>
        <p:spPr>
          <a:xfrm>
            <a:off x="684360" y="3914640"/>
            <a:ext cx="1141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7" name="WordArt 120"/>
          <p:cNvSpPr txBox="1"/>
          <p:nvPr/>
        </p:nvSpPr>
        <p:spPr>
          <a:xfrm>
            <a:off x="684360" y="354024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8" name="WordArt 121"/>
          <p:cNvSpPr txBox="1"/>
          <p:nvPr/>
        </p:nvSpPr>
        <p:spPr>
          <a:xfrm>
            <a:off x="684360" y="429588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9" name="WordArt 122"/>
          <p:cNvSpPr txBox="1"/>
          <p:nvPr/>
        </p:nvSpPr>
        <p:spPr>
          <a:xfrm>
            <a:off x="684360" y="6200640"/>
            <a:ext cx="1141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0" name="WordArt 123"/>
          <p:cNvSpPr txBox="1"/>
          <p:nvPr/>
        </p:nvSpPr>
        <p:spPr>
          <a:xfrm>
            <a:off x="4500720" y="278136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1" name="WordArt 124"/>
          <p:cNvSpPr txBox="1"/>
          <p:nvPr/>
        </p:nvSpPr>
        <p:spPr>
          <a:xfrm>
            <a:off x="2195640" y="3141720"/>
            <a:ext cx="950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2" name="WordArt 125"/>
          <p:cNvSpPr txBox="1"/>
          <p:nvPr/>
        </p:nvSpPr>
        <p:spPr>
          <a:xfrm>
            <a:off x="2556000" y="314172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3" name="WordArt 126"/>
          <p:cNvSpPr txBox="1"/>
          <p:nvPr/>
        </p:nvSpPr>
        <p:spPr>
          <a:xfrm>
            <a:off x="2987640" y="3141720"/>
            <a:ext cx="1015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4" name="WordArt 127"/>
          <p:cNvSpPr txBox="1"/>
          <p:nvPr/>
        </p:nvSpPr>
        <p:spPr>
          <a:xfrm>
            <a:off x="3348000" y="314172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5" name="WordArt 128"/>
          <p:cNvSpPr txBox="1"/>
          <p:nvPr/>
        </p:nvSpPr>
        <p:spPr>
          <a:xfrm>
            <a:off x="3708360" y="3141720"/>
            <a:ext cx="9540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6" name="WordArt 129"/>
          <p:cNvSpPr txBox="1"/>
          <p:nvPr/>
        </p:nvSpPr>
        <p:spPr>
          <a:xfrm>
            <a:off x="4140360" y="314172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7" name="WordArt 130"/>
          <p:cNvSpPr txBox="1"/>
          <p:nvPr/>
        </p:nvSpPr>
        <p:spPr>
          <a:xfrm>
            <a:off x="4500720" y="314172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8" name="WordArt 131"/>
          <p:cNvSpPr txBox="1"/>
          <p:nvPr/>
        </p:nvSpPr>
        <p:spPr>
          <a:xfrm>
            <a:off x="4859280" y="314172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9" name="WordArt 132"/>
          <p:cNvSpPr txBox="1"/>
          <p:nvPr/>
        </p:nvSpPr>
        <p:spPr>
          <a:xfrm>
            <a:off x="5219640" y="314172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0" name="WordArt 133"/>
          <p:cNvSpPr txBox="1"/>
          <p:nvPr/>
        </p:nvSpPr>
        <p:spPr>
          <a:xfrm>
            <a:off x="5651640" y="3141720"/>
            <a:ext cx="950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1" name="WordArt 134"/>
          <p:cNvSpPr txBox="1"/>
          <p:nvPr/>
        </p:nvSpPr>
        <p:spPr>
          <a:xfrm>
            <a:off x="6012000" y="314172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2" name="WordArt 135"/>
          <p:cNvSpPr txBox="1"/>
          <p:nvPr/>
        </p:nvSpPr>
        <p:spPr>
          <a:xfrm>
            <a:off x="6372360" y="314172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3" name="WordArt 136"/>
          <p:cNvSpPr txBox="1"/>
          <p:nvPr/>
        </p:nvSpPr>
        <p:spPr>
          <a:xfrm>
            <a:off x="6732720" y="3141720"/>
            <a:ext cx="1047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ь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4" name="WordArt 137"/>
          <p:cNvSpPr txBox="1"/>
          <p:nvPr/>
        </p:nvSpPr>
        <p:spPr>
          <a:xfrm>
            <a:off x="3708360" y="4221000"/>
            <a:ext cx="12384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5" name="WordArt 138"/>
          <p:cNvSpPr txBox="1"/>
          <p:nvPr/>
        </p:nvSpPr>
        <p:spPr>
          <a:xfrm>
            <a:off x="5219640" y="350028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6" name="WordArt 139"/>
          <p:cNvSpPr txBox="1"/>
          <p:nvPr/>
        </p:nvSpPr>
        <p:spPr>
          <a:xfrm>
            <a:off x="1042920" y="314172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7" name="WordArt 140"/>
          <p:cNvSpPr txBox="1"/>
          <p:nvPr/>
        </p:nvSpPr>
        <p:spPr>
          <a:xfrm>
            <a:off x="1403280" y="314172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8" name="WordArt 141"/>
          <p:cNvSpPr txBox="1"/>
          <p:nvPr/>
        </p:nvSpPr>
        <p:spPr>
          <a:xfrm>
            <a:off x="1835280" y="314172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9" name="WordArt 142"/>
          <p:cNvSpPr txBox="1"/>
          <p:nvPr/>
        </p:nvSpPr>
        <p:spPr>
          <a:xfrm>
            <a:off x="7524720" y="314172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0" name="WordArt 143"/>
          <p:cNvSpPr txBox="1"/>
          <p:nvPr/>
        </p:nvSpPr>
        <p:spPr>
          <a:xfrm>
            <a:off x="8244000" y="3141720"/>
            <a:ext cx="950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1" name="WordArt 144"/>
          <p:cNvSpPr txBox="1"/>
          <p:nvPr/>
        </p:nvSpPr>
        <p:spPr>
          <a:xfrm>
            <a:off x="7524720" y="350028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2" name="WordArt 145"/>
          <p:cNvSpPr txBox="1"/>
          <p:nvPr/>
        </p:nvSpPr>
        <p:spPr>
          <a:xfrm>
            <a:off x="1403280" y="4653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3" name="WordArt 146"/>
          <p:cNvSpPr txBox="1"/>
          <p:nvPr/>
        </p:nvSpPr>
        <p:spPr>
          <a:xfrm>
            <a:off x="3708360" y="278136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4" name="WordArt 147"/>
          <p:cNvSpPr txBox="1"/>
          <p:nvPr/>
        </p:nvSpPr>
        <p:spPr>
          <a:xfrm>
            <a:off x="1403280" y="386064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5" name="WordArt 148"/>
          <p:cNvSpPr txBox="1"/>
          <p:nvPr/>
        </p:nvSpPr>
        <p:spPr>
          <a:xfrm>
            <a:off x="7524720" y="278136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6" name="WordArt 149"/>
          <p:cNvSpPr txBox="1"/>
          <p:nvPr/>
        </p:nvSpPr>
        <p:spPr>
          <a:xfrm>
            <a:off x="4500720" y="501336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7" name="WordArt 150"/>
          <p:cNvSpPr txBox="1"/>
          <p:nvPr/>
        </p:nvSpPr>
        <p:spPr>
          <a:xfrm>
            <a:off x="4500720" y="4653000"/>
            <a:ext cx="950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8" name="WordArt 151"/>
          <p:cNvSpPr txBox="1"/>
          <p:nvPr/>
        </p:nvSpPr>
        <p:spPr>
          <a:xfrm>
            <a:off x="1403280" y="206064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9" name="WordArt 152"/>
          <p:cNvSpPr txBox="1"/>
          <p:nvPr/>
        </p:nvSpPr>
        <p:spPr>
          <a:xfrm>
            <a:off x="1403280" y="3500280"/>
            <a:ext cx="12384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0" name="WordArt 153"/>
          <p:cNvSpPr txBox="1"/>
          <p:nvPr/>
        </p:nvSpPr>
        <p:spPr>
          <a:xfrm>
            <a:off x="8675640" y="3141720"/>
            <a:ext cx="1047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ь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1" name="WordArt 154"/>
          <p:cNvSpPr txBox="1"/>
          <p:nvPr/>
        </p:nvSpPr>
        <p:spPr>
          <a:xfrm>
            <a:off x="3708360" y="350028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2" name="WordArt 155"/>
          <p:cNvSpPr txBox="1"/>
          <p:nvPr/>
        </p:nvSpPr>
        <p:spPr>
          <a:xfrm>
            <a:off x="7885080" y="314172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3" name="WordArt 156"/>
          <p:cNvSpPr txBox="1"/>
          <p:nvPr/>
        </p:nvSpPr>
        <p:spPr>
          <a:xfrm>
            <a:off x="3708360" y="465300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4" name="WordArt 157"/>
          <p:cNvSpPr txBox="1"/>
          <p:nvPr/>
        </p:nvSpPr>
        <p:spPr>
          <a:xfrm>
            <a:off x="6372360" y="4292640"/>
            <a:ext cx="1047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ь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5" name="WordArt 158"/>
          <p:cNvSpPr txBox="1"/>
          <p:nvPr/>
        </p:nvSpPr>
        <p:spPr>
          <a:xfrm>
            <a:off x="1403280" y="2421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6" name="WordArt 159"/>
          <p:cNvSpPr txBox="1"/>
          <p:nvPr/>
        </p:nvSpPr>
        <p:spPr>
          <a:xfrm>
            <a:off x="4500720" y="4221000"/>
            <a:ext cx="1141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7" name="WordArt 160"/>
          <p:cNvSpPr txBox="1"/>
          <p:nvPr/>
        </p:nvSpPr>
        <p:spPr>
          <a:xfrm>
            <a:off x="4500720" y="3500280"/>
            <a:ext cx="1141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8" name="WordArt 161"/>
          <p:cNvSpPr txBox="1"/>
          <p:nvPr/>
        </p:nvSpPr>
        <p:spPr>
          <a:xfrm>
            <a:off x="5219640" y="422100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9" name="WordArt 162"/>
          <p:cNvSpPr txBox="1"/>
          <p:nvPr/>
        </p:nvSpPr>
        <p:spPr>
          <a:xfrm>
            <a:off x="6372360" y="278136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0" name="WordArt 163"/>
          <p:cNvSpPr txBox="1"/>
          <p:nvPr/>
        </p:nvSpPr>
        <p:spPr>
          <a:xfrm>
            <a:off x="4500720" y="3860640"/>
            <a:ext cx="12384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1" name="WordArt 164"/>
          <p:cNvSpPr txBox="1"/>
          <p:nvPr/>
        </p:nvSpPr>
        <p:spPr>
          <a:xfrm>
            <a:off x="2987640" y="3500280"/>
            <a:ext cx="12384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2" name="WordArt 165"/>
          <p:cNvSpPr txBox="1"/>
          <p:nvPr/>
        </p:nvSpPr>
        <p:spPr>
          <a:xfrm>
            <a:off x="6372360" y="3500280"/>
            <a:ext cx="1141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3" name="WordArt 166"/>
          <p:cNvSpPr txBox="1"/>
          <p:nvPr/>
        </p:nvSpPr>
        <p:spPr>
          <a:xfrm>
            <a:off x="5219640" y="386064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4" name="WordArt 167"/>
          <p:cNvSpPr txBox="1"/>
          <p:nvPr/>
        </p:nvSpPr>
        <p:spPr>
          <a:xfrm>
            <a:off x="7093080" y="314172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5" name="WordArt 168"/>
          <p:cNvSpPr txBox="1"/>
          <p:nvPr/>
        </p:nvSpPr>
        <p:spPr>
          <a:xfrm>
            <a:off x="2987640" y="386064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6" name="WordArt 169"/>
          <p:cNvSpPr txBox="1"/>
          <p:nvPr/>
        </p:nvSpPr>
        <p:spPr>
          <a:xfrm>
            <a:off x="1403280" y="170028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7" name="WordArt 170"/>
          <p:cNvSpPr txBox="1"/>
          <p:nvPr/>
        </p:nvSpPr>
        <p:spPr>
          <a:xfrm>
            <a:off x="5219640" y="278136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8" name="WordArt 171"/>
          <p:cNvSpPr txBox="1"/>
          <p:nvPr/>
        </p:nvSpPr>
        <p:spPr>
          <a:xfrm>
            <a:off x="2987640" y="278136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9" name="WordArt 172"/>
          <p:cNvSpPr txBox="1"/>
          <p:nvPr/>
        </p:nvSpPr>
        <p:spPr>
          <a:xfrm>
            <a:off x="1403280" y="501336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0" name="WordArt 173"/>
          <p:cNvSpPr txBox="1"/>
          <p:nvPr/>
        </p:nvSpPr>
        <p:spPr>
          <a:xfrm>
            <a:off x="1403280" y="278136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1" name="WordArt 174"/>
          <p:cNvSpPr txBox="1"/>
          <p:nvPr/>
        </p:nvSpPr>
        <p:spPr>
          <a:xfrm>
            <a:off x="6372360" y="242100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щ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2" name="WordArt 175"/>
          <p:cNvSpPr txBox="1"/>
          <p:nvPr/>
        </p:nvSpPr>
        <p:spPr>
          <a:xfrm>
            <a:off x="7524720" y="2421000"/>
            <a:ext cx="9540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3" name="WordArt 176"/>
          <p:cNvSpPr txBox="1"/>
          <p:nvPr/>
        </p:nvSpPr>
        <p:spPr>
          <a:xfrm>
            <a:off x="3708360" y="386064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4" name="WordArt 177"/>
          <p:cNvSpPr txBox="1"/>
          <p:nvPr/>
        </p:nvSpPr>
        <p:spPr>
          <a:xfrm>
            <a:off x="1403280" y="422100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5" name="WordArt 178"/>
          <p:cNvSpPr txBox="1"/>
          <p:nvPr/>
        </p:nvSpPr>
        <p:spPr>
          <a:xfrm>
            <a:off x="3708360" y="501336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6" name="WordArt 179"/>
          <p:cNvSpPr txBox="1"/>
          <p:nvPr/>
        </p:nvSpPr>
        <p:spPr>
          <a:xfrm>
            <a:off x="6372360" y="3860640"/>
            <a:ext cx="1141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nodeType="clickEffect" fill="hold">
                      <p:stCondLst>
                        <p:cond delay="indefinite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0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0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0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20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4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9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4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4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9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nodeType="clickEffect" fill="hold">
                      <p:stCondLst>
                        <p:cond delay="indefinite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1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6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8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3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3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8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nodeType="clickEffect" fill="hold">
                      <p:stCondLst>
                        <p:cond delay="indefinite"/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5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nodeType="clickEffect" fill="hold">
                      <p:stCondLst>
                        <p:cond delay="indefinite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2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nodeType="clickEffect" fill="hold">
                      <p:stCondLst>
                        <p:cond delay="indefinite"/>
                      </p:stCondLst>
                      <p:childTnLst>
                        <p:par>
                          <p:cTn id="1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nodeType="clickEffect" fill="hold">
                      <p:stCondLst>
                        <p:cond delay="indefinite"/>
                      </p:stCondLst>
                      <p:childTnLst>
                        <p:par>
                          <p:cTn id="1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1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1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6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6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6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6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6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6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7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7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7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7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7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7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8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8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8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8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8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9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9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9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9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9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9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9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9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0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0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0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0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0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0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0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0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1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1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1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1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1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1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1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1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2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2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2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2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2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2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2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2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3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3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3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3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3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3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3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3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4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4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4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4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4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4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4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4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5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5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5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5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5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5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5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5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6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6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6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6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6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6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6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Александр Блок видел в Дмитрии Ивановиче воплощение гения России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Периодическая система элементов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знаменовала для поэта 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торжество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космоса над хаосом, 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научное постижение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гармонии и музыки природ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Идеи Д.И. Менделеева и А.Н. Бекетова о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развитии науки и производительных сил России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отозвались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в ряде стихотворений Блока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8" dur="indefinite" restart="never" nodeType="tmRoot">
          <p:childTnLst>
            <p:seq>
              <p:cTn id="1669" dur="indefinite" nodeType="mainSeq">
                <p:childTnLst>
                  <p:par>
                    <p:cTn id="1670" nodeType="clickEffect" fill="hold">
                      <p:stCondLst>
                        <p:cond delay="indefinite"/>
                      </p:stCondLst>
                      <p:childTnLst>
                        <p:par>
                          <p:cTn id="1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74" dur="5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nodeType="clickEffect" fill="hold">
                      <p:stCondLst>
                        <p:cond delay="indefinite"/>
                      </p:stCondLst>
                      <p:childTnLst>
                        <p:par>
                          <p:cTn id="1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2" dur="5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nodeType="clickEffect" fill="hold">
                      <p:stCondLst>
                        <p:cond delay="indefinite"/>
                      </p:stCondLst>
                      <p:childTnLst>
                        <p:par>
                          <p:cTn id="1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7" dur="3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3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3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3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Заключительное слово преподавателя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«Труд, работа не всякая, а осмысленная, сознательная, нужная людям»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Д.И. Менделеев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«Сами, трудясь, вы сделаете все и для близких, и для себя, а если при труде успеха не будет, будет неудача – не беда, пробуйте еще»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5592600" y="5257800"/>
            <a:ext cx="26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Д.И. Менделеев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1" dur="indefinite" restart="never" nodeType="tmRoot">
          <p:childTnLst>
            <p:seq>
              <p:cTn id="1692" dur="indefinite" nodeType="mainSeq">
                <p:childTnLst>
                  <p:par>
                    <p:cTn id="1693" nodeType="clickEffect" fill="hold">
                      <p:stCondLst>
                        <p:cond delay="indefinite"/>
                      </p:stCondLst>
                      <p:childTnLst>
                        <p:par>
                          <p:cTn id="1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7" dur="3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8" dur="3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3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3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nodeType="clickEffect" fill="hold">
                      <p:stCondLst>
                        <p:cond delay="indefinite"/>
                      </p:stCondLst>
                      <p:childTnLst>
                        <p:par>
                          <p:cTn id="1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5" dur="2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nodeType="clickEffect" fill="hold">
                      <p:stCondLst>
                        <p:cond delay="indefinite"/>
                      </p:stCondLst>
                      <p:childTnLst>
                        <p:par>
                          <p:cTn id="1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0" dur="20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nodeType="clickEffect" fill="hold">
                      <p:stCondLst>
                        <p:cond delay="indefinite"/>
                      </p:stCondLst>
                      <p:childTnLst>
                        <p:par>
                          <p:cTn id="1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nodeType="clickEffect" fill="hold">
                      <p:stCondLst>
                        <p:cond delay="indefinite"/>
                      </p:stCondLst>
                      <p:childTnLst>
                        <p:par>
                          <p:cTn id="1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Структура урок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Тип урока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 -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комбинированный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Принципы обучения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 -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сознательности, активности, наглядности, системности, последовательности, прочности, доступности, научности, связи теории и практики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Методы обучения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 -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наглядные, практические, словесные, проблемного изложения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План-структура урок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3300"/>
                </a:solidFill>
                <a:uFillTx/>
                <a:latin typeface="Times New Roman"/>
                <a:hlinkClick r:id="rId1" action="ppaction://hlinksldjump"/>
              </a:rPr>
              <a:t>1. Организационный момент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2. Актуализация опорных знаний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2.1. Написать химические реакции ( Задание по карточкам. Метод - индивидуальный )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2.2. Охарактеризовать основные понятия и законы химии (Метод - фронтальный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2.3. Задание по карточкам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3. Формирование новых знаний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3.1. История открытия периодического закона и периодической системы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3.2. Предпосылки создания периодического закон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3.3. Открытие периодического закон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3.4. Структура периодической системы</a:t>
            </a:r>
            <a:r>
              <a:rPr b="1" lang="ru-RU" sz="1200" spc="-1" strike="noStrike" u="sng">
                <a:solidFill>
                  <a:srgbClr val="ffffcc"/>
                </a:solidFill>
                <a:uFillTx/>
                <a:latin typeface="Times New Roman"/>
              </a:rPr>
              <a:t>: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cc"/>
                </a:solidFill>
                <a:uFillTx/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cc3300"/>
                </a:solidFill>
                <a:uFillTx/>
                <a:latin typeface="Times New Roman"/>
                <a:hlinkClick r:id="rId2" action="ppaction://hlinksldjump"/>
              </a:rPr>
              <a:t>3.4.1. Формулировка периодического закон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3300"/>
                </a:solidFill>
                <a:uFillTx/>
                <a:latin typeface="Times New Roman"/>
                <a:hlinkClick r:id="rId3" action="ppaction://hlinksldjump"/>
              </a:rPr>
              <a:t>3.4.2. Принцип построения периодической системы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144792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3300"/>
                </a:solidFill>
                <a:uFillTx/>
                <a:latin typeface="Times New Roman"/>
                <a:hlinkClick r:id="rId4" action="ppaction://hlinksldjump"/>
              </a:rPr>
              <a:t>3.4.3. Принцип периодичности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3.4.4. Понятие период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3.4.5. Понятие группы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3.4.6. Понятие порядкового номер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3.4.7. Характеристика химического элемент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3.4.8. Периодические свойства элементов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3.4.9. Значение периодического закон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4. Применение новых знаний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4.1. Фронтальный опрос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4.2. Самостоятельная работ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5. Обобщение и систематизация знаний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5.1. Химическая викторина (приложение)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6. Подведение итогов урока. Домашнее задание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Заключительное слово преподавателя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Актуализация опорных знаний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62040" y="1904760"/>
            <a:ext cx="3814560" cy="198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Вариант 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 + Н2О 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аО + НС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aOH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+ НС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и(ОН)2 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19160" y="1904760"/>
            <a:ext cx="3814920" cy="198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Вариант 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a + Cl2 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O + H2 SO4 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ОН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+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Н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3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а(ОН)2 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62040" y="4030560"/>
            <a:ext cx="3814560" cy="198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Вариант 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 + H2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O + HCl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e(OH)3 + HCl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(OH)3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19160" y="4030560"/>
            <a:ext cx="3814920" cy="198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Вариант 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g + Cl2 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2O3 +H2 SO4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aOH + H2SO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2SO4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Предпосылки создания периодического закона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1. К середине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XIX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века было 63 элемента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2. Дано понятие о химическом элементе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3. Определены молярные массы элементов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4. Введено понятие о валентности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5. Введено понятие о химической связи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6. Первая попытка классификации элементов. Доберейнер 1817 г. Закон триад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7. Вторая попытка классификации элементов. Дж. Ньюленд « по возрастанию атомных масс». Закон октав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8. Третья попытка классификации. Генрих «Радикально- круговая таблица»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9. Четвёртая попытка классификации элементов. Шанкартуа «Винтовая лестница»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10. Пятая попытка классификации. «Томсон - Бор» «Лестница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47880" y="228600"/>
            <a:ext cx="35434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Антуан Лавуазье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Французский химик, с 1772 г. член Парижской АН. Родился в Париже. В 1764 г. окончил юридический факультет Парижского университета. Слушал курс лекций по химии в Ботаническом саду в Париже в 1764-1766 гг. В 1775-1791 гг. директор Управления порохов и селитр. Один из основоположников классической химии. Ввел в химию строгие количест-венные методы исследования. Своими экспериментальными работами - сжигание серы и фосфора, нагреванием олова в герметически запаянном сосуде - положил начало опровержению теории флогистона в 1774 г. С целью проверки опытов К. В. Шееле и Дж. Доказал, что процесс дыхания подобен горению и что образование углекислого газа при дыхании является главным источником теплоты в живом организме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Совместно с Бертолле и другими учеными основал в 1789 гг. журнал "Annalees de Chimie"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7" name="Picture 4" descr="Antoine_lavoisier"/>
          <p:cNvPicPr/>
          <p:nvPr/>
        </p:nvPicPr>
        <p:blipFill>
          <a:blip r:embed="rId1"/>
          <a:stretch/>
        </p:blipFill>
        <p:spPr>
          <a:xfrm>
            <a:off x="4724280" y="2362320"/>
            <a:ext cx="3919680" cy="385272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447880" y="228600"/>
            <a:ext cx="35434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Деберейнер Иоганн Вольфганг (1780-1849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7242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Немецкий химик. Родился в Хофе. Учился самостоятельно. С 1810 г. профессор Йенского университета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Исследования посвящены проблемам классификации элементов, изучению платиновых металлов, катализу. Обнаружил в 1821 и 1822 гг., что мелко раздробленная платина (платиновая чернь) способна вызывать, сама при этом не изменяясь, химические реакции, например окисление винного спирта в уксусную кислоту или сернистого ангидрида в серный. Эти работы наряду с исследованиями Г. Дэви заложили основу каталитической химии с использованием платины. Подметил в 1817 г., а затем в1829 г., что если в триадах кальций - стронций - барий; литий - натрий - калий; сера - селен - теллур и хлор - бром - йод элементы расположены в порядке возрастания их атомных масс, то атомная масса среднего из них приблизительно равна полусумме атомных масс двух крайних. Это "правило триад" было использовано в дальнейших работах по классификации химических элементов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1" name="Picture 7" descr="Johann_Wolfgang_Doebereiner"/>
          <p:cNvPicPr/>
          <p:nvPr/>
        </p:nvPicPr>
        <p:blipFill>
          <a:blip r:embed="rId1"/>
          <a:stretch/>
        </p:blipFill>
        <p:spPr>
          <a:xfrm>
            <a:off x="5388120" y="1905120"/>
            <a:ext cx="3375000" cy="358128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8" dur="100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763b"/>
                                      </p:to>
                                    </p:animClr>
                                    <p:animClr clrSpc="rgb">
                                      <p:cBhvr>
                                        <p:cTn id="499" dur="100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763b"/>
                                      </p:to>
                                    </p:animClr>
                                    <p:set>
                                      <p:cBhvr>
                                        <p:cTn id="500" dur="100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Вариант И. Деберейнера (Закон триад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Натрий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a  - 23,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Калий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 - 39,1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Литий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i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- 6,9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Фосфор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 - 31,04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Мышьяк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s - 74,96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урьма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b - 121,8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Кальций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 - 40,07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тронций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r - 87,63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Барий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a - 137,37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ера  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 - 32,06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елен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 - 79,2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Теллур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 - 127,5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01T12:07:23Z</dcterms:modified>
  <cp:revision>25</cp:revision>
  <dc:subject/>
  <dc:title>Тема: «140 лет дому, который построил Д.И. Менделеев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