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A747-3F50-47F1-90AD-EA727CC820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Чтобы начать работу, нажмите «Показ слайд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A077-27F0-4924-A7F8-A345183CAE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так, мы получили дв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геометрических изомера бутена–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928-70AA-403E-8323-3C9001FB32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метрических изомеров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тена -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B4AD-CE36-47F1-A630-701181F335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опробуем составить геометрические изомеры бутена -1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СН2 – СН3                            Н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 Н                             Н3С – Н2С       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изображают одн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тена -1 не существу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94DB-B08D-4412-85F2-5E7D8C41BD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уществует еще один изомер С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–метилпропен. Попробуем составить формулы его геометрических изоме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так же изображают одно и то же вещество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 2 – метилпропена – 1 не суще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54AF-3EAB-4060-A2CB-03A0868771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мерия углеродного скел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характерен для всех классов органических со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мерия углеродного скелета – единственно возможный вид изомерии алк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Рассмотрим изомерию углеродного скелета на примере пентана 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B544-497B-4910-B45D-7495EC7BBF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м структурную формулу простейшего изомера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, имеющего линейное стро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изобразим его углеродный скелет, расположив в ряд все пять атомов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одорода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написали структурную формулу простейшего изоме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ПЕНТАНА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. А можно ли составить формулу другого изомера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F1CB-146C-4165-9D0D-D96353AB65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сделаем основную цепочку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роч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сположим в ряд четыре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ятый атом присоединим к одному из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ных атом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, не забывая пр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ы получили форм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2 – МЕТИЛБУ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AC96-CD52-40AA-9D0F-E860ED2EED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пробуем написать формулу изомера, содержащего в основной цепи три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калов и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получили формулу еще одного изомера </a:t>
            </a: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2,2 – ДИМЕТИЛПРОПАН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1ABA-0905-478E-980E-8F3C3CFC86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так, мы получили три изомера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эмпирической формулой С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метилбу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2–диметилпроп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CA19-C86E-47CB-A38A-1AC41A103D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 изомер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стим радикал у соседнего атома углерод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а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б)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Мы видим, что обе  формулы – (а) и (б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изображают одно и то же веществ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МЕТИЛБУТАН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6284-763C-4364-911B-5D48D9E000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вещества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 одинакового состава и молекулярной массы, но имеющие различное строение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молекул и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разные свойства.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явление 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существования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4a4a6e"/>
                </a:solidFill>
                <a:latin typeface="Calibri"/>
              </a:rPr>
              <a:t>Главное: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изомеры имеют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4a4a6e"/>
                </a:solidFill>
                <a:latin typeface="Calibri"/>
              </a:rPr>
              <a:t>одинаковые эмпирические формулы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но разн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структурные форм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69C6-5BC4-4ECA-90CF-F6CA912E86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нумеруем атомы угле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4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ЕНТАН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ой изомер у нас уже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71B-F748-4BEA-ABAB-798135BEC6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йте попробу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этил–радика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е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ой дли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цепоч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1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Это  2–МЕТИЛБУ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39B2-1B6D-4B5F-AF59-A28536F475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орядок ну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нумераци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меровать цепочку начинаем с того края, где ближе разветв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ле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пра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ле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1                         2                      3                        4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пра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ле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пра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90B7-B336-4DC4-B515-CC261FE48E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5"/>
                </a:solidFill>
                <a:latin typeface="Calibri"/>
              </a:rPr>
              <a:t>Изомерия положения крат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й связью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ую связь    – С = С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йную связь   – С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≡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–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кратной связи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пенте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C50-A87E-4699-919D-DE335C448E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апишем структурную формулу простейшего линейного изомера  С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,  у которого двойная связь расположена возле первого атома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= С – С – С –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ентена–1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33AA-0A5E-4FEA-A70A-5894CCA4A3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ойной связи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двойную связь пос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пентен –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AB93-FE25-4023-89D7-BE9E8F17E3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Итак, мы состав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ух изомеров пент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2089-1436-492D-B2BD-BCC78366A4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1D25-42C2-4BB7-AF65-010232BD93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050E-D7D7-451B-AB92-09BEA50BF2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омерия положения функциона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относятся гидроксогруппа  –ОН,  сульф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карбоксильная  –СООН,  нитр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 дру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можно так же отнести галогены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r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 функциональной группы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  бромпента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61E-093B-4D4F-B748-0AA9C48930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ишем формулу простейшего линейного изомера 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 у которого атом брома расположен возле первого атома угле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 – С – С – С – 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1–бромпентан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361-27B5-42A4-8FB1-861F4BF87A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функциональной группы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атом брома воз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2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 легко догадаетесь как будет выглядеть третий изо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3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371-DCB9-4C04-AFE8-50236B2C24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получ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 изомеров бромпент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–бромпен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бромпентан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–бромпент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F6FD-34C3-491B-AD82-354CC6B67C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омеров положения функциональной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мпента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05E4-8C59-4453-B401-723E217FCB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те правила номенклатуры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рядок нум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5                              4                             3                             2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2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5                              4</a:t>
            </a:r>
            <a:r>
              <a:rPr b="0" i="1" lang="ru-RU" sz="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3                             2    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  1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1F2D-BB81-4B27-8F0F-2288888ECC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d0f2"/>
                </a:solidFill>
                <a:latin typeface="Calibri"/>
              </a:rPr>
              <a:t>Межклассовая 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изомеры относятся к разным классам орган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ется просто запомнить какие классы соединений изомерны друг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ссмотрим некоторые примеры межклассовой изом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E0A-32CD-40FD-BC1B-5B30620D52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ен                   циклоал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утен -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I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клобу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ин                   ди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≡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= СН – СН =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бутин – 1                                               бутадиен – 1,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FA0B-B5B1-48D1-BF03-A8E5E412FF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рт             просто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танол                                               диметиловый эфи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ислота             сложны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овая кислота                                             метилацета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ьдегид                 ке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О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аль                                                    пропанон – 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B962-1D5D-447B-9B89-5BBA7C9CA8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инокислота             нитро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2 – аминоэтановая кислота                            нитроэ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ожно найти межклассовые изомеры и дл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других соединений. Подумайте сами, для как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C8F-D8D0-465E-AF0D-E3E6207E99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25AE-5D81-4B72-A7DE-4EA2BFD239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d39"/>
                </a:solidFill>
                <a:latin typeface="Calibri"/>
              </a:rPr>
              <a:t>Динамическая изомерия (таутомер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Таут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ассмотрим некоторые примеры таутомери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75F-77D6-4E6C-8B2A-5C4A7CB6D5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84D3-A292-4458-A5AE-DE6DE1FFD7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существования оптических изомеров необходи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симметрическ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атом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С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возможны два различных расположения молекулы в пространств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54E-AB12-43D6-9B81-98F4B2B770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е наибольшее значение имеет оптическая изомер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ов и амино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89FC-0FDD-49E5-B7DB-8AC6C72087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 – C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=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c9cd39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H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            НО 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     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I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 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994E-17A8-416E-9A8F-5555A4B130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– иначе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ая изомерия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– иначе называются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ыми изомера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пособность соединений существовать в виде пары зеркальных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цент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Рацема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C748-B8D7-4E77-84DD-30D73A7D19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вет пропустить через специальный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а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все световые волны будут колебаться в одн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свет называется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лоско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131-D579-4402-8A21-37227C5F6E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5г Жан Батист Био открыл явлени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птической активност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жидкости изменять (отклонять на некоторый угол)  плоскость поляр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изованного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1113-26C0-4DD2-868E-FFF4FEA0DF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хождения чере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тически активн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+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против часовой стрелки, то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CBF9-F47A-4CC2-AD3A-943BCCFB37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Вы поняли что такое изоме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Научились строить изом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Значит самое время приступить к выполнению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Желаю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ACA-C4C7-4502-B12D-1D8C589B93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Кето – енольные превра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превращение непредельного спирта в кетон или альдеги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ое превращение наблюдается в 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еакции Кучер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гидратация алкинов в присутствии катализатора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≡ СН  +  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О  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C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этин                                            эт</a:t>
            </a:r>
            <a:r>
              <a:rPr b="0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енол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этана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данном случае наблюдается перенос подвижного </a:t>
            </a:r>
            <a:r>
              <a:rPr b="0" lang="ru-RU" sz="1200" spc="-1" strike="noStrike">
                <a:solidFill>
                  <a:srgbClr val="eaeaea"/>
                </a:solidFill>
                <a:latin typeface="Calibri"/>
                <a:ea typeface="Arial"/>
              </a:rPr>
              <a:t>атома вод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от кислорода к соседнему атому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 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=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066D-C781-4A5F-8BD7-2F471E731A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Таутомеры глю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Н – С = О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O – C –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bfdbb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α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 –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глюкоз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β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- глюкоз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7fa6e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OH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открытая (линейная) фор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BE7A-A0C7-464C-A77E-74713E21C6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еометр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предполагает наличие двух изомеров: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–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–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ческая изомерия характерна для соединений, в которы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свободное вращение вокруг углерод – углеродной связи (например, алкен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атомы углерода связан с двумя различными груп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геометрическую изомерию на примере бутена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C7B6-ED36-496E-B863-523B95C50A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ем структурную формулу бутена –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 – СН = СН – 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круг двойной связи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– С = С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одород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D64D-AA4E-4D3D-BE3D-C563846F63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ют два способа расположить эти радикалы в пространст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        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С =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ци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изомер:                                              Это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изо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е радикалы                                одинаковые радика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ены                                                                располо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дну сторону                                                  по разные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ой связи.                                                            двой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2C8-0FDC-4DA0-BB4C-BF9AEB2EA1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1EC9-39B0-4FA1-A497-0DBE5DB3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D968-B855-475E-BAD3-04EC2CB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3A523-16F9-4929-8C77-C8D82D54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6BE1F-BC81-4EE8-8034-AFCB7E85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CA776-0770-419C-867A-A9359AC3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8235C-5B81-4177-95D7-21F8BB9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0B383-9E3E-4C9A-ACB4-87665EB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98041-41BE-4E29-AD16-A1ABF573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D5AB5-F8D8-4957-B57D-63DEE42A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8D6B8-FAFD-432F-BD9E-99901666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6A966-8873-4C71-89C7-8A4D8D63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E2D9A-7CBA-415C-BD31-412DED1C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42B4-DBF7-4D08-AEC1-B0992C2D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E11E2-9503-4D07-B367-C8E11ED2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82F64-E19A-4CFB-AF1C-82502B27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E1229-1251-4F7D-B6C7-B00D2739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E6F85-334D-45C1-9A9B-E96394C6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E6651-95AF-4F23-B5DD-0FB670E8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E2639-6C55-4B3B-8868-E2A41DF2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70563-CEC5-42F7-B0DD-1622708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980DE-423F-4DD7-9084-6FC7A42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26955-BA7D-478F-A9A2-0A560230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7CCBA-5509-44C5-B490-14B97482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CE8B-C658-4654-9974-7D1546E2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D2FF3-70F3-4D72-8B36-A8E5342E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65D1D-751A-4B4F-87C2-D9E4B181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46716-ED11-48D1-94F9-41F87F2E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B6F13-33C2-4DBE-A257-FAF9266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9CB2B-2E70-481F-A3B6-4E35FB3F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1B426-F4A1-4050-8ABD-CFB3341D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DB178-B10B-4621-850C-71A59DF9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49275-0F95-458A-A5BA-13C87B49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81ADA-736F-44B7-AC39-A66ED20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551E5-F8F8-47D8-ABC2-113813C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E3DA-AE31-4B64-B21E-161096C3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053EF-B408-4E06-897D-6E7193FE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5F0AD-F2EC-4922-BDAF-6F38B9A9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9B08C-C893-46AF-A9AC-008A9883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DB6AD-07A6-4DAB-98F4-47553AB5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095D9-1A08-4008-B673-B41A245C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E8580-98C2-4C48-953C-1B121BE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1263C-0FC1-40A8-B74F-ED82281F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A2A52-2E4E-44DD-8349-65D7B8A2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50140-82B9-46D1-991D-AA16FF90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16920-570D-4944-9ADD-FEBA7D3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E632-1682-435E-9670-7FA9A91B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6F172-6974-40DD-B7BD-DFF73348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EFA8E-0AB2-41D7-9433-CFCEB8E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360DE-B310-4E7F-8F78-ADF07FC9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6C046-5C7A-418C-BAB5-3D695D11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D17CC-5D51-4BF2-83FA-DA20A001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B1E23-1D49-4DC6-BF81-A45D4D1E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961D3-5D6F-4C63-A770-A93D791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5F988-AA90-4702-990F-5B51A7A4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4AF5C-BB26-49D4-B05C-98759838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D442A-6ADA-4069-83AA-504080A0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42F2-B36D-43E3-8B3C-3BC66C29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B1FCE-9AD6-4BBB-9A0E-7E208A65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16BCD-6873-428E-8E87-0C37400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DEFF3-2A70-4F62-8784-47E8A5C2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61BD5-8F50-427C-AC80-56ACF3D5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A23FC-6EF5-4D35-A3EA-51F9272A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553A0-948E-4CF7-B5BE-86F73430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DF1C2-5EA8-43FE-9A30-189A28D1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B3DF-C7F1-418D-9C7D-D2C598C0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ED56-A24A-4946-B71A-6C752561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3B74-DBC9-46EC-8601-ED07EE89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1B4C-A68E-41C6-B3E2-BB44D24E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1915-BAFF-470C-8D48-470C908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7CFA-14CE-4DA2-A26B-54739665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C8A9-8BA0-421F-AF35-94FA29B7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1CB5-2CD5-49C4-85AD-98A58C8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D1A0-2AC4-402A-923C-AC334B49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3E00-20B3-40D9-A902-8A94E45E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705D-68A5-4640-9E08-CA517A6B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9CDC-839B-49CE-9FE9-F722B106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74BF-7B4F-4A6E-96F4-F38A696D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083F-5394-4ACD-8A12-AF5B2432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E435-5EF7-410E-AF44-C99588A4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7054-CB2F-4D14-8EF2-6F852001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0DA2-1950-461C-AC45-0BA9A4E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9D47-8014-49C8-802D-D57DDF6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8548-6FCC-47CA-B866-1054B4C5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C1A2-C2A6-4C30-9791-FD31736A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61E71-E365-4F7E-BEFF-037D1096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2F36-E856-4903-8E76-E051A94C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C5E8-85FF-47DD-8D31-FC6DEA2E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1BB1-7B73-44A0-86B6-F26B1F8E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EE2A-3CB3-4433-B719-A1A03483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5A36-B89F-482E-98F1-EACC8D8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C3D5-027B-400D-9835-8D8E6F5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0D52-ECBF-4271-A5E3-69B505A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5AFC-6A54-422E-ACD7-9AAD6F92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D55F-A5A9-4181-9ED6-B13B1BA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F112-F26D-4487-AE3B-8745A11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20775-E239-45F5-B8F4-BF89153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3711-3092-42F2-AE72-06FE8178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6175-1AFD-4167-ADF2-27656754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CFAF-B458-49C1-B419-CA3D5C07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105A-C9DB-40D3-983C-0D7D6F20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636B-8CDD-4468-8B1D-7B618A7C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1FBE-B276-4B7F-BAD4-FFC9026F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0140F-2234-4361-A983-97E627B7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F4D76-C402-4234-BAE7-E986510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43B9-3CB9-4526-82CA-73BC882A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B8CF-59CE-471D-87E7-E6D531AF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6288-1753-4620-BA6C-8C7A6BBA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7690F-2DDE-46A5-8DCF-BD5A009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C0855-052A-4CF5-93EC-0E6F010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B278E-0DC8-4AA2-8336-4A2D13B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42424-BB8E-4399-8761-D55448B3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B4C26-E987-4576-87DD-FBB7EFAB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3B1B-8FD7-41A9-96A0-96E766E7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B571-AB4F-4BC0-9211-751C52E9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1A021-7E7C-4C01-B25F-96CDA4F8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F91F0-EDDB-4A69-9AC5-5824B39F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1A915-9B40-4F86-8D88-2371C4B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51F7D-1A5B-4F7A-8D4F-0B61A15D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15956-8339-4F98-8CF3-5F69D77C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4FB86-F87E-4097-A74E-1E1F4FDE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DECD1-D26F-427F-9472-9D9E21D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D69FF-0083-4256-AD1A-1302CECA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C6E72-F036-4683-8F3A-309923D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80FF-0F1E-41DF-869A-455DC54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601AD-372C-407E-BB78-EA5971E3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A3318-9E5A-4E64-8040-D9576C45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2257C-5C76-4EE0-98F7-10094DD3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F4F92-6DB0-45FF-AC35-19C27B2B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7FA0-FA48-4422-91E6-FEFFDF47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42C6-4B18-4982-B7A6-3E86428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6D396-33C1-45C5-B01C-5056D2B9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DC1F-75CF-4646-B932-1BFE9B72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88892-3B3D-42DF-9FF0-7E10BC79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32C2-B01D-4F57-BAEA-91D0DAE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01AB-9615-4724-B4A1-ABC773DC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85ED-BFF9-4712-8C0A-AA410E75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2545A-9197-40E1-BA33-0F2BFBA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A3B59-DFAC-48AF-8CAA-BBFA3AB5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1FDC-8845-4D8E-AE1B-71D82A55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3546D-3087-491B-B9BF-3EEBA99A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9CFE-B794-46F0-A258-9939CFFC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F7EEF-D385-4F38-BA33-0FC0341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4B8C4-F7CF-40DA-AC00-6D304C96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86614-F4F0-429F-82D9-3A9E766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CD971-FC9F-4386-97BC-33E301CA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E4AF-976B-424B-8060-10789A4D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1DABD-6E57-473A-A523-AE83CEB3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1B165-3A36-4042-AE43-4B1D574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FA561-0647-470D-AB4F-54A07DDE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81421-A51E-4A67-9368-C0DC8AE0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00ADD-FB95-4245-BD53-2DC7F1BF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59E4B-DA6C-41B1-9B2C-66BD6078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416A8-E186-4DA2-8967-420F34EE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E59BC-1AC9-4158-B8FA-583E6581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8FCF5-5684-4FB3-A00E-7BF55E24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75606-1815-4565-AF9B-C8B9BA48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39A2-1B78-451C-9FC0-2B893370DC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60C-8CE9-414A-AA91-9AF6F83033F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C5FE-B7D0-4CB7-825E-DE202F58499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F9EB-17B0-4DC7-BC9F-B6A72C79434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8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0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BE93-5FF0-49E5-BAE8-4A21B2C970C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97C-EBF3-43D1-9BAD-3D069EB71D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7BD-3EF4-4B1F-B71E-E073B5D5C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57B-21C8-4B2E-9561-4756961713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F328-757F-497C-BD74-E4A253CD0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4886-09CF-471F-82D7-85825D763D2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5BD4-F6F2-4B34-AF14-FA4D83397E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3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3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EC8B-0A43-43AB-8DB1-4DFA4E867B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D032-8AF4-42A6-9A20-9353F8C78E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slide" Target="slide7.xml"/><Relationship Id="rId7" Type="http://schemas.openxmlformats.org/officeDocument/2006/relationships/slide" Target="slide39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Чтобы начать работу, нажмите «Показ слай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WordArt 4"/>
          <p:cNvSpPr txBox="1"/>
          <p:nvPr/>
        </p:nvSpPr>
        <p:spPr>
          <a:xfrm rot="21455400">
            <a:off x="900000" y="134100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Итак, мы получили два </a:t>
            </a:r>
            <a:br>
              <a:rPr sz="3000"/>
            </a:b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геометрических изомера бутена–2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ци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Н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4">
            <a:hlinkClick r:id="rId1" action="ppaction://hlinksldjump"/>
          </p:cNvPr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f2aa68"/>
              </a:gs>
              <a:gs pos="100000">
                <a:srgbClr val="d092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5">
            <a:hlinkClick r:id="rId2" action="ppaction://hlinksldjump"/>
          </p:cNvPr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f2aa68"/>
              </a:gs>
              <a:gs pos="100000">
                <a:srgbClr val="c087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т.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Геометрических изомеров </a:t>
            </a:r>
            <a:br>
              <a:rPr sz="3800"/>
            </a:br>
            <a:r>
              <a:rPr b="1" i="1" lang="ru-RU" sz="3800" spc="-1" strike="noStrike">
                <a:solidFill>
                  <a:srgbClr val="ffffcc"/>
                </a:solidFill>
                <a:latin typeface="Tahoma"/>
              </a:rPr>
              <a:t>бутена -1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 существует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Oval 5"/>
          <p:cNvSpPr/>
          <p:nvPr/>
        </p:nvSpPr>
        <p:spPr>
          <a:xfrm>
            <a:off x="1979640" y="3933720"/>
            <a:ext cx="5905440" cy="187164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о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едь для бутена -</a:t>
            </a:r>
            <a:r>
              <a:rPr b="0" lang="en-US" sz="1800" spc="-1" strike="noStrike">
                <a:solidFill>
                  <a:srgbClr val="2b2b2b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ращение вокруг двойной связи также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как для бутена 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пробуем составить геометрические изомеры бутена -1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 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изображают од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тена -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4">
            <a:hlinkClick r:id="rId1" action="ppaction://hlinksldjump"/>
          </p:cNvPr>
          <p:cNvSpPr/>
          <p:nvPr/>
        </p:nvSpPr>
        <p:spPr>
          <a:xfrm rot="20893800">
            <a:off x="5076360" y="5373360"/>
            <a:ext cx="3888000" cy="115560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для других алкенов С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озмож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5"/>
          <p:cNvSpPr/>
          <p:nvPr/>
        </p:nvSpPr>
        <p:spPr>
          <a:xfrm>
            <a:off x="395280" y="6039000"/>
            <a:ext cx="1835280" cy="819000"/>
          </a:xfrm>
          <a:prstGeom prst="upArrowCallout">
            <a:avLst>
              <a:gd name="adj1" fmla="val 56027"/>
              <a:gd name="adj2" fmla="val 56022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</a:t>
            </a:r>
            <a:r>
              <a:rPr b="0" lang="ru-RU" sz="1800" spc="-1" strike="noStrike">
                <a:solidFill>
                  <a:srgbClr val="602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Существует еще один изомер С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8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 –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2–метилпропен. Попробуем составить формулы его геометрических изомеров: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так же изображают одно и то же веще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 2 – метилпропена – 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7093080" y="5805360"/>
            <a:ext cx="1834920" cy="890640"/>
          </a:xfrm>
          <a:prstGeom prst="upArrowCallout">
            <a:avLst>
              <a:gd name="adj1" fmla="val 51510"/>
              <a:gd name="adj2" fmla="val 51506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зомерия углеродного скел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вид изомерии характерен для всех классов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омерия углеродного скелета – единственно возможный вид изомерии алка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Рассмотрим изомерию углеродного скелета на примере пентана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Составим структурную формулу простейшего изомера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12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, имеющего линейное строен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этого изобразим его углеродный скелет, расположив в ряд все пять атомов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водорода 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написали структурную формулу простейшего изом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А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А можно ли составить формулу другого изом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этого сделаем основную цепочку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ороч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Расположим в ряд четыре атома углерод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ятый атом присоединим к одному из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редни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углеродных атомов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расставим атомы водорода, не забывая про валент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 – МЕТИЛБУТ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Oval 4"/>
          <p:cNvSpPr/>
          <p:nvPr/>
        </p:nvSpPr>
        <p:spPr>
          <a:xfrm rot="20923200">
            <a:off x="5580000" y="5444640"/>
            <a:ext cx="3564000" cy="1150920"/>
          </a:xfrm>
          <a:prstGeom prst="ellipse">
            <a:avLst/>
          </a:prstGeom>
          <a:gradFill rotWithShape="0">
            <a:gsLst>
              <a:gs pos="0">
                <a:srgbClr val="4db8db"/>
              </a:gs>
              <a:gs pos="50000">
                <a:srgbClr val="0099cc"/>
              </a:gs>
              <a:gs pos="100000">
                <a:srgbClr val="4db8db"/>
              </a:gs>
            </a:gsLst>
            <a:lin ang="678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но 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сосед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5"/>
          <p:cNvSpPr/>
          <p:nvPr/>
        </p:nvSpPr>
        <p:spPr>
          <a:xfrm>
            <a:off x="6084720" y="836640"/>
            <a:ext cx="64800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Попробуем написать формулу изомера, содержащего в основной цепи три атома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адикалов и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 еще одного изомера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,2 – ДИМЕТИЛПРОП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Oval 5"/>
          <p:cNvSpPr/>
          <p:nvPr/>
        </p:nvSpPr>
        <p:spPr>
          <a:xfrm>
            <a:off x="601200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550872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7"/>
          <p:cNvSpPr/>
          <p:nvPr/>
        </p:nvSpPr>
        <p:spPr>
          <a:xfrm rot="20911800">
            <a:off x="6265440" y="5157360"/>
            <a:ext cx="2878200" cy="1374840"/>
          </a:xfrm>
          <a:prstGeom prst="ellipse">
            <a:avLst/>
          </a:prstGeom>
          <a:gradFill rotWithShape="0">
            <a:gsLst>
              <a:gs pos="0">
                <a:srgbClr val="35aed7"/>
              </a:gs>
              <a:gs pos="50000">
                <a:srgbClr val="0099cc"/>
              </a:gs>
              <a:gs pos="100000">
                <a:srgbClr val="35aed7"/>
              </a:gs>
            </a:gsLst>
            <a:lin ang="609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в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 метил– радик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од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л– радик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Итак, мы получили три изомер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 эмпирической формулой 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5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12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н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–метилбу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,2–диметилпроп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AutoShape 4"/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75c8e3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5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96d5ea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изомер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местим радикал у соседнего атома углерода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          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а)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б)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видим, что обе  формулы – (а) и (б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изображают одно и то же вещ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МЕТИЛБУ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Oval 4"/>
          <p:cNvSpPr/>
          <p:nvPr/>
        </p:nvSpPr>
        <p:spPr>
          <a:xfrm rot="21239400">
            <a:off x="5424120" y="5870160"/>
            <a:ext cx="3708360" cy="798480"/>
          </a:xfrm>
          <a:prstGeom prst="ellipse">
            <a:avLst/>
          </a:prstGeom>
          <a:gradFill rotWithShape="0">
            <a:gsLst>
              <a:gs pos="0">
                <a:srgbClr val="3db1d8"/>
              </a:gs>
              <a:gs pos="50000">
                <a:srgbClr val="0099cc"/>
              </a:gs>
              <a:gs pos="100000">
                <a:srgbClr val="3db1d8"/>
              </a:gs>
            </a:gsLst>
            <a:lin ang="576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постав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6948360" y="260280"/>
            <a:ext cx="1835280" cy="1008000"/>
          </a:xfrm>
          <a:prstGeom prst="upArrowCallout">
            <a:avLst>
              <a:gd name="adj1" fmla="val 45522"/>
              <a:gd name="adj2" fmla="val 455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6804000" y="4365720"/>
            <a:ext cx="2340000" cy="1296720"/>
          </a:xfrm>
          <a:prstGeom prst="ellipse">
            <a:avLst/>
          </a:prstGeom>
          <a:gradFill rotWithShape="0">
            <a:gsLst>
              <a:gs pos="0">
                <a:srgbClr val="6dc5e2"/>
              </a:gs>
              <a:gs pos="50000">
                <a:srgbClr val="0099cc"/>
              </a:gs>
              <a:gs pos="100000">
                <a:srgbClr val="6dc5e2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и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мер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3631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вещества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 одинакового состава и молекулярной массы, но имеющие различное строение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молекул и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разные свойств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явление 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существования из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39640" y="4797360"/>
            <a:ext cx="81583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a4a6e"/>
                </a:solidFill>
                <a:latin typeface="Arial"/>
              </a:rPr>
              <a:t>Главно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изомеры име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a4a6e"/>
                </a:solidFill>
                <a:latin typeface="Arial"/>
              </a:rPr>
              <a:t>одинаковые эмпирические формулы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но раз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структурные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WordArt 4"/>
          <p:cNvSpPr txBox="1"/>
          <p:nvPr/>
        </p:nvSpPr>
        <p:spPr>
          <a:xfrm rot="21455400">
            <a:off x="611280" y="2923920"/>
            <a:ext cx="496872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02298" dir="424499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02298" dir="424499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WordArt 5"/>
          <p:cNvSpPr txBox="1"/>
          <p:nvPr/>
        </p:nvSpPr>
        <p:spPr>
          <a:xfrm rot="21455400">
            <a:off x="611280" y="18900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89808" dir="483908" blurRad="0" rotWithShape="0">
                    <a:srgbClr val="3d3d3d"/>
                  </a:outerShdw>
                </a:effectLst>
                <a:latin typeface="Impact"/>
              </a:rPr>
              <a:t>изо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89808" dir="48390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нумеруем атомы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4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акой изомер у нас уже е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Oval 4"/>
          <p:cNvSpPr/>
          <p:nvPr/>
        </p:nvSpPr>
        <p:spPr>
          <a:xfrm rot="665400">
            <a:off x="7308360" y="1052640"/>
            <a:ext cx="1584360" cy="3241440"/>
          </a:xfrm>
          <a:prstGeom prst="ellipse">
            <a:avLst/>
          </a:prstGeom>
          <a:gradFill rotWithShape="0">
            <a:gsLst>
              <a:gs pos="0">
                <a:srgbClr val="65c1e0"/>
              </a:gs>
              <a:gs pos="50000">
                <a:srgbClr val="0099cc"/>
              </a:gs>
              <a:gs pos="100000">
                <a:srgbClr val="65c1e0"/>
              </a:gs>
            </a:gsLst>
            <a:lin ang="4734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та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7138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вайте попробу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ть этил–радикал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т.е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ой длинн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цепоч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1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Это  2–МЕТИЛБУТА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7" name="AutoShape 4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913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орядок нум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ядок нумерации опре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ответствии с правилами систематической номенклат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меровать цепочку начинаем с того края, где ближе разветвл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ле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а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ле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                        2                      3                        4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пра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ле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пра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1" name="AutoShape 4"/>
          <p:cNvSpPr/>
          <p:nvPr/>
        </p:nvSpPr>
        <p:spPr>
          <a:xfrm>
            <a:off x="7093080" y="189000"/>
            <a:ext cx="1834920" cy="963360"/>
          </a:xfrm>
          <a:prstGeom prst="upArrowCallout">
            <a:avLst>
              <a:gd name="adj1" fmla="val 47622"/>
              <a:gd name="adj2" fmla="val 476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5"/>
                </a:solidFill>
                <a:latin typeface="Tahoma"/>
              </a:rPr>
              <a:t>Изомерия положения кратной связ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ной связью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ойную связь    – С = С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ойную связь   – С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–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Рассмотрим изомерию поло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кратной связи на</a:t>
            </a:r>
            <a:r>
              <a:rPr b="0" lang="en-US" sz="3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примере пентен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апишем структурную формулу простейшего линейного изомера  С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,  у которого двойная связь расположена возле первого атома углерод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7840" y="2204640"/>
            <a:ext cx="8605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= С – С – С –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так, мы написали формулу первого изомера С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ff"/>
                </a:solidFill>
                <a:latin typeface="Tahoma"/>
              </a:rPr>
              <a:t>пентена–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Само название этого вида изоме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предполагает, что полож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двойной связи должно меня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стим двойную связь после второго атома угле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Oval 3"/>
          <p:cNvSpPr/>
          <p:nvPr/>
        </p:nvSpPr>
        <p:spPr>
          <a:xfrm rot="493200">
            <a:off x="302760" y="5097240"/>
            <a:ext cx="3979800" cy="136836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Итак, мы составили формулы </a:t>
            </a:r>
            <a:br>
              <a:rPr sz="4000"/>
            </a:b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двух изомеров пентен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2b5481"/>
              </a:gs>
              <a:gs pos="100000">
                <a:srgbClr val="1b355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2b5481"/>
              </a:gs>
              <a:gs pos="100000">
                <a:srgbClr val="182f4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Нет.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ругих </a:t>
            </a:r>
            <a:r>
              <a:rPr b="1" i="1" lang="ru-RU" sz="4400" spc="-1" strike="noStrike">
                <a:solidFill>
                  <a:srgbClr val="ffffb5"/>
                </a:solidFill>
                <a:latin typeface="Tahoma"/>
              </a:rPr>
              <a:t>изомеров положения двойной связи</a:t>
            </a: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ля пентена не существуе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8" name="Oval 3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пентен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и пентен – 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5"/>
                </a:solidFill>
                <a:latin typeface="Tahoma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b5"/>
                </a:solidFill>
                <a:latin typeface="Tahoma"/>
              </a:rPr>
              <a:t>порядок нумераци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ответствии с правилами систематической номенклатуры нумерация начинается с того края, где ближе находится кратная связ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 4                             3                             2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4                            3                            2  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зомерия положения функциональ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относятся гидроксогруппа  –ОН,  сульф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карбоксильная  –СООН,  нитр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друг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можно так же отнести галогены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Рассмотрим изомерию положения функциональной группы на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примере   бромпентана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  С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WordArt 4"/>
          <p:cNvSpPr txBox="1"/>
          <p:nvPr/>
        </p:nvSpPr>
        <p:spPr>
          <a:xfrm rot="21455400">
            <a:off x="1187280" y="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7819" dir="2700000" blurRad="0" rotWithShape="0">
                    <a:srgbClr val="3d3d3d"/>
                  </a:outerShdw>
                </a:effectLst>
                <a:latin typeface="Impact"/>
              </a:rPr>
              <a:t>виды  изом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7819" dir="2700000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5" name="Organization Chart 8"/>
          <p:cNvGrpSpPr/>
          <p:nvPr/>
        </p:nvGrpSpPr>
        <p:grpSpPr>
          <a:xfrm>
            <a:off x="467280" y="1123920"/>
            <a:ext cx="8160120" cy="5470200"/>
            <a:chOff x="467280" y="1123920"/>
            <a:chExt cx="8160120" cy="5470200"/>
          </a:xfrm>
        </p:grpSpPr>
        <p:cxnSp>
          <p:nvCxnSpPr>
            <p:cNvPr id="1076" name="_s1028"/>
            <p:cNvCxnSpPr>
              <a:stCxn id="1077" idx="1"/>
              <a:endCxn id="1078" idx="2"/>
            </p:cNvCxnSpPr>
            <p:nvPr/>
          </p:nvCxnSpPr>
          <p:spPr>
            <a:xfrm rot="10800000">
              <a:off x="5279040" y="2130120"/>
              <a:ext cx="37224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79" name="_s1029"/>
            <p:cNvCxnSpPr>
              <a:stCxn id="1080" idx="0"/>
              <a:endCxn id="1081" idx="2"/>
            </p:cNvCxnSpPr>
            <p:nvPr/>
          </p:nvCxnSpPr>
          <p:spPr>
            <a:xfrm flipV="1" rot="16200000">
              <a:off x="5921280" y="4081680"/>
              <a:ext cx="433440" cy="17175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2" name="_s1030"/>
            <p:cNvCxnSpPr>
              <a:stCxn id="1083" idx="0"/>
              <a:endCxn id="1081" idx="2"/>
            </p:cNvCxnSpPr>
            <p:nvPr/>
          </p:nvCxnSpPr>
          <p:spPr>
            <a:xfrm flipH="1" flipV="1" rot="5400000">
              <a:off x="4229640" y="4106880"/>
              <a:ext cx="433440" cy="16671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4" name="_s1031"/>
            <p:cNvCxnSpPr>
              <a:stCxn id="1085" idx="3"/>
              <a:endCxn id="1078" idx="2"/>
            </p:cNvCxnSpPr>
            <p:nvPr/>
          </p:nvCxnSpPr>
          <p:spPr>
            <a:xfrm flipV="1">
              <a:off x="4956120" y="2130480"/>
              <a:ext cx="32400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6" name="_s1032"/>
            <p:cNvCxnSpPr>
              <a:stCxn id="1087" idx="1"/>
              <a:endCxn id="1078" idx="2"/>
            </p:cNvCxnSpPr>
            <p:nvPr/>
          </p:nvCxnSpPr>
          <p:spPr>
            <a:xfrm rot="10800000">
              <a:off x="5279040" y="2130840"/>
              <a:ext cx="37224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8" name="_s1033"/>
            <p:cNvCxnSpPr>
              <a:stCxn id="1089" idx="3"/>
              <a:endCxn id="1078" idx="2"/>
            </p:cNvCxnSpPr>
            <p:nvPr/>
          </p:nvCxnSpPr>
          <p:spPr>
            <a:xfrm flipV="1">
              <a:off x="4892040" y="2130840"/>
              <a:ext cx="38772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0" name="_s1034"/>
            <p:cNvCxnSpPr>
              <a:stCxn id="1091" idx="1"/>
              <a:endCxn id="1092" idx="2"/>
            </p:cNvCxnSpPr>
            <p:nvPr/>
          </p:nvCxnSpPr>
          <p:spPr>
            <a:xfrm rot="10800000">
              <a:off x="1559520" y="1784520"/>
              <a:ext cx="2003400" cy="45597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3" name="_s1035"/>
            <p:cNvCxnSpPr>
              <a:stCxn id="1081" idx="1"/>
              <a:endCxn id="1092" idx="2"/>
            </p:cNvCxnSpPr>
            <p:nvPr/>
          </p:nvCxnSpPr>
          <p:spPr>
            <a:xfrm rot="10800000">
              <a:off x="1559520" y="1784520"/>
              <a:ext cx="2003400" cy="26895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4" name="_s1036"/>
            <p:cNvCxnSpPr>
              <a:stCxn id="1078" idx="1"/>
              <a:endCxn id="1092" idx="2"/>
            </p:cNvCxnSpPr>
            <p:nvPr/>
          </p:nvCxnSpPr>
          <p:spPr>
            <a:xfrm rot="10800000">
              <a:off x="1559520" y="1784520"/>
              <a:ext cx="2003400" cy="9540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sp>
          <p:nvSpPr>
            <p:cNvPr id="1092" name="_s1037"/>
            <p:cNvSpPr/>
            <p:nvPr/>
          </p:nvSpPr>
          <p:spPr>
            <a:xfrm>
              <a:off x="467280" y="1123920"/>
              <a:ext cx="2184840" cy="6609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изомер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_s1038"/>
            <p:cNvSpPr/>
            <p:nvPr/>
          </p:nvSpPr>
          <p:spPr>
            <a:xfrm>
              <a:off x="3562560" y="1629360"/>
              <a:ext cx="3431520" cy="5014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структур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_s1039"/>
            <p:cNvSpPr/>
            <p:nvPr/>
          </p:nvSpPr>
          <p:spPr>
            <a:xfrm>
              <a:off x="3562560" y="4221000"/>
              <a:ext cx="3431520" cy="5032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простран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_s1040">
              <a:hlinkClick r:id="rId2" action="ppaction://hlinksldjump"/>
            </p:cNvPr>
            <p:cNvSpPr/>
            <p:nvPr/>
          </p:nvSpPr>
          <p:spPr>
            <a:xfrm>
              <a:off x="3562560" y="6093360"/>
              <a:ext cx="3433680" cy="5007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динам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_s1041">
              <a:hlinkClick r:id="rId3" action="ppaction://hlinksldjump"/>
            </p:cNvPr>
            <p:cNvSpPr/>
            <p:nvPr/>
          </p:nvSpPr>
          <p:spPr>
            <a:xfrm>
              <a:off x="1905840" y="2419560"/>
              <a:ext cx="298656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глеродн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кел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_s1042">
              <a:hlinkClick r:id="rId4" action="ppaction://hlinksldjump"/>
            </p:cNvPr>
            <p:cNvSpPr/>
            <p:nvPr/>
          </p:nvSpPr>
          <p:spPr>
            <a:xfrm>
              <a:off x="5651280" y="2419560"/>
              <a:ext cx="297360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атной связ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_s1043">
              <a:hlinkClick r:id="rId5" action="ppaction://hlinksldjump"/>
            </p:cNvPr>
            <p:cNvSpPr/>
            <p:nvPr/>
          </p:nvSpPr>
          <p:spPr>
            <a:xfrm>
              <a:off x="1979280" y="3282840"/>
              <a:ext cx="297648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ункциональной групп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_s1044">
              <a:hlinkClick r:id="rId6" action="ppaction://hlinksldjump"/>
            </p:cNvPr>
            <p:cNvSpPr/>
            <p:nvPr/>
          </p:nvSpPr>
          <p:spPr>
            <a:xfrm>
              <a:off x="2124000" y="5157360"/>
              <a:ext cx="297612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еометр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_s1045">
              <a:hlinkClick r:id="rId7" action="ppaction://hlinksldjump"/>
            </p:cNvPr>
            <p:cNvSpPr/>
            <p:nvPr/>
          </p:nvSpPr>
          <p:spPr>
            <a:xfrm>
              <a:off x="5507280" y="5157360"/>
              <a:ext cx="297900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_s1046">
              <a:hlinkClick r:id="rId8" action="ppaction://hlinksldjump"/>
            </p:cNvPr>
            <p:cNvSpPr/>
            <p:nvPr/>
          </p:nvSpPr>
          <p:spPr>
            <a:xfrm>
              <a:off x="5651280" y="3282840"/>
              <a:ext cx="297612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жклассо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пишем формулу простейшего линейного изомера  С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 у которого атом брома расположен возле первого атома углерод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878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 – С – С – С – 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перь расставим атомы водо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Итак, мы написали формулу первого изомера С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r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–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Verdana"/>
              </a:rPr>
              <a:t>1–бромпентан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амо название этого вида изомери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предполагает, что положен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функциональной группы должно меня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местим атом брома возле второго атома угле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 легко догадаетесь как будет выглядеть третий изомер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3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Oval 4"/>
          <p:cNvSpPr/>
          <p:nvPr/>
        </p:nvSpPr>
        <p:spPr>
          <a:xfrm rot="493200">
            <a:off x="0" y="5589360"/>
            <a:ext cx="3780000" cy="1123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так, мы получили формулы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рех изомеров бромпентан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–бромпент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–бромпентан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–бромпентан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т.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ругих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зомеров положения функциональной группы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бромпентана не существует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Oval 4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 бромпента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– бромпент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порядок нумераци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ru-RU" sz="1000" spc="-1" strike="noStrike">
                <a:solidFill>
                  <a:srgbClr val="eaeaea"/>
                </a:solidFill>
                <a:latin typeface="Verdana"/>
              </a:rPr>
              <a:t>5                              4                             3                             2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c85e"/>
                </a:solidFill>
                <a:latin typeface="Verdana"/>
              </a:rPr>
              <a:t>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5                              4</a:t>
            </a:r>
            <a:r>
              <a:rPr b="0" i="1" lang="ru-RU" sz="1000" spc="-1" strike="noStrike">
                <a:solidFill>
                  <a:srgbClr val="eec85e"/>
                </a:solidFill>
                <a:latin typeface="Verdana"/>
              </a:rPr>
              <a:t>             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3                             2    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  1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4d0f2"/>
                </a:solidFill>
                <a:latin typeface="Arial"/>
              </a:rPr>
              <a:t>Межклассовая изомер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изомеры относятся к разным классам органических соеди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ется просто запомнить какие классы соединений изомерны друг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ссмотрим некоторые примеры межклассовой изоме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ен                   циклоал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тен -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I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иклобу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ин                   ди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≡ С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СН – СН =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ин – 1                                               бутадиен – 1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Oval 4"/>
          <p:cNvSpPr/>
          <p:nvPr/>
        </p:nvSpPr>
        <p:spPr>
          <a:xfrm rot="645600">
            <a:off x="6516720" y="189000"/>
            <a:ext cx="244800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edff"/>
                </a:solidFill>
                <a:latin typeface="Arial"/>
              </a:rPr>
              <a:t>Углеводо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358560" y="54936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пирт             просто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Н 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анол                                               диметиловый эф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ислота             сложны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ОН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овая кислота                                             метилаце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дегид                 ке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О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аль                                                    пропанон –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Oval 4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Кислород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аминокислота             нитросоеди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ООН         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 – аминоэтановая кислота                            нитроэ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ожно найти межклассовые изомеры и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ругих соединений. Подумайте сами, для ка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Oval 7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Азот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тическая изоме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и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Oval 4"/>
          <p:cNvSpPr/>
          <p:nvPr/>
        </p:nvSpPr>
        <p:spPr>
          <a:xfrm rot="21226800">
            <a:off x="5359320" y="5659200"/>
            <a:ext cx="3600360" cy="1054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й с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он вращ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9cd39"/>
                </a:solidFill>
                <a:latin typeface="Arial"/>
              </a:rPr>
              <a:t>Динамическая изомерия (таутомери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Таутомер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ассмотрим некоторые примеры таутомери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Oval 4"/>
          <p:cNvSpPr/>
          <p:nvPr/>
        </p:nvSpPr>
        <p:spPr>
          <a:xfrm>
            <a:off x="1692360" y="3933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5"/>
          <p:cNvSpPr/>
          <p:nvPr/>
        </p:nvSpPr>
        <p:spPr>
          <a:xfrm>
            <a:off x="1619280" y="2852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6"/>
          <p:cNvSpPr/>
          <p:nvPr/>
        </p:nvSpPr>
        <p:spPr>
          <a:xfrm>
            <a:off x="755640" y="4221000"/>
            <a:ext cx="576360" cy="50508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2700360" y="40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Line 9"/>
          <p:cNvSpPr/>
          <p:nvPr/>
        </p:nvSpPr>
        <p:spPr>
          <a:xfrm>
            <a:off x="1979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1"/>
          <p:cNvSpPr/>
          <p:nvPr/>
        </p:nvSpPr>
        <p:spPr>
          <a:xfrm flipV="1">
            <a:off x="1332000" y="436572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2"/>
          <p:cNvSpPr/>
          <p:nvPr/>
        </p:nvSpPr>
        <p:spPr>
          <a:xfrm>
            <a:off x="2342160" y="4263840"/>
            <a:ext cx="356040" cy="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2124000" y="4581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14"/>
          <p:cNvSpPr/>
          <p:nvPr/>
        </p:nvSpPr>
        <p:spPr>
          <a:xfrm>
            <a:off x="6948360" y="278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c5a7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15"/>
          <p:cNvSpPr/>
          <p:nvPr/>
        </p:nvSpPr>
        <p:spPr>
          <a:xfrm>
            <a:off x="6084720" y="4005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16"/>
          <p:cNvSpPr/>
          <p:nvPr/>
        </p:nvSpPr>
        <p:spPr>
          <a:xfrm>
            <a:off x="7020000" y="3860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7"/>
          <p:cNvSpPr/>
          <p:nvPr/>
        </p:nvSpPr>
        <p:spPr>
          <a:xfrm>
            <a:off x="7380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8"/>
          <p:cNvSpPr/>
          <p:nvPr/>
        </p:nvSpPr>
        <p:spPr>
          <a:xfrm flipV="1">
            <a:off x="6660720" y="4201920"/>
            <a:ext cx="35820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 flipH="1" flipV="1">
            <a:off x="7667280" y="429264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Oval 20"/>
          <p:cNvSpPr/>
          <p:nvPr/>
        </p:nvSpPr>
        <p:spPr>
          <a:xfrm>
            <a:off x="8028000" y="4149720"/>
            <a:ext cx="576360" cy="504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21"/>
          <p:cNvSpPr/>
          <p:nvPr/>
        </p:nvSpPr>
        <p:spPr>
          <a:xfrm flipH="1">
            <a:off x="7020000" y="4508640"/>
            <a:ext cx="21600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Oval 22"/>
          <p:cNvSpPr/>
          <p:nvPr/>
        </p:nvSpPr>
        <p:spPr>
          <a:xfrm>
            <a:off x="6443640" y="494172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2124000" y="5013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3"/>
          <p:cNvSpPr/>
          <p:nvPr/>
        </p:nvSpPr>
        <p:spPr>
          <a:xfrm>
            <a:off x="2987640" y="5661000"/>
            <a:ext cx="3600360" cy="1081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24"/>
          <p:cNvSpPr/>
          <p:nvPr/>
        </p:nvSpPr>
        <p:spPr>
          <a:xfrm flipH="1">
            <a:off x="467640" y="5084640"/>
            <a:ext cx="1176120" cy="1422360"/>
          </a:xfrm>
          <a:custGeom>
            <a:avLst/>
            <a:gdLst>
              <a:gd name="textAreaLeft" fmla="*/ -360 w 1176120"/>
              <a:gd name="textAreaRight" fmla="*/ 1176120 w 117612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25"/>
          <p:cNvSpPr/>
          <p:nvPr/>
        </p:nvSpPr>
        <p:spPr>
          <a:xfrm>
            <a:off x="7451640" y="5013360"/>
            <a:ext cx="1170000" cy="142236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существования оптических изомеров необходим </a:t>
            </a: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асимметрическ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атом угле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случае возможны два различных расположения молеку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140328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15"/>
          <p:cNvSpPr/>
          <p:nvPr/>
        </p:nvSpPr>
        <p:spPr>
          <a:xfrm>
            <a:off x="68436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16"/>
          <p:cNvSpPr/>
          <p:nvPr/>
        </p:nvSpPr>
        <p:spPr>
          <a:xfrm>
            <a:off x="2195640" y="5516640"/>
            <a:ext cx="433440" cy="431640"/>
          </a:xfrm>
          <a:prstGeom prst="ellipse">
            <a:avLst/>
          </a:prstGeom>
          <a:gradFill rotWithShape="0">
            <a:gsLst>
              <a:gs pos="0">
                <a:srgbClr val="c1a3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17"/>
          <p:cNvSpPr/>
          <p:nvPr/>
        </p:nvSpPr>
        <p:spPr>
          <a:xfrm>
            <a:off x="140328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Oval 18"/>
          <p:cNvSpPr/>
          <p:nvPr/>
        </p:nvSpPr>
        <p:spPr>
          <a:xfrm>
            <a:off x="1835280" y="6093000"/>
            <a:ext cx="433080" cy="43164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Oval 19"/>
          <p:cNvSpPr/>
          <p:nvPr/>
        </p:nvSpPr>
        <p:spPr>
          <a:xfrm>
            <a:off x="4427640" y="602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58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Oval 20"/>
          <p:cNvSpPr/>
          <p:nvPr/>
        </p:nvSpPr>
        <p:spPr>
          <a:xfrm>
            <a:off x="4140360" y="5516640"/>
            <a:ext cx="433080" cy="43164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22"/>
          <p:cNvSpPr/>
          <p:nvPr/>
        </p:nvSpPr>
        <p:spPr>
          <a:xfrm>
            <a:off x="493236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23"/>
          <p:cNvSpPr/>
          <p:nvPr/>
        </p:nvSpPr>
        <p:spPr>
          <a:xfrm>
            <a:off x="565164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4"/>
          <p:cNvSpPr/>
          <p:nvPr/>
        </p:nvSpPr>
        <p:spPr>
          <a:xfrm>
            <a:off x="493236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161928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26"/>
          <p:cNvSpPr/>
          <p:nvPr/>
        </p:nvSpPr>
        <p:spPr>
          <a:xfrm>
            <a:off x="514836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27"/>
          <p:cNvSpPr/>
          <p:nvPr/>
        </p:nvSpPr>
        <p:spPr>
          <a:xfrm>
            <a:off x="183528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28"/>
          <p:cNvSpPr/>
          <p:nvPr/>
        </p:nvSpPr>
        <p:spPr>
          <a:xfrm flipH="1">
            <a:off x="457164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30"/>
          <p:cNvSpPr/>
          <p:nvPr/>
        </p:nvSpPr>
        <p:spPr>
          <a:xfrm flipV="1">
            <a:off x="1085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31"/>
          <p:cNvSpPr/>
          <p:nvPr/>
        </p:nvSpPr>
        <p:spPr>
          <a:xfrm flipH="1" flipV="1">
            <a:off x="5333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32"/>
          <p:cNvSpPr/>
          <p:nvPr/>
        </p:nvSpPr>
        <p:spPr>
          <a:xfrm>
            <a:off x="169236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Line 33"/>
          <p:cNvSpPr/>
          <p:nvPr/>
        </p:nvSpPr>
        <p:spPr>
          <a:xfrm flipH="1">
            <a:off x="478800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Oval 34"/>
          <p:cNvSpPr/>
          <p:nvPr/>
        </p:nvSpPr>
        <p:spPr>
          <a:xfrm rot="20420400">
            <a:off x="6013440" y="5462640"/>
            <a:ext cx="3132000" cy="11271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природе встре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роде наибольшее значение имеет оптическая изомер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углеводов и аминокисло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Oval 4"/>
          <p:cNvSpPr/>
          <p:nvPr/>
        </p:nvSpPr>
        <p:spPr>
          <a:xfrm>
            <a:off x="468360" y="2924280"/>
            <a:ext cx="8064360" cy="2879640"/>
          </a:xfrm>
          <a:prstGeom prst="ellipse">
            <a:avLst/>
          </a:prstGeom>
          <a:solidFill>
            <a:srgbClr val="abab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 что практически 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ные» углеводы имею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фигураци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аминокисл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ются только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 – 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=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en-US" sz="1800" spc="-1" strike="noStrike">
                <a:solidFill>
                  <a:srgbClr val="c9cd39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d39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H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            НО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     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I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 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Oval 3"/>
          <p:cNvSpPr/>
          <p:nvPr/>
        </p:nvSpPr>
        <p:spPr>
          <a:xfrm rot="20692200">
            <a:off x="4858920" y="5444640"/>
            <a:ext cx="4103640" cy="10083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терм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тической изомер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975600">
            <a:off x="0" y="1125360"/>
            <a:ext cx="194472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распростран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351200">
            <a:off x="4859280" y="1268280"/>
            <a:ext cx="187164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в приро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не встреч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19040" y="240840"/>
            <a:ext cx="4632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которые терм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95280" y="1386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ая изомерия – иначе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ая изомерия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ие изомеры – иначе называются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ыми изом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а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пособность соединений существовать в виде пары зеркальных изоме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цент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а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Рацема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4"/>
          <p:cNvSpPr/>
          <p:nvPr/>
        </p:nvSpPr>
        <p:spPr>
          <a:xfrm>
            <a:off x="179280" y="189000"/>
            <a:ext cx="216072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b9b9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5"/>
          <p:cNvSpPr/>
          <p:nvPr/>
        </p:nvSpPr>
        <p:spPr>
          <a:xfrm>
            <a:off x="6443640" y="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вет пропустить через специальный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все световые волны будут колебаться в одной плоск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свет называется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лоско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908000" y="3068640"/>
            <a:ext cx="4932000" cy="2027160"/>
            <a:chOff x="1908000" y="3068640"/>
            <a:chExt cx="4932000" cy="2027160"/>
          </a:xfrm>
        </p:grpSpPr>
        <p:sp>
          <p:nvSpPr>
            <p:cNvPr id="1303" name="AutoShape 5"/>
            <p:cNvSpPr/>
            <p:nvPr/>
          </p:nvSpPr>
          <p:spPr>
            <a:xfrm>
              <a:off x="1908000" y="3068640"/>
              <a:ext cx="4932000" cy="20271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6"/>
            <p:cNvSpPr/>
            <p:nvPr/>
          </p:nvSpPr>
          <p:spPr>
            <a:xfrm>
              <a:off x="4682160" y="3873600"/>
              <a:ext cx="1075680" cy="3294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4920840" y="3873600"/>
              <a:ext cx="598320" cy="32940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AutoShape 8"/>
            <p:cNvSpPr/>
            <p:nvPr/>
          </p:nvSpPr>
          <p:spPr>
            <a:xfrm>
              <a:off x="5040000" y="3072960"/>
              <a:ext cx="1314360" cy="434880"/>
            </a:xfrm>
            <a:prstGeom prst="wedgeRectCallout">
              <a:avLst>
                <a:gd name="adj1" fmla="val -55152"/>
                <a:gd name="adj2" fmla="val 122074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AutoShape 9"/>
            <p:cNvSpPr/>
            <p:nvPr/>
          </p:nvSpPr>
          <p:spPr>
            <a:xfrm>
              <a:off x="1933200" y="3873600"/>
              <a:ext cx="829440" cy="493920"/>
            </a:xfrm>
            <a:prstGeom prst="irregularSeal1">
              <a:avLst/>
            </a:prstGeom>
            <a:gradFill rotWithShape="0">
              <a:gsLst>
                <a:gs pos="0">
                  <a:srgbClr val="ffffb5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AutoShape 10"/>
            <p:cNvSpPr/>
            <p:nvPr/>
          </p:nvSpPr>
          <p:spPr>
            <a:xfrm flipV="1">
              <a:off x="3801960" y="3839400"/>
              <a:ext cx="275400" cy="49428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11"/>
            <p:cNvSpPr/>
            <p:nvPr/>
          </p:nvSpPr>
          <p:spPr>
            <a:xfrm flipV="1">
              <a:off x="3367440" y="4101120"/>
              <a:ext cx="3466800" cy="684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AutoShape 12"/>
            <p:cNvSpPr/>
            <p:nvPr/>
          </p:nvSpPr>
          <p:spPr>
            <a:xfrm>
              <a:off x="3966120" y="4788360"/>
              <a:ext cx="1113120" cy="302400"/>
            </a:xfrm>
            <a:prstGeom prst="wedgeRectCallout">
              <a:avLst>
                <a:gd name="adj1" fmla="val -48032"/>
                <a:gd name="adj2" fmla="val -19033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 rot="16200000">
              <a:off x="2064240" y="3523320"/>
              <a:ext cx="340200" cy="12492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890080" y="3988080"/>
              <a:ext cx="357840" cy="114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 rot="5170800">
              <a:off x="2062440" y="4668120"/>
              <a:ext cx="341640" cy="12312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123120"/>
                <a:gd name="textAreaBottom" fmla="*/ 123120 h 1231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 rot="2100000">
              <a:off x="2531880" y="4558680"/>
              <a:ext cx="355680" cy="117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 rot="18206400">
              <a:off x="2539440" y="3527640"/>
              <a:ext cx="342720" cy="119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435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15г Жан Батист Био открыл явле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тической 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и жидкости изменять (отклонять на некоторый угол)  плоскость поляр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ризованного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рохождения чере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аств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тически активного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+)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ротив часовой стрелки, то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0" name="Group 35"/>
          <p:cNvGrpSpPr/>
          <p:nvPr/>
        </p:nvGrpSpPr>
        <p:grpSpPr>
          <a:xfrm>
            <a:off x="1116000" y="1700280"/>
            <a:ext cx="6408720" cy="2523960"/>
            <a:chOff x="1116000" y="1700280"/>
            <a:chExt cx="6408720" cy="2523960"/>
          </a:xfrm>
        </p:grpSpPr>
        <p:sp>
          <p:nvSpPr>
            <p:cNvPr id="1321" name="AutoShape 36"/>
            <p:cNvSpPr/>
            <p:nvPr/>
          </p:nvSpPr>
          <p:spPr>
            <a:xfrm>
              <a:off x="1116000" y="1700280"/>
              <a:ext cx="6408720" cy="25239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37"/>
            <p:cNvSpPr/>
            <p:nvPr/>
          </p:nvSpPr>
          <p:spPr>
            <a:xfrm>
              <a:off x="2229840" y="2847600"/>
              <a:ext cx="933120" cy="2286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38"/>
            <p:cNvSpPr/>
            <p:nvPr/>
          </p:nvSpPr>
          <p:spPr>
            <a:xfrm>
              <a:off x="2385360" y="2847600"/>
              <a:ext cx="623520" cy="228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AutoShape 39"/>
            <p:cNvSpPr/>
            <p:nvPr/>
          </p:nvSpPr>
          <p:spPr>
            <a:xfrm>
              <a:off x="4253040" y="2847600"/>
              <a:ext cx="1653840" cy="228600"/>
            </a:xfrm>
            <a:prstGeom prst="parallelogram">
              <a:avLst>
                <a:gd name="adj" fmla="val 180866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40"/>
            <p:cNvSpPr/>
            <p:nvPr/>
          </p:nvSpPr>
          <p:spPr>
            <a:xfrm rot="20831400">
              <a:off x="4563720" y="2847240"/>
              <a:ext cx="933120" cy="2286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0" h="875">
                  <a:moveTo>
                    <a:pt x="0" y="270"/>
                  </a:moveTo>
                  <a:cubicBezTo>
                    <a:pt x="15" y="260"/>
                    <a:pt x="29" y="248"/>
                    <a:pt x="45" y="240"/>
                  </a:cubicBezTo>
                  <a:cubicBezTo>
                    <a:pt x="59" y="233"/>
                    <a:pt x="76" y="233"/>
                    <a:pt x="90" y="225"/>
                  </a:cubicBezTo>
                  <a:cubicBezTo>
                    <a:pt x="122" y="207"/>
                    <a:pt x="180" y="165"/>
                    <a:pt x="180" y="165"/>
                  </a:cubicBezTo>
                  <a:cubicBezTo>
                    <a:pt x="235" y="82"/>
                    <a:pt x="178" y="148"/>
                    <a:pt x="255" y="105"/>
                  </a:cubicBezTo>
                  <a:cubicBezTo>
                    <a:pt x="287" y="87"/>
                    <a:pt x="315" y="65"/>
                    <a:pt x="345" y="45"/>
                  </a:cubicBezTo>
                  <a:cubicBezTo>
                    <a:pt x="385" y="19"/>
                    <a:pt x="480" y="7"/>
                    <a:pt x="525" y="0"/>
                  </a:cubicBezTo>
                  <a:cubicBezTo>
                    <a:pt x="603" y="26"/>
                    <a:pt x="609" y="23"/>
                    <a:pt x="630" y="105"/>
                  </a:cubicBezTo>
                  <a:cubicBezTo>
                    <a:pt x="590" y="225"/>
                    <a:pt x="543" y="237"/>
                    <a:pt x="465" y="315"/>
                  </a:cubicBezTo>
                  <a:cubicBezTo>
                    <a:pt x="427" y="428"/>
                    <a:pt x="483" y="293"/>
                    <a:pt x="405" y="390"/>
                  </a:cubicBezTo>
                  <a:cubicBezTo>
                    <a:pt x="395" y="402"/>
                    <a:pt x="397" y="421"/>
                    <a:pt x="390" y="435"/>
                  </a:cubicBezTo>
                  <a:cubicBezTo>
                    <a:pt x="332" y="551"/>
                    <a:pt x="383" y="412"/>
                    <a:pt x="345" y="525"/>
                  </a:cubicBezTo>
                  <a:cubicBezTo>
                    <a:pt x="363" y="578"/>
                    <a:pt x="380" y="621"/>
                    <a:pt x="435" y="645"/>
                  </a:cubicBezTo>
                  <a:cubicBezTo>
                    <a:pt x="464" y="658"/>
                    <a:pt x="525" y="675"/>
                    <a:pt x="525" y="675"/>
                  </a:cubicBezTo>
                  <a:cubicBezTo>
                    <a:pt x="555" y="665"/>
                    <a:pt x="585" y="655"/>
                    <a:pt x="615" y="645"/>
                  </a:cubicBezTo>
                  <a:cubicBezTo>
                    <a:pt x="630" y="640"/>
                    <a:pt x="645" y="635"/>
                    <a:pt x="660" y="630"/>
                  </a:cubicBezTo>
                  <a:cubicBezTo>
                    <a:pt x="675" y="625"/>
                    <a:pt x="705" y="615"/>
                    <a:pt x="705" y="615"/>
                  </a:cubicBezTo>
                  <a:cubicBezTo>
                    <a:pt x="715" y="600"/>
                    <a:pt x="721" y="581"/>
                    <a:pt x="735" y="570"/>
                  </a:cubicBezTo>
                  <a:cubicBezTo>
                    <a:pt x="747" y="560"/>
                    <a:pt x="769" y="566"/>
                    <a:pt x="780" y="555"/>
                  </a:cubicBezTo>
                  <a:cubicBezTo>
                    <a:pt x="791" y="544"/>
                    <a:pt x="782" y="519"/>
                    <a:pt x="795" y="510"/>
                  </a:cubicBezTo>
                  <a:cubicBezTo>
                    <a:pt x="821" y="492"/>
                    <a:pt x="885" y="480"/>
                    <a:pt x="885" y="480"/>
                  </a:cubicBezTo>
                  <a:cubicBezTo>
                    <a:pt x="895" y="465"/>
                    <a:pt x="901" y="446"/>
                    <a:pt x="915" y="435"/>
                  </a:cubicBezTo>
                  <a:cubicBezTo>
                    <a:pt x="927" y="425"/>
                    <a:pt x="946" y="428"/>
                    <a:pt x="960" y="420"/>
                  </a:cubicBezTo>
                  <a:cubicBezTo>
                    <a:pt x="992" y="402"/>
                    <a:pt x="1020" y="380"/>
                    <a:pt x="1050" y="360"/>
                  </a:cubicBezTo>
                  <a:cubicBezTo>
                    <a:pt x="1080" y="340"/>
                    <a:pt x="1106" y="311"/>
                    <a:pt x="1140" y="300"/>
                  </a:cubicBezTo>
                  <a:cubicBezTo>
                    <a:pt x="1170" y="290"/>
                    <a:pt x="1200" y="280"/>
                    <a:pt x="1230" y="270"/>
                  </a:cubicBezTo>
                  <a:cubicBezTo>
                    <a:pt x="1245" y="265"/>
                    <a:pt x="1275" y="255"/>
                    <a:pt x="1275" y="255"/>
                  </a:cubicBezTo>
                  <a:cubicBezTo>
                    <a:pt x="1340" y="260"/>
                    <a:pt x="1411" y="242"/>
                    <a:pt x="1470" y="270"/>
                  </a:cubicBezTo>
                  <a:cubicBezTo>
                    <a:pt x="1499" y="283"/>
                    <a:pt x="1500" y="360"/>
                    <a:pt x="1500" y="360"/>
                  </a:cubicBezTo>
                  <a:cubicBezTo>
                    <a:pt x="1500" y="361"/>
                    <a:pt x="1477" y="458"/>
                    <a:pt x="1470" y="465"/>
                  </a:cubicBezTo>
                  <a:cubicBezTo>
                    <a:pt x="1445" y="490"/>
                    <a:pt x="1410" y="505"/>
                    <a:pt x="1380" y="525"/>
                  </a:cubicBezTo>
                  <a:cubicBezTo>
                    <a:pt x="1365" y="535"/>
                    <a:pt x="1335" y="555"/>
                    <a:pt x="1335" y="555"/>
                  </a:cubicBezTo>
                  <a:cubicBezTo>
                    <a:pt x="1330" y="570"/>
                    <a:pt x="1327" y="586"/>
                    <a:pt x="1320" y="600"/>
                  </a:cubicBezTo>
                  <a:cubicBezTo>
                    <a:pt x="1312" y="616"/>
                    <a:pt x="1297" y="629"/>
                    <a:pt x="1290" y="645"/>
                  </a:cubicBezTo>
                  <a:cubicBezTo>
                    <a:pt x="1277" y="674"/>
                    <a:pt x="1270" y="705"/>
                    <a:pt x="1260" y="735"/>
                  </a:cubicBezTo>
                  <a:cubicBezTo>
                    <a:pt x="1255" y="750"/>
                    <a:pt x="1245" y="780"/>
                    <a:pt x="1245" y="780"/>
                  </a:cubicBezTo>
                  <a:cubicBezTo>
                    <a:pt x="1277" y="875"/>
                    <a:pt x="1328" y="837"/>
                    <a:pt x="1425" y="825"/>
                  </a:cubicBezTo>
                  <a:cubicBezTo>
                    <a:pt x="1494" y="802"/>
                    <a:pt x="1578" y="765"/>
                    <a:pt x="1650" y="76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41"/>
            <p:cNvSpPr/>
            <p:nvPr/>
          </p:nvSpPr>
          <p:spPr>
            <a:xfrm>
              <a:off x="3318480" y="2619000"/>
              <a:ext cx="466920" cy="5720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100000">
                  <a:srgbClr val="6a6a6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Line 42"/>
            <p:cNvSpPr/>
            <p:nvPr/>
          </p:nvSpPr>
          <p:spPr>
            <a:xfrm>
              <a:off x="3940920" y="2390400"/>
              <a:ext cx="108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Line 43"/>
            <p:cNvSpPr/>
            <p:nvPr/>
          </p:nvSpPr>
          <p:spPr>
            <a:xfrm flipH="1">
              <a:off x="3652920" y="2496960"/>
              <a:ext cx="1042560" cy="93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44"/>
            <p:cNvSpPr/>
            <p:nvPr/>
          </p:nvSpPr>
          <p:spPr>
            <a:xfrm rot="878400">
              <a:off x="3940560" y="2619000"/>
              <a:ext cx="465840" cy="1144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40" h="345">
                  <a:moveTo>
                    <a:pt x="0" y="105"/>
                  </a:moveTo>
                  <a:cubicBezTo>
                    <a:pt x="70" y="82"/>
                    <a:pt x="126" y="51"/>
                    <a:pt x="195" y="30"/>
                  </a:cubicBezTo>
                  <a:cubicBezTo>
                    <a:pt x="225" y="21"/>
                    <a:pt x="285" y="0"/>
                    <a:pt x="285" y="0"/>
                  </a:cubicBezTo>
                  <a:cubicBezTo>
                    <a:pt x="310" y="5"/>
                    <a:pt x="335" y="9"/>
                    <a:pt x="360" y="15"/>
                  </a:cubicBezTo>
                  <a:cubicBezTo>
                    <a:pt x="375" y="19"/>
                    <a:pt x="390" y="27"/>
                    <a:pt x="405" y="30"/>
                  </a:cubicBezTo>
                  <a:cubicBezTo>
                    <a:pt x="498" y="51"/>
                    <a:pt x="580" y="51"/>
                    <a:pt x="660" y="105"/>
                  </a:cubicBezTo>
                  <a:cubicBezTo>
                    <a:pt x="746" y="234"/>
                    <a:pt x="631" y="82"/>
                    <a:pt x="735" y="165"/>
                  </a:cubicBezTo>
                  <a:cubicBezTo>
                    <a:pt x="749" y="176"/>
                    <a:pt x="752" y="197"/>
                    <a:pt x="765" y="210"/>
                  </a:cubicBezTo>
                  <a:cubicBezTo>
                    <a:pt x="778" y="223"/>
                    <a:pt x="795" y="230"/>
                    <a:pt x="810" y="240"/>
                  </a:cubicBezTo>
                  <a:cubicBezTo>
                    <a:pt x="815" y="260"/>
                    <a:pt x="819" y="280"/>
                    <a:pt x="825" y="300"/>
                  </a:cubicBezTo>
                  <a:cubicBezTo>
                    <a:pt x="829" y="315"/>
                    <a:pt x="840" y="345"/>
                    <a:pt x="840" y="345"/>
                  </a:cubicBezTo>
                </a:path>
              </a:pathLst>
            </a:custGeom>
            <a:solidFill>
              <a:srgbClr val="c4c4c4"/>
            </a:solidFill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45"/>
            <p:cNvSpPr/>
            <p:nvPr/>
          </p:nvSpPr>
          <p:spPr>
            <a:xfrm>
              <a:off x="4248360" y="2455200"/>
              <a:ext cx="159840" cy="149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17" h="331">
                  <a:moveTo>
                    <a:pt x="157" y="0"/>
                  </a:moveTo>
                  <a:cubicBezTo>
                    <a:pt x="139" y="109"/>
                    <a:pt x="129" y="193"/>
                    <a:pt x="52" y="270"/>
                  </a:cubicBezTo>
                  <a:cubicBezTo>
                    <a:pt x="37" y="265"/>
                    <a:pt x="14" y="269"/>
                    <a:pt x="7" y="255"/>
                  </a:cubicBezTo>
                  <a:cubicBezTo>
                    <a:pt x="0" y="241"/>
                    <a:pt x="7" y="216"/>
                    <a:pt x="22" y="210"/>
                  </a:cubicBezTo>
                  <a:cubicBezTo>
                    <a:pt x="41" y="202"/>
                    <a:pt x="62" y="220"/>
                    <a:pt x="82" y="225"/>
                  </a:cubicBezTo>
                  <a:cubicBezTo>
                    <a:pt x="144" y="319"/>
                    <a:pt x="111" y="331"/>
                    <a:pt x="187" y="300"/>
                  </a:cubicBezTo>
                  <a:cubicBezTo>
                    <a:pt x="197" y="296"/>
                    <a:pt x="207" y="290"/>
                    <a:pt x="217" y="28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AutoShape 46"/>
            <p:cNvSpPr/>
            <p:nvPr/>
          </p:nvSpPr>
          <p:spPr>
            <a:xfrm>
              <a:off x="6585840" y="2733840"/>
              <a:ext cx="621360" cy="3441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AutoShape 47"/>
            <p:cNvSpPr/>
            <p:nvPr/>
          </p:nvSpPr>
          <p:spPr>
            <a:xfrm>
              <a:off x="1451880" y="2047680"/>
              <a:ext cx="1249200" cy="456480"/>
            </a:xfrm>
            <a:prstGeom prst="wedgeRectCallout">
              <a:avLst>
                <a:gd name="adj1" fmla="val 27699"/>
                <a:gd name="adj2" fmla="val 118055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AutoShape 48"/>
            <p:cNvSpPr/>
            <p:nvPr/>
          </p:nvSpPr>
          <p:spPr>
            <a:xfrm>
              <a:off x="3007800" y="1704960"/>
              <a:ext cx="1400400" cy="457200"/>
            </a:xfrm>
            <a:prstGeom prst="wedgeRectCallout">
              <a:avLst>
                <a:gd name="adj1" fmla="val -16666"/>
                <a:gd name="adj2" fmla="val 13888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уемый раств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AutoShape 49"/>
            <p:cNvSpPr/>
            <p:nvPr/>
          </p:nvSpPr>
          <p:spPr>
            <a:xfrm>
              <a:off x="1141200" y="2733840"/>
              <a:ext cx="467280" cy="342720"/>
            </a:xfrm>
            <a:prstGeom prst="irregularSeal1">
              <a:avLst/>
            </a:prstGeom>
            <a:gradFill rotWithShape="0">
              <a:gsLst>
                <a:gs pos="0">
                  <a:srgbClr val="ffffb1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AutoShape 50"/>
            <p:cNvSpPr/>
            <p:nvPr/>
          </p:nvSpPr>
          <p:spPr>
            <a:xfrm flipV="1">
              <a:off x="1763640" y="2733840"/>
              <a:ext cx="155160" cy="34272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51"/>
            <p:cNvSpPr/>
            <p:nvPr/>
          </p:nvSpPr>
          <p:spPr>
            <a:xfrm>
              <a:off x="1608480" y="2961720"/>
              <a:ext cx="4821840" cy="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AutoShape 52"/>
            <p:cNvSpPr/>
            <p:nvPr/>
          </p:nvSpPr>
          <p:spPr>
            <a:xfrm>
              <a:off x="1296360" y="3419280"/>
              <a:ext cx="1243800" cy="343080"/>
            </a:xfrm>
            <a:prstGeom prst="wedgeRectCallout">
              <a:avLst>
                <a:gd name="adj1" fmla="val -4092"/>
                <a:gd name="adj2" fmla="val -14389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AutoShape 53"/>
            <p:cNvSpPr/>
            <p:nvPr/>
          </p:nvSpPr>
          <p:spPr>
            <a:xfrm>
              <a:off x="6119640" y="2047680"/>
              <a:ext cx="1398240" cy="344880"/>
            </a:xfrm>
            <a:prstGeom prst="wedgeRectCallout">
              <a:avLst>
                <a:gd name="adj1" fmla="val 11120"/>
                <a:gd name="adj2" fmla="val 132171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блюдател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AutoShape 54"/>
            <p:cNvSpPr/>
            <p:nvPr/>
          </p:nvSpPr>
          <p:spPr>
            <a:xfrm>
              <a:off x="4563720" y="3304440"/>
              <a:ext cx="1243800" cy="914760"/>
            </a:xfrm>
            <a:prstGeom prst="wedgeRectCallout">
              <a:avLst>
                <a:gd name="adj1" fmla="val -52078"/>
                <a:gd name="adj2" fmla="val -7109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лоскость поляризации света повернулась на угол 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55"/>
            <p:cNvSpPr/>
            <p:nvPr/>
          </p:nvSpPr>
          <p:spPr>
            <a:xfrm>
              <a:off x="3327480" y="2728080"/>
              <a:ext cx="439200" cy="2880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0" h="45">
                  <a:moveTo>
                    <a:pt x="0" y="30"/>
                  </a:moveTo>
                  <a:cubicBezTo>
                    <a:pt x="25" y="25"/>
                    <a:pt x="50" y="13"/>
                    <a:pt x="75" y="15"/>
                  </a:cubicBezTo>
                  <a:cubicBezTo>
                    <a:pt x="106" y="18"/>
                    <a:pt x="165" y="45"/>
                    <a:pt x="165" y="45"/>
                  </a:cubicBezTo>
                  <a:cubicBezTo>
                    <a:pt x="195" y="35"/>
                    <a:pt x="225" y="25"/>
                    <a:pt x="255" y="15"/>
                  </a:cubicBezTo>
                  <a:cubicBezTo>
                    <a:pt x="270" y="10"/>
                    <a:pt x="300" y="0"/>
                    <a:pt x="300" y="0"/>
                  </a:cubicBezTo>
                  <a:cubicBezTo>
                    <a:pt x="315" y="10"/>
                    <a:pt x="327" y="28"/>
                    <a:pt x="345" y="30"/>
                  </a:cubicBezTo>
                  <a:cubicBezTo>
                    <a:pt x="397" y="36"/>
                    <a:pt x="456" y="0"/>
                    <a:pt x="510" y="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AutoShape 56"/>
          <p:cNvSpPr/>
          <p:nvPr/>
        </p:nvSpPr>
        <p:spPr>
          <a:xfrm>
            <a:off x="7020000" y="5734080"/>
            <a:ext cx="1834920" cy="963720"/>
          </a:xfrm>
          <a:prstGeom prst="upArrowCallout">
            <a:avLst>
              <a:gd name="adj1" fmla="val 47604"/>
              <a:gd name="adj2" fmla="val 47600"/>
              <a:gd name="adj3" fmla="val 16667"/>
              <a:gd name="adj4" fmla="val 66660"/>
            </a:avLst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Вы поняли что такое изоме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Научились строить изом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Значит самое время приступить к выполнению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Желаю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WordArt 4"/>
          <p:cNvSpPr txBox="1"/>
          <p:nvPr/>
        </p:nvSpPr>
        <p:spPr>
          <a:xfrm rot="21455400">
            <a:off x="611280" y="25236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конец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Кето – енольные превращ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 есть превращение непредельного спирта в кетон или альдеги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ример, такое превращение наблюдается в 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еакции Кучеров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(гидратация алкинов в присутствии катализатора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≡ СН  +  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О  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C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тин                                            э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нол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этанал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данном случае наблюдается перенос подвижн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тома водород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от кислорода к соседнему атому угле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 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=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Arc 4"/>
          <p:cNvSpPr/>
          <p:nvPr/>
        </p:nvSpPr>
        <p:spPr>
          <a:xfrm rot="7284600">
            <a:off x="1985400" y="4933800"/>
            <a:ext cx="1712880" cy="15829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582920"/>
              <a:gd name="textAreaBottom" fmla="*/ 1583280 h 1582920"/>
            </a:gdLst>
            <a:ahLst/>
            <a:rect l="textAreaLeft" t="textAreaTop" r="textAreaRight" b="textAreaBottom"/>
            <a:pathLst>
              <a:path fill="none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</a:path>
              <a:path stroke="0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  <a:lnTo>
                  <a:pt x="0" y="19287"/>
                </a:lnTo>
                <a:lnTo>
                  <a:pt x="9724" y="0"/>
                </a:lnTo>
                <a:close/>
              </a:path>
            </a:pathLst>
          </a:custGeom>
          <a:noFill/>
          <a:ln w="28440">
            <a:solidFill>
              <a:srgbClr val="f8fb85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Н – С = О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O – C –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bfdbb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люкоза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глюко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7fa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OH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крытая (линейная) форм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04" name="Group 6"/>
          <p:cNvGrpSpPr/>
          <p:nvPr/>
        </p:nvGrpSpPr>
        <p:grpSpPr>
          <a:xfrm>
            <a:off x="6300720" y="2781360"/>
            <a:ext cx="2197080" cy="1942920"/>
            <a:chOff x="6300720" y="2781360"/>
            <a:chExt cx="2197080" cy="1942920"/>
          </a:xfrm>
        </p:grpSpPr>
        <p:sp>
          <p:nvSpPr>
            <p:cNvPr id="1105" name="AutoShape 7"/>
            <p:cNvSpPr/>
            <p:nvPr/>
          </p:nvSpPr>
          <p:spPr>
            <a:xfrm>
              <a:off x="6300720" y="2781360"/>
              <a:ext cx="21970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6313320" y="3109320"/>
              <a:ext cx="2172240" cy="1284840"/>
            </a:xfrm>
            <a:prstGeom prst="hexagon">
              <a:avLst>
                <a:gd name="adj" fmla="val 4226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9"/>
            <p:cNvSpPr/>
            <p:nvPr/>
          </p:nvSpPr>
          <p:spPr>
            <a:xfrm>
              <a:off x="6885000" y="2787840"/>
              <a:ext cx="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79146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1"/>
            <p:cNvSpPr/>
            <p:nvPr/>
          </p:nvSpPr>
          <p:spPr>
            <a:xfrm>
              <a:off x="631332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2"/>
            <p:cNvSpPr/>
            <p:nvPr/>
          </p:nvSpPr>
          <p:spPr>
            <a:xfrm>
              <a:off x="68850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13"/>
            <p:cNvSpPr/>
            <p:nvPr/>
          </p:nvSpPr>
          <p:spPr>
            <a:xfrm>
              <a:off x="848556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2" name="Group 14"/>
          <p:cNvGrpSpPr/>
          <p:nvPr/>
        </p:nvGrpSpPr>
        <p:grpSpPr>
          <a:xfrm>
            <a:off x="539640" y="2781360"/>
            <a:ext cx="2197080" cy="1871640"/>
            <a:chOff x="539640" y="2781360"/>
            <a:chExt cx="2197080" cy="1871640"/>
          </a:xfrm>
        </p:grpSpPr>
        <p:sp>
          <p:nvSpPr>
            <p:cNvPr id="1113" name="AutoShape 15"/>
            <p:cNvSpPr/>
            <p:nvPr/>
          </p:nvSpPr>
          <p:spPr>
            <a:xfrm>
              <a:off x="539640" y="2781360"/>
              <a:ext cx="21970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AutoShape 16"/>
            <p:cNvSpPr/>
            <p:nvPr/>
          </p:nvSpPr>
          <p:spPr>
            <a:xfrm>
              <a:off x="552240" y="3097440"/>
              <a:ext cx="2172240" cy="1237680"/>
            </a:xfrm>
            <a:prstGeom prst="hexagon">
              <a:avLst>
                <a:gd name="adj" fmla="val 4387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17"/>
            <p:cNvSpPr/>
            <p:nvPr/>
          </p:nvSpPr>
          <p:spPr>
            <a:xfrm>
              <a:off x="1123920" y="2787840"/>
              <a:ext cx="0" cy="6195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18"/>
            <p:cNvSpPr/>
            <p:nvPr/>
          </p:nvSpPr>
          <p:spPr>
            <a:xfrm>
              <a:off x="21535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19"/>
            <p:cNvSpPr/>
            <p:nvPr/>
          </p:nvSpPr>
          <p:spPr>
            <a:xfrm>
              <a:off x="55224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20"/>
            <p:cNvSpPr/>
            <p:nvPr/>
          </p:nvSpPr>
          <p:spPr>
            <a:xfrm>
              <a:off x="11239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272448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5640" y="-360"/>
            <a:ext cx="381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Таутомеры глюкоз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AutoShape 22">
            <a:hlinkClick r:id="rId1" action="ppaction://hlinksldjump"/>
          </p:cNvPr>
          <p:cNvSpPr/>
          <p:nvPr/>
        </p:nvSpPr>
        <p:spPr>
          <a:xfrm>
            <a:off x="250920" y="26028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23">
            <a:hlinkClick r:id="rId2" action="ppaction://hlinksldjump"/>
          </p:cNvPr>
          <p:cNvSpPr/>
          <p:nvPr/>
        </p:nvSpPr>
        <p:spPr>
          <a:xfrm>
            <a:off x="6732720" y="26028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Геометрическая изоме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вид изомерии предполагает наличие двух изомеров: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цис–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транс–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метрическая изомерия характерна для соединений, в которых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возможно свободное вращение вокруг углерод – углеродной связи (например, алкен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 атомы углерода связан с двумя различными групп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геометрическую изомерию на примере бутена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ишем структурную формулу бутена –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 – СН = СН – 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круг двойной связи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= С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водород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два способа расположить эти радика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С =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ци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 изомер:                                              Это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изомер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динаковые радикалы                                одинаковые радика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положены                                                                расположе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одну сторону                                                  по разные ст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ойной связи.                                                            двойной свя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Oval 4">
            <a:hlinkClick r:id="rId1" action="ppaction://hlinksldjump"/>
          </p:cNvPr>
          <p:cNvSpPr/>
          <p:nvPr/>
        </p:nvSpPr>
        <p:spPr>
          <a:xfrm>
            <a:off x="2771640" y="5516640"/>
            <a:ext cx="3313080" cy="115236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у бутена -1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8:13:16Z</dcterms:created>
  <dc:creator>Мама</dc:creator>
  <dc:description/>
  <dc:language>en-US</dc:language>
  <cp:lastModifiedBy>LEGION</cp:lastModifiedBy>
  <dcterms:modified xsi:type="dcterms:W3CDTF">2015-05-01T12:09:30Z</dcterms:modified>
  <cp:revision>123</cp:revision>
  <dc:subject/>
  <dc:title>Изомерия</dc:title>
</cp:coreProperties>
</file>