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  <p:sldId id="296" r:id="rId56"/>
    <p:sldId id="297" r:id="rId57"/>
    <p:sldId id="298" r:id="rId58"/>
    <p:sldId id="299" r:id="rId59"/>
    <p:sldId id="300" r:id="rId60"/>
    <p:sldId id="301" r:id="rId61"/>
    <p:sldId id="302" r:id="rId62"/>
    <p:sldId id="303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slide" Target="slides/slide41.xml"/><Relationship Id="rId57" Type="http://schemas.openxmlformats.org/officeDocument/2006/relationships/slide" Target="slides/slide42.xml"/><Relationship Id="rId58" Type="http://schemas.openxmlformats.org/officeDocument/2006/relationships/slide" Target="slides/slide43.xml"/><Relationship Id="rId59" Type="http://schemas.openxmlformats.org/officeDocument/2006/relationships/slide" Target="slides/slide44.xml"/><Relationship Id="rId60" Type="http://schemas.openxmlformats.org/officeDocument/2006/relationships/slide" Target="slides/slide45.xml"/><Relationship Id="rId61" Type="http://schemas.openxmlformats.org/officeDocument/2006/relationships/slide" Target="slides/slide46.xml"/><Relationship Id="rId62" Type="http://schemas.openxmlformats.org/officeDocument/2006/relationships/slide" Target="slides/slide47.xml"/><Relationship Id="rId63" Type="http://schemas.openxmlformats.org/officeDocument/2006/relationships/slide" Target="slides/slide48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FD059-055F-46EF-856A-C659C1CB533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Impact"/>
              </a:rPr>
              <a:t>изомер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Чтобы начать работу, нажмите «Показ слайдов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D1F94-7042-45BC-9BF2-18B46F7109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так, мы получили два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геометрических изомера бутена–2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бутен–2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СН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3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F174-B2EB-43EB-9234-0A9CBEC5EEF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метрических изомеров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утена -1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08BEA-8391-4CE3-91F5-3904CC4571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опробуем составить геометрические изомеры бутена -1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СН2 – СН3                            Н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         Н                             Н3С – Н2С       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изображают одн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бутена -1 не существует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99AE-8979-4121-BD71-B1CBE24C5B1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уществует еще один изомер С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ff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–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2–метилпропен. Попробуем составить формулы его геометрических изоме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        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 =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                                        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000" spc="-1" strike="noStrike">
                <a:solidFill>
                  <a:srgbClr val="f4bd6c"/>
                </a:solidFill>
                <a:latin typeface="Calibri"/>
              </a:rPr>
              <a:t>I             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ак видите, эти структурные формулы так же изображают одно и то же вещество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так, геометрических изомеров 2 – метилпропена – 1 не суще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6089-5AFA-4A9A-8881-94977F90C75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зомерия углеродного скел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характерен для всех классов органических со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мерия углеродного скелета – единственно возможный вид изомерии алк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00080"/>
                </a:solidFill>
                <a:latin typeface="Calibri"/>
              </a:rPr>
              <a:t>Рассмотрим изомерию углеродного скелета на примере пентана 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6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800080"/>
                </a:solidFill>
                <a:latin typeface="Calibri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2C54-AB0B-4F1E-9961-33AAF771E6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Составим структурную формулу простейшего изомера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5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900" spc="-1" strike="noStrike">
                <a:solidFill>
                  <a:srgbClr val="800080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, имеющего линейное строение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изобразим его углеродный скелет, расположив в ряд все пять атомов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водорода -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написали структурную формулу простейшего изоме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ПЕНТАНА</a:t>
            </a: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. А можно ли составить формулу другого изомера?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745F-582D-46FF-8F44-F3C0F6920B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сделаем основную цепочку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роч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асположим в ряд четыре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пятый атом присоединим к одному из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редни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ных атомо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, не забывая про валентнос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Мы получили формул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ff"/>
                </a:solidFill>
                <a:latin typeface="Calibri"/>
              </a:rPr>
              <a:t>2 – МЕТИЛБУТА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A0CC-3D48-4A41-BF0D-337BF87A08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пробуем написать формулу изомера, содержащего в основной цепи три атома угле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 – С –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калов и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ы получили формулу еще одного изомера </a:t>
            </a: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ff"/>
                </a:solidFill>
                <a:latin typeface="Calibri"/>
              </a:rPr>
              <a:t>2,2 – ДИМЕТИЛПРОПАНА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E4B65-A2AB-47AE-A4C3-BB9FF1A453D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Итак, мы получили три изомера </a:t>
            </a:r>
            <a:br>
              <a:rPr sz="1200"/>
            </a:b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 эмпирической формулой С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0" lang="ru-RU" sz="800" spc="-1" strike="noStrike">
                <a:solidFill>
                  <a:srgbClr val="0000ff"/>
                </a:solidFill>
                <a:latin typeface="Calibri"/>
              </a:rPr>
              <a:t>12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метилбут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,2–диметилпропа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 – 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</a:t>
            </a: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32C7-083B-4D2C-B1C0-8E0EF91E3E0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7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 изомер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стим радикал у соседнего атома углерода: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           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8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а)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(б) 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8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Мы видим, что обе  формулы – (а) и (б)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изображают одно и то же вещество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2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–</a:t>
            </a:r>
            <a:r>
              <a:rPr b="0" i="1" lang="ru-RU" sz="4400" spc="-1" strike="noStrike">
                <a:solidFill>
                  <a:srgbClr val="0000ff"/>
                </a:solidFill>
                <a:latin typeface="Calibri"/>
              </a:rPr>
              <a:t>МЕТИЛБУТАН</a:t>
            </a:r>
            <a:r>
              <a:rPr b="0" lang="ru-RU" sz="4400" spc="-1" strike="noStrike">
                <a:solidFill>
                  <a:srgbClr val="0000ff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D138E-FEB0-4AB8-A174-1534D64D9D6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вещества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 одинакового состава и молекулярной массы, но имеющие различное строение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молекул и</a:t>
            </a:r>
            <a:r>
              <a:rPr b="0" lang="ru-RU" sz="1600" spc="-1" strike="noStrike">
                <a:solidFill>
                  <a:srgbClr val="3d3d3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разные свойства.</a:t>
            </a:r>
            <a:br>
              <a:rPr sz="1200"/>
            </a:b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ом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- Это явление </a:t>
            </a:r>
            <a:br>
              <a:rPr sz="1200"/>
            </a:br>
            <a:r>
              <a:rPr b="0" lang="ru-RU" sz="1200" spc="-1" strike="noStrike">
                <a:solidFill>
                  <a:srgbClr val="3d3d3d"/>
                </a:solidFill>
                <a:latin typeface="Calibri"/>
              </a:rPr>
              <a:t>существования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100" spc="-1" strike="noStrike">
                <a:solidFill>
                  <a:srgbClr val="4a4a6e"/>
                </a:solidFill>
                <a:latin typeface="Calibri"/>
              </a:rPr>
              <a:t>Главное: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изомеры имеют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100" spc="-1" strike="noStrike">
                <a:solidFill>
                  <a:srgbClr val="4a4a6e"/>
                </a:solidFill>
                <a:latin typeface="Calibri"/>
              </a:rPr>
              <a:t>одинаковые эмпирические формулы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,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но разн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3d3d3d"/>
                </a:solidFill>
                <a:latin typeface="Calibri"/>
              </a:rPr>
              <a:t>структурные формулы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1503-1515-444E-8BF7-26E15C2013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онумеруем атомы углерод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28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1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4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80008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800080"/>
                </a:solidFill>
                <a:latin typeface="Calibri"/>
              </a:rPr>
              <a:t>Н</a:t>
            </a:r>
            <a:r>
              <a:rPr b="1" lang="ru-RU" sz="24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0000ff"/>
                </a:solidFill>
                <a:latin typeface="Calibri"/>
              </a:rPr>
              <a:t>ПЕНТАН</a:t>
            </a: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Такой изомер у нас уже есть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BA429-FB24-43E8-B3C8-D50CE630537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авайте попробуе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спользовать этил–радикал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т.е. </a:t>
            </a: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самой длинной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 цепоч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1                            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80008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80008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ru-RU" sz="36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2000" spc="-1" strike="noStrike">
                <a:solidFill>
                  <a:srgbClr val="800080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Calibri"/>
              </a:rPr>
              <a:t>Это  2–МЕТИЛБУТАН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E33D-1F79-4949-A6EB-B3280DC0F2C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Calibri"/>
              </a:rPr>
              <a:t>Порядок нумер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нумерации определя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меровать цепочку начинаем с того края, где ближе разветвл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4                        3                         2                     1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ле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пра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ле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i="1" lang="ru-RU" sz="900" spc="-1" strike="noStrike">
                <a:solidFill>
                  <a:srgbClr val="000000"/>
                </a:solidFill>
                <a:latin typeface="Calibri"/>
              </a:rPr>
              <a:t>1                         2                      3                        4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умерацию ведем спра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8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– СН</a:t>
            </a: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алево, т.к.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радикал расположе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лиже к правому кра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D9DA-A1E5-4D47-81AA-9CCE0F148D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b5"/>
                </a:solidFill>
                <a:latin typeface="Calibri"/>
              </a:rPr>
              <a:t>Изомерия положения кратной связ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ной связью назыв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ойную связь    – С = С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ойную связь   – С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≡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 –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кратной связи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пенте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B8E2-393C-4D12-B81C-5164DAF2962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апишем структурную формулу простейшего линейного изомера  С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5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</a:t>
            </a:r>
            <a:r>
              <a:rPr b="0" lang="ru-RU" sz="900" spc="-1" strike="noStrike">
                <a:solidFill>
                  <a:srgbClr val="ffffb5"/>
                </a:solidFill>
                <a:latin typeface="Calibri"/>
              </a:rPr>
              <a:t>10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,  у которого двойная связь расположена возле первого атома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= С – С – С –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0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пентена–1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0995-803C-4B47-82F9-F4468C221C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ойной связи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двойную связь пос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пентен –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1E917-CFC3-4C33-BF6B-09345A40EA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Итак, мы состав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вух изомеров пенте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ентен – 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= СН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2C6C7-387D-49AE-9DEA-67FD0F7ECA7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3245-733E-41B6-BD4F-991C5A92B1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ffffb5"/>
                </a:solidFill>
                <a:latin typeface="Calibri"/>
              </a:rPr>
              <a:t>изомеров положения двойной связи</a:t>
            </a: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ffffb5"/>
                </a:solidFill>
                <a:latin typeface="Calibri"/>
              </a:rPr>
              <a:t>для пенте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DA04F-A69E-4ADE-80B8-52E8F3B13EC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зомерия положения функциональной групп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относятся гидроксогруппа  –ОН,  сульф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S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H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карбоксильная  –СООН,  нитрогруппа  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NO</a:t>
            </a: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и друг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 функциональным группам можно так же отнести галогены: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Cl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r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, </a:t>
            </a:r>
            <a:r>
              <a:rPr b="0" lang="ru-RU" sz="1400" spc="-1" strike="noStrike">
                <a:solidFill>
                  <a:srgbClr val="ffffff"/>
                </a:solidFill>
                <a:latin typeface="Calibri"/>
              </a:rPr>
              <a:t>–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Рассмотрим изомерию положения функциональной группы на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примере   бромпентана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  С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en-US" sz="1400" spc="-1" strike="noStrike">
                <a:solidFill>
                  <a:srgbClr val="0000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BB969-311A-4F1F-BE47-673671AE19C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апишем формулу простейшего линейного изомера 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1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,  у которого атом брома расположен возле первого атома углерод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 – С – С – С – 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                               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B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расставим атомы водород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4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Итак, мы написали формулу первого изомера С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11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1" lang="en-US" sz="1100" spc="-1" strike="noStrike">
                <a:solidFill>
                  <a:srgbClr val="0000ff"/>
                </a:solidFill>
                <a:latin typeface="Calibri"/>
              </a:rPr>
              <a:t>r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–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ff"/>
                </a:solidFill>
                <a:latin typeface="Calibri"/>
              </a:rPr>
              <a:t>1–бромпентан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71BD-4274-419B-9BA7-5EC4E40B2C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Само название этого вида изомер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предполагает, что полож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функциональной группы должно ме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местим атом брома возле второго атома углерод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2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ы легко догадаетесь как будет выглядеть третий изомер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Этот изомер называется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1" lang="ru-RU" sz="1000" spc="-1" strike="noStrike">
                <a:solidFill>
                  <a:srgbClr val="0000ff"/>
                </a:solidFill>
                <a:latin typeface="Calibri"/>
              </a:rPr>
              <a:t>3 – бромпен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CBF7-5901-45E4-B7F6-C98AB621BA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ак, мы получили формулы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х изомеров бромпента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1–бромпен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2–бромпентан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–бромпентан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В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55760-9E13-434C-829F-304F32E9C13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зомеров положения функциональной групп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бромпентана не существу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9C8A-9B9E-45B7-A2E7-2325F92BD97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помните правила номенклатуры и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рядок нумерации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800" spc="-1" strike="noStrike">
                <a:solidFill>
                  <a:srgbClr val="000000"/>
                </a:solidFill>
                <a:latin typeface="Calibri"/>
              </a:rPr>
              <a:t>5                              4                             3                             2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2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5                              4</a:t>
            </a:r>
            <a:r>
              <a:rPr b="0" i="1" lang="ru-RU" sz="800" spc="-1" strike="noStrike">
                <a:solidFill>
                  <a:srgbClr val="0000ff"/>
                </a:solidFill>
                <a:latin typeface="Calibri"/>
              </a:rPr>
              <a:t>                            </a:t>
            </a:r>
            <a:r>
              <a:rPr b="0" i="1" lang="ru-RU" sz="800" spc="-1" strike="noStrike">
                <a:solidFill>
                  <a:srgbClr val="ffffff"/>
                </a:solidFill>
                <a:latin typeface="Calibri"/>
              </a:rPr>
              <a:t>3                             2                            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3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Этот изомер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I</a:t>
            </a:r>
            <a:r>
              <a:rPr b="1" lang="en-US" sz="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800" spc="-1" strike="noStrike">
                <a:solidFill>
                  <a:srgbClr val="ffffff"/>
                </a:solidFill>
                <a:latin typeface="Calibri"/>
              </a:rPr>
              <a:t>                    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называется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      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Br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00ff"/>
                </a:solidFill>
                <a:latin typeface="Calibri"/>
              </a:rPr>
              <a:t>    1–бромпента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49307-C4A6-47E5-A1E3-9464688505F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4d0f2"/>
                </a:solidFill>
                <a:latin typeface="Calibri"/>
              </a:rPr>
              <a:t>Межклассовая изоме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изомеры относятся к разным классам орган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ется просто запомнить какие классы соединений изомерны друг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Рассмотрим некоторые примеры межклассовой изоме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0E35-9EBF-4CD7-915D-09D6B540334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ен                   циклоалк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= СН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бутен - 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I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– 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циклобутан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кин                   ди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≡ С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= СН – СН =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бутин – 1                                               бутадиен – 1,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E92C5-5703-466E-89EC-F8403DEF9F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спирт             просто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Н 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этанол                                               диметиловый эфир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кислота             сложный эфи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овая кислота                                             метилацета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    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льдегид                 кет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О         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пропаналь                                                    пропанон – 2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1F794-DE32-4B5B-84BF-647DC216E28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аминокислота             нитросоеди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ООН         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СН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2 – аминоэтановая кислота                            нитроэта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Можно найти межклассовые изомеры и дл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Calibri"/>
              </a:rPr>
              <a:t>других соединений. Подумайте сами, для каких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544C4-A1CC-4090-B60D-A525EE3F0BF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пл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кип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15572-CB97-42EF-92CA-4EAF43A52E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cd39"/>
                </a:solidFill>
                <a:latin typeface="Calibri"/>
              </a:rPr>
              <a:t>Динамическая изомерия (таутомер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Таут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ассмотрим некоторые примеры таутомери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3DD4-7231-4665-867F-138EBE1584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9B81C-E42F-4D2D-A162-7F942833712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ля существования оптических изомеров необходим </a:t>
            </a: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асимметрический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атом углерод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–С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м случае возможны два различных расположения молекулы в пространств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5A99-00CD-43D7-AD8F-2724F6CD50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е наибольшее значение имеет оптическая изомер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еводов и амино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739D-6C53-459F-8F49-43F14025EDE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 – C =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люкоз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= 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en-US" sz="1200" spc="-1" strike="noStrike">
                <a:solidFill>
                  <a:srgbClr val="c9cd39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Calibri"/>
              </a:rPr>
              <a:t>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OH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            НО –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     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I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 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 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 – С 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НО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–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 – 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                                                       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1f497d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        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1f497d"/>
                </a:solidFill>
                <a:latin typeface="Calibri"/>
              </a:rPr>
              <a:t>О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9351D-B38F-4965-971F-12F8CDB16C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которые терми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ая изомерия – иначе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ая изомерия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ческие изомеры – иначе называются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зеркальными изомерам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энантиомер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ость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пособность соединений существовать в виде пары зеркальных изоме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цент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хиральный ат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3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1f497d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Рацемат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BCC4-DC8C-4C37-93D1-BD2D57419A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свет пропустить через специальный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ат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о все световые волны будут колебаться в одной плоск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ой свет называется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лоско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поляризованны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8942E-CD09-4AC1-A0C2-C7688CF47EC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815г Жан Батист Био открыл явление 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оптической активност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 жидкости изменять (отклонять на некоторый угол)  плоскость поляр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яризованного св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7A07-4DB7-4DC5-A9E0-F95FBD5A53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прохождения через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створ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птически активного вещест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α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+)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ли против часовой стрелки, то вещество называю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левовращающим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–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79F1-E0E7-4585-9F21-AEBDEDC507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Вы поняли что такое изомер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Научились строить изоме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Значит самое время приступить к выполнению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4a4a6e"/>
                </a:solidFill>
                <a:latin typeface="Calibri"/>
              </a:rPr>
              <a:t>Желаю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F7733-6C67-4358-8AE3-0FB75BB2466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Кето – енольные превращ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 есть превращение непредельного спирта в кетон или альдеги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, такое превращение наблюдается в </a:t>
            </a:r>
            <a:r>
              <a:rPr b="0" lang="ru-RU" sz="1200" spc="-1" strike="noStrike">
                <a:solidFill>
                  <a:srgbClr val="b9e4ff"/>
                </a:solidFill>
                <a:latin typeface="Calibri"/>
              </a:rPr>
              <a:t>реакции Кучеро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гидратация алкинов в присутствии катализатора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СН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≡ СН  +  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О  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C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этин                                            эт</a:t>
            </a:r>
            <a:r>
              <a:rPr b="0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енол   </a:t>
            </a:r>
            <a:r>
              <a:rPr b="0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                             этаналь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В данном случае наблюдается перенос подвижного </a:t>
            </a:r>
            <a:r>
              <a:rPr b="0" lang="ru-RU" sz="1200" spc="-1" strike="noStrike">
                <a:solidFill>
                  <a:srgbClr val="eaeaea"/>
                </a:solidFill>
                <a:latin typeface="Calibri"/>
                <a:ea typeface="Arial"/>
              </a:rPr>
              <a:t>атома водор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от кислорода к соседнему атому углер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2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= СН – ОН     </a:t>
            </a:r>
            <a:r>
              <a:rPr b="1" lang="ru-RU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  <a:ea typeface="Arial"/>
              </a:rPr>
              <a:t>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СН</a:t>
            </a:r>
            <a:r>
              <a:rPr b="1" lang="ru-RU" sz="1000" spc="-1" strike="noStrike">
                <a:solidFill>
                  <a:srgbClr val="f7fa6e"/>
                </a:solidFill>
                <a:latin typeface="Calibri"/>
                <a:ea typeface="Arial"/>
              </a:rPr>
              <a:t>3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  <a:ea typeface="Arial"/>
              </a:rPr>
              <a:t> – СН=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840AB-B0D1-4EED-9D7D-2A19EF4CDA9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b9e4ff"/>
                </a:solidFill>
                <a:latin typeface="Calibri"/>
              </a:rPr>
              <a:t>Таутомеры глюкоз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Н – С = О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                                         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bfdbb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f7fa6e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       O 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O – C –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200" spc="-1" strike="noStrike">
                <a:solidFill>
                  <a:srgbClr val="fbfdbb"/>
                </a:solidFill>
                <a:latin typeface="Calibri"/>
              </a:rPr>
              <a:t>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OH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O                   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fbfdbb"/>
                </a:solidFill>
                <a:latin typeface="Calibri"/>
              </a:rPr>
              <a:t>H       OH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H – C – O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        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α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  <a:ea typeface="Arial"/>
              </a:rPr>
              <a:t> –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  <a:ea typeface="Arial"/>
              </a:rPr>
              <a:t>глюкоза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el-GR" sz="1000" spc="-1" strike="noStrike">
                <a:solidFill>
                  <a:srgbClr val="ffffff"/>
                </a:solidFill>
                <a:latin typeface="Calibri"/>
                <a:ea typeface="Arial"/>
              </a:rPr>
              <a:t>β</a:t>
            </a:r>
            <a:r>
              <a:rPr b="1" i="1" lang="en-US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- глюкоз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CH</a:t>
            </a:r>
            <a:r>
              <a:rPr b="1" lang="en-US" sz="1000" spc="-1" strike="noStrike">
                <a:solidFill>
                  <a:srgbClr val="f7fa6e"/>
                </a:solidFill>
                <a:latin typeface="Calibri"/>
              </a:rPr>
              <a:t>2</a:t>
            </a:r>
            <a:r>
              <a:rPr b="1" lang="en-US" sz="1200" spc="-1" strike="noStrike">
                <a:solidFill>
                  <a:srgbClr val="f7fa6e"/>
                </a:solidFill>
                <a:latin typeface="Calibri"/>
              </a:rPr>
              <a:t>OH</a:t>
            </a:r>
            <a:r>
              <a:rPr b="1" lang="ru-RU" sz="1200" spc="-1" strike="noStrike">
                <a:solidFill>
                  <a:srgbClr val="f7fa6e"/>
                </a:solidFill>
                <a:latin typeface="Calibri"/>
              </a:rPr>
              <a:t>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(циклическая форма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                                            </a:t>
            </a:r>
            <a:r>
              <a:rPr b="1" i="1" lang="ru-RU" sz="1000" spc="-1" strike="noStrike">
                <a:solidFill>
                  <a:srgbClr val="ffffff"/>
                </a:solidFill>
                <a:latin typeface="Calibri"/>
              </a:rPr>
              <a:t>открытая (линейная) форм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16D78-6BEC-49B4-B729-E86980594A9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Геометрическая изом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т вид изомерии предполагает наличие двух изомеров: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цис–</a:t>
            </a:r>
            <a:r>
              <a:rPr b="0" lang="ru-RU" sz="1200" spc="-1" strike="noStrike">
                <a:solidFill>
                  <a:srgbClr val="1f497d"/>
                </a:solidFill>
                <a:latin typeface="Calibri"/>
              </a:rPr>
              <a:t> и </a:t>
            </a:r>
            <a:r>
              <a:rPr b="0" i="1" lang="ru-RU" sz="1200" spc="-1" strike="noStrike">
                <a:solidFill>
                  <a:srgbClr val="1f497d"/>
                </a:solidFill>
                <a:latin typeface="Calibri"/>
              </a:rPr>
              <a:t>транс–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ческая изомерия характерна для соединений, в которых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свободное вращение вокруг углерод – углеродной связи (например, алкены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атомы углерода связан с двумя различными групп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им геометрическую изомерию на примере бутена С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CAAB-750D-44FC-95B7-6DD8EF3AA78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ишем структурную формулу бутена – 2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600" spc="-1" strike="noStrike">
                <a:solidFill>
                  <a:srgbClr val="f4bd6c"/>
                </a:solidFill>
                <a:latin typeface="Calibri"/>
              </a:rPr>
              <a:t> – СН = СН – СН</a:t>
            </a:r>
            <a:r>
              <a:rPr b="1" lang="ru-RU" sz="11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круг двойной связи 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– С = С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СН</a:t>
            </a:r>
            <a:r>
              <a:rPr b="1" lang="ru-RU" sz="1000" spc="-1" strike="noStrike">
                <a:solidFill>
                  <a:srgbClr val="1f497d"/>
                </a:solidFill>
                <a:latin typeface="Calibri"/>
              </a:rPr>
              <a:t>3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водородом </a:t>
            </a: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Н 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AD3B-7B55-4BDD-9060-D51AB4A09FC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ществуют два способа расположить эти радикалы в пространств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        С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 = С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   С = 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I               I                                       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f4bd6c"/>
                </a:solidFill>
                <a:latin typeface="Calibri"/>
              </a:rPr>
              <a:t> I              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 </a:t>
            </a:r>
            <a:r>
              <a:rPr b="1" lang="en-US" sz="1800" spc="-1" strike="noStrike">
                <a:solidFill>
                  <a:srgbClr val="f4bd6c"/>
                </a:solidFill>
                <a:latin typeface="Calibri"/>
              </a:rPr>
              <a:t>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С</a:t>
            </a:r>
            <a:r>
              <a:rPr b="1" lang="ru-RU" sz="1200" spc="-1" strike="noStrike">
                <a:solidFill>
                  <a:srgbClr val="f4bd6c"/>
                </a:solidFill>
                <a:latin typeface="Calibri"/>
              </a:rPr>
              <a:t>                 </a:t>
            </a:r>
            <a:r>
              <a:rPr b="1" lang="ru-RU" sz="1800" spc="-1" strike="noStrike">
                <a:solidFill>
                  <a:srgbClr val="f4bd6c"/>
                </a:solidFill>
                <a:latin typeface="Calibri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то 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цис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– изомер:                                              Это </a:t>
            </a:r>
            <a:r>
              <a:rPr b="1" i="1" lang="ru-RU" sz="1200" spc="-1" strike="noStrike">
                <a:solidFill>
                  <a:srgbClr val="1f497d"/>
                </a:solidFill>
                <a:latin typeface="Calibri"/>
              </a:rPr>
              <a:t>транс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– изомер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инаковые радикалы                                одинаковые радикал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сположены                                                                расположе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одну сторону                                                  по разные стор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ой связи.                                                            двойной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3848-EF5D-4264-B860-EC190FB04FA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20813-6A5C-462E-B218-CA5E4645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B6999-3C54-4A4A-B591-CCA83A53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F7357B-8BEA-43E2-AE03-CA23505EF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3EB3A-68EB-4237-8EEE-86915035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D13A5-DE81-4FDF-93AC-431745CF1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CE44D4-87FB-4987-8263-82E2F1F8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4433A4-EF75-4D6C-BE6E-F19C726B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6B817B-58B2-49B1-9DF2-126A55B0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77685-9897-4AAD-843E-C896ACBB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551A9-C8B0-4516-B53B-C9F6FFD12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2624A-ECAF-43F2-BF3A-575AB89B3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50E6D0-5257-4CBD-9DF7-C7D82819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7C6C1-05FC-47EC-9A70-5D2182141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78803-1881-4493-B385-43D911D9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F40F8-71E3-4913-88F9-D7933A601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EB06CE-2309-4959-A71B-E4A4814F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377B3-4B62-4A5B-B3FF-B21390D2E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45485-A7D1-4441-96B8-57D4FF46B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611E9E-111C-40A3-957B-430B9C3F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E57334-1CCF-47C4-B9C2-CC0C5620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0A304-1791-4B51-A312-54EF5EA3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BC593-305C-456F-BDBB-365741190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B35317-1B01-427E-84DC-CCCD5314D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BE89B3-CDB2-4A2F-B6E4-DF653DFE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3E358-A515-45FB-BD27-A40BFBDC0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7A17C-2749-4CD6-9E25-D13DF56D7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7C7057-A807-4443-B992-9D243004F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215A8-86D2-429B-8810-E26B27AE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A64FE-A9CE-44BA-9E0E-69E966F4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943B10-1130-493D-A364-93BC4980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EE6B0-6072-40AF-9663-9CCC8D94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4E624-1A74-43CA-936A-2B528214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B632E9-6AD3-408B-9975-EC913C00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006470-B45E-48BC-B011-E81F287A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ADFEF-C2AE-47B9-8873-BEE6B405C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43079-A05F-4E45-80A1-3615A9F73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50D80B-B36C-4E1A-9805-B3D6D95D7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C6F6B-FCF3-400D-A709-FF5D68AF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43775-355B-4F2C-9DCC-8BBBB137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7E7CBA-0680-45FE-9916-0C98D7DC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CCE98-6F0D-4AFA-9F85-9220EAEF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7FD14B-5CE9-43E6-A86E-187496121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C703C3-54FB-4C7E-87A5-412F41B1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81308-019A-476B-9598-3437B2AB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789D2-BB34-40D6-B50F-23B42ACE0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7E8F6-7D89-4E64-954F-C0831B2FF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B6273-5963-47B0-80E8-274E0619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06B9B-5116-46D4-B1AD-33821E1D3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82453F-DBC4-4962-9BE0-3A74BF54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0750D5-E047-4AC9-98D3-2E1ABA633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FFBA9F-7BFD-42E1-95D3-36A219C1A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E57F07-D086-47CB-961A-9154B4451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FC6702-4789-401F-820D-E2D0FF4B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49372-5075-4EE0-9E77-78AA4E9A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7E1A67-09FA-47ED-8F47-8AB57BCE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B836C3-7562-455B-BDF6-CB7A26C6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61B2C-C726-490F-8C4E-FD685F2F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5DBE2-20CB-48B6-8DFB-BFF8E9814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8F60D-AF51-44C4-A833-0BE4CD950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21A425-4C2C-4C48-B8C7-C0A717476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3B5B09-6C28-4791-BB86-1261A58B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55FA68-F073-4729-9E3E-D50AD439C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B26B57-4364-4D1A-97E7-024A72830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98DB8A-0936-4BC0-8B75-CE89FF86F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535A-6EAE-4F42-A18B-42CFC09AF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8416-2537-486E-9610-6987A7359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3956-6C36-4422-BEA5-A5807CF4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49356-7D6B-421A-B893-FA4219F2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F619E-259B-4360-9E84-84A5F18B8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A502-14FF-442B-B16A-0D53C62D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775D6-FA87-4D9C-A7FE-34B57496D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3AE5E-F92A-4721-9BAA-7B45FBEA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924ED-1C77-4E17-BBB8-7496539C4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66166-4F7C-4578-AE24-8CDC7EA9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32102-8976-4948-AB5F-3A299F371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75E61-7CC1-404F-AC2B-D55B1C00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6B7D-05FE-4419-A517-E9691C194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D8261-10EB-42F7-BF45-8C8BED02A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AB484-52E9-4171-8360-790416C3A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1E4FC-211C-45E2-A115-B95C6E43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48B6C-B258-4B0B-ABC6-28169CB1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FBEB5-A5B8-47F6-89A8-4CB93199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9717D-46E0-4F30-AF00-D4FDEDCE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EEF3A-988B-4AC2-856C-1A805FAA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9D149-70D8-4C5B-AC57-13B4B5A06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C6C6A-D383-4BFF-BD2A-4ECA2A524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684222-600B-4428-A70F-5DFD7AEAF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E0369-90A3-43B5-8CD3-F7196F917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62889-B984-467E-A994-E4FE21E3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5D18D-1488-49A6-88A4-C7359ECA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9A072-25AF-4B31-BF36-FC460BC0A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C907-191B-4149-BF1F-E5EE77786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38CD9-91F6-4F9C-8D57-4B0A8A1C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48C3-87CD-4EC7-8330-C1681645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01A02-6720-4D66-A2C6-20AAAB2F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AFB6D-878B-453D-8E67-548458E1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BEFCBC-B102-41B9-8299-D3CD4643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3D36CD-082A-47F2-A982-F4949B7B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7BA81-E7A1-4A50-881A-666B26D99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93C938-B0D5-458B-83F9-2C438C1A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50D44-945E-4E62-8032-28C73E16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632259-BBC7-4525-B3FD-A2B1D39A9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696110-313A-4ED5-8D0D-B3A69AB1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CDEAF-C6EE-4763-A7DA-017CEA163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FA07E-3E33-481C-8383-D3A1C42B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21F31A-AE83-4619-ADA1-961FDF33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382EA-7BF7-420E-B3A7-0BD9215EB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1BFA10-7DEB-4094-AC32-F761EE55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BFBEB-394F-4637-8FFC-8C86740D0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3C077-3C74-4818-ACBF-CA9E69DB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45996-8B67-4C59-8177-DC8039BE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64162-45DC-4A2B-B9DD-F5D6858E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FC30E-7A99-4289-8B0A-DA7A0D52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6EE2F-983C-49B9-A5B0-DE12DB47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8A7847-E8CF-4010-AA39-7B33514A4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D1F375-50C3-4B23-B2E8-DBA255969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FAD91CF-76D2-48E8-803F-28479FE3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092213-FFAC-4F9D-9487-F43D595F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36594A-C41B-4180-8B11-6D05832A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572BA-1CC0-444F-BDA3-83B586DFB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8EA27B-19DE-49C5-AC27-74A458AA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3D5BD-C4AA-4A10-95A1-B6261C54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19DAEE-DB76-4F21-AFDD-41A3150BD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CB5E7-CC34-4371-BED4-4D990672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C29E7B9-8703-4ED5-8EB0-163AFC38D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F3C0C2-AD68-4D7C-8CC6-AF5E5DA2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AAEAA3C-EC3D-43A2-9E9A-11FEDB1E3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9AAD8-901F-456A-AD7B-7900CBB57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5FB50-65C9-4DA6-977F-EE75EE224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A263F1-D6A3-4B18-AE29-6150BBEB4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380383-5C44-49BA-81B2-4738F564A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669090-5A72-46B0-AACD-3F12B5DEC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E912-5E2C-459C-A79A-EA5870FA4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6ADA2-9266-4B8E-AFB3-E8F1CF2D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DBEB8-0D40-4DE5-B546-5A52FDE1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ACEC3-5935-46DC-827C-41EC8386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420B4-2D34-4A32-85A4-5804B7F5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CBFB0-5E8A-4FB1-AE06-89C563F4C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017B7-1545-4F42-9712-7303B0FBF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2E74C-4A95-4CD2-88B2-90346A171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D19AD1-3089-48C2-A027-43B377104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59D1B-F060-4698-A370-3A9600294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B60D10-9CAA-4FA7-B3F2-D8304F210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0ABBA-EB8D-4053-B095-390492E3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2E3F0D-FBC2-44A7-9015-3DB6CA4C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F8D45-62DD-4E48-934D-6D8E04571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730A23-B1EB-45EE-8080-35B0217F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B3592-336B-44BD-83C2-B4BA6187C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818B9-A353-4E9B-8AB4-58668E1A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0C65F-8351-4696-8A04-CF17D8A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B2615-089A-47FC-8579-A10767393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B227D4-F22F-43C2-8E47-571F7A1C0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0EAFE-FE06-42D9-ACB2-9E836A9F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438C22-8CF1-472B-871C-55DD2F0B1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69350-CBDB-4A33-8066-F1E69CC1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BC658F-02CF-4E8F-AD63-404DCAF9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41E2-7BEF-4C33-832E-5192E4757E6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642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41C8-682E-4050-949A-B41B45B5612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8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99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8A3C-E429-43B9-884D-2B2BD3EFF9AD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1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2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3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6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77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 type="dt" idx="3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5095-468B-4856-ACC1-1362B5CBD626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3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954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55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956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81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982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7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998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0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001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0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dt" idx="3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 type="ftr" idx="3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1392-9631-4B9E-9038-1F92A8E97C29}" type="slidenum">
              <a:rPr b="0" lang="ru-RU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1E39D-E087-4C1D-BD64-75473F325C2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D6819-86AE-4DA4-9ECB-6F69EF36BB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5CF8-C6EA-4581-80DD-30936342D89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FDC-1E52-4B60-AA4C-9EA1550CA7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3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4BE2-7177-4368-ACB1-3D0287ECB2F5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294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95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309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276A-63C7-43E7-954C-215C4AAB99A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486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488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3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514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530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533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dt" idx="22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ftr" idx="23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7F95-BAB7-4BF1-9E22-31CF5C2BA15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1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2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3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8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dt" idx="25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26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CF1B-F015-41D6-A07B-DB7B5969855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.xml"/><Relationship Id="rId3" Type="http://schemas.openxmlformats.org/officeDocument/2006/relationships/slide" Target="slide14.xml"/><Relationship Id="rId4" Type="http://schemas.openxmlformats.org/officeDocument/2006/relationships/slide" Target="slide23.xml"/><Relationship Id="rId5" Type="http://schemas.openxmlformats.org/officeDocument/2006/relationships/slide" Target="slide29.xml"/><Relationship Id="rId6" Type="http://schemas.openxmlformats.org/officeDocument/2006/relationships/slide" Target="slide7.xml"/><Relationship Id="rId7" Type="http://schemas.openxmlformats.org/officeDocument/2006/relationships/slide" Target="slide39.xml"/><Relationship Id="rId8" Type="http://schemas.openxmlformats.org/officeDocument/2006/relationships/slide" Target="slide35.xml"/><Relationship Id="rId9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8.xml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ubTitle"/>
          </p:nvPr>
        </p:nvSpPr>
        <p:spPr>
          <a:xfrm>
            <a:off x="1692360" y="4436640"/>
            <a:ext cx="6400800" cy="15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Чтобы начать работу, нажмите «Показ слайдов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WordArt 4"/>
          <p:cNvSpPr txBox="1"/>
          <p:nvPr/>
        </p:nvSpPr>
        <p:spPr>
          <a:xfrm rot="21455400">
            <a:off x="900000" y="1341000"/>
            <a:ext cx="712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642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Итак, мы получили два </a:t>
            </a:r>
            <a:br>
              <a:rPr sz="3000"/>
            </a:br>
            <a:r>
              <a:rPr b="1" lang="ru-RU" sz="3000" spc="-1" strike="noStrike">
                <a:solidFill>
                  <a:srgbClr val="ebf25a"/>
                </a:solidFill>
                <a:latin typeface="Tahoma"/>
              </a:rPr>
              <a:t>геометрических изомера бутена–2:</a:t>
            </a:r>
            <a:endParaRPr b="0" lang="en-US" sz="3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ци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Н</a:t>
            </a:r>
            <a:r>
              <a:rPr b="1" lang="ru-RU" sz="2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– бутен–2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                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4" name="AutoShape 4">
            <a:hlinkClick r:id="rId1" action="ppaction://hlinksldjump"/>
          </p:cNvPr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f2aa68"/>
              </a:gs>
              <a:gs pos="100000">
                <a:srgbClr val="d0925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AutoShape 5">
            <a:hlinkClick r:id="rId2" action="ppaction://hlinksldjump"/>
          </p:cNvPr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f2aa68"/>
              </a:gs>
              <a:gs pos="100000">
                <a:srgbClr val="c0875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7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т.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Геометрических изомеров </a:t>
            </a:r>
            <a:br>
              <a:rPr sz="3800"/>
            </a:br>
            <a:r>
              <a:rPr b="1" i="1" lang="ru-RU" sz="3800" spc="-1" strike="noStrike">
                <a:solidFill>
                  <a:srgbClr val="ffffcc"/>
                </a:solidFill>
                <a:latin typeface="Tahoma"/>
              </a:rPr>
              <a:t>бутена -1</a:t>
            </a: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ffffcc"/>
                </a:solidFill>
                <a:latin typeface="Tahoma"/>
              </a:rPr>
              <a:t>не существует.</a:t>
            </a:r>
            <a:endParaRPr b="0" lang="en-US" sz="3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8" name="Oval 5"/>
          <p:cNvSpPr/>
          <p:nvPr/>
        </p:nvSpPr>
        <p:spPr>
          <a:xfrm>
            <a:off x="1979640" y="3933720"/>
            <a:ext cx="5905440" cy="187164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о почему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едь для бутена -</a:t>
            </a:r>
            <a:r>
              <a:rPr b="0" lang="en-US" sz="1800" spc="-1" strike="noStrike">
                <a:solidFill>
                  <a:srgbClr val="2b2b2b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ращение вокруг двойной связи также невозможно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как для бутена -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ebf25a"/>
                </a:solidFill>
                <a:latin typeface="Tahoma"/>
              </a:rPr>
              <a:t>Попробуем составить геометрические изомеры бутена -1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 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         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–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изображают одно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то же вещество. (При наложении они совпадают, достаточно лишь повернуть вторую формулу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тена -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Oval 4">
            <a:hlinkClick r:id="rId1" action="ppaction://hlinksldjump"/>
          </p:cNvPr>
          <p:cNvSpPr/>
          <p:nvPr/>
        </p:nvSpPr>
        <p:spPr>
          <a:xfrm rot="20893800">
            <a:off x="5076360" y="5373360"/>
            <a:ext cx="3888000" cy="115560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для других алкенов С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4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Н</a:t>
            </a:r>
            <a:r>
              <a:rPr b="0" lang="ru-RU" sz="1200" spc="-1" strike="noStrike">
                <a:solidFill>
                  <a:srgbClr val="2b2b2b"/>
                </a:solidFill>
                <a:latin typeface="Arial"/>
              </a:rPr>
              <a:t>8</a:t>
            </a: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возможны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5"/>
          <p:cNvSpPr/>
          <p:nvPr/>
        </p:nvSpPr>
        <p:spPr>
          <a:xfrm>
            <a:off x="395280" y="6039000"/>
            <a:ext cx="1835280" cy="819000"/>
          </a:xfrm>
          <a:prstGeom prst="upArrowCallout">
            <a:avLst>
              <a:gd name="adj1" fmla="val 56027"/>
              <a:gd name="adj2" fmla="val 56022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</a:t>
            </a:r>
            <a:r>
              <a:rPr b="0" lang="ru-RU" sz="1800" spc="-1" strike="noStrike">
                <a:solidFill>
                  <a:srgbClr val="602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Существует еще один изомер С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4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Н</a:t>
            </a:r>
            <a:r>
              <a:rPr b="0" lang="ru-RU" sz="1700" spc="-1" strike="noStrike">
                <a:solidFill>
                  <a:srgbClr val="ebf25a"/>
                </a:solidFill>
                <a:latin typeface="Tahoma"/>
              </a:rPr>
              <a:t>8</a:t>
            </a: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 – </a:t>
            </a:r>
            <a:br>
              <a:rPr sz="2500"/>
            </a:br>
            <a:r>
              <a:rPr b="0" lang="ru-RU" sz="2500" spc="-1" strike="noStrike">
                <a:solidFill>
                  <a:srgbClr val="ebf25a"/>
                </a:solidFill>
                <a:latin typeface="Tahoma"/>
              </a:rPr>
              <a:t>2–метилпропен. Попробуем составить формулы его геометрических изомеров:</a:t>
            </a:r>
            <a:endParaRPr b="0" lang="en-US" sz="25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        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 =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                                        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2000" spc="-1" strike="noStrike">
                <a:solidFill>
                  <a:srgbClr val="f4bd6c"/>
                </a:solidFill>
                <a:latin typeface="Tahoma"/>
              </a:rPr>
              <a:t>I              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3200" spc="-1" strike="noStrike">
                <a:solidFill>
                  <a:srgbClr val="f4bd6c"/>
                </a:solidFill>
                <a:latin typeface="Tahoma"/>
              </a:rPr>
              <a:t>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                         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20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ru-RU" sz="32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 видите, эти структурные формулы так же изображают одно и то же вещество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так, геометрических изомеров 2 – метилпропена – 1 не существует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6" name="AutoShape 4"/>
          <p:cNvSpPr/>
          <p:nvPr/>
        </p:nvSpPr>
        <p:spPr>
          <a:xfrm>
            <a:off x="7093080" y="5805360"/>
            <a:ext cx="1834920" cy="890640"/>
          </a:xfrm>
          <a:prstGeom prst="upArrowCallout">
            <a:avLst>
              <a:gd name="adj1" fmla="val 51510"/>
              <a:gd name="adj2" fmla="val 51506"/>
              <a:gd name="adj3" fmla="val 16667"/>
              <a:gd name="adj4" fmla="val 66660"/>
            </a:avLst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e15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00"/>
                </a:solidFill>
                <a:latin typeface="Garamond"/>
              </a:rPr>
              <a:t>Изомерия углеродного скеле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тот вид изомерии характерен для всех классов органических соединений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омерия углеродного скелета – единственно возможный вид изомерии алкано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Garamond"/>
              </a:rPr>
              <a:t>Рассмотрим изомерию углеродного скелета на примере пентана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1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Составим структурную формулу простейшего изомера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5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cc"/>
                </a:solidFill>
                <a:latin typeface="Garamond"/>
              </a:rPr>
              <a:t>12</a:t>
            </a: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, имеющего линейное строение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ля этого изобразим его углеродный скелет, расположив в ряд все пять атомов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теперь расставим атомы водорода, не забывая при этом, что валентность углерода равна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V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водорода -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написали структурную формулу простейшего изомер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А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А можно ли составить формулу другого изомера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ля этого сделаем основную цепочку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короче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Garamond"/>
              </a:rPr>
              <a:t>Расположим в ряд четыре атома углерода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 пятый атом присоединим к одному из </a:t>
            </a:r>
            <a:r>
              <a:rPr b="1" i="1" lang="ru-RU" sz="2400" spc="-1" strike="noStrike">
                <a:solidFill>
                  <a:srgbClr val="ffffff"/>
                </a:solidFill>
                <a:latin typeface="Garamond"/>
              </a:rPr>
              <a:t>средни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углеродных атомов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 – С – С – С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Теперь расставим атомы водорода, не забывая про валентность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 – МЕТИЛБУТ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4" name="Oval 4"/>
          <p:cNvSpPr/>
          <p:nvPr/>
        </p:nvSpPr>
        <p:spPr>
          <a:xfrm rot="20923200">
            <a:off x="5580000" y="5444640"/>
            <a:ext cx="3564000" cy="1150920"/>
          </a:xfrm>
          <a:prstGeom prst="ellipse">
            <a:avLst/>
          </a:prstGeom>
          <a:gradFill rotWithShape="0">
            <a:gsLst>
              <a:gs pos="0">
                <a:srgbClr val="4db8db"/>
              </a:gs>
              <a:gs pos="50000">
                <a:srgbClr val="0099cc"/>
              </a:gs>
              <a:gs pos="100000">
                <a:srgbClr val="4db8db"/>
              </a:gs>
            </a:gsLst>
            <a:lin ang="678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можно 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сосед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Oval 5"/>
          <p:cNvSpPr/>
          <p:nvPr/>
        </p:nvSpPr>
        <p:spPr>
          <a:xfrm>
            <a:off x="6084720" y="836640"/>
            <a:ext cx="64800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Garamond"/>
              </a:rPr>
              <a:t>Попробуем написать формулу изомера, содержащего в основной цепи три атома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 – С – С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ерь присоединим оставшиеся атомы углерода ко второму атому цепочки в виде метил</a:t>
            </a: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радикалов и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получили формулу еще одного изомера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,2 – ДИМЕТИЛПРОПАН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8" name="Oval 5"/>
          <p:cNvSpPr/>
          <p:nvPr/>
        </p:nvSpPr>
        <p:spPr>
          <a:xfrm>
            <a:off x="601200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Oval 6"/>
          <p:cNvSpPr/>
          <p:nvPr/>
        </p:nvSpPr>
        <p:spPr>
          <a:xfrm>
            <a:off x="5508720" y="1341360"/>
            <a:ext cx="647640" cy="64764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Oval 7"/>
          <p:cNvSpPr/>
          <p:nvPr/>
        </p:nvSpPr>
        <p:spPr>
          <a:xfrm rot="20911800">
            <a:off x="6265440" y="5157360"/>
            <a:ext cx="2878200" cy="1374840"/>
          </a:xfrm>
          <a:prstGeom prst="ellipse">
            <a:avLst/>
          </a:prstGeom>
          <a:gradFill rotWithShape="0">
            <a:gsLst>
              <a:gs pos="0">
                <a:srgbClr val="35aed7"/>
              </a:gs>
              <a:gs pos="50000">
                <a:srgbClr val="0099cc"/>
              </a:gs>
              <a:gs pos="100000">
                <a:srgbClr val="35aed7"/>
              </a:gs>
            </a:gsLst>
            <a:lin ang="609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вмест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ух метил– радикал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спользовать оди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этил– радика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Итак, мы получили три изомера </a:t>
            </a:r>
            <a:br>
              <a:rPr sz="4000"/>
            </a:b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с эмпирической формулой 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С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5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Н</a:t>
            </a:r>
            <a:r>
              <a:rPr b="0" lang="ru-RU" sz="2000" spc="-1" strike="noStrike">
                <a:solidFill>
                  <a:srgbClr val="ffcc00"/>
                </a:solidFill>
                <a:latin typeface="Garamond"/>
              </a:rPr>
              <a:t>12</a:t>
            </a:r>
            <a:r>
              <a:rPr b="0" lang="ru-RU" sz="4000" spc="-1" strike="noStrike">
                <a:solidFill>
                  <a:srgbClr val="ffcc00"/>
                </a:solidFill>
                <a:latin typeface="Garamond"/>
              </a:rPr>
              <a:t>: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ен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–метилбут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2,2–диметилпропан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 – 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</a:t>
            </a:r>
            <a:r>
              <a:rPr b="0" lang="ru-RU" sz="10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</a:t>
            </a:r>
            <a:r>
              <a:rPr b="0" lang="en-US" sz="1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4" name="AutoShape 4"/>
          <p:cNvSpPr/>
          <p:nvPr/>
        </p:nvSpPr>
        <p:spPr>
          <a:xfrm>
            <a:off x="6732720" y="537372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75c8e3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5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96d5ea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/>
          </p:nvPr>
        </p:nvSpPr>
        <p:spPr>
          <a:xfrm>
            <a:off x="468000" y="259920"/>
            <a:ext cx="84963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ш изомер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Разместим радикал у соседнего атома углерода: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8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 </a:t>
            </a:r>
            <a:r>
              <a:rPr b="1" lang="en-US" sz="8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онумеруем атомы углерода в обоих соединениях в соответствии с правилами систематической номенклатуры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                                1                         2                      3                        4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           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18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9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</a:t>
            </a:r>
            <a:r>
              <a:rPr b="1" lang="en-US" sz="9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9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а)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(б)         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Мы видим, что обе  формулы – (а) и (б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изображают одно и то же вещество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2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–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МЕТИЛБУ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8" name="Oval 4"/>
          <p:cNvSpPr/>
          <p:nvPr/>
        </p:nvSpPr>
        <p:spPr>
          <a:xfrm rot="21239400">
            <a:off x="5424120" y="5870160"/>
            <a:ext cx="3708360" cy="798480"/>
          </a:xfrm>
          <a:prstGeom prst="ellipse">
            <a:avLst/>
          </a:prstGeom>
          <a:gradFill rotWithShape="0">
            <a:gsLst>
              <a:gs pos="0">
                <a:srgbClr val="3db1d8"/>
              </a:gs>
              <a:gs pos="50000">
                <a:srgbClr val="0099cc"/>
              </a:gs>
              <a:gs pos="100000">
                <a:srgbClr val="3db1d8"/>
              </a:gs>
            </a:gsLst>
            <a:lin ang="576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 можно поставить 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атома «С»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7"/>
          <p:cNvSpPr/>
          <p:nvPr/>
        </p:nvSpPr>
        <p:spPr>
          <a:xfrm>
            <a:off x="6948360" y="260280"/>
            <a:ext cx="1835280" cy="1008000"/>
          </a:xfrm>
          <a:prstGeom prst="upArrowCallout">
            <a:avLst>
              <a:gd name="adj1" fmla="val 45522"/>
              <a:gd name="adj2" fmla="val 455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8"/>
          <p:cNvSpPr/>
          <p:nvPr/>
        </p:nvSpPr>
        <p:spPr>
          <a:xfrm>
            <a:off x="6804000" y="4365720"/>
            <a:ext cx="2340000" cy="1296720"/>
          </a:xfrm>
          <a:prstGeom prst="ellipse">
            <a:avLst/>
          </a:prstGeom>
          <a:gradFill rotWithShape="0">
            <a:gsLst>
              <a:gs pos="0">
                <a:srgbClr val="6dc5e2"/>
              </a:gs>
              <a:gs pos="50000">
                <a:srgbClr val="0099cc"/>
              </a:gs>
              <a:gs pos="100000">
                <a:srgbClr val="6dc5e2"/>
              </a:gs>
            </a:gsLst>
            <a:lin ang="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чем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менил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ряд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умерации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363160" cy="39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вещества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 одинакового состава и молекулярной массы, но имеющие различное строение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молекул и</a:t>
            </a:r>
            <a:r>
              <a:rPr b="0" lang="ru-RU" sz="4000" spc="-1" strike="noStrike">
                <a:solidFill>
                  <a:srgbClr val="3d3d3d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разные свойства.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- Это явление </a:t>
            </a:r>
            <a:br>
              <a:rPr sz="3200"/>
            </a:br>
            <a:r>
              <a:rPr b="0" lang="ru-RU" sz="3200" spc="-1" strike="noStrike">
                <a:solidFill>
                  <a:srgbClr val="3d3d3d"/>
                </a:solidFill>
                <a:latin typeface="Arial"/>
              </a:rPr>
              <a:t>существования изоме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539640" y="4797360"/>
            <a:ext cx="815832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4a4a6e"/>
                </a:solidFill>
                <a:latin typeface="Arial"/>
              </a:rPr>
              <a:t>Главное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изомеры имею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4a4a6e"/>
                </a:solidFill>
                <a:latin typeface="Arial"/>
              </a:rPr>
              <a:t>одинаковые эмпирические формулы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но раз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3d3d3d"/>
                </a:solidFill>
                <a:latin typeface="Arial"/>
              </a:rPr>
              <a:t>структурные формул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WordArt 4"/>
          <p:cNvSpPr txBox="1"/>
          <p:nvPr/>
        </p:nvSpPr>
        <p:spPr>
          <a:xfrm rot="21455400">
            <a:off x="611280" y="2923920"/>
            <a:ext cx="496872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02298" dir="424499" blurRad="0" rotWithShape="0">
                    <a:srgbClr val="3d3d3d"/>
                  </a:outerShdw>
                </a:effectLst>
                <a:latin typeface="Impact"/>
              </a:rPr>
              <a:t>изомер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02298" dir="424499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2" name="WordArt 5"/>
          <p:cNvSpPr txBox="1"/>
          <p:nvPr/>
        </p:nvSpPr>
        <p:spPr>
          <a:xfrm rot="21455400">
            <a:off x="611280" y="189000"/>
            <a:ext cx="4824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89808" dir="483908" blurRad="0" rotWithShape="0">
                    <a:srgbClr val="3d3d3d"/>
                  </a:outerShdw>
                </a:effectLst>
                <a:latin typeface="Impact"/>
              </a:rPr>
              <a:t>изомер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89808" dir="48390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делаем это и посмотрим, что у нас получится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</a:t>
            </a:r>
            <a:r>
              <a:rPr b="1" lang="en-US" sz="1600" spc="-1" strike="noStrike">
                <a:solidFill>
                  <a:srgbClr val="ffffff"/>
                </a:solidFill>
                <a:latin typeface="Garamond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Garamond"/>
              </a:rPr>
              <a:t>                                   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онумеруем атомы углерода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               </a:t>
            </a: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5                                  4                                   3      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8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     </a:t>
            </a:r>
            <a:r>
              <a:rPr b="1" lang="en-US" sz="14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      </a:t>
            </a:r>
            <a:r>
              <a:rPr b="1" lang="ru-RU" sz="1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4000" spc="-1" strike="noStrike">
                <a:solidFill>
                  <a:srgbClr val="ffffcc"/>
                </a:solidFill>
                <a:latin typeface="Garamond"/>
              </a:rPr>
              <a:t>C</a:t>
            </a:r>
            <a:r>
              <a:rPr b="1" lang="ru-RU" sz="4000" spc="-1" strike="noStrike">
                <a:solidFill>
                  <a:srgbClr val="ffffcc"/>
                </a:solidFill>
                <a:latin typeface="Garamond"/>
              </a:rPr>
              <a:t>Н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мы вновь получили  </a:t>
            </a:r>
            <a:r>
              <a:rPr b="0" i="1" lang="ru-RU" sz="2400" spc="-1" strike="noStrike">
                <a:solidFill>
                  <a:srgbClr val="ffcc00"/>
                </a:solidFill>
                <a:latin typeface="Garamond"/>
              </a:rPr>
              <a:t>ПЕНТАН</a:t>
            </a: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Такой изомер у нас уже есть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3" name="Oval 4"/>
          <p:cNvSpPr/>
          <p:nvPr/>
        </p:nvSpPr>
        <p:spPr>
          <a:xfrm rot="665400">
            <a:off x="7308360" y="1052640"/>
            <a:ext cx="1584360" cy="3241440"/>
          </a:xfrm>
          <a:prstGeom prst="ellipse">
            <a:avLst/>
          </a:prstGeom>
          <a:gradFill rotWithShape="0">
            <a:gsLst>
              <a:gs pos="0">
                <a:srgbClr val="65c1e0"/>
              </a:gs>
              <a:gs pos="50000">
                <a:srgbClr val="0099cc"/>
              </a:gs>
              <a:gs pos="100000">
                <a:srgbClr val="65c1e0"/>
              </a:gs>
            </a:gsLst>
            <a:lin ang="4734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ыта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положи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дикал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 крайнег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том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С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5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/>
          </p:nvPr>
        </p:nvSpPr>
        <p:spPr>
          <a:xfrm>
            <a:off x="250560" y="620640"/>
            <a:ext cx="8713800" cy="55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авайте попробуем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спользовать этил–радикал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 за одним пронумеруем атомы углерода основной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т.е.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самой длинной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цепоч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1                             2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         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1200" spc="-1" strike="noStrike">
                <a:solidFill>
                  <a:srgbClr val="ffffcc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  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                     </a:t>
            </a:r>
            <a:r>
              <a:rPr b="0" i="1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   </a:t>
            </a:r>
            <a:r>
              <a:rPr b="1" lang="en-US" sz="1200" spc="-1" strike="noStrike">
                <a:solidFill>
                  <a:srgbClr val="ffffcc"/>
                </a:solidFill>
                <a:latin typeface="Garamond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</a:t>
            </a: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Как видите, такой изомер у нас уже был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00"/>
                </a:solidFill>
                <a:latin typeface="Garamond"/>
              </a:rPr>
              <a:t>Это  2–МЕТИЛБУТАН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7" name="AutoShape 4"/>
          <p:cNvSpPr/>
          <p:nvPr/>
        </p:nvSpPr>
        <p:spPr>
          <a:xfrm>
            <a:off x="7093080" y="5661000"/>
            <a:ext cx="1834920" cy="1008000"/>
          </a:xfrm>
          <a:prstGeom prst="upArrowCallout">
            <a:avLst>
              <a:gd name="adj1" fmla="val 45513"/>
              <a:gd name="adj2" fmla="val 45509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6913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00"/>
                </a:solidFill>
                <a:latin typeface="Garamond"/>
              </a:rPr>
              <a:t>Порядок нумераци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95280" y="836280"/>
            <a:ext cx="856944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рядок нумерации определяется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соответствии с правилами систематической номенклатуры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умеровать цепочку начинаем с того края, где ближе разветвление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4                        3                         2                     1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ле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пра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ле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i="1" lang="ru-RU" sz="1400" spc="-1" strike="noStrike">
                <a:solidFill>
                  <a:srgbClr val="ffffff"/>
                </a:solidFill>
                <a:latin typeface="Garamond"/>
              </a:rPr>
              <a:t>1                         2                      3                        4</a:t>
            </a:r>
            <a:r>
              <a:rPr b="0" i="1" lang="ru-RU" sz="1600" spc="-1" strike="noStrike">
                <a:solidFill>
                  <a:srgbClr val="ffffff"/>
                </a:solidFill>
                <a:latin typeface="Garamond"/>
              </a:rPr>
              <a:t>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умерацию ведем справа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2</a:t>
            </a:r>
            <a:r>
              <a:rPr b="1" lang="ru-RU" sz="3200" spc="-1" strike="noStrike">
                <a:solidFill>
                  <a:srgbClr val="ffffcc"/>
                </a:solidFill>
                <a:latin typeface="Garamond"/>
              </a:rPr>
              <a:t> – СН</a:t>
            </a:r>
            <a:r>
              <a:rPr b="1" lang="ru-RU" sz="2000" spc="-1" strike="noStrike">
                <a:solidFill>
                  <a:srgbClr val="ffffcc"/>
                </a:solidFill>
                <a:latin typeface="Garamond"/>
              </a:rPr>
              <a:t>3</a:t>
            </a:r>
            <a:r>
              <a:rPr b="1" lang="ru-RU" sz="2400" spc="-1" strike="noStrike">
                <a:solidFill>
                  <a:srgbClr val="ffffcc"/>
                </a:solidFill>
                <a:latin typeface="Garamond"/>
              </a:rPr>
              <a:t>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налево, т.к. </a:t>
            </a: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радикал расположен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Garamond"/>
              </a:rPr>
              <a:t>I</a:t>
            </a:r>
            <a:r>
              <a:rPr b="1" lang="ru-RU" sz="20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Garamond"/>
              </a:rPr>
              <a:t>         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ближе к правому краю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C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</a:t>
            </a:r>
            <a:r>
              <a:rPr b="1" lang="ru-RU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1" name="AutoShape 4"/>
          <p:cNvSpPr/>
          <p:nvPr/>
        </p:nvSpPr>
        <p:spPr>
          <a:xfrm>
            <a:off x="7093080" y="189000"/>
            <a:ext cx="1834920" cy="963360"/>
          </a:xfrm>
          <a:prstGeom prst="upArrowCallout">
            <a:avLst>
              <a:gd name="adj1" fmla="val 47622"/>
              <a:gd name="adj2" fmla="val 47618"/>
              <a:gd name="adj3" fmla="val 16667"/>
              <a:gd name="adj4" fmla="val 66660"/>
            </a:avLst>
          </a:prstGeom>
          <a:solidFill>
            <a:srgbClr val="00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1f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5"/>
                </a:solidFill>
                <a:latin typeface="Tahoma"/>
              </a:rPr>
              <a:t>Изомерия положения кратной связи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ратной связью называю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двойную связь    – С = С 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ойную связь   – С 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≡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С –</a:t>
            </a:r>
            <a:r>
              <a:rPr b="0" lang="el-GR" sz="3200" spc="-1" strike="noStrike">
                <a:solidFill>
                  <a:srgbClr val="ffffff"/>
                </a:solidFill>
                <a:latin typeface="Tahoma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Рассмотрим изомерию полож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кратной связи на</a:t>
            </a:r>
            <a:r>
              <a:rPr b="0" lang="en-US" sz="36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0" lang="ru-RU" sz="3600" spc="-1" strike="noStrike">
                <a:solidFill>
                  <a:srgbClr val="00ccff"/>
                </a:solidFill>
                <a:latin typeface="Tahoma"/>
              </a:rPr>
              <a:t>примере пентена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С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36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апишем структурную формулу простейшего линейного изомера  С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5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Н</a:t>
            </a:r>
            <a:r>
              <a:rPr b="0" lang="ru-RU" sz="1600" spc="-1" strike="noStrike">
                <a:solidFill>
                  <a:srgbClr val="ffffb5"/>
                </a:solidFill>
                <a:latin typeface="Tahoma"/>
              </a:rPr>
              <a:t>10</a:t>
            </a:r>
            <a:r>
              <a:rPr b="0" lang="ru-RU" sz="2800" spc="-1" strike="noStrike">
                <a:solidFill>
                  <a:srgbClr val="ffffb5"/>
                </a:solidFill>
                <a:latin typeface="Tahoma"/>
              </a:rPr>
              <a:t>,  у которого двойная связь расположена возле первого атома углерода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537840" y="2204640"/>
            <a:ext cx="86058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ля этого расположим все атомы углерода в одну цепочку, после первого атома углерода расположим двойную связь,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 = С – С – С – С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Теперь расставим атомы водо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Итак, мы написали формулу первого изомера С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5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Н</a:t>
            </a:r>
            <a:r>
              <a:rPr b="1" lang="ru-RU" sz="1400" spc="-1" strike="noStrike">
                <a:solidFill>
                  <a:srgbClr val="00ccff"/>
                </a:solidFill>
                <a:latin typeface="Tahoma"/>
              </a:rPr>
              <a:t>10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ccff"/>
                </a:solidFill>
                <a:latin typeface="Tahoma"/>
              </a:rPr>
              <a:t>пентена–1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2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Само название этого вида изомер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предполагает, что положение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b5"/>
                </a:solidFill>
                <a:latin typeface="Tahoma"/>
              </a:rPr>
              <a:t>двойной связи должно менять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зместим двойную связь после второго атома углерод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0" name="Oval 3"/>
          <p:cNvSpPr/>
          <p:nvPr/>
        </p:nvSpPr>
        <p:spPr>
          <a:xfrm rot="493200">
            <a:off x="302760" y="5097240"/>
            <a:ext cx="3979800" cy="136836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5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Итак, мы составили формулы </a:t>
            </a:r>
            <a:br>
              <a:rPr sz="4000"/>
            </a:br>
            <a:r>
              <a:rPr b="0" lang="ru-RU" sz="4000" spc="-1" strike="noStrike">
                <a:solidFill>
                  <a:srgbClr val="ffffb5"/>
                </a:solidFill>
                <a:latin typeface="Tahoma"/>
              </a:rPr>
              <a:t>двух изомеров пентена: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нтен – 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4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2b5481"/>
              </a:gs>
              <a:gs pos="100000">
                <a:srgbClr val="1b355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2b5481"/>
              </a:gs>
              <a:gs pos="100000">
                <a:srgbClr val="182f4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5ff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Нет.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ругих </a:t>
            </a:r>
            <a:r>
              <a:rPr b="1" i="1" lang="ru-RU" sz="4400" spc="-1" strike="noStrike">
                <a:solidFill>
                  <a:srgbClr val="ffffb5"/>
                </a:solidFill>
                <a:latin typeface="Tahoma"/>
              </a:rPr>
              <a:t>изомеров положения двойной связи</a:t>
            </a: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 </a:t>
            </a:r>
            <a:br>
              <a:rPr sz="4400"/>
            </a:br>
            <a:r>
              <a:rPr b="0" lang="ru-RU" sz="4400" spc="-1" strike="noStrike">
                <a:solidFill>
                  <a:srgbClr val="ffffb5"/>
                </a:solidFill>
                <a:latin typeface="Tahoma"/>
              </a:rPr>
              <a:t>для пентена не существует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8" name="Oval 3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пентен – 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5ffff"/>
                </a:solidFill>
                <a:latin typeface="Arial"/>
              </a:rPr>
              <a:t>и пентен – 4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b5"/>
                </a:solidFill>
                <a:latin typeface="Tahoma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b5"/>
                </a:solidFill>
                <a:latin typeface="Tahoma"/>
              </a:rPr>
              <a:t>порядок нумерации: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 соответствии с правилами систематической номенклатуры нумерация начинается с того края, где ближе находится кратная связь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 4                             3                             2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i="1" lang="ru-RU" sz="1200" spc="-1" strike="noStrike">
                <a:solidFill>
                  <a:srgbClr val="ffffff"/>
                </a:solidFill>
                <a:latin typeface="Tahoma"/>
              </a:rPr>
              <a:t>5                             4                            3                            2                          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– СН = СН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3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Этот изомер называется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ff"/>
                </a:solidFill>
                <a:latin typeface="Tahoma"/>
              </a:rPr>
              <a:t>пентен –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2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2b5481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b5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Изомерия положения функциональной группы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Функциональная группа – это атом или группа атомов, которая определяет основные свойства соединени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относятся гидроксогруппа  –ОН,  сульф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, карбоксильная  –СООН,  нитрогруппа  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 другие.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 функциональным группам можно так же отнести галогены: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,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Рассмотрим изомерию положения функциональной группы на</a:t>
            </a:r>
            <a:r>
              <a:rPr b="0" lang="en-US" sz="2800" spc="-1" strike="noStrike">
                <a:solidFill>
                  <a:srgbClr val="eec85e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ec85e"/>
                </a:solidFill>
                <a:latin typeface="Verdana"/>
              </a:rPr>
              <a:t>примере   бромпентана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  С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8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8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en-US" sz="2800" spc="-1" strike="noStrike">
                <a:solidFill>
                  <a:srgbClr val="eec85e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WordArt 4"/>
          <p:cNvSpPr txBox="1"/>
          <p:nvPr/>
        </p:nvSpPr>
        <p:spPr>
          <a:xfrm rot="21455400">
            <a:off x="1187280" y="0"/>
            <a:ext cx="7417080" cy="85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17819" dir="2700000" blurRad="0" rotWithShape="0">
                    <a:srgbClr val="3d3d3d"/>
                  </a:outerShdw>
                </a:effectLst>
                <a:latin typeface="Impact"/>
              </a:rPr>
              <a:t>виды  изомер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17819" dir="2700000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075" name="Organization Chart 8"/>
          <p:cNvGrpSpPr/>
          <p:nvPr/>
        </p:nvGrpSpPr>
        <p:grpSpPr>
          <a:xfrm>
            <a:off x="467280" y="1123920"/>
            <a:ext cx="8160120" cy="5470200"/>
            <a:chOff x="467280" y="1123920"/>
            <a:chExt cx="8160120" cy="5470200"/>
          </a:xfrm>
        </p:grpSpPr>
        <p:cxnSp>
          <p:nvCxnSpPr>
            <p:cNvPr id="1076" name="_s1028"/>
            <p:cNvCxnSpPr>
              <a:stCxn id="1077" idx="1"/>
              <a:endCxn id="1078" idx="2"/>
            </p:cNvCxnSpPr>
            <p:nvPr/>
          </p:nvCxnSpPr>
          <p:spPr>
            <a:xfrm rot="10800000">
              <a:off x="5279040" y="2130120"/>
              <a:ext cx="37224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79" name="_s1029"/>
            <p:cNvCxnSpPr>
              <a:stCxn id="1080" idx="0"/>
              <a:endCxn id="1081" idx="2"/>
            </p:cNvCxnSpPr>
            <p:nvPr/>
          </p:nvCxnSpPr>
          <p:spPr>
            <a:xfrm flipV="1" rot="16200000">
              <a:off x="5921280" y="4081680"/>
              <a:ext cx="433440" cy="17175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2" name="_s1030"/>
            <p:cNvCxnSpPr>
              <a:stCxn id="1083" idx="0"/>
              <a:endCxn id="1081" idx="2"/>
            </p:cNvCxnSpPr>
            <p:nvPr/>
          </p:nvCxnSpPr>
          <p:spPr>
            <a:xfrm flipH="1" flipV="1" rot="5400000">
              <a:off x="4229640" y="4106880"/>
              <a:ext cx="433440" cy="1667160"/>
            </a:xfrm>
            <a:prstGeom prst="bentConnector3">
              <a:avLst>
                <a:gd name="adj1" fmla="val 26433"/>
              </a:avLst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4" name="_s1031"/>
            <p:cNvCxnSpPr>
              <a:stCxn id="1085" idx="3"/>
              <a:endCxn id="1078" idx="2"/>
            </p:cNvCxnSpPr>
            <p:nvPr/>
          </p:nvCxnSpPr>
          <p:spPr>
            <a:xfrm flipV="1">
              <a:off x="4956120" y="2130480"/>
              <a:ext cx="324000" cy="14421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6" name="_s1032"/>
            <p:cNvCxnSpPr>
              <a:stCxn id="1087" idx="1"/>
              <a:endCxn id="1078" idx="2"/>
            </p:cNvCxnSpPr>
            <p:nvPr/>
          </p:nvCxnSpPr>
          <p:spPr>
            <a:xfrm rot="10800000">
              <a:off x="5279040" y="2130840"/>
              <a:ext cx="37224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88" name="_s1033"/>
            <p:cNvCxnSpPr>
              <a:stCxn id="1089" idx="3"/>
              <a:endCxn id="1078" idx="2"/>
            </p:cNvCxnSpPr>
            <p:nvPr/>
          </p:nvCxnSpPr>
          <p:spPr>
            <a:xfrm flipV="1">
              <a:off x="4892040" y="2130840"/>
              <a:ext cx="387720" cy="5763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0" name="_s1034"/>
            <p:cNvCxnSpPr>
              <a:stCxn id="1091" idx="1"/>
              <a:endCxn id="1092" idx="2"/>
            </p:cNvCxnSpPr>
            <p:nvPr/>
          </p:nvCxnSpPr>
          <p:spPr>
            <a:xfrm rot="10800000">
              <a:off x="1559520" y="1784520"/>
              <a:ext cx="2003400" cy="45597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3" name="_s1035"/>
            <p:cNvCxnSpPr>
              <a:stCxn id="1081" idx="1"/>
              <a:endCxn id="1092" idx="2"/>
            </p:cNvCxnSpPr>
            <p:nvPr/>
          </p:nvCxnSpPr>
          <p:spPr>
            <a:xfrm rot="10800000">
              <a:off x="1559520" y="1784520"/>
              <a:ext cx="2003400" cy="268956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cxnSp>
          <p:nvCxnSpPr>
            <p:cNvPr id="1094" name="_s1036"/>
            <p:cNvCxnSpPr>
              <a:stCxn id="1078" idx="1"/>
              <a:endCxn id="1092" idx="2"/>
            </p:cNvCxnSpPr>
            <p:nvPr/>
          </p:nvCxnSpPr>
          <p:spPr>
            <a:xfrm rot="10800000">
              <a:off x="1559520" y="1784520"/>
              <a:ext cx="2003400" cy="95400"/>
            </a:xfrm>
            <a:prstGeom prst="bentConnector2">
              <a:avLst/>
            </a:prstGeom>
            <a:ln w="28440">
              <a:solidFill>
                <a:srgbClr val="3d3d3d"/>
              </a:solidFill>
              <a:miter/>
            </a:ln>
          </p:spPr>
        </p:cxnSp>
        <p:sp>
          <p:nvSpPr>
            <p:cNvPr id="1092" name="_s1037"/>
            <p:cNvSpPr/>
            <p:nvPr/>
          </p:nvSpPr>
          <p:spPr>
            <a:xfrm>
              <a:off x="467280" y="1123920"/>
              <a:ext cx="2184840" cy="6609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изомери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_s1038"/>
            <p:cNvSpPr/>
            <p:nvPr/>
          </p:nvSpPr>
          <p:spPr>
            <a:xfrm>
              <a:off x="3562560" y="1629360"/>
              <a:ext cx="3431520" cy="5014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структур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_s1039"/>
            <p:cNvSpPr/>
            <p:nvPr/>
          </p:nvSpPr>
          <p:spPr>
            <a:xfrm>
              <a:off x="3562560" y="4221000"/>
              <a:ext cx="3431520" cy="50328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пространственн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_s1040">
              <a:hlinkClick r:id="rId2" action="ppaction://hlinksldjump"/>
            </p:cNvPr>
            <p:cNvSpPr/>
            <p:nvPr/>
          </p:nvSpPr>
          <p:spPr>
            <a:xfrm>
              <a:off x="3562560" y="6093360"/>
              <a:ext cx="3433680" cy="500760"/>
            </a:xfrm>
            <a:prstGeom prst="roundRect">
              <a:avLst>
                <a:gd name="adj" fmla="val 16667"/>
              </a:avLst>
            </a:prstGeom>
            <a:solidFill>
              <a:srgbClr val="c5b1f7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240" rIns="30240" tIns="15120" bIns="15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d3d3d"/>
                  </a:solidFill>
                  <a:latin typeface="Arial"/>
                </a:rPr>
                <a:t>динамическая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_s1041">
              <a:hlinkClick r:id="rId3" action="ppaction://hlinksldjump"/>
            </p:cNvPr>
            <p:cNvSpPr/>
            <p:nvPr/>
          </p:nvSpPr>
          <p:spPr>
            <a:xfrm>
              <a:off x="1905840" y="2419560"/>
              <a:ext cx="298656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Углеродного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скелет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_s1042">
              <a:hlinkClick r:id="rId4" action="ppaction://hlinksldjump"/>
            </p:cNvPr>
            <p:cNvSpPr/>
            <p:nvPr/>
          </p:nvSpPr>
          <p:spPr>
            <a:xfrm>
              <a:off x="5651280" y="2419560"/>
              <a:ext cx="2973600" cy="5760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кратной связи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_s1043">
              <a:hlinkClick r:id="rId5" action="ppaction://hlinksldjump"/>
            </p:cNvPr>
            <p:cNvSpPr/>
            <p:nvPr/>
          </p:nvSpPr>
          <p:spPr>
            <a:xfrm>
              <a:off x="1979280" y="3282840"/>
              <a:ext cx="297648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Положения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функциональной группы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_s1044">
              <a:hlinkClick r:id="rId6" action="ppaction://hlinksldjump"/>
            </p:cNvPr>
            <p:cNvSpPr/>
            <p:nvPr/>
          </p:nvSpPr>
          <p:spPr>
            <a:xfrm>
              <a:off x="2124000" y="5157360"/>
              <a:ext cx="297612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геометр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_s1045">
              <a:hlinkClick r:id="rId7" action="ppaction://hlinksldjump"/>
            </p:cNvPr>
            <p:cNvSpPr/>
            <p:nvPr/>
          </p:nvSpPr>
          <p:spPr>
            <a:xfrm>
              <a:off x="5507280" y="5157360"/>
              <a:ext cx="2979000" cy="57204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5280" rIns="35280" tIns="17640" bIns="17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оптическ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_s1046">
              <a:hlinkClick r:id="rId8" action="ppaction://hlinksldjump"/>
            </p:cNvPr>
            <p:cNvSpPr/>
            <p:nvPr/>
          </p:nvSpPr>
          <p:spPr>
            <a:xfrm>
              <a:off x="5651280" y="3282840"/>
              <a:ext cx="2976120" cy="574200"/>
            </a:xfrm>
            <a:prstGeom prst="roundRect">
              <a:avLst>
                <a:gd name="adj" fmla="val 16667"/>
              </a:avLst>
            </a:prstGeom>
            <a:solidFill>
              <a:srgbClr val="9a9ab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7440" rIns="37440" tIns="18720" bIns="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межклассовая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7868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пишем формулу простейшего линейного изомера  С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5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0" lang="ru-RU" sz="1600" spc="-1" strike="noStrike">
                <a:solidFill>
                  <a:srgbClr val="ffffcc"/>
                </a:solidFill>
                <a:latin typeface="Arial"/>
              </a:rPr>
              <a:t>11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,  у которого атом брома расположен возле первого атома углерода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358560" y="1699920"/>
            <a:ext cx="878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Для этого расположим все атомы углерода в одну цепочку, к первому атому углерода присоединим атом брома, вспомнив при этом, что валентность брома равна 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</a:t>
            </a: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  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 – С – С – С – С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                                </a:t>
            </a:r>
            <a:r>
              <a:rPr b="1" lang="ru-RU" sz="1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Verdana"/>
              </a:rPr>
              <a:t>I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Теперь расставим атомы водо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6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Итак, мы написали формулу первого изомера С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5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</a:t>
            </a:r>
            <a:r>
              <a:rPr b="1" lang="ru-RU" sz="1200" spc="-1" strike="noStrike">
                <a:solidFill>
                  <a:srgbClr val="eec85e"/>
                </a:solidFill>
                <a:latin typeface="Verdana"/>
              </a:rPr>
              <a:t>11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В</a:t>
            </a:r>
            <a:r>
              <a:rPr b="1" lang="en-US" sz="2000" spc="-1" strike="noStrike">
                <a:solidFill>
                  <a:srgbClr val="eec85e"/>
                </a:solidFill>
                <a:latin typeface="Verdana"/>
              </a:rPr>
              <a:t>r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–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eec85e"/>
                </a:solidFill>
                <a:latin typeface="Verdana"/>
              </a:rPr>
              <a:t>1–бромпентана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Само название этого вида изомерии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предполагает, что положение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cc"/>
                </a:solidFill>
                <a:latin typeface="Verdana"/>
              </a:rPr>
              <a:t>функциональной группы должно меняться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Разместим атом брома возле второго атома углерод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ы легко догадаетесь как будет выглядеть третий изомер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3 – 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1" name="Oval 4"/>
          <p:cNvSpPr/>
          <p:nvPr/>
        </p:nvSpPr>
        <p:spPr>
          <a:xfrm rot="493200">
            <a:off x="0" y="5589360"/>
            <a:ext cx="3780000" cy="112392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умайт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ществуют ли друг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зомеры этого вида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Итак, мы получили формулы </a:t>
            </a:r>
            <a:br>
              <a:rPr sz="3600"/>
            </a:b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трех изомеров бромпентана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1–бромпентан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2–бромпентан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3–бромпентан </a:t>
            </a: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006666"/>
              </a:gs>
              <a:gs pos="100000">
                <a:srgbClr val="00444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9280" y="277560"/>
            <a:ext cx="8147160" cy="293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Нет.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ругих </a:t>
            </a:r>
            <a:r>
              <a:rPr b="1" i="1" lang="ru-RU" sz="4000" spc="-1" strike="noStrike">
                <a:solidFill>
                  <a:srgbClr val="ffffcc"/>
                </a:solidFill>
                <a:latin typeface="Arial"/>
              </a:rPr>
              <a:t>изомеров положения функциональной группы</a:t>
            </a: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для бромпентана не существует.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9" name="Oval 4"/>
          <p:cNvSpPr/>
          <p:nvPr/>
        </p:nvSpPr>
        <p:spPr>
          <a:xfrm>
            <a:off x="2050920" y="4149720"/>
            <a:ext cx="6481800" cy="1706400"/>
          </a:xfrm>
          <a:prstGeom prst="ellipse">
            <a:avLst/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 как же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 – бромпентан 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 – бромпентан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Вспомните правила номенклатуры и </a:t>
            </a:r>
            <a:r>
              <a:rPr b="0" i="1" lang="ru-RU" sz="3600" spc="-1" strike="noStrike">
                <a:solidFill>
                  <a:srgbClr val="ffffcc"/>
                </a:solidFill>
                <a:latin typeface="Arial"/>
              </a:rPr>
              <a:t>порядок нумерации: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893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aeaea"/>
                </a:solidFill>
                <a:latin typeface="Verdana"/>
              </a:rPr>
              <a:t>В соответствии с правилами систематической номенклатуры нумерация начинается с того края, где ближе расположена функциональная группа: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i="1" lang="ru-RU" sz="1000" spc="-1" strike="noStrike">
                <a:solidFill>
                  <a:srgbClr val="eaeaea"/>
                </a:solidFill>
                <a:latin typeface="Verdana"/>
              </a:rPr>
              <a:t>5                              4                             3                             2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 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2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eec85e"/>
                </a:solidFill>
                <a:latin typeface="Verdana"/>
              </a:rPr>
              <a:t>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5                              4</a:t>
            </a:r>
            <a:r>
              <a:rPr b="0" i="1" lang="ru-RU" sz="1000" spc="-1" strike="noStrike">
                <a:solidFill>
                  <a:srgbClr val="eec85e"/>
                </a:solidFill>
                <a:latin typeface="Verdana"/>
              </a:rPr>
              <a:t>                            </a:t>
            </a:r>
            <a:r>
              <a:rPr b="0" i="1" lang="ru-RU" sz="1000" spc="-1" strike="noStrike">
                <a:solidFill>
                  <a:srgbClr val="ffffff"/>
                </a:solidFill>
                <a:latin typeface="Verdana"/>
              </a:rPr>
              <a:t>3                             2                             1</a:t>
            </a:r>
            <a:endParaRPr b="0" lang="en-US" sz="1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3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Этот изомер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  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называетс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Br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eec85e"/>
                </a:solidFill>
                <a:latin typeface="Verdana"/>
              </a:rPr>
              <a:t>    1–бромпентан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23" name="AutoShape 4"/>
          <p:cNvSpPr/>
          <p:nvPr/>
        </p:nvSpPr>
        <p:spPr>
          <a:xfrm>
            <a:off x="395280" y="5661000"/>
            <a:ext cx="1835280" cy="963720"/>
          </a:xfrm>
          <a:prstGeom prst="upArrowCallout">
            <a:avLst>
              <a:gd name="adj1" fmla="val 47614"/>
              <a:gd name="adj2" fmla="val 47609"/>
              <a:gd name="adj3" fmla="val 16667"/>
              <a:gd name="adj4" fmla="val 66660"/>
            </a:avLst>
          </a:prstGeom>
          <a:solidFill>
            <a:srgbClr val="006666"/>
          </a:solidFill>
          <a:ln w="9360">
            <a:solidFill>
              <a:srgbClr val="ffff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ec85e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24d0f2"/>
                </a:solidFill>
                <a:latin typeface="Arial"/>
              </a:rPr>
              <a:t>Межклассовая изомерия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ти изомеры относятся к разным классам органических соедин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ется просто запомнить какие классы соединений изомерны друг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Рассмотрим некоторые примеры межклассовой изомер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/>
          </p:nvPr>
        </p:nvSpPr>
        <p:spPr>
          <a:xfrm>
            <a:off x="179280" y="907920"/>
            <a:ext cx="8785440" cy="519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ен                   циклоалка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= СН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бутен -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I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– C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иклобутан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кин                   ди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≡ С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= СН – СН =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бутин – 1                                               бутадиен – 1,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Oval 4"/>
          <p:cNvSpPr/>
          <p:nvPr/>
        </p:nvSpPr>
        <p:spPr>
          <a:xfrm rot="645600">
            <a:off x="6516720" y="189000"/>
            <a:ext cx="244800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9edff"/>
                </a:solidFill>
                <a:latin typeface="Arial"/>
              </a:rPr>
              <a:t>Углеводор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/>
          </p:nvPr>
        </p:nvSpPr>
        <p:spPr>
          <a:xfrm>
            <a:off x="358560" y="549360"/>
            <a:ext cx="8785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спирт             просто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Н 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этанол                                               диметиловый эфи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кислота             сложный эф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ОН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овая кислота                                             метилацета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альдегид                 кето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НО                  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СО – СН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пропаналь                                                    пропанон – 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Oval 4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Кислород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/>
          </p:nvPr>
        </p:nvSpPr>
        <p:spPr>
          <a:xfrm>
            <a:off x="324000" y="907560"/>
            <a:ext cx="8540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cc00"/>
                </a:solidFill>
                <a:latin typeface="Arial"/>
              </a:rPr>
              <a:t>аминокислота             нитросоеди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Н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ООН         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– СН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2 – аминоэтановая кислота                            нитроэта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Можно найти межклассовые изомеры и дл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c00"/>
                </a:solidFill>
                <a:latin typeface="Arial"/>
              </a:rPr>
              <a:t>других соединений. Подумайте сами, для как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AutoShape 4"/>
          <p:cNvSpPr/>
          <p:nvPr/>
        </p:nvSpPr>
        <p:spPr>
          <a:xfrm>
            <a:off x="250920" y="558972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5"/>
          <p:cNvSpPr/>
          <p:nvPr/>
        </p:nvSpPr>
        <p:spPr>
          <a:xfrm>
            <a:off x="6443640" y="537372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5cbede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edff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Oval 7"/>
          <p:cNvSpPr/>
          <p:nvPr/>
        </p:nvSpPr>
        <p:spPr>
          <a:xfrm rot="645600">
            <a:off x="6300720" y="183960"/>
            <a:ext cx="2841840" cy="9144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0000a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Азотсодержа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9edff"/>
                </a:solidFill>
                <a:latin typeface="Arial"/>
              </a:rPr>
              <a:t>соедин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птическая изомер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ая изомерия характерна для многих природных соединений. Особенно большое значение она имеет для углеводов и белков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птические изомеры обладают одинаковыми химическими свойствами. Большинство их физических свойств (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л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ип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, цвет, запах и т.д.) совпадают. Отличается они лишь способностью отклонять на некоторый угол плоскость поляризации поляризованного света, а в твердом состоянии их кристаллы выглядят зеркальным от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1" name="Oval 4"/>
          <p:cNvSpPr/>
          <p:nvPr/>
        </p:nvSpPr>
        <p:spPr>
          <a:xfrm rot="21226800">
            <a:off x="5359320" y="5659200"/>
            <a:ext cx="3600360" cy="1054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та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й св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как он вращаетс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9cd39"/>
                </a:solidFill>
                <a:latin typeface="Arial"/>
              </a:rPr>
              <a:t>Динамическая изомерия (таутомерия)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178920" y="169992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Таутомерия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достаточно распространенный вид изомерии в органической химии. Динамическая изомерия возможна в случае переноса подвижного атома водорода, при валентных превращениях, внутримолекулярных взаимодействиях и т.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ля таутомеров характерно довольно легкое, иногда самопроизвольное, превращение друг в друг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ассмотрим некоторые примеры таутомерии</a:t>
            </a: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8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своему строению оптические изомеры столько же похожи и столько же отличаются друг от друга, как правая и левая руки, которые являются зеркальным отображением друг д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4" name="Oval 4"/>
          <p:cNvSpPr/>
          <p:nvPr/>
        </p:nvSpPr>
        <p:spPr>
          <a:xfrm>
            <a:off x="1692360" y="3933720"/>
            <a:ext cx="647640" cy="6476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Oval 5"/>
          <p:cNvSpPr/>
          <p:nvPr/>
        </p:nvSpPr>
        <p:spPr>
          <a:xfrm>
            <a:off x="1619280" y="2852640"/>
            <a:ext cx="792000" cy="720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Oval 6"/>
          <p:cNvSpPr/>
          <p:nvPr/>
        </p:nvSpPr>
        <p:spPr>
          <a:xfrm>
            <a:off x="755640" y="4221000"/>
            <a:ext cx="576360" cy="50508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Oval 7"/>
          <p:cNvSpPr/>
          <p:nvPr/>
        </p:nvSpPr>
        <p:spPr>
          <a:xfrm>
            <a:off x="2700360" y="40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Line 9"/>
          <p:cNvSpPr/>
          <p:nvPr/>
        </p:nvSpPr>
        <p:spPr>
          <a:xfrm>
            <a:off x="1979640" y="3573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Line 11"/>
          <p:cNvSpPr/>
          <p:nvPr/>
        </p:nvSpPr>
        <p:spPr>
          <a:xfrm flipV="1">
            <a:off x="1332000" y="436572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Line 12"/>
          <p:cNvSpPr/>
          <p:nvPr/>
        </p:nvSpPr>
        <p:spPr>
          <a:xfrm>
            <a:off x="2342160" y="4263840"/>
            <a:ext cx="356040" cy="57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Line 13"/>
          <p:cNvSpPr/>
          <p:nvPr/>
        </p:nvSpPr>
        <p:spPr>
          <a:xfrm>
            <a:off x="2124000" y="458136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14"/>
          <p:cNvSpPr/>
          <p:nvPr/>
        </p:nvSpPr>
        <p:spPr>
          <a:xfrm>
            <a:off x="6948360" y="2781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c5a7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15"/>
          <p:cNvSpPr/>
          <p:nvPr/>
        </p:nvSpPr>
        <p:spPr>
          <a:xfrm>
            <a:off x="6084720" y="4005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16"/>
          <p:cNvSpPr/>
          <p:nvPr/>
        </p:nvSpPr>
        <p:spPr>
          <a:xfrm>
            <a:off x="7020000" y="3860640"/>
            <a:ext cx="647640" cy="6480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Line 17"/>
          <p:cNvSpPr/>
          <p:nvPr/>
        </p:nvSpPr>
        <p:spPr>
          <a:xfrm>
            <a:off x="7380360" y="350028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Line 18"/>
          <p:cNvSpPr/>
          <p:nvPr/>
        </p:nvSpPr>
        <p:spPr>
          <a:xfrm flipV="1">
            <a:off x="6660720" y="4201920"/>
            <a:ext cx="358200" cy="38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 flipH="1" flipV="1">
            <a:off x="7667280" y="4292640"/>
            <a:ext cx="360360" cy="71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Oval 20"/>
          <p:cNvSpPr/>
          <p:nvPr/>
        </p:nvSpPr>
        <p:spPr>
          <a:xfrm>
            <a:off x="8028000" y="4149720"/>
            <a:ext cx="576360" cy="504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21"/>
          <p:cNvSpPr/>
          <p:nvPr/>
        </p:nvSpPr>
        <p:spPr>
          <a:xfrm flipH="1">
            <a:off x="7020000" y="4508640"/>
            <a:ext cx="216000" cy="50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Oval 22"/>
          <p:cNvSpPr/>
          <p:nvPr/>
        </p:nvSpPr>
        <p:spPr>
          <a:xfrm>
            <a:off x="6443640" y="494172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Oval 8"/>
          <p:cNvSpPr/>
          <p:nvPr/>
        </p:nvSpPr>
        <p:spPr>
          <a:xfrm>
            <a:off x="2124000" y="5013360"/>
            <a:ext cx="792360" cy="720720"/>
          </a:xfrm>
          <a:prstGeom prst="ellipse">
            <a:avLst/>
          </a:prstGeom>
          <a:gradFill rotWithShape="0">
            <a:gsLst>
              <a:gs pos="0">
                <a:srgbClr val="472f76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Oval 23"/>
          <p:cNvSpPr/>
          <p:nvPr/>
        </p:nvSpPr>
        <p:spPr>
          <a:xfrm>
            <a:off x="2987640" y="5661000"/>
            <a:ext cx="3600360" cy="108108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аких случая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змож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Freeform 24"/>
          <p:cNvSpPr/>
          <p:nvPr/>
        </p:nvSpPr>
        <p:spPr>
          <a:xfrm flipH="1">
            <a:off x="467640" y="5084640"/>
            <a:ext cx="1176120" cy="1422360"/>
          </a:xfrm>
          <a:custGeom>
            <a:avLst/>
            <a:gdLst>
              <a:gd name="textAreaLeft" fmla="*/ -360 w 1176120"/>
              <a:gd name="textAreaRight" fmla="*/ 1176120 w 117612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Freeform 25"/>
          <p:cNvSpPr/>
          <p:nvPr/>
        </p:nvSpPr>
        <p:spPr>
          <a:xfrm>
            <a:off x="7451640" y="5013360"/>
            <a:ext cx="1170000" cy="142236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422360"/>
              <a:gd name="textAreaBottom" fmla="*/ 1422720 h 1422360"/>
            </a:gdLst>
            <a:ahLst/>
            <a:rect l="textAreaLeft" t="textAreaTop" r="textAreaRight" b="textAreaBottom"/>
            <a:pathLst>
              <a:path w="741" h="896">
                <a:moveTo>
                  <a:pt x="147" y="896"/>
                </a:moveTo>
                <a:cubicBezTo>
                  <a:pt x="172" y="794"/>
                  <a:pt x="187" y="713"/>
                  <a:pt x="92" y="649"/>
                </a:cubicBezTo>
                <a:cubicBezTo>
                  <a:pt x="67" y="575"/>
                  <a:pt x="102" y="665"/>
                  <a:pt x="64" y="603"/>
                </a:cubicBezTo>
                <a:cubicBezTo>
                  <a:pt x="34" y="554"/>
                  <a:pt x="83" y="594"/>
                  <a:pt x="28" y="558"/>
                </a:cubicBezTo>
                <a:cubicBezTo>
                  <a:pt x="7" y="492"/>
                  <a:pt x="6" y="426"/>
                  <a:pt x="0" y="357"/>
                </a:cubicBezTo>
                <a:cubicBezTo>
                  <a:pt x="9" y="286"/>
                  <a:pt x="1" y="266"/>
                  <a:pt x="46" y="219"/>
                </a:cubicBezTo>
                <a:cubicBezTo>
                  <a:pt x="55" y="222"/>
                  <a:pt x="68" y="221"/>
                  <a:pt x="74" y="229"/>
                </a:cubicBezTo>
                <a:cubicBezTo>
                  <a:pt x="95" y="258"/>
                  <a:pt x="107" y="336"/>
                  <a:pt x="119" y="375"/>
                </a:cubicBezTo>
                <a:cubicBezTo>
                  <a:pt x="125" y="394"/>
                  <a:pt x="132" y="412"/>
                  <a:pt x="138" y="430"/>
                </a:cubicBezTo>
                <a:cubicBezTo>
                  <a:pt x="141" y="439"/>
                  <a:pt x="147" y="457"/>
                  <a:pt x="147" y="457"/>
                </a:cubicBezTo>
                <a:cubicBezTo>
                  <a:pt x="165" y="454"/>
                  <a:pt x="188" y="460"/>
                  <a:pt x="202" y="448"/>
                </a:cubicBezTo>
                <a:cubicBezTo>
                  <a:pt x="218" y="434"/>
                  <a:pt x="246" y="281"/>
                  <a:pt x="247" y="274"/>
                </a:cubicBezTo>
                <a:cubicBezTo>
                  <a:pt x="258" y="217"/>
                  <a:pt x="279" y="166"/>
                  <a:pt x="293" y="110"/>
                </a:cubicBezTo>
                <a:cubicBezTo>
                  <a:pt x="295" y="103"/>
                  <a:pt x="305" y="56"/>
                  <a:pt x="311" y="46"/>
                </a:cubicBezTo>
                <a:cubicBezTo>
                  <a:pt x="321" y="29"/>
                  <a:pt x="337" y="16"/>
                  <a:pt x="348" y="0"/>
                </a:cubicBezTo>
                <a:cubicBezTo>
                  <a:pt x="407" y="88"/>
                  <a:pt x="357" y="2"/>
                  <a:pt x="357" y="238"/>
                </a:cubicBezTo>
                <a:cubicBezTo>
                  <a:pt x="357" y="248"/>
                  <a:pt x="362" y="219"/>
                  <a:pt x="366" y="210"/>
                </a:cubicBezTo>
                <a:cubicBezTo>
                  <a:pt x="371" y="200"/>
                  <a:pt x="380" y="193"/>
                  <a:pt x="384" y="183"/>
                </a:cubicBezTo>
                <a:cubicBezTo>
                  <a:pt x="408" y="129"/>
                  <a:pt x="415" y="102"/>
                  <a:pt x="476" y="82"/>
                </a:cubicBezTo>
                <a:cubicBezTo>
                  <a:pt x="566" y="22"/>
                  <a:pt x="508" y="185"/>
                  <a:pt x="485" y="219"/>
                </a:cubicBezTo>
                <a:cubicBezTo>
                  <a:pt x="472" y="258"/>
                  <a:pt x="453" y="289"/>
                  <a:pt x="439" y="329"/>
                </a:cubicBezTo>
                <a:cubicBezTo>
                  <a:pt x="429" y="360"/>
                  <a:pt x="419" y="367"/>
                  <a:pt x="458" y="347"/>
                </a:cubicBezTo>
                <a:cubicBezTo>
                  <a:pt x="468" y="342"/>
                  <a:pt x="476" y="335"/>
                  <a:pt x="485" y="329"/>
                </a:cubicBezTo>
                <a:cubicBezTo>
                  <a:pt x="505" y="300"/>
                  <a:pt x="520" y="285"/>
                  <a:pt x="549" y="265"/>
                </a:cubicBezTo>
                <a:cubicBezTo>
                  <a:pt x="552" y="256"/>
                  <a:pt x="555" y="247"/>
                  <a:pt x="558" y="238"/>
                </a:cubicBezTo>
                <a:cubicBezTo>
                  <a:pt x="561" y="226"/>
                  <a:pt x="563" y="213"/>
                  <a:pt x="567" y="201"/>
                </a:cubicBezTo>
                <a:cubicBezTo>
                  <a:pt x="573" y="182"/>
                  <a:pt x="586" y="146"/>
                  <a:pt x="586" y="146"/>
                </a:cubicBezTo>
                <a:cubicBezTo>
                  <a:pt x="595" y="149"/>
                  <a:pt x="608" y="147"/>
                  <a:pt x="613" y="155"/>
                </a:cubicBezTo>
                <a:cubicBezTo>
                  <a:pt x="624" y="171"/>
                  <a:pt x="631" y="210"/>
                  <a:pt x="631" y="210"/>
                </a:cubicBezTo>
                <a:cubicBezTo>
                  <a:pt x="623" y="276"/>
                  <a:pt x="622" y="311"/>
                  <a:pt x="576" y="357"/>
                </a:cubicBezTo>
                <a:cubicBezTo>
                  <a:pt x="570" y="375"/>
                  <a:pt x="564" y="393"/>
                  <a:pt x="558" y="411"/>
                </a:cubicBezTo>
                <a:cubicBezTo>
                  <a:pt x="555" y="419"/>
                  <a:pt x="532" y="426"/>
                  <a:pt x="540" y="430"/>
                </a:cubicBezTo>
                <a:cubicBezTo>
                  <a:pt x="551" y="436"/>
                  <a:pt x="564" y="424"/>
                  <a:pt x="576" y="421"/>
                </a:cubicBezTo>
                <a:cubicBezTo>
                  <a:pt x="613" y="384"/>
                  <a:pt x="621" y="338"/>
                  <a:pt x="659" y="302"/>
                </a:cubicBezTo>
                <a:cubicBezTo>
                  <a:pt x="680" y="305"/>
                  <a:pt x="704" y="301"/>
                  <a:pt x="723" y="311"/>
                </a:cubicBezTo>
                <a:cubicBezTo>
                  <a:pt x="741" y="320"/>
                  <a:pt x="730" y="378"/>
                  <a:pt x="714" y="393"/>
                </a:cubicBezTo>
                <a:cubicBezTo>
                  <a:pt x="687" y="418"/>
                  <a:pt x="669" y="453"/>
                  <a:pt x="640" y="475"/>
                </a:cubicBezTo>
                <a:cubicBezTo>
                  <a:pt x="606" y="501"/>
                  <a:pt x="575" y="516"/>
                  <a:pt x="549" y="549"/>
                </a:cubicBezTo>
                <a:cubicBezTo>
                  <a:pt x="518" y="589"/>
                  <a:pt x="520" y="640"/>
                  <a:pt x="485" y="677"/>
                </a:cubicBezTo>
                <a:cubicBezTo>
                  <a:pt x="482" y="692"/>
                  <a:pt x="485" y="709"/>
                  <a:pt x="476" y="722"/>
                </a:cubicBezTo>
                <a:cubicBezTo>
                  <a:pt x="470" y="730"/>
                  <a:pt x="456" y="726"/>
                  <a:pt x="448" y="731"/>
                </a:cubicBezTo>
                <a:cubicBezTo>
                  <a:pt x="384" y="770"/>
                  <a:pt x="482" y="733"/>
                  <a:pt x="403" y="759"/>
                </a:cubicBezTo>
                <a:cubicBezTo>
                  <a:pt x="376" y="755"/>
                  <a:pt x="340" y="736"/>
                  <a:pt x="320" y="768"/>
                </a:cubicBezTo>
                <a:cubicBezTo>
                  <a:pt x="311" y="782"/>
                  <a:pt x="296" y="878"/>
                  <a:pt x="275" y="87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43624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Для существования оптических изомеров необходим </a:t>
            </a:r>
            <a:r>
              <a:rPr b="1" i="1" lang="ru-RU" sz="2800" spc="-1" strike="noStrike">
                <a:solidFill>
                  <a:srgbClr val="ffffcc"/>
                </a:solidFill>
                <a:latin typeface="Tahoma"/>
              </a:rPr>
              <a:t>асимметрический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атом углерода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569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симметрическим называют атом углерода, соедине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апример, у 1– бром–1– хлорэтана первый атом углерода связан с четырьмя разными атомами: –Н, –С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r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–СН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этом случае возможны два различных расположения молеку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Oval 4"/>
          <p:cNvSpPr/>
          <p:nvPr/>
        </p:nvSpPr>
        <p:spPr>
          <a:xfrm>
            <a:off x="140328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Oval 15"/>
          <p:cNvSpPr/>
          <p:nvPr/>
        </p:nvSpPr>
        <p:spPr>
          <a:xfrm>
            <a:off x="68436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Oval 16"/>
          <p:cNvSpPr/>
          <p:nvPr/>
        </p:nvSpPr>
        <p:spPr>
          <a:xfrm>
            <a:off x="2195640" y="5516640"/>
            <a:ext cx="433440" cy="431640"/>
          </a:xfrm>
          <a:prstGeom prst="ellipse">
            <a:avLst/>
          </a:prstGeom>
          <a:gradFill rotWithShape="0">
            <a:gsLst>
              <a:gs pos="0">
                <a:srgbClr val="c1a3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Oval 17"/>
          <p:cNvSpPr/>
          <p:nvPr/>
        </p:nvSpPr>
        <p:spPr>
          <a:xfrm>
            <a:off x="140328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Oval 18"/>
          <p:cNvSpPr/>
          <p:nvPr/>
        </p:nvSpPr>
        <p:spPr>
          <a:xfrm>
            <a:off x="1835280" y="6093000"/>
            <a:ext cx="433080" cy="431640"/>
          </a:xfrm>
          <a:prstGeom prst="ellipse">
            <a:avLst/>
          </a:prstGeom>
          <a:gradFill rotWithShape="0">
            <a:gsLst>
              <a:gs pos="0">
                <a:srgbClr val="b894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Oval 19"/>
          <p:cNvSpPr/>
          <p:nvPr/>
        </p:nvSpPr>
        <p:spPr>
          <a:xfrm>
            <a:off x="4427640" y="602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58f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Oval 20"/>
          <p:cNvSpPr/>
          <p:nvPr/>
        </p:nvSpPr>
        <p:spPr>
          <a:xfrm>
            <a:off x="4140360" y="5516640"/>
            <a:ext cx="433080" cy="431640"/>
          </a:xfrm>
          <a:prstGeom prst="ellipse">
            <a:avLst/>
          </a:prstGeom>
          <a:gradFill rotWithShape="0">
            <a:gsLst>
              <a:gs pos="0">
                <a:srgbClr val="be9e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Oval 22"/>
          <p:cNvSpPr/>
          <p:nvPr/>
        </p:nvSpPr>
        <p:spPr>
          <a:xfrm>
            <a:off x="4932360" y="4581360"/>
            <a:ext cx="433440" cy="432000"/>
          </a:xfrm>
          <a:prstGeom prst="ellipse">
            <a:avLst/>
          </a:prstGeom>
          <a:gradFill rotWithShape="0">
            <a:gsLst>
              <a:gs pos="0">
                <a:srgbClr val="bb99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Н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23"/>
          <p:cNvSpPr/>
          <p:nvPr/>
        </p:nvSpPr>
        <p:spPr>
          <a:xfrm>
            <a:off x="5651640" y="5445000"/>
            <a:ext cx="433080" cy="432000"/>
          </a:xfrm>
          <a:prstGeom prst="ellipse">
            <a:avLst/>
          </a:prstGeom>
          <a:gradFill rotWithShape="0">
            <a:gsLst>
              <a:gs pos="0">
                <a:srgbClr val="b18bff"/>
              </a:gs>
              <a:gs pos="100000">
                <a:srgbClr val="99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24"/>
          <p:cNvSpPr/>
          <p:nvPr/>
        </p:nvSpPr>
        <p:spPr>
          <a:xfrm>
            <a:off x="4932360" y="5229360"/>
            <a:ext cx="433440" cy="431640"/>
          </a:xfrm>
          <a:prstGeom prst="ellipse">
            <a:avLst/>
          </a:prstGeom>
          <a:gradFill rotWithShape="0">
            <a:gsLst>
              <a:gs pos="0">
                <a:srgbClr val="18185e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Line 25"/>
          <p:cNvSpPr/>
          <p:nvPr/>
        </p:nvSpPr>
        <p:spPr>
          <a:xfrm>
            <a:off x="161928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Line 26"/>
          <p:cNvSpPr/>
          <p:nvPr/>
        </p:nvSpPr>
        <p:spPr>
          <a:xfrm>
            <a:off x="5148360" y="5013360"/>
            <a:ext cx="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Line 27"/>
          <p:cNvSpPr/>
          <p:nvPr/>
        </p:nvSpPr>
        <p:spPr>
          <a:xfrm>
            <a:off x="183528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Line 28"/>
          <p:cNvSpPr/>
          <p:nvPr/>
        </p:nvSpPr>
        <p:spPr>
          <a:xfrm flipH="1">
            <a:off x="4571640" y="5516640"/>
            <a:ext cx="36036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Line 30"/>
          <p:cNvSpPr/>
          <p:nvPr/>
        </p:nvSpPr>
        <p:spPr>
          <a:xfrm flipV="1">
            <a:off x="1085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Line 31"/>
          <p:cNvSpPr/>
          <p:nvPr/>
        </p:nvSpPr>
        <p:spPr>
          <a:xfrm flipH="1" flipV="1">
            <a:off x="5333400" y="5498280"/>
            <a:ext cx="339120" cy="12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Line 32"/>
          <p:cNvSpPr/>
          <p:nvPr/>
        </p:nvSpPr>
        <p:spPr>
          <a:xfrm>
            <a:off x="169236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Line 33"/>
          <p:cNvSpPr/>
          <p:nvPr/>
        </p:nvSpPr>
        <p:spPr>
          <a:xfrm flipH="1">
            <a:off x="4788000" y="5661000"/>
            <a:ext cx="287280" cy="432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Oval 34"/>
          <p:cNvSpPr/>
          <p:nvPr/>
        </p:nvSpPr>
        <p:spPr>
          <a:xfrm rot="20420400">
            <a:off x="6013440" y="5462640"/>
            <a:ext cx="3132000" cy="11271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в природе встречает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изомерия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468000" y="620280"/>
            <a:ext cx="8218440" cy="18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В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природе наибольшее значение имеет оптическая изомерия </a:t>
            </a:r>
            <a:br>
              <a:rPr sz="3200"/>
            </a:b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углеводов и аминокислот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89" name="Oval 4"/>
          <p:cNvSpPr/>
          <p:nvPr/>
        </p:nvSpPr>
        <p:spPr>
          <a:xfrm>
            <a:off x="468360" y="2924280"/>
            <a:ext cx="8064360" cy="2879640"/>
          </a:xfrm>
          <a:prstGeom prst="ellipse">
            <a:avLst/>
          </a:prstGeom>
          <a:solidFill>
            <a:srgbClr val="ababa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но, что практически вс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родные» углеводы имею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конфигурацию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 вот аминокислоты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тречаются только в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орме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713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 – C =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 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-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глюкоз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= 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en-US" sz="1800" spc="-1" strike="noStrike">
                <a:solidFill>
                  <a:srgbClr val="c9cd39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       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9cd39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OH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            НО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     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I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             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 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 С 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О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 – 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                                                         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       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Tahoma"/>
              </a:rPr>
              <a:t>      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2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Oval 3"/>
          <p:cNvSpPr/>
          <p:nvPr/>
        </p:nvSpPr>
        <p:spPr>
          <a:xfrm rot="20692200">
            <a:off x="4858920" y="5444640"/>
            <a:ext cx="4103640" cy="1008360"/>
          </a:xfrm>
          <a:prstGeom prst="ellipse">
            <a:avLst/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термин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ят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тической изомерии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975600">
            <a:off x="0" y="1125360"/>
            <a:ext cx="194472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распростране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9cd39"/>
                </a:solidFill>
                <a:latin typeface="Arial"/>
              </a:rPr>
              <a:t>в природ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351200">
            <a:off x="4859280" y="1268280"/>
            <a:ext cx="1871640" cy="576360"/>
          </a:xfrm>
          <a:prstGeom prst="rect">
            <a:avLst/>
          </a:prstGeom>
          <a:solidFill>
            <a:srgbClr val="5b5d6b"/>
          </a:solidFill>
          <a:ln w="9360">
            <a:solidFill>
              <a:srgbClr val="5b5d6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в природ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ec145"/>
                </a:solidFill>
                <a:latin typeface="Arial"/>
              </a:rPr>
              <a:t>не встреча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2219040" y="240840"/>
            <a:ext cx="46321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Некоторые термины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/>
          </p:nvPr>
        </p:nvSpPr>
        <p:spPr>
          <a:xfrm>
            <a:off x="395280" y="1386000"/>
            <a:ext cx="842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ая изомерия – иначе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ая изомерия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птические изомеры – иначе называются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зеркальными изомерами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энантиомерами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ость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пособность соединений существовать в виде пары зеркальных изомер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цент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хиральный ато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углерода – асимметрический атом углерода, связанный с четырьмя различными атомами или группами атомов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cc"/>
                </a:solidFill>
                <a:latin typeface="Tahoma"/>
              </a:rPr>
              <a:t>Рацемат</a:t>
            </a:r>
            <a:r>
              <a:rPr b="0" lang="ru-RU" sz="2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– смесь оптических изомеров, не обладающая оптической активностью. В рацемате изомеры погашают оптическую активность друг друг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AutoShape 4"/>
          <p:cNvSpPr/>
          <p:nvPr/>
        </p:nvSpPr>
        <p:spPr>
          <a:xfrm>
            <a:off x="179280" y="189000"/>
            <a:ext cx="216072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b9b9b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AutoShape 5"/>
          <p:cNvSpPr/>
          <p:nvPr/>
        </p:nvSpPr>
        <p:spPr>
          <a:xfrm>
            <a:off x="6443640" y="0"/>
            <a:ext cx="270036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1c1c1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c00b4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ычный свет представляет собой электромагнитные колебания. Как правило световые волны колеблются во множестве плоскостей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свет пропустить через специальный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ат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, то все световые волны будут колебаться в одной плоскост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Такой свет называется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лоско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или </a:t>
            </a:r>
            <a:r>
              <a:rPr b="0" i="1" lang="ru-RU" sz="2400" spc="-1" strike="noStrike">
                <a:solidFill>
                  <a:srgbClr val="ffffcc"/>
                </a:solidFill>
                <a:latin typeface="Tahoma"/>
              </a:rPr>
              <a:t>поляризованным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02" name="Group 4"/>
          <p:cNvGrpSpPr/>
          <p:nvPr/>
        </p:nvGrpSpPr>
        <p:grpSpPr>
          <a:xfrm>
            <a:off x="1908000" y="3068640"/>
            <a:ext cx="4932000" cy="2027160"/>
            <a:chOff x="1908000" y="3068640"/>
            <a:chExt cx="4932000" cy="2027160"/>
          </a:xfrm>
        </p:grpSpPr>
        <p:sp>
          <p:nvSpPr>
            <p:cNvPr id="1303" name="AutoShape 5"/>
            <p:cNvSpPr/>
            <p:nvPr/>
          </p:nvSpPr>
          <p:spPr>
            <a:xfrm>
              <a:off x="1908000" y="3068640"/>
              <a:ext cx="4932000" cy="20271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Rectangle 6"/>
            <p:cNvSpPr/>
            <p:nvPr/>
          </p:nvSpPr>
          <p:spPr>
            <a:xfrm>
              <a:off x="4682160" y="3873600"/>
              <a:ext cx="1075680" cy="3294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Freeform 7"/>
            <p:cNvSpPr/>
            <p:nvPr/>
          </p:nvSpPr>
          <p:spPr>
            <a:xfrm>
              <a:off x="4920840" y="3873600"/>
              <a:ext cx="598320" cy="32940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329400"/>
                <a:gd name="textAreaBottom" fmla="*/ 329760 h 3294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1260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AutoShape 8"/>
            <p:cNvSpPr/>
            <p:nvPr/>
          </p:nvSpPr>
          <p:spPr>
            <a:xfrm>
              <a:off x="5040000" y="3072960"/>
              <a:ext cx="1314360" cy="434880"/>
            </a:xfrm>
            <a:prstGeom prst="wedgeRectCallout">
              <a:avLst>
                <a:gd name="adj1" fmla="val -55152"/>
                <a:gd name="adj2" fmla="val 122074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AutoShape 9"/>
            <p:cNvSpPr/>
            <p:nvPr/>
          </p:nvSpPr>
          <p:spPr>
            <a:xfrm>
              <a:off x="1933200" y="3873600"/>
              <a:ext cx="829440" cy="493920"/>
            </a:xfrm>
            <a:prstGeom prst="irregularSeal1">
              <a:avLst/>
            </a:prstGeom>
            <a:gradFill rotWithShape="0">
              <a:gsLst>
                <a:gs pos="0">
                  <a:srgbClr val="ffffb5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AutoShape 10"/>
            <p:cNvSpPr/>
            <p:nvPr/>
          </p:nvSpPr>
          <p:spPr>
            <a:xfrm flipV="1">
              <a:off x="3801960" y="3839400"/>
              <a:ext cx="275400" cy="49428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11"/>
            <p:cNvSpPr/>
            <p:nvPr/>
          </p:nvSpPr>
          <p:spPr>
            <a:xfrm flipV="1">
              <a:off x="3367440" y="4101120"/>
              <a:ext cx="3466800" cy="684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AutoShape 12"/>
            <p:cNvSpPr/>
            <p:nvPr/>
          </p:nvSpPr>
          <p:spPr>
            <a:xfrm>
              <a:off x="3966120" y="4788360"/>
              <a:ext cx="1113120" cy="302400"/>
            </a:xfrm>
            <a:prstGeom prst="wedgeRectCallout">
              <a:avLst>
                <a:gd name="adj1" fmla="val -48032"/>
                <a:gd name="adj2" fmla="val -19033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31760" rIns="131760" tIns="65880" bIns="658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Freeform 13"/>
            <p:cNvSpPr/>
            <p:nvPr/>
          </p:nvSpPr>
          <p:spPr>
            <a:xfrm rot="16200000">
              <a:off x="2064240" y="3523320"/>
              <a:ext cx="340200" cy="124920"/>
            </a:xfrm>
            <a:custGeom>
              <a:avLst/>
              <a:gdLst>
                <a:gd name="textAreaLeft" fmla="*/ 0 w 340200"/>
                <a:gd name="textAreaRight" fmla="*/ 340560 w 34020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Freeform 14"/>
            <p:cNvSpPr/>
            <p:nvPr/>
          </p:nvSpPr>
          <p:spPr>
            <a:xfrm>
              <a:off x="2890080" y="3988080"/>
              <a:ext cx="357840" cy="114480"/>
            </a:xfrm>
            <a:custGeom>
              <a:avLst/>
              <a:gdLst>
                <a:gd name="textAreaLeft" fmla="*/ 0 w 357840"/>
                <a:gd name="textAreaRight" fmla="*/ 358200 w 357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Freeform 15"/>
            <p:cNvSpPr/>
            <p:nvPr/>
          </p:nvSpPr>
          <p:spPr>
            <a:xfrm rot="5170800">
              <a:off x="2062440" y="4668120"/>
              <a:ext cx="341640" cy="12312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123120"/>
                <a:gd name="textAreaBottom" fmla="*/ 123120 h 12312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Freeform 16"/>
            <p:cNvSpPr/>
            <p:nvPr/>
          </p:nvSpPr>
          <p:spPr>
            <a:xfrm rot="2100000">
              <a:off x="2531880" y="4558680"/>
              <a:ext cx="355680" cy="117000"/>
            </a:xfrm>
            <a:custGeom>
              <a:avLst/>
              <a:gdLst>
                <a:gd name="textAreaLeft" fmla="*/ 0 w 355680"/>
                <a:gd name="textAreaRight" fmla="*/ 356040 w 355680"/>
                <a:gd name="textAreaTop" fmla="*/ 0 h 117000"/>
                <a:gd name="textAreaBottom" fmla="*/ 117360 h 1170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Freeform 17"/>
            <p:cNvSpPr/>
            <p:nvPr/>
          </p:nvSpPr>
          <p:spPr>
            <a:xfrm rot="18206400">
              <a:off x="2539440" y="3527640"/>
              <a:ext cx="342720" cy="119160"/>
            </a:xfrm>
            <a:custGeom>
              <a:avLst/>
              <a:gdLst>
                <a:gd name="textAreaLeft" fmla="*/ 0 w 342720"/>
                <a:gd name="textAreaRight" fmla="*/ 343080 w 34272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noFill/>
            <a:ln w="28440">
              <a:solidFill>
                <a:srgbClr val="ffff8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/>
          </p:nvPr>
        </p:nvSpPr>
        <p:spPr>
          <a:xfrm>
            <a:off x="250560" y="1988640"/>
            <a:ext cx="843588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 1815г Жан Батист Био открыл явление </a:t>
            </a:r>
            <a:r>
              <a:rPr b="0" lang="ru-RU" sz="3200" spc="-1" strike="noStrike">
                <a:solidFill>
                  <a:srgbClr val="ffffcc"/>
                </a:solidFill>
                <a:latin typeface="Tahoma"/>
              </a:rPr>
              <a:t>оптической активности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–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способности жидкости изменять (отклонять на некоторый угол)  плоскость поляризации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ляризованного свет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96472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 прохождения через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раствор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ffffff"/>
                </a:solidFill>
                <a:latin typeface="Tahoma"/>
              </a:rPr>
              <a:t>оптически активного веществ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лоскость, в которой колеблются световые волны, поворачивается на некоторый угол </a:t>
            </a:r>
            <a:r>
              <a:rPr b="0" lang="el-GR" sz="2400" spc="-1" strike="noStrike">
                <a:solidFill>
                  <a:srgbClr val="ffffff"/>
                </a:solidFill>
                <a:latin typeface="Tahoma"/>
                <a:ea typeface="Arial"/>
              </a:rPr>
              <a:t>α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Если плоскость поляризации света смещается по часовой стрелке, такое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пра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+),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если против часовой стрелки, то вещество называют </a:t>
            </a:r>
            <a:r>
              <a:rPr b="1" i="1" lang="ru-RU" sz="2400" spc="-1" strike="noStrike">
                <a:solidFill>
                  <a:srgbClr val="ffffff"/>
                </a:solidFill>
                <a:latin typeface="Tahoma"/>
              </a:rPr>
              <a:t>левовращающим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Arial"/>
              </a:rPr>
              <a:t>–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20" name="Group 35"/>
          <p:cNvGrpSpPr/>
          <p:nvPr/>
        </p:nvGrpSpPr>
        <p:grpSpPr>
          <a:xfrm>
            <a:off x="1116000" y="1700280"/>
            <a:ext cx="6408720" cy="2523960"/>
            <a:chOff x="1116000" y="1700280"/>
            <a:chExt cx="6408720" cy="2523960"/>
          </a:xfrm>
        </p:grpSpPr>
        <p:sp>
          <p:nvSpPr>
            <p:cNvPr id="1321" name="AutoShape 36"/>
            <p:cNvSpPr/>
            <p:nvPr/>
          </p:nvSpPr>
          <p:spPr>
            <a:xfrm>
              <a:off x="1116000" y="1700280"/>
              <a:ext cx="6408720" cy="2523960"/>
            </a:xfrm>
            <a:prstGeom prst="rect">
              <a:avLst/>
            </a:prstGeom>
            <a:solidFill>
              <a:srgbClr val="ab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Rectangle 37"/>
            <p:cNvSpPr/>
            <p:nvPr/>
          </p:nvSpPr>
          <p:spPr>
            <a:xfrm>
              <a:off x="2229840" y="2847600"/>
              <a:ext cx="933120" cy="228600"/>
            </a:xfrm>
            <a:prstGeom prst="rect">
              <a:avLst/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38"/>
            <p:cNvSpPr/>
            <p:nvPr/>
          </p:nvSpPr>
          <p:spPr>
            <a:xfrm>
              <a:off x="2385360" y="2847600"/>
              <a:ext cx="623520" cy="22860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470" h="630">
                  <a:moveTo>
                    <a:pt x="0" y="315"/>
                  </a:moveTo>
                  <a:cubicBezTo>
                    <a:pt x="45" y="247"/>
                    <a:pt x="47" y="233"/>
                    <a:pt x="30" y="150"/>
                  </a:cubicBezTo>
                  <a:cubicBezTo>
                    <a:pt x="35" y="120"/>
                    <a:pt x="28" y="85"/>
                    <a:pt x="45" y="60"/>
                  </a:cubicBezTo>
                  <a:cubicBezTo>
                    <a:pt x="66" y="30"/>
                    <a:pt x="135" y="0"/>
                    <a:pt x="135" y="0"/>
                  </a:cubicBezTo>
                  <a:cubicBezTo>
                    <a:pt x="139" y="1"/>
                    <a:pt x="230" y="22"/>
                    <a:pt x="240" y="30"/>
                  </a:cubicBezTo>
                  <a:cubicBezTo>
                    <a:pt x="272" y="56"/>
                    <a:pt x="291" y="137"/>
                    <a:pt x="300" y="165"/>
                  </a:cubicBezTo>
                  <a:cubicBezTo>
                    <a:pt x="325" y="240"/>
                    <a:pt x="350" y="315"/>
                    <a:pt x="375" y="390"/>
                  </a:cubicBezTo>
                  <a:cubicBezTo>
                    <a:pt x="385" y="420"/>
                    <a:pt x="387" y="454"/>
                    <a:pt x="405" y="480"/>
                  </a:cubicBezTo>
                  <a:cubicBezTo>
                    <a:pt x="452" y="550"/>
                    <a:pt x="464" y="605"/>
                    <a:pt x="540" y="630"/>
                  </a:cubicBezTo>
                  <a:cubicBezTo>
                    <a:pt x="570" y="625"/>
                    <a:pt x="603" y="629"/>
                    <a:pt x="630" y="615"/>
                  </a:cubicBezTo>
                  <a:cubicBezTo>
                    <a:pt x="659" y="601"/>
                    <a:pt x="688" y="487"/>
                    <a:pt x="690" y="480"/>
                  </a:cubicBezTo>
                  <a:cubicBezTo>
                    <a:pt x="702" y="444"/>
                    <a:pt x="714" y="413"/>
                    <a:pt x="720" y="375"/>
                  </a:cubicBezTo>
                  <a:cubicBezTo>
                    <a:pt x="721" y="369"/>
                    <a:pt x="738" y="207"/>
                    <a:pt x="750" y="180"/>
                  </a:cubicBezTo>
                  <a:cubicBezTo>
                    <a:pt x="773" y="129"/>
                    <a:pt x="803" y="83"/>
                    <a:pt x="855" y="60"/>
                  </a:cubicBezTo>
                  <a:cubicBezTo>
                    <a:pt x="884" y="47"/>
                    <a:pt x="945" y="30"/>
                    <a:pt x="945" y="30"/>
                  </a:cubicBezTo>
                  <a:cubicBezTo>
                    <a:pt x="1061" y="108"/>
                    <a:pt x="1024" y="56"/>
                    <a:pt x="1065" y="180"/>
                  </a:cubicBezTo>
                  <a:cubicBezTo>
                    <a:pt x="1070" y="195"/>
                    <a:pt x="1075" y="210"/>
                    <a:pt x="1080" y="225"/>
                  </a:cubicBezTo>
                  <a:cubicBezTo>
                    <a:pt x="1085" y="240"/>
                    <a:pt x="1090" y="255"/>
                    <a:pt x="1095" y="270"/>
                  </a:cubicBezTo>
                  <a:cubicBezTo>
                    <a:pt x="1100" y="285"/>
                    <a:pt x="1110" y="315"/>
                    <a:pt x="1110" y="315"/>
                  </a:cubicBezTo>
                  <a:cubicBezTo>
                    <a:pt x="1115" y="360"/>
                    <a:pt x="1118" y="405"/>
                    <a:pt x="1125" y="450"/>
                  </a:cubicBezTo>
                  <a:cubicBezTo>
                    <a:pt x="1133" y="500"/>
                    <a:pt x="1169" y="537"/>
                    <a:pt x="1185" y="585"/>
                  </a:cubicBezTo>
                  <a:cubicBezTo>
                    <a:pt x="1262" y="576"/>
                    <a:pt x="1358" y="593"/>
                    <a:pt x="1395" y="510"/>
                  </a:cubicBezTo>
                  <a:cubicBezTo>
                    <a:pt x="1426" y="440"/>
                    <a:pt x="1424" y="416"/>
                    <a:pt x="1440" y="345"/>
                  </a:cubicBezTo>
                  <a:cubicBezTo>
                    <a:pt x="1444" y="325"/>
                    <a:pt x="1449" y="305"/>
                    <a:pt x="1455" y="285"/>
                  </a:cubicBezTo>
                  <a:cubicBezTo>
                    <a:pt x="1459" y="270"/>
                    <a:pt x="1470" y="240"/>
                    <a:pt x="1470" y="24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AutoShape 39"/>
            <p:cNvSpPr/>
            <p:nvPr/>
          </p:nvSpPr>
          <p:spPr>
            <a:xfrm>
              <a:off x="4253040" y="2847600"/>
              <a:ext cx="1653840" cy="228600"/>
            </a:xfrm>
            <a:prstGeom prst="parallelogram">
              <a:avLst>
                <a:gd name="adj" fmla="val 180866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Freeform 40"/>
            <p:cNvSpPr/>
            <p:nvPr/>
          </p:nvSpPr>
          <p:spPr>
            <a:xfrm rot="20831400">
              <a:off x="4563720" y="2847240"/>
              <a:ext cx="933120" cy="228600"/>
            </a:xfrm>
            <a:custGeom>
              <a:avLst/>
              <a:gdLst>
                <a:gd name="textAreaLeft" fmla="*/ 0 w 933120"/>
                <a:gd name="textAreaRight" fmla="*/ 933480 w 9331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1650" h="875">
                  <a:moveTo>
                    <a:pt x="0" y="270"/>
                  </a:moveTo>
                  <a:cubicBezTo>
                    <a:pt x="15" y="260"/>
                    <a:pt x="29" y="248"/>
                    <a:pt x="45" y="240"/>
                  </a:cubicBezTo>
                  <a:cubicBezTo>
                    <a:pt x="59" y="233"/>
                    <a:pt x="76" y="233"/>
                    <a:pt x="90" y="225"/>
                  </a:cubicBezTo>
                  <a:cubicBezTo>
                    <a:pt x="122" y="207"/>
                    <a:pt x="180" y="165"/>
                    <a:pt x="180" y="165"/>
                  </a:cubicBezTo>
                  <a:cubicBezTo>
                    <a:pt x="235" y="82"/>
                    <a:pt x="178" y="148"/>
                    <a:pt x="255" y="105"/>
                  </a:cubicBezTo>
                  <a:cubicBezTo>
                    <a:pt x="287" y="87"/>
                    <a:pt x="315" y="65"/>
                    <a:pt x="345" y="45"/>
                  </a:cubicBezTo>
                  <a:cubicBezTo>
                    <a:pt x="385" y="19"/>
                    <a:pt x="480" y="7"/>
                    <a:pt x="525" y="0"/>
                  </a:cubicBezTo>
                  <a:cubicBezTo>
                    <a:pt x="603" y="26"/>
                    <a:pt x="609" y="23"/>
                    <a:pt x="630" y="105"/>
                  </a:cubicBezTo>
                  <a:cubicBezTo>
                    <a:pt x="590" y="225"/>
                    <a:pt x="543" y="237"/>
                    <a:pt x="465" y="315"/>
                  </a:cubicBezTo>
                  <a:cubicBezTo>
                    <a:pt x="427" y="428"/>
                    <a:pt x="483" y="293"/>
                    <a:pt x="405" y="390"/>
                  </a:cubicBezTo>
                  <a:cubicBezTo>
                    <a:pt x="395" y="402"/>
                    <a:pt x="397" y="421"/>
                    <a:pt x="390" y="435"/>
                  </a:cubicBezTo>
                  <a:cubicBezTo>
                    <a:pt x="332" y="551"/>
                    <a:pt x="383" y="412"/>
                    <a:pt x="345" y="525"/>
                  </a:cubicBezTo>
                  <a:cubicBezTo>
                    <a:pt x="363" y="578"/>
                    <a:pt x="380" y="621"/>
                    <a:pt x="435" y="645"/>
                  </a:cubicBezTo>
                  <a:cubicBezTo>
                    <a:pt x="464" y="658"/>
                    <a:pt x="525" y="675"/>
                    <a:pt x="525" y="675"/>
                  </a:cubicBezTo>
                  <a:cubicBezTo>
                    <a:pt x="555" y="665"/>
                    <a:pt x="585" y="655"/>
                    <a:pt x="615" y="645"/>
                  </a:cubicBezTo>
                  <a:cubicBezTo>
                    <a:pt x="630" y="640"/>
                    <a:pt x="645" y="635"/>
                    <a:pt x="660" y="630"/>
                  </a:cubicBezTo>
                  <a:cubicBezTo>
                    <a:pt x="675" y="625"/>
                    <a:pt x="705" y="615"/>
                    <a:pt x="705" y="615"/>
                  </a:cubicBezTo>
                  <a:cubicBezTo>
                    <a:pt x="715" y="600"/>
                    <a:pt x="721" y="581"/>
                    <a:pt x="735" y="570"/>
                  </a:cubicBezTo>
                  <a:cubicBezTo>
                    <a:pt x="747" y="560"/>
                    <a:pt x="769" y="566"/>
                    <a:pt x="780" y="555"/>
                  </a:cubicBezTo>
                  <a:cubicBezTo>
                    <a:pt x="791" y="544"/>
                    <a:pt x="782" y="519"/>
                    <a:pt x="795" y="510"/>
                  </a:cubicBezTo>
                  <a:cubicBezTo>
                    <a:pt x="821" y="492"/>
                    <a:pt x="885" y="480"/>
                    <a:pt x="885" y="480"/>
                  </a:cubicBezTo>
                  <a:cubicBezTo>
                    <a:pt x="895" y="465"/>
                    <a:pt x="901" y="446"/>
                    <a:pt x="915" y="435"/>
                  </a:cubicBezTo>
                  <a:cubicBezTo>
                    <a:pt x="927" y="425"/>
                    <a:pt x="946" y="428"/>
                    <a:pt x="960" y="420"/>
                  </a:cubicBezTo>
                  <a:cubicBezTo>
                    <a:pt x="992" y="402"/>
                    <a:pt x="1020" y="380"/>
                    <a:pt x="1050" y="360"/>
                  </a:cubicBezTo>
                  <a:cubicBezTo>
                    <a:pt x="1080" y="340"/>
                    <a:pt x="1106" y="311"/>
                    <a:pt x="1140" y="300"/>
                  </a:cubicBezTo>
                  <a:cubicBezTo>
                    <a:pt x="1170" y="290"/>
                    <a:pt x="1200" y="280"/>
                    <a:pt x="1230" y="270"/>
                  </a:cubicBezTo>
                  <a:cubicBezTo>
                    <a:pt x="1245" y="265"/>
                    <a:pt x="1275" y="255"/>
                    <a:pt x="1275" y="255"/>
                  </a:cubicBezTo>
                  <a:cubicBezTo>
                    <a:pt x="1340" y="260"/>
                    <a:pt x="1411" y="242"/>
                    <a:pt x="1470" y="270"/>
                  </a:cubicBezTo>
                  <a:cubicBezTo>
                    <a:pt x="1499" y="283"/>
                    <a:pt x="1500" y="360"/>
                    <a:pt x="1500" y="360"/>
                  </a:cubicBezTo>
                  <a:cubicBezTo>
                    <a:pt x="1500" y="361"/>
                    <a:pt x="1477" y="458"/>
                    <a:pt x="1470" y="465"/>
                  </a:cubicBezTo>
                  <a:cubicBezTo>
                    <a:pt x="1445" y="490"/>
                    <a:pt x="1410" y="505"/>
                    <a:pt x="1380" y="525"/>
                  </a:cubicBezTo>
                  <a:cubicBezTo>
                    <a:pt x="1365" y="535"/>
                    <a:pt x="1335" y="555"/>
                    <a:pt x="1335" y="555"/>
                  </a:cubicBezTo>
                  <a:cubicBezTo>
                    <a:pt x="1330" y="570"/>
                    <a:pt x="1327" y="586"/>
                    <a:pt x="1320" y="600"/>
                  </a:cubicBezTo>
                  <a:cubicBezTo>
                    <a:pt x="1312" y="616"/>
                    <a:pt x="1297" y="629"/>
                    <a:pt x="1290" y="645"/>
                  </a:cubicBezTo>
                  <a:cubicBezTo>
                    <a:pt x="1277" y="674"/>
                    <a:pt x="1270" y="705"/>
                    <a:pt x="1260" y="735"/>
                  </a:cubicBezTo>
                  <a:cubicBezTo>
                    <a:pt x="1255" y="750"/>
                    <a:pt x="1245" y="780"/>
                    <a:pt x="1245" y="780"/>
                  </a:cubicBezTo>
                  <a:cubicBezTo>
                    <a:pt x="1277" y="875"/>
                    <a:pt x="1328" y="837"/>
                    <a:pt x="1425" y="825"/>
                  </a:cubicBezTo>
                  <a:cubicBezTo>
                    <a:pt x="1494" y="802"/>
                    <a:pt x="1578" y="765"/>
                    <a:pt x="1650" y="76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41"/>
            <p:cNvSpPr/>
            <p:nvPr/>
          </p:nvSpPr>
          <p:spPr>
            <a:xfrm>
              <a:off x="3318480" y="2619000"/>
              <a:ext cx="466920" cy="572040"/>
            </a:xfrm>
            <a:prstGeom prst="rect">
              <a:avLst/>
            </a:prstGeom>
            <a:gradFill rotWithShape="0">
              <a:gsLst>
                <a:gs pos="0">
                  <a:srgbClr val="e5e5e5"/>
                </a:gs>
                <a:gs pos="100000">
                  <a:srgbClr val="6a6a6a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Line 42"/>
            <p:cNvSpPr/>
            <p:nvPr/>
          </p:nvSpPr>
          <p:spPr>
            <a:xfrm>
              <a:off x="3940920" y="2390400"/>
              <a:ext cx="1080" cy="10285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Line 43"/>
            <p:cNvSpPr/>
            <p:nvPr/>
          </p:nvSpPr>
          <p:spPr>
            <a:xfrm flipH="1">
              <a:off x="3652920" y="2496960"/>
              <a:ext cx="1042560" cy="93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Freeform 44"/>
            <p:cNvSpPr/>
            <p:nvPr/>
          </p:nvSpPr>
          <p:spPr>
            <a:xfrm rot="878400">
              <a:off x="3940560" y="2619000"/>
              <a:ext cx="465840" cy="114480"/>
            </a:xfrm>
            <a:custGeom>
              <a:avLst/>
              <a:gdLst>
                <a:gd name="textAreaLeft" fmla="*/ 0 w 465840"/>
                <a:gd name="textAreaRight" fmla="*/ 466200 w 46584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840" h="345">
                  <a:moveTo>
                    <a:pt x="0" y="105"/>
                  </a:moveTo>
                  <a:cubicBezTo>
                    <a:pt x="70" y="82"/>
                    <a:pt x="126" y="51"/>
                    <a:pt x="195" y="30"/>
                  </a:cubicBezTo>
                  <a:cubicBezTo>
                    <a:pt x="225" y="21"/>
                    <a:pt x="285" y="0"/>
                    <a:pt x="285" y="0"/>
                  </a:cubicBezTo>
                  <a:cubicBezTo>
                    <a:pt x="310" y="5"/>
                    <a:pt x="335" y="9"/>
                    <a:pt x="360" y="15"/>
                  </a:cubicBezTo>
                  <a:cubicBezTo>
                    <a:pt x="375" y="19"/>
                    <a:pt x="390" y="27"/>
                    <a:pt x="405" y="30"/>
                  </a:cubicBezTo>
                  <a:cubicBezTo>
                    <a:pt x="498" y="51"/>
                    <a:pt x="580" y="51"/>
                    <a:pt x="660" y="105"/>
                  </a:cubicBezTo>
                  <a:cubicBezTo>
                    <a:pt x="746" y="234"/>
                    <a:pt x="631" y="82"/>
                    <a:pt x="735" y="165"/>
                  </a:cubicBezTo>
                  <a:cubicBezTo>
                    <a:pt x="749" y="176"/>
                    <a:pt x="752" y="197"/>
                    <a:pt x="765" y="210"/>
                  </a:cubicBezTo>
                  <a:cubicBezTo>
                    <a:pt x="778" y="223"/>
                    <a:pt x="795" y="230"/>
                    <a:pt x="810" y="240"/>
                  </a:cubicBezTo>
                  <a:cubicBezTo>
                    <a:pt x="815" y="260"/>
                    <a:pt x="819" y="280"/>
                    <a:pt x="825" y="300"/>
                  </a:cubicBezTo>
                  <a:cubicBezTo>
                    <a:pt x="829" y="315"/>
                    <a:pt x="840" y="345"/>
                    <a:pt x="840" y="345"/>
                  </a:cubicBezTo>
                </a:path>
              </a:pathLst>
            </a:custGeom>
            <a:solidFill>
              <a:srgbClr val="c4c4c4"/>
            </a:solidFill>
            <a:ln w="1260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Freeform 45"/>
            <p:cNvSpPr/>
            <p:nvPr/>
          </p:nvSpPr>
          <p:spPr>
            <a:xfrm>
              <a:off x="4248360" y="2455200"/>
              <a:ext cx="159840" cy="149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217" h="331">
                  <a:moveTo>
                    <a:pt x="157" y="0"/>
                  </a:moveTo>
                  <a:cubicBezTo>
                    <a:pt x="139" y="109"/>
                    <a:pt x="129" y="193"/>
                    <a:pt x="52" y="270"/>
                  </a:cubicBezTo>
                  <a:cubicBezTo>
                    <a:pt x="37" y="265"/>
                    <a:pt x="14" y="269"/>
                    <a:pt x="7" y="255"/>
                  </a:cubicBezTo>
                  <a:cubicBezTo>
                    <a:pt x="0" y="241"/>
                    <a:pt x="7" y="216"/>
                    <a:pt x="22" y="210"/>
                  </a:cubicBezTo>
                  <a:cubicBezTo>
                    <a:pt x="41" y="202"/>
                    <a:pt x="62" y="220"/>
                    <a:pt x="82" y="225"/>
                  </a:cubicBezTo>
                  <a:cubicBezTo>
                    <a:pt x="144" y="319"/>
                    <a:pt x="111" y="331"/>
                    <a:pt x="187" y="300"/>
                  </a:cubicBezTo>
                  <a:cubicBezTo>
                    <a:pt x="197" y="296"/>
                    <a:pt x="207" y="290"/>
                    <a:pt x="217" y="285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AutoShape 46"/>
            <p:cNvSpPr/>
            <p:nvPr/>
          </p:nvSpPr>
          <p:spPr>
            <a:xfrm>
              <a:off x="6585840" y="2733840"/>
              <a:ext cx="621360" cy="34416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AutoShape 47"/>
            <p:cNvSpPr/>
            <p:nvPr/>
          </p:nvSpPr>
          <p:spPr>
            <a:xfrm>
              <a:off x="1451880" y="2047680"/>
              <a:ext cx="1249200" cy="456480"/>
            </a:xfrm>
            <a:prstGeom prst="wedgeRectCallout">
              <a:avLst>
                <a:gd name="adj1" fmla="val 27699"/>
                <a:gd name="adj2" fmla="val 118055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ованный   свет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AutoShape 48"/>
            <p:cNvSpPr/>
            <p:nvPr/>
          </p:nvSpPr>
          <p:spPr>
            <a:xfrm>
              <a:off x="3007800" y="1704960"/>
              <a:ext cx="1400400" cy="457200"/>
            </a:xfrm>
            <a:prstGeom prst="wedgeRectCallout">
              <a:avLst>
                <a:gd name="adj1" fmla="val -16666"/>
                <a:gd name="adj2" fmla="val 13888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Исследуемый раств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AutoShape 49"/>
            <p:cNvSpPr/>
            <p:nvPr/>
          </p:nvSpPr>
          <p:spPr>
            <a:xfrm>
              <a:off x="1141200" y="2733840"/>
              <a:ext cx="467280" cy="342720"/>
            </a:xfrm>
            <a:prstGeom prst="irregularSeal1">
              <a:avLst/>
            </a:prstGeom>
            <a:gradFill rotWithShape="0">
              <a:gsLst>
                <a:gs pos="0">
                  <a:srgbClr val="ffffb1"/>
                </a:gs>
                <a:gs pos="100000">
                  <a:srgbClr val="ffff85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AutoShape 50"/>
            <p:cNvSpPr/>
            <p:nvPr/>
          </p:nvSpPr>
          <p:spPr>
            <a:xfrm flipV="1">
              <a:off x="1763640" y="2733840"/>
              <a:ext cx="155160" cy="342720"/>
            </a:xfrm>
            <a:prstGeom prst="flowChartManualOperation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51"/>
            <p:cNvSpPr/>
            <p:nvPr/>
          </p:nvSpPr>
          <p:spPr>
            <a:xfrm>
              <a:off x="1608480" y="2961720"/>
              <a:ext cx="4821840" cy="0"/>
            </a:xfrm>
            <a:prstGeom prst="line">
              <a:avLst/>
            </a:prstGeom>
            <a:ln w="19080">
              <a:solidFill>
                <a:srgbClr val="f6f000"/>
              </a:solidFill>
              <a:prstDash val="dash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AutoShape 52"/>
            <p:cNvSpPr/>
            <p:nvPr/>
          </p:nvSpPr>
          <p:spPr>
            <a:xfrm>
              <a:off x="1296360" y="3419280"/>
              <a:ext cx="1243800" cy="343080"/>
            </a:xfrm>
            <a:prstGeom prst="wedgeRectCallout">
              <a:avLst>
                <a:gd name="adj1" fmla="val -4092"/>
                <a:gd name="adj2" fmla="val -143898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оляризатор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AutoShape 53"/>
            <p:cNvSpPr/>
            <p:nvPr/>
          </p:nvSpPr>
          <p:spPr>
            <a:xfrm>
              <a:off x="6119640" y="2047680"/>
              <a:ext cx="1398240" cy="344880"/>
            </a:xfrm>
            <a:prstGeom prst="wedgeRectCallout">
              <a:avLst>
                <a:gd name="adj1" fmla="val 11120"/>
                <a:gd name="adj2" fmla="val 132171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Наблюдатель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AutoShape 54"/>
            <p:cNvSpPr/>
            <p:nvPr/>
          </p:nvSpPr>
          <p:spPr>
            <a:xfrm>
              <a:off x="4563720" y="3304440"/>
              <a:ext cx="1243800" cy="914760"/>
            </a:xfrm>
            <a:prstGeom prst="wedgeRectCallout">
              <a:avLst>
                <a:gd name="adj1" fmla="val -52078"/>
                <a:gd name="adj2" fmla="val -71097"/>
              </a:avLst>
            </a:prstGeom>
            <a:solidFill>
              <a:srgbClr val="c4c4c4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Arial"/>
                </a:rPr>
                <a:t>Плоскость поляризации света повернулась на угол α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Freeform 55"/>
            <p:cNvSpPr/>
            <p:nvPr/>
          </p:nvSpPr>
          <p:spPr>
            <a:xfrm>
              <a:off x="3327480" y="2728080"/>
              <a:ext cx="439200" cy="28800"/>
            </a:xfrm>
            <a:custGeom>
              <a:avLst/>
              <a:gdLst>
                <a:gd name="textAreaLeft" fmla="*/ 0 w 439200"/>
                <a:gd name="textAreaRight" fmla="*/ 439560 w 4392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10" h="45">
                  <a:moveTo>
                    <a:pt x="0" y="30"/>
                  </a:moveTo>
                  <a:cubicBezTo>
                    <a:pt x="25" y="25"/>
                    <a:pt x="50" y="13"/>
                    <a:pt x="75" y="15"/>
                  </a:cubicBezTo>
                  <a:cubicBezTo>
                    <a:pt x="106" y="18"/>
                    <a:pt x="165" y="45"/>
                    <a:pt x="165" y="45"/>
                  </a:cubicBezTo>
                  <a:cubicBezTo>
                    <a:pt x="195" y="35"/>
                    <a:pt x="225" y="25"/>
                    <a:pt x="255" y="15"/>
                  </a:cubicBezTo>
                  <a:cubicBezTo>
                    <a:pt x="270" y="10"/>
                    <a:pt x="300" y="0"/>
                    <a:pt x="300" y="0"/>
                  </a:cubicBezTo>
                  <a:cubicBezTo>
                    <a:pt x="315" y="10"/>
                    <a:pt x="327" y="28"/>
                    <a:pt x="345" y="30"/>
                  </a:cubicBezTo>
                  <a:cubicBezTo>
                    <a:pt x="397" y="36"/>
                    <a:pt x="456" y="0"/>
                    <a:pt x="510" y="0"/>
                  </a:cubicBezTo>
                </a:path>
              </a:pathLst>
            </a:custGeom>
            <a:solidFill>
              <a:srgbClr val="c4c4c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1" name="AutoShape 56"/>
          <p:cNvSpPr/>
          <p:nvPr/>
        </p:nvSpPr>
        <p:spPr>
          <a:xfrm>
            <a:off x="7020000" y="5734080"/>
            <a:ext cx="1834920" cy="963720"/>
          </a:xfrm>
          <a:prstGeom prst="upArrowCallout">
            <a:avLst>
              <a:gd name="adj1" fmla="val 47604"/>
              <a:gd name="adj2" fmla="val 47600"/>
              <a:gd name="adj3" fmla="val 16667"/>
              <a:gd name="adj4" fmla="val 66660"/>
            </a:avLst>
          </a:prstGeom>
          <a:solidFill>
            <a:srgbClr val="c6c6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Вернем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 объяснению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/>
          </p:nvPr>
        </p:nvSpPr>
        <p:spPr>
          <a:xfrm>
            <a:off x="457200" y="3357720"/>
            <a:ext cx="8229600" cy="27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Вы поняли что такое изомер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Научились строить изомер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Значит самое время приступить к выполнению Домашнего Зад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4a4a6e"/>
                </a:solidFill>
                <a:latin typeface="Arial"/>
              </a:rPr>
              <a:t>Желаю успех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WordArt 4"/>
          <p:cNvSpPr txBox="1"/>
          <p:nvPr/>
        </p:nvSpPr>
        <p:spPr>
          <a:xfrm rot="21455400">
            <a:off x="611280" y="252360"/>
            <a:ext cx="7920000" cy="252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4583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a64c4"/>
                    </a:gs>
                    <a:gs pos="100000">
                      <a:srgbClr val="800080"/>
                    </a:gs>
                  </a:gsLst>
                  <a:lin ang="5544000"/>
                </a:gradFill>
                <a:effectLst>
                  <a:outerShdw dist="77353" dir="562478" blurRad="0" rotWithShape="0">
                    <a:srgbClr val="3d3d3d"/>
                  </a:outerShdw>
                </a:effectLst>
                <a:latin typeface="Impact"/>
              </a:rPr>
              <a:t>конец  работы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a64c4"/>
                  </a:gs>
                  <a:gs pos="100000">
                    <a:srgbClr val="800080"/>
                  </a:gs>
                </a:gsLst>
                <a:lin ang="5544000"/>
              </a:gradFill>
              <a:effectLst>
                <a:outerShdw dist="77353" dir="562478" blurRad="0" rotWithShape="0">
                  <a:srgbClr val="3d3d3d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Кето – енольные превращения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58560" y="980640"/>
            <a:ext cx="8785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То есть превращение непредельного спирта в кетон или альдегид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Например, такое превращение наблюдается в </a:t>
            </a:r>
            <a:r>
              <a:rPr b="0" lang="ru-RU" sz="2800" spc="-1" strike="noStrike">
                <a:solidFill>
                  <a:srgbClr val="b9e4ff"/>
                </a:solidFill>
                <a:latin typeface="Arial"/>
              </a:rPr>
              <a:t>реакции Кучеров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(гидратация алкинов в присутствии катализатора)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СН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≡ СН  +  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О  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C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этин                                            эт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енол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  <a:ea typeface="Arial"/>
              </a:rPr>
              <a:t>                             этаналь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В данном случае наблюдается перенос подвижного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атома водорода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от кислорода к соседнему атому углерода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	</a:t>
            </a:r>
            <a:r>
              <a:rPr b="0" lang="ru-RU" sz="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2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= СН – ОН     </a:t>
            </a:r>
            <a:r>
              <a:rPr b="1" lang="ru-RU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f7fa6e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СН</a:t>
            </a:r>
            <a:r>
              <a:rPr b="1" lang="ru-RU" sz="1800" spc="-1" strike="noStrike">
                <a:solidFill>
                  <a:srgbClr val="f7fa6e"/>
                </a:solidFill>
                <a:latin typeface="Arial"/>
                <a:ea typeface="Arial"/>
              </a:rPr>
              <a:t>3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  <a:ea typeface="Arial"/>
              </a:rPr>
              <a:t> – СН=О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1" name="Arc 4"/>
          <p:cNvSpPr/>
          <p:nvPr/>
        </p:nvSpPr>
        <p:spPr>
          <a:xfrm rot="7284600">
            <a:off x="1985400" y="4933800"/>
            <a:ext cx="1712880" cy="1582920"/>
          </a:xfrm>
          <a:custGeom>
            <a:avLst/>
            <a:gdLst>
              <a:gd name="textAreaLeft" fmla="*/ 0 w 1712880"/>
              <a:gd name="textAreaRight" fmla="*/ 1713240 w 1712880"/>
              <a:gd name="textAreaTop" fmla="*/ 0 h 1582920"/>
              <a:gd name="textAreaBottom" fmla="*/ 1583280 h 1582920"/>
            </a:gdLst>
            <a:ahLst/>
            <a:rect l="textAreaLeft" t="textAreaTop" r="textAreaRight" b="textAreaBottom"/>
            <a:pathLst>
              <a:path fill="none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</a:path>
              <a:path stroke="0" w="21600" h="22866">
                <a:moveTo>
                  <a:pt x="9724" y="0"/>
                </a:moveTo>
                <a:cubicBezTo>
                  <a:pt x="17006" y="3671"/>
                  <a:pt x="21600" y="11131"/>
                  <a:pt x="21600" y="19287"/>
                </a:cubicBezTo>
                <a:cubicBezTo>
                  <a:pt x="21600" y="20486"/>
                  <a:pt x="21500" y="21683"/>
                  <a:pt x="21301" y="22865"/>
                </a:cubicBezTo>
                <a:lnTo>
                  <a:pt x="0" y="19287"/>
                </a:lnTo>
                <a:lnTo>
                  <a:pt x="9724" y="0"/>
                </a:lnTo>
                <a:close/>
              </a:path>
            </a:pathLst>
          </a:custGeom>
          <a:noFill/>
          <a:ln w="28440">
            <a:solidFill>
              <a:srgbClr val="f8fb85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Н – С = О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                                         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bfdbb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7fa6e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       O 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O – C –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</a:t>
            </a:r>
            <a:r>
              <a:rPr b="1" lang="ru-RU" sz="2800" spc="-1" strike="noStrike">
                <a:solidFill>
                  <a:srgbClr val="fbfdbb"/>
                </a:solidFill>
                <a:latin typeface="Arial"/>
              </a:rPr>
              <a:t>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OH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O                   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fbfdbb"/>
                </a:solidFill>
                <a:latin typeface="Arial"/>
              </a:rPr>
              <a:t>H       OH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H – C – OH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  <a:ea typeface="Arial"/>
              </a:rPr>
              <a:t>        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α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–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глюкоза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  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I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                     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i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- глюкоз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CH</a:t>
            </a:r>
            <a:r>
              <a:rPr b="1" lang="en-US" sz="1800" spc="-1" strike="noStrike">
                <a:solidFill>
                  <a:srgbClr val="f7fa6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7fa6e"/>
                </a:solidFill>
                <a:latin typeface="Arial"/>
              </a:rPr>
              <a:t>OH</a:t>
            </a:r>
            <a:r>
              <a:rPr b="1" lang="ru-RU" sz="2800" spc="-1" strike="noStrike">
                <a:solidFill>
                  <a:srgbClr val="f7fa6e"/>
                </a:solidFill>
                <a:latin typeface="Arial"/>
              </a:rPr>
              <a:t>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циклическая форма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открытая (линейная) форма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1104" name="Group 6"/>
          <p:cNvGrpSpPr/>
          <p:nvPr/>
        </p:nvGrpSpPr>
        <p:grpSpPr>
          <a:xfrm>
            <a:off x="6300720" y="2781360"/>
            <a:ext cx="2197080" cy="1942920"/>
            <a:chOff x="6300720" y="2781360"/>
            <a:chExt cx="2197080" cy="1942920"/>
          </a:xfrm>
        </p:grpSpPr>
        <p:sp>
          <p:nvSpPr>
            <p:cNvPr id="1105" name="AutoShape 7"/>
            <p:cNvSpPr/>
            <p:nvPr/>
          </p:nvSpPr>
          <p:spPr>
            <a:xfrm>
              <a:off x="6300720" y="2781360"/>
              <a:ext cx="2197080" cy="19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AutoShape 8"/>
            <p:cNvSpPr/>
            <p:nvPr/>
          </p:nvSpPr>
          <p:spPr>
            <a:xfrm>
              <a:off x="6313320" y="3109320"/>
              <a:ext cx="2172240" cy="1284840"/>
            </a:xfrm>
            <a:prstGeom prst="hexagon">
              <a:avLst>
                <a:gd name="adj" fmla="val 4226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Line 9"/>
            <p:cNvSpPr/>
            <p:nvPr/>
          </p:nvSpPr>
          <p:spPr>
            <a:xfrm>
              <a:off x="6885000" y="2787840"/>
              <a:ext cx="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Line 10"/>
            <p:cNvSpPr/>
            <p:nvPr/>
          </p:nvSpPr>
          <p:spPr>
            <a:xfrm>
              <a:off x="79146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11"/>
            <p:cNvSpPr/>
            <p:nvPr/>
          </p:nvSpPr>
          <p:spPr>
            <a:xfrm>
              <a:off x="631332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12"/>
            <p:cNvSpPr/>
            <p:nvPr/>
          </p:nvSpPr>
          <p:spPr>
            <a:xfrm>
              <a:off x="6885000" y="4073040"/>
              <a:ext cx="720" cy="6440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Line 13"/>
            <p:cNvSpPr/>
            <p:nvPr/>
          </p:nvSpPr>
          <p:spPr>
            <a:xfrm>
              <a:off x="8485560" y="3431160"/>
              <a:ext cx="720" cy="6429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2" name="Group 14"/>
          <p:cNvGrpSpPr/>
          <p:nvPr/>
        </p:nvGrpSpPr>
        <p:grpSpPr>
          <a:xfrm>
            <a:off x="539640" y="2781360"/>
            <a:ext cx="2197080" cy="1871640"/>
            <a:chOff x="539640" y="2781360"/>
            <a:chExt cx="2197080" cy="1871640"/>
          </a:xfrm>
        </p:grpSpPr>
        <p:sp>
          <p:nvSpPr>
            <p:cNvPr id="1113" name="AutoShape 15"/>
            <p:cNvSpPr/>
            <p:nvPr/>
          </p:nvSpPr>
          <p:spPr>
            <a:xfrm>
              <a:off x="539640" y="2781360"/>
              <a:ext cx="2197080" cy="18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AutoShape 16"/>
            <p:cNvSpPr/>
            <p:nvPr/>
          </p:nvSpPr>
          <p:spPr>
            <a:xfrm>
              <a:off x="552240" y="3097440"/>
              <a:ext cx="2172240" cy="1237680"/>
            </a:xfrm>
            <a:prstGeom prst="hexagon">
              <a:avLst>
                <a:gd name="adj" fmla="val 43877"/>
                <a:gd name="vf" fmla="val 115470"/>
              </a:avLst>
            </a:prstGeom>
            <a:noFill/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Line 17"/>
            <p:cNvSpPr/>
            <p:nvPr/>
          </p:nvSpPr>
          <p:spPr>
            <a:xfrm>
              <a:off x="1123920" y="2787840"/>
              <a:ext cx="0" cy="61956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Line 18"/>
            <p:cNvSpPr/>
            <p:nvPr/>
          </p:nvSpPr>
          <p:spPr>
            <a:xfrm>
              <a:off x="21535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Line 19"/>
            <p:cNvSpPr/>
            <p:nvPr/>
          </p:nvSpPr>
          <p:spPr>
            <a:xfrm>
              <a:off x="55224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Line 20"/>
            <p:cNvSpPr/>
            <p:nvPr/>
          </p:nvSpPr>
          <p:spPr>
            <a:xfrm>
              <a:off x="1123920" y="4025880"/>
              <a:ext cx="720" cy="62064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Line 21"/>
            <p:cNvSpPr/>
            <p:nvPr/>
          </p:nvSpPr>
          <p:spPr>
            <a:xfrm>
              <a:off x="2724480" y="3407400"/>
              <a:ext cx="720" cy="619200"/>
            </a:xfrm>
            <a:prstGeom prst="line">
              <a:avLst/>
            </a:prstGeom>
            <a:ln w="22320">
              <a:solidFill>
                <a:srgbClr val="fbfd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PlaceHolder 2"/>
          <p:cNvSpPr>
            <a:spLocks noGrp="1"/>
          </p:cNvSpPr>
          <p:nvPr>
            <p:ph type="title"/>
          </p:nvPr>
        </p:nvSpPr>
        <p:spPr>
          <a:xfrm>
            <a:off x="2555640" y="-360"/>
            <a:ext cx="3816360" cy="1197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b9e4ff"/>
                </a:solidFill>
                <a:latin typeface="Arial"/>
              </a:rPr>
              <a:t>Таутомеры глюкоз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21" name="AutoShape 22">
            <a:hlinkClick r:id="rId1" action="ppaction://hlinksldjump"/>
          </p:cNvPr>
          <p:cNvSpPr/>
          <p:nvPr/>
        </p:nvSpPr>
        <p:spPr>
          <a:xfrm>
            <a:off x="250920" y="260280"/>
            <a:ext cx="2160360" cy="968400"/>
          </a:xfrm>
          <a:prstGeom prst="flowChartDelay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Другие вид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изоме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AutoShape 23">
            <a:hlinkClick r:id="rId2" action="ppaction://hlinksldjump"/>
          </p:cNvPr>
          <p:cNvSpPr/>
          <p:nvPr/>
        </p:nvSpPr>
        <p:spPr>
          <a:xfrm>
            <a:off x="6732720" y="260280"/>
            <a:ext cx="2411280" cy="1484280"/>
          </a:xfrm>
          <a:prstGeom prst="irregularSeal1">
            <a:avLst/>
          </a:prstGeom>
          <a:gradFill rotWithShape="0">
            <a:gsLst>
              <a:gs pos="0">
                <a:srgbClr val="eaeaea"/>
              </a:gs>
              <a:gs pos="100000">
                <a:srgbClr val="c9c9c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65682"/>
                </a:solidFill>
                <a:latin typeface="Arial"/>
              </a:rPr>
              <a:t>Конец рабо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6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ebf25a"/>
                </a:solidFill>
                <a:latin typeface="Tahoma"/>
              </a:rPr>
              <a:t>Геометрическая изомерия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от вид изомерии предполагает наличие двух изомеров: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цис–</a:t>
            </a:r>
            <a:r>
              <a:rPr b="0" lang="ru-RU" sz="2800" spc="-1" strike="noStrike">
                <a:solidFill>
                  <a:srgbClr val="ffffcc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ffffcc"/>
                </a:solidFill>
                <a:latin typeface="Tahoma"/>
              </a:rPr>
              <a:t>транс–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Геометрическая изомерия характерна для соединений, в которых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возможно свободное вращение вокруг углерод – углеродной связи (например, алкены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эти атомы углерода связан с двумя различными группам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Рассмотрим геометрическую изомерию на примере бутена С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пишем структурную формулу бутена – 2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3600" spc="-1" strike="noStrike">
                <a:solidFill>
                  <a:srgbClr val="f4bd6c"/>
                </a:solidFill>
                <a:latin typeface="Tahoma"/>
              </a:rPr>
              <a:t> – СН = СН – СН</a:t>
            </a:r>
            <a:r>
              <a:rPr b="1" lang="ru-RU" sz="24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круг двойной связи 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– С = С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свободное вращение невозможно, оба атома углерода связаны с различными группами: метил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и водородом </a:t>
            </a:r>
            <a:r>
              <a:rPr b="1" lang="ru-RU" sz="2800" spc="-1" strike="noStrike">
                <a:solidFill>
                  <a:srgbClr val="ffffcc"/>
                </a:solidFill>
                <a:latin typeface="Tahoma"/>
              </a:rPr>
              <a:t>Н –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уществуют два способа расположить эти радикалы в пространстве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        С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 = С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   С = 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I               I                                       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f4bd6c"/>
                </a:solidFill>
                <a:latin typeface="Tahoma"/>
              </a:rPr>
              <a:t> I               I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 </a:t>
            </a:r>
            <a:r>
              <a:rPr b="1" lang="en-US" sz="2800" spc="-1" strike="noStrike">
                <a:solidFill>
                  <a:srgbClr val="f4bd6c"/>
                </a:solidFill>
                <a:latin typeface="Tahoma"/>
              </a:rPr>
              <a:t>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            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С</a:t>
            </a:r>
            <a:r>
              <a:rPr b="1" lang="ru-RU" sz="1800" spc="-1" strike="noStrike">
                <a:solidFill>
                  <a:srgbClr val="f4bd6c"/>
                </a:solidFill>
                <a:latin typeface="Tahoma"/>
              </a:rPr>
              <a:t>                 </a:t>
            </a:r>
            <a:r>
              <a:rPr b="1" lang="ru-RU" sz="2800" spc="-1" strike="noStrike">
                <a:solidFill>
                  <a:srgbClr val="f4bd6c"/>
                </a:solidFill>
                <a:latin typeface="Tahoma"/>
              </a:rPr>
              <a:t>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Это 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цис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– изомер:                                              Это </a:t>
            </a:r>
            <a:r>
              <a:rPr b="1" i="1" lang="ru-RU" sz="1800" spc="-1" strike="noStrike">
                <a:solidFill>
                  <a:srgbClr val="ffffcc"/>
                </a:solidFill>
                <a:latin typeface="Tahoma"/>
              </a:rPr>
              <a:t>транс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– изомер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одинаковые радикалы                                одинаковые радикалы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сположены                                                                расположе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о одну сторону                                                  по разные сторон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ойной связи.                                                            двойной связ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0" name="Oval 4">
            <a:hlinkClick r:id="rId1" action="ppaction://hlinksldjump"/>
          </p:cNvPr>
          <p:cNvSpPr/>
          <p:nvPr/>
        </p:nvSpPr>
        <p:spPr>
          <a:xfrm>
            <a:off x="2771640" y="5516640"/>
            <a:ext cx="3313080" cy="1152360"/>
          </a:xfrm>
          <a:prstGeom prst="ellipse">
            <a:avLst/>
          </a:prstGeom>
          <a:solidFill>
            <a:srgbClr val="f2aa68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А у бутена -1 ес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b2b2b"/>
                </a:solidFill>
                <a:latin typeface="Arial"/>
              </a:rPr>
              <a:t>геометрические изомер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3T08:13:16Z</dcterms:created>
  <dc:creator>Мама</dc:creator>
  <dc:description/>
  <dc:language>en-US</dc:language>
  <cp:lastModifiedBy>LEGION</cp:lastModifiedBy>
  <dcterms:modified xsi:type="dcterms:W3CDTF">2015-05-01T12:09:30Z</dcterms:modified>
  <cp:revision>123</cp:revision>
  <dc:subject/>
  <dc:title>Изомерия</dc:title>
</cp:coreProperties>
</file>