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62B7-8A0C-4E0A-907C-DA891CAFA9C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Impact"/>
              </a:rPr>
              <a:t>изомер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a4a6e"/>
                </a:solidFill>
                <a:latin typeface="Calibri"/>
              </a:rPr>
              <a:t>Чтобы начать работу, нажмите «Показ слайд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0ED9-2D5A-4D08-AB07-0F93D5D694E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Итак, мы получили два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геометрических изомера бутена–2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ци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бутен–2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3С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Н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                                      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I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          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 =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                                  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I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I                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                   Н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Н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тран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бутен–2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         СН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                         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I               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 =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                              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I              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3С         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0DE8-6B54-46B5-8717-454B0882FA5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т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еометрических изомеров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утена -1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существ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5370-6F77-4BD1-9286-A9CDA2D87EF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опробуем составить геометрические изомеры бутена -1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СН2 – СН3                            Н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I              I               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I             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 = С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С =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I              I                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I             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          Н                             Н3С – Н2С                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ак видите, эти структурные формулы изображают одно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 то же вещество. (При наложении они совпадают, достаточно лишь повернуть вторую формулу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так, геометрических изомер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утена -1 не существуе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33F1-1A21-4999-8728-EF30B4ED16D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уществует еще один изомер С</a:t>
            </a:r>
            <a:r>
              <a:rPr b="0" lang="ru-RU" sz="10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</a:t>
            </a:r>
            <a:r>
              <a:rPr b="0" lang="ru-RU" sz="1000" spc="-1" strike="noStrike">
                <a:solidFill>
                  <a:srgbClr val="0000ff"/>
                </a:solidFill>
                <a:latin typeface="Calibri"/>
              </a:rPr>
              <a:t>8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– 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2–метилпропен. Попробуем составить формулы его геометрических изоме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f4bd6c"/>
                </a:solidFill>
                <a:latin typeface="Calibri"/>
              </a:rPr>
              <a:t>3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f4bd6c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         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f4bd6c"/>
                </a:solidFill>
                <a:latin typeface="Calibri"/>
              </a:rPr>
              <a:t>       </a:t>
            </a:r>
            <a:r>
              <a:rPr b="1" lang="en-US" sz="1000" spc="-1" strike="noStrike">
                <a:solidFill>
                  <a:srgbClr val="f4bd6c"/>
                </a:solidFill>
                <a:latin typeface="Calibri"/>
              </a:rPr>
              <a:t>I              I                                       </a:t>
            </a:r>
            <a:r>
              <a:rPr b="1" lang="ru-RU" sz="1000" spc="-1" strike="noStrike">
                <a:solidFill>
                  <a:srgbClr val="f4bd6c"/>
                </a:solidFill>
                <a:latin typeface="Calibri"/>
              </a:rPr>
              <a:t>               </a:t>
            </a:r>
            <a:r>
              <a:rPr b="1" lang="en-US" sz="1000" spc="-1" strike="noStrike">
                <a:solidFill>
                  <a:srgbClr val="f4bd6c"/>
                </a:solidFill>
                <a:latin typeface="Calibri"/>
              </a:rPr>
              <a:t> I             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 = С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 =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f4bd6c"/>
                </a:solidFill>
                <a:latin typeface="Calibri"/>
              </a:rPr>
              <a:t>       </a:t>
            </a:r>
            <a:r>
              <a:rPr b="1" lang="en-US" sz="1000" spc="-1" strike="noStrike">
                <a:solidFill>
                  <a:srgbClr val="f4bd6c"/>
                </a:solidFill>
                <a:latin typeface="Calibri"/>
              </a:rPr>
              <a:t>I              I                                        </a:t>
            </a:r>
            <a:r>
              <a:rPr b="1" lang="ru-RU" sz="1000" spc="-1" strike="noStrike">
                <a:solidFill>
                  <a:srgbClr val="f4bd6c"/>
                </a:solidFill>
                <a:latin typeface="Calibri"/>
              </a:rPr>
              <a:t>               </a:t>
            </a:r>
            <a:r>
              <a:rPr b="1" lang="en-US" sz="1000" spc="-1" strike="noStrike">
                <a:solidFill>
                  <a:srgbClr val="f4bd6c"/>
                </a:solidFill>
                <a:latin typeface="Calibri"/>
              </a:rPr>
              <a:t>I             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f4bd6c"/>
                </a:solidFill>
                <a:latin typeface="Calibri"/>
              </a:rPr>
              <a:t>3                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f4bd6c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</a:t>
            </a:r>
            <a:r>
              <a:rPr b="1" lang="ru-RU" sz="1000" spc="-1" strike="noStrike">
                <a:solidFill>
                  <a:srgbClr val="f4bd6c"/>
                </a:solidFill>
                <a:latin typeface="Calibri"/>
              </a:rPr>
              <a:t>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ак видите, эти структурные формулы так же изображают одно и то же вещество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так, геометрических изомеров 2 – метилпропена – 1 не существует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D968-47A8-44AE-B56F-998A72FF477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зомерия углеродного скел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вид изомерии характерен для всех классов органических соедин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мерия углеродного скелета – единственно возможный вид изомерии алка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Calibri"/>
              </a:rPr>
              <a:t>Рассмотрим изомерию углеродного скелета на примере пентана </a:t>
            </a:r>
            <a:r>
              <a:rPr b="1" lang="ru-RU" sz="1600" spc="-1" strike="noStrike">
                <a:solidFill>
                  <a:srgbClr val="800080"/>
                </a:solidFill>
                <a:latin typeface="Calibri"/>
              </a:rPr>
              <a:t>С</a:t>
            </a:r>
            <a:r>
              <a:rPr b="1" lang="ru-RU" sz="1000" spc="-1" strike="noStrike">
                <a:solidFill>
                  <a:srgbClr val="800080"/>
                </a:solidFill>
                <a:latin typeface="Calibri"/>
              </a:rPr>
              <a:t>5</a:t>
            </a:r>
            <a:r>
              <a:rPr b="1" lang="ru-RU" sz="1600" spc="-1" strike="noStrike">
                <a:solidFill>
                  <a:srgbClr val="800080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800080"/>
                </a:solidFill>
                <a:latin typeface="Calibri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FD9F-36F0-419F-A01B-98EA7E6F5F7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оставим структурную формулу простейшего изомера 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</a:t>
            </a:r>
            <a:r>
              <a:rPr b="1" lang="ru-RU" sz="900" spc="-1" strike="noStrike">
                <a:solidFill>
                  <a:srgbClr val="800080"/>
                </a:solidFill>
                <a:latin typeface="Calibri"/>
              </a:rPr>
              <a:t>5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Н</a:t>
            </a:r>
            <a:r>
              <a:rPr b="1" lang="ru-RU" sz="900" spc="-1" strike="noStrike">
                <a:solidFill>
                  <a:srgbClr val="800080"/>
                </a:solidFill>
                <a:latin typeface="Calibri"/>
              </a:rPr>
              <a:t>12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, имеющего линейное строени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го изобразим его углеродный скелет, расположив в ряд все пять атомов углер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 – С – С – С – 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еперь расставим атомы водорода, не забывая при этом, что валентность углерода рав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водорода 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Мы написали структурную формулу простейшего изомер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ff"/>
                </a:solidFill>
                <a:latin typeface="Calibri"/>
              </a:rPr>
              <a:t>ПЕНТАНА</a:t>
            </a: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. А можно ли составить формулу другого изомера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081B-AFD3-4DC3-8A70-F2C792622EE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го сделаем основную цепочку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роч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Расположим в ряд четыре атома углер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 – С – С – 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ятый атом присоединим к одному из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редни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глеродных атом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 – С – С – 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расставим атомы водорода, не забывая про валентнос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– СН – С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Мы получили форму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2 – МЕТИЛБУТ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9BDD-9693-4057-AAAF-13FE876493F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опробуем написать формулу изомера, содержащего в основной цепи три атома углер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 – С – 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присоединим оставшиеся атомы углерода ко второму атому цепочки в виде метил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дикалов и расставим атомы водор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– С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Мы получили формулу еще одного изомера </a:t>
            </a:r>
            <a:r>
              <a:rPr b="0" i="1" lang="ru-RU" sz="1100" spc="-1" strike="noStrike">
                <a:solidFill>
                  <a:srgbClr val="0000ff"/>
                </a:solidFill>
                <a:latin typeface="Calibri"/>
              </a:rPr>
              <a:t>–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ff"/>
                </a:solidFill>
                <a:latin typeface="Calibri"/>
              </a:rPr>
              <a:t>2,2 – ДИМЕТИЛПРОПАНА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4438-B311-4723-A4F8-99D069F51D1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так, мы получили три изомера 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 эмпирической формулой С</a:t>
            </a:r>
            <a:r>
              <a:rPr b="0" lang="ru-RU" sz="8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</a:t>
            </a:r>
            <a:r>
              <a:rPr b="0" lang="ru-RU" sz="800" spc="-1" strike="noStrike">
                <a:solidFill>
                  <a:srgbClr val="0000ff"/>
                </a:solidFill>
                <a:latin typeface="Calibri"/>
              </a:rPr>
              <a:t>12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ент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–метилбут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 – 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,2–диметилпроп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 – 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D9F1-BD3C-435C-A89C-12BBE7CB69D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ш изомер     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– СН – С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местим радикал у соседнего атома углерода: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– СН – С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нумеруем атомы углерода в обоих соединениях в соответствии с правилами систематической номенклатур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4                        3                         2                     1                                1                         2                      3                        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Calibri"/>
              </a:rPr>
              <a:t>СН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3</a:t>
            </a:r>
            <a:r>
              <a:rPr b="1" lang="ru-RU" sz="4800" spc="-1" strike="noStrike">
                <a:solidFill>
                  <a:srgbClr val="800080"/>
                </a:solidFill>
                <a:latin typeface="Calibri"/>
              </a:rPr>
              <a:t> – СН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2</a:t>
            </a:r>
            <a:r>
              <a:rPr b="1" lang="ru-RU" sz="4800" spc="-1" strike="noStrike">
                <a:solidFill>
                  <a:srgbClr val="800080"/>
                </a:solidFill>
                <a:latin typeface="Calibri"/>
              </a:rPr>
              <a:t> – СН – СН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3           </a:t>
            </a:r>
            <a:r>
              <a:rPr b="1" lang="ru-RU" sz="4800" spc="-1" strike="noStrike">
                <a:solidFill>
                  <a:srgbClr val="800080"/>
                </a:solidFill>
                <a:latin typeface="Calibri"/>
              </a:rPr>
              <a:t>СН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3</a:t>
            </a:r>
            <a:r>
              <a:rPr b="1" lang="ru-RU" sz="4800" spc="-1" strike="noStrike">
                <a:solidFill>
                  <a:srgbClr val="800080"/>
                </a:solidFill>
                <a:latin typeface="Calibri"/>
              </a:rPr>
              <a:t> – СН – СН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2</a:t>
            </a:r>
            <a:r>
              <a:rPr b="1" lang="ru-RU" sz="4800" spc="-1" strike="noStrike">
                <a:solidFill>
                  <a:srgbClr val="800080"/>
                </a:solidFill>
                <a:latin typeface="Calibri"/>
              </a:rPr>
              <a:t> – СН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        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(а)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(б)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Мы видим, что обе  формулы – (а) и (б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изображают одно и то же вещество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–</a:t>
            </a:r>
            <a:r>
              <a:rPr b="0" i="1" lang="ru-RU" sz="4400" spc="-1" strike="noStrike">
                <a:solidFill>
                  <a:srgbClr val="0000ff"/>
                </a:solidFill>
                <a:latin typeface="Calibri"/>
              </a:rPr>
              <a:t>МЕТИЛБУТАН</a:t>
            </a: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A5FB-EE80-4D28-9874-2FACA15EA55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зом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d3d3d"/>
                </a:solidFill>
                <a:latin typeface="Calibri"/>
              </a:rPr>
              <a:t>- Это вещества</a:t>
            </a:r>
            <a:br>
              <a:rPr sz="1200"/>
            </a:br>
            <a:r>
              <a:rPr b="0" lang="ru-RU" sz="1200" spc="-1" strike="noStrike">
                <a:solidFill>
                  <a:srgbClr val="3d3d3d"/>
                </a:solidFill>
                <a:latin typeface="Calibri"/>
              </a:rPr>
              <a:t> одинакового состава и молекулярной массы, но имеющие различное строение</a:t>
            </a:r>
            <a:r>
              <a:rPr b="0" lang="ru-RU" sz="1600" spc="-1" strike="noStrike">
                <a:solidFill>
                  <a:srgbClr val="3d3d3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3d3d3d"/>
                </a:solidFill>
                <a:latin typeface="Calibri"/>
              </a:rPr>
              <a:t>молекул и</a:t>
            </a:r>
            <a:r>
              <a:rPr b="0" lang="ru-RU" sz="1600" spc="-1" strike="noStrike">
                <a:solidFill>
                  <a:srgbClr val="3d3d3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3d3d3d"/>
                </a:solidFill>
                <a:latin typeface="Calibri"/>
              </a:rPr>
              <a:t>разные свойства.</a:t>
            </a:r>
            <a:br>
              <a:rPr sz="1200"/>
            </a:b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зом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d3d3d"/>
                </a:solidFill>
                <a:latin typeface="Calibri"/>
              </a:rPr>
              <a:t>- Это явление </a:t>
            </a:r>
            <a:br>
              <a:rPr sz="1200"/>
            </a:br>
            <a:r>
              <a:rPr b="0" lang="ru-RU" sz="1200" spc="-1" strike="noStrike">
                <a:solidFill>
                  <a:srgbClr val="3d3d3d"/>
                </a:solidFill>
                <a:latin typeface="Calibri"/>
              </a:rPr>
              <a:t>существования изоме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a4a6e"/>
                </a:solidFill>
                <a:latin typeface="Calibri"/>
              </a:rPr>
              <a:t>	</a:t>
            </a:r>
            <a:r>
              <a:rPr b="1" lang="ru-RU" sz="1100" spc="-1" strike="noStrike">
                <a:solidFill>
                  <a:srgbClr val="4a4a6e"/>
                </a:solidFill>
                <a:latin typeface="Calibri"/>
              </a:rPr>
              <a:t>Главное: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100" spc="-1" strike="noStrike">
                <a:solidFill>
                  <a:srgbClr val="3d3d3d"/>
                </a:solidFill>
                <a:latin typeface="Calibri"/>
              </a:rPr>
              <a:t>изомеры имеют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100" spc="-1" strike="noStrike">
                <a:solidFill>
                  <a:srgbClr val="4a4a6e"/>
                </a:solidFill>
                <a:latin typeface="Calibri"/>
              </a:rPr>
              <a:t>одинаковые эмпирические формулы</a:t>
            </a:r>
            <a:r>
              <a:rPr b="0" lang="ru-RU" sz="1100" spc="-1" strike="noStrike">
                <a:solidFill>
                  <a:srgbClr val="3d3d3d"/>
                </a:solidFill>
                <a:latin typeface="Calibri"/>
              </a:rPr>
              <a:t>,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3d3d3d"/>
                </a:solidFill>
                <a:latin typeface="Calibri"/>
              </a:rPr>
              <a:t>но разные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3d3d3d"/>
                </a:solidFill>
                <a:latin typeface="Calibri"/>
              </a:rPr>
              <a:t>структурные формулы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6FF8-AB07-4DB6-92A7-78109E1EFEC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делаем это и посмотрим, что у нас получит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нумеруем атомы углерод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5                                  4                                   3                                  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4000" spc="-1" strike="noStrike">
                <a:solidFill>
                  <a:srgbClr val="800080"/>
                </a:solidFill>
                <a:latin typeface="Calibri"/>
              </a:rPr>
              <a:t>СН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3</a:t>
            </a:r>
            <a:r>
              <a:rPr b="1" lang="ru-RU" sz="4000" spc="-1" strike="noStrike">
                <a:solidFill>
                  <a:srgbClr val="800080"/>
                </a:solidFill>
                <a:latin typeface="Calibri"/>
              </a:rPr>
              <a:t> – СН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800080"/>
                </a:solidFill>
                <a:latin typeface="Calibri"/>
              </a:rPr>
              <a:t> – СН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800080"/>
                </a:solidFill>
                <a:latin typeface="Calibri"/>
              </a:rPr>
              <a:t> – СН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1400" spc="-1" strike="noStrike">
                <a:solidFill>
                  <a:srgbClr val="800080"/>
                </a:solidFill>
                <a:latin typeface="Calibri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800080"/>
                </a:solidFill>
                <a:latin typeface="Calibri"/>
              </a:rPr>
              <a:t>C</a:t>
            </a:r>
            <a:r>
              <a:rPr b="1" lang="ru-RU" sz="4000" spc="-1" strike="noStrike">
                <a:solidFill>
                  <a:srgbClr val="800080"/>
                </a:solidFill>
                <a:latin typeface="Calibri"/>
              </a:rPr>
              <a:t>Н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Как видите, мы вновь получили  </a:t>
            </a: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ПЕНТАН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Такой изомер у нас уже е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89A4-AD89-459F-9090-B129F3494D0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вайте попробуе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овать этил–радикал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за одним пронумеруем атомы углерода основно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т.е.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амой длинно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цепочк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1                            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СН</a:t>
            </a:r>
            <a:r>
              <a:rPr b="1" lang="ru-RU" sz="2000" spc="-1" strike="noStrike">
                <a:solidFill>
                  <a:srgbClr val="800080"/>
                </a:solidFill>
                <a:latin typeface="Calibri"/>
              </a:rPr>
              <a:t>3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 – СН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800080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СН</a:t>
            </a:r>
            <a:r>
              <a:rPr b="1" lang="ru-RU" sz="2000" spc="-1" strike="noStrike">
                <a:solidFill>
                  <a:srgbClr val="80008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en-US" sz="1200" spc="-1" strike="noStrike">
                <a:solidFill>
                  <a:srgbClr val="800080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СН</a:t>
            </a:r>
            <a:r>
              <a:rPr b="1" lang="ru-RU" sz="2000" spc="-1" strike="noStrike">
                <a:solidFill>
                  <a:srgbClr val="80008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Как видите, такой изомер у нас уже бы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Это  2–МЕТИЛБУТА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7C7D-A7A1-462A-9B1B-D43D135E6A0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Порядок нумер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ок нумерации определя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правилами систематической номенклату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меровать цепочку начинаем с того края, где ближе разветвле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ru-RU" sz="900" spc="-1" strike="noStrike">
                <a:solidFill>
                  <a:srgbClr val="000000"/>
                </a:solidFill>
                <a:latin typeface="Calibri"/>
              </a:rPr>
              <a:t>4                        3                         2                     1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умерацию ведем слев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Н</a:t>
            </a:r>
            <a:r>
              <a:rPr b="1" lang="ru-RU" sz="1100" spc="-1" strike="noStrike">
                <a:solidFill>
                  <a:srgbClr val="80008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– СН</a:t>
            </a:r>
            <a:r>
              <a:rPr b="1" lang="ru-RU" sz="1100" spc="-1" strike="noStrike">
                <a:solidFill>
                  <a:srgbClr val="80008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– СН – СН</a:t>
            </a:r>
            <a:r>
              <a:rPr b="1" lang="ru-RU" sz="1100" spc="-1" strike="noStrike">
                <a:solidFill>
                  <a:srgbClr val="80008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   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аправо, т.к.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радикал расположен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ближе к левому краю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ru-RU" sz="900" spc="-1" strike="noStrike">
                <a:solidFill>
                  <a:srgbClr val="000000"/>
                </a:solidFill>
                <a:latin typeface="Calibri"/>
              </a:rPr>
              <a:t>1                         2                      3                        4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умерацию ведем справ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Н</a:t>
            </a:r>
            <a:r>
              <a:rPr b="1" lang="ru-RU" sz="1100" spc="-1" strike="noStrike">
                <a:solidFill>
                  <a:srgbClr val="80008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– СН – СН</a:t>
            </a:r>
            <a:r>
              <a:rPr b="1" lang="ru-RU" sz="1100" spc="-1" strike="noStrike">
                <a:solidFill>
                  <a:srgbClr val="80008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– СН</a:t>
            </a:r>
            <a:r>
              <a:rPr b="1" lang="ru-RU" sz="1100" spc="-1" strike="noStrike">
                <a:solidFill>
                  <a:srgbClr val="80008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      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алево, т.к.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радикал расположен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ближе к правому краю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FE0B-6049-475E-BD64-05CE8B1F89A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b5"/>
                </a:solidFill>
                <a:latin typeface="Calibri"/>
              </a:rPr>
              <a:t>Изомерия положения кратной связ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ной связью назыв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ойную связь    – С = С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ойную связь   – С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≡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–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Рассмотрим изомерию полож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кратной связи на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римере пентена</a:t>
            </a: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С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56A5-DF27-4632-A515-412A72F9011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Напишем структурную формулу простейшего линейного изомера  С</a:t>
            </a:r>
            <a:r>
              <a:rPr b="0" lang="ru-RU" sz="900" spc="-1" strike="noStrike">
                <a:solidFill>
                  <a:srgbClr val="ffffb5"/>
                </a:solidFill>
                <a:latin typeface="Calibri"/>
              </a:rPr>
              <a:t>5</a:t>
            </a: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Н</a:t>
            </a:r>
            <a:r>
              <a:rPr b="0" lang="ru-RU" sz="900" spc="-1" strike="noStrike">
                <a:solidFill>
                  <a:srgbClr val="ffffb5"/>
                </a:solidFill>
                <a:latin typeface="Calibri"/>
              </a:rPr>
              <a:t>10</a:t>
            </a: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,  у которого двойная связь расположена возле первого атома углер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го расположим все атомы углерода в одну цепочку, после первого атома углерода расположим двойную связь,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 = С – С – С –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расставим атомы водор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= СН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Итак, мы написали формулу первого изомера С</a:t>
            </a:r>
            <a:r>
              <a:rPr b="1" lang="ru-RU" sz="8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Н</a:t>
            </a:r>
            <a:r>
              <a:rPr b="1" lang="ru-RU" sz="800" spc="-1" strike="noStrike">
                <a:solidFill>
                  <a:srgbClr val="0000ff"/>
                </a:solidFill>
                <a:latin typeface="Calibri"/>
              </a:rPr>
              <a:t>10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ff"/>
                </a:solidFill>
                <a:latin typeface="Calibri"/>
              </a:rPr>
              <a:t>пентена–1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025E-DB1E-478D-8198-AC7EE606737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Само название этого вида изомер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предполагает, что полож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двойной связи должно меня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местим двойную связь после второго атома углерода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– СН = СН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Этот изомер называется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пентен –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383B-2271-4B4C-A55B-5BAD57560C4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Итак, мы составили формулы </a:t>
            </a:r>
            <a:br>
              <a:rPr sz="1200"/>
            </a:b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двух изомеров пенте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ентен –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= СН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ентен –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 = СН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A8B6-B76E-4480-ADA7-47782620E69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Нет. </a:t>
            </a:r>
            <a:br>
              <a:rPr sz="1200"/>
            </a:b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Других </a:t>
            </a:r>
            <a:r>
              <a:rPr b="1" i="1" lang="ru-RU" sz="1200" spc="-1" strike="noStrike">
                <a:solidFill>
                  <a:srgbClr val="ffffb5"/>
                </a:solidFill>
                <a:latin typeface="Calibri"/>
              </a:rPr>
              <a:t>изомеров положения двойной связи</a:t>
            </a: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для пентена не существ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0F5E-8CCE-4F74-8DBC-80047A7A24E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Нет. </a:t>
            </a:r>
            <a:br>
              <a:rPr sz="1200"/>
            </a:b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Других </a:t>
            </a:r>
            <a:r>
              <a:rPr b="1" i="1" lang="ru-RU" sz="1200" spc="-1" strike="noStrike">
                <a:solidFill>
                  <a:srgbClr val="ffffb5"/>
                </a:solidFill>
                <a:latin typeface="Calibri"/>
              </a:rPr>
              <a:t>изомеров положения двойной связи</a:t>
            </a: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для пентена не существ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F10F-42DE-4B07-9EC9-C21D8F5374F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зомерия положения функциональной групп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Функциональная группа – это атом или группа атомов, которая определяет основные свойства соедине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 функциональным группам относятся гидроксогруппа  –ОН,  сульфогруппа  –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карбоксильная  –СООН,  нитрогруппа  –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O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и друг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 функциональным группам можно так же отнести галогены: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l,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Br,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F,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Рассмотрим изомерию положения функциональной группы на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римере   бромпентана</a:t>
            </a: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  С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1" lang="en-US" sz="1400" spc="-1" strike="noStrike">
                <a:solidFill>
                  <a:srgbClr val="0000ff"/>
                </a:solidFill>
                <a:latin typeface="Calibri"/>
              </a:rPr>
              <a:t>B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4D41-27E3-40F8-9F3B-A315A67EEDA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пишем формулу простейшего линейного изомера  С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,  у которого атом брома расположен возле первого атома углерод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го расположим все атомы углерода в одну цепочку, к первому атому углерода присоединим атом брома, вспомнив при этом, что валентность брома рав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С – С – С – С – 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                                 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B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расставим атомы водор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В</a:t>
            </a: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Итак, мы написали формулу первого изомера С</a:t>
            </a:r>
            <a:r>
              <a:rPr b="1" lang="ru-RU" sz="8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Н</a:t>
            </a:r>
            <a:r>
              <a:rPr b="1" lang="ru-RU" sz="8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В</a:t>
            </a:r>
            <a:r>
              <a:rPr b="1" lang="en-US" sz="1100" spc="-1" strike="noStrike">
                <a:solidFill>
                  <a:srgbClr val="0000ff"/>
                </a:solidFill>
                <a:latin typeface="Calibri"/>
              </a:rPr>
              <a:t>r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 –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ff"/>
                </a:solidFill>
                <a:latin typeface="Calibri"/>
              </a:rPr>
              <a:t>1–бромпентана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6742-3D8E-43DC-BEB7-DC4EE6230E2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Само название этого вида изомер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редполагает, что полож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функциональной группы должно меня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местим атом брома возле второго атома углерода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                                             </a:t>
            </a: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                                         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Этот изомер называется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Br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             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2 – бромпентан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ы легко догадаетесь как будет выглядеть третий изомер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</a:t>
            </a: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Этот изомер называется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Br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3 – бромпентан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397E-7F56-4974-B41C-5347C1D7E8D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мы получили формул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х изомеров бромпента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–бромпентан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–бромпентан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В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3–бромпентан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В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AB81-4A2E-4639-A6C2-41FE6813BD3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х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зомеров положения функциональной групп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бромпентана не существ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BB30-36B9-4B11-AFEE-48E955E2362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помните правила номенклатуры и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рядок нумераци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правилами систематической номенклатуры нумерация начинается с того края, где ближе расположена функциональная групп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5                              4                             3                             2                        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         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Этот изомер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</a:t>
            </a: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                                                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называется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Br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2–бромпентан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0" i="1" lang="ru-RU" sz="800" spc="-1" strike="noStrike">
                <a:solidFill>
                  <a:srgbClr val="ffffff"/>
                </a:solidFill>
                <a:latin typeface="Calibri"/>
              </a:rPr>
              <a:t>5                              4</a:t>
            </a:r>
            <a:r>
              <a:rPr b="0" i="1" lang="ru-RU" sz="800" spc="-1" strike="noStrike">
                <a:solidFill>
                  <a:srgbClr val="0000ff"/>
                </a:solidFill>
                <a:latin typeface="Calibri"/>
              </a:rPr>
              <a:t>                            </a:t>
            </a:r>
            <a:r>
              <a:rPr b="0" i="1" lang="ru-RU" sz="800" spc="-1" strike="noStrike">
                <a:solidFill>
                  <a:srgbClr val="ffffff"/>
                </a:solidFill>
                <a:latin typeface="Calibri"/>
              </a:rPr>
              <a:t>3                             2                            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      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Этот изомер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                     </a:t>
            </a: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                     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называется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Br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    1–бромпентан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BFA3-FBB6-4A13-BC2E-E5E59C94497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d0f2"/>
                </a:solidFill>
                <a:latin typeface="Calibri"/>
              </a:rPr>
              <a:t>Межклассовая изоме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изомеры относятся к разным классам органических соеди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ается просто запомнить какие классы соединений изомерны друг др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ассмотрим некоторые примеры межклассовой изоме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C9F6-777F-4D9B-BDB1-104F444EF16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лкен                   циклоалк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= СН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бутен - 1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            I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– C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циклобутан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лкин                   ди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≡ С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  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= СН – СН =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бутин – 1                                               бутадиен – 1,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70E3-1E5B-4A32-8DEF-8FD756998CF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пирт             простой эф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ОН                   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О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этанол                                               диметиловый эфи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          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ислота             сложный эф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ООН             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О – О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пропановая кислота                                             метилацета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         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льдегид                 кет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О                  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О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пропаналь                                                    пропанон – 2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90EF-0A4C-4694-9C93-3E6B6B646B4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минокислота             нитросоеди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ООН         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2 – аминоэтановая кислота                            нитроэтан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Можно найти межклассовые изомеры и дл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других соединений. Подумайте сами, для каких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6FA5-DB60-45F5-AAC8-B7D9F79F274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ческая изом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ческая изомерия характерна для многих природных соединений. Особенно большое значение она имеет для углеводов и бел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ческие изомеры обладают одинаковыми химическими свойствами. Большинство их физических свойств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кип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цвет, запах и т.д.) совпадают. Отличается они лишь способностью отклонять на некоторый угол плоскость поляризации поляризованного света, а в твердом состоянии их кристаллы выглядят зеркальным отражением друг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826C-C038-4D3A-8B60-A8D9637CD99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9cd39"/>
                </a:solidFill>
                <a:latin typeface="Calibri"/>
              </a:rPr>
              <a:t>Динамическая изомерия (таутомери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9e4ff"/>
                </a:solidFill>
                <a:latin typeface="Calibri"/>
              </a:rPr>
              <a:t>Таутомер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достаточно распространенный вид изомерии в органической химии. Динамическая изомерия возможна в случае переноса подвижного атома водорода, при валентных превращениях, внутримолекулярных взаимодействиях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аутомеров характерно довольно легкое, иногда самопроизвольное, превращение друг в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b9e4ff"/>
                </a:solidFill>
                <a:latin typeface="Calibri"/>
              </a:rPr>
              <a:t>Рассмотрим некоторые примеры таутомерии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3559-865A-483C-AFC1-1A56D66198B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воему строению оптические изомеры столько же похожи и столько же отличаются друг от друга, как правая и левая руки, которые являются зеркальным отображением друг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CC9F-06F1-43AF-BC77-26FFB8B9119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ля существования оптических изомеров необходим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симметрический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атом углеро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симметрическим называют атом углерода, соединенный с четырьмя различными атомами или группами ато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у 1– бром–1– хлорэтана первый атом углерода связан с четырьмя разными атомами: –Н, –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–СН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случае возможны два различных расположения молекулы в пространств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B5E5-A210-489A-AFF4-7A44C3BB826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е наибольшее значение имеет оптическая изомер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леводов и аминокисл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329C-643D-4D28-9826-EE10CB4C4EC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-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люкоза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H – C =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О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-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люкоз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Н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– С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= 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                         </a:t>
            </a:r>
            <a:r>
              <a:rPr b="1" lang="en-US" sz="1200" spc="-1" strike="noStrike">
                <a:solidFill>
                  <a:srgbClr val="c9cd39"/>
                </a:solidFill>
                <a:latin typeface="Calibri"/>
              </a:rPr>
              <a:t>              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9cd39"/>
                </a:solidFill>
                <a:latin typeface="Calibri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С  –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OH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              НО –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С – 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                     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I                                              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I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      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НО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– С –Н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                 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Н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–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С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–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                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I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     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                                                      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    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Н – С – ОН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         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НО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– С – 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                    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I 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                                     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       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Н – С –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ОН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           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НО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–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С – 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                    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I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     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                                     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             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СН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ОН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             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СН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1C35-E285-4353-8882-1D3F622686D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которые термин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ческая изомерия – иначе 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зеркальная изомерия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энантиомер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ческие изомеры – иначе называются 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зеркальными изомерам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энантиомер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f497d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Хиральность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способность соединений существовать в виде пары зеркальных изоме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f497d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Хиральный цент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хиральный ат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глерода – асимметрический атом углерода, связанный с четырьмя различными атомами или группами ато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f497d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Рацемат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смесь оптических изомеров, не обладающая оптической активностью. В рацемате изомеры погашают оптическую активность друг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A8BE-EC44-4203-97F2-400D34A7871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чный свет представляет собой электромагнитные колебания. Как правило световые волны колеблются во множестве плоск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свет пропустить через специальный 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поляризато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все световые волны будут колебаться в одной плоск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ой свет называется 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плоскополяризованны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поляризованны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191B-CED3-4B41-94B9-563A20E3B30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15г Жан Батист Био открыл явление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оптической активности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и жидкости изменять (отклонять на некоторый угол)  плоскость поляр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яризованного св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31B5-30D0-4236-B065-320DB3FE8D7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прохождения через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ство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птически активного веще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лоскость, в которой колеблются световые волны, поворачивается на некоторый угол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лоскость поляризации света смещается по часовой стрелке, такое вещество называю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авовращающи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(+)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сли против часовой стрелки, то вещество называю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евовращающи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–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ECFB-BD2A-4B8A-8AEA-B64821543A9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4a4a6e"/>
                </a:solidFill>
                <a:latin typeface="Calibri"/>
              </a:rPr>
              <a:t>Вы поняли что такое изомер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a4a6e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4a4a6e"/>
                </a:solidFill>
                <a:latin typeface="Calibri"/>
              </a:rPr>
              <a:t>Научились строить изомер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a4a6e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4a4a6e"/>
                </a:solidFill>
                <a:latin typeface="Calibri"/>
              </a:rPr>
              <a:t>Значит самое время приступить к выполнению Домашнего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a4a6e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4a4a6e"/>
                </a:solidFill>
                <a:latin typeface="Calibri"/>
              </a:rPr>
              <a:t>Желаю успе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2444-6BBB-4060-B8B5-1B5D6C8AD12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9e4ff"/>
                </a:solidFill>
                <a:latin typeface="Calibri"/>
              </a:rPr>
              <a:t>Кето – енольные превращен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есть превращение непредельного спирта в кетон или альдеги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такое превращение наблюдается в </a:t>
            </a:r>
            <a:r>
              <a:rPr b="0" lang="ru-RU" sz="1200" spc="-1" strike="noStrike">
                <a:solidFill>
                  <a:srgbClr val="b9e4ff"/>
                </a:solidFill>
                <a:latin typeface="Calibri"/>
              </a:rPr>
              <a:t>реакции Кучеро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гидратация алкинов в присутствии катализатора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7fa6e"/>
                </a:solidFill>
                <a:latin typeface="Calibri"/>
              </a:rPr>
              <a:t>СН 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≡ СН  +  Н</a:t>
            </a:r>
            <a:r>
              <a:rPr b="1" lang="ru-RU" sz="1000" spc="-1" strike="noStrike">
                <a:solidFill>
                  <a:srgbClr val="f7fa6e"/>
                </a:solidFill>
                <a:latin typeface="Calibri"/>
                <a:ea typeface="Arial"/>
              </a:rPr>
              <a:t>2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О  </a:t>
            </a:r>
            <a:r>
              <a:rPr b="1" lang="en-US" sz="1200" spc="-1" strike="noStrike">
                <a:solidFill>
                  <a:srgbClr val="f7fa6e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  <a:ea typeface="Arial"/>
              </a:rPr>
              <a:t>  C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Н</a:t>
            </a:r>
            <a:r>
              <a:rPr b="1" lang="ru-RU" sz="1000" spc="-1" strike="noStrike">
                <a:solidFill>
                  <a:srgbClr val="f7fa6e"/>
                </a:solidFill>
                <a:latin typeface="Calibri"/>
                <a:ea typeface="Arial"/>
              </a:rPr>
              <a:t>2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 = СН – ОН  </a:t>
            </a:r>
            <a:r>
              <a:rPr b="1" lang="ru-RU" sz="1200" spc="-1" strike="noStrike">
                <a:solidFill>
                  <a:srgbClr val="f7fa6e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  <a:ea typeface="Arial"/>
              </a:rPr>
              <a:t>  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СН</a:t>
            </a:r>
            <a:r>
              <a:rPr b="1" lang="ru-RU" sz="1000" spc="-1" strike="noStrike">
                <a:solidFill>
                  <a:srgbClr val="f7fa6e"/>
                </a:solidFill>
                <a:latin typeface="Calibri"/>
                <a:ea typeface="Arial"/>
              </a:rPr>
              <a:t>3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 – С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Arial"/>
              </a:rPr>
              <a:t>этин                                            эт</a:t>
            </a:r>
            <a:r>
              <a:rPr b="0" i="1" lang="ru-RU" sz="1000" spc="-1" strike="noStrike">
                <a:solidFill>
                  <a:srgbClr val="ffffff"/>
                </a:solidFill>
                <a:latin typeface="Calibri"/>
                <a:ea typeface="Arial"/>
              </a:rPr>
              <a:t>енол   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Arial"/>
              </a:rPr>
              <a:t>                             этаналь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 данном случае наблюдается перенос подвижного </a:t>
            </a:r>
            <a:r>
              <a:rPr b="0" lang="ru-RU" sz="1200" spc="-1" strike="noStrike">
                <a:solidFill>
                  <a:srgbClr val="eaeaea"/>
                </a:solidFill>
                <a:latin typeface="Calibri"/>
                <a:ea typeface="Arial"/>
              </a:rPr>
              <a:t>атома водор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от кислорода к соседнему атому углер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СН</a:t>
            </a:r>
            <a:r>
              <a:rPr b="1" lang="ru-RU" sz="1000" spc="-1" strike="noStrike">
                <a:solidFill>
                  <a:srgbClr val="f7fa6e"/>
                </a:solidFill>
                <a:latin typeface="Calibri"/>
                <a:ea typeface="Arial"/>
              </a:rPr>
              <a:t>2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 = СН – ОН     </a:t>
            </a:r>
            <a:r>
              <a:rPr b="1" lang="ru-RU" sz="1200" spc="-1" strike="noStrike">
                <a:solidFill>
                  <a:srgbClr val="f7fa6e"/>
                </a:solidFill>
                <a:latin typeface="Wingdings"/>
                <a:ea typeface="Wingdings"/>
              </a:rPr>
              <a:t></a:t>
            </a:r>
            <a:r>
              <a:rPr b="1" lang="en-US" sz="1200" spc="-1" strike="noStrike">
                <a:solidFill>
                  <a:srgbClr val="f7fa6e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  <a:ea typeface="Arial"/>
              </a:rPr>
              <a:t>    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СН</a:t>
            </a:r>
            <a:r>
              <a:rPr b="1" lang="ru-RU" sz="1000" spc="-1" strike="noStrike">
                <a:solidFill>
                  <a:srgbClr val="f7fa6e"/>
                </a:solidFill>
                <a:latin typeface="Calibri"/>
                <a:ea typeface="Arial"/>
              </a:rPr>
              <a:t>3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 – СН=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25D1-FFE5-44EF-B3E2-09E27A78A9E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9e4ff"/>
                </a:solidFill>
                <a:latin typeface="Calibri"/>
              </a:rPr>
              <a:t>Таутомеры глюкоз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7fa6e"/>
                </a:solidFill>
                <a:latin typeface="Calibri"/>
              </a:rPr>
              <a:t>                                     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</a:rPr>
              <a:t>Н – С = О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                                          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  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CH</a:t>
            </a:r>
            <a:r>
              <a:rPr b="1" lang="en-US" sz="1000" spc="-1" strike="noStrike">
                <a:solidFill>
                  <a:srgbClr val="fbfdbb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O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H – C – O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CH</a:t>
            </a:r>
            <a:r>
              <a:rPr b="1" lang="en-US" sz="1000" spc="-1" strike="noStrike">
                <a:solidFill>
                  <a:srgbClr val="fbfdbb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H              O   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f7fa6e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I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H              O  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HO – C – 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1200" spc="-1" strike="noStrike">
                <a:solidFill>
                  <a:srgbClr val="fbfdbb"/>
                </a:solidFill>
                <a:latin typeface="Calibri"/>
              </a:rPr>
              <a:t>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OH     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12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I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OH    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HO                   O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H – C – O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HO                  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H       O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I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H       O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H – C – 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1" i="1" lang="el-GR" sz="1000" spc="-1" strike="noStrike">
                <a:solidFill>
                  <a:srgbClr val="ffffff"/>
                </a:solidFill>
                <a:latin typeface="Calibri"/>
                <a:ea typeface="Arial"/>
              </a:rPr>
              <a:t>α</a:t>
            </a:r>
            <a:r>
              <a:rPr b="1" i="1" lang="en-US" sz="1000" spc="-1" strike="noStrike">
                <a:solidFill>
                  <a:srgbClr val="ffffff"/>
                </a:solidFill>
                <a:latin typeface="Calibri"/>
                <a:ea typeface="Arial"/>
              </a:rPr>
              <a:t> – </a:t>
            </a:r>
            <a:r>
              <a:rPr b="1" i="1" lang="ru-RU" sz="1000" spc="-1" strike="noStrike">
                <a:solidFill>
                  <a:srgbClr val="ffffff"/>
                </a:solidFill>
                <a:latin typeface="Calibri"/>
                <a:ea typeface="Arial"/>
              </a:rPr>
              <a:t>глюкоз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I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l-GR" sz="1000" spc="-1" strike="noStrike">
                <a:solidFill>
                  <a:srgbClr val="ffffff"/>
                </a:solidFill>
                <a:latin typeface="Calibri"/>
                <a:ea typeface="Arial"/>
              </a:rPr>
              <a:t>β</a:t>
            </a:r>
            <a:r>
              <a:rPr b="1" i="1" lang="en-US" sz="1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1000" spc="-1" strike="noStrike">
                <a:solidFill>
                  <a:srgbClr val="ffffff"/>
                </a:solidFill>
                <a:latin typeface="Calibri"/>
              </a:rPr>
              <a:t>- глюкоз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Calibri"/>
              </a:rPr>
              <a:t>(циклическая форма)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CH</a:t>
            </a:r>
            <a:r>
              <a:rPr b="1" lang="en-US" sz="1000" spc="-1" strike="noStrike">
                <a:solidFill>
                  <a:srgbClr val="f7fa6e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OH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</a:rPr>
              <a:t>           </a:t>
            </a:r>
            <a:r>
              <a:rPr b="1" i="1" lang="ru-RU" sz="1000" spc="-1" strike="noStrike">
                <a:solidFill>
                  <a:srgbClr val="ffffff"/>
                </a:solidFill>
                <a:latin typeface="Calibri"/>
              </a:rPr>
              <a:t>(циклическая форма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Calibri"/>
              </a:rPr>
              <a:t>                                            </a:t>
            </a:r>
            <a:r>
              <a:rPr b="1" i="1" lang="ru-RU" sz="1000" spc="-1" strike="noStrike">
                <a:solidFill>
                  <a:srgbClr val="ffffff"/>
                </a:solidFill>
                <a:latin typeface="Calibri"/>
              </a:rPr>
              <a:t>открытая (линейная) форм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278B-DDDF-40BF-985D-EB1FF5BA94D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Геометрическая изом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вид изомерии предполагает наличие двух изомеров: 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цис–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и 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транс–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метрическая изомерия характерна для соединений, в которых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озможно свободное вращение вокруг углерод – углеродной связи (например, алкены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атомы углерода связан с двумя различными групп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геометрическую изомерию на примере бутена С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C214-BA79-43FA-9EB0-FD1EDBC07D6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ишем структурную формулу бутена –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4bd6c"/>
                </a:solidFill>
                <a:latin typeface="Calibri"/>
              </a:rPr>
              <a:t>СН</a:t>
            </a:r>
            <a:r>
              <a:rPr b="1" lang="ru-RU" sz="1100" spc="-1" strike="noStrike">
                <a:solidFill>
                  <a:srgbClr val="f4bd6c"/>
                </a:solidFill>
                <a:latin typeface="Calibri"/>
              </a:rPr>
              <a:t>3</a:t>
            </a:r>
            <a:r>
              <a:rPr b="1" lang="ru-RU" sz="1600" spc="-1" strike="noStrike">
                <a:solidFill>
                  <a:srgbClr val="f4bd6c"/>
                </a:solidFill>
                <a:latin typeface="Calibri"/>
              </a:rPr>
              <a:t> – СН = СН – СН</a:t>
            </a:r>
            <a:r>
              <a:rPr b="1" lang="ru-RU" sz="1100" spc="-1" strike="noStrike">
                <a:solidFill>
                  <a:srgbClr val="f4bd6c"/>
                </a:solidFill>
                <a:latin typeface="Calibri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круг двойной связи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– С = С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свободное вращение невозможно, оба атома углерода связаны с различными группами: метилом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1f497d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водородом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Н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105D-D580-48CE-A366-963C4D73A8D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уществуют два способа расположить эти радикалы в пространств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Н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С </a:t>
            </a: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    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СН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            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         </a:t>
            </a: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 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    </a:t>
            </a: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Н         СН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I               I               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I              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   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С = С</a:t>
            </a: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                      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         </a:t>
            </a: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    С = 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I               I                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I              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Н </a:t>
            </a: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       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Н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                           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Н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С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 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цис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изомер:                                              Это 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транс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изомер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инаковые радикалы                                одинаковые радикал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положены                                                                расположе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одну сторону                                                  по разные стор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войной связи.                                                            двойной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D828-D1DB-4B9A-9CEB-D8EAF7360C2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38385-5A9F-46BA-B735-DDD1DA71A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24A2F-A90F-4B8D-86FD-7DBB3B53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3EE812-382B-4A31-8E41-817B379C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66942F-2143-46A8-B4AE-A2E86A2D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B5E50B-B573-4A5B-B97C-4F16E32E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07E855-D5A5-47C9-A2BB-A8CF3CA2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057205-0FD4-4FB0-B81C-EB9B6A07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E77599-00D4-4E69-B16F-2A2C58E8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A7B2F4-CB0B-4AF2-AB2F-6FB4F63C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E0C00-59EF-4B3E-ADF0-1B9DDA905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90528-2F35-4C3F-875B-D9BC3684A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B05245-10DE-441B-827A-B622579AE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EC1F5-3B40-4955-B06C-9659B2852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EF4EA0-3215-49E0-B359-D0961C15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7E03F8-C245-42EE-9EE8-C4622E2E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405FAF-CDD9-43BA-86D0-791B680E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5DC5A0-3A99-4869-B1AF-74D6B782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6DCAE5-24F0-4184-B311-8AFB2B90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2AE181-26C8-4736-983F-C0BF16D8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AA431D-3B11-4205-9F62-4EFF8E00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E71FC6-C81D-4D64-9498-1F405471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21FBC3-796B-4BF5-943E-5693E152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7E8C3A-4621-49A0-925C-80DB2A1F1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23474-522F-495A-853A-F3D28A5F2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544993-117B-4E38-945B-0152A07B1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906FA-8335-425C-ACBF-B0B6E197A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F113D3-6AFB-4F13-825E-0893BAD9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F7B5E-D407-4ED3-B633-A85EA69F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33AA1-FDD2-4DC9-ACB3-5016F1A5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13A2F-F724-4502-9BAF-8C8C8281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B1473-1AA6-4B60-A4E8-0EB6F748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77DD1-77A5-40BE-BF5B-CCCD7339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0BC6B-CF10-479A-88B5-845013F3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F5A6AE-29EE-4B3C-B576-65E19F02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5762-3793-4A08-B468-B4B71B427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F7308-67D6-488F-8A17-D9E185BC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EA429B-F2E7-4BF1-871A-9BD61D349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A75C0-6B69-4DCD-9506-B62F05EEB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E32B94-7DAD-4E61-BC3C-D4AD81E03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9FDA5B-09AE-466A-84B7-259F60F5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7FBB57-64D0-4823-BAAA-26B01FBF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C59C77-A6C2-40BB-974A-A70A3FCC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BAF3FE-4028-4EFD-B966-F1F9F02E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656E18-C4AD-4BB6-BE83-A2B33974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11FD99-8D04-49DF-9310-6E8F0610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E899-A709-4C16-9B57-397CBC79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8BB450-C8B3-4870-B657-C2B93B14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95059D-3A8A-4755-BE13-42C79201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4F10AC-ED07-486C-BEFD-08438F54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92E926-0C3A-4142-912C-18FE422B8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DC27E1-5ED6-48CB-B440-DD7A62D8E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A6E3B8-3625-4A68-8CCA-40640553A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333548-9A0C-4E62-AC1F-164A85FF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F3FFF7-C733-4B19-A489-DF45CC5B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01BC03-8E1F-4E84-BD90-86624E8E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4632B4-40F8-49D3-9C8F-3815B167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C224-E5BB-469D-86E2-495D9C9D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0E8A50-E9FD-443C-9285-D0B9FA4F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12CB27-2CB3-4EFB-BE96-25992A33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34DF94-F899-41A9-B971-9919A8B1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0CCC1F-D5E5-429C-99D6-CC610F15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31A3F9-5949-4D7C-9BCE-65AF1A8A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EB7823-C92E-4569-86D0-6A736239D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636722-7109-4EC8-BBD1-0CF0F9704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8CDB-FC6E-47E5-BA8B-7DD72E10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83A7-2CB8-4F4B-9694-C2618BDB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A002-7169-48E0-9A8E-530B89A3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47D47-DD8D-4037-A3A3-135BFC2F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321CC-3A2A-4691-9A42-3FC964D1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0B50B-320B-4050-A02F-168F19C3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F35F9-08BF-4064-BA30-24CB9F5B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4C90-E4CC-4ED2-8868-DB0A8367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E7BE-5014-4851-91B3-6EBD714B9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D7BA-A0A2-4ED4-A00E-34E4629D8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3E8FA-136B-4712-960B-9617D2819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8232A-9169-40B6-9D4E-4A5A3027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7485E-4BD3-4C0D-97E4-5882CD46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EF346-C695-411B-8F28-B124C8B2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4551E-0376-4A8A-A389-F1669480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CA2FC-BB7C-4234-B677-1EE5D0BB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1240A-9A74-4CF8-BFB9-65758757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2B766-652C-49EE-93D9-1D0E0511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D9B0C-748D-4C2D-BFB5-49DC163A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174EE-81D7-4C00-9C1D-DB1E9C5F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5F693-4957-43F0-98B4-6470899A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0088F-6981-415D-9327-EEE41BA36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C4297-3420-442E-A0ED-C261A50CF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E06EC-86B0-44B7-9322-EF5E27ADB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D8C8A-F3D7-4F7F-B3BA-6F3F3D74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EC109-56AC-495C-9BFC-3B270807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43C8F-21A4-4A66-908B-60247F2F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E7CA5-4027-4E4F-9292-2F2C8184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572B5-2768-46D1-B76D-93654625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45530-3DBB-4587-B9EF-B96B953C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99336-FCA9-4494-8604-9E3D8205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6F5E3-880E-4DAC-87CC-F9F18CA2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8871B-FACD-4DB4-A972-50579A27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F594C-47E0-4F47-A966-15D790AC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730E1-A661-4086-BFBB-E4F6E89C3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20B88-32A2-4FBB-907F-E7827BA8E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19602-A9E5-423A-B260-E5DFE09FC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BEB5C-85A2-41C2-A93E-96ED97C3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C1658-DA83-48C1-9898-C0DB9901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E4726-6417-4649-A700-9BFBE9B0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7B188-A1A8-4496-80FB-976E5FBB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07BF8-93C1-4E5A-8F7E-003E826D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C3A3F-0090-4740-B17D-7015AFF5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9556E-48AB-46EC-AB84-CF7B9AF8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183F7-D857-4797-A7BF-79AD24A9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7ACE8-A726-45C3-8557-87FF2440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39A7C-0CCE-481B-A5CF-BCD2372D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34221-731F-4C4F-BED8-0D5A76EBE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239BE-4185-4EEE-A8C7-1C0167CD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D9C3D-8BDB-4DFC-8191-60AD89F89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D18333-6FD9-4CBF-9D22-7CF82CA4F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70162A-3645-4F2B-8222-47153AE3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0D9068-72DD-423F-ADF5-504F6C20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24D482-7E14-4587-B4FB-11404F85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F3175B-9CA0-4A76-82F2-5013910D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C4397A-5A3B-425D-A166-B3D94B9A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AC89F5-04B9-4BE9-B58E-8BD95A36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DC47D8-05A2-4E94-BDAC-8E6E5031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DD9B43-6D51-418F-8AEC-CADFD09D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77603-6D38-4660-A90B-7EF1DC0D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97BBA8-112D-48EF-B138-10AAC3F3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8EB985-A9EF-4786-AB33-DC2CE56FA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5F2A5E-771E-4888-8476-C1B4BB97F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7EAD1-9849-49E8-955E-28ACCAE0F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0939A-4A20-40C4-9C2B-FA087753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A4CAA-06B0-4B77-99F3-41BBF973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4A053-F2B0-4474-A223-6F46E2E2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002C4-A068-442F-BC70-3D021514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94A5D-7510-4C02-BF61-0765FC7F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5C847-E452-482F-A02A-4A0F5659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E8E42-16CD-41EF-B793-360467B9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3E705-D0E3-46B6-AFBB-3984161B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3AAA5-47FC-413E-8BE7-B193649B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F08DA-FD74-41D1-84B0-BBC59FFB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28AA7-75A0-4074-8558-215153D6F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9EE7F-C434-4D57-9C74-B8E693410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C9151-D033-4885-A48D-21B39215F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64355-1BE2-4383-9841-8756EE5D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7D09D-2EB2-4BAA-ADC7-D7479435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3F2B8-3FC4-4ABF-8D4C-D1B0B31F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45C9A-43C6-451A-AFAE-84ABD64A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B52CE-6923-4BCE-B366-CB09A5C2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F2EB9-FF5F-4C68-B08A-C4AFAB3E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73716-462E-4CF0-8D26-87C251BA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08958-EBB6-4E8A-B652-DF1B7888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32C8D-A75A-4F54-8DAE-7182999F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836BA-FA92-4E95-B291-5FEC1DD1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3C6B8-E99C-4C8F-A020-F511AD7EE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613C3-BBD6-47A9-A9A0-1A0310AEF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A427BC-CAD5-4095-9634-D47CC876F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220DC4-8C6C-4DB6-89AF-60B583C8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14EA2E-A592-40EF-BA7D-C8F3835F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F1B9-BEEC-487E-85D3-A1AD9B0C991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642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3D6A-6FE7-418F-BA4A-6E5CCF5DEE5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8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99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1326-2F57-4586-9DD7-54FC55BB17D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1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2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3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6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77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 type="dt" idx="3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E288-B0D2-48F0-8731-A19C78D93473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3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954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5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956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81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982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3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4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5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6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7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8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9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0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1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2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3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4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5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6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7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998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9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0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001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2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3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4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5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6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7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8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9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0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 type="dt" idx="3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 type="ftr" idx="3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D7EB-3FFF-4B77-AA82-B57041F3D7F3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0A54-CFE5-47A9-905C-1E2ABF769C8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E594-2365-49D2-8918-0713720981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677F-0AA7-4718-B9CA-27AD2AF76DD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08BF-A23F-42D1-B343-0956293074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3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158D-D97C-4F20-AEB1-DF9633DEE4F4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94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95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8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09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27C3-B6B3-4710-8D30-EA117A78DE1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86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7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488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3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514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9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530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533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2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dt" idx="22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ftr" idx="23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1B26-CBFB-4B88-84D4-9B2D56F9E84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92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93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8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25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26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02AA-1285-4608-BBEF-9882E9F1622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8.xml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slide" Target="slide14.xml"/><Relationship Id="rId4" Type="http://schemas.openxmlformats.org/officeDocument/2006/relationships/slide" Target="slide23.xml"/><Relationship Id="rId5" Type="http://schemas.openxmlformats.org/officeDocument/2006/relationships/slide" Target="slide29.xml"/><Relationship Id="rId6" Type="http://schemas.openxmlformats.org/officeDocument/2006/relationships/slide" Target="slide7.xml"/><Relationship Id="rId7" Type="http://schemas.openxmlformats.org/officeDocument/2006/relationships/slide" Target="slide39.xml"/><Relationship Id="rId8" Type="http://schemas.openxmlformats.org/officeDocument/2006/relationships/slide" Target="slide35.xml"/><Relationship Id="rId9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8.xml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ubTitle"/>
          </p:nvPr>
        </p:nvSpPr>
        <p:spPr>
          <a:xfrm>
            <a:off x="1692360" y="4436640"/>
            <a:ext cx="6400800" cy="15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a6e"/>
                </a:solidFill>
                <a:latin typeface="Arial"/>
              </a:rPr>
              <a:t>Чтобы начать работу, нажмите «Показ слайд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WordArt 4"/>
          <p:cNvSpPr txBox="1"/>
          <p:nvPr/>
        </p:nvSpPr>
        <p:spPr>
          <a:xfrm rot="21455400">
            <a:off x="900000" y="1341000"/>
            <a:ext cx="7128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64c4"/>
                    </a:gs>
                    <a:gs pos="100000">
                      <a:srgbClr val="800080"/>
                    </a:gs>
                  </a:gsLst>
                  <a:lin ang="5544000"/>
                </a:gradFill>
                <a:effectLst>
                  <a:outerShdw dist="77353" dir="562478" blurRad="0" rotWithShape="0">
                    <a:srgbClr val="3d3d3d"/>
                  </a:outerShdw>
                </a:effectLst>
                <a:latin typeface="Impact"/>
              </a:rPr>
              <a:t>изоме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64c4"/>
                  </a:gs>
                  <a:gs pos="100000">
                    <a:srgbClr val="800080"/>
                  </a:gs>
                </a:gsLst>
                <a:lin ang="5544000"/>
              </a:gradFill>
              <a:effectLst>
                <a:outerShdw dist="77353" dir="562478" blurRad="0" rotWithShape="0">
                  <a:srgbClr val="3d3d3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642520" cy="108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bf25a"/>
                </a:solidFill>
                <a:latin typeface="Tahoma"/>
              </a:rPr>
              <a:t>Итак, мы получили два </a:t>
            </a:r>
            <a:br>
              <a:rPr sz="3000"/>
            </a:br>
            <a:r>
              <a:rPr b="1" lang="ru-RU" sz="3000" spc="-1" strike="noStrike">
                <a:solidFill>
                  <a:srgbClr val="ebf25a"/>
                </a:solidFill>
                <a:latin typeface="Tahoma"/>
              </a:rPr>
              <a:t>геометрических изомера бутена–2: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cc"/>
                </a:solidFill>
                <a:latin typeface="Tahoma"/>
              </a:rPr>
              <a:t>ци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бутен–2 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    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                                                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  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                                      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 = 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     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                                            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 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 I                                       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                                 Н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Н</a:t>
            </a: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cc"/>
                </a:solidFill>
                <a:latin typeface="Tahoma"/>
              </a:rPr>
              <a:t>тран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бутен–2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         С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                                   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    I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                   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 = 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                                        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    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                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         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4" name="AutoShape 4">
            <a:hlinkClick r:id="rId1" action="ppaction://hlinksldjump"/>
          </p:cNvPr>
          <p:cNvSpPr/>
          <p:nvPr/>
        </p:nvSpPr>
        <p:spPr>
          <a:xfrm>
            <a:off x="250920" y="5589720"/>
            <a:ext cx="2160360" cy="968400"/>
          </a:xfrm>
          <a:prstGeom prst="flowChartDelay">
            <a:avLst/>
          </a:prstGeom>
          <a:gradFill rotWithShape="0">
            <a:gsLst>
              <a:gs pos="0">
                <a:srgbClr val="f2aa68"/>
              </a:gs>
              <a:gs pos="100000">
                <a:srgbClr val="d0925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Другие ви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изоме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AutoShape 5">
            <a:hlinkClick r:id="rId2" action="ppaction://hlinksldjump"/>
          </p:cNvPr>
          <p:cNvSpPr/>
          <p:nvPr/>
        </p:nvSpPr>
        <p:spPr>
          <a:xfrm>
            <a:off x="6732720" y="5373720"/>
            <a:ext cx="2411280" cy="1484280"/>
          </a:xfrm>
          <a:prstGeom prst="irregularSeal1">
            <a:avLst/>
          </a:prstGeom>
          <a:gradFill rotWithShape="0">
            <a:gsLst>
              <a:gs pos="0">
                <a:srgbClr val="f2aa68"/>
              </a:gs>
              <a:gs pos="100000">
                <a:srgbClr val="c0875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онец 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Нет. </a:t>
            </a:r>
            <a:br>
              <a:rPr sz="3800"/>
            </a:b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Геометрических изомеров </a:t>
            </a:r>
            <a:br>
              <a:rPr sz="3800"/>
            </a:br>
            <a:r>
              <a:rPr b="1" i="1" lang="ru-RU" sz="3800" spc="-1" strike="noStrike">
                <a:solidFill>
                  <a:srgbClr val="ffffcc"/>
                </a:solidFill>
                <a:latin typeface="Tahoma"/>
              </a:rPr>
              <a:t>бутена -1</a:t>
            </a: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не существует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8" name="Oval 5"/>
          <p:cNvSpPr/>
          <p:nvPr/>
        </p:nvSpPr>
        <p:spPr>
          <a:xfrm>
            <a:off x="1979640" y="3933720"/>
            <a:ext cx="5905440" cy="1871640"/>
          </a:xfrm>
          <a:prstGeom prst="ellipse">
            <a:avLst/>
          </a:prstGeom>
          <a:solidFill>
            <a:srgbClr val="f2aa68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Но почему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Ведь для бутена -</a:t>
            </a:r>
            <a:r>
              <a:rPr b="0" lang="en-US" sz="1800" spc="-1" strike="noStrike">
                <a:solidFill>
                  <a:srgbClr val="2b2b2b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вращение вокруг двойной связи также невозможн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как для бутена -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Попробуем составить геометрические изомеры бутена -1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С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2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– С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             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      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   I                                      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I              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 = С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     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     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С = 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   I                                       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   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          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–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видите, эти структурные формулы изображают одн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то же вещество. (При наложении они совпадают, достаточно лишь повернуть вторую формулу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так, геометрических изоме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утена -1 не существу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1" name="Oval 4">
            <a:hlinkClick r:id="rId1" action="ppaction://hlinksldjump"/>
          </p:cNvPr>
          <p:cNvSpPr/>
          <p:nvPr/>
        </p:nvSpPr>
        <p:spPr>
          <a:xfrm rot="20893800">
            <a:off x="5076360" y="5373360"/>
            <a:ext cx="3888000" cy="1155600"/>
          </a:xfrm>
          <a:prstGeom prst="ellipse">
            <a:avLst/>
          </a:prstGeom>
          <a:solidFill>
            <a:srgbClr val="f2aa68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А для других алкенов С</a:t>
            </a:r>
            <a:r>
              <a:rPr b="0" lang="ru-RU" sz="1200" spc="-1" strike="noStrike">
                <a:solidFill>
                  <a:srgbClr val="2b2b2b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Н</a:t>
            </a:r>
            <a:r>
              <a:rPr b="0" lang="ru-RU" sz="1200" spc="-1" strike="noStrike">
                <a:solidFill>
                  <a:srgbClr val="2b2b2b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геометрические изомер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возможн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AutoShape 5"/>
          <p:cNvSpPr/>
          <p:nvPr/>
        </p:nvSpPr>
        <p:spPr>
          <a:xfrm>
            <a:off x="395280" y="6039000"/>
            <a:ext cx="1835280" cy="819000"/>
          </a:xfrm>
          <a:prstGeom prst="upArrowCallout">
            <a:avLst>
              <a:gd name="adj1" fmla="val 56027"/>
              <a:gd name="adj2" fmla="val 56022"/>
              <a:gd name="adj3" fmla="val 16667"/>
              <a:gd name="adj4" fmla="val 66660"/>
            </a:avLst>
          </a:prstGeom>
          <a:solidFill>
            <a:srgbClr val="f2aa68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1500"/>
                </a:solidFill>
                <a:latin typeface="Arial"/>
              </a:rPr>
              <a:t>Верн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1500"/>
                </a:solidFill>
                <a:latin typeface="Arial"/>
              </a:rPr>
              <a:t>к объяснению</a:t>
            </a:r>
            <a:r>
              <a:rPr b="0" lang="ru-RU" sz="1800" spc="-1" strike="noStrike">
                <a:solidFill>
                  <a:srgbClr val="602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ebf25a"/>
                </a:solidFill>
                <a:latin typeface="Tahoma"/>
              </a:rPr>
              <a:t>Существует еще один изомер С</a:t>
            </a:r>
            <a:r>
              <a:rPr b="0" lang="ru-RU" sz="1700" spc="-1" strike="noStrike">
                <a:solidFill>
                  <a:srgbClr val="ebf25a"/>
                </a:solidFill>
                <a:latin typeface="Tahoma"/>
              </a:rPr>
              <a:t>4</a:t>
            </a:r>
            <a:r>
              <a:rPr b="0" lang="ru-RU" sz="2500" spc="-1" strike="noStrike">
                <a:solidFill>
                  <a:srgbClr val="ebf25a"/>
                </a:solidFill>
                <a:latin typeface="Tahoma"/>
              </a:rPr>
              <a:t>Н</a:t>
            </a:r>
            <a:r>
              <a:rPr b="0" lang="ru-RU" sz="1700" spc="-1" strike="noStrike">
                <a:solidFill>
                  <a:srgbClr val="ebf25a"/>
                </a:solidFill>
                <a:latin typeface="Tahoma"/>
              </a:rPr>
              <a:t>8</a:t>
            </a:r>
            <a:r>
              <a:rPr b="0" lang="ru-RU" sz="2500" spc="-1" strike="noStrike">
                <a:solidFill>
                  <a:srgbClr val="ebf25a"/>
                </a:solidFill>
                <a:latin typeface="Tahoma"/>
              </a:rPr>
              <a:t> – </a:t>
            </a:r>
            <a:br>
              <a:rPr sz="2500"/>
            </a:br>
            <a:r>
              <a:rPr b="0" lang="ru-RU" sz="2500" spc="-1" strike="noStrike">
                <a:solidFill>
                  <a:srgbClr val="ebf25a"/>
                </a:solidFill>
                <a:latin typeface="Tahoma"/>
              </a:rPr>
              <a:t>2–метилпропен. Попробуем составить формулы его геометрических изомеров: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     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         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   I                                      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I              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 = С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     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     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 = 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   I                                       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   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                         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видите, эти структурные формулы так же изображают одно и то же веществ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так, геометрических изомеров 2 – метилпропена – 1 не существу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6" name="AutoShape 4"/>
          <p:cNvSpPr/>
          <p:nvPr/>
        </p:nvSpPr>
        <p:spPr>
          <a:xfrm>
            <a:off x="7093080" y="5805360"/>
            <a:ext cx="1834920" cy="890640"/>
          </a:xfrm>
          <a:prstGeom prst="upArrowCallout">
            <a:avLst>
              <a:gd name="adj1" fmla="val 51510"/>
              <a:gd name="adj2" fmla="val 51506"/>
              <a:gd name="adj3" fmla="val 16667"/>
              <a:gd name="adj4" fmla="val 66660"/>
            </a:avLst>
          </a:prstGeom>
          <a:solidFill>
            <a:srgbClr val="f2aa68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1500"/>
                </a:solidFill>
                <a:latin typeface="Arial"/>
              </a:rPr>
              <a:t>Верн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1500"/>
                </a:solidFill>
                <a:latin typeface="Arial"/>
              </a:rPr>
              <a:t>к объясн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Изомерия углеродного скелет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39640" y="160020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тот вид изомерии характерен для всех классов органических соединений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зомерия углеродного скелета – единственно возможный вид изомерии алкан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Garamond"/>
              </a:rPr>
              <a:t>Рассмотрим изомерию углеродного скелета на примере пентана </a:t>
            </a: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С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5</a:t>
            </a: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Garamond"/>
              </a:rPr>
              <a:t>Составим структурную формулу простейшего изомера 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С</a:t>
            </a:r>
            <a:r>
              <a:rPr b="1" lang="ru-RU" sz="1600" spc="-1" strike="noStrike">
                <a:solidFill>
                  <a:srgbClr val="ffffcc"/>
                </a:solidFill>
                <a:latin typeface="Garamond"/>
              </a:rPr>
              <a:t>5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Н</a:t>
            </a:r>
            <a:r>
              <a:rPr b="1" lang="ru-RU" sz="1600" spc="-1" strike="noStrike">
                <a:solidFill>
                  <a:srgbClr val="ffffcc"/>
                </a:solidFill>
                <a:latin typeface="Garamond"/>
              </a:rPr>
              <a:t>12</a:t>
            </a:r>
            <a:r>
              <a:rPr b="0" lang="ru-RU" sz="2800" spc="-1" strike="noStrike">
                <a:solidFill>
                  <a:srgbClr val="ffffcc"/>
                </a:solidFill>
                <a:latin typeface="Garamond"/>
              </a:rPr>
              <a:t>, имеющего линейное строение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ля этого изобразим его углеродный скелет, расположив в ряд все пять атомов углерод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С – С – С – С – С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 теперь расставим атомы водорода, не забывая при этом, что валентность углерода равна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V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 водорода -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Мы написали структурную формулу простейшего изомер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Garamond"/>
              </a:rPr>
              <a:t>ПЕНТАНА</a:t>
            </a: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. А можно ли составить формулу другого изомера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ля этого сделаем основную цепочку 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короче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Garamond"/>
              </a:rPr>
              <a:t>Расположим в ряд четыре атома углерода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 – С – С – С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 пятый атом присоединим к одному из 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средних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углеродных атомов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 – С – С – С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еперь расставим атомы водорода, не забывая про валентность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– СН – СН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Мы получили формул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Garamond"/>
              </a:rPr>
              <a:t>2 – МЕТИЛБУТАН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4" name="Oval 4"/>
          <p:cNvSpPr/>
          <p:nvPr/>
        </p:nvSpPr>
        <p:spPr>
          <a:xfrm rot="20923200">
            <a:off x="5580000" y="5444640"/>
            <a:ext cx="3564000" cy="1150920"/>
          </a:xfrm>
          <a:prstGeom prst="ellipse">
            <a:avLst/>
          </a:prstGeom>
          <a:gradFill rotWithShape="0">
            <a:gsLst>
              <a:gs pos="0">
                <a:srgbClr val="4db8db"/>
              </a:gs>
              <a:gs pos="50000">
                <a:srgbClr val="0099cc"/>
              </a:gs>
              <a:gs pos="100000">
                <a:srgbClr val="4db8db"/>
              </a:gs>
            </a:gsLst>
            <a:lin ang="678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умайте, можно 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положить радика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 соседнего атома «С»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Oval 5"/>
          <p:cNvSpPr/>
          <p:nvPr/>
        </p:nvSpPr>
        <p:spPr>
          <a:xfrm>
            <a:off x="6084720" y="836640"/>
            <a:ext cx="648000" cy="647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/>
          </p:nvPr>
        </p:nvSpPr>
        <p:spPr>
          <a:xfrm>
            <a:off x="178920" y="404640"/>
            <a:ext cx="8713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Garamond"/>
              </a:rPr>
              <a:t>Попробуем написать формулу изомера, содержащего в основной цепи три атома углерод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С – С – С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еперь присоединим оставшиеся атомы углерода ко второму атому цепочки в виде метил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–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радикалов и расставим атомы водород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– С – 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Мы получили формулу еще одного изомера </a:t>
            </a:r>
            <a:r>
              <a:rPr b="0" i="1" lang="ru-RU" sz="2400" spc="-1" strike="noStrike">
                <a:solidFill>
                  <a:srgbClr val="ffcc00"/>
                </a:solidFill>
                <a:latin typeface="Garamond"/>
              </a:rPr>
              <a:t>–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Garamond"/>
              </a:rPr>
              <a:t>2,2 – ДИМЕТИЛПРОПАН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8" name="Oval 5"/>
          <p:cNvSpPr/>
          <p:nvPr/>
        </p:nvSpPr>
        <p:spPr>
          <a:xfrm>
            <a:off x="6012000" y="1341360"/>
            <a:ext cx="647640" cy="647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Oval 6"/>
          <p:cNvSpPr/>
          <p:nvPr/>
        </p:nvSpPr>
        <p:spPr>
          <a:xfrm>
            <a:off x="5508720" y="1341360"/>
            <a:ext cx="647640" cy="647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Oval 7"/>
          <p:cNvSpPr/>
          <p:nvPr/>
        </p:nvSpPr>
        <p:spPr>
          <a:xfrm rot="20911800">
            <a:off x="6265440" y="5157360"/>
            <a:ext cx="2878200" cy="1374840"/>
          </a:xfrm>
          <a:prstGeom prst="ellipse">
            <a:avLst/>
          </a:prstGeom>
          <a:gradFill rotWithShape="0">
            <a:gsLst>
              <a:gs pos="0">
                <a:srgbClr val="35aed7"/>
              </a:gs>
              <a:gs pos="50000">
                <a:srgbClr val="0099cc"/>
              </a:gs>
              <a:gs pos="100000">
                <a:srgbClr val="35aed7"/>
              </a:gs>
            </a:gsLst>
            <a:lin ang="609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можно вмест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вух метил– радикал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пользовать оди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ил– радикал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Итак, мы получили три изомера </a:t>
            </a:r>
            <a:br>
              <a:rPr sz="4000"/>
            </a:b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с эмпирической формулой </a:t>
            </a:r>
            <a:r>
              <a:rPr b="0" lang="ru-RU" sz="4000" spc="-1" strike="noStrike">
                <a:solidFill>
                  <a:srgbClr val="ffcc00"/>
                </a:solidFill>
                <a:latin typeface="Garamond"/>
              </a:rPr>
              <a:t>С</a:t>
            </a:r>
            <a:r>
              <a:rPr b="0" lang="ru-RU" sz="2000" spc="-1" strike="noStrike">
                <a:solidFill>
                  <a:srgbClr val="ffcc00"/>
                </a:solidFill>
                <a:latin typeface="Garamond"/>
              </a:rPr>
              <a:t>5</a:t>
            </a:r>
            <a:r>
              <a:rPr b="0" lang="ru-RU" sz="4000" spc="-1" strike="noStrike">
                <a:solidFill>
                  <a:srgbClr val="ffcc00"/>
                </a:solidFill>
                <a:latin typeface="Garamond"/>
              </a:rPr>
              <a:t>Н</a:t>
            </a:r>
            <a:r>
              <a:rPr b="0" lang="ru-RU" sz="2000" spc="-1" strike="noStrike">
                <a:solidFill>
                  <a:srgbClr val="ffcc00"/>
                </a:solidFill>
                <a:latin typeface="Garamond"/>
              </a:rPr>
              <a:t>12</a:t>
            </a:r>
            <a:r>
              <a:rPr b="0" lang="ru-RU" sz="4000" spc="-1" strike="noStrike">
                <a:solidFill>
                  <a:srgbClr val="ffcc00"/>
                </a:solidFill>
                <a:latin typeface="Garamond"/>
              </a:rPr>
              <a:t>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ентан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–метилбутан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– СН – 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               </a:t>
            </a:r>
            <a:r>
              <a:rPr b="1" lang="en-US" sz="10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,2–диметилпропан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                                             </a:t>
            </a:r>
            <a:r>
              <a:rPr b="1" lang="en-US" sz="10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– С – СН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4" name="AutoShape 4"/>
          <p:cNvSpPr/>
          <p:nvPr/>
        </p:nvSpPr>
        <p:spPr>
          <a:xfrm>
            <a:off x="6732720" y="5373720"/>
            <a:ext cx="2411280" cy="1484280"/>
          </a:xfrm>
          <a:prstGeom prst="irregularSeal1">
            <a:avLst/>
          </a:prstGeom>
          <a:gradFill rotWithShape="0">
            <a:gsLst>
              <a:gs pos="0">
                <a:srgbClr val="75c8e3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Конец 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AutoShape 5"/>
          <p:cNvSpPr/>
          <p:nvPr/>
        </p:nvSpPr>
        <p:spPr>
          <a:xfrm>
            <a:off x="250920" y="5589720"/>
            <a:ext cx="2160360" cy="968400"/>
          </a:xfrm>
          <a:prstGeom prst="flowChartDelay">
            <a:avLst/>
          </a:prstGeom>
          <a:gradFill rotWithShape="0">
            <a:gsLst>
              <a:gs pos="0">
                <a:srgbClr val="96d5ea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Другие ви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изоме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/>
          </p:nvPr>
        </p:nvSpPr>
        <p:spPr>
          <a:xfrm>
            <a:off x="468000" y="259920"/>
            <a:ext cx="84963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ш изомер      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– СН – СН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                                               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зместим радикал у соседнего атома углерода: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– СН – СН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    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нумеруем атомы углерода в обоих соединениях в соответствии с правилами систематической номенклатуры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i="1" lang="ru-RU" sz="1200" spc="-1" strike="noStrike">
                <a:solidFill>
                  <a:srgbClr val="ffffff"/>
                </a:solidFill>
                <a:latin typeface="Garamond"/>
              </a:rPr>
              <a:t>4                        3                         2                     1                                1                         2                      3                        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СН</a:t>
            </a:r>
            <a:r>
              <a:rPr b="1" lang="ru-RU" sz="1800" spc="-1" strike="noStrike">
                <a:solidFill>
                  <a:srgbClr val="ffffcc"/>
                </a:solidFill>
                <a:latin typeface="Garamond"/>
              </a:rPr>
              <a:t>3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 – СН</a:t>
            </a:r>
            <a:r>
              <a:rPr b="1" lang="ru-RU" sz="1800" spc="-1" strike="noStrike">
                <a:solidFill>
                  <a:srgbClr val="ffffcc"/>
                </a:solidFill>
                <a:latin typeface="Garamond"/>
              </a:rPr>
              <a:t>2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 – СН – СН</a:t>
            </a:r>
            <a:r>
              <a:rPr b="1" lang="ru-RU" sz="1800" spc="-1" strike="noStrike">
                <a:solidFill>
                  <a:srgbClr val="ffffcc"/>
                </a:solidFill>
                <a:latin typeface="Garamond"/>
              </a:rPr>
              <a:t>3           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СН</a:t>
            </a:r>
            <a:r>
              <a:rPr b="1" lang="ru-RU" sz="1800" spc="-1" strike="noStrike">
                <a:solidFill>
                  <a:srgbClr val="ffffcc"/>
                </a:solidFill>
                <a:latin typeface="Garamond"/>
              </a:rPr>
              <a:t>3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 – СН – СН</a:t>
            </a:r>
            <a:r>
              <a:rPr b="1" lang="ru-RU" sz="1800" spc="-1" strike="noStrike">
                <a:solidFill>
                  <a:srgbClr val="ffffcc"/>
                </a:solidFill>
                <a:latin typeface="Garamond"/>
              </a:rPr>
              <a:t>2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 – СН</a:t>
            </a:r>
            <a:r>
              <a:rPr b="1" lang="ru-RU" sz="1800" spc="-1" strike="noStrike">
                <a:solidFill>
                  <a:srgbClr val="ffffcc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</a:t>
            </a:r>
            <a:r>
              <a:rPr b="1" lang="en-US" sz="9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lang="ru-RU" sz="9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</a:t>
            </a:r>
            <a:r>
              <a:rPr b="1" lang="en-US" sz="9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          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(а)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                      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(б)        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Мы видим, что обе  формулы – (а) и (б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изображают одно и то же вещество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Garamond"/>
              </a:rPr>
              <a:t>2</a:t>
            </a: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–</a:t>
            </a:r>
            <a:r>
              <a:rPr b="0" i="1" lang="ru-RU" sz="2400" spc="-1" strike="noStrike">
                <a:solidFill>
                  <a:srgbClr val="ffcc00"/>
                </a:solidFill>
                <a:latin typeface="Garamond"/>
              </a:rPr>
              <a:t>МЕТИЛБУТАН</a:t>
            </a: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8" name="Oval 4"/>
          <p:cNvSpPr/>
          <p:nvPr/>
        </p:nvSpPr>
        <p:spPr>
          <a:xfrm rot="21239400">
            <a:off x="5424120" y="5870160"/>
            <a:ext cx="3708360" cy="798480"/>
          </a:xfrm>
          <a:prstGeom prst="ellipse">
            <a:avLst/>
          </a:prstGeom>
          <a:gradFill rotWithShape="0">
            <a:gsLst>
              <a:gs pos="0">
                <a:srgbClr val="3db1d8"/>
              </a:gs>
              <a:gs pos="50000">
                <a:srgbClr val="0099cc"/>
              </a:gs>
              <a:gs pos="100000">
                <a:srgbClr val="3db1d8"/>
              </a:gs>
            </a:gsLst>
            <a:lin ang="576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можно поставить радика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 крайнего атома «С»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AutoShape 7"/>
          <p:cNvSpPr/>
          <p:nvPr/>
        </p:nvSpPr>
        <p:spPr>
          <a:xfrm>
            <a:off x="6948360" y="260280"/>
            <a:ext cx="1835280" cy="1008000"/>
          </a:xfrm>
          <a:prstGeom prst="upArrowCallout">
            <a:avLst>
              <a:gd name="adj1" fmla="val 45522"/>
              <a:gd name="adj2" fmla="val 45518"/>
              <a:gd name="adj3" fmla="val 16667"/>
              <a:gd name="adj4" fmla="val 66660"/>
            </a:avLst>
          </a:prstGeom>
          <a:solidFill>
            <a:srgbClr val="00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f5e"/>
                </a:solidFill>
                <a:latin typeface="Arial"/>
              </a:rPr>
              <a:t>Верн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f5e"/>
                </a:solidFill>
                <a:latin typeface="Arial"/>
              </a:rPr>
              <a:t>к объясн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Oval 8"/>
          <p:cNvSpPr/>
          <p:nvPr/>
        </p:nvSpPr>
        <p:spPr>
          <a:xfrm>
            <a:off x="6804000" y="4365720"/>
            <a:ext cx="2340000" cy="1296720"/>
          </a:xfrm>
          <a:prstGeom prst="ellipse">
            <a:avLst/>
          </a:prstGeom>
          <a:gradFill rotWithShape="0">
            <a:gsLst>
              <a:gs pos="0">
                <a:srgbClr val="6dc5e2"/>
              </a:gs>
              <a:gs pos="50000">
                <a:srgbClr val="0099cc"/>
              </a:gs>
              <a:gs pos="100000">
                <a:srgbClr val="6dc5e2"/>
              </a:gs>
            </a:gsLst>
            <a:lin ang="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чем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менил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рядо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умераци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363160" cy="39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d3d3d"/>
                </a:solidFill>
                <a:latin typeface="Arial"/>
              </a:rPr>
              <a:t>- Это вещества</a:t>
            </a:r>
            <a:br>
              <a:rPr sz="3200"/>
            </a:br>
            <a:r>
              <a:rPr b="0" lang="ru-RU" sz="3200" spc="-1" strike="noStrike">
                <a:solidFill>
                  <a:srgbClr val="3d3d3d"/>
                </a:solidFill>
                <a:latin typeface="Arial"/>
              </a:rPr>
              <a:t> одинакового состава и молекулярной массы, но имеющие различное строение</a:t>
            </a:r>
            <a:r>
              <a:rPr b="0" lang="ru-RU" sz="40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d3d3d"/>
                </a:solidFill>
                <a:latin typeface="Arial"/>
              </a:rPr>
              <a:t>молекул и</a:t>
            </a:r>
            <a:r>
              <a:rPr b="0" lang="ru-RU" sz="40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d3d3d"/>
                </a:solidFill>
                <a:latin typeface="Arial"/>
              </a:rPr>
              <a:t>разные свойства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3d3d3d"/>
                </a:solidFill>
                <a:latin typeface="Arial"/>
              </a:rPr>
              <a:t>- Это явление </a:t>
            </a:r>
            <a:br>
              <a:rPr sz="3200"/>
            </a:br>
            <a:r>
              <a:rPr b="0" lang="ru-RU" sz="3200" spc="-1" strike="noStrike">
                <a:solidFill>
                  <a:srgbClr val="3d3d3d"/>
                </a:solidFill>
                <a:latin typeface="Arial"/>
              </a:rPr>
              <a:t>существования изоме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539640" y="4797360"/>
            <a:ext cx="815832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a6e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4a4a6e"/>
                </a:solidFill>
                <a:latin typeface="Arial"/>
              </a:rPr>
              <a:t>Главно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d3d3d"/>
                </a:solidFill>
                <a:latin typeface="Arial"/>
              </a:rPr>
              <a:t>изомеры имею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4a4a6e"/>
                </a:solidFill>
                <a:latin typeface="Arial"/>
              </a:rPr>
              <a:t>одинаковые эмпирические формулы</a:t>
            </a:r>
            <a:r>
              <a:rPr b="0" lang="ru-RU" sz="2800" spc="-1" strike="noStrike">
                <a:solidFill>
                  <a:srgbClr val="3d3d3d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d3d3d"/>
                </a:solidFill>
                <a:latin typeface="Arial"/>
              </a:rPr>
              <a:t>но раз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d3d3d"/>
                </a:solidFill>
                <a:latin typeface="Arial"/>
              </a:rPr>
              <a:t>структурные форму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WordArt 4"/>
          <p:cNvSpPr txBox="1"/>
          <p:nvPr/>
        </p:nvSpPr>
        <p:spPr>
          <a:xfrm rot="21455400">
            <a:off x="611280" y="2923920"/>
            <a:ext cx="4968720" cy="85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64c4"/>
                    </a:gs>
                    <a:gs pos="100000">
                      <a:srgbClr val="800080"/>
                    </a:gs>
                  </a:gsLst>
                  <a:lin ang="5544000"/>
                </a:gradFill>
                <a:effectLst>
                  <a:outerShdw dist="102298" dir="424499" blurRad="0" rotWithShape="0">
                    <a:srgbClr val="3d3d3d"/>
                  </a:outerShdw>
                </a:effectLst>
                <a:latin typeface="Impact"/>
              </a:rPr>
              <a:t>изоме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64c4"/>
                  </a:gs>
                  <a:gs pos="100000">
                    <a:srgbClr val="800080"/>
                  </a:gs>
                </a:gsLst>
                <a:lin ang="5544000"/>
              </a:gradFill>
              <a:effectLst>
                <a:outerShdw dist="102298" dir="424499" blurRad="0" rotWithShape="0">
                  <a:srgbClr val="3d3d3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2" name="WordArt 5"/>
          <p:cNvSpPr txBox="1"/>
          <p:nvPr/>
        </p:nvSpPr>
        <p:spPr>
          <a:xfrm rot="21455400">
            <a:off x="611280" y="189000"/>
            <a:ext cx="4824360" cy="85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64c4"/>
                    </a:gs>
                    <a:gs pos="100000">
                      <a:srgbClr val="800080"/>
                    </a:gs>
                  </a:gsLst>
                  <a:lin ang="5544000"/>
                </a:gradFill>
                <a:effectLst>
                  <a:outerShdw dist="89808" dir="483908" blurRad="0" rotWithShape="0">
                    <a:srgbClr val="3d3d3d"/>
                  </a:outerShdw>
                </a:effectLst>
                <a:latin typeface="Impact"/>
              </a:rPr>
              <a:t>изоме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64c4"/>
                  </a:gs>
                  <a:gs pos="100000">
                    <a:srgbClr val="800080"/>
                  </a:gs>
                </a:gsLst>
                <a:lin ang="5544000"/>
              </a:gradFill>
              <a:effectLst>
                <a:outerShdw dist="89808" dir="483908" blurRad="0" rotWithShape="0">
                  <a:srgbClr val="3d3d3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делаем это и посмотрим, что у нас получится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                                 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нумеруем атомы углерод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                         </a:t>
            </a:r>
            <a:r>
              <a:rPr b="0" i="1" lang="ru-RU" sz="1200" spc="-1" strike="noStrike">
                <a:solidFill>
                  <a:srgbClr val="ffffff"/>
                </a:solidFill>
                <a:latin typeface="Garamond"/>
              </a:rPr>
              <a:t>5                                  4                                   3                                   2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СН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3</a:t>
            </a: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2</a:t>
            </a: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2</a:t>
            </a: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Garamond"/>
              </a:rPr>
              <a:t>1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en-US" sz="1400" spc="-1" strike="noStrike">
                <a:solidFill>
                  <a:srgbClr val="ffffcc"/>
                </a:solidFill>
                <a:latin typeface="Garamond"/>
              </a:rPr>
              <a:t>I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cc"/>
                </a:solidFill>
                <a:latin typeface="Garamond"/>
              </a:rPr>
              <a:t>C</a:t>
            </a: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Н</a:t>
            </a:r>
            <a:r>
              <a:rPr b="1" lang="ru-RU" sz="2400" spc="-1" strike="noStrike">
                <a:solidFill>
                  <a:srgbClr val="ffffcc"/>
                </a:solidFill>
                <a:latin typeface="Garamond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Как видите, мы вновь получили  </a:t>
            </a:r>
            <a:r>
              <a:rPr b="0" i="1" lang="ru-RU" sz="2400" spc="-1" strike="noStrike">
                <a:solidFill>
                  <a:srgbClr val="ffcc00"/>
                </a:solidFill>
                <a:latin typeface="Garamond"/>
              </a:rPr>
              <a:t>ПЕНТАН</a:t>
            </a: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Такой изомер у нас уже есть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3" name="Oval 4"/>
          <p:cNvSpPr/>
          <p:nvPr/>
        </p:nvSpPr>
        <p:spPr>
          <a:xfrm rot="665400">
            <a:off x="7308360" y="1052640"/>
            <a:ext cx="1584360" cy="3241440"/>
          </a:xfrm>
          <a:prstGeom prst="ellipse">
            <a:avLst/>
          </a:prstGeom>
          <a:gradFill rotWithShape="0">
            <a:gsLst>
              <a:gs pos="0">
                <a:srgbClr val="65c1e0"/>
              </a:gs>
              <a:gs pos="50000">
                <a:srgbClr val="0099cc"/>
              </a:gs>
              <a:gs pos="100000">
                <a:srgbClr val="65c1e0"/>
              </a:gs>
            </a:gsLst>
            <a:lin ang="4734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ыта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положи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дика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 крайне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том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С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AutoShape 5"/>
          <p:cNvSpPr/>
          <p:nvPr/>
        </p:nvSpPr>
        <p:spPr>
          <a:xfrm>
            <a:off x="7093080" y="5661000"/>
            <a:ext cx="1834920" cy="1008000"/>
          </a:xfrm>
          <a:prstGeom prst="upArrowCallout">
            <a:avLst>
              <a:gd name="adj1" fmla="val 45513"/>
              <a:gd name="adj2" fmla="val 45509"/>
              <a:gd name="adj3" fmla="val 16667"/>
              <a:gd name="adj4" fmla="val 66660"/>
            </a:avLst>
          </a:prstGeom>
          <a:solidFill>
            <a:srgbClr val="00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f5e"/>
                </a:solidFill>
                <a:latin typeface="Arial"/>
              </a:rPr>
              <a:t>Верн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f5e"/>
                </a:solidFill>
                <a:latin typeface="Arial"/>
              </a:rPr>
              <a:t>к объясн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71380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авайте попробуем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спользовать этил–радикал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 за одним пронумеруем атомы углерода основной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(т.е.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самой длинной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) цепочк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                                     </a:t>
            </a:r>
            <a:r>
              <a:rPr b="0" i="1" lang="en-US" sz="1200" spc="-1" strike="noStrike">
                <a:solidFill>
                  <a:srgbClr val="ffffff"/>
                </a:solidFill>
                <a:latin typeface="Garamond"/>
              </a:rPr>
              <a:t>1                             2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1" lang="ru-RU" sz="3600" spc="-1" strike="noStrike">
                <a:solidFill>
                  <a:srgbClr val="ffffcc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3</a:t>
            </a:r>
            <a:r>
              <a:rPr b="1" lang="ru-RU" sz="3600" spc="-1" strike="noStrike">
                <a:solidFill>
                  <a:srgbClr val="ffffcc"/>
                </a:solidFill>
                <a:latin typeface="Garamond"/>
              </a:rPr>
              <a:t> – СН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                                             </a:t>
            </a:r>
            <a:r>
              <a:rPr b="0" i="1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12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1" lang="en-US" sz="1200" spc="-1" strike="noStrike">
                <a:solidFill>
                  <a:srgbClr val="ffffcc"/>
                </a:solidFill>
                <a:latin typeface="Garamond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r>
              <a:rPr b="1" lang="ru-RU" sz="3600" spc="-1" strike="noStrike">
                <a:solidFill>
                  <a:srgbClr val="ffffcc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              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                       </a:t>
            </a:r>
            <a:r>
              <a:rPr b="0" i="1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   </a:t>
            </a:r>
            <a:r>
              <a:rPr b="1" lang="en-US" sz="1200" spc="-1" strike="noStrike">
                <a:solidFill>
                  <a:srgbClr val="ffffcc"/>
                </a:solidFill>
                <a:latin typeface="Garamond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r>
              <a:rPr b="1" lang="ru-RU" sz="3600" spc="-1" strike="noStrike">
                <a:solidFill>
                  <a:srgbClr val="ffffcc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Как видите, такой изомер у нас уже был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Это  2–МЕТИЛБУТАН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7" name="AutoShape 4"/>
          <p:cNvSpPr/>
          <p:nvPr/>
        </p:nvSpPr>
        <p:spPr>
          <a:xfrm>
            <a:off x="7093080" y="5661000"/>
            <a:ext cx="1834920" cy="1008000"/>
          </a:xfrm>
          <a:prstGeom prst="upArrowCallout">
            <a:avLst>
              <a:gd name="adj1" fmla="val 45513"/>
              <a:gd name="adj2" fmla="val 45509"/>
              <a:gd name="adj3" fmla="val 16667"/>
              <a:gd name="adj4" fmla="val 66660"/>
            </a:avLst>
          </a:prstGeom>
          <a:solidFill>
            <a:srgbClr val="00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f5e"/>
                </a:solidFill>
                <a:latin typeface="Arial"/>
              </a:rPr>
              <a:t>Верн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f5e"/>
                </a:solidFill>
                <a:latin typeface="Arial"/>
              </a:rPr>
              <a:t>к объясн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691344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Порядок нумераци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569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рядок нумерации определяетс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соответствии с правилами систематической номенклатуры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умеровать цепочку начинаем с того края, где ближе разветвление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i="1" lang="ru-RU" sz="1400" spc="-1" strike="noStrike">
                <a:solidFill>
                  <a:srgbClr val="ffffff"/>
                </a:solidFill>
                <a:latin typeface="Garamond"/>
              </a:rPr>
              <a:t>4                        3                         2                     1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умерацию ведем слев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Garamond"/>
              </a:rPr>
              <a:t>  </a:t>
            </a:r>
            <a:r>
              <a:rPr b="1" lang="ru-RU" sz="3200" spc="-1" strike="noStrike">
                <a:solidFill>
                  <a:srgbClr val="ffffcc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3</a:t>
            </a:r>
            <a:r>
              <a:rPr b="1" lang="ru-RU" sz="3200" spc="-1" strike="noStrike">
                <a:solidFill>
                  <a:srgbClr val="ffffcc"/>
                </a:solidFill>
                <a:latin typeface="Garamond"/>
              </a:rPr>
              <a:t> – С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2</a:t>
            </a:r>
            <a:r>
              <a:rPr b="1" lang="ru-RU" sz="3200" spc="-1" strike="noStrike">
                <a:solidFill>
                  <a:srgbClr val="ffffcc"/>
                </a:solidFill>
                <a:latin typeface="Garamond"/>
              </a:rPr>
              <a:t> – СН – С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3</a:t>
            </a:r>
            <a:r>
              <a:rPr b="1" lang="ru-RU" sz="2400" spc="-1" strike="noStrike">
                <a:solidFill>
                  <a:srgbClr val="ffffcc"/>
                </a:solidFill>
                <a:latin typeface="Garamond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право, т.к.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дикал расположен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лиже к левому краю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i="1" lang="ru-RU" sz="1400" spc="-1" strike="noStrike">
                <a:solidFill>
                  <a:srgbClr val="ffffff"/>
                </a:solidFill>
                <a:latin typeface="Garamond"/>
              </a:rPr>
              <a:t>1                         2                      3                        4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умерацию ведем справ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Garamond"/>
              </a:rPr>
              <a:t>  </a:t>
            </a:r>
            <a:r>
              <a:rPr b="1" lang="ru-RU" sz="3200" spc="-1" strike="noStrike">
                <a:solidFill>
                  <a:srgbClr val="ffffcc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3</a:t>
            </a:r>
            <a:r>
              <a:rPr b="1" lang="ru-RU" sz="3200" spc="-1" strike="noStrike">
                <a:solidFill>
                  <a:srgbClr val="ffffcc"/>
                </a:solidFill>
                <a:latin typeface="Garamond"/>
              </a:rPr>
              <a:t> – СН – С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2</a:t>
            </a:r>
            <a:r>
              <a:rPr b="1" lang="ru-RU" sz="3200" spc="-1" strike="noStrike">
                <a:solidFill>
                  <a:srgbClr val="ffffcc"/>
                </a:solidFill>
                <a:latin typeface="Garamond"/>
              </a:rPr>
              <a:t> – С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3</a:t>
            </a:r>
            <a:r>
              <a:rPr b="1" lang="ru-RU" sz="2400" spc="-1" strike="noStrike">
                <a:solidFill>
                  <a:srgbClr val="ffffcc"/>
                </a:solidFill>
                <a:latin typeface="Garamond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лево, т.к.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дикал расположен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лиже к правому краю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1" name="AutoShape 4"/>
          <p:cNvSpPr/>
          <p:nvPr/>
        </p:nvSpPr>
        <p:spPr>
          <a:xfrm>
            <a:off x="7093080" y="189000"/>
            <a:ext cx="1834920" cy="963360"/>
          </a:xfrm>
          <a:prstGeom prst="upArrowCallout">
            <a:avLst>
              <a:gd name="adj1" fmla="val 47622"/>
              <a:gd name="adj2" fmla="val 47618"/>
              <a:gd name="adj3" fmla="val 16667"/>
              <a:gd name="adj4" fmla="val 66660"/>
            </a:avLst>
          </a:prstGeom>
          <a:solidFill>
            <a:srgbClr val="00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f5e"/>
                </a:solidFill>
                <a:latin typeface="Arial"/>
              </a:rPr>
              <a:t>Верн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f5e"/>
                </a:solidFill>
                <a:latin typeface="Arial"/>
              </a:rPr>
              <a:t>к объясн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5"/>
                </a:solidFill>
                <a:latin typeface="Tahoma"/>
              </a:rPr>
              <a:t>Изомерия положения кратной связ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атной связью называю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войную связь    – С = С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ойную связь   – С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  <a:ea typeface="Arial"/>
              </a:rPr>
              <a:t>≡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 –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ff"/>
                </a:solidFill>
                <a:latin typeface="Tahoma"/>
              </a:rPr>
              <a:t>Рассмотрим изомерию полож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ff"/>
                </a:solidFill>
                <a:latin typeface="Tahoma"/>
              </a:rPr>
              <a:t>кратной связи на</a:t>
            </a:r>
            <a:r>
              <a:rPr b="0" lang="en-US" sz="3600" spc="-1" strike="noStrike">
                <a:solidFill>
                  <a:srgbClr val="00cc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ccff"/>
                </a:solidFill>
                <a:latin typeface="Tahoma"/>
              </a:rPr>
              <a:t>примере пентена</a:t>
            </a:r>
            <a:r>
              <a:rPr b="1" lang="ru-RU" sz="3600" spc="-1" strike="noStrike">
                <a:solidFill>
                  <a:srgbClr val="00ccff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ff"/>
                </a:solidFill>
                <a:latin typeface="Tahoma"/>
              </a:rPr>
              <a:t>С</a:t>
            </a: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5</a:t>
            </a:r>
            <a:r>
              <a:rPr b="1" lang="ru-RU" sz="3600" spc="-1" strike="noStrike">
                <a:solidFill>
                  <a:srgbClr val="00ccff"/>
                </a:solidFill>
                <a:latin typeface="Tahoma"/>
              </a:rPr>
              <a:t>Н</a:t>
            </a: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5"/>
                </a:solidFill>
                <a:latin typeface="Tahoma"/>
              </a:rPr>
              <a:t>Напишем структурную формулу простейшего линейного изомера  С</a:t>
            </a:r>
            <a:r>
              <a:rPr b="0" lang="ru-RU" sz="1600" spc="-1" strike="noStrike">
                <a:solidFill>
                  <a:srgbClr val="ffffb5"/>
                </a:solidFill>
                <a:latin typeface="Tahoma"/>
              </a:rPr>
              <a:t>5</a:t>
            </a:r>
            <a:r>
              <a:rPr b="0" lang="ru-RU" sz="2800" spc="-1" strike="noStrike">
                <a:solidFill>
                  <a:srgbClr val="ffffb5"/>
                </a:solidFill>
                <a:latin typeface="Tahoma"/>
              </a:rPr>
              <a:t>Н</a:t>
            </a:r>
            <a:r>
              <a:rPr b="0" lang="ru-RU" sz="1600" spc="-1" strike="noStrike">
                <a:solidFill>
                  <a:srgbClr val="ffffb5"/>
                </a:solidFill>
                <a:latin typeface="Tahoma"/>
              </a:rPr>
              <a:t>10</a:t>
            </a:r>
            <a:r>
              <a:rPr b="0" lang="ru-RU" sz="2800" spc="-1" strike="noStrike">
                <a:solidFill>
                  <a:srgbClr val="ffffb5"/>
                </a:solidFill>
                <a:latin typeface="Tahoma"/>
              </a:rPr>
              <a:t>,  у которого двойная связь расположена возле первого атома углерода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537840" y="2204640"/>
            <a:ext cx="86058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этого расположим все атомы углерода в одну цепочку, после первого атома углерода расположим двойную связь,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 = С – С – С – 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перь расставим атомы водород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= СН – 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Итак, мы написали формулу первого изомера С</a:t>
            </a:r>
            <a:r>
              <a:rPr b="1" lang="ru-RU" sz="1400" spc="-1" strike="noStrike">
                <a:solidFill>
                  <a:srgbClr val="00ccff"/>
                </a:solidFill>
                <a:latin typeface="Tahoma"/>
              </a:rPr>
              <a:t>5</a:t>
            </a: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Н</a:t>
            </a:r>
            <a:r>
              <a:rPr b="1" lang="ru-RU" sz="1400" spc="-1" strike="noStrike">
                <a:solidFill>
                  <a:srgbClr val="00ccff"/>
                </a:solidFill>
                <a:latin typeface="Tahoma"/>
              </a:rPr>
              <a:t>10</a:t>
            </a: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ccff"/>
                </a:solidFill>
                <a:latin typeface="Tahoma"/>
              </a:rPr>
              <a:t>пентена–1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642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b5"/>
                </a:solidFill>
                <a:latin typeface="Tahoma"/>
              </a:rPr>
              <a:t>Само название этого вида изомер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5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b5"/>
                </a:solidFill>
                <a:latin typeface="Tahoma"/>
              </a:rPr>
              <a:t>предполагает, что положен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5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b5"/>
                </a:solidFill>
                <a:latin typeface="Tahoma"/>
              </a:rPr>
              <a:t>двойной связи должно менять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местим двойную связь после второго атома углерод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– СН = СН – 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Этот изомер называетс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пентен –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0" name="Oval 3"/>
          <p:cNvSpPr/>
          <p:nvPr/>
        </p:nvSpPr>
        <p:spPr>
          <a:xfrm rot="493200">
            <a:off x="302760" y="5097240"/>
            <a:ext cx="3979800" cy="1368360"/>
          </a:xfrm>
          <a:prstGeom prst="ellipse">
            <a:avLst/>
          </a:prstGeom>
          <a:solidFill>
            <a:srgbClr val="2b5481"/>
          </a:soli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Arial"/>
              </a:rPr>
              <a:t>Подумайт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Arial"/>
              </a:rPr>
              <a:t>существуют ли друг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Arial"/>
              </a:rPr>
              <a:t>изомеры этого вид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5"/>
                </a:solidFill>
                <a:latin typeface="Tahoma"/>
              </a:rPr>
              <a:t>Итак, мы составили формулы </a:t>
            </a:r>
            <a:br>
              <a:rPr sz="4000"/>
            </a:br>
            <a:r>
              <a:rPr b="0" lang="ru-RU" sz="4000" spc="-1" strike="noStrike">
                <a:solidFill>
                  <a:srgbClr val="ffffb5"/>
                </a:solidFill>
                <a:latin typeface="Tahoma"/>
              </a:rPr>
              <a:t>двух изомеров пентена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нтен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= СН – 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нтен –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– СН = СН – 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– 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4" name="AutoShape 4"/>
          <p:cNvSpPr/>
          <p:nvPr/>
        </p:nvSpPr>
        <p:spPr>
          <a:xfrm>
            <a:off x="250920" y="5589720"/>
            <a:ext cx="2160360" cy="968400"/>
          </a:xfrm>
          <a:prstGeom prst="flowChartDelay">
            <a:avLst/>
          </a:prstGeom>
          <a:gradFill rotWithShape="0">
            <a:gsLst>
              <a:gs pos="0">
                <a:srgbClr val="2b5481"/>
              </a:gs>
              <a:gs pos="100000">
                <a:srgbClr val="1b355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fff"/>
                </a:solidFill>
                <a:latin typeface="Arial"/>
              </a:rPr>
              <a:t>Другие ви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fff"/>
                </a:solidFill>
                <a:latin typeface="Arial"/>
              </a:rPr>
              <a:t>изоме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AutoShape 5"/>
          <p:cNvSpPr/>
          <p:nvPr/>
        </p:nvSpPr>
        <p:spPr>
          <a:xfrm>
            <a:off x="6443640" y="5373720"/>
            <a:ext cx="2700360" cy="1484280"/>
          </a:xfrm>
          <a:prstGeom prst="irregularSeal1">
            <a:avLst/>
          </a:prstGeom>
          <a:gradFill rotWithShape="0">
            <a:gsLst>
              <a:gs pos="0">
                <a:srgbClr val="2b5481"/>
              </a:gs>
              <a:gs pos="100000">
                <a:srgbClr val="182f4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fff"/>
                </a:solidFill>
                <a:latin typeface="Arial"/>
              </a:rPr>
              <a:t>Конец 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29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5"/>
                </a:solidFill>
                <a:latin typeface="Tahoma"/>
              </a:rPr>
              <a:t>Нет. </a:t>
            </a:r>
            <a:br>
              <a:rPr sz="4400"/>
            </a:br>
            <a:r>
              <a:rPr b="0" lang="ru-RU" sz="4400" spc="-1" strike="noStrike">
                <a:solidFill>
                  <a:srgbClr val="ffffb5"/>
                </a:solidFill>
                <a:latin typeface="Tahoma"/>
              </a:rPr>
              <a:t>Других </a:t>
            </a:r>
            <a:r>
              <a:rPr b="1" i="1" lang="ru-RU" sz="4400" spc="-1" strike="noStrike">
                <a:solidFill>
                  <a:srgbClr val="ffffb5"/>
                </a:solidFill>
                <a:latin typeface="Tahoma"/>
              </a:rPr>
              <a:t>изомеров положения двойной связи</a:t>
            </a:r>
            <a:r>
              <a:rPr b="0" lang="ru-RU" sz="4400" spc="-1" strike="noStrike">
                <a:solidFill>
                  <a:srgbClr val="ffffb5"/>
                </a:solidFill>
                <a:latin typeface="Tahoma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ffffb5"/>
                </a:solidFill>
                <a:latin typeface="Tahoma"/>
              </a:rPr>
              <a:t>для пентена не существует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8" name="Oval 3"/>
          <p:cNvSpPr/>
          <p:nvPr/>
        </p:nvSpPr>
        <p:spPr>
          <a:xfrm>
            <a:off x="2050920" y="4149720"/>
            <a:ext cx="6481800" cy="1706400"/>
          </a:xfrm>
          <a:prstGeom prst="ellipse">
            <a:avLst/>
          </a:prstGeom>
          <a:solidFill>
            <a:srgbClr val="2b5481"/>
          </a:soli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Arial"/>
              </a:rPr>
              <a:t>А как же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Arial"/>
              </a:rPr>
              <a:t>пентен –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Arial"/>
              </a:rPr>
              <a:t>и пентен – 4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b5"/>
                </a:solidFill>
                <a:latin typeface="Tahoma"/>
              </a:rPr>
              <a:t>Вспомните правила номенклатуры и </a:t>
            </a:r>
            <a:r>
              <a:rPr b="0" i="1" lang="ru-RU" sz="3600" spc="-1" strike="noStrike">
                <a:solidFill>
                  <a:srgbClr val="ffffb5"/>
                </a:solidFill>
                <a:latin typeface="Tahoma"/>
              </a:rPr>
              <a:t>порядок нумерации: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893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оответствии с правилами систематической номенклатуры нумерация начинается с того края, где ближе находится кратная связь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1200" spc="-1" strike="noStrike">
                <a:solidFill>
                  <a:srgbClr val="ffffff"/>
                </a:solidFill>
                <a:latin typeface="Tahoma"/>
              </a:rPr>
              <a:t>5                              4                             3                             2                        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– СН = СН – 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3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Этот изомер называетс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пентен –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ru-RU" sz="1200" spc="-1" strike="noStrike">
                <a:solidFill>
                  <a:srgbClr val="ffffff"/>
                </a:solidFill>
                <a:latin typeface="Tahoma"/>
              </a:rPr>
              <a:t>5                             4                            3                            2                          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– СН = 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3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Этот изомер называетс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пентен –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2" name="AutoShape 4"/>
          <p:cNvSpPr/>
          <p:nvPr/>
        </p:nvSpPr>
        <p:spPr>
          <a:xfrm>
            <a:off x="395280" y="5661000"/>
            <a:ext cx="1835280" cy="963720"/>
          </a:xfrm>
          <a:prstGeom prst="upArrowCallout">
            <a:avLst>
              <a:gd name="adj1" fmla="val 47614"/>
              <a:gd name="adj2" fmla="val 47609"/>
              <a:gd name="adj3" fmla="val 16667"/>
              <a:gd name="adj4" fmla="val 66660"/>
            </a:avLst>
          </a:prstGeom>
          <a:solidFill>
            <a:srgbClr val="2b5481"/>
          </a:soli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b5"/>
                </a:solidFill>
                <a:latin typeface="Arial"/>
              </a:rPr>
              <a:t>Верн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b5"/>
                </a:solidFill>
                <a:latin typeface="Arial"/>
              </a:rPr>
              <a:t>к объясн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Изомерия положения функциональной групп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96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Функциональная группа – это атом или группа атомов, которая определяет основные свойства соединения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 функциональным группам относятся гидроксогруппа  –ОН,  сульфогруппа  –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, карбоксильная  –СООН,  нитрогруппа  –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и другие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 функциональным группам можно так же отнести галогены: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,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r,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,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c85e"/>
                </a:solidFill>
                <a:latin typeface="Verdana"/>
              </a:rPr>
              <a:t>Рассмотрим изомерию положения функциональной группы на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ec85e"/>
                </a:solidFill>
                <a:latin typeface="Verdana"/>
              </a:rPr>
              <a:t>примере   бромпентана</a:t>
            </a:r>
            <a:r>
              <a:rPr b="1" lang="ru-RU" sz="2800" spc="-1" strike="noStrike">
                <a:solidFill>
                  <a:srgbClr val="eec85e"/>
                </a:solidFill>
                <a:latin typeface="Verdana"/>
              </a:rPr>
              <a:t>  С</a:t>
            </a:r>
            <a:r>
              <a:rPr b="1" lang="ru-RU" sz="1800" spc="-1" strike="noStrike">
                <a:solidFill>
                  <a:srgbClr val="eec85e"/>
                </a:solidFill>
                <a:latin typeface="Verdana"/>
              </a:rPr>
              <a:t>5</a:t>
            </a:r>
            <a:r>
              <a:rPr b="1" lang="ru-RU" sz="2800" spc="-1" strike="noStrike">
                <a:solidFill>
                  <a:srgbClr val="eec85e"/>
                </a:solidFill>
                <a:latin typeface="Verdana"/>
              </a:rPr>
              <a:t>Н</a:t>
            </a:r>
            <a:r>
              <a:rPr b="1" lang="ru-RU" sz="1800" spc="-1" strike="noStrike">
                <a:solidFill>
                  <a:srgbClr val="eec85e"/>
                </a:solidFill>
                <a:latin typeface="Verdana"/>
              </a:rPr>
              <a:t>11</a:t>
            </a:r>
            <a:r>
              <a:rPr b="1" lang="en-US" sz="2800" spc="-1" strike="noStrike">
                <a:solidFill>
                  <a:srgbClr val="eec85e"/>
                </a:solidFill>
                <a:latin typeface="Verdana"/>
              </a:rPr>
              <a:t>B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WordArt 4"/>
          <p:cNvSpPr txBox="1"/>
          <p:nvPr/>
        </p:nvSpPr>
        <p:spPr>
          <a:xfrm rot="21455400">
            <a:off x="1187280" y="0"/>
            <a:ext cx="741708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64c4"/>
                    </a:gs>
                    <a:gs pos="100000">
                      <a:srgbClr val="800080"/>
                    </a:gs>
                  </a:gsLst>
                  <a:lin ang="5544000"/>
                </a:gradFill>
                <a:effectLst>
                  <a:outerShdw dist="17819" dir="2700000" blurRad="0" rotWithShape="0">
                    <a:srgbClr val="3d3d3d"/>
                  </a:outerShdw>
                </a:effectLst>
                <a:latin typeface="Impact"/>
              </a:rPr>
              <a:t>виды  изомер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64c4"/>
                  </a:gs>
                  <a:gs pos="100000">
                    <a:srgbClr val="800080"/>
                  </a:gs>
                </a:gsLst>
                <a:lin ang="5544000"/>
              </a:gradFill>
              <a:effectLst>
                <a:outerShdw dist="17819" dir="2700000" blurRad="0" rotWithShape="0">
                  <a:srgbClr val="3d3d3d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075" name="Organization Chart 8"/>
          <p:cNvGrpSpPr/>
          <p:nvPr/>
        </p:nvGrpSpPr>
        <p:grpSpPr>
          <a:xfrm>
            <a:off x="467280" y="1123920"/>
            <a:ext cx="8160120" cy="5470200"/>
            <a:chOff x="467280" y="1123920"/>
            <a:chExt cx="8160120" cy="5470200"/>
          </a:xfrm>
        </p:grpSpPr>
        <p:cxnSp>
          <p:nvCxnSpPr>
            <p:cNvPr id="1076" name="_s1028"/>
            <p:cNvCxnSpPr>
              <a:stCxn id="1077" idx="1"/>
              <a:endCxn id="1078" idx="2"/>
            </p:cNvCxnSpPr>
            <p:nvPr/>
          </p:nvCxnSpPr>
          <p:spPr>
            <a:xfrm rot="10800000">
              <a:off x="5279040" y="2130120"/>
              <a:ext cx="372240" cy="1442160"/>
            </a:xfrm>
            <a:prstGeom prst="bentConnector2">
              <a:avLst/>
            </a:prstGeom>
            <a:ln w="28440">
              <a:solidFill>
                <a:srgbClr val="3d3d3d"/>
              </a:solidFill>
              <a:miter/>
            </a:ln>
          </p:spPr>
        </p:cxnSp>
        <p:cxnSp>
          <p:nvCxnSpPr>
            <p:cNvPr id="1079" name="_s1029"/>
            <p:cNvCxnSpPr>
              <a:stCxn id="1080" idx="0"/>
              <a:endCxn id="1081" idx="2"/>
            </p:cNvCxnSpPr>
            <p:nvPr/>
          </p:nvCxnSpPr>
          <p:spPr>
            <a:xfrm flipV="1" rot="16200000">
              <a:off x="5921280" y="4081680"/>
              <a:ext cx="433440" cy="1717560"/>
            </a:xfrm>
            <a:prstGeom prst="bentConnector3">
              <a:avLst>
                <a:gd name="adj1" fmla="val 26433"/>
              </a:avLst>
            </a:prstGeom>
            <a:ln w="28440">
              <a:solidFill>
                <a:srgbClr val="3d3d3d"/>
              </a:solidFill>
              <a:miter/>
            </a:ln>
          </p:spPr>
        </p:cxnSp>
        <p:cxnSp>
          <p:nvCxnSpPr>
            <p:cNvPr id="1082" name="_s1030"/>
            <p:cNvCxnSpPr>
              <a:stCxn id="1083" idx="0"/>
              <a:endCxn id="1081" idx="2"/>
            </p:cNvCxnSpPr>
            <p:nvPr/>
          </p:nvCxnSpPr>
          <p:spPr>
            <a:xfrm flipH="1" flipV="1" rot="5400000">
              <a:off x="4229640" y="4106880"/>
              <a:ext cx="433440" cy="1667160"/>
            </a:xfrm>
            <a:prstGeom prst="bentConnector3">
              <a:avLst>
                <a:gd name="adj1" fmla="val 26433"/>
              </a:avLst>
            </a:prstGeom>
            <a:ln w="28440">
              <a:solidFill>
                <a:srgbClr val="3d3d3d"/>
              </a:solidFill>
              <a:miter/>
            </a:ln>
          </p:spPr>
        </p:cxnSp>
        <p:cxnSp>
          <p:nvCxnSpPr>
            <p:cNvPr id="1084" name="_s1031"/>
            <p:cNvCxnSpPr>
              <a:stCxn id="1085" idx="3"/>
              <a:endCxn id="1078" idx="2"/>
            </p:cNvCxnSpPr>
            <p:nvPr/>
          </p:nvCxnSpPr>
          <p:spPr>
            <a:xfrm flipV="1">
              <a:off x="4956120" y="2130480"/>
              <a:ext cx="324000" cy="1442160"/>
            </a:xfrm>
            <a:prstGeom prst="bentConnector2">
              <a:avLst/>
            </a:prstGeom>
            <a:ln w="28440">
              <a:solidFill>
                <a:srgbClr val="3d3d3d"/>
              </a:solidFill>
              <a:miter/>
            </a:ln>
          </p:spPr>
        </p:cxnSp>
        <p:cxnSp>
          <p:nvCxnSpPr>
            <p:cNvPr id="1086" name="_s1032"/>
            <p:cNvCxnSpPr>
              <a:stCxn id="1087" idx="1"/>
              <a:endCxn id="1078" idx="2"/>
            </p:cNvCxnSpPr>
            <p:nvPr/>
          </p:nvCxnSpPr>
          <p:spPr>
            <a:xfrm rot="10800000">
              <a:off x="5279040" y="2130840"/>
              <a:ext cx="372240" cy="576360"/>
            </a:xfrm>
            <a:prstGeom prst="bentConnector2">
              <a:avLst/>
            </a:prstGeom>
            <a:ln w="28440">
              <a:solidFill>
                <a:srgbClr val="3d3d3d"/>
              </a:solidFill>
              <a:miter/>
            </a:ln>
          </p:spPr>
        </p:cxnSp>
        <p:cxnSp>
          <p:nvCxnSpPr>
            <p:cNvPr id="1088" name="_s1033"/>
            <p:cNvCxnSpPr>
              <a:stCxn id="1089" idx="3"/>
              <a:endCxn id="1078" idx="2"/>
            </p:cNvCxnSpPr>
            <p:nvPr/>
          </p:nvCxnSpPr>
          <p:spPr>
            <a:xfrm flipV="1">
              <a:off x="4892040" y="2130840"/>
              <a:ext cx="387720" cy="576360"/>
            </a:xfrm>
            <a:prstGeom prst="bentConnector2">
              <a:avLst/>
            </a:prstGeom>
            <a:ln w="28440">
              <a:solidFill>
                <a:srgbClr val="3d3d3d"/>
              </a:solidFill>
              <a:miter/>
            </a:ln>
          </p:spPr>
        </p:cxnSp>
        <p:cxnSp>
          <p:nvCxnSpPr>
            <p:cNvPr id="1090" name="_s1034"/>
            <p:cNvCxnSpPr>
              <a:stCxn id="1091" idx="1"/>
              <a:endCxn id="1092" idx="2"/>
            </p:cNvCxnSpPr>
            <p:nvPr/>
          </p:nvCxnSpPr>
          <p:spPr>
            <a:xfrm rot="10800000">
              <a:off x="1559520" y="1784520"/>
              <a:ext cx="2003400" cy="4559760"/>
            </a:xfrm>
            <a:prstGeom prst="bentConnector2">
              <a:avLst/>
            </a:prstGeom>
            <a:ln w="28440">
              <a:solidFill>
                <a:srgbClr val="3d3d3d"/>
              </a:solidFill>
              <a:miter/>
            </a:ln>
          </p:spPr>
        </p:cxnSp>
        <p:cxnSp>
          <p:nvCxnSpPr>
            <p:cNvPr id="1093" name="_s1035"/>
            <p:cNvCxnSpPr>
              <a:stCxn id="1081" idx="1"/>
              <a:endCxn id="1092" idx="2"/>
            </p:cNvCxnSpPr>
            <p:nvPr/>
          </p:nvCxnSpPr>
          <p:spPr>
            <a:xfrm rot="10800000">
              <a:off x="1559520" y="1784520"/>
              <a:ext cx="2003400" cy="2689560"/>
            </a:xfrm>
            <a:prstGeom prst="bentConnector2">
              <a:avLst/>
            </a:prstGeom>
            <a:ln w="28440">
              <a:solidFill>
                <a:srgbClr val="3d3d3d"/>
              </a:solidFill>
              <a:miter/>
            </a:ln>
          </p:spPr>
        </p:cxnSp>
        <p:cxnSp>
          <p:nvCxnSpPr>
            <p:cNvPr id="1094" name="_s1036"/>
            <p:cNvCxnSpPr>
              <a:stCxn id="1078" idx="1"/>
              <a:endCxn id="1092" idx="2"/>
            </p:cNvCxnSpPr>
            <p:nvPr/>
          </p:nvCxnSpPr>
          <p:spPr>
            <a:xfrm rot="10800000">
              <a:off x="1559520" y="1784520"/>
              <a:ext cx="2003400" cy="95400"/>
            </a:xfrm>
            <a:prstGeom prst="bentConnector2">
              <a:avLst/>
            </a:prstGeom>
            <a:ln w="28440">
              <a:solidFill>
                <a:srgbClr val="3d3d3d"/>
              </a:solidFill>
              <a:miter/>
            </a:ln>
          </p:spPr>
        </p:cxnSp>
        <p:sp>
          <p:nvSpPr>
            <p:cNvPr id="1092" name="_s1037"/>
            <p:cNvSpPr/>
            <p:nvPr/>
          </p:nvSpPr>
          <p:spPr>
            <a:xfrm>
              <a:off x="467280" y="1123920"/>
              <a:ext cx="2184840" cy="660960"/>
            </a:xfrm>
            <a:prstGeom prst="roundRect">
              <a:avLst>
                <a:gd name="adj" fmla="val 16667"/>
              </a:avLst>
            </a:prstGeom>
            <a:solidFill>
              <a:srgbClr val="c5b1f7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Arial"/>
                </a:rPr>
                <a:t>изомер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_s1038"/>
            <p:cNvSpPr/>
            <p:nvPr/>
          </p:nvSpPr>
          <p:spPr>
            <a:xfrm>
              <a:off x="3562560" y="1629360"/>
              <a:ext cx="3431520" cy="501480"/>
            </a:xfrm>
            <a:prstGeom prst="roundRect">
              <a:avLst>
                <a:gd name="adj" fmla="val 16667"/>
              </a:avLst>
            </a:prstGeom>
            <a:solidFill>
              <a:srgbClr val="c5b1f7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Arial"/>
                </a:rPr>
                <a:t>структурн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_s1039"/>
            <p:cNvSpPr/>
            <p:nvPr/>
          </p:nvSpPr>
          <p:spPr>
            <a:xfrm>
              <a:off x="3562560" y="4221000"/>
              <a:ext cx="3431520" cy="503280"/>
            </a:xfrm>
            <a:prstGeom prst="roundRect">
              <a:avLst>
                <a:gd name="adj" fmla="val 16667"/>
              </a:avLst>
            </a:prstGeom>
            <a:solidFill>
              <a:srgbClr val="c5b1f7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Arial"/>
                </a:rPr>
                <a:t>пространственн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_s1040">
              <a:hlinkClick r:id="rId2" action="ppaction://hlinksldjump"/>
            </p:cNvPr>
            <p:cNvSpPr/>
            <p:nvPr/>
          </p:nvSpPr>
          <p:spPr>
            <a:xfrm>
              <a:off x="3562560" y="6093360"/>
              <a:ext cx="3433680" cy="500760"/>
            </a:xfrm>
            <a:prstGeom prst="roundRect">
              <a:avLst>
                <a:gd name="adj" fmla="val 16667"/>
              </a:avLst>
            </a:prstGeom>
            <a:solidFill>
              <a:srgbClr val="c5b1f7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Arial"/>
                </a:rPr>
                <a:t>динамическ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_s1041">
              <a:hlinkClick r:id="rId3" action="ppaction://hlinksldjump"/>
            </p:cNvPr>
            <p:cNvSpPr/>
            <p:nvPr/>
          </p:nvSpPr>
          <p:spPr>
            <a:xfrm>
              <a:off x="1905840" y="2419560"/>
              <a:ext cx="2986560" cy="576000"/>
            </a:xfrm>
            <a:prstGeom prst="roundRect">
              <a:avLst>
                <a:gd name="adj" fmla="val 16667"/>
              </a:avLst>
            </a:prstGeom>
            <a:solidFill>
              <a:srgbClr val="9a9ab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5280" rIns="3528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Углеродного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скелет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_s1042">
              <a:hlinkClick r:id="rId4" action="ppaction://hlinksldjump"/>
            </p:cNvPr>
            <p:cNvSpPr/>
            <p:nvPr/>
          </p:nvSpPr>
          <p:spPr>
            <a:xfrm>
              <a:off x="5651280" y="2419560"/>
              <a:ext cx="2973600" cy="576000"/>
            </a:xfrm>
            <a:prstGeom prst="roundRect">
              <a:avLst>
                <a:gd name="adj" fmla="val 16667"/>
              </a:avLst>
            </a:prstGeom>
            <a:solidFill>
              <a:srgbClr val="9a9ab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5280" rIns="3528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оложения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ратной связ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_s1043">
              <a:hlinkClick r:id="rId5" action="ppaction://hlinksldjump"/>
            </p:cNvPr>
            <p:cNvSpPr/>
            <p:nvPr/>
          </p:nvSpPr>
          <p:spPr>
            <a:xfrm>
              <a:off x="1979280" y="3282840"/>
              <a:ext cx="2976480" cy="574200"/>
            </a:xfrm>
            <a:prstGeom prst="roundRect">
              <a:avLst>
                <a:gd name="adj" fmla="val 16667"/>
              </a:avLst>
            </a:prstGeom>
            <a:solidFill>
              <a:srgbClr val="9a9ab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5280" rIns="3528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оложения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ункциональной групп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_s1044">
              <a:hlinkClick r:id="rId6" action="ppaction://hlinksldjump"/>
            </p:cNvPr>
            <p:cNvSpPr/>
            <p:nvPr/>
          </p:nvSpPr>
          <p:spPr>
            <a:xfrm>
              <a:off x="2124000" y="5157360"/>
              <a:ext cx="2976120" cy="572040"/>
            </a:xfrm>
            <a:prstGeom prst="roundRect">
              <a:avLst>
                <a:gd name="adj" fmla="val 16667"/>
              </a:avLst>
            </a:prstGeom>
            <a:solidFill>
              <a:srgbClr val="9a9ab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5280" rIns="3528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геометрическа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_s1045">
              <a:hlinkClick r:id="rId7" action="ppaction://hlinksldjump"/>
            </p:cNvPr>
            <p:cNvSpPr/>
            <p:nvPr/>
          </p:nvSpPr>
          <p:spPr>
            <a:xfrm>
              <a:off x="5507280" y="5157360"/>
              <a:ext cx="2979000" cy="572040"/>
            </a:xfrm>
            <a:prstGeom prst="roundRect">
              <a:avLst>
                <a:gd name="adj" fmla="val 16667"/>
              </a:avLst>
            </a:prstGeom>
            <a:solidFill>
              <a:srgbClr val="9a9ab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5280" rIns="3528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птическа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_s1046">
              <a:hlinkClick r:id="rId8" action="ppaction://hlinksldjump"/>
            </p:cNvPr>
            <p:cNvSpPr/>
            <p:nvPr/>
          </p:nvSpPr>
          <p:spPr>
            <a:xfrm>
              <a:off x="5651280" y="3282840"/>
              <a:ext cx="2976120" cy="574200"/>
            </a:xfrm>
            <a:prstGeom prst="roundRect">
              <a:avLst>
                <a:gd name="adj" fmla="val 16667"/>
              </a:avLst>
            </a:prstGeom>
            <a:solidFill>
              <a:srgbClr val="9a9ab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7440" rIns="37440" tIns="18720" bIns="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ежклассова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Напишем формулу простейшего линейного изомера  С</a:t>
            </a: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Н</a:t>
            </a: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11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В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,  у которого атом брома расположен возле первого атома углерода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358560" y="1699920"/>
            <a:ext cx="8785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Для этого расположим все атомы углерода в одну цепочку, к первому атому углерода присоединим атом брома, вспомнив при этом, что валентность брома равна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         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С – С – С – С – С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                                 </a:t>
            </a: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I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B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еперь расставим атомы водорода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СН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В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Итак, мы написали формулу первого изомера С</a:t>
            </a:r>
            <a:r>
              <a:rPr b="1" lang="ru-RU" sz="1200" spc="-1" strike="noStrike">
                <a:solidFill>
                  <a:srgbClr val="eec85e"/>
                </a:solidFill>
                <a:latin typeface="Verdana"/>
              </a:rPr>
              <a:t>5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Н</a:t>
            </a:r>
            <a:r>
              <a:rPr b="1" lang="ru-RU" sz="1200" spc="-1" strike="noStrike">
                <a:solidFill>
                  <a:srgbClr val="eec85e"/>
                </a:solidFill>
                <a:latin typeface="Verdana"/>
              </a:rPr>
              <a:t>11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В</a:t>
            </a:r>
            <a:r>
              <a:rPr b="1" lang="en-US" sz="2000" spc="-1" strike="noStrike">
                <a:solidFill>
                  <a:srgbClr val="eec85e"/>
                </a:solidFill>
                <a:latin typeface="Verdana"/>
              </a:rPr>
              <a:t>r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 –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ec85e"/>
                </a:solidFill>
                <a:latin typeface="Verdana"/>
              </a:rPr>
              <a:t>1–бромпентана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Само название этого вида изомерии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предполагает, что положение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функциональной группы должно меняться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азместим атом брома возле второго атома углерода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                                  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Этот изомер называется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r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                  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2 – бромпентан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ы легко догадаетесь как будет выглядеть третий изомер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Этот изомер называется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r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3 – бромпентан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1" name="Oval 4"/>
          <p:cNvSpPr/>
          <p:nvPr/>
        </p:nvSpPr>
        <p:spPr>
          <a:xfrm rot="493200">
            <a:off x="0" y="5589360"/>
            <a:ext cx="3780000" cy="1123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умайт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ществуют ли друг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омеры этого вид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Итак, мы получили формулы 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трех изомеров бромпентана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1–бромпентан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2–бромпентан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3–бромпентан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5" name="AutoShape 4"/>
          <p:cNvSpPr/>
          <p:nvPr/>
        </p:nvSpPr>
        <p:spPr>
          <a:xfrm>
            <a:off x="250920" y="5589720"/>
            <a:ext cx="2160360" cy="968400"/>
          </a:xfrm>
          <a:prstGeom prst="flowChartDelay">
            <a:avLst/>
          </a:prstGeom>
          <a:gradFill rotWithShape="0">
            <a:gsLst>
              <a:gs pos="0">
                <a:srgbClr val="006666"/>
              </a:gs>
              <a:gs pos="100000">
                <a:srgbClr val="00444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Другие ви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изоме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AutoShape 5"/>
          <p:cNvSpPr/>
          <p:nvPr/>
        </p:nvSpPr>
        <p:spPr>
          <a:xfrm>
            <a:off x="6443640" y="5373720"/>
            <a:ext cx="2700360" cy="1484280"/>
          </a:xfrm>
          <a:prstGeom prst="irregularSeal1">
            <a:avLst/>
          </a:prstGeom>
          <a:gradFill rotWithShape="0">
            <a:gsLst>
              <a:gs pos="0">
                <a:srgbClr val="006666"/>
              </a:gs>
              <a:gs pos="100000">
                <a:srgbClr val="00444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Конец 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293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Нет.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Других </a:t>
            </a:r>
            <a:r>
              <a:rPr b="1" i="1" lang="ru-RU" sz="4000" spc="-1" strike="noStrike">
                <a:solidFill>
                  <a:srgbClr val="ffffcc"/>
                </a:solidFill>
                <a:latin typeface="Arial"/>
              </a:rPr>
              <a:t>изомеров положения функциональной группы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для бромпентана не существует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9" name="Oval 4"/>
          <p:cNvSpPr/>
          <p:nvPr/>
        </p:nvSpPr>
        <p:spPr>
          <a:xfrm>
            <a:off x="2050920" y="4149720"/>
            <a:ext cx="6481800" cy="1706400"/>
          </a:xfrm>
          <a:prstGeom prst="ellipse">
            <a:avLst/>
          </a:prstGeom>
          <a:solidFill>
            <a:srgbClr val="006666"/>
          </a:soli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как же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 – бромпентан 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 – бромпентан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Вспомните правила номенклатуры и </a:t>
            </a:r>
            <a:r>
              <a:rPr b="0" i="1" lang="ru-RU" sz="3600" spc="-1" strike="noStrike">
                <a:solidFill>
                  <a:srgbClr val="ffffcc"/>
                </a:solidFill>
                <a:latin typeface="Arial"/>
              </a:rPr>
              <a:t>порядок нумерации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893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соответствии с правилами систематической номенклатуры нумерация начинается с того края, где ближе расположена функциональная группа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i="1" lang="ru-RU" sz="1000" spc="-1" strike="noStrike">
                <a:solidFill>
                  <a:srgbClr val="eaeaea"/>
                </a:solidFill>
                <a:latin typeface="Verdana"/>
              </a:rPr>
              <a:t>5                              4                             3                             2                         1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       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Этот изомер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                                         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называется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r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2–бромпентан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eec85e"/>
                </a:solidFill>
                <a:latin typeface="Verdana"/>
              </a:rPr>
              <a:t>     </a:t>
            </a:r>
            <a:r>
              <a:rPr b="0" i="1" lang="ru-RU" sz="1000" spc="-1" strike="noStrike">
                <a:solidFill>
                  <a:srgbClr val="ffffff"/>
                </a:solidFill>
                <a:latin typeface="Verdana"/>
              </a:rPr>
              <a:t>5                              4</a:t>
            </a:r>
            <a:r>
              <a:rPr b="0" i="1" lang="ru-RU" sz="1000" spc="-1" strike="noStrike">
                <a:solidFill>
                  <a:srgbClr val="eec85e"/>
                </a:solidFill>
                <a:latin typeface="Verdana"/>
              </a:rPr>
              <a:t>                            </a:t>
            </a:r>
            <a:r>
              <a:rPr b="0" i="1" lang="ru-RU" sz="1000" spc="-1" strike="noStrike">
                <a:solidFill>
                  <a:srgbClr val="ffffff"/>
                </a:solidFill>
                <a:latin typeface="Verdana"/>
              </a:rPr>
              <a:t>3                             2                             1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    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Этот изомер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называется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r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    1–бромпентан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3" name="AutoShape 4"/>
          <p:cNvSpPr/>
          <p:nvPr/>
        </p:nvSpPr>
        <p:spPr>
          <a:xfrm>
            <a:off x="395280" y="5661000"/>
            <a:ext cx="1835280" cy="963720"/>
          </a:xfrm>
          <a:prstGeom prst="upArrowCallout">
            <a:avLst>
              <a:gd name="adj1" fmla="val 47614"/>
              <a:gd name="adj2" fmla="val 47609"/>
              <a:gd name="adj3" fmla="val 16667"/>
              <a:gd name="adj4" fmla="val 66660"/>
            </a:avLst>
          </a:prstGeom>
          <a:solidFill>
            <a:srgbClr val="006666"/>
          </a:soli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c85e"/>
                </a:solidFill>
                <a:latin typeface="Arial"/>
              </a:rPr>
              <a:t>Верн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c85e"/>
                </a:solidFill>
                <a:latin typeface="Arial"/>
              </a:rPr>
              <a:t>к объясн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4d0f2"/>
                </a:solidFill>
                <a:latin typeface="Arial"/>
              </a:rPr>
              <a:t>Межклассовая изомерия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и изомеры относятся к разным классам органических соедин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тается просто запомнить какие классы соединений изомерны друг друг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Рассмотрим некоторые примеры межклассовой изомер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/>
          </p:nvPr>
        </p:nvSpPr>
        <p:spPr>
          <a:xfrm>
            <a:off x="179280" y="907920"/>
            <a:ext cx="8785440" cy="51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алкен                   циклоалка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= СН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бутен -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   I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циклобута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алкин                   ди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Н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≡ С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= СН – СН =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бутин – 1                                               бутадиен – 1,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Oval 4"/>
          <p:cNvSpPr/>
          <p:nvPr/>
        </p:nvSpPr>
        <p:spPr>
          <a:xfrm rot="645600">
            <a:off x="6516720" y="189000"/>
            <a:ext cx="2448000" cy="9144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9edff"/>
                </a:solidFill>
                <a:latin typeface="Arial"/>
              </a:rPr>
              <a:t>Углеводоро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/>
          </p:nvPr>
        </p:nvSpPr>
        <p:spPr>
          <a:xfrm>
            <a:off x="358560" y="549360"/>
            <a:ext cx="878508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спирт             простой эфи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ОН                   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О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этанол                                               диметиловый эфи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                  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кислота             сложный эфи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ООН             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О – О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ропановая кислота                                             метилацет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альдегид                 кет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НО                  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О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ропаналь                                                    пропанон – 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Oval 4"/>
          <p:cNvSpPr/>
          <p:nvPr/>
        </p:nvSpPr>
        <p:spPr>
          <a:xfrm rot="645600">
            <a:off x="6300720" y="183960"/>
            <a:ext cx="2841840" cy="9144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9edff"/>
                </a:solidFill>
                <a:latin typeface="Arial"/>
              </a:rPr>
              <a:t>Кислородсодержащ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9edff"/>
                </a:solidFill>
                <a:latin typeface="Arial"/>
              </a:rPr>
              <a:t>соедин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/>
          </p:nvPr>
        </p:nvSpPr>
        <p:spPr>
          <a:xfrm>
            <a:off x="324000" y="907560"/>
            <a:ext cx="85406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аминокислота             нитросоедин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СООН          СН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2 – аминоэтановая кислота                            нитроэта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Можно найти межклассовые изомеры и дл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других соединений. Подумайте сами, для каки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AutoShape 4"/>
          <p:cNvSpPr/>
          <p:nvPr/>
        </p:nvSpPr>
        <p:spPr>
          <a:xfrm>
            <a:off x="250920" y="5589720"/>
            <a:ext cx="2160360" cy="968400"/>
          </a:xfrm>
          <a:prstGeom prst="flowChartDelay">
            <a:avLst/>
          </a:prstGeom>
          <a:gradFill rotWithShape="0">
            <a:gsLst>
              <a:gs pos="0">
                <a:srgbClr val="5cbede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9edff"/>
                </a:solidFill>
                <a:latin typeface="Arial"/>
              </a:rPr>
              <a:t>Другие ви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9edff"/>
                </a:solidFill>
                <a:latin typeface="Arial"/>
              </a:rPr>
              <a:t>изоме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AutoShape 5"/>
          <p:cNvSpPr/>
          <p:nvPr/>
        </p:nvSpPr>
        <p:spPr>
          <a:xfrm>
            <a:off x="6443640" y="5373720"/>
            <a:ext cx="2700360" cy="1484280"/>
          </a:xfrm>
          <a:prstGeom prst="irregularSeal1">
            <a:avLst/>
          </a:prstGeom>
          <a:gradFill rotWithShape="0">
            <a:gsLst>
              <a:gs pos="0">
                <a:srgbClr val="5cbede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9edff"/>
                </a:solidFill>
                <a:latin typeface="Arial"/>
              </a:rPr>
              <a:t>Конец 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Oval 7"/>
          <p:cNvSpPr/>
          <p:nvPr/>
        </p:nvSpPr>
        <p:spPr>
          <a:xfrm rot="645600">
            <a:off x="6300720" y="183960"/>
            <a:ext cx="2841840" cy="9144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9edff"/>
                </a:solidFill>
                <a:latin typeface="Arial"/>
              </a:rPr>
              <a:t>Азотсодержащ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9edff"/>
                </a:solidFill>
                <a:latin typeface="Arial"/>
              </a:rPr>
              <a:t>соедин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птическая изомер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тическая изомерия характерна для многих природных соединений. Особенно большое значение она имеет для углеводов и бел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тические изомеры обладают одинаковыми химическими свойствами. Большинство их физических свойств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л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ип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цвет, запах и т.д.) совпадают. Отличается они лишь способностью отклонять на некоторый угол плоскость поляризации поляризованного света, а в твердом состоянии их кристаллы выглядят зеркальным отражением друг дру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1" name="Oval 4"/>
          <p:cNvSpPr/>
          <p:nvPr/>
        </p:nvSpPr>
        <p:spPr>
          <a:xfrm rot="21226800">
            <a:off x="5359320" y="5659200"/>
            <a:ext cx="3600360" cy="1054080"/>
          </a:xfrm>
          <a:prstGeom prst="ellipse">
            <a:avLst/>
          </a:prstGeom>
          <a:solidFill>
            <a:srgbClr val="c6c6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так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яризованный св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как он вращаетс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9cd39"/>
                </a:solidFill>
                <a:latin typeface="Arial"/>
              </a:rPr>
              <a:t>Динамическая изомерия (таутомерия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78920" y="1699920"/>
            <a:ext cx="8713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9e4ff"/>
                </a:solidFill>
                <a:latin typeface="Arial"/>
              </a:rPr>
              <a:t>Таутомерия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– достаточно распространенный вид изомерии в органической химии. Динамическая изомерия возможна в случае переноса подвижного атома водорода, при валентных превращениях, внутримолекулярных взаимодействиях и т.д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Для таутомеров характерно довольно легкое, иногда самопроизвольное, превращение друг в друг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b9e4ff"/>
                </a:solidFill>
                <a:latin typeface="Arial"/>
              </a:rPr>
              <a:t>Рассмотрим некоторые примеры таутомерии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своему строению оптические изомеры столько же похожи и столько же отличаются друг от друга, как правая и левая руки, которые являются зеркальным отображением друг дру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4" name="Oval 4"/>
          <p:cNvSpPr/>
          <p:nvPr/>
        </p:nvSpPr>
        <p:spPr>
          <a:xfrm>
            <a:off x="1692360" y="3933720"/>
            <a:ext cx="647640" cy="6476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Oval 5"/>
          <p:cNvSpPr/>
          <p:nvPr/>
        </p:nvSpPr>
        <p:spPr>
          <a:xfrm>
            <a:off x="1619280" y="2852640"/>
            <a:ext cx="792000" cy="720720"/>
          </a:xfrm>
          <a:prstGeom prst="ellipse">
            <a:avLst/>
          </a:prstGeom>
          <a:gradFill rotWithShape="0">
            <a:gsLst>
              <a:gs pos="0">
                <a:srgbClr val="bb99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Oval 6"/>
          <p:cNvSpPr/>
          <p:nvPr/>
        </p:nvSpPr>
        <p:spPr>
          <a:xfrm>
            <a:off x="755640" y="4221000"/>
            <a:ext cx="576360" cy="505080"/>
          </a:xfrm>
          <a:prstGeom prst="ellipse">
            <a:avLst/>
          </a:prstGeom>
          <a:gradFill rotWithShape="0">
            <a:gsLst>
              <a:gs pos="0">
                <a:srgbClr val="472f76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Oval 7"/>
          <p:cNvSpPr/>
          <p:nvPr/>
        </p:nvSpPr>
        <p:spPr>
          <a:xfrm>
            <a:off x="2700360" y="40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bb99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Line 9"/>
          <p:cNvSpPr/>
          <p:nvPr/>
        </p:nvSpPr>
        <p:spPr>
          <a:xfrm>
            <a:off x="1979640" y="3573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Line 11"/>
          <p:cNvSpPr/>
          <p:nvPr/>
        </p:nvSpPr>
        <p:spPr>
          <a:xfrm flipV="1">
            <a:off x="1332000" y="4365720"/>
            <a:ext cx="36036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Line 12"/>
          <p:cNvSpPr/>
          <p:nvPr/>
        </p:nvSpPr>
        <p:spPr>
          <a:xfrm>
            <a:off x="2342160" y="4263840"/>
            <a:ext cx="356040" cy="57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Line 13"/>
          <p:cNvSpPr/>
          <p:nvPr/>
        </p:nvSpPr>
        <p:spPr>
          <a:xfrm>
            <a:off x="2124000" y="458136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Oval 14"/>
          <p:cNvSpPr/>
          <p:nvPr/>
        </p:nvSpPr>
        <p:spPr>
          <a:xfrm>
            <a:off x="6948360" y="2781360"/>
            <a:ext cx="792360" cy="720720"/>
          </a:xfrm>
          <a:prstGeom prst="ellipse">
            <a:avLst/>
          </a:prstGeom>
          <a:gradFill rotWithShape="0">
            <a:gsLst>
              <a:gs pos="0">
                <a:srgbClr val="c5a7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Oval 15"/>
          <p:cNvSpPr/>
          <p:nvPr/>
        </p:nvSpPr>
        <p:spPr>
          <a:xfrm>
            <a:off x="6084720" y="4005360"/>
            <a:ext cx="576360" cy="504720"/>
          </a:xfrm>
          <a:prstGeom prst="ellipse">
            <a:avLst/>
          </a:prstGeom>
          <a:gradFill rotWithShape="0">
            <a:gsLst>
              <a:gs pos="0">
                <a:srgbClr val="be9e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Oval 16"/>
          <p:cNvSpPr/>
          <p:nvPr/>
        </p:nvSpPr>
        <p:spPr>
          <a:xfrm>
            <a:off x="7020000" y="3860640"/>
            <a:ext cx="647640" cy="6480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Line 17"/>
          <p:cNvSpPr/>
          <p:nvPr/>
        </p:nvSpPr>
        <p:spPr>
          <a:xfrm>
            <a:off x="7380360" y="35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Line 18"/>
          <p:cNvSpPr/>
          <p:nvPr/>
        </p:nvSpPr>
        <p:spPr>
          <a:xfrm flipV="1">
            <a:off x="6660720" y="4201920"/>
            <a:ext cx="358200" cy="38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Line 19"/>
          <p:cNvSpPr/>
          <p:nvPr/>
        </p:nvSpPr>
        <p:spPr>
          <a:xfrm flipH="1" flipV="1">
            <a:off x="7667280" y="4292640"/>
            <a:ext cx="36036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Oval 20"/>
          <p:cNvSpPr/>
          <p:nvPr/>
        </p:nvSpPr>
        <p:spPr>
          <a:xfrm>
            <a:off x="8028000" y="4149720"/>
            <a:ext cx="576360" cy="504720"/>
          </a:xfrm>
          <a:prstGeom prst="ellipse">
            <a:avLst/>
          </a:prstGeom>
          <a:gradFill rotWithShape="0">
            <a:gsLst>
              <a:gs pos="0">
                <a:srgbClr val="472f76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Line 21"/>
          <p:cNvSpPr/>
          <p:nvPr/>
        </p:nvSpPr>
        <p:spPr>
          <a:xfrm flipH="1">
            <a:off x="7020000" y="4508640"/>
            <a:ext cx="216000" cy="50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Oval 22"/>
          <p:cNvSpPr/>
          <p:nvPr/>
        </p:nvSpPr>
        <p:spPr>
          <a:xfrm>
            <a:off x="6443640" y="4941720"/>
            <a:ext cx="792360" cy="720720"/>
          </a:xfrm>
          <a:prstGeom prst="ellipse">
            <a:avLst/>
          </a:prstGeom>
          <a:gradFill rotWithShape="0">
            <a:gsLst>
              <a:gs pos="0">
                <a:srgbClr val="472f76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Oval 8"/>
          <p:cNvSpPr/>
          <p:nvPr/>
        </p:nvSpPr>
        <p:spPr>
          <a:xfrm>
            <a:off x="2124000" y="5013360"/>
            <a:ext cx="792360" cy="720720"/>
          </a:xfrm>
          <a:prstGeom prst="ellipse">
            <a:avLst/>
          </a:prstGeom>
          <a:gradFill rotWithShape="0">
            <a:gsLst>
              <a:gs pos="0">
                <a:srgbClr val="472f76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Oval 23"/>
          <p:cNvSpPr/>
          <p:nvPr/>
        </p:nvSpPr>
        <p:spPr>
          <a:xfrm>
            <a:off x="2987640" y="5661000"/>
            <a:ext cx="3600360" cy="1081080"/>
          </a:xfrm>
          <a:prstGeom prst="ellipse">
            <a:avLst/>
          </a:prstGeom>
          <a:solidFill>
            <a:srgbClr val="c6c6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ких случая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тическая изомери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Freeform 24"/>
          <p:cNvSpPr/>
          <p:nvPr/>
        </p:nvSpPr>
        <p:spPr>
          <a:xfrm flipH="1">
            <a:off x="467640" y="5084640"/>
            <a:ext cx="1176120" cy="1422360"/>
          </a:xfrm>
          <a:custGeom>
            <a:avLst/>
            <a:gdLst>
              <a:gd name="textAreaLeft" fmla="*/ -360 w 1176120"/>
              <a:gd name="textAreaRight" fmla="*/ 1176120 w 1176120"/>
              <a:gd name="textAreaTop" fmla="*/ 0 h 1422360"/>
              <a:gd name="textAreaBottom" fmla="*/ 1422720 h 1422360"/>
            </a:gdLst>
            <a:ahLst/>
            <a:rect l="textAreaLeft" t="textAreaTop" r="textAreaRight" b="textAreaBottom"/>
            <a:pathLst>
              <a:path w="741" h="896">
                <a:moveTo>
                  <a:pt x="147" y="896"/>
                </a:moveTo>
                <a:cubicBezTo>
                  <a:pt x="172" y="794"/>
                  <a:pt x="187" y="713"/>
                  <a:pt x="92" y="649"/>
                </a:cubicBezTo>
                <a:cubicBezTo>
                  <a:pt x="67" y="575"/>
                  <a:pt x="102" y="665"/>
                  <a:pt x="64" y="603"/>
                </a:cubicBezTo>
                <a:cubicBezTo>
                  <a:pt x="34" y="554"/>
                  <a:pt x="83" y="594"/>
                  <a:pt x="28" y="558"/>
                </a:cubicBezTo>
                <a:cubicBezTo>
                  <a:pt x="7" y="492"/>
                  <a:pt x="6" y="426"/>
                  <a:pt x="0" y="357"/>
                </a:cubicBezTo>
                <a:cubicBezTo>
                  <a:pt x="9" y="286"/>
                  <a:pt x="1" y="266"/>
                  <a:pt x="46" y="219"/>
                </a:cubicBezTo>
                <a:cubicBezTo>
                  <a:pt x="55" y="222"/>
                  <a:pt x="68" y="221"/>
                  <a:pt x="74" y="229"/>
                </a:cubicBezTo>
                <a:cubicBezTo>
                  <a:pt x="95" y="258"/>
                  <a:pt x="107" y="336"/>
                  <a:pt x="119" y="375"/>
                </a:cubicBezTo>
                <a:cubicBezTo>
                  <a:pt x="125" y="394"/>
                  <a:pt x="132" y="412"/>
                  <a:pt x="138" y="430"/>
                </a:cubicBezTo>
                <a:cubicBezTo>
                  <a:pt x="141" y="439"/>
                  <a:pt x="147" y="457"/>
                  <a:pt x="147" y="457"/>
                </a:cubicBezTo>
                <a:cubicBezTo>
                  <a:pt x="165" y="454"/>
                  <a:pt x="188" y="460"/>
                  <a:pt x="202" y="448"/>
                </a:cubicBezTo>
                <a:cubicBezTo>
                  <a:pt x="218" y="434"/>
                  <a:pt x="246" y="281"/>
                  <a:pt x="247" y="274"/>
                </a:cubicBezTo>
                <a:cubicBezTo>
                  <a:pt x="258" y="217"/>
                  <a:pt x="279" y="166"/>
                  <a:pt x="293" y="110"/>
                </a:cubicBezTo>
                <a:cubicBezTo>
                  <a:pt x="295" y="103"/>
                  <a:pt x="305" y="56"/>
                  <a:pt x="311" y="46"/>
                </a:cubicBezTo>
                <a:cubicBezTo>
                  <a:pt x="321" y="29"/>
                  <a:pt x="337" y="16"/>
                  <a:pt x="348" y="0"/>
                </a:cubicBezTo>
                <a:cubicBezTo>
                  <a:pt x="407" y="88"/>
                  <a:pt x="357" y="2"/>
                  <a:pt x="357" y="238"/>
                </a:cubicBezTo>
                <a:cubicBezTo>
                  <a:pt x="357" y="248"/>
                  <a:pt x="362" y="219"/>
                  <a:pt x="366" y="210"/>
                </a:cubicBezTo>
                <a:cubicBezTo>
                  <a:pt x="371" y="200"/>
                  <a:pt x="380" y="193"/>
                  <a:pt x="384" y="183"/>
                </a:cubicBezTo>
                <a:cubicBezTo>
                  <a:pt x="408" y="129"/>
                  <a:pt x="415" y="102"/>
                  <a:pt x="476" y="82"/>
                </a:cubicBezTo>
                <a:cubicBezTo>
                  <a:pt x="566" y="22"/>
                  <a:pt x="508" y="185"/>
                  <a:pt x="485" y="219"/>
                </a:cubicBezTo>
                <a:cubicBezTo>
                  <a:pt x="472" y="258"/>
                  <a:pt x="453" y="289"/>
                  <a:pt x="439" y="329"/>
                </a:cubicBezTo>
                <a:cubicBezTo>
                  <a:pt x="429" y="360"/>
                  <a:pt x="419" y="367"/>
                  <a:pt x="458" y="347"/>
                </a:cubicBezTo>
                <a:cubicBezTo>
                  <a:pt x="468" y="342"/>
                  <a:pt x="476" y="335"/>
                  <a:pt x="485" y="329"/>
                </a:cubicBezTo>
                <a:cubicBezTo>
                  <a:pt x="505" y="300"/>
                  <a:pt x="520" y="285"/>
                  <a:pt x="549" y="265"/>
                </a:cubicBezTo>
                <a:cubicBezTo>
                  <a:pt x="552" y="256"/>
                  <a:pt x="555" y="247"/>
                  <a:pt x="558" y="238"/>
                </a:cubicBezTo>
                <a:cubicBezTo>
                  <a:pt x="561" y="226"/>
                  <a:pt x="563" y="213"/>
                  <a:pt x="567" y="201"/>
                </a:cubicBezTo>
                <a:cubicBezTo>
                  <a:pt x="573" y="182"/>
                  <a:pt x="586" y="146"/>
                  <a:pt x="586" y="146"/>
                </a:cubicBezTo>
                <a:cubicBezTo>
                  <a:pt x="595" y="149"/>
                  <a:pt x="608" y="147"/>
                  <a:pt x="613" y="155"/>
                </a:cubicBezTo>
                <a:cubicBezTo>
                  <a:pt x="624" y="171"/>
                  <a:pt x="631" y="210"/>
                  <a:pt x="631" y="210"/>
                </a:cubicBezTo>
                <a:cubicBezTo>
                  <a:pt x="623" y="276"/>
                  <a:pt x="622" y="311"/>
                  <a:pt x="576" y="357"/>
                </a:cubicBezTo>
                <a:cubicBezTo>
                  <a:pt x="570" y="375"/>
                  <a:pt x="564" y="393"/>
                  <a:pt x="558" y="411"/>
                </a:cubicBezTo>
                <a:cubicBezTo>
                  <a:pt x="555" y="419"/>
                  <a:pt x="532" y="426"/>
                  <a:pt x="540" y="430"/>
                </a:cubicBezTo>
                <a:cubicBezTo>
                  <a:pt x="551" y="436"/>
                  <a:pt x="564" y="424"/>
                  <a:pt x="576" y="421"/>
                </a:cubicBezTo>
                <a:cubicBezTo>
                  <a:pt x="613" y="384"/>
                  <a:pt x="621" y="338"/>
                  <a:pt x="659" y="302"/>
                </a:cubicBezTo>
                <a:cubicBezTo>
                  <a:pt x="680" y="305"/>
                  <a:pt x="704" y="301"/>
                  <a:pt x="723" y="311"/>
                </a:cubicBezTo>
                <a:cubicBezTo>
                  <a:pt x="741" y="320"/>
                  <a:pt x="730" y="378"/>
                  <a:pt x="714" y="393"/>
                </a:cubicBezTo>
                <a:cubicBezTo>
                  <a:pt x="687" y="418"/>
                  <a:pt x="669" y="453"/>
                  <a:pt x="640" y="475"/>
                </a:cubicBezTo>
                <a:cubicBezTo>
                  <a:pt x="606" y="501"/>
                  <a:pt x="575" y="516"/>
                  <a:pt x="549" y="549"/>
                </a:cubicBezTo>
                <a:cubicBezTo>
                  <a:pt x="518" y="589"/>
                  <a:pt x="520" y="640"/>
                  <a:pt x="485" y="677"/>
                </a:cubicBezTo>
                <a:cubicBezTo>
                  <a:pt x="482" y="692"/>
                  <a:pt x="485" y="709"/>
                  <a:pt x="476" y="722"/>
                </a:cubicBezTo>
                <a:cubicBezTo>
                  <a:pt x="470" y="730"/>
                  <a:pt x="456" y="726"/>
                  <a:pt x="448" y="731"/>
                </a:cubicBezTo>
                <a:cubicBezTo>
                  <a:pt x="384" y="770"/>
                  <a:pt x="482" y="733"/>
                  <a:pt x="403" y="759"/>
                </a:cubicBezTo>
                <a:cubicBezTo>
                  <a:pt x="376" y="755"/>
                  <a:pt x="340" y="736"/>
                  <a:pt x="320" y="768"/>
                </a:cubicBezTo>
                <a:cubicBezTo>
                  <a:pt x="311" y="782"/>
                  <a:pt x="296" y="878"/>
                  <a:pt x="275" y="87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Freeform 25"/>
          <p:cNvSpPr/>
          <p:nvPr/>
        </p:nvSpPr>
        <p:spPr>
          <a:xfrm>
            <a:off x="7451640" y="5013360"/>
            <a:ext cx="1170000" cy="1422360"/>
          </a:xfrm>
          <a:custGeom>
            <a:avLst/>
            <a:gdLst>
              <a:gd name="textAreaLeft" fmla="*/ 0 w 1170000"/>
              <a:gd name="textAreaRight" fmla="*/ 1170360 w 1170000"/>
              <a:gd name="textAreaTop" fmla="*/ 0 h 1422360"/>
              <a:gd name="textAreaBottom" fmla="*/ 1422720 h 1422360"/>
            </a:gdLst>
            <a:ahLst/>
            <a:rect l="textAreaLeft" t="textAreaTop" r="textAreaRight" b="textAreaBottom"/>
            <a:pathLst>
              <a:path w="741" h="896">
                <a:moveTo>
                  <a:pt x="147" y="896"/>
                </a:moveTo>
                <a:cubicBezTo>
                  <a:pt x="172" y="794"/>
                  <a:pt x="187" y="713"/>
                  <a:pt x="92" y="649"/>
                </a:cubicBezTo>
                <a:cubicBezTo>
                  <a:pt x="67" y="575"/>
                  <a:pt x="102" y="665"/>
                  <a:pt x="64" y="603"/>
                </a:cubicBezTo>
                <a:cubicBezTo>
                  <a:pt x="34" y="554"/>
                  <a:pt x="83" y="594"/>
                  <a:pt x="28" y="558"/>
                </a:cubicBezTo>
                <a:cubicBezTo>
                  <a:pt x="7" y="492"/>
                  <a:pt x="6" y="426"/>
                  <a:pt x="0" y="357"/>
                </a:cubicBezTo>
                <a:cubicBezTo>
                  <a:pt x="9" y="286"/>
                  <a:pt x="1" y="266"/>
                  <a:pt x="46" y="219"/>
                </a:cubicBezTo>
                <a:cubicBezTo>
                  <a:pt x="55" y="222"/>
                  <a:pt x="68" y="221"/>
                  <a:pt x="74" y="229"/>
                </a:cubicBezTo>
                <a:cubicBezTo>
                  <a:pt x="95" y="258"/>
                  <a:pt x="107" y="336"/>
                  <a:pt x="119" y="375"/>
                </a:cubicBezTo>
                <a:cubicBezTo>
                  <a:pt x="125" y="394"/>
                  <a:pt x="132" y="412"/>
                  <a:pt x="138" y="430"/>
                </a:cubicBezTo>
                <a:cubicBezTo>
                  <a:pt x="141" y="439"/>
                  <a:pt x="147" y="457"/>
                  <a:pt x="147" y="457"/>
                </a:cubicBezTo>
                <a:cubicBezTo>
                  <a:pt x="165" y="454"/>
                  <a:pt x="188" y="460"/>
                  <a:pt x="202" y="448"/>
                </a:cubicBezTo>
                <a:cubicBezTo>
                  <a:pt x="218" y="434"/>
                  <a:pt x="246" y="281"/>
                  <a:pt x="247" y="274"/>
                </a:cubicBezTo>
                <a:cubicBezTo>
                  <a:pt x="258" y="217"/>
                  <a:pt x="279" y="166"/>
                  <a:pt x="293" y="110"/>
                </a:cubicBezTo>
                <a:cubicBezTo>
                  <a:pt x="295" y="103"/>
                  <a:pt x="305" y="56"/>
                  <a:pt x="311" y="46"/>
                </a:cubicBezTo>
                <a:cubicBezTo>
                  <a:pt x="321" y="29"/>
                  <a:pt x="337" y="16"/>
                  <a:pt x="348" y="0"/>
                </a:cubicBezTo>
                <a:cubicBezTo>
                  <a:pt x="407" y="88"/>
                  <a:pt x="357" y="2"/>
                  <a:pt x="357" y="238"/>
                </a:cubicBezTo>
                <a:cubicBezTo>
                  <a:pt x="357" y="248"/>
                  <a:pt x="362" y="219"/>
                  <a:pt x="366" y="210"/>
                </a:cubicBezTo>
                <a:cubicBezTo>
                  <a:pt x="371" y="200"/>
                  <a:pt x="380" y="193"/>
                  <a:pt x="384" y="183"/>
                </a:cubicBezTo>
                <a:cubicBezTo>
                  <a:pt x="408" y="129"/>
                  <a:pt x="415" y="102"/>
                  <a:pt x="476" y="82"/>
                </a:cubicBezTo>
                <a:cubicBezTo>
                  <a:pt x="566" y="22"/>
                  <a:pt x="508" y="185"/>
                  <a:pt x="485" y="219"/>
                </a:cubicBezTo>
                <a:cubicBezTo>
                  <a:pt x="472" y="258"/>
                  <a:pt x="453" y="289"/>
                  <a:pt x="439" y="329"/>
                </a:cubicBezTo>
                <a:cubicBezTo>
                  <a:pt x="429" y="360"/>
                  <a:pt x="419" y="367"/>
                  <a:pt x="458" y="347"/>
                </a:cubicBezTo>
                <a:cubicBezTo>
                  <a:pt x="468" y="342"/>
                  <a:pt x="476" y="335"/>
                  <a:pt x="485" y="329"/>
                </a:cubicBezTo>
                <a:cubicBezTo>
                  <a:pt x="505" y="300"/>
                  <a:pt x="520" y="285"/>
                  <a:pt x="549" y="265"/>
                </a:cubicBezTo>
                <a:cubicBezTo>
                  <a:pt x="552" y="256"/>
                  <a:pt x="555" y="247"/>
                  <a:pt x="558" y="238"/>
                </a:cubicBezTo>
                <a:cubicBezTo>
                  <a:pt x="561" y="226"/>
                  <a:pt x="563" y="213"/>
                  <a:pt x="567" y="201"/>
                </a:cubicBezTo>
                <a:cubicBezTo>
                  <a:pt x="573" y="182"/>
                  <a:pt x="586" y="146"/>
                  <a:pt x="586" y="146"/>
                </a:cubicBezTo>
                <a:cubicBezTo>
                  <a:pt x="595" y="149"/>
                  <a:pt x="608" y="147"/>
                  <a:pt x="613" y="155"/>
                </a:cubicBezTo>
                <a:cubicBezTo>
                  <a:pt x="624" y="171"/>
                  <a:pt x="631" y="210"/>
                  <a:pt x="631" y="210"/>
                </a:cubicBezTo>
                <a:cubicBezTo>
                  <a:pt x="623" y="276"/>
                  <a:pt x="622" y="311"/>
                  <a:pt x="576" y="357"/>
                </a:cubicBezTo>
                <a:cubicBezTo>
                  <a:pt x="570" y="375"/>
                  <a:pt x="564" y="393"/>
                  <a:pt x="558" y="411"/>
                </a:cubicBezTo>
                <a:cubicBezTo>
                  <a:pt x="555" y="419"/>
                  <a:pt x="532" y="426"/>
                  <a:pt x="540" y="430"/>
                </a:cubicBezTo>
                <a:cubicBezTo>
                  <a:pt x="551" y="436"/>
                  <a:pt x="564" y="424"/>
                  <a:pt x="576" y="421"/>
                </a:cubicBezTo>
                <a:cubicBezTo>
                  <a:pt x="613" y="384"/>
                  <a:pt x="621" y="338"/>
                  <a:pt x="659" y="302"/>
                </a:cubicBezTo>
                <a:cubicBezTo>
                  <a:pt x="680" y="305"/>
                  <a:pt x="704" y="301"/>
                  <a:pt x="723" y="311"/>
                </a:cubicBezTo>
                <a:cubicBezTo>
                  <a:pt x="741" y="320"/>
                  <a:pt x="730" y="378"/>
                  <a:pt x="714" y="393"/>
                </a:cubicBezTo>
                <a:cubicBezTo>
                  <a:pt x="687" y="418"/>
                  <a:pt x="669" y="453"/>
                  <a:pt x="640" y="475"/>
                </a:cubicBezTo>
                <a:cubicBezTo>
                  <a:pt x="606" y="501"/>
                  <a:pt x="575" y="516"/>
                  <a:pt x="549" y="549"/>
                </a:cubicBezTo>
                <a:cubicBezTo>
                  <a:pt x="518" y="589"/>
                  <a:pt x="520" y="640"/>
                  <a:pt x="485" y="677"/>
                </a:cubicBezTo>
                <a:cubicBezTo>
                  <a:pt x="482" y="692"/>
                  <a:pt x="485" y="709"/>
                  <a:pt x="476" y="722"/>
                </a:cubicBezTo>
                <a:cubicBezTo>
                  <a:pt x="470" y="730"/>
                  <a:pt x="456" y="726"/>
                  <a:pt x="448" y="731"/>
                </a:cubicBezTo>
                <a:cubicBezTo>
                  <a:pt x="384" y="770"/>
                  <a:pt x="482" y="733"/>
                  <a:pt x="403" y="759"/>
                </a:cubicBezTo>
                <a:cubicBezTo>
                  <a:pt x="376" y="755"/>
                  <a:pt x="340" y="736"/>
                  <a:pt x="320" y="768"/>
                </a:cubicBezTo>
                <a:cubicBezTo>
                  <a:pt x="311" y="782"/>
                  <a:pt x="296" y="878"/>
                  <a:pt x="275" y="87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43624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Для существования оптических изомеров необходим </a:t>
            </a:r>
            <a:r>
              <a:rPr b="1" i="1" lang="ru-RU" sz="2800" spc="-1" strike="noStrike">
                <a:solidFill>
                  <a:srgbClr val="ffffcc"/>
                </a:solidFill>
                <a:latin typeface="Tahoma"/>
              </a:rPr>
              <a:t>асимметрический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атом углерод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симметрическим называют атом углерода, соединенный с четырьмя различными атомами или группами атом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пример, у 1– бром–1– хлорэтана первый атом углерода связан с четырьмя разными атомами: –Н, –С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–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–СН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этом случае возможны два различных расположения молекулы в пространств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8" name="Oval 4"/>
          <p:cNvSpPr/>
          <p:nvPr/>
        </p:nvSpPr>
        <p:spPr>
          <a:xfrm>
            <a:off x="1403280" y="5229360"/>
            <a:ext cx="433440" cy="431640"/>
          </a:xfrm>
          <a:prstGeom prst="ellipse">
            <a:avLst/>
          </a:prstGeom>
          <a:gradFill rotWithShape="0">
            <a:gsLst>
              <a:gs pos="0">
                <a:srgbClr val="18185e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Oval 15"/>
          <p:cNvSpPr/>
          <p:nvPr/>
        </p:nvSpPr>
        <p:spPr>
          <a:xfrm>
            <a:off x="684360" y="5445000"/>
            <a:ext cx="433080" cy="432000"/>
          </a:xfrm>
          <a:prstGeom prst="ellipse">
            <a:avLst/>
          </a:prstGeom>
          <a:gradFill rotWithShape="0">
            <a:gsLst>
              <a:gs pos="0">
                <a:srgbClr val="b894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Oval 16"/>
          <p:cNvSpPr/>
          <p:nvPr/>
        </p:nvSpPr>
        <p:spPr>
          <a:xfrm>
            <a:off x="2195640" y="5516640"/>
            <a:ext cx="433440" cy="431640"/>
          </a:xfrm>
          <a:prstGeom prst="ellipse">
            <a:avLst/>
          </a:prstGeom>
          <a:gradFill rotWithShape="0">
            <a:gsLst>
              <a:gs pos="0">
                <a:srgbClr val="c1a3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Oval 17"/>
          <p:cNvSpPr/>
          <p:nvPr/>
        </p:nvSpPr>
        <p:spPr>
          <a:xfrm>
            <a:off x="1403280" y="4581360"/>
            <a:ext cx="433440" cy="432000"/>
          </a:xfrm>
          <a:prstGeom prst="ellipse">
            <a:avLst/>
          </a:prstGeom>
          <a:gradFill rotWithShape="0">
            <a:gsLst>
              <a:gs pos="0">
                <a:srgbClr val="b18b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Oval 18"/>
          <p:cNvSpPr/>
          <p:nvPr/>
        </p:nvSpPr>
        <p:spPr>
          <a:xfrm>
            <a:off x="1835280" y="6093000"/>
            <a:ext cx="433080" cy="431640"/>
          </a:xfrm>
          <a:prstGeom prst="ellipse">
            <a:avLst/>
          </a:prstGeom>
          <a:gradFill rotWithShape="0">
            <a:gsLst>
              <a:gs pos="0">
                <a:srgbClr val="b894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Oval 19"/>
          <p:cNvSpPr/>
          <p:nvPr/>
        </p:nvSpPr>
        <p:spPr>
          <a:xfrm>
            <a:off x="4427640" y="6021360"/>
            <a:ext cx="433440" cy="432000"/>
          </a:xfrm>
          <a:prstGeom prst="ellipse">
            <a:avLst/>
          </a:prstGeom>
          <a:gradFill rotWithShape="0">
            <a:gsLst>
              <a:gs pos="0">
                <a:srgbClr val="b58f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Oval 20"/>
          <p:cNvSpPr/>
          <p:nvPr/>
        </p:nvSpPr>
        <p:spPr>
          <a:xfrm>
            <a:off x="4140360" y="5516640"/>
            <a:ext cx="433080" cy="431640"/>
          </a:xfrm>
          <a:prstGeom prst="ellipse">
            <a:avLst/>
          </a:prstGeom>
          <a:gradFill rotWithShape="0">
            <a:gsLst>
              <a:gs pos="0">
                <a:srgbClr val="be9e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Oval 22"/>
          <p:cNvSpPr/>
          <p:nvPr/>
        </p:nvSpPr>
        <p:spPr>
          <a:xfrm>
            <a:off x="4932360" y="4581360"/>
            <a:ext cx="433440" cy="432000"/>
          </a:xfrm>
          <a:prstGeom prst="ellipse">
            <a:avLst/>
          </a:prstGeom>
          <a:gradFill rotWithShape="0">
            <a:gsLst>
              <a:gs pos="0">
                <a:srgbClr val="bb99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Oval 23"/>
          <p:cNvSpPr/>
          <p:nvPr/>
        </p:nvSpPr>
        <p:spPr>
          <a:xfrm>
            <a:off x="5651640" y="5445000"/>
            <a:ext cx="433080" cy="432000"/>
          </a:xfrm>
          <a:prstGeom prst="ellipse">
            <a:avLst/>
          </a:prstGeom>
          <a:gradFill rotWithShape="0">
            <a:gsLst>
              <a:gs pos="0">
                <a:srgbClr val="b18b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Oval 24"/>
          <p:cNvSpPr/>
          <p:nvPr/>
        </p:nvSpPr>
        <p:spPr>
          <a:xfrm>
            <a:off x="4932360" y="5229360"/>
            <a:ext cx="433440" cy="431640"/>
          </a:xfrm>
          <a:prstGeom prst="ellipse">
            <a:avLst/>
          </a:prstGeom>
          <a:gradFill rotWithShape="0">
            <a:gsLst>
              <a:gs pos="0">
                <a:srgbClr val="18185e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Line 25"/>
          <p:cNvSpPr/>
          <p:nvPr/>
        </p:nvSpPr>
        <p:spPr>
          <a:xfrm>
            <a:off x="1619280" y="5013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Line 26"/>
          <p:cNvSpPr/>
          <p:nvPr/>
        </p:nvSpPr>
        <p:spPr>
          <a:xfrm>
            <a:off x="5148360" y="5013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Line 27"/>
          <p:cNvSpPr/>
          <p:nvPr/>
        </p:nvSpPr>
        <p:spPr>
          <a:xfrm>
            <a:off x="1835280" y="5516640"/>
            <a:ext cx="36036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Line 28"/>
          <p:cNvSpPr/>
          <p:nvPr/>
        </p:nvSpPr>
        <p:spPr>
          <a:xfrm flipH="1">
            <a:off x="4571640" y="5516640"/>
            <a:ext cx="36036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Line 30"/>
          <p:cNvSpPr/>
          <p:nvPr/>
        </p:nvSpPr>
        <p:spPr>
          <a:xfrm flipV="1">
            <a:off x="1085400" y="5498280"/>
            <a:ext cx="339120" cy="12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Line 31"/>
          <p:cNvSpPr/>
          <p:nvPr/>
        </p:nvSpPr>
        <p:spPr>
          <a:xfrm flipH="1" flipV="1">
            <a:off x="5333400" y="5498280"/>
            <a:ext cx="339120" cy="12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Line 32"/>
          <p:cNvSpPr/>
          <p:nvPr/>
        </p:nvSpPr>
        <p:spPr>
          <a:xfrm>
            <a:off x="1692360" y="5661000"/>
            <a:ext cx="28728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Line 33"/>
          <p:cNvSpPr/>
          <p:nvPr/>
        </p:nvSpPr>
        <p:spPr>
          <a:xfrm flipH="1">
            <a:off x="4788000" y="5661000"/>
            <a:ext cx="28728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Oval 34"/>
          <p:cNvSpPr/>
          <p:nvPr/>
        </p:nvSpPr>
        <p:spPr>
          <a:xfrm rot="20420400">
            <a:off x="6013440" y="5462640"/>
            <a:ext cx="3132000" cy="1127160"/>
          </a:xfrm>
          <a:prstGeom prst="ellipse">
            <a:avLst/>
          </a:prstGeom>
          <a:solidFill>
            <a:srgbClr val="c6c6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в природе встречает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тическая изомери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1844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рироде наибольшее значение имеет оптическая изомерия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углеводов и аминокислот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9" name="Oval 4"/>
          <p:cNvSpPr/>
          <p:nvPr/>
        </p:nvSpPr>
        <p:spPr>
          <a:xfrm>
            <a:off x="468360" y="2924280"/>
            <a:ext cx="8064360" cy="2879640"/>
          </a:xfrm>
          <a:prstGeom prst="ellipse">
            <a:avLst/>
          </a:prstGeom>
          <a:solidFill>
            <a:srgbClr val="ababa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есно, что практически вс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риродные» углеводы имею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конфигурацию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вот аминокислот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тречаются только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форм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/>
          </p:nvPr>
        </p:nvSpPr>
        <p:spPr>
          <a:xfrm>
            <a:off x="178920" y="475920"/>
            <a:ext cx="8713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-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люкоза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H – C =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О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-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люкоз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– С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= 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                          </a:t>
            </a:r>
            <a:r>
              <a:rPr b="1" lang="en-US" sz="1800" spc="-1" strike="noStrike">
                <a:solidFill>
                  <a:srgbClr val="c9cd39"/>
                </a:solidFill>
                <a:latin typeface="Tahoma"/>
              </a:rPr>
              <a:t>             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9cd39"/>
                </a:solidFill>
                <a:latin typeface="Tahoma"/>
              </a:rPr>
              <a:t>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–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С  –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OH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              НО –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С – 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                                         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I                                                                 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 I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   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О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– С –Н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              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–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С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–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               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I  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     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                                                        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 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 – С – ОН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      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О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– С – 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                                        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I   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                                                         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    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 – С –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ОН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        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О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–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С – 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                                        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I  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     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                                                         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          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СН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ОН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          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СН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2" name="Oval 3"/>
          <p:cNvSpPr/>
          <p:nvPr/>
        </p:nvSpPr>
        <p:spPr>
          <a:xfrm rot="20692200">
            <a:off x="4858920" y="5444640"/>
            <a:ext cx="4103640" cy="1008360"/>
          </a:xfrm>
          <a:prstGeom prst="ellipse">
            <a:avLst/>
          </a:prstGeom>
          <a:solidFill>
            <a:srgbClr val="c6c6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которые термин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ят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птической изомерии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Rectangle 5"/>
          <p:cNvSpPr/>
          <p:nvPr/>
        </p:nvSpPr>
        <p:spPr>
          <a:xfrm rot="975600">
            <a:off x="0" y="1125360"/>
            <a:ext cx="1944720" cy="576360"/>
          </a:xfrm>
          <a:prstGeom prst="rect">
            <a:avLst/>
          </a:prstGeom>
          <a:solidFill>
            <a:srgbClr val="5b5d6b"/>
          </a:soli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9cd39"/>
                </a:solidFill>
                <a:latin typeface="Arial"/>
              </a:rPr>
              <a:t>распростране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9cd39"/>
                </a:solidFill>
                <a:latin typeface="Arial"/>
              </a:rPr>
              <a:t>в природ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Rectangle 6"/>
          <p:cNvSpPr/>
          <p:nvPr/>
        </p:nvSpPr>
        <p:spPr>
          <a:xfrm rot="1351200">
            <a:off x="4859280" y="1268280"/>
            <a:ext cx="1871640" cy="576360"/>
          </a:xfrm>
          <a:prstGeom prst="rect">
            <a:avLst/>
          </a:prstGeom>
          <a:solidFill>
            <a:srgbClr val="5b5d6b"/>
          </a:soli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ec145"/>
                </a:solidFill>
                <a:latin typeface="Arial"/>
              </a:rPr>
              <a:t>в природ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ec145"/>
                </a:solidFill>
                <a:latin typeface="Arial"/>
              </a:rPr>
              <a:t>не встречае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2219040" y="240840"/>
            <a:ext cx="46321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екоторые термин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395280" y="1386000"/>
            <a:ext cx="842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тическая изомерия – иначе </a:t>
            </a:r>
            <a:r>
              <a:rPr b="1" i="1" lang="ru-RU" sz="2400" spc="-1" strike="noStrike">
                <a:solidFill>
                  <a:srgbClr val="ffffcc"/>
                </a:solidFill>
                <a:latin typeface="Tahoma"/>
              </a:rPr>
              <a:t>зеркальная изомерия</a:t>
            </a:r>
            <a:r>
              <a:rPr b="0" i="1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ли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ffffcc"/>
                </a:solidFill>
                <a:latin typeface="Tahoma"/>
              </a:rPr>
              <a:t>энантиомер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тические изомеры – иначе называются </a:t>
            </a:r>
            <a:r>
              <a:rPr b="1" i="1" lang="ru-RU" sz="2400" spc="-1" strike="noStrike">
                <a:solidFill>
                  <a:srgbClr val="ffffcc"/>
                </a:solidFill>
                <a:latin typeface="Tahoma"/>
              </a:rPr>
              <a:t>зеркальными изомерами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ли </a:t>
            </a:r>
            <a:r>
              <a:rPr b="1" i="1" lang="ru-RU" sz="2400" spc="-1" strike="noStrike">
                <a:solidFill>
                  <a:srgbClr val="ffffcc"/>
                </a:solidFill>
                <a:latin typeface="Tahoma"/>
              </a:rPr>
              <a:t>энантиомерам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ahoma"/>
              </a:rPr>
              <a:t>Хиральность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способность соединений существовать в виде пары зеркальных изомер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ahoma"/>
              </a:rPr>
              <a:t>Хиральный цент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ли </a:t>
            </a:r>
            <a:r>
              <a:rPr b="1" i="1" lang="ru-RU" sz="2400" spc="-1" strike="noStrike">
                <a:solidFill>
                  <a:srgbClr val="ffffcc"/>
                </a:solidFill>
                <a:latin typeface="Tahoma"/>
              </a:rPr>
              <a:t>хиральный ато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углерода – асимметрический атом углерода, связанный с четырьмя различными атомами или группами атом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ahoma"/>
              </a:rPr>
              <a:t>Рацемат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смесь оптических изомеров, не обладающая оптической активностью. В рацемате изомеры погашают оптическую активность друг друг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8" name="AutoShape 4"/>
          <p:cNvSpPr/>
          <p:nvPr/>
        </p:nvSpPr>
        <p:spPr>
          <a:xfrm>
            <a:off x="179280" y="189000"/>
            <a:ext cx="2160720" cy="968400"/>
          </a:xfrm>
          <a:prstGeom prst="flowChartDelay">
            <a:avLst/>
          </a:prstGeom>
          <a:gradFill rotWithShape="0">
            <a:gsLst>
              <a:gs pos="0">
                <a:srgbClr val="eaeaea"/>
              </a:gs>
              <a:gs pos="100000">
                <a:srgbClr val="b9b9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c00b4"/>
                </a:solidFill>
                <a:latin typeface="Arial"/>
              </a:rPr>
              <a:t>Другие ви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c00b4"/>
                </a:solidFill>
                <a:latin typeface="Arial"/>
              </a:rPr>
              <a:t>изоме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AutoShape 5"/>
          <p:cNvSpPr/>
          <p:nvPr/>
        </p:nvSpPr>
        <p:spPr>
          <a:xfrm>
            <a:off x="6443640" y="0"/>
            <a:ext cx="2700360" cy="1484280"/>
          </a:xfrm>
          <a:prstGeom prst="irregularSeal1">
            <a:avLst/>
          </a:prstGeom>
          <a:gradFill rotWithShape="0">
            <a:gsLst>
              <a:gs pos="0">
                <a:srgbClr val="eaeaea"/>
              </a:gs>
              <a:gs pos="100000">
                <a:srgbClr val="c1c1c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c00b4"/>
                </a:solidFill>
                <a:latin typeface="Arial"/>
              </a:rPr>
              <a:t>Конец 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ычный свет представляет собой электромагнитные колебания. Как правило световые волны колеблются во множестве плоскосте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свет пропустить через специальный </a:t>
            </a:r>
            <a:r>
              <a:rPr b="0" i="1" lang="ru-RU" sz="2400" spc="-1" strike="noStrike">
                <a:solidFill>
                  <a:srgbClr val="ffffcc"/>
                </a:solidFill>
                <a:latin typeface="Tahoma"/>
              </a:rPr>
              <a:t>поляризато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то все световые волны будут колебаться в одной плоск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кой свет называется </a:t>
            </a:r>
            <a:r>
              <a:rPr b="0" i="1" lang="ru-RU" sz="2400" spc="-1" strike="noStrike">
                <a:solidFill>
                  <a:srgbClr val="ffffcc"/>
                </a:solidFill>
                <a:latin typeface="Tahoma"/>
              </a:rPr>
              <a:t>плоскополяризованны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ли </a:t>
            </a:r>
            <a:r>
              <a:rPr b="0" i="1" lang="ru-RU" sz="2400" spc="-1" strike="noStrike">
                <a:solidFill>
                  <a:srgbClr val="ffffcc"/>
                </a:solidFill>
                <a:latin typeface="Tahoma"/>
              </a:rPr>
              <a:t>поляризованны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02" name="Group 4"/>
          <p:cNvGrpSpPr/>
          <p:nvPr/>
        </p:nvGrpSpPr>
        <p:grpSpPr>
          <a:xfrm>
            <a:off x="1908000" y="3068640"/>
            <a:ext cx="4932000" cy="2027160"/>
            <a:chOff x="1908000" y="3068640"/>
            <a:chExt cx="4932000" cy="2027160"/>
          </a:xfrm>
        </p:grpSpPr>
        <p:sp>
          <p:nvSpPr>
            <p:cNvPr id="1303" name="AutoShape 5"/>
            <p:cNvSpPr/>
            <p:nvPr/>
          </p:nvSpPr>
          <p:spPr>
            <a:xfrm>
              <a:off x="1908000" y="3068640"/>
              <a:ext cx="4932000" cy="2027160"/>
            </a:xfrm>
            <a:prstGeom prst="rect">
              <a:avLst/>
            </a:pr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Rectangle 6"/>
            <p:cNvSpPr/>
            <p:nvPr/>
          </p:nvSpPr>
          <p:spPr>
            <a:xfrm>
              <a:off x="4682160" y="3873600"/>
              <a:ext cx="1075680" cy="329400"/>
            </a:xfrm>
            <a:prstGeom prst="rect">
              <a:avLst/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Freeform 7"/>
            <p:cNvSpPr/>
            <p:nvPr/>
          </p:nvSpPr>
          <p:spPr>
            <a:xfrm>
              <a:off x="4920840" y="3873600"/>
              <a:ext cx="598320" cy="329400"/>
            </a:xfrm>
            <a:custGeom>
              <a:avLst/>
              <a:gdLst>
                <a:gd name="textAreaLeft" fmla="*/ 0 w 598320"/>
                <a:gd name="textAreaRight" fmla="*/ 598680 w 598320"/>
                <a:gd name="textAreaTop" fmla="*/ 0 h 329400"/>
                <a:gd name="textAreaBottom" fmla="*/ 329760 h 329400"/>
              </a:gdLst>
              <a:ahLst/>
              <a:rect l="textAreaLeft" t="textAreaTop" r="textAreaRight" b="textAreaBottom"/>
              <a:pathLst>
                <a:path w="1470" h="630">
                  <a:moveTo>
                    <a:pt x="0" y="315"/>
                  </a:moveTo>
                  <a:cubicBezTo>
                    <a:pt x="45" y="247"/>
                    <a:pt x="47" y="233"/>
                    <a:pt x="30" y="150"/>
                  </a:cubicBezTo>
                  <a:cubicBezTo>
                    <a:pt x="35" y="120"/>
                    <a:pt x="28" y="85"/>
                    <a:pt x="45" y="60"/>
                  </a:cubicBezTo>
                  <a:cubicBezTo>
                    <a:pt x="66" y="30"/>
                    <a:pt x="135" y="0"/>
                    <a:pt x="135" y="0"/>
                  </a:cubicBezTo>
                  <a:cubicBezTo>
                    <a:pt x="139" y="1"/>
                    <a:pt x="230" y="22"/>
                    <a:pt x="240" y="30"/>
                  </a:cubicBezTo>
                  <a:cubicBezTo>
                    <a:pt x="272" y="56"/>
                    <a:pt x="291" y="137"/>
                    <a:pt x="300" y="165"/>
                  </a:cubicBezTo>
                  <a:cubicBezTo>
                    <a:pt x="325" y="240"/>
                    <a:pt x="350" y="315"/>
                    <a:pt x="375" y="390"/>
                  </a:cubicBezTo>
                  <a:cubicBezTo>
                    <a:pt x="385" y="420"/>
                    <a:pt x="387" y="454"/>
                    <a:pt x="405" y="480"/>
                  </a:cubicBezTo>
                  <a:cubicBezTo>
                    <a:pt x="452" y="550"/>
                    <a:pt x="464" y="605"/>
                    <a:pt x="540" y="630"/>
                  </a:cubicBezTo>
                  <a:cubicBezTo>
                    <a:pt x="570" y="625"/>
                    <a:pt x="603" y="629"/>
                    <a:pt x="630" y="615"/>
                  </a:cubicBezTo>
                  <a:cubicBezTo>
                    <a:pt x="659" y="601"/>
                    <a:pt x="688" y="487"/>
                    <a:pt x="690" y="480"/>
                  </a:cubicBezTo>
                  <a:cubicBezTo>
                    <a:pt x="702" y="444"/>
                    <a:pt x="714" y="413"/>
                    <a:pt x="720" y="375"/>
                  </a:cubicBezTo>
                  <a:cubicBezTo>
                    <a:pt x="721" y="369"/>
                    <a:pt x="738" y="207"/>
                    <a:pt x="750" y="180"/>
                  </a:cubicBezTo>
                  <a:cubicBezTo>
                    <a:pt x="773" y="129"/>
                    <a:pt x="803" y="83"/>
                    <a:pt x="855" y="60"/>
                  </a:cubicBezTo>
                  <a:cubicBezTo>
                    <a:pt x="884" y="47"/>
                    <a:pt x="945" y="30"/>
                    <a:pt x="945" y="30"/>
                  </a:cubicBezTo>
                  <a:cubicBezTo>
                    <a:pt x="1061" y="108"/>
                    <a:pt x="1024" y="56"/>
                    <a:pt x="1065" y="180"/>
                  </a:cubicBezTo>
                  <a:cubicBezTo>
                    <a:pt x="1070" y="195"/>
                    <a:pt x="1075" y="210"/>
                    <a:pt x="1080" y="225"/>
                  </a:cubicBezTo>
                  <a:cubicBezTo>
                    <a:pt x="1085" y="240"/>
                    <a:pt x="1090" y="255"/>
                    <a:pt x="1095" y="270"/>
                  </a:cubicBezTo>
                  <a:cubicBezTo>
                    <a:pt x="1100" y="285"/>
                    <a:pt x="1110" y="315"/>
                    <a:pt x="1110" y="315"/>
                  </a:cubicBezTo>
                  <a:cubicBezTo>
                    <a:pt x="1115" y="360"/>
                    <a:pt x="1118" y="405"/>
                    <a:pt x="1125" y="450"/>
                  </a:cubicBezTo>
                  <a:cubicBezTo>
                    <a:pt x="1133" y="500"/>
                    <a:pt x="1169" y="537"/>
                    <a:pt x="1185" y="585"/>
                  </a:cubicBezTo>
                  <a:cubicBezTo>
                    <a:pt x="1262" y="576"/>
                    <a:pt x="1358" y="593"/>
                    <a:pt x="1395" y="510"/>
                  </a:cubicBezTo>
                  <a:cubicBezTo>
                    <a:pt x="1426" y="440"/>
                    <a:pt x="1424" y="416"/>
                    <a:pt x="1440" y="345"/>
                  </a:cubicBezTo>
                  <a:cubicBezTo>
                    <a:pt x="1444" y="325"/>
                    <a:pt x="1449" y="305"/>
                    <a:pt x="1455" y="285"/>
                  </a:cubicBezTo>
                  <a:cubicBezTo>
                    <a:pt x="1459" y="270"/>
                    <a:pt x="1470" y="240"/>
                    <a:pt x="1470" y="240"/>
                  </a:cubicBezTo>
                </a:path>
              </a:pathLst>
            </a:custGeom>
            <a:noFill/>
            <a:ln w="1260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AutoShape 8"/>
            <p:cNvSpPr/>
            <p:nvPr/>
          </p:nvSpPr>
          <p:spPr>
            <a:xfrm>
              <a:off x="5040000" y="3072960"/>
              <a:ext cx="1314360" cy="434880"/>
            </a:xfrm>
            <a:prstGeom prst="wedgeRectCallout">
              <a:avLst>
                <a:gd name="adj1" fmla="val -55152"/>
                <a:gd name="adj2" fmla="val 122074"/>
              </a:avLst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1760" rIns="131760" tIns="65880" bIns="658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оляризованный   свет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AutoShape 9"/>
            <p:cNvSpPr/>
            <p:nvPr/>
          </p:nvSpPr>
          <p:spPr>
            <a:xfrm>
              <a:off x="1933200" y="3873600"/>
              <a:ext cx="829440" cy="493920"/>
            </a:xfrm>
            <a:prstGeom prst="irregularSeal1">
              <a:avLst/>
            </a:prstGeom>
            <a:gradFill rotWithShape="0">
              <a:gsLst>
                <a:gs pos="0">
                  <a:srgbClr val="ffffb5"/>
                </a:gs>
                <a:gs pos="100000">
                  <a:srgbClr val="ffff8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AutoShape 10"/>
            <p:cNvSpPr/>
            <p:nvPr/>
          </p:nvSpPr>
          <p:spPr>
            <a:xfrm flipV="1">
              <a:off x="3801960" y="3839400"/>
              <a:ext cx="275400" cy="494280"/>
            </a:xfrm>
            <a:prstGeom prst="flowChartManualOperation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Line 11"/>
            <p:cNvSpPr/>
            <p:nvPr/>
          </p:nvSpPr>
          <p:spPr>
            <a:xfrm flipV="1">
              <a:off x="3367440" y="4101120"/>
              <a:ext cx="3466800" cy="6840"/>
            </a:xfrm>
            <a:prstGeom prst="line">
              <a:avLst/>
            </a:prstGeom>
            <a:ln w="19080">
              <a:solidFill>
                <a:srgbClr val="f6f000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AutoShape 12"/>
            <p:cNvSpPr/>
            <p:nvPr/>
          </p:nvSpPr>
          <p:spPr>
            <a:xfrm>
              <a:off x="3966120" y="4788360"/>
              <a:ext cx="1113120" cy="302400"/>
            </a:xfrm>
            <a:prstGeom prst="wedgeRectCallout">
              <a:avLst>
                <a:gd name="adj1" fmla="val -48032"/>
                <a:gd name="adj2" fmla="val -190337"/>
              </a:avLst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1760" rIns="131760" tIns="65880" bIns="658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оляризатор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Freeform 13"/>
            <p:cNvSpPr/>
            <p:nvPr/>
          </p:nvSpPr>
          <p:spPr>
            <a:xfrm rot="16200000">
              <a:off x="2064240" y="3523320"/>
              <a:ext cx="340200" cy="124920"/>
            </a:xfrm>
            <a:custGeom>
              <a:avLst/>
              <a:gdLst>
                <a:gd name="textAreaLeft" fmla="*/ 0 w 340200"/>
                <a:gd name="textAreaRight" fmla="*/ 340560 w 34020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1470" h="630">
                  <a:moveTo>
                    <a:pt x="0" y="315"/>
                  </a:moveTo>
                  <a:cubicBezTo>
                    <a:pt x="45" y="247"/>
                    <a:pt x="47" y="233"/>
                    <a:pt x="30" y="150"/>
                  </a:cubicBezTo>
                  <a:cubicBezTo>
                    <a:pt x="35" y="120"/>
                    <a:pt x="28" y="85"/>
                    <a:pt x="45" y="60"/>
                  </a:cubicBezTo>
                  <a:cubicBezTo>
                    <a:pt x="66" y="30"/>
                    <a:pt x="135" y="0"/>
                    <a:pt x="135" y="0"/>
                  </a:cubicBezTo>
                  <a:cubicBezTo>
                    <a:pt x="139" y="1"/>
                    <a:pt x="230" y="22"/>
                    <a:pt x="240" y="30"/>
                  </a:cubicBezTo>
                  <a:cubicBezTo>
                    <a:pt x="272" y="56"/>
                    <a:pt x="291" y="137"/>
                    <a:pt x="300" y="165"/>
                  </a:cubicBezTo>
                  <a:cubicBezTo>
                    <a:pt x="325" y="240"/>
                    <a:pt x="350" y="315"/>
                    <a:pt x="375" y="390"/>
                  </a:cubicBezTo>
                  <a:cubicBezTo>
                    <a:pt x="385" y="420"/>
                    <a:pt x="387" y="454"/>
                    <a:pt x="405" y="480"/>
                  </a:cubicBezTo>
                  <a:cubicBezTo>
                    <a:pt x="452" y="550"/>
                    <a:pt x="464" y="605"/>
                    <a:pt x="540" y="630"/>
                  </a:cubicBezTo>
                  <a:cubicBezTo>
                    <a:pt x="570" y="625"/>
                    <a:pt x="603" y="629"/>
                    <a:pt x="630" y="615"/>
                  </a:cubicBezTo>
                  <a:cubicBezTo>
                    <a:pt x="659" y="601"/>
                    <a:pt x="688" y="487"/>
                    <a:pt x="690" y="480"/>
                  </a:cubicBezTo>
                  <a:cubicBezTo>
                    <a:pt x="702" y="444"/>
                    <a:pt x="714" y="413"/>
                    <a:pt x="720" y="375"/>
                  </a:cubicBezTo>
                  <a:cubicBezTo>
                    <a:pt x="721" y="369"/>
                    <a:pt x="738" y="207"/>
                    <a:pt x="750" y="180"/>
                  </a:cubicBezTo>
                  <a:cubicBezTo>
                    <a:pt x="773" y="129"/>
                    <a:pt x="803" y="83"/>
                    <a:pt x="855" y="60"/>
                  </a:cubicBezTo>
                  <a:cubicBezTo>
                    <a:pt x="884" y="47"/>
                    <a:pt x="945" y="30"/>
                    <a:pt x="945" y="30"/>
                  </a:cubicBezTo>
                  <a:cubicBezTo>
                    <a:pt x="1061" y="108"/>
                    <a:pt x="1024" y="56"/>
                    <a:pt x="1065" y="180"/>
                  </a:cubicBezTo>
                  <a:cubicBezTo>
                    <a:pt x="1070" y="195"/>
                    <a:pt x="1075" y="210"/>
                    <a:pt x="1080" y="225"/>
                  </a:cubicBezTo>
                  <a:cubicBezTo>
                    <a:pt x="1085" y="240"/>
                    <a:pt x="1090" y="255"/>
                    <a:pt x="1095" y="270"/>
                  </a:cubicBezTo>
                  <a:cubicBezTo>
                    <a:pt x="1100" y="285"/>
                    <a:pt x="1110" y="315"/>
                    <a:pt x="1110" y="315"/>
                  </a:cubicBezTo>
                  <a:cubicBezTo>
                    <a:pt x="1115" y="360"/>
                    <a:pt x="1118" y="405"/>
                    <a:pt x="1125" y="450"/>
                  </a:cubicBezTo>
                  <a:cubicBezTo>
                    <a:pt x="1133" y="500"/>
                    <a:pt x="1169" y="537"/>
                    <a:pt x="1185" y="585"/>
                  </a:cubicBezTo>
                  <a:cubicBezTo>
                    <a:pt x="1262" y="576"/>
                    <a:pt x="1358" y="593"/>
                    <a:pt x="1395" y="510"/>
                  </a:cubicBezTo>
                  <a:cubicBezTo>
                    <a:pt x="1426" y="440"/>
                    <a:pt x="1424" y="416"/>
                    <a:pt x="1440" y="345"/>
                  </a:cubicBezTo>
                  <a:cubicBezTo>
                    <a:pt x="1444" y="325"/>
                    <a:pt x="1449" y="305"/>
                    <a:pt x="1455" y="285"/>
                  </a:cubicBezTo>
                  <a:cubicBezTo>
                    <a:pt x="1459" y="270"/>
                    <a:pt x="1470" y="240"/>
                    <a:pt x="1470" y="240"/>
                  </a:cubicBezTo>
                </a:path>
              </a:pathLst>
            </a:custGeom>
            <a:noFill/>
            <a:ln w="28440">
              <a:solidFill>
                <a:srgbClr val="ffff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Freeform 14"/>
            <p:cNvSpPr/>
            <p:nvPr/>
          </p:nvSpPr>
          <p:spPr>
            <a:xfrm>
              <a:off x="2890080" y="3988080"/>
              <a:ext cx="357840" cy="114480"/>
            </a:xfrm>
            <a:custGeom>
              <a:avLst/>
              <a:gdLst>
                <a:gd name="textAreaLeft" fmla="*/ 0 w 357840"/>
                <a:gd name="textAreaRight" fmla="*/ 358200 w 35784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470" h="630">
                  <a:moveTo>
                    <a:pt x="0" y="315"/>
                  </a:moveTo>
                  <a:cubicBezTo>
                    <a:pt x="45" y="247"/>
                    <a:pt x="47" y="233"/>
                    <a:pt x="30" y="150"/>
                  </a:cubicBezTo>
                  <a:cubicBezTo>
                    <a:pt x="35" y="120"/>
                    <a:pt x="28" y="85"/>
                    <a:pt x="45" y="60"/>
                  </a:cubicBezTo>
                  <a:cubicBezTo>
                    <a:pt x="66" y="30"/>
                    <a:pt x="135" y="0"/>
                    <a:pt x="135" y="0"/>
                  </a:cubicBezTo>
                  <a:cubicBezTo>
                    <a:pt x="139" y="1"/>
                    <a:pt x="230" y="22"/>
                    <a:pt x="240" y="30"/>
                  </a:cubicBezTo>
                  <a:cubicBezTo>
                    <a:pt x="272" y="56"/>
                    <a:pt x="291" y="137"/>
                    <a:pt x="300" y="165"/>
                  </a:cubicBezTo>
                  <a:cubicBezTo>
                    <a:pt x="325" y="240"/>
                    <a:pt x="350" y="315"/>
                    <a:pt x="375" y="390"/>
                  </a:cubicBezTo>
                  <a:cubicBezTo>
                    <a:pt x="385" y="420"/>
                    <a:pt x="387" y="454"/>
                    <a:pt x="405" y="480"/>
                  </a:cubicBezTo>
                  <a:cubicBezTo>
                    <a:pt x="452" y="550"/>
                    <a:pt x="464" y="605"/>
                    <a:pt x="540" y="630"/>
                  </a:cubicBezTo>
                  <a:cubicBezTo>
                    <a:pt x="570" y="625"/>
                    <a:pt x="603" y="629"/>
                    <a:pt x="630" y="615"/>
                  </a:cubicBezTo>
                  <a:cubicBezTo>
                    <a:pt x="659" y="601"/>
                    <a:pt x="688" y="487"/>
                    <a:pt x="690" y="480"/>
                  </a:cubicBezTo>
                  <a:cubicBezTo>
                    <a:pt x="702" y="444"/>
                    <a:pt x="714" y="413"/>
                    <a:pt x="720" y="375"/>
                  </a:cubicBezTo>
                  <a:cubicBezTo>
                    <a:pt x="721" y="369"/>
                    <a:pt x="738" y="207"/>
                    <a:pt x="750" y="180"/>
                  </a:cubicBezTo>
                  <a:cubicBezTo>
                    <a:pt x="773" y="129"/>
                    <a:pt x="803" y="83"/>
                    <a:pt x="855" y="60"/>
                  </a:cubicBezTo>
                  <a:cubicBezTo>
                    <a:pt x="884" y="47"/>
                    <a:pt x="945" y="30"/>
                    <a:pt x="945" y="30"/>
                  </a:cubicBezTo>
                  <a:cubicBezTo>
                    <a:pt x="1061" y="108"/>
                    <a:pt x="1024" y="56"/>
                    <a:pt x="1065" y="180"/>
                  </a:cubicBezTo>
                  <a:cubicBezTo>
                    <a:pt x="1070" y="195"/>
                    <a:pt x="1075" y="210"/>
                    <a:pt x="1080" y="225"/>
                  </a:cubicBezTo>
                  <a:cubicBezTo>
                    <a:pt x="1085" y="240"/>
                    <a:pt x="1090" y="255"/>
                    <a:pt x="1095" y="270"/>
                  </a:cubicBezTo>
                  <a:cubicBezTo>
                    <a:pt x="1100" y="285"/>
                    <a:pt x="1110" y="315"/>
                    <a:pt x="1110" y="315"/>
                  </a:cubicBezTo>
                  <a:cubicBezTo>
                    <a:pt x="1115" y="360"/>
                    <a:pt x="1118" y="405"/>
                    <a:pt x="1125" y="450"/>
                  </a:cubicBezTo>
                  <a:cubicBezTo>
                    <a:pt x="1133" y="500"/>
                    <a:pt x="1169" y="537"/>
                    <a:pt x="1185" y="585"/>
                  </a:cubicBezTo>
                  <a:cubicBezTo>
                    <a:pt x="1262" y="576"/>
                    <a:pt x="1358" y="593"/>
                    <a:pt x="1395" y="510"/>
                  </a:cubicBezTo>
                  <a:cubicBezTo>
                    <a:pt x="1426" y="440"/>
                    <a:pt x="1424" y="416"/>
                    <a:pt x="1440" y="345"/>
                  </a:cubicBezTo>
                  <a:cubicBezTo>
                    <a:pt x="1444" y="325"/>
                    <a:pt x="1449" y="305"/>
                    <a:pt x="1455" y="285"/>
                  </a:cubicBezTo>
                  <a:cubicBezTo>
                    <a:pt x="1459" y="270"/>
                    <a:pt x="1470" y="240"/>
                    <a:pt x="1470" y="240"/>
                  </a:cubicBezTo>
                </a:path>
              </a:pathLst>
            </a:custGeom>
            <a:noFill/>
            <a:ln w="28440">
              <a:solidFill>
                <a:srgbClr val="ffff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Freeform 15"/>
            <p:cNvSpPr/>
            <p:nvPr/>
          </p:nvSpPr>
          <p:spPr>
            <a:xfrm rot="5170800">
              <a:off x="2062440" y="4668120"/>
              <a:ext cx="341640" cy="123120"/>
            </a:xfrm>
            <a:custGeom>
              <a:avLst/>
              <a:gdLst>
                <a:gd name="textAreaLeft" fmla="*/ 0 w 341640"/>
                <a:gd name="textAreaRight" fmla="*/ 342000 w 341640"/>
                <a:gd name="textAreaTop" fmla="*/ 0 h 123120"/>
                <a:gd name="textAreaBottom" fmla="*/ 123120 h 123120"/>
              </a:gdLst>
              <a:ahLst/>
              <a:rect l="textAreaLeft" t="textAreaTop" r="textAreaRight" b="textAreaBottom"/>
              <a:pathLst>
                <a:path w="1470" h="630">
                  <a:moveTo>
                    <a:pt x="0" y="315"/>
                  </a:moveTo>
                  <a:cubicBezTo>
                    <a:pt x="45" y="247"/>
                    <a:pt x="47" y="233"/>
                    <a:pt x="30" y="150"/>
                  </a:cubicBezTo>
                  <a:cubicBezTo>
                    <a:pt x="35" y="120"/>
                    <a:pt x="28" y="85"/>
                    <a:pt x="45" y="60"/>
                  </a:cubicBezTo>
                  <a:cubicBezTo>
                    <a:pt x="66" y="30"/>
                    <a:pt x="135" y="0"/>
                    <a:pt x="135" y="0"/>
                  </a:cubicBezTo>
                  <a:cubicBezTo>
                    <a:pt x="139" y="1"/>
                    <a:pt x="230" y="22"/>
                    <a:pt x="240" y="30"/>
                  </a:cubicBezTo>
                  <a:cubicBezTo>
                    <a:pt x="272" y="56"/>
                    <a:pt x="291" y="137"/>
                    <a:pt x="300" y="165"/>
                  </a:cubicBezTo>
                  <a:cubicBezTo>
                    <a:pt x="325" y="240"/>
                    <a:pt x="350" y="315"/>
                    <a:pt x="375" y="390"/>
                  </a:cubicBezTo>
                  <a:cubicBezTo>
                    <a:pt x="385" y="420"/>
                    <a:pt x="387" y="454"/>
                    <a:pt x="405" y="480"/>
                  </a:cubicBezTo>
                  <a:cubicBezTo>
                    <a:pt x="452" y="550"/>
                    <a:pt x="464" y="605"/>
                    <a:pt x="540" y="630"/>
                  </a:cubicBezTo>
                  <a:cubicBezTo>
                    <a:pt x="570" y="625"/>
                    <a:pt x="603" y="629"/>
                    <a:pt x="630" y="615"/>
                  </a:cubicBezTo>
                  <a:cubicBezTo>
                    <a:pt x="659" y="601"/>
                    <a:pt x="688" y="487"/>
                    <a:pt x="690" y="480"/>
                  </a:cubicBezTo>
                  <a:cubicBezTo>
                    <a:pt x="702" y="444"/>
                    <a:pt x="714" y="413"/>
                    <a:pt x="720" y="375"/>
                  </a:cubicBezTo>
                  <a:cubicBezTo>
                    <a:pt x="721" y="369"/>
                    <a:pt x="738" y="207"/>
                    <a:pt x="750" y="180"/>
                  </a:cubicBezTo>
                  <a:cubicBezTo>
                    <a:pt x="773" y="129"/>
                    <a:pt x="803" y="83"/>
                    <a:pt x="855" y="60"/>
                  </a:cubicBezTo>
                  <a:cubicBezTo>
                    <a:pt x="884" y="47"/>
                    <a:pt x="945" y="30"/>
                    <a:pt x="945" y="30"/>
                  </a:cubicBezTo>
                  <a:cubicBezTo>
                    <a:pt x="1061" y="108"/>
                    <a:pt x="1024" y="56"/>
                    <a:pt x="1065" y="180"/>
                  </a:cubicBezTo>
                  <a:cubicBezTo>
                    <a:pt x="1070" y="195"/>
                    <a:pt x="1075" y="210"/>
                    <a:pt x="1080" y="225"/>
                  </a:cubicBezTo>
                  <a:cubicBezTo>
                    <a:pt x="1085" y="240"/>
                    <a:pt x="1090" y="255"/>
                    <a:pt x="1095" y="270"/>
                  </a:cubicBezTo>
                  <a:cubicBezTo>
                    <a:pt x="1100" y="285"/>
                    <a:pt x="1110" y="315"/>
                    <a:pt x="1110" y="315"/>
                  </a:cubicBezTo>
                  <a:cubicBezTo>
                    <a:pt x="1115" y="360"/>
                    <a:pt x="1118" y="405"/>
                    <a:pt x="1125" y="450"/>
                  </a:cubicBezTo>
                  <a:cubicBezTo>
                    <a:pt x="1133" y="500"/>
                    <a:pt x="1169" y="537"/>
                    <a:pt x="1185" y="585"/>
                  </a:cubicBezTo>
                  <a:cubicBezTo>
                    <a:pt x="1262" y="576"/>
                    <a:pt x="1358" y="593"/>
                    <a:pt x="1395" y="510"/>
                  </a:cubicBezTo>
                  <a:cubicBezTo>
                    <a:pt x="1426" y="440"/>
                    <a:pt x="1424" y="416"/>
                    <a:pt x="1440" y="345"/>
                  </a:cubicBezTo>
                  <a:cubicBezTo>
                    <a:pt x="1444" y="325"/>
                    <a:pt x="1449" y="305"/>
                    <a:pt x="1455" y="285"/>
                  </a:cubicBezTo>
                  <a:cubicBezTo>
                    <a:pt x="1459" y="270"/>
                    <a:pt x="1470" y="240"/>
                    <a:pt x="1470" y="240"/>
                  </a:cubicBezTo>
                </a:path>
              </a:pathLst>
            </a:custGeom>
            <a:noFill/>
            <a:ln w="28440">
              <a:solidFill>
                <a:srgbClr val="ffff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Freeform 16"/>
            <p:cNvSpPr/>
            <p:nvPr/>
          </p:nvSpPr>
          <p:spPr>
            <a:xfrm rot="2100000">
              <a:off x="2531880" y="4558680"/>
              <a:ext cx="355680" cy="117000"/>
            </a:xfrm>
            <a:custGeom>
              <a:avLst/>
              <a:gdLst>
                <a:gd name="textAreaLeft" fmla="*/ 0 w 355680"/>
                <a:gd name="textAreaRight" fmla="*/ 356040 w 3556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1470" h="630">
                  <a:moveTo>
                    <a:pt x="0" y="315"/>
                  </a:moveTo>
                  <a:cubicBezTo>
                    <a:pt x="45" y="247"/>
                    <a:pt x="47" y="233"/>
                    <a:pt x="30" y="150"/>
                  </a:cubicBezTo>
                  <a:cubicBezTo>
                    <a:pt x="35" y="120"/>
                    <a:pt x="28" y="85"/>
                    <a:pt x="45" y="60"/>
                  </a:cubicBezTo>
                  <a:cubicBezTo>
                    <a:pt x="66" y="30"/>
                    <a:pt x="135" y="0"/>
                    <a:pt x="135" y="0"/>
                  </a:cubicBezTo>
                  <a:cubicBezTo>
                    <a:pt x="139" y="1"/>
                    <a:pt x="230" y="22"/>
                    <a:pt x="240" y="30"/>
                  </a:cubicBezTo>
                  <a:cubicBezTo>
                    <a:pt x="272" y="56"/>
                    <a:pt x="291" y="137"/>
                    <a:pt x="300" y="165"/>
                  </a:cubicBezTo>
                  <a:cubicBezTo>
                    <a:pt x="325" y="240"/>
                    <a:pt x="350" y="315"/>
                    <a:pt x="375" y="390"/>
                  </a:cubicBezTo>
                  <a:cubicBezTo>
                    <a:pt x="385" y="420"/>
                    <a:pt x="387" y="454"/>
                    <a:pt x="405" y="480"/>
                  </a:cubicBezTo>
                  <a:cubicBezTo>
                    <a:pt x="452" y="550"/>
                    <a:pt x="464" y="605"/>
                    <a:pt x="540" y="630"/>
                  </a:cubicBezTo>
                  <a:cubicBezTo>
                    <a:pt x="570" y="625"/>
                    <a:pt x="603" y="629"/>
                    <a:pt x="630" y="615"/>
                  </a:cubicBezTo>
                  <a:cubicBezTo>
                    <a:pt x="659" y="601"/>
                    <a:pt x="688" y="487"/>
                    <a:pt x="690" y="480"/>
                  </a:cubicBezTo>
                  <a:cubicBezTo>
                    <a:pt x="702" y="444"/>
                    <a:pt x="714" y="413"/>
                    <a:pt x="720" y="375"/>
                  </a:cubicBezTo>
                  <a:cubicBezTo>
                    <a:pt x="721" y="369"/>
                    <a:pt x="738" y="207"/>
                    <a:pt x="750" y="180"/>
                  </a:cubicBezTo>
                  <a:cubicBezTo>
                    <a:pt x="773" y="129"/>
                    <a:pt x="803" y="83"/>
                    <a:pt x="855" y="60"/>
                  </a:cubicBezTo>
                  <a:cubicBezTo>
                    <a:pt x="884" y="47"/>
                    <a:pt x="945" y="30"/>
                    <a:pt x="945" y="30"/>
                  </a:cubicBezTo>
                  <a:cubicBezTo>
                    <a:pt x="1061" y="108"/>
                    <a:pt x="1024" y="56"/>
                    <a:pt x="1065" y="180"/>
                  </a:cubicBezTo>
                  <a:cubicBezTo>
                    <a:pt x="1070" y="195"/>
                    <a:pt x="1075" y="210"/>
                    <a:pt x="1080" y="225"/>
                  </a:cubicBezTo>
                  <a:cubicBezTo>
                    <a:pt x="1085" y="240"/>
                    <a:pt x="1090" y="255"/>
                    <a:pt x="1095" y="270"/>
                  </a:cubicBezTo>
                  <a:cubicBezTo>
                    <a:pt x="1100" y="285"/>
                    <a:pt x="1110" y="315"/>
                    <a:pt x="1110" y="315"/>
                  </a:cubicBezTo>
                  <a:cubicBezTo>
                    <a:pt x="1115" y="360"/>
                    <a:pt x="1118" y="405"/>
                    <a:pt x="1125" y="450"/>
                  </a:cubicBezTo>
                  <a:cubicBezTo>
                    <a:pt x="1133" y="500"/>
                    <a:pt x="1169" y="537"/>
                    <a:pt x="1185" y="585"/>
                  </a:cubicBezTo>
                  <a:cubicBezTo>
                    <a:pt x="1262" y="576"/>
                    <a:pt x="1358" y="593"/>
                    <a:pt x="1395" y="510"/>
                  </a:cubicBezTo>
                  <a:cubicBezTo>
                    <a:pt x="1426" y="440"/>
                    <a:pt x="1424" y="416"/>
                    <a:pt x="1440" y="345"/>
                  </a:cubicBezTo>
                  <a:cubicBezTo>
                    <a:pt x="1444" y="325"/>
                    <a:pt x="1449" y="305"/>
                    <a:pt x="1455" y="285"/>
                  </a:cubicBezTo>
                  <a:cubicBezTo>
                    <a:pt x="1459" y="270"/>
                    <a:pt x="1470" y="240"/>
                    <a:pt x="1470" y="240"/>
                  </a:cubicBezTo>
                </a:path>
              </a:pathLst>
            </a:custGeom>
            <a:noFill/>
            <a:ln w="28440">
              <a:solidFill>
                <a:srgbClr val="ffff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Freeform 17"/>
            <p:cNvSpPr/>
            <p:nvPr/>
          </p:nvSpPr>
          <p:spPr>
            <a:xfrm rot="18206400">
              <a:off x="2539440" y="3527640"/>
              <a:ext cx="342720" cy="11916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70" h="630">
                  <a:moveTo>
                    <a:pt x="0" y="315"/>
                  </a:moveTo>
                  <a:cubicBezTo>
                    <a:pt x="45" y="247"/>
                    <a:pt x="47" y="233"/>
                    <a:pt x="30" y="150"/>
                  </a:cubicBezTo>
                  <a:cubicBezTo>
                    <a:pt x="35" y="120"/>
                    <a:pt x="28" y="85"/>
                    <a:pt x="45" y="60"/>
                  </a:cubicBezTo>
                  <a:cubicBezTo>
                    <a:pt x="66" y="30"/>
                    <a:pt x="135" y="0"/>
                    <a:pt x="135" y="0"/>
                  </a:cubicBezTo>
                  <a:cubicBezTo>
                    <a:pt x="139" y="1"/>
                    <a:pt x="230" y="22"/>
                    <a:pt x="240" y="30"/>
                  </a:cubicBezTo>
                  <a:cubicBezTo>
                    <a:pt x="272" y="56"/>
                    <a:pt x="291" y="137"/>
                    <a:pt x="300" y="165"/>
                  </a:cubicBezTo>
                  <a:cubicBezTo>
                    <a:pt x="325" y="240"/>
                    <a:pt x="350" y="315"/>
                    <a:pt x="375" y="390"/>
                  </a:cubicBezTo>
                  <a:cubicBezTo>
                    <a:pt x="385" y="420"/>
                    <a:pt x="387" y="454"/>
                    <a:pt x="405" y="480"/>
                  </a:cubicBezTo>
                  <a:cubicBezTo>
                    <a:pt x="452" y="550"/>
                    <a:pt x="464" y="605"/>
                    <a:pt x="540" y="630"/>
                  </a:cubicBezTo>
                  <a:cubicBezTo>
                    <a:pt x="570" y="625"/>
                    <a:pt x="603" y="629"/>
                    <a:pt x="630" y="615"/>
                  </a:cubicBezTo>
                  <a:cubicBezTo>
                    <a:pt x="659" y="601"/>
                    <a:pt x="688" y="487"/>
                    <a:pt x="690" y="480"/>
                  </a:cubicBezTo>
                  <a:cubicBezTo>
                    <a:pt x="702" y="444"/>
                    <a:pt x="714" y="413"/>
                    <a:pt x="720" y="375"/>
                  </a:cubicBezTo>
                  <a:cubicBezTo>
                    <a:pt x="721" y="369"/>
                    <a:pt x="738" y="207"/>
                    <a:pt x="750" y="180"/>
                  </a:cubicBezTo>
                  <a:cubicBezTo>
                    <a:pt x="773" y="129"/>
                    <a:pt x="803" y="83"/>
                    <a:pt x="855" y="60"/>
                  </a:cubicBezTo>
                  <a:cubicBezTo>
                    <a:pt x="884" y="47"/>
                    <a:pt x="945" y="30"/>
                    <a:pt x="945" y="30"/>
                  </a:cubicBezTo>
                  <a:cubicBezTo>
                    <a:pt x="1061" y="108"/>
                    <a:pt x="1024" y="56"/>
                    <a:pt x="1065" y="180"/>
                  </a:cubicBezTo>
                  <a:cubicBezTo>
                    <a:pt x="1070" y="195"/>
                    <a:pt x="1075" y="210"/>
                    <a:pt x="1080" y="225"/>
                  </a:cubicBezTo>
                  <a:cubicBezTo>
                    <a:pt x="1085" y="240"/>
                    <a:pt x="1090" y="255"/>
                    <a:pt x="1095" y="270"/>
                  </a:cubicBezTo>
                  <a:cubicBezTo>
                    <a:pt x="1100" y="285"/>
                    <a:pt x="1110" y="315"/>
                    <a:pt x="1110" y="315"/>
                  </a:cubicBezTo>
                  <a:cubicBezTo>
                    <a:pt x="1115" y="360"/>
                    <a:pt x="1118" y="405"/>
                    <a:pt x="1125" y="450"/>
                  </a:cubicBezTo>
                  <a:cubicBezTo>
                    <a:pt x="1133" y="500"/>
                    <a:pt x="1169" y="537"/>
                    <a:pt x="1185" y="585"/>
                  </a:cubicBezTo>
                  <a:cubicBezTo>
                    <a:pt x="1262" y="576"/>
                    <a:pt x="1358" y="593"/>
                    <a:pt x="1395" y="510"/>
                  </a:cubicBezTo>
                  <a:cubicBezTo>
                    <a:pt x="1426" y="440"/>
                    <a:pt x="1424" y="416"/>
                    <a:pt x="1440" y="345"/>
                  </a:cubicBezTo>
                  <a:cubicBezTo>
                    <a:pt x="1444" y="325"/>
                    <a:pt x="1449" y="305"/>
                    <a:pt x="1455" y="285"/>
                  </a:cubicBezTo>
                  <a:cubicBezTo>
                    <a:pt x="1459" y="270"/>
                    <a:pt x="1470" y="240"/>
                    <a:pt x="1470" y="240"/>
                  </a:cubicBezTo>
                </a:path>
              </a:pathLst>
            </a:custGeom>
            <a:noFill/>
            <a:ln w="28440">
              <a:solidFill>
                <a:srgbClr val="ffff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/>
          </p:nvPr>
        </p:nvSpPr>
        <p:spPr>
          <a:xfrm>
            <a:off x="250560" y="1988640"/>
            <a:ext cx="84358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1815г Жан Батист Био открыл явление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оптической активност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особности жидкости изменять (отклонять на некоторый угол)  плоскость поляризац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яризованного све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прохождения через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раство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оптически активного веществ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лоскость, в которой колеблются световые волны, поворачивается на некоторый угол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  <a:ea typeface="Arial"/>
              </a:rPr>
              <a:t>α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плоскость поляризации света смещается по часовой стрелке, такое вещество называют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правовращающим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(+)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если против часовой стрелки, то вещество называют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левовращающим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Arial"/>
              </a:rPr>
              <a:t>–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20" name="Group 35"/>
          <p:cNvGrpSpPr/>
          <p:nvPr/>
        </p:nvGrpSpPr>
        <p:grpSpPr>
          <a:xfrm>
            <a:off x="1116000" y="1700280"/>
            <a:ext cx="6408720" cy="2523960"/>
            <a:chOff x="1116000" y="1700280"/>
            <a:chExt cx="6408720" cy="2523960"/>
          </a:xfrm>
        </p:grpSpPr>
        <p:sp>
          <p:nvSpPr>
            <p:cNvPr id="1321" name="AutoShape 36"/>
            <p:cNvSpPr/>
            <p:nvPr/>
          </p:nvSpPr>
          <p:spPr>
            <a:xfrm>
              <a:off x="1116000" y="1700280"/>
              <a:ext cx="6408720" cy="2523960"/>
            </a:xfrm>
            <a:prstGeom prst="rect">
              <a:avLst/>
            </a:pr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Rectangle 37"/>
            <p:cNvSpPr/>
            <p:nvPr/>
          </p:nvSpPr>
          <p:spPr>
            <a:xfrm>
              <a:off x="2229840" y="2847600"/>
              <a:ext cx="933120" cy="228600"/>
            </a:xfrm>
            <a:prstGeom prst="rect">
              <a:avLst/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Freeform 38"/>
            <p:cNvSpPr/>
            <p:nvPr/>
          </p:nvSpPr>
          <p:spPr>
            <a:xfrm>
              <a:off x="2385360" y="2847600"/>
              <a:ext cx="623520" cy="22860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470" h="630">
                  <a:moveTo>
                    <a:pt x="0" y="315"/>
                  </a:moveTo>
                  <a:cubicBezTo>
                    <a:pt x="45" y="247"/>
                    <a:pt x="47" y="233"/>
                    <a:pt x="30" y="150"/>
                  </a:cubicBezTo>
                  <a:cubicBezTo>
                    <a:pt x="35" y="120"/>
                    <a:pt x="28" y="85"/>
                    <a:pt x="45" y="60"/>
                  </a:cubicBezTo>
                  <a:cubicBezTo>
                    <a:pt x="66" y="30"/>
                    <a:pt x="135" y="0"/>
                    <a:pt x="135" y="0"/>
                  </a:cubicBezTo>
                  <a:cubicBezTo>
                    <a:pt x="139" y="1"/>
                    <a:pt x="230" y="22"/>
                    <a:pt x="240" y="30"/>
                  </a:cubicBezTo>
                  <a:cubicBezTo>
                    <a:pt x="272" y="56"/>
                    <a:pt x="291" y="137"/>
                    <a:pt x="300" y="165"/>
                  </a:cubicBezTo>
                  <a:cubicBezTo>
                    <a:pt x="325" y="240"/>
                    <a:pt x="350" y="315"/>
                    <a:pt x="375" y="390"/>
                  </a:cubicBezTo>
                  <a:cubicBezTo>
                    <a:pt x="385" y="420"/>
                    <a:pt x="387" y="454"/>
                    <a:pt x="405" y="480"/>
                  </a:cubicBezTo>
                  <a:cubicBezTo>
                    <a:pt x="452" y="550"/>
                    <a:pt x="464" y="605"/>
                    <a:pt x="540" y="630"/>
                  </a:cubicBezTo>
                  <a:cubicBezTo>
                    <a:pt x="570" y="625"/>
                    <a:pt x="603" y="629"/>
                    <a:pt x="630" y="615"/>
                  </a:cubicBezTo>
                  <a:cubicBezTo>
                    <a:pt x="659" y="601"/>
                    <a:pt x="688" y="487"/>
                    <a:pt x="690" y="480"/>
                  </a:cubicBezTo>
                  <a:cubicBezTo>
                    <a:pt x="702" y="444"/>
                    <a:pt x="714" y="413"/>
                    <a:pt x="720" y="375"/>
                  </a:cubicBezTo>
                  <a:cubicBezTo>
                    <a:pt x="721" y="369"/>
                    <a:pt x="738" y="207"/>
                    <a:pt x="750" y="180"/>
                  </a:cubicBezTo>
                  <a:cubicBezTo>
                    <a:pt x="773" y="129"/>
                    <a:pt x="803" y="83"/>
                    <a:pt x="855" y="60"/>
                  </a:cubicBezTo>
                  <a:cubicBezTo>
                    <a:pt x="884" y="47"/>
                    <a:pt x="945" y="30"/>
                    <a:pt x="945" y="30"/>
                  </a:cubicBezTo>
                  <a:cubicBezTo>
                    <a:pt x="1061" y="108"/>
                    <a:pt x="1024" y="56"/>
                    <a:pt x="1065" y="180"/>
                  </a:cubicBezTo>
                  <a:cubicBezTo>
                    <a:pt x="1070" y="195"/>
                    <a:pt x="1075" y="210"/>
                    <a:pt x="1080" y="225"/>
                  </a:cubicBezTo>
                  <a:cubicBezTo>
                    <a:pt x="1085" y="240"/>
                    <a:pt x="1090" y="255"/>
                    <a:pt x="1095" y="270"/>
                  </a:cubicBezTo>
                  <a:cubicBezTo>
                    <a:pt x="1100" y="285"/>
                    <a:pt x="1110" y="315"/>
                    <a:pt x="1110" y="315"/>
                  </a:cubicBezTo>
                  <a:cubicBezTo>
                    <a:pt x="1115" y="360"/>
                    <a:pt x="1118" y="405"/>
                    <a:pt x="1125" y="450"/>
                  </a:cubicBezTo>
                  <a:cubicBezTo>
                    <a:pt x="1133" y="500"/>
                    <a:pt x="1169" y="537"/>
                    <a:pt x="1185" y="585"/>
                  </a:cubicBezTo>
                  <a:cubicBezTo>
                    <a:pt x="1262" y="576"/>
                    <a:pt x="1358" y="593"/>
                    <a:pt x="1395" y="510"/>
                  </a:cubicBezTo>
                  <a:cubicBezTo>
                    <a:pt x="1426" y="440"/>
                    <a:pt x="1424" y="416"/>
                    <a:pt x="1440" y="345"/>
                  </a:cubicBezTo>
                  <a:cubicBezTo>
                    <a:pt x="1444" y="325"/>
                    <a:pt x="1449" y="305"/>
                    <a:pt x="1455" y="285"/>
                  </a:cubicBezTo>
                  <a:cubicBezTo>
                    <a:pt x="1459" y="270"/>
                    <a:pt x="1470" y="240"/>
                    <a:pt x="1470" y="240"/>
                  </a:cubicBezTo>
                </a:path>
              </a:pathLst>
            </a:custGeom>
            <a:solidFill>
              <a:srgbClr val="c4c4c4"/>
            </a:solid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AutoShape 39"/>
            <p:cNvSpPr/>
            <p:nvPr/>
          </p:nvSpPr>
          <p:spPr>
            <a:xfrm>
              <a:off x="4253040" y="2847600"/>
              <a:ext cx="1653840" cy="228600"/>
            </a:xfrm>
            <a:prstGeom prst="parallelogram">
              <a:avLst>
                <a:gd name="adj" fmla="val 180866"/>
              </a:avLst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Freeform 40"/>
            <p:cNvSpPr/>
            <p:nvPr/>
          </p:nvSpPr>
          <p:spPr>
            <a:xfrm rot="20831400">
              <a:off x="4563720" y="2847240"/>
              <a:ext cx="933120" cy="22860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650" h="875">
                  <a:moveTo>
                    <a:pt x="0" y="270"/>
                  </a:moveTo>
                  <a:cubicBezTo>
                    <a:pt x="15" y="260"/>
                    <a:pt x="29" y="248"/>
                    <a:pt x="45" y="240"/>
                  </a:cubicBezTo>
                  <a:cubicBezTo>
                    <a:pt x="59" y="233"/>
                    <a:pt x="76" y="233"/>
                    <a:pt x="90" y="225"/>
                  </a:cubicBezTo>
                  <a:cubicBezTo>
                    <a:pt x="122" y="207"/>
                    <a:pt x="180" y="165"/>
                    <a:pt x="180" y="165"/>
                  </a:cubicBezTo>
                  <a:cubicBezTo>
                    <a:pt x="235" y="82"/>
                    <a:pt x="178" y="148"/>
                    <a:pt x="255" y="105"/>
                  </a:cubicBezTo>
                  <a:cubicBezTo>
                    <a:pt x="287" y="87"/>
                    <a:pt x="315" y="65"/>
                    <a:pt x="345" y="45"/>
                  </a:cubicBezTo>
                  <a:cubicBezTo>
                    <a:pt x="385" y="19"/>
                    <a:pt x="480" y="7"/>
                    <a:pt x="525" y="0"/>
                  </a:cubicBezTo>
                  <a:cubicBezTo>
                    <a:pt x="603" y="26"/>
                    <a:pt x="609" y="23"/>
                    <a:pt x="630" y="105"/>
                  </a:cubicBezTo>
                  <a:cubicBezTo>
                    <a:pt x="590" y="225"/>
                    <a:pt x="543" y="237"/>
                    <a:pt x="465" y="315"/>
                  </a:cubicBezTo>
                  <a:cubicBezTo>
                    <a:pt x="427" y="428"/>
                    <a:pt x="483" y="293"/>
                    <a:pt x="405" y="390"/>
                  </a:cubicBezTo>
                  <a:cubicBezTo>
                    <a:pt x="395" y="402"/>
                    <a:pt x="397" y="421"/>
                    <a:pt x="390" y="435"/>
                  </a:cubicBezTo>
                  <a:cubicBezTo>
                    <a:pt x="332" y="551"/>
                    <a:pt x="383" y="412"/>
                    <a:pt x="345" y="525"/>
                  </a:cubicBezTo>
                  <a:cubicBezTo>
                    <a:pt x="363" y="578"/>
                    <a:pt x="380" y="621"/>
                    <a:pt x="435" y="645"/>
                  </a:cubicBezTo>
                  <a:cubicBezTo>
                    <a:pt x="464" y="658"/>
                    <a:pt x="525" y="675"/>
                    <a:pt x="525" y="675"/>
                  </a:cubicBezTo>
                  <a:cubicBezTo>
                    <a:pt x="555" y="665"/>
                    <a:pt x="585" y="655"/>
                    <a:pt x="615" y="645"/>
                  </a:cubicBezTo>
                  <a:cubicBezTo>
                    <a:pt x="630" y="640"/>
                    <a:pt x="645" y="635"/>
                    <a:pt x="660" y="630"/>
                  </a:cubicBezTo>
                  <a:cubicBezTo>
                    <a:pt x="675" y="625"/>
                    <a:pt x="705" y="615"/>
                    <a:pt x="705" y="615"/>
                  </a:cubicBezTo>
                  <a:cubicBezTo>
                    <a:pt x="715" y="600"/>
                    <a:pt x="721" y="581"/>
                    <a:pt x="735" y="570"/>
                  </a:cubicBezTo>
                  <a:cubicBezTo>
                    <a:pt x="747" y="560"/>
                    <a:pt x="769" y="566"/>
                    <a:pt x="780" y="555"/>
                  </a:cubicBezTo>
                  <a:cubicBezTo>
                    <a:pt x="791" y="544"/>
                    <a:pt x="782" y="519"/>
                    <a:pt x="795" y="510"/>
                  </a:cubicBezTo>
                  <a:cubicBezTo>
                    <a:pt x="821" y="492"/>
                    <a:pt x="885" y="480"/>
                    <a:pt x="885" y="480"/>
                  </a:cubicBezTo>
                  <a:cubicBezTo>
                    <a:pt x="895" y="465"/>
                    <a:pt x="901" y="446"/>
                    <a:pt x="915" y="435"/>
                  </a:cubicBezTo>
                  <a:cubicBezTo>
                    <a:pt x="927" y="425"/>
                    <a:pt x="946" y="428"/>
                    <a:pt x="960" y="420"/>
                  </a:cubicBezTo>
                  <a:cubicBezTo>
                    <a:pt x="992" y="402"/>
                    <a:pt x="1020" y="380"/>
                    <a:pt x="1050" y="360"/>
                  </a:cubicBezTo>
                  <a:cubicBezTo>
                    <a:pt x="1080" y="340"/>
                    <a:pt x="1106" y="311"/>
                    <a:pt x="1140" y="300"/>
                  </a:cubicBezTo>
                  <a:cubicBezTo>
                    <a:pt x="1170" y="290"/>
                    <a:pt x="1200" y="280"/>
                    <a:pt x="1230" y="270"/>
                  </a:cubicBezTo>
                  <a:cubicBezTo>
                    <a:pt x="1245" y="265"/>
                    <a:pt x="1275" y="255"/>
                    <a:pt x="1275" y="255"/>
                  </a:cubicBezTo>
                  <a:cubicBezTo>
                    <a:pt x="1340" y="260"/>
                    <a:pt x="1411" y="242"/>
                    <a:pt x="1470" y="270"/>
                  </a:cubicBezTo>
                  <a:cubicBezTo>
                    <a:pt x="1499" y="283"/>
                    <a:pt x="1500" y="360"/>
                    <a:pt x="1500" y="360"/>
                  </a:cubicBezTo>
                  <a:cubicBezTo>
                    <a:pt x="1500" y="361"/>
                    <a:pt x="1477" y="458"/>
                    <a:pt x="1470" y="465"/>
                  </a:cubicBezTo>
                  <a:cubicBezTo>
                    <a:pt x="1445" y="490"/>
                    <a:pt x="1410" y="505"/>
                    <a:pt x="1380" y="525"/>
                  </a:cubicBezTo>
                  <a:cubicBezTo>
                    <a:pt x="1365" y="535"/>
                    <a:pt x="1335" y="555"/>
                    <a:pt x="1335" y="555"/>
                  </a:cubicBezTo>
                  <a:cubicBezTo>
                    <a:pt x="1330" y="570"/>
                    <a:pt x="1327" y="586"/>
                    <a:pt x="1320" y="600"/>
                  </a:cubicBezTo>
                  <a:cubicBezTo>
                    <a:pt x="1312" y="616"/>
                    <a:pt x="1297" y="629"/>
                    <a:pt x="1290" y="645"/>
                  </a:cubicBezTo>
                  <a:cubicBezTo>
                    <a:pt x="1277" y="674"/>
                    <a:pt x="1270" y="705"/>
                    <a:pt x="1260" y="735"/>
                  </a:cubicBezTo>
                  <a:cubicBezTo>
                    <a:pt x="1255" y="750"/>
                    <a:pt x="1245" y="780"/>
                    <a:pt x="1245" y="780"/>
                  </a:cubicBezTo>
                  <a:cubicBezTo>
                    <a:pt x="1277" y="875"/>
                    <a:pt x="1328" y="837"/>
                    <a:pt x="1425" y="825"/>
                  </a:cubicBezTo>
                  <a:cubicBezTo>
                    <a:pt x="1494" y="802"/>
                    <a:pt x="1578" y="765"/>
                    <a:pt x="1650" y="765"/>
                  </a:cubicBezTo>
                </a:path>
              </a:pathLst>
            </a:custGeom>
            <a:solidFill>
              <a:srgbClr val="c4c4c4"/>
            </a:solid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Rectangle 41"/>
            <p:cNvSpPr/>
            <p:nvPr/>
          </p:nvSpPr>
          <p:spPr>
            <a:xfrm>
              <a:off x="3318480" y="2619000"/>
              <a:ext cx="466920" cy="572040"/>
            </a:xfrm>
            <a:prstGeom prst="rect">
              <a:avLst/>
            </a:prstGeom>
            <a:gradFill rotWithShape="0">
              <a:gsLst>
                <a:gs pos="0">
                  <a:srgbClr val="e5e5e5"/>
                </a:gs>
                <a:gs pos="100000">
                  <a:srgbClr val="6a6a6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Line 42"/>
            <p:cNvSpPr/>
            <p:nvPr/>
          </p:nvSpPr>
          <p:spPr>
            <a:xfrm>
              <a:off x="3940920" y="2390400"/>
              <a:ext cx="1080" cy="10285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Line 43"/>
            <p:cNvSpPr/>
            <p:nvPr/>
          </p:nvSpPr>
          <p:spPr>
            <a:xfrm flipH="1">
              <a:off x="3652920" y="2496960"/>
              <a:ext cx="1042560" cy="931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Freeform 44"/>
            <p:cNvSpPr/>
            <p:nvPr/>
          </p:nvSpPr>
          <p:spPr>
            <a:xfrm rot="878400">
              <a:off x="3940560" y="2619000"/>
              <a:ext cx="465840" cy="114480"/>
            </a:xfrm>
            <a:custGeom>
              <a:avLst/>
              <a:gdLst>
                <a:gd name="textAreaLeft" fmla="*/ 0 w 465840"/>
                <a:gd name="textAreaRight" fmla="*/ 466200 w 46584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840" h="345">
                  <a:moveTo>
                    <a:pt x="0" y="105"/>
                  </a:moveTo>
                  <a:cubicBezTo>
                    <a:pt x="70" y="82"/>
                    <a:pt x="126" y="51"/>
                    <a:pt x="195" y="30"/>
                  </a:cubicBezTo>
                  <a:cubicBezTo>
                    <a:pt x="225" y="21"/>
                    <a:pt x="285" y="0"/>
                    <a:pt x="285" y="0"/>
                  </a:cubicBezTo>
                  <a:cubicBezTo>
                    <a:pt x="310" y="5"/>
                    <a:pt x="335" y="9"/>
                    <a:pt x="360" y="15"/>
                  </a:cubicBezTo>
                  <a:cubicBezTo>
                    <a:pt x="375" y="19"/>
                    <a:pt x="390" y="27"/>
                    <a:pt x="405" y="30"/>
                  </a:cubicBezTo>
                  <a:cubicBezTo>
                    <a:pt x="498" y="51"/>
                    <a:pt x="580" y="51"/>
                    <a:pt x="660" y="105"/>
                  </a:cubicBezTo>
                  <a:cubicBezTo>
                    <a:pt x="746" y="234"/>
                    <a:pt x="631" y="82"/>
                    <a:pt x="735" y="165"/>
                  </a:cubicBezTo>
                  <a:cubicBezTo>
                    <a:pt x="749" y="176"/>
                    <a:pt x="752" y="197"/>
                    <a:pt x="765" y="210"/>
                  </a:cubicBezTo>
                  <a:cubicBezTo>
                    <a:pt x="778" y="223"/>
                    <a:pt x="795" y="230"/>
                    <a:pt x="810" y="240"/>
                  </a:cubicBezTo>
                  <a:cubicBezTo>
                    <a:pt x="815" y="260"/>
                    <a:pt x="819" y="280"/>
                    <a:pt x="825" y="300"/>
                  </a:cubicBezTo>
                  <a:cubicBezTo>
                    <a:pt x="829" y="315"/>
                    <a:pt x="840" y="345"/>
                    <a:pt x="840" y="345"/>
                  </a:cubicBezTo>
                </a:path>
              </a:pathLst>
            </a:custGeom>
            <a:solidFill>
              <a:srgbClr val="c4c4c4"/>
            </a:solidFill>
            <a:ln w="1260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Freeform 45"/>
            <p:cNvSpPr/>
            <p:nvPr/>
          </p:nvSpPr>
          <p:spPr>
            <a:xfrm>
              <a:off x="4248360" y="2455200"/>
              <a:ext cx="159840" cy="14904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217" h="331">
                  <a:moveTo>
                    <a:pt x="157" y="0"/>
                  </a:moveTo>
                  <a:cubicBezTo>
                    <a:pt x="139" y="109"/>
                    <a:pt x="129" y="193"/>
                    <a:pt x="52" y="270"/>
                  </a:cubicBezTo>
                  <a:cubicBezTo>
                    <a:pt x="37" y="265"/>
                    <a:pt x="14" y="269"/>
                    <a:pt x="7" y="255"/>
                  </a:cubicBezTo>
                  <a:cubicBezTo>
                    <a:pt x="0" y="241"/>
                    <a:pt x="7" y="216"/>
                    <a:pt x="22" y="210"/>
                  </a:cubicBezTo>
                  <a:cubicBezTo>
                    <a:pt x="41" y="202"/>
                    <a:pt x="62" y="220"/>
                    <a:pt x="82" y="225"/>
                  </a:cubicBezTo>
                  <a:cubicBezTo>
                    <a:pt x="144" y="319"/>
                    <a:pt x="111" y="331"/>
                    <a:pt x="187" y="300"/>
                  </a:cubicBezTo>
                  <a:cubicBezTo>
                    <a:pt x="197" y="296"/>
                    <a:pt x="207" y="290"/>
                    <a:pt x="217" y="285"/>
                  </a:cubicBezTo>
                </a:path>
              </a:pathLst>
            </a:custGeom>
            <a:solidFill>
              <a:srgbClr val="c4c4c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AutoShape 46"/>
            <p:cNvSpPr/>
            <p:nvPr/>
          </p:nvSpPr>
          <p:spPr>
            <a:xfrm>
              <a:off x="6585840" y="2733840"/>
              <a:ext cx="621360" cy="34416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AutoShape 47"/>
            <p:cNvSpPr/>
            <p:nvPr/>
          </p:nvSpPr>
          <p:spPr>
            <a:xfrm>
              <a:off x="1451880" y="2047680"/>
              <a:ext cx="1249200" cy="456480"/>
            </a:xfrm>
            <a:prstGeom prst="wedgeRectCallout">
              <a:avLst>
                <a:gd name="adj1" fmla="val 27699"/>
                <a:gd name="adj2" fmla="val 118055"/>
              </a:avLst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оляризованный   свет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AutoShape 48"/>
            <p:cNvSpPr/>
            <p:nvPr/>
          </p:nvSpPr>
          <p:spPr>
            <a:xfrm>
              <a:off x="3007800" y="1704960"/>
              <a:ext cx="1400400" cy="457200"/>
            </a:xfrm>
            <a:prstGeom prst="wedgeRectCallout">
              <a:avLst>
                <a:gd name="adj1" fmla="val -16666"/>
                <a:gd name="adj2" fmla="val 138888"/>
              </a:avLst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Исследуемый раствор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AutoShape 49"/>
            <p:cNvSpPr/>
            <p:nvPr/>
          </p:nvSpPr>
          <p:spPr>
            <a:xfrm>
              <a:off x="1141200" y="2733840"/>
              <a:ext cx="467280" cy="342720"/>
            </a:xfrm>
            <a:prstGeom prst="irregularSeal1">
              <a:avLst/>
            </a:prstGeom>
            <a:gradFill rotWithShape="0">
              <a:gsLst>
                <a:gs pos="0">
                  <a:srgbClr val="ffffb1"/>
                </a:gs>
                <a:gs pos="100000">
                  <a:srgbClr val="ffff8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AutoShape 50"/>
            <p:cNvSpPr/>
            <p:nvPr/>
          </p:nvSpPr>
          <p:spPr>
            <a:xfrm flipV="1">
              <a:off x="1763640" y="2733840"/>
              <a:ext cx="155160" cy="342720"/>
            </a:xfrm>
            <a:prstGeom prst="flowChartManualOperation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Line 51"/>
            <p:cNvSpPr/>
            <p:nvPr/>
          </p:nvSpPr>
          <p:spPr>
            <a:xfrm>
              <a:off x="1608480" y="2961720"/>
              <a:ext cx="4821840" cy="0"/>
            </a:xfrm>
            <a:prstGeom prst="line">
              <a:avLst/>
            </a:prstGeom>
            <a:ln w="19080">
              <a:solidFill>
                <a:srgbClr val="f6f000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AutoShape 52"/>
            <p:cNvSpPr/>
            <p:nvPr/>
          </p:nvSpPr>
          <p:spPr>
            <a:xfrm>
              <a:off x="1296360" y="3419280"/>
              <a:ext cx="1243800" cy="343080"/>
            </a:xfrm>
            <a:prstGeom prst="wedgeRectCallout">
              <a:avLst>
                <a:gd name="adj1" fmla="val -4092"/>
                <a:gd name="adj2" fmla="val -143898"/>
              </a:avLst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оляризатор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AutoShape 53"/>
            <p:cNvSpPr/>
            <p:nvPr/>
          </p:nvSpPr>
          <p:spPr>
            <a:xfrm>
              <a:off x="6119640" y="2047680"/>
              <a:ext cx="1398240" cy="344880"/>
            </a:xfrm>
            <a:prstGeom prst="wedgeRectCallout">
              <a:avLst>
                <a:gd name="adj1" fmla="val 11120"/>
                <a:gd name="adj2" fmla="val 132171"/>
              </a:avLst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Наблюдатель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AutoShape 54"/>
            <p:cNvSpPr/>
            <p:nvPr/>
          </p:nvSpPr>
          <p:spPr>
            <a:xfrm>
              <a:off x="4563720" y="3304440"/>
              <a:ext cx="1243800" cy="914760"/>
            </a:xfrm>
            <a:prstGeom prst="wedgeRectCallout">
              <a:avLst>
                <a:gd name="adj1" fmla="val -52078"/>
                <a:gd name="adj2" fmla="val -71097"/>
              </a:avLst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лоскость поляризации света повернулась на угол α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Freeform 55"/>
            <p:cNvSpPr/>
            <p:nvPr/>
          </p:nvSpPr>
          <p:spPr>
            <a:xfrm>
              <a:off x="3327480" y="2728080"/>
              <a:ext cx="439200" cy="28800"/>
            </a:xfrm>
            <a:custGeom>
              <a:avLst/>
              <a:gdLst>
                <a:gd name="textAreaLeft" fmla="*/ 0 w 439200"/>
                <a:gd name="textAreaRight" fmla="*/ 439560 w 4392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10" h="45">
                  <a:moveTo>
                    <a:pt x="0" y="30"/>
                  </a:moveTo>
                  <a:cubicBezTo>
                    <a:pt x="25" y="25"/>
                    <a:pt x="50" y="13"/>
                    <a:pt x="75" y="15"/>
                  </a:cubicBezTo>
                  <a:cubicBezTo>
                    <a:pt x="106" y="18"/>
                    <a:pt x="165" y="45"/>
                    <a:pt x="165" y="45"/>
                  </a:cubicBezTo>
                  <a:cubicBezTo>
                    <a:pt x="195" y="35"/>
                    <a:pt x="225" y="25"/>
                    <a:pt x="255" y="15"/>
                  </a:cubicBezTo>
                  <a:cubicBezTo>
                    <a:pt x="270" y="10"/>
                    <a:pt x="300" y="0"/>
                    <a:pt x="300" y="0"/>
                  </a:cubicBezTo>
                  <a:cubicBezTo>
                    <a:pt x="315" y="10"/>
                    <a:pt x="327" y="28"/>
                    <a:pt x="345" y="30"/>
                  </a:cubicBezTo>
                  <a:cubicBezTo>
                    <a:pt x="397" y="36"/>
                    <a:pt x="456" y="0"/>
                    <a:pt x="510" y="0"/>
                  </a:cubicBezTo>
                </a:path>
              </a:pathLst>
            </a:custGeom>
            <a:solidFill>
              <a:srgbClr val="c4c4c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1" name="AutoShape 56"/>
          <p:cNvSpPr/>
          <p:nvPr/>
        </p:nvSpPr>
        <p:spPr>
          <a:xfrm>
            <a:off x="7020000" y="5734080"/>
            <a:ext cx="1834920" cy="963720"/>
          </a:xfrm>
          <a:prstGeom prst="upArrowCallout">
            <a:avLst>
              <a:gd name="adj1" fmla="val 47604"/>
              <a:gd name="adj2" fmla="val 47600"/>
              <a:gd name="adj3" fmla="val 16667"/>
              <a:gd name="adj4" fmla="val 66660"/>
            </a:avLst>
          </a:prstGeom>
          <a:solidFill>
            <a:srgbClr val="c6c6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Верн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к объясн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/>
          </p:nvPr>
        </p:nvSpPr>
        <p:spPr>
          <a:xfrm>
            <a:off x="457200" y="335772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4a4a6e"/>
                </a:solidFill>
                <a:latin typeface="Arial"/>
              </a:rPr>
              <a:t>Вы поняли что такое изомер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a6e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4a4a6e"/>
                </a:solidFill>
                <a:latin typeface="Arial"/>
              </a:rPr>
              <a:t>Научились строить изоме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a6e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4a4a6e"/>
                </a:solidFill>
                <a:latin typeface="Arial"/>
              </a:rPr>
              <a:t>Значит самое время приступить к выполнению Домашнего Зад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a6e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4a4a6e"/>
                </a:solidFill>
                <a:latin typeface="Arial"/>
              </a:rPr>
              <a:t>Желаю успе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WordArt 4"/>
          <p:cNvSpPr txBox="1"/>
          <p:nvPr/>
        </p:nvSpPr>
        <p:spPr>
          <a:xfrm rot="21455400">
            <a:off x="611280" y="252360"/>
            <a:ext cx="792000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64c4"/>
                    </a:gs>
                    <a:gs pos="100000">
                      <a:srgbClr val="800080"/>
                    </a:gs>
                  </a:gsLst>
                  <a:lin ang="5544000"/>
                </a:gradFill>
                <a:effectLst>
                  <a:outerShdw dist="77353" dir="562478" blurRad="0" rotWithShape="0">
                    <a:srgbClr val="3d3d3d"/>
                  </a:outerShdw>
                </a:effectLst>
                <a:latin typeface="Impact"/>
              </a:rPr>
              <a:t>конец  рабо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64c4"/>
                  </a:gs>
                  <a:gs pos="100000">
                    <a:srgbClr val="800080"/>
                  </a:gs>
                </a:gsLst>
                <a:lin ang="5544000"/>
              </a:gradFill>
              <a:effectLst>
                <a:outerShdw dist="77353" dir="562478" blurRad="0" rotWithShape="0">
                  <a:srgbClr val="3d3d3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9e4ff"/>
                </a:solidFill>
                <a:latin typeface="Arial"/>
              </a:rPr>
              <a:t>Кето – енольные превращения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358560" y="980640"/>
            <a:ext cx="8785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То есть превращение непредельного спирта в кетон или альдегид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пример, такое превращение наблюдается в </a:t>
            </a:r>
            <a:r>
              <a:rPr b="0" lang="ru-RU" sz="2800" spc="-1" strike="noStrike">
                <a:solidFill>
                  <a:srgbClr val="b9e4ff"/>
                </a:solidFill>
                <a:latin typeface="Arial"/>
              </a:rPr>
              <a:t>реакции Кучерова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(гидратация алкинов в присутствии катализатора)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fa6e"/>
                </a:solidFill>
                <a:latin typeface="Arial"/>
              </a:rPr>
              <a:t>СН 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≡ СН  +  Н</a:t>
            </a:r>
            <a:r>
              <a:rPr b="1" lang="ru-RU" sz="1800" spc="-1" strike="noStrike">
                <a:solidFill>
                  <a:srgbClr val="f7fa6e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О  </a:t>
            </a:r>
            <a:r>
              <a:rPr b="1" lang="en-US" sz="2800" spc="-1" strike="noStrike">
                <a:solidFill>
                  <a:srgbClr val="f7fa6e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  <a:ea typeface="Arial"/>
              </a:rPr>
              <a:t>  C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Н</a:t>
            </a:r>
            <a:r>
              <a:rPr b="1" lang="ru-RU" sz="1800" spc="-1" strike="noStrike">
                <a:solidFill>
                  <a:srgbClr val="f7fa6e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 = СН – ОН  </a:t>
            </a:r>
            <a:r>
              <a:rPr b="1" lang="ru-RU" sz="2800" spc="-1" strike="noStrike">
                <a:solidFill>
                  <a:srgbClr val="f7fa6e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  <a:ea typeface="Arial"/>
              </a:rPr>
              <a:t>  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СН</a:t>
            </a:r>
            <a:r>
              <a:rPr b="1" lang="ru-RU" sz="1800" spc="-1" strike="noStrike">
                <a:solidFill>
                  <a:srgbClr val="f7fa6e"/>
                </a:solidFill>
                <a:latin typeface="Arial"/>
                <a:ea typeface="Arial"/>
              </a:rPr>
              <a:t>3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 – СН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  <a:ea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этин                                            эт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енол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этаналь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В данном случае наблюдается перенос подвижного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атома водорода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от кислорода к соседнему атому углерод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ru-RU" sz="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endParaRPr b="0" lang="en-US" sz="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        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СН</a:t>
            </a:r>
            <a:r>
              <a:rPr b="1" lang="ru-RU" sz="1800" spc="-1" strike="noStrike">
                <a:solidFill>
                  <a:srgbClr val="f7fa6e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 = СН – ОН     </a:t>
            </a:r>
            <a:r>
              <a:rPr b="1" lang="ru-RU" sz="2800" spc="-1" strike="noStrike">
                <a:solidFill>
                  <a:srgbClr val="f7fa6e"/>
                </a:solidFill>
                <a:latin typeface="Wingdings"/>
                <a:ea typeface="Wingdings"/>
              </a:rPr>
              <a:t></a:t>
            </a:r>
            <a:r>
              <a:rPr b="1" lang="en-US" sz="2800" spc="-1" strike="noStrike">
                <a:solidFill>
                  <a:srgbClr val="f7fa6e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  <a:ea typeface="Arial"/>
              </a:rPr>
              <a:t>    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СН</a:t>
            </a:r>
            <a:r>
              <a:rPr b="1" lang="ru-RU" sz="1800" spc="-1" strike="noStrike">
                <a:solidFill>
                  <a:srgbClr val="f7fa6e"/>
                </a:solidFill>
                <a:latin typeface="Arial"/>
                <a:ea typeface="Arial"/>
              </a:rPr>
              <a:t>3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 – СН=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1" name="Arc 4"/>
          <p:cNvSpPr/>
          <p:nvPr/>
        </p:nvSpPr>
        <p:spPr>
          <a:xfrm rot="7284600">
            <a:off x="1985400" y="4933800"/>
            <a:ext cx="1712880" cy="1582920"/>
          </a:xfrm>
          <a:custGeom>
            <a:avLst/>
            <a:gdLst>
              <a:gd name="textAreaLeft" fmla="*/ 0 w 1712880"/>
              <a:gd name="textAreaRight" fmla="*/ 1713240 w 1712880"/>
              <a:gd name="textAreaTop" fmla="*/ 0 h 1582920"/>
              <a:gd name="textAreaBottom" fmla="*/ 1583280 h 1582920"/>
            </a:gdLst>
            <a:ahLst/>
            <a:rect l="textAreaLeft" t="textAreaTop" r="textAreaRight" b="textAreaBottom"/>
            <a:pathLst>
              <a:path fill="none" w="21600" h="22866">
                <a:moveTo>
                  <a:pt x="9724" y="0"/>
                </a:moveTo>
                <a:cubicBezTo>
                  <a:pt x="17006" y="3671"/>
                  <a:pt x="21600" y="11131"/>
                  <a:pt x="21600" y="19287"/>
                </a:cubicBezTo>
                <a:cubicBezTo>
                  <a:pt x="21600" y="20486"/>
                  <a:pt x="21500" y="21683"/>
                  <a:pt x="21301" y="22865"/>
                </a:cubicBezTo>
              </a:path>
              <a:path stroke="0" w="21600" h="22866">
                <a:moveTo>
                  <a:pt x="9724" y="0"/>
                </a:moveTo>
                <a:cubicBezTo>
                  <a:pt x="17006" y="3671"/>
                  <a:pt x="21600" y="11131"/>
                  <a:pt x="21600" y="19287"/>
                </a:cubicBezTo>
                <a:cubicBezTo>
                  <a:pt x="21600" y="20486"/>
                  <a:pt x="21500" y="21683"/>
                  <a:pt x="21301" y="22865"/>
                </a:cubicBezTo>
                <a:lnTo>
                  <a:pt x="0" y="19287"/>
                </a:lnTo>
                <a:lnTo>
                  <a:pt x="9724" y="0"/>
                </a:lnTo>
                <a:close/>
              </a:path>
            </a:pathLst>
          </a:custGeom>
          <a:noFill/>
          <a:ln w="28440">
            <a:solidFill>
              <a:srgbClr val="f8fb85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89647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fa6e"/>
                </a:solidFill>
                <a:latin typeface="Arial"/>
              </a:rPr>
              <a:t>                                     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</a:rPr>
              <a:t>Н – С = О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                                          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I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CH</a:t>
            </a:r>
            <a:r>
              <a:rPr b="1" lang="en-US" sz="1800" spc="-1" strike="noStrike">
                <a:solidFill>
                  <a:srgbClr val="fbfdbb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O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H – C – O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CH</a:t>
            </a:r>
            <a:r>
              <a:rPr b="1" lang="en-US" sz="1800" spc="-1" strike="noStrike">
                <a:solidFill>
                  <a:srgbClr val="fbfdbb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O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H              O   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7fa6e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I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H              O  O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        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HO – C – 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fbfdbb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OH     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OH     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HO                   O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H – C – O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HO                   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H       O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I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      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H       O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                      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H – C – O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  <a:ea typeface="Arial"/>
              </a:rPr>
              <a:t>         </a:t>
            </a:r>
            <a:r>
              <a:rPr b="1" i="1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–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глюкоза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       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                   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β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 глюкоз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циклическая форма)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CH</a:t>
            </a:r>
            <a:r>
              <a:rPr b="1" lang="en-US" sz="1800" spc="-1" strike="noStrike">
                <a:solidFill>
                  <a:srgbClr val="f7fa6e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OH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</a:rPr>
              <a:t>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циклическая форма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ткрытая (линейная) форм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104" name="Group 6"/>
          <p:cNvGrpSpPr/>
          <p:nvPr/>
        </p:nvGrpSpPr>
        <p:grpSpPr>
          <a:xfrm>
            <a:off x="6300720" y="2781360"/>
            <a:ext cx="2197080" cy="1942920"/>
            <a:chOff x="6300720" y="2781360"/>
            <a:chExt cx="2197080" cy="1942920"/>
          </a:xfrm>
        </p:grpSpPr>
        <p:sp>
          <p:nvSpPr>
            <p:cNvPr id="1105" name="AutoShape 7"/>
            <p:cNvSpPr/>
            <p:nvPr/>
          </p:nvSpPr>
          <p:spPr>
            <a:xfrm>
              <a:off x="6300720" y="2781360"/>
              <a:ext cx="2197080" cy="19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AutoShape 8"/>
            <p:cNvSpPr/>
            <p:nvPr/>
          </p:nvSpPr>
          <p:spPr>
            <a:xfrm>
              <a:off x="6313320" y="3109320"/>
              <a:ext cx="2172240" cy="1284840"/>
            </a:xfrm>
            <a:prstGeom prst="hexagon">
              <a:avLst>
                <a:gd name="adj" fmla="val 42267"/>
                <a:gd name="vf" fmla="val 115470"/>
              </a:avLst>
            </a:prstGeom>
            <a:noFill/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Line 9"/>
            <p:cNvSpPr/>
            <p:nvPr/>
          </p:nvSpPr>
          <p:spPr>
            <a:xfrm>
              <a:off x="6885000" y="2787840"/>
              <a:ext cx="0" cy="64296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Line 10"/>
            <p:cNvSpPr/>
            <p:nvPr/>
          </p:nvSpPr>
          <p:spPr>
            <a:xfrm>
              <a:off x="7914600" y="4073040"/>
              <a:ext cx="720" cy="64404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Line 11"/>
            <p:cNvSpPr/>
            <p:nvPr/>
          </p:nvSpPr>
          <p:spPr>
            <a:xfrm>
              <a:off x="6313320" y="3431160"/>
              <a:ext cx="720" cy="64296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Line 12"/>
            <p:cNvSpPr/>
            <p:nvPr/>
          </p:nvSpPr>
          <p:spPr>
            <a:xfrm>
              <a:off x="6885000" y="4073040"/>
              <a:ext cx="720" cy="64404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Line 13"/>
            <p:cNvSpPr/>
            <p:nvPr/>
          </p:nvSpPr>
          <p:spPr>
            <a:xfrm>
              <a:off x="8485560" y="3431160"/>
              <a:ext cx="720" cy="64296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2" name="Group 14"/>
          <p:cNvGrpSpPr/>
          <p:nvPr/>
        </p:nvGrpSpPr>
        <p:grpSpPr>
          <a:xfrm>
            <a:off x="539640" y="2781360"/>
            <a:ext cx="2197080" cy="1871640"/>
            <a:chOff x="539640" y="2781360"/>
            <a:chExt cx="2197080" cy="1871640"/>
          </a:xfrm>
        </p:grpSpPr>
        <p:sp>
          <p:nvSpPr>
            <p:cNvPr id="1113" name="AutoShape 15"/>
            <p:cNvSpPr/>
            <p:nvPr/>
          </p:nvSpPr>
          <p:spPr>
            <a:xfrm>
              <a:off x="539640" y="2781360"/>
              <a:ext cx="2197080" cy="18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AutoShape 16"/>
            <p:cNvSpPr/>
            <p:nvPr/>
          </p:nvSpPr>
          <p:spPr>
            <a:xfrm>
              <a:off x="552240" y="3097440"/>
              <a:ext cx="2172240" cy="1237680"/>
            </a:xfrm>
            <a:prstGeom prst="hexagon">
              <a:avLst>
                <a:gd name="adj" fmla="val 43877"/>
                <a:gd name="vf" fmla="val 115470"/>
              </a:avLst>
            </a:prstGeom>
            <a:noFill/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Line 17"/>
            <p:cNvSpPr/>
            <p:nvPr/>
          </p:nvSpPr>
          <p:spPr>
            <a:xfrm>
              <a:off x="1123920" y="2787840"/>
              <a:ext cx="0" cy="61956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Line 18"/>
            <p:cNvSpPr/>
            <p:nvPr/>
          </p:nvSpPr>
          <p:spPr>
            <a:xfrm>
              <a:off x="2153520" y="4025880"/>
              <a:ext cx="720" cy="62064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Line 19"/>
            <p:cNvSpPr/>
            <p:nvPr/>
          </p:nvSpPr>
          <p:spPr>
            <a:xfrm>
              <a:off x="552240" y="3407400"/>
              <a:ext cx="720" cy="61920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Line 20"/>
            <p:cNvSpPr/>
            <p:nvPr/>
          </p:nvSpPr>
          <p:spPr>
            <a:xfrm>
              <a:off x="1123920" y="4025880"/>
              <a:ext cx="720" cy="62064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Line 21"/>
            <p:cNvSpPr/>
            <p:nvPr/>
          </p:nvSpPr>
          <p:spPr>
            <a:xfrm>
              <a:off x="2724480" y="3407400"/>
              <a:ext cx="720" cy="61920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0" name="PlaceHolder 2"/>
          <p:cNvSpPr>
            <a:spLocks noGrp="1"/>
          </p:cNvSpPr>
          <p:nvPr>
            <p:ph type="title"/>
          </p:nvPr>
        </p:nvSpPr>
        <p:spPr>
          <a:xfrm>
            <a:off x="2555640" y="-360"/>
            <a:ext cx="3816360" cy="1197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9e4ff"/>
                </a:solidFill>
                <a:latin typeface="Arial"/>
              </a:rPr>
              <a:t>Таутомеры глюкоз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1" name="AutoShape 22">
            <a:hlinkClick r:id="rId1" action="ppaction://hlinksldjump"/>
          </p:cNvPr>
          <p:cNvSpPr/>
          <p:nvPr/>
        </p:nvSpPr>
        <p:spPr>
          <a:xfrm>
            <a:off x="250920" y="260280"/>
            <a:ext cx="2160360" cy="968400"/>
          </a:xfrm>
          <a:prstGeom prst="flowChartDelay">
            <a:avLst/>
          </a:prstGeom>
          <a:gradFill rotWithShape="0">
            <a:gsLst>
              <a:gs pos="0">
                <a:srgbClr val="eaeaea"/>
              </a:gs>
              <a:gs pos="100000">
                <a:srgbClr val="c9c9c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5682"/>
                </a:solidFill>
                <a:latin typeface="Arial"/>
              </a:rPr>
              <a:t>Другие ви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5682"/>
                </a:solidFill>
                <a:latin typeface="Arial"/>
              </a:rPr>
              <a:t>изоме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AutoShape 23">
            <a:hlinkClick r:id="rId2" action="ppaction://hlinksldjump"/>
          </p:cNvPr>
          <p:cNvSpPr/>
          <p:nvPr/>
        </p:nvSpPr>
        <p:spPr>
          <a:xfrm>
            <a:off x="6732720" y="260280"/>
            <a:ext cx="2411280" cy="1484280"/>
          </a:xfrm>
          <a:prstGeom prst="irregularSeal1">
            <a:avLst/>
          </a:prstGeom>
          <a:gradFill rotWithShape="0">
            <a:gsLst>
              <a:gs pos="0">
                <a:srgbClr val="eaeaea"/>
              </a:gs>
              <a:gs pos="100000">
                <a:srgbClr val="c9c9c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5682"/>
                </a:solidFill>
                <a:latin typeface="Arial"/>
              </a:rPr>
              <a:t>Конец 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ebf25a"/>
                </a:solidFill>
                <a:latin typeface="Tahoma"/>
              </a:rPr>
              <a:t>Геометрическая изомер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т вид изомерии предполагает наличие двух изомеров: </a:t>
            </a: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цис–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и </a:t>
            </a: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транс–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еометрическая изомерия характерна для соединений, в которых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возможно свободное вращение вокруг углерод – углеродной связи (например, алкены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и атомы углерода связан с двумя различными групп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смотрим геометрическую изомерию на примере бутена С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пишем структурную формулу бутена – 2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4bd6c"/>
                </a:solidFill>
                <a:latin typeface="Tahoma"/>
              </a:rPr>
              <a:t>СН</a:t>
            </a:r>
            <a:r>
              <a:rPr b="1" lang="ru-RU" sz="24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ru-RU" sz="3600" spc="-1" strike="noStrike">
                <a:solidFill>
                  <a:srgbClr val="f4bd6c"/>
                </a:solidFill>
                <a:latin typeface="Tahoma"/>
              </a:rPr>
              <a:t> – СН = СН – СН</a:t>
            </a:r>
            <a:r>
              <a:rPr b="1" lang="ru-RU" sz="2400" spc="-1" strike="noStrike">
                <a:solidFill>
                  <a:srgbClr val="f4bd6c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круг двойной связи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– С = С –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свободное вращение невозможно, оба атома углерода связаны с различными группами: метилом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СН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3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–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 водородом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 –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уществуют два способа расположить эти радикалы в пространств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ru-RU" sz="18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С </a:t>
            </a: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    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СН</a:t>
            </a:r>
            <a:r>
              <a:rPr b="1" lang="ru-RU" sz="18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            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         </a:t>
            </a: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Н         СН</a:t>
            </a:r>
            <a:r>
              <a:rPr b="1" lang="ru-RU" sz="1800" spc="-1" strike="noStrike">
                <a:solidFill>
                  <a:srgbClr val="f4bd6c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4bd6c"/>
                </a:solidFill>
                <a:latin typeface="Tahoma"/>
              </a:rPr>
              <a:t>       </a:t>
            </a:r>
            <a:r>
              <a:rPr b="1" lang="en-US" sz="1800" spc="-1" strike="noStrike">
                <a:solidFill>
                  <a:srgbClr val="f4bd6c"/>
                </a:solidFill>
                <a:latin typeface="Tahoma"/>
              </a:rPr>
              <a:t>I               I                                       </a:t>
            </a:r>
            <a:r>
              <a:rPr b="1" lang="ru-RU" sz="1800" spc="-1" strike="noStrike">
                <a:solidFill>
                  <a:srgbClr val="f4bd6c"/>
                </a:solidFill>
                <a:latin typeface="Tahoma"/>
              </a:rPr>
              <a:t>                </a:t>
            </a:r>
            <a:r>
              <a:rPr b="1" lang="en-US" sz="1800" spc="-1" strike="noStrike">
                <a:solidFill>
                  <a:srgbClr val="f4bd6c"/>
                </a:solidFill>
                <a:latin typeface="Tahoma"/>
              </a:rPr>
              <a:t>   I               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С = С</a:t>
            </a: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                      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         </a:t>
            </a: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    С = 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4bd6c"/>
                </a:solidFill>
                <a:latin typeface="Tahoma"/>
              </a:rPr>
              <a:t>       </a:t>
            </a:r>
            <a:r>
              <a:rPr b="1" lang="en-US" sz="1800" spc="-1" strike="noStrike">
                <a:solidFill>
                  <a:srgbClr val="f4bd6c"/>
                </a:solidFill>
                <a:latin typeface="Tahoma"/>
              </a:rPr>
              <a:t>I               I                                        </a:t>
            </a:r>
            <a:r>
              <a:rPr b="1" lang="ru-RU" sz="1800" spc="-1" strike="noStrike">
                <a:solidFill>
                  <a:srgbClr val="f4bd6c"/>
                </a:solidFill>
                <a:latin typeface="Tahoma"/>
              </a:rPr>
              <a:t>               </a:t>
            </a:r>
            <a:r>
              <a:rPr b="1" lang="en-US" sz="18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4bd6c"/>
                </a:solidFill>
                <a:latin typeface="Tahoma"/>
              </a:rPr>
              <a:t> I               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Н </a:t>
            </a: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       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ru-RU" sz="1800" spc="-1" strike="noStrike">
                <a:solidFill>
                  <a:srgbClr val="f4bd6c"/>
                </a:solidFill>
                <a:latin typeface="Tahoma"/>
              </a:rPr>
              <a:t>                                            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ru-RU" sz="18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С</a:t>
            </a:r>
            <a:r>
              <a:rPr b="1" lang="ru-RU" sz="1800" spc="-1" strike="noStrike">
                <a:solidFill>
                  <a:srgbClr val="f4bd6c"/>
                </a:solidFill>
                <a:latin typeface="Tahoma"/>
              </a:rPr>
              <a:t>               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то  </a:t>
            </a:r>
            <a:r>
              <a:rPr b="1" i="1" lang="ru-RU" sz="1800" spc="-1" strike="noStrike">
                <a:solidFill>
                  <a:srgbClr val="ffffcc"/>
                </a:solidFill>
                <a:latin typeface="Tahoma"/>
              </a:rPr>
              <a:t>цис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– изомер:                                              Это </a:t>
            </a:r>
            <a:r>
              <a:rPr b="1" i="1" lang="ru-RU" sz="1800" spc="-1" strike="noStrike">
                <a:solidFill>
                  <a:srgbClr val="ffffcc"/>
                </a:solidFill>
                <a:latin typeface="Tahoma"/>
              </a:rPr>
              <a:t>транс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– изомер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динаковые радикалы                                одинаковые радикал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сположены                                                                расположе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 одну сторону                                                  по разные стор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войной связи.                                                            двойной связ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0" name="Oval 4">
            <a:hlinkClick r:id="rId1" action="ppaction://hlinksldjump"/>
          </p:cNvPr>
          <p:cNvSpPr/>
          <p:nvPr/>
        </p:nvSpPr>
        <p:spPr>
          <a:xfrm>
            <a:off x="2771640" y="5516640"/>
            <a:ext cx="3313080" cy="1152360"/>
          </a:xfrm>
          <a:prstGeom prst="ellipse">
            <a:avLst/>
          </a:prstGeom>
          <a:solidFill>
            <a:srgbClr val="f2aa68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А у бутена -1 е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геометрические изоме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3T08:13:16Z</dcterms:created>
  <dc:creator>Мама</dc:creator>
  <dc:description/>
  <dc:language>en-US</dc:language>
  <cp:lastModifiedBy>LEGION</cp:lastModifiedBy>
  <dcterms:modified xsi:type="dcterms:W3CDTF">2015-05-01T12:09:30Z</dcterms:modified>
  <cp:revision>123</cp:revision>
  <dc:subject/>
  <dc:title>Изомерия</dc:title>
</cp:coreProperties>
</file>