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2DA5-B2D3-4F72-8BB3-E66AA31655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Чтобы начать работу, нажмите «Показ слайд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A65B-A820-42AE-B6F0-00D881EE28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так, мы получили дв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еометрических изомера бутена–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0871-023C-4D06-963C-89B2DC3288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метрических изомеров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тена -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CFC1-3D06-4C7D-888B-AA9E089699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опробуем составить геометрические изомеры бутена -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СН2 – СН3                            Н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 Н                             Н3С – Н2С       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изображают од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тена -1 не существу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7F82-5D37-49FD-BED5-A43DFA972A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уществует еще один изомер С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–метилпропен. Попробуем составить формулы его геометрических изоме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так же изображают одно и то же вещество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 2 – метилпропена – 1 не суще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F2AB-4A68-47E1-A5B3-001FD86F68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мерия углеродного скел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характерен для всех классов органических со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мерия углеродного скелета – единственно возможный вид изомерии алк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Рассмотрим изомерию углеродного скелета на примере пентана 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1B1-4A94-471A-A0AB-F6D20AE2CD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м структурную формулу простейшего изомера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, имеющего линейное стро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изобразим его углеродный скелет, расположив в ряд все пять атомов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дорода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написали структурную формулу простейшего изоме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ПЕНТАНА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. А можно ли составить формулу другого изомера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D021-9273-47BE-9A78-90586A754B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сделаем основную цепочку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роч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положим в ряд четыре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ятый атом присоединим к одному из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ных атом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, не забывая пр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ы получили форм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2 – МЕТИЛБУ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938-9DD4-4C23-8B40-AA858F9B12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пробуем написать формулу изомера, содержащего в основной цепи три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калов и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получили формулу еще одного изомера </a:t>
            </a: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2,2 – ДИМЕТИЛПРОПАН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74E4-9930-4980-9DE8-DCDBB19DC9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так, мы получили три изомера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эмпирической формулой С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метилбу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2–диметилпроп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0E0E-C818-4E80-A429-3716A285F3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 изомер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стим радикал у соседнего атома углерод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б)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Мы видим, что обе  формулы – (а) и (б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изображают одно и то же веществ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МЕТИЛБУТАН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408C-9EE4-45BA-A836-E5A23C4DF7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вещества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 одинакового состава и молекулярной массы, но имеющие различное строение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молекул и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разные свойства.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явление 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существования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4a4a6e"/>
                </a:solidFill>
                <a:latin typeface="Calibri"/>
              </a:rPr>
              <a:t>Главное: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изомеры имеют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4a4a6e"/>
                </a:solidFill>
                <a:latin typeface="Calibri"/>
              </a:rPr>
              <a:t>одинаковые эмпирические формулы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но разн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структурные форм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0CBB-A2DC-4374-8623-F2AEDF0CA9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нумеруем атомы угле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4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ЕНТАН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ой изомер у нас уже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F940-23DE-42AE-A0DC-2D44135DAF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йте попробу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ил–радика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е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ой дли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цепоч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1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то  2–МЕТИЛБУ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6290-00E6-4707-BF9B-93FF6C5D02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рядок ну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нумераци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меровать цепочку начинаем с того края, где ближе разветв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ле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пра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ле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1                         2                      3                        4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пра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ле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пра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9329-9856-4813-9770-3752C3775C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5"/>
                </a:solidFill>
                <a:latin typeface="Calibri"/>
              </a:rPr>
              <a:t>Изомерия положения крат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й связью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ую связь    – С = С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йную связь   – С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≡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–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кратной связи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пенте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00B7-67E2-4860-A3A3-CC47DC6949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апишем структурную формулу простейшего линейного изомера  С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,  у которого двойная связь расположена возле первого атома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= С – С – С –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ентена–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27AB-F728-43D1-9569-0E6328F076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ойной связи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двойную связь пос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пентен –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A38-BFB6-4C68-97DB-6878646712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Итак, мы состав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ух изомеров пент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8F61-4D42-422A-95D1-030474435B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2D3B-EAB0-4C73-9CCC-2617BAF7AC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F934-089B-4B59-B51B-DA40E7265F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омерия положения функциона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относятся гидроксогруппа  –ОН,  сульф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арбоксильная  –СООН,  нитр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можно так же отнести галогены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r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 функциональной группы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  бромпента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084A-95CF-4440-BE17-E1A2EBC31B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шем формулу простейшего линейного изомера 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 у которого атом брома расположен возле первого атома угле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 – С – С – С –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1–бромпентан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58D8-0E3E-4A64-AD1C-B0F8EAB605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функциональной группы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атом брома воз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2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 легко догадаетесь как будет выглядеть третий изо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3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AE27-3E49-45ED-B49A-4583E9C3C5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получ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 изомеров бромпент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–бромпен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бромпентан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–бромпент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43D4-324D-4BEC-8F8F-272A0224F9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омеров положения функциональ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мпента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8CF-83F5-4FB3-8E04-68B643A305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те правила номенклатуры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рядок нум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5                              4                             3                             2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2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5                              4</a:t>
            </a:r>
            <a:r>
              <a:rPr b="0" i="1" lang="ru-RU" sz="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3                             2    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  1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A52B-96CB-438B-95D0-9EB782D6AA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d0f2"/>
                </a:solidFill>
                <a:latin typeface="Calibri"/>
              </a:rPr>
              <a:t>Межклассовая 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изомеры относятся к разным классам орган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ется просто запомнить какие классы соединений изомерны друг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ссмотрим некоторые примеры межклассовой изом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585-8E71-451F-A5EF-1613EB6B34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ен                   циклоал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утен -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I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клобу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ин                   ди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≡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= СН – СН =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бутин – 1                                               бутадиен – 1,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7373-0A09-468C-A510-F8E0BD139D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рт             просто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танол                                               диметиловый эфи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ислота             сложны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овая кислота                                             метилацета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ьдегид                 ке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О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аль                                                    пропанон – 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2200-D4C2-47CA-8F19-B702CBEB26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инокислота             нитро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2 – аминоэтановая кислота                            нитроэ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ожно найти межклассовые изомеры и дл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других соединений. Подумайте сами, для как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81A-BA94-409D-8B80-9C7C7F550E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726-6233-449A-8C99-BCDE7A1DE8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d39"/>
                </a:solidFill>
                <a:latin typeface="Calibri"/>
              </a:rPr>
              <a:t>Динамическая изомерия (таутомер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Таут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ассмотрим некоторые примеры таутомери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328B-A96D-49D1-8CC5-75EA76C959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706E-3B5F-48A6-8C63-A186BCC783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существования оптических изомеров необходи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симметрическ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том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С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возможны два различных расположения молекулы в пространст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FB3-0C5A-4525-B977-CB86B5EDDC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е наибольшее значение имеет оптическая изомер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ов и амино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01F0-839F-46E0-9019-F596DC8D19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 – C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=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c9cd39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H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            НО 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     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I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 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1C57-726C-403E-A07F-96BA733690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– иначе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ая изомерия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– иначе называются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ыми изомера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пособность соединений существовать в виде пары зеркальных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цент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Рацема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F717-C796-40B7-BFB4-62A184A614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вет пропустить через специальный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а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все световые волны будут колебаться в одн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свет называется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лоско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2E60-8B2E-49B0-8A02-A17D965CFB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5г Жан Батист Био открыл явлени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птической активност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жидкости изменять (отклонять на некоторый угол)  плоскость поляр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изованного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1E79-F103-43AE-9B6D-84311BCFEE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хождения чере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тически активн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+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против часовой стрелки, то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2414-BBA6-48F5-97B9-8ECC0A3247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Вы поняли что такое изоме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Научились строить изом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Значит самое время приступить к выполнению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Желаю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CBFE-7E17-4769-B70B-81CC704E17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Кето – енольные превра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превращение непредельного спирта в кетон или альдеги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ое превращение наблюдается в 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еакции Кучер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гидратация алкинов в присутствии катализатора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≡ СН  +  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О  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C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этин                                            эт</a:t>
            </a:r>
            <a:r>
              <a:rPr b="0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енол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этана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данном случае наблюдается перенос подвижного </a:t>
            </a:r>
            <a:r>
              <a:rPr b="0" lang="ru-RU" sz="1200" spc="-1" strike="noStrike">
                <a:solidFill>
                  <a:srgbClr val="eaeaea"/>
                </a:solidFill>
                <a:latin typeface="Calibri"/>
                <a:ea typeface="Arial"/>
              </a:rPr>
              <a:t>атома вод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от кислорода к соседнему атому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 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=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5587-49F9-4217-9A74-B6E4F2226B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Таутомеры глю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Н – С = О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O – C –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bfdbb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α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 –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глюкоз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β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- глюкоз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7fa6e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OH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открытая (линейная) фор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6436-1140-4FAF-A371-9C7DBB7E84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еометр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предполагает наличие двух изомеров: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–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–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ческая изомерия характерна для соединений, в которы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свободное вращение вокруг углерод – углеродной связи (например, алкен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атомы углерода связан с двумя различными груп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геометрическую изомерию на примере бутена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4D73-9DD0-4ABB-97CD-DD93DF7E43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ем структурную формулу бутена –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 – СН = СН – 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круг двойной связи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– С = С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одород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A4C-96A7-4A2E-B778-E093EFBD27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т два способа расположить эти радикалы в пространст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        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С =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ци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изомер:                                              Это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изо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е радикалы                                одинаковые радика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ены                                                                располо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дну сторону                                                  по разные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ой связи.                                                            двой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EE63-44AB-4A76-BAD4-2CA7706A75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CE77-A4F4-4F6F-BD9F-DF9299AD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9965-3A55-40F6-8E2F-CFDE41C9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E4BD9-F269-48AB-8118-8B3EE99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AD4A3-4D9A-4B44-8680-8BEE2C0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89990-4DF4-4948-B2A7-1FA847BD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48770-C910-4779-8386-5564A24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832C6-C5E9-4F77-AF1E-0D66266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FFDE1-D9A4-4482-B496-8FB2F33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AD291-90CC-46C8-B131-BBA88E65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86E6D-9560-4D44-B045-79CDB765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D8012-5E24-46AE-B581-DFC34562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8EB66-1F35-48F9-83FC-01B97AF3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9D2E-9B9F-461E-AF62-36C93148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45B15-C422-4B74-B3A5-6A3E1B0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69B18-6153-4FB1-9835-A8020012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98DC8-C380-4558-B690-877D46DF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BD5A0-BBE2-4272-9832-00AEB128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B3E5E-6985-4F25-BBF6-27D022E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56186-0DDD-4842-B901-4D8D7F73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516A1-F118-4937-8A69-9072349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1BD71-464E-4F72-9543-754C807F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E273C-F2A6-4407-92E2-2892711D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79587-6D86-4440-9AB9-9C2196A5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375F-662C-4D6F-85B6-717C4340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F3BC1-D51B-45E5-B58D-76F9B4FE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465D8-260B-4184-A527-F6E58ED1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1C0AA-C3AC-43E9-B89D-FA1554D7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06ADF-7393-40B4-9802-E0544F9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6F211-5753-41C3-B885-346F8004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2C167-B378-4B6A-9DD5-AEDC08E5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C585A-19D6-470B-B871-67451267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A865F-3109-488D-A7BE-9DD244E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28C0D-24F3-4768-A864-4744477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E404A-68CE-49AD-8607-5D1E331D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0616-FAFE-4DF3-98E8-24A0205A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2C83A-B87F-45CE-B8B9-1E415C42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F174E-EF89-4885-8F53-F8BE5C7A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291DE-1A2C-4B3B-889A-EEBA5596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A30AD-9183-4ABB-B832-C61BA07F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C7401-C629-4231-9A55-0D8A9D6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DA488-82B1-4A74-A2A5-C6D5AE3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181B4-CAC5-4B90-8505-D8690FC7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4DA00-5562-47E9-B53C-B721BAD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8D108-A656-444F-83FE-44F9FE94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BC9FD-025D-43C8-B659-3020BDDE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ABBE-0477-4423-A373-D5F1221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5CCBB-67B3-4665-B7CA-DC9E01D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5ADEC-77DA-40B3-851D-631B72F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01154-2F50-4FA6-9C30-6A6FBC13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E5BB3-9D1F-46CF-87DB-8B56A7F2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B1F28-4763-486B-846B-1FE0FA5A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45C49-C673-44D5-A89B-55DA76F6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529D4-EA9F-4E6C-8B43-DC3CB635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10BCB-7ADF-40C4-A770-C06624F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776E9-F3EF-48E9-8A56-1C44D641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A6A91-9506-47A8-8835-A10BAC6A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F930-04C9-4F35-824E-2F20C8BC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77075-B73D-4588-B9B1-86EC4124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C1B24-1143-4155-9848-0F9CBF1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144DA-6966-475A-91AB-6694B3DB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09D93-3977-4694-8BD5-1D38544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5CF60-A10C-4D57-B615-63FE21A1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18102-331E-4712-87BB-BDB6C590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F2083-3583-4C4D-AC31-3BADC756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BB1F-8A15-41C2-9F5F-4FA00DB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EC1F-3B63-4BF7-9AEA-DBAD04F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2573-8A9E-4A0E-8D4F-44144046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FBAF-B2C0-4081-B8D8-B1FBE77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CB6F-5727-4BC0-AFC4-6FEC3756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BFF-24AA-4F05-8319-F1CE8D2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1B5D-4151-4358-AF53-5D66B6D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4211-1427-4511-871D-16EB00E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217-46A3-4A4A-A0A7-A864A7B3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37AA-4EFC-4352-BF24-1F29B80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B669-6642-418E-AFBB-88AC7691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941B-6FC6-4671-BE03-748497C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E032-D0F2-4550-8EE4-5C914CE4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C28E-DC22-4EF0-BCF5-38EF0A3C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28A1-4850-406E-8306-04B334BC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DDCA-42F3-4701-A0F3-7D748AE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C719-6810-48FD-A172-EBCFC7C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1EBB-1441-434C-94E5-C158D77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F272-4A03-4CC6-AEC7-1ACAC3D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4414-57DA-4628-B5E8-0881E8B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BB8E-F981-49B7-8E73-8DD36B8A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1473-2D95-4AF9-B150-91A9B834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574B-1403-4B72-81D2-68034C22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952DB-FD40-4824-B576-F8A2B931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07AB-0984-4AB2-863A-DC813D05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F8F8-189E-428D-9C4D-2AD34A54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8834-BC13-405D-B937-C05B4D6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6A8A-21F1-4A15-B0AE-BF9F19DC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3F8C-6C7E-4181-A323-E16BB960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F0AB-508B-4A14-B215-3E5522CB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9D04-3646-41C1-8D22-8399280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36AD-8FB4-4EF3-AE41-A777D5BE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D297-DA94-4D9D-8FB5-14E6355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C41D-8E01-4D00-9598-B38CA54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B8FA-513B-4AFA-9F5D-72A62EEB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D766F-C29F-4BBF-8531-FB19616E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ED87-EA06-48AD-BC8B-DBF53B20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BAD2-3F7C-45C4-878E-DB811D45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C60A1-764A-4333-9EDA-4142BC92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9E9C2-3AB1-45FF-896B-30029CF8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11B2-F106-4014-A96E-3BFBD362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C385-635F-4C37-BA93-88CC2229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38B9-E8CA-48C9-BF38-13668C0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E89D-3896-4328-B76D-AB9D2BB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9932D-DDD9-43CB-927C-419839F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A46CA-C9CB-4A0D-99D1-25F0FAB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0AAE-8E73-4A8F-A4ED-2A1ACA0C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A9A3-6731-4C7C-9D8B-C6D9DFFC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D1B0-9191-4938-B3AB-28563AF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F59A3-F52B-4977-8CC2-F44723D5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B5F3F-4A40-4531-B2DE-49FB9487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5447C-D1A1-4051-AF17-B0F8FCEF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417BA-05CE-4271-94FD-3E3FD510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66719-FF9F-4878-B987-D16531D5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B1FD3-1CDF-43F4-BBD8-C8E5BFDA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9E2FB-ACA9-4FC5-BFCD-A64EABB7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FBBF6-1D07-432D-83A0-44605AA3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88730-38D2-440F-A9E7-BAAAB0EF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636CD-D4DC-4ACC-80DF-7DD5B48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822E-94A0-4C63-8C9D-B72C405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BF971-7EF2-4C37-9E5B-53BBD03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52116-50F6-46F8-9CAE-365F63DC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4090E-69BD-405D-AC14-C6A4D9D0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66C6C-D281-4FBD-B4D8-1CE9FF34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6E92D-DD65-4CD7-9511-1DF8E411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D388-8B17-4CB4-8402-B9A39DDE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1994C-217E-4FB8-BCAC-B2D7344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BCB3-ADC6-43B3-B4D2-EE6760F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A48F6-333A-4EC4-AB1B-3E188837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304F-C5AA-4B5B-B2E0-399E456A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B80C-6648-4AA4-A008-1FD032E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13A3-F128-4819-9DDE-E43BC2D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EE2E4-68DC-47B2-8608-9F007AE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EF947-A474-46C2-9DF3-6A79D6A0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2000C-57E5-4634-BA10-2E074198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FFD4-547B-418D-8A27-E07713F7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8735E-5930-43D1-9B38-7883FD6A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C68B7-1587-4D6D-BD87-D5C76188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3C234-1B3A-448F-A9BE-57472064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7F72A-6176-40EA-99F1-7467D63F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BD38-F2AE-4B8A-8496-25CCE2EF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B88D-51DF-4A0F-9637-6F6869B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BB0D-FCF1-455D-8ACF-69D3992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6B5AD-B26B-42EF-A3CA-A0475072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5AB6A-F0A2-43CB-B0D9-AE711F1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05BBD-EB27-4F22-B1C8-FC2F4ED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48D4-4366-4387-AFE5-6E13459B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21EA5-604B-4358-B335-BDE87F71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67EB-8E79-459D-A8D2-DA41F37C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B8BCC-B762-471D-B653-BDECAD9F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A9721-6E3B-4A58-B6FE-BAF3E9A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12EAC-8D8E-43B3-9A19-D67FBA5F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BCAF-D8EE-440A-A7D6-356A7E31F8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8421-347F-4737-88B6-5D0B743AF6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B1A9-8085-427C-951F-A26D4BA7976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442D-A2EF-4818-8B7F-26567E8F223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FEF3-9062-4BCF-A057-39FB36FC797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42B4-E58C-4B32-B61B-37A01A9396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5BAB-805E-4936-B985-E78657D823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8C99-C771-4703-944F-788EBE497E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A22-30D8-494A-8B1E-5531FEC65B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227B-D092-4863-97D0-9F61E0C3068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E498-2AB2-49C1-96DB-8CBEB79211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3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5C6-4B63-48C4-B27E-66D7868219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A13-DB49-423A-8A90-61FA601CA8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7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Чтобы начать работу, нажмите «Показ слай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4"/>
          <p:cNvSpPr txBox="1"/>
          <p:nvPr/>
        </p:nvSpPr>
        <p:spPr>
          <a:xfrm rot="21455400">
            <a:off x="900000" y="134100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Итак, мы получили два </a:t>
            </a:r>
            <a:br>
              <a:rPr sz="3000"/>
            </a:b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геометрических изомера бутена–2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ци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Н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4">
            <a:hlinkClick r:id="rId1" action="ppaction://hlinksldjump"/>
          </p:cNvPr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f2aa68"/>
              </a:gs>
              <a:gs pos="100000">
                <a:srgbClr val="d092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5">
            <a:hlinkClick r:id="rId2" action="ppaction://hlinksldjump"/>
          </p:cNvPr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f2aa68"/>
              </a:gs>
              <a:gs pos="100000">
                <a:srgbClr val="c087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т.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Геометрических изомеров </a:t>
            </a:r>
            <a:br>
              <a:rPr sz="3800"/>
            </a:br>
            <a:r>
              <a:rPr b="1" i="1" lang="ru-RU" sz="3800" spc="-1" strike="noStrike">
                <a:solidFill>
                  <a:srgbClr val="ffffcc"/>
                </a:solidFill>
                <a:latin typeface="Tahoma"/>
              </a:rPr>
              <a:t>бутена -1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 существует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Oval 5"/>
          <p:cNvSpPr/>
          <p:nvPr/>
        </p:nvSpPr>
        <p:spPr>
          <a:xfrm>
            <a:off x="1979640" y="3933720"/>
            <a:ext cx="5905440" cy="187164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о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едь для бутена -</a:t>
            </a:r>
            <a:r>
              <a:rPr b="0" lang="en-US" sz="1800" spc="-1" strike="noStrike">
                <a:solidFill>
                  <a:srgbClr val="2b2b2b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ращение вокруг двойной связи также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как для бутена 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пробуем составить геометрические изомеры бутена -1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 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изображают о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тена -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4">
            <a:hlinkClick r:id="rId1" action="ppaction://hlinksldjump"/>
          </p:cNvPr>
          <p:cNvSpPr/>
          <p:nvPr/>
        </p:nvSpPr>
        <p:spPr>
          <a:xfrm rot="20893800">
            <a:off x="5076360" y="5373360"/>
            <a:ext cx="3888000" cy="115560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для других алкенов С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озмож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5"/>
          <p:cNvSpPr/>
          <p:nvPr/>
        </p:nvSpPr>
        <p:spPr>
          <a:xfrm>
            <a:off x="395280" y="6039000"/>
            <a:ext cx="1835280" cy="819000"/>
          </a:xfrm>
          <a:prstGeom prst="upArrowCallout">
            <a:avLst>
              <a:gd name="adj1" fmla="val 56027"/>
              <a:gd name="adj2" fmla="val 56022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</a:t>
            </a:r>
            <a:r>
              <a:rPr b="0" lang="ru-RU" sz="1800" spc="-1" strike="noStrike">
                <a:solidFill>
                  <a:srgbClr val="602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Существует еще один изомер С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8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 –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2–метилпропен. Попробуем составить формулы его геометрических изомеров: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так же изображают одно и то же веще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 2 – метилпропена – 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7093080" y="5805360"/>
            <a:ext cx="1834920" cy="890640"/>
          </a:xfrm>
          <a:prstGeom prst="upArrowCallout">
            <a:avLst>
              <a:gd name="adj1" fmla="val 51510"/>
              <a:gd name="adj2" fmla="val 51506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зомерия углеродного скел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вид изомерии характерен для всех классов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омерия углеродного скелета – единственно возможный вид изомерии алк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Рассмотрим изомерию углеродного скелета на примере пентана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Составим структурную формулу простейшего изомера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12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, имеющего линейное строен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этого изобразим его углеродный скелет, расположив в ряд все пять атомов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одорода 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написали структурную формулу простейшего изом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А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А можно ли составить формулу другого изом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этого сделаем основную цепочку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ороч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Расположим в ряд четыре атома углерод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ятый атом присоединим к одному из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редни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углеродных атом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расставим атомы водорода, не забывая про валент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 – МЕТИЛБУТ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Oval 4"/>
          <p:cNvSpPr/>
          <p:nvPr/>
        </p:nvSpPr>
        <p:spPr>
          <a:xfrm rot="20923200">
            <a:off x="5580000" y="5444640"/>
            <a:ext cx="3564000" cy="1150920"/>
          </a:xfrm>
          <a:prstGeom prst="ellipse">
            <a:avLst/>
          </a:prstGeom>
          <a:gradFill rotWithShape="0">
            <a:gsLst>
              <a:gs pos="0">
                <a:srgbClr val="4db8db"/>
              </a:gs>
              <a:gs pos="50000">
                <a:srgbClr val="0099cc"/>
              </a:gs>
              <a:gs pos="100000">
                <a:srgbClr val="4db8db"/>
              </a:gs>
            </a:gsLst>
            <a:lin ang="678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но 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сосед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5"/>
          <p:cNvSpPr/>
          <p:nvPr/>
        </p:nvSpPr>
        <p:spPr>
          <a:xfrm>
            <a:off x="6084720" y="836640"/>
            <a:ext cx="64800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Попробуем написать формулу изомера, содержащего в основной цепи три атома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дикалов и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 еще одного изомера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,2 – ДИМЕТИЛПРОП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Oval 5"/>
          <p:cNvSpPr/>
          <p:nvPr/>
        </p:nvSpPr>
        <p:spPr>
          <a:xfrm>
            <a:off x="601200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550872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7"/>
          <p:cNvSpPr/>
          <p:nvPr/>
        </p:nvSpPr>
        <p:spPr>
          <a:xfrm rot="20911800">
            <a:off x="6265440" y="5157360"/>
            <a:ext cx="2878200" cy="1374840"/>
          </a:xfrm>
          <a:prstGeom prst="ellipse">
            <a:avLst/>
          </a:prstGeom>
          <a:gradFill rotWithShape="0">
            <a:gsLst>
              <a:gs pos="0">
                <a:srgbClr val="35aed7"/>
              </a:gs>
              <a:gs pos="50000">
                <a:srgbClr val="0099cc"/>
              </a:gs>
              <a:gs pos="100000">
                <a:srgbClr val="35aed7"/>
              </a:gs>
            </a:gsLst>
            <a:lin ang="609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в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 метил– радик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од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л– радик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так, мы получили три изомер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 эмпирической формулой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5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12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н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–метилбу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,2–диметилпроп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75c8e3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5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96d5ea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изомер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местим радикал у соседнего атома углерода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          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а)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б)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видим, что обе  формулы – (а) и (б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изображают одно и то же вещ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МЕТИЛБУ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Oval 4"/>
          <p:cNvSpPr/>
          <p:nvPr/>
        </p:nvSpPr>
        <p:spPr>
          <a:xfrm rot="21239400">
            <a:off x="5424120" y="5870160"/>
            <a:ext cx="3708360" cy="798480"/>
          </a:xfrm>
          <a:prstGeom prst="ellipse">
            <a:avLst/>
          </a:prstGeom>
          <a:gradFill rotWithShape="0">
            <a:gsLst>
              <a:gs pos="0">
                <a:srgbClr val="3db1d8"/>
              </a:gs>
              <a:gs pos="50000">
                <a:srgbClr val="0099cc"/>
              </a:gs>
              <a:gs pos="100000">
                <a:srgbClr val="3db1d8"/>
              </a:gs>
            </a:gsLst>
            <a:lin ang="576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постав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6948360" y="260280"/>
            <a:ext cx="1835280" cy="1008000"/>
          </a:xfrm>
          <a:prstGeom prst="upArrowCallout">
            <a:avLst>
              <a:gd name="adj1" fmla="val 45522"/>
              <a:gd name="adj2" fmla="val 455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6804000" y="4365720"/>
            <a:ext cx="2340000" cy="1296720"/>
          </a:xfrm>
          <a:prstGeom prst="ellipse">
            <a:avLst/>
          </a:prstGeom>
          <a:gradFill rotWithShape="0">
            <a:gsLst>
              <a:gs pos="0">
                <a:srgbClr val="6dc5e2"/>
              </a:gs>
              <a:gs pos="50000">
                <a:srgbClr val="0099cc"/>
              </a:gs>
              <a:gs pos="100000">
                <a:srgbClr val="6dc5e2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и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мер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363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вещества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 одинакового состава и молекулярной массы, но имеющие различное строение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молекул и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разные свойств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явление 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существования из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158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a4a6e"/>
                </a:solidFill>
                <a:latin typeface="Arial"/>
              </a:rPr>
              <a:t>Главно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изомеры име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a4a6e"/>
                </a:solidFill>
                <a:latin typeface="Arial"/>
              </a:rPr>
              <a:t>одинаковые эмпирические формулы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но раз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структурные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4"/>
          <p:cNvSpPr txBox="1"/>
          <p:nvPr/>
        </p:nvSpPr>
        <p:spPr>
          <a:xfrm rot="21455400">
            <a:off x="611280" y="2923920"/>
            <a:ext cx="49687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02298" dir="424499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02298" dir="424499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WordArt 5"/>
          <p:cNvSpPr txBox="1"/>
          <p:nvPr/>
        </p:nvSpPr>
        <p:spPr>
          <a:xfrm rot="21455400">
            <a:off x="611280" y="18900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89808" dir="483908" blurRad="0" rotWithShape="0">
                    <a:srgbClr val="3d3d3d"/>
                  </a:outerShdw>
                </a:effectLst>
                <a:latin typeface="Impact"/>
              </a:rPr>
              <a:t>изо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89808" dir="48390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умеруем атомы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4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акой изомер у нас уже е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Oval 4"/>
          <p:cNvSpPr/>
          <p:nvPr/>
        </p:nvSpPr>
        <p:spPr>
          <a:xfrm rot="665400">
            <a:off x="7308360" y="1052640"/>
            <a:ext cx="1584360" cy="3241440"/>
          </a:xfrm>
          <a:prstGeom prst="ellipse">
            <a:avLst/>
          </a:prstGeom>
          <a:gradFill rotWithShape="0">
            <a:gsLst>
              <a:gs pos="0">
                <a:srgbClr val="65c1e0"/>
              </a:gs>
              <a:gs pos="50000">
                <a:srgbClr val="0099cc"/>
              </a:gs>
              <a:gs pos="100000">
                <a:srgbClr val="65c1e0"/>
              </a:gs>
            </a:gsLst>
            <a:lin ang="4734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та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713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вайте попробу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ть этил–радикал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т.е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ой длинн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цепоч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1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Это  2–МЕТИЛБУТ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91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орядок нум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ядок нумерации опре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ответствии с правилами систематической номенклат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меровать цепочку начинаем с того края, где ближе разветвл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л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а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ле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                        2                      3                        4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пра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е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пра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1" name="AutoShape 4"/>
          <p:cNvSpPr/>
          <p:nvPr/>
        </p:nvSpPr>
        <p:spPr>
          <a:xfrm>
            <a:off x="7093080" y="189000"/>
            <a:ext cx="1834920" cy="963360"/>
          </a:xfrm>
          <a:prstGeom prst="upArrowCallout">
            <a:avLst>
              <a:gd name="adj1" fmla="val 47622"/>
              <a:gd name="adj2" fmla="val 476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5"/>
                </a:solidFill>
                <a:latin typeface="Tahoma"/>
              </a:rPr>
              <a:t>Изомерия положения кратной связ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ной связью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ойную связь    – С = С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йную связь   – С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–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Рассмотрим изомерию поло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кратной связи на</a:t>
            </a: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примере пентен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апишем структурную формулу простейшего линейного изомера  С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,  у которого двойная связь расположена возле первого атома углерод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7840" y="2204640"/>
            <a:ext cx="86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= С – С – С –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так, мы написали формулу первого изомера С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ff"/>
                </a:solidFill>
                <a:latin typeface="Tahoma"/>
              </a:rPr>
              <a:t>пентена–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Само название этого вида изоме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предполагает, что полож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двойной связи должно меня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стим двойную связь после второго атома угле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Oval 3"/>
          <p:cNvSpPr/>
          <p:nvPr/>
        </p:nvSpPr>
        <p:spPr>
          <a:xfrm rot="493200">
            <a:off x="302760" y="5097240"/>
            <a:ext cx="3979800" cy="136836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Итак, мы составили формулы </a:t>
            </a:r>
            <a:br>
              <a:rPr sz="4000"/>
            </a:b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двух изомеров пентен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2b5481"/>
              </a:gs>
              <a:gs pos="100000">
                <a:srgbClr val="1b355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2b5481"/>
              </a:gs>
              <a:gs pos="100000">
                <a:srgbClr val="182f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Нет.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ругих </a:t>
            </a:r>
            <a:r>
              <a:rPr b="1" i="1" lang="ru-RU" sz="4400" spc="-1" strike="noStrike">
                <a:solidFill>
                  <a:srgbClr val="ffffb5"/>
                </a:solidFill>
                <a:latin typeface="Tahoma"/>
              </a:rPr>
              <a:t>изомеров положения двойной связи</a:t>
            </a: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ля пентена не существуе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8" name="Oval 3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пентен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и пентен –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5"/>
                </a:solidFill>
                <a:latin typeface="Tahoma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b5"/>
                </a:solidFill>
                <a:latin typeface="Tahoma"/>
              </a:rPr>
              <a:t>порядок нумера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ответствии с правилами систематической номенклатуры нумерация начинается с того края, где ближе находится кратная связ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 4                             3                             2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4                            3                            2  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зомерия положения функциональ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относятся гидроксогруппа  –ОН,  сульф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арбоксильная  –СООН,  нитр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друг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можно так же отнести галогены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ссмотрим изомерию положения функциональной группы на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мере   бромпентана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  С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WordArt 4"/>
          <p:cNvSpPr txBox="1"/>
          <p:nvPr/>
        </p:nvSpPr>
        <p:spPr>
          <a:xfrm rot="21455400">
            <a:off x="1187280" y="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7819" dir="2700000" blurRad="0" rotWithShape="0">
                    <a:srgbClr val="3d3d3d"/>
                  </a:outerShdw>
                </a:effectLst>
                <a:latin typeface="Impact"/>
              </a:rPr>
              <a:t>виды  изом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7819" dir="2700000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5" name="Organization Chart 8"/>
          <p:cNvGrpSpPr/>
          <p:nvPr/>
        </p:nvGrpSpPr>
        <p:grpSpPr>
          <a:xfrm>
            <a:off x="467280" y="1123920"/>
            <a:ext cx="8160120" cy="5470200"/>
            <a:chOff x="467280" y="1123920"/>
            <a:chExt cx="8160120" cy="5470200"/>
          </a:xfrm>
        </p:grpSpPr>
        <p:cxnSp>
          <p:nvCxnSpPr>
            <p:cNvPr id="1076" name="_s1028"/>
            <p:cNvCxnSpPr>
              <a:stCxn id="1077" idx="1"/>
              <a:endCxn id="1078" idx="2"/>
            </p:cNvCxnSpPr>
            <p:nvPr/>
          </p:nvCxnSpPr>
          <p:spPr>
            <a:xfrm rot="10800000">
              <a:off x="5279040" y="2130120"/>
              <a:ext cx="37224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79" name="_s1029"/>
            <p:cNvCxnSpPr>
              <a:stCxn id="1080" idx="0"/>
              <a:endCxn id="1081" idx="2"/>
            </p:cNvCxnSpPr>
            <p:nvPr/>
          </p:nvCxnSpPr>
          <p:spPr>
            <a:xfrm flipV="1" rot="16200000">
              <a:off x="5921280" y="4081680"/>
              <a:ext cx="433440" cy="17175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2" name="_s1030"/>
            <p:cNvCxnSpPr>
              <a:stCxn id="1083" idx="0"/>
              <a:endCxn id="1081" idx="2"/>
            </p:cNvCxnSpPr>
            <p:nvPr/>
          </p:nvCxnSpPr>
          <p:spPr>
            <a:xfrm flipH="1" flipV="1" rot="5400000">
              <a:off x="4229640" y="4106880"/>
              <a:ext cx="433440" cy="16671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4" name="_s1031"/>
            <p:cNvCxnSpPr>
              <a:stCxn id="1085" idx="3"/>
              <a:endCxn id="1078" idx="2"/>
            </p:cNvCxnSpPr>
            <p:nvPr/>
          </p:nvCxnSpPr>
          <p:spPr>
            <a:xfrm flipV="1">
              <a:off x="4956120" y="2130480"/>
              <a:ext cx="32400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6" name="_s1032"/>
            <p:cNvCxnSpPr>
              <a:stCxn id="1087" idx="1"/>
              <a:endCxn id="1078" idx="2"/>
            </p:cNvCxnSpPr>
            <p:nvPr/>
          </p:nvCxnSpPr>
          <p:spPr>
            <a:xfrm rot="10800000">
              <a:off x="5279040" y="2130840"/>
              <a:ext cx="37224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8" name="_s1033"/>
            <p:cNvCxnSpPr>
              <a:stCxn id="1089" idx="3"/>
              <a:endCxn id="1078" idx="2"/>
            </p:cNvCxnSpPr>
            <p:nvPr/>
          </p:nvCxnSpPr>
          <p:spPr>
            <a:xfrm flipV="1">
              <a:off x="4892040" y="2130840"/>
              <a:ext cx="38772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0" name="_s1034"/>
            <p:cNvCxnSpPr>
              <a:stCxn id="1091" idx="1"/>
              <a:endCxn id="1092" idx="2"/>
            </p:cNvCxnSpPr>
            <p:nvPr/>
          </p:nvCxnSpPr>
          <p:spPr>
            <a:xfrm rot="10800000">
              <a:off x="1559520" y="1784520"/>
              <a:ext cx="2003400" cy="45597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3" name="_s1035"/>
            <p:cNvCxnSpPr>
              <a:stCxn id="1081" idx="1"/>
              <a:endCxn id="1092" idx="2"/>
            </p:cNvCxnSpPr>
            <p:nvPr/>
          </p:nvCxnSpPr>
          <p:spPr>
            <a:xfrm rot="10800000">
              <a:off x="1559520" y="1784520"/>
              <a:ext cx="2003400" cy="26895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4" name="_s1036"/>
            <p:cNvCxnSpPr>
              <a:stCxn id="1078" idx="1"/>
              <a:endCxn id="1092" idx="2"/>
            </p:cNvCxnSpPr>
            <p:nvPr/>
          </p:nvCxnSpPr>
          <p:spPr>
            <a:xfrm rot="10800000">
              <a:off x="1559520" y="1784520"/>
              <a:ext cx="2003400" cy="9540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sp>
          <p:nvSpPr>
            <p:cNvPr id="1092" name="_s1037"/>
            <p:cNvSpPr/>
            <p:nvPr/>
          </p:nvSpPr>
          <p:spPr>
            <a:xfrm>
              <a:off x="467280" y="1123920"/>
              <a:ext cx="2184840" cy="6609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изомер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_s1038"/>
            <p:cNvSpPr/>
            <p:nvPr/>
          </p:nvSpPr>
          <p:spPr>
            <a:xfrm>
              <a:off x="3562560" y="1629360"/>
              <a:ext cx="3431520" cy="5014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структу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1039"/>
            <p:cNvSpPr/>
            <p:nvPr/>
          </p:nvSpPr>
          <p:spPr>
            <a:xfrm>
              <a:off x="3562560" y="4221000"/>
              <a:ext cx="3431520" cy="5032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простран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_s1040">
              <a:hlinkClick r:id="rId2" action="ppaction://hlinksldjump"/>
            </p:cNvPr>
            <p:cNvSpPr/>
            <p:nvPr/>
          </p:nvSpPr>
          <p:spPr>
            <a:xfrm>
              <a:off x="3562560" y="6093360"/>
              <a:ext cx="3433680" cy="5007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дина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_s1041">
              <a:hlinkClick r:id="rId3" action="ppaction://hlinksldjump"/>
            </p:cNvPr>
            <p:cNvSpPr/>
            <p:nvPr/>
          </p:nvSpPr>
          <p:spPr>
            <a:xfrm>
              <a:off x="1905840" y="2419560"/>
              <a:ext cx="298656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глеродн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кел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_s1042">
              <a:hlinkClick r:id="rId4" action="ppaction://hlinksldjump"/>
            </p:cNvPr>
            <p:cNvSpPr/>
            <p:nvPr/>
          </p:nvSpPr>
          <p:spPr>
            <a:xfrm>
              <a:off x="5651280" y="2419560"/>
              <a:ext cx="297360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тной связ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_s1043">
              <a:hlinkClick r:id="rId5" action="ppaction://hlinksldjump"/>
            </p:cNvPr>
            <p:cNvSpPr/>
            <p:nvPr/>
          </p:nvSpPr>
          <p:spPr>
            <a:xfrm>
              <a:off x="1979280" y="3282840"/>
              <a:ext cx="297648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ункциональной групп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_s1044">
              <a:hlinkClick r:id="rId6" action="ppaction://hlinksldjump"/>
            </p:cNvPr>
            <p:cNvSpPr/>
            <p:nvPr/>
          </p:nvSpPr>
          <p:spPr>
            <a:xfrm>
              <a:off x="2124000" y="5157360"/>
              <a:ext cx="297612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еометр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_s1045">
              <a:hlinkClick r:id="rId7" action="ppaction://hlinksldjump"/>
            </p:cNvPr>
            <p:cNvSpPr/>
            <p:nvPr/>
          </p:nvSpPr>
          <p:spPr>
            <a:xfrm>
              <a:off x="5507280" y="5157360"/>
              <a:ext cx="297900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_s1046">
              <a:hlinkClick r:id="rId8" action="ppaction://hlinksldjump"/>
            </p:cNvPr>
            <p:cNvSpPr/>
            <p:nvPr/>
          </p:nvSpPr>
          <p:spPr>
            <a:xfrm>
              <a:off x="5651280" y="3282840"/>
              <a:ext cx="297612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класс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пишем формулу простейшего линейного изомера  С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 у которого атом брома расположен возле первого атома углерод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 – С – С – С – 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перь расставим атомы водо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так, мы написали формулу первого изомера С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r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–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Verdana"/>
              </a:rPr>
              <a:t>1–бромпентан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амо название этого вида изомери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предполагает, что положен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функциональной группы должно меня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местим атом брома возле второго атома угле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 легко догадаетесь как будет выглядеть третий изомер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3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Oval 4"/>
          <p:cNvSpPr/>
          <p:nvPr/>
        </p:nvSpPr>
        <p:spPr>
          <a:xfrm rot="493200">
            <a:off x="0" y="5589360"/>
            <a:ext cx="3780000" cy="1123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ак, мы получили формул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рех изомеров бромпентан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–бромпент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–бромпентан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–бромпентан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т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ругих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зомеров положения функциональной группы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бромпентана не существуе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Oval 4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 бромпента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– бромпен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порядок нумераци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</a:rPr>
              <a:t>5                              4                             3                             2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c85e"/>
                </a:solidFill>
                <a:latin typeface="Verdana"/>
              </a:rPr>
              <a:t>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5                              4</a:t>
            </a:r>
            <a:r>
              <a:rPr b="0" i="1" lang="ru-RU" sz="1000" spc="-1" strike="noStrike">
                <a:solidFill>
                  <a:srgbClr val="eec85e"/>
                </a:solidFill>
                <a:latin typeface="Verdana"/>
              </a:rPr>
              <a:t>             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3                             2    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  1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d0f2"/>
                </a:solidFill>
                <a:latin typeface="Arial"/>
              </a:rPr>
              <a:t>Межклассовая изомер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изомеры относятся к разным классам органических соеди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ется просто запомнить какие классы соединений изомерны друг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ссмотрим некоторые примеры межклассовой изоме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ен                   циклоал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тен -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I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иклобу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ин                   ди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≡ С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СН – СН =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ин – 1                                               бутадиен – 1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Oval 4"/>
          <p:cNvSpPr/>
          <p:nvPr/>
        </p:nvSpPr>
        <p:spPr>
          <a:xfrm rot="645600">
            <a:off x="6516720" y="189000"/>
            <a:ext cx="244800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edff"/>
                </a:solidFill>
                <a:latin typeface="Arial"/>
              </a:rPr>
              <a:t>Углеводо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358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пирт             просто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Н 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анол                                               диметиловый эф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ислота             сложны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ОН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овая кислота                                             мети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дегид                 ке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О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аль                                                    пропанон –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Oval 4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Кислород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минокислота             нитросоед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ООН         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 – аминоэтановая кислота                            нитроэ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ожно найти межклассовые изомеры и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ругих соединений. Подумайте сами, для ка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Oval 7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Азот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тическая изом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и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Oval 4"/>
          <p:cNvSpPr/>
          <p:nvPr/>
        </p:nvSpPr>
        <p:spPr>
          <a:xfrm rot="21226800">
            <a:off x="5359320" y="5659200"/>
            <a:ext cx="3600360" cy="1054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 с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он вращ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9cd39"/>
                </a:solidFill>
                <a:latin typeface="Arial"/>
              </a:rPr>
              <a:t>Динамическая изомерия (таутомери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Таутомер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ассмотрим некоторые примеры таутомер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Oval 4"/>
          <p:cNvSpPr/>
          <p:nvPr/>
        </p:nvSpPr>
        <p:spPr>
          <a:xfrm>
            <a:off x="1692360" y="3933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5"/>
          <p:cNvSpPr/>
          <p:nvPr/>
        </p:nvSpPr>
        <p:spPr>
          <a:xfrm>
            <a:off x="161928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6"/>
          <p:cNvSpPr/>
          <p:nvPr/>
        </p:nvSpPr>
        <p:spPr>
          <a:xfrm>
            <a:off x="755640" y="4221000"/>
            <a:ext cx="576360" cy="50508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2700360" y="40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9"/>
          <p:cNvSpPr/>
          <p:nvPr/>
        </p:nvSpPr>
        <p:spPr>
          <a:xfrm>
            <a:off x="1979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1"/>
          <p:cNvSpPr/>
          <p:nvPr/>
        </p:nvSpPr>
        <p:spPr>
          <a:xfrm flipV="1">
            <a:off x="1332000" y="436572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2"/>
          <p:cNvSpPr/>
          <p:nvPr/>
        </p:nvSpPr>
        <p:spPr>
          <a:xfrm>
            <a:off x="2342160" y="4263840"/>
            <a:ext cx="356040" cy="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2124000" y="4581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6948360" y="278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c5a7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084720" y="4005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7020000" y="3860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7"/>
          <p:cNvSpPr/>
          <p:nvPr/>
        </p:nvSpPr>
        <p:spPr>
          <a:xfrm>
            <a:off x="7380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8"/>
          <p:cNvSpPr/>
          <p:nvPr/>
        </p:nvSpPr>
        <p:spPr>
          <a:xfrm flipV="1">
            <a:off x="6660720" y="4201920"/>
            <a:ext cx="35820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 flipH="1" flipV="1">
            <a:off x="7667280" y="429264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8028000" y="4149720"/>
            <a:ext cx="576360" cy="504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H="1">
            <a:off x="7020000" y="4508640"/>
            <a:ext cx="21600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6443640" y="494172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2124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3"/>
          <p:cNvSpPr/>
          <p:nvPr/>
        </p:nvSpPr>
        <p:spPr>
          <a:xfrm>
            <a:off x="2987640" y="5661000"/>
            <a:ext cx="3600360" cy="1081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24"/>
          <p:cNvSpPr/>
          <p:nvPr/>
        </p:nvSpPr>
        <p:spPr>
          <a:xfrm flipH="1">
            <a:off x="467640" y="5084640"/>
            <a:ext cx="1176120" cy="1422360"/>
          </a:xfrm>
          <a:custGeom>
            <a:avLst/>
            <a:gdLst>
              <a:gd name="textAreaLeft" fmla="*/ -360 w 1176120"/>
              <a:gd name="textAreaRight" fmla="*/ 1176120 w 117612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25"/>
          <p:cNvSpPr/>
          <p:nvPr/>
        </p:nvSpPr>
        <p:spPr>
          <a:xfrm>
            <a:off x="7451640" y="5013360"/>
            <a:ext cx="1170000" cy="142236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существования оптических изомеров необходим </a:t>
            </a: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асимметрическ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атом угле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случае возможны два различных расположения молеку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140328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15"/>
          <p:cNvSpPr/>
          <p:nvPr/>
        </p:nvSpPr>
        <p:spPr>
          <a:xfrm>
            <a:off x="68436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16"/>
          <p:cNvSpPr/>
          <p:nvPr/>
        </p:nvSpPr>
        <p:spPr>
          <a:xfrm>
            <a:off x="2195640" y="5516640"/>
            <a:ext cx="433440" cy="431640"/>
          </a:xfrm>
          <a:prstGeom prst="ellipse">
            <a:avLst/>
          </a:prstGeom>
          <a:gradFill rotWithShape="0">
            <a:gsLst>
              <a:gs pos="0">
                <a:srgbClr val="c1a3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17"/>
          <p:cNvSpPr/>
          <p:nvPr/>
        </p:nvSpPr>
        <p:spPr>
          <a:xfrm>
            <a:off x="140328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Oval 18"/>
          <p:cNvSpPr/>
          <p:nvPr/>
        </p:nvSpPr>
        <p:spPr>
          <a:xfrm>
            <a:off x="1835280" y="6093000"/>
            <a:ext cx="433080" cy="43164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Oval 19"/>
          <p:cNvSpPr/>
          <p:nvPr/>
        </p:nvSpPr>
        <p:spPr>
          <a:xfrm>
            <a:off x="4427640" y="602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58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Oval 20"/>
          <p:cNvSpPr/>
          <p:nvPr/>
        </p:nvSpPr>
        <p:spPr>
          <a:xfrm>
            <a:off x="4140360" y="5516640"/>
            <a:ext cx="433080" cy="43164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22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23"/>
          <p:cNvSpPr/>
          <p:nvPr/>
        </p:nvSpPr>
        <p:spPr>
          <a:xfrm>
            <a:off x="565164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4"/>
          <p:cNvSpPr/>
          <p:nvPr/>
        </p:nvSpPr>
        <p:spPr>
          <a:xfrm>
            <a:off x="493236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161928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26"/>
          <p:cNvSpPr/>
          <p:nvPr/>
        </p:nvSpPr>
        <p:spPr>
          <a:xfrm>
            <a:off x="514836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27"/>
          <p:cNvSpPr/>
          <p:nvPr/>
        </p:nvSpPr>
        <p:spPr>
          <a:xfrm>
            <a:off x="183528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28"/>
          <p:cNvSpPr/>
          <p:nvPr/>
        </p:nvSpPr>
        <p:spPr>
          <a:xfrm flipH="1">
            <a:off x="457164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30"/>
          <p:cNvSpPr/>
          <p:nvPr/>
        </p:nvSpPr>
        <p:spPr>
          <a:xfrm flipV="1">
            <a:off x="1085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31"/>
          <p:cNvSpPr/>
          <p:nvPr/>
        </p:nvSpPr>
        <p:spPr>
          <a:xfrm flipH="1" flipV="1">
            <a:off x="5333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32"/>
          <p:cNvSpPr/>
          <p:nvPr/>
        </p:nvSpPr>
        <p:spPr>
          <a:xfrm>
            <a:off x="169236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Line 33"/>
          <p:cNvSpPr/>
          <p:nvPr/>
        </p:nvSpPr>
        <p:spPr>
          <a:xfrm flipH="1">
            <a:off x="478800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Oval 34"/>
          <p:cNvSpPr/>
          <p:nvPr/>
        </p:nvSpPr>
        <p:spPr>
          <a:xfrm rot="20420400">
            <a:off x="6013440" y="5462640"/>
            <a:ext cx="3132000" cy="11271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природе встре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роде наибольшее значение имеет оптическая изомер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углеводов и аминокисло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Oval 4"/>
          <p:cNvSpPr/>
          <p:nvPr/>
        </p:nvSpPr>
        <p:spPr>
          <a:xfrm>
            <a:off x="468360" y="2924280"/>
            <a:ext cx="8064360" cy="2879640"/>
          </a:xfrm>
          <a:prstGeom prst="ellipse">
            <a:avLst/>
          </a:prstGeom>
          <a:solidFill>
            <a:srgbClr val="abab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практически 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ные» углеводы имею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фигураци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аминокисл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только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 – 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=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c9cd39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d39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H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            НО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     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 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Oval 3"/>
          <p:cNvSpPr/>
          <p:nvPr/>
        </p:nvSpPr>
        <p:spPr>
          <a:xfrm rot="20692200">
            <a:off x="4858920" y="5444640"/>
            <a:ext cx="4103640" cy="10083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терм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тической изомер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975600">
            <a:off x="0" y="1125360"/>
            <a:ext cx="194472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распростран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351200">
            <a:off x="4859280" y="1268280"/>
            <a:ext cx="187164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в прир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не встреч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19040" y="240840"/>
            <a:ext cx="4632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которые терм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9528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ая изомерия – иначе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ая изомерия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ие изомеры – иначе называются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ыми изом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пособность соединений существовать в виде пары зеркальных изом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цент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а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Рацема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179280" y="189000"/>
            <a:ext cx="216072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b9b9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6443640" y="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вет пропустить через специальный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все световые волны будут колебаться в одной плоск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свет называется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лоско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908000" y="3068640"/>
            <a:ext cx="4932000" cy="2027160"/>
            <a:chOff x="1908000" y="3068640"/>
            <a:chExt cx="4932000" cy="2027160"/>
          </a:xfrm>
        </p:grpSpPr>
        <p:sp>
          <p:nvSpPr>
            <p:cNvPr id="1303" name="AutoShape 5"/>
            <p:cNvSpPr/>
            <p:nvPr/>
          </p:nvSpPr>
          <p:spPr>
            <a:xfrm>
              <a:off x="1908000" y="3068640"/>
              <a:ext cx="4932000" cy="20271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6"/>
            <p:cNvSpPr/>
            <p:nvPr/>
          </p:nvSpPr>
          <p:spPr>
            <a:xfrm>
              <a:off x="4682160" y="3873600"/>
              <a:ext cx="1075680" cy="3294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4920840" y="3873600"/>
              <a:ext cx="598320" cy="32940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AutoShape 8"/>
            <p:cNvSpPr/>
            <p:nvPr/>
          </p:nvSpPr>
          <p:spPr>
            <a:xfrm>
              <a:off x="5040000" y="3072960"/>
              <a:ext cx="1314360" cy="434880"/>
            </a:xfrm>
            <a:prstGeom prst="wedgeRectCallout">
              <a:avLst>
                <a:gd name="adj1" fmla="val -55152"/>
                <a:gd name="adj2" fmla="val 122074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AutoShape 9"/>
            <p:cNvSpPr/>
            <p:nvPr/>
          </p:nvSpPr>
          <p:spPr>
            <a:xfrm>
              <a:off x="1933200" y="3873600"/>
              <a:ext cx="829440" cy="493920"/>
            </a:xfrm>
            <a:prstGeom prst="irregularSeal1">
              <a:avLst/>
            </a:prstGeom>
            <a:gradFill rotWithShape="0">
              <a:gsLst>
                <a:gs pos="0">
                  <a:srgbClr val="ffffb5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AutoShape 10"/>
            <p:cNvSpPr/>
            <p:nvPr/>
          </p:nvSpPr>
          <p:spPr>
            <a:xfrm flipV="1">
              <a:off x="3801960" y="3839400"/>
              <a:ext cx="275400" cy="49428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11"/>
            <p:cNvSpPr/>
            <p:nvPr/>
          </p:nvSpPr>
          <p:spPr>
            <a:xfrm flipV="1">
              <a:off x="3367440" y="4101120"/>
              <a:ext cx="3466800" cy="684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AutoShape 12"/>
            <p:cNvSpPr/>
            <p:nvPr/>
          </p:nvSpPr>
          <p:spPr>
            <a:xfrm>
              <a:off x="3966120" y="4788360"/>
              <a:ext cx="1113120" cy="302400"/>
            </a:xfrm>
            <a:prstGeom prst="wedgeRectCallout">
              <a:avLst>
                <a:gd name="adj1" fmla="val -48032"/>
                <a:gd name="adj2" fmla="val -19033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 rot="16200000">
              <a:off x="2064240" y="3523320"/>
              <a:ext cx="340200" cy="12492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890080" y="3988080"/>
              <a:ext cx="357840" cy="114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 rot="5170800">
              <a:off x="2062440" y="4668120"/>
              <a:ext cx="341640" cy="12312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23120"/>
                <a:gd name="textAreaBottom" fmla="*/ 123120 h 1231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 rot="2100000">
              <a:off x="2531880" y="4558680"/>
              <a:ext cx="355680" cy="117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 rot="18206400">
              <a:off x="2539440" y="3527640"/>
              <a:ext cx="342720" cy="119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435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15г Жан Батист Био открыл явле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тической 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и жидкости изменять (отклонять на некоторый угол)  плоскость поляр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ризованного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рохождения чере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аств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тически активного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+)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ротив часовой стрелки, то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0" name="Group 35"/>
          <p:cNvGrpSpPr/>
          <p:nvPr/>
        </p:nvGrpSpPr>
        <p:grpSpPr>
          <a:xfrm>
            <a:off x="1116000" y="1700280"/>
            <a:ext cx="6408720" cy="2523960"/>
            <a:chOff x="1116000" y="1700280"/>
            <a:chExt cx="6408720" cy="2523960"/>
          </a:xfrm>
        </p:grpSpPr>
        <p:sp>
          <p:nvSpPr>
            <p:cNvPr id="1321" name="AutoShape 36"/>
            <p:cNvSpPr/>
            <p:nvPr/>
          </p:nvSpPr>
          <p:spPr>
            <a:xfrm>
              <a:off x="1116000" y="1700280"/>
              <a:ext cx="6408720" cy="25239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37"/>
            <p:cNvSpPr/>
            <p:nvPr/>
          </p:nvSpPr>
          <p:spPr>
            <a:xfrm>
              <a:off x="2229840" y="2847600"/>
              <a:ext cx="933120" cy="2286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8"/>
            <p:cNvSpPr/>
            <p:nvPr/>
          </p:nvSpPr>
          <p:spPr>
            <a:xfrm>
              <a:off x="2385360" y="2847600"/>
              <a:ext cx="623520" cy="228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AutoShape 39"/>
            <p:cNvSpPr/>
            <p:nvPr/>
          </p:nvSpPr>
          <p:spPr>
            <a:xfrm>
              <a:off x="4253040" y="2847600"/>
              <a:ext cx="1653840" cy="228600"/>
            </a:xfrm>
            <a:prstGeom prst="parallelogram">
              <a:avLst>
                <a:gd name="adj" fmla="val 180866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40"/>
            <p:cNvSpPr/>
            <p:nvPr/>
          </p:nvSpPr>
          <p:spPr>
            <a:xfrm rot="20831400">
              <a:off x="4563720" y="2847240"/>
              <a:ext cx="933120" cy="2286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0" h="875">
                  <a:moveTo>
                    <a:pt x="0" y="270"/>
                  </a:moveTo>
                  <a:cubicBezTo>
                    <a:pt x="15" y="260"/>
                    <a:pt x="29" y="248"/>
                    <a:pt x="45" y="240"/>
                  </a:cubicBezTo>
                  <a:cubicBezTo>
                    <a:pt x="59" y="233"/>
                    <a:pt x="76" y="233"/>
                    <a:pt x="90" y="225"/>
                  </a:cubicBezTo>
                  <a:cubicBezTo>
                    <a:pt x="122" y="207"/>
                    <a:pt x="180" y="165"/>
                    <a:pt x="180" y="165"/>
                  </a:cubicBezTo>
                  <a:cubicBezTo>
                    <a:pt x="235" y="82"/>
                    <a:pt x="178" y="148"/>
                    <a:pt x="255" y="105"/>
                  </a:cubicBezTo>
                  <a:cubicBezTo>
                    <a:pt x="287" y="87"/>
                    <a:pt x="315" y="65"/>
                    <a:pt x="345" y="45"/>
                  </a:cubicBezTo>
                  <a:cubicBezTo>
                    <a:pt x="385" y="19"/>
                    <a:pt x="480" y="7"/>
                    <a:pt x="525" y="0"/>
                  </a:cubicBezTo>
                  <a:cubicBezTo>
                    <a:pt x="603" y="26"/>
                    <a:pt x="609" y="23"/>
                    <a:pt x="630" y="105"/>
                  </a:cubicBezTo>
                  <a:cubicBezTo>
                    <a:pt x="590" y="225"/>
                    <a:pt x="543" y="237"/>
                    <a:pt x="465" y="315"/>
                  </a:cubicBezTo>
                  <a:cubicBezTo>
                    <a:pt x="427" y="428"/>
                    <a:pt x="483" y="293"/>
                    <a:pt x="405" y="390"/>
                  </a:cubicBezTo>
                  <a:cubicBezTo>
                    <a:pt x="395" y="402"/>
                    <a:pt x="397" y="421"/>
                    <a:pt x="390" y="435"/>
                  </a:cubicBezTo>
                  <a:cubicBezTo>
                    <a:pt x="332" y="551"/>
                    <a:pt x="383" y="412"/>
                    <a:pt x="345" y="525"/>
                  </a:cubicBezTo>
                  <a:cubicBezTo>
                    <a:pt x="363" y="578"/>
                    <a:pt x="380" y="621"/>
                    <a:pt x="435" y="645"/>
                  </a:cubicBezTo>
                  <a:cubicBezTo>
                    <a:pt x="464" y="658"/>
                    <a:pt x="525" y="675"/>
                    <a:pt x="525" y="675"/>
                  </a:cubicBezTo>
                  <a:cubicBezTo>
                    <a:pt x="555" y="665"/>
                    <a:pt x="585" y="655"/>
                    <a:pt x="615" y="645"/>
                  </a:cubicBezTo>
                  <a:cubicBezTo>
                    <a:pt x="630" y="640"/>
                    <a:pt x="645" y="635"/>
                    <a:pt x="660" y="630"/>
                  </a:cubicBezTo>
                  <a:cubicBezTo>
                    <a:pt x="675" y="625"/>
                    <a:pt x="705" y="615"/>
                    <a:pt x="705" y="615"/>
                  </a:cubicBezTo>
                  <a:cubicBezTo>
                    <a:pt x="715" y="600"/>
                    <a:pt x="721" y="581"/>
                    <a:pt x="735" y="570"/>
                  </a:cubicBezTo>
                  <a:cubicBezTo>
                    <a:pt x="747" y="560"/>
                    <a:pt x="769" y="566"/>
                    <a:pt x="780" y="555"/>
                  </a:cubicBezTo>
                  <a:cubicBezTo>
                    <a:pt x="791" y="544"/>
                    <a:pt x="782" y="519"/>
                    <a:pt x="795" y="510"/>
                  </a:cubicBezTo>
                  <a:cubicBezTo>
                    <a:pt x="821" y="492"/>
                    <a:pt x="885" y="480"/>
                    <a:pt x="885" y="480"/>
                  </a:cubicBezTo>
                  <a:cubicBezTo>
                    <a:pt x="895" y="465"/>
                    <a:pt x="901" y="446"/>
                    <a:pt x="915" y="435"/>
                  </a:cubicBezTo>
                  <a:cubicBezTo>
                    <a:pt x="927" y="425"/>
                    <a:pt x="946" y="428"/>
                    <a:pt x="960" y="420"/>
                  </a:cubicBezTo>
                  <a:cubicBezTo>
                    <a:pt x="992" y="402"/>
                    <a:pt x="1020" y="380"/>
                    <a:pt x="1050" y="360"/>
                  </a:cubicBezTo>
                  <a:cubicBezTo>
                    <a:pt x="1080" y="340"/>
                    <a:pt x="1106" y="311"/>
                    <a:pt x="1140" y="300"/>
                  </a:cubicBezTo>
                  <a:cubicBezTo>
                    <a:pt x="1170" y="290"/>
                    <a:pt x="1200" y="280"/>
                    <a:pt x="1230" y="270"/>
                  </a:cubicBezTo>
                  <a:cubicBezTo>
                    <a:pt x="1245" y="265"/>
                    <a:pt x="1275" y="255"/>
                    <a:pt x="1275" y="255"/>
                  </a:cubicBezTo>
                  <a:cubicBezTo>
                    <a:pt x="1340" y="260"/>
                    <a:pt x="1411" y="242"/>
                    <a:pt x="1470" y="270"/>
                  </a:cubicBezTo>
                  <a:cubicBezTo>
                    <a:pt x="1499" y="283"/>
                    <a:pt x="1500" y="360"/>
                    <a:pt x="1500" y="360"/>
                  </a:cubicBezTo>
                  <a:cubicBezTo>
                    <a:pt x="1500" y="361"/>
                    <a:pt x="1477" y="458"/>
                    <a:pt x="1470" y="465"/>
                  </a:cubicBezTo>
                  <a:cubicBezTo>
                    <a:pt x="1445" y="490"/>
                    <a:pt x="1410" y="505"/>
                    <a:pt x="1380" y="525"/>
                  </a:cubicBezTo>
                  <a:cubicBezTo>
                    <a:pt x="1365" y="535"/>
                    <a:pt x="1335" y="555"/>
                    <a:pt x="1335" y="555"/>
                  </a:cubicBezTo>
                  <a:cubicBezTo>
                    <a:pt x="1330" y="570"/>
                    <a:pt x="1327" y="586"/>
                    <a:pt x="1320" y="600"/>
                  </a:cubicBezTo>
                  <a:cubicBezTo>
                    <a:pt x="1312" y="616"/>
                    <a:pt x="1297" y="629"/>
                    <a:pt x="1290" y="645"/>
                  </a:cubicBezTo>
                  <a:cubicBezTo>
                    <a:pt x="1277" y="674"/>
                    <a:pt x="1270" y="705"/>
                    <a:pt x="1260" y="735"/>
                  </a:cubicBezTo>
                  <a:cubicBezTo>
                    <a:pt x="1255" y="750"/>
                    <a:pt x="1245" y="780"/>
                    <a:pt x="1245" y="780"/>
                  </a:cubicBezTo>
                  <a:cubicBezTo>
                    <a:pt x="1277" y="875"/>
                    <a:pt x="1328" y="837"/>
                    <a:pt x="1425" y="825"/>
                  </a:cubicBezTo>
                  <a:cubicBezTo>
                    <a:pt x="1494" y="802"/>
                    <a:pt x="1578" y="765"/>
                    <a:pt x="1650" y="76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41"/>
            <p:cNvSpPr/>
            <p:nvPr/>
          </p:nvSpPr>
          <p:spPr>
            <a:xfrm>
              <a:off x="3318480" y="2619000"/>
              <a:ext cx="466920" cy="5720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100000">
                  <a:srgbClr val="6a6a6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42"/>
            <p:cNvSpPr/>
            <p:nvPr/>
          </p:nvSpPr>
          <p:spPr>
            <a:xfrm>
              <a:off x="3940920" y="2390400"/>
              <a:ext cx="108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43"/>
            <p:cNvSpPr/>
            <p:nvPr/>
          </p:nvSpPr>
          <p:spPr>
            <a:xfrm flipH="1">
              <a:off x="3652920" y="2496960"/>
              <a:ext cx="1042560" cy="93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44"/>
            <p:cNvSpPr/>
            <p:nvPr/>
          </p:nvSpPr>
          <p:spPr>
            <a:xfrm rot="878400">
              <a:off x="3940560" y="2619000"/>
              <a:ext cx="465840" cy="114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40" h="345">
                  <a:moveTo>
                    <a:pt x="0" y="105"/>
                  </a:moveTo>
                  <a:cubicBezTo>
                    <a:pt x="70" y="82"/>
                    <a:pt x="126" y="51"/>
                    <a:pt x="195" y="30"/>
                  </a:cubicBezTo>
                  <a:cubicBezTo>
                    <a:pt x="225" y="21"/>
                    <a:pt x="285" y="0"/>
                    <a:pt x="285" y="0"/>
                  </a:cubicBezTo>
                  <a:cubicBezTo>
                    <a:pt x="310" y="5"/>
                    <a:pt x="335" y="9"/>
                    <a:pt x="360" y="15"/>
                  </a:cubicBezTo>
                  <a:cubicBezTo>
                    <a:pt x="375" y="19"/>
                    <a:pt x="390" y="27"/>
                    <a:pt x="405" y="30"/>
                  </a:cubicBezTo>
                  <a:cubicBezTo>
                    <a:pt x="498" y="51"/>
                    <a:pt x="580" y="51"/>
                    <a:pt x="660" y="105"/>
                  </a:cubicBezTo>
                  <a:cubicBezTo>
                    <a:pt x="746" y="234"/>
                    <a:pt x="631" y="82"/>
                    <a:pt x="735" y="165"/>
                  </a:cubicBezTo>
                  <a:cubicBezTo>
                    <a:pt x="749" y="176"/>
                    <a:pt x="752" y="197"/>
                    <a:pt x="765" y="210"/>
                  </a:cubicBezTo>
                  <a:cubicBezTo>
                    <a:pt x="778" y="223"/>
                    <a:pt x="795" y="230"/>
                    <a:pt x="810" y="240"/>
                  </a:cubicBezTo>
                  <a:cubicBezTo>
                    <a:pt x="815" y="260"/>
                    <a:pt x="819" y="280"/>
                    <a:pt x="825" y="300"/>
                  </a:cubicBezTo>
                  <a:cubicBezTo>
                    <a:pt x="829" y="315"/>
                    <a:pt x="840" y="345"/>
                    <a:pt x="840" y="345"/>
                  </a:cubicBezTo>
                </a:path>
              </a:pathLst>
            </a:custGeom>
            <a:solidFill>
              <a:srgbClr val="c4c4c4"/>
            </a:solidFill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45"/>
            <p:cNvSpPr/>
            <p:nvPr/>
          </p:nvSpPr>
          <p:spPr>
            <a:xfrm>
              <a:off x="4248360" y="2455200"/>
              <a:ext cx="159840" cy="149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17" h="331">
                  <a:moveTo>
                    <a:pt x="157" y="0"/>
                  </a:moveTo>
                  <a:cubicBezTo>
                    <a:pt x="139" y="109"/>
                    <a:pt x="129" y="193"/>
                    <a:pt x="52" y="270"/>
                  </a:cubicBezTo>
                  <a:cubicBezTo>
                    <a:pt x="37" y="265"/>
                    <a:pt x="14" y="269"/>
                    <a:pt x="7" y="255"/>
                  </a:cubicBezTo>
                  <a:cubicBezTo>
                    <a:pt x="0" y="241"/>
                    <a:pt x="7" y="216"/>
                    <a:pt x="22" y="210"/>
                  </a:cubicBezTo>
                  <a:cubicBezTo>
                    <a:pt x="41" y="202"/>
                    <a:pt x="62" y="220"/>
                    <a:pt x="82" y="225"/>
                  </a:cubicBezTo>
                  <a:cubicBezTo>
                    <a:pt x="144" y="319"/>
                    <a:pt x="111" y="331"/>
                    <a:pt x="187" y="300"/>
                  </a:cubicBezTo>
                  <a:cubicBezTo>
                    <a:pt x="197" y="296"/>
                    <a:pt x="207" y="290"/>
                    <a:pt x="217" y="28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AutoShape 46"/>
            <p:cNvSpPr/>
            <p:nvPr/>
          </p:nvSpPr>
          <p:spPr>
            <a:xfrm>
              <a:off x="6585840" y="2733840"/>
              <a:ext cx="621360" cy="344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AutoShape 47"/>
            <p:cNvSpPr/>
            <p:nvPr/>
          </p:nvSpPr>
          <p:spPr>
            <a:xfrm>
              <a:off x="1451880" y="2047680"/>
              <a:ext cx="1249200" cy="456480"/>
            </a:xfrm>
            <a:prstGeom prst="wedgeRectCallout">
              <a:avLst>
                <a:gd name="adj1" fmla="val 27699"/>
                <a:gd name="adj2" fmla="val 118055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AutoShape 48"/>
            <p:cNvSpPr/>
            <p:nvPr/>
          </p:nvSpPr>
          <p:spPr>
            <a:xfrm>
              <a:off x="3007800" y="1704960"/>
              <a:ext cx="1400400" cy="457200"/>
            </a:xfrm>
            <a:prstGeom prst="wedgeRectCallout">
              <a:avLst>
                <a:gd name="adj1" fmla="val -16666"/>
                <a:gd name="adj2" fmla="val 13888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уемый раств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AutoShape 49"/>
            <p:cNvSpPr/>
            <p:nvPr/>
          </p:nvSpPr>
          <p:spPr>
            <a:xfrm>
              <a:off x="1141200" y="2733840"/>
              <a:ext cx="467280" cy="342720"/>
            </a:xfrm>
            <a:prstGeom prst="irregularSeal1">
              <a:avLst/>
            </a:prstGeom>
            <a:gradFill rotWithShape="0">
              <a:gsLst>
                <a:gs pos="0">
                  <a:srgbClr val="ffffb1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AutoShape 50"/>
            <p:cNvSpPr/>
            <p:nvPr/>
          </p:nvSpPr>
          <p:spPr>
            <a:xfrm flipV="1">
              <a:off x="1763640" y="2733840"/>
              <a:ext cx="155160" cy="34272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51"/>
            <p:cNvSpPr/>
            <p:nvPr/>
          </p:nvSpPr>
          <p:spPr>
            <a:xfrm>
              <a:off x="1608480" y="2961720"/>
              <a:ext cx="4821840" cy="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AutoShape 52"/>
            <p:cNvSpPr/>
            <p:nvPr/>
          </p:nvSpPr>
          <p:spPr>
            <a:xfrm>
              <a:off x="1296360" y="3419280"/>
              <a:ext cx="1243800" cy="343080"/>
            </a:xfrm>
            <a:prstGeom prst="wedgeRectCallout">
              <a:avLst>
                <a:gd name="adj1" fmla="val -4092"/>
                <a:gd name="adj2" fmla="val -14389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AutoShape 53"/>
            <p:cNvSpPr/>
            <p:nvPr/>
          </p:nvSpPr>
          <p:spPr>
            <a:xfrm>
              <a:off x="6119640" y="2047680"/>
              <a:ext cx="1398240" cy="344880"/>
            </a:xfrm>
            <a:prstGeom prst="wedgeRectCallout">
              <a:avLst>
                <a:gd name="adj1" fmla="val 11120"/>
                <a:gd name="adj2" fmla="val 132171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блюдател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AutoShape 54"/>
            <p:cNvSpPr/>
            <p:nvPr/>
          </p:nvSpPr>
          <p:spPr>
            <a:xfrm>
              <a:off x="4563720" y="3304440"/>
              <a:ext cx="1243800" cy="914760"/>
            </a:xfrm>
            <a:prstGeom prst="wedgeRectCallout">
              <a:avLst>
                <a:gd name="adj1" fmla="val -52078"/>
                <a:gd name="adj2" fmla="val -7109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лоскость поляризации света повернулась на угол 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55"/>
            <p:cNvSpPr/>
            <p:nvPr/>
          </p:nvSpPr>
          <p:spPr>
            <a:xfrm>
              <a:off x="3327480" y="2728080"/>
              <a:ext cx="439200" cy="2880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0" h="45">
                  <a:moveTo>
                    <a:pt x="0" y="30"/>
                  </a:moveTo>
                  <a:cubicBezTo>
                    <a:pt x="25" y="25"/>
                    <a:pt x="50" y="13"/>
                    <a:pt x="75" y="15"/>
                  </a:cubicBezTo>
                  <a:cubicBezTo>
                    <a:pt x="106" y="18"/>
                    <a:pt x="165" y="45"/>
                    <a:pt x="165" y="45"/>
                  </a:cubicBezTo>
                  <a:cubicBezTo>
                    <a:pt x="195" y="35"/>
                    <a:pt x="225" y="25"/>
                    <a:pt x="255" y="15"/>
                  </a:cubicBezTo>
                  <a:cubicBezTo>
                    <a:pt x="270" y="10"/>
                    <a:pt x="300" y="0"/>
                    <a:pt x="300" y="0"/>
                  </a:cubicBezTo>
                  <a:cubicBezTo>
                    <a:pt x="315" y="10"/>
                    <a:pt x="327" y="28"/>
                    <a:pt x="345" y="30"/>
                  </a:cubicBezTo>
                  <a:cubicBezTo>
                    <a:pt x="397" y="36"/>
                    <a:pt x="456" y="0"/>
                    <a:pt x="510" y="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AutoShape 56"/>
          <p:cNvSpPr/>
          <p:nvPr/>
        </p:nvSpPr>
        <p:spPr>
          <a:xfrm>
            <a:off x="7020000" y="5734080"/>
            <a:ext cx="1834920" cy="963720"/>
          </a:xfrm>
          <a:prstGeom prst="upArrowCallout">
            <a:avLst>
              <a:gd name="adj1" fmla="val 47604"/>
              <a:gd name="adj2" fmla="val 47600"/>
              <a:gd name="adj3" fmla="val 16667"/>
              <a:gd name="adj4" fmla="val 66660"/>
            </a:avLst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Вы поняли что такое изоме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Научились строить изом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Значит самое время приступить к выполнению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Желаю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WordArt 4"/>
          <p:cNvSpPr txBox="1"/>
          <p:nvPr/>
        </p:nvSpPr>
        <p:spPr>
          <a:xfrm rot="21455400">
            <a:off x="611280" y="25236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конец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Кето – енольные превращ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 есть превращение непредельного спирта в кетон или альдеги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ример, такое превращение наблюдается в 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еакции Кучеров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гидратация алкинов в присутствии катализатора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≡ СН  +  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О  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C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н                                            э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нол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этанал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данном случае наблюдается перенос подвижн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тома водород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от кислорода к соседнему атому угле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 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=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Arc 4"/>
          <p:cNvSpPr/>
          <p:nvPr/>
        </p:nvSpPr>
        <p:spPr>
          <a:xfrm rot="7284600">
            <a:off x="1985400" y="4933800"/>
            <a:ext cx="1712880" cy="15829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fill="none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</a:path>
              <a:path stroke="0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  <a:lnTo>
                  <a:pt x="0" y="19287"/>
                </a:lnTo>
                <a:lnTo>
                  <a:pt x="9724" y="0"/>
                </a:lnTo>
                <a:close/>
              </a:path>
            </a:pathLst>
          </a:custGeom>
          <a:noFill/>
          <a:ln w="28440">
            <a:solidFill>
              <a:srgbClr val="f8fb8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Н – С = О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O – C –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bfdbb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люкоза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глюко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7fa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крытая (линейная) форм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04" name="Group 6"/>
          <p:cNvGrpSpPr/>
          <p:nvPr/>
        </p:nvGrpSpPr>
        <p:grpSpPr>
          <a:xfrm>
            <a:off x="6300720" y="2781360"/>
            <a:ext cx="2197080" cy="1942920"/>
            <a:chOff x="6300720" y="2781360"/>
            <a:chExt cx="2197080" cy="1942920"/>
          </a:xfrm>
        </p:grpSpPr>
        <p:sp>
          <p:nvSpPr>
            <p:cNvPr id="1105" name="AutoShape 7"/>
            <p:cNvSpPr/>
            <p:nvPr/>
          </p:nvSpPr>
          <p:spPr>
            <a:xfrm>
              <a:off x="6300720" y="2781360"/>
              <a:ext cx="21970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6313320" y="3109320"/>
              <a:ext cx="2172240" cy="1284840"/>
            </a:xfrm>
            <a:prstGeom prst="hexagon">
              <a:avLst>
                <a:gd name="adj" fmla="val 4226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6885000" y="2787840"/>
              <a:ext cx="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79146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1"/>
            <p:cNvSpPr/>
            <p:nvPr/>
          </p:nvSpPr>
          <p:spPr>
            <a:xfrm>
              <a:off x="631332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2"/>
            <p:cNvSpPr/>
            <p:nvPr/>
          </p:nvSpPr>
          <p:spPr>
            <a:xfrm>
              <a:off x="68850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3"/>
            <p:cNvSpPr/>
            <p:nvPr/>
          </p:nvSpPr>
          <p:spPr>
            <a:xfrm>
              <a:off x="848556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2" name="Group 14"/>
          <p:cNvGrpSpPr/>
          <p:nvPr/>
        </p:nvGrpSpPr>
        <p:grpSpPr>
          <a:xfrm>
            <a:off x="539640" y="2781360"/>
            <a:ext cx="2197080" cy="1871640"/>
            <a:chOff x="539640" y="2781360"/>
            <a:chExt cx="2197080" cy="1871640"/>
          </a:xfrm>
        </p:grpSpPr>
        <p:sp>
          <p:nvSpPr>
            <p:cNvPr id="1113" name="AutoShape 15"/>
            <p:cNvSpPr/>
            <p:nvPr/>
          </p:nvSpPr>
          <p:spPr>
            <a:xfrm>
              <a:off x="539640" y="2781360"/>
              <a:ext cx="21970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AutoShape 16"/>
            <p:cNvSpPr/>
            <p:nvPr/>
          </p:nvSpPr>
          <p:spPr>
            <a:xfrm>
              <a:off x="552240" y="3097440"/>
              <a:ext cx="2172240" cy="1237680"/>
            </a:xfrm>
            <a:prstGeom prst="hexagon">
              <a:avLst>
                <a:gd name="adj" fmla="val 4387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7"/>
            <p:cNvSpPr/>
            <p:nvPr/>
          </p:nvSpPr>
          <p:spPr>
            <a:xfrm>
              <a:off x="1123920" y="2787840"/>
              <a:ext cx="0" cy="6195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8"/>
            <p:cNvSpPr/>
            <p:nvPr/>
          </p:nvSpPr>
          <p:spPr>
            <a:xfrm>
              <a:off x="21535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9"/>
            <p:cNvSpPr/>
            <p:nvPr/>
          </p:nvSpPr>
          <p:spPr>
            <a:xfrm>
              <a:off x="55224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20"/>
            <p:cNvSpPr/>
            <p:nvPr/>
          </p:nvSpPr>
          <p:spPr>
            <a:xfrm>
              <a:off x="11239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272448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5640" y="-360"/>
            <a:ext cx="381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Таутомеры глюкоз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AutoShape 22">
            <a:hlinkClick r:id="rId1" action="ppaction://hlinksldjump"/>
          </p:cNvPr>
          <p:cNvSpPr/>
          <p:nvPr/>
        </p:nvSpPr>
        <p:spPr>
          <a:xfrm>
            <a:off x="250920" y="26028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23">
            <a:hlinkClick r:id="rId2" action="ppaction://hlinksldjump"/>
          </p:cNvPr>
          <p:cNvSpPr/>
          <p:nvPr/>
        </p:nvSpPr>
        <p:spPr>
          <a:xfrm>
            <a:off x="6732720" y="26028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Геометрическая изоме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вид изомерии предполагает наличие двух изомеров: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цис–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транс–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метрическая изомерия характерна для соединений, в которых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возможно свободное вращение вокруг углерод – углеродной связи (например, алкен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атомы углерода связан с двумя различными груп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геометрическую изомерию на примере бутена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ишем структурную формулу бутена –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 – СН = СН – 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круг двойной связи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= С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водород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два способа расположить эти радика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С =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ци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 изомер:                                              Это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изоме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инаковые радикалы                                одинаковые радика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оложены                                                                расположе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одну сторону                                                  по разные ст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ойной связи.                                                            двойной свя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Oval 4">
            <a:hlinkClick r:id="rId1" action="ppaction://hlinksldjump"/>
          </p:cNvPr>
          <p:cNvSpPr/>
          <p:nvPr/>
        </p:nvSpPr>
        <p:spPr>
          <a:xfrm>
            <a:off x="2771640" y="5516640"/>
            <a:ext cx="3313080" cy="115236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у бутена -1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8:13:16Z</dcterms:created>
  <dc:creator>Мама</dc:creator>
  <dc:description/>
  <dc:language>en-US</dc:language>
  <cp:lastModifiedBy>LEGION</cp:lastModifiedBy>
  <dcterms:modified xsi:type="dcterms:W3CDTF">2015-05-01T12:09:30Z</dcterms:modified>
  <cp:revision>123</cp:revision>
  <dc:subject/>
  <dc:title>Изомерия</dc:title>
</cp:coreProperties>
</file>