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D886-5D8D-400D-88F5-0A9C5A4FF2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8873-C41A-4FF4-9351-256EBD0D22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биталь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A313-B53E-43FC-B6BD-5EB3C78D42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агнит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1B9C-60DC-4AA6-9A53-A62B330A3E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пинов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E44B-83F7-4EA8-A02D-DEAA5F9C26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аименьшей энер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A574-C42E-4C7B-A212-FA098B7EC6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Клечковск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севолод Маврикиевич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Клечков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3623-C922-49F4-B2D6-97BDBEE231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ольфганг Эрнст Паул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– 195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Австр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Пау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8E4F-D4D2-4FD8-B3A2-37CBF85EBD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Фридрих Хун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896 – 199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Хун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3A31-60C0-49A2-A68E-7ADF94A623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57DA-A3FE-4EFC-8050-01740DDA11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924 г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Франц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уи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де Брой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Луи Виктор Пьер Реймон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7-й герцог Брольи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892-19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EF1C-3265-4CC1-83E6-20FE275FF9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7 год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США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линтон Дж. Дэвисс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1-19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2e2e2"/>
                </a:solidFill>
                <a:latin typeface="Calibri"/>
              </a:rPr>
              <a:t>Лауре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т нобелевской премии по физ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7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естер Г. Джер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6-197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нглия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Джозеф Паджет Том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2-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Экспериментально доказа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тверждение Луи де Брой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FCA3-3F13-496E-80CF-B4A8B7910A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24 г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ернер Карл Гейзенбер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1-1976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нобелевской премии по физик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32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еопределенности:</a:t>
            </a: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726-0E0A-447A-A9DA-BD5722B5C7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встрия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Эрвин Шредин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7-196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обелевской прем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 физ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равнение Шрединг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A54C-B8FF-410F-9625-333B9AAB80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Уравнение Шрединг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г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x, y, z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рассто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стоянная Планка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</a:rPr>
              <a:t>(6,626</a:t>
            </a:r>
            <a:r>
              <a:rPr b="1" lang="en-US" sz="1100" spc="-1" strike="noStrike">
                <a:solidFill>
                  <a:srgbClr val="003399"/>
                </a:solidFill>
                <a:latin typeface="Calibri"/>
                <a:ea typeface="Arial"/>
              </a:rPr>
              <a:t>×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10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-34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Дж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.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с);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m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масса частицы,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и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</a:t>
            </a:r>
            <a:r>
              <a:rPr b="1" lang="ru-RU" sz="1200" spc="-1" strike="noStrike" baseline="-25000">
                <a:solidFill>
                  <a:srgbClr val="003399"/>
                </a:solidFill>
                <a:latin typeface="Calibri"/>
                <a:ea typeface="Arial"/>
              </a:rPr>
              <a:t>п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полная и потенциальная энергия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Квадрат мод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функции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определя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ероят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нахождения элект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ато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E590-F5E6-443A-8D8C-5C4A5B5527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Функци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зави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от простран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оординат электр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радиуса и двух уг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абором квантовых чисел:</a:t>
            </a:r>
            <a:r>
              <a:rPr b="0" lang="en-US" sz="1200" spc="-1" strike="noStrike">
                <a:solidFill>
                  <a:srgbClr val="e62c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, l, m,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589A-523C-4B7D-9275-B5EAFE330E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вантовые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9DE6-EF09-4948-8608-78ED521652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лав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A257-6430-42F2-A47A-67EECB42C3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B3A-3276-4BBD-9A64-A2491A5D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70B-C9ED-4D84-BEA0-EBA8DBF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B48-6A1B-418C-AFFA-2D307963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8C6-6DFA-4EF6-90A7-131BD173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077-681B-46F7-ABB6-EC393BB9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B05-D892-4E24-BDC6-F7C5D437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23E-1FF8-40F5-85A3-DA049DCB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17D-E74E-478F-B10E-1646EAA3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F91-895F-45BB-ACFD-22A8B36E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837-81BD-4010-B535-F9B67B89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992-B93B-4691-AF25-4084247D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9B9-CCF1-47DA-9B78-A699553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9B7F-9223-4686-B20B-D605E145E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258840"/>
            <a:ext cx="8209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27720" y="857160"/>
            <a:ext cx="250992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36440" y="812880"/>
            <a:ext cx="377532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386080" y="2620800"/>
            <a:ext cx="377676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5337000" y="4384800"/>
            <a:ext cx="377676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62000" y="4437000"/>
            <a:ext cx="2841480" cy="213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209000" y="610884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Электрон Шредингера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2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Электрон Шредингера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200" y="549360"/>
          <a:ext cx="8929800" cy="621504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2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9"/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0"/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1"/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2"/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6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LEGION</cp:lastModifiedBy>
  <dcterms:modified xsi:type="dcterms:W3CDTF">2015-05-01T12:11:13Z</dcterms:modified>
  <cp:revision>73</cp:revision>
  <dc:subject>Квантовая химия</dc:subject>
  <dc:title>Состояние электронов в атоме</dc:title>
</cp:coreProperties>
</file>