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69DB-28C1-477F-B166-86A369FB9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3F31-A2F5-4D0E-8A66-8E7E84AC60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биталь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3C09-91DB-4F5F-A64B-FF10355C89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агнит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439-AF5C-4355-921C-67633CCC64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пинов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F85D-3FF1-46C4-9C05-83A36D7502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аименьшей энер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06C8-C54A-461A-8AA6-E1601672D1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Клечковск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севолод Маврикиевич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Клечков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02CE-7F56-4998-A3B6-0CA5D4C627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ольфганг Эрнст Паул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– 195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Австр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Пау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7772-0A52-4C5B-804D-377B6B16C6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Фридрих Хун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896 – 199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Хун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F6B2-D3E0-414A-A8F4-DCC00C7057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50A2-0641-4285-8C56-D52B469474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924 г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Франц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уи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де Брой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Луи Виктор Пьер Реймон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7-й герцог Брольи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892-19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6599-22F1-456D-8F4E-973D1FC86C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7 год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США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линтон Дж. Дэвисс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1-19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2e2e2"/>
                </a:solidFill>
                <a:latin typeface="Calibri"/>
              </a:rPr>
              <a:t>Лауре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т нобелевской премии по физ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7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естер Г. Джер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6-197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нглия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Джозеф Паджет Том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2-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Экспериментально доказа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тверждение Луи де Брой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900D-3BD9-4B4C-AE5D-D2FC6BB1F6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24 г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ернер Карл Гейзенбер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1-1976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нобелевской премии по физик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32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еопределенности:</a:t>
            </a: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3D2F-5CA3-4C4A-9BCA-740F9ED44B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встрия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Эрвин Шредин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7-196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обелевской прем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 физ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равнение Шрединг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B954-EB8A-4525-B5A1-3FBC95403E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Уравнение Шрединг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г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x, y, z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рассто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стоянная Планка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</a:rPr>
              <a:t>(6,626</a:t>
            </a:r>
            <a:r>
              <a:rPr b="1" lang="en-US" sz="1100" spc="-1" strike="noStrike">
                <a:solidFill>
                  <a:srgbClr val="003399"/>
                </a:solidFill>
                <a:latin typeface="Calibri"/>
                <a:ea typeface="Arial"/>
              </a:rPr>
              <a:t>×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10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-34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Дж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.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с);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m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масса частицы,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и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</a:t>
            </a:r>
            <a:r>
              <a:rPr b="1" lang="ru-RU" sz="1200" spc="-1" strike="noStrike" baseline="-25000">
                <a:solidFill>
                  <a:srgbClr val="003399"/>
                </a:solidFill>
                <a:latin typeface="Calibri"/>
                <a:ea typeface="Arial"/>
              </a:rPr>
              <a:t>п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полная и потенциальная энергия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Квадрат мод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функции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определя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ероят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нахождения элект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ато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8937-7380-4885-91D2-41AE66F2DF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Функци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зави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от простран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оординат электр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радиуса и двух уг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абором квантовых чисел:</a:t>
            </a:r>
            <a:r>
              <a:rPr b="0" lang="en-US" sz="1200" spc="-1" strike="noStrike">
                <a:solidFill>
                  <a:srgbClr val="e62c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, l, m,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B662-5F50-4763-B3FC-25C7B0AA0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вантовые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A1CC-B317-4808-87ED-608F604D5C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лав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67DB-7CD8-430D-9C98-C00D94A360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45E-FD57-4D0B-808C-885E95E9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9E5-B374-46DB-A90F-C17405FE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13C-8B2E-4FC4-A058-11C14CD4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C9E-6193-4F40-83D0-26AEA1DA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700-4FD3-45DD-9556-33E1F776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A7C-762B-4F52-ADCB-97FE973C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514-D389-4813-86DC-3EA559C5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15E-B755-4F5A-BF19-91DE5990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CB8-5488-4B2E-9E28-6C5B3087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9CE-2F24-4C1B-ADFC-553100EC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368-7DEA-4938-87F1-E8C894B3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C45-F66D-4239-98C7-CEA3C5A9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B0E0-F672-4EC5-99F9-668472E95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258840"/>
            <a:ext cx="8209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27720" y="857160"/>
            <a:ext cx="250992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36440" y="812880"/>
            <a:ext cx="377532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386080" y="2620800"/>
            <a:ext cx="377676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5337000" y="4384800"/>
            <a:ext cx="377676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62000" y="4437000"/>
            <a:ext cx="2841480" cy="213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209000" y="610884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Электрон Шредингера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2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Электрон Шредингера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200" y="549360"/>
          <a:ext cx="8929800" cy="621504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2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9"/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0"/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1"/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2"/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6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LEGION</cp:lastModifiedBy>
  <dcterms:modified xsi:type="dcterms:W3CDTF">2015-05-01T12:11:13Z</dcterms:modified>
  <cp:revision>73</cp:revision>
  <dc:subject>Квантовая химия</dc:subject>
  <dc:title>Состояние электронов в атоме</dc:title>
</cp:coreProperties>
</file>