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F0F8-7E00-489A-A943-30C6894B2E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1C43-4FD1-40BC-A378-36062C9D7A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биталь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F3F4-768D-4C24-A952-882C90ABAE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агнит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E384-5E93-46CD-BD5C-EA26DE8193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пинов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9056-89E5-4A64-8983-9FA19B2CDE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аименьшей энер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B6C3-1911-459B-8BB3-A0C7729D6D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Клечковск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севолод Маврикиевич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Росс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Клечков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DEE8-1946-4CB5-A1AE-28A0361588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ольфганг Эрнст Паул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0 – 195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Австр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Пау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EDAC-7845-4480-884D-26C47806EA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Фридрих Хун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896 – 199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авило Хун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56FB-5E39-45F8-AF37-605E23F4AC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стояние электронов в ат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D5F9-FDB3-49CA-A22B-A149DDC642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924 г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Франц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уи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де Бройль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Луи Виктор Пьер Реймон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7-й герцог Брольи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892-19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Лауреат нобелевской прем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3CC8-FF44-4591-AEEF-6ED13E587E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7 год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США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линтон Дж. Дэвисс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1-195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2e2e2"/>
                </a:solidFill>
                <a:latin typeface="Calibri"/>
              </a:rPr>
              <a:t>Лауре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т нобелевской премии по физ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7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естер Г. Джер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6-197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нглия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Джозеф Паджет Том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92-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Экспериментально доказал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тверждение Луи де Брой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C662-EE72-4D68-B7ED-AA326477DA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1924 г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Германи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Вернер Карл Гейзенбер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01-1976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нобелевской премии по физике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99"/>
                </a:solidFill>
                <a:latin typeface="Calibri"/>
              </a:rPr>
              <a:t>(1932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инцип неопределенности:</a:t>
            </a: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1F42-B6A0-496E-885B-012D4FA6CC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192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Австрия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Эрвин Шрединг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887-196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Лауре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обелевской прем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 физ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193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Уравнение Шрединг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691D-9175-4AD0-A316-7F5C53357B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Уравнение Шрединг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г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x, y, z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рассто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постоянная Планка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</a:rPr>
              <a:t>(6,626</a:t>
            </a:r>
            <a:r>
              <a:rPr b="1" lang="en-US" sz="1100" spc="-1" strike="noStrike">
                <a:solidFill>
                  <a:srgbClr val="003399"/>
                </a:solidFill>
                <a:latin typeface="Calibri"/>
                <a:ea typeface="Arial"/>
              </a:rPr>
              <a:t>×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10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-34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Дж</a:t>
            </a:r>
            <a:r>
              <a:rPr b="1" lang="ru-RU" sz="1100" spc="-1" strike="noStrike" baseline="30000">
                <a:solidFill>
                  <a:srgbClr val="003399"/>
                </a:solidFill>
                <a:latin typeface="Calibri"/>
                <a:ea typeface="Arial"/>
              </a:rPr>
              <a:t>.</a:t>
            </a:r>
            <a:r>
              <a:rPr b="1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с);</a:t>
            </a:r>
            <a:r>
              <a:rPr b="0" lang="ru-RU" sz="1100" spc="-1" strike="noStrike">
                <a:solidFill>
                  <a:srgbClr val="003399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m –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масса частицы,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и </a:t>
            </a:r>
            <a:r>
              <a:rPr b="0" lang="en-US" sz="1200" spc="-1" strike="noStrike">
                <a:solidFill>
                  <a:srgbClr val="003399"/>
                </a:solidFill>
                <a:latin typeface="Calibri"/>
                <a:ea typeface="Arial"/>
              </a:rPr>
              <a:t>E</a:t>
            </a:r>
            <a:r>
              <a:rPr b="1" lang="ru-RU" sz="1200" spc="-1" strike="noStrike" baseline="-25000">
                <a:solidFill>
                  <a:srgbClr val="003399"/>
                </a:solidFill>
                <a:latin typeface="Calibri"/>
                <a:ea typeface="Arial"/>
              </a:rPr>
              <a:t>п  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  <a:ea typeface="Arial"/>
              </a:rPr>
              <a:t>полная и потенциальная энергия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Квадрат моду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функции </a:t>
            </a: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определя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ероят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нахождения электро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3300"/>
                </a:solidFill>
                <a:latin typeface="Calibri"/>
              </a:rPr>
              <a:t>в ато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D830-9274-4C61-966E-F0E24C647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Функци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Ψ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 зави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от простран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оординат электр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(радиуса и двух уг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набором квантовых чисел:</a:t>
            </a:r>
            <a:r>
              <a:rPr b="0" lang="en-US" sz="1200" spc="-1" strike="noStrike">
                <a:solidFill>
                  <a:srgbClr val="e62c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, l, m,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75B1-F6F2-4437-B788-09FC82022C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Квантовые чи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DF68-8A92-4E45-A081-AE73B84CAA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лавное квантовое чи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F4CA-8D25-4152-BACA-0A0D2FC213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19E-EE1C-457F-A515-9371DA3F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DA1-A196-4023-ADBA-833B46E1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B5E-594E-4D71-9F9B-7DFCC101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6E5-69AF-4C1F-AAC6-8D2BE8D4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D1E-D09D-43DD-B5A4-EC1CC9FC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36D-FD88-4B4F-9D96-DBA2A271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67B-DD9C-4872-84F2-46EE9761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867-1344-46C5-8CF3-43BC4913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9CB-2FC3-430F-8D08-E13AEE26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6DF-DD31-4309-B497-ADF1295E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C82-676F-4900-81B4-0AD56A4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87D-8149-491C-819E-44183A94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22B0-0A0D-4F05-9703-AFDE222EC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258840"/>
            <a:ext cx="8209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327720" y="857160"/>
            <a:ext cx="2509920" cy="17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136440" y="812880"/>
            <a:ext cx="3775320" cy="171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386080" y="2620800"/>
            <a:ext cx="3776760" cy="171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5337000" y="4384800"/>
            <a:ext cx="3776760" cy="165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162000" y="4437000"/>
            <a:ext cx="2841480" cy="2135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7209000" y="610884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12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Электрон Шредингера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7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2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Электрон Шредингера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200" y="549360"/>
          <a:ext cx="8929800" cy="621504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2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19"/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0"/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1"/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2"/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6"/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LEGION</cp:lastModifiedBy>
  <dcterms:modified xsi:type="dcterms:W3CDTF">2015-05-01T12:11:13Z</dcterms:modified>
  <cp:revision>73</cp:revision>
  <dc:subject>Квантовая химия</dc:subject>
  <dc:title>Состояние электронов в атоме</dc:title>
</cp:coreProperties>
</file>