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3F2A-2EDA-46AC-B11B-242D1FEA9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692-42BA-425C-B805-4E25FCEBAA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биталь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DA9C-3071-477C-80DB-99F4CCBB9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агнит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8152-EBBB-4A94-8994-B599A77150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пинов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9AEA-89CF-4518-B78C-1E9D16A63D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аименьшей энер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FB37-BDDA-4545-AF4F-B86941058C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Клечковск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севолод Маврикиевич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Клечков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71AA-DA2B-45DC-A037-3BDCC501CF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ольфганг Эрнст Паул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– 195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Австр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Пау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DE9A-9B79-43BB-862A-EC3D85B184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Фридрих Хун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896 – 199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Хун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1D81-87F3-43BF-A49A-A0D17E0DF1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B958-CE4E-4C5A-ADD5-B79EDA1D3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924 г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Франц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уи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де Брой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Луи Виктор Пьер Реймон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7-й герцог Брольи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892-19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F45B-CA3E-400D-A86F-E29A2879DF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7 год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США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линтон Дж. Дэвисс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1-19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2e2e2"/>
                </a:solidFill>
                <a:latin typeface="Calibri"/>
              </a:rPr>
              <a:t>Лауре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т нобелевской премии по физ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7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естер Г. Джер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6-197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нглия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Джозеф Паджет Том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2-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Экспериментально доказа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тверждение Луи де Брой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B4C2-7F59-4D31-94FD-4D74D3A448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24 г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ернер Карл Гейзенбер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1-1976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нобелевской премии по физик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32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еопределенности:</a:t>
            </a: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A910-D9BD-4647-94B6-F9F5F6D889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встрия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Эрвин Шредин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7-196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обелевской прем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 физ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равнение Шрединг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AA6B-010A-4B14-8968-E6143098CE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Уравнение Шрединг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г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x, y, z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рассто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стоянная Планка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</a:rPr>
              <a:t>(6,626</a:t>
            </a:r>
            <a:r>
              <a:rPr b="1" lang="en-US" sz="1100" spc="-1" strike="noStrike">
                <a:solidFill>
                  <a:srgbClr val="003399"/>
                </a:solidFill>
                <a:latin typeface="Calibri"/>
                <a:ea typeface="Arial"/>
              </a:rPr>
              <a:t>×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10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-34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Дж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.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с);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m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масса частицы,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и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</a:t>
            </a:r>
            <a:r>
              <a:rPr b="1" lang="ru-RU" sz="1200" spc="-1" strike="noStrike" baseline="-25000">
                <a:solidFill>
                  <a:srgbClr val="003399"/>
                </a:solidFill>
                <a:latin typeface="Calibri"/>
                <a:ea typeface="Arial"/>
              </a:rPr>
              <a:t>п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полная и потенциальная энергия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Квадрат мод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функции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определя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ероят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нахождения элект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ато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DB85-F65D-447B-A449-3036D832C6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Функци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зави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от простран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оординат электр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радиуса и двух уг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абором квантовых чисел:</a:t>
            </a:r>
            <a:r>
              <a:rPr b="0" lang="en-US" sz="1200" spc="-1" strike="noStrike">
                <a:solidFill>
                  <a:srgbClr val="e62c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, l, m,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86D6-F490-484B-87AC-E7F48464A5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вантовые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BE15-D005-43CA-A998-CE33F45EF6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лав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231D-D356-4F39-B037-66BF0C7F13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66C-6B2F-4252-AC02-2911BD51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533-A1E7-4380-9461-1DB93AE6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DC1-2274-4469-92DB-C7EFCF27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E0A-4DD5-4B06-A766-7529B85F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A50-2697-45B2-8A19-BDFE09C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6AF-759F-448D-A68B-81CD7CD6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913-AD43-445A-A76D-42B1F79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248-F09C-440D-BDFA-0BD0D155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A35-FEE8-4EE3-A6B3-2FB00F1C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C77-426A-49DA-94E4-C5FBEBBC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E41-D031-4BED-AD9B-89EDBF50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48A-D8AA-457E-A916-24B29057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FD0A-7C67-48A1-9DA1-F62B2002A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258840"/>
            <a:ext cx="8209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27720" y="857160"/>
            <a:ext cx="250992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36440" y="812880"/>
            <a:ext cx="377532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386080" y="2620800"/>
            <a:ext cx="377676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5337000" y="4384800"/>
            <a:ext cx="377676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62000" y="4437000"/>
            <a:ext cx="2841480" cy="213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209000" y="610884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Электрон Шредингера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2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Электрон Шредингера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200" y="549360"/>
          <a:ext cx="8929800" cy="621504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2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9"/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0"/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1"/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2"/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6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LEGION</cp:lastModifiedBy>
  <dcterms:modified xsi:type="dcterms:W3CDTF">2015-05-01T12:11:13Z</dcterms:modified>
  <cp:revision>73</cp:revision>
  <dc:subject>Квантовая химия</dc:subject>
  <dc:title>Состояние электронов в атоме</dc:title>
</cp:coreProperties>
</file>