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29.png" ContentType="image/png"/>
  <Override PartName="/ppt/media/image52.jpeg" ContentType="image/jpeg"/>
  <Override PartName="/ppt/media/image7.gif" ContentType="image/gif"/>
  <Override PartName="/ppt/media/image26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jpeg" ContentType="image/jpeg"/>
  <Override PartName="/ppt/media/image22.png" ContentType="image/png"/>
  <Override PartName="/ppt/media/image59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0.jpeg" ContentType="image/jpeg"/>
  <Override PartName="/ppt/media/image21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12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1.gif" ContentType="image/gif"/>
  <Override PartName="/ppt/media/image24.gif" ContentType="image/gif"/>
  <Override PartName="/ppt/media/image27.png" ContentType="image/png"/>
  <Override PartName="/ppt/media/image1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1.png" ContentType="image/png"/>
  <Override PartName="/ppt/media/image56.jpeg" ContentType="image/jpeg"/>
  <Override PartName="/ppt/media/image34.png" ContentType="image/png"/>
  <Override PartName="/ppt/media/image35.jpeg" ContentType="image/jpeg"/>
  <Override PartName="/ppt/media/image47.png" ContentType="image/png"/>
  <Override PartName="/ppt/media/image36.jpeg" ContentType="image/jpeg"/>
  <Override PartName="/ppt/media/image37.png" ContentType="image/png"/>
  <Override PartName="/ppt/media/image17.png" ContentType="image/png"/>
  <Override PartName="/ppt/media/image14.gif" ContentType="image/gif"/>
  <Override PartName="/ppt/media/image39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28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E6D-E7BC-4647-928A-59820C95F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ХИМИИ. ЛЕКЦИЯ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E339-5E65-44CC-9298-BB6C5E2BC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о химическая связь, образованная двумя атомами за счет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общих электронных п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A: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t-EE" sz="1200" spc="-1" strike="noStrike" baseline="30000">
                <a:solidFill>
                  <a:srgbClr val="000000"/>
                </a:solidFill>
                <a:latin typeface="Calibri"/>
              </a:rPr>
              <a:t>•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 → H: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A28-7924-40FF-814D-7BC395583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EBF-EBF2-4397-8F48-9C6B9CCCE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7C2-949D-40F4-8002-D510124E3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E6D-FE2A-4378-A706-20010A2D1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BA9-5161-42DF-928D-CC20F6CC6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1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1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E6D-3090-4C84-9248-3BFD8D9F4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F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нергия связи 4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O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2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∙∙∙N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энергия связи 10 кДж/м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HF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3F20-0E95-4F91-B137-CD8769968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53E-ED2E-4F48-BDAB-43201104E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227-B048-483C-9F24-2CC97FD09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0F1D-6E76-4060-9323-DC48764C4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общая энергия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FFF-A1AC-4A38-A955-54D9A4AD4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65C3-9943-420F-B92E-71548484C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9B5-AFA0-4DFF-BEDB-FBE4D7F99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ические решё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сущее находящемус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стоянии веществу правильное пространственное расположение 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 характеризующееся периодической повторяемостью в трёх измер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969-A977-433E-964E-A11E3F640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бычно ионные кристаллы твердые, но хру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онные кристаллы отличаются высокими температурами пл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расплавленном состоянии вещества, образующие ионные кристаллы, электропровод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створяются в полярных растворителях (вод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781-F957-4FE8-BFA6-7B0713518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49E-B880-4E8E-9160-3E86B3364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олекулярная кристаллическая решёт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9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9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₂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F13-A217-4673-B582-B086827A8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ё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16F9-5D61-4676-BD4C-158B7FFFC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химической связи и их отличитель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0FC-ABBE-473E-A108-3F9B63056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-дер-ваальсовы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3DA-E725-4269-8309-2BD167CBE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ок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E582-B906-4743-9679-A847E9820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A75-952F-498F-A8A5-CB53B9C9F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ённое состоя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SM4BxoCoHzk&amp;feature=relat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016-1CEB-404F-A820-EE9766551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AEC-7D1F-49DB-93A2-66015A2EA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+ 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→  Cl</a:t>
            </a:r>
            <a:r>
              <a:rPr b="0" lang="et-EE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t-EE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 + Cl → Na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1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→ NaCl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DEE0-2327-4267-A786-A5D2E300A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7F9-D52E-49BD-BC14-3B2FC5E19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35F-7ED8-4465-914B-76618815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166-0E7B-42BA-835E-596CF1C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B51-5DDA-4CDD-8823-1D716BA1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8BF-928B-42E9-99C0-257A6121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046-8238-420D-972A-29D968D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8D2-26C0-4197-BA5F-98F49D9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C3F-40B5-415A-B069-C93BEB9D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EEE-2B7B-48FE-BC20-12B74834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4CAC-5B91-4255-AA4C-E3AF242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103D-55D0-4915-BC2A-9823160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8D5-BBBC-4EBA-9EDF-BD17CFD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752-B137-4259-8BCD-6302474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2797-0397-4D8D-8212-A516175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6468-58D0-4491-83D5-D3FB2FC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35E1-EFFC-4188-BC97-EBAE3C8D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FCAC-95D0-473D-B484-E95F2AF7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3E6-ACED-4E14-B709-CC80235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0895-E23D-4651-BBD3-F10AF67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3387-FFEA-48D6-AD28-921B2A9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D7C5-45D6-4A6C-B269-F338C287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9FFC-7060-4946-BA8E-C79D84B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B446-3A4C-4519-9C17-2F7C06BB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10-5F58-403F-99A9-416CBADF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8785-D120-4893-8A1D-F6A65D59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84CC-229A-4F2F-93F2-F791800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EC81-A2F6-4DD3-8628-8FD5C5B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953A-786C-4669-9F52-E36B0A3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B09F-C5EA-49AF-8CC8-2017790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6F2F-BE05-4FAC-8780-666E4FB2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C170-8487-4125-B4E5-8D0DFB81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759A-C4B6-40B9-ABAC-4EB07C0B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80AB-707D-4DD5-B91C-7D6B56F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FDA5-49BB-4DD1-BE24-680B27C6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9F0-5DFD-4A3C-A8E4-23297C0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A031-0A35-494A-9AAE-CE6F2826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ADD1-F38E-4224-AB31-2F7F9F47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5828-9B45-4658-BEC5-02F7FE0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97E1-6556-4F84-9DF5-20EAD953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CF05-B157-492B-836F-2CF8673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0A08-37BE-4505-AC87-4F842CF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F091-4C5E-47E5-B77F-D1824BC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1855-85E6-49E6-8CB5-7B2934C1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A78B-CF48-40E3-8511-7D691D5D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2C3B-02A7-4BC7-BDAD-D4F959B3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47E-1E4A-4FA2-9FAD-FF6EA29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56E0-7D6F-42CB-8898-269F42AB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1A0A-1EF0-4E9E-A0D3-A9D14785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8684-66D4-4E66-A96C-B9E8F7C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26E8-6F00-49A3-AC95-3F16AD1E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4569-5857-4D23-9E26-B4E5D51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10EE-7987-4727-B4DE-2C2C76A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9CBB-454B-4000-A66A-2C7BED34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FF66-1B97-4E76-A3B1-EA372AC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4D4E-6251-47EB-8556-FC89690E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0EB50-12E9-4CF7-B17C-A2627AE2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D0E-920E-4202-8B86-B0839756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43E0A-2846-4E00-9CF3-C0F9A2F5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CB0E-1E3F-4517-899D-D2502F33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F591-6B1D-444E-A17D-827D25F6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D7B6-A1E5-4360-875F-E1133EB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2CF6A-29C4-45C7-B06D-849698E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E20F-361F-42DA-8B9D-ACA169F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C8C0-39A2-4A25-A12C-558D8966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ECA0-15CB-4545-B514-89BD6A7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4CD22-E689-45B0-9D5A-205AC66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18CB-1BA5-4B67-8997-4AC2E21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EF0-70EF-45E4-973E-F8B69EB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10D3-7B26-4866-B687-714D2360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9A3F5-D6A0-44D6-968F-49CB979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3308-2845-4128-872E-5319FD18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3501-C14F-4DE3-B44E-6F183226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B558-15AB-4085-9EAC-D2262E8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8A75-6359-48B9-9393-D518ABBE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539A-AEB8-4DCC-A21F-B85939B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E5C5-860E-4059-9182-A4D6A901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72C0-1878-438F-94E1-B1BC184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D769-6795-4CB2-904E-F8E29A9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95A-ECF0-4FD4-8ED6-AC0CBCF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FA03-81D0-447A-B4A9-D3BF974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89C5-4414-4D27-B3B2-8413742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90B81-6CC3-462B-88A6-BF397BC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B09D-5F5A-4DDF-9A4F-A7BFFC24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74F8-08C7-433C-BD1D-BD432497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CDE0-0B6A-4921-B397-F4630F4E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604E-1543-471C-BBB7-4B995CAB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67C6-F3C0-456D-BB92-ACA916B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F4FA-0406-4894-A8CA-9FA08EC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D4EA-1CCB-40FD-A28C-749C995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C50-BAE0-46D0-8DB2-AA198C6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4E65-BFEE-40EF-985C-CCCFDB7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B8EB-03FA-497E-87F4-E3DA38B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093E0-2E83-4990-A195-B0FA9BB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74EAC-913D-48CF-A51A-84DA1DF7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155BF-2BA6-4E4D-9C32-E2D81F86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8DDC-4A64-46D5-BE7B-07D2D4E2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95A98-531E-42A2-B07B-ECA10FA7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EC3-9799-43AF-8005-B79D50DDCE48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202-BA68-4138-A253-9D5753A3791A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D81-A36C-4F9D-8682-3FF0FB94D10E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EE1-A85D-4DBC-B85F-310CE923AD6A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50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657C-E847-48D4-83BE-0612A5D013F2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1CDF-2955-47EB-88E0-3521036926F0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742-14BB-4A97-A7A7-DB3984E9C7AC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5B6-19DD-4BA5-9C6C-7B67F8B952DD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01EB-8B78-4603-A28C-5F982C8CFE32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C34-0B04-45F9-A05A-2FF60AFC54D6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6D40-A92E-453C-A79D-CCA51C920E87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5A0-080A-48C1-8FF2-7ADC7E1D70F8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50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CFCC-F26D-4AB0-B870-C6842A31C6D2}" type="datetime">
              <a:rPr b="0" lang="et-EE" sz="1400" spc="-1" strike="noStrike">
                <a:solidFill>
                  <a:srgbClr val="dedede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dedede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edede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4E62-A741-44AF-8756-C2C21AE5ECDA}" type="slidenum">
              <a:rPr b="0" lang="en-US" sz="1400" spc="-1" strike="noStrike">
                <a:solidFill>
                  <a:srgbClr val="dedede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6f6f6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CE6-A396-48EA-9A71-3844F734358E}" type="datetime">
              <a:rPr b="0" lang="et-EE" sz="1400" spc="-1" strike="noStrike">
                <a:solidFill>
                  <a:srgbClr val="424456"/>
                </a:solidFill>
                <a:latin typeface="Gill Sans MT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C9C6-2E24-4ADF-88B9-AC37FE6BC599}" type="slidenum">
              <a:rPr b="0" lang="en-US" sz="1400" spc="-1" strike="noStrike">
                <a:solidFill>
                  <a:srgbClr val="42445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4BxoCoHzk&amp;feature=related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Cambria"/>
              </a:rPr>
              <a:t>ОСНОВЫ ХИМИИ. ЛЕКЦИЯ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http://src.ucoz.net/sm/1/prof.gif"/>
          <p:cNvPicPr/>
          <p:nvPr/>
        </p:nvPicPr>
        <p:blipFill>
          <a:blip r:embed="rId1"/>
          <a:stretch/>
        </p:blipFill>
        <p:spPr>
          <a:xfrm>
            <a:off x="3714840" y="5214960"/>
            <a:ext cx="2761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ill Sans MT"/>
              </a:rPr>
              <a:t>Это химическая связь, образованная двумя атомами за счет </a:t>
            </a:r>
            <a:r>
              <a:rPr b="1" i="1" lang="et-EE" sz="2000" spc="-1" strike="noStrike">
                <a:solidFill>
                  <a:srgbClr val="000000"/>
                </a:solidFill>
                <a:latin typeface="Gill Sans MT"/>
              </a:rPr>
              <a:t>общих электронных пар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B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A: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+ H</a:t>
            </a:r>
            <a:r>
              <a:rPr b="1" lang="et-EE" sz="2000" spc="-1" strike="noStrike" baseline="30000">
                <a:solidFill>
                  <a:srgbClr val="000000"/>
                </a:solidFill>
                <a:latin typeface="Gill Sans MT"/>
              </a:rPr>
              <a:t>•</a:t>
            </a:r>
            <a:r>
              <a:rPr b="1" lang="et-EE" sz="2000" spc="-1" strike="noStrike">
                <a:solidFill>
                  <a:srgbClr val="000000"/>
                </a:solidFill>
                <a:latin typeface="Gill Sans MT"/>
              </a:rPr>
              <a:t> → H: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6" descr="C:\Documents and Settings\Администратор\Мои документы\Мои рисунки\91197-1.jpg"/>
          <p:cNvPicPr/>
          <p:nvPr/>
        </p:nvPicPr>
        <p:blipFill>
          <a:blip r:embed="rId1"/>
          <a:stretch/>
        </p:blipFill>
        <p:spPr>
          <a:xfrm>
            <a:off x="1476360" y="3357720"/>
            <a:ext cx="2513160" cy="103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7" descr="C:\Documents and Settings\Администратор\Мои документы\Мои рисунки\Legame_chimico_covalente_puro.png"/>
          <p:cNvPicPr/>
          <p:nvPr/>
        </p:nvPicPr>
        <p:blipFill>
          <a:blip r:embed="rId2"/>
          <a:stretch/>
        </p:blipFill>
        <p:spPr>
          <a:xfrm>
            <a:off x="900000" y="5013360"/>
            <a:ext cx="4105440" cy="60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01" name="Picture 2" descr="C:\Documents and Settings\User\Мои документы\Мои рисунки\66.jpg"/>
          <p:cNvPicPr/>
          <p:nvPr/>
        </p:nvPicPr>
        <p:blipFill>
          <a:blip r:embed="rId3"/>
          <a:stretch/>
        </p:blipFill>
        <p:spPr>
          <a:xfrm>
            <a:off x="5724360" y="3860640"/>
            <a:ext cx="2700360" cy="2305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Documents and Settings\User\Мои документы\Мои рисунки\covalent_bond_animation.gif"/>
          <p:cNvPicPr/>
          <p:nvPr/>
        </p:nvPicPr>
        <p:blipFill>
          <a:blip r:embed="rId4"/>
          <a:stretch/>
        </p:blipFill>
        <p:spPr>
          <a:xfrm>
            <a:off x="5796000" y="1989000"/>
            <a:ext cx="2685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хема 6" descr=""/>
          <p:cNvPicPr/>
          <p:nvPr/>
        </p:nvPicPr>
        <p:blipFill>
          <a:blip r:embed="rId1"/>
          <a:stretch/>
        </p:blipFill>
        <p:spPr>
          <a:xfrm>
            <a:off x="2676600" y="171936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ледствие смещения электронной пары к одному из ядер, возникает диполь – нейтральная молекула с двумя одинаковыми по величине положительным и отрицательным зарядами, находящимися на определенн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6" descr="C:\Documents and Settings\Администратор\Мои документы\Мои рисунки\91197-8.jpg"/>
          <p:cNvPicPr/>
          <p:nvPr/>
        </p:nvPicPr>
        <p:blipFill>
          <a:blip r:embed="rId1"/>
          <a:stretch/>
        </p:blipFill>
        <p:spPr>
          <a:xfrm>
            <a:off x="5292720" y="5084640"/>
            <a:ext cx="1360440" cy="70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1" name="Рисунок 7" descr="C:\Documents and Settings\Администратор\Мои документы\Мои рисунки\660px-Watermolecule.png"/>
          <p:cNvPicPr/>
          <p:nvPr/>
        </p:nvPicPr>
        <p:blipFill>
          <a:blip r:embed="rId2"/>
          <a:stretch/>
        </p:blipFill>
        <p:spPr>
          <a:xfrm>
            <a:off x="7093080" y="5013360"/>
            <a:ext cx="1149120" cy="7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Picture 3" descr="C:\Documents and Settings\User\Мои документы\Мои рисунки\polar-covalent-bond.gif"/>
          <p:cNvPicPr/>
          <p:nvPr/>
        </p:nvPicPr>
        <p:blipFill>
          <a:blip r:embed="rId3"/>
          <a:stretch/>
        </p:blipFill>
        <p:spPr>
          <a:xfrm>
            <a:off x="5076720" y="2276640"/>
            <a:ext cx="2727360" cy="239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User\Мои документы\Мои рисунки\96904-004-c880b85d.gif"/>
          <p:cNvPicPr/>
          <p:nvPr/>
        </p:nvPicPr>
        <p:blipFill>
          <a:blip r:embed="rId4"/>
          <a:stretch/>
        </p:blipFill>
        <p:spPr>
          <a:xfrm>
            <a:off x="1187280" y="4437000"/>
            <a:ext cx="2727360" cy="1712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C:\Documents and Settings\User\Мои документы\Мои рисунки\AScovale.jpg"/>
          <p:cNvPicPr/>
          <p:nvPr/>
        </p:nvPicPr>
        <p:blipFill>
          <a:blip r:embed="rId5"/>
          <a:stretch/>
        </p:blipFill>
        <p:spPr>
          <a:xfrm>
            <a:off x="1476360" y="2421000"/>
            <a:ext cx="2021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овалент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валентная химическая связь проявляется в веществах  с атомной и молекулярной кристаллическими решётк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:\Documents and Settings\User\Мои документы\Мои рисунки\mkr.gif"/>
          <p:cNvPicPr/>
          <p:nvPr/>
        </p:nvPicPr>
        <p:blipFill>
          <a:blip r:embed="rId1"/>
          <a:stretch/>
        </p:blipFill>
        <p:spPr>
          <a:xfrm>
            <a:off x="4067280" y="2276640"/>
            <a:ext cx="3781440" cy="252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Мои документы\Мои рисунки\akr.gif"/>
          <p:cNvPicPr/>
          <p:nvPr/>
        </p:nvPicPr>
        <p:blipFill>
          <a:blip r:embed="rId2"/>
          <a:stretch/>
        </p:blipFill>
        <p:spPr>
          <a:xfrm>
            <a:off x="755640" y="2565360"/>
            <a:ext cx="3564000" cy="23763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>
            <a:off x="1332000" y="5013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ная кристаллическая решётка (например, С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148360" y="501336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екулярная кристаллическая решётка (например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₂O, F₂, H₂, HC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218960"/>
            <a:ext cx="4041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аллическую связь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ал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томы которых на внешних оболочках имеют мало валентных электрон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о всех узлах кристаллической решетки расположены положитель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оны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талла. Между ними беспорядочно, движутся вален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электроны,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 отщепившиеся от атомов при образовании ионов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Эти электроны играют роль цемента, удерживая вместе положительные ионы; в противном случае решетка распалась бы под действием сил отталкивания между ионами. Вместе с тем и электроны удерживаются ионами в пределах кристаллической решётки и не могут её покину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и валентные электроны, осуществляющие металлическую связь, обобществлены настолько, что могут перемещаться по всему металлическому кристаллу и обеспечивают высокую электропроводность металл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8" descr="200px-Metallic_bond_Zn_svg"/>
          <p:cNvPicPr/>
          <p:nvPr/>
        </p:nvPicPr>
        <p:blipFill>
          <a:blip r:embed="rId1"/>
          <a:stretch/>
        </p:blipFill>
        <p:spPr>
          <a:xfrm>
            <a:off x="5219640" y="486900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cuments and Settings\User\Мои документы\Мои рисунки\electrAn.gif"/>
          <p:cNvPicPr/>
          <p:nvPr/>
        </p:nvPicPr>
        <p:blipFill>
          <a:blip r:embed="rId2"/>
          <a:stretch/>
        </p:blipFill>
        <p:spPr>
          <a:xfrm>
            <a:off x="4788000" y="1268280"/>
            <a:ext cx="3136680" cy="205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Documents and Settings\User\Мои документы\Мои рисунки\21.jpg"/>
          <p:cNvPicPr/>
          <p:nvPr/>
        </p:nvPicPr>
        <p:blipFill>
          <a:blip r:embed="rId3"/>
          <a:stretch/>
        </p:blipFill>
        <p:spPr>
          <a:xfrm>
            <a:off x="6012000" y="3357720"/>
            <a:ext cx="26812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 электростатическая связь между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оложительно поляризованным атомом водород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молекулы и </a:t>
            </a:r>
            <a:r>
              <a:rPr b="1" i="1" lang="ru-RU" sz="1600" spc="-1" strike="noStrike">
                <a:solidFill>
                  <a:srgbClr val="0070c0"/>
                </a:solidFill>
                <a:latin typeface="Calibri"/>
              </a:rPr>
              <a:t>электроотрицательным атом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ругой или той же молеку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разными молекулами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ежмолекулярной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апример, между молекулами воды, низших спиртов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одородная связь образуется между группами одной и той же молекулы, она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нутримолекуляр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например, в белках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11280" y="1216080"/>
            <a:ext cx="3816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дородная связь влияет на свойства веществ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растворимость (подобное растворяется в подобном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  температуру кипения (повышает температуру кипения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7" descr="C:\Documents and Settings\Администратор\Мои документы\Мои рисунки\3D_model_hydrogen_bonds_in_water.jpg"/>
          <p:cNvPicPr/>
          <p:nvPr/>
        </p:nvPicPr>
        <p:blipFill>
          <a:blip r:embed="rId1"/>
          <a:stretch/>
        </p:blipFill>
        <p:spPr>
          <a:xfrm>
            <a:off x="4932360" y="155736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User\Мои документы\Мои рисунки\hm645.gif"/>
          <p:cNvPicPr/>
          <p:nvPr/>
        </p:nvPicPr>
        <p:blipFill>
          <a:blip r:embed="rId2"/>
          <a:stretch/>
        </p:blipFill>
        <p:spPr>
          <a:xfrm>
            <a:off x="8028000" y="1197000"/>
            <a:ext cx="903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дородн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полярнее связь в водородном соединении, тем прочнее возникающая водородная связ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F  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энергия связи 4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O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2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424456"/>
                </a:solidFill>
                <a:latin typeface="Gill Sans MT"/>
              </a:rPr>
              <a:t>H∙∙∙N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 энергия связи 10 кДж/моль</a:t>
            </a:r>
            <a:endParaRPr b="0" lang="en-US" sz="18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примерно в 10 раз слабее обычной ковалентной связи, но она оказывает очень большое влияние на физические и химические свойства соединений (например, аномально высокие темперетуры кипения и плавлен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вызывает ассоциацию молекул – образование димеров, тримеров и полимеров (димеры муравьиной и уксусной кислот, полимеры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HF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ы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ая связь имеет большое значение при растворении, т.к. растворимость зависит от возникновения водородных связей между молекулами или ионами растворённого вещества и растворителя.  При этом образуются соответствующие соединения – сольваты (гидраты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Характеристики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ина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нергия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правлен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Длина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сстояние между ядрами атомов в соединени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300024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3019320" cy="362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/>
          <a:stretch/>
        </p:blipFill>
        <p:spPr>
          <a:xfrm>
            <a:off x="2643120" y="4143240"/>
            <a:ext cx="3038400" cy="362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нергия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количество энергии, которое выделяется при образовании химической связи, кДж/моль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лько же энергии нужно затратить, чтобы разрушить химическую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267000" cy="3427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2500200" y="4357800"/>
            <a:ext cx="3324240" cy="342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ведение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Химическая связь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силы, обуславливающие устойчивое существование двух и многоатомных соединени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снижается общая энергия систем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происходит перераспределение электронной плотности в области химической связи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Направлен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числа атомов в молекуле, от типа и пространственной ориентации атомных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алентная связь возникает в направлении максимального перекрывания электронных облаков, образующих молекул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 молекулы – связь линейн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ёхатомные молекулы – линейная или углов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ырёхатомные молекулы плоская или пирамидальная структу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иатомные молекулы – пространственный тетраэдр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бридизация орбитал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U:\My Pictures\1_30.gif"/>
          <p:cNvPicPr/>
          <p:nvPr/>
        </p:nvPicPr>
        <p:blipFill>
          <a:blip r:embed="rId1"/>
          <a:stretch/>
        </p:blipFill>
        <p:spPr>
          <a:xfrm>
            <a:off x="6072120" y="2214720"/>
            <a:ext cx="1695600" cy="1390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U:\My Pictures\1_31.gif"/>
          <p:cNvPicPr/>
          <p:nvPr/>
        </p:nvPicPr>
        <p:blipFill>
          <a:blip r:embed="rId2"/>
          <a:stretch/>
        </p:blipFill>
        <p:spPr>
          <a:xfrm>
            <a:off x="4929120" y="3286080"/>
            <a:ext cx="3519720" cy="1500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U:\My Pictures\r23.jpg"/>
          <p:cNvPicPr/>
          <p:nvPr/>
        </p:nvPicPr>
        <p:blipFill>
          <a:blip r:embed="rId3"/>
          <a:stretch/>
        </p:blipFill>
        <p:spPr>
          <a:xfrm>
            <a:off x="5929200" y="4714920"/>
            <a:ext cx="1428840" cy="123192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pda.coolreferat.com/ref-1_724982365-11615.coolpic"/>
          <p:cNvPicPr/>
          <p:nvPr/>
        </p:nvPicPr>
        <p:blipFill>
          <a:blip r:embed="rId4"/>
          <a:stretch/>
        </p:blipFill>
        <p:spPr>
          <a:xfrm>
            <a:off x="4786200" y="1285920"/>
            <a:ext cx="391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олярность химической связ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определяется тем, какова электроотрицательность атомов, образующих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ярность связи характеризуется величиной дипольного момента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Cl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0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F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I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     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8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Кристаллические решётки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исталлическая решетк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сущее находящемуся 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исталлическом с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стоянии веществу правильное пространственное расположение атом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онов, молекул,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характеризующееся периодической повторяемостью в трёх измерен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Documents and Settings\User\Мои документы\Мои рисунки\09-04.gif"/>
          <p:cNvPicPr/>
          <p:nvPr/>
        </p:nvPicPr>
        <p:blipFill>
          <a:blip r:embed="rId1"/>
          <a:stretch/>
        </p:blipFill>
        <p:spPr>
          <a:xfrm>
            <a:off x="4427640" y="2637000"/>
            <a:ext cx="3571920" cy="2666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User\Мои документы\Мои рисунки\09-03.gif"/>
          <p:cNvPicPr/>
          <p:nvPr/>
        </p:nvPicPr>
        <p:blipFill>
          <a:blip r:embed="rId2"/>
          <a:stretch/>
        </p:blipFill>
        <p:spPr>
          <a:xfrm>
            <a:off x="900000" y="2997360"/>
            <a:ext cx="33339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Обычно ионные кристаллы твердые, но хрупк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Ионные кристаллы отличаются высокими температурами плавлени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В расплавленном состоянии вещества, образующие ионные кристаллы, электропроводны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Растворяются в полярных растворителях (вод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При растворении в воде эти вещества диссоциируют на катионы и анионы, и образующиеся растворы проводят электрический ток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Содержимое 7" descr="49_1519893528"/>
          <p:cNvPicPr/>
          <p:nvPr/>
        </p:nvPicPr>
        <p:blipFill>
          <a:blip r:embed="rId1"/>
          <a:stretch/>
        </p:blipFill>
        <p:spPr>
          <a:xfrm>
            <a:off x="5076720" y="1197000"/>
            <a:ext cx="1914480" cy="1344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C:\Documents and Settings\User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7236000" y="1197000"/>
            <a:ext cx="1096920" cy="1379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C:\Documents and Settings\User\Мои документы\Мои рисунки\39312f71ae9c.jpg"/>
          <p:cNvPicPr/>
          <p:nvPr/>
        </p:nvPicPr>
        <p:blipFill>
          <a:blip r:embed="rId3"/>
          <a:stretch/>
        </p:blipFill>
        <p:spPr>
          <a:xfrm>
            <a:off x="5076720" y="2708280"/>
            <a:ext cx="1360440" cy="1393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:\Documents and Settings\User\Мои документы\Мои рисунки\krstreshtka.jpg"/>
          <p:cNvPicPr/>
          <p:nvPr/>
        </p:nvPicPr>
        <p:blipFill>
          <a:blip r:embed="rId4"/>
          <a:stretch/>
        </p:blipFill>
        <p:spPr>
          <a:xfrm>
            <a:off x="4859280" y="4365720"/>
            <a:ext cx="1471680" cy="1757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C:\Documents and Settings\User\Мои документы\Мои рисунки\picture.jpg"/>
          <p:cNvPicPr/>
          <p:nvPr/>
        </p:nvPicPr>
        <p:blipFill>
          <a:blip r:embed="rId5"/>
          <a:stretch/>
        </p:blipFill>
        <p:spPr>
          <a:xfrm>
            <a:off x="6732720" y="4437000"/>
            <a:ext cx="1677960" cy="125892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3"/>
          <p:cNvSpPr/>
          <p:nvPr/>
        </p:nvSpPr>
        <p:spPr>
          <a:xfrm>
            <a:off x="7020000" y="2637000"/>
            <a:ext cx="172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исталлы поваренной с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"/>
          <p:cNvSpPr/>
          <p:nvPr/>
        </p:nvSpPr>
        <p:spPr>
          <a:xfrm>
            <a:off x="6443640" y="3429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сталлы медного купо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6732720" y="573264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гантские кристаллы ги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Атом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Атомные кристаллы состоят из отдельных атомов, объединенных ковалентными связ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алмаз, графит)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Нередко соединения неметаллов друг с другом (например, диоксид кремния) также образуют атомные кристалл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томные кристаллы можно считать гигантскими молекулам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Они очень прочные и твердые, плохо проводят теплоту и электричеств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Вещества, имеющие атомные кристаллические решетки, плавятся при высоких температурах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рактически нерастворимы в каких-либо растворителя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t-EE" sz="1600" spc="-1" strike="noStrike">
                <a:solidFill>
                  <a:srgbClr val="000000"/>
                </a:solidFill>
                <a:latin typeface="Calibri"/>
              </a:rPr>
              <a:t>изкая реакционная способность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7" descr="50_569774788"/>
          <p:cNvPicPr/>
          <p:nvPr/>
        </p:nvPicPr>
        <p:blipFill>
          <a:blip r:embed="rId1"/>
          <a:stretch/>
        </p:blipFill>
        <p:spPr>
          <a:xfrm>
            <a:off x="4788000" y="126828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8" descr="grafit0"/>
          <p:cNvPicPr/>
          <p:nvPr/>
        </p:nvPicPr>
        <p:blipFill>
          <a:blip r:embed="rId2"/>
          <a:stretch/>
        </p:blipFill>
        <p:spPr>
          <a:xfrm>
            <a:off x="6659640" y="148428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C:\Documents and Settings\User\Мои документы\Мои рисунки\33d257ddfaff.jpg"/>
          <p:cNvPicPr/>
          <p:nvPr/>
        </p:nvPicPr>
        <p:blipFill>
          <a:blip r:embed="rId3"/>
          <a:stretch/>
        </p:blipFill>
        <p:spPr>
          <a:xfrm>
            <a:off x="6732720" y="4869000"/>
            <a:ext cx="1636560" cy="106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C:\Documents and Settings\User\Мои документы\Мои рисунки\Image1212.gif"/>
          <p:cNvPicPr/>
          <p:nvPr/>
        </p:nvPicPr>
        <p:blipFill>
          <a:blip r:embed="rId4"/>
          <a:stretch/>
        </p:blipFill>
        <p:spPr>
          <a:xfrm>
            <a:off x="5148360" y="4797360"/>
            <a:ext cx="1361880" cy="1271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Мои документы\Мои рисунки\pic_3733.jpg"/>
          <p:cNvPicPr/>
          <p:nvPr/>
        </p:nvPicPr>
        <p:blipFill>
          <a:blip r:embed="rId5"/>
          <a:stretch/>
        </p:blipFill>
        <p:spPr>
          <a:xfrm>
            <a:off x="5076720" y="3068640"/>
            <a:ext cx="1138320" cy="1446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Мои документы\Мои рисунки\6graphite75.jpg"/>
          <p:cNvPicPr/>
          <p:nvPr/>
        </p:nvPicPr>
        <p:blipFill>
          <a:blip r:embed="rId6"/>
          <a:stretch/>
        </p:blipFill>
        <p:spPr>
          <a:xfrm>
            <a:off x="6659640" y="3068640"/>
            <a:ext cx="17636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олекулярн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олекулярные кристалл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построены из отдельных молекул, внутри которых атомы соединены ковалентными связям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Между молекулами действуют более слабые межмолекулярные силы. Они легко разрушаются, поэтому молекулярные кристаллы имеют низкие температуры плавления, малую твердость, высокую летучесть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Вещества, образующие молекулярные кристаллические решетки, не обладают электрической проводимостью, их растворы и расплавы также не проводят электрический ток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Большинство неметаллов в виде простых веществ (например, иод I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, аргон Ar, сера S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et-EE" sz="1400" spc="-1" strike="noStrike">
                <a:solidFill>
                  <a:srgbClr val="000000"/>
                </a:solidFill>
                <a:latin typeface="Calibri"/>
              </a:rPr>
              <a:t>) и соединений друг с другом (например, вода, диоксид углерода, хлороводород), а также практически все твердые органические вещества образуют молекулярные кристаллы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льд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₂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СО₂ (сухой лёд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исталл и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User\Мои документы\Мои рисунки\ice.jpg"/>
          <p:cNvPicPr/>
          <p:nvPr/>
        </p:nvPicPr>
        <p:blipFill>
          <a:blip r:embed="rId1"/>
          <a:stretch/>
        </p:blipFill>
        <p:spPr>
          <a:xfrm>
            <a:off x="5148360" y="1557360"/>
            <a:ext cx="1095120" cy="1108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Documents and Settings\User\Мои документы\Мои рисунки\kristally.jpg"/>
          <p:cNvPicPr/>
          <p:nvPr/>
        </p:nvPicPr>
        <p:blipFill>
          <a:blip r:embed="rId2"/>
          <a:stretch/>
        </p:blipFill>
        <p:spPr>
          <a:xfrm>
            <a:off x="6732720" y="1557360"/>
            <a:ext cx="1076040" cy="1150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Documents and Settings\User\Мои документы\Мои рисунки\dryice2.jpg"/>
          <p:cNvPicPr/>
          <p:nvPr/>
        </p:nvPicPr>
        <p:blipFill>
          <a:blip r:embed="rId3"/>
          <a:stretch/>
        </p:blipFill>
        <p:spPr>
          <a:xfrm>
            <a:off x="5796000" y="3429000"/>
            <a:ext cx="1614600" cy="1138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C:\Documents and Settings\User\Мои документы\Мои рисунки\Iod_kristall.jpg"/>
          <p:cNvPicPr/>
          <p:nvPr/>
        </p:nvPicPr>
        <p:blipFill>
          <a:blip r:embed="rId4"/>
          <a:stretch/>
        </p:blipFill>
        <p:spPr>
          <a:xfrm>
            <a:off x="5435640" y="5084640"/>
            <a:ext cx="19508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Металлическая кристаллическая решётк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арактерна для  металлов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ней имеется металлическая связь между атом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В металлических кристаллах ядра атомов расположены таким образом, чтобы их упаковка была как можно более плотно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Металлические кристаллы обладают высокой электрической проводимостью и теплопроводностью, металлическим блеском и непрозрачностью, легкой деформируемость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C:\Documents and Settings\User\Мои документы\Мои рисунки\1300117502_800px-iron_electrolytic_and_1cm3_cube.jpg"/>
          <p:cNvPicPr/>
          <p:nvPr/>
        </p:nvPicPr>
        <p:blipFill>
          <a:blip r:embed="rId1"/>
          <a:stretch/>
        </p:blipFill>
        <p:spPr>
          <a:xfrm>
            <a:off x="4788000" y="1197000"/>
            <a:ext cx="1728720" cy="107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665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:\Documents and Settings\User\Мои документы\Мои рисунки\1300117520_800px-osmium_crystals.jpg"/>
          <p:cNvPicPr/>
          <p:nvPr/>
        </p:nvPicPr>
        <p:blipFill>
          <a:blip r:embed="rId2"/>
          <a:stretch/>
        </p:blipFill>
        <p:spPr>
          <a:xfrm>
            <a:off x="6443640" y="2060640"/>
            <a:ext cx="1762200" cy="113040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0"/>
          <p:cNvSpPr/>
          <p:nvPr/>
        </p:nvSpPr>
        <p:spPr>
          <a:xfrm>
            <a:off x="558000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1300125669_800px-gold-crystals.jpg"/>
          <p:cNvPicPr/>
          <p:nvPr/>
        </p:nvPicPr>
        <p:blipFill>
          <a:blip r:embed="rId3"/>
          <a:stretch/>
        </p:blipFill>
        <p:spPr>
          <a:xfrm>
            <a:off x="4643280" y="2997360"/>
            <a:ext cx="1893960" cy="12254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516720" y="35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C:\Documents and Settings\User\Мои документы\Мои рисунки\1300125797_765px-silver_crystal.jpg"/>
          <p:cNvPicPr/>
          <p:nvPr/>
        </p:nvPicPr>
        <p:blipFill>
          <a:blip r:embed="rId4"/>
          <a:stretch/>
        </p:blipFill>
        <p:spPr>
          <a:xfrm>
            <a:off x="6443640" y="4005360"/>
            <a:ext cx="1584360" cy="1243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14"/>
          <p:cNvSpPr/>
          <p:nvPr/>
        </p:nvSpPr>
        <p:spPr>
          <a:xfrm>
            <a:off x="5364000" y="4365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C:\Documents and Settings\User\Мои документы\Мои рисунки\1300125900_800px-yttrium_sublimed_dendritic_and_1cm3_cube.jpg"/>
          <p:cNvPicPr/>
          <p:nvPr/>
        </p:nvPicPr>
        <p:blipFill>
          <a:blip r:embed="rId5"/>
          <a:stretch/>
        </p:blipFill>
        <p:spPr>
          <a:xfrm>
            <a:off x="4643280" y="5013360"/>
            <a:ext cx="185112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6"/>
          <p:cNvSpPr/>
          <p:nvPr/>
        </p:nvSpPr>
        <p:spPr>
          <a:xfrm>
            <a:off x="6516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т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mbria"/>
              </a:rPr>
              <a:t>Типы химической связи и их отличительные признаки</a:t>
            </a:r>
            <a:endParaRPr b="0" lang="en-US" sz="24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473040" y="1773360"/>
            <a:ext cx="81979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528" name="Нижний колонтитул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2" descr="http://src.ucoz.net/sm/1/bye.gif"/>
          <p:cNvPicPr/>
          <p:nvPr/>
        </p:nvPicPr>
        <p:blipFill>
          <a:blip r:embed="rId1"/>
          <a:stretch/>
        </p:blipFill>
        <p:spPr>
          <a:xfrm>
            <a:off x="6500880" y="3857760"/>
            <a:ext cx="247680" cy="171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9" descr=""/>
          <p:cNvPicPr/>
          <p:nvPr/>
        </p:nvPicPr>
        <p:blipFill>
          <a:blip r:embed="rId2"/>
          <a:stretch/>
        </p:blipFill>
        <p:spPr>
          <a:xfrm>
            <a:off x="1974960" y="2395440"/>
            <a:ext cx="4743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Основные виды связей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ая связь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Ионн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Ковалентная 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Металлическая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молекулярные взаимодейств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одородная связь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4456"/>
                </a:solidFill>
                <a:latin typeface="Calibri"/>
              </a:rPr>
              <a:t>ван-дер-ваальсовы силы</a:t>
            </a:r>
            <a:endParaRPr b="0" lang="en-US" sz="2300" spc="-1" strike="noStrike">
              <a:solidFill>
                <a:srgbClr val="424456"/>
              </a:solidFill>
              <a:latin typeface="Gill Sans MT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Правило октет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результате образования химической связи атомы приобретают такую же электронную конфигурацию, как у благородных газов, которые (за исключением гелия) имеют на внешнем энергетическом уровне 8 электронов (октет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ило справедливо для ионной и ковалентной связ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Электроотрицательност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(ЭО) – это способность атомов в соединениях притягивать к себе электроны. Наибольшие значения ЭО имеют р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, наименьшие -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менты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группы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" descr="C:\Documents and Settings\Администратор\Мои документы\Мои рисунки\EO.gif"/>
          <p:cNvPicPr/>
          <p:nvPr/>
        </p:nvPicPr>
        <p:blipFill>
          <a:blip r:embed="rId1"/>
          <a:stretch/>
        </p:blipFill>
        <p:spPr>
          <a:xfrm>
            <a:off x="2124000" y="2997360"/>
            <a:ext cx="4543560" cy="21715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:\Documents and Settings\Администратор\Мои документы\Мои рисунки\EO.jpg"/>
          <p:cNvPicPr/>
          <p:nvPr/>
        </p:nvPicPr>
        <p:blipFill>
          <a:blip r:embed="rId2"/>
          <a:stretch/>
        </p:blipFill>
        <p:spPr>
          <a:xfrm>
            <a:off x="2124000" y="5373720"/>
            <a:ext cx="4800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Возбуждённое состояние атома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алент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войство атома образовывать ковалентные связ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 u="sng">
                <a:solidFill>
                  <a:srgbClr val="67afbd"/>
                </a:solidFill>
                <a:uFillTx/>
                <a:latin typeface="Gill Sans MT"/>
                <a:hlinkClick r:id="rId1"/>
              </a:rPr>
              <a:t>http://www.youtube.com/watch?v=SM4BxoCoHzk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User\Мои документы\Мои рисунки\energia_1.jpg"/>
          <p:cNvPicPr/>
          <p:nvPr/>
        </p:nvPicPr>
        <p:blipFill>
          <a:blip r:embed="rId2"/>
          <a:stretch/>
        </p:blipFill>
        <p:spPr>
          <a:xfrm>
            <a:off x="539640" y="1413000"/>
            <a:ext cx="4748400" cy="2592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Documents and Settings\User\Мои документы\Мои рисунки\96.jpg"/>
          <p:cNvPicPr/>
          <p:nvPr/>
        </p:nvPicPr>
        <p:blipFill>
          <a:blip r:embed="rId3"/>
          <a:stretch/>
        </p:blipFill>
        <p:spPr>
          <a:xfrm>
            <a:off x="5651640" y="1413000"/>
            <a:ext cx="295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химическая связь, возникающая в результат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лектростатического взаимодейств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ожительно и отрицательно заряженных ионов в химическом соединен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между атомами с большой разницей электроотрицательностей (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талл и неметал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Примеры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бразовании ионов образуются устойчивые октетные электронные конфигурации (как у благородных газов) – правило окте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 1ē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Na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+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ē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→  C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t-EE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Na + Cl → Na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+ Cl</a:t>
            </a:r>
            <a:r>
              <a:rPr b="0" lang="pl-PL" sz="1800" spc="-1" strike="noStrike" baseline="30000">
                <a:solidFill>
                  <a:srgbClr val="000000"/>
                </a:solidFill>
                <a:latin typeface="Gill Sans MT"/>
              </a:rPr>
              <a:t>-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→ NaC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5640" y="1216080"/>
            <a:ext cx="4318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6" descr="C:\Documents and Settings\Администратор\Мои документы\Мои рисунки\Ionic_bonding_animation.gif"/>
          <p:cNvPicPr/>
          <p:nvPr/>
        </p:nvPicPr>
        <p:blipFill>
          <a:blip r:embed="rId1"/>
          <a:stretch/>
        </p:blipFill>
        <p:spPr>
          <a:xfrm>
            <a:off x="4427640" y="1413000"/>
            <a:ext cx="3744720" cy="1871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C:\Documents and Settings\User\Мои документы\Мои рисунки\NaF.gif"/>
          <p:cNvPicPr/>
          <p:nvPr/>
        </p:nvPicPr>
        <p:blipFill>
          <a:blip r:embed="rId2"/>
          <a:stretch/>
        </p:blipFill>
        <p:spPr>
          <a:xfrm>
            <a:off x="4500720" y="3645000"/>
            <a:ext cx="3958920" cy="1660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C:\Documents and Settings\User\Мои документы\Мои рисунки\dogionic.gif"/>
          <p:cNvPicPr/>
          <p:nvPr/>
        </p:nvPicPr>
        <p:blipFill>
          <a:blip r:embed="rId3"/>
          <a:stretch/>
        </p:blipFill>
        <p:spPr>
          <a:xfrm>
            <a:off x="1187280" y="4365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mbria"/>
              </a:rPr>
              <a:t>Ионная химическая связь</a:t>
            </a:r>
            <a:endParaRPr b="0" lang="en-US" sz="3200" spc="-1" strike="noStrike">
              <a:solidFill>
                <a:srgbClr val="42445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ная химическая связь проявляется в твердых веществах с ионной кристаллической решетк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50f01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24456"/>
                </a:solidFill>
                <a:latin typeface="Gill Sans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Documents and Settings\User\Мои документы\Мои рисунки\ikr.gif"/>
          <p:cNvPicPr/>
          <p:nvPr/>
        </p:nvPicPr>
        <p:blipFill>
          <a:blip r:embed="rId1"/>
          <a:stretch/>
        </p:blipFill>
        <p:spPr>
          <a:xfrm>
            <a:off x="1258920" y="270828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User\Мои документы\Мои рисунки\120.jpg"/>
          <p:cNvPicPr/>
          <p:nvPr/>
        </p:nvPicPr>
        <p:blipFill>
          <a:blip r:embed="rId2"/>
          <a:stretch/>
        </p:blipFill>
        <p:spPr>
          <a:xfrm>
            <a:off x="4643280" y="2421000"/>
            <a:ext cx="309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5:40Z</dcterms:created>
  <dc:creator>user</dc:creator>
  <dc:description/>
  <dc:language>en-US</dc:language>
  <cp:lastModifiedBy>LEGION</cp:lastModifiedBy>
  <dcterms:modified xsi:type="dcterms:W3CDTF">2015-05-01T12:13:18Z</dcterms:modified>
  <cp:revision>129</cp:revision>
  <dc:subject/>
  <dc:title>Химическая связь</dc:title>
</cp:coreProperties>
</file>