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8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29.png" ContentType="image/png"/>
  <Override PartName="/ppt/media/image52.jpeg" ContentType="image/jpeg"/>
  <Override PartName="/ppt/media/image7.gif" ContentType="image/gif"/>
  <Override PartName="/ppt/media/image26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jpeg" ContentType="image/jpeg"/>
  <Override PartName="/ppt/media/image22.png" ContentType="image/png"/>
  <Override PartName="/ppt/media/image59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0.jpeg" ContentType="image/jpeg"/>
  <Override PartName="/ppt/media/image21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12.png" ContentType="image/png"/>
  <Override PartName="/ppt/media/image8.gif" ContentType="image/gif"/>
  <Override PartName="/ppt/media/image49.jpeg" ContentType="image/jpeg"/>
  <Override PartName="/ppt/media/image16.png" ContentType="image/png"/>
  <Override PartName="/ppt/media/image1.gif" ContentType="image/gif"/>
  <Override PartName="/ppt/media/image24.gif" ContentType="image/gif"/>
  <Override PartName="/ppt/media/image27.png" ContentType="image/png"/>
  <Override PartName="/ppt/media/image15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1.png" ContentType="image/png"/>
  <Override PartName="/ppt/media/image56.jpeg" ContentType="image/jpeg"/>
  <Override PartName="/ppt/media/image34.png" ContentType="image/png"/>
  <Override PartName="/ppt/media/image35.jpeg" ContentType="image/jpeg"/>
  <Override PartName="/ppt/media/image47.png" ContentType="image/png"/>
  <Override PartName="/ppt/media/image36.jpeg" ContentType="image/jpeg"/>
  <Override PartName="/ppt/media/image37.png" ContentType="image/png"/>
  <Override PartName="/ppt/media/image17.png" ContentType="image/png"/>
  <Override PartName="/ppt/media/image14.gif" ContentType="image/gif"/>
  <Override PartName="/ppt/media/image39.jpeg" ContentType="image/jpeg"/>
  <Override PartName="/ppt/media/image41.jpeg" ContentType="image/jpeg"/>
  <Override PartName="/ppt/media/image18.png" ContentType="image/png"/>
  <Override PartName="/ppt/media/image42.jpeg" ContentType="image/jpeg"/>
  <Override PartName="/ppt/media/image28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5DAE-8D52-4937-81C4-BA321627A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ХИМИИ. ЛЕКЦИЯ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5F2D-A4BC-4954-9F45-EC256E2CE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о химическая связь, образованная двумя атомами за счет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общих электронных п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A: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H: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49A1-6E2B-46B0-A41B-5ECB94425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7DF4-4A23-4239-B227-7D88F14A0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8201-8B0D-4B83-A18E-D5C1664D1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0FF5-665D-45DA-9AFD-032C8785F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3886-7D70-4A3D-AC02-10FD74EA5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1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1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78AD-CE5D-42D1-96B5-CEC290FC2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F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нергия связи 4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O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2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1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F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22ED-EFE6-4CB4-AB9F-3BEDC77B4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D550-2C21-46BD-83E7-91D266319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A853-7F9E-4AB2-BE15-1ACAD7E2B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A674-B3BA-44C1-AA83-6E22AEE24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общая энергия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DA6B-59AB-486E-9E4F-6A0871DE8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CAE6-4FC6-481E-8FC5-6FA703175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A834-DDFD-42BC-880D-3D055EF32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ические решё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сущее находящемус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стоянии веществу правильное пространственное расположение 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характеризующееся периодической повторяемостью в трёх измер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6619-52AB-4F8A-9F78-748BA34DB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бычно ионные кристаллы твердые, но хру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онные кристаллы отличаются высокими температурами пл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расплавленном состоянии вещества, образующие ионные кристаллы, электропровод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створяются в полярных растворителях (вод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7086-6401-4D7B-93CD-D4C6CCEEC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77F3-3DF9-4EB5-B089-77646794F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олекулярная кристаллическая решёт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₂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ADF6-27C9-4379-A53D-46F78E98E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9AEE-D2BE-4166-96A7-409EF366F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химической связи и их отличитель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6106-787D-4CB5-8F8D-74FA47235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-дер-ваальсовы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351B-F727-4F87-8F87-CBD9FA21F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ок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842E-D821-42D0-A8EE-AAF3CA081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F6E4-3B68-4E93-85FF-949200D3B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ённое состоя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SM4BxoCoHzk&amp;feature=relate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30C5-9C80-43D1-8F11-FB48CC1CC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9760-EC79-4426-9167-1EF0BB980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→  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 + Cl → Na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→ NaCl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E2B0-4694-4AAB-9700-BA4F0660B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6E25-2C20-4694-BAA5-4626188FC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E4F-4804-4227-9CD1-A17C9F1E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638-2016-4C0C-BC6F-96DFB32C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1C5-8DD4-40B8-B5F2-263995C3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AF0-AEEA-474C-A9D2-3577A951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0E86-0A5D-4FF1-8BE3-9C64C8C3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7455-67E3-4F85-ABD0-A192A294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2CE4-D18A-411E-8D56-71069131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CE1E-97A2-4EDE-9797-973BFE40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9833-7D3F-42AA-9858-7878A73D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D9B8-7BDF-471D-978B-CF528D2F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2C52-2BD0-477F-B4E9-A450F26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E29-771E-4CA5-889A-6F76AC1C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4987-868A-48A6-8322-26825BDF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A9FA-DEEF-43F5-B520-B1DAD6E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5DFF-0A56-45E2-91C6-E9BE31F2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D3A1-3C39-459B-9339-E26602DB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C592-86DB-4326-9F20-180BF25E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F313-1DDF-4B6E-9A8B-F8101BC3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00AC-5399-497A-9458-B88AF51D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091D-C392-44FF-A2F8-1572C73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CDD4-637C-4075-9673-21246142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ABDA-5C6F-4800-8BBB-9E5AA1F7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A69-8469-4B24-B536-C4D28505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3D7C-8282-4299-80B0-FE33A229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2A3C-194F-4E57-BA22-DB2E8337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710E-B5ED-4B41-882F-F53F2F64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FD50-0E18-47A6-B403-42D0056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1FA1-0D84-4BAA-A59E-3CCE109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D470-6D15-4C75-99FE-ACF91541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BCC7-AE12-4CCB-8D3B-E2B32583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B91C5-6705-4303-B75A-29E8C850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2ADB9-AC64-4EBD-B428-FDB72730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7191-AAD4-4D3D-9C3C-CD96260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873-5192-4233-866A-550FF10F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2B5E-3880-494B-BF7E-E8CAEE7D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EE51-9AC1-4142-97F9-CBA2C110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F8A1-CD45-4E91-B258-3F527A4D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E6D86-5C53-4F3A-9F72-82FD828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2878-8754-4661-93B7-917433D8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D8EF-111F-4CE6-BBCA-F0F4AE81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19ED-F558-4EAB-8293-6B3189E9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79D2-EF90-49C4-98F3-2FDC2919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1874-75AF-4E9B-B20E-DD12C202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3044-3A12-4076-A0B4-3E9B9AE8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755-BFCF-48AE-91B0-ABAA7D7F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E789-86FB-45A5-8ACD-C923A3C2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A56F-7EF6-408D-A6E7-1FE5271D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720A8-CB75-4303-8993-9F4B4C8D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22CB-50D8-4373-B48C-7E22C362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F14B-D56A-4234-B09B-87E3B2B8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69A54-338E-44C2-8DA5-A091873C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E0751-F41D-4420-B600-A0E4DDE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F812-A515-4596-A749-48723217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243DF-ACF1-4054-A345-5CD09863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30BC9-90E1-4B78-B51E-A5A0CB40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D62-CD91-4900-A715-02F8667E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BF3D-7A94-403E-A5DF-14BDC9FB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2830-C471-4877-BED0-54AD7651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16747-C1EE-4BF2-939C-FA4D96D3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42CC8-183D-4971-A81F-D5361FB0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7435-AB32-449C-98F5-8DF891D2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6F699-6BE9-4904-AF42-632FD948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B1830-BDF2-40A5-A3EF-57D44483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2AFF0-0E03-4601-97AD-8F11E0F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7EEB-407E-479F-8409-19B353FD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F7048-E090-4416-8128-0C28F0B6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494-8FCD-4F6F-A2A6-73684F13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B62B6-FE03-4966-82BF-C1155DC8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2E01-6CD2-417D-9925-0266304C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6A72C-63EE-48BA-8B66-AC68E106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1561-831C-4C1E-BDF8-C3E73739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F6C6-3D68-4C3C-8704-8AF36CC7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9A1E-3111-4239-AA99-5299F289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C30E1-AC6A-44E6-8844-477E9888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24D4F-8660-45B6-9C85-06181186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2DBB8-6D48-4056-A9C4-9FD4FB20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DCBA5-0F04-4D42-9680-7553E7DB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7BE-9A07-4F97-AF26-3609EAA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D41A4-94A4-438F-B874-188CC24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DD198-BC33-4726-8635-C1D557AD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C683A-ECA9-408C-9967-7C9D9593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F354B-5A98-4D68-86E9-9CF2B7E2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35A5A-3DE0-4340-8349-C8B49A13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C0ECA-EDC4-4DCD-913F-3411C58B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4D75C-233F-48BE-964B-7B6C83BE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37F0E-9DC5-4CDF-A6AF-F4F171D1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98238-BF57-4950-B2EB-727BA22E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2A7A8-75C6-4716-90A9-0747ECFB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BC0-7DAD-4773-993B-23371CC5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1F437-3F82-4B0F-8469-8A43668F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8B621-57C0-4992-A8E4-D4A09428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0D891-572E-4BCC-89C7-4A41F799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8F300-527E-4DCF-9E70-984D991C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FEF1D-6CC7-4F2C-9A75-AFEA66E4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06A23-B127-41E4-B286-21FA6028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342BE-BCB9-4258-96BB-35CC2B70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F245-7AFD-4EB6-9B61-A9ACCAF11CD1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15E-87C4-43C1-BC3D-0AE179C55E4B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FAAB-226B-4C17-B3E5-8880E16F67AB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527-7269-4EB0-8490-CC386C9CF33F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9E64-E3FF-4D41-AFB5-F56055AE6A9A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9722-1C65-4861-B4DA-EE3E4FB3C6EE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094D-1199-46A9-803D-BB58BA9439E9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0265-759F-46A9-99AC-3F020DF75D6C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4A2A-E0D4-4224-AAB8-2925F61E02D1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0B90-5330-4679-B9C4-79B35B7B1B83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DD51-1631-40BD-A19A-A44C1B9A638C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0ABC-2699-4E20-949E-9F2746B51746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CF2E-6566-4B0F-AC39-EA84D343D433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94B0-B874-4972-B1D7-7101AD7395BD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1750-9986-4FD1-9C27-A62C475F8716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7160-3664-4F5F-A160-527B021C2B61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Cambria"/>
              </a:rPr>
              <a:t>ОСНОВЫ ХИМИИ. ЛЕКЦИЯ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http://src.ucoz.net/sm/1/prof.gif"/>
          <p:cNvPicPr/>
          <p:nvPr/>
        </p:nvPicPr>
        <p:blipFill>
          <a:blip r:embed="rId1"/>
          <a:stretch/>
        </p:blipFill>
        <p:spPr>
          <a:xfrm>
            <a:off x="3714840" y="5214960"/>
            <a:ext cx="2761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ill Sans MT"/>
              </a:rPr>
              <a:t>Это химическая связь, образованная двумя атомами за счет </a:t>
            </a:r>
            <a:r>
              <a:rPr b="1" i="1" lang="et-EE" sz="2000" spc="-1" strike="noStrike">
                <a:solidFill>
                  <a:srgbClr val="000000"/>
                </a:solidFill>
                <a:latin typeface="Gill Sans MT"/>
              </a:rPr>
              <a:t>общих электронных пар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B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A: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H: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6" descr="C:\Documents and Settings\Администратор\Мои документы\Мои рисунки\91197-1.jpg"/>
          <p:cNvPicPr/>
          <p:nvPr/>
        </p:nvPicPr>
        <p:blipFill>
          <a:blip r:embed="rId1"/>
          <a:stretch/>
        </p:blipFill>
        <p:spPr>
          <a:xfrm>
            <a:off x="1476360" y="3357720"/>
            <a:ext cx="2513160" cy="103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Рисунок 7" descr="C:\Documents and Settings\Администратор\Мои документы\Мои рисунки\Legame_chimico_covalente_puro.png"/>
          <p:cNvPicPr/>
          <p:nvPr/>
        </p:nvPicPr>
        <p:blipFill>
          <a:blip r:embed="rId2"/>
          <a:stretch/>
        </p:blipFill>
        <p:spPr>
          <a:xfrm>
            <a:off x="900000" y="5013360"/>
            <a:ext cx="4105440" cy="609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01" name="Picture 2" descr="C:\Documents and Settings\User\Мои документы\Мои рисунки\66.jpg"/>
          <p:cNvPicPr/>
          <p:nvPr/>
        </p:nvPicPr>
        <p:blipFill>
          <a:blip r:embed="rId3"/>
          <a:stretch/>
        </p:blipFill>
        <p:spPr>
          <a:xfrm>
            <a:off x="5724360" y="3860640"/>
            <a:ext cx="2700360" cy="2305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Мои документы\Мои рисунки\covalent_bond_animation.gif"/>
          <p:cNvPicPr/>
          <p:nvPr/>
        </p:nvPicPr>
        <p:blipFill>
          <a:blip r:embed="rId4"/>
          <a:stretch/>
        </p:blipFill>
        <p:spPr>
          <a:xfrm>
            <a:off x="5796000" y="1989000"/>
            <a:ext cx="2685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Схема 6" descr=""/>
          <p:cNvPicPr/>
          <p:nvPr/>
        </p:nvPicPr>
        <p:blipFill>
          <a:blip r:embed="rId1"/>
          <a:stretch/>
        </p:blipFill>
        <p:spPr>
          <a:xfrm>
            <a:off x="2676600" y="171936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6" descr="C:\Documents and Settings\Администратор\Мои документы\Мои рисунки\91197-8.jpg"/>
          <p:cNvPicPr/>
          <p:nvPr/>
        </p:nvPicPr>
        <p:blipFill>
          <a:blip r:embed="rId1"/>
          <a:stretch/>
        </p:blipFill>
        <p:spPr>
          <a:xfrm>
            <a:off x="5292720" y="5084640"/>
            <a:ext cx="1360440" cy="70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1" name="Рисунок 7" descr="C:\Documents and Settings\Администратор\Мои документы\Мои рисунки\660px-Watermolecule.png"/>
          <p:cNvPicPr/>
          <p:nvPr/>
        </p:nvPicPr>
        <p:blipFill>
          <a:blip r:embed="rId2"/>
          <a:stretch/>
        </p:blipFill>
        <p:spPr>
          <a:xfrm>
            <a:off x="7093080" y="5013360"/>
            <a:ext cx="1149120" cy="7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Picture 3" descr="C:\Documents and Settings\User\Мои документы\Мои рисунки\polar-covalent-bond.gif"/>
          <p:cNvPicPr/>
          <p:nvPr/>
        </p:nvPicPr>
        <p:blipFill>
          <a:blip r:embed="rId3"/>
          <a:stretch/>
        </p:blipFill>
        <p:spPr>
          <a:xfrm>
            <a:off x="5076720" y="2276640"/>
            <a:ext cx="2727360" cy="239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User\Мои документы\Мои рисунки\96904-004-c880b85d.gif"/>
          <p:cNvPicPr/>
          <p:nvPr/>
        </p:nvPicPr>
        <p:blipFill>
          <a:blip r:embed="rId4"/>
          <a:stretch/>
        </p:blipFill>
        <p:spPr>
          <a:xfrm>
            <a:off x="1187280" y="4437000"/>
            <a:ext cx="2727360" cy="1712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C:\Documents and Settings\User\Мои документы\Мои рисунки\AScovale.jpg"/>
          <p:cNvPicPr/>
          <p:nvPr/>
        </p:nvPicPr>
        <p:blipFill>
          <a:blip r:embed="rId5"/>
          <a:stretch/>
        </p:blipFill>
        <p:spPr>
          <a:xfrm>
            <a:off x="1476360" y="2421000"/>
            <a:ext cx="20210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C:\Documents and Settings\User\Мои документы\Мои рисунки\mkr.gif"/>
          <p:cNvPicPr/>
          <p:nvPr/>
        </p:nvPicPr>
        <p:blipFill>
          <a:blip r:embed="rId1"/>
          <a:stretch/>
        </p:blipFill>
        <p:spPr>
          <a:xfrm>
            <a:off x="4067280" y="2276640"/>
            <a:ext cx="3781440" cy="252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User\Мои документы\Мои рисунки\akr.gif"/>
          <p:cNvPicPr/>
          <p:nvPr/>
        </p:nvPicPr>
        <p:blipFill>
          <a:blip r:embed="rId2"/>
          <a:stretch/>
        </p:blipFill>
        <p:spPr>
          <a:xfrm>
            <a:off x="755640" y="2565360"/>
            <a:ext cx="3564000" cy="2376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8"/>
          <p:cNvSpPr/>
          <p:nvPr/>
        </p:nvSpPr>
        <p:spPr>
          <a:xfrm>
            <a:off x="1332000" y="5013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ная кристаллическая решётка (например, С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5148360" y="501336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екулярная кристаллическая решётка (например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O, F₂, H₂, HC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218960"/>
            <a:ext cx="4041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8" descr="200px-Metallic_bond_Zn_svg"/>
          <p:cNvPicPr/>
          <p:nvPr/>
        </p:nvPicPr>
        <p:blipFill>
          <a:blip r:embed="rId1"/>
          <a:stretch/>
        </p:blipFill>
        <p:spPr>
          <a:xfrm>
            <a:off x="5219640" y="486900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cuments and Settings\User\Мои документы\Мои рисунки\electrAn.gif"/>
          <p:cNvPicPr/>
          <p:nvPr/>
        </p:nvPicPr>
        <p:blipFill>
          <a:blip r:embed="rId2"/>
          <a:stretch/>
        </p:blipFill>
        <p:spPr>
          <a:xfrm>
            <a:off x="4788000" y="1268280"/>
            <a:ext cx="3136680" cy="2054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C:\Documents and Settings\User\Мои документы\Мои рисунки\21.jpg"/>
          <p:cNvPicPr/>
          <p:nvPr/>
        </p:nvPicPr>
        <p:blipFill>
          <a:blip r:embed="rId3"/>
          <a:stretch/>
        </p:blipFill>
        <p:spPr>
          <a:xfrm>
            <a:off x="6012000" y="3357720"/>
            <a:ext cx="268128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11280" y="1216080"/>
            <a:ext cx="38163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7" descr="C:\Documents and Settings\Администратор\Мои документы\Мои рисунки\3D_model_hydrogen_bonds_in_water.jpg"/>
          <p:cNvPicPr/>
          <p:nvPr/>
        </p:nvPicPr>
        <p:blipFill>
          <a:blip r:embed="rId1"/>
          <a:stretch/>
        </p:blipFill>
        <p:spPr>
          <a:xfrm>
            <a:off x="4932360" y="1557360"/>
            <a:ext cx="2016000" cy="2087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User\Мои документы\Мои рисунки\hm645.gif"/>
          <p:cNvPicPr/>
          <p:nvPr/>
        </p:nvPicPr>
        <p:blipFill>
          <a:blip r:embed="rId2"/>
          <a:stretch/>
        </p:blipFill>
        <p:spPr>
          <a:xfrm>
            <a:off x="8028000" y="1197000"/>
            <a:ext cx="903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F  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энергия связи 4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O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2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N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1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HF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Характеристики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Длина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3000240" cy="362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3019320" cy="362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/>
          <a:stretch/>
        </p:blipFill>
        <p:spPr>
          <a:xfrm>
            <a:off x="2643120" y="4143240"/>
            <a:ext cx="3038400" cy="3621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нергия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3267000" cy="3427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2"/>
          <a:stretch/>
        </p:blipFill>
        <p:spPr>
          <a:xfrm>
            <a:off x="2500200" y="4357800"/>
            <a:ext cx="3324240" cy="3427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ведение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снижается общая энергия систем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Направлен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U:\My Pictures\1_30.gif"/>
          <p:cNvPicPr/>
          <p:nvPr/>
        </p:nvPicPr>
        <p:blipFill>
          <a:blip r:embed="rId1"/>
          <a:stretch/>
        </p:blipFill>
        <p:spPr>
          <a:xfrm>
            <a:off x="6072120" y="2214720"/>
            <a:ext cx="1695600" cy="1390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U:\My Pictures\1_31.gif"/>
          <p:cNvPicPr/>
          <p:nvPr/>
        </p:nvPicPr>
        <p:blipFill>
          <a:blip r:embed="rId2"/>
          <a:stretch/>
        </p:blipFill>
        <p:spPr>
          <a:xfrm>
            <a:off x="4929120" y="3286080"/>
            <a:ext cx="3519720" cy="1500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U:\My Pictures\r23.jpg"/>
          <p:cNvPicPr/>
          <p:nvPr/>
        </p:nvPicPr>
        <p:blipFill>
          <a:blip r:embed="rId3"/>
          <a:stretch/>
        </p:blipFill>
        <p:spPr>
          <a:xfrm>
            <a:off x="5929200" y="4714920"/>
            <a:ext cx="1428840" cy="123192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pda.coolreferat.com/ref-1_724982365-11615.coolpic"/>
          <p:cNvPicPr/>
          <p:nvPr/>
        </p:nvPicPr>
        <p:blipFill>
          <a:blip r:embed="rId4"/>
          <a:stretch/>
        </p:blipFill>
        <p:spPr>
          <a:xfrm>
            <a:off x="4786200" y="1285920"/>
            <a:ext cx="3915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оляр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ристаллические решётк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сущее находящемуся 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стоянии веществу правильное пространственное расположение атом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характеризующееся периодической повторяемостью в трёх измерен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Documents and Settings\User\Мои документы\Мои рисунки\09-04.gif"/>
          <p:cNvPicPr/>
          <p:nvPr/>
        </p:nvPicPr>
        <p:blipFill>
          <a:blip r:embed="rId1"/>
          <a:stretch/>
        </p:blipFill>
        <p:spPr>
          <a:xfrm>
            <a:off x="4427640" y="2637000"/>
            <a:ext cx="3571920" cy="2666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C:\Documents and Settings\User\Мои документы\Мои рисунки\09-03.gif"/>
          <p:cNvPicPr/>
          <p:nvPr/>
        </p:nvPicPr>
        <p:blipFill>
          <a:blip r:embed="rId2"/>
          <a:stretch/>
        </p:blipFill>
        <p:spPr>
          <a:xfrm>
            <a:off x="900000" y="2997360"/>
            <a:ext cx="33339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бычно ионные кристаллы твердые, но хрупк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Ионные кристаллы отличаются высокими температурами плавления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В расплавленном состоянии вещества, образующие ионные кристаллы, электропроводны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Растворяются в полярных растворителях (воде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Содержимое 7" descr="49_1519893528"/>
          <p:cNvPicPr/>
          <p:nvPr/>
        </p:nvPicPr>
        <p:blipFill>
          <a:blip r:embed="rId1"/>
          <a:stretch/>
        </p:blipFill>
        <p:spPr>
          <a:xfrm>
            <a:off x="5076720" y="1197000"/>
            <a:ext cx="1914480" cy="1344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User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7236000" y="1197000"/>
            <a:ext cx="1096920" cy="1379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C:\Documents and Settings\User\Мои документы\Мои рисунки\39312f71ae9c.jpg"/>
          <p:cNvPicPr/>
          <p:nvPr/>
        </p:nvPicPr>
        <p:blipFill>
          <a:blip r:embed="rId3"/>
          <a:stretch/>
        </p:blipFill>
        <p:spPr>
          <a:xfrm>
            <a:off x="5076720" y="2708280"/>
            <a:ext cx="1360440" cy="1393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C:\Documents and Settings\User\Мои документы\Мои рисунки\krstreshtka.jpg"/>
          <p:cNvPicPr/>
          <p:nvPr/>
        </p:nvPicPr>
        <p:blipFill>
          <a:blip r:embed="rId4"/>
          <a:stretch/>
        </p:blipFill>
        <p:spPr>
          <a:xfrm>
            <a:off x="4859280" y="4365720"/>
            <a:ext cx="1471680" cy="1757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C:\Documents and Settings\User\Мои документы\Мои рисунки\picture.jpg"/>
          <p:cNvPicPr/>
          <p:nvPr/>
        </p:nvPicPr>
        <p:blipFill>
          <a:blip r:embed="rId5"/>
          <a:stretch/>
        </p:blipFill>
        <p:spPr>
          <a:xfrm>
            <a:off x="6732720" y="4437000"/>
            <a:ext cx="1677960" cy="125892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3"/>
          <p:cNvSpPr/>
          <p:nvPr/>
        </p:nvSpPr>
        <p:spPr>
          <a:xfrm>
            <a:off x="7020000" y="2637000"/>
            <a:ext cx="172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исталлы поваренной с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"/>
          <p:cNvSpPr/>
          <p:nvPr/>
        </p:nvSpPr>
        <p:spPr>
          <a:xfrm>
            <a:off x="6443640" y="3429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сталлы медного купо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6732720" y="5732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гантские кристаллы ги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Атом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7" descr="50_569774788"/>
          <p:cNvPicPr/>
          <p:nvPr/>
        </p:nvPicPr>
        <p:blipFill>
          <a:blip r:embed="rId1"/>
          <a:stretch/>
        </p:blipFill>
        <p:spPr>
          <a:xfrm>
            <a:off x="4788000" y="126828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8" descr="grafit0"/>
          <p:cNvPicPr/>
          <p:nvPr/>
        </p:nvPicPr>
        <p:blipFill>
          <a:blip r:embed="rId2"/>
          <a:stretch/>
        </p:blipFill>
        <p:spPr>
          <a:xfrm>
            <a:off x="6659640" y="148428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C:\Documents and Settings\User\Мои документы\Мои рисунки\33d257ddfaff.jpg"/>
          <p:cNvPicPr/>
          <p:nvPr/>
        </p:nvPicPr>
        <p:blipFill>
          <a:blip r:embed="rId3"/>
          <a:stretch/>
        </p:blipFill>
        <p:spPr>
          <a:xfrm>
            <a:off x="6732720" y="4869000"/>
            <a:ext cx="1636560" cy="1063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C:\Documents and Settings\User\Мои документы\Мои рисунки\Image1212.gif"/>
          <p:cNvPicPr/>
          <p:nvPr/>
        </p:nvPicPr>
        <p:blipFill>
          <a:blip r:embed="rId4"/>
          <a:stretch/>
        </p:blipFill>
        <p:spPr>
          <a:xfrm>
            <a:off x="5148360" y="4797360"/>
            <a:ext cx="1361880" cy="1271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Documents and Settings\User\Мои документы\Мои рисунки\pic_3733.jpg"/>
          <p:cNvPicPr/>
          <p:nvPr/>
        </p:nvPicPr>
        <p:blipFill>
          <a:blip r:embed="rId5"/>
          <a:stretch/>
        </p:blipFill>
        <p:spPr>
          <a:xfrm>
            <a:off x="5076720" y="3068640"/>
            <a:ext cx="1138320" cy="1446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Documents and Settings\User\Мои документы\Мои рисунки\6graphite75.jpg"/>
          <p:cNvPicPr/>
          <p:nvPr/>
        </p:nvPicPr>
        <p:blipFill>
          <a:blip r:embed="rId6"/>
          <a:stretch/>
        </p:blipFill>
        <p:spPr>
          <a:xfrm>
            <a:off x="6659640" y="3068640"/>
            <a:ext cx="17636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олекуляр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₂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C:\Documents and Settings\User\Мои документы\Мои рисунки\ice.jpg"/>
          <p:cNvPicPr/>
          <p:nvPr/>
        </p:nvPicPr>
        <p:blipFill>
          <a:blip r:embed="rId1"/>
          <a:stretch/>
        </p:blipFill>
        <p:spPr>
          <a:xfrm>
            <a:off x="5148360" y="1557360"/>
            <a:ext cx="1095120" cy="1108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Documents and Settings\User\Мои документы\Мои рисунки\kristally.jpg"/>
          <p:cNvPicPr/>
          <p:nvPr/>
        </p:nvPicPr>
        <p:blipFill>
          <a:blip r:embed="rId2"/>
          <a:stretch/>
        </p:blipFill>
        <p:spPr>
          <a:xfrm>
            <a:off x="6732720" y="1557360"/>
            <a:ext cx="1076040" cy="1150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:\Documents and Settings\User\Мои документы\Мои рисунки\dryice2.jpg"/>
          <p:cNvPicPr/>
          <p:nvPr/>
        </p:nvPicPr>
        <p:blipFill>
          <a:blip r:embed="rId3"/>
          <a:stretch/>
        </p:blipFill>
        <p:spPr>
          <a:xfrm>
            <a:off x="5796000" y="3429000"/>
            <a:ext cx="1614600" cy="1138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C:\Documents and Settings\User\Мои документы\Мои рисунки\Iod_kristall.jpg"/>
          <p:cNvPicPr/>
          <p:nvPr/>
        </p:nvPicPr>
        <p:blipFill>
          <a:blip r:embed="rId4"/>
          <a:stretch/>
        </p:blipFill>
        <p:spPr>
          <a:xfrm>
            <a:off x="5435640" y="5084640"/>
            <a:ext cx="19508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C:\Documents and Settings\User\Мои документы\Мои рисунки\1300117502_800px-iron_electrolytic_and_1cm3_cube.jpg"/>
          <p:cNvPicPr/>
          <p:nvPr/>
        </p:nvPicPr>
        <p:blipFill>
          <a:blip r:embed="rId1"/>
          <a:stretch/>
        </p:blipFill>
        <p:spPr>
          <a:xfrm>
            <a:off x="4788000" y="1197000"/>
            <a:ext cx="1728720" cy="10731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8"/>
          <p:cNvSpPr/>
          <p:nvPr/>
        </p:nvSpPr>
        <p:spPr>
          <a:xfrm>
            <a:off x="665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:\Documents and Settings\User\Мои документы\Мои рисунки\1300117520_800px-osmium_crystals.jpg"/>
          <p:cNvPicPr/>
          <p:nvPr/>
        </p:nvPicPr>
        <p:blipFill>
          <a:blip r:embed="rId2"/>
          <a:stretch/>
        </p:blipFill>
        <p:spPr>
          <a:xfrm>
            <a:off x="6443640" y="2060640"/>
            <a:ext cx="1762200" cy="11304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0"/>
          <p:cNvSpPr/>
          <p:nvPr/>
        </p:nvSpPr>
        <p:spPr>
          <a:xfrm>
            <a:off x="558000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1300125669_800px-gold-crystals.jpg"/>
          <p:cNvPicPr/>
          <p:nvPr/>
        </p:nvPicPr>
        <p:blipFill>
          <a:blip r:embed="rId3"/>
          <a:stretch/>
        </p:blipFill>
        <p:spPr>
          <a:xfrm>
            <a:off x="4643280" y="2997360"/>
            <a:ext cx="1893960" cy="12254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516720" y="35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C:\Documents and Settings\User\Мои документы\Мои рисунки\1300125797_765px-silver_crystal.jpg"/>
          <p:cNvPicPr/>
          <p:nvPr/>
        </p:nvPicPr>
        <p:blipFill>
          <a:blip r:embed="rId4"/>
          <a:stretch/>
        </p:blipFill>
        <p:spPr>
          <a:xfrm>
            <a:off x="6443640" y="4005360"/>
            <a:ext cx="1584360" cy="1243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14"/>
          <p:cNvSpPr/>
          <p:nvPr/>
        </p:nvSpPr>
        <p:spPr>
          <a:xfrm>
            <a:off x="5364000" y="4365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C:\Documents and Settings\User\Мои документы\Мои рисунки\1300125900_800px-yttrium_sublimed_dendritic_and_1cm3_cube.jpg"/>
          <p:cNvPicPr/>
          <p:nvPr/>
        </p:nvPicPr>
        <p:blipFill>
          <a:blip r:embed="rId5"/>
          <a:stretch/>
        </p:blipFill>
        <p:spPr>
          <a:xfrm>
            <a:off x="4643280" y="5013360"/>
            <a:ext cx="1851120" cy="12589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6"/>
          <p:cNvSpPr/>
          <p:nvPr/>
        </p:nvSpPr>
        <p:spPr>
          <a:xfrm>
            <a:off x="651672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т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mbria"/>
              </a:rPr>
              <a:t>Типы химической связи и их отличительные признаки</a:t>
            </a:r>
            <a:endParaRPr b="0" lang="en-US" sz="24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473040" y="1773360"/>
            <a:ext cx="81979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8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" name="Picture 2" descr="http://src.ucoz.net/sm/1/bye.gif"/>
          <p:cNvPicPr/>
          <p:nvPr/>
        </p:nvPicPr>
        <p:blipFill>
          <a:blip r:embed="rId1"/>
          <a:stretch/>
        </p:blipFill>
        <p:spPr>
          <a:xfrm>
            <a:off x="6500880" y="3857760"/>
            <a:ext cx="247680" cy="171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9" descr=""/>
          <p:cNvPicPr/>
          <p:nvPr/>
        </p:nvPicPr>
        <p:blipFill>
          <a:blip r:embed="rId2"/>
          <a:stretch/>
        </p:blipFill>
        <p:spPr>
          <a:xfrm>
            <a:off x="1974960" y="2395440"/>
            <a:ext cx="4743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Основные виды связей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Ионн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Ковалентная 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Металлическ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одородная связь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ан-дер-ваальсовы сил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равило октет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лектроотрицательност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6" descr="C:\Documents and Settings\Администратор\Мои документы\Мои рисунки\EO.gif"/>
          <p:cNvPicPr/>
          <p:nvPr/>
        </p:nvPicPr>
        <p:blipFill>
          <a:blip r:embed="rId1"/>
          <a:stretch/>
        </p:blipFill>
        <p:spPr>
          <a:xfrm>
            <a:off x="2124000" y="2997360"/>
            <a:ext cx="4543560" cy="21715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C:\Documents and Settings\Администратор\Мои документы\Мои рисунки\EO.jpg"/>
          <p:cNvPicPr/>
          <p:nvPr/>
        </p:nvPicPr>
        <p:blipFill>
          <a:blip r:embed="rId2"/>
          <a:stretch/>
        </p:blipFill>
        <p:spPr>
          <a:xfrm>
            <a:off x="2124000" y="5373720"/>
            <a:ext cx="4800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збуждённое состояние атом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7afbd"/>
                </a:solidFill>
                <a:uFillTx/>
                <a:latin typeface="Gill Sans MT"/>
                <a:hlinkClick r:id="rId1"/>
              </a:rPr>
              <a:t>http://www.youtube.com/watch?v=SM4BxoCoHzk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User\Мои документы\Мои рисунки\energia_1.jpg"/>
          <p:cNvPicPr/>
          <p:nvPr/>
        </p:nvPicPr>
        <p:blipFill>
          <a:blip r:embed="rId2"/>
          <a:stretch/>
        </p:blipFill>
        <p:spPr>
          <a:xfrm>
            <a:off x="539640" y="1413000"/>
            <a:ext cx="4748400" cy="25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Documents and Settings\User\Мои документы\Мои рисунки\96.jpg"/>
          <p:cNvPicPr/>
          <p:nvPr/>
        </p:nvPicPr>
        <p:blipFill>
          <a:blip r:embed="rId3"/>
          <a:stretch/>
        </p:blipFill>
        <p:spPr>
          <a:xfrm>
            <a:off x="5651640" y="1413000"/>
            <a:ext cx="295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C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F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+ 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→  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Na + Cl → Na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+ Cl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→ NaC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55640" y="1216080"/>
            <a:ext cx="431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6" descr="C:\Documents and Settings\Администратор\Мои документы\Мои рисунки\Ionic_bonding_animation.gif"/>
          <p:cNvPicPr/>
          <p:nvPr/>
        </p:nvPicPr>
        <p:blipFill>
          <a:blip r:embed="rId1"/>
          <a:stretch/>
        </p:blipFill>
        <p:spPr>
          <a:xfrm>
            <a:off x="4427640" y="1413000"/>
            <a:ext cx="3744720" cy="1871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Documents and Settings\User\Мои документы\Мои рисунки\NaF.gif"/>
          <p:cNvPicPr/>
          <p:nvPr/>
        </p:nvPicPr>
        <p:blipFill>
          <a:blip r:embed="rId2"/>
          <a:stretch/>
        </p:blipFill>
        <p:spPr>
          <a:xfrm>
            <a:off x="4500720" y="3645000"/>
            <a:ext cx="3958920" cy="166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C:\Documents and Settings\User\Мои документы\Мои рисунки\dogionic.gif"/>
          <p:cNvPicPr/>
          <p:nvPr/>
        </p:nvPicPr>
        <p:blipFill>
          <a:blip r:embed="rId3"/>
          <a:stretch/>
        </p:blipFill>
        <p:spPr>
          <a:xfrm>
            <a:off x="1187280" y="436572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User\Мои документы\Мои рисунки\ikr.gif"/>
          <p:cNvPicPr/>
          <p:nvPr/>
        </p:nvPicPr>
        <p:blipFill>
          <a:blip r:embed="rId1"/>
          <a:stretch/>
        </p:blipFill>
        <p:spPr>
          <a:xfrm>
            <a:off x="1258920" y="27082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Documents and Settings\User\Мои документы\Мои рисунки\120.jpg"/>
          <p:cNvPicPr/>
          <p:nvPr/>
        </p:nvPicPr>
        <p:blipFill>
          <a:blip r:embed="rId2"/>
          <a:stretch/>
        </p:blipFill>
        <p:spPr>
          <a:xfrm>
            <a:off x="4643280" y="2421000"/>
            <a:ext cx="3097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8:05:40Z</dcterms:created>
  <dc:creator>user</dc:creator>
  <dc:description/>
  <dc:language>en-US</dc:language>
  <cp:lastModifiedBy>LEGION</cp:lastModifiedBy>
  <dcterms:modified xsi:type="dcterms:W3CDTF">2015-05-01T12:13:18Z</dcterms:modified>
  <cp:revision>129</cp:revision>
  <dc:subject/>
  <dc:title>Химическая связь</dc:title>
</cp:coreProperties>
</file>