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8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29.png" ContentType="image/png"/>
  <Override PartName="/ppt/media/image52.jpeg" ContentType="image/jpeg"/>
  <Override PartName="/ppt/media/image7.gif" ContentType="image/gif"/>
  <Override PartName="/ppt/media/image26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4.jpeg" ContentType="image/jpeg"/>
  <Override PartName="/ppt/media/image22.png" ContentType="image/png"/>
  <Override PartName="/ppt/media/image59.png" ContentType="image/png"/>
  <Override PartName="/ppt/media/image5.jpeg" ContentType="image/jpeg"/>
  <Override PartName="/ppt/media/image61.png" ContentType="image/png"/>
  <Override PartName="/ppt/media/image19.png" ContentType="image/png"/>
  <Override PartName="/ppt/media/image20.jpeg" ContentType="image/jpeg"/>
  <Override PartName="/ppt/media/image21.png" ContentType="image/png"/>
  <Override PartName="/ppt/media/image10.jpeg" ContentType="image/jpeg"/>
  <Override PartName="/ppt/media/image30.png" ContentType="image/png"/>
  <Override PartName="/ppt/media/image3.jpeg" ContentType="image/jpeg"/>
  <Override PartName="/ppt/media/image12.png" ContentType="image/png"/>
  <Override PartName="/ppt/media/image8.gif" ContentType="image/gif"/>
  <Override PartName="/ppt/media/image49.jpeg" ContentType="image/jpeg"/>
  <Override PartName="/ppt/media/image16.png" ContentType="image/png"/>
  <Override PartName="/ppt/media/image1.gif" ContentType="image/gif"/>
  <Override PartName="/ppt/media/image24.gif" ContentType="image/gif"/>
  <Override PartName="/ppt/media/image27.png" ContentType="image/png"/>
  <Override PartName="/ppt/media/image15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1.png" ContentType="image/png"/>
  <Override PartName="/ppt/media/image56.jpeg" ContentType="image/jpeg"/>
  <Override PartName="/ppt/media/image34.png" ContentType="image/png"/>
  <Override PartName="/ppt/media/image35.jpeg" ContentType="image/jpeg"/>
  <Override PartName="/ppt/media/image47.png" ContentType="image/png"/>
  <Override PartName="/ppt/media/image36.jpeg" ContentType="image/jpeg"/>
  <Override PartName="/ppt/media/image37.png" ContentType="image/png"/>
  <Override PartName="/ppt/media/image17.png" ContentType="image/png"/>
  <Override PartName="/ppt/media/image14.gif" ContentType="image/gif"/>
  <Override PartName="/ppt/media/image39.jpeg" ContentType="image/jpeg"/>
  <Override PartName="/ppt/media/image41.jpeg" ContentType="image/jpeg"/>
  <Override PartName="/ppt/media/image18.png" ContentType="image/png"/>
  <Override PartName="/ppt/media/image42.jpeg" ContentType="image/jpeg"/>
  <Override PartName="/ppt/media/image28.png" ContentType="image/png"/>
  <Override PartName="/ppt/media/image43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8.jpeg" ContentType="image/jpeg"/>
  <Override PartName="/ppt/media/image50.jpeg" ContentType="image/jpeg"/>
  <Override PartName="/ppt/media/image51.jpeg" ContentType="image/jpeg"/>
  <Override PartName="/ppt/media/image23.png" ContentType="image/png"/>
  <Override PartName="/ppt/media/image53.jpeg" ContentType="image/jpeg"/>
  <Override PartName="/ppt/media/image33.png" ContentType="image/png"/>
  <Override PartName="/ppt/media/image54.jpeg" ContentType="image/jpeg"/>
  <Override PartName="/ppt/media/image57.jpeg" ContentType="image/jpeg"/>
  <Override PartName="/ppt/media/image6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22C3-220A-4E93-9BC9-9B9DFFB63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M4BxoCoHzk&amp;feature=related" TargetMode="Externa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ХИМИИ. ЛЕКЦИЯ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5893-5104-4179-9A09-2FBA780FE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Это химическая связь, образованная двумя атомами за счет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общих электронных пар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→ A: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→ H: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726F-9DAE-49D5-B84B-8106F8187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27D3-6189-4351-ADBD-A03CF8717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ледствие смещения электронной пары к одному из ядер, возникает диполь – нейтральная молекула с двумя одинаковыми по величине положительным и отрицательным зарядами, находящимися на определенном расстоянии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D982-A7C9-4972-834D-FF454979B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химическая связь проявляется в веществах  с атомной и молекулярной кристаллическими решёт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DD6B-60C8-4375-85D3-8800EB9A4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аллическую связь образуют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еталл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атомы которых на внешних оболочках имеют мало валентных электрон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о всех узлах кристаллической решетки расположены положите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оны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металла. Между ними беспорядочно, движутся вален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ектроны,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отщепившиеся от атомов при образовании 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Эти электроны играют роль цемента, удерживая вместе положительные ионы; в противном случае решетка распалась бы под действием сил отталкивания между ионами. Вместе с тем и электроны удерживаются ионами в пределах кристаллической решётки и не могут её покин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алентные электроны, осуществляющие металлическую связь, обобществлены настолько, что могут перемещаться по всему металлическому кристаллу и обеспечивают высокую электропроводность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A5E4-3DE8-4AC2-B9AF-D6BABE2F8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то электростатическая связь между </a:t>
            </a:r>
            <a:r>
              <a:rPr b="1" i="1" lang="ru-RU" sz="1100" spc="-1" strike="noStrike">
                <a:solidFill>
                  <a:srgbClr val="ff0000"/>
                </a:solidFill>
                <a:latin typeface="Calibri"/>
              </a:rPr>
              <a:t>положительно поляризованным атомом водорода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дной молекулы и </a:t>
            </a:r>
            <a:r>
              <a:rPr b="1" i="1" lang="ru-RU" sz="1100" spc="-1" strike="noStrike">
                <a:solidFill>
                  <a:srgbClr val="0070c0"/>
                </a:solidFill>
                <a:latin typeface="Calibri"/>
              </a:rPr>
              <a:t>электроотрицательным атомом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ругой или той же молекул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разными молекулами, она называется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межмолекулярной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например, между молекулами воды, низших спиртов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группами одной и той же молекулы, она называется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внутримолекулярно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(например, в белках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Водородная связь влияет на свойства веществ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а растворимость (подобное растворяется в подобном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а  температуру кипения (повышает температуру кипения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C6E6-B1EA-4BF5-8311-246A733F3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ем полярнее связь в водородном соединении, тем прочнее возникающая водородная связ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F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нергия связи 4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O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энергия связи 2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N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энергия связи 1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примерно в 10 раз слабее обычной ковалентной связи, но она оказывает очень большое влияние на физические и химические свойства соединений (например, аномально высокие темперетуры кипения и плавления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вызывает ассоциацию молекул – образование димеров, тримеров и полимеров (димеры муравьиной и уксусной кислот, полимеры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F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ы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имеет большое значение при растворении, т.к. растворимость зависит от возникновения водородных связей между молекулами или ионами растворённого вещества и растворителя.  При этом образуются соответствующие соединения – сольваты (гидраты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6C7D-62E8-427E-8072-5D20F1175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C78C-549B-48B4-BC7C-47AAB718C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стояние между ядрами атомов в соеди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5C90-B047-4D95-BCCA-7DD5CDCB2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личество энергии, которое выделяется при образовании химической связи, кДж/м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ько же энергии нужно затратить, чтобы разрушить химическую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A169-D951-4B30-8D08-B797F0309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Химическая связ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илы, обуславливающие устойчивое существование двух и многоатомны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ается общая энергия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распределение электронной плотности в области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6FC5-3C0D-4C98-8CF6-2DA744B15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числа атомов в молекуле, от типа и пространственной ориентации атомных орбита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 возникает в направлении максимального перекрывания электронных облаков, образующих молеку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атомные молекулы – связь линей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ёхатомные молекулы – линейная или углов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ёхатомные молекулы плоская или пирамидаль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иатомные молекулы – пространственный тетраэ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ридизация орбита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81E5-0C43-449B-B528-D14732920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 определяется тем, какова электроотрицательность атомов, образующих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 характеризуется величиной дипольного момента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F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I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 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8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6A88-7BFD-441F-9F19-424996C44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ические решё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сталлическая решет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присущее находящемус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ристаллическом с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стоянии веществу правильное пространственное расположение ато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онов, молекул,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характеризующееся периодической повторяемостью в трёх измер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7496-6DEA-49DA-9673-200645C70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бычно ионные кристаллы твердые, но хру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Ионные кристаллы отличаются высокими температурами пл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расплавленном состоянии вещества, образующие ионные кристаллы, электропровод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Растворяются в полярных растворителях (вод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При растворении в воде эти вещества диссоциируют на катионы и анионы, и образующиеся растворы проводят электрический 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8EDB-FD1F-4027-B380-98E63C99B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н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Атомные кристаллы состоят из отдельных атомов, объединенных ковалентными связ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лмаз, графит)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Нередко соединения неметаллов друг с другом (например, диоксид кремния) также образуют атомные кристал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томные кристаллы можно считать гигантскими молеку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ни очень прочные и твердые, плохо проводят теплоту и электри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ещества, имеющие атомные кристаллические решетки, плавятся при высоких температу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рактически нерастворимы в каких-либо растворите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изкая реакционная способ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1195-971E-43DB-9AAC-C150D857F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олекулярная кристаллическая решётк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Молекулярные кристаллы</a:t>
            </a:r>
            <a:r>
              <a:rPr b="1" i="1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построены из отдельных молекул, внутри которых атомы соединены ковалентными связями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Между молекулами действуют более слабые межмолекулярные силы. Они легко разрушаются, поэтому молекулярные кристаллы имеют низкие температуры плавления, малую твердость, высокую летучесть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Вещества, образующие молекулярные кристаллические решетки, не обладают электрической проводимостью, их растворы и расплавы также не проводят электрический ток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Большинство неметаллов в виде простых веществ (например, иод I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, аргон Ar, сера S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) и соединений друг с другом (например, вода, диоксид углерода, хлороводород), а также практически все твердые органические вещества образуют молекулярные кристаллы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льд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₂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СО₂ (сухой лё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и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FD25-DAEF-450E-A0D3-708A43D90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а для  ме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ней имеется металлическая связь между ато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металлических кристаллах ядра атомов расположены таким образом, чтобы их упаковка была как можно более плот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Металлические кристаллы обладают высокой электрической проводимостью и теплопроводностью, металлическим блеском и непрозрачностью, легкой деформируем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B27C-BF97-4FB2-B00B-D112BFA5B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химической связи и их отличительные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C384-8BF6-4E37-9730-C21F8FC45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ые взаимо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-дер-ваальсовы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F82B-8B59-4018-97E8-4A9DE4B6E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ок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 атомы приобретают такую же электронную конфигурацию, как у благородных газов, которые (за исключением гелия) имеют на внешнем энергетическом уровне 8 электронов (окт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справедливо для ионной и ковалентной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0262-E797-4D6B-8DF7-4824DF46C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отриц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отрицательность (ЭО) – это способность атомов в соединениях притягивать к себе электроны. Наибольшие значения ЭО имеют р-элемент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, наименьшие -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лемент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48D5-9163-4556-A105-B241F5CD3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ённое состоя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алент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войство атома образовывать ковалентны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SM4BxoCoHzk&amp;feature=related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D003-102D-4A77-8ADB-3F1A58422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химическая связь, возникающая в результат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го взаимодейств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 и отрицательно заряженных ионов в химическом соеди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атомами с большой разницей электроотрицательностей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еталл и немета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римеры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O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F947-84BE-44EE-8799-AFA1020C4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разовании ионов образуются устойчивые октетные электронные конфигурации (как у благородных газов) – правило окт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-  1ē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+ 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ē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→  Cl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a + Cl → Na</a:t>
            </a:r>
            <a:r>
              <a:rPr b="0" lang="pl-PL" sz="11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+ Cl</a:t>
            </a:r>
            <a:r>
              <a:rPr b="0" lang="pl-PL" sz="1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→ NaCl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444B-0B3F-48B9-BE90-DF06476BE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 проявляется в твердых веществах с ионной кристаллической реше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9471-53AF-43F5-9A63-25A135F71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343-36C4-4F16-91BD-8E68CFFB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E78-9715-4644-96D6-7FC20E40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5B5-1D19-4DF7-B0B0-C7238B40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6AD-3EF4-4F80-B8A1-B1A31C63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2527-1645-4C9B-BC5F-A77D1D49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8D44-6AF0-44CF-81A7-418F42EA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8CF3-9B95-4B41-9BE9-CC689F65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DD91-E54B-4F0B-8C77-3B92570C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47EF-8079-4DC7-BD2D-68000844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1900-C294-4C7B-ABE8-8CFC6136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C393-A5C7-45C5-9903-12866BE4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AE0-E63C-4D0B-B07C-03AA807E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FC39-1285-46BA-BF6E-95D04B66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3BB5-6C6A-4760-BF26-D74FECE4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3372-C61F-4A88-A42A-75BD6EFF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AA8A-8392-4E66-B12C-F0666A1D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C6B9-1320-4192-A46C-0D17085D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ED34F-F0F8-4A3A-BDA3-593401E8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4C18-6C94-4245-9116-53B8C69E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C50E0-2327-43D3-8A43-7DD15EAF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59EE3-D97E-4892-B30B-9452941D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90A5-361A-46E3-BBA7-25B83B8A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2F9-4A5E-46F7-A4FB-98AE1988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9DC8B-E7FA-493D-9749-E3E68523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A0932-EDA2-4A36-B2C4-BF9B98C4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658BE-BEB7-4D61-9AA9-D1355A7B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B50AB-2817-4B12-AEFA-88C44A40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C6D0-AAAD-4D2F-A38C-F542CBD1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E0DA7-74DB-4B3A-8995-A9F14D5E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9F8A4-051C-482B-B560-7EAD8EF0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4E0D7-D7B3-43D9-BE54-CDF52D8E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23031-F650-4150-A8BB-526DE17D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7B129-24E3-4C2D-9391-021B32FE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55E-4FE1-4D35-AF4D-7949937E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706D6-4D98-4ECF-86F6-C0001C51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17137-2830-484D-BCDC-CD3D7931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2A3BD-1E76-452F-9E54-E1FB57A6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0E8DA-7BF8-4D8C-A562-BCF21D61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941D8-7018-489B-90BD-8358EDE4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D15B6-5ECF-413A-B0A2-0DF6FE10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3E0F4-956F-41BE-8F08-1E6DEFE4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D16CD-BF27-438A-ADF3-0801F2C7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C817E-5E8D-4F1E-9E3F-FD980E72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DF733-D35E-4708-A651-4CBE7639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9CF-34F0-49B0-BF65-CB7A0787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11530-F15C-4B84-B991-46CEEE2C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15C88-2BFE-4B7D-86B8-C9CB642E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72EE5-9C4E-47B4-AA17-720308D6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D02B4-579E-4902-87B0-F5F2925A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66F18-1CC2-439A-B4AD-089C1B18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4378D-F26F-4DA4-B280-19BF1E8C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A62B1-1F46-4F45-88A0-285A1933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E09D8-FA26-4CC1-8C7E-B78435B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26CC4-7231-4D5D-A165-A7200C57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AA9BC-CFB6-4E2A-9E62-8E45B2E0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4D2-F5B2-437E-9A53-CE8CCC40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B7D6A-D3AA-40EF-B9A9-649AC758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F6240-17E9-4566-AA0A-C527A931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74A1F-B4F1-49BE-BB83-921A8C61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CE120-3409-4D64-9AF6-ECAE3E05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D3A09-7166-4BC5-A9BD-0DB89287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3534E-8259-401C-8D57-9BAB3A58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DCF03-F682-4E64-8954-83CAC359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71334-027A-4871-ACDF-64A3EC37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6BA94-697D-4C5E-9F84-9EBACC8B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16869-0754-48D0-9C15-ACE8C8AF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770-E83B-4A5D-B8EC-FC3CE9F0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DA919-F2BF-4B5A-AA8A-0ED399B8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865FD-C673-4B1E-9E5B-CE1E39F2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8D708-9198-4EEA-A483-3DC2E561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C6D75-CAA5-4D9E-92E3-BC788495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5F94B-372D-41BC-93B8-DE427250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0970A-2792-4EEE-A435-A0CA9EBB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D4B0C-4989-4828-8124-057B2DF3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7203D-670F-495F-BA8B-03E1C584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A6CFC-1331-42B6-9D1A-FBD472F2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E76E6-A866-4DCD-ADF7-C7986E80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42F-7144-40BD-B281-EC149D1E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8681A-4FD4-4035-93BB-11FE5A3E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9C0C9-0C48-43F5-89C9-ECEC11F7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347A9-E5FF-45CF-B498-DEBFB51C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BF90A-5BA7-4F93-B1C9-041D96DB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F27FF-D5BF-4D29-93BB-804323BA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DBF20-8B87-43E6-9954-1381E67F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280B6-C8B8-489E-88E9-0E397191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5028F-3A9B-4504-A4F8-21E785BC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70694-5900-4B79-AD06-A0B41E8A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956EB-9183-4961-8957-4212E107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791-2E10-46B1-BF6A-98A5A832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D2034-D859-4E17-A6D3-E25495E7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F3427-83B0-4673-B4C6-0E66CF03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F93F5-E654-4389-99CD-C6C83D84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F7F82-6DA3-44AF-9FD4-49821363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B23C1-5067-43A3-89C6-1D2C1AEE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C05A2-D907-4F19-B742-14CF929D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5129E-8677-453C-8E30-02D656BA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B41D-B68A-4595-BB60-B842A2B12567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65ED-0E3F-46FF-A3EB-1599D2EEFE88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950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C8BE-B74B-4877-9FC1-E067BD090AC1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69A6-D953-4001-8CA8-B08E98386447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950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D81C-5B4E-4047-B400-290F2FDCD779}" type="datetime">
              <a:rPr b="0" lang="et-EE" sz="1400" spc="-1" strike="noStrike">
                <a:solidFill>
                  <a:srgbClr val="dedede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dedede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D453-EC55-465E-A246-0D5FF9DA6D60}" type="slidenum">
              <a:rPr b="0" lang="en-US" sz="1400" spc="-1" strike="noStrike">
                <a:solidFill>
                  <a:srgbClr val="dedede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4931-5B15-428F-865C-50FD845AE345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B1AE-27EA-4F09-B273-861CDB8E095F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13A1-5FA4-44EA-99F2-09F20CEFD36C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3287-0A6F-4454-9062-FBD96A18D862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579F-6321-41B8-8CB6-45E7AE0BD3F0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3563-8475-49B6-897B-BECC0EC9853B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52F6-881D-40EE-B56B-E21238266FC9}" type="datetime">
              <a:rPr b="0" lang="et-EE" sz="1400" spc="-1" strike="noStrike">
                <a:solidFill>
                  <a:srgbClr val="dedede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dedede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654A-280B-4125-9706-5F418B0F8E87}" type="slidenum">
              <a:rPr b="0" lang="en-US" sz="1400" spc="-1" strike="noStrike">
                <a:solidFill>
                  <a:srgbClr val="dedede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A76A-2172-43CF-AE74-6C52C7809008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ACBA-B76E-4243-9A9D-F345044A73F7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M4BxoCoHzk&amp;feature=related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Cambria"/>
              </a:rPr>
              <a:t>ОСНОВЫ ХИМИИ. ЛЕКЦИЯ 4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http://src.ucoz.net/sm/1/prof.gif"/>
          <p:cNvPicPr/>
          <p:nvPr/>
        </p:nvPicPr>
        <p:blipFill>
          <a:blip r:embed="rId1"/>
          <a:stretch/>
        </p:blipFill>
        <p:spPr>
          <a:xfrm>
            <a:off x="3714840" y="5214960"/>
            <a:ext cx="2761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Gill Sans MT"/>
              </a:rPr>
              <a:t>Это химическая связь, образованная двумя атомами за счет </a:t>
            </a:r>
            <a:r>
              <a:rPr b="1" i="1" lang="et-EE" sz="2000" spc="-1" strike="noStrike">
                <a:solidFill>
                  <a:srgbClr val="000000"/>
                </a:solidFill>
                <a:latin typeface="Gill Sans MT"/>
              </a:rPr>
              <a:t>общих электронных пар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+ B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→ A: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+ H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→ H: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6" descr="C:\Documents and Settings\Администратор\Мои документы\Мои рисунки\91197-1.jpg"/>
          <p:cNvPicPr/>
          <p:nvPr/>
        </p:nvPicPr>
        <p:blipFill>
          <a:blip r:embed="rId1"/>
          <a:stretch/>
        </p:blipFill>
        <p:spPr>
          <a:xfrm>
            <a:off x="1476360" y="3357720"/>
            <a:ext cx="2513160" cy="103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0" name="Рисунок 7" descr="C:\Documents and Settings\Администратор\Мои документы\Мои рисунки\Legame_chimico_covalente_puro.png"/>
          <p:cNvPicPr/>
          <p:nvPr/>
        </p:nvPicPr>
        <p:blipFill>
          <a:blip r:embed="rId2"/>
          <a:stretch/>
        </p:blipFill>
        <p:spPr>
          <a:xfrm>
            <a:off x="900000" y="5013360"/>
            <a:ext cx="4105440" cy="6094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01" name="Picture 2" descr="C:\Documents and Settings\User\Мои документы\Мои рисунки\66.jpg"/>
          <p:cNvPicPr/>
          <p:nvPr/>
        </p:nvPicPr>
        <p:blipFill>
          <a:blip r:embed="rId3"/>
          <a:stretch/>
        </p:blipFill>
        <p:spPr>
          <a:xfrm>
            <a:off x="5724360" y="3860640"/>
            <a:ext cx="2700360" cy="2305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Documents and Settings\User\Мои документы\Мои рисунки\covalent_bond_animation.gif"/>
          <p:cNvPicPr/>
          <p:nvPr/>
        </p:nvPicPr>
        <p:blipFill>
          <a:blip r:embed="rId4"/>
          <a:stretch/>
        </p:blipFill>
        <p:spPr>
          <a:xfrm>
            <a:off x="5796000" y="1989000"/>
            <a:ext cx="26859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Схема 6" descr=""/>
          <p:cNvPicPr/>
          <p:nvPr/>
        </p:nvPicPr>
        <p:blipFill>
          <a:blip r:embed="rId1"/>
          <a:stretch/>
        </p:blipFill>
        <p:spPr>
          <a:xfrm>
            <a:off x="2676600" y="1719360"/>
            <a:ext cx="3790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ледствие смещения электронной пары к одному из ядер, возникает диполь – нейтральная молекула с двумя одинаковыми по величине положительным и отрицательным зарядами, находящимися на определенном расстоянии друг от друг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6" descr="C:\Documents and Settings\Администратор\Мои документы\Мои рисунки\91197-8.jpg"/>
          <p:cNvPicPr/>
          <p:nvPr/>
        </p:nvPicPr>
        <p:blipFill>
          <a:blip r:embed="rId1"/>
          <a:stretch/>
        </p:blipFill>
        <p:spPr>
          <a:xfrm>
            <a:off x="5292720" y="5084640"/>
            <a:ext cx="1360440" cy="70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1" name="Рисунок 7" descr="C:\Documents and Settings\Администратор\Мои документы\Мои рисунки\660px-Watermolecule.png"/>
          <p:cNvPicPr/>
          <p:nvPr/>
        </p:nvPicPr>
        <p:blipFill>
          <a:blip r:embed="rId2"/>
          <a:stretch/>
        </p:blipFill>
        <p:spPr>
          <a:xfrm>
            <a:off x="7093080" y="5013360"/>
            <a:ext cx="1149120" cy="79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2" name="Picture 3" descr="C:\Documents and Settings\User\Мои документы\Мои рисунки\polar-covalent-bond.gif"/>
          <p:cNvPicPr/>
          <p:nvPr/>
        </p:nvPicPr>
        <p:blipFill>
          <a:blip r:embed="rId3"/>
          <a:stretch/>
        </p:blipFill>
        <p:spPr>
          <a:xfrm>
            <a:off x="5076720" y="2276640"/>
            <a:ext cx="2727360" cy="2393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C:\Documents and Settings\User\Мои документы\Мои рисунки\96904-004-c880b85d.gif"/>
          <p:cNvPicPr/>
          <p:nvPr/>
        </p:nvPicPr>
        <p:blipFill>
          <a:blip r:embed="rId4"/>
          <a:stretch/>
        </p:blipFill>
        <p:spPr>
          <a:xfrm>
            <a:off x="1187280" y="4437000"/>
            <a:ext cx="2727360" cy="1712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C:\Documents and Settings\User\Мои документы\Мои рисунки\AScovale.jpg"/>
          <p:cNvPicPr/>
          <p:nvPr/>
        </p:nvPicPr>
        <p:blipFill>
          <a:blip r:embed="rId5"/>
          <a:stretch/>
        </p:blipFill>
        <p:spPr>
          <a:xfrm>
            <a:off x="1476360" y="2421000"/>
            <a:ext cx="20210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валентная химическая связь проявляется в веществах  с атомной и молекулярной кристаллическими решёткам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C:\Documents and Settings\User\Мои документы\Мои рисунки\mkr.gif"/>
          <p:cNvPicPr/>
          <p:nvPr/>
        </p:nvPicPr>
        <p:blipFill>
          <a:blip r:embed="rId1"/>
          <a:stretch/>
        </p:blipFill>
        <p:spPr>
          <a:xfrm>
            <a:off x="4067280" y="2276640"/>
            <a:ext cx="3781440" cy="2520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Documents and Settings\User\Мои документы\Мои рисунки\akr.gif"/>
          <p:cNvPicPr/>
          <p:nvPr/>
        </p:nvPicPr>
        <p:blipFill>
          <a:blip r:embed="rId2"/>
          <a:stretch/>
        </p:blipFill>
        <p:spPr>
          <a:xfrm>
            <a:off x="755640" y="2565360"/>
            <a:ext cx="3564000" cy="23763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8"/>
          <p:cNvSpPr/>
          <p:nvPr/>
        </p:nvSpPr>
        <p:spPr>
          <a:xfrm>
            <a:off x="1332000" y="501336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ная кристаллическая решётка (например, С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9"/>
          <p:cNvSpPr/>
          <p:nvPr/>
        </p:nvSpPr>
        <p:spPr>
          <a:xfrm>
            <a:off x="5148360" y="501336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екулярная кристаллическая решётка (например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₂O, F₂, H₂, HCl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еталл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218960"/>
            <a:ext cx="40417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аллическую связь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талл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томы которых на внешних оболочках имеют мало валентных электронов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Во всех узлах кристаллической решетки расположены положитель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оны 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еталла. Между ними беспорядочно, движутся валент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электроны,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 отщепившиеся от атомов при образовании ионов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Эти электроны играют роль цемента, удерживая вместе положительные ионы; в противном случае решетка распалась бы под действием сил отталкивания между ионами. Вместе с тем и электроны удерживаются ионами в пределах кристаллической решётки и не могут её покину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и валентные электроны, осуществляющие металлическую связь, обобществлены настолько, что могут перемещаться по всему металлическому кристаллу и обеспечивают высокую электропроводность металла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8" descr="200px-Metallic_bond_Zn_svg"/>
          <p:cNvPicPr/>
          <p:nvPr/>
        </p:nvPicPr>
        <p:blipFill>
          <a:blip r:embed="rId1"/>
          <a:stretch/>
        </p:blipFill>
        <p:spPr>
          <a:xfrm>
            <a:off x="5219640" y="486900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Documents and Settings\User\Мои документы\Мои рисунки\electrAn.gif"/>
          <p:cNvPicPr/>
          <p:nvPr/>
        </p:nvPicPr>
        <p:blipFill>
          <a:blip r:embed="rId2"/>
          <a:stretch/>
        </p:blipFill>
        <p:spPr>
          <a:xfrm>
            <a:off x="4788000" y="1268280"/>
            <a:ext cx="3136680" cy="2054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C:\Documents and Settings\User\Мои документы\Мои рисунки\21.jpg"/>
          <p:cNvPicPr/>
          <p:nvPr/>
        </p:nvPicPr>
        <p:blipFill>
          <a:blip r:embed="rId3"/>
          <a:stretch/>
        </p:blipFill>
        <p:spPr>
          <a:xfrm>
            <a:off x="6012000" y="3357720"/>
            <a:ext cx="268128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дород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 электростатическая связь между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оложительно поляризованным атомом водород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й молекулы и </a:t>
            </a:r>
            <a:r>
              <a:rPr b="1" i="1" lang="ru-RU" sz="1600" spc="-1" strike="noStrike">
                <a:solidFill>
                  <a:srgbClr val="0070c0"/>
                </a:solidFill>
                <a:latin typeface="Calibri"/>
              </a:rPr>
              <a:t>электроотрицательным атомом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ругой или той же молекулы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разными молекулами, она называется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ежмолекулярной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например, между молекулами воды, низших спиртов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группами одной и той же молекулы, она называется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нутримолекуляр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например, в белках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211280" y="1216080"/>
            <a:ext cx="38163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дородная связь влияет на свойства веществ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 растворимость (подобное растворяется в подобном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  температуру кипения (повышает температуру кипения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7" descr="C:\Documents and Settings\Администратор\Мои документы\Мои рисунки\3D_model_hydrogen_bonds_in_water.jpg"/>
          <p:cNvPicPr/>
          <p:nvPr/>
        </p:nvPicPr>
        <p:blipFill>
          <a:blip r:embed="rId1"/>
          <a:stretch/>
        </p:blipFill>
        <p:spPr>
          <a:xfrm>
            <a:off x="4932360" y="1557360"/>
            <a:ext cx="2016000" cy="2087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Documents and Settings\User\Мои документы\Мои рисунки\hm645.gif"/>
          <p:cNvPicPr/>
          <p:nvPr/>
        </p:nvPicPr>
        <p:blipFill>
          <a:blip r:embed="rId2"/>
          <a:stretch/>
        </p:blipFill>
        <p:spPr>
          <a:xfrm>
            <a:off x="8028000" y="1197000"/>
            <a:ext cx="903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дород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м полярнее связь в водородном соединении, тем прочнее возникающая водородная связ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F  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энергия связи 4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O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 энергия связи 2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N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 энергия связи 1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примерно в 10 раз слабее обычной ковалентной связи, но она оказывает очень большое влияние на физические и химические свойства соединений (например, аномально высокие темперетуры кипения и плавления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вызывает ассоциацию молекул – образование димеров, тримеров и полимеров (димеры муравьиной и уксусной кислот, полимеры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HF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ы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имеет большое значение при растворении, т.к. растворимость зависит от возникновения водородных связей между молекулами или ионами растворённого вещества и растворителя.  При этом образуются соответствующие соединения – сольваты (гидраты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Характеристики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правленность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Длина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сстояние между ядрами атомов в соединени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2571840" y="2500200"/>
            <a:ext cx="3000240" cy="3621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3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" descr=""/>
          <p:cNvPicPr/>
          <p:nvPr/>
        </p:nvPicPr>
        <p:blipFill>
          <a:blip r:embed="rId2"/>
          <a:stretch/>
        </p:blipFill>
        <p:spPr>
          <a:xfrm>
            <a:off x="2571840" y="3286080"/>
            <a:ext cx="3019320" cy="3621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6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/>
          <a:stretch/>
        </p:blipFill>
        <p:spPr>
          <a:xfrm>
            <a:off x="2643120" y="4143240"/>
            <a:ext cx="3038400" cy="36216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12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Энергия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количество энергии, которое выделяется при образовании химической связи, кДж/моль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лько же энергии нужно затратить, чтобы разрушить химическую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" descr=""/>
          <p:cNvPicPr/>
          <p:nvPr/>
        </p:nvPicPr>
        <p:blipFill>
          <a:blip r:embed="rId1"/>
          <a:stretch/>
        </p:blipFill>
        <p:spPr>
          <a:xfrm>
            <a:off x="2428920" y="3571920"/>
            <a:ext cx="3267000" cy="3427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3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2"/>
          <a:stretch/>
        </p:blipFill>
        <p:spPr>
          <a:xfrm>
            <a:off x="2500200" y="4357800"/>
            <a:ext cx="3324240" cy="34272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ведение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Химическая связь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силы, обуславливающие устойчивое существование двух и многоатомных соединени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снижается общая энергия системы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происходит перераспределение электронной плотности в области химической связи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Направленность химической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числа атомов в молекуле, от типа и пространственной ориентации атомных орбиталей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валентная связь возникает в направлении максимального перекрывания электронных облаков, образующих молекулу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ухатомные молекулы – связь линейна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ёхатомные молекулы – линейная или угловая структур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ырёхатомные молекулы плоская или пирамидальная структур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иатомные молекулы – пространственный тетраэдр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бридизация орбиталей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U:\My Pictures\1_30.gif"/>
          <p:cNvPicPr/>
          <p:nvPr/>
        </p:nvPicPr>
        <p:blipFill>
          <a:blip r:embed="rId1"/>
          <a:stretch/>
        </p:blipFill>
        <p:spPr>
          <a:xfrm>
            <a:off x="6072120" y="2214720"/>
            <a:ext cx="1695600" cy="13903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U:\My Pictures\1_31.gif"/>
          <p:cNvPicPr/>
          <p:nvPr/>
        </p:nvPicPr>
        <p:blipFill>
          <a:blip r:embed="rId2"/>
          <a:stretch/>
        </p:blipFill>
        <p:spPr>
          <a:xfrm>
            <a:off x="4929120" y="3286080"/>
            <a:ext cx="3519720" cy="1500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U:\My Pictures\r23.jpg"/>
          <p:cNvPicPr/>
          <p:nvPr/>
        </p:nvPicPr>
        <p:blipFill>
          <a:blip r:embed="rId3"/>
          <a:stretch/>
        </p:blipFill>
        <p:spPr>
          <a:xfrm>
            <a:off x="5929200" y="4714920"/>
            <a:ext cx="1428840" cy="123192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pda.coolreferat.com/ref-1_724982365-11615.coolpic"/>
          <p:cNvPicPr/>
          <p:nvPr/>
        </p:nvPicPr>
        <p:blipFill>
          <a:blip r:embed="rId4"/>
          <a:stretch/>
        </p:blipFill>
        <p:spPr>
          <a:xfrm>
            <a:off x="4786200" y="1285920"/>
            <a:ext cx="39150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Полярность химической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 определяется тем, какова электроотрицательность атомов, образующих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 характеризуется величиной дипольного момента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4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0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F 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I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  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8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ристаллические решётк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сталлическая решетк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присущее находящемуся 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ристаллическом с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остоянии веществу правильное пространственное расположение атом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онов, молекул,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характеризующееся периодической повторяемостью в трёх измерения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C:\Documents and Settings\User\Мои документы\Мои рисунки\09-04.gif"/>
          <p:cNvPicPr/>
          <p:nvPr/>
        </p:nvPicPr>
        <p:blipFill>
          <a:blip r:embed="rId1"/>
          <a:stretch/>
        </p:blipFill>
        <p:spPr>
          <a:xfrm>
            <a:off x="4427640" y="2637000"/>
            <a:ext cx="3571920" cy="2666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C:\Documents and Settings\User\Мои документы\Мои рисунки\09-03.gif"/>
          <p:cNvPicPr/>
          <p:nvPr/>
        </p:nvPicPr>
        <p:blipFill>
          <a:blip r:embed="rId2"/>
          <a:stretch/>
        </p:blipFill>
        <p:spPr>
          <a:xfrm>
            <a:off x="900000" y="2997360"/>
            <a:ext cx="333396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Обычно ионные кристаллы твердые, но хрупки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Ионные кристаллы отличаются высокими температурами плавления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В расплавленном состоянии вещества, образующие ионные кристаллы, электропроводны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Растворяются в полярных растворителях (воде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При растворении в воде эти вещества диссоциируют на катионы и анионы, и образующиеся растворы проводят электрический ток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Содержимое 7" descr="49_1519893528"/>
          <p:cNvPicPr/>
          <p:nvPr/>
        </p:nvPicPr>
        <p:blipFill>
          <a:blip r:embed="rId1"/>
          <a:stretch/>
        </p:blipFill>
        <p:spPr>
          <a:xfrm>
            <a:off x="5076720" y="1197000"/>
            <a:ext cx="1914480" cy="13446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C:\Documents and Settings\User\Мои документы\Мои рисунки\3.jpg"/>
          <p:cNvPicPr/>
          <p:nvPr/>
        </p:nvPicPr>
        <p:blipFill>
          <a:blip r:embed="rId2"/>
          <a:stretch/>
        </p:blipFill>
        <p:spPr>
          <a:xfrm>
            <a:off x="7236000" y="1197000"/>
            <a:ext cx="1096920" cy="1379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C:\Documents and Settings\User\Мои документы\Мои рисунки\39312f71ae9c.jpg"/>
          <p:cNvPicPr/>
          <p:nvPr/>
        </p:nvPicPr>
        <p:blipFill>
          <a:blip r:embed="rId3"/>
          <a:stretch/>
        </p:blipFill>
        <p:spPr>
          <a:xfrm>
            <a:off x="5076720" y="2708280"/>
            <a:ext cx="1360440" cy="13939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C:\Documents and Settings\User\Мои документы\Мои рисунки\krstreshtka.jpg"/>
          <p:cNvPicPr/>
          <p:nvPr/>
        </p:nvPicPr>
        <p:blipFill>
          <a:blip r:embed="rId4"/>
          <a:stretch/>
        </p:blipFill>
        <p:spPr>
          <a:xfrm>
            <a:off x="4859280" y="4365720"/>
            <a:ext cx="1471680" cy="17571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C:\Documents and Settings\User\Мои документы\Мои рисунки\picture.jpg"/>
          <p:cNvPicPr/>
          <p:nvPr/>
        </p:nvPicPr>
        <p:blipFill>
          <a:blip r:embed="rId5"/>
          <a:stretch/>
        </p:blipFill>
        <p:spPr>
          <a:xfrm>
            <a:off x="6732720" y="4437000"/>
            <a:ext cx="1677960" cy="1258920"/>
          </a:xfrm>
          <a:prstGeom prst="rect">
            <a:avLst/>
          </a:prstGeom>
          <a:ln w="0">
            <a:noFill/>
          </a:ln>
        </p:spPr>
      </p:pic>
      <p:sp>
        <p:nvSpPr>
          <p:cNvPr id="488" name="TextBox 13"/>
          <p:cNvSpPr/>
          <p:nvPr/>
        </p:nvSpPr>
        <p:spPr>
          <a:xfrm>
            <a:off x="7020000" y="2637000"/>
            <a:ext cx="172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ристаллы поваренной с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4"/>
          <p:cNvSpPr/>
          <p:nvPr/>
        </p:nvSpPr>
        <p:spPr>
          <a:xfrm>
            <a:off x="6443640" y="342900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сталлы медного купо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5"/>
          <p:cNvSpPr/>
          <p:nvPr/>
        </p:nvSpPr>
        <p:spPr>
          <a:xfrm>
            <a:off x="6732720" y="573264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гантские кристаллы ги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Атом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Атомные кристаллы состоят из отдельных атомов, объединенных ковалентными связя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алмаз, графит)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Нередко соединения неметаллов друг с другом (например, диоксид кремния) также образуют атомные кристаллы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томные кристаллы можно считать гигантскими молекулами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Они очень прочные и твердые, плохо проводят теплоту и электричество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Вещества, имеющие атомные кристаллические решетки, плавятся при высоких температурах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рактически нерастворимы в каких-либо растворителях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изкая реакционная способность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Рисунок 7" descr="50_569774788"/>
          <p:cNvPicPr/>
          <p:nvPr/>
        </p:nvPicPr>
        <p:blipFill>
          <a:blip r:embed="rId1"/>
          <a:stretch/>
        </p:blipFill>
        <p:spPr>
          <a:xfrm>
            <a:off x="4788000" y="1268280"/>
            <a:ext cx="1485720" cy="16383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8" descr="grafit0"/>
          <p:cNvPicPr/>
          <p:nvPr/>
        </p:nvPicPr>
        <p:blipFill>
          <a:blip r:embed="rId2"/>
          <a:stretch/>
        </p:blipFill>
        <p:spPr>
          <a:xfrm>
            <a:off x="6659640" y="1484280"/>
            <a:ext cx="1333440" cy="1295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C:\Documents and Settings\User\Мои документы\Мои рисунки\33d257ddfaff.jpg"/>
          <p:cNvPicPr/>
          <p:nvPr/>
        </p:nvPicPr>
        <p:blipFill>
          <a:blip r:embed="rId3"/>
          <a:stretch/>
        </p:blipFill>
        <p:spPr>
          <a:xfrm>
            <a:off x="6732720" y="4869000"/>
            <a:ext cx="1636560" cy="1063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C:\Documents and Settings\User\Мои документы\Мои рисунки\Image1212.gif"/>
          <p:cNvPicPr/>
          <p:nvPr/>
        </p:nvPicPr>
        <p:blipFill>
          <a:blip r:embed="rId4"/>
          <a:stretch/>
        </p:blipFill>
        <p:spPr>
          <a:xfrm>
            <a:off x="5148360" y="4797360"/>
            <a:ext cx="1361880" cy="1271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C:\Documents and Settings\User\Мои документы\Мои рисунки\pic_3733.jpg"/>
          <p:cNvPicPr/>
          <p:nvPr/>
        </p:nvPicPr>
        <p:blipFill>
          <a:blip r:embed="rId5"/>
          <a:stretch/>
        </p:blipFill>
        <p:spPr>
          <a:xfrm>
            <a:off x="5076720" y="3068640"/>
            <a:ext cx="1138320" cy="1446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C:\Documents and Settings\User\Мои документы\Мои рисунки\6graphite75.jpg"/>
          <p:cNvPicPr/>
          <p:nvPr/>
        </p:nvPicPr>
        <p:blipFill>
          <a:blip r:embed="rId6"/>
          <a:stretch/>
        </p:blipFill>
        <p:spPr>
          <a:xfrm>
            <a:off x="6659640" y="3068640"/>
            <a:ext cx="17636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олекуляр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олекулярные кристалл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построены из отдельных молекул, внутри которых атомы соединены ковалентными связями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ежду молекулами действуют более слабые межмолекулярные силы. Они легко разрушаются, поэтому молекулярные кристаллы имеют низкие температуры плавления, малую твердость, высокую летучесть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Вещества, образующие молекулярные кристаллические решетки, не обладают электрической проводимостью, их растворы и расплавы также не проводят электрический ток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Большинство неметаллов в виде простых веществ (например, иод I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, аргон Ar, сера S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) и соединений друг с другом (например, вода, диоксид углерода, хлороводород), а также практически все твердые органические вещества образуют молекулярные кристаллы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льда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₂O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СО₂ (сухой лёд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ио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C:\Documents and Settings\User\Мои документы\Мои рисунки\ice.jpg"/>
          <p:cNvPicPr/>
          <p:nvPr/>
        </p:nvPicPr>
        <p:blipFill>
          <a:blip r:embed="rId1"/>
          <a:stretch/>
        </p:blipFill>
        <p:spPr>
          <a:xfrm>
            <a:off x="5148360" y="1557360"/>
            <a:ext cx="1095120" cy="1108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C:\Documents and Settings\User\Мои документы\Мои рисунки\kristally.jpg"/>
          <p:cNvPicPr/>
          <p:nvPr/>
        </p:nvPicPr>
        <p:blipFill>
          <a:blip r:embed="rId2"/>
          <a:stretch/>
        </p:blipFill>
        <p:spPr>
          <a:xfrm>
            <a:off x="6732720" y="1557360"/>
            <a:ext cx="1076040" cy="1150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C:\Documents and Settings\User\Мои документы\Мои рисунки\dryice2.jpg"/>
          <p:cNvPicPr/>
          <p:nvPr/>
        </p:nvPicPr>
        <p:blipFill>
          <a:blip r:embed="rId3"/>
          <a:stretch/>
        </p:blipFill>
        <p:spPr>
          <a:xfrm>
            <a:off x="5796000" y="3429000"/>
            <a:ext cx="1614600" cy="11383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C:\Documents and Settings\User\Мои документы\Мои рисунки\Iod_kristall.jpg"/>
          <p:cNvPicPr/>
          <p:nvPr/>
        </p:nvPicPr>
        <p:blipFill>
          <a:blip r:embed="rId4"/>
          <a:stretch/>
        </p:blipFill>
        <p:spPr>
          <a:xfrm>
            <a:off x="5435640" y="5084640"/>
            <a:ext cx="19508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еталлическ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арактерна для  металлов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В ней имеется металлическая связь между атомам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В металлических кристаллах ядра атомов расположены таким образом, чтобы их упаковка была как можно более плотной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Металлические кристаллы обладают высокой электрической проводимостью и теплопроводностью, металлическим блеском и непрозрачностью, легкой деформируемостью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C:\Documents and Settings\User\Мои документы\Мои рисунки\1300117502_800px-iron_electrolytic_and_1cm3_cube.jpg"/>
          <p:cNvPicPr/>
          <p:nvPr/>
        </p:nvPicPr>
        <p:blipFill>
          <a:blip r:embed="rId1"/>
          <a:stretch/>
        </p:blipFill>
        <p:spPr>
          <a:xfrm>
            <a:off x="4788000" y="1197000"/>
            <a:ext cx="1728720" cy="10731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8"/>
          <p:cNvSpPr/>
          <p:nvPr/>
        </p:nvSpPr>
        <p:spPr>
          <a:xfrm>
            <a:off x="665964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лез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C:\Documents and Settings\User\Мои документы\Мои рисунки\1300117520_800px-osmium_crystals.jpg"/>
          <p:cNvPicPr/>
          <p:nvPr/>
        </p:nvPicPr>
        <p:blipFill>
          <a:blip r:embed="rId2"/>
          <a:stretch/>
        </p:blipFill>
        <p:spPr>
          <a:xfrm>
            <a:off x="6443640" y="2060640"/>
            <a:ext cx="1762200" cy="1130400"/>
          </a:xfrm>
          <a:prstGeom prst="rect">
            <a:avLst/>
          </a:prstGeom>
          <a:ln w="0">
            <a:noFill/>
          </a:ln>
        </p:spPr>
      </p:pic>
      <p:sp>
        <p:nvSpPr>
          <p:cNvPr id="516" name="TextBox 10"/>
          <p:cNvSpPr/>
          <p:nvPr/>
        </p:nvSpPr>
        <p:spPr>
          <a:xfrm>
            <a:off x="5580000" y="2421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м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C:\Documents and Settings\User\Мои документы\Мои рисунки\1300125669_800px-gold-crystals.jpg"/>
          <p:cNvPicPr/>
          <p:nvPr/>
        </p:nvPicPr>
        <p:blipFill>
          <a:blip r:embed="rId3"/>
          <a:stretch/>
        </p:blipFill>
        <p:spPr>
          <a:xfrm>
            <a:off x="4643280" y="2997360"/>
            <a:ext cx="1893960" cy="122544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2"/>
          <p:cNvSpPr/>
          <p:nvPr/>
        </p:nvSpPr>
        <p:spPr>
          <a:xfrm>
            <a:off x="6516720" y="3573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C:\Documents and Settings\User\Мои документы\Мои рисунки\1300125797_765px-silver_crystal.jpg"/>
          <p:cNvPicPr/>
          <p:nvPr/>
        </p:nvPicPr>
        <p:blipFill>
          <a:blip r:embed="rId4"/>
          <a:stretch/>
        </p:blipFill>
        <p:spPr>
          <a:xfrm>
            <a:off x="6443640" y="4005360"/>
            <a:ext cx="1584360" cy="1243080"/>
          </a:xfrm>
          <a:prstGeom prst="rect">
            <a:avLst/>
          </a:prstGeom>
          <a:ln w="0">
            <a:noFill/>
          </a:ln>
        </p:spPr>
      </p:pic>
      <p:sp>
        <p:nvSpPr>
          <p:cNvPr id="520" name="TextBox 14"/>
          <p:cNvSpPr/>
          <p:nvPr/>
        </p:nvSpPr>
        <p:spPr>
          <a:xfrm>
            <a:off x="5364000" y="436572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еб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6" descr="C:\Documents and Settings\User\Мои документы\Мои рисунки\1300125900_800px-yttrium_sublimed_dendritic_and_1cm3_cube.jpg"/>
          <p:cNvPicPr/>
          <p:nvPr/>
        </p:nvPicPr>
        <p:blipFill>
          <a:blip r:embed="rId5"/>
          <a:stretch/>
        </p:blipFill>
        <p:spPr>
          <a:xfrm>
            <a:off x="4643280" y="5013360"/>
            <a:ext cx="1851120" cy="12589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6"/>
          <p:cNvSpPr/>
          <p:nvPr/>
        </p:nvSpPr>
        <p:spPr>
          <a:xfrm>
            <a:off x="6516720" y="551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тр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Cambria"/>
              </a:rPr>
              <a:t>Типы химической связи и их отличительные признаки</a:t>
            </a:r>
            <a:endParaRPr b="0" lang="en-US" sz="24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473040" y="1773360"/>
            <a:ext cx="81979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28" name="Нижний колонтитул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" name="Picture 2" descr="http://src.ucoz.net/sm/1/bye.gif"/>
          <p:cNvPicPr/>
          <p:nvPr/>
        </p:nvPicPr>
        <p:blipFill>
          <a:blip r:embed="rId1"/>
          <a:stretch/>
        </p:blipFill>
        <p:spPr>
          <a:xfrm>
            <a:off x="6500880" y="3857760"/>
            <a:ext cx="247680" cy="171360"/>
          </a:xfrm>
          <a:prstGeom prst="rect">
            <a:avLst/>
          </a:prstGeom>
          <a:ln w="0">
            <a:noFill/>
          </a:ln>
        </p:spPr>
      </p:pic>
      <p:pic>
        <p:nvPicPr>
          <p:cNvPr id="531" name="Прямоугольник 9" descr=""/>
          <p:cNvPicPr/>
          <p:nvPr/>
        </p:nvPicPr>
        <p:blipFill>
          <a:blip r:embed="rId2"/>
          <a:stretch/>
        </p:blipFill>
        <p:spPr>
          <a:xfrm>
            <a:off x="1974960" y="2395440"/>
            <a:ext cx="47433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Основные виды связей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Ионная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Ковалентная 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Металлическая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ежмолекулярные взаимодейств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водородная связь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ван-дер-ваальсовы силы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Правило октет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 атомы приобретают такую же электронную конфигурацию, как у благородных газов, которые (за исключением гелия) имеют на внешнем энергетическом уровне 8 электронов (октет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ило справедливо для ионной и ковалентной связ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Электроотрицательност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отрицательность (ЭО) – это способность атомов в соединениях притягивать к себе электроны. Наибольшие значения ЭО имеют р-элементы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групп, наименьшие -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элементы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группы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6" descr="C:\Documents and Settings\Администратор\Мои документы\Мои рисунки\EO.gif"/>
          <p:cNvPicPr/>
          <p:nvPr/>
        </p:nvPicPr>
        <p:blipFill>
          <a:blip r:embed="rId1"/>
          <a:stretch/>
        </p:blipFill>
        <p:spPr>
          <a:xfrm>
            <a:off x="2124000" y="2997360"/>
            <a:ext cx="4543560" cy="217152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7" descr="C:\Documents and Settings\Администратор\Мои документы\Мои рисунки\EO.jpg"/>
          <p:cNvPicPr/>
          <p:nvPr/>
        </p:nvPicPr>
        <p:blipFill>
          <a:blip r:embed="rId2"/>
          <a:stretch/>
        </p:blipFill>
        <p:spPr>
          <a:xfrm>
            <a:off x="2124000" y="5373720"/>
            <a:ext cx="48006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збуждённое состояние атом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алентност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свойство атома образовывать ковалентные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 u="sng">
                <a:solidFill>
                  <a:srgbClr val="67afbd"/>
                </a:solidFill>
                <a:uFillTx/>
                <a:latin typeface="Gill Sans MT"/>
                <a:hlinkClick r:id="rId1"/>
              </a:rPr>
              <a:t>http://www.youtube.com/watch?v=SM4BxoCoHzk&amp;feature=related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C:\Documents and Settings\User\Мои документы\Мои рисунки\energia_1.jpg"/>
          <p:cNvPicPr/>
          <p:nvPr/>
        </p:nvPicPr>
        <p:blipFill>
          <a:blip r:embed="rId2"/>
          <a:stretch/>
        </p:blipFill>
        <p:spPr>
          <a:xfrm>
            <a:off x="539640" y="1413000"/>
            <a:ext cx="4748400" cy="25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Documents and Settings\User\Мои документы\Мои рисунки\96.jpg"/>
          <p:cNvPicPr/>
          <p:nvPr/>
        </p:nvPicPr>
        <p:blipFill>
          <a:blip r:embed="rId3"/>
          <a:stretch/>
        </p:blipFill>
        <p:spPr>
          <a:xfrm>
            <a:off x="5651640" y="1413000"/>
            <a:ext cx="2958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химическая связь, возникающая в результат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лектростатического взаимодействия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ожительно и отрицательно заряженных ионов в химическом соединен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зникает между атомами с большой разницей электроотрицательностей (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талл и неметал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 Примеры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Cl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F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S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бразовании ионов образуются устойчивые октетные электронные конфигурации (как у благородных газов) – правило октет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 1ē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Cl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+ 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ē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→  Cl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Na + Cl → Na</a:t>
            </a:r>
            <a:r>
              <a:rPr b="0" lang="pl-PL" sz="1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+ Cl</a:t>
            </a:r>
            <a:r>
              <a:rPr b="0" lang="pl-PL" sz="1800" spc="-1" strike="noStrike" baseline="30000">
                <a:solidFill>
                  <a:srgbClr val="000000"/>
                </a:solidFill>
                <a:latin typeface="Gill Sans MT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→ NaC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55640" y="1216080"/>
            <a:ext cx="4318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6" descr="C:\Documents and Settings\Администратор\Мои документы\Мои рисунки\Ionic_bonding_animation.gif"/>
          <p:cNvPicPr/>
          <p:nvPr/>
        </p:nvPicPr>
        <p:blipFill>
          <a:blip r:embed="rId1"/>
          <a:stretch/>
        </p:blipFill>
        <p:spPr>
          <a:xfrm>
            <a:off x="4427640" y="1413000"/>
            <a:ext cx="3744720" cy="1871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C:\Documents and Settings\User\Мои документы\Мои рисунки\NaF.gif"/>
          <p:cNvPicPr/>
          <p:nvPr/>
        </p:nvPicPr>
        <p:blipFill>
          <a:blip r:embed="rId2"/>
          <a:stretch/>
        </p:blipFill>
        <p:spPr>
          <a:xfrm>
            <a:off x="4500720" y="3645000"/>
            <a:ext cx="3958920" cy="1660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C:\Documents and Settings\User\Мои документы\Мои рисунки\dogionic.gif"/>
          <p:cNvPicPr/>
          <p:nvPr/>
        </p:nvPicPr>
        <p:blipFill>
          <a:blip r:embed="rId3"/>
          <a:stretch/>
        </p:blipFill>
        <p:spPr>
          <a:xfrm>
            <a:off x="1187280" y="4365720"/>
            <a:ext cx="2857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онная химическая связь проявляется в твердых веществах с ионной кристаллической решетк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C:\Documents and Settings\User\Мои документы\Мои рисунки\ikr.gif"/>
          <p:cNvPicPr/>
          <p:nvPr/>
        </p:nvPicPr>
        <p:blipFill>
          <a:blip r:embed="rId1"/>
          <a:stretch/>
        </p:blipFill>
        <p:spPr>
          <a:xfrm>
            <a:off x="1258920" y="270828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C:\Documents and Settings\User\Мои документы\Мои рисунки\120.jpg"/>
          <p:cNvPicPr/>
          <p:nvPr/>
        </p:nvPicPr>
        <p:blipFill>
          <a:blip r:embed="rId2"/>
          <a:stretch/>
        </p:blipFill>
        <p:spPr>
          <a:xfrm>
            <a:off x="4643280" y="2421000"/>
            <a:ext cx="30974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8:05:40Z</dcterms:created>
  <dc:creator>user</dc:creator>
  <dc:description/>
  <dc:language>en-US</dc:language>
  <cp:lastModifiedBy>LEGION</cp:lastModifiedBy>
  <dcterms:modified xsi:type="dcterms:W3CDTF">2015-05-01T12:13:18Z</dcterms:modified>
  <cp:revision>129</cp:revision>
  <dc:subject/>
  <dc:title>Химическая связь</dc:title>
</cp:coreProperties>
</file>