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29.png" ContentType="image/png"/>
  <Override PartName="/ppt/media/image52.jpeg" ContentType="image/jpeg"/>
  <Override PartName="/ppt/media/image7.gif" ContentType="image/gif"/>
  <Override PartName="/ppt/media/image2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jpeg" ContentType="image/jpeg"/>
  <Override PartName="/ppt/media/image22.png" ContentType="image/png"/>
  <Override PartName="/ppt/media/image59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1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1.png" ContentType="image/png"/>
  <Override PartName="/ppt/media/image56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36.jpeg" ContentType="image/jpeg"/>
  <Override PartName="/ppt/media/image37.png" ContentType="image/png"/>
  <Override PartName="/ppt/media/image17.png" ContentType="image/png"/>
  <Override PartName="/ppt/media/image14.gif" ContentType="image/gif"/>
  <Override PartName="/ppt/media/image39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963E-3D67-4821-A581-2575314BC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ХИМИИ. ЛЕКЦИЯ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8615-0B06-42BC-956D-FBE1E556A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о химическая связь, образованная двумя атомами за счет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общих электронных п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A: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H: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E8BE-AB88-4561-9C50-723733383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310-3F35-4154-880A-9DB90776F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81B-1059-4ED1-81CD-D7FFF9A6E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F9E-8D5F-45BC-8FBD-265E14A12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F65E-3865-406C-A9D2-D65594D49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1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1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16AD-FD0D-4165-99C3-463D77BFD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F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нергия связи 4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O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2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1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F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7E2E-9458-4945-AD3F-18B7491C5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567-1CFE-4421-A1B1-CBC4D7DE7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E347-F17D-4106-B354-F18972AA8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5FA0-3585-4F58-943B-DB5F36AA8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общая энергия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9CD1-1C1D-43E1-9CDB-C515D6902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844C-3ABA-46C0-B444-BA7EC0A84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501-65D7-428F-B152-F87A96400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ические решё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сущее находящемус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стоянии веществу правильное пространственное расположение 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характеризующееся периодической повторяемостью в трёх измер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301E-F548-4E93-A2B0-A6688A137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бычно ионные кристаллы твердые, но хру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онные кристаллы отличаются высокими температурами пл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расплавленном состоянии вещества, образующие ионные кристаллы, электропровод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створяются в полярных растворителях (вод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D856-F80E-4F41-8463-053BF31C9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ACE4-07EC-4530-BEEB-A8EFF8191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екулярная кристаллическая решёт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₂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F92-51E0-419D-B163-2BFEB1D15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117D-F2A9-4D68-AD4C-F13F652C7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химической связи и их отличитель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E764-DF7E-4B4D-A063-699A11941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-дер-ваальсовы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F0D5-1181-4C78-9AAF-D7A8DAD78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ок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20E4-2345-44FA-A406-435C24863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3016-A250-4A1C-A69C-04703562A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ённое состоя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SM4BxoCoHzk&amp;feature=relat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BB0-30B2-42C1-A9F9-6E63E5E62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7D23-2C91-4102-A4D1-C4E6FE3A5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→  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 + Cl → Na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→ NaCl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0933-D844-40CB-8FF0-76C94FAE4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8D7-3577-4535-83D1-13EB0ADA3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A00-5270-4149-A0DB-A7552318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358-1B84-405D-AF67-9F101D5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3B5-DA84-45F3-8476-6ED919C0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930-AB5F-4535-B5EB-E94FAD62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CBFA-6568-4663-85BC-6294E51A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301E-8185-4E6D-9C13-5773B441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89F5-1A0D-4F8C-8772-484822C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7DE8-504E-47C0-A66E-00D31394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003E-0FA5-4A51-A733-1C3CAA8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438-7EBC-4398-A545-1DD8EDBE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D89E-07DC-4297-8722-663ACAB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5BD-46BF-4585-914D-FA957B3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991B-E109-4AC1-BBAA-B2E2AE80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16C6-32FB-44C4-AC7C-DC7603B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0A38-B5D1-42AE-A704-6BA4BC0B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50B2-27F4-4ABD-BA38-EB9D1F89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5088-F064-47FA-93D9-2A93801D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6828-0E07-4C06-9A5F-25095B9A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6330-1302-4F07-88C1-7AE79054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A00C-EE36-466A-B46C-A4E75686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75B4-DC58-4D72-8917-5B38151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657D-FB51-4C98-9A4E-62A3B971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11B-0F6E-42F9-9AD1-B01D2775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A202-9978-4589-BC3D-9A3E51E7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A40AD-A6E7-4F50-8E5C-8A43B0D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63B5-2C38-42D4-91A6-E0FB93A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1DFC-AD0B-496B-8960-34BBDE3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085C-11A6-4FCF-A81D-DF8A9F02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B22D-F3F2-4D8B-B975-278B5B94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C482-61C6-46A4-B391-0CC532E9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F7DC-0B9C-42A1-BB43-B449C459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4FCA-9C0E-4469-930F-52BA1249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DB0C-06EF-490F-8DAF-3716DD34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FEC-0FF7-4EE9-A848-E3152E8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1A5CB-8F90-4422-A28D-B692EC1B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BF98-2B27-40B2-988B-735B703E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6A95-C195-44DC-B7EF-642DB98C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2375-48E2-4E53-ACDC-E2A9D14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12C6-D609-4155-87F0-9723BAD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7145-153B-4BE5-ABCE-759B141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99E3-95F4-464B-9DB3-7F87CEB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F899-DE30-4C16-A5D9-EC8054CB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E8F1-8493-4F80-BF3E-5EC53DFB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AF4B-2FD7-432D-A15B-A45F55CA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781-3498-4036-B728-280BAF1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C542-F963-4281-ABDC-BD3C7D29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F5050-4AE1-43D7-A8BD-D5824DAD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DFEA-A7EA-4AD7-A88E-03941AE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9A8B-7CEA-4EB0-9F93-103E4E4A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7107-637A-4DD0-8CF5-8CE8051B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D297-8205-4FB7-9BEF-31D5504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6CD0-052A-4E3E-89BA-A9462F7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3EA0-A5C2-454F-84DF-3D6D9EF5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85AE6-8032-48C4-9F29-70B8C080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5689-D69C-4EDD-B135-0A21C470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785-CF59-4EB9-888B-028BBC24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1B85-46BA-41C5-A1F7-78D8CEBA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B42E5-F3D8-4D88-8EF9-D8FC11EF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C073-B9D1-44DB-B05F-76957B00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160D9-78B3-4AD5-B40D-349F7947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CAF1-6159-4DBC-BA3B-4461399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8AF6-C777-465B-8DDE-1E3233F1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2FD0-9927-47CD-8F52-B4BC9F3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59ADB-D04A-4295-B51B-5E832D3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62F15-33A6-4320-A13D-AC6EF419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EFBE-B033-4D44-AB68-0E9E6FC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1C6-CCDF-4B48-80CE-6D764D3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7DD4-2DEC-44B4-BCF5-0225D396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445A-781E-46C3-8253-4A655238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62A6-F732-47AF-9044-9E194275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4518-060C-4804-95AA-3E9D99B9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A88D5-FAA1-4505-810E-CB5AD1B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BD80-ACB8-4099-A2C0-29747A32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B736-E7B0-441B-A5F2-5C26DBFD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E7448-DFAD-4EAA-9568-4677DB9B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492A7-2CEF-41E6-98D6-416B836F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2E47D-DD7C-480E-A762-6355425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77E-16A2-446E-A291-EBDAEF1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14577-7878-4D54-943D-85115AAA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CA634-8EA3-4CCB-A904-381D672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AC73-FB86-419A-976A-3302459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DCBF6-16FF-4ECC-A72A-24270AED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D497-2B71-4419-8DFF-22A8F1AB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D13F-59DE-45E5-BD26-407AA2ED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6E131-50F4-4DA6-B780-8B41E4A6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068F2-3809-4FFB-B773-847C4D3E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3515-1087-4B55-B68A-D7B83911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F259-CAF3-4A5A-8818-5CFED1A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B2D-C398-4E07-805B-19F2CC8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25003-0ACB-4D95-8A95-CF21A893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81B0-FA44-4B67-AF62-CA9D180C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87512-B0E0-44F9-93E8-8CC56AEC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AD572-26E3-4367-9460-264035A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E3071-37DF-4BA8-9844-EFF27073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22D1-B3D2-4679-9CBB-284C956F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66C52-9147-464D-A83B-770999F8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50B5-4382-46F5-93D6-48E2F49236CB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10D-66C2-4D9C-99DF-E4BED4D2486A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F440-C583-444F-A2D6-FA7975EFE03C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F0E9-A0C4-464D-B72D-6E299577119D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D79B-A1BB-4D48-B5C6-84E9BF673EF6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7F6-B757-46E8-8A9D-BB7EA926F20B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B4FF-163B-42CE-B449-42DC7E3DA47F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ED3-338D-42AD-9D04-995DE3247293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4EB-DAC6-45D8-BA59-757099C7DC2F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6D28-754A-4290-87C2-D66AA83C73A3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8B8-1257-4F42-B0A9-FCFA669E1F45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8024-9E7B-4389-A85F-A40753EE6007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0E5E-DC04-400B-90DE-145F12ABE8D9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FDF-410E-4051-A23A-2E304102FD27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E5D-9BE0-4F5A-9E9A-88454483F744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30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93E1-46C9-4CF7-A28A-E9D8425CA0C8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Cambria"/>
              </a:rPr>
              <a:t>ОСНОВЫ ХИМИИ. ЛЕКЦИЯ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http://src.ucoz.net/sm/1/prof.gif"/>
          <p:cNvPicPr/>
          <p:nvPr/>
        </p:nvPicPr>
        <p:blipFill>
          <a:blip r:embed="rId1"/>
          <a:stretch/>
        </p:blipFill>
        <p:spPr>
          <a:xfrm>
            <a:off x="3714840" y="5214960"/>
            <a:ext cx="276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ill Sans MT"/>
              </a:rPr>
              <a:t>Это химическая связь, образованная двумя атомами за счет </a:t>
            </a:r>
            <a:r>
              <a:rPr b="1" i="1" lang="et-EE" sz="2000" spc="-1" strike="noStrike">
                <a:solidFill>
                  <a:srgbClr val="000000"/>
                </a:solidFill>
                <a:latin typeface="Gill Sans MT"/>
              </a:rPr>
              <a:t>общих электронных пар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B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A: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H: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6" descr="C:\Documents and Settings\Администратор\Мои документы\Мои рисунки\91197-1.jpg"/>
          <p:cNvPicPr/>
          <p:nvPr/>
        </p:nvPicPr>
        <p:blipFill>
          <a:blip r:embed="rId1"/>
          <a:stretch/>
        </p:blipFill>
        <p:spPr>
          <a:xfrm>
            <a:off x="1476360" y="3357720"/>
            <a:ext cx="251316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7" descr="C:\Documents and Settings\Администратор\Мои документы\Мои рисунки\Legame_chimico_covalente_puro.png"/>
          <p:cNvPicPr/>
          <p:nvPr/>
        </p:nvPicPr>
        <p:blipFill>
          <a:blip r:embed="rId2"/>
          <a:stretch/>
        </p:blipFill>
        <p:spPr>
          <a:xfrm>
            <a:off x="900000" y="5013360"/>
            <a:ext cx="4105440" cy="60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01" name="Picture 2" descr="C:\Documents and Settings\User\Мои документы\Мои рисунки\66.jpg"/>
          <p:cNvPicPr/>
          <p:nvPr/>
        </p:nvPicPr>
        <p:blipFill>
          <a:blip r:embed="rId3"/>
          <a:stretch/>
        </p:blipFill>
        <p:spPr>
          <a:xfrm>
            <a:off x="5724360" y="3860640"/>
            <a:ext cx="270036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Мои документы\Мои рисунки\covalent_bond_animation.gif"/>
          <p:cNvPicPr/>
          <p:nvPr/>
        </p:nvPicPr>
        <p:blipFill>
          <a:blip r:embed="rId4"/>
          <a:stretch/>
        </p:blipFill>
        <p:spPr>
          <a:xfrm>
            <a:off x="5796000" y="1989000"/>
            <a:ext cx="2685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хема 6" descr=""/>
          <p:cNvPicPr/>
          <p:nvPr/>
        </p:nvPicPr>
        <p:blipFill>
          <a:blip r:embed="rId1"/>
          <a:stretch/>
        </p:blipFill>
        <p:spPr>
          <a:xfrm>
            <a:off x="2676600" y="171936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6" descr="C:\Documents and Settings\Администратор\Мои документы\Мои рисунки\91197-8.jpg"/>
          <p:cNvPicPr/>
          <p:nvPr/>
        </p:nvPicPr>
        <p:blipFill>
          <a:blip r:embed="rId1"/>
          <a:stretch/>
        </p:blipFill>
        <p:spPr>
          <a:xfrm>
            <a:off x="5292720" y="5084640"/>
            <a:ext cx="1360440" cy="70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1" name="Рисунок 7" descr="C:\Documents and Settings\Администратор\Мои документы\Мои рисунки\660px-Watermolecule.png"/>
          <p:cNvPicPr/>
          <p:nvPr/>
        </p:nvPicPr>
        <p:blipFill>
          <a:blip r:embed="rId2"/>
          <a:stretch/>
        </p:blipFill>
        <p:spPr>
          <a:xfrm>
            <a:off x="7093080" y="5013360"/>
            <a:ext cx="114912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3" descr="C:\Documents and Settings\User\Мои документы\Мои рисунки\polar-covalent-bond.gif"/>
          <p:cNvPicPr/>
          <p:nvPr/>
        </p:nvPicPr>
        <p:blipFill>
          <a:blip r:embed="rId3"/>
          <a:stretch/>
        </p:blipFill>
        <p:spPr>
          <a:xfrm>
            <a:off x="5076720" y="2276640"/>
            <a:ext cx="2727360" cy="239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User\Мои документы\Мои рисунки\96904-004-c880b85d.gif"/>
          <p:cNvPicPr/>
          <p:nvPr/>
        </p:nvPicPr>
        <p:blipFill>
          <a:blip r:embed="rId4"/>
          <a:stretch/>
        </p:blipFill>
        <p:spPr>
          <a:xfrm>
            <a:off x="1187280" y="4437000"/>
            <a:ext cx="2727360" cy="1712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Documents and Settings\User\Мои документы\Мои рисунки\AScovale.jpg"/>
          <p:cNvPicPr/>
          <p:nvPr/>
        </p:nvPicPr>
        <p:blipFill>
          <a:blip r:embed="rId5"/>
          <a:stretch/>
        </p:blipFill>
        <p:spPr>
          <a:xfrm>
            <a:off x="1476360" y="2421000"/>
            <a:ext cx="2021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:\Documents and Settings\User\Мои документы\Мои рисунки\mkr.gif"/>
          <p:cNvPicPr/>
          <p:nvPr/>
        </p:nvPicPr>
        <p:blipFill>
          <a:blip r:embed="rId1"/>
          <a:stretch/>
        </p:blipFill>
        <p:spPr>
          <a:xfrm>
            <a:off x="4067280" y="2276640"/>
            <a:ext cx="3781440" cy="252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Мои документы\Мои рисунки\akr.gif"/>
          <p:cNvPicPr/>
          <p:nvPr/>
        </p:nvPicPr>
        <p:blipFill>
          <a:blip r:embed="rId2"/>
          <a:stretch/>
        </p:blipFill>
        <p:spPr>
          <a:xfrm>
            <a:off x="755640" y="2565360"/>
            <a:ext cx="3564000" cy="2376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>
            <a:off x="1332000" y="5013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ная кристаллическая решётка (например, С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148360" y="5013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екулярная кристаллическая решётка (например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O, F₂, H₂, HC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218960"/>
            <a:ext cx="4041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8" descr="200px-Metallic_bond_Zn_svg"/>
          <p:cNvPicPr/>
          <p:nvPr/>
        </p:nvPicPr>
        <p:blipFill>
          <a:blip r:embed="rId1"/>
          <a:stretch/>
        </p:blipFill>
        <p:spPr>
          <a:xfrm>
            <a:off x="5219640" y="486900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cuments and Settings\User\Мои документы\Мои рисунки\electrAn.gif"/>
          <p:cNvPicPr/>
          <p:nvPr/>
        </p:nvPicPr>
        <p:blipFill>
          <a:blip r:embed="rId2"/>
          <a:stretch/>
        </p:blipFill>
        <p:spPr>
          <a:xfrm>
            <a:off x="4788000" y="1268280"/>
            <a:ext cx="3136680" cy="205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Documents and Settings\User\Мои документы\Мои рисунки\21.jpg"/>
          <p:cNvPicPr/>
          <p:nvPr/>
        </p:nvPicPr>
        <p:blipFill>
          <a:blip r:embed="rId3"/>
          <a:stretch/>
        </p:blipFill>
        <p:spPr>
          <a:xfrm>
            <a:off x="6012000" y="3357720"/>
            <a:ext cx="26812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11280" y="1216080"/>
            <a:ext cx="3816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7" descr="C:\Documents and Settings\Администратор\Мои документы\Мои рисунки\3D_model_hydrogen_bonds_in_water.jpg"/>
          <p:cNvPicPr/>
          <p:nvPr/>
        </p:nvPicPr>
        <p:blipFill>
          <a:blip r:embed="rId1"/>
          <a:stretch/>
        </p:blipFill>
        <p:spPr>
          <a:xfrm>
            <a:off x="4932360" y="155736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User\Мои документы\Мои рисунки\hm645.gif"/>
          <p:cNvPicPr/>
          <p:nvPr/>
        </p:nvPicPr>
        <p:blipFill>
          <a:blip r:embed="rId2"/>
          <a:stretch/>
        </p:blipFill>
        <p:spPr>
          <a:xfrm>
            <a:off x="8028000" y="1197000"/>
            <a:ext cx="903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F  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энергия связи 4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O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2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N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1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HF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Характеристики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Длина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00024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3019320" cy="362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/>
          <a:stretch/>
        </p:blipFill>
        <p:spPr>
          <a:xfrm>
            <a:off x="2643120" y="4143240"/>
            <a:ext cx="3038400" cy="362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нергия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267000" cy="3427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2500200" y="4357800"/>
            <a:ext cx="3324240" cy="342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ведение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снижается общая энергия систем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Направлен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U:\My Pictures\1_30.gif"/>
          <p:cNvPicPr/>
          <p:nvPr/>
        </p:nvPicPr>
        <p:blipFill>
          <a:blip r:embed="rId1"/>
          <a:stretch/>
        </p:blipFill>
        <p:spPr>
          <a:xfrm>
            <a:off x="6072120" y="2214720"/>
            <a:ext cx="1695600" cy="1390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U:\My Pictures\1_31.gif"/>
          <p:cNvPicPr/>
          <p:nvPr/>
        </p:nvPicPr>
        <p:blipFill>
          <a:blip r:embed="rId2"/>
          <a:stretch/>
        </p:blipFill>
        <p:spPr>
          <a:xfrm>
            <a:off x="4929120" y="3286080"/>
            <a:ext cx="35197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U:\My Pictures\r23.jpg"/>
          <p:cNvPicPr/>
          <p:nvPr/>
        </p:nvPicPr>
        <p:blipFill>
          <a:blip r:embed="rId3"/>
          <a:stretch/>
        </p:blipFill>
        <p:spPr>
          <a:xfrm>
            <a:off x="5929200" y="4714920"/>
            <a:ext cx="1428840" cy="123192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pda.coolreferat.com/ref-1_724982365-11615.coolpic"/>
          <p:cNvPicPr/>
          <p:nvPr/>
        </p:nvPicPr>
        <p:blipFill>
          <a:blip r:embed="rId4"/>
          <a:stretch/>
        </p:blipFill>
        <p:spPr>
          <a:xfrm>
            <a:off x="4786200" y="1285920"/>
            <a:ext cx="391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оляр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ристаллические решётк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сущее находящемуся 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стоянии веществу правильное пространственное расположе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характеризующееся периодической повторяемостью в трёх измерен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Documents and Settings\User\Мои документы\Мои рисунки\09-04.gif"/>
          <p:cNvPicPr/>
          <p:nvPr/>
        </p:nvPicPr>
        <p:blipFill>
          <a:blip r:embed="rId1"/>
          <a:stretch/>
        </p:blipFill>
        <p:spPr>
          <a:xfrm>
            <a:off x="4427640" y="263700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User\Мои документы\Мои рисунки\09-03.gif"/>
          <p:cNvPicPr/>
          <p:nvPr/>
        </p:nvPicPr>
        <p:blipFill>
          <a:blip r:embed="rId2"/>
          <a:stretch/>
        </p:blipFill>
        <p:spPr>
          <a:xfrm>
            <a:off x="900000" y="2997360"/>
            <a:ext cx="33339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бычно ионные кристаллы твердые, но хрупк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Ионные кристаллы отличаются высокими температурами плавлени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В расплавленном состоянии вещества, образующие ионные кристаллы, электропроводны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Растворяются в полярных растворителях (вод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Содержимое 7" descr="49_1519893528"/>
          <p:cNvPicPr/>
          <p:nvPr/>
        </p:nvPicPr>
        <p:blipFill>
          <a:blip r:embed="rId1"/>
          <a:stretch/>
        </p:blipFill>
        <p:spPr>
          <a:xfrm>
            <a:off x="5076720" y="1197000"/>
            <a:ext cx="1914480" cy="1344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User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7236000" y="1197000"/>
            <a:ext cx="1096920" cy="1379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C:\Documents and Settings\User\Мои документы\Мои рисунки\39312f71ae9c.jpg"/>
          <p:cNvPicPr/>
          <p:nvPr/>
        </p:nvPicPr>
        <p:blipFill>
          <a:blip r:embed="rId3"/>
          <a:stretch/>
        </p:blipFill>
        <p:spPr>
          <a:xfrm>
            <a:off x="5076720" y="2708280"/>
            <a:ext cx="136044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:\Documents and Settings\User\Мои документы\Мои рисунки\krstreshtka.jpg"/>
          <p:cNvPicPr/>
          <p:nvPr/>
        </p:nvPicPr>
        <p:blipFill>
          <a:blip r:embed="rId4"/>
          <a:stretch/>
        </p:blipFill>
        <p:spPr>
          <a:xfrm>
            <a:off x="4859280" y="4365720"/>
            <a:ext cx="1471680" cy="1757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C:\Documents and Settings\User\Мои документы\Мои рисунки\picture.jpg"/>
          <p:cNvPicPr/>
          <p:nvPr/>
        </p:nvPicPr>
        <p:blipFill>
          <a:blip r:embed="rId5"/>
          <a:stretch/>
        </p:blipFill>
        <p:spPr>
          <a:xfrm>
            <a:off x="6732720" y="4437000"/>
            <a:ext cx="1677960" cy="125892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3"/>
          <p:cNvSpPr/>
          <p:nvPr/>
        </p:nvSpPr>
        <p:spPr>
          <a:xfrm>
            <a:off x="7020000" y="2637000"/>
            <a:ext cx="172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исталлы поваренной с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6443640" y="3429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сталлы медного купо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32720" y="5732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гантские кристаллы ги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Атом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7" descr="50_569774788"/>
          <p:cNvPicPr/>
          <p:nvPr/>
        </p:nvPicPr>
        <p:blipFill>
          <a:blip r:embed="rId1"/>
          <a:stretch/>
        </p:blipFill>
        <p:spPr>
          <a:xfrm>
            <a:off x="4788000" y="126828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8" descr="grafit0"/>
          <p:cNvPicPr/>
          <p:nvPr/>
        </p:nvPicPr>
        <p:blipFill>
          <a:blip r:embed="rId2"/>
          <a:stretch/>
        </p:blipFill>
        <p:spPr>
          <a:xfrm>
            <a:off x="6659640" y="148428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C:\Documents and Settings\User\Мои документы\Мои рисунки\33d257ddfaff.jpg"/>
          <p:cNvPicPr/>
          <p:nvPr/>
        </p:nvPicPr>
        <p:blipFill>
          <a:blip r:embed="rId3"/>
          <a:stretch/>
        </p:blipFill>
        <p:spPr>
          <a:xfrm>
            <a:off x="6732720" y="4869000"/>
            <a:ext cx="1636560" cy="106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Documents and Settings\User\Мои документы\Мои рисунки\Image1212.gif"/>
          <p:cNvPicPr/>
          <p:nvPr/>
        </p:nvPicPr>
        <p:blipFill>
          <a:blip r:embed="rId4"/>
          <a:stretch/>
        </p:blipFill>
        <p:spPr>
          <a:xfrm>
            <a:off x="5148360" y="4797360"/>
            <a:ext cx="1361880" cy="1271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Мои документы\Мои рисунки\pic_3733.jpg"/>
          <p:cNvPicPr/>
          <p:nvPr/>
        </p:nvPicPr>
        <p:blipFill>
          <a:blip r:embed="rId5"/>
          <a:stretch/>
        </p:blipFill>
        <p:spPr>
          <a:xfrm>
            <a:off x="5076720" y="3068640"/>
            <a:ext cx="1138320" cy="1446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Мои документы\Мои рисунки\6graphite75.jpg"/>
          <p:cNvPicPr/>
          <p:nvPr/>
        </p:nvPicPr>
        <p:blipFill>
          <a:blip r:embed="rId6"/>
          <a:stretch/>
        </p:blipFill>
        <p:spPr>
          <a:xfrm>
            <a:off x="6659640" y="3068640"/>
            <a:ext cx="17636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олекуляр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₂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User\Мои документы\Мои рисунки\ice.jpg"/>
          <p:cNvPicPr/>
          <p:nvPr/>
        </p:nvPicPr>
        <p:blipFill>
          <a:blip r:embed="rId1"/>
          <a:stretch/>
        </p:blipFill>
        <p:spPr>
          <a:xfrm>
            <a:off x="5148360" y="1557360"/>
            <a:ext cx="1095120" cy="1108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Documents and Settings\User\Мои документы\Мои рисунки\kristally.jpg"/>
          <p:cNvPicPr/>
          <p:nvPr/>
        </p:nvPicPr>
        <p:blipFill>
          <a:blip r:embed="rId2"/>
          <a:stretch/>
        </p:blipFill>
        <p:spPr>
          <a:xfrm>
            <a:off x="6732720" y="1557360"/>
            <a:ext cx="1076040" cy="1150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Documents and Settings\User\Мои документы\Мои рисунки\dryice2.jpg"/>
          <p:cNvPicPr/>
          <p:nvPr/>
        </p:nvPicPr>
        <p:blipFill>
          <a:blip r:embed="rId3"/>
          <a:stretch/>
        </p:blipFill>
        <p:spPr>
          <a:xfrm>
            <a:off x="5796000" y="3429000"/>
            <a:ext cx="1614600" cy="1138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C:\Documents and Settings\User\Мои документы\Мои рисунки\Iod_kristall.jpg"/>
          <p:cNvPicPr/>
          <p:nvPr/>
        </p:nvPicPr>
        <p:blipFill>
          <a:blip r:embed="rId4"/>
          <a:stretch/>
        </p:blipFill>
        <p:spPr>
          <a:xfrm>
            <a:off x="5435640" y="5084640"/>
            <a:ext cx="19508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C:\Documents and Settings\User\Мои документы\Мои рисунки\1300117502_800px-iron_electrolytic_and_1cm3_cube.jpg"/>
          <p:cNvPicPr/>
          <p:nvPr/>
        </p:nvPicPr>
        <p:blipFill>
          <a:blip r:embed="rId1"/>
          <a:stretch/>
        </p:blipFill>
        <p:spPr>
          <a:xfrm>
            <a:off x="4788000" y="1197000"/>
            <a:ext cx="1728720" cy="107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665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:\Documents and Settings\User\Мои документы\Мои рисунки\1300117520_800px-osmium_crystals.jpg"/>
          <p:cNvPicPr/>
          <p:nvPr/>
        </p:nvPicPr>
        <p:blipFill>
          <a:blip r:embed="rId2"/>
          <a:stretch/>
        </p:blipFill>
        <p:spPr>
          <a:xfrm>
            <a:off x="6443640" y="2060640"/>
            <a:ext cx="1762200" cy="11304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0"/>
          <p:cNvSpPr/>
          <p:nvPr/>
        </p:nvSpPr>
        <p:spPr>
          <a:xfrm>
            <a:off x="558000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1300125669_800px-gold-crystals.jpg"/>
          <p:cNvPicPr/>
          <p:nvPr/>
        </p:nvPicPr>
        <p:blipFill>
          <a:blip r:embed="rId3"/>
          <a:stretch/>
        </p:blipFill>
        <p:spPr>
          <a:xfrm>
            <a:off x="4643280" y="2997360"/>
            <a:ext cx="1893960" cy="12254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516720" y="35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C:\Documents and Settings\User\Мои документы\Мои рисунки\1300125797_765px-silver_crystal.jpg"/>
          <p:cNvPicPr/>
          <p:nvPr/>
        </p:nvPicPr>
        <p:blipFill>
          <a:blip r:embed="rId4"/>
          <a:stretch/>
        </p:blipFill>
        <p:spPr>
          <a:xfrm>
            <a:off x="6443640" y="4005360"/>
            <a:ext cx="1584360" cy="1243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4"/>
          <p:cNvSpPr/>
          <p:nvPr/>
        </p:nvSpPr>
        <p:spPr>
          <a:xfrm>
            <a:off x="5364000" y="4365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C:\Documents and Settings\User\Мои документы\Мои рисунки\1300125900_800px-yttrium_sublimed_dendritic_and_1cm3_cube.jpg"/>
          <p:cNvPicPr/>
          <p:nvPr/>
        </p:nvPicPr>
        <p:blipFill>
          <a:blip r:embed="rId5"/>
          <a:stretch/>
        </p:blipFill>
        <p:spPr>
          <a:xfrm>
            <a:off x="4643280" y="5013360"/>
            <a:ext cx="185112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6"/>
          <p:cNvSpPr/>
          <p:nvPr/>
        </p:nvSpPr>
        <p:spPr>
          <a:xfrm>
            <a:off x="6516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т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mbria"/>
              </a:rPr>
              <a:t>Типы химической связи и их отличительные признаки</a:t>
            </a:r>
            <a:endParaRPr b="0" lang="en-US" sz="24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473040" y="1773360"/>
            <a:ext cx="8197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2" descr="http://src.ucoz.net/sm/1/bye.gif"/>
          <p:cNvPicPr/>
          <p:nvPr/>
        </p:nvPicPr>
        <p:blipFill>
          <a:blip r:embed="rId1"/>
          <a:stretch/>
        </p:blipFill>
        <p:spPr>
          <a:xfrm>
            <a:off x="6500880" y="385776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9" descr=""/>
          <p:cNvPicPr/>
          <p:nvPr/>
        </p:nvPicPr>
        <p:blipFill>
          <a:blip r:embed="rId2"/>
          <a:stretch/>
        </p:blipFill>
        <p:spPr>
          <a:xfrm>
            <a:off x="1974960" y="2395440"/>
            <a:ext cx="4743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Основные виды связей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Ионн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Ковалентная 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Металлическ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одородная связь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ан-дер-ваальсовы сил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равило октет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лектроотрицательност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" descr="C:\Documents and Settings\Администратор\Мои документы\Мои рисунки\EO.gif"/>
          <p:cNvPicPr/>
          <p:nvPr/>
        </p:nvPicPr>
        <p:blipFill>
          <a:blip r:embed="rId1"/>
          <a:stretch/>
        </p:blipFill>
        <p:spPr>
          <a:xfrm>
            <a:off x="2124000" y="2997360"/>
            <a:ext cx="4543560" cy="21715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:\Documents and Settings\Администратор\Мои документы\Мои рисунки\EO.jpg"/>
          <p:cNvPicPr/>
          <p:nvPr/>
        </p:nvPicPr>
        <p:blipFill>
          <a:blip r:embed="rId2"/>
          <a:stretch/>
        </p:blipFill>
        <p:spPr>
          <a:xfrm>
            <a:off x="2124000" y="5373720"/>
            <a:ext cx="4800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збуждённое состояние атом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7afbd"/>
                </a:solidFill>
                <a:uFillTx/>
                <a:latin typeface="Gill Sans MT"/>
                <a:hlinkClick r:id="rId1"/>
              </a:rPr>
              <a:t>http://www.youtube.com/watch?v=SM4BxoCoHzk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User\Мои документы\Мои рисунки\energia_1.jpg"/>
          <p:cNvPicPr/>
          <p:nvPr/>
        </p:nvPicPr>
        <p:blipFill>
          <a:blip r:embed="rId2"/>
          <a:stretch/>
        </p:blipFill>
        <p:spPr>
          <a:xfrm>
            <a:off x="539640" y="1413000"/>
            <a:ext cx="4748400" cy="25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\Мои документы\Мои рисунки\96.jpg"/>
          <p:cNvPicPr/>
          <p:nvPr/>
        </p:nvPicPr>
        <p:blipFill>
          <a:blip r:embed="rId3"/>
          <a:stretch/>
        </p:blipFill>
        <p:spPr>
          <a:xfrm>
            <a:off x="5651640" y="1413000"/>
            <a:ext cx="295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+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→  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Na + Cl → Na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+ Cl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→ NaC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5640" y="1216080"/>
            <a:ext cx="431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6" descr="C:\Documents and Settings\Администратор\Мои документы\Мои рисунки\Ionic_bonding_animation.gif"/>
          <p:cNvPicPr/>
          <p:nvPr/>
        </p:nvPicPr>
        <p:blipFill>
          <a:blip r:embed="rId1"/>
          <a:stretch/>
        </p:blipFill>
        <p:spPr>
          <a:xfrm>
            <a:off x="4427640" y="1413000"/>
            <a:ext cx="3744720" cy="187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User\Мои документы\Мои рисунки\NaF.gif"/>
          <p:cNvPicPr/>
          <p:nvPr/>
        </p:nvPicPr>
        <p:blipFill>
          <a:blip r:embed="rId2"/>
          <a:stretch/>
        </p:blipFill>
        <p:spPr>
          <a:xfrm>
            <a:off x="4500720" y="3645000"/>
            <a:ext cx="3958920" cy="16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C:\Documents and Settings\User\Мои документы\Мои рисунки\dogionic.gif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User\Мои документы\Мои рисунки\ikr.gif"/>
          <p:cNvPicPr/>
          <p:nvPr/>
        </p:nvPicPr>
        <p:blipFill>
          <a:blip r:embed="rId1"/>
          <a:stretch/>
        </p:blipFill>
        <p:spPr>
          <a:xfrm>
            <a:off x="1258920" y="2708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User\Мои документы\Мои рисунки\120.jpg"/>
          <p:cNvPicPr/>
          <p:nvPr/>
        </p:nvPicPr>
        <p:blipFill>
          <a:blip r:embed="rId2"/>
          <a:stretch/>
        </p:blipFill>
        <p:spPr>
          <a:xfrm>
            <a:off x="4643280" y="2421000"/>
            <a:ext cx="309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5:40Z</dcterms:created>
  <dc:creator>user</dc:creator>
  <dc:description/>
  <dc:language>en-US</dc:language>
  <cp:lastModifiedBy>LEGION</cp:lastModifiedBy>
  <dcterms:modified xsi:type="dcterms:W3CDTF">2015-05-01T12:13:18Z</dcterms:modified>
  <cp:revision>129</cp:revision>
  <dc:subject/>
  <dc:title>Химическая связь</dc:title>
</cp:coreProperties>
</file>