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8.jpeg" ContentType="image/jpeg"/>
  <Override PartName="/ppt/media/image11.png" ContentType="image/png"/>
  <Override PartName="/ppt/media/image9.png" ContentType="image/png"/>
  <Override PartName="/ppt/media/image6.gif" ContentType="image/gif"/>
  <Override PartName="/ppt/media/image29.png" ContentType="image/png"/>
  <Override PartName="/ppt/media/image52.jpeg" ContentType="image/jpeg"/>
  <Override PartName="/ppt/media/image7.gif" ContentType="image/gif"/>
  <Override PartName="/ppt/media/image26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4.jpeg" ContentType="image/jpeg"/>
  <Override PartName="/ppt/media/image22.png" ContentType="image/png"/>
  <Override PartName="/ppt/media/image59.png" ContentType="image/png"/>
  <Override PartName="/ppt/media/image5.jpeg" ContentType="image/jpeg"/>
  <Override PartName="/ppt/media/image61.png" ContentType="image/png"/>
  <Override PartName="/ppt/media/image19.png" ContentType="image/png"/>
  <Override PartName="/ppt/media/image20.jpeg" ContentType="image/jpeg"/>
  <Override PartName="/ppt/media/image21.png" ContentType="image/png"/>
  <Override PartName="/ppt/media/image10.jpeg" ContentType="image/jpeg"/>
  <Override PartName="/ppt/media/image30.png" ContentType="image/png"/>
  <Override PartName="/ppt/media/image3.jpeg" ContentType="image/jpeg"/>
  <Override PartName="/ppt/media/image12.png" ContentType="image/png"/>
  <Override PartName="/ppt/media/image8.gif" ContentType="image/gif"/>
  <Override PartName="/ppt/media/image49.jpeg" ContentType="image/jpeg"/>
  <Override PartName="/ppt/media/image16.png" ContentType="image/png"/>
  <Override PartName="/ppt/media/image1.gif" ContentType="image/gif"/>
  <Override PartName="/ppt/media/image24.gif" ContentType="image/gif"/>
  <Override PartName="/ppt/media/image27.png" ContentType="image/png"/>
  <Override PartName="/ppt/media/image15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31.png" ContentType="image/png"/>
  <Override PartName="/ppt/media/image56.jpeg" ContentType="image/jpeg"/>
  <Override PartName="/ppt/media/image34.png" ContentType="image/png"/>
  <Override PartName="/ppt/media/image35.jpeg" ContentType="image/jpeg"/>
  <Override PartName="/ppt/media/image47.png" ContentType="image/png"/>
  <Override PartName="/ppt/media/image36.jpeg" ContentType="image/jpeg"/>
  <Override PartName="/ppt/media/image37.png" ContentType="image/png"/>
  <Override PartName="/ppt/media/image17.png" ContentType="image/png"/>
  <Override PartName="/ppt/media/image14.gif" ContentType="image/gif"/>
  <Override PartName="/ppt/media/image39.jpeg" ContentType="image/jpeg"/>
  <Override PartName="/ppt/media/image41.jpeg" ContentType="image/jpeg"/>
  <Override PartName="/ppt/media/image18.png" ContentType="image/png"/>
  <Override PartName="/ppt/media/image42.jpeg" ContentType="image/jpeg"/>
  <Override PartName="/ppt/media/image28.png" ContentType="image/png"/>
  <Override PartName="/ppt/media/image43.jpeg" ContentType="image/jpeg"/>
  <Override PartName="/ppt/media/image38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48.jpeg" ContentType="image/jpeg"/>
  <Override PartName="/ppt/media/image50.jpeg" ContentType="image/jpeg"/>
  <Override PartName="/ppt/media/image51.jpeg" ContentType="image/jpeg"/>
  <Override PartName="/ppt/media/image23.png" ContentType="image/png"/>
  <Override PartName="/ppt/media/image53.jpeg" ContentType="image/jpeg"/>
  <Override PartName="/ppt/media/image33.png" ContentType="image/png"/>
  <Override PartName="/ppt/media/image54.jpeg" ContentType="image/jpeg"/>
  <Override PartName="/ppt/media/image57.jpeg" ContentType="image/jpeg"/>
  <Override PartName="/ppt/media/image6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DC63-6548-4C4B-AE5C-D76B91E86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M4BxoCoHzk&amp;feature=related" TargetMode="External"/><Relationship Id="rId2" Type="http://schemas.openxmlformats.org/officeDocument/2006/relationships/slide" Target="../slides/slide6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ХИМИИ. ЛЕКЦИЯ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CA99-74C3-4557-831F-7A7E91BFF3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Это химическая связь, образованная двумя атомами за счет 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общих электронных пар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t-EE" sz="1200" spc="-1" strike="noStrike" baseline="30000">
                <a:solidFill>
                  <a:srgbClr val="000000"/>
                </a:solidFill>
                <a:latin typeface="Calibri"/>
              </a:rPr>
              <a:t>•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 + B</a:t>
            </a:r>
            <a:r>
              <a:rPr b="1" lang="et-EE" sz="1200" spc="-1" strike="noStrike" baseline="30000">
                <a:solidFill>
                  <a:srgbClr val="000000"/>
                </a:solidFill>
                <a:latin typeface="Calibri"/>
              </a:rPr>
              <a:t>•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 → A: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t-EE" sz="1200" spc="-1" strike="noStrike" baseline="30000">
                <a:solidFill>
                  <a:srgbClr val="000000"/>
                </a:solidFill>
                <a:latin typeface="Calibri"/>
              </a:rPr>
              <a:t>•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lang="et-EE" sz="1200" spc="-1" strike="noStrike" baseline="30000">
                <a:solidFill>
                  <a:srgbClr val="000000"/>
                </a:solidFill>
                <a:latin typeface="Calibri"/>
              </a:rPr>
              <a:t>•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 → H: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FC7C-E9CD-4C8A-A5A6-6E6E4799F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601C-BF54-4B55-A3A8-7774504D6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ледствие смещения электронной пары к одному из ядер, возникает диполь – нейтральная молекула с двумя одинаковыми по величине положительным и отрицательным зарядами, находящимися на определенном расстоянии друг от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2AE1-98C7-42A9-93FA-10F79FF729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химическая связь проявляется в веществах  с атомной и молекулярной кристаллическими решёт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737E-A69E-41AB-90BF-9E1519C0C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аллическую связь образуют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еталл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атомы которых на внешних оболочках имеют мало валентных электроно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о всех узлах кристаллической решетки расположены положитель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оны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металла. Между ними беспорядочно, движутся валент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лектроны,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отщепившиеся от атомов при образовании и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Эти электроны играют роль цемента, удерживая вместе положительные ионы; в противном случае решетка распалась бы под действием сил отталкивания между ионами. Вместе с тем и электроны удерживаются ионами в пределах кристаллической решётки и не могут её покин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валентные электроны, осуществляющие металлическую связь, обобществлены настолько, что могут перемещаться по всему металлическому кристаллу и обеспечивают высокую электропроводность мет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DA75-3347-4577-9EF8-A4B51C433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то электростатическая связь между </a:t>
            </a:r>
            <a:r>
              <a:rPr b="1" i="1" lang="ru-RU" sz="1100" spc="-1" strike="noStrike">
                <a:solidFill>
                  <a:srgbClr val="ff0000"/>
                </a:solidFill>
                <a:latin typeface="Calibri"/>
              </a:rPr>
              <a:t>положительно поляризованным атомом водорода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дной молекулы и </a:t>
            </a:r>
            <a:r>
              <a:rPr b="1" i="1" lang="ru-RU" sz="1100" spc="-1" strike="noStrike">
                <a:solidFill>
                  <a:srgbClr val="0070c0"/>
                </a:solidFill>
                <a:latin typeface="Calibri"/>
              </a:rPr>
              <a:t>электроотрицательным атомом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другой или той же молекул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водородная связь образуется между разными молекулами, она называется 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межмолекулярной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например, между молекулами воды, низших спиртов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водородная связь образуется между группами одной и той же молекулы, она называется 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внутримолекулярно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(например, в белках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Водородная связь влияет на свойства веществ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на растворимость (подобное растворяется в подобном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на  температуру кипения (повышает температуру кипения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9DBA-A0AC-48BC-8B1D-D70BC04EDE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Чем полярнее связь в водородном соединении, тем прочнее возникающая водородная связ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H∙∙∙F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энергия связи 40 кДж/мол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H∙∙∙O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энергия связи 20 кДж/мол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H∙∙∙N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энергия связи 10 кДж/мол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одородная связь примерно в 10 раз слабее обычной ковалентной связи, но она оказывает очень большое влияние на физические и химические свойства соединений (например, аномально высокие темперетуры кипения и плавления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одородная связь вызывает ассоциацию молекул – образование димеров, тримеров и полимеров (димеры муравьиной и уксусной кислот, полимеры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HF,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оды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одородная связь имеет большое значение при растворении, т.к. растворимость зависит от возникновения водородных связей между молекулами или ионами растворённого вещества и растворителя.  При этом образуются соответствующие соединения – сольваты (гидраты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CE07-289B-4602-A1C4-8C400EFCB0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на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ия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ность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494F-C11A-480B-BBC3-3A6AE02F7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на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асстояние между ядрами атомов в соеди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73F8-A7B0-4219-9BA1-BCA2FBC13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ия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личество энергии, которое выделяется при образовании химической связи, кДж/м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лько же энергии нужно затратить, чтобы разрушить химическую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985E-4DB8-440D-B997-F5A6987B6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Химическая связ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илы, обуславливающие устойчивое существование двух и многоатомны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бразования химической связ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ается общая энергия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перераспределение электронной плотности в области химическ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3B93-1FF7-409B-A315-031888D30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химическ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т от числа атомов в молекуле, от типа и пространственной ориентации атомных орбита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 возникает в направлении максимального перекрывания электронных облаков, образующих молеку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атомные молекулы – связь линей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ёхатомные молекулы – линейная или углов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ырёхатомные молекулы плоская или пирамидальн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ятиатомные молекулы – пространственный тетраэд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ридизация орбита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E643-AAE1-47F6-9CAB-9D8B56A7B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ность химическ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ность связи определяется тем, какова электроотрицательность атомов, образующих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ность связи характеризуется величиной дипольного момента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H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Cl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-F  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9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-I 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I   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,8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A781-EFD8-45B3-A0D4-9E2DD1D38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сталлические решё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сталлическая решетка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присущее находящемуся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ристаллическом с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остоянии веществу правильное пространственное расположение ато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онов, молекул,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характеризующееся периодической повторяемостью в трёх измер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57F1-D920-4D2F-9DC8-1DFB3865D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кристаллическая решё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Обычно ионные кристаллы твердые, но хруп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Ионные кристаллы отличаются высокими температурами пл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 расплавленном состоянии вещества, образующие ионные кристаллы, электропровод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Растворяются в полярных растворителях (вод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При растворении в воде эти вещества диссоциируют на катионы и анионы, и образующиеся растворы проводят электрический 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73CA-F546-4A33-8EC6-CF393771E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ная кристаллическая решё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Атомные кристаллы состоят из отдельных атомов, объединенных ковалентными связя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лмаз, графит)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Нередко соединения неметаллов друг с другом (например, диоксид кремния) также образуют атомные кристал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томные кристаллы можно считать гигантскими молеку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Они очень прочные и твердые, плохо проводят теплоту и электри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ещества, имеющие атомные кристаллические решетки, плавятся при высоких температу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рактически нерастворимы в каких-либо растворите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изкая реакционная способ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D70E-D52A-4FDB-A7DA-11B91B601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Молекулярная кристаллическая решётк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Молекулярные кристаллы</a:t>
            </a:r>
            <a:r>
              <a:rPr b="1" i="1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построены из отдельных молекул, внутри которых атомы соединены ковалентными связями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Между молекулами действуют более слабые межмолекулярные силы. Они легко разрушаются, поэтому молекулярные кристаллы имеют низкие температуры плавления, малую твердость, высокую летучесть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Вещества, образующие молекулярные кристаллические решетки, не обладают электрической проводимостью, их растворы и расплавы также не проводят электрический ток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Большинство неметаллов в виде простых веществ (например, иод I</a:t>
            </a:r>
            <a:r>
              <a:rPr b="0" lang="ru-RU" sz="9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, аргон Ar, сера S</a:t>
            </a:r>
            <a:r>
              <a:rPr b="0" lang="ru-RU" sz="9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) и соединений друг с другом (например, вода, диоксид углерода, хлороводород), а также практически все твердые органические вещества образуют молекулярные кристаллы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сталл льд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₂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сталл СО₂ (сухой лё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сталл ио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CCAF-C89F-4FC1-BBA3-D992C870C3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кристаллическая решё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а для  метал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 ней имеется металлическая связь между ато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 металлических кристаллах ядра атомов расположены таким образом, чтобы их упаковка была как можно более плот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Металлические кристаллы обладают высокой электрической проводимостью и теплопроводностью, металлическим блеском и непрозрачностью, легкой деформируем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3753-2323-4CAA-AAFA-6861567F8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химической связи и их отличительные призн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CF73-F8D3-4B63-9B3D-A4B41E913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иды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ые взаимодейств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н-дер-ваальсовы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9D11-4983-4C29-B125-B9FE4F6FC5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ок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результате образования химической связи атомы приобретают такую же электронную конфигурацию, как у благородных газов, которые (за исключением гелия) имеют на внешнем энергетическом уровне 8 электронов (окт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справедливо для ионной и ковалентной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2555-CBE6-49E4-BAB0-B99FA782D8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отриц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отрицательность (ЭО) – это способность атомов в соединениях притягивать к себе электроны. Наибольшие значения ЭО имеют р-элемент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рупп, наименьшие -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лемент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руп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E169-42DB-4CCE-8192-DA48CF27F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ждённое состоя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алент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войство атома образовывать ковалентные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SM4BxoCoHzk&amp;feature=related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AC6D-4D94-40D2-A705-4AB022D13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химическая связь, возникающая в результат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лектростатического взаимодейств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 и отрицательно заряженных ионов в химическом соедин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между атомами с большой разницей электроотрицательностей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еталл и неметал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Примеры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O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98B8-FEA1-47AD-80EB-E3658BAEBD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разовании ионов образуются устойчивые октетные электронные конфигурации (как у благородных газов) – правило окт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t-EE" sz="11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-  1ē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t-EE" sz="11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0" lang="et-EE" sz="11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+ 1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ē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→  Cl</a:t>
            </a:r>
            <a:r>
              <a:rPr b="0" lang="et-EE" sz="11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a + Cl → Na</a:t>
            </a:r>
            <a:r>
              <a:rPr b="0" lang="pl-PL" sz="11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+ Cl</a:t>
            </a:r>
            <a:r>
              <a:rPr b="0" lang="pl-PL" sz="11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→ NaCl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2D17-E50D-45DC-82E1-A8DFA95297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химическая связь проявляется в твердых веществах с ионной кристаллической решет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D27E-6B17-45AD-A0E2-B307A9AF8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3516-EC95-4FE0-B66D-5112FFB8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A9FB-7064-4160-ACE0-75394FC8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5F53-1903-4EF1-BDCB-630C57A5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D19-EA54-41EE-BCDF-F522C61D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6A1F-7755-4D48-872E-346AAD42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CB24-246E-4956-85D8-D694FB85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9DDD-9058-411C-9EB3-9201162B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95C6-FA09-492B-BCE3-3BC56694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0C55-57E3-44F2-8593-21FE9734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499A-73D1-4EDD-BA03-B88069DA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FAA5-CDC5-498D-9196-8427C187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4C34-0DEC-4C8B-863D-F0A81155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51A8-43C9-4477-A53E-24910221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064F-07E3-4A37-B8F6-8EFC5CDA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2E04-4637-4839-9BE6-505C46AD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311A-B3AE-4150-9857-2ED83C625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2293-EE8F-4F59-B4AE-A0168066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28C96-917B-41D3-90B0-D1BB76D5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32BFB-6732-4C84-8650-2232044B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7FEA1-9A1F-414F-BE5E-FEAE8A08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B41C0-66F4-43FE-B19C-BE70E914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2555B-2B24-4221-A243-0CAA1FAA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AB68-22F9-4E7A-B420-1EFF9974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42C8F-BE96-4382-81DD-062E42D8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77C0E-8887-4AA9-B95A-9CF9E4DE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236D9-D525-486A-BE5F-5756F130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87751-9AC2-4F27-8FCF-5F3A2CBF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81E30-9C6B-438A-A007-E2DCB790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D8B5D-7131-4A26-AC50-0DFB5DCC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75A29-3E7D-4245-B222-F061D164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F6FF6-D66C-4CBB-B094-64F67A8D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60FA9-8B5F-41DF-8E24-EB3D32B7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770A7-6162-445F-8440-AE35FD4C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8F80-A021-4D58-82DE-A839573E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5FC6D-52B7-4053-A1A8-A5C773A3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B312C-4CAD-475B-A94F-360DA4C2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7CD9C-4DC2-424E-B0CB-B859B464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C8A43-3F73-4B31-8ED1-82EDB782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FF15C-EEB2-448C-BCB7-B7AD607A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A0F3B-BF65-42D3-BFF4-199273FE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8B786-FF41-4685-84F7-B251E1BC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2D2BC-04F9-44C3-A2B0-0241E34A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1EC3B-E1ED-4CC6-BB70-066D9011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A0CBB-B9E3-4EA0-B751-9117DEF5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8E3E-F125-482D-9870-F720DB04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41102-E991-4205-AF85-D99F4B60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0EC97-8C3F-4A94-A6E1-D01BF761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4E94A-7170-4152-9E7D-4497A16B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07F7E-2B44-4CA5-8420-1796830F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1E25E-48C6-4CCF-81AD-8579D9C1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DCB26-DBC5-408B-A78B-4803AC9A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C8E74-A728-40D9-B4BF-870D4F18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D587C-6A71-424D-823B-6451429F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1E4C2-0BDB-46D5-9676-652ACEB2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7C117-9852-45DA-8B72-3FB9D8F2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9CE-7A8A-4C1C-916E-54529A2C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9200A-9F86-4612-88EC-68C35AA6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E7104-4910-411C-966F-6B6E652A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11540-E7B1-474C-9845-75D873F6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09C43-8379-4DC7-8717-9D0A3BAF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C9B95-441D-41E7-A069-FD2CFAC5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D2D62-268E-451C-B47D-FB03CC89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901B8-7C13-4B9C-9DF9-304F1BB5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50B9A-5034-4FA0-BDFC-7063843A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7E750-AFED-4562-8543-164ABF9E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FBA37-59F9-4A1F-B1A2-FF89DDE6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D3BC-45BD-4DDB-A69F-DB2D529F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14DBF-E23C-4870-95DD-6CE8E5C5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71FCE-53B6-4F0E-BC8E-93709106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3B3BF-24C8-49CD-8447-01C85572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04A19-C799-4F14-9015-EC598896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E694F-2B00-49FA-91D2-41D264B3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C2EF9-6342-4A42-B596-78E8BC29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780D3-48C6-4ACF-93AE-75EEFAE2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A30EA-C3D4-435B-916D-B8264EDB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2AD29-FBA1-4DA4-BD18-1B61B426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1F1EE-5FC3-4A2B-9CD2-D35AB13C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19CC-0C68-4565-B956-0A524EB8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FF00B-C13C-42D5-8AC9-6480B6ED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3A95B-B8BD-4D6E-88FE-A4B4BDDA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5FE78-C765-4FDD-99EB-20707628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C4691-1A20-4786-B4BC-F51EBAC5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2BE99-E34B-4424-AFC1-05689E9E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8989D-6C82-44ED-94D8-2730258C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AB711-4E57-4DD9-BD5C-2C20A126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7C13D-EFD0-426D-A922-96C92482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D12F5-6A6D-4BFC-B686-4194F612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F873F-D06E-4C73-8CC2-B499E6CB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0604-938E-42AA-8617-D35DCF8D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CA340-085C-44C8-86D8-69205B1F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D1E9E-1DE8-4462-A028-3AF70033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EA590-693A-407D-BFDA-9ED7144C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05183-D3D6-4A59-85DC-563B0C44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5C41E-C13A-4002-A099-72340396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B21A8-14B9-4852-8F3B-38EAC6E1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CD59B-6560-4C02-8692-87000051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6D49-8CA1-4BB5-99BF-E32E5E2E6744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1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E293-2CE0-4AFC-B64D-4875F0469A89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950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950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10A5-002E-46BE-8960-50CA77DF29FE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1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80ED-CA01-4434-8070-DAA441A00D6C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950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950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dede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edede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2D79-F0F8-4965-987D-6655FF8A4BEF}" type="datetime">
              <a:rPr b="0" lang="et-EE" sz="1400" spc="-1" strike="noStrike">
                <a:solidFill>
                  <a:srgbClr val="dedede"/>
                </a:solidFill>
                <a:latin typeface="Gill Sans MT"/>
              </a:rPr>
              <a:t>31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dedede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9FDC-0EAC-412E-95C4-42137C31F45C}" type="slidenum">
              <a:rPr b="0" lang="en-US" sz="1400" spc="-1" strike="noStrike">
                <a:solidFill>
                  <a:srgbClr val="dedede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B3FE-F680-4FF1-B3DE-E225BD0E6B9D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1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93B8-F68C-4500-94F9-ABCCB282EA00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DE4D-9BFE-4EA6-9D06-E21707ACC0D1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1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1A51-43EE-46BB-BA13-854E02F41309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5785-CEAB-48D0-AD7D-C965AFA35601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1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8967-F90F-4E4A-82E3-B11556E86D5F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950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dede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edede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1C46-3B61-4DD7-A7D2-619F29BECE55}" type="datetime">
              <a:rPr b="0" lang="et-EE" sz="1400" spc="-1" strike="noStrike">
                <a:solidFill>
                  <a:srgbClr val="dedede"/>
                </a:solidFill>
                <a:latin typeface="Gill Sans MT"/>
              </a:rPr>
              <a:t>31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dedede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D7DA-4CA8-49DE-8DBB-3BE4189FC052}" type="slidenum">
              <a:rPr b="0" lang="en-US" sz="1400" spc="-1" strike="noStrike">
                <a:solidFill>
                  <a:srgbClr val="dedede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65B2-0963-442C-AF87-7D7A72E506AE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1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3345-BE82-4913-9D47-26E4D755C9E3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pn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gif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M4BxoCoHzk&amp;feature=related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ХИМ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Cambria"/>
              </a:rPr>
              <a:t>ОСНОВЫ ХИМИИ. ЛЕКЦИЯ 4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1" name="Picture 2" descr="http://src.ucoz.net/sm/1/prof.gif"/>
          <p:cNvPicPr/>
          <p:nvPr/>
        </p:nvPicPr>
        <p:blipFill>
          <a:blip r:embed="rId1"/>
          <a:stretch/>
        </p:blipFill>
        <p:spPr>
          <a:xfrm>
            <a:off x="3714840" y="5214960"/>
            <a:ext cx="27612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овалент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Gill Sans MT"/>
              </a:rPr>
              <a:t>Это химическая связь, образованная двумя атомами за счет </a:t>
            </a:r>
            <a:r>
              <a:rPr b="1" i="1" lang="et-EE" sz="2000" spc="-1" strike="noStrike">
                <a:solidFill>
                  <a:srgbClr val="000000"/>
                </a:solidFill>
                <a:latin typeface="Gill Sans MT"/>
              </a:rPr>
              <a:t>общих электронных пар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1" lang="et-EE" sz="2000" spc="-1" strike="noStrike" baseline="30000">
                <a:solidFill>
                  <a:srgbClr val="000000"/>
                </a:solidFill>
                <a:latin typeface="Gill Sans MT"/>
              </a:rPr>
              <a:t>•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 + B</a:t>
            </a:r>
            <a:r>
              <a:rPr b="1" lang="et-EE" sz="2000" spc="-1" strike="noStrike" baseline="30000">
                <a:solidFill>
                  <a:srgbClr val="000000"/>
                </a:solidFill>
                <a:latin typeface="Gill Sans MT"/>
              </a:rPr>
              <a:t>•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 → A:B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1" lang="et-EE" sz="2000" spc="-1" strike="noStrike" baseline="30000">
                <a:solidFill>
                  <a:srgbClr val="000000"/>
                </a:solidFill>
                <a:latin typeface="Gill Sans MT"/>
              </a:rPr>
              <a:t>•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 + H</a:t>
            </a:r>
            <a:r>
              <a:rPr b="1" lang="et-EE" sz="2000" spc="-1" strike="noStrike" baseline="30000">
                <a:solidFill>
                  <a:srgbClr val="000000"/>
                </a:solidFill>
                <a:latin typeface="Gill Sans MT"/>
              </a:rPr>
              <a:t>•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 → H: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Рисунок 6" descr="C:\Documents and Settings\Администратор\Мои документы\Мои рисунки\91197-1.jpg"/>
          <p:cNvPicPr/>
          <p:nvPr/>
        </p:nvPicPr>
        <p:blipFill>
          <a:blip r:embed="rId1"/>
          <a:stretch/>
        </p:blipFill>
        <p:spPr>
          <a:xfrm>
            <a:off x="1476360" y="3357720"/>
            <a:ext cx="2513160" cy="103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0" name="Рисунок 7" descr="C:\Documents and Settings\Администратор\Мои документы\Мои рисунки\Legame_chimico_covalente_puro.png"/>
          <p:cNvPicPr/>
          <p:nvPr/>
        </p:nvPicPr>
        <p:blipFill>
          <a:blip r:embed="rId2"/>
          <a:stretch/>
        </p:blipFill>
        <p:spPr>
          <a:xfrm>
            <a:off x="900000" y="5013360"/>
            <a:ext cx="4105440" cy="6094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401" name="Picture 2" descr="C:\Documents and Settings\User\Мои документы\Мои рисунки\66.jpg"/>
          <p:cNvPicPr/>
          <p:nvPr/>
        </p:nvPicPr>
        <p:blipFill>
          <a:blip r:embed="rId3"/>
          <a:stretch/>
        </p:blipFill>
        <p:spPr>
          <a:xfrm>
            <a:off x="5724360" y="3860640"/>
            <a:ext cx="2700360" cy="2305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C:\Documents and Settings\User\Мои документы\Мои рисунки\covalent_bond_animation.gif"/>
          <p:cNvPicPr/>
          <p:nvPr/>
        </p:nvPicPr>
        <p:blipFill>
          <a:blip r:embed="rId4"/>
          <a:stretch/>
        </p:blipFill>
        <p:spPr>
          <a:xfrm>
            <a:off x="5796000" y="1989000"/>
            <a:ext cx="268596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овалент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Схема 6" descr=""/>
          <p:cNvPicPr/>
          <p:nvPr/>
        </p:nvPicPr>
        <p:blipFill>
          <a:blip r:embed="rId1"/>
          <a:stretch/>
        </p:blipFill>
        <p:spPr>
          <a:xfrm>
            <a:off x="2676600" y="1719360"/>
            <a:ext cx="37908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овалент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ледствие смещения электронной пары к одному из ядер, возникает диполь – нейтральная молекула с двумя одинаковыми по величине положительным и отрицательным зарядами, находящимися на определенном расстоянии друг от друга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Рисунок 6" descr="C:\Documents and Settings\Администратор\Мои документы\Мои рисунки\91197-8.jpg"/>
          <p:cNvPicPr/>
          <p:nvPr/>
        </p:nvPicPr>
        <p:blipFill>
          <a:blip r:embed="rId1"/>
          <a:stretch/>
        </p:blipFill>
        <p:spPr>
          <a:xfrm>
            <a:off x="5292720" y="5084640"/>
            <a:ext cx="1360440" cy="70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1" name="Рисунок 7" descr="C:\Documents and Settings\Администратор\Мои документы\Мои рисунки\660px-Watermolecule.png"/>
          <p:cNvPicPr/>
          <p:nvPr/>
        </p:nvPicPr>
        <p:blipFill>
          <a:blip r:embed="rId2"/>
          <a:stretch/>
        </p:blipFill>
        <p:spPr>
          <a:xfrm>
            <a:off x="7093080" y="5013360"/>
            <a:ext cx="1149120" cy="790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2" name="Picture 3" descr="C:\Documents and Settings\User\Мои документы\Мои рисунки\polar-covalent-bond.gif"/>
          <p:cNvPicPr/>
          <p:nvPr/>
        </p:nvPicPr>
        <p:blipFill>
          <a:blip r:embed="rId3"/>
          <a:stretch/>
        </p:blipFill>
        <p:spPr>
          <a:xfrm>
            <a:off x="5076720" y="2276640"/>
            <a:ext cx="2727360" cy="23936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C:\Documents and Settings\User\Мои документы\Мои рисунки\96904-004-c880b85d.gif"/>
          <p:cNvPicPr/>
          <p:nvPr/>
        </p:nvPicPr>
        <p:blipFill>
          <a:blip r:embed="rId4"/>
          <a:stretch/>
        </p:blipFill>
        <p:spPr>
          <a:xfrm>
            <a:off x="1187280" y="4437000"/>
            <a:ext cx="2727360" cy="1712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C:\Documents and Settings\User\Мои документы\Мои рисунки\AScovale.jpg"/>
          <p:cNvPicPr/>
          <p:nvPr/>
        </p:nvPicPr>
        <p:blipFill>
          <a:blip r:embed="rId5"/>
          <a:stretch/>
        </p:blipFill>
        <p:spPr>
          <a:xfrm>
            <a:off x="1476360" y="2421000"/>
            <a:ext cx="202104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овалент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валентная химическая связь проявляется в веществах  с атомной и молекулярной кристаллическими решёткам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C:\Documents and Settings\User\Мои документы\Мои рисунки\mkr.gif"/>
          <p:cNvPicPr/>
          <p:nvPr/>
        </p:nvPicPr>
        <p:blipFill>
          <a:blip r:embed="rId1"/>
          <a:stretch/>
        </p:blipFill>
        <p:spPr>
          <a:xfrm>
            <a:off x="4067280" y="2276640"/>
            <a:ext cx="3781440" cy="25207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C:\Documents and Settings\User\Мои документы\Мои рисунки\akr.gif"/>
          <p:cNvPicPr/>
          <p:nvPr/>
        </p:nvPicPr>
        <p:blipFill>
          <a:blip r:embed="rId2"/>
          <a:stretch/>
        </p:blipFill>
        <p:spPr>
          <a:xfrm>
            <a:off x="755640" y="2565360"/>
            <a:ext cx="3564000" cy="2376360"/>
          </a:xfrm>
          <a:prstGeom prst="rect">
            <a:avLst/>
          </a:prstGeom>
          <a:ln w="0">
            <a:noFill/>
          </a:ln>
        </p:spPr>
      </p:pic>
      <p:sp>
        <p:nvSpPr>
          <p:cNvPr id="420" name="TextBox 8"/>
          <p:cNvSpPr/>
          <p:nvPr/>
        </p:nvSpPr>
        <p:spPr>
          <a:xfrm>
            <a:off x="1332000" y="5013360"/>
            <a:ext cx="244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омная кристаллическая решётка (например, С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9"/>
          <p:cNvSpPr/>
          <p:nvPr/>
        </p:nvSpPr>
        <p:spPr>
          <a:xfrm>
            <a:off x="5148360" y="501336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лекулярная кристаллическая решётка (например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₂O, F₂, H₂, HCl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Металл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6840" y="1218960"/>
            <a:ext cx="404172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аллическую связь образуют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еталл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атомы которых на внешних оболочках имеют мало валентных электронов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Во всех узлах кристаллической решетки расположены положительны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ионы 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металла. Между ними беспорядочно, движутся валентны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электроны,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 отщепившиеся от атомов при образовании ионов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Эти электроны играют роль цемента, удерживая вместе положительные ионы; в противном случае решетка распалась бы под действием сил отталкивания между ионами. Вместе с тем и электроны удерживаются ионами в пределах кристаллической решётки и не могут её покинут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ти валентные электроны, осуществляющие металлическую связь, обобществлены настолько, что могут перемещаться по всему металлическому кристаллу и обеспечивают высокую электропроводность металла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Рисунок 8" descr="200px-Metallic_bond_Zn_svg"/>
          <p:cNvPicPr/>
          <p:nvPr/>
        </p:nvPicPr>
        <p:blipFill>
          <a:blip r:embed="rId1"/>
          <a:stretch/>
        </p:blipFill>
        <p:spPr>
          <a:xfrm>
            <a:off x="5219640" y="4869000"/>
            <a:ext cx="1728720" cy="1224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C:\Documents and Settings\User\Мои документы\Мои рисунки\electrAn.gif"/>
          <p:cNvPicPr/>
          <p:nvPr/>
        </p:nvPicPr>
        <p:blipFill>
          <a:blip r:embed="rId2"/>
          <a:stretch/>
        </p:blipFill>
        <p:spPr>
          <a:xfrm>
            <a:off x="4788000" y="1268280"/>
            <a:ext cx="3136680" cy="20545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C:\Documents and Settings\User\Мои документы\Мои рисунки\21.jpg"/>
          <p:cNvPicPr/>
          <p:nvPr/>
        </p:nvPicPr>
        <p:blipFill>
          <a:blip r:embed="rId3"/>
          <a:stretch/>
        </p:blipFill>
        <p:spPr>
          <a:xfrm>
            <a:off x="6012000" y="3357720"/>
            <a:ext cx="2681280" cy="14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Водород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о электростатическая связь между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оложительно поляризованным атомом водорода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дной молекулы и </a:t>
            </a:r>
            <a:r>
              <a:rPr b="1" i="1" lang="ru-RU" sz="1600" spc="-1" strike="noStrike">
                <a:solidFill>
                  <a:srgbClr val="0070c0"/>
                </a:solidFill>
                <a:latin typeface="Calibri"/>
              </a:rPr>
              <a:t>электроотрицательным атомом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ругой или той же молекулы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водородная связь образуется между разными молекулами, она называется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ежмолекулярной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например, между молекулами воды, низших спиртов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водородная связь образуется между группами одной и той же молекулы, она называется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нутримолекулярно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например, в белках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211280" y="1216080"/>
            <a:ext cx="381636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одородная связь влияет на свойства веществ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 растворимость (подобное растворяется в подобном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  температуру кипения (повышает температуру кипения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Рисунок 7" descr="C:\Documents and Settings\Администратор\Мои документы\Мои рисунки\3D_model_hydrogen_bonds_in_water.jpg"/>
          <p:cNvPicPr/>
          <p:nvPr/>
        </p:nvPicPr>
        <p:blipFill>
          <a:blip r:embed="rId1"/>
          <a:stretch/>
        </p:blipFill>
        <p:spPr>
          <a:xfrm>
            <a:off x="4932360" y="1557360"/>
            <a:ext cx="2016000" cy="20876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C:\Documents and Settings\User\Мои документы\Мои рисунки\hm645.gif"/>
          <p:cNvPicPr/>
          <p:nvPr/>
        </p:nvPicPr>
        <p:blipFill>
          <a:blip r:embed="rId2"/>
          <a:stretch/>
        </p:blipFill>
        <p:spPr>
          <a:xfrm>
            <a:off x="8028000" y="1197000"/>
            <a:ext cx="9032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Водород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м полярнее связь в водородном соединении, тем прочнее возникающая водородная связь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424456"/>
                </a:solidFill>
                <a:latin typeface="Gill Sans MT"/>
              </a:rPr>
              <a:t>H∙∙∙F  </a:t>
            </a:r>
            <a:r>
              <a:rPr b="0" lang="ru-RU" sz="1800" spc="-1" strike="noStrike">
                <a:solidFill>
                  <a:srgbClr val="424456"/>
                </a:solidFill>
                <a:latin typeface="Calibri"/>
              </a:rPr>
              <a:t>энергия связи 40 кДж/моль</a:t>
            </a:r>
            <a:endParaRPr b="0" lang="en-US" sz="18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424456"/>
                </a:solidFill>
                <a:latin typeface="Gill Sans MT"/>
              </a:rPr>
              <a:t>H∙∙∙O</a:t>
            </a:r>
            <a:r>
              <a:rPr b="0" lang="ru-RU" sz="1800" spc="-1" strike="noStrike">
                <a:solidFill>
                  <a:srgbClr val="424456"/>
                </a:solidFill>
                <a:latin typeface="Calibri"/>
              </a:rPr>
              <a:t>  энергия связи 20 кДж/моль</a:t>
            </a:r>
            <a:endParaRPr b="0" lang="en-US" sz="18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424456"/>
                </a:solidFill>
                <a:latin typeface="Gill Sans MT"/>
              </a:rPr>
              <a:t>H∙∙∙N</a:t>
            </a:r>
            <a:r>
              <a:rPr b="0" lang="ru-RU" sz="1800" spc="-1" strike="noStrike">
                <a:solidFill>
                  <a:srgbClr val="424456"/>
                </a:solidFill>
                <a:latin typeface="Calibri"/>
              </a:rPr>
              <a:t>  энергия связи 10 кДж/моль</a:t>
            </a:r>
            <a:endParaRPr b="0" lang="en-US" sz="1800" spc="-1" strike="noStrike">
              <a:solidFill>
                <a:srgbClr val="42445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ородная связь примерно в 10 раз слабее обычной ковалентной связи, но она оказывает очень большое влияние на физические и химические свойства соединений (например, аномально высокие темперетуры кипения и плавления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ородная связь вызывает ассоциацию молекул – образование димеров, тримеров и полимеров (димеры муравьиной и уксусной кислот, полимеры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HF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ы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ородная связь имеет большое значение при растворении, т.к. растворимость зависит от возникновения водородных связей между молекулами или ионами растворённого вещества и растворителя.  При этом образуются соответствующие соединения – сольваты (гидраты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Характеристики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ина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нергия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правленность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ярность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Длина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расстояние между ядрами атомов в соединени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1" descr=""/>
          <p:cNvPicPr/>
          <p:nvPr/>
        </p:nvPicPr>
        <p:blipFill>
          <a:blip r:embed="rId1"/>
          <a:stretch/>
        </p:blipFill>
        <p:spPr>
          <a:xfrm>
            <a:off x="2571840" y="2500200"/>
            <a:ext cx="3000240" cy="3621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3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4" descr=""/>
          <p:cNvPicPr/>
          <p:nvPr/>
        </p:nvPicPr>
        <p:blipFill>
          <a:blip r:embed="rId2"/>
          <a:stretch/>
        </p:blipFill>
        <p:spPr>
          <a:xfrm>
            <a:off x="2571840" y="3286080"/>
            <a:ext cx="3019320" cy="36216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6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9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10" descr=""/>
          <p:cNvPicPr/>
          <p:nvPr/>
        </p:nvPicPr>
        <p:blipFill>
          <a:blip r:embed="rId3"/>
          <a:stretch/>
        </p:blipFill>
        <p:spPr>
          <a:xfrm>
            <a:off x="2643120" y="4143240"/>
            <a:ext cx="3038400" cy="36216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12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Энергия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количество энергии, которое выделяется при образовании химической связи, кДж/моль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олько же энергии нужно затратить, чтобы разрушить химическую связь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" descr=""/>
          <p:cNvPicPr/>
          <p:nvPr/>
        </p:nvPicPr>
        <p:blipFill>
          <a:blip r:embed="rId1"/>
          <a:stretch/>
        </p:blipFill>
        <p:spPr>
          <a:xfrm>
            <a:off x="2428920" y="3571920"/>
            <a:ext cx="3267000" cy="34272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3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4" descr=""/>
          <p:cNvPicPr/>
          <p:nvPr/>
        </p:nvPicPr>
        <p:blipFill>
          <a:blip r:embed="rId2"/>
          <a:stretch/>
        </p:blipFill>
        <p:spPr>
          <a:xfrm>
            <a:off x="2500200" y="4357800"/>
            <a:ext cx="3324240" cy="34272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Введение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Химическая связь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силы, обуславливающие устойчивое существование двух и многоатомных соединени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езультате образования химической связи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снижается общая энергия системы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происходит перераспределение электронной плотности в области химической связи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Направленность химической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висит от числа атомов в молекуле, от типа и пространственной ориентации атомных орбиталей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валентная связь возникает в направлении максимального перекрывания электронных облаков, образующих молекулу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ухатомные молекулы – связь линейна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ёхатомные молекулы – линейная или угловая структур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ырёхатомные молекулы плоская или пирамидальная структур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иатомные молекулы – пространственный тетраэдр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ибридизация орбиталей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7" descr="U:\My Pictures\1_30.gif"/>
          <p:cNvPicPr/>
          <p:nvPr/>
        </p:nvPicPr>
        <p:blipFill>
          <a:blip r:embed="rId1"/>
          <a:stretch/>
        </p:blipFill>
        <p:spPr>
          <a:xfrm>
            <a:off x="6072120" y="2214720"/>
            <a:ext cx="1695600" cy="13903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8" descr="U:\My Pictures\1_31.gif"/>
          <p:cNvPicPr/>
          <p:nvPr/>
        </p:nvPicPr>
        <p:blipFill>
          <a:blip r:embed="rId2"/>
          <a:stretch/>
        </p:blipFill>
        <p:spPr>
          <a:xfrm>
            <a:off x="4929120" y="3286080"/>
            <a:ext cx="3519720" cy="15001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0" descr="U:\My Pictures\r23.jpg"/>
          <p:cNvPicPr/>
          <p:nvPr/>
        </p:nvPicPr>
        <p:blipFill>
          <a:blip r:embed="rId3"/>
          <a:stretch/>
        </p:blipFill>
        <p:spPr>
          <a:xfrm>
            <a:off x="5929200" y="4714920"/>
            <a:ext cx="1428840" cy="1231920"/>
          </a:xfrm>
          <a:prstGeom prst="rect">
            <a:avLst/>
          </a:prstGeom>
          <a:ln w="0">
            <a:noFill/>
          </a:ln>
        </p:spPr>
      </p:pic>
      <p:pic>
        <p:nvPicPr>
          <p:cNvPr id="471" name="il_fi" descr="http://pda.coolreferat.com/ref-1_724982365-11615.coolpic"/>
          <p:cNvPicPr/>
          <p:nvPr/>
        </p:nvPicPr>
        <p:blipFill>
          <a:blip r:embed="rId4"/>
          <a:stretch/>
        </p:blipFill>
        <p:spPr>
          <a:xfrm>
            <a:off x="4786200" y="1285920"/>
            <a:ext cx="391500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Полярность химической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ярность связи определяется тем, какова электроотрицательность атомов, образующих связь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ярность связи характеризуется величиной дипольного момента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H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4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Cl 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05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-F   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91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-I  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9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I    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,8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ристаллические решётк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исталлическая решетка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присущее находящемуся 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ристаллическом с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остоянии веществу правильное пространственное расположение атом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ионов, молекул,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характеризующееся периодической повторяемостью в трёх измерениях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" descr="C:\Documents and Settings\User\Мои документы\Мои рисунки\09-04.gif"/>
          <p:cNvPicPr/>
          <p:nvPr/>
        </p:nvPicPr>
        <p:blipFill>
          <a:blip r:embed="rId1"/>
          <a:stretch/>
        </p:blipFill>
        <p:spPr>
          <a:xfrm>
            <a:off x="4427640" y="2637000"/>
            <a:ext cx="3571920" cy="26668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C:\Documents and Settings\User\Мои документы\Мои рисунки\09-03.gif"/>
          <p:cNvPicPr/>
          <p:nvPr/>
        </p:nvPicPr>
        <p:blipFill>
          <a:blip r:embed="rId2"/>
          <a:stretch/>
        </p:blipFill>
        <p:spPr>
          <a:xfrm>
            <a:off x="900000" y="2997360"/>
            <a:ext cx="3333960" cy="13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Ионная кристаллическая решётк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Обычно ионные кристаллы твердые, но хрупкие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Ионные кристаллы отличаются высокими температурами плавления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В расплавленном состоянии вещества, образующие ионные кристаллы, электропроводны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Растворяются в полярных растворителях (воде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При растворении в воде эти вещества диссоциируют на катионы и анионы, и образующиеся растворы проводят электрический ток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Содержимое 7" descr="49_1519893528"/>
          <p:cNvPicPr/>
          <p:nvPr/>
        </p:nvPicPr>
        <p:blipFill>
          <a:blip r:embed="rId1"/>
          <a:stretch/>
        </p:blipFill>
        <p:spPr>
          <a:xfrm>
            <a:off x="5076720" y="1197000"/>
            <a:ext cx="1914480" cy="13446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C:\Documents and Settings\User\Мои документы\Мои рисунки\3.jpg"/>
          <p:cNvPicPr/>
          <p:nvPr/>
        </p:nvPicPr>
        <p:blipFill>
          <a:blip r:embed="rId2"/>
          <a:stretch/>
        </p:blipFill>
        <p:spPr>
          <a:xfrm>
            <a:off x="7236000" y="1197000"/>
            <a:ext cx="1096920" cy="13795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C:\Documents and Settings\User\Мои документы\Мои рисунки\39312f71ae9c.jpg"/>
          <p:cNvPicPr/>
          <p:nvPr/>
        </p:nvPicPr>
        <p:blipFill>
          <a:blip r:embed="rId3"/>
          <a:stretch/>
        </p:blipFill>
        <p:spPr>
          <a:xfrm>
            <a:off x="5076720" y="2708280"/>
            <a:ext cx="1360440" cy="13939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" descr="C:\Documents and Settings\User\Мои документы\Мои рисунки\krstreshtka.jpg"/>
          <p:cNvPicPr/>
          <p:nvPr/>
        </p:nvPicPr>
        <p:blipFill>
          <a:blip r:embed="rId4"/>
          <a:stretch/>
        </p:blipFill>
        <p:spPr>
          <a:xfrm>
            <a:off x="4859280" y="4365720"/>
            <a:ext cx="1471680" cy="17571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6" descr="C:\Documents and Settings\User\Мои документы\Мои рисунки\picture.jpg"/>
          <p:cNvPicPr/>
          <p:nvPr/>
        </p:nvPicPr>
        <p:blipFill>
          <a:blip r:embed="rId5"/>
          <a:stretch/>
        </p:blipFill>
        <p:spPr>
          <a:xfrm>
            <a:off x="6732720" y="4437000"/>
            <a:ext cx="1677960" cy="1258920"/>
          </a:xfrm>
          <a:prstGeom prst="rect">
            <a:avLst/>
          </a:prstGeom>
          <a:ln w="0">
            <a:noFill/>
          </a:ln>
        </p:spPr>
      </p:pic>
      <p:sp>
        <p:nvSpPr>
          <p:cNvPr id="488" name="TextBox 13"/>
          <p:cNvSpPr/>
          <p:nvPr/>
        </p:nvSpPr>
        <p:spPr>
          <a:xfrm>
            <a:off x="7020000" y="2637000"/>
            <a:ext cx="1728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ристаллы поваренной со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4"/>
          <p:cNvSpPr/>
          <p:nvPr/>
        </p:nvSpPr>
        <p:spPr>
          <a:xfrm>
            <a:off x="6443640" y="342900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сталлы медного купо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5"/>
          <p:cNvSpPr/>
          <p:nvPr/>
        </p:nvSpPr>
        <p:spPr>
          <a:xfrm>
            <a:off x="6732720" y="5732640"/>
            <a:ext cx="18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гантские кристаллы гип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Атомная кристаллическая решётк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Атомные кристаллы состоят из отдельных атомов, объединенных ковалентными связям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алмаз, графит)</a:t>
            </a: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Нередко соединения неметаллов друг с другом (например, диоксид кремния) также образуют атомные кристаллы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томные кристаллы можно считать гигантскими молекулами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Они очень прочные и твердые, плохо проводят теплоту и электричество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Вещества, имеющие атомные кристаллические решетки, плавятся при высоких температурах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рактически нерастворимы в каких-либо растворителях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изкая реакционная способность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Рисунок 7" descr="50_569774788"/>
          <p:cNvPicPr/>
          <p:nvPr/>
        </p:nvPicPr>
        <p:blipFill>
          <a:blip r:embed="rId1"/>
          <a:stretch/>
        </p:blipFill>
        <p:spPr>
          <a:xfrm>
            <a:off x="4788000" y="1268280"/>
            <a:ext cx="1485720" cy="163836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8" descr="grafit0"/>
          <p:cNvPicPr/>
          <p:nvPr/>
        </p:nvPicPr>
        <p:blipFill>
          <a:blip r:embed="rId2"/>
          <a:stretch/>
        </p:blipFill>
        <p:spPr>
          <a:xfrm>
            <a:off x="6659640" y="1484280"/>
            <a:ext cx="1333440" cy="12952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" descr="C:\Documents and Settings\User\Мои документы\Мои рисунки\33d257ddfaff.jpg"/>
          <p:cNvPicPr/>
          <p:nvPr/>
        </p:nvPicPr>
        <p:blipFill>
          <a:blip r:embed="rId3"/>
          <a:stretch/>
        </p:blipFill>
        <p:spPr>
          <a:xfrm>
            <a:off x="6732720" y="4869000"/>
            <a:ext cx="1636560" cy="10634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" descr="C:\Documents and Settings\User\Мои документы\Мои рисунки\Image1212.gif"/>
          <p:cNvPicPr/>
          <p:nvPr/>
        </p:nvPicPr>
        <p:blipFill>
          <a:blip r:embed="rId4"/>
          <a:stretch/>
        </p:blipFill>
        <p:spPr>
          <a:xfrm>
            <a:off x="5148360" y="4797360"/>
            <a:ext cx="1361880" cy="12715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C:\Documents and Settings\User\Мои документы\Мои рисунки\pic_3733.jpg"/>
          <p:cNvPicPr/>
          <p:nvPr/>
        </p:nvPicPr>
        <p:blipFill>
          <a:blip r:embed="rId5"/>
          <a:stretch/>
        </p:blipFill>
        <p:spPr>
          <a:xfrm>
            <a:off x="5076720" y="3068640"/>
            <a:ext cx="1138320" cy="14461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" descr="C:\Documents and Settings\User\Мои документы\Мои рисунки\6graphite75.jpg"/>
          <p:cNvPicPr/>
          <p:nvPr/>
        </p:nvPicPr>
        <p:blipFill>
          <a:blip r:embed="rId6"/>
          <a:stretch/>
        </p:blipFill>
        <p:spPr>
          <a:xfrm>
            <a:off x="6659640" y="3068640"/>
            <a:ext cx="17636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Молекулярная кристаллическая решётк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Молекулярные кристаллы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построены из отдельных молекул, внутри которых атомы соединены ковалентными связями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Между молекулами действуют более слабые межмолекулярные силы. Они легко разрушаются, поэтому молекулярные кристаллы имеют низкие температуры плавления, малую твердость, высокую летучесть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Вещества, образующие молекулярные кристаллические решетки, не обладают электрической проводимостью, их растворы и расплавы также не проводят электрический ток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Большинство неметаллов в виде простых веществ (например, иод I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, аргон Ar, сера S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) и соединений друг с другом (например, вода, диоксид углерода, хлороводород), а также практически все твердые органические вещества образуют молекулярные кристаллы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исталл льда 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₂O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исталл СО₂ (сухой лёд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исталл иод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2" descr="C:\Documents and Settings\User\Мои документы\Мои рисунки\ice.jpg"/>
          <p:cNvPicPr/>
          <p:nvPr/>
        </p:nvPicPr>
        <p:blipFill>
          <a:blip r:embed="rId1"/>
          <a:stretch/>
        </p:blipFill>
        <p:spPr>
          <a:xfrm>
            <a:off x="5148360" y="1557360"/>
            <a:ext cx="1095120" cy="11080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" descr="C:\Documents and Settings\User\Мои документы\Мои рисунки\kristally.jpg"/>
          <p:cNvPicPr/>
          <p:nvPr/>
        </p:nvPicPr>
        <p:blipFill>
          <a:blip r:embed="rId2"/>
          <a:stretch/>
        </p:blipFill>
        <p:spPr>
          <a:xfrm>
            <a:off x="6732720" y="1557360"/>
            <a:ext cx="1076040" cy="11509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" descr="C:\Documents and Settings\User\Мои документы\Мои рисунки\dryice2.jpg"/>
          <p:cNvPicPr/>
          <p:nvPr/>
        </p:nvPicPr>
        <p:blipFill>
          <a:blip r:embed="rId3"/>
          <a:stretch/>
        </p:blipFill>
        <p:spPr>
          <a:xfrm>
            <a:off x="5796000" y="3429000"/>
            <a:ext cx="1614600" cy="11383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C:\Documents and Settings\User\Мои документы\Мои рисунки\Iod_kristall.jpg"/>
          <p:cNvPicPr/>
          <p:nvPr/>
        </p:nvPicPr>
        <p:blipFill>
          <a:blip r:embed="rId4"/>
          <a:stretch/>
        </p:blipFill>
        <p:spPr>
          <a:xfrm>
            <a:off x="5435640" y="5084640"/>
            <a:ext cx="195084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Металлическая кристаллическая решётк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арактерна для  металлов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В ней имеется металлическая связь между атомами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В металлических кристаллах ядра атомов расположены таким образом, чтобы их упаковка была как можно более плотной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Металлические кристаллы обладают высокой электрической проводимостью и теплопроводностью, металлическим блеском и непрозрачностью, легкой деформируемостью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" descr="C:\Documents and Settings\User\Мои документы\Мои рисунки\1300117502_800px-iron_electrolytic_and_1cm3_cube.jpg"/>
          <p:cNvPicPr/>
          <p:nvPr/>
        </p:nvPicPr>
        <p:blipFill>
          <a:blip r:embed="rId1"/>
          <a:stretch/>
        </p:blipFill>
        <p:spPr>
          <a:xfrm>
            <a:off x="4788000" y="1197000"/>
            <a:ext cx="1728720" cy="1073160"/>
          </a:xfrm>
          <a:prstGeom prst="rect">
            <a:avLst/>
          </a:prstGeom>
          <a:ln w="0">
            <a:noFill/>
          </a:ln>
        </p:spPr>
      </p:pic>
      <p:sp>
        <p:nvSpPr>
          <p:cNvPr id="514" name="TextBox 8"/>
          <p:cNvSpPr/>
          <p:nvPr/>
        </p:nvSpPr>
        <p:spPr>
          <a:xfrm>
            <a:off x="6659640" y="14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лез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C:\Documents and Settings\User\Мои документы\Мои рисунки\1300117520_800px-osmium_crystals.jpg"/>
          <p:cNvPicPr/>
          <p:nvPr/>
        </p:nvPicPr>
        <p:blipFill>
          <a:blip r:embed="rId2"/>
          <a:stretch/>
        </p:blipFill>
        <p:spPr>
          <a:xfrm>
            <a:off x="6443640" y="2060640"/>
            <a:ext cx="1762200" cy="1130400"/>
          </a:xfrm>
          <a:prstGeom prst="rect">
            <a:avLst/>
          </a:prstGeom>
          <a:ln w="0">
            <a:noFill/>
          </a:ln>
        </p:spPr>
      </p:pic>
      <p:sp>
        <p:nvSpPr>
          <p:cNvPr id="516" name="TextBox 10"/>
          <p:cNvSpPr/>
          <p:nvPr/>
        </p:nvSpPr>
        <p:spPr>
          <a:xfrm>
            <a:off x="5580000" y="2421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м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4" descr="C:\Documents and Settings\User\Мои документы\Мои рисунки\1300125669_800px-gold-crystals.jpg"/>
          <p:cNvPicPr/>
          <p:nvPr/>
        </p:nvPicPr>
        <p:blipFill>
          <a:blip r:embed="rId3"/>
          <a:stretch/>
        </p:blipFill>
        <p:spPr>
          <a:xfrm>
            <a:off x="4643280" y="2997360"/>
            <a:ext cx="1893960" cy="1225440"/>
          </a:xfrm>
          <a:prstGeom prst="rect">
            <a:avLst/>
          </a:prstGeom>
          <a:ln w="0">
            <a:noFill/>
          </a:ln>
        </p:spPr>
      </p:pic>
      <p:sp>
        <p:nvSpPr>
          <p:cNvPr id="518" name="TextBox 12"/>
          <p:cNvSpPr/>
          <p:nvPr/>
        </p:nvSpPr>
        <p:spPr>
          <a:xfrm>
            <a:off x="6516720" y="35733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оло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5" descr="C:\Documents and Settings\User\Мои документы\Мои рисунки\1300125797_765px-silver_crystal.jpg"/>
          <p:cNvPicPr/>
          <p:nvPr/>
        </p:nvPicPr>
        <p:blipFill>
          <a:blip r:embed="rId4"/>
          <a:stretch/>
        </p:blipFill>
        <p:spPr>
          <a:xfrm>
            <a:off x="6443640" y="4005360"/>
            <a:ext cx="1584360" cy="1243080"/>
          </a:xfrm>
          <a:prstGeom prst="rect">
            <a:avLst/>
          </a:prstGeom>
          <a:ln w="0">
            <a:noFill/>
          </a:ln>
        </p:spPr>
      </p:pic>
      <p:sp>
        <p:nvSpPr>
          <p:cNvPr id="520" name="TextBox 14"/>
          <p:cNvSpPr/>
          <p:nvPr/>
        </p:nvSpPr>
        <p:spPr>
          <a:xfrm>
            <a:off x="5364000" y="436572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еб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6" descr="C:\Documents and Settings\User\Мои документы\Мои рисунки\1300125900_800px-yttrium_sublimed_dendritic_and_1cm3_cube.jpg"/>
          <p:cNvPicPr/>
          <p:nvPr/>
        </p:nvPicPr>
        <p:blipFill>
          <a:blip r:embed="rId5"/>
          <a:stretch/>
        </p:blipFill>
        <p:spPr>
          <a:xfrm>
            <a:off x="4643280" y="5013360"/>
            <a:ext cx="1851120" cy="1258920"/>
          </a:xfrm>
          <a:prstGeom prst="rect">
            <a:avLst/>
          </a:prstGeom>
          <a:ln w="0">
            <a:noFill/>
          </a:ln>
        </p:spPr>
      </p:pic>
      <p:sp>
        <p:nvSpPr>
          <p:cNvPr id="522" name="TextBox 16"/>
          <p:cNvSpPr/>
          <p:nvPr/>
        </p:nvSpPr>
        <p:spPr>
          <a:xfrm>
            <a:off x="6516720" y="5516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ттр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Cambria"/>
              </a:rPr>
              <a:t>Типы химической связи и их отличительные признаки</a:t>
            </a:r>
            <a:endParaRPr b="0" lang="en-US" sz="24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4" descr=""/>
          <p:cNvPicPr/>
          <p:nvPr/>
        </p:nvPicPr>
        <p:blipFill>
          <a:blip r:embed="rId1"/>
          <a:stretch/>
        </p:blipFill>
        <p:spPr>
          <a:xfrm>
            <a:off x="473040" y="1773360"/>
            <a:ext cx="819792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28" name="Нижний колонтитул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0" name="Picture 2" descr="http://src.ucoz.net/sm/1/bye.gif"/>
          <p:cNvPicPr/>
          <p:nvPr/>
        </p:nvPicPr>
        <p:blipFill>
          <a:blip r:embed="rId1"/>
          <a:stretch/>
        </p:blipFill>
        <p:spPr>
          <a:xfrm>
            <a:off x="6500880" y="3857760"/>
            <a:ext cx="247680" cy="171360"/>
          </a:xfrm>
          <a:prstGeom prst="rect">
            <a:avLst/>
          </a:prstGeom>
          <a:ln w="0">
            <a:noFill/>
          </a:ln>
        </p:spPr>
      </p:pic>
      <p:pic>
        <p:nvPicPr>
          <p:cNvPr id="531" name="Прямоугольник 9" descr=""/>
          <p:cNvPicPr/>
          <p:nvPr/>
        </p:nvPicPr>
        <p:blipFill>
          <a:blip r:embed="rId2"/>
          <a:stretch/>
        </p:blipFill>
        <p:spPr>
          <a:xfrm>
            <a:off x="1974960" y="2395440"/>
            <a:ext cx="474336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Основные виды связей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Химическая связь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Ионная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Ковалентная 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Металлическая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ежмолекулярные взаимодействия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водородная связь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ван-дер-ваальсовы силы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Правило октет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 результате образования химической связи атомы приобретают такую же электронную конфигурацию, как у благородных газов, которые (за исключением гелия) имеют на внешнем энергетическом уровне 8 электронов (октет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авило справедливо для ионной и ковалентной связей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Электроотрицательност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ктроотрицательность (ЭО) – это способность атомов в соединениях притягивать к себе электроны. Наибольшие значения ЭО имеют р-элементы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и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групп, наименьшие -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элементы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группы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Рисунок 6" descr="C:\Documents and Settings\Администратор\Мои документы\Мои рисунки\EO.gif"/>
          <p:cNvPicPr/>
          <p:nvPr/>
        </p:nvPicPr>
        <p:blipFill>
          <a:blip r:embed="rId1"/>
          <a:stretch/>
        </p:blipFill>
        <p:spPr>
          <a:xfrm>
            <a:off x="2124000" y="2997360"/>
            <a:ext cx="4543560" cy="217152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7" descr="C:\Documents and Settings\Администратор\Мои документы\Мои рисунки\EO.jpg"/>
          <p:cNvPicPr/>
          <p:nvPr/>
        </p:nvPicPr>
        <p:blipFill>
          <a:blip r:embed="rId2"/>
          <a:stretch/>
        </p:blipFill>
        <p:spPr>
          <a:xfrm>
            <a:off x="2124000" y="5373720"/>
            <a:ext cx="480060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Возбуждённое состояние атом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алентность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свойство атома образовывать ковалентные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 u="sng">
                <a:solidFill>
                  <a:srgbClr val="67afbd"/>
                </a:solidFill>
                <a:uFillTx/>
                <a:latin typeface="Gill Sans MT"/>
                <a:hlinkClick r:id="rId1"/>
              </a:rPr>
              <a:t>http://www.youtube.com/watch?v=SM4BxoCoHzk&amp;feature=related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C:\Documents and Settings\User\Мои документы\Мои рисунки\energia_1.jpg"/>
          <p:cNvPicPr/>
          <p:nvPr/>
        </p:nvPicPr>
        <p:blipFill>
          <a:blip r:embed="rId2"/>
          <a:stretch/>
        </p:blipFill>
        <p:spPr>
          <a:xfrm>
            <a:off x="539640" y="1413000"/>
            <a:ext cx="4748400" cy="25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C:\Documents and Settings\User\Мои документы\Мои рисунки\96.jpg"/>
          <p:cNvPicPr/>
          <p:nvPr/>
        </p:nvPicPr>
        <p:blipFill>
          <a:blip r:embed="rId3"/>
          <a:stretch/>
        </p:blipFill>
        <p:spPr>
          <a:xfrm>
            <a:off x="5651640" y="1413000"/>
            <a:ext cx="2958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Ионная хим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химическая связь, возникающая в результат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лектростатического взаимодействия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ожительно и отрицательно заряженных ионов в химическом соединени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зникает между атомами с большой разницей электроотрицательностей (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еталл и неметалл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. Примеры: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Cl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iF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OH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SO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Ионная хим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образовании ионов образуются устойчивые октетные электронные конфигурации (как у благородных газов) – правило октета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t-EE" sz="1800" spc="-1" strike="noStrike" baseline="30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 1ē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t-EE" sz="1800" spc="-1" strike="noStrike" baseline="30000">
                <a:solidFill>
                  <a:srgbClr val="000000"/>
                </a:solidFill>
                <a:latin typeface="Gill Sans MT"/>
              </a:rPr>
              <a:t>+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Cl</a:t>
            </a:r>
            <a:r>
              <a:rPr b="0" lang="et-EE" sz="1800" spc="-1" strike="noStrike" baseline="30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+ 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ē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→  Cl</a:t>
            </a:r>
            <a:r>
              <a:rPr b="0" lang="et-EE" sz="1800" spc="-1" strike="noStrike" baseline="30000">
                <a:solidFill>
                  <a:srgbClr val="000000"/>
                </a:solidFill>
                <a:latin typeface="Gill Sans MT"/>
              </a:rPr>
              <a:t>-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Na + Cl → Na</a:t>
            </a:r>
            <a:r>
              <a:rPr b="0" lang="pl-PL" sz="1800" spc="-1" strike="noStrike" baseline="30000">
                <a:solidFill>
                  <a:srgbClr val="000000"/>
                </a:solidFill>
                <a:latin typeface="Gill Sans MT"/>
              </a:rPr>
              <a:t>+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+ Cl</a:t>
            </a:r>
            <a:r>
              <a:rPr b="0" lang="pl-PL" sz="1800" spc="-1" strike="noStrike" baseline="30000">
                <a:solidFill>
                  <a:srgbClr val="000000"/>
                </a:solidFill>
                <a:latin typeface="Gill Sans MT"/>
              </a:rPr>
              <a:t>-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→ NaCl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355640" y="1216080"/>
            <a:ext cx="43182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Рисунок 6" descr="C:\Documents and Settings\Администратор\Мои документы\Мои рисунки\Ionic_bonding_animation.gif"/>
          <p:cNvPicPr/>
          <p:nvPr/>
        </p:nvPicPr>
        <p:blipFill>
          <a:blip r:embed="rId1"/>
          <a:stretch/>
        </p:blipFill>
        <p:spPr>
          <a:xfrm>
            <a:off x="4427640" y="1413000"/>
            <a:ext cx="3744720" cy="1871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C:\Documents and Settings\User\Мои документы\Мои рисунки\NaF.gif"/>
          <p:cNvPicPr/>
          <p:nvPr/>
        </p:nvPicPr>
        <p:blipFill>
          <a:blip r:embed="rId2"/>
          <a:stretch/>
        </p:blipFill>
        <p:spPr>
          <a:xfrm>
            <a:off x="4500720" y="3645000"/>
            <a:ext cx="3958920" cy="16603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9" descr="C:\Documents and Settings\User\Мои документы\Мои рисунки\dogionic.gif"/>
          <p:cNvPicPr/>
          <p:nvPr/>
        </p:nvPicPr>
        <p:blipFill>
          <a:blip r:embed="rId3"/>
          <a:stretch/>
        </p:blipFill>
        <p:spPr>
          <a:xfrm>
            <a:off x="1187280" y="4365720"/>
            <a:ext cx="2857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Ионная хим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онная химическая связь проявляется в твердых веществах с ионной кристаллической решетк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3" descr="C:\Documents and Settings\User\Мои документы\Мои рисунки\ikr.gif"/>
          <p:cNvPicPr/>
          <p:nvPr/>
        </p:nvPicPr>
        <p:blipFill>
          <a:blip r:embed="rId1"/>
          <a:stretch/>
        </p:blipFill>
        <p:spPr>
          <a:xfrm>
            <a:off x="1258920" y="270828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C:\Documents and Settings\User\Мои документы\Мои рисунки\120.jpg"/>
          <p:cNvPicPr/>
          <p:nvPr/>
        </p:nvPicPr>
        <p:blipFill>
          <a:blip r:embed="rId2"/>
          <a:stretch/>
        </p:blipFill>
        <p:spPr>
          <a:xfrm>
            <a:off x="4643280" y="2421000"/>
            <a:ext cx="309744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18:05:40Z</dcterms:created>
  <dc:creator>user</dc:creator>
  <dc:description/>
  <dc:language>en-US</dc:language>
  <cp:lastModifiedBy>LEGION</cp:lastModifiedBy>
  <dcterms:modified xsi:type="dcterms:W3CDTF">2015-05-01T12:13:18Z</dcterms:modified>
  <cp:revision>129</cp:revision>
  <dc:subject/>
  <dc:title>Химическая связь</dc:title>
</cp:coreProperties>
</file>