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4164-8F25-4A9C-88F3-166299D259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1200"/>
            </a:b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1000"/>
            </a:b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40E7-87B6-48E1-9937-ED3761CBC2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5E14-D324-4B32-9780-A95EE1E5E9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CECB-3B3B-49D5-B719-20A6D9C9D3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14F1-2C54-47C6-A3BE-6E27A2C035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CA42-1790-4D82-A959-7702F854DA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CFFD-B168-48EB-A2C1-2A3E77D2D0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9E8F-5BF7-4F4D-B1CF-4FF5418EB8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C570-3035-445A-8D3F-1AC1FF0C7C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8F6D-0588-4A10-A152-61566CEBF2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D87D-94F8-44B9-B93D-22FE64859F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1E32-22C2-4BFE-855A-5AD074592B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3126-9B55-40AD-8F3D-93CC25AC73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0EE0-5376-46ED-882B-AD2974D829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EB7F-DBE6-4237-9263-E35D01FEC3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6A09-A855-4373-9A8C-6C5FB3E5D0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F253-FA53-4141-B120-EDE2DBEC6A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A6AA-7900-47F2-94BE-AEFCF8A19D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6D74-E1A8-4556-9667-54CA36B06F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ED59-CD09-49B8-873B-E73B964711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FED-3085-4844-86D9-6C169441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F59-D5CD-42F9-BAA4-B614716C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679-B8A2-4E60-A0E1-4E3A3B3F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318-37EA-40E6-8A2B-6B5229EF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3EF-49E6-40F9-AAC8-D386C997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43D-1684-49DC-B8A6-12931573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1D4-F428-4893-A817-D6E1A129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47F-3753-42B9-8B0A-6EC49C96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72C-3BB6-4925-95C7-431D9C79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363-07C8-4FBE-95E0-7828CCFB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B6E-2FAB-4E62-AED8-BC2CC7AB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ED9-0DCE-4DCF-B981-A240E423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EAC3-7890-48B8-8537-5A21753C14A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89CE-97C5-4D2F-A9DD-C629A70AB5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43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4300"/>
            </a:b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2900"/>
            </a:b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50920" y="98748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ак изменяются металлические и неметаллические  свойства в периоде, в групп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Какие элементы обладают сильными металлическими свойствам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Какие элементы обладают сильными  неметаллическими свойств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Что такое электроотрицательность?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(выписать в словарь)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kidsoftheworld2"/>
          <p:cNvPicPr/>
          <p:nvPr/>
        </p:nvPicPr>
        <p:blipFill>
          <a:blip r:embed="rId1"/>
          <a:stretch/>
        </p:blipFill>
        <p:spPr>
          <a:xfrm>
            <a:off x="539640" y="4869000"/>
            <a:ext cx="792000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324000" y="1342800"/>
            <a:ext cx="88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отрите  схему №19.Обсудите  вопросы в группе (устно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ми  свойствами  обладают химические элементы в  начале  период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середине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конце 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640720" cy="63817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539640" y="91476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532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395280" y="164088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Mg -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Na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0,9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l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,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,5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O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3,5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2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,5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-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 flipV="1" rot="10800000">
            <a:off x="825120" y="5201280"/>
            <a:ext cx="72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Na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Mg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Cl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O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324000" y="42480"/>
            <a:ext cx="8351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468360" y="549360"/>
            <a:ext cx="44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250920" y="1125360"/>
            <a:ext cx="849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468360" y="660240"/>
            <a:ext cx="820728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24000" y="778680"/>
            <a:ext cx="820728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3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68360" y="551520"/>
            <a:ext cx="7991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28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95280" y="2894040"/>
            <a:ext cx="83534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39640" y="33336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 flipV="1" rot="10800000">
            <a:off x="1619280" y="47041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619280" y="1557360"/>
            <a:ext cx="6408720" cy="55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НС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916000" cy="4526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1:36:17Z</dcterms:created>
  <dc:creator>1</dc:creator>
  <dc:description/>
  <dc:language>en-US</dc:language>
  <cp:lastModifiedBy>LEGION</cp:lastModifiedBy>
  <dcterms:modified xsi:type="dcterms:W3CDTF">2015-05-01T12:20:47Z</dcterms:modified>
  <cp:revision>35</cp:revision>
  <dc:subject/>
  <dc:title>Тема урока: «Электроотрицательность химических элементов» Бостан Юлия Викторовна, учитель химии</dc:title>
</cp:coreProperties>
</file>