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1C2A-CB48-428E-8E84-D558AF19BCA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file:///../../Local%20Settings/Temp/&#1055;&#1088;&#1080;&#1083;&#1086;&#1078;&#1077;&#1085;&#1080;&#1077;&#8470;1%20&#1090;&#1077;&#1089;&#1090;.doc" TargetMode="External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da3"/>
                </a:solidFill>
                <a:latin typeface="Arial"/>
              </a:rPr>
              <a:t>Тема урока:</a:t>
            </a:r>
            <a:r>
              <a:rPr b="0" lang="ru-RU" sz="1200" spc="-1" strike="noStrike">
                <a:solidFill>
                  <a:srgbClr val="140da3"/>
                </a:solidFill>
                <a:latin typeface="Calibri"/>
              </a:rPr>
              <a:t> «Электроотрицательность химических  элементов»</a:t>
            </a:r>
            <a:br>
              <a:rPr sz="1200"/>
            </a:br>
            <a:r>
              <a:rPr b="0" lang="ru-RU" sz="1600" spc="-1" strike="noStrike">
                <a:solidFill>
                  <a:srgbClr val="140da3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140da3"/>
                </a:solidFill>
                <a:latin typeface="Arial"/>
              </a:rPr>
              <a:t>Бостан Юлия Викторовна, </a:t>
            </a:r>
            <a:br>
              <a:rPr sz="1000"/>
            </a:br>
            <a:r>
              <a:rPr b="0" lang="ru-RU" sz="1000" spc="-1" strike="noStrike">
                <a:solidFill>
                  <a:srgbClr val="140da3"/>
                </a:solidFill>
                <a:latin typeface="Arial"/>
              </a:rPr>
              <a:t>учитель химии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Статья отнесена к разделу: Преподавание химии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83C61-2423-4828-B4FF-33E87BA497D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140da3"/>
                </a:solidFill>
                <a:uFillTx/>
                <a:latin typeface="Calibri"/>
              </a:rPr>
              <a:t>Групповая  работ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77D2C-74D3-4896-B904-CAB6E547A5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140da3"/>
                </a:solidFill>
                <a:uFillTx/>
                <a:latin typeface="Calibri"/>
              </a:rPr>
              <a:t>Физмину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CCD54-752E-4E6E-BFC8-F0D94B1B68D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140da3"/>
                </a:solidFill>
                <a:uFillTx/>
                <a:latin typeface="Calibri"/>
              </a:rPr>
              <a:t>Групповая  работ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AA220-8189-4D03-99DE-667F261A3D1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140da3"/>
                </a:solidFill>
                <a:uFillTx/>
                <a:latin typeface="Times New Roman"/>
                <a:ea typeface="Calibri"/>
              </a:rPr>
              <a:t>1.Выполните задан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1.Расположите   химические  знаки перечисленных ниже  элементов в порядке возрастания значений  электроотрицательности:  Магний, натрий,  хлор,  сера, кислород, цезий, бор, калий, азот, бериллий, литий,фтор. Подчеркните  элементы  с  наименьшей и наибольшей электроотрицательность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597B4-BF71-4F05-888E-02072BD5E5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Химические элементы  в порядке возрастания значений  электроотрицатель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AF81A-6A18-45D7-857A-E78C516A0F2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Выпишите  чему  равна электроотрицательность лит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3.У какого элемен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группы самая  наименьшая электроотрицательнос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Наибольшую  степень электроотрицательности имеет элемен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Какие  значения электроотрицательности  имеют  металл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Какие  значения электроотрицательности  имеют  неметалл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F916C-CFA0-4469-941E-44539C8B61A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3.Самая  наименьшая элемен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группы </a:t>
            </a:r>
            <a:r>
              <a:rPr b="0" lang="en-US" sz="1200" spc="-1" strike="noStrike">
                <a:solidFill>
                  <a:srgbClr val="140da3"/>
                </a:solidFill>
                <a:latin typeface="Times New Roman"/>
                <a:ea typeface="Calibri"/>
              </a:rPr>
              <a:t>Cs </a:t>
            </a:r>
            <a:r>
              <a:rPr b="0" lang="ru-RU" sz="1200" spc="-1" strike="noStrike">
                <a:solidFill>
                  <a:srgbClr val="140da3"/>
                </a:solidFill>
                <a:latin typeface="Times New Roman"/>
                <a:ea typeface="Calibri"/>
              </a:rPr>
              <a:t>-0,7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4.Наибольшую  степень электроотрицательности   - </a:t>
            </a:r>
            <a:r>
              <a:rPr b="0" lang="en-US" sz="1200" spc="-1" strike="noStrike">
                <a:solidFill>
                  <a:srgbClr val="140da3"/>
                </a:solidFill>
                <a:latin typeface="Times New Roman"/>
                <a:ea typeface="Calibri"/>
              </a:rPr>
              <a:t>F</a:t>
            </a:r>
            <a:r>
              <a:rPr b="0" lang="ru-RU" sz="1200" spc="-1" strike="noStrike">
                <a:solidFill>
                  <a:srgbClr val="140da3"/>
                </a:solidFill>
                <a:latin typeface="Times New Roman"/>
                <a:ea typeface="Calibri"/>
              </a:rPr>
              <a:t> -4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5.Металлы имеют электроотрицательность  - </a:t>
            </a:r>
            <a:r>
              <a:rPr b="0" lang="ru-RU" sz="1200" spc="-1" strike="noStrike">
                <a:solidFill>
                  <a:srgbClr val="140da3"/>
                </a:solidFill>
                <a:latin typeface="Times New Roman"/>
                <a:ea typeface="Calibri"/>
              </a:rPr>
              <a:t>меньше 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5.Неметаллы имеют электроотрицательность -  </a:t>
            </a:r>
            <a:r>
              <a:rPr b="0" lang="ru-RU" sz="1200" spc="-1" strike="noStrike">
                <a:solidFill>
                  <a:srgbClr val="140da3"/>
                </a:solidFill>
                <a:latin typeface="Times New Roman"/>
                <a:ea typeface="Calibri"/>
              </a:rPr>
              <a:t>больше 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753C-74B6-49B8-B074-663C9F6B865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приведенных  ниже  формулах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черкните атомы  наиболее электроотрицательного  химического  элемента: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L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К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O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N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H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Al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O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B71A6-2082-4828-8B11-7A8337EA41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аиболее электроотрицательн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химическ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элемент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 в соединени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: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</a:t>
            </a:r>
            <a:r>
              <a:rPr b="0" lang="ru-RU" sz="12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С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L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К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O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N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H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S</a:t>
            </a:r>
            <a:r>
              <a:rPr b="0" lang="ru-RU" sz="12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Al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O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E26A4-FAA0-443B-9F03-B06F35380B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140da3"/>
                </a:solidFill>
                <a:uFillTx/>
                <a:latin typeface="Arial"/>
              </a:rPr>
              <a:t>Цель урока</a:t>
            </a:r>
            <a:r>
              <a:rPr b="0" lang="ru-RU" sz="1600" spc="-1" strike="noStrike">
                <a:solidFill>
                  <a:srgbClr val="140da3"/>
                </a:solidFill>
                <a:latin typeface="Arial"/>
              </a:rPr>
              <a:t>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40da3"/>
                </a:solidFill>
                <a:latin typeface="Calibri"/>
              </a:rPr>
              <a:t>Знать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электроотрицательность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140da3"/>
                </a:solidFill>
                <a:latin typeface="Calibri"/>
              </a:rPr>
              <a:t>Уметь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вать электроотрицательность химических  элементов    в  сложных  веществах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7EA8A-B8F5-4371-81C4-F80EFDAD115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140da3"/>
                </a:solidFill>
                <a:uFillTx/>
                <a:latin typeface="Times New Roman"/>
                <a:ea typeface="Calibri"/>
              </a:rPr>
              <a:t>Дополните фразу</a:t>
            </a:r>
            <a:r>
              <a:rPr b="0" lang="ru-RU" sz="1200" spc="-1" strike="noStrike">
                <a:solidFill>
                  <a:srgbClr val="140da3"/>
                </a:solidFill>
                <a:latin typeface="Times New Roman"/>
                <a:ea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егодня я узнал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Б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ыло интересн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ло трудн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 выполнял задания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 понял, чт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перь я могу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 почувствовал, чт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 приобрел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 научился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 меня получилось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 смог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 попробую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е захотелось…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DE0D2-5688-4D48-B15E-3B303C6B8F0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Тестирование:_x000b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482C0-F550-4523-9DEF-2452C351C30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40da3"/>
                </a:solidFill>
                <a:latin typeface="Calibri"/>
              </a:rPr>
              <a:t>Работа  с терминологи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«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Установи соответствие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амопроверка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ы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-3, 2-5,  3-6, 4-2, 5-7, 6-4, 7-1.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За правильный ответ 1 балл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56F0F-7CB7-4E8F-BB47-282EE6843A3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40da3"/>
                </a:solidFill>
                <a:latin typeface="Calibri"/>
              </a:rPr>
              <a:t>« </a:t>
            </a:r>
            <a:r>
              <a:rPr b="1" i="1" lang="ru-RU" sz="1200" spc="-1" strike="noStrike">
                <a:solidFill>
                  <a:srgbClr val="140da3"/>
                </a:solidFill>
                <a:latin typeface="Calibri"/>
              </a:rPr>
              <a:t>О каком понятии идет речь»</a:t>
            </a:r>
            <a:r>
              <a:rPr b="0" lang="ru-RU" sz="1200" spc="-1" strike="noStrike">
                <a:solidFill>
                  <a:srgbClr val="140da3"/>
                </a:solidFill>
                <a:latin typeface="Calibri"/>
              </a:rPr>
              <a:t>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Разновидности  атомов одного и того же  химического  элемента, имеющие одинаковое  число протонов в ядре, но разную  массу. …….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ид атомов  с одинаковым  зарядом  ядра………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Мельчайшая, химически неделимая, частица ……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В центре атома находится заряженное …………….     5. Ядра  атомов  состоят из ………и……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Вокруг ядра по замкнутым  орбитам вращаются отрицательно  заряженные……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За правильный ответ 1 балл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91143-2676-4797-B358-D74C36C47B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 каком понятии идет речь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Разновидности  атомов одного и того же  химического  элемента, имеющие одинаковое  число протонов в ядре, но разную  массу -  </a:t>
            </a:r>
            <a:r>
              <a:rPr b="0" lang="ru-RU" sz="1200" spc="-1" strike="noStrike">
                <a:solidFill>
                  <a:srgbClr val="140da3"/>
                </a:solidFill>
                <a:latin typeface="Calibri"/>
              </a:rPr>
              <a:t>изотопам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ид атомов  с одинаковым  зарядом  ядра, </a:t>
            </a:r>
            <a:r>
              <a:rPr b="0" lang="ru-RU" sz="1200" spc="-1" strike="noStrike">
                <a:solidFill>
                  <a:srgbClr val="140da3"/>
                </a:solidFill>
                <a:latin typeface="Calibri"/>
              </a:rPr>
              <a:t>химический  элемент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Мельчайшая, химически неделимая, частица- </a:t>
            </a:r>
            <a:r>
              <a:rPr b="0" lang="ru-RU" sz="1200" spc="-1" strike="noStrike">
                <a:solidFill>
                  <a:srgbClr val="140da3"/>
                </a:solidFill>
                <a:latin typeface="Calibri"/>
              </a:rPr>
              <a:t>ат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В центре атома находится заряженное – </a:t>
            </a:r>
            <a:r>
              <a:rPr b="0" lang="ru-RU" sz="1200" spc="-1" strike="noStrike">
                <a:solidFill>
                  <a:srgbClr val="140da3"/>
                </a:solidFill>
                <a:latin typeface="Calibri"/>
              </a:rPr>
              <a:t>ядро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Ядра  атомов  состоят из </a:t>
            </a:r>
            <a:r>
              <a:rPr b="0" lang="ru-RU" sz="1200" spc="-1" strike="noStrike">
                <a:solidFill>
                  <a:srgbClr val="140da3"/>
                </a:solidFill>
                <a:latin typeface="Calibri"/>
              </a:rPr>
              <a:t>- протонов и нейтро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Вокруг ядра по замкнутым  орбитам вращаются отрицательно  заряженные </a:t>
            </a:r>
            <a:r>
              <a:rPr b="0" lang="ru-RU" sz="1200" spc="-1" strike="noStrike">
                <a:solidFill>
                  <a:srgbClr val="140da3"/>
                </a:solidFill>
                <a:latin typeface="Calibri"/>
              </a:rPr>
              <a:t>– электро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0347D-07AB-4C35-B650-AACD85051C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Изучение нового матери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5F068-A3ED-4953-8344-2599BF509F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ое понятие об электроотрицательности атомов было введено американским химиком Л. Полинг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A89F7-5981-4484-909F-51F9A4BF60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40da3"/>
                </a:solidFill>
                <a:latin typeface="Calibri"/>
              </a:rPr>
              <a:t>Работа с учебник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ткрыли учебник §40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тать текст на  стр. 121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ECCF0-8AA8-4294-A2DF-B905ABAECD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F1B9-AF5D-4028-8A0C-4888EA04B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9834-3F1B-427E-8A21-BED9E3568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44E0-8FEF-4BE2-8C2C-90B22A5FF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59FE-F589-42D9-8072-8E387701B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5059-92F1-48E9-8999-399A062F2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7334-B516-4B64-A8B8-549E62AB5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6332-779C-452A-BB02-261E3C5FE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E312-C31E-4CC9-9B79-956AFD3C4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2CC2-6A6D-42CB-A6F4-C33B9619E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E0CA-7FB9-49A2-9266-761813AF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FD9D-E37F-40BF-9AAB-40CCDD1E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7B72-048D-4CF4-AE4E-7D2F9A49A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785EA-D7BF-46D7-9782-F3A6B2A193F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67AA-6A88-4BB8-8F4E-72C9B0ECEA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../../Local%20Settings/Temp/&#1055;&#1088;&#1080;&#1083;&#1086;&#1078;&#1077;&#1085;&#1080;&#1077;&#8470;1%20&#1090;&#1077;&#1089;&#1090;.doc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140da3"/>
                </a:solidFill>
                <a:latin typeface="Arial"/>
              </a:rPr>
              <a:t>Тема урока:</a:t>
            </a:r>
            <a:r>
              <a:rPr b="0" lang="ru-RU" sz="4300" spc="-1" strike="noStrike">
                <a:solidFill>
                  <a:srgbClr val="140da3"/>
                </a:solidFill>
                <a:latin typeface="Calibri"/>
              </a:rPr>
              <a:t> «Электроотрицательность химических  элементов»</a:t>
            </a:r>
            <a:br>
              <a:rPr sz="4300"/>
            </a:br>
            <a:r>
              <a:rPr b="0" lang="ru-RU" sz="4900" spc="-1" strike="noStrike">
                <a:solidFill>
                  <a:srgbClr val="140da3"/>
                </a:solidFill>
                <a:latin typeface="Arial"/>
              </a:rPr>
              <a:t> </a:t>
            </a:r>
            <a:r>
              <a:rPr b="0" lang="ru-RU" sz="2900" spc="-1" strike="noStrike">
                <a:solidFill>
                  <a:srgbClr val="140da3"/>
                </a:solidFill>
                <a:latin typeface="Arial"/>
              </a:rPr>
              <a:t>Бостан Юлия Викторовна, </a:t>
            </a:r>
            <a:br>
              <a:rPr sz="2900"/>
            </a:br>
            <a:r>
              <a:rPr b="0" lang="ru-RU" sz="2900" spc="-1" strike="noStrike">
                <a:solidFill>
                  <a:srgbClr val="140da3"/>
                </a:solidFill>
                <a:latin typeface="Arial"/>
              </a:rPr>
              <a:t>учитель химии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5229000"/>
            <a:ext cx="64008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8989"/>
                </a:solidFill>
                <a:latin typeface="Arial"/>
              </a:rPr>
              <a:t>Статья отнесена к разделу: Преподавание хим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140da3"/>
                </a:solidFill>
                <a:uFillTx/>
                <a:latin typeface="Calibri"/>
              </a:rPr>
              <a:t>Групповая  работ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1"/>
          <p:cNvSpPr/>
          <p:nvPr/>
        </p:nvSpPr>
        <p:spPr>
          <a:xfrm>
            <a:off x="250920" y="987480"/>
            <a:ext cx="8642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1.Как изменяются металлические и неметаллические  свойства в периоде, в группе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2.Какие элементы обладают сильными металлическими свойствами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.Какие элементы обладают сильными  неметаллическими свойствам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4.Что такое электроотрицательность?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(выписать в словарь)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140da3"/>
                </a:solidFill>
                <a:uFillTx/>
                <a:latin typeface="Calibri"/>
              </a:rPr>
              <a:t>Физминут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3" descr="kidsoftheworld2"/>
          <p:cNvPicPr/>
          <p:nvPr/>
        </p:nvPicPr>
        <p:blipFill>
          <a:blip r:embed="rId1"/>
          <a:stretch/>
        </p:blipFill>
        <p:spPr>
          <a:xfrm>
            <a:off x="539640" y="4869000"/>
            <a:ext cx="7920000" cy="110484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140da3"/>
                </a:solidFill>
                <a:uFillTx/>
                <a:latin typeface="Calibri"/>
              </a:rPr>
              <a:t>Групповая  работ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1"/>
          <p:cNvSpPr/>
          <p:nvPr/>
        </p:nvSpPr>
        <p:spPr>
          <a:xfrm>
            <a:off x="324000" y="1342800"/>
            <a:ext cx="882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смотрите  схему №19.Обсудите  вопросы в группе (устно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ими  свойствами  обладают химические элементы в  начале  периода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кими  свойствами  обладают химические элементы в  середине перио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кими  свойствами  обладают химические элементы в  конце  перио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Содержимое 4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8640720" cy="638172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539640" y="914760"/>
            <a:ext cx="8353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140da3"/>
                </a:solidFill>
                <a:uFillTx/>
                <a:latin typeface="Times New Roman"/>
                <a:ea typeface="Calibri"/>
              </a:rPr>
              <a:t>1.Выполните задания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1.Расположите   химические  знаки перечисленных ниже  элементов в порядке возрастания значений  электроотрицательности:  Магний, натрий,  хлор,  сера, кислород, цезий, бор, калий, азот, бериллий, литий,фтор. Подчеркните  элементы  с  наименьшей и наибольшей электроотрицательностью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53272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Химические элементы  в порядке возрастания значений  электроотрицательност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1"/>
          <p:cNvSpPr/>
          <p:nvPr/>
        </p:nvSpPr>
        <p:spPr>
          <a:xfrm>
            <a:off x="395280" y="1640880"/>
            <a:ext cx="8353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Mg -1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,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Na -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0,9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Cl -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3,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S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–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2,5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O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-3,5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Cs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-0,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B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2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Be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-1,5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Li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F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-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8"/>
          <p:cNvSpPr/>
          <p:nvPr/>
        </p:nvSpPr>
        <p:spPr>
          <a:xfrm flipV="1" rot="10800000">
            <a:off x="825120" y="5201280"/>
            <a:ext cx="720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Cs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, 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Na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, 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Li 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,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 Mg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, 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Be 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, 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B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,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 S 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,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 Cl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,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 O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,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 F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324000" y="42480"/>
            <a:ext cx="83516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Выпишите  чему  равна электроотрицательность лити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3.У какого элемента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I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группы самая  наименьшая электроотрицательнос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4.Наибольшую  степень электроотрицательности имеет элемен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5.Какие  значения электроотрицательности  имеют  металл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6.Какие  значения электроотрицательности  имеют  неметалл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468360" y="549360"/>
            <a:ext cx="442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2.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Li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3"/>
          <p:cNvSpPr/>
          <p:nvPr/>
        </p:nvSpPr>
        <p:spPr>
          <a:xfrm>
            <a:off x="250920" y="1125360"/>
            <a:ext cx="849780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3.Самая  наименьшая элемента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I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группы 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Cs 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-0,7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4.Наибольшую  степень электроотрицательности   - 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F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 -4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5.Металлы имеют электроотрицательность  - 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меньше 2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5.Неметаллы имеют электроотрицательность -  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больше 2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"/>
          <p:cNvSpPr/>
          <p:nvPr/>
        </p:nvSpPr>
        <p:spPr>
          <a:xfrm>
            <a:off x="468360" y="660240"/>
            <a:ext cx="8207280" cy="61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приведенных  ниже  формулах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черкните атомы  наиболее электроотрицательного  химического  элемента: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С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L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К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O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,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N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H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S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Al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O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"/>
          <p:cNvSpPr/>
          <p:nvPr/>
        </p:nvSpPr>
        <p:spPr>
          <a:xfrm>
            <a:off x="324000" y="778680"/>
            <a:ext cx="8207280" cy="55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иболее электроотрицательн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 химическ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е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 элемент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 в соединени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: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</a:t>
            </a:r>
            <a:r>
              <a:rPr b="0" lang="ru-RU" sz="40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С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L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К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O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,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N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H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S</a:t>
            </a:r>
            <a:r>
              <a:rPr b="0" lang="ru-RU" sz="40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,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Al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O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140da3"/>
                </a:solidFill>
                <a:uFillTx/>
                <a:latin typeface="Arial"/>
              </a:rPr>
              <a:t>Цель урока</a:t>
            </a:r>
            <a:r>
              <a:rPr b="0" lang="ru-RU" sz="3600" spc="-1" strike="noStrike">
                <a:solidFill>
                  <a:srgbClr val="140da3"/>
                </a:solidFill>
                <a:latin typeface="Arial"/>
              </a:rPr>
              <a:t>: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140da3"/>
                </a:solidFill>
                <a:latin typeface="Calibri"/>
              </a:rPr>
              <a:t>Знать: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о такое электроотрицательность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140da3"/>
                </a:solidFill>
                <a:latin typeface="Calibri"/>
              </a:rPr>
              <a:t>Уметь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равнивать электроотрицательность химических  элементов    в  сложных  веществах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"/>
          <p:cNvSpPr/>
          <p:nvPr/>
        </p:nvSpPr>
        <p:spPr>
          <a:xfrm>
            <a:off x="468360" y="551520"/>
            <a:ext cx="79912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140da3"/>
                </a:solidFill>
                <a:uFillTx/>
                <a:latin typeface="Times New Roman"/>
                <a:ea typeface="Calibri"/>
              </a:rPr>
              <a:t>Дополните фразу</a:t>
            </a:r>
            <a:r>
              <a:rPr b="0" lang="ru-RU" sz="2800" spc="-1" strike="noStrike">
                <a:solidFill>
                  <a:srgbClr val="140da3"/>
                </a:solidFill>
                <a:latin typeface="Times New Roman"/>
                <a:ea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егодня я узнал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Б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ыло интересн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ыло трудн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 выполнял задани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 понял, чт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перь я могу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 почувствовал, чт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 приобрел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 научилс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 меня получилось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 смог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 попробую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не захотелось…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395280" y="2894040"/>
            <a:ext cx="835344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539640" y="333360"/>
            <a:ext cx="79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Тестирование:_x000b_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3"/>
          <p:cNvSpPr/>
          <p:nvPr/>
        </p:nvSpPr>
        <p:spPr>
          <a:xfrm flipV="1" rot="10800000">
            <a:off x="1619280" y="470412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За правильный ответ 1 бал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6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40da3"/>
                </a:solidFill>
                <a:latin typeface="Calibri"/>
              </a:rPr>
              <a:t>Работа  с терминологией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« 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Установи соответствие»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Самопроверка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тветы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-3, 2-5,  3-6, 4-2, 5-7, 6-4, 7-1.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 правильный ответ 1 бал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40da3"/>
                </a:solidFill>
                <a:latin typeface="Calibri"/>
              </a:rPr>
              <a:t>« </a:t>
            </a:r>
            <a:r>
              <a:rPr b="1" i="1" lang="ru-RU" sz="2800" spc="-1" strike="noStrike">
                <a:solidFill>
                  <a:srgbClr val="140da3"/>
                </a:solidFill>
                <a:latin typeface="Calibri"/>
              </a:rPr>
              <a:t>О каком понятии идет речь»</a:t>
            </a:r>
            <a:r>
              <a:rPr b="0" lang="ru-RU" sz="2800" spc="-1" strike="noStrike">
                <a:solidFill>
                  <a:srgbClr val="140da3"/>
                </a:solidFill>
                <a:latin typeface="Calibri"/>
              </a:rPr>
              <a:t>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Разновидности  атомов одного и того же  химического  элемента, имеющие одинаковое  число протонов в ядре, но разную  массу. …….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Вид атомов  с одинаковым  зарядом  ядра………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Мельчайшая, химически неделимая, частица ……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 В центре атома находится заряженное …………….     5. Ядра  атомов  состоят из ………и……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. Вокруг ядра по замкнутым  орбитам вращаются отрицательно  заряженные……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За правильный ответ 1 балл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О каком понятии идет речь»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Разновидности  атомов одного и того же  химического  элемента, имеющие одинаковое  число протонов в ядре, но разную  массу -  </a:t>
            </a:r>
            <a:r>
              <a:rPr b="0" lang="ru-RU" sz="2800" spc="-1" strike="noStrike">
                <a:solidFill>
                  <a:srgbClr val="140da3"/>
                </a:solidFill>
                <a:latin typeface="Calibri"/>
              </a:rPr>
              <a:t>изотопам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Вид атомов  с одинаковым  зарядом  ядра, </a:t>
            </a:r>
            <a:r>
              <a:rPr b="0" lang="ru-RU" sz="2800" spc="-1" strike="noStrike">
                <a:solidFill>
                  <a:srgbClr val="140da3"/>
                </a:solidFill>
                <a:latin typeface="Calibri"/>
              </a:rPr>
              <a:t>химический  элемент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Мельчайшая, химически неделимая, частица- </a:t>
            </a:r>
            <a:r>
              <a:rPr b="0" lang="ru-RU" sz="2800" spc="-1" strike="noStrike">
                <a:solidFill>
                  <a:srgbClr val="140da3"/>
                </a:solidFill>
                <a:latin typeface="Calibri"/>
              </a:rPr>
              <a:t>атом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 В центре атома находится заряженное – </a:t>
            </a:r>
            <a:r>
              <a:rPr b="0" lang="ru-RU" sz="2800" spc="-1" strike="noStrike">
                <a:solidFill>
                  <a:srgbClr val="140da3"/>
                </a:solidFill>
                <a:latin typeface="Calibri"/>
              </a:rPr>
              <a:t>ядро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. Ядра  атомов  состоят из </a:t>
            </a:r>
            <a:r>
              <a:rPr b="0" lang="ru-RU" sz="2800" spc="-1" strike="noStrike">
                <a:solidFill>
                  <a:srgbClr val="140da3"/>
                </a:solidFill>
                <a:latin typeface="Calibri"/>
              </a:rPr>
              <a:t>- протонов и нейтронов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. Вокруг ядра по замкнутым  орбитам вращаются отрицательно  заряженные </a:t>
            </a:r>
            <a:r>
              <a:rPr b="0" lang="ru-RU" sz="2800" spc="-1" strike="noStrike">
                <a:solidFill>
                  <a:srgbClr val="140da3"/>
                </a:solidFill>
                <a:latin typeface="Calibri"/>
              </a:rPr>
              <a:t>– электрон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Calibri"/>
              </a:rPr>
              <a:t>Изучение нового материа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2"/>
          <p:cNvSpPr/>
          <p:nvPr/>
        </p:nvSpPr>
        <p:spPr>
          <a:xfrm>
            <a:off x="1619280" y="1557360"/>
            <a:ext cx="6408720" cy="55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НС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,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NaCl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,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6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,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ru-RU" sz="6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,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Al</a:t>
            </a:r>
            <a:r>
              <a:rPr b="0" lang="en-US" sz="6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66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временное понятие об электроотрицательности атомов было введено американским химиком Л. Полинго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4" descr=""/>
          <p:cNvPicPr/>
          <p:nvPr/>
        </p:nvPicPr>
        <p:blipFill>
          <a:blip r:embed="rId1"/>
          <a:stretch/>
        </p:blipFill>
        <p:spPr>
          <a:xfrm>
            <a:off x="3203640" y="1989000"/>
            <a:ext cx="2916000" cy="452628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08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40da3"/>
                </a:solidFill>
                <a:latin typeface="Calibri"/>
              </a:rPr>
              <a:t>Работа с учебником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Открыли учебник §40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читать текст на  стр. 121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9T11:36:17Z</dcterms:created>
  <dc:creator>1</dc:creator>
  <dc:description/>
  <dc:language>en-US</dc:language>
  <cp:lastModifiedBy>LEGION</cp:lastModifiedBy>
  <dcterms:modified xsi:type="dcterms:W3CDTF">2015-05-01T12:20:47Z</dcterms:modified>
  <cp:revision>35</cp:revision>
  <dc:subject/>
  <dc:title>Тема урока: «Электроотрицательность химических элементов» Бостан Юлия Викторовна, учитель химии</dc:title>
</cp:coreProperties>
</file>