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4E97-CD29-4239-8150-BC0C8CEA78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1200"/>
            </a:b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1000"/>
            </a:br>
            <a:r>
              <a:rPr b="0" lang="ru-RU" sz="10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5C1D-24A5-41F1-B5CA-7A4A53553B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147E-F558-4569-8652-08BFF84995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5ADB-5393-4A6A-9914-DFBBABDB0C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DBCE-ED73-43D9-890D-7EBF72D60A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7574-0F0D-4D5B-8AC7-736C617422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DDB9-B093-4307-9AB9-C34BE295E9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8D58-52E4-4F3A-BC66-324056B984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FB56-1EF8-433F-94B0-654E11CE2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E75E-52C9-4D84-B0C9-4928FC1250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1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FA2B-B4AD-4209-942F-8FB582AE42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0C7D-D0B8-403E-8B5A-A383AEE073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12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FB66-2A3B-45E9-B32B-F8A50C50CE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9070-8436-46AC-9840-097E8A4B2F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30C9-4338-4A74-A4E6-3091B33E06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847E-3F32-4267-84D9-9C1C377071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12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C0AC-9F82-4009-8C78-B10FBAA0F6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CE1F-BD77-4F90-ADE4-D34D5692FA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06DE-EB3B-4625-898B-A430FA9221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D237-1B6B-4BEF-B5E5-576D23AB0B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06B-D5A4-4D21-ADFC-C3B3CE91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4B9-CD8A-40C7-89BB-BDCFAF1A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468F-7397-417E-BFBC-9EE7BDBF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EE8-D103-444D-9CD6-BD4ED540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BAC-DD97-476B-854F-499D5461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198-B3F0-437A-86B0-8B3DFD64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A6D-FFD0-409C-8424-E63E5580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62C-3E93-4E77-93D1-ACDCFDB6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FB5-53F6-4C0C-97C1-0C12F93E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CD7-DDA4-4586-A200-2484004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633-D215-4C02-81E2-EAFCB175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2EC9-EC33-41CC-BF1A-284F7556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851E-4B4B-45BD-9201-5FE764675C0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E6EC-E194-487B-B47D-94F70F533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/&#1055;&#1088;&#1080;&#1083;&#1086;&#1078;&#1077;&#1085;&#1080;&#1077;&#8470;1%20&#1090;&#1077;&#1089;&#109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Тема урока:</a:t>
            </a:r>
            <a:r>
              <a:rPr b="0" lang="ru-RU" sz="4300" spc="-1" strike="noStrike">
                <a:solidFill>
                  <a:srgbClr val="140da3"/>
                </a:solidFill>
                <a:latin typeface="Calibri"/>
              </a:rPr>
              <a:t> «Электроотрицательность химических  элементов»</a:t>
            </a:r>
            <a:br>
              <a:rPr sz="4300"/>
            </a:br>
            <a:r>
              <a:rPr b="0" lang="ru-RU" sz="4900" spc="-1" strike="noStrike">
                <a:solidFill>
                  <a:srgbClr val="140da3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Бостан Юлия Викторовна, </a:t>
            </a:r>
            <a:br>
              <a:rPr sz="2900"/>
            </a:br>
            <a:r>
              <a:rPr b="0" lang="ru-RU" sz="2900" spc="-1" strike="noStrike">
                <a:solidFill>
                  <a:srgbClr val="140da3"/>
                </a:solidFill>
                <a:latin typeface="Arial"/>
              </a:rPr>
              <a:t>учитель химии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Статья отнесена к разделу: Преподавание хим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50920" y="98748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 изменяются металлические и неметаллические  свойства в периоде, в групп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Какие элементы обладают сильными металлическими свойства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Какие элементы обладают сильными  неметаллическими свойствам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Что такое электроотрицательность?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(выписать в словарь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40da3"/>
                </a:solidFill>
                <a:uFillTx/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kidsoftheworld2"/>
          <p:cNvPicPr/>
          <p:nvPr/>
        </p:nvPicPr>
        <p:blipFill>
          <a:blip r:embed="rId1"/>
          <a:stretch/>
        </p:blipFill>
        <p:spPr>
          <a:xfrm>
            <a:off x="539640" y="4869000"/>
            <a:ext cx="792000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40da3"/>
                </a:solidFill>
                <a:uFillTx/>
                <a:latin typeface="Calibri"/>
              </a:rPr>
              <a:t>Групповая  рабо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324000" y="1342800"/>
            <a:ext cx="88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ите  схему №19.Обсудите  вопросы в группе (устн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и  свойствами  обладают химические элементы в  начале  период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середине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ими  свойствами  обладают химические элементы в  конце  пери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640720" cy="63817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539640" y="9147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1.Выполните зада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1.Расположите   химические  знаки перечисленных ниже  элементов в порядке возрастания значений  электроотрицательности:  Магний, натрий,  хлор,  сера, кислород, цезий, бор, калий, азот, бериллий, литий,фтор. Подчеркните  элементы  с  наименьшей и наибольшей электроотрица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532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ие элементы  в порядке возрастания значений  электроотрица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164088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Mg -1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,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Na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0,9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l -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,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,5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O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3,5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2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,5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-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 flipV="1" rot="10800000">
            <a:off x="825120" y="5201280"/>
            <a:ext cx="72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Na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Mg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e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B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Cl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O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,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324000" y="42480"/>
            <a:ext cx="8351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ыпишите  чему  равна электроотрицательность лит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У какого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самая  наименьшая электроотрицательнос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.Наибольшую  степень электроотрицательности имеет элемен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.Какие  значения электроотрицательности  имеют  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6.Какие  значения электроотрицательности  имеют  неметалл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468360" y="549360"/>
            <a:ext cx="44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Li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250920" y="1125360"/>
            <a:ext cx="84978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3.Самая  наименьшая элемента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группы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Cs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-0,7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4.Наибольшую  степень электроотрицательности   - </a:t>
            </a:r>
            <a:r>
              <a:rPr b="0" lang="en-US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F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 -4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5.Металлы имеют электроотрицательность  -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мен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5.Неметаллы имеют электроотрицательность -  </a:t>
            </a:r>
            <a:r>
              <a:rPr b="0" lang="ru-RU" sz="3600" spc="-1" strike="noStrike">
                <a:solidFill>
                  <a:srgbClr val="140da3"/>
                </a:solidFill>
                <a:latin typeface="Times New Roman"/>
                <a:ea typeface="Calibri"/>
              </a:rPr>
              <a:t>больше 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468360" y="660240"/>
            <a:ext cx="820728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риведенных  ниже  формула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черкните атомы  наиболее электроотрицательного  химического  элемента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24000" y="778680"/>
            <a:ext cx="82072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иболее электроотрицательн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химическ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элемент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 в соединен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С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,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S</a:t>
            </a:r>
            <a:r>
              <a:rPr b="0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,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Al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imes New Roman"/>
                <a:ea typeface="Calibri"/>
              </a:rPr>
              <a:t>O</a:t>
            </a:r>
            <a:r>
              <a:rPr b="0" lang="ru-RU" sz="4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40da3"/>
                </a:solidFill>
                <a:uFillTx/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140da3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Знать: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такое электроотрицательнос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140da3"/>
                </a:solidFill>
                <a:latin typeface="Calibri"/>
              </a:rPr>
              <a:t>Уметь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вать электроотрицательность химических  элементов    в  сложных  вещества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468360" y="551520"/>
            <a:ext cx="7991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40da3"/>
                </a:solidFill>
                <a:uFillTx/>
                <a:latin typeface="Times New Roman"/>
                <a:ea typeface="Calibri"/>
              </a:rPr>
              <a:t>Дополните фразу</a:t>
            </a:r>
            <a:r>
              <a:rPr b="0" lang="ru-RU" sz="2800" spc="-1" strike="noStrike">
                <a:solidFill>
                  <a:srgbClr val="140da3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ыло интерес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ыполнял задан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е захотелось…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395280" y="2894040"/>
            <a:ext cx="835344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9640" y="33336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ирование:_x000b_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 flipV="1" rot="10800000">
            <a:off x="1619280" y="470412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0da3"/>
                </a:solidFill>
                <a:latin typeface="Calibri"/>
              </a:rPr>
              <a:t>Работа  с терминологи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Установи соответствие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Самопроверк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вет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-3, 2-5,  3-6, 4-2, 5-7, 6-4, 7-1.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 правильный ответ 1 бал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140da3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. …….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…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 ……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…………….     5. Ядра  атомов  состоят из ………и……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……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 правильный ответ 1 балл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 каком понятии идет речь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Разновидности  атомов одного и того же  химического  элемента, имеющие одинаковое  число протонов в ядре, но разную  массу - 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изотопам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Вид атомов  с одинаковым  зарядом  ядра,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химический  элемен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Мельчайшая, химически неделимая, частица-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ат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В центре атома находится заряженное –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яд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Ядра  атомов  состоят из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- протонов и нейтрон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Вокруг ядра по замкнутым  орбитам вращаются отрицательно  заряженные </a:t>
            </a:r>
            <a:r>
              <a:rPr b="0" lang="ru-RU" sz="2800" spc="-1" strike="noStrike">
                <a:solidFill>
                  <a:srgbClr val="140da3"/>
                </a:solidFill>
                <a:latin typeface="Calibri"/>
              </a:rPr>
              <a:t>– электро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19280" y="1557360"/>
            <a:ext cx="6408720" cy="55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НС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ru-RU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6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ременное понятие об электроотрицательности атомов было введено американским химиком Л. Полинг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4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916000" cy="4526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0da3"/>
                </a:solidFill>
                <a:latin typeface="Calibri"/>
              </a:rPr>
              <a:t>Работа с учебнико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Открыли учебник §40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читать текст на  стр. 121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1:36:17Z</dcterms:created>
  <dc:creator>1</dc:creator>
  <dc:description/>
  <dc:language>en-US</dc:language>
  <cp:lastModifiedBy>LEGION</cp:lastModifiedBy>
  <dcterms:modified xsi:type="dcterms:W3CDTF">2015-05-01T12:20:47Z</dcterms:modified>
  <cp:revision>35</cp:revision>
  <dc:subject/>
  <dc:title>Тема урока: «Электроотрицательность химических элементов» Бостан Юлия Викторовна, учитель химии</dc:title>
</cp:coreProperties>
</file>