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B7A57-B892-41F4-A503-5408FA7F4AAE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Виды химической связи в неорганических вещества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Урок-повтор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1D9C1-A0CF-4289-8B95-93CFF109B910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Характеристика типов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C8149-0D4C-401B-B3E5-10B83408B75C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Характеристика типов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Иг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«Крестики-нолик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2B40A-6CC8-4BB8-AFFA-D1314F208A51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Выигрышный путь </a:t>
            </a:r>
            <a:br>
              <a:rPr sz="1200"/>
            </a:b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«Ковалентная неполярная связ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A2B33-684F-4669-ABBF-93242EDFB9D4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Выигрышный путь </a:t>
            </a:r>
            <a:br>
              <a:rPr sz="1200"/>
            </a:b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«Ковалентная полярная связ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CA478-22F8-4B65-A231-95DD0CBE3548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Выигрышный путь </a:t>
            </a:r>
            <a:br>
              <a:rPr sz="1200"/>
            </a:b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            «Ионная связ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AD91A-1995-4815-B43D-2952526DF347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imes New Roman"/>
              </a:rPr>
              <a:t>Выполните задан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Для приведенных веществ определите тип связи, изобразите схемы образования связей в молекулах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H</a:t>
            </a:r>
            <a:r>
              <a:rPr b="0" lang="ru-RU" sz="12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NaF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OF</a:t>
            </a:r>
            <a:r>
              <a:rPr b="0" lang="ru-RU" sz="12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59BF0-533F-4A89-A997-F4A5972E692C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Самостоятельна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02D15-9220-471D-A578-249F2DDABF86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Домашнее задание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повтори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§ 18 – 21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§ 38 - 4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FF2D6-C565-4AB3-A70F-70839A4045D0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imes New Roman"/>
              </a:rPr>
              <a:t>Зна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определение понятия химическая связ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виды химической связ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механизмы образования каждого вида связ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19DD8-3954-4465-A8A7-4C9C110F3102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imes New Roman"/>
              </a:rPr>
              <a:t>Уме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определять вид связи по формуле веществ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записывать схему образования каждого вида связ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8AF34-F87B-47EA-A657-0574F05A1809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imes New Roman"/>
              </a:rPr>
              <a:t>Проверочная рабо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Согласно плану-алгоритму, дайте характеристику элементу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1 вариант –  натри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2 вариант –  кремни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3 вариант -  с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89DA6-E9C2-491A-8342-07D3FDED9891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imes New Roman"/>
              </a:rPr>
              <a:t>Химическая связь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– взаимодействие между атомами, приводящее к образованию устойчивой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11E14-B54B-4232-A56B-866415DC2211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ru-RU" sz="1400" spc="-1" strike="noStrike">
                <a:solidFill>
                  <a:srgbClr val="003366"/>
                </a:solidFill>
                <a:latin typeface="Times New Roman"/>
              </a:rPr>
              <a:t>Химическая связ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 ↓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       ↓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  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ионная</a:t>
            </a: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  ковалентная </a:t>
            </a: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  металлическ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66"/>
                </a:solidFill>
                <a:latin typeface="Times New Roman"/>
              </a:rPr>
              <a:t>                             ↓</a:t>
            </a:r>
            <a:r>
              <a:rPr b="1" lang="ru-RU" sz="1200" spc="-1" strike="noStrike">
                <a:solidFill>
                  <a:srgbClr val="0033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66"/>
                </a:solidFill>
                <a:latin typeface="Times New Roman"/>
              </a:rPr>
              <a:t>                      </a:t>
            </a:r>
            <a:r>
              <a:rPr b="0" lang="ru-RU" sz="1100" spc="-1" strike="noStrike">
                <a:solidFill>
                  <a:srgbClr val="003366"/>
                </a:solidFill>
                <a:latin typeface="Times New Roman"/>
              </a:rPr>
              <a:t>(полярная связь,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3366"/>
                </a:solidFill>
                <a:latin typeface="Times New Roman"/>
              </a:rPr>
              <a:t>                      </a:t>
            </a:r>
            <a:r>
              <a:rPr b="0" lang="ru-RU" sz="1100" spc="-1" strike="noStrike">
                <a:solidFill>
                  <a:srgbClr val="003366"/>
                </a:solidFill>
                <a:latin typeface="Times New Roman"/>
              </a:rPr>
              <a:t>неполярная связь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BE69D-42F5-411A-B8DE-F4A27D7BD926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imes New Roman"/>
              </a:rPr>
              <a:t>Параметры характеристики связ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Тип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Тип связываемых эле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Вид взаимодействующих част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Механизм образования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3ED79-2D31-4B1F-8451-CDE2456EE363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Характеристика типов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6A621-5439-4112-8C39-7554D48F53B8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Times New Roman"/>
              </a:rPr>
              <a:t>Характеристика типов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41B70-C9D6-449D-888C-EFEBEECBC810}" type="slidenum">
              <a:rPr b="0" lang="uk-UA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72D7-3BC4-4DFF-8C87-DDF6175A6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C8D3-7322-4411-A4D8-88A5B17C7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F7E2-0864-46A8-8338-CD1E7DB07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DC70-2C48-4ED3-BF2A-6B36AED56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04A9-1823-4618-8D21-0AFB020BA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6BEF-49F6-4592-86E9-9F50EBE1F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5B2C-D097-44FF-AC0B-95652905C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4354-B3B9-4961-B314-632C9DCA4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F4AF-811D-487D-A251-51C7A605E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49D0-4456-4F9D-9315-CCE37014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070D-7CC8-47AF-998B-82726268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4E17-7AD2-41EF-B139-161D4724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02664-8E0E-4594-BE36-D12052E454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560" y="2130120"/>
            <a:ext cx="727380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3366"/>
                </a:solidFill>
                <a:latin typeface="Times New Roman"/>
              </a:rPr>
              <a:t>Виды химической связи в неорганических веществах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78920" y="4941720"/>
            <a:ext cx="5977080" cy="62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Урок-повтор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Характеристика типов связ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0" y="1484280"/>
          <a:ext cx="9144000" cy="5040360"/>
        </p:xfrm>
        <a:graphic>
          <a:graphicData uri="http://schemas.openxmlformats.org/drawingml/2006/table">
            <a:tbl>
              <a:tblPr/>
              <a:tblGrid>
                <a:gridCol w="2627280"/>
                <a:gridCol w="1944720"/>
                <a:gridCol w="2016000"/>
                <a:gridCol w="2556000"/>
              </a:tblGrid>
              <a:tr h="15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Тип связи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Тип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вязыв-ых элементов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заимод-щих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частиц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ханизм образования связи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овалентная неполярная связь</a:t>
                      </a:r>
                      <a:r>
                        <a:rPr b="0" lang="ru-RU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металл-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металл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динаковые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томы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 общих электронных пар, размещение пары посередине между атомам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7056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Характеристика типов связ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Иг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«Крестики-нолик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Выигрышный путь </a:t>
            </a:r>
            <a:br>
              <a:rPr sz="3600"/>
            </a:b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«Ковалентная неполярная связ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57200" y="2421000"/>
          <a:ext cx="8229600" cy="37051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I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HF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HCl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F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H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l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HI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Выигрышный путь </a:t>
            </a:r>
            <a:br>
              <a:rPr sz="3600"/>
            </a:b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«Ковалентная полярная связ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57200" y="2421000"/>
          <a:ext cx="8229600" cy="37051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H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O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I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aF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4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HCl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H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H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l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HI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Выигрышный путь </a:t>
            </a:r>
            <a:br>
              <a:rPr sz="3600"/>
            </a:b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            «Ионная связь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2421000"/>
          <a:ext cx="8229600" cy="37051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49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H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O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I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aCl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HCl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KCl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KBr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7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l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H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Li</a:t>
                      </a:r>
                      <a:r>
                        <a:rPr b="1" lang="en-US" sz="40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4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</a:t>
                      </a:r>
                      <a:endParaRPr b="0" lang="en-US" sz="4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712944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Выполните задани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Для приведенных веществ определите тип связи, изобразите схемы образования связей в молекулах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H</a:t>
            </a:r>
            <a:r>
              <a:rPr b="0" lang="ru-RU" sz="36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NaF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OF</a:t>
            </a:r>
            <a:r>
              <a:rPr b="0" lang="ru-RU" sz="3600" spc="-1" strike="noStrike" baseline="-25000">
                <a:solidFill>
                  <a:srgbClr val="003366"/>
                </a:solidFill>
                <a:latin typeface="Times New Roman"/>
              </a:rPr>
              <a:t>2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Самостоятельная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57200" y="1268280"/>
          <a:ext cx="8229600" cy="5367600"/>
        </p:xfrm>
        <a:graphic>
          <a:graphicData uri="http://schemas.openxmlformats.org/drawingml/2006/table">
            <a:tbl>
              <a:tblPr/>
              <a:tblGrid>
                <a:gridCol w="1306440"/>
                <a:gridCol w="2376720"/>
                <a:gridCol w="2489040"/>
                <a:gridCol w="205740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№ </a:t>
                      </a: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ар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ормулы веществ 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aCl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ru-RU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l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S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a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O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O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H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Br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O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BaI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N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iF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MgO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CCl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K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O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P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F</a:t>
                      </a:r>
                      <a:r>
                        <a:rPr b="1" lang="en-US" sz="3600" spc="-1" strike="noStrike" baseline="-25000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BaO</a:t>
                      </a:r>
                      <a:endParaRPr b="0" lang="en-US" sz="36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518472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Домашнее задание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повторит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§ 18 – 21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§ 38 - 4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5184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Зн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определение понятия химическая связ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виды химической связи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механизмы образования каждого вида связ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518472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Уме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определять вид связи по формуле вещества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записывать схему образования каждого вида связ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Проверочная рабо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Согласно плану-алгоритму, дайте характеристику элементу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1 вариант –  натрий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2 вариант –  кремний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3 вариант -  сер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518472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Химическая связь</a:t>
            </a:r>
            <a:r>
              <a:rPr b="0" lang="ru-RU" sz="3600" spc="-1" strike="noStrike">
                <a:solidFill>
                  <a:srgbClr val="003366"/>
                </a:solidFill>
                <a:latin typeface="Times New Roman"/>
              </a:rPr>
              <a:t> – взаимодействие между атомами, приводящее к образованию устойчивой сист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5184720" cy="79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Химическая связ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     ↓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           ↓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      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ионная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  ковалентная 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003366"/>
                </a:solidFill>
                <a:latin typeface="Times New Roman"/>
              </a:rPr>
              <a:t>  металличе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                             ↓</a:t>
            </a:r>
            <a:r>
              <a:rPr b="1" lang="ru-RU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                    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(полярная связ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                     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неполярная связ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4358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Параметры характеристики связ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Тип связ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Тип связываемых элемен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Вид взаимодействующих части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Times New Roman"/>
              </a:rPr>
              <a:t>Механизм образования связ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Характеристика типов связ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0" y="1600200"/>
          <a:ext cx="9144000" cy="4751280"/>
        </p:xfrm>
        <a:graphic>
          <a:graphicData uri="http://schemas.openxmlformats.org/drawingml/2006/table">
            <a:tbl>
              <a:tblPr/>
              <a:tblGrid>
                <a:gridCol w="1908000"/>
                <a:gridCol w="1872000"/>
                <a:gridCol w="2376360"/>
                <a:gridCol w="2987640"/>
              </a:tblGrid>
              <a:tr h="1341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Тип связи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Тип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вязыв-ых элементов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заимод-щих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частиц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ханизм образования связи</a:t>
                      </a:r>
                      <a:r>
                        <a:rPr b="0" lang="ru-RU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9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онная связь</a:t>
                      </a:r>
                      <a:r>
                        <a:rPr b="0" lang="ru-RU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талл-неметалл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оны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ередача электронов от одного атома другому, образование ионов, электростатическое взаимодействие ионов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Характеристика типов связ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0" y="1484280"/>
          <a:ext cx="9144000" cy="5040360"/>
        </p:xfrm>
        <a:graphic>
          <a:graphicData uri="http://schemas.openxmlformats.org/drawingml/2006/table">
            <a:tbl>
              <a:tblPr/>
              <a:tblGrid>
                <a:gridCol w="2627280"/>
                <a:gridCol w="1944720"/>
                <a:gridCol w="2016000"/>
                <a:gridCol w="2556000"/>
              </a:tblGrid>
              <a:tr h="15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Тип связи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Тип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вязыв-ых элементов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заимод-щих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частиц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ханизм образования связи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овалентная полярная связь</a:t>
                      </a:r>
                      <a:r>
                        <a:rPr b="0" lang="ru-RU" sz="3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металл-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металл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зные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томы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 общих электронных пар, смещение общей пары к более электроотрицательному атому 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07:50:52Z</dcterms:created>
  <dc:creator>Tarantino</dc:creator>
  <dc:description/>
  <dc:language>en-US</dc:language>
  <cp:lastModifiedBy>LEGION</cp:lastModifiedBy>
  <dcterms:modified xsi:type="dcterms:W3CDTF">2015-05-04T06:45:12Z</dcterms:modified>
  <cp:revision>6</cp:revision>
  <dc:subject/>
  <dc:title>Виды химической связи в неорганических веществах</dc:title>
</cp:coreProperties>
</file>