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32254-7946-44B1-BD47-12EF174E54AE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Виды химической связи в неорганических вещества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Урок-повтор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54FB5-3285-4A99-9FA6-0F7DEB2193EE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Характеристика типов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A6C7E-AE2C-44E4-93A6-ECD267903F35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Характеристика типов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Иг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«Крестики-нолик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2BFAE-474B-4333-80F7-F6F5075D9997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Выигрышный путь </a:t>
            </a:r>
            <a:br>
              <a:rPr sz="1200"/>
            </a:b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«Ковалентная неполярная связ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2F9D2-7026-41D7-8398-DEBA0027402A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Выигрышный путь </a:t>
            </a:r>
            <a:br>
              <a:rPr sz="1200"/>
            </a:b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«Ковалентная полярная связ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CE53C-58A3-4785-8168-C4EABB378A84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Выигрышный путь </a:t>
            </a:r>
            <a:br>
              <a:rPr sz="1200"/>
            </a:b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            «Ионная связ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09942-FA85-4B35-875B-F882405F811D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Times New Roman"/>
              </a:rPr>
              <a:t>Выполните зад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Для приведенных веществ определите тип связи, изобразите схемы образования связей в молекулах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H</a:t>
            </a:r>
            <a:r>
              <a:rPr b="0" lang="ru-RU" sz="12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NaF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OF</a:t>
            </a:r>
            <a:r>
              <a:rPr b="0" lang="ru-RU" sz="12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A83C5-A321-457A-878F-C25A471CB100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Самостоятельная раб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791B3-E90D-4ACA-914D-2CA95E5C434F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Домашнее задание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повтори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§ 18 – 21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§ 38 - 4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8885C-A2AE-4F87-B041-4DCBAF430677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Times New Roman"/>
              </a:rPr>
              <a:t>Зна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определение понятия химическая связ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виды химической связ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механизмы образования каждого вида связ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5308D-D7F1-4796-938E-CDC1DF2EB2DA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Times New Roman"/>
              </a:rPr>
              <a:t>Уме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определять вид связи по формуле веществ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записывать схему образования каждого вида связ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E9928-C505-436B-AB8C-2EC3218E30D7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Times New Roman"/>
              </a:rPr>
              <a:t>Проверочная работ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Согласно плану-алгоритму, дайте характеристику элементу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1 вариант –  натри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2 вариант –  кремни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3 вариант -  се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C2F0E-C381-4934-8289-5E83D72A0307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Times New Roman"/>
              </a:rPr>
              <a:t>Химическая связь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– взаимодействие между атомами, приводящее к образованию устойчивой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B29F9-8BD1-42AF-B43E-873BB95A723C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ru-RU" sz="1400" spc="-1" strike="noStrike">
                <a:solidFill>
                  <a:srgbClr val="003366"/>
                </a:solidFill>
                <a:latin typeface="Times New Roman"/>
              </a:rPr>
              <a:t>Химическая связ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   ↓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         ↓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    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ионная</a:t>
            </a: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  ковалентная </a:t>
            </a: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  металличе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                          ↓</a:t>
            </a:r>
            <a:r>
              <a:rPr b="1" lang="ru-RU" sz="1200" spc="-1" strike="noStrike">
                <a:solidFill>
                  <a:srgbClr val="003366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66"/>
                </a:solidFill>
                <a:latin typeface="Times New Roman"/>
              </a:rPr>
              <a:t>                      </a:t>
            </a:r>
            <a:r>
              <a:rPr b="0" lang="ru-RU" sz="1100" spc="-1" strike="noStrike">
                <a:solidFill>
                  <a:srgbClr val="003366"/>
                </a:solidFill>
                <a:latin typeface="Times New Roman"/>
              </a:rPr>
              <a:t>(полярная связь,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66"/>
                </a:solidFill>
                <a:latin typeface="Times New Roman"/>
              </a:rPr>
              <a:t>                      </a:t>
            </a:r>
            <a:r>
              <a:rPr b="0" lang="ru-RU" sz="1100" spc="-1" strike="noStrike">
                <a:solidFill>
                  <a:srgbClr val="003366"/>
                </a:solidFill>
                <a:latin typeface="Times New Roman"/>
              </a:rPr>
              <a:t>неполярная связь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95A4C-F7EB-4B57-8298-559E2F603349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Times New Roman"/>
              </a:rPr>
              <a:t>Параметры характеристики связ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Тип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Тип связываемых эле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Вид взаимодействующих част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Механизм образования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F27ED-E34F-42DA-8921-B310109B79E2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Характеристика типов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7E6A9-6E17-4496-B8B5-44911593E697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Характеристика типов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84FCC-9EAF-4EC5-9CB8-DA599090AF11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3D8A-E22B-496E-9E94-E47C9A66D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78FD-808D-4694-BACC-D684275EB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93A7-01DD-48F5-AAC3-6D03647BB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787F-7226-4F1E-B446-F8277D752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014E-91A3-4462-9553-36EC1ACFA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74C7-2CD3-4DE5-B596-4434DEEC8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BC17-DEA9-440A-929D-CFF522C06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F706-49AF-4306-94F2-B3E7FDEE5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B246-4F9F-4274-A992-65E047351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22EB-5611-4246-AC5D-3D90DE4C0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07D5-9765-4FF5-B4EF-DBBEFB254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172E-1A11-4F0A-A844-B7600B19B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D90AE-8E84-40FE-A147-090541249C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560" y="2130120"/>
            <a:ext cx="7273800" cy="10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3366"/>
                </a:solidFill>
                <a:latin typeface="Times New Roman"/>
              </a:rPr>
              <a:t>Виды химической связи в неорганических веществах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78920" y="4941720"/>
            <a:ext cx="5977080" cy="6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Урок-повтор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Times New Roman"/>
              </a:rPr>
              <a:t>Характеристика типов связ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0" y="1484280"/>
          <a:ext cx="9144000" cy="5040360"/>
        </p:xfrm>
        <a:graphic>
          <a:graphicData uri="http://schemas.openxmlformats.org/drawingml/2006/table">
            <a:tbl>
              <a:tblPr/>
              <a:tblGrid>
                <a:gridCol w="2627280"/>
                <a:gridCol w="1944720"/>
                <a:gridCol w="2016000"/>
                <a:gridCol w="2556000"/>
              </a:tblGrid>
              <a:tr h="15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Тип связи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Тип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вязыв-ых элементов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заимод-щих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частиц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ханизм образования связи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овалентная неполярная связь</a:t>
                      </a:r>
                      <a:r>
                        <a:rPr b="0" lang="ru-RU" sz="3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металл-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металл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динаковые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томы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 общих электронных пар, размещение пары посередине между атомам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280" y="549000"/>
            <a:ext cx="705672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Характеристика типов связ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Иг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«Крестики-нолик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Выигрышный путь </a:t>
            </a:r>
            <a:br>
              <a:rPr sz="3600"/>
            </a:b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«Ковалентная неполярная связь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57200" y="2421000"/>
          <a:ext cx="8229600" cy="37051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N</a:t>
                      </a:r>
                      <a:r>
                        <a:rPr b="1" lang="en-US" sz="40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I</a:t>
                      </a:r>
                      <a:r>
                        <a:rPr b="1" lang="en-US" sz="40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HF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</a:t>
                      </a:r>
                      <a:r>
                        <a:rPr b="1" lang="en-US" sz="40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HCl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F</a:t>
                      </a:r>
                      <a:r>
                        <a:rPr b="1" lang="en-US" sz="40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H</a:t>
                      </a:r>
                      <a:r>
                        <a:rPr b="1" lang="en-US" sz="40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l</a:t>
                      </a:r>
                      <a:r>
                        <a:rPr b="1" lang="en-US" sz="40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HI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Выигрышный путь </a:t>
            </a:r>
            <a:br>
              <a:rPr sz="3600"/>
            </a:b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«Ковалентная полярная связь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457200" y="2421000"/>
          <a:ext cx="8229600" cy="37051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H</a:t>
                      </a:r>
                      <a:r>
                        <a:rPr b="1" lang="en-US" sz="40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O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I</a:t>
                      </a:r>
                      <a:r>
                        <a:rPr b="1" lang="en-US" sz="40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NaF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N</a:t>
                      </a:r>
                      <a:r>
                        <a:rPr b="1" lang="en-US" sz="40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HCl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NH</a:t>
                      </a:r>
                      <a:r>
                        <a:rPr b="1" lang="en-US" sz="40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H</a:t>
                      </a:r>
                      <a:r>
                        <a:rPr b="1" lang="en-US" sz="40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l</a:t>
                      </a:r>
                      <a:r>
                        <a:rPr b="1" lang="en-US" sz="40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HI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Выигрышный путь </a:t>
            </a:r>
            <a:br>
              <a:rPr sz="3600"/>
            </a:b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            «Ионная связь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2421000"/>
          <a:ext cx="8229600" cy="37051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04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H</a:t>
                      </a:r>
                      <a:r>
                        <a:rPr b="1" lang="en-US" sz="40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O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I</a:t>
                      </a:r>
                      <a:r>
                        <a:rPr b="1" lang="en-US" sz="40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aCl</a:t>
                      </a:r>
                      <a:r>
                        <a:rPr b="1" lang="en-US" sz="40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HCl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KCl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KBr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l</a:t>
                      </a:r>
                      <a:r>
                        <a:rPr b="1" lang="en-US" sz="40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NH</a:t>
                      </a:r>
                      <a:r>
                        <a:rPr b="1" lang="en-US" sz="40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Li</a:t>
                      </a:r>
                      <a:r>
                        <a:rPr b="1" lang="en-US" sz="40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549000"/>
            <a:ext cx="712944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Выполните задани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Для приведенных веществ определите тип связи, изобразите схемы образования связей в молекулах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H</a:t>
            </a:r>
            <a:r>
              <a:rPr b="0" lang="ru-RU" sz="36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NaF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OF</a:t>
            </a:r>
            <a:r>
              <a:rPr b="0" lang="ru-RU" sz="36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Самостоятельная раб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57200" y="1268280"/>
          <a:ext cx="8229600" cy="5367600"/>
        </p:xfrm>
        <a:graphic>
          <a:graphicData uri="http://schemas.openxmlformats.org/drawingml/2006/table">
            <a:tbl>
              <a:tblPr/>
              <a:tblGrid>
                <a:gridCol w="1306440"/>
                <a:gridCol w="2376720"/>
                <a:gridCol w="2489040"/>
                <a:gridCol w="205740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№ </a:t>
                      </a:r>
                      <a:r>
                        <a:rPr b="1" lang="ru-RU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ар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ормулы веществ 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aCl</a:t>
                      </a:r>
                      <a:r>
                        <a:rPr b="1" lang="en-US" sz="36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endParaRPr b="0" lang="en-US" sz="3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l</a:t>
                      </a:r>
                      <a:r>
                        <a:rPr b="1" lang="en-US" sz="36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S</a:t>
                      </a:r>
                      <a:r>
                        <a:rPr b="1" lang="en-US" sz="36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Na</a:t>
                      </a:r>
                      <a:r>
                        <a:rPr b="1" lang="en-US" sz="36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O</a:t>
                      </a:r>
                      <a:endParaRPr b="0" lang="en-US" sz="3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O</a:t>
                      </a:r>
                      <a:r>
                        <a:rPr b="1" lang="en-US" sz="36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H</a:t>
                      </a:r>
                      <a:r>
                        <a:rPr b="1" lang="en-US" sz="36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Br</a:t>
                      </a:r>
                      <a:r>
                        <a:rPr b="1" lang="en-US" sz="36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O</a:t>
                      </a:r>
                      <a:r>
                        <a:rPr b="1" lang="en-US" sz="36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BaI</a:t>
                      </a:r>
                      <a:r>
                        <a:rPr b="1" lang="en-US" sz="36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N</a:t>
                      </a:r>
                      <a:r>
                        <a:rPr b="1" lang="en-US" sz="36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iF</a:t>
                      </a:r>
                      <a:r>
                        <a:rPr b="1" lang="en-US" sz="36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MgO</a:t>
                      </a:r>
                      <a:endParaRPr b="0" lang="en-US" sz="3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Cl</a:t>
                      </a:r>
                      <a:r>
                        <a:rPr b="1" lang="en-US" sz="36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K</a:t>
                      </a:r>
                      <a:r>
                        <a:rPr b="1" lang="en-US" sz="36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O</a:t>
                      </a:r>
                      <a:endParaRPr b="0" lang="en-US" sz="3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</a:t>
                      </a:r>
                      <a:r>
                        <a:rPr b="1" lang="en-US" sz="36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P</a:t>
                      </a:r>
                      <a:r>
                        <a:rPr b="1" lang="en-US" sz="36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F</a:t>
                      </a:r>
                      <a:r>
                        <a:rPr b="1" lang="en-US" sz="36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BaO</a:t>
                      </a:r>
                      <a:endParaRPr b="0" lang="en-US" sz="3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549000"/>
            <a:ext cx="518472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Домашнее задание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повтори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§ 18 – 21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§ 38 - 41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280" y="549000"/>
            <a:ext cx="518472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Зн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определение понятия химическая связь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виды химической связ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механизмы образования каждого вида связ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80" y="549000"/>
            <a:ext cx="518472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Уме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определять вид связи по формуле веществ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записывать схему образования каждого вида связ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Проверочная раб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Согласно плану-алгоритму, дайте характеристику элементу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1 вариант –  натрий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2 вариант –  кремний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3 вариант -  сер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549000"/>
            <a:ext cx="518472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Химическая связь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 – взаимодействие между атомами, приводящее к образованию устойчивой систе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549000"/>
            <a:ext cx="518472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Химическая связ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     ↓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           ↓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      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ионная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  ковалентная 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  металличес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                            ↓</a:t>
            </a: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                      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(полярная связ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                      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неполярная связ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43588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Параметры характеристики связ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Тип связ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Тип связываемых элемен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Вид взаимодействующих части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Механизм образования связ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Times New Roman"/>
              </a:rPr>
              <a:t>Характеристика типов связ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0" y="1600200"/>
          <a:ext cx="9144000" cy="4751280"/>
        </p:xfrm>
        <a:graphic>
          <a:graphicData uri="http://schemas.openxmlformats.org/drawingml/2006/table">
            <a:tbl>
              <a:tblPr/>
              <a:tblGrid>
                <a:gridCol w="1908000"/>
                <a:gridCol w="1872000"/>
                <a:gridCol w="2376360"/>
                <a:gridCol w="2987640"/>
              </a:tblGrid>
              <a:tr h="1341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Тип связи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Тип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вязыв-ых элементов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заимод-щих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частиц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ханизм образования связи</a:t>
                      </a: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9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онная связь</a:t>
                      </a:r>
                      <a:r>
                        <a:rPr b="0" lang="ru-RU" sz="3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талл-неметалл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оны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ередача электронов от одного атома другому, образование ионов, электростатическое взаимодействие ионов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Times New Roman"/>
              </a:rPr>
              <a:t>Характеристика типов связ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0" y="1484280"/>
          <a:ext cx="9144000" cy="5040360"/>
        </p:xfrm>
        <a:graphic>
          <a:graphicData uri="http://schemas.openxmlformats.org/drawingml/2006/table">
            <a:tbl>
              <a:tblPr/>
              <a:tblGrid>
                <a:gridCol w="2627280"/>
                <a:gridCol w="1944720"/>
                <a:gridCol w="2016000"/>
                <a:gridCol w="2556000"/>
              </a:tblGrid>
              <a:tr h="15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Тип связи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Тип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вязыв-ых элементов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заимод-щих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частиц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ханизм образования связи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овалентная полярная связь</a:t>
                      </a:r>
                      <a:r>
                        <a:rPr b="0" lang="ru-RU" sz="3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металл-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металл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зные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томы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 общих электронных пар, смещение общей пары к более электроотрицательному атому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07:50:52Z</dcterms:created>
  <dc:creator>Tarantino</dc:creator>
  <dc:description/>
  <dc:language>en-US</dc:language>
  <cp:lastModifiedBy>LEGION</cp:lastModifiedBy>
  <dcterms:modified xsi:type="dcterms:W3CDTF">2015-05-04T06:45:12Z</dcterms:modified>
  <cp:revision>6</cp:revision>
  <dc:subject/>
  <dc:title>Виды химической связи в неорганических веществах</dc:title>
</cp:coreProperties>
</file>