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2B8A-0C7B-46D4-97EC-715E3AAE8E5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иды химической связи в неорганических веществ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Урок-повто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2E61-FF18-4F57-9B27-6B3FE313F7C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E273-9973-4CF7-ACA3-F7DE03CF825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«Крестики-ноли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4E6F-3C2D-4744-A5F8-BC2DF083CBB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«Ковалентная неполярная связ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E285-9C9A-404F-B484-6AEF0A385C4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«Ковалентная полярная связ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7CDC-E8C7-4940-9489-DA08B17BB4F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           «Ионная связ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231D-B555-454B-B793-5597CB3441A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Выполните зад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Для приведенных веществ определите тип связи, изобразите схемы образования связей в молекулах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0" lang="ru-RU" sz="12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NaF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OF</a:t>
            </a:r>
            <a:r>
              <a:rPr b="0" lang="ru-RU" sz="12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F6F8-F407-440B-A6AD-C1B8747FDDE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Самостоятель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9D6C-7D31-4199-99A9-A5E8798ACBF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Домашнее задание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втор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§ 18 – 21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§ 38 - 4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6B30-9D39-4925-BA5F-938969B8CCD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Зна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определение понятия химическая связ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иды химической связ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механизмы образования каждого вида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0476-82CE-4905-BFDF-06DED6B14E7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Уме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определять вид связи по формуле веще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записывать схему образования каждого вида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1688-FBF3-4060-9600-C6DF9ECB748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Проверочная рабо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огласно плану-алгоритму, дайте характеристику элементу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1 вариант –  натр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2 вариант –  крем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3 вариант -  с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3C1E-0AC6-4ADA-92C7-39CDB8BF457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Химическая связь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– взаимодействие между атомами, приводящее к образованию устойчи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5596-BEF6-46D2-ACAB-C2C90E2DB8D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Химическая связ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↓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      ↓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 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ионная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 ковалентная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 металл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                       ↓</a:t>
            </a:r>
            <a:r>
              <a:rPr b="1" lang="ru-RU" sz="12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(полярная связь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неполярная связь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0C57-9FB9-4576-A850-FBD8675ED8F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Параметры характеристики связ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Тип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Тип связываемы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ид взаимодействующих част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Механизм образования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2BBC-E39D-4683-8FDA-578274940E7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5528-ECE7-48BF-B5D5-F90DA00927D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3190-B519-4D84-A036-51E082EC427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4DB0-CCED-4040-BD06-AFB1D708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ADF3-5E92-478B-92E9-5C0BE885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4A9F-A24F-4D64-A2D0-42F4FEFE0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4F43-34DA-4EEB-8FDE-7AEB45E5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9AB2-8313-4897-A476-0BEB496C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5C60-B495-4711-AF59-4705018B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CE70-CB5F-4A73-8A89-EAF11E98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583B-557A-44DE-B6BA-B152B8CE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4B81-E6F7-4EF5-8B6D-F872C937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6D8D-746B-4673-B7A3-E198AF44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CCAB-5F88-4AFE-85E0-56A7B3DF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C15C-B32C-4F74-B229-C972216F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7F89-9AD9-4D3E-9791-FA6BDFE829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130120"/>
            <a:ext cx="72738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66"/>
                </a:solidFill>
                <a:latin typeface="Times New Roman"/>
              </a:rPr>
              <a:t>Виды химической связи в неорганических вещества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8920" y="4941720"/>
            <a:ext cx="597708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Урок-повт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1484280"/>
          <a:ext cx="9144000" cy="5040360"/>
        </p:xfrm>
        <a:graphic>
          <a:graphicData uri="http://schemas.openxmlformats.org/drawingml/2006/table">
            <a:tbl>
              <a:tblPr/>
              <a:tblGrid>
                <a:gridCol w="2627280"/>
                <a:gridCol w="1944720"/>
                <a:gridCol w="2016000"/>
                <a:gridCol w="255600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связ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вязыв-ых элементов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заимод-щих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частиц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ханизм образования связ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овалентная неполярная связь</a:t>
                      </a: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металл-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метал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динаковы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томы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 общих электронных пар, размещение пары посередине между атомам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056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Иг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«Крестики-ноли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«Ковалентная неполярная связ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2421000"/>
          <a:ext cx="8229600" cy="3705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F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Cl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I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«Ковалентная полярная связ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2421000"/>
          <a:ext cx="8229600" cy="3705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aF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Cl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I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           «Ионная связ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2421000"/>
          <a:ext cx="8229600" cy="3705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4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aCl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Cl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Cl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Br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Li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1294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Выполните зад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Для приведенных веществ определите тип связи, изобразите схемы образования связей в молекулах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0" lang="ru-RU" sz="36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aF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OF</a:t>
            </a:r>
            <a:r>
              <a:rPr b="0" lang="ru-RU" sz="36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268280"/>
          <a:ext cx="8229600" cy="5367600"/>
        </p:xfrm>
        <a:graphic>
          <a:graphicData uri="http://schemas.openxmlformats.org/drawingml/2006/table">
            <a:tbl>
              <a:tblPr/>
              <a:tblGrid>
                <a:gridCol w="1306440"/>
                <a:gridCol w="2376720"/>
                <a:gridCol w="2489040"/>
                <a:gridCol w="20574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ар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ормулы веществ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aCl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S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a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H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r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O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aI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iF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gO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Cl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F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aO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Домашнее задание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повтори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§ 18 – 21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§ 38 - 4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Зн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определение понятия химическая связ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иды химической связ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механизмы образования каждого вида связ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Ум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определять вид связи по формуле веществ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записывать схему образования каждого вида связ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овероч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Согласно плану-алгоритму, дайте характеристику элементу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1 вариант –  натр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2 вариант –  кремн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3 вариант -  се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Химическая связь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– взаимодействие между атомами, приводящее к образованию устойчив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Химическая связ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↓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      ↓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 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ионная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 ковалентная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 металл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                       ↓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(полярная связ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еполярная связ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араметры характеристики связ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Тип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Тип связываемых элем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ид взаимодействующих част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Механизм образования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1600200"/>
          <a:ext cx="9144000" cy="4751280"/>
        </p:xfrm>
        <a:graphic>
          <a:graphicData uri="http://schemas.openxmlformats.org/drawingml/2006/table">
            <a:tbl>
              <a:tblPr/>
              <a:tblGrid>
                <a:gridCol w="1908000"/>
                <a:gridCol w="1872000"/>
                <a:gridCol w="2376360"/>
                <a:gridCol w="298764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связи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вязыв-ых элементов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заимод-щих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частиц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ханизм образования связи</a:t>
                      </a: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онная связь</a:t>
                      </a: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талл-неметалл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оны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ередача электронов от одного атома другому, образование ионов, электростатическое взаимодействие ионов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1484280"/>
          <a:ext cx="9144000" cy="5040360"/>
        </p:xfrm>
        <a:graphic>
          <a:graphicData uri="http://schemas.openxmlformats.org/drawingml/2006/table">
            <a:tbl>
              <a:tblPr/>
              <a:tblGrid>
                <a:gridCol w="2627280"/>
                <a:gridCol w="1944720"/>
                <a:gridCol w="2016000"/>
                <a:gridCol w="255600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связ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вязыв-ых элементов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заимод-щих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частиц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ханизм образования связ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овалентная полярная связь</a:t>
                      </a: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металл-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метал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зные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томы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 общих электронных пар, смещение общей пары к более электроотрицательному атому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7:50:52Z</dcterms:created>
  <dc:creator>Tarantino</dc:creator>
  <dc:description/>
  <dc:language>en-US</dc:language>
  <cp:lastModifiedBy>LEGION</cp:lastModifiedBy>
  <dcterms:modified xsi:type="dcterms:W3CDTF">2015-05-04T06:45:12Z</dcterms:modified>
  <cp:revision>6</cp:revision>
  <dc:subject/>
  <dc:title>Виды химической связи в неорганических веществах</dc:title>
</cp:coreProperties>
</file>