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C37C-999F-42FC-9149-762AB75F4C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Calibri"/>
              </a:rPr>
              <a:t>Зад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 Выполнить на доске №5, страница 6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ласс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: записать образование молекул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H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Br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LiCl.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Определить вид химическ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50B8-F0A6-402A-B125-1B1CCC67A7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Запишите в тетрадь (на странице 64, §11)  как изменяется ЭО в периоде и подгруппе (смтр. запись курсивом со слов: в каждом период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511B-8988-4B57-B54B-6B625044A3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яд электроотрицательности элементов поможет вам определить, в сторону атомов какого химического элемента будут </a:t>
            </a: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смещен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общие электронные пары, а, следовательно, на каком из атомов будет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избыточный отрицательный заряд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(он будет обозначаться буквой «</a:t>
            </a:r>
            <a:r>
              <a:rPr b="1" lang="el-GR" sz="1200" spc="-1" strike="noStrike">
                <a:solidFill>
                  <a:srgbClr val="002060"/>
                </a:solidFill>
                <a:latin typeface="Calibri"/>
              </a:rPr>
              <a:t>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» – греч. дельта), а, значит, где будет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отрицательный полюс молеку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20F2-3C7A-4253-A367-BEFCC54CD1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азумеется, атомы менее электроотрицательного элемента будут иметь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избыточный положительный заря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, т.е. будут представлять собой как бы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положительный полюс молекулы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 зарядом </a:t>
            </a:r>
            <a:r>
              <a:rPr b="1" lang="el-GR" sz="1200" spc="-1" strike="noStrike">
                <a:solidFill>
                  <a:srgbClr val="002060"/>
                </a:solidFill>
                <a:latin typeface="Calibri"/>
              </a:rPr>
              <a:t>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Вот вам и стало понятно название этой разновидности ковалентной связи –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полярная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0323-419B-4B87-89EC-B263B066F5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ежду атомами одного и того же элемента неметалла, т.е. с одинаковой электроотрицательностью, общие электронные пары </a:t>
            </a: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не смещены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и к одному из атомов, поэтому они не имеют заряда – полюса и это </a:t>
            </a:r>
            <a:r>
              <a:rPr b="1" i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неполярная ковалентная связь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BAF4-4565-4FAC-A550-F4A8C8ED6E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перь давайте с вами запишем алгоритм образования молекулы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SCl</a:t>
            </a:r>
            <a:r>
              <a:rPr b="1" lang="en-US" sz="14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12F5-BC35-4361-850E-776B66A3CE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Определить число внешних электронов у атомов неметаллов и  по формуле 8 –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N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число неспаренных электронов. Записать электронные формулы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9BA9-23A1-4DC5-8ED8-554D576DA0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Записать символ элемента – неметалла, который представлен одним атомом (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S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), в центр и знаком «плюс» – два атома другого элемента (С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l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9CF2-1614-4471-932D-64FBC2D128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Записать электронную и структурную формулы получившейся молеку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l – S - 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CA1C-46F6-4B48-BDFB-969AEC0AA5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Определить по ряду электроотрицательности, к атомам какого из элементов смещены общие электронные пары, и заменить черточки маленькими стрелками, обозначить полю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Cl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  S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+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 Cl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3B38-5DA3-44A2-B8CB-FDCC04431C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66"/>
                </a:solidFill>
                <a:latin typeface="Calibri"/>
              </a:rPr>
              <a:t>Закреп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Упражнение №2 на странице 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A229-D23A-4570-8BCB-A09FA5C814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ы условно разделили элементы на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метал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и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неметал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Рассмотрели, как образуются связи между атомами металлов и неметаллов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(как называется такой вид связи?)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, между атомами одного и того же элемента неметалла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(как называется такой вид связи?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6BF5-C78D-4CF1-B969-390AC30ED2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66"/>
                </a:solidFill>
                <a:latin typeface="Calibri"/>
              </a:rPr>
              <a:t>Домашнее зад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§11, закончить №2, стр. 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овторить все виды химической связи: определения, механизм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CDE3-9E69-4E31-9D43-040D11D818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 какой тип связи мы можем ожидать при образовании соединений между атомами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разных неметаллов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40E4-9B2E-4214-94FC-E25EED5870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Очевидно, опять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овалентную связь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– засчет образования общих электронных п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о ведь элементы – то разны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аверное, следует ожидать, что такая ковалентная связь будет отличаться от рассмотренной ранее ковалент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0827-643A-424E-B89C-68A59FFB23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томы разных элементов по-разному относятся к общим электронным парам: те неметаллы, что сильнее, будут сильнее оттягивать к себе общие электронные пары, совсем как у Крылова: «У сильного всегда бессильный виноват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B8B2-6DD7-474A-BDDF-4206B09E21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валентная поляр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Урок на те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DFAD-830C-486A-A58D-07277BB6E7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Calibri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 Продолжить формирование понятия о ковалентной химическ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Познакомить учащихся с полярной ковалентной химической связью и электроотрицательностью (ЭО) как мерой неметалличности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Продолжить формирование умения записывать схемы образования молекул бинарных соединений элементов – неме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CFA3-48E4-4D77-9E7C-BDD73FBCAF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Calibri"/>
              </a:rPr>
              <a:t>Электроотриц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пособность атомов химических элементов оттягивать к себе общие электронные пары, называется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электроотрицательнос-тью (Э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995B-34E0-4F9A-89EA-1338CE4B47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Calibri"/>
              </a:rPr>
              <a:t>Ряд электроотрицательности химически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H As I Si P Se C S Br Cl N O 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002060"/>
                </a:solidFill>
                <a:latin typeface="Calibri"/>
              </a:rPr>
              <a:t>Усиление электроотрицательнос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A21C-C01A-4B6C-9E6A-22691F31C2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214280"/>
            <a:ext cx="655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Arial"/>
              </a:rPr>
              <a:t>Задание:</a:t>
            </a:r>
            <a:endParaRPr b="0" lang="en-US" sz="6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42960" y="2285640"/>
            <a:ext cx="817704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1. Выполнить на доске №5, страница 6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2. </a:t>
            </a:r>
            <a:r>
              <a:rPr b="1" i="1" lang="ru-RU" sz="4800" spc="-1" strike="noStrike" u="sng">
                <a:solidFill>
                  <a:srgbClr val="002060"/>
                </a:solidFill>
                <a:uFillTx/>
                <a:latin typeface="Times New Roman"/>
              </a:rPr>
              <a:t>Класс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: записать образование молекул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O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H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Br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LiCl.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Определить вид химической связ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928520"/>
            <a:ext cx="7858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Запишите в тетрадь (на странице 64, §11)  как изменяется ЭО в периоде и подгруппе (смтр. запись курсивом со слов: в каждом периоде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360" y="157176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яд электроотрицательности элементов поможет вам определить, в сторону атомов какого химического элемента будут 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смещен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общие электронные пары, а, следовательно, на каком из атомов будет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збыточный отрицательный заряд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(он будет обозначаться буквой «</a:t>
            </a:r>
            <a:r>
              <a:rPr b="1" lang="el-GR" sz="3200" spc="-1" strike="noStrike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» – греч. дельта), а, значит, где будет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отрицательный полюс молекул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400" y="157140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азумеется, атомы менее электроотрицательного элемента будут иметь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збыточный положительный заря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, т.е. будут представлять собой как бы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положительный полюс молекулы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 зарядом </a:t>
            </a:r>
            <a:r>
              <a:rPr b="1" lang="el-GR" sz="3200" spc="-1" strike="noStrike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+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от вам и стало понятно название этой разновидности ковалентной связи – </a:t>
            </a: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Times New Roman"/>
              </a:rPr>
              <a:t>полярная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57120" y="1714680"/>
            <a:ext cx="846288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ежду атомами одного и того же элемента неметалла, т.е. с одинаковой электроотрицательностью, общие электронные пары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</a:rPr>
              <a:t>не смещены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и к одному из атомов, поэтому они не имеют заряда – полюса и это </a:t>
            </a: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Times New Roman"/>
              </a:rPr>
              <a:t>неполярная ковалентная связь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13880" y="2143080"/>
            <a:ext cx="7643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Теперь давайте с вами запишем алгоритм образования молекулы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SCl</a:t>
            </a:r>
            <a:r>
              <a:rPr b="1" lang="en-US" sz="60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85520" y="1714320"/>
            <a:ext cx="7643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Определить число внешних электронов у атомов неметаллов и  по формуле 8 –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число неспаренных электронов. Записать электронные формулы атомов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857240" y="5143680"/>
            <a:ext cx="5499360" cy="1071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71680" y="1571400"/>
            <a:ext cx="792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Записать символ элемента – неметалла, который представлен одним атомом (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), в центр и знаком «плюс» – два атома другого элемента (С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l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42960" y="4500720"/>
            <a:ext cx="8013600" cy="1285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85520" y="857160"/>
            <a:ext cx="76438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Записать электронную и структурную формулы получившейся молекул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l – S - C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2571840"/>
            <a:ext cx="6000840" cy="96336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5"/>
          <p:cNvCxnSpPr/>
          <p:nvPr/>
        </p:nvCxnSpPr>
        <p:spPr>
          <a:xfrm>
            <a:off x="7429680" y="3071880"/>
            <a:ext cx="786240" cy="216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214280" y="3643200"/>
            <a:ext cx="5886720" cy="171468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8"/>
          <p:cNvCxnSpPr/>
          <p:nvPr/>
        </p:nvCxnSpPr>
        <p:spPr>
          <a:xfrm>
            <a:off x="7000560" y="4500720"/>
            <a:ext cx="1143720" cy="216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</p:spTree>
  </p:cSld>
  <p:transition>
    <p:wedg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760" y="1214280"/>
            <a:ext cx="8286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Определить по ряду электроотрицательности, к атомам какого из элементов смещены общие электронные пары, и заменить черточки маленькими стрелками, обозначить полюс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Cl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  S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 Cl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Прямая со стрелкой 4"/>
          <p:cNvCxnSpPr/>
          <p:nvPr/>
        </p:nvCxnSpPr>
        <p:spPr>
          <a:xfrm flipH="1" flipV="1">
            <a:off x="3142800" y="5000400"/>
            <a:ext cx="572400" cy="216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16" name="Прямая со стрелкой 6"/>
          <p:cNvCxnSpPr/>
          <p:nvPr/>
        </p:nvCxnSpPr>
        <p:spPr>
          <a:xfrm>
            <a:off x="4929120" y="5000760"/>
            <a:ext cx="572400" cy="216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triangle" w="med"/>
          </a:ln>
        </p:spPr>
      </p:cxnSp>
    </p:spTree>
  </p:cSld>
  <p:transition>
    <p:diamond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5560" y="17143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Arial"/>
              </a:rPr>
              <a:t>Закрепление</a:t>
            </a:r>
            <a:endParaRPr b="0" lang="en-US" sz="6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56800" y="2499840"/>
            <a:ext cx="764388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Упражнение №2 на странице 6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1356840"/>
            <a:ext cx="892980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ы условно разделили элементы на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металлы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и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неметаллы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Рассмотрели, как образуются связи между атомами металлов и неметаллов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(как называется такой вид связи?)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, между атомами одного и того же элемента неметалла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(как называется такой вид связи?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400" y="1785960"/>
            <a:ext cx="839124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§11, закончить №2, стр. 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овторить все виды химической связи: определения, механизм 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Рисунок 3" descr="Сова анимация синяя.gif"/>
          <p:cNvPicPr/>
          <p:nvPr/>
        </p:nvPicPr>
        <p:blipFill>
          <a:blip r:embed="rId1"/>
          <a:stretch/>
        </p:blipFill>
        <p:spPr>
          <a:xfrm>
            <a:off x="6858000" y="35002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00040" y="2000160"/>
            <a:ext cx="8391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А какой тип связи мы можем ожидать при образовании соединений между атомами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разных неметаллов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-360" y="1428480"/>
            <a:ext cx="900108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Очевидно, опять </a:t>
            </a: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</a:rPr>
              <a:t>ковалентную связь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– засчет образования общих электронных па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о ведь элементы – то разные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аверное, следует ожидать, что такая ковалентная связь будет отличаться от рассмотренной ранее ковалентной связ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56760" y="1642680"/>
            <a:ext cx="857268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Атомы разных элементов по-разному относятся к общим электронным парам: те неметаллы, что сильнее, будут сильнее оттягивать к себе общие электронные пары, совсем как у Крылова: «У сильного всегда бессильный виноват…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2376000"/>
            <a:ext cx="6048360" cy="14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валентная полярная химическая связь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5480" y="1499760"/>
            <a:ext cx="60483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</a:rPr>
              <a:t>Урок на тему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5560" y="8568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Arial"/>
              </a:rPr>
              <a:t>Цель урока:</a:t>
            </a:r>
            <a:endParaRPr b="0" lang="en-US" sz="6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642680"/>
            <a:ext cx="91440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. Продолжить формирование понятия о ковалентной химической связ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2. Познакомить учащихся с полярной ковалентной химической связью и электроотрицательностью (ЭО) как мерой неметалличности элем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3. Продолжить формирование умения записывать схемы образования молекул бинарных соединений элементов – неметал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1642680"/>
            <a:ext cx="79297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Электроотрицательность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249228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пособность атомов химических элементов оттягивать к себе общие электронные пары, называется </a:t>
            </a: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электроотрицательнос-тью (ЭО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285560"/>
            <a:ext cx="778644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Ряд электроотрицательности химических элементов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400" y="2999880"/>
            <a:ext cx="83912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H As I Si P Se C S Br Cl N O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Усиление электроотрица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Прямая со стрелкой 4"/>
          <p:cNvCxnSpPr/>
          <p:nvPr/>
        </p:nvCxnSpPr>
        <p:spPr>
          <a:xfrm>
            <a:off x="928800" y="4142880"/>
            <a:ext cx="7572960" cy="252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</p:spTree>
  </p:cSld>
  <p:transition>
    <p:wheel spokes="2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4:21:33Z</dcterms:created>
  <dc:creator>user</dc:creator>
  <dc:description/>
  <dc:language>en-US</dc:language>
  <cp:lastModifiedBy>LEGION</cp:lastModifiedBy>
  <dcterms:modified xsi:type="dcterms:W3CDTF">2015-05-04T06:45:46Z</dcterms:modified>
  <cp:revision>26</cp:revision>
  <dc:subject/>
  <dc:title>Задание</dc:title>
</cp:coreProperties>
</file>