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A0CE-EBB9-4902-8CFA-C134E90366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Calibri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Выполнить на доске №5, страница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ласс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: записать образование молекул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H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Br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LiCl.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пределить вид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F1BE-19C5-4CE6-ACEB-3B0BFD5089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0F3C-7C54-4312-920A-5910F95A00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смещен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общие электронные пары, а, следовательно, на каком из атомов будет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отрицательный заряд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(он будет обозначаться буквой «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» – греч. дельта), а, значит, где будет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отрицательный полюс молеку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D920-D244-4A9D-985C-696F1A197B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азумеется, атомы менее электроотрицательного элемента будут иметь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положительный заря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т.е. будут представлять собой как бы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положительный полюс молекул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 зарядом 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от вам и стало понятно название этой разновидности ковалентной связи –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полярная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4303-B6C8-4236-BDEA-6352495FFE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не смещен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и к одному из атомов, поэтому они не имеют заряда – полюса и это </a:t>
            </a: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неполярная ковалентная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08A0-0063-4135-A7DC-D19524E11E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перь давайте с вами запишем алгоритм образования молекулы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SCl</a:t>
            </a:r>
            <a:r>
              <a:rPr b="1" lang="en-US" sz="14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6D9B-8379-4DFE-9C45-0723700140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число внешних электронов у атомов неметаллов и  по формуле 8 –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число неспаренных электронов. Записать электронные формулы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F5A0-99EF-4117-A453-200CBEE92E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символ элемента – неметалла, который представлен одним атомом (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, в центр и знаком «плюс» – два атома другого элемента (С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l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C24E-B57E-4A1F-B2E3-2B1D4E5435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электронную и структурную формулы получившейся молек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l – S - 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E86F-EE20-4C78-B57D-06F423A521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 S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+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17F4-EF25-4CF4-B034-5A221B6381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66"/>
                </a:solidFill>
                <a:latin typeface="Calibri"/>
              </a:rPr>
              <a:t>Закреп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Упражнение №2 на странице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F5B8-9871-419C-87BB-D90D88E09E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ы условно разделили элементы на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не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Рассмотрели, как образуются связи между атомами металлов и неметаллов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между атомами одного и того же элемента неметалла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557E-85C1-4871-B1CF-E32DFFBDE3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66"/>
                </a:solidFill>
                <a:latin typeface="Calibri"/>
              </a:rPr>
              <a:t>Домашнее зад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§11, закончить №2, стр.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вторить все виды химической связи: определения, механизм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0CCB-A43A-4AD3-8099-5F5355569B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разных неметаллов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470F-9254-4306-9570-7AACDE6BB9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чевидно, опять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овалентную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– засчет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о ведь элементы – то разны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7247-A776-43B5-8A9A-91B8BB7F41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C33A-8050-481D-B064-87B400A016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валентная поляр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Урок на т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13D6-9057-4A16-B5CC-85AC83B97A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Calibri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Продолжить формирование понятия о ковалентной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F10C-5586-4C94-A8AA-30FB05EB3D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Электроотриц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электроотрицательнос-тью (Э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7F67-055B-4EA6-AED3-4A01C8617B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Ряд электроотрицательност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H As I Si P Se C S Br Cl N O 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002060"/>
                </a:solidFill>
                <a:latin typeface="Calibri"/>
              </a:rPr>
              <a:t>Усиление электроотрица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EC84-D666-4A11-AE95-CB36BB9EEB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214280"/>
            <a:ext cx="655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Arial"/>
              </a:rPr>
              <a:t>Задание:</a:t>
            </a:r>
            <a:endParaRPr b="0" lang="en-US" sz="6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2960" y="2285640"/>
            <a:ext cx="81770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1. Выполнить на доске №5, страница 6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2. </a:t>
            </a:r>
            <a:r>
              <a:rPr b="1" i="1" lang="ru-RU" sz="4800" spc="-1" strike="noStrike" u="sng">
                <a:solidFill>
                  <a:srgbClr val="002060"/>
                </a:solidFill>
                <a:uFillTx/>
                <a:latin typeface="Times New Roman"/>
              </a:rPr>
              <a:t>Класс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: записать образование молекул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O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H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Br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LiCl.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Определить вид химической связ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928520"/>
            <a:ext cx="7858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360" y="157176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смещен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общие электронные пары, а, следовательно, на каком из атомов будет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отрицательный заряд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(он будет обозначаться буквой «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» – греч. дельта), а, значит, где будет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отрицательный полюс молекул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400" y="157140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азумеется, атомы менее электроотрицательного элемента будут иметь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положительный заря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, т.е. будут представлять собой как бы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положительный полюс молекулы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 зарядом 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+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от вам и стало понятно название этой разновидности ковалентной связи – </a:t>
            </a: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Times New Roman"/>
              </a:rPr>
              <a:t>полярная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57120" y="1714680"/>
            <a:ext cx="846288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</a:rPr>
              <a:t>не смещены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и к одному из атомов, поэтому они не имеют заряда – полюса и это </a:t>
            </a: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imes New Roman"/>
              </a:rPr>
              <a:t>неполярная ковалентная связь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13880" y="214308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Теперь давайте с вами запишем алгоритм образования молекулы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SCl</a:t>
            </a:r>
            <a:r>
              <a:rPr b="1" lang="en-US" sz="60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85520" y="1714320"/>
            <a:ext cx="7643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число внешних электронов у атомов неметаллов и  по формуле 8 –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число неспаренных электронов. Записать электронные формулы атомов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857240" y="5143680"/>
            <a:ext cx="5499360" cy="1071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71680" y="1571400"/>
            <a:ext cx="792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символ элемента – неметалла, который представлен одним атомом (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, в центр и знаком «плюс» – два атома другого элемента (С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l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42960" y="4500720"/>
            <a:ext cx="8013600" cy="1285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85520" y="857160"/>
            <a:ext cx="76438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электронную и структурную формулы получившейся молекул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l – S - C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2571840"/>
            <a:ext cx="6000840" cy="96336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5"/>
          <p:cNvCxnSpPr/>
          <p:nvPr/>
        </p:nvCxnSpPr>
        <p:spPr>
          <a:xfrm>
            <a:off x="7429680" y="3071880"/>
            <a:ext cx="78624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214280" y="3643200"/>
            <a:ext cx="5886720" cy="171468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8"/>
          <p:cNvCxnSpPr/>
          <p:nvPr/>
        </p:nvCxnSpPr>
        <p:spPr>
          <a:xfrm>
            <a:off x="7000560" y="4500720"/>
            <a:ext cx="114372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760" y="1214280"/>
            <a:ext cx="8286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 S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Прямая со стрелкой 4"/>
          <p:cNvCxnSpPr/>
          <p:nvPr/>
        </p:nvCxnSpPr>
        <p:spPr>
          <a:xfrm flipH="1" flipV="1">
            <a:off x="3142800" y="500040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16" name="Прямая со стрелкой 6"/>
          <p:cNvCxnSpPr/>
          <p:nvPr/>
        </p:nvCxnSpPr>
        <p:spPr>
          <a:xfrm>
            <a:off x="4929120" y="500076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</p:spTree>
  </p:cSld>
  <p:transition>
    <p:diamond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5560" y="17143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Закрепление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56800" y="2499840"/>
            <a:ext cx="764388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Упражнение №2 на странице 6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1356840"/>
            <a:ext cx="892980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ы условно разделили элементы на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не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Рассмотрели, как образуются связи между атомами металлов и неметаллов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, между атомами одного и того же элемента неметалла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400" y="1785960"/>
            <a:ext cx="83912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§11, закончить №2, стр. 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овторить все виды химической связи: определения, механизм 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Рисунок 3" descr="Сова анимация синяя.gif"/>
          <p:cNvPicPr/>
          <p:nvPr/>
        </p:nvPicPr>
        <p:blipFill>
          <a:blip r:embed="rId1"/>
          <a:stretch/>
        </p:blipFill>
        <p:spPr>
          <a:xfrm>
            <a:off x="6858000" y="35002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00040" y="2000160"/>
            <a:ext cx="8391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разных неметаллов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360" y="1428480"/>
            <a:ext cx="900108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Очевидно, опять 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</a:rPr>
              <a:t>ковалентную связь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– засчет образования общих электронных па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о ведь элементы – то разные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56760" y="1642680"/>
            <a:ext cx="857268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2376000"/>
            <a:ext cx="6048360" cy="14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валентная полярная химическая связ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5480" y="1499760"/>
            <a:ext cx="60483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</a:rPr>
              <a:t>Урок на тему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5560" y="8568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Цель урока: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642680"/>
            <a:ext cx="91440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 Продолжить формирование понятия о ковалентной химической связ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1642680"/>
            <a:ext cx="79297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249228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электроотрицательнос-тью (ЭО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285560"/>
            <a:ext cx="77864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Ряд электроотрицательности химических элементов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400" y="2999880"/>
            <a:ext cx="83912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H As I Si P Se C S Br Cl N O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силение электроотрица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Прямая со стрелкой 4"/>
          <p:cNvCxnSpPr/>
          <p:nvPr/>
        </p:nvCxnSpPr>
        <p:spPr>
          <a:xfrm>
            <a:off x="928800" y="4142880"/>
            <a:ext cx="7572960" cy="252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heel spokes="2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4:21:33Z</dcterms:created>
  <dc:creator>user</dc:creator>
  <dc:description/>
  <dc:language>en-US</dc:language>
  <cp:lastModifiedBy>LEGION</cp:lastModifiedBy>
  <dcterms:modified xsi:type="dcterms:W3CDTF">2015-05-04T06:45:46Z</dcterms:modified>
  <cp:revision>26</cp:revision>
  <dc:subject/>
  <dc:title>Задание</dc:title>
</cp:coreProperties>
</file>