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DE5C-77EC-423C-BF15-EFF0818425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Calibri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Выполнить на доске №5, страница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ласс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: записать образование молекул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H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Br</a:t>
            </a:r>
            <a:r>
              <a:rPr b="1" lang="en-US" sz="12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, LiCl.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пределить вид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F22D-8DAA-44D2-95F4-D4CE079BD0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F2FE-CC04-4CB8-BAE7-0042BAF537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смещен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общие электронные пары, а, следовательно, на каком из атомов будет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отрицательный заряд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(он будет обозначаться буквой «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» – греч. дельта), а, значит, где будет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отрицательный полюс молеку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DFCE-EAD8-4F1F-BC4F-110BBF0018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азумеется, атомы менее электроотрицательного элемента будут иметь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избыточный положительный заря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т.е. будут представлять собой как бы </a:t>
            </a: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положительный полюс молекул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 зарядом </a:t>
            </a:r>
            <a:r>
              <a:rPr b="1" lang="el-GR" sz="1200" spc="-1" strike="noStrike">
                <a:solidFill>
                  <a:srgbClr val="002060"/>
                </a:solidFill>
                <a:latin typeface="Calibri"/>
              </a:rPr>
              <a:t>δ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от вам и стало понятно название этой разновидности ковалентной связи – </a:t>
            </a: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полярная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CFF1-63D7-4669-B0BB-7C379CA88D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Calibri"/>
              </a:rPr>
              <a:t>не смещены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и к одному из атомов, поэтому они не имеют заряда – полюса и это </a:t>
            </a:r>
            <a:r>
              <a:rPr b="1" i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неполярная ковалентная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1120-8D05-4501-860F-D087BC9CBA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перь давайте с вами запишем алгоритм образования молекулы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SCl</a:t>
            </a:r>
            <a:r>
              <a:rPr b="1" lang="en-US" sz="14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5C8A-07AF-4A03-B941-845AA893B2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число внешних электронов у атомов неметаллов и  по формуле 8 –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число неспаренных электронов. Записать электронные формулы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7D37-B5B0-4AF6-8C9A-4281F9C79C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символ элемента – неметалла, который представлен одним атомом (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, в центр и знаком «плюс» – два атома другого элемента (С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l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BB04-0994-4498-B4CA-1202106BD5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Записать электронную и структурную формулы получившейся молек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l – S - 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385C-834D-4E34-A63E-11344A0745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 S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+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        Cl</a:t>
            </a:r>
            <a:r>
              <a:rPr b="1" lang="el-GR" sz="1200" spc="-1" strike="noStrike" baseline="50000">
                <a:solidFill>
                  <a:srgbClr val="002060"/>
                </a:solidFill>
                <a:latin typeface="Calibri"/>
              </a:rPr>
              <a:t>δ</a:t>
            </a:r>
            <a:r>
              <a:rPr b="1" lang="en-US" sz="1200" spc="-1" strike="noStrike" baseline="50000">
                <a:solidFill>
                  <a:srgbClr val="00206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13A9-17D8-4D17-A2C7-58D0F22F0A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66"/>
                </a:solidFill>
                <a:latin typeface="Calibri"/>
              </a:rPr>
              <a:t>Закреп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пражнение №2 на странице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D08F-C5FB-431C-8B72-4AB1DF0BE4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ы условно разделили элементы на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неметаллы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. Рассмотрели, как образуются связи между атомами металлов и неметаллов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, между атомами одного и того же элемента неметалла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(как называется такой вид связи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CC51-2566-435B-8779-E3B9E1E30B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66"/>
                </a:solidFill>
                <a:latin typeface="Calibri"/>
              </a:rPr>
              <a:t>Домашнее зад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§11, закончить №2, стр. 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вторить все виды химической связи: определения, механизм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7709-B5D3-46BF-9064-FDBF865485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разных неметаллов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E0AA-229B-4073-83E3-300937A168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Очевидно, опять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овалентную связь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– засчет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 ведь элементы – то разны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463D-B9B9-4474-83D6-50172DCEFD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7FDF-A3F0-4119-82F5-D62EE3E01F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валентная полярн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Урок на т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17AB-3997-4B3D-85C5-0807A3C354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Calibri"/>
              </a:rPr>
              <a:t>Цель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 Продолжить формирование понятия о ковалентной химическ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5677-08E8-4131-BE87-F2A6DD696C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Электроотриц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электроотрицательнос-тью (Э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95A3-5ABA-4E6D-B8F4-B3E81B534A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Calibri"/>
              </a:rPr>
              <a:t>Ряд электроотрицательности хи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libri"/>
              </a:rPr>
              <a:t>H As I Si P Se C S Br Cl N O 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2060"/>
                </a:solidFill>
                <a:latin typeface="Calibri"/>
              </a:rPr>
              <a:t>Усиление электроотрица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7670-6880-4FCA-BFB4-18E1937CF1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214280"/>
            <a:ext cx="655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Arial"/>
              </a:rPr>
              <a:t>Задание:</a:t>
            </a:r>
            <a:endParaRPr b="0" lang="en-US" sz="66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2960" y="2285640"/>
            <a:ext cx="817704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1. Выполнить на доске №5, страница 6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2. </a:t>
            </a:r>
            <a:r>
              <a:rPr b="1" i="1" lang="ru-RU" sz="4800" spc="-1" strike="noStrike" u="sng">
                <a:solidFill>
                  <a:srgbClr val="002060"/>
                </a:solidFill>
                <a:uFillTx/>
                <a:latin typeface="Times New Roman"/>
              </a:rPr>
              <a:t>Класс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: записать образование молекул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O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H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Br</a:t>
            </a:r>
            <a:r>
              <a:rPr b="1" lang="en-US" sz="4400" spc="-1" strike="noStrike" baseline="-25000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, LiCl.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Определить вид химической связ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71680" y="1928520"/>
            <a:ext cx="7858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пишите в тетрадь (на странице 64, §11)  как изменяется ЭО в периоде и подгруппе (смтр. запись курсивом со слов: в каждом периоде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157176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яд электроотрицательности элементов поможет вам определить, в сторону атомов какого химического элемента будут 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смещен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общие электронные пары, а, следовательно, на каком из атомов будет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отрицательный заряд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(он будет обозначаться буквой «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» – греч. дельта), а, значит, где будет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отрицательный полюс молекулы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400" y="157140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азумеется, атомы менее электроотрицательного элемента будут иметь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избыточный положительный заря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, т.е. будут представлять собой как бы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</a:rPr>
              <a:t>положительный полюс молекулы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 зарядом </a:t>
            </a:r>
            <a:r>
              <a:rPr b="1" lang="el-GR" sz="3200" spc="-1" strike="noStrike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+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от вам и стало понятно название этой разновидности ковалентной связи – </a:t>
            </a: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Times New Roman"/>
              </a:rPr>
              <a:t>полярная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57120" y="1714680"/>
            <a:ext cx="846288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ежду атомами одного и того же элемента неметалла, т.е. с одинаковой электроотрицательностью, общие электронные пары 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</a:rPr>
              <a:t>не смещены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и к одному из атомов, поэтому они не имеют заряда – полюса и это </a:t>
            </a: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imes New Roman"/>
              </a:rPr>
              <a:t>неполярная ковалентная связь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13880" y="2143080"/>
            <a:ext cx="7643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Теперь давайте с вами запишем алгоритм образования молекулы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SCl</a:t>
            </a:r>
            <a:r>
              <a:rPr b="1" lang="en-US" sz="60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85520" y="1714320"/>
            <a:ext cx="7643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число внешних электронов у атомов неметаллов и  по формуле 8 –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число неспаренных электронов. Записать электронные формулы атомов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857240" y="5143680"/>
            <a:ext cx="5499360" cy="1071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71680" y="1571400"/>
            <a:ext cx="7929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символ элемента – неметалла, который представлен одним атомом (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, в центр и знаком «плюс» – два атома другого элемента (С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l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42960" y="4500720"/>
            <a:ext cx="8013600" cy="1285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85520" y="857160"/>
            <a:ext cx="7643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Записать электронную и структурную формулы получившейся молекул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2060"/>
                </a:solidFill>
                <a:latin typeface="Times New Roman"/>
              </a:rPr>
              <a:t>l – S - C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2571840"/>
            <a:ext cx="6000840" cy="96336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5"/>
          <p:cNvCxnSpPr/>
          <p:nvPr/>
        </p:nvCxnSpPr>
        <p:spPr>
          <a:xfrm>
            <a:off x="7429680" y="3071880"/>
            <a:ext cx="78624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214280" y="3643200"/>
            <a:ext cx="5886720" cy="171468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8"/>
          <p:cNvCxnSpPr/>
          <p:nvPr/>
        </p:nvCxnSpPr>
        <p:spPr>
          <a:xfrm>
            <a:off x="7000560" y="4500720"/>
            <a:ext cx="1143720" cy="216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760" y="1214280"/>
            <a:ext cx="8286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Определить по ряду электроотрицательности, к атомам какого из элементов смещены общие электронные пары, и заменить черточки маленькими стрелками, обозначить полюс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 S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  Cl</a:t>
            </a:r>
            <a:r>
              <a:rPr b="1" lang="el-GR" sz="3600" spc="-1" strike="noStrike" baseline="50000">
                <a:solidFill>
                  <a:srgbClr val="002060"/>
                </a:solidFill>
                <a:latin typeface="Times New Roman"/>
              </a:rPr>
              <a:t>δ</a:t>
            </a:r>
            <a:r>
              <a:rPr b="1" lang="en-US" sz="3600" spc="-1" strike="noStrike" baseline="50000">
                <a:solidFill>
                  <a:srgbClr val="00206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Прямая со стрелкой 4"/>
          <p:cNvCxnSpPr/>
          <p:nvPr/>
        </p:nvCxnSpPr>
        <p:spPr>
          <a:xfrm flipH="1" flipV="1">
            <a:off x="3142800" y="500040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16" name="Прямая со стрелкой 6"/>
          <p:cNvCxnSpPr/>
          <p:nvPr/>
        </p:nvCxnSpPr>
        <p:spPr>
          <a:xfrm>
            <a:off x="4929120" y="5000760"/>
            <a:ext cx="572400" cy="2160"/>
          </a:xfrm>
          <a:prstGeom prst="straightConnector1">
            <a:avLst/>
          </a:prstGeom>
          <a:ln w="44280">
            <a:solidFill>
              <a:srgbClr val="002060"/>
            </a:solidFill>
            <a:miter/>
            <a:tailEnd len="med" type="triangle" w="med"/>
          </a:ln>
        </p:spPr>
      </p:cxnSp>
    </p:spTree>
  </p:cSld>
  <p:transition>
    <p:diamond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5560" y="17143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Закрепление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56800" y="2499840"/>
            <a:ext cx="764388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Times New Roman"/>
              </a:rPr>
              <a:t>Упражнение №2 на странице 6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1356840"/>
            <a:ext cx="892980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ы условно разделили элементы на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неметаллы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. Рассмотрели, как образуются связи между атомами металлов и неметаллов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, между атомами одного и того же элемента неметалла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(как называется такой вид связи?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400" y="1785960"/>
            <a:ext cx="83912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§11, закончить №2, стр. 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овторить все виды химической связи: определения, механизм 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Рисунок 3" descr="Сова анимация синяя.gif"/>
          <p:cNvPicPr/>
          <p:nvPr/>
        </p:nvPicPr>
        <p:blipFill>
          <a:blip r:embed="rId1"/>
          <a:stretch/>
        </p:blipFill>
        <p:spPr>
          <a:xfrm>
            <a:off x="6858000" y="3500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0040" y="2000160"/>
            <a:ext cx="8391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А какой тип связи мы можем ожидать при образовании соединений между атомами 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разных неметаллов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1428480"/>
            <a:ext cx="900108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Очевидно, опять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Times New Roman"/>
              </a:rPr>
              <a:t>ковалентную связь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– засчет образования общих электронных па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о ведь элементы – то разные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Наверное, следует ожидать, что такая ковалентная связь будет отличаться от рассмотренной ранее ковалентной связ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56760" y="1642680"/>
            <a:ext cx="857268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Атомы разных элементов по-разному относятся к общим электронным парам: те неметаллы, что сильнее, будут сильнее оттягивать к себе общие электронные пары, совсем как у Крылова: «У сильного всегда бессильный виноват…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2376000"/>
            <a:ext cx="6048360" cy="14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валентная полярная химическая связ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5480" y="1499760"/>
            <a:ext cx="60483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</a:rPr>
              <a:t>Урок на тему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560" y="8568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66"/>
                </a:solidFill>
                <a:latin typeface="Arial"/>
              </a:rPr>
              <a:t>Цель урока:</a:t>
            </a:r>
            <a:endParaRPr b="0" lang="en-US" sz="6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642680"/>
            <a:ext cx="91440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Продолжить формирование понятия о ковалентной химической связ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Познакомить учащихся с полярной ковалентной химической связью и электроотрицательностью (ЭО) как мерой неметалличности элем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Продолжить формирование умения записывать схемы образования молекул бинарных соединений элементов – неметал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9297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249228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пособность атомов химических элементов оттягивать к себе общие электронные пары, называется </a:t>
            </a: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электроотрицательнос-тью (ЭО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77864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Ряд электроотрицательности химических элементов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2999880"/>
            <a:ext cx="83912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H As I Si P Se C S Br Cl N O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силение электроотрица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Прямая со стрелкой 4"/>
          <p:cNvCxnSpPr/>
          <p:nvPr/>
        </p:nvCxnSpPr>
        <p:spPr>
          <a:xfrm>
            <a:off x="928800" y="4142880"/>
            <a:ext cx="7572960" cy="2520"/>
          </a:xfrm>
          <a:prstGeom prst="straightConnector1">
            <a:avLst/>
          </a:prstGeom>
          <a:ln w="47520">
            <a:solidFill>
              <a:srgbClr val="002060"/>
            </a:solidFill>
            <a:miter/>
            <a:tailEnd len="med" type="arrow" w="med"/>
          </a:ln>
        </p:spPr>
      </p:cxnSp>
    </p:spTree>
  </p:cSld>
  <p:transition>
    <p:wheel spokes="2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4:21:33Z</dcterms:created>
  <dc:creator>user</dc:creator>
  <dc:description/>
  <dc:language>en-US</dc:language>
  <cp:lastModifiedBy>LEGION</cp:lastModifiedBy>
  <dcterms:modified xsi:type="dcterms:W3CDTF">2015-05-04T06:45:46Z</dcterms:modified>
  <cp:revision>26</cp:revision>
  <dc:subject/>
  <dc:title>Задание</dc:title>
</cp:coreProperties>
</file>