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A6D8-8EEF-4154-B9DC-BA273FBB7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Заболевания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состояние окружающей среды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в моем селе Отъяссы</a:t>
            </a:r>
            <a:r>
              <a:rPr b="1" lang="ru-RU" sz="1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ECD8-AA57-4A0B-9031-8D8D2880D7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56E0-BB37-489F-AE97-74A0A8649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3. Заболевание  КРС  лейкозом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FF4E-8D86-4498-8070-9E64BA3E1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4. Заболевания,  выявленные на основе медосмотра, у учащихся наше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матическая патология -93случая -61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орно-двигательный аппарат-  91случай- 5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 -52случая- 34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эндокринной системы18случаев-11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ирургическая патология 20случаев-13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зрения -25 случаев-16,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некологическая патология -15 случаев -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8FD2-F436-4ACF-8D11-59D3EEE359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аграмма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27C0-6083-499C-A1CF-43065EDE0D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5. Заболеваемость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EE8E-6AF2-4F77-B09A-581E4615B9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намика  заболеваний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E16B-5CF0-4242-97E6-AF1C049074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6. Результаты микроисследования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«Здоровье   ученика   в режиме дня школы»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по П.И. Третьякову</a:t>
            </a:r>
            <a:br>
              <a:rPr sz="11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тепень усталости учащихся 11 кл на уроках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25F9-2CAD-4D9D-8EA1-61206A283C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Соцопро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нькова М. Н. возраст 85 пол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якова М. И. возраст 8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на     А.И. возраст 82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опрос «Ваше отношение  к культуре питания, к труд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а долголетия: наши деды были здоровы и росли на здоровой земле и свежем воздух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171D-2489-4E66-8921-3FE04D0D39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336600"/>
                </a:solidFill>
                <a:latin typeface="Calibri"/>
              </a:rPr>
              <a:t>Увы, гипотеза верн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BDC8-BFC5-42CD-8E97-EB57ACC2A9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ктивное  загрязнение  внешней среды «Госатомиздат» 19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дакцией  В. К. Шумного, Г. М. Дымшица и О. В. Рувинског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 «Просвещение»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ческие  данные радионуклеотидной  лаборатории областной СЭС г Тамбова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природы В. М. Константинов «Охрана  природы Москва АСАДЕИА 2000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. Общая, социальная, прикладная. Н. А. Воронков «Агар» Москва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05DF-C858-4B0A-BC54-74C4C25D9A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Нельзя  допустить, чтобы  люди  направили  на  свое  соб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уничтожение  те  силы  природы, которые  они сумели откры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и пок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Ф. Жолио  -К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9A23-4DEB-4D74-A5BD-AE1C706003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 ли наши заболевания следствием загрязнения окружающей сре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567F-4440-4193-B09C-A328DEB4B3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6600"/>
                </a:solidFill>
                <a:uFillTx/>
                <a:latin typeface="Calibri"/>
              </a:rPr>
              <a:t>Гипотез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3D65-0DBC-4089-919C-E495A79B62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ыяснение влияния факторов окружающей   сред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состояние здоровья человека в родном с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1f497d"/>
                </a:solidFill>
                <a:uFillTx/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нформационные источники о последствиях Чернобыльской АЭ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, полученные в вет.ста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 медосмотра учащихся нашей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сти микроисследование с учащимися по Третьякову П.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соцопроса долгожителей нашего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бщить результаты и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63FB-D8BC-474D-9556-2A2C8C3E4E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Ход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6DE4-150D-483F-818B-8CB802A2F0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B08F-27CB-481B-A930-966F5B0712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Результаты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F858-766F-452C-BF0C-8B6088E289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монтова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тое озе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E76A-85AC-4E14-9A58-3B27585D0A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3DC-0FD0-4451-AE8B-15C570FF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96A-ABA4-4A43-85ED-83B02480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D40-DAF0-4EE4-AE40-E56E3E0F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FA5-A34A-4E55-80FA-76CCE565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28E-CCB7-47C5-AF98-5CAD2A93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1E6-018C-4866-ABFB-D2257B8A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9C7-192F-46CE-950A-C7C1D49F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6B9-5E17-4CDE-8991-E10201B3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318-8462-41CB-ABA4-C040E55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255-408E-4A22-B7B9-2E6078D1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EC1-340E-4A48-B6F0-095D8E1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2D9-AB17-4583-897C-29492D9E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B0F8-6808-4165-8ED4-15897A0FC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00"/>
                </a:solidFill>
                <a:latin typeface="Arial"/>
              </a:rPr>
              <a:t>Заболевания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9900"/>
                </a:solidFill>
                <a:latin typeface="Arial"/>
              </a:rPr>
              <a:t>состояние окружающей среды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300"/>
            </a:b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в моем селе Отъяссы</a:t>
            </a:r>
            <a:r>
              <a:rPr b="1" lang="ru-RU" sz="3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50052"/>
          <p:cNvPicPr/>
          <p:nvPr/>
        </p:nvPicPr>
        <p:blipFill>
          <a:blip r:embed="rId1"/>
          <a:stretch/>
        </p:blipFill>
        <p:spPr>
          <a:xfrm>
            <a:off x="900000" y="1989000"/>
            <a:ext cx="7632720" cy="348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500720" y="5589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Черникова С.В., Лунькова В.И. учитель биологии МОУ Отъясская СОШ Сос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052640"/>
          <a:ext cx="8229600" cy="5589360"/>
        </p:xfrm>
        <a:graphic>
          <a:graphicData uri="http://schemas.openxmlformats.org/drawingml/2006/table">
            <a:tbl>
              <a:tblPr/>
              <a:tblGrid>
                <a:gridCol w="1917720"/>
                <a:gridCol w="1500120"/>
                <a:gridCol w="1623960"/>
                <a:gridCol w="1563840"/>
                <a:gridCol w="162396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к 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1 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±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 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 1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  ± 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  ±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 0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из о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 водопровод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нормативы  на  почву не существуют, а оценка ведется по сравнению  со средней  многолетне сложившейся допустимой  норме. Величина для  Тамбовской области 30-40 бк\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по улице  Захар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возле Д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 Заболевание  КРС  лейкозом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345440" cy="3895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 Заболевания,  выявленные на основе медосмотра, у учащихся на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 патология -93случая -61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орно-двигательный аппарат-  91случай- 5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 нервной системы -52случая- 34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эндокринной системы18случаев-11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рургическая патология 20случаев-13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зрения -25 случаев-16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некологическая патология -15 случаев -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50160" cy="5270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Диаграмма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5. Заболеваемость учащихся по г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-2006640" y="53978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48"/>
          <p:cNvGrpSpPr/>
          <p:nvPr/>
        </p:nvGrpSpPr>
        <p:grpSpPr>
          <a:xfrm>
            <a:off x="900000" y="1700280"/>
            <a:ext cx="6551640" cy="3760560"/>
            <a:chOff x="900000" y="1700280"/>
            <a:chExt cx="6551640" cy="3760560"/>
          </a:xfrm>
        </p:grpSpPr>
        <p:sp>
          <p:nvSpPr>
            <p:cNvPr id="96" name="AutoShape 149"/>
            <p:cNvSpPr/>
            <p:nvPr/>
          </p:nvSpPr>
          <p:spPr>
            <a:xfrm>
              <a:off x="900000" y="1700280"/>
              <a:ext cx="6551640" cy="3724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0"/>
            <p:cNvSpPr/>
            <p:nvPr/>
          </p:nvSpPr>
          <p:spPr>
            <a:xfrm>
              <a:off x="2544120" y="3070800"/>
              <a:ext cx="1426680" cy="704520"/>
            </a:xfrm>
            <a:custGeom>
              <a:avLst/>
              <a:gdLst/>
              <a:ahLst/>
              <a:rect l="l" t="t" r="r" b="b"/>
              <a:pathLst>
                <a:path w="2035" h="1101">
                  <a:moveTo>
                    <a:pt x="2035" y="398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2035" y="1101"/>
                  </a:lnTo>
                  <a:lnTo>
                    <a:pt x="2035" y="398"/>
                  </a:lnTo>
                  <a:close/>
                </a:path>
              </a:pathLst>
            </a:custGeom>
            <a:solidFill>
              <a:srgbClr val="80404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1"/>
            <p:cNvSpPr/>
            <p:nvPr/>
          </p:nvSpPr>
          <p:spPr>
            <a:xfrm>
              <a:off x="2544120" y="2902680"/>
              <a:ext cx="1426680" cy="423000"/>
            </a:xfrm>
            <a:custGeom>
              <a:avLst/>
              <a:gdLst/>
              <a:ahLst/>
              <a:rect l="l" t="t" r="r" b="b"/>
              <a:pathLst>
                <a:path w="2035" h="661">
                  <a:moveTo>
                    <a:pt x="0" y="263"/>
                  </a:moveTo>
                  <a:lnTo>
                    <a:pt x="0" y="263"/>
                  </a:lnTo>
                  <a:lnTo>
                    <a:pt x="28" y="253"/>
                  </a:lnTo>
                  <a:lnTo>
                    <a:pt x="56" y="244"/>
                  </a:lnTo>
                  <a:lnTo>
                    <a:pt x="84" y="235"/>
                  </a:lnTo>
                  <a:lnTo>
                    <a:pt x="111" y="226"/>
                  </a:lnTo>
                  <a:lnTo>
                    <a:pt x="142" y="219"/>
                  </a:lnTo>
                  <a:lnTo>
                    <a:pt x="173" y="210"/>
                  </a:lnTo>
                  <a:lnTo>
                    <a:pt x="204" y="201"/>
                  </a:lnTo>
                  <a:lnTo>
                    <a:pt x="235" y="192"/>
                  </a:lnTo>
                  <a:lnTo>
                    <a:pt x="266" y="185"/>
                  </a:lnTo>
                  <a:lnTo>
                    <a:pt x="299" y="176"/>
                  </a:lnTo>
                  <a:lnTo>
                    <a:pt x="330" y="170"/>
                  </a:lnTo>
                  <a:lnTo>
                    <a:pt x="364" y="161"/>
                  </a:lnTo>
                  <a:lnTo>
                    <a:pt x="398" y="155"/>
                  </a:lnTo>
                  <a:lnTo>
                    <a:pt x="432" y="145"/>
                  </a:lnTo>
                  <a:lnTo>
                    <a:pt x="466" y="139"/>
                  </a:lnTo>
                  <a:lnTo>
                    <a:pt x="503" y="133"/>
                  </a:lnTo>
                  <a:lnTo>
                    <a:pt x="537" y="127"/>
                  </a:lnTo>
                  <a:lnTo>
                    <a:pt x="574" y="118"/>
                  </a:lnTo>
                  <a:lnTo>
                    <a:pt x="611" y="111"/>
                  </a:lnTo>
                  <a:lnTo>
                    <a:pt x="648" y="105"/>
                  </a:lnTo>
                  <a:lnTo>
                    <a:pt x="685" y="99"/>
                  </a:lnTo>
                  <a:lnTo>
                    <a:pt x="725" y="93"/>
                  </a:lnTo>
                  <a:lnTo>
                    <a:pt x="762" y="87"/>
                  </a:lnTo>
                  <a:lnTo>
                    <a:pt x="802" y="84"/>
                  </a:lnTo>
                  <a:lnTo>
                    <a:pt x="839" y="77"/>
                  </a:lnTo>
                  <a:lnTo>
                    <a:pt x="879" y="71"/>
                  </a:lnTo>
                  <a:lnTo>
                    <a:pt x="919" y="65"/>
                  </a:lnTo>
                  <a:lnTo>
                    <a:pt x="959" y="62"/>
                  </a:lnTo>
                  <a:lnTo>
                    <a:pt x="999" y="56"/>
                  </a:lnTo>
                  <a:lnTo>
                    <a:pt x="1039" y="53"/>
                  </a:lnTo>
                  <a:lnTo>
                    <a:pt x="1082" y="47"/>
                  </a:lnTo>
                  <a:lnTo>
                    <a:pt x="1122" y="44"/>
                  </a:lnTo>
                  <a:lnTo>
                    <a:pt x="1166" y="40"/>
                  </a:lnTo>
                  <a:lnTo>
                    <a:pt x="1206" y="34"/>
                  </a:lnTo>
                  <a:lnTo>
                    <a:pt x="1249" y="31"/>
                  </a:lnTo>
                  <a:lnTo>
                    <a:pt x="1292" y="28"/>
                  </a:lnTo>
                  <a:lnTo>
                    <a:pt x="1332" y="25"/>
                  </a:lnTo>
                  <a:lnTo>
                    <a:pt x="1375" y="22"/>
                  </a:lnTo>
                  <a:lnTo>
                    <a:pt x="1418" y="19"/>
                  </a:lnTo>
                  <a:lnTo>
                    <a:pt x="1461" y="16"/>
                  </a:lnTo>
                  <a:lnTo>
                    <a:pt x="1505" y="13"/>
                  </a:lnTo>
                  <a:lnTo>
                    <a:pt x="1551" y="13"/>
                  </a:lnTo>
                  <a:lnTo>
                    <a:pt x="1594" y="10"/>
                  </a:lnTo>
                  <a:lnTo>
                    <a:pt x="1637" y="7"/>
                  </a:lnTo>
                  <a:lnTo>
                    <a:pt x="1680" y="7"/>
                  </a:lnTo>
                  <a:lnTo>
                    <a:pt x="1726" y="3"/>
                  </a:lnTo>
                  <a:lnTo>
                    <a:pt x="1770" y="3"/>
                  </a:lnTo>
                  <a:lnTo>
                    <a:pt x="1813" y="3"/>
                  </a:lnTo>
                  <a:lnTo>
                    <a:pt x="1859" y="0"/>
                  </a:lnTo>
                  <a:lnTo>
                    <a:pt x="1902" y="0"/>
                  </a:lnTo>
                  <a:lnTo>
                    <a:pt x="1945" y="0"/>
                  </a:lnTo>
                  <a:lnTo>
                    <a:pt x="1992" y="0"/>
                  </a:lnTo>
                  <a:lnTo>
                    <a:pt x="2035" y="0"/>
                  </a:lnTo>
                  <a:lnTo>
                    <a:pt x="2035" y="661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2"/>
            <p:cNvSpPr/>
            <p:nvPr/>
          </p:nvSpPr>
          <p:spPr>
            <a:xfrm>
              <a:off x="4411080" y="3143520"/>
              <a:ext cx="1605240" cy="635400"/>
            </a:xfrm>
            <a:custGeom>
              <a:avLst/>
              <a:gdLst/>
              <a:ahLst/>
              <a:rect l="l" t="t" r="r" b="b"/>
              <a:pathLst>
                <a:path w="2290" h="993">
                  <a:moveTo>
                    <a:pt x="0" y="290"/>
                  </a:moveTo>
                  <a:lnTo>
                    <a:pt x="2290" y="0"/>
                  </a:lnTo>
                  <a:lnTo>
                    <a:pt x="2290" y="703"/>
                  </a:lnTo>
                  <a:lnTo>
                    <a:pt x="0" y="9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d4d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3"/>
            <p:cNvSpPr/>
            <p:nvPr/>
          </p:nvSpPr>
          <p:spPr>
            <a:xfrm>
              <a:off x="4411080" y="2907000"/>
              <a:ext cx="1605240" cy="422280"/>
            </a:xfrm>
            <a:custGeom>
              <a:avLst/>
              <a:gdLst/>
              <a:ahLst/>
              <a:rect l="l" t="t" r="r" b="b"/>
              <a:pathLst>
                <a:path w="2290" h="660">
                  <a:moveTo>
                    <a:pt x="0" y="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0" y="0"/>
                  </a:lnTo>
                  <a:lnTo>
                    <a:pt x="136" y="0"/>
                  </a:lnTo>
                  <a:lnTo>
                    <a:pt x="179" y="0"/>
                  </a:lnTo>
                  <a:lnTo>
                    <a:pt x="222" y="3"/>
                  </a:lnTo>
                  <a:lnTo>
                    <a:pt x="269" y="3"/>
                  </a:lnTo>
                  <a:lnTo>
                    <a:pt x="312" y="3"/>
                  </a:lnTo>
                  <a:lnTo>
                    <a:pt x="355" y="6"/>
                  </a:lnTo>
                  <a:lnTo>
                    <a:pt x="401" y="6"/>
                  </a:lnTo>
                  <a:lnTo>
                    <a:pt x="444" y="9"/>
                  </a:lnTo>
                  <a:lnTo>
                    <a:pt x="487" y="12"/>
                  </a:lnTo>
                  <a:lnTo>
                    <a:pt x="531" y="12"/>
                  </a:lnTo>
                  <a:lnTo>
                    <a:pt x="574" y="15"/>
                  </a:lnTo>
                  <a:lnTo>
                    <a:pt x="617" y="18"/>
                  </a:lnTo>
                  <a:lnTo>
                    <a:pt x="660" y="21"/>
                  </a:lnTo>
                  <a:lnTo>
                    <a:pt x="703" y="24"/>
                  </a:lnTo>
                  <a:lnTo>
                    <a:pt x="746" y="27"/>
                  </a:lnTo>
                  <a:lnTo>
                    <a:pt x="789" y="30"/>
                  </a:lnTo>
                  <a:lnTo>
                    <a:pt x="830" y="33"/>
                  </a:lnTo>
                  <a:lnTo>
                    <a:pt x="873" y="40"/>
                  </a:lnTo>
                  <a:lnTo>
                    <a:pt x="913" y="43"/>
                  </a:lnTo>
                  <a:lnTo>
                    <a:pt x="956" y="46"/>
                  </a:lnTo>
                  <a:lnTo>
                    <a:pt x="996" y="52"/>
                  </a:lnTo>
                  <a:lnTo>
                    <a:pt x="1036" y="55"/>
                  </a:lnTo>
                  <a:lnTo>
                    <a:pt x="1079" y="61"/>
                  </a:lnTo>
                  <a:lnTo>
                    <a:pt x="1119" y="64"/>
                  </a:lnTo>
                  <a:lnTo>
                    <a:pt x="1156" y="70"/>
                  </a:lnTo>
                  <a:lnTo>
                    <a:pt x="1196" y="77"/>
                  </a:lnTo>
                  <a:lnTo>
                    <a:pt x="1236" y="83"/>
                  </a:lnTo>
                  <a:lnTo>
                    <a:pt x="1276" y="86"/>
                  </a:lnTo>
                  <a:lnTo>
                    <a:pt x="1313" y="92"/>
                  </a:lnTo>
                  <a:lnTo>
                    <a:pt x="1350" y="98"/>
                  </a:lnTo>
                  <a:lnTo>
                    <a:pt x="1387" y="104"/>
                  </a:lnTo>
                  <a:lnTo>
                    <a:pt x="1424" y="111"/>
                  </a:lnTo>
                  <a:lnTo>
                    <a:pt x="1461" y="117"/>
                  </a:lnTo>
                  <a:lnTo>
                    <a:pt x="1498" y="126"/>
                  </a:lnTo>
                  <a:lnTo>
                    <a:pt x="1535" y="132"/>
                  </a:lnTo>
                  <a:lnTo>
                    <a:pt x="1569" y="138"/>
                  </a:lnTo>
                  <a:lnTo>
                    <a:pt x="1603" y="145"/>
                  </a:lnTo>
                  <a:lnTo>
                    <a:pt x="1640" y="154"/>
                  </a:lnTo>
                  <a:lnTo>
                    <a:pt x="1671" y="160"/>
                  </a:lnTo>
                  <a:lnTo>
                    <a:pt x="1705" y="169"/>
                  </a:lnTo>
                  <a:lnTo>
                    <a:pt x="1739" y="175"/>
                  </a:lnTo>
                  <a:lnTo>
                    <a:pt x="1770" y="185"/>
                  </a:lnTo>
                  <a:lnTo>
                    <a:pt x="1803" y="191"/>
                  </a:lnTo>
                  <a:lnTo>
                    <a:pt x="1834" y="200"/>
                  </a:lnTo>
                  <a:lnTo>
                    <a:pt x="1865" y="209"/>
                  </a:lnTo>
                  <a:lnTo>
                    <a:pt x="1893" y="219"/>
                  </a:lnTo>
                  <a:lnTo>
                    <a:pt x="1924" y="225"/>
                  </a:lnTo>
                  <a:lnTo>
                    <a:pt x="1951" y="234"/>
                  </a:lnTo>
                  <a:lnTo>
                    <a:pt x="1982" y="243"/>
                  </a:lnTo>
                  <a:lnTo>
                    <a:pt x="2010" y="253"/>
                  </a:lnTo>
                  <a:lnTo>
                    <a:pt x="2035" y="262"/>
                  </a:lnTo>
                  <a:lnTo>
                    <a:pt x="2062" y="271"/>
                  </a:lnTo>
                  <a:lnTo>
                    <a:pt x="2087" y="280"/>
                  </a:lnTo>
                  <a:lnTo>
                    <a:pt x="2112" y="290"/>
                  </a:lnTo>
                  <a:lnTo>
                    <a:pt x="2136" y="299"/>
                  </a:lnTo>
                  <a:lnTo>
                    <a:pt x="2161" y="308"/>
                  </a:lnTo>
                  <a:lnTo>
                    <a:pt x="2186" y="320"/>
                  </a:lnTo>
                  <a:lnTo>
                    <a:pt x="2207" y="330"/>
                  </a:lnTo>
                  <a:lnTo>
                    <a:pt x="2229" y="339"/>
                  </a:lnTo>
                  <a:lnTo>
                    <a:pt x="2250" y="348"/>
                  </a:lnTo>
                  <a:lnTo>
                    <a:pt x="2272" y="361"/>
                  </a:lnTo>
                  <a:lnTo>
                    <a:pt x="2290" y="37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4"/>
            <p:cNvSpPr/>
            <p:nvPr/>
          </p:nvSpPr>
          <p:spPr>
            <a:xfrm>
              <a:off x="1952280" y="3398400"/>
              <a:ext cx="38520" cy="536760"/>
            </a:xfrm>
            <a:custGeom>
              <a:avLst/>
              <a:gdLst/>
              <a:ahLst/>
              <a:rect l="l" t="t" r="r" b="b"/>
              <a:pathLst>
                <a:path w="55" h="839">
                  <a:moveTo>
                    <a:pt x="55" y="136"/>
                  </a:moveTo>
                  <a:lnTo>
                    <a:pt x="55" y="136"/>
                  </a:lnTo>
                  <a:lnTo>
                    <a:pt x="46" y="126"/>
                  </a:lnTo>
                  <a:lnTo>
                    <a:pt x="37" y="114"/>
                  </a:lnTo>
                  <a:lnTo>
                    <a:pt x="31" y="102"/>
                  </a:lnTo>
                  <a:lnTo>
                    <a:pt x="25" y="92"/>
                  </a:lnTo>
                  <a:lnTo>
                    <a:pt x="18" y="80"/>
                  </a:lnTo>
                  <a:lnTo>
                    <a:pt x="12" y="68"/>
                  </a:lnTo>
                  <a:lnTo>
                    <a:pt x="9" y="55"/>
                  </a:lnTo>
                  <a:lnTo>
                    <a:pt x="6" y="46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0" y="713"/>
                  </a:lnTo>
                  <a:lnTo>
                    <a:pt x="0" y="725"/>
                  </a:lnTo>
                  <a:lnTo>
                    <a:pt x="3" y="737"/>
                  </a:lnTo>
                  <a:lnTo>
                    <a:pt x="6" y="750"/>
                  </a:lnTo>
                  <a:lnTo>
                    <a:pt x="9" y="759"/>
                  </a:lnTo>
                  <a:lnTo>
                    <a:pt x="12" y="771"/>
                  </a:lnTo>
                  <a:lnTo>
                    <a:pt x="18" y="784"/>
                  </a:lnTo>
                  <a:lnTo>
                    <a:pt x="25" y="796"/>
                  </a:lnTo>
                  <a:lnTo>
                    <a:pt x="31" y="805"/>
                  </a:lnTo>
                  <a:lnTo>
                    <a:pt x="37" y="818"/>
                  </a:lnTo>
                  <a:lnTo>
                    <a:pt x="46" y="830"/>
                  </a:lnTo>
                  <a:lnTo>
                    <a:pt x="55" y="839"/>
                  </a:lnTo>
                  <a:lnTo>
                    <a:pt x="55" y="136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5"/>
            <p:cNvSpPr/>
            <p:nvPr/>
          </p:nvSpPr>
          <p:spPr>
            <a:xfrm>
              <a:off x="1990800" y="3398400"/>
              <a:ext cx="1746000" cy="536760"/>
            </a:xfrm>
            <a:custGeom>
              <a:avLst/>
              <a:gdLst/>
              <a:ahLst/>
              <a:rect l="l" t="t" r="r" b="b"/>
              <a:pathLst>
                <a:path w="2491" h="839">
                  <a:moveTo>
                    <a:pt x="2491" y="0"/>
                  </a:moveTo>
                  <a:lnTo>
                    <a:pt x="0" y="136"/>
                  </a:lnTo>
                  <a:lnTo>
                    <a:pt x="0" y="839"/>
                  </a:lnTo>
                  <a:lnTo>
                    <a:pt x="2491" y="703"/>
                  </a:lnTo>
                  <a:lnTo>
                    <a:pt x="2491" y="0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6"/>
            <p:cNvSpPr/>
            <p:nvPr/>
          </p:nvSpPr>
          <p:spPr>
            <a:xfrm>
              <a:off x="1952280" y="3143520"/>
              <a:ext cx="1784880" cy="341640"/>
            </a:xfrm>
            <a:custGeom>
              <a:avLst/>
              <a:gdLst/>
              <a:ahLst/>
              <a:rect l="l" t="t" r="r" b="b"/>
              <a:pathLst>
                <a:path w="2546" h="534">
                  <a:moveTo>
                    <a:pt x="55" y="534"/>
                  </a:moveTo>
                  <a:lnTo>
                    <a:pt x="55" y="534"/>
                  </a:lnTo>
                  <a:lnTo>
                    <a:pt x="46" y="524"/>
                  </a:lnTo>
                  <a:lnTo>
                    <a:pt x="37" y="512"/>
                  </a:lnTo>
                  <a:lnTo>
                    <a:pt x="31" y="500"/>
                  </a:lnTo>
                  <a:lnTo>
                    <a:pt x="25" y="490"/>
                  </a:lnTo>
                  <a:lnTo>
                    <a:pt x="18" y="478"/>
                  </a:lnTo>
                  <a:lnTo>
                    <a:pt x="12" y="466"/>
                  </a:lnTo>
                  <a:lnTo>
                    <a:pt x="9" y="453"/>
                  </a:lnTo>
                  <a:lnTo>
                    <a:pt x="6" y="444"/>
                  </a:lnTo>
                  <a:lnTo>
                    <a:pt x="3" y="432"/>
                  </a:lnTo>
                  <a:lnTo>
                    <a:pt x="0" y="419"/>
                  </a:lnTo>
                  <a:lnTo>
                    <a:pt x="0" y="407"/>
                  </a:lnTo>
                  <a:lnTo>
                    <a:pt x="0" y="398"/>
                  </a:lnTo>
                  <a:lnTo>
                    <a:pt x="0" y="386"/>
                  </a:lnTo>
                  <a:lnTo>
                    <a:pt x="0" y="373"/>
                  </a:lnTo>
                  <a:lnTo>
                    <a:pt x="3" y="364"/>
                  </a:lnTo>
                  <a:lnTo>
                    <a:pt x="6" y="352"/>
                  </a:lnTo>
                  <a:lnTo>
                    <a:pt x="9" y="339"/>
                  </a:lnTo>
                  <a:lnTo>
                    <a:pt x="12" y="327"/>
                  </a:lnTo>
                  <a:lnTo>
                    <a:pt x="18" y="318"/>
                  </a:lnTo>
                  <a:lnTo>
                    <a:pt x="25" y="305"/>
                  </a:lnTo>
                  <a:lnTo>
                    <a:pt x="31" y="293"/>
                  </a:lnTo>
                  <a:lnTo>
                    <a:pt x="37" y="284"/>
                  </a:lnTo>
                  <a:lnTo>
                    <a:pt x="46" y="271"/>
                  </a:lnTo>
                  <a:lnTo>
                    <a:pt x="55" y="259"/>
                  </a:lnTo>
                  <a:lnTo>
                    <a:pt x="65" y="250"/>
                  </a:lnTo>
                  <a:lnTo>
                    <a:pt x="74" y="237"/>
                  </a:lnTo>
                  <a:lnTo>
                    <a:pt x="86" y="225"/>
                  </a:lnTo>
                  <a:lnTo>
                    <a:pt x="99" y="216"/>
                  </a:lnTo>
                  <a:lnTo>
                    <a:pt x="111" y="203"/>
                  </a:lnTo>
                  <a:lnTo>
                    <a:pt x="123" y="194"/>
                  </a:lnTo>
                  <a:lnTo>
                    <a:pt x="139" y="182"/>
                  </a:lnTo>
                  <a:lnTo>
                    <a:pt x="154" y="173"/>
                  </a:lnTo>
                  <a:lnTo>
                    <a:pt x="170" y="160"/>
                  </a:lnTo>
                  <a:lnTo>
                    <a:pt x="185" y="151"/>
                  </a:lnTo>
                  <a:lnTo>
                    <a:pt x="200" y="139"/>
                  </a:lnTo>
                  <a:lnTo>
                    <a:pt x="219" y="129"/>
                  </a:lnTo>
                  <a:lnTo>
                    <a:pt x="237" y="117"/>
                  </a:lnTo>
                  <a:lnTo>
                    <a:pt x="256" y="108"/>
                  </a:lnTo>
                  <a:lnTo>
                    <a:pt x="277" y="99"/>
                  </a:lnTo>
                  <a:lnTo>
                    <a:pt x="296" y="86"/>
                  </a:lnTo>
                  <a:lnTo>
                    <a:pt x="317" y="77"/>
                  </a:lnTo>
                  <a:lnTo>
                    <a:pt x="339" y="68"/>
                  </a:lnTo>
                  <a:lnTo>
                    <a:pt x="364" y="58"/>
                  </a:lnTo>
                  <a:lnTo>
                    <a:pt x="385" y="46"/>
                  </a:lnTo>
                  <a:lnTo>
                    <a:pt x="410" y="37"/>
                  </a:lnTo>
                  <a:lnTo>
                    <a:pt x="435" y="28"/>
                  </a:lnTo>
                  <a:lnTo>
                    <a:pt x="459" y="18"/>
                  </a:lnTo>
                  <a:lnTo>
                    <a:pt x="487" y="9"/>
                  </a:lnTo>
                  <a:lnTo>
                    <a:pt x="512" y="0"/>
                  </a:lnTo>
                  <a:lnTo>
                    <a:pt x="2546" y="398"/>
                  </a:lnTo>
                  <a:lnTo>
                    <a:pt x="55" y="534"/>
                  </a:lnTo>
                  <a:close/>
                </a:path>
              </a:pathLst>
            </a:custGeom>
            <a:solidFill>
              <a:srgbClr val="660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7"/>
            <p:cNvSpPr/>
            <p:nvPr/>
          </p:nvSpPr>
          <p:spPr>
            <a:xfrm>
              <a:off x="5943600" y="3436200"/>
              <a:ext cx="459720" cy="731880"/>
            </a:xfrm>
            <a:custGeom>
              <a:avLst/>
              <a:gdLst/>
              <a:ahLst/>
              <a:rect l="l" t="t" r="r" b="b"/>
              <a:pathLst>
                <a:path w="656" h="1144">
                  <a:moveTo>
                    <a:pt x="656" y="0"/>
                  </a:moveTo>
                  <a:lnTo>
                    <a:pt x="656" y="0"/>
                  </a:lnTo>
                  <a:lnTo>
                    <a:pt x="656" y="9"/>
                  </a:lnTo>
                  <a:lnTo>
                    <a:pt x="653" y="21"/>
                  </a:lnTo>
                  <a:lnTo>
                    <a:pt x="653" y="33"/>
                  </a:lnTo>
                  <a:lnTo>
                    <a:pt x="650" y="46"/>
                  </a:lnTo>
                  <a:lnTo>
                    <a:pt x="647" y="55"/>
                  </a:lnTo>
                  <a:lnTo>
                    <a:pt x="641" y="67"/>
                  </a:lnTo>
                  <a:lnTo>
                    <a:pt x="638" y="80"/>
                  </a:lnTo>
                  <a:lnTo>
                    <a:pt x="632" y="92"/>
                  </a:lnTo>
                  <a:lnTo>
                    <a:pt x="625" y="101"/>
                  </a:lnTo>
                  <a:lnTo>
                    <a:pt x="616" y="114"/>
                  </a:lnTo>
                  <a:lnTo>
                    <a:pt x="610" y="126"/>
                  </a:lnTo>
                  <a:lnTo>
                    <a:pt x="601" y="135"/>
                  </a:lnTo>
                  <a:lnTo>
                    <a:pt x="591" y="148"/>
                  </a:lnTo>
                  <a:lnTo>
                    <a:pt x="579" y="160"/>
                  </a:lnTo>
                  <a:lnTo>
                    <a:pt x="570" y="169"/>
                  </a:lnTo>
                  <a:lnTo>
                    <a:pt x="558" y="182"/>
                  </a:lnTo>
                  <a:lnTo>
                    <a:pt x="545" y="191"/>
                  </a:lnTo>
                  <a:lnTo>
                    <a:pt x="530" y="203"/>
                  </a:lnTo>
                  <a:lnTo>
                    <a:pt x="517" y="212"/>
                  </a:lnTo>
                  <a:lnTo>
                    <a:pt x="502" y="225"/>
                  </a:lnTo>
                  <a:lnTo>
                    <a:pt x="487" y="234"/>
                  </a:lnTo>
                  <a:lnTo>
                    <a:pt x="471" y="246"/>
                  </a:lnTo>
                  <a:lnTo>
                    <a:pt x="453" y="256"/>
                  </a:lnTo>
                  <a:lnTo>
                    <a:pt x="434" y="268"/>
                  </a:lnTo>
                  <a:lnTo>
                    <a:pt x="416" y="277"/>
                  </a:lnTo>
                  <a:lnTo>
                    <a:pt x="397" y="290"/>
                  </a:lnTo>
                  <a:lnTo>
                    <a:pt x="379" y="299"/>
                  </a:lnTo>
                  <a:lnTo>
                    <a:pt x="357" y="308"/>
                  </a:lnTo>
                  <a:lnTo>
                    <a:pt x="336" y="320"/>
                  </a:lnTo>
                  <a:lnTo>
                    <a:pt x="314" y="330"/>
                  </a:lnTo>
                  <a:lnTo>
                    <a:pt x="292" y="339"/>
                  </a:lnTo>
                  <a:lnTo>
                    <a:pt x="268" y="348"/>
                  </a:lnTo>
                  <a:lnTo>
                    <a:pt x="243" y="357"/>
                  </a:lnTo>
                  <a:lnTo>
                    <a:pt x="219" y="367"/>
                  </a:lnTo>
                  <a:lnTo>
                    <a:pt x="194" y="376"/>
                  </a:lnTo>
                  <a:lnTo>
                    <a:pt x="169" y="388"/>
                  </a:lnTo>
                  <a:lnTo>
                    <a:pt x="141" y="398"/>
                  </a:lnTo>
                  <a:lnTo>
                    <a:pt x="117" y="404"/>
                  </a:lnTo>
                  <a:lnTo>
                    <a:pt x="89" y="413"/>
                  </a:lnTo>
                  <a:lnTo>
                    <a:pt x="58" y="422"/>
                  </a:lnTo>
                  <a:lnTo>
                    <a:pt x="31" y="432"/>
                  </a:lnTo>
                  <a:lnTo>
                    <a:pt x="0" y="441"/>
                  </a:lnTo>
                  <a:lnTo>
                    <a:pt x="0" y="1144"/>
                  </a:lnTo>
                  <a:lnTo>
                    <a:pt x="31" y="1135"/>
                  </a:lnTo>
                  <a:lnTo>
                    <a:pt x="58" y="1126"/>
                  </a:lnTo>
                  <a:lnTo>
                    <a:pt x="89" y="1117"/>
                  </a:lnTo>
                  <a:lnTo>
                    <a:pt x="117" y="1107"/>
                  </a:lnTo>
                  <a:lnTo>
                    <a:pt x="141" y="1101"/>
                  </a:lnTo>
                  <a:lnTo>
                    <a:pt x="169" y="1092"/>
                  </a:lnTo>
                  <a:lnTo>
                    <a:pt x="194" y="1080"/>
                  </a:lnTo>
                  <a:lnTo>
                    <a:pt x="219" y="1070"/>
                  </a:lnTo>
                  <a:lnTo>
                    <a:pt x="243" y="1061"/>
                  </a:lnTo>
                  <a:lnTo>
                    <a:pt x="268" y="1052"/>
                  </a:lnTo>
                  <a:lnTo>
                    <a:pt x="292" y="1043"/>
                  </a:lnTo>
                  <a:lnTo>
                    <a:pt x="314" y="1033"/>
                  </a:lnTo>
                  <a:lnTo>
                    <a:pt x="336" y="1024"/>
                  </a:lnTo>
                  <a:lnTo>
                    <a:pt x="357" y="1012"/>
                  </a:lnTo>
                  <a:lnTo>
                    <a:pt x="379" y="1002"/>
                  </a:lnTo>
                  <a:lnTo>
                    <a:pt x="397" y="993"/>
                  </a:lnTo>
                  <a:lnTo>
                    <a:pt x="416" y="981"/>
                  </a:lnTo>
                  <a:lnTo>
                    <a:pt x="434" y="972"/>
                  </a:lnTo>
                  <a:lnTo>
                    <a:pt x="453" y="959"/>
                  </a:lnTo>
                  <a:lnTo>
                    <a:pt x="471" y="950"/>
                  </a:lnTo>
                  <a:lnTo>
                    <a:pt x="487" y="938"/>
                  </a:lnTo>
                  <a:lnTo>
                    <a:pt x="502" y="928"/>
                  </a:lnTo>
                  <a:lnTo>
                    <a:pt x="517" y="916"/>
                  </a:lnTo>
                  <a:lnTo>
                    <a:pt x="530" y="907"/>
                  </a:lnTo>
                  <a:lnTo>
                    <a:pt x="545" y="894"/>
                  </a:lnTo>
                  <a:lnTo>
                    <a:pt x="558" y="885"/>
                  </a:lnTo>
                  <a:lnTo>
                    <a:pt x="570" y="873"/>
                  </a:lnTo>
                  <a:lnTo>
                    <a:pt x="579" y="864"/>
                  </a:lnTo>
                  <a:lnTo>
                    <a:pt x="591" y="851"/>
                  </a:lnTo>
                  <a:lnTo>
                    <a:pt x="601" y="839"/>
                  </a:lnTo>
                  <a:lnTo>
                    <a:pt x="610" y="830"/>
                  </a:lnTo>
                  <a:lnTo>
                    <a:pt x="616" y="817"/>
                  </a:lnTo>
                  <a:lnTo>
                    <a:pt x="625" y="805"/>
                  </a:lnTo>
                  <a:lnTo>
                    <a:pt x="632" y="796"/>
                  </a:lnTo>
                  <a:lnTo>
                    <a:pt x="638" y="783"/>
                  </a:lnTo>
                  <a:lnTo>
                    <a:pt x="641" y="771"/>
                  </a:lnTo>
                  <a:lnTo>
                    <a:pt x="647" y="759"/>
                  </a:lnTo>
                  <a:lnTo>
                    <a:pt x="650" y="749"/>
                  </a:lnTo>
                  <a:lnTo>
                    <a:pt x="653" y="737"/>
                  </a:lnTo>
                  <a:lnTo>
                    <a:pt x="653" y="725"/>
                  </a:lnTo>
                  <a:lnTo>
                    <a:pt x="656" y="712"/>
                  </a:lnTo>
                  <a:lnTo>
                    <a:pt x="656" y="703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8"/>
            <p:cNvSpPr/>
            <p:nvPr/>
          </p:nvSpPr>
          <p:spPr>
            <a:xfrm>
              <a:off x="4616280" y="3436200"/>
              <a:ext cx="1326960" cy="731880"/>
            </a:xfrm>
            <a:custGeom>
              <a:avLst/>
              <a:gdLst/>
              <a:ahLst/>
              <a:rect l="l" t="t" r="r" b="b"/>
              <a:pathLst>
                <a:path w="1893" h="1144">
                  <a:moveTo>
                    <a:pt x="0" y="0"/>
                  </a:moveTo>
                  <a:lnTo>
                    <a:pt x="1893" y="441"/>
                  </a:lnTo>
                  <a:lnTo>
                    <a:pt x="1893" y="1144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>
              <a:off x="4616280" y="3250080"/>
              <a:ext cx="1787040" cy="468360"/>
            </a:xfrm>
            <a:custGeom>
              <a:avLst/>
              <a:gdLst/>
              <a:ahLst/>
              <a:rect l="l" t="t" r="r" b="b"/>
              <a:pathLst>
                <a:path w="2549" h="732">
                  <a:moveTo>
                    <a:pt x="2290" y="0"/>
                  </a:moveTo>
                  <a:lnTo>
                    <a:pt x="2290" y="0"/>
                  </a:lnTo>
                  <a:lnTo>
                    <a:pt x="2309" y="10"/>
                  </a:lnTo>
                  <a:lnTo>
                    <a:pt x="2327" y="22"/>
                  </a:lnTo>
                  <a:lnTo>
                    <a:pt x="2346" y="31"/>
                  </a:lnTo>
                  <a:lnTo>
                    <a:pt x="2364" y="44"/>
                  </a:lnTo>
                  <a:lnTo>
                    <a:pt x="2380" y="53"/>
                  </a:lnTo>
                  <a:lnTo>
                    <a:pt x="2395" y="65"/>
                  </a:lnTo>
                  <a:lnTo>
                    <a:pt x="2410" y="75"/>
                  </a:lnTo>
                  <a:lnTo>
                    <a:pt x="2423" y="87"/>
                  </a:lnTo>
                  <a:lnTo>
                    <a:pt x="2438" y="96"/>
                  </a:lnTo>
                  <a:lnTo>
                    <a:pt x="2451" y="108"/>
                  </a:lnTo>
                  <a:lnTo>
                    <a:pt x="2463" y="118"/>
                  </a:lnTo>
                  <a:lnTo>
                    <a:pt x="2472" y="130"/>
                  </a:lnTo>
                  <a:lnTo>
                    <a:pt x="2484" y="142"/>
                  </a:lnTo>
                  <a:lnTo>
                    <a:pt x="2494" y="152"/>
                  </a:lnTo>
                  <a:lnTo>
                    <a:pt x="2503" y="164"/>
                  </a:lnTo>
                  <a:lnTo>
                    <a:pt x="2509" y="176"/>
                  </a:lnTo>
                  <a:lnTo>
                    <a:pt x="2518" y="186"/>
                  </a:lnTo>
                  <a:lnTo>
                    <a:pt x="2525" y="198"/>
                  </a:lnTo>
                  <a:lnTo>
                    <a:pt x="2531" y="210"/>
                  </a:lnTo>
                  <a:lnTo>
                    <a:pt x="2534" y="220"/>
                  </a:lnTo>
                  <a:lnTo>
                    <a:pt x="2540" y="232"/>
                  </a:lnTo>
                  <a:lnTo>
                    <a:pt x="2543" y="244"/>
                  </a:lnTo>
                  <a:lnTo>
                    <a:pt x="2546" y="257"/>
                  </a:lnTo>
                  <a:lnTo>
                    <a:pt x="2546" y="266"/>
                  </a:lnTo>
                  <a:lnTo>
                    <a:pt x="2549" y="278"/>
                  </a:lnTo>
                  <a:lnTo>
                    <a:pt x="2549" y="291"/>
                  </a:lnTo>
                  <a:lnTo>
                    <a:pt x="2549" y="300"/>
                  </a:lnTo>
                  <a:lnTo>
                    <a:pt x="2546" y="312"/>
                  </a:lnTo>
                  <a:lnTo>
                    <a:pt x="2546" y="324"/>
                  </a:lnTo>
                  <a:lnTo>
                    <a:pt x="2543" y="337"/>
                  </a:lnTo>
                  <a:lnTo>
                    <a:pt x="2540" y="346"/>
                  </a:lnTo>
                  <a:lnTo>
                    <a:pt x="2534" y="358"/>
                  </a:lnTo>
                  <a:lnTo>
                    <a:pt x="2531" y="371"/>
                  </a:lnTo>
                  <a:lnTo>
                    <a:pt x="2525" y="383"/>
                  </a:lnTo>
                  <a:lnTo>
                    <a:pt x="2518" y="392"/>
                  </a:lnTo>
                  <a:lnTo>
                    <a:pt x="2509" y="405"/>
                  </a:lnTo>
                  <a:lnTo>
                    <a:pt x="2503" y="417"/>
                  </a:lnTo>
                  <a:lnTo>
                    <a:pt x="2494" y="426"/>
                  </a:lnTo>
                  <a:lnTo>
                    <a:pt x="2484" y="439"/>
                  </a:lnTo>
                  <a:lnTo>
                    <a:pt x="2472" y="451"/>
                  </a:lnTo>
                  <a:lnTo>
                    <a:pt x="2463" y="460"/>
                  </a:lnTo>
                  <a:lnTo>
                    <a:pt x="2451" y="473"/>
                  </a:lnTo>
                  <a:lnTo>
                    <a:pt x="2438" y="482"/>
                  </a:lnTo>
                  <a:lnTo>
                    <a:pt x="2423" y="494"/>
                  </a:lnTo>
                  <a:lnTo>
                    <a:pt x="2410" y="503"/>
                  </a:lnTo>
                  <a:lnTo>
                    <a:pt x="2395" y="516"/>
                  </a:lnTo>
                  <a:lnTo>
                    <a:pt x="2380" y="525"/>
                  </a:lnTo>
                  <a:lnTo>
                    <a:pt x="2364" y="537"/>
                  </a:lnTo>
                  <a:lnTo>
                    <a:pt x="2346" y="547"/>
                  </a:lnTo>
                  <a:lnTo>
                    <a:pt x="2327" y="559"/>
                  </a:lnTo>
                  <a:lnTo>
                    <a:pt x="2309" y="568"/>
                  </a:lnTo>
                  <a:lnTo>
                    <a:pt x="2290" y="581"/>
                  </a:lnTo>
                  <a:lnTo>
                    <a:pt x="2272" y="590"/>
                  </a:lnTo>
                  <a:lnTo>
                    <a:pt x="2250" y="599"/>
                  </a:lnTo>
                  <a:lnTo>
                    <a:pt x="2229" y="611"/>
                  </a:lnTo>
                  <a:lnTo>
                    <a:pt x="2207" y="621"/>
                  </a:lnTo>
                  <a:lnTo>
                    <a:pt x="2185" y="630"/>
                  </a:lnTo>
                  <a:lnTo>
                    <a:pt x="2161" y="639"/>
                  </a:lnTo>
                  <a:lnTo>
                    <a:pt x="2136" y="648"/>
                  </a:lnTo>
                  <a:lnTo>
                    <a:pt x="2112" y="658"/>
                  </a:lnTo>
                  <a:lnTo>
                    <a:pt x="2087" y="667"/>
                  </a:lnTo>
                  <a:lnTo>
                    <a:pt x="2062" y="679"/>
                  </a:lnTo>
                  <a:lnTo>
                    <a:pt x="2034" y="689"/>
                  </a:lnTo>
                  <a:lnTo>
                    <a:pt x="2010" y="695"/>
                  </a:lnTo>
                  <a:lnTo>
                    <a:pt x="1982" y="704"/>
                  </a:lnTo>
                  <a:lnTo>
                    <a:pt x="1951" y="713"/>
                  </a:lnTo>
                  <a:lnTo>
                    <a:pt x="1924" y="723"/>
                  </a:lnTo>
                  <a:lnTo>
                    <a:pt x="1893" y="732"/>
                  </a:lnTo>
                  <a:lnTo>
                    <a:pt x="0" y="291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9933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0"/>
            <p:cNvSpPr/>
            <p:nvPr/>
          </p:nvSpPr>
          <p:spPr>
            <a:xfrm>
              <a:off x="2090520" y="3576240"/>
              <a:ext cx="1136160" cy="759960"/>
            </a:xfrm>
            <a:custGeom>
              <a:avLst/>
              <a:gdLst/>
              <a:ahLst/>
              <a:rect l="l" t="t" r="r" b="b"/>
              <a:pathLst>
                <a:path w="1621" h="1188">
                  <a:moveTo>
                    <a:pt x="1621" y="484"/>
                  </a:moveTo>
                  <a:lnTo>
                    <a:pt x="1621" y="484"/>
                  </a:lnTo>
                  <a:lnTo>
                    <a:pt x="1578" y="481"/>
                  </a:lnTo>
                  <a:lnTo>
                    <a:pt x="1538" y="475"/>
                  </a:lnTo>
                  <a:lnTo>
                    <a:pt x="1495" y="472"/>
                  </a:lnTo>
                  <a:lnTo>
                    <a:pt x="1455" y="466"/>
                  </a:lnTo>
                  <a:lnTo>
                    <a:pt x="1415" y="463"/>
                  </a:lnTo>
                  <a:lnTo>
                    <a:pt x="1375" y="456"/>
                  </a:lnTo>
                  <a:lnTo>
                    <a:pt x="1335" y="450"/>
                  </a:lnTo>
                  <a:lnTo>
                    <a:pt x="1295" y="447"/>
                  </a:lnTo>
                  <a:lnTo>
                    <a:pt x="1258" y="441"/>
                  </a:lnTo>
                  <a:lnTo>
                    <a:pt x="1218" y="435"/>
                  </a:lnTo>
                  <a:lnTo>
                    <a:pt x="1181" y="429"/>
                  </a:lnTo>
                  <a:lnTo>
                    <a:pt x="1141" y="422"/>
                  </a:lnTo>
                  <a:lnTo>
                    <a:pt x="1104" y="416"/>
                  </a:lnTo>
                  <a:lnTo>
                    <a:pt x="1067" y="410"/>
                  </a:lnTo>
                  <a:lnTo>
                    <a:pt x="1030" y="404"/>
                  </a:lnTo>
                  <a:lnTo>
                    <a:pt x="993" y="398"/>
                  </a:lnTo>
                  <a:lnTo>
                    <a:pt x="959" y="392"/>
                  </a:lnTo>
                  <a:lnTo>
                    <a:pt x="922" y="382"/>
                  </a:lnTo>
                  <a:lnTo>
                    <a:pt x="888" y="376"/>
                  </a:lnTo>
                  <a:lnTo>
                    <a:pt x="854" y="370"/>
                  </a:lnTo>
                  <a:lnTo>
                    <a:pt x="820" y="361"/>
                  </a:lnTo>
                  <a:lnTo>
                    <a:pt x="786" y="355"/>
                  </a:lnTo>
                  <a:lnTo>
                    <a:pt x="755" y="345"/>
                  </a:lnTo>
                  <a:lnTo>
                    <a:pt x="721" y="339"/>
                  </a:lnTo>
                  <a:lnTo>
                    <a:pt x="691" y="330"/>
                  </a:lnTo>
                  <a:lnTo>
                    <a:pt x="660" y="321"/>
                  </a:lnTo>
                  <a:lnTo>
                    <a:pt x="629" y="314"/>
                  </a:lnTo>
                  <a:lnTo>
                    <a:pt x="598" y="305"/>
                  </a:lnTo>
                  <a:lnTo>
                    <a:pt x="567" y="296"/>
                  </a:lnTo>
                  <a:lnTo>
                    <a:pt x="540" y="287"/>
                  </a:lnTo>
                  <a:lnTo>
                    <a:pt x="512" y="277"/>
                  </a:lnTo>
                  <a:lnTo>
                    <a:pt x="484" y="268"/>
                  </a:lnTo>
                  <a:lnTo>
                    <a:pt x="456" y="262"/>
                  </a:lnTo>
                  <a:lnTo>
                    <a:pt x="432" y="253"/>
                  </a:lnTo>
                  <a:lnTo>
                    <a:pt x="404" y="240"/>
                  </a:lnTo>
                  <a:lnTo>
                    <a:pt x="379" y="231"/>
                  </a:lnTo>
                  <a:lnTo>
                    <a:pt x="355" y="222"/>
                  </a:lnTo>
                  <a:lnTo>
                    <a:pt x="330" y="213"/>
                  </a:lnTo>
                  <a:lnTo>
                    <a:pt x="308" y="203"/>
                  </a:lnTo>
                  <a:lnTo>
                    <a:pt x="284" y="194"/>
                  </a:lnTo>
                  <a:lnTo>
                    <a:pt x="262" y="185"/>
                  </a:lnTo>
                  <a:lnTo>
                    <a:pt x="241" y="172"/>
                  </a:lnTo>
                  <a:lnTo>
                    <a:pt x="222" y="163"/>
                  </a:lnTo>
                  <a:lnTo>
                    <a:pt x="201" y="154"/>
                  </a:lnTo>
                  <a:lnTo>
                    <a:pt x="182" y="142"/>
                  </a:lnTo>
                  <a:lnTo>
                    <a:pt x="164" y="132"/>
                  </a:lnTo>
                  <a:lnTo>
                    <a:pt x="145" y="120"/>
                  </a:lnTo>
                  <a:lnTo>
                    <a:pt x="130" y="111"/>
                  </a:lnTo>
                  <a:lnTo>
                    <a:pt x="114" y="98"/>
                  </a:lnTo>
                  <a:lnTo>
                    <a:pt x="99" y="89"/>
                  </a:lnTo>
                  <a:lnTo>
                    <a:pt x="83" y="77"/>
                  </a:lnTo>
                  <a:lnTo>
                    <a:pt x="68" y="68"/>
                  </a:lnTo>
                  <a:lnTo>
                    <a:pt x="56" y="55"/>
                  </a:lnTo>
                  <a:lnTo>
                    <a:pt x="43" y="46"/>
                  </a:lnTo>
                  <a:lnTo>
                    <a:pt x="31" y="34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9" y="716"/>
                  </a:lnTo>
                  <a:lnTo>
                    <a:pt x="19" y="728"/>
                  </a:lnTo>
                  <a:lnTo>
                    <a:pt x="31" y="737"/>
                  </a:lnTo>
                  <a:lnTo>
                    <a:pt x="43" y="750"/>
                  </a:lnTo>
                  <a:lnTo>
                    <a:pt x="56" y="759"/>
                  </a:lnTo>
                  <a:lnTo>
                    <a:pt x="68" y="771"/>
                  </a:lnTo>
                  <a:lnTo>
                    <a:pt x="83" y="780"/>
                  </a:lnTo>
                  <a:lnTo>
                    <a:pt x="99" y="793"/>
                  </a:lnTo>
                  <a:lnTo>
                    <a:pt x="114" y="802"/>
                  </a:lnTo>
                  <a:lnTo>
                    <a:pt x="130" y="814"/>
                  </a:lnTo>
                  <a:lnTo>
                    <a:pt x="145" y="824"/>
                  </a:lnTo>
                  <a:lnTo>
                    <a:pt x="164" y="836"/>
                  </a:lnTo>
                  <a:lnTo>
                    <a:pt x="182" y="845"/>
                  </a:lnTo>
                  <a:lnTo>
                    <a:pt x="201" y="858"/>
                  </a:lnTo>
                  <a:lnTo>
                    <a:pt x="222" y="867"/>
                  </a:lnTo>
                  <a:lnTo>
                    <a:pt x="241" y="876"/>
                  </a:lnTo>
                  <a:lnTo>
                    <a:pt x="262" y="888"/>
                  </a:lnTo>
                  <a:lnTo>
                    <a:pt x="284" y="898"/>
                  </a:lnTo>
                  <a:lnTo>
                    <a:pt x="308" y="907"/>
                  </a:lnTo>
                  <a:lnTo>
                    <a:pt x="330" y="916"/>
                  </a:lnTo>
                  <a:lnTo>
                    <a:pt x="355" y="925"/>
                  </a:lnTo>
                  <a:lnTo>
                    <a:pt x="379" y="935"/>
                  </a:lnTo>
                  <a:lnTo>
                    <a:pt x="404" y="944"/>
                  </a:lnTo>
                  <a:lnTo>
                    <a:pt x="432" y="956"/>
                  </a:lnTo>
                  <a:lnTo>
                    <a:pt x="456" y="966"/>
                  </a:lnTo>
                  <a:lnTo>
                    <a:pt x="484" y="972"/>
                  </a:lnTo>
                  <a:lnTo>
                    <a:pt x="512" y="981"/>
                  </a:lnTo>
                  <a:lnTo>
                    <a:pt x="540" y="990"/>
                  </a:lnTo>
                  <a:lnTo>
                    <a:pt x="567" y="999"/>
                  </a:lnTo>
                  <a:lnTo>
                    <a:pt x="598" y="1009"/>
                  </a:lnTo>
                  <a:lnTo>
                    <a:pt x="629" y="1018"/>
                  </a:lnTo>
                  <a:lnTo>
                    <a:pt x="660" y="1024"/>
                  </a:lnTo>
                  <a:lnTo>
                    <a:pt x="691" y="1033"/>
                  </a:lnTo>
                  <a:lnTo>
                    <a:pt x="721" y="1043"/>
                  </a:lnTo>
                  <a:lnTo>
                    <a:pt x="755" y="1049"/>
                  </a:lnTo>
                  <a:lnTo>
                    <a:pt x="786" y="1058"/>
                  </a:lnTo>
                  <a:lnTo>
                    <a:pt x="820" y="1064"/>
                  </a:lnTo>
                  <a:lnTo>
                    <a:pt x="854" y="1074"/>
                  </a:lnTo>
                  <a:lnTo>
                    <a:pt x="888" y="1080"/>
                  </a:lnTo>
                  <a:lnTo>
                    <a:pt x="922" y="1086"/>
                  </a:lnTo>
                  <a:lnTo>
                    <a:pt x="959" y="1095"/>
                  </a:lnTo>
                  <a:lnTo>
                    <a:pt x="993" y="1101"/>
                  </a:lnTo>
                  <a:lnTo>
                    <a:pt x="1030" y="1107"/>
                  </a:lnTo>
                  <a:lnTo>
                    <a:pt x="1067" y="1114"/>
                  </a:lnTo>
                  <a:lnTo>
                    <a:pt x="1104" y="1120"/>
                  </a:lnTo>
                  <a:lnTo>
                    <a:pt x="1141" y="1126"/>
                  </a:lnTo>
                  <a:lnTo>
                    <a:pt x="1181" y="1132"/>
                  </a:lnTo>
                  <a:lnTo>
                    <a:pt x="1218" y="1138"/>
                  </a:lnTo>
                  <a:lnTo>
                    <a:pt x="1258" y="1145"/>
                  </a:lnTo>
                  <a:lnTo>
                    <a:pt x="1295" y="1151"/>
                  </a:lnTo>
                  <a:lnTo>
                    <a:pt x="1335" y="1154"/>
                  </a:lnTo>
                  <a:lnTo>
                    <a:pt x="1375" y="1160"/>
                  </a:lnTo>
                  <a:lnTo>
                    <a:pt x="1415" y="1166"/>
                  </a:lnTo>
                  <a:lnTo>
                    <a:pt x="1455" y="1169"/>
                  </a:lnTo>
                  <a:lnTo>
                    <a:pt x="1495" y="1175"/>
                  </a:lnTo>
                  <a:lnTo>
                    <a:pt x="1538" y="1178"/>
                  </a:lnTo>
                  <a:lnTo>
                    <a:pt x="1578" y="1185"/>
                  </a:lnTo>
                  <a:lnTo>
                    <a:pt x="1621" y="1188"/>
                  </a:lnTo>
                  <a:lnTo>
                    <a:pt x="1621" y="484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1"/>
            <p:cNvSpPr/>
            <p:nvPr/>
          </p:nvSpPr>
          <p:spPr>
            <a:xfrm>
              <a:off x="3226680" y="3489480"/>
              <a:ext cx="609840" cy="847080"/>
            </a:xfrm>
            <a:custGeom>
              <a:avLst/>
              <a:gdLst/>
              <a:ahLst/>
              <a:rect l="l" t="t" r="r" b="b"/>
              <a:pathLst>
                <a:path w="870" h="1324">
                  <a:moveTo>
                    <a:pt x="870" y="0"/>
                  </a:moveTo>
                  <a:lnTo>
                    <a:pt x="0" y="620"/>
                  </a:lnTo>
                  <a:lnTo>
                    <a:pt x="0" y="1324"/>
                  </a:lnTo>
                  <a:lnTo>
                    <a:pt x="870" y="703"/>
                  </a:lnTo>
                  <a:lnTo>
                    <a:pt x="870" y="0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2"/>
            <p:cNvSpPr/>
            <p:nvPr/>
          </p:nvSpPr>
          <p:spPr>
            <a:xfrm>
              <a:off x="2090520" y="3489480"/>
              <a:ext cx="1746000" cy="396720"/>
            </a:xfrm>
            <a:custGeom>
              <a:avLst/>
              <a:gdLst/>
              <a:ahLst/>
              <a:rect l="l" t="t" r="r" b="b"/>
              <a:pathLst>
                <a:path w="2491" h="620">
                  <a:moveTo>
                    <a:pt x="1621" y="620"/>
                  </a:moveTo>
                  <a:lnTo>
                    <a:pt x="1621" y="620"/>
                  </a:lnTo>
                  <a:lnTo>
                    <a:pt x="1578" y="617"/>
                  </a:lnTo>
                  <a:lnTo>
                    <a:pt x="1538" y="611"/>
                  </a:lnTo>
                  <a:lnTo>
                    <a:pt x="1495" y="608"/>
                  </a:lnTo>
                  <a:lnTo>
                    <a:pt x="1455" y="602"/>
                  </a:lnTo>
                  <a:lnTo>
                    <a:pt x="1415" y="599"/>
                  </a:lnTo>
                  <a:lnTo>
                    <a:pt x="1375" y="592"/>
                  </a:lnTo>
                  <a:lnTo>
                    <a:pt x="1335" y="586"/>
                  </a:lnTo>
                  <a:lnTo>
                    <a:pt x="1295" y="583"/>
                  </a:lnTo>
                  <a:lnTo>
                    <a:pt x="1258" y="577"/>
                  </a:lnTo>
                  <a:lnTo>
                    <a:pt x="1218" y="571"/>
                  </a:lnTo>
                  <a:lnTo>
                    <a:pt x="1181" y="565"/>
                  </a:lnTo>
                  <a:lnTo>
                    <a:pt x="1141" y="558"/>
                  </a:lnTo>
                  <a:lnTo>
                    <a:pt x="1104" y="552"/>
                  </a:lnTo>
                  <a:lnTo>
                    <a:pt x="1067" y="546"/>
                  </a:lnTo>
                  <a:lnTo>
                    <a:pt x="1030" y="540"/>
                  </a:lnTo>
                  <a:lnTo>
                    <a:pt x="993" y="534"/>
                  </a:lnTo>
                  <a:lnTo>
                    <a:pt x="959" y="528"/>
                  </a:lnTo>
                  <a:lnTo>
                    <a:pt x="922" y="518"/>
                  </a:lnTo>
                  <a:lnTo>
                    <a:pt x="888" y="512"/>
                  </a:lnTo>
                  <a:lnTo>
                    <a:pt x="854" y="506"/>
                  </a:lnTo>
                  <a:lnTo>
                    <a:pt x="820" y="497"/>
                  </a:lnTo>
                  <a:lnTo>
                    <a:pt x="786" y="491"/>
                  </a:lnTo>
                  <a:lnTo>
                    <a:pt x="755" y="481"/>
                  </a:lnTo>
                  <a:lnTo>
                    <a:pt x="721" y="475"/>
                  </a:lnTo>
                  <a:lnTo>
                    <a:pt x="691" y="466"/>
                  </a:lnTo>
                  <a:lnTo>
                    <a:pt x="660" y="457"/>
                  </a:lnTo>
                  <a:lnTo>
                    <a:pt x="629" y="450"/>
                  </a:lnTo>
                  <a:lnTo>
                    <a:pt x="598" y="441"/>
                  </a:lnTo>
                  <a:lnTo>
                    <a:pt x="567" y="432"/>
                  </a:lnTo>
                  <a:lnTo>
                    <a:pt x="540" y="423"/>
                  </a:lnTo>
                  <a:lnTo>
                    <a:pt x="512" y="413"/>
                  </a:lnTo>
                  <a:lnTo>
                    <a:pt x="484" y="404"/>
                  </a:lnTo>
                  <a:lnTo>
                    <a:pt x="456" y="398"/>
                  </a:lnTo>
                  <a:lnTo>
                    <a:pt x="432" y="389"/>
                  </a:lnTo>
                  <a:lnTo>
                    <a:pt x="404" y="376"/>
                  </a:lnTo>
                  <a:lnTo>
                    <a:pt x="379" y="367"/>
                  </a:lnTo>
                  <a:lnTo>
                    <a:pt x="355" y="358"/>
                  </a:lnTo>
                  <a:lnTo>
                    <a:pt x="330" y="349"/>
                  </a:lnTo>
                  <a:lnTo>
                    <a:pt x="308" y="339"/>
                  </a:lnTo>
                  <a:lnTo>
                    <a:pt x="284" y="330"/>
                  </a:lnTo>
                  <a:lnTo>
                    <a:pt x="262" y="321"/>
                  </a:lnTo>
                  <a:lnTo>
                    <a:pt x="241" y="308"/>
                  </a:lnTo>
                  <a:lnTo>
                    <a:pt x="222" y="299"/>
                  </a:lnTo>
                  <a:lnTo>
                    <a:pt x="201" y="290"/>
                  </a:lnTo>
                  <a:lnTo>
                    <a:pt x="182" y="278"/>
                  </a:lnTo>
                  <a:lnTo>
                    <a:pt x="164" y="268"/>
                  </a:lnTo>
                  <a:lnTo>
                    <a:pt x="145" y="256"/>
                  </a:lnTo>
                  <a:lnTo>
                    <a:pt x="130" y="247"/>
                  </a:lnTo>
                  <a:lnTo>
                    <a:pt x="114" y="234"/>
                  </a:lnTo>
                  <a:lnTo>
                    <a:pt x="99" y="225"/>
                  </a:lnTo>
                  <a:lnTo>
                    <a:pt x="83" y="213"/>
                  </a:lnTo>
                  <a:lnTo>
                    <a:pt x="68" y="204"/>
                  </a:lnTo>
                  <a:lnTo>
                    <a:pt x="56" y="191"/>
                  </a:lnTo>
                  <a:lnTo>
                    <a:pt x="43" y="182"/>
                  </a:lnTo>
                  <a:lnTo>
                    <a:pt x="31" y="170"/>
                  </a:lnTo>
                  <a:lnTo>
                    <a:pt x="19" y="160"/>
                  </a:lnTo>
                  <a:lnTo>
                    <a:pt x="9" y="148"/>
                  </a:lnTo>
                  <a:lnTo>
                    <a:pt x="0" y="136"/>
                  </a:lnTo>
                  <a:lnTo>
                    <a:pt x="2491" y="0"/>
                  </a:lnTo>
                  <a:lnTo>
                    <a:pt x="1621" y="620"/>
                  </a:lnTo>
                  <a:close/>
                </a:path>
              </a:pathLst>
            </a:custGeom>
            <a:solidFill>
              <a:srgbClr val="ccff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3"/>
            <p:cNvSpPr/>
            <p:nvPr/>
          </p:nvSpPr>
          <p:spPr>
            <a:xfrm>
              <a:off x="3672000" y="3805560"/>
              <a:ext cx="1936440" cy="589680"/>
            </a:xfrm>
            <a:custGeom>
              <a:avLst/>
              <a:gdLst/>
              <a:ahLst/>
              <a:rect l="l" t="t" r="r" b="b"/>
              <a:pathLst>
                <a:path w="2762" h="922">
                  <a:moveTo>
                    <a:pt x="2762" y="0"/>
                  </a:moveTo>
                  <a:lnTo>
                    <a:pt x="2762" y="0"/>
                  </a:lnTo>
                  <a:lnTo>
                    <a:pt x="2734" y="9"/>
                  </a:lnTo>
                  <a:lnTo>
                    <a:pt x="2703" y="15"/>
                  </a:lnTo>
                  <a:lnTo>
                    <a:pt x="2673" y="24"/>
                  </a:lnTo>
                  <a:lnTo>
                    <a:pt x="2639" y="34"/>
                  </a:lnTo>
                  <a:lnTo>
                    <a:pt x="2608" y="40"/>
                  </a:lnTo>
                  <a:lnTo>
                    <a:pt x="2574" y="49"/>
                  </a:lnTo>
                  <a:lnTo>
                    <a:pt x="2540" y="55"/>
                  </a:lnTo>
                  <a:lnTo>
                    <a:pt x="2509" y="64"/>
                  </a:lnTo>
                  <a:lnTo>
                    <a:pt x="2472" y="71"/>
                  </a:lnTo>
                  <a:lnTo>
                    <a:pt x="2438" y="77"/>
                  </a:lnTo>
                  <a:lnTo>
                    <a:pt x="2404" y="86"/>
                  </a:lnTo>
                  <a:lnTo>
                    <a:pt x="2367" y="92"/>
                  </a:lnTo>
                  <a:lnTo>
                    <a:pt x="2330" y="98"/>
                  </a:lnTo>
                  <a:lnTo>
                    <a:pt x="2293" y="105"/>
                  </a:lnTo>
                  <a:lnTo>
                    <a:pt x="2256" y="111"/>
                  </a:lnTo>
                  <a:lnTo>
                    <a:pt x="2219" y="117"/>
                  </a:lnTo>
                  <a:lnTo>
                    <a:pt x="2183" y="123"/>
                  </a:lnTo>
                  <a:lnTo>
                    <a:pt x="2146" y="129"/>
                  </a:lnTo>
                  <a:lnTo>
                    <a:pt x="2105" y="135"/>
                  </a:lnTo>
                  <a:lnTo>
                    <a:pt x="2065" y="142"/>
                  </a:lnTo>
                  <a:lnTo>
                    <a:pt x="2025" y="145"/>
                  </a:lnTo>
                  <a:lnTo>
                    <a:pt x="1988" y="151"/>
                  </a:lnTo>
                  <a:lnTo>
                    <a:pt x="1948" y="157"/>
                  </a:lnTo>
                  <a:lnTo>
                    <a:pt x="1905" y="160"/>
                  </a:lnTo>
                  <a:lnTo>
                    <a:pt x="1865" y="166"/>
                  </a:lnTo>
                  <a:lnTo>
                    <a:pt x="1825" y="169"/>
                  </a:lnTo>
                  <a:lnTo>
                    <a:pt x="1782" y="175"/>
                  </a:lnTo>
                  <a:lnTo>
                    <a:pt x="1742" y="179"/>
                  </a:lnTo>
                  <a:lnTo>
                    <a:pt x="1699" y="182"/>
                  </a:lnTo>
                  <a:lnTo>
                    <a:pt x="1659" y="185"/>
                  </a:lnTo>
                  <a:lnTo>
                    <a:pt x="1615" y="188"/>
                  </a:lnTo>
                  <a:lnTo>
                    <a:pt x="1572" y="191"/>
                  </a:lnTo>
                  <a:lnTo>
                    <a:pt x="1529" y="194"/>
                  </a:lnTo>
                  <a:lnTo>
                    <a:pt x="1486" y="197"/>
                  </a:lnTo>
                  <a:lnTo>
                    <a:pt x="1443" y="200"/>
                  </a:lnTo>
                  <a:lnTo>
                    <a:pt x="1400" y="203"/>
                  </a:lnTo>
                  <a:lnTo>
                    <a:pt x="1357" y="206"/>
                  </a:lnTo>
                  <a:lnTo>
                    <a:pt x="1313" y="206"/>
                  </a:lnTo>
                  <a:lnTo>
                    <a:pt x="1270" y="209"/>
                  </a:lnTo>
                  <a:lnTo>
                    <a:pt x="1224" y="213"/>
                  </a:lnTo>
                  <a:lnTo>
                    <a:pt x="1181" y="213"/>
                  </a:lnTo>
                  <a:lnTo>
                    <a:pt x="1138" y="216"/>
                  </a:lnTo>
                  <a:lnTo>
                    <a:pt x="1091" y="216"/>
                  </a:lnTo>
                  <a:lnTo>
                    <a:pt x="1048" y="216"/>
                  </a:lnTo>
                  <a:lnTo>
                    <a:pt x="1005" y="216"/>
                  </a:lnTo>
                  <a:lnTo>
                    <a:pt x="959" y="219"/>
                  </a:lnTo>
                  <a:lnTo>
                    <a:pt x="916" y="219"/>
                  </a:lnTo>
                  <a:lnTo>
                    <a:pt x="870" y="219"/>
                  </a:lnTo>
                  <a:lnTo>
                    <a:pt x="826" y="219"/>
                  </a:lnTo>
                  <a:lnTo>
                    <a:pt x="780" y="219"/>
                  </a:lnTo>
                  <a:lnTo>
                    <a:pt x="737" y="216"/>
                  </a:lnTo>
                  <a:lnTo>
                    <a:pt x="694" y="216"/>
                  </a:lnTo>
                  <a:lnTo>
                    <a:pt x="648" y="216"/>
                  </a:lnTo>
                  <a:lnTo>
                    <a:pt x="604" y="216"/>
                  </a:lnTo>
                  <a:lnTo>
                    <a:pt x="561" y="213"/>
                  </a:lnTo>
                  <a:lnTo>
                    <a:pt x="515" y="213"/>
                  </a:lnTo>
                  <a:lnTo>
                    <a:pt x="472" y="209"/>
                  </a:lnTo>
                  <a:lnTo>
                    <a:pt x="429" y="206"/>
                  </a:lnTo>
                  <a:lnTo>
                    <a:pt x="386" y="206"/>
                  </a:lnTo>
                  <a:lnTo>
                    <a:pt x="339" y="203"/>
                  </a:lnTo>
                  <a:lnTo>
                    <a:pt x="296" y="200"/>
                  </a:lnTo>
                  <a:lnTo>
                    <a:pt x="253" y="197"/>
                  </a:lnTo>
                  <a:lnTo>
                    <a:pt x="210" y="194"/>
                  </a:lnTo>
                  <a:lnTo>
                    <a:pt x="167" y="191"/>
                  </a:lnTo>
                  <a:lnTo>
                    <a:pt x="127" y="188"/>
                  </a:lnTo>
                  <a:lnTo>
                    <a:pt x="84" y="185"/>
                  </a:lnTo>
                  <a:lnTo>
                    <a:pt x="40" y="182"/>
                  </a:lnTo>
                  <a:lnTo>
                    <a:pt x="0" y="179"/>
                  </a:lnTo>
                  <a:lnTo>
                    <a:pt x="0" y="882"/>
                  </a:lnTo>
                  <a:lnTo>
                    <a:pt x="40" y="885"/>
                  </a:lnTo>
                  <a:lnTo>
                    <a:pt x="84" y="888"/>
                  </a:lnTo>
                  <a:lnTo>
                    <a:pt x="127" y="891"/>
                  </a:lnTo>
                  <a:lnTo>
                    <a:pt x="167" y="895"/>
                  </a:lnTo>
                  <a:lnTo>
                    <a:pt x="210" y="898"/>
                  </a:lnTo>
                  <a:lnTo>
                    <a:pt x="253" y="901"/>
                  </a:lnTo>
                  <a:lnTo>
                    <a:pt x="296" y="904"/>
                  </a:lnTo>
                  <a:lnTo>
                    <a:pt x="339" y="907"/>
                  </a:lnTo>
                  <a:lnTo>
                    <a:pt x="386" y="910"/>
                  </a:lnTo>
                  <a:lnTo>
                    <a:pt x="429" y="910"/>
                  </a:lnTo>
                  <a:lnTo>
                    <a:pt x="472" y="913"/>
                  </a:lnTo>
                  <a:lnTo>
                    <a:pt x="515" y="916"/>
                  </a:lnTo>
                  <a:lnTo>
                    <a:pt x="561" y="916"/>
                  </a:lnTo>
                  <a:lnTo>
                    <a:pt x="604" y="919"/>
                  </a:lnTo>
                  <a:lnTo>
                    <a:pt x="648" y="919"/>
                  </a:lnTo>
                  <a:lnTo>
                    <a:pt x="694" y="919"/>
                  </a:lnTo>
                  <a:lnTo>
                    <a:pt x="737" y="919"/>
                  </a:lnTo>
                  <a:lnTo>
                    <a:pt x="780" y="922"/>
                  </a:lnTo>
                  <a:lnTo>
                    <a:pt x="826" y="922"/>
                  </a:lnTo>
                  <a:lnTo>
                    <a:pt x="870" y="922"/>
                  </a:lnTo>
                  <a:lnTo>
                    <a:pt x="916" y="922"/>
                  </a:lnTo>
                  <a:lnTo>
                    <a:pt x="959" y="922"/>
                  </a:lnTo>
                  <a:lnTo>
                    <a:pt x="1005" y="919"/>
                  </a:lnTo>
                  <a:lnTo>
                    <a:pt x="1048" y="919"/>
                  </a:lnTo>
                  <a:lnTo>
                    <a:pt x="1091" y="919"/>
                  </a:lnTo>
                  <a:lnTo>
                    <a:pt x="1138" y="919"/>
                  </a:lnTo>
                  <a:lnTo>
                    <a:pt x="1181" y="916"/>
                  </a:lnTo>
                  <a:lnTo>
                    <a:pt x="1224" y="916"/>
                  </a:lnTo>
                  <a:lnTo>
                    <a:pt x="1270" y="913"/>
                  </a:lnTo>
                  <a:lnTo>
                    <a:pt x="1313" y="910"/>
                  </a:lnTo>
                  <a:lnTo>
                    <a:pt x="1357" y="910"/>
                  </a:lnTo>
                  <a:lnTo>
                    <a:pt x="1400" y="907"/>
                  </a:lnTo>
                  <a:lnTo>
                    <a:pt x="1443" y="904"/>
                  </a:lnTo>
                  <a:lnTo>
                    <a:pt x="1486" y="901"/>
                  </a:lnTo>
                  <a:lnTo>
                    <a:pt x="1529" y="898"/>
                  </a:lnTo>
                  <a:lnTo>
                    <a:pt x="1572" y="895"/>
                  </a:lnTo>
                  <a:lnTo>
                    <a:pt x="1615" y="891"/>
                  </a:lnTo>
                  <a:lnTo>
                    <a:pt x="1659" y="888"/>
                  </a:lnTo>
                  <a:lnTo>
                    <a:pt x="1699" y="885"/>
                  </a:lnTo>
                  <a:lnTo>
                    <a:pt x="1742" y="882"/>
                  </a:lnTo>
                  <a:lnTo>
                    <a:pt x="1782" y="879"/>
                  </a:lnTo>
                  <a:lnTo>
                    <a:pt x="1825" y="873"/>
                  </a:lnTo>
                  <a:lnTo>
                    <a:pt x="1865" y="870"/>
                  </a:lnTo>
                  <a:lnTo>
                    <a:pt x="1905" y="864"/>
                  </a:lnTo>
                  <a:lnTo>
                    <a:pt x="1948" y="861"/>
                  </a:lnTo>
                  <a:lnTo>
                    <a:pt x="1988" y="854"/>
                  </a:lnTo>
                  <a:lnTo>
                    <a:pt x="2025" y="848"/>
                  </a:lnTo>
                  <a:lnTo>
                    <a:pt x="2065" y="845"/>
                  </a:lnTo>
                  <a:lnTo>
                    <a:pt x="2105" y="839"/>
                  </a:lnTo>
                  <a:lnTo>
                    <a:pt x="2146" y="833"/>
                  </a:lnTo>
                  <a:lnTo>
                    <a:pt x="2183" y="827"/>
                  </a:lnTo>
                  <a:lnTo>
                    <a:pt x="2219" y="820"/>
                  </a:lnTo>
                  <a:lnTo>
                    <a:pt x="2256" y="814"/>
                  </a:lnTo>
                  <a:lnTo>
                    <a:pt x="2293" y="808"/>
                  </a:lnTo>
                  <a:lnTo>
                    <a:pt x="2330" y="802"/>
                  </a:lnTo>
                  <a:lnTo>
                    <a:pt x="2367" y="796"/>
                  </a:lnTo>
                  <a:lnTo>
                    <a:pt x="2404" y="790"/>
                  </a:lnTo>
                  <a:lnTo>
                    <a:pt x="2438" y="780"/>
                  </a:lnTo>
                  <a:lnTo>
                    <a:pt x="2472" y="774"/>
                  </a:lnTo>
                  <a:lnTo>
                    <a:pt x="2509" y="768"/>
                  </a:lnTo>
                  <a:lnTo>
                    <a:pt x="2540" y="759"/>
                  </a:lnTo>
                  <a:lnTo>
                    <a:pt x="2574" y="753"/>
                  </a:lnTo>
                  <a:lnTo>
                    <a:pt x="2608" y="743"/>
                  </a:lnTo>
                  <a:lnTo>
                    <a:pt x="2639" y="737"/>
                  </a:lnTo>
                  <a:lnTo>
                    <a:pt x="2673" y="728"/>
                  </a:lnTo>
                  <a:lnTo>
                    <a:pt x="2703" y="719"/>
                  </a:lnTo>
                  <a:lnTo>
                    <a:pt x="2734" y="712"/>
                  </a:lnTo>
                  <a:lnTo>
                    <a:pt x="2762" y="703"/>
                  </a:lnTo>
                  <a:lnTo>
                    <a:pt x="2762" y="0"/>
                  </a:lnTo>
                  <a:close/>
                </a:path>
              </a:pathLst>
            </a:custGeom>
            <a:solidFill>
              <a:srgbClr val="808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4"/>
            <p:cNvSpPr/>
            <p:nvPr/>
          </p:nvSpPr>
          <p:spPr>
            <a:xfrm>
              <a:off x="3672000" y="3522600"/>
              <a:ext cx="1936440" cy="423000"/>
            </a:xfrm>
            <a:custGeom>
              <a:avLst/>
              <a:gdLst/>
              <a:ahLst/>
              <a:rect l="l" t="t" r="r" b="b"/>
              <a:pathLst>
                <a:path w="2762" h="661">
                  <a:moveTo>
                    <a:pt x="2762" y="442"/>
                  </a:moveTo>
                  <a:lnTo>
                    <a:pt x="2762" y="442"/>
                  </a:lnTo>
                  <a:lnTo>
                    <a:pt x="2734" y="451"/>
                  </a:lnTo>
                  <a:lnTo>
                    <a:pt x="2703" y="457"/>
                  </a:lnTo>
                  <a:lnTo>
                    <a:pt x="2673" y="466"/>
                  </a:lnTo>
                  <a:lnTo>
                    <a:pt x="2639" y="476"/>
                  </a:lnTo>
                  <a:lnTo>
                    <a:pt x="2608" y="482"/>
                  </a:lnTo>
                  <a:lnTo>
                    <a:pt x="2574" y="491"/>
                  </a:lnTo>
                  <a:lnTo>
                    <a:pt x="2540" y="497"/>
                  </a:lnTo>
                  <a:lnTo>
                    <a:pt x="2509" y="506"/>
                  </a:lnTo>
                  <a:lnTo>
                    <a:pt x="2472" y="513"/>
                  </a:lnTo>
                  <a:lnTo>
                    <a:pt x="2438" y="519"/>
                  </a:lnTo>
                  <a:lnTo>
                    <a:pt x="2404" y="528"/>
                  </a:lnTo>
                  <a:lnTo>
                    <a:pt x="2367" y="534"/>
                  </a:lnTo>
                  <a:lnTo>
                    <a:pt x="2330" y="540"/>
                  </a:lnTo>
                  <a:lnTo>
                    <a:pt x="2293" y="547"/>
                  </a:lnTo>
                  <a:lnTo>
                    <a:pt x="2256" y="553"/>
                  </a:lnTo>
                  <a:lnTo>
                    <a:pt x="2219" y="559"/>
                  </a:lnTo>
                  <a:lnTo>
                    <a:pt x="2183" y="565"/>
                  </a:lnTo>
                  <a:lnTo>
                    <a:pt x="2146" y="571"/>
                  </a:lnTo>
                  <a:lnTo>
                    <a:pt x="2105" y="577"/>
                  </a:lnTo>
                  <a:lnTo>
                    <a:pt x="2065" y="584"/>
                  </a:lnTo>
                  <a:lnTo>
                    <a:pt x="2025" y="587"/>
                  </a:lnTo>
                  <a:lnTo>
                    <a:pt x="1988" y="593"/>
                  </a:lnTo>
                  <a:lnTo>
                    <a:pt x="1948" y="599"/>
                  </a:lnTo>
                  <a:lnTo>
                    <a:pt x="1905" y="602"/>
                  </a:lnTo>
                  <a:lnTo>
                    <a:pt x="1865" y="608"/>
                  </a:lnTo>
                  <a:lnTo>
                    <a:pt x="1825" y="611"/>
                  </a:lnTo>
                  <a:lnTo>
                    <a:pt x="1782" y="617"/>
                  </a:lnTo>
                  <a:lnTo>
                    <a:pt x="1742" y="621"/>
                  </a:lnTo>
                  <a:lnTo>
                    <a:pt x="1699" y="624"/>
                  </a:lnTo>
                  <a:lnTo>
                    <a:pt x="1659" y="627"/>
                  </a:lnTo>
                  <a:lnTo>
                    <a:pt x="1615" y="630"/>
                  </a:lnTo>
                  <a:lnTo>
                    <a:pt x="1572" y="633"/>
                  </a:lnTo>
                  <a:lnTo>
                    <a:pt x="1529" y="636"/>
                  </a:lnTo>
                  <a:lnTo>
                    <a:pt x="1486" y="639"/>
                  </a:lnTo>
                  <a:lnTo>
                    <a:pt x="1443" y="642"/>
                  </a:lnTo>
                  <a:lnTo>
                    <a:pt x="1400" y="645"/>
                  </a:lnTo>
                  <a:lnTo>
                    <a:pt x="1357" y="648"/>
                  </a:lnTo>
                  <a:lnTo>
                    <a:pt x="1313" y="648"/>
                  </a:lnTo>
                  <a:lnTo>
                    <a:pt x="1270" y="651"/>
                  </a:lnTo>
                  <a:lnTo>
                    <a:pt x="1224" y="655"/>
                  </a:lnTo>
                  <a:lnTo>
                    <a:pt x="1181" y="655"/>
                  </a:lnTo>
                  <a:lnTo>
                    <a:pt x="1138" y="658"/>
                  </a:lnTo>
                  <a:lnTo>
                    <a:pt x="1091" y="658"/>
                  </a:lnTo>
                  <a:lnTo>
                    <a:pt x="1048" y="658"/>
                  </a:lnTo>
                  <a:lnTo>
                    <a:pt x="1005" y="658"/>
                  </a:lnTo>
                  <a:lnTo>
                    <a:pt x="959" y="661"/>
                  </a:lnTo>
                  <a:lnTo>
                    <a:pt x="916" y="661"/>
                  </a:lnTo>
                  <a:lnTo>
                    <a:pt x="870" y="661"/>
                  </a:lnTo>
                  <a:lnTo>
                    <a:pt x="826" y="661"/>
                  </a:lnTo>
                  <a:lnTo>
                    <a:pt x="780" y="661"/>
                  </a:lnTo>
                  <a:lnTo>
                    <a:pt x="737" y="658"/>
                  </a:lnTo>
                  <a:lnTo>
                    <a:pt x="694" y="658"/>
                  </a:lnTo>
                  <a:lnTo>
                    <a:pt x="648" y="658"/>
                  </a:lnTo>
                  <a:lnTo>
                    <a:pt x="604" y="658"/>
                  </a:lnTo>
                  <a:lnTo>
                    <a:pt x="561" y="655"/>
                  </a:lnTo>
                  <a:lnTo>
                    <a:pt x="515" y="655"/>
                  </a:lnTo>
                  <a:lnTo>
                    <a:pt x="472" y="651"/>
                  </a:lnTo>
                  <a:lnTo>
                    <a:pt x="429" y="648"/>
                  </a:lnTo>
                  <a:lnTo>
                    <a:pt x="386" y="648"/>
                  </a:lnTo>
                  <a:lnTo>
                    <a:pt x="339" y="645"/>
                  </a:lnTo>
                  <a:lnTo>
                    <a:pt x="296" y="642"/>
                  </a:lnTo>
                  <a:lnTo>
                    <a:pt x="253" y="639"/>
                  </a:lnTo>
                  <a:lnTo>
                    <a:pt x="210" y="636"/>
                  </a:lnTo>
                  <a:lnTo>
                    <a:pt x="167" y="633"/>
                  </a:lnTo>
                  <a:lnTo>
                    <a:pt x="127" y="630"/>
                  </a:lnTo>
                  <a:lnTo>
                    <a:pt x="84" y="627"/>
                  </a:lnTo>
                  <a:lnTo>
                    <a:pt x="40" y="624"/>
                  </a:lnTo>
                  <a:lnTo>
                    <a:pt x="0" y="621"/>
                  </a:lnTo>
                  <a:lnTo>
                    <a:pt x="870" y="0"/>
                  </a:lnTo>
                  <a:lnTo>
                    <a:pt x="2762" y="442"/>
                  </a:lnTo>
                  <a:close/>
                </a:path>
              </a:pathLst>
            </a:custGeom>
            <a:solidFill>
              <a:srgbClr val="ffffcc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65"/>
            <p:cNvSpPr/>
            <p:nvPr/>
          </p:nvSpPr>
          <p:spPr>
            <a:xfrm>
              <a:off x="4176000" y="1834560"/>
              <a:ext cx="313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5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6"/>
            <p:cNvSpPr/>
            <p:nvPr/>
          </p:nvSpPr>
          <p:spPr>
            <a:xfrm>
              <a:off x="5409360" y="2865240"/>
              <a:ext cx="54000" cy="4932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7"/>
            <p:cNvSpPr/>
            <p:nvPr/>
          </p:nvSpPr>
          <p:spPr>
            <a:xfrm>
              <a:off x="5487120" y="284184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3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8"/>
            <p:cNvSpPr/>
            <p:nvPr/>
          </p:nvSpPr>
          <p:spPr>
            <a:xfrm>
              <a:off x="6471000" y="3931560"/>
              <a:ext cx="5364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9"/>
            <p:cNvSpPr/>
            <p:nvPr/>
          </p:nvSpPr>
          <p:spPr>
            <a:xfrm>
              <a:off x="6548760" y="390780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73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0"/>
            <p:cNvSpPr/>
            <p:nvPr/>
          </p:nvSpPr>
          <p:spPr>
            <a:xfrm>
              <a:off x="4692240" y="444096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1"/>
            <p:cNvSpPr/>
            <p:nvPr/>
          </p:nvSpPr>
          <p:spPr>
            <a:xfrm>
              <a:off x="4770000" y="441720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6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2"/>
            <p:cNvSpPr/>
            <p:nvPr/>
          </p:nvSpPr>
          <p:spPr>
            <a:xfrm>
              <a:off x="2030040" y="4259160"/>
              <a:ext cx="54000" cy="496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3"/>
            <p:cNvSpPr/>
            <p:nvPr/>
          </p:nvSpPr>
          <p:spPr>
            <a:xfrm>
              <a:off x="2107800" y="423540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1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74"/>
            <p:cNvSpPr/>
            <p:nvPr/>
          </p:nvSpPr>
          <p:spPr>
            <a:xfrm>
              <a:off x="1517400" y="3268080"/>
              <a:ext cx="5436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5"/>
            <p:cNvSpPr/>
            <p:nvPr/>
          </p:nvSpPr>
          <p:spPr>
            <a:xfrm>
              <a:off x="1595160" y="324432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4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6"/>
            <p:cNvSpPr/>
            <p:nvPr/>
          </p:nvSpPr>
          <p:spPr>
            <a:xfrm>
              <a:off x="2721240" y="283968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7"/>
            <p:cNvSpPr/>
            <p:nvPr/>
          </p:nvSpPr>
          <p:spPr>
            <a:xfrm>
              <a:off x="2799000" y="281628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8"/>
            <p:cNvSpPr/>
            <p:nvPr/>
          </p:nvSpPr>
          <p:spPr>
            <a:xfrm>
              <a:off x="1057680" y="5238720"/>
              <a:ext cx="6229800" cy="12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9"/>
            <p:cNvSpPr/>
            <p:nvPr/>
          </p:nvSpPr>
          <p:spPr>
            <a:xfrm>
              <a:off x="1085760" y="5276520"/>
              <a:ext cx="53640" cy="4896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0"/>
            <p:cNvSpPr/>
            <p:nvPr/>
          </p:nvSpPr>
          <p:spPr>
            <a:xfrm>
              <a:off x="1163520" y="5254920"/>
              <a:ext cx="9637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9 – 2000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1"/>
            <p:cNvSpPr/>
            <p:nvPr/>
          </p:nvSpPr>
          <p:spPr>
            <a:xfrm>
              <a:off x="2103480" y="5276520"/>
              <a:ext cx="5400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2"/>
            <p:cNvSpPr/>
            <p:nvPr/>
          </p:nvSpPr>
          <p:spPr>
            <a:xfrm>
              <a:off x="218160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0  - 2001 г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83"/>
            <p:cNvSpPr/>
            <p:nvPr/>
          </p:nvSpPr>
          <p:spPr>
            <a:xfrm>
              <a:off x="3153960" y="527652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84"/>
            <p:cNvSpPr/>
            <p:nvPr/>
          </p:nvSpPr>
          <p:spPr>
            <a:xfrm>
              <a:off x="323172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1 -  2002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5"/>
            <p:cNvSpPr/>
            <p:nvPr/>
          </p:nvSpPr>
          <p:spPr>
            <a:xfrm>
              <a:off x="4178160" y="5276520"/>
              <a:ext cx="53640" cy="4896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86"/>
            <p:cNvSpPr/>
            <p:nvPr/>
          </p:nvSpPr>
          <p:spPr>
            <a:xfrm>
              <a:off x="4255920" y="5254920"/>
              <a:ext cx="964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2 – 2003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5195520" y="5276520"/>
              <a:ext cx="5400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8"/>
            <p:cNvSpPr/>
            <p:nvPr/>
          </p:nvSpPr>
          <p:spPr>
            <a:xfrm>
              <a:off x="527328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3 -  2004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9"/>
            <p:cNvSpPr/>
            <p:nvPr/>
          </p:nvSpPr>
          <p:spPr>
            <a:xfrm>
              <a:off x="6245640" y="527652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0"/>
            <p:cNvSpPr/>
            <p:nvPr/>
          </p:nvSpPr>
          <p:spPr>
            <a:xfrm>
              <a:off x="632376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4 -  2005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91"/>
          <p:cNvSpPr/>
          <p:nvPr/>
        </p:nvSpPr>
        <p:spPr>
          <a:xfrm>
            <a:off x="1042920" y="616572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2"/>
          <p:cNvSpPr/>
          <p:nvPr/>
        </p:nvSpPr>
        <p:spPr>
          <a:xfrm>
            <a:off x="1606320" y="582444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аболеваемость ежегодно выше 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инамика  заболеваний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00840" cy="4672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48840" y="5969160"/>
            <a:ext cx="77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97 г. среди подростков зафиксированы новообразования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кач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6. Результаты микроисследования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«Здоровье   ученика   в режиме дня школы»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о П.И. Третьякову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усталости учащихся 11 кл на уроках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04360" cy="514800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ц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ькова М. Н. возраст 85 пол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якова М. И. возраст 8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ина     А.И. возраст 8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опрос «Ваше отношение  к культуре питания, к тру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долголетия: наши деды были здоровы и росли на здоровой земле и свежем воз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вы, гипотеза верн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диоктивное  загрязнение  внешней среды «Госатомиздат» 198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дакцией  В. К. Шумного, Г. М. Дымшица и О. В. Рувинского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«Просвещение»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тические  данные радионуклеотидной  лаборатории областной СЭС г Тамбова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а природы В. М. Константинов «Охрана  природы Москва АСАДЕИА 20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ология. Общая, социальная, прикладная. Н. А. Воронков «Агар» Москва 200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льзя  допустить, чтобы  люди  направили  на  свое  соб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уничтожение  те  силы  природы, которые  они сумели откры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и пок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. Жолио  -К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bycrawling"/>
          <p:cNvPicPr/>
          <p:nvPr/>
        </p:nvPicPr>
        <p:blipFill>
          <a:blip r:embed="rId1"/>
          <a:stretch/>
        </p:blipFill>
        <p:spPr>
          <a:xfrm>
            <a:off x="1403280" y="342900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0" y="1412640"/>
            <a:ext cx="4211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5280" y="1844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вляются ли наши заболевания следствием загрязнения окружающей сре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Гипот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12800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43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052280"/>
            <a:ext cx="84121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ыяснение влияния факторов окружающей  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стояние здоровья человека в родном с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информационные источники о последствиях Чернобыльской 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, полученные в вет.ста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 медосмотра учащихся наш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микроисследование с учащимися по Третьякову П.И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соцопроса долгожителей нашего с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607080" y="2584440"/>
            <a:ext cx="12708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6027840" y="3940200"/>
            <a:ext cx="128268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Результаты исслед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к проекту"/>
          <p:cNvPicPr/>
          <p:nvPr/>
        </p:nvPicPr>
        <p:blipFill>
          <a:blip r:embed="rId1"/>
          <a:stretch/>
        </p:blipFill>
        <p:spPr>
          <a:xfrm>
            <a:off x="1116000" y="2997360"/>
            <a:ext cx="633564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онтова пусты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"/>
          <p:cNvPicPr/>
          <p:nvPr/>
        </p:nvPicPr>
        <p:blipFill>
          <a:blip r:embed="rId1"/>
          <a:stretch/>
        </p:blipFill>
        <p:spPr>
          <a:xfrm>
            <a:off x="539640" y="3860640"/>
            <a:ext cx="3672000" cy="273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2"/>
          <a:stretch/>
        </p:blipFill>
        <p:spPr>
          <a:xfrm>
            <a:off x="4211640" y="1052640"/>
            <a:ext cx="493236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22"/>
          <p:cNvPicPr/>
          <p:nvPr/>
        </p:nvPicPr>
        <p:blipFill>
          <a:blip r:embed="rId3"/>
          <a:stretch/>
        </p:blipFill>
        <p:spPr>
          <a:xfrm>
            <a:off x="6119640" y="3473280"/>
            <a:ext cx="3024360" cy="3384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04:02Z</dcterms:created>
  <dc:creator>user</dc:creator>
  <dc:description>it-n.ru</dc:description>
  <dc:language>en-US</dc:language>
  <cp:lastModifiedBy>LEGION</cp:lastModifiedBy>
  <dcterms:modified xsi:type="dcterms:W3CDTF">2015-05-06T08:02:27Z</dcterms:modified>
  <cp:revision>75</cp:revision>
  <dc:subject/>
  <dc:title>Здоровье люд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3000000000001024140</vt:lpwstr>
  </property>
</Properties>
</file>