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8021-3915-4684-A1D6-7D981C8DF0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6600"/>
                </a:solidFill>
                <a:latin typeface="Calibri"/>
              </a:rPr>
              <a:t>Заболевания</a:t>
            </a: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 и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состояние окружающей среды</a:t>
            </a: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в моем селе Отъяссы</a:t>
            </a:r>
            <a:r>
              <a:rPr b="1" lang="ru-RU" sz="1400" spc="-1" strike="noStrike">
                <a:solidFill>
                  <a:srgbClr val="33cc3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1DA9-9353-4136-8AE0-B071BEA55B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2. Анализ пр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8E46-D66B-4403-A3D8-694205DC51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00"/>
                </a:solidFill>
                <a:latin typeface="Calibri"/>
              </a:rPr>
              <a:t>3. Заболевание  КРС  лейкозом</a:t>
            </a: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ивотноводство не может существовать без химии, применения  медицинских препаратов. Половина их потом обнаруживаются в челов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8133-2A4E-4CA8-9DBE-2671957CBA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00"/>
                </a:solidFill>
                <a:latin typeface="Calibri"/>
              </a:rPr>
              <a:t>4. Заболевания,  выявленные на основе медосмотра, у учащихся нашей школ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матическая патология -93случая -61,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порно-двигательный аппарат-  91случай- 59,8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болевания нервной системы -52случая- 34,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тология эндокринной системы18случаев-11,8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ирургическая патология 20случаев-13,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тология зрения -25 случаев-16,4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некологическая патология -15 случаев -9,8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688A-36A7-4598-A691-4E3E33692E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Диаграмма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B236-4DFD-4D81-866D-C6B313B7C3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5. Заболеваемость учащихся по г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B15B-DCAD-421C-9B47-91B1D2FAF9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Динамика  заболеваний под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868D-6927-4E8D-BC2A-B24D50FAE1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6. Результаты микроисследования</a:t>
            </a:r>
            <a:br>
              <a:rPr sz="1200"/>
            </a:b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«Здоровье   ученика   в режиме дня школы»</a:t>
            </a:r>
            <a:br>
              <a:rPr sz="1200"/>
            </a:b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по П.И. Третьякову</a:t>
            </a:r>
            <a:br>
              <a:rPr sz="11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Степень усталости учащихся 11 кл на уроках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E517-FD07-41CE-A72B-45BB460D3B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Calibri"/>
              </a:rPr>
              <a:t>Соцопро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нькова М. Н. возраст 85 полных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стякова М. И. возраст 84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ина     А.И. возраст 82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Вопрос «Ваше отношение  к культуре питания, к труду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вью(стиль не изменен): «Соблюдаем пост в течение 15 лет. Отказ от мясных и молочных блюд, только по средам и пятницам.    Пища должна быть здоровой: каши,  картофель, борщ,   квас, овощи, к  «заморским фруктам» равнодушны. В праздник можно позволить себе рюмку вина. Никогда  не курили. Сейчас вкус хлеба не такой. До сих пор  работоспособны.  Трудиться начали в 12 лет. Любим песни, можем и сейчас спеть «тяглую  песнь» . Хорошо помним события своей жизни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чина долголетия: наши деды были здоровы и росли на здоровой земле и свежем воздух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D957-46A2-42C0-9707-BF5294A57A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alibri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ный Барри Коммонер сформулировал закон экологии “Все связано со всем”, т.е. нарушение любого звена приближает гибель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400" spc="-1" strike="noStrike">
                <a:solidFill>
                  <a:srgbClr val="336600"/>
                </a:solidFill>
                <a:latin typeface="Calibri"/>
              </a:rPr>
              <a:t>Увы, гипотеза верн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336600"/>
                </a:solidFill>
                <a:latin typeface="Times New Roman"/>
              </a:rPr>
              <a:t>авария на Чернобыльской АЭС повлияла на состояние окружающей  среды, здоровье животных и человека в моем селе Отъя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8488-3F88-431F-A501-7BA7A46E69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иоктивное  загрязнение  внешней среды «Госатомиздат» 1985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об аварии  на Чернобыльской  АЭС  и ее последствия подготовленная для МАГЕТЕ – М. Атомная энергия -1982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 биология учебник  для 10-11 классов с углубленным  изучением  биологии в школе – под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дакцией  В. К. Шумного, Г. М. Дымшица и О. В. Рувинского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сква «Просвещение»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алитические  данные радионуклеотидной  лаборатории областной СЭС г Тамбова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рана природы В. М. Константинов «Охрана  природы Москва АСАДЕИА 2000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. Общая, социальная, прикладная. Н. А. Воронков «Агар» Москва 2000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9469-95CC-46EB-981F-60CEFA399F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Нельзя  допустить, чтобы  люди  направили  на  свое  соб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уничтожение  те  силы  природы, которые  они сумели откры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и покор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                                                                                     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Ф. Жолио  -Кю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3D29-53CA-42D3-AD1D-B70A31E9C5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 ли наши заболевания следствием загрязнения окружающей сре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8B1D-4144-4A68-A586-FB81D88A8A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6600"/>
                </a:solidFill>
                <a:uFillTx/>
                <a:latin typeface="Calibri"/>
              </a:rPr>
              <a:t>Гипотез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вария на Чернобыльской АЭС повлияла на состояние окружающей  среды, здоровье животных и человека в моем селе Отъя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8AED-B73E-43BE-A676-16F0E2BE3B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ыяснение влияния факторов окружающей   среды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 состояние здоровья человека в родном се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1f497d"/>
                </a:solidFill>
                <a:uFillTx/>
                <a:latin typeface="Calibri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информационные источники о последствиях Чернобыльской АЭ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результаты исследований радионуклеотидной лаборатории г.Тамбова проб почвы, воды, грибов, картофеля нашей мест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статистические данные, полученные в вет.ста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статистические данные медосмотра учащихся нашей шко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сти микроисследование с учащимися по Третьякову П.И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результаты соцопроса долгожителей нашего с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бщить результаты и сделать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42F5-E723-4A81-9220-F26428D115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Ход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анализировать информационные источники по аварии на Чернобыльской АЭС и составить карту распространения обл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Взять пробы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ды водопроводной и из источника Мамонтова пустын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чвы с разных участков с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ртофеля с разных приусадебных участ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ибов из леса рядом с с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B951-A2A9-4BC1-822D-988EB783A3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 Исследовать взятые пробы на нахождению цезия и стронция в радионуклеотидной лаборатории г.Тамбова, а затем проанализировать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. Обработать данные ветстанции по лейкозу КРС в селе Отъяссы по г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. Провести обработку статистических данных медосмотра учащихся наше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. Проанализировать мониторинг состояния здоровья учащихся по г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. Провести микроисследование «Здоровье ученика в режиме дня школы» (П.И. Третья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. Провести соц.опрос долгожителей нашего се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E6FC-DE77-497E-B5A6-EC87950B19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00"/>
                </a:solidFill>
                <a:latin typeface="Calibri"/>
              </a:rPr>
              <a:t>Результаты исследов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спытания  на  ядерном  семипалатинском  полигоне, превратили многие  районы  России  в  зоны  радиационного  загрязн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иновала чаша  сия и наш  Сосновский  район. Злополучное облако нанесло огромный  вред природе  и здоровью  лю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FB95-A55E-4325-966A-7289D4CE33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00"/>
                </a:solidFill>
                <a:latin typeface="Calibri"/>
              </a:rPr>
              <a:t>2. Анализ про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монтова пусты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ятое озе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ABB2-09F6-46C4-A8C7-FA446C04A7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BE3A-F378-4AE9-82F3-BA976731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6E9F-9A6C-4077-A4B5-4A6A967F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B8CE-D549-4EFD-B0A4-652D588B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CFD8-F0C0-436D-BC6B-A9BC2438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0E4A-D22A-4D04-B501-53EFB885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71D5-78BC-4CD3-9D8C-9F0CE67B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438-A8F3-4593-A7EA-C9B08AF6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4143-1587-4A47-A2EF-D3BBDB9D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BFCE-3132-4D3E-843E-1A65722D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B4B0-C7AF-4D09-AEBD-5CAF2725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24E8-1946-4C33-9CA1-DD4C3238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AF3C-33F0-4004-B492-710CC158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015F-DE5B-4DEA-9D1C-740532274D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384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00"/>
                </a:solidFill>
                <a:latin typeface="Arial"/>
              </a:rPr>
              <a:t>Заболевания</a:t>
            </a:r>
            <a:r>
              <a:rPr b="1" lang="ru-RU" sz="3300" spc="-1" strike="noStrike">
                <a:solidFill>
                  <a:srgbClr val="33cc33"/>
                </a:solidFill>
                <a:latin typeface="Arial"/>
              </a:rPr>
              <a:t> и </a:t>
            </a:r>
            <a:r>
              <a:rPr b="1" lang="ru-RU" sz="3300" spc="-1" strike="noStrike">
                <a:solidFill>
                  <a:srgbClr val="009900"/>
                </a:solidFill>
                <a:latin typeface="Arial"/>
              </a:rPr>
              <a:t>состояние окружающей среды</a:t>
            </a:r>
            <a:r>
              <a:rPr b="1" lang="ru-RU" sz="33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3300"/>
            </a:br>
            <a:r>
              <a:rPr b="1" lang="ru-RU" sz="3300" spc="-1" strike="noStrike">
                <a:solidFill>
                  <a:srgbClr val="33cc33"/>
                </a:solidFill>
                <a:latin typeface="Arial"/>
              </a:rPr>
              <a:t>в моем селе Отъяссы</a:t>
            </a:r>
            <a:r>
              <a:rPr b="1" lang="ru-RU" sz="38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150052"/>
          <p:cNvPicPr/>
          <p:nvPr/>
        </p:nvPicPr>
        <p:blipFill>
          <a:blip r:embed="rId1"/>
          <a:stretch/>
        </p:blipFill>
        <p:spPr>
          <a:xfrm>
            <a:off x="900000" y="1989000"/>
            <a:ext cx="7632720" cy="3488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3"/>
          <p:cNvSpPr/>
          <p:nvPr/>
        </p:nvSpPr>
        <p:spPr>
          <a:xfrm>
            <a:off x="4500720" y="558972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: Черникова С.В., Лунькова В.И. учитель биологии МОУ Отъясская СОШ Сосно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2. Анализ пр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052640"/>
          <a:ext cx="8229600" cy="5589360"/>
        </p:xfrm>
        <a:graphic>
          <a:graphicData uri="http://schemas.openxmlformats.org/drawingml/2006/table">
            <a:tbl>
              <a:tblPr/>
              <a:tblGrid>
                <a:gridCol w="1917720"/>
                <a:gridCol w="1500120"/>
                <a:gridCol w="1623960"/>
                <a:gridCol w="1563840"/>
                <a:gridCol w="1623960"/>
              </a:tblGrid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 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з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з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пустимая  норма)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к /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нц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нц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пустимая  норм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ибы 1 про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9±  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2 ±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ибы  1про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  ± 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   ±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±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± 0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из оз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 водопровод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±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ческие нормативы  на  почву не существуют, а оценка ведется по сравнению  со средней  многолетне сложившейся допустимой  норме. Величина для  Тамбовской области 30-40 бк\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ва (с приусадебного участка  по улице  Захаров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ва (с приусадебного участка  возле Д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3. Заболевание  КРС  лейкозом</a:t>
            </a:r>
            <a:br>
              <a:rPr sz="16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вотноводство не может существовать без химии, применения  медицинских препаратов. Половина их потом обнаруживаются в челове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971640" y="2421000"/>
            <a:ext cx="7345440" cy="38955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4. Заболевания,  выявленные на основе медосмотра, у учащихся нашей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матическая патология -93случая -61,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порно-двигательный аппарат-  91случай- 59,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болевания нервной системы -52случая- 34,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тология эндокринной системы18случаев-11,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ирургическая патология 20случаев-13,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тология зрения -25 случаев-16,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некологическая патология -15 случаев -9,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6050160" cy="5270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Диаграмма заболе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5. Заболеваемость учащихся по го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1"/>
          <p:cNvSpPr/>
          <p:nvPr/>
        </p:nvSpPr>
        <p:spPr>
          <a:xfrm>
            <a:off x="-2006640" y="53978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48"/>
          <p:cNvGrpSpPr/>
          <p:nvPr/>
        </p:nvGrpSpPr>
        <p:grpSpPr>
          <a:xfrm>
            <a:off x="900000" y="1700280"/>
            <a:ext cx="6551640" cy="3760560"/>
            <a:chOff x="900000" y="1700280"/>
            <a:chExt cx="6551640" cy="3760560"/>
          </a:xfrm>
        </p:grpSpPr>
        <p:sp>
          <p:nvSpPr>
            <p:cNvPr id="96" name="AutoShape 149"/>
            <p:cNvSpPr/>
            <p:nvPr/>
          </p:nvSpPr>
          <p:spPr>
            <a:xfrm>
              <a:off x="900000" y="1700280"/>
              <a:ext cx="6551640" cy="3724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50"/>
            <p:cNvSpPr/>
            <p:nvPr/>
          </p:nvSpPr>
          <p:spPr>
            <a:xfrm>
              <a:off x="2544120" y="3070800"/>
              <a:ext cx="1426680" cy="704520"/>
            </a:xfrm>
            <a:custGeom>
              <a:avLst/>
              <a:gdLst/>
              <a:ahLst/>
              <a:rect l="l" t="t" r="r" b="b"/>
              <a:pathLst>
                <a:path w="2035" h="1101">
                  <a:moveTo>
                    <a:pt x="2035" y="398"/>
                  </a:moveTo>
                  <a:lnTo>
                    <a:pt x="0" y="0"/>
                  </a:lnTo>
                  <a:lnTo>
                    <a:pt x="0" y="703"/>
                  </a:lnTo>
                  <a:lnTo>
                    <a:pt x="2035" y="1101"/>
                  </a:lnTo>
                  <a:lnTo>
                    <a:pt x="2035" y="398"/>
                  </a:lnTo>
                  <a:close/>
                </a:path>
              </a:pathLst>
            </a:custGeom>
            <a:solidFill>
              <a:srgbClr val="80404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51"/>
            <p:cNvSpPr/>
            <p:nvPr/>
          </p:nvSpPr>
          <p:spPr>
            <a:xfrm>
              <a:off x="2544120" y="2902680"/>
              <a:ext cx="1426680" cy="423000"/>
            </a:xfrm>
            <a:custGeom>
              <a:avLst/>
              <a:gdLst/>
              <a:ahLst/>
              <a:rect l="l" t="t" r="r" b="b"/>
              <a:pathLst>
                <a:path w="2035" h="661">
                  <a:moveTo>
                    <a:pt x="0" y="263"/>
                  </a:moveTo>
                  <a:lnTo>
                    <a:pt x="0" y="263"/>
                  </a:lnTo>
                  <a:lnTo>
                    <a:pt x="28" y="253"/>
                  </a:lnTo>
                  <a:lnTo>
                    <a:pt x="56" y="244"/>
                  </a:lnTo>
                  <a:lnTo>
                    <a:pt x="84" y="235"/>
                  </a:lnTo>
                  <a:lnTo>
                    <a:pt x="111" y="226"/>
                  </a:lnTo>
                  <a:lnTo>
                    <a:pt x="142" y="219"/>
                  </a:lnTo>
                  <a:lnTo>
                    <a:pt x="173" y="210"/>
                  </a:lnTo>
                  <a:lnTo>
                    <a:pt x="204" y="201"/>
                  </a:lnTo>
                  <a:lnTo>
                    <a:pt x="235" y="192"/>
                  </a:lnTo>
                  <a:lnTo>
                    <a:pt x="266" y="185"/>
                  </a:lnTo>
                  <a:lnTo>
                    <a:pt x="299" y="176"/>
                  </a:lnTo>
                  <a:lnTo>
                    <a:pt x="330" y="170"/>
                  </a:lnTo>
                  <a:lnTo>
                    <a:pt x="364" y="161"/>
                  </a:lnTo>
                  <a:lnTo>
                    <a:pt x="398" y="155"/>
                  </a:lnTo>
                  <a:lnTo>
                    <a:pt x="432" y="145"/>
                  </a:lnTo>
                  <a:lnTo>
                    <a:pt x="466" y="139"/>
                  </a:lnTo>
                  <a:lnTo>
                    <a:pt x="503" y="133"/>
                  </a:lnTo>
                  <a:lnTo>
                    <a:pt x="537" y="127"/>
                  </a:lnTo>
                  <a:lnTo>
                    <a:pt x="574" y="118"/>
                  </a:lnTo>
                  <a:lnTo>
                    <a:pt x="611" y="111"/>
                  </a:lnTo>
                  <a:lnTo>
                    <a:pt x="648" y="105"/>
                  </a:lnTo>
                  <a:lnTo>
                    <a:pt x="685" y="99"/>
                  </a:lnTo>
                  <a:lnTo>
                    <a:pt x="725" y="93"/>
                  </a:lnTo>
                  <a:lnTo>
                    <a:pt x="762" y="87"/>
                  </a:lnTo>
                  <a:lnTo>
                    <a:pt x="802" y="84"/>
                  </a:lnTo>
                  <a:lnTo>
                    <a:pt x="839" y="77"/>
                  </a:lnTo>
                  <a:lnTo>
                    <a:pt x="879" y="71"/>
                  </a:lnTo>
                  <a:lnTo>
                    <a:pt x="919" y="65"/>
                  </a:lnTo>
                  <a:lnTo>
                    <a:pt x="959" y="62"/>
                  </a:lnTo>
                  <a:lnTo>
                    <a:pt x="999" y="56"/>
                  </a:lnTo>
                  <a:lnTo>
                    <a:pt x="1039" y="53"/>
                  </a:lnTo>
                  <a:lnTo>
                    <a:pt x="1082" y="47"/>
                  </a:lnTo>
                  <a:lnTo>
                    <a:pt x="1122" y="44"/>
                  </a:lnTo>
                  <a:lnTo>
                    <a:pt x="1166" y="40"/>
                  </a:lnTo>
                  <a:lnTo>
                    <a:pt x="1206" y="34"/>
                  </a:lnTo>
                  <a:lnTo>
                    <a:pt x="1249" y="31"/>
                  </a:lnTo>
                  <a:lnTo>
                    <a:pt x="1292" y="28"/>
                  </a:lnTo>
                  <a:lnTo>
                    <a:pt x="1332" y="25"/>
                  </a:lnTo>
                  <a:lnTo>
                    <a:pt x="1375" y="22"/>
                  </a:lnTo>
                  <a:lnTo>
                    <a:pt x="1418" y="19"/>
                  </a:lnTo>
                  <a:lnTo>
                    <a:pt x="1461" y="16"/>
                  </a:lnTo>
                  <a:lnTo>
                    <a:pt x="1505" y="13"/>
                  </a:lnTo>
                  <a:lnTo>
                    <a:pt x="1551" y="13"/>
                  </a:lnTo>
                  <a:lnTo>
                    <a:pt x="1594" y="10"/>
                  </a:lnTo>
                  <a:lnTo>
                    <a:pt x="1637" y="7"/>
                  </a:lnTo>
                  <a:lnTo>
                    <a:pt x="1680" y="7"/>
                  </a:lnTo>
                  <a:lnTo>
                    <a:pt x="1726" y="3"/>
                  </a:lnTo>
                  <a:lnTo>
                    <a:pt x="1770" y="3"/>
                  </a:lnTo>
                  <a:lnTo>
                    <a:pt x="1813" y="3"/>
                  </a:lnTo>
                  <a:lnTo>
                    <a:pt x="1859" y="0"/>
                  </a:lnTo>
                  <a:lnTo>
                    <a:pt x="1902" y="0"/>
                  </a:lnTo>
                  <a:lnTo>
                    <a:pt x="1945" y="0"/>
                  </a:lnTo>
                  <a:lnTo>
                    <a:pt x="1992" y="0"/>
                  </a:lnTo>
                  <a:lnTo>
                    <a:pt x="2035" y="0"/>
                  </a:lnTo>
                  <a:lnTo>
                    <a:pt x="2035" y="661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ff80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52"/>
            <p:cNvSpPr/>
            <p:nvPr/>
          </p:nvSpPr>
          <p:spPr>
            <a:xfrm>
              <a:off x="4411080" y="3143520"/>
              <a:ext cx="1605240" cy="635400"/>
            </a:xfrm>
            <a:custGeom>
              <a:avLst/>
              <a:gdLst/>
              <a:ahLst/>
              <a:rect l="l" t="t" r="r" b="b"/>
              <a:pathLst>
                <a:path w="2290" h="993">
                  <a:moveTo>
                    <a:pt x="0" y="290"/>
                  </a:moveTo>
                  <a:lnTo>
                    <a:pt x="2290" y="0"/>
                  </a:lnTo>
                  <a:lnTo>
                    <a:pt x="2290" y="703"/>
                  </a:lnTo>
                  <a:lnTo>
                    <a:pt x="0" y="993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4d4d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53"/>
            <p:cNvSpPr/>
            <p:nvPr/>
          </p:nvSpPr>
          <p:spPr>
            <a:xfrm>
              <a:off x="4411080" y="2907000"/>
              <a:ext cx="1605240" cy="422280"/>
            </a:xfrm>
            <a:custGeom>
              <a:avLst/>
              <a:gdLst/>
              <a:ahLst/>
              <a:rect l="l" t="t" r="r" b="b"/>
              <a:pathLst>
                <a:path w="2290" h="660">
                  <a:moveTo>
                    <a:pt x="0" y="0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90" y="0"/>
                  </a:lnTo>
                  <a:lnTo>
                    <a:pt x="136" y="0"/>
                  </a:lnTo>
                  <a:lnTo>
                    <a:pt x="179" y="0"/>
                  </a:lnTo>
                  <a:lnTo>
                    <a:pt x="222" y="3"/>
                  </a:lnTo>
                  <a:lnTo>
                    <a:pt x="269" y="3"/>
                  </a:lnTo>
                  <a:lnTo>
                    <a:pt x="312" y="3"/>
                  </a:lnTo>
                  <a:lnTo>
                    <a:pt x="355" y="6"/>
                  </a:lnTo>
                  <a:lnTo>
                    <a:pt x="401" y="6"/>
                  </a:lnTo>
                  <a:lnTo>
                    <a:pt x="444" y="9"/>
                  </a:lnTo>
                  <a:lnTo>
                    <a:pt x="487" y="12"/>
                  </a:lnTo>
                  <a:lnTo>
                    <a:pt x="531" y="12"/>
                  </a:lnTo>
                  <a:lnTo>
                    <a:pt x="574" y="15"/>
                  </a:lnTo>
                  <a:lnTo>
                    <a:pt x="617" y="18"/>
                  </a:lnTo>
                  <a:lnTo>
                    <a:pt x="660" y="21"/>
                  </a:lnTo>
                  <a:lnTo>
                    <a:pt x="703" y="24"/>
                  </a:lnTo>
                  <a:lnTo>
                    <a:pt x="746" y="27"/>
                  </a:lnTo>
                  <a:lnTo>
                    <a:pt x="789" y="30"/>
                  </a:lnTo>
                  <a:lnTo>
                    <a:pt x="830" y="33"/>
                  </a:lnTo>
                  <a:lnTo>
                    <a:pt x="873" y="40"/>
                  </a:lnTo>
                  <a:lnTo>
                    <a:pt x="913" y="43"/>
                  </a:lnTo>
                  <a:lnTo>
                    <a:pt x="956" y="46"/>
                  </a:lnTo>
                  <a:lnTo>
                    <a:pt x="996" y="52"/>
                  </a:lnTo>
                  <a:lnTo>
                    <a:pt x="1036" y="55"/>
                  </a:lnTo>
                  <a:lnTo>
                    <a:pt x="1079" y="61"/>
                  </a:lnTo>
                  <a:lnTo>
                    <a:pt x="1119" y="64"/>
                  </a:lnTo>
                  <a:lnTo>
                    <a:pt x="1156" y="70"/>
                  </a:lnTo>
                  <a:lnTo>
                    <a:pt x="1196" y="77"/>
                  </a:lnTo>
                  <a:lnTo>
                    <a:pt x="1236" y="83"/>
                  </a:lnTo>
                  <a:lnTo>
                    <a:pt x="1276" y="86"/>
                  </a:lnTo>
                  <a:lnTo>
                    <a:pt x="1313" y="92"/>
                  </a:lnTo>
                  <a:lnTo>
                    <a:pt x="1350" y="98"/>
                  </a:lnTo>
                  <a:lnTo>
                    <a:pt x="1387" y="104"/>
                  </a:lnTo>
                  <a:lnTo>
                    <a:pt x="1424" y="111"/>
                  </a:lnTo>
                  <a:lnTo>
                    <a:pt x="1461" y="117"/>
                  </a:lnTo>
                  <a:lnTo>
                    <a:pt x="1498" y="126"/>
                  </a:lnTo>
                  <a:lnTo>
                    <a:pt x="1535" y="132"/>
                  </a:lnTo>
                  <a:lnTo>
                    <a:pt x="1569" y="138"/>
                  </a:lnTo>
                  <a:lnTo>
                    <a:pt x="1603" y="145"/>
                  </a:lnTo>
                  <a:lnTo>
                    <a:pt x="1640" y="154"/>
                  </a:lnTo>
                  <a:lnTo>
                    <a:pt x="1671" y="160"/>
                  </a:lnTo>
                  <a:lnTo>
                    <a:pt x="1705" y="169"/>
                  </a:lnTo>
                  <a:lnTo>
                    <a:pt x="1739" y="175"/>
                  </a:lnTo>
                  <a:lnTo>
                    <a:pt x="1770" y="185"/>
                  </a:lnTo>
                  <a:lnTo>
                    <a:pt x="1803" y="191"/>
                  </a:lnTo>
                  <a:lnTo>
                    <a:pt x="1834" y="200"/>
                  </a:lnTo>
                  <a:lnTo>
                    <a:pt x="1865" y="209"/>
                  </a:lnTo>
                  <a:lnTo>
                    <a:pt x="1893" y="219"/>
                  </a:lnTo>
                  <a:lnTo>
                    <a:pt x="1924" y="225"/>
                  </a:lnTo>
                  <a:lnTo>
                    <a:pt x="1951" y="234"/>
                  </a:lnTo>
                  <a:lnTo>
                    <a:pt x="1982" y="243"/>
                  </a:lnTo>
                  <a:lnTo>
                    <a:pt x="2010" y="253"/>
                  </a:lnTo>
                  <a:lnTo>
                    <a:pt x="2035" y="262"/>
                  </a:lnTo>
                  <a:lnTo>
                    <a:pt x="2062" y="271"/>
                  </a:lnTo>
                  <a:lnTo>
                    <a:pt x="2087" y="280"/>
                  </a:lnTo>
                  <a:lnTo>
                    <a:pt x="2112" y="290"/>
                  </a:lnTo>
                  <a:lnTo>
                    <a:pt x="2136" y="299"/>
                  </a:lnTo>
                  <a:lnTo>
                    <a:pt x="2161" y="308"/>
                  </a:lnTo>
                  <a:lnTo>
                    <a:pt x="2186" y="320"/>
                  </a:lnTo>
                  <a:lnTo>
                    <a:pt x="2207" y="330"/>
                  </a:lnTo>
                  <a:lnTo>
                    <a:pt x="2229" y="339"/>
                  </a:lnTo>
                  <a:lnTo>
                    <a:pt x="2250" y="348"/>
                  </a:lnTo>
                  <a:lnTo>
                    <a:pt x="2272" y="361"/>
                  </a:lnTo>
                  <a:lnTo>
                    <a:pt x="2290" y="37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54"/>
            <p:cNvSpPr/>
            <p:nvPr/>
          </p:nvSpPr>
          <p:spPr>
            <a:xfrm>
              <a:off x="1952280" y="3398400"/>
              <a:ext cx="38520" cy="536760"/>
            </a:xfrm>
            <a:custGeom>
              <a:avLst/>
              <a:gdLst/>
              <a:ahLst/>
              <a:rect l="l" t="t" r="r" b="b"/>
              <a:pathLst>
                <a:path w="55" h="839">
                  <a:moveTo>
                    <a:pt x="55" y="136"/>
                  </a:moveTo>
                  <a:lnTo>
                    <a:pt x="55" y="136"/>
                  </a:lnTo>
                  <a:lnTo>
                    <a:pt x="46" y="126"/>
                  </a:lnTo>
                  <a:lnTo>
                    <a:pt x="37" y="114"/>
                  </a:lnTo>
                  <a:lnTo>
                    <a:pt x="31" y="102"/>
                  </a:lnTo>
                  <a:lnTo>
                    <a:pt x="25" y="92"/>
                  </a:lnTo>
                  <a:lnTo>
                    <a:pt x="18" y="80"/>
                  </a:lnTo>
                  <a:lnTo>
                    <a:pt x="12" y="68"/>
                  </a:lnTo>
                  <a:lnTo>
                    <a:pt x="9" y="55"/>
                  </a:lnTo>
                  <a:lnTo>
                    <a:pt x="6" y="46"/>
                  </a:lnTo>
                  <a:lnTo>
                    <a:pt x="3" y="34"/>
                  </a:lnTo>
                  <a:lnTo>
                    <a:pt x="0" y="21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703"/>
                  </a:lnTo>
                  <a:lnTo>
                    <a:pt x="0" y="713"/>
                  </a:lnTo>
                  <a:lnTo>
                    <a:pt x="0" y="725"/>
                  </a:lnTo>
                  <a:lnTo>
                    <a:pt x="3" y="737"/>
                  </a:lnTo>
                  <a:lnTo>
                    <a:pt x="6" y="750"/>
                  </a:lnTo>
                  <a:lnTo>
                    <a:pt x="9" y="759"/>
                  </a:lnTo>
                  <a:lnTo>
                    <a:pt x="12" y="771"/>
                  </a:lnTo>
                  <a:lnTo>
                    <a:pt x="18" y="784"/>
                  </a:lnTo>
                  <a:lnTo>
                    <a:pt x="25" y="796"/>
                  </a:lnTo>
                  <a:lnTo>
                    <a:pt x="31" y="805"/>
                  </a:lnTo>
                  <a:lnTo>
                    <a:pt x="37" y="818"/>
                  </a:lnTo>
                  <a:lnTo>
                    <a:pt x="46" y="830"/>
                  </a:lnTo>
                  <a:lnTo>
                    <a:pt x="55" y="839"/>
                  </a:lnTo>
                  <a:lnTo>
                    <a:pt x="55" y="136"/>
                  </a:lnTo>
                  <a:close/>
                </a:path>
              </a:pathLst>
            </a:custGeom>
            <a:solidFill>
              <a:srgbClr val="3300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55"/>
            <p:cNvSpPr/>
            <p:nvPr/>
          </p:nvSpPr>
          <p:spPr>
            <a:xfrm>
              <a:off x="1990800" y="3398400"/>
              <a:ext cx="1746000" cy="536760"/>
            </a:xfrm>
            <a:custGeom>
              <a:avLst/>
              <a:gdLst/>
              <a:ahLst/>
              <a:rect l="l" t="t" r="r" b="b"/>
              <a:pathLst>
                <a:path w="2491" h="839">
                  <a:moveTo>
                    <a:pt x="2491" y="0"/>
                  </a:moveTo>
                  <a:lnTo>
                    <a:pt x="0" y="136"/>
                  </a:lnTo>
                  <a:lnTo>
                    <a:pt x="0" y="839"/>
                  </a:lnTo>
                  <a:lnTo>
                    <a:pt x="2491" y="703"/>
                  </a:lnTo>
                  <a:lnTo>
                    <a:pt x="2491" y="0"/>
                  </a:lnTo>
                  <a:close/>
                </a:path>
              </a:pathLst>
            </a:custGeom>
            <a:solidFill>
              <a:srgbClr val="3300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56"/>
            <p:cNvSpPr/>
            <p:nvPr/>
          </p:nvSpPr>
          <p:spPr>
            <a:xfrm>
              <a:off x="1952280" y="3143520"/>
              <a:ext cx="1784880" cy="341640"/>
            </a:xfrm>
            <a:custGeom>
              <a:avLst/>
              <a:gdLst/>
              <a:ahLst/>
              <a:rect l="l" t="t" r="r" b="b"/>
              <a:pathLst>
                <a:path w="2546" h="534">
                  <a:moveTo>
                    <a:pt x="55" y="534"/>
                  </a:moveTo>
                  <a:lnTo>
                    <a:pt x="55" y="534"/>
                  </a:lnTo>
                  <a:lnTo>
                    <a:pt x="46" y="524"/>
                  </a:lnTo>
                  <a:lnTo>
                    <a:pt x="37" y="512"/>
                  </a:lnTo>
                  <a:lnTo>
                    <a:pt x="31" y="500"/>
                  </a:lnTo>
                  <a:lnTo>
                    <a:pt x="25" y="490"/>
                  </a:lnTo>
                  <a:lnTo>
                    <a:pt x="18" y="478"/>
                  </a:lnTo>
                  <a:lnTo>
                    <a:pt x="12" y="466"/>
                  </a:lnTo>
                  <a:lnTo>
                    <a:pt x="9" y="453"/>
                  </a:lnTo>
                  <a:lnTo>
                    <a:pt x="6" y="444"/>
                  </a:lnTo>
                  <a:lnTo>
                    <a:pt x="3" y="432"/>
                  </a:lnTo>
                  <a:lnTo>
                    <a:pt x="0" y="419"/>
                  </a:lnTo>
                  <a:lnTo>
                    <a:pt x="0" y="407"/>
                  </a:lnTo>
                  <a:lnTo>
                    <a:pt x="0" y="398"/>
                  </a:lnTo>
                  <a:lnTo>
                    <a:pt x="0" y="386"/>
                  </a:lnTo>
                  <a:lnTo>
                    <a:pt x="0" y="373"/>
                  </a:lnTo>
                  <a:lnTo>
                    <a:pt x="3" y="364"/>
                  </a:lnTo>
                  <a:lnTo>
                    <a:pt x="6" y="352"/>
                  </a:lnTo>
                  <a:lnTo>
                    <a:pt x="9" y="339"/>
                  </a:lnTo>
                  <a:lnTo>
                    <a:pt x="12" y="327"/>
                  </a:lnTo>
                  <a:lnTo>
                    <a:pt x="18" y="318"/>
                  </a:lnTo>
                  <a:lnTo>
                    <a:pt x="25" y="305"/>
                  </a:lnTo>
                  <a:lnTo>
                    <a:pt x="31" y="293"/>
                  </a:lnTo>
                  <a:lnTo>
                    <a:pt x="37" y="284"/>
                  </a:lnTo>
                  <a:lnTo>
                    <a:pt x="46" y="271"/>
                  </a:lnTo>
                  <a:lnTo>
                    <a:pt x="55" y="259"/>
                  </a:lnTo>
                  <a:lnTo>
                    <a:pt x="65" y="250"/>
                  </a:lnTo>
                  <a:lnTo>
                    <a:pt x="74" y="237"/>
                  </a:lnTo>
                  <a:lnTo>
                    <a:pt x="86" y="225"/>
                  </a:lnTo>
                  <a:lnTo>
                    <a:pt x="99" y="216"/>
                  </a:lnTo>
                  <a:lnTo>
                    <a:pt x="111" y="203"/>
                  </a:lnTo>
                  <a:lnTo>
                    <a:pt x="123" y="194"/>
                  </a:lnTo>
                  <a:lnTo>
                    <a:pt x="139" y="182"/>
                  </a:lnTo>
                  <a:lnTo>
                    <a:pt x="154" y="173"/>
                  </a:lnTo>
                  <a:lnTo>
                    <a:pt x="170" y="160"/>
                  </a:lnTo>
                  <a:lnTo>
                    <a:pt x="185" y="151"/>
                  </a:lnTo>
                  <a:lnTo>
                    <a:pt x="200" y="139"/>
                  </a:lnTo>
                  <a:lnTo>
                    <a:pt x="219" y="129"/>
                  </a:lnTo>
                  <a:lnTo>
                    <a:pt x="237" y="117"/>
                  </a:lnTo>
                  <a:lnTo>
                    <a:pt x="256" y="108"/>
                  </a:lnTo>
                  <a:lnTo>
                    <a:pt x="277" y="99"/>
                  </a:lnTo>
                  <a:lnTo>
                    <a:pt x="296" y="86"/>
                  </a:lnTo>
                  <a:lnTo>
                    <a:pt x="317" y="77"/>
                  </a:lnTo>
                  <a:lnTo>
                    <a:pt x="339" y="68"/>
                  </a:lnTo>
                  <a:lnTo>
                    <a:pt x="364" y="58"/>
                  </a:lnTo>
                  <a:lnTo>
                    <a:pt x="385" y="46"/>
                  </a:lnTo>
                  <a:lnTo>
                    <a:pt x="410" y="37"/>
                  </a:lnTo>
                  <a:lnTo>
                    <a:pt x="435" y="28"/>
                  </a:lnTo>
                  <a:lnTo>
                    <a:pt x="459" y="18"/>
                  </a:lnTo>
                  <a:lnTo>
                    <a:pt x="487" y="9"/>
                  </a:lnTo>
                  <a:lnTo>
                    <a:pt x="512" y="0"/>
                  </a:lnTo>
                  <a:lnTo>
                    <a:pt x="2546" y="398"/>
                  </a:lnTo>
                  <a:lnTo>
                    <a:pt x="55" y="534"/>
                  </a:lnTo>
                  <a:close/>
                </a:path>
              </a:pathLst>
            </a:custGeom>
            <a:solidFill>
              <a:srgbClr val="660066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57"/>
            <p:cNvSpPr/>
            <p:nvPr/>
          </p:nvSpPr>
          <p:spPr>
            <a:xfrm>
              <a:off x="5943600" y="3436200"/>
              <a:ext cx="459720" cy="731880"/>
            </a:xfrm>
            <a:custGeom>
              <a:avLst/>
              <a:gdLst/>
              <a:ahLst/>
              <a:rect l="l" t="t" r="r" b="b"/>
              <a:pathLst>
                <a:path w="656" h="1144">
                  <a:moveTo>
                    <a:pt x="656" y="0"/>
                  </a:moveTo>
                  <a:lnTo>
                    <a:pt x="656" y="0"/>
                  </a:lnTo>
                  <a:lnTo>
                    <a:pt x="656" y="9"/>
                  </a:lnTo>
                  <a:lnTo>
                    <a:pt x="653" y="21"/>
                  </a:lnTo>
                  <a:lnTo>
                    <a:pt x="653" y="33"/>
                  </a:lnTo>
                  <a:lnTo>
                    <a:pt x="650" y="46"/>
                  </a:lnTo>
                  <a:lnTo>
                    <a:pt x="647" y="55"/>
                  </a:lnTo>
                  <a:lnTo>
                    <a:pt x="641" y="67"/>
                  </a:lnTo>
                  <a:lnTo>
                    <a:pt x="638" y="80"/>
                  </a:lnTo>
                  <a:lnTo>
                    <a:pt x="632" y="92"/>
                  </a:lnTo>
                  <a:lnTo>
                    <a:pt x="625" y="101"/>
                  </a:lnTo>
                  <a:lnTo>
                    <a:pt x="616" y="114"/>
                  </a:lnTo>
                  <a:lnTo>
                    <a:pt x="610" y="126"/>
                  </a:lnTo>
                  <a:lnTo>
                    <a:pt x="601" y="135"/>
                  </a:lnTo>
                  <a:lnTo>
                    <a:pt x="591" y="148"/>
                  </a:lnTo>
                  <a:lnTo>
                    <a:pt x="579" y="160"/>
                  </a:lnTo>
                  <a:lnTo>
                    <a:pt x="570" y="169"/>
                  </a:lnTo>
                  <a:lnTo>
                    <a:pt x="558" y="182"/>
                  </a:lnTo>
                  <a:lnTo>
                    <a:pt x="545" y="191"/>
                  </a:lnTo>
                  <a:lnTo>
                    <a:pt x="530" y="203"/>
                  </a:lnTo>
                  <a:lnTo>
                    <a:pt x="517" y="212"/>
                  </a:lnTo>
                  <a:lnTo>
                    <a:pt x="502" y="225"/>
                  </a:lnTo>
                  <a:lnTo>
                    <a:pt x="487" y="234"/>
                  </a:lnTo>
                  <a:lnTo>
                    <a:pt x="471" y="246"/>
                  </a:lnTo>
                  <a:lnTo>
                    <a:pt x="453" y="256"/>
                  </a:lnTo>
                  <a:lnTo>
                    <a:pt x="434" y="268"/>
                  </a:lnTo>
                  <a:lnTo>
                    <a:pt x="416" y="277"/>
                  </a:lnTo>
                  <a:lnTo>
                    <a:pt x="397" y="290"/>
                  </a:lnTo>
                  <a:lnTo>
                    <a:pt x="379" y="299"/>
                  </a:lnTo>
                  <a:lnTo>
                    <a:pt x="357" y="308"/>
                  </a:lnTo>
                  <a:lnTo>
                    <a:pt x="336" y="320"/>
                  </a:lnTo>
                  <a:lnTo>
                    <a:pt x="314" y="330"/>
                  </a:lnTo>
                  <a:lnTo>
                    <a:pt x="292" y="339"/>
                  </a:lnTo>
                  <a:lnTo>
                    <a:pt x="268" y="348"/>
                  </a:lnTo>
                  <a:lnTo>
                    <a:pt x="243" y="357"/>
                  </a:lnTo>
                  <a:lnTo>
                    <a:pt x="219" y="367"/>
                  </a:lnTo>
                  <a:lnTo>
                    <a:pt x="194" y="376"/>
                  </a:lnTo>
                  <a:lnTo>
                    <a:pt x="169" y="388"/>
                  </a:lnTo>
                  <a:lnTo>
                    <a:pt x="141" y="398"/>
                  </a:lnTo>
                  <a:lnTo>
                    <a:pt x="117" y="404"/>
                  </a:lnTo>
                  <a:lnTo>
                    <a:pt x="89" y="413"/>
                  </a:lnTo>
                  <a:lnTo>
                    <a:pt x="58" y="422"/>
                  </a:lnTo>
                  <a:lnTo>
                    <a:pt x="31" y="432"/>
                  </a:lnTo>
                  <a:lnTo>
                    <a:pt x="0" y="441"/>
                  </a:lnTo>
                  <a:lnTo>
                    <a:pt x="0" y="1144"/>
                  </a:lnTo>
                  <a:lnTo>
                    <a:pt x="31" y="1135"/>
                  </a:lnTo>
                  <a:lnTo>
                    <a:pt x="58" y="1126"/>
                  </a:lnTo>
                  <a:lnTo>
                    <a:pt x="89" y="1117"/>
                  </a:lnTo>
                  <a:lnTo>
                    <a:pt x="117" y="1107"/>
                  </a:lnTo>
                  <a:lnTo>
                    <a:pt x="141" y="1101"/>
                  </a:lnTo>
                  <a:lnTo>
                    <a:pt x="169" y="1092"/>
                  </a:lnTo>
                  <a:lnTo>
                    <a:pt x="194" y="1080"/>
                  </a:lnTo>
                  <a:lnTo>
                    <a:pt x="219" y="1070"/>
                  </a:lnTo>
                  <a:lnTo>
                    <a:pt x="243" y="1061"/>
                  </a:lnTo>
                  <a:lnTo>
                    <a:pt x="268" y="1052"/>
                  </a:lnTo>
                  <a:lnTo>
                    <a:pt x="292" y="1043"/>
                  </a:lnTo>
                  <a:lnTo>
                    <a:pt x="314" y="1033"/>
                  </a:lnTo>
                  <a:lnTo>
                    <a:pt x="336" y="1024"/>
                  </a:lnTo>
                  <a:lnTo>
                    <a:pt x="357" y="1012"/>
                  </a:lnTo>
                  <a:lnTo>
                    <a:pt x="379" y="1002"/>
                  </a:lnTo>
                  <a:lnTo>
                    <a:pt x="397" y="993"/>
                  </a:lnTo>
                  <a:lnTo>
                    <a:pt x="416" y="981"/>
                  </a:lnTo>
                  <a:lnTo>
                    <a:pt x="434" y="972"/>
                  </a:lnTo>
                  <a:lnTo>
                    <a:pt x="453" y="959"/>
                  </a:lnTo>
                  <a:lnTo>
                    <a:pt x="471" y="950"/>
                  </a:lnTo>
                  <a:lnTo>
                    <a:pt x="487" y="938"/>
                  </a:lnTo>
                  <a:lnTo>
                    <a:pt x="502" y="928"/>
                  </a:lnTo>
                  <a:lnTo>
                    <a:pt x="517" y="916"/>
                  </a:lnTo>
                  <a:lnTo>
                    <a:pt x="530" y="907"/>
                  </a:lnTo>
                  <a:lnTo>
                    <a:pt x="545" y="894"/>
                  </a:lnTo>
                  <a:lnTo>
                    <a:pt x="558" y="885"/>
                  </a:lnTo>
                  <a:lnTo>
                    <a:pt x="570" y="873"/>
                  </a:lnTo>
                  <a:lnTo>
                    <a:pt x="579" y="864"/>
                  </a:lnTo>
                  <a:lnTo>
                    <a:pt x="591" y="851"/>
                  </a:lnTo>
                  <a:lnTo>
                    <a:pt x="601" y="839"/>
                  </a:lnTo>
                  <a:lnTo>
                    <a:pt x="610" y="830"/>
                  </a:lnTo>
                  <a:lnTo>
                    <a:pt x="616" y="817"/>
                  </a:lnTo>
                  <a:lnTo>
                    <a:pt x="625" y="805"/>
                  </a:lnTo>
                  <a:lnTo>
                    <a:pt x="632" y="796"/>
                  </a:lnTo>
                  <a:lnTo>
                    <a:pt x="638" y="783"/>
                  </a:lnTo>
                  <a:lnTo>
                    <a:pt x="641" y="771"/>
                  </a:lnTo>
                  <a:lnTo>
                    <a:pt x="647" y="759"/>
                  </a:lnTo>
                  <a:lnTo>
                    <a:pt x="650" y="749"/>
                  </a:lnTo>
                  <a:lnTo>
                    <a:pt x="653" y="737"/>
                  </a:lnTo>
                  <a:lnTo>
                    <a:pt x="653" y="725"/>
                  </a:lnTo>
                  <a:lnTo>
                    <a:pt x="656" y="712"/>
                  </a:lnTo>
                  <a:lnTo>
                    <a:pt x="656" y="703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4d1a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58"/>
            <p:cNvSpPr/>
            <p:nvPr/>
          </p:nvSpPr>
          <p:spPr>
            <a:xfrm>
              <a:off x="4616280" y="3436200"/>
              <a:ext cx="1326960" cy="731880"/>
            </a:xfrm>
            <a:custGeom>
              <a:avLst/>
              <a:gdLst/>
              <a:ahLst/>
              <a:rect l="l" t="t" r="r" b="b"/>
              <a:pathLst>
                <a:path w="1893" h="1144">
                  <a:moveTo>
                    <a:pt x="0" y="0"/>
                  </a:moveTo>
                  <a:lnTo>
                    <a:pt x="1893" y="441"/>
                  </a:lnTo>
                  <a:lnTo>
                    <a:pt x="1893" y="1144"/>
                  </a:lnTo>
                  <a:lnTo>
                    <a:pt x="0" y="7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1a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59"/>
            <p:cNvSpPr/>
            <p:nvPr/>
          </p:nvSpPr>
          <p:spPr>
            <a:xfrm>
              <a:off x="4616280" y="3250080"/>
              <a:ext cx="1787040" cy="468360"/>
            </a:xfrm>
            <a:custGeom>
              <a:avLst/>
              <a:gdLst/>
              <a:ahLst/>
              <a:rect l="l" t="t" r="r" b="b"/>
              <a:pathLst>
                <a:path w="2549" h="732">
                  <a:moveTo>
                    <a:pt x="2290" y="0"/>
                  </a:moveTo>
                  <a:lnTo>
                    <a:pt x="2290" y="0"/>
                  </a:lnTo>
                  <a:lnTo>
                    <a:pt x="2309" y="10"/>
                  </a:lnTo>
                  <a:lnTo>
                    <a:pt x="2327" y="22"/>
                  </a:lnTo>
                  <a:lnTo>
                    <a:pt x="2346" y="31"/>
                  </a:lnTo>
                  <a:lnTo>
                    <a:pt x="2364" y="44"/>
                  </a:lnTo>
                  <a:lnTo>
                    <a:pt x="2380" y="53"/>
                  </a:lnTo>
                  <a:lnTo>
                    <a:pt x="2395" y="65"/>
                  </a:lnTo>
                  <a:lnTo>
                    <a:pt x="2410" y="75"/>
                  </a:lnTo>
                  <a:lnTo>
                    <a:pt x="2423" y="87"/>
                  </a:lnTo>
                  <a:lnTo>
                    <a:pt x="2438" y="96"/>
                  </a:lnTo>
                  <a:lnTo>
                    <a:pt x="2451" y="108"/>
                  </a:lnTo>
                  <a:lnTo>
                    <a:pt x="2463" y="118"/>
                  </a:lnTo>
                  <a:lnTo>
                    <a:pt x="2472" y="130"/>
                  </a:lnTo>
                  <a:lnTo>
                    <a:pt x="2484" y="142"/>
                  </a:lnTo>
                  <a:lnTo>
                    <a:pt x="2494" y="152"/>
                  </a:lnTo>
                  <a:lnTo>
                    <a:pt x="2503" y="164"/>
                  </a:lnTo>
                  <a:lnTo>
                    <a:pt x="2509" y="176"/>
                  </a:lnTo>
                  <a:lnTo>
                    <a:pt x="2518" y="186"/>
                  </a:lnTo>
                  <a:lnTo>
                    <a:pt x="2525" y="198"/>
                  </a:lnTo>
                  <a:lnTo>
                    <a:pt x="2531" y="210"/>
                  </a:lnTo>
                  <a:lnTo>
                    <a:pt x="2534" y="220"/>
                  </a:lnTo>
                  <a:lnTo>
                    <a:pt x="2540" y="232"/>
                  </a:lnTo>
                  <a:lnTo>
                    <a:pt x="2543" y="244"/>
                  </a:lnTo>
                  <a:lnTo>
                    <a:pt x="2546" y="257"/>
                  </a:lnTo>
                  <a:lnTo>
                    <a:pt x="2546" y="266"/>
                  </a:lnTo>
                  <a:lnTo>
                    <a:pt x="2549" y="278"/>
                  </a:lnTo>
                  <a:lnTo>
                    <a:pt x="2549" y="291"/>
                  </a:lnTo>
                  <a:lnTo>
                    <a:pt x="2549" y="300"/>
                  </a:lnTo>
                  <a:lnTo>
                    <a:pt x="2546" y="312"/>
                  </a:lnTo>
                  <a:lnTo>
                    <a:pt x="2546" y="324"/>
                  </a:lnTo>
                  <a:lnTo>
                    <a:pt x="2543" y="337"/>
                  </a:lnTo>
                  <a:lnTo>
                    <a:pt x="2540" y="346"/>
                  </a:lnTo>
                  <a:lnTo>
                    <a:pt x="2534" y="358"/>
                  </a:lnTo>
                  <a:lnTo>
                    <a:pt x="2531" y="371"/>
                  </a:lnTo>
                  <a:lnTo>
                    <a:pt x="2525" y="383"/>
                  </a:lnTo>
                  <a:lnTo>
                    <a:pt x="2518" y="392"/>
                  </a:lnTo>
                  <a:lnTo>
                    <a:pt x="2509" y="405"/>
                  </a:lnTo>
                  <a:lnTo>
                    <a:pt x="2503" y="417"/>
                  </a:lnTo>
                  <a:lnTo>
                    <a:pt x="2494" y="426"/>
                  </a:lnTo>
                  <a:lnTo>
                    <a:pt x="2484" y="439"/>
                  </a:lnTo>
                  <a:lnTo>
                    <a:pt x="2472" y="451"/>
                  </a:lnTo>
                  <a:lnTo>
                    <a:pt x="2463" y="460"/>
                  </a:lnTo>
                  <a:lnTo>
                    <a:pt x="2451" y="473"/>
                  </a:lnTo>
                  <a:lnTo>
                    <a:pt x="2438" y="482"/>
                  </a:lnTo>
                  <a:lnTo>
                    <a:pt x="2423" y="494"/>
                  </a:lnTo>
                  <a:lnTo>
                    <a:pt x="2410" y="503"/>
                  </a:lnTo>
                  <a:lnTo>
                    <a:pt x="2395" y="516"/>
                  </a:lnTo>
                  <a:lnTo>
                    <a:pt x="2380" y="525"/>
                  </a:lnTo>
                  <a:lnTo>
                    <a:pt x="2364" y="537"/>
                  </a:lnTo>
                  <a:lnTo>
                    <a:pt x="2346" y="547"/>
                  </a:lnTo>
                  <a:lnTo>
                    <a:pt x="2327" y="559"/>
                  </a:lnTo>
                  <a:lnTo>
                    <a:pt x="2309" y="568"/>
                  </a:lnTo>
                  <a:lnTo>
                    <a:pt x="2290" y="581"/>
                  </a:lnTo>
                  <a:lnTo>
                    <a:pt x="2272" y="590"/>
                  </a:lnTo>
                  <a:lnTo>
                    <a:pt x="2250" y="599"/>
                  </a:lnTo>
                  <a:lnTo>
                    <a:pt x="2229" y="611"/>
                  </a:lnTo>
                  <a:lnTo>
                    <a:pt x="2207" y="621"/>
                  </a:lnTo>
                  <a:lnTo>
                    <a:pt x="2185" y="630"/>
                  </a:lnTo>
                  <a:lnTo>
                    <a:pt x="2161" y="639"/>
                  </a:lnTo>
                  <a:lnTo>
                    <a:pt x="2136" y="648"/>
                  </a:lnTo>
                  <a:lnTo>
                    <a:pt x="2112" y="658"/>
                  </a:lnTo>
                  <a:lnTo>
                    <a:pt x="2087" y="667"/>
                  </a:lnTo>
                  <a:lnTo>
                    <a:pt x="2062" y="679"/>
                  </a:lnTo>
                  <a:lnTo>
                    <a:pt x="2034" y="689"/>
                  </a:lnTo>
                  <a:lnTo>
                    <a:pt x="2010" y="695"/>
                  </a:lnTo>
                  <a:lnTo>
                    <a:pt x="1982" y="704"/>
                  </a:lnTo>
                  <a:lnTo>
                    <a:pt x="1951" y="713"/>
                  </a:lnTo>
                  <a:lnTo>
                    <a:pt x="1924" y="723"/>
                  </a:lnTo>
                  <a:lnTo>
                    <a:pt x="1893" y="732"/>
                  </a:lnTo>
                  <a:lnTo>
                    <a:pt x="0" y="291"/>
                  </a:lnTo>
                  <a:lnTo>
                    <a:pt x="2290" y="0"/>
                  </a:lnTo>
                  <a:close/>
                </a:path>
              </a:pathLst>
            </a:custGeom>
            <a:solidFill>
              <a:srgbClr val="993366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60"/>
            <p:cNvSpPr/>
            <p:nvPr/>
          </p:nvSpPr>
          <p:spPr>
            <a:xfrm>
              <a:off x="2090520" y="3576240"/>
              <a:ext cx="1136160" cy="759960"/>
            </a:xfrm>
            <a:custGeom>
              <a:avLst/>
              <a:gdLst/>
              <a:ahLst/>
              <a:rect l="l" t="t" r="r" b="b"/>
              <a:pathLst>
                <a:path w="1621" h="1188">
                  <a:moveTo>
                    <a:pt x="1621" y="484"/>
                  </a:moveTo>
                  <a:lnTo>
                    <a:pt x="1621" y="484"/>
                  </a:lnTo>
                  <a:lnTo>
                    <a:pt x="1578" y="481"/>
                  </a:lnTo>
                  <a:lnTo>
                    <a:pt x="1538" y="475"/>
                  </a:lnTo>
                  <a:lnTo>
                    <a:pt x="1495" y="472"/>
                  </a:lnTo>
                  <a:lnTo>
                    <a:pt x="1455" y="466"/>
                  </a:lnTo>
                  <a:lnTo>
                    <a:pt x="1415" y="463"/>
                  </a:lnTo>
                  <a:lnTo>
                    <a:pt x="1375" y="456"/>
                  </a:lnTo>
                  <a:lnTo>
                    <a:pt x="1335" y="450"/>
                  </a:lnTo>
                  <a:lnTo>
                    <a:pt x="1295" y="447"/>
                  </a:lnTo>
                  <a:lnTo>
                    <a:pt x="1258" y="441"/>
                  </a:lnTo>
                  <a:lnTo>
                    <a:pt x="1218" y="435"/>
                  </a:lnTo>
                  <a:lnTo>
                    <a:pt x="1181" y="429"/>
                  </a:lnTo>
                  <a:lnTo>
                    <a:pt x="1141" y="422"/>
                  </a:lnTo>
                  <a:lnTo>
                    <a:pt x="1104" y="416"/>
                  </a:lnTo>
                  <a:lnTo>
                    <a:pt x="1067" y="410"/>
                  </a:lnTo>
                  <a:lnTo>
                    <a:pt x="1030" y="404"/>
                  </a:lnTo>
                  <a:lnTo>
                    <a:pt x="993" y="398"/>
                  </a:lnTo>
                  <a:lnTo>
                    <a:pt x="959" y="392"/>
                  </a:lnTo>
                  <a:lnTo>
                    <a:pt x="922" y="382"/>
                  </a:lnTo>
                  <a:lnTo>
                    <a:pt x="888" y="376"/>
                  </a:lnTo>
                  <a:lnTo>
                    <a:pt x="854" y="370"/>
                  </a:lnTo>
                  <a:lnTo>
                    <a:pt x="820" y="361"/>
                  </a:lnTo>
                  <a:lnTo>
                    <a:pt x="786" y="355"/>
                  </a:lnTo>
                  <a:lnTo>
                    <a:pt x="755" y="345"/>
                  </a:lnTo>
                  <a:lnTo>
                    <a:pt x="721" y="339"/>
                  </a:lnTo>
                  <a:lnTo>
                    <a:pt x="691" y="330"/>
                  </a:lnTo>
                  <a:lnTo>
                    <a:pt x="660" y="321"/>
                  </a:lnTo>
                  <a:lnTo>
                    <a:pt x="629" y="314"/>
                  </a:lnTo>
                  <a:lnTo>
                    <a:pt x="598" y="305"/>
                  </a:lnTo>
                  <a:lnTo>
                    <a:pt x="567" y="296"/>
                  </a:lnTo>
                  <a:lnTo>
                    <a:pt x="540" y="287"/>
                  </a:lnTo>
                  <a:lnTo>
                    <a:pt x="512" y="277"/>
                  </a:lnTo>
                  <a:lnTo>
                    <a:pt x="484" y="268"/>
                  </a:lnTo>
                  <a:lnTo>
                    <a:pt x="456" y="262"/>
                  </a:lnTo>
                  <a:lnTo>
                    <a:pt x="432" y="253"/>
                  </a:lnTo>
                  <a:lnTo>
                    <a:pt x="404" y="240"/>
                  </a:lnTo>
                  <a:lnTo>
                    <a:pt x="379" y="231"/>
                  </a:lnTo>
                  <a:lnTo>
                    <a:pt x="355" y="222"/>
                  </a:lnTo>
                  <a:lnTo>
                    <a:pt x="330" y="213"/>
                  </a:lnTo>
                  <a:lnTo>
                    <a:pt x="308" y="203"/>
                  </a:lnTo>
                  <a:lnTo>
                    <a:pt x="284" y="194"/>
                  </a:lnTo>
                  <a:lnTo>
                    <a:pt x="262" y="185"/>
                  </a:lnTo>
                  <a:lnTo>
                    <a:pt x="241" y="172"/>
                  </a:lnTo>
                  <a:lnTo>
                    <a:pt x="222" y="163"/>
                  </a:lnTo>
                  <a:lnTo>
                    <a:pt x="201" y="154"/>
                  </a:lnTo>
                  <a:lnTo>
                    <a:pt x="182" y="142"/>
                  </a:lnTo>
                  <a:lnTo>
                    <a:pt x="164" y="132"/>
                  </a:lnTo>
                  <a:lnTo>
                    <a:pt x="145" y="120"/>
                  </a:lnTo>
                  <a:lnTo>
                    <a:pt x="130" y="111"/>
                  </a:lnTo>
                  <a:lnTo>
                    <a:pt x="114" y="98"/>
                  </a:lnTo>
                  <a:lnTo>
                    <a:pt x="99" y="89"/>
                  </a:lnTo>
                  <a:lnTo>
                    <a:pt x="83" y="77"/>
                  </a:lnTo>
                  <a:lnTo>
                    <a:pt x="68" y="68"/>
                  </a:lnTo>
                  <a:lnTo>
                    <a:pt x="56" y="55"/>
                  </a:lnTo>
                  <a:lnTo>
                    <a:pt x="43" y="46"/>
                  </a:lnTo>
                  <a:lnTo>
                    <a:pt x="31" y="34"/>
                  </a:lnTo>
                  <a:lnTo>
                    <a:pt x="19" y="24"/>
                  </a:lnTo>
                  <a:lnTo>
                    <a:pt x="9" y="12"/>
                  </a:lnTo>
                  <a:lnTo>
                    <a:pt x="0" y="0"/>
                  </a:lnTo>
                  <a:lnTo>
                    <a:pt x="0" y="703"/>
                  </a:lnTo>
                  <a:lnTo>
                    <a:pt x="9" y="716"/>
                  </a:lnTo>
                  <a:lnTo>
                    <a:pt x="19" y="728"/>
                  </a:lnTo>
                  <a:lnTo>
                    <a:pt x="31" y="737"/>
                  </a:lnTo>
                  <a:lnTo>
                    <a:pt x="43" y="750"/>
                  </a:lnTo>
                  <a:lnTo>
                    <a:pt x="56" y="759"/>
                  </a:lnTo>
                  <a:lnTo>
                    <a:pt x="68" y="771"/>
                  </a:lnTo>
                  <a:lnTo>
                    <a:pt x="83" y="780"/>
                  </a:lnTo>
                  <a:lnTo>
                    <a:pt x="99" y="793"/>
                  </a:lnTo>
                  <a:lnTo>
                    <a:pt x="114" y="802"/>
                  </a:lnTo>
                  <a:lnTo>
                    <a:pt x="130" y="814"/>
                  </a:lnTo>
                  <a:lnTo>
                    <a:pt x="145" y="824"/>
                  </a:lnTo>
                  <a:lnTo>
                    <a:pt x="164" y="836"/>
                  </a:lnTo>
                  <a:lnTo>
                    <a:pt x="182" y="845"/>
                  </a:lnTo>
                  <a:lnTo>
                    <a:pt x="201" y="858"/>
                  </a:lnTo>
                  <a:lnTo>
                    <a:pt x="222" y="867"/>
                  </a:lnTo>
                  <a:lnTo>
                    <a:pt x="241" y="876"/>
                  </a:lnTo>
                  <a:lnTo>
                    <a:pt x="262" y="888"/>
                  </a:lnTo>
                  <a:lnTo>
                    <a:pt x="284" y="898"/>
                  </a:lnTo>
                  <a:lnTo>
                    <a:pt x="308" y="907"/>
                  </a:lnTo>
                  <a:lnTo>
                    <a:pt x="330" y="916"/>
                  </a:lnTo>
                  <a:lnTo>
                    <a:pt x="355" y="925"/>
                  </a:lnTo>
                  <a:lnTo>
                    <a:pt x="379" y="935"/>
                  </a:lnTo>
                  <a:lnTo>
                    <a:pt x="404" y="944"/>
                  </a:lnTo>
                  <a:lnTo>
                    <a:pt x="432" y="956"/>
                  </a:lnTo>
                  <a:lnTo>
                    <a:pt x="456" y="966"/>
                  </a:lnTo>
                  <a:lnTo>
                    <a:pt x="484" y="972"/>
                  </a:lnTo>
                  <a:lnTo>
                    <a:pt x="512" y="981"/>
                  </a:lnTo>
                  <a:lnTo>
                    <a:pt x="540" y="990"/>
                  </a:lnTo>
                  <a:lnTo>
                    <a:pt x="567" y="999"/>
                  </a:lnTo>
                  <a:lnTo>
                    <a:pt x="598" y="1009"/>
                  </a:lnTo>
                  <a:lnTo>
                    <a:pt x="629" y="1018"/>
                  </a:lnTo>
                  <a:lnTo>
                    <a:pt x="660" y="1024"/>
                  </a:lnTo>
                  <a:lnTo>
                    <a:pt x="691" y="1033"/>
                  </a:lnTo>
                  <a:lnTo>
                    <a:pt x="721" y="1043"/>
                  </a:lnTo>
                  <a:lnTo>
                    <a:pt x="755" y="1049"/>
                  </a:lnTo>
                  <a:lnTo>
                    <a:pt x="786" y="1058"/>
                  </a:lnTo>
                  <a:lnTo>
                    <a:pt x="820" y="1064"/>
                  </a:lnTo>
                  <a:lnTo>
                    <a:pt x="854" y="1074"/>
                  </a:lnTo>
                  <a:lnTo>
                    <a:pt x="888" y="1080"/>
                  </a:lnTo>
                  <a:lnTo>
                    <a:pt x="922" y="1086"/>
                  </a:lnTo>
                  <a:lnTo>
                    <a:pt x="959" y="1095"/>
                  </a:lnTo>
                  <a:lnTo>
                    <a:pt x="993" y="1101"/>
                  </a:lnTo>
                  <a:lnTo>
                    <a:pt x="1030" y="1107"/>
                  </a:lnTo>
                  <a:lnTo>
                    <a:pt x="1067" y="1114"/>
                  </a:lnTo>
                  <a:lnTo>
                    <a:pt x="1104" y="1120"/>
                  </a:lnTo>
                  <a:lnTo>
                    <a:pt x="1141" y="1126"/>
                  </a:lnTo>
                  <a:lnTo>
                    <a:pt x="1181" y="1132"/>
                  </a:lnTo>
                  <a:lnTo>
                    <a:pt x="1218" y="1138"/>
                  </a:lnTo>
                  <a:lnTo>
                    <a:pt x="1258" y="1145"/>
                  </a:lnTo>
                  <a:lnTo>
                    <a:pt x="1295" y="1151"/>
                  </a:lnTo>
                  <a:lnTo>
                    <a:pt x="1335" y="1154"/>
                  </a:lnTo>
                  <a:lnTo>
                    <a:pt x="1375" y="1160"/>
                  </a:lnTo>
                  <a:lnTo>
                    <a:pt x="1415" y="1166"/>
                  </a:lnTo>
                  <a:lnTo>
                    <a:pt x="1455" y="1169"/>
                  </a:lnTo>
                  <a:lnTo>
                    <a:pt x="1495" y="1175"/>
                  </a:lnTo>
                  <a:lnTo>
                    <a:pt x="1538" y="1178"/>
                  </a:lnTo>
                  <a:lnTo>
                    <a:pt x="1578" y="1185"/>
                  </a:lnTo>
                  <a:lnTo>
                    <a:pt x="1621" y="1188"/>
                  </a:lnTo>
                  <a:lnTo>
                    <a:pt x="1621" y="484"/>
                  </a:lnTo>
                  <a:close/>
                </a:path>
              </a:pathLst>
            </a:custGeom>
            <a:solidFill>
              <a:srgbClr val="6680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61"/>
            <p:cNvSpPr/>
            <p:nvPr/>
          </p:nvSpPr>
          <p:spPr>
            <a:xfrm>
              <a:off x="3226680" y="3489480"/>
              <a:ext cx="609840" cy="847080"/>
            </a:xfrm>
            <a:custGeom>
              <a:avLst/>
              <a:gdLst/>
              <a:ahLst/>
              <a:rect l="l" t="t" r="r" b="b"/>
              <a:pathLst>
                <a:path w="870" h="1324">
                  <a:moveTo>
                    <a:pt x="870" y="0"/>
                  </a:moveTo>
                  <a:lnTo>
                    <a:pt x="0" y="620"/>
                  </a:lnTo>
                  <a:lnTo>
                    <a:pt x="0" y="1324"/>
                  </a:lnTo>
                  <a:lnTo>
                    <a:pt x="870" y="703"/>
                  </a:lnTo>
                  <a:lnTo>
                    <a:pt x="870" y="0"/>
                  </a:lnTo>
                  <a:close/>
                </a:path>
              </a:pathLst>
            </a:custGeom>
            <a:solidFill>
              <a:srgbClr val="6680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62"/>
            <p:cNvSpPr/>
            <p:nvPr/>
          </p:nvSpPr>
          <p:spPr>
            <a:xfrm>
              <a:off x="2090520" y="3489480"/>
              <a:ext cx="1746000" cy="396720"/>
            </a:xfrm>
            <a:custGeom>
              <a:avLst/>
              <a:gdLst/>
              <a:ahLst/>
              <a:rect l="l" t="t" r="r" b="b"/>
              <a:pathLst>
                <a:path w="2491" h="620">
                  <a:moveTo>
                    <a:pt x="1621" y="620"/>
                  </a:moveTo>
                  <a:lnTo>
                    <a:pt x="1621" y="620"/>
                  </a:lnTo>
                  <a:lnTo>
                    <a:pt x="1578" y="617"/>
                  </a:lnTo>
                  <a:lnTo>
                    <a:pt x="1538" y="611"/>
                  </a:lnTo>
                  <a:lnTo>
                    <a:pt x="1495" y="608"/>
                  </a:lnTo>
                  <a:lnTo>
                    <a:pt x="1455" y="602"/>
                  </a:lnTo>
                  <a:lnTo>
                    <a:pt x="1415" y="599"/>
                  </a:lnTo>
                  <a:lnTo>
                    <a:pt x="1375" y="592"/>
                  </a:lnTo>
                  <a:lnTo>
                    <a:pt x="1335" y="586"/>
                  </a:lnTo>
                  <a:lnTo>
                    <a:pt x="1295" y="583"/>
                  </a:lnTo>
                  <a:lnTo>
                    <a:pt x="1258" y="577"/>
                  </a:lnTo>
                  <a:lnTo>
                    <a:pt x="1218" y="571"/>
                  </a:lnTo>
                  <a:lnTo>
                    <a:pt x="1181" y="565"/>
                  </a:lnTo>
                  <a:lnTo>
                    <a:pt x="1141" y="558"/>
                  </a:lnTo>
                  <a:lnTo>
                    <a:pt x="1104" y="552"/>
                  </a:lnTo>
                  <a:lnTo>
                    <a:pt x="1067" y="546"/>
                  </a:lnTo>
                  <a:lnTo>
                    <a:pt x="1030" y="540"/>
                  </a:lnTo>
                  <a:lnTo>
                    <a:pt x="993" y="534"/>
                  </a:lnTo>
                  <a:lnTo>
                    <a:pt x="959" y="528"/>
                  </a:lnTo>
                  <a:lnTo>
                    <a:pt x="922" y="518"/>
                  </a:lnTo>
                  <a:lnTo>
                    <a:pt x="888" y="512"/>
                  </a:lnTo>
                  <a:lnTo>
                    <a:pt x="854" y="506"/>
                  </a:lnTo>
                  <a:lnTo>
                    <a:pt x="820" y="497"/>
                  </a:lnTo>
                  <a:lnTo>
                    <a:pt x="786" y="491"/>
                  </a:lnTo>
                  <a:lnTo>
                    <a:pt x="755" y="481"/>
                  </a:lnTo>
                  <a:lnTo>
                    <a:pt x="721" y="475"/>
                  </a:lnTo>
                  <a:lnTo>
                    <a:pt x="691" y="466"/>
                  </a:lnTo>
                  <a:lnTo>
                    <a:pt x="660" y="457"/>
                  </a:lnTo>
                  <a:lnTo>
                    <a:pt x="629" y="450"/>
                  </a:lnTo>
                  <a:lnTo>
                    <a:pt x="598" y="441"/>
                  </a:lnTo>
                  <a:lnTo>
                    <a:pt x="567" y="432"/>
                  </a:lnTo>
                  <a:lnTo>
                    <a:pt x="540" y="423"/>
                  </a:lnTo>
                  <a:lnTo>
                    <a:pt x="512" y="413"/>
                  </a:lnTo>
                  <a:lnTo>
                    <a:pt x="484" y="404"/>
                  </a:lnTo>
                  <a:lnTo>
                    <a:pt x="456" y="398"/>
                  </a:lnTo>
                  <a:lnTo>
                    <a:pt x="432" y="389"/>
                  </a:lnTo>
                  <a:lnTo>
                    <a:pt x="404" y="376"/>
                  </a:lnTo>
                  <a:lnTo>
                    <a:pt x="379" y="367"/>
                  </a:lnTo>
                  <a:lnTo>
                    <a:pt x="355" y="358"/>
                  </a:lnTo>
                  <a:lnTo>
                    <a:pt x="330" y="349"/>
                  </a:lnTo>
                  <a:lnTo>
                    <a:pt x="308" y="339"/>
                  </a:lnTo>
                  <a:lnTo>
                    <a:pt x="284" y="330"/>
                  </a:lnTo>
                  <a:lnTo>
                    <a:pt x="262" y="321"/>
                  </a:lnTo>
                  <a:lnTo>
                    <a:pt x="241" y="308"/>
                  </a:lnTo>
                  <a:lnTo>
                    <a:pt x="222" y="299"/>
                  </a:lnTo>
                  <a:lnTo>
                    <a:pt x="201" y="290"/>
                  </a:lnTo>
                  <a:lnTo>
                    <a:pt x="182" y="278"/>
                  </a:lnTo>
                  <a:lnTo>
                    <a:pt x="164" y="268"/>
                  </a:lnTo>
                  <a:lnTo>
                    <a:pt x="145" y="256"/>
                  </a:lnTo>
                  <a:lnTo>
                    <a:pt x="130" y="247"/>
                  </a:lnTo>
                  <a:lnTo>
                    <a:pt x="114" y="234"/>
                  </a:lnTo>
                  <a:lnTo>
                    <a:pt x="99" y="225"/>
                  </a:lnTo>
                  <a:lnTo>
                    <a:pt x="83" y="213"/>
                  </a:lnTo>
                  <a:lnTo>
                    <a:pt x="68" y="204"/>
                  </a:lnTo>
                  <a:lnTo>
                    <a:pt x="56" y="191"/>
                  </a:lnTo>
                  <a:lnTo>
                    <a:pt x="43" y="182"/>
                  </a:lnTo>
                  <a:lnTo>
                    <a:pt x="31" y="170"/>
                  </a:lnTo>
                  <a:lnTo>
                    <a:pt x="19" y="160"/>
                  </a:lnTo>
                  <a:lnTo>
                    <a:pt x="9" y="148"/>
                  </a:lnTo>
                  <a:lnTo>
                    <a:pt x="0" y="136"/>
                  </a:lnTo>
                  <a:lnTo>
                    <a:pt x="2491" y="0"/>
                  </a:lnTo>
                  <a:lnTo>
                    <a:pt x="1621" y="620"/>
                  </a:lnTo>
                  <a:close/>
                </a:path>
              </a:pathLst>
            </a:custGeom>
            <a:solidFill>
              <a:srgbClr val="ccffff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63"/>
            <p:cNvSpPr/>
            <p:nvPr/>
          </p:nvSpPr>
          <p:spPr>
            <a:xfrm>
              <a:off x="3672000" y="3805560"/>
              <a:ext cx="1936440" cy="589680"/>
            </a:xfrm>
            <a:custGeom>
              <a:avLst/>
              <a:gdLst/>
              <a:ahLst/>
              <a:rect l="l" t="t" r="r" b="b"/>
              <a:pathLst>
                <a:path w="2762" h="922">
                  <a:moveTo>
                    <a:pt x="2762" y="0"/>
                  </a:moveTo>
                  <a:lnTo>
                    <a:pt x="2762" y="0"/>
                  </a:lnTo>
                  <a:lnTo>
                    <a:pt x="2734" y="9"/>
                  </a:lnTo>
                  <a:lnTo>
                    <a:pt x="2703" y="15"/>
                  </a:lnTo>
                  <a:lnTo>
                    <a:pt x="2673" y="24"/>
                  </a:lnTo>
                  <a:lnTo>
                    <a:pt x="2639" y="34"/>
                  </a:lnTo>
                  <a:lnTo>
                    <a:pt x="2608" y="40"/>
                  </a:lnTo>
                  <a:lnTo>
                    <a:pt x="2574" y="49"/>
                  </a:lnTo>
                  <a:lnTo>
                    <a:pt x="2540" y="55"/>
                  </a:lnTo>
                  <a:lnTo>
                    <a:pt x="2509" y="64"/>
                  </a:lnTo>
                  <a:lnTo>
                    <a:pt x="2472" y="71"/>
                  </a:lnTo>
                  <a:lnTo>
                    <a:pt x="2438" y="77"/>
                  </a:lnTo>
                  <a:lnTo>
                    <a:pt x="2404" y="86"/>
                  </a:lnTo>
                  <a:lnTo>
                    <a:pt x="2367" y="92"/>
                  </a:lnTo>
                  <a:lnTo>
                    <a:pt x="2330" y="98"/>
                  </a:lnTo>
                  <a:lnTo>
                    <a:pt x="2293" y="105"/>
                  </a:lnTo>
                  <a:lnTo>
                    <a:pt x="2256" y="111"/>
                  </a:lnTo>
                  <a:lnTo>
                    <a:pt x="2219" y="117"/>
                  </a:lnTo>
                  <a:lnTo>
                    <a:pt x="2183" y="123"/>
                  </a:lnTo>
                  <a:lnTo>
                    <a:pt x="2146" y="129"/>
                  </a:lnTo>
                  <a:lnTo>
                    <a:pt x="2105" y="135"/>
                  </a:lnTo>
                  <a:lnTo>
                    <a:pt x="2065" y="142"/>
                  </a:lnTo>
                  <a:lnTo>
                    <a:pt x="2025" y="145"/>
                  </a:lnTo>
                  <a:lnTo>
                    <a:pt x="1988" y="151"/>
                  </a:lnTo>
                  <a:lnTo>
                    <a:pt x="1948" y="157"/>
                  </a:lnTo>
                  <a:lnTo>
                    <a:pt x="1905" y="160"/>
                  </a:lnTo>
                  <a:lnTo>
                    <a:pt x="1865" y="166"/>
                  </a:lnTo>
                  <a:lnTo>
                    <a:pt x="1825" y="169"/>
                  </a:lnTo>
                  <a:lnTo>
                    <a:pt x="1782" y="175"/>
                  </a:lnTo>
                  <a:lnTo>
                    <a:pt x="1742" y="179"/>
                  </a:lnTo>
                  <a:lnTo>
                    <a:pt x="1699" y="182"/>
                  </a:lnTo>
                  <a:lnTo>
                    <a:pt x="1659" y="185"/>
                  </a:lnTo>
                  <a:lnTo>
                    <a:pt x="1615" y="188"/>
                  </a:lnTo>
                  <a:lnTo>
                    <a:pt x="1572" y="191"/>
                  </a:lnTo>
                  <a:lnTo>
                    <a:pt x="1529" y="194"/>
                  </a:lnTo>
                  <a:lnTo>
                    <a:pt x="1486" y="197"/>
                  </a:lnTo>
                  <a:lnTo>
                    <a:pt x="1443" y="200"/>
                  </a:lnTo>
                  <a:lnTo>
                    <a:pt x="1400" y="203"/>
                  </a:lnTo>
                  <a:lnTo>
                    <a:pt x="1357" y="206"/>
                  </a:lnTo>
                  <a:lnTo>
                    <a:pt x="1313" y="206"/>
                  </a:lnTo>
                  <a:lnTo>
                    <a:pt x="1270" y="209"/>
                  </a:lnTo>
                  <a:lnTo>
                    <a:pt x="1224" y="213"/>
                  </a:lnTo>
                  <a:lnTo>
                    <a:pt x="1181" y="213"/>
                  </a:lnTo>
                  <a:lnTo>
                    <a:pt x="1138" y="216"/>
                  </a:lnTo>
                  <a:lnTo>
                    <a:pt x="1091" y="216"/>
                  </a:lnTo>
                  <a:lnTo>
                    <a:pt x="1048" y="216"/>
                  </a:lnTo>
                  <a:lnTo>
                    <a:pt x="1005" y="216"/>
                  </a:lnTo>
                  <a:lnTo>
                    <a:pt x="959" y="219"/>
                  </a:lnTo>
                  <a:lnTo>
                    <a:pt x="916" y="219"/>
                  </a:lnTo>
                  <a:lnTo>
                    <a:pt x="870" y="219"/>
                  </a:lnTo>
                  <a:lnTo>
                    <a:pt x="826" y="219"/>
                  </a:lnTo>
                  <a:lnTo>
                    <a:pt x="780" y="219"/>
                  </a:lnTo>
                  <a:lnTo>
                    <a:pt x="737" y="216"/>
                  </a:lnTo>
                  <a:lnTo>
                    <a:pt x="694" y="216"/>
                  </a:lnTo>
                  <a:lnTo>
                    <a:pt x="648" y="216"/>
                  </a:lnTo>
                  <a:lnTo>
                    <a:pt x="604" y="216"/>
                  </a:lnTo>
                  <a:lnTo>
                    <a:pt x="561" y="213"/>
                  </a:lnTo>
                  <a:lnTo>
                    <a:pt x="515" y="213"/>
                  </a:lnTo>
                  <a:lnTo>
                    <a:pt x="472" y="209"/>
                  </a:lnTo>
                  <a:lnTo>
                    <a:pt x="429" y="206"/>
                  </a:lnTo>
                  <a:lnTo>
                    <a:pt x="386" y="206"/>
                  </a:lnTo>
                  <a:lnTo>
                    <a:pt x="339" y="203"/>
                  </a:lnTo>
                  <a:lnTo>
                    <a:pt x="296" y="200"/>
                  </a:lnTo>
                  <a:lnTo>
                    <a:pt x="253" y="197"/>
                  </a:lnTo>
                  <a:lnTo>
                    <a:pt x="210" y="194"/>
                  </a:lnTo>
                  <a:lnTo>
                    <a:pt x="167" y="191"/>
                  </a:lnTo>
                  <a:lnTo>
                    <a:pt x="127" y="188"/>
                  </a:lnTo>
                  <a:lnTo>
                    <a:pt x="84" y="185"/>
                  </a:lnTo>
                  <a:lnTo>
                    <a:pt x="40" y="182"/>
                  </a:lnTo>
                  <a:lnTo>
                    <a:pt x="0" y="179"/>
                  </a:lnTo>
                  <a:lnTo>
                    <a:pt x="0" y="882"/>
                  </a:lnTo>
                  <a:lnTo>
                    <a:pt x="40" y="885"/>
                  </a:lnTo>
                  <a:lnTo>
                    <a:pt x="84" y="888"/>
                  </a:lnTo>
                  <a:lnTo>
                    <a:pt x="127" y="891"/>
                  </a:lnTo>
                  <a:lnTo>
                    <a:pt x="167" y="895"/>
                  </a:lnTo>
                  <a:lnTo>
                    <a:pt x="210" y="898"/>
                  </a:lnTo>
                  <a:lnTo>
                    <a:pt x="253" y="901"/>
                  </a:lnTo>
                  <a:lnTo>
                    <a:pt x="296" y="904"/>
                  </a:lnTo>
                  <a:lnTo>
                    <a:pt x="339" y="907"/>
                  </a:lnTo>
                  <a:lnTo>
                    <a:pt x="386" y="910"/>
                  </a:lnTo>
                  <a:lnTo>
                    <a:pt x="429" y="910"/>
                  </a:lnTo>
                  <a:lnTo>
                    <a:pt x="472" y="913"/>
                  </a:lnTo>
                  <a:lnTo>
                    <a:pt x="515" y="916"/>
                  </a:lnTo>
                  <a:lnTo>
                    <a:pt x="561" y="916"/>
                  </a:lnTo>
                  <a:lnTo>
                    <a:pt x="604" y="919"/>
                  </a:lnTo>
                  <a:lnTo>
                    <a:pt x="648" y="919"/>
                  </a:lnTo>
                  <a:lnTo>
                    <a:pt x="694" y="919"/>
                  </a:lnTo>
                  <a:lnTo>
                    <a:pt x="737" y="919"/>
                  </a:lnTo>
                  <a:lnTo>
                    <a:pt x="780" y="922"/>
                  </a:lnTo>
                  <a:lnTo>
                    <a:pt x="826" y="922"/>
                  </a:lnTo>
                  <a:lnTo>
                    <a:pt x="870" y="922"/>
                  </a:lnTo>
                  <a:lnTo>
                    <a:pt x="916" y="922"/>
                  </a:lnTo>
                  <a:lnTo>
                    <a:pt x="959" y="922"/>
                  </a:lnTo>
                  <a:lnTo>
                    <a:pt x="1005" y="919"/>
                  </a:lnTo>
                  <a:lnTo>
                    <a:pt x="1048" y="919"/>
                  </a:lnTo>
                  <a:lnTo>
                    <a:pt x="1091" y="919"/>
                  </a:lnTo>
                  <a:lnTo>
                    <a:pt x="1138" y="919"/>
                  </a:lnTo>
                  <a:lnTo>
                    <a:pt x="1181" y="916"/>
                  </a:lnTo>
                  <a:lnTo>
                    <a:pt x="1224" y="916"/>
                  </a:lnTo>
                  <a:lnTo>
                    <a:pt x="1270" y="913"/>
                  </a:lnTo>
                  <a:lnTo>
                    <a:pt x="1313" y="910"/>
                  </a:lnTo>
                  <a:lnTo>
                    <a:pt x="1357" y="910"/>
                  </a:lnTo>
                  <a:lnTo>
                    <a:pt x="1400" y="907"/>
                  </a:lnTo>
                  <a:lnTo>
                    <a:pt x="1443" y="904"/>
                  </a:lnTo>
                  <a:lnTo>
                    <a:pt x="1486" y="901"/>
                  </a:lnTo>
                  <a:lnTo>
                    <a:pt x="1529" y="898"/>
                  </a:lnTo>
                  <a:lnTo>
                    <a:pt x="1572" y="895"/>
                  </a:lnTo>
                  <a:lnTo>
                    <a:pt x="1615" y="891"/>
                  </a:lnTo>
                  <a:lnTo>
                    <a:pt x="1659" y="888"/>
                  </a:lnTo>
                  <a:lnTo>
                    <a:pt x="1699" y="885"/>
                  </a:lnTo>
                  <a:lnTo>
                    <a:pt x="1742" y="882"/>
                  </a:lnTo>
                  <a:lnTo>
                    <a:pt x="1782" y="879"/>
                  </a:lnTo>
                  <a:lnTo>
                    <a:pt x="1825" y="873"/>
                  </a:lnTo>
                  <a:lnTo>
                    <a:pt x="1865" y="870"/>
                  </a:lnTo>
                  <a:lnTo>
                    <a:pt x="1905" y="864"/>
                  </a:lnTo>
                  <a:lnTo>
                    <a:pt x="1948" y="861"/>
                  </a:lnTo>
                  <a:lnTo>
                    <a:pt x="1988" y="854"/>
                  </a:lnTo>
                  <a:lnTo>
                    <a:pt x="2025" y="848"/>
                  </a:lnTo>
                  <a:lnTo>
                    <a:pt x="2065" y="845"/>
                  </a:lnTo>
                  <a:lnTo>
                    <a:pt x="2105" y="839"/>
                  </a:lnTo>
                  <a:lnTo>
                    <a:pt x="2146" y="833"/>
                  </a:lnTo>
                  <a:lnTo>
                    <a:pt x="2183" y="827"/>
                  </a:lnTo>
                  <a:lnTo>
                    <a:pt x="2219" y="820"/>
                  </a:lnTo>
                  <a:lnTo>
                    <a:pt x="2256" y="814"/>
                  </a:lnTo>
                  <a:lnTo>
                    <a:pt x="2293" y="808"/>
                  </a:lnTo>
                  <a:lnTo>
                    <a:pt x="2330" y="802"/>
                  </a:lnTo>
                  <a:lnTo>
                    <a:pt x="2367" y="796"/>
                  </a:lnTo>
                  <a:lnTo>
                    <a:pt x="2404" y="790"/>
                  </a:lnTo>
                  <a:lnTo>
                    <a:pt x="2438" y="780"/>
                  </a:lnTo>
                  <a:lnTo>
                    <a:pt x="2472" y="774"/>
                  </a:lnTo>
                  <a:lnTo>
                    <a:pt x="2509" y="768"/>
                  </a:lnTo>
                  <a:lnTo>
                    <a:pt x="2540" y="759"/>
                  </a:lnTo>
                  <a:lnTo>
                    <a:pt x="2574" y="753"/>
                  </a:lnTo>
                  <a:lnTo>
                    <a:pt x="2608" y="743"/>
                  </a:lnTo>
                  <a:lnTo>
                    <a:pt x="2639" y="737"/>
                  </a:lnTo>
                  <a:lnTo>
                    <a:pt x="2673" y="728"/>
                  </a:lnTo>
                  <a:lnTo>
                    <a:pt x="2703" y="719"/>
                  </a:lnTo>
                  <a:lnTo>
                    <a:pt x="2734" y="712"/>
                  </a:lnTo>
                  <a:lnTo>
                    <a:pt x="2762" y="703"/>
                  </a:lnTo>
                  <a:lnTo>
                    <a:pt x="2762" y="0"/>
                  </a:lnTo>
                  <a:close/>
                </a:path>
              </a:pathLst>
            </a:custGeom>
            <a:solidFill>
              <a:srgbClr val="808066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64"/>
            <p:cNvSpPr/>
            <p:nvPr/>
          </p:nvSpPr>
          <p:spPr>
            <a:xfrm>
              <a:off x="3672000" y="3522600"/>
              <a:ext cx="1936440" cy="423000"/>
            </a:xfrm>
            <a:custGeom>
              <a:avLst/>
              <a:gdLst/>
              <a:ahLst/>
              <a:rect l="l" t="t" r="r" b="b"/>
              <a:pathLst>
                <a:path w="2762" h="661">
                  <a:moveTo>
                    <a:pt x="2762" y="442"/>
                  </a:moveTo>
                  <a:lnTo>
                    <a:pt x="2762" y="442"/>
                  </a:lnTo>
                  <a:lnTo>
                    <a:pt x="2734" y="451"/>
                  </a:lnTo>
                  <a:lnTo>
                    <a:pt x="2703" y="457"/>
                  </a:lnTo>
                  <a:lnTo>
                    <a:pt x="2673" y="466"/>
                  </a:lnTo>
                  <a:lnTo>
                    <a:pt x="2639" y="476"/>
                  </a:lnTo>
                  <a:lnTo>
                    <a:pt x="2608" y="482"/>
                  </a:lnTo>
                  <a:lnTo>
                    <a:pt x="2574" y="491"/>
                  </a:lnTo>
                  <a:lnTo>
                    <a:pt x="2540" y="497"/>
                  </a:lnTo>
                  <a:lnTo>
                    <a:pt x="2509" y="506"/>
                  </a:lnTo>
                  <a:lnTo>
                    <a:pt x="2472" y="513"/>
                  </a:lnTo>
                  <a:lnTo>
                    <a:pt x="2438" y="519"/>
                  </a:lnTo>
                  <a:lnTo>
                    <a:pt x="2404" y="528"/>
                  </a:lnTo>
                  <a:lnTo>
                    <a:pt x="2367" y="534"/>
                  </a:lnTo>
                  <a:lnTo>
                    <a:pt x="2330" y="540"/>
                  </a:lnTo>
                  <a:lnTo>
                    <a:pt x="2293" y="547"/>
                  </a:lnTo>
                  <a:lnTo>
                    <a:pt x="2256" y="553"/>
                  </a:lnTo>
                  <a:lnTo>
                    <a:pt x="2219" y="559"/>
                  </a:lnTo>
                  <a:lnTo>
                    <a:pt x="2183" y="565"/>
                  </a:lnTo>
                  <a:lnTo>
                    <a:pt x="2146" y="571"/>
                  </a:lnTo>
                  <a:lnTo>
                    <a:pt x="2105" y="577"/>
                  </a:lnTo>
                  <a:lnTo>
                    <a:pt x="2065" y="584"/>
                  </a:lnTo>
                  <a:lnTo>
                    <a:pt x="2025" y="587"/>
                  </a:lnTo>
                  <a:lnTo>
                    <a:pt x="1988" y="593"/>
                  </a:lnTo>
                  <a:lnTo>
                    <a:pt x="1948" y="599"/>
                  </a:lnTo>
                  <a:lnTo>
                    <a:pt x="1905" y="602"/>
                  </a:lnTo>
                  <a:lnTo>
                    <a:pt x="1865" y="608"/>
                  </a:lnTo>
                  <a:lnTo>
                    <a:pt x="1825" y="611"/>
                  </a:lnTo>
                  <a:lnTo>
                    <a:pt x="1782" y="617"/>
                  </a:lnTo>
                  <a:lnTo>
                    <a:pt x="1742" y="621"/>
                  </a:lnTo>
                  <a:lnTo>
                    <a:pt x="1699" y="624"/>
                  </a:lnTo>
                  <a:lnTo>
                    <a:pt x="1659" y="627"/>
                  </a:lnTo>
                  <a:lnTo>
                    <a:pt x="1615" y="630"/>
                  </a:lnTo>
                  <a:lnTo>
                    <a:pt x="1572" y="633"/>
                  </a:lnTo>
                  <a:lnTo>
                    <a:pt x="1529" y="636"/>
                  </a:lnTo>
                  <a:lnTo>
                    <a:pt x="1486" y="639"/>
                  </a:lnTo>
                  <a:lnTo>
                    <a:pt x="1443" y="642"/>
                  </a:lnTo>
                  <a:lnTo>
                    <a:pt x="1400" y="645"/>
                  </a:lnTo>
                  <a:lnTo>
                    <a:pt x="1357" y="648"/>
                  </a:lnTo>
                  <a:lnTo>
                    <a:pt x="1313" y="648"/>
                  </a:lnTo>
                  <a:lnTo>
                    <a:pt x="1270" y="651"/>
                  </a:lnTo>
                  <a:lnTo>
                    <a:pt x="1224" y="655"/>
                  </a:lnTo>
                  <a:lnTo>
                    <a:pt x="1181" y="655"/>
                  </a:lnTo>
                  <a:lnTo>
                    <a:pt x="1138" y="658"/>
                  </a:lnTo>
                  <a:lnTo>
                    <a:pt x="1091" y="658"/>
                  </a:lnTo>
                  <a:lnTo>
                    <a:pt x="1048" y="658"/>
                  </a:lnTo>
                  <a:lnTo>
                    <a:pt x="1005" y="658"/>
                  </a:lnTo>
                  <a:lnTo>
                    <a:pt x="959" y="661"/>
                  </a:lnTo>
                  <a:lnTo>
                    <a:pt x="916" y="661"/>
                  </a:lnTo>
                  <a:lnTo>
                    <a:pt x="870" y="661"/>
                  </a:lnTo>
                  <a:lnTo>
                    <a:pt x="826" y="661"/>
                  </a:lnTo>
                  <a:lnTo>
                    <a:pt x="780" y="661"/>
                  </a:lnTo>
                  <a:lnTo>
                    <a:pt x="737" y="658"/>
                  </a:lnTo>
                  <a:lnTo>
                    <a:pt x="694" y="658"/>
                  </a:lnTo>
                  <a:lnTo>
                    <a:pt x="648" y="658"/>
                  </a:lnTo>
                  <a:lnTo>
                    <a:pt x="604" y="658"/>
                  </a:lnTo>
                  <a:lnTo>
                    <a:pt x="561" y="655"/>
                  </a:lnTo>
                  <a:lnTo>
                    <a:pt x="515" y="655"/>
                  </a:lnTo>
                  <a:lnTo>
                    <a:pt x="472" y="651"/>
                  </a:lnTo>
                  <a:lnTo>
                    <a:pt x="429" y="648"/>
                  </a:lnTo>
                  <a:lnTo>
                    <a:pt x="386" y="648"/>
                  </a:lnTo>
                  <a:lnTo>
                    <a:pt x="339" y="645"/>
                  </a:lnTo>
                  <a:lnTo>
                    <a:pt x="296" y="642"/>
                  </a:lnTo>
                  <a:lnTo>
                    <a:pt x="253" y="639"/>
                  </a:lnTo>
                  <a:lnTo>
                    <a:pt x="210" y="636"/>
                  </a:lnTo>
                  <a:lnTo>
                    <a:pt x="167" y="633"/>
                  </a:lnTo>
                  <a:lnTo>
                    <a:pt x="127" y="630"/>
                  </a:lnTo>
                  <a:lnTo>
                    <a:pt x="84" y="627"/>
                  </a:lnTo>
                  <a:lnTo>
                    <a:pt x="40" y="624"/>
                  </a:lnTo>
                  <a:lnTo>
                    <a:pt x="0" y="621"/>
                  </a:lnTo>
                  <a:lnTo>
                    <a:pt x="870" y="0"/>
                  </a:lnTo>
                  <a:lnTo>
                    <a:pt x="2762" y="442"/>
                  </a:lnTo>
                  <a:close/>
                </a:path>
              </a:pathLst>
            </a:custGeom>
            <a:solidFill>
              <a:srgbClr val="ffffcc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65"/>
            <p:cNvSpPr/>
            <p:nvPr/>
          </p:nvSpPr>
          <p:spPr>
            <a:xfrm>
              <a:off x="4176000" y="1834560"/>
              <a:ext cx="313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56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66"/>
            <p:cNvSpPr/>
            <p:nvPr/>
          </p:nvSpPr>
          <p:spPr>
            <a:xfrm>
              <a:off x="5409360" y="2865240"/>
              <a:ext cx="54000" cy="49320"/>
            </a:xfrm>
            <a:prstGeom prst="rect">
              <a:avLst/>
            </a:prstGeom>
            <a:solidFill>
              <a:srgbClr val="9999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67"/>
            <p:cNvSpPr/>
            <p:nvPr/>
          </p:nvSpPr>
          <p:spPr>
            <a:xfrm>
              <a:off x="5487120" y="2841840"/>
              <a:ext cx="33264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3,44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68"/>
            <p:cNvSpPr/>
            <p:nvPr/>
          </p:nvSpPr>
          <p:spPr>
            <a:xfrm>
              <a:off x="6471000" y="3931560"/>
              <a:ext cx="53640" cy="48960"/>
            </a:xfrm>
            <a:prstGeom prst="rect">
              <a:avLst/>
            </a:prstGeom>
            <a:solidFill>
              <a:srgbClr val="9933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69"/>
            <p:cNvSpPr/>
            <p:nvPr/>
          </p:nvSpPr>
          <p:spPr>
            <a:xfrm>
              <a:off x="6548760" y="3907800"/>
              <a:ext cx="33300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6,73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70"/>
            <p:cNvSpPr/>
            <p:nvPr/>
          </p:nvSpPr>
          <p:spPr>
            <a:xfrm>
              <a:off x="4692240" y="4440960"/>
              <a:ext cx="54000" cy="48960"/>
            </a:xfrm>
            <a:prstGeom prst="rect">
              <a:avLst/>
            </a:prstGeom>
            <a:solidFill>
              <a:srgbClr val="ffffcc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71"/>
            <p:cNvSpPr/>
            <p:nvPr/>
          </p:nvSpPr>
          <p:spPr>
            <a:xfrm>
              <a:off x="4770000" y="4417200"/>
              <a:ext cx="33264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6,61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72"/>
            <p:cNvSpPr/>
            <p:nvPr/>
          </p:nvSpPr>
          <p:spPr>
            <a:xfrm>
              <a:off x="2030040" y="4259160"/>
              <a:ext cx="54000" cy="4968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73"/>
            <p:cNvSpPr/>
            <p:nvPr/>
          </p:nvSpPr>
          <p:spPr>
            <a:xfrm>
              <a:off x="2107800" y="4235400"/>
              <a:ext cx="33300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8,11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74"/>
            <p:cNvSpPr/>
            <p:nvPr/>
          </p:nvSpPr>
          <p:spPr>
            <a:xfrm>
              <a:off x="1517400" y="3268080"/>
              <a:ext cx="54360" cy="48960"/>
            </a:xfrm>
            <a:prstGeom prst="rect">
              <a:avLst/>
            </a:prstGeom>
            <a:solidFill>
              <a:srgbClr val="6600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75"/>
            <p:cNvSpPr/>
            <p:nvPr/>
          </p:nvSpPr>
          <p:spPr>
            <a:xfrm>
              <a:off x="1595160" y="3244320"/>
              <a:ext cx="33300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0,40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76"/>
            <p:cNvSpPr/>
            <p:nvPr/>
          </p:nvSpPr>
          <p:spPr>
            <a:xfrm>
              <a:off x="2721240" y="2839680"/>
              <a:ext cx="54000" cy="48960"/>
            </a:xfrm>
            <a:prstGeom prst="rect">
              <a:avLst/>
            </a:prstGeom>
            <a:solidFill>
              <a:srgbClr val="ff8080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77"/>
            <p:cNvSpPr/>
            <p:nvPr/>
          </p:nvSpPr>
          <p:spPr>
            <a:xfrm>
              <a:off x="2799000" y="2816280"/>
              <a:ext cx="33300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4,44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8"/>
            <p:cNvSpPr/>
            <p:nvPr/>
          </p:nvSpPr>
          <p:spPr>
            <a:xfrm>
              <a:off x="1057680" y="5238720"/>
              <a:ext cx="6229800" cy="125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79"/>
            <p:cNvSpPr/>
            <p:nvPr/>
          </p:nvSpPr>
          <p:spPr>
            <a:xfrm>
              <a:off x="1085760" y="5276520"/>
              <a:ext cx="53640" cy="48960"/>
            </a:xfrm>
            <a:prstGeom prst="rect">
              <a:avLst/>
            </a:prstGeom>
            <a:solidFill>
              <a:srgbClr val="9999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80"/>
            <p:cNvSpPr/>
            <p:nvPr/>
          </p:nvSpPr>
          <p:spPr>
            <a:xfrm>
              <a:off x="1163520" y="5254920"/>
              <a:ext cx="9637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999 – 2000 г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81"/>
            <p:cNvSpPr/>
            <p:nvPr/>
          </p:nvSpPr>
          <p:spPr>
            <a:xfrm>
              <a:off x="2103480" y="5276520"/>
              <a:ext cx="54000" cy="48960"/>
            </a:xfrm>
            <a:prstGeom prst="rect">
              <a:avLst/>
            </a:prstGeom>
            <a:solidFill>
              <a:srgbClr val="9933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82"/>
            <p:cNvSpPr/>
            <p:nvPr/>
          </p:nvSpPr>
          <p:spPr>
            <a:xfrm>
              <a:off x="2181600" y="5254920"/>
              <a:ext cx="96876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0  - 2001 г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83"/>
            <p:cNvSpPr/>
            <p:nvPr/>
          </p:nvSpPr>
          <p:spPr>
            <a:xfrm>
              <a:off x="3153960" y="5276520"/>
              <a:ext cx="54000" cy="48960"/>
            </a:xfrm>
            <a:prstGeom prst="rect">
              <a:avLst/>
            </a:prstGeom>
            <a:solidFill>
              <a:srgbClr val="ffffcc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84"/>
            <p:cNvSpPr/>
            <p:nvPr/>
          </p:nvSpPr>
          <p:spPr>
            <a:xfrm>
              <a:off x="3231720" y="5254920"/>
              <a:ext cx="96876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1 -  2002 г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85"/>
            <p:cNvSpPr/>
            <p:nvPr/>
          </p:nvSpPr>
          <p:spPr>
            <a:xfrm>
              <a:off x="4178160" y="5276520"/>
              <a:ext cx="53640" cy="4896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86"/>
            <p:cNvSpPr/>
            <p:nvPr/>
          </p:nvSpPr>
          <p:spPr>
            <a:xfrm>
              <a:off x="4255920" y="5254920"/>
              <a:ext cx="96408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2 – 2003 г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87"/>
            <p:cNvSpPr/>
            <p:nvPr/>
          </p:nvSpPr>
          <p:spPr>
            <a:xfrm>
              <a:off x="5195520" y="5276520"/>
              <a:ext cx="54000" cy="48960"/>
            </a:xfrm>
            <a:prstGeom prst="rect">
              <a:avLst/>
            </a:prstGeom>
            <a:solidFill>
              <a:srgbClr val="6600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88"/>
            <p:cNvSpPr/>
            <p:nvPr/>
          </p:nvSpPr>
          <p:spPr>
            <a:xfrm>
              <a:off x="5273280" y="5254920"/>
              <a:ext cx="9961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3 -  2004 г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89"/>
            <p:cNvSpPr/>
            <p:nvPr/>
          </p:nvSpPr>
          <p:spPr>
            <a:xfrm>
              <a:off x="6245640" y="5276520"/>
              <a:ext cx="54000" cy="48960"/>
            </a:xfrm>
            <a:prstGeom prst="rect">
              <a:avLst/>
            </a:prstGeom>
            <a:solidFill>
              <a:srgbClr val="ff8080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90"/>
            <p:cNvSpPr/>
            <p:nvPr/>
          </p:nvSpPr>
          <p:spPr>
            <a:xfrm>
              <a:off x="6323760" y="5254920"/>
              <a:ext cx="9961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4 -  2005 г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191"/>
          <p:cNvSpPr/>
          <p:nvPr/>
        </p:nvSpPr>
        <p:spPr>
          <a:xfrm>
            <a:off x="1042920" y="616572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2"/>
          <p:cNvSpPr/>
          <p:nvPr/>
        </p:nvSpPr>
        <p:spPr>
          <a:xfrm>
            <a:off x="1606320" y="5824440"/>
            <a:ext cx="545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заболеваемость ежегодно выше 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Динамика  заболеваний подро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6900840" cy="46720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1248840" y="5969160"/>
            <a:ext cx="776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1997 г. среди подростков зафиксированы новообразования, 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брокачественно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6. Результаты микроисследования</a:t>
            </a:r>
            <a:br>
              <a:rPr sz="2000"/>
            </a:b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 «Здоровье   ученика   в режиме дня школы»</a:t>
            </a:r>
            <a:br>
              <a:rPr sz="2000"/>
            </a:b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по П.И. Третьякову</a:t>
            </a: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епень усталости учащихся 11 кл на уроках</a:t>
            </a:r>
            <a:br>
              <a:rPr sz="1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604360" cy="514800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Соцопро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нькова М. Н. возраст 85 полных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стякова М. И. возраст 8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лина     А.И. возраст 82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Вопрос «Ваше отношение  к культуре питания, к труд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рвью(стиль не изменен): «Соблюдаем пост в течение 15 лет. Отказ от мясных и молочных блюд, только по средам и пятницам.    Пища должна быть здоровой: каши,  картофель, борщ,   квас, овощи, к  «заморским фруктам» равнодушны. В праздник можно позволить себе рюмку вина. Никогда  не курили. Сейчас вкус хлеба не такой. До сих пор  работоспособны.  Трудиться начали в 12 лет. Любим песни, можем и сейчас спеть «тяглую  песнь» . Хорошо помним события своей жизн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а долголетия: наши деды были здоровы и росли на здоровой земле и свежем воздух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ный Барри Коммонер сформулировал закон экологии “Все связано со всем”, т.е. нарушение любого звена приближает гибель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Увы, гипотеза верн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336600"/>
                </a:solidFill>
                <a:latin typeface="Times New Roman"/>
              </a:rPr>
              <a:t>авария на Чернобыльской АЭС повлияла на состояние окружающей  среды, здоровье животных и человека в моем селе Отъя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диоктивное  загрязнение  внешней среды «Госатомиздат» 1985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ормация об аварии  на Чернобыльской  АЭС  и ее последствия подготовленная для МАГЕТЕ – М. Атомная энергия -1982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 биология учебник  для 10-11 классов с углубленным  изучением  биологии в школе – под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дакцией  В. К. Шумного, Г. М. Дымшица и О. В. Рувинского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сква «Просвещение»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алитические  данные радионуклеотидной  лаборатории областной СЭС г Тамбова 2006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храна природы В. М. Константинов «Охрана  природы Москва АСАДЕИА 2000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ология. Общая, социальная, прикладная. Н. А. Воронков «Агар» Москва 2000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Нельзя  допустить, чтобы  люди  направили  на  свое  собств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уничтожение  те  силы  природы, которые  они сумели откры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и покор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                                                                                   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Ф. Жолио  -Кю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babycrawling"/>
          <p:cNvPicPr/>
          <p:nvPr/>
        </p:nvPicPr>
        <p:blipFill>
          <a:blip r:embed="rId1"/>
          <a:stretch/>
        </p:blipFill>
        <p:spPr>
          <a:xfrm>
            <a:off x="1403280" y="3429000"/>
            <a:ext cx="1944720" cy="2362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32000" y="1412640"/>
            <a:ext cx="421164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95280" y="1844640"/>
            <a:ext cx="828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вляются ли наши заболевания следствием загрязнения окружающей сред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36600"/>
                </a:solidFill>
                <a:uFillTx/>
                <a:latin typeface="Arial"/>
              </a:rPr>
              <a:t>Гипотез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вария на Чернобыльской АЭС повлияла на состояние окружающей  среды, здоровье животных и человека в моем селе Отъя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900000" y="2924280"/>
            <a:ext cx="7128000" cy="36734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243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160" y="1052280"/>
            <a:ext cx="841212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ыяснение влияния факторов окружающей   сре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состояние здоровья человека в родном се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информационные источники о последствиях Чернобыльской АЭ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результаты исследований радионуклеотидной лаборатории г.Тамбова проб почвы, воды, грибов, картофеля нашей мест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статистические данные, полученные в вет.стан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статистические данные медосмотра учащихся нашей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сти микроисследование с учащимися по Третьякову П.И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результаты соцопроса долгожителей нашего се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бщить результаты и сделать вы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6607080" y="2584440"/>
            <a:ext cx="127080" cy="217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6027840" y="3940200"/>
            <a:ext cx="1282680" cy="21859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Ход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анализировать информационные источники по аварии на Чернобыльской АЭС и составить карту распространения обл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Взять проб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ды водопроводной и из источника Мамонтова пусты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вы с разных участков се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ртофеля с разных приусадебных участ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ибов из леса рядом с се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 Исследовать взятые пробы на нахождению цезия и стронция в радионуклеотидной лаборатории г.Тамбова, а затем проанализировать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Обработать данные ветстанции по лейкозу КРС в селе Отъяссы по г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Провести обработку статистических данных медосмотра учащихся нашей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Проанализировать мониторинг состояния здоровья учащихся по г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Провести микроисследование «Здоровье ученика в режиме дня школы» (П.И. Третья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Провести соц.опрос долгожителей нашего се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Результаты исследов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Испытания  на  ядерном  семипалатинском  полигоне, превратили многие  районы  России  в  зоны  радиационного  загряз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иновала чаша  сия и наш  Сосновский  район. Злополучное облако нанесло огромный  вред природе  и здоровью 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картинка к проекту"/>
          <p:cNvPicPr/>
          <p:nvPr/>
        </p:nvPicPr>
        <p:blipFill>
          <a:blip r:embed="rId1"/>
          <a:stretch/>
        </p:blipFill>
        <p:spPr>
          <a:xfrm>
            <a:off x="1116000" y="2997360"/>
            <a:ext cx="6335640" cy="35272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Arial"/>
              </a:rPr>
              <a:t>2. Анализ про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монтова пусты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ятое оз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4"/>
          <p:cNvPicPr/>
          <p:nvPr/>
        </p:nvPicPr>
        <p:blipFill>
          <a:blip r:embed="rId1"/>
          <a:stretch/>
        </p:blipFill>
        <p:spPr>
          <a:xfrm>
            <a:off x="539640" y="3860640"/>
            <a:ext cx="3672000" cy="2737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5"/>
          <p:cNvPicPr/>
          <p:nvPr/>
        </p:nvPicPr>
        <p:blipFill>
          <a:blip r:embed="rId2"/>
          <a:stretch/>
        </p:blipFill>
        <p:spPr>
          <a:xfrm>
            <a:off x="4211640" y="1052640"/>
            <a:ext cx="4932360" cy="3352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122"/>
          <p:cNvPicPr/>
          <p:nvPr/>
        </p:nvPicPr>
        <p:blipFill>
          <a:blip r:embed="rId3"/>
          <a:stretch/>
        </p:blipFill>
        <p:spPr>
          <a:xfrm>
            <a:off x="6119640" y="3473280"/>
            <a:ext cx="3024360" cy="33847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6:04:02Z</dcterms:created>
  <dc:creator>user</dc:creator>
  <dc:description>it-n.ru</dc:description>
  <dc:language>en-US</dc:language>
  <cp:lastModifiedBy>LEGION</cp:lastModifiedBy>
  <dcterms:modified xsi:type="dcterms:W3CDTF">2015-05-06T08:02:27Z</dcterms:modified>
  <cp:revision>75</cp:revision>
  <dc:subject/>
  <dc:title>Здоровье люд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03000000000001024140</vt:lpwstr>
  </property>
</Properties>
</file>