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BEE8-7F03-4F82-B228-7AD92D4EDD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ии и псих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одаватель: к.филос.наук, доцен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евченко Елена 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F4D9-31DA-4DFA-A040-60C025D8A3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Римский клуб и исследование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Глобальные пробле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мографический кризи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кономический кризи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енная оп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Римский клуб – неформальная организация ученых, вперв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применивших метод математического моделирования к исследованию социально-экологических процесс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здан в 60-е годы ХХ 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6F95-F1DB-4469-9DB7-4FEBECFA11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«Пределы роста» - первый доклад Римскому клуб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остроение динамичной модели мир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f2bec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ные данные – население, капиталовложения, земное пространство, использование природных ресурсов и загрязн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огноз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сохранении темпов экономики и роста народонаселения человечество придет к глобальной экологической катастрофе в конц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отказ от идеологии потреби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BE5E-E6E3-43BF-A7C8-E6EBE2F2B6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Военная опасность и альтернативная циви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Использование оружия массового поражен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ет быть спровоцировано нарастающим экономическим неравен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Альтернативная цивилизация 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– </a:t>
            </a:r>
            <a:r>
              <a:rPr b="0" lang="ru-RU" sz="1100" spc="-1" strike="noStrike">
                <a:solidFill>
                  <a:srgbClr val="009999"/>
                </a:solidFill>
                <a:latin typeface="Arial"/>
              </a:rPr>
              <a:t>это цивилизация низкоэнергетическая, экологически чистая, полностью демилитаризованная, подлинно человеческа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F5EE-AD62-414E-8E58-50ACD23FF5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иобретенные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различных типов философских позиций в понимании взаимоотношений общества и прир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различных фактов и причин глобальных пробл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множества современных сценариев будущ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степени сложности тех проблем, с которыми столкнулось человечеств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философских систем, которые стоят за разнообразными сценариями будущего развития челове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7DF9-F9A0-4F16-9D3D-2DB117AD52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Вопросы для самопровер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биосфера и ноосфера, кем были введены эти понятия и поч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оотносятся понятия географическая среда и приро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исследования проводились Римским клубо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ы возможные выходы из кризис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оизведите суть прогнозов оптимистического и пессимистического сценариев будущего развития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C8EA-6C39-46D9-886C-961F90A0B5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Задания для самопровер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Ответить на вопросы те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оосфера –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динение человечества в единую мировую систем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ера господства разу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глобального моделирования окруж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обализация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20aa"/>
                </a:solidFill>
                <a:latin typeface="Arial"/>
              </a:rPr>
              <a:t>К глобальным проблемам относ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убка тропических ле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мографическая пробле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ое неравен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щение минеральных ресур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792C-7CE2-4671-8080-436787376F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Рекомендуем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рулин В.С. Социальная философия. - М.,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знецов В.Г., Кузнецова И.Д, Миронов В.В., Момджян К.Х. Философия. – М.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кий словар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д ред. И.Т. Фролова. – М.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Бестужев-Лада И.В. Альтернативная цивилизация. – М.,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Аксенов Г.П. Вернадский. – М., 199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Глазачев С.Н., Козлова О.Н. Экологическая культура. – М.,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Семенов В.С. Уроки ХХ века и путь в Х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социально-философский анализ и прогноз). – М.,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75A4-372F-44F6-BE9B-69BC13ECA6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4D05-81F3-4D51-804D-2FF5CCA2A6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лан ле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ирода и об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сфера и ноосф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графическая среда и географический детермин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Экологический и демографический кризис как глобальные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Сущность современной экологической ситу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Римский клуб – неформальная организация уче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«Пределы рост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Военная оп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Альтернативная циви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F15D-4777-4C00-AD4D-5EB000FBA1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 Narrow"/>
              </a:rPr>
              <a:t>Требования к знаниям, умениям и навы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личных типов философских позиций в понимании взаимоотношений общества и прир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связи философии и глобалистики и футур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в  и причин глобальных пробл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Умения и навы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ность самостоятельного анализа современных соци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иентироваться в современных сценариях миров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ять полученные знания в своей профессиональ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7BC0-8E55-4583-9492-F5F2A632BE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 Narrow"/>
              </a:rPr>
              <a:t>Материал для восстановления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ля подготовки к теме «Философия глобальных проблем» необходимо повторить основные проблемы по темам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гмат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ия Нового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льтура и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о как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BE75-C2B8-418B-9D7D-9C7B420073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евые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ый матери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самопровер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мендуем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BFF6-D4C1-4D87-B30A-F5383248B0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лючевые пон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ьтернативная циви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обал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обальные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эволю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осф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ы ро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мский клу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ий императи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77CF-63FB-4EAF-B3D2-8847431186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Общество и при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ирода – совокупность естественных условий существования человека и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о – обособившаяся часть природы, являющаяся условием и продуктом человече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человеком и обществом происходит своеобразный «обмен веществ», который является необходимым условием существования человека и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йчас протекает процесс перехода оболочки планеты-биосферы в новое геологическое состояние – ноосферу, то есть область, преобразованную разумом и трудом человека сообразно целям и потребностям (В.И.Вернадский, Т.де Шарде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4C98-2C3D-4275-A87C-FA0FFED37F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Географическая ср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Географическая среда – та часть природы, которая включена в непосредственную деятельность людей на данном историческом отрез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ля развития общества имеет значение как неживая, так и живая природа (биосфера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Географический детерминизм – представление о том, что именно географическая среда полностью определяет развитие общ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го представителями были французские просветители и историки (Ш.Монтескье, А.Тюрго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Х в. стало понятно, что теория предлагала упрощенный подход к общественному развит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6B05-A13E-4BDB-A1D1-B4CECAD992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Экологический кризис как глобальная пробл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Экологический кризис – тип экологической ситуации, характеризующийся нарушением динамического равновесия систем «общество-приро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й кризис носит цивилизационный харак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порожден всем ходом цивилизационн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Сущность современной экологической ситу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е истощение природных ресур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е окружающей природно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 увеличивается численность нас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289B-6E59-45FC-9392-205FDD149F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2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5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>
            <a:off x="324000" y="400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324000" y="3159000"/>
            <a:ext cx="8496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Философия глобальных пробл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ии и псих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подаватель: к.филос.наук, доце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евченко Елена Слав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324000" y="422100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сех специаль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Римский клуб и исследование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8775-56FB-4D79-AE66-B971F80EF0CA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24000" y="1413000"/>
          <a:ext cx="6119640" cy="4790880"/>
        </p:xfrm>
        <a:graphic>
          <a:graphicData uri="http://schemas.openxmlformats.org/drawingml/2006/table">
            <a:tbl>
              <a:tblPr/>
              <a:tblGrid>
                <a:gridCol w="6119640"/>
              </a:tblGrid>
              <a:tr h="4804920">
                <a:tc>
                  <a:txBody>
                    <a:bodyPr lIns="72000" rIns="0" tIns="36000" bIns="36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f2bec"/>
                          </a:solidFill>
                          <a:latin typeface="Arial"/>
                        </a:rPr>
                        <a:t>Глобальные проблем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логическая катастроф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мографический кризи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ческий кризи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енная опа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f2bec"/>
                          </a:solidFill>
                          <a:latin typeface="Arial"/>
                        </a:rPr>
                        <a:t>Римский клуб – неформальная организация ученых, впервы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f2bec"/>
                          </a:solidFill>
                          <a:latin typeface="Arial"/>
                        </a:rPr>
                        <a:t>применивших метод математического моделирования к исследованию социально-экологических процессов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 в 60-е годы ХХ век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строение динамичной модели ми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2bec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ходные данные – население, капиталовложения, земное пространство, использование природных ресурсов и загрязн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огноз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сохранении темпов экономики и роста народонаселения человечество придет к глобальной экологической катастрофе в конц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ыход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тказ от идеологии потреби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«Пределы роста» - первый доклад Римскому клуб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0AE4-F4E4-45FF-8090-7EFDBBAFE6A3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8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1" descr="cvalka"/>
          <p:cNvPicPr/>
          <p:nvPr/>
        </p:nvPicPr>
        <p:blipFill>
          <a:blip r:embed="rId1"/>
          <a:stretch/>
        </p:blipFill>
        <p:spPr>
          <a:xfrm>
            <a:off x="287280" y="1484280"/>
            <a:ext cx="4068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2bec"/>
                </a:solidFill>
                <a:latin typeface="Arial"/>
              </a:rPr>
              <a:t>Использование оружия массового пораж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быть спровоцировано нарастающим экономическим неравен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2bec"/>
                </a:solidFill>
                <a:latin typeface="Arial"/>
              </a:rPr>
              <a:t>Альтернативная цивилизац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цивилизация низкоэнергетическая, экологически чистая, полностью демилитаризованная, подлинно человеческ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Военная опасность и альтернативная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900C-D1DC-4763-BED3-F05C341E335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9" descr="cdfdg"/>
          <p:cNvPicPr/>
          <p:nvPr/>
        </p:nvPicPr>
        <p:blipFill>
          <a:blip r:embed="rId1"/>
          <a:stretch/>
        </p:blipFill>
        <p:spPr>
          <a:xfrm>
            <a:off x="431640" y="1268280"/>
            <a:ext cx="38419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риобретенные зн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D66F-8C84-4A57-8A00-DF7A6A48DBE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различных типов философских позиций в понимании взаимоотношений общества и при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различных фактов и причин глобальных пробл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множества современных сценариев будущ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степени сложности тех проблем, с которыми столкнулось человечест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философских систем, которые стоят за разнообразными сценариями будущего развития челове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Вопросы для самопрове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8B6A-F89D-46F6-B9BA-8090C4092EC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 такое биосфера и ноосфера, кем были введены эти понятия и почему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 соотносятся понятия географическая среда и природ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ие исследования проводились Римским клубом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овы возможные выходы из кризис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спроизведите суть прогнозов оптимистического и пессимистического сценариев будущего развития общест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дания для самопрове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тветить на вопросы те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D7B96-4FEB-4D0A-A00D-6F906FAF0EA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оосфера –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динение человечества в единую мировую систем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ера господства разу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глобального моделирования окруж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обализация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20aa"/>
                </a:solidFill>
                <a:latin typeface="Arial"/>
              </a:rPr>
              <a:t>К глобальным проблемам относ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убка тропических ле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мографическая пробле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ое неравен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щение минеральных ресур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Рекомендуемая 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655D-936E-4D85-BF85-49EB770131D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рулин В.С. Социальная философия. - М.,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знецов В.Г., Кузнецова И.Д, Миронов В.В., Момджян К.Х. Философия. – М., 199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ский словар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д ред. И.Т. Фролова. – М.,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Бестужев-Лада И.В. Альтернативная цивилизация. – М., 19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Аксенов Г.П. Вернадский. – М., 19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Глазачев С.Н., Козлова О.Н. Экологическая культура. – М., 19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Семенов В.С. Уроки ХХ века и путь в Х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оциально-философский анализ и прогноз). – М.,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C315-E2A5-4540-B18B-B407C0EF695E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лан ле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7E5E-53A9-4F24-8B0F-39EAB724D74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рода и об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осфера и но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ографическая среда и географический детермин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Экологический и демографический кризис как глобальные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ность современной экологической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мский клуб – неформальная организация уче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ределы рос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енная 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ьтернативная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Narrow"/>
              </a:rPr>
              <a:t>Требования к знаниям, умениям и навык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78E0-55A6-44AD-8EDB-4D9FC914188E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личных типов философских позиций в понимании взаимоотношений общества и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освязи философии и глобалистики и футур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в  и причин глобальных пробл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мения и навы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ность самостоятельного анализа современных соци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иентироваться в современных сценариях миров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ять полученные знания в своей профессиона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Narrow"/>
              </a:rPr>
              <a:t>Материал для восстановления зна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FB81-5317-472D-BF5D-B2897A130BE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ля подготовки к теме «Философия глобальных проблем» необходимо повторить основные проблемы по темам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гмат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ия Нового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льтура и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о как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E1B7-4F03-4A6B-9DD8-D30A2986BE7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евые по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Ключевые по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FB11-50BB-46D2-A933-FDAC9DE8A49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ьтернативная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бали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бальные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эволю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елы ро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мский кл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й импера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бщество и при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5676-F305-4B63-823B-BB91F0926534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рода – совокупность естественных условий существования человека и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о – обособившаяся часть природы, являющаяся условием и продуктом человеческ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 человеком и обществом происходит своеобразный «обмен веществ», который является необходимым условием существования человека и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йчас протекает процесс перехода оболочки планеты-биосферы в новое геологическое состояние – ноосферу, то есть область, преобразованную разумом и трудом человека сообразно целям и потребностям (В.И.Вернадский, Т.де Шарде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324000" y="180828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4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Географический детерминизм – представление о том, что именно географическая среда полностью определяет развитие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представителями были французские просветители и историки (Ш.Монтескье, А.Тюрго и д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ХХ в. стало понятно, что теория предлагала упрощенный подход к общественному развит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Географическая среда – та часть природы, которая включена в непосредственную деятельность людей на данном историческом отрез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развития общества имеет значение как неживая, так и живая природа (биосфе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Географическая сре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A8CA-9F4E-4CF7-BB4B-2B5040CFF6E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2"/>
          <p:cNvSpPr/>
          <p:nvPr/>
        </p:nvSpPr>
        <p:spPr>
          <a:xfrm>
            <a:off x="324000" y="3860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24000" y="1413000"/>
            <a:ext cx="8496000" cy="234000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Экологический кризис – тип экологической ситуации, характеризующийся нарушением динамического равновесия систем «общество-приро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й кризис носит цивилизационный харак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порожден всем ходом цивилизационн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Экологический кризис как глобальная пробл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2CC7-61E3-4106-BBE2-6181C4B8DB2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24000" y="3968640"/>
            <a:ext cx="8496000" cy="234000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Сущность современной экологической ситу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е истощение природных ресур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е окружающей природно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 увеличивается численность нас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>study.vvsu.ru</dc:description>
  <dc:language>en-US</dc:language>
  <cp:lastModifiedBy>LEGION</cp:lastModifiedBy>
  <dcterms:modified xsi:type="dcterms:W3CDTF">2015-05-06T08:03:55Z</dcterms:modified>
  <cp:revision>151</cp:revision>
  <dc:subject/>
  <dc:title>Глобальные проблемы человече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03000000000001024140</vt:lpwstr>
  </property>
</Properties>
</file>