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A971-436D-40B5-B739-0AED334A6D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0422-C202-4950-8576-12A7057E05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логическая катастроф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мограф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кономический криз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Римский клуб – неформальная организация ученых, впер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применивших метод математического моделирования к исследованию социально-экологических процес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 в 60-е годы ХХ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9992-2988-40F2-AA81-9DDFBBEFD0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ход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0517-5F4D-4562-BCD6-7533C53FA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Альтернативная цивилизация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–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FEC7-D697-4004-BADA-8804C2209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49DF-19F3-4CF8-8FC5-A7E5C168E4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E9D9-30BD-47F5-89D3-C8454EDA9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A6D6-7922-4630-94DE-4E2755F65B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BCAB-D411-4B38-BCDC-B6FC3E5D74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60EE-DF9F-49DA-9C30-F5E5ACB8E9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Сущность современной экологической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«Пределы рос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Военная 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F2F7-158E-45C8-BB88-70220A69FF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6984-75F0-4E52-BB1D-4FBCDA905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9BCB-CFA9-42B1-BD9E-5935406C9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C9FF-963D-4552-87C1-0610004C1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6C34-50DD-450F-A592-430B61E449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741A-6A23-4F60-B3EE-34EDFD0CE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9A6A-B342-4071-AD54-6F53D97B7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F9FA-BA14-414C-AF9C-2976ED4D62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2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5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Философия глобальных проб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и и псих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тель: к.филос.наук, доц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вченко Елена Сла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всех специаль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имский клуб и исследование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5FC0-2376-448A-B399-C3A5EBC89BD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13000"/>
          <a:ext cx="6119640" cy="4790880"/>
        </p:xfrm>
        <a:graphic>
          <a:graphicData uri="http://schemas.openxmlformats.org/drawingml/2006/table">
            <a:tbl>
              <a:tblPr/>
              <a:tblGrid>
                <a:gridCol w="6119640"/>
              </a:tblGrid>
              <a:tr h="4804920">
                <a:tc>
                  <a:txBody>
                    <a:bodyPr lIns="72000" rIns="0" tIns="36000" bIns="36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Глобальные проблемы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ая катастро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мограф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ческий кризи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ая 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Римский клуб – неформальная организация ученых, впер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f2bec"/>
                          </a:solidFill>
                          <a:latin typeface="Arial"/>
                        </a:rPr>
                        <a:t>применивших метод математического моделирования к исследованию социально-экологических процессов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 в 60-е годы ХХ 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роение динамичной модели ми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ные данные – население, капиталовложения, земное пространство, использование природных ресурсов и загряз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огноз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хранении темпов экономики и роста народонаселения человечество придет к глобальной экологической катастрофе в конц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ыхо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каз от идеологии потреби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«Пределы роста» - первый доклад Римскому клуб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AB2-B605-44D3-85C8-94A21207BBE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cvalka"/>
          <p:cNvPicPr/>
          <p:nvPr/>
        </p:nvPicPr>
        <p:blipFill>
          <a:blip r:embed="rId1"/>
          <a:stretch/>
        </p:blipFill>
        <p:spPr>
          <a:xfrm>
            <a:off x="287280" y="1484280"/>
            <a:ext cx="4068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Использование оружия массового пораж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быть спровоцировано нарастающим экономически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f2bec"/>
                </a:solidFill>
                <a:latin typeface="Arial"/>
              </a:rPr>
              <a:t>Альтернативная цивилиза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цивилизация низкоэнергетическая, экологически чистая, полностью демилитаризованная, подлинно челове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оенная опасность и 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9FD9-14BE-4752-851F-7B6DAAC72EE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cdfdg"/>
          <p:cNvPicPr/>
          <p:nvPr/>
        </p:nvPicPr>
        <p:blipFill>
          <a:blip r:embed="rId1"/>
          <a:stretch/>
        </p:blipFill>
        <p:spPr>
          <a:xfrm>
            <a:off x="431640" y="1268280"/>
            <a:ext cx="38419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риобретенные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D083-E357-44EB-A6CB-F40FF5EEEC6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типов философских позиций в понимании взаимоотношений общества и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различных фактов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множества современных сценариев будущ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степени сложности тех проблем, с которыми столкнулось челове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ние философских систем, которые стоят за разнообразными сценариями будущего развития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опросы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746A-D2D3-4676-8003-32EBC0BDA1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такое биосфера и ноосфера, кем были введены эти понятия и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 соотносятся понятия географическая среда и природ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ие исследования проводились Римским клубом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вы возможные выходы из кризис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спроизведите суть прогнозов оптимистического и пессимистического сценариев будущего развития обще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75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дания для самопрове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тветить на вопросы т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2BAF-FF54-4A7E-A25D-B867E7BB100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оосфера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человечества в единую мировую систе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а господства разу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стема глобального моделирования окружающей сре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изац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20aa"/>
                </a:solidFill>
                <a:latin typeface="Arial"/>
              </a:rPr>
              <a:t>К глобальным проблемам относ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убка тропических ле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графическая пробл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ое неравен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249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щение минеральных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екомендуемая 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2ABA-C383-4362-B856-AEF64119139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улин В.С. Социальная философия. -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знецов В.Г., Кузнецова И.Д, Миронов В.В., Момджян К.Х. Философия. – М., 199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ский словар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д ред. И.Т. Фролова. – М.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Бестужев-Лада И.В. Альтернативная цивилизация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Аксенов Г.П. Вернадский. – М.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Глазачев С.Н., Козлова О.Н. Экологическая культура. – М.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Семенов В.С. Уроки ХХ века и путь в Х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оциально-философский анализ и прогноз). – М.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CB19-81AB-430E-A20E-560290097486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лан л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173F-2254-4187-B3FB-6D344D4E0A5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и об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осфера и 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графическая среда и географический детермин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и демографический кризис как 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ность современной экологическ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 – неформальная организация уче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еделы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енная 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Требования к знаниям, умениям и навы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5538-E056-43ED-927F-08B9A486845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ных типов философских позиций в понимании взаимоотношений общества и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заимосвязи философии и глобалистики и футур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в  и причин глобальных проб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мения и навы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ность самостоятельного анализа современных соци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иентироваться в современных сценариях миров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ть полученные знания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Narrow"/>
              </a:rPr>
              <a:t>Материал для восстановления зн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7A05-B839-4986-BB8A-F4806AB035B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одготовки к теме «Философия глобальных проблем» необходимо повторить основные проблемы по темам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гмат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лософия Нового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льтура и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80000"/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как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3FB4-0277-4E5F-BD98-D49C3EEA11A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ючевые по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Line 2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лючевые по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Философия глобальных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9975-674A-4536-A51F-63D71216FF6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ьтернативная цивил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об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эволю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елы ро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мский клу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импера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ество и 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2310-2D5F-45A0-9331-AD636C2F919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рода – совокупность естественных условий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ество – обособившаяся часть природы, являющаяся условием и продуктом челове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человеком и обществом происходит своеобразный «обмен веществ», который является необходимым условием существования человека 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текает процесс перехода оболочки планеты-биосферы в новое геологическое состояние – ноосферу, то есть область, преобразованную разумом и трудом человека сообразно целям и потребностям (В.И.Вернадский, Т.де Шард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324000" y="219240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324000" y="257652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324000" y="296064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324000" y="1808280"/>
            <a:ext cx="84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4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ий детерминизм – представление о том, что именно географическая среда полностью определяет развитие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едставителями были французские просветители и историки (Ш.Монтескье, А.Тюрг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Х в. стало понятно, что теория предлагала упрощенный подход к общественн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еографическая среда – та часть природы, которая включена в непосредственную деятельность людей на данном историческом отрез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звития общества имеет значение как неживая, так и живая природа (биосфе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Географическая ср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34A0-D002-488B-9F89-148DDDEFAE4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24000" y="141300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Экологический кризис – тип экологической ситуации, характеризующийся нарушением динамического равновесия систем «общество-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ий кризис носит цивилизационный х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порожден всем ходом цивилизационного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-25416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чебный матери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Экологический кризис как глобальная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29CB-B926-4285-8E07-24D4C3DBE28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968640"/>
            <a:ext cx="8496000" cy="234000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Сущность современной экологической ситу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е истощение природных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окружающей природ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о увеличивается численность нас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>study.vvsu.ru</dc:description>
  <dc:language>en-US</dc:language>
  <cp:lastModifiedBy>LEGION</cp:lastModifiedBy>
  <dcterms:modified xsi:type="dcterms:W3CDTF">2015-05-06T08:03:55Z</dcterms:modified>
  <cp:revision>151</cp:revision>
  <dc:subject/>
  <dc:title>Глобальные проблемы человече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3000000000001024140</vt:lpwstr>
  </property>
</Properties>
</file>