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80EB-6522-4D78-98A0-E707AA8161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9FBE-E665-4271-9BC7-DCEF626D6F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распространена в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овсемес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развитой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мышлен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высокой плотностью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6B5D-9D99-4405-96C8-5742EB7A87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0CFA-D67E-4044-AEB2-274A652CC8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ваш прогноз развития экологической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8C9D-20E9-45DF-97F3-8668E860CB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ЗНАКИ ПОНЯТИЯ «ГЛОБАЛЬНЫЕ ПРОБЛЕМЫ ЧЕЛОВЕЧЕСТВ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ГЛОБАЛЬНЫЕ ПРОБЛЕМЫ, ИХ СУЩ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МЕРЫ ПРОЯВЛЕНИЯ ЭКОЛОГИЧЕСКОЙ  ПРОБЛЕМЫ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РАСПРОСТРАНЁННОСТЬ ЭКОЛОГИЧЕСКОЙ ПРОБЛЕМЫ ПО СТРАНАМ И РЕГИОН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АГАТЬ ПУТИ РЕШЕНИЯ ЭКОЛОГИЧЕСКОЙ  ПРОБЛ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 ОБОСТРЕНИЕ ИЛИ ОСЛАБЛЕНИЕ ЭКОЛОГИЧЕСКОЙ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C3C0-18D1-41B1-8D1E-7FF98608E3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B5AA-8F15-4947-81A2-D25DB81779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глобальные проблемы называются глоб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проблемы затрагивают интересы не отдельных стран, 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го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шить эти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9EA8-8CFC-41B3-94E7-B63569D2B2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ырьева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170A-7A4D-40DC-A511-3878C9790F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облема взаимоотношений общества и природы, сохра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резко возросла нагрузка на окружающую среду во второй половине 20 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а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человек отравляются и погибают от пестицидов и других химик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00 человек умирают от отравленной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т кислотных дождей выпадает в северном полуша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330F-2F25-41F8-A137-8531FBE646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новные причины обострения экологической проблемы в последние десятиле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интенсивной индустриализации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ост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C84F-D7D9-47E8-99C0-F29385EAE3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основные причины загрязнения окружающей среды в порядке убы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97BB-4356-41F8-90B3-F04E1C5C40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проявляется в повседневной жизн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B2F3-1E28-46A5-AD4E-0BEEA2030A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13B-6636-4A42-A3A4-F6407B8E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09A-2873-4F0E-9AF0-C131B878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194-3FF1-40DA-8BBB-A9E51F0C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8CE-A2DD-4200-BA9E-B4F7F952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208D-7413-4B22-B01E-F29AC5DC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4735-DA79-4059-B9A4-70ECD6D5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078E-5F6A-47A5-B9AF-EF0FCFAC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5716-7C98-4B44-9A4E-D42042B1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4F14-F701-40E5-B9B8-E08F6EE3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BE49-74F5-4CE4-815D-4C4BA5BA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79C1-145D-4060-98C4-638584FF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A46-5BC6-4120-9DB0-023338A6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195D-ACE2-4E52-A802-C159E675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9AF4-B045-43BD-8677-AB45A538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7CE9-04E9-43C5-9BDC-2AA17C4B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E47E-B6F1-43CF-A9FA-25434FB0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8E0B-9283-40F2-8965-5DB09CFA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465-050D-4557-BE60-1BAC8B34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740-5F0A-4269-8662-7951A517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1DC-2189-454E-B863-2AD69FD9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F04-DC81-427F-B55B-0C832B7A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CA2-4537-4A4B-8AA8-FB4D022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459-A3F8-4F97-A32F-B059B8C4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F18-A793-4D13-8A59-23ADDEC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7819-C1FD-413B-B612-925B456764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3C2E-DCB8-4B11-8E70-B252332012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проблемы человече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 пробл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1"/>
          <p:cNvPicPr/>
          <p:nvPr/>
        </p:nvPicPr>
        <p:blipFill>
          <a:blip r:embed="rId1"/>
          <a:srcRect l="0" t="0" r="-8" b="13"/>
          <a:stretch/>
        </p:blipFill>
        <p:spPr>
          <a:xfrm>
            <a:off x="250920" y="1268280"/>
            <a:ext cx="8567640" cy="5110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экологическая проблема распространена в мир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ктически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овсемест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развитой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ромышленность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высокой плотностью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2916360" y="2060640"/>
            <a:ext cx="1920600" cy="1042920"/>
          </a:xfrm>
          <a:custGeom>
            <a:avLst/>
            <a:gdLst/>
            <a:ahLst/>
            <a:rect l="l" t="t" r="r" b="b"/>
            <a:pathLst>
              <a:path w="1210" h="657">
                <a:moveTo>
                  <a:pt x="477" y="15"/>
                </a:moveTo>
                <a:cubicBezTo>
                  <a:pt x="659" y="0"/>
                  <a:pt x="1104" y="98"/>
                  <a:pt x="1157" y="196"/>
                </a:cubicBezTo>
                <a:cubicBezTo>
                  <a:pt x="1210" y="294"/>
                  <a:pt x="922" y="551"/>
                  <a:pt x="794" y="604"/>
                </a:cubicBezTo>
                <a:cubicBezTo>
                  <a:pt x="666" y="657"/>
                  <a:pt x="499" y="529"/>
                  <a:pt x="386" y="514"/>
                </a:cubicBezTo>
                <a:cubicBezTo>
                  <a:pt x="273" y="499"/>
                  <a:pt x="167" y="552"/>
                  <a:pt x="114" y="514"/>
                </a:cubicBezTo>
                <a:cubicBezTo>
                  <a:pt x="61" y="476"/>
                  <a:pt x="0" y="370"/>
                  <a:pt x="68" y="287"/>
                </a:cubicBezTo>
                <a:cubicBezTo>
                  <a:pt x="136" y="204"/>
                  <a:pt x="295" y="30"/>
                  <a:pt x="477" y="15"/>
                </a:cubicBez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356000" y="2708280"/>
            <a:ext cx="1440000" cy="1081080"/>
          </a:xfrm>
          <a:custGeom>
            <a:avLst/>
            <a:gdLst/>
            <a:ahLst/>
            <a:rect l="l" t="t" r="r" b="b"/>
            <a:pathLst>
              <a:path w="1058" h="1036">
                <a:moveTo>
                  <a:pt x="604" y="83"/>
                </a:moveTo>
                <a:cubicBezTo>
                  <a:pt x="664" y="53"/>
                  <a:pt x="847" y="0"/>
                  <a:pt x="922" y="38"/>
                </a:cubicBezTo>
                <a:cubicBezTo>
                  <a:pt x="997" y="76"/>
                  <a:pt x="1058" y="219"/>
                  <a:pt x="1058" y="310"/>
                </a:cubicBezTo>
                <a:cubicBezTo>
                  <a:pt x="1058" y="401"/>
                  <a:pt x="990" y="484"/>
                  <a:pt x="922" y="582"/>
                </a:cubicBezTo>
                <a:cubicBezTo>
                  <a:pt x="854" y="680"/>
                  <a:pt x="771" y="840"/>
                  <a:pt x="650" y="900"/>
                </a:cubicBezTo>
                <a:cubicBezTo>
                  <a:pt x="529" y="960"/>
                  <a:pt x="294" y="1036"/>
                  <a:pt x="196" y="945"/>
                </a:cubicBezTo>
                <a:cubicBezTo>
                  <a:pt x="98" y="854"/>
                  <a:pt x="0" y="476"/>
                  <a:pt x="60" y="355"/>
                </a:cubicBezTo>
                <a:cubicBezTo>
                  <a:pt x="120" y="234"/>
                  <a:pt x="468" y="272"/>
                  <a:pt x="559" y="219"/>
                </a:cubicBezTo>
                <a:cubicBezTo>
                  <a:pt x="650" y="166"/>
                  <a:pt x="544" y="113"/>
                  <a:pt x="604" y="8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971640" y="2781000"/>
            <a:ext cx="266364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900000" y="3573360"/>
            <a:ext cx="3816360" cy="216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дложите пути решения экологической пробл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10" descr="Малоотходные процессы"/>
          <p:cNvPicPr/>
          <p:nvPr/>
        </p:nvPicPr>
        <p:blipFill>
          <a:blip r:embed="rId1"/>
          <a:stretch/>
        </p:blipFill>
        <p:spPr>
          <a:xfrm>
            <a:off x="611280" y="1600200"/>
            <a:ext cx="38894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Автомобили"/>
          <p:cNvPicPr/>
          <p:nvPr/>
        </p:nvPicPr>
        <p:blipFill>
          <a:blip r:embed="rId2"/>
          <a:stretch/>
        </p:blipFill>
        <p:spPr>
          <a:xfrm>
            <a:off x="539640" y="3933720"/>
            <a:ext cx="3961080" cy="251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Семьи африканских народов многодетны"/>
          <p:cNvPicPr/>
          <p:nvPr/>
        </p:nvPicPr>
        <p:blipFill>
          <a:blip r:embed="rId3"/>
          <a:stretch/>
        </p:blipFill>
        <p:spPr>
          <a:xfrm>
            <a:off x="4788000" y="3887640"/>
            <a:ext cx="3816360" cy="2565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losinmyself"/>
          <p:cNvPicPr/>
          <p:nvPr/>
        </p:nvPicPr>
        <p:blipFill>
          <a:blip r:embed="rId4"/>
          <a:stretch/>
        </p:blipFill>
        <p:spPr>
          <a:xfrm>
            <a:off x="4788000" y="1600200"/>
            <a:ext cx="3744720" cy="21891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ваш прогноз развития экологической пробл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8" descr="Березовая роща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Последствия взрыва в Хиросиме"/>
          <p:cNvPicPr/>
          <p:nvPr/>
        </p:nvPicPr>
        <p:blipFill>
          <a:blip r:embed="rId2"/>
          <a:stretch/>
        </p:blipFill>
        <p:spPr>
          <a:xfrm>
            <a:off x="468360" y="184464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ЗНАКИ ПОНЯТИЯ «ГЛОБАЛЬНЫЕ ПРОБЛЕМЫ ЧЕЛОВЕЧЕСТВА»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ГЛОБАЛЬНЫЕ ПРОБЛЕМЫ, ИХ СУЩНОСТ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МЕРЫ ПРОЯВЛЕНИЯ ЭКОЛОГИЧЕСКОЙ  ПРОБЛЕМЫ В ПОВСЕДНЕВНОЙ ЖИЗН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ЯТЬ РАСПРОСТРАНЁННОСТЬ ЭКОЛОГИЧЕСКОЙ ПРОБЛЕМЫ ПО СТРАНАМ И РЕГИОНА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ЛАГАТЬ ПУТИ РЕШЕНИЯ ЭКОЛОГИЧЕСКОЙ 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ГНОЗИРОВАТЬ ОБОСТРЕНИЕ ИЛИ ОСЛАБЛЕНИЕ ЭКОЛОГИЧЕСКОЙ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Земля из космоса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справиться с этими проблем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Земля из космоса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97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чему глобальные проблемы называются глобальны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проблемы затрагивают интересы не отдельных стран, 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го человеч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стоятельн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ешить эти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обальные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граф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овольстве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ьевая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е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проблема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проблема взаимоотношений общества и природы, сохранения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обенно резко возросла нагрузка на окружающую среду во второй половине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а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5 человек отравляются и погибают от пестицидов и других химик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00 человек умирают от отравленной во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00 т кислотных дождей выпадает в северном полуша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овы основные причины обострения экологической проблемы в последние десятилети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интенсивной индустриализаци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роста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Австралийский город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зовите основные причины загрязнения окружающей среды в порядке убы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Загрязнение атмосферы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 экологическая проблема проявляется в повседневной жизн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9" descr="Определение ветра по дыму"/>
          <p:cNvPicPr/>
          <p:nvPr/>
        </p:nvPicPr>
        <p:blipFill>
          <a:blip r:embed="rId1"/>
          <a:stretch/>
        </p:blipFill>
        <p:spPr>
          <a:xfrm>
            <a:off x="755640" y="1557360"/>
            <a:ext cx="36720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Загрязнение окружающей среды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Загрязнение береговой линии"/>
          <p:cNvPicPr/>
          <p:nvPr/>
        </p:nvPicPr>
        <p:blipFill>
          <a:blip r:embed="rId3"/>
          <a:stretch/>
        </p:blipFill>
        <p:spPr>
          <a:xfrm>
            <a:off x="684360" y="393372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Лес после кислотного дождя"/>
          <p:cNvPicPr/>
          <p:nvPr/>
        </p:nvPicPr>
        <p:blipFill>
          <a:blip r:embed="rId4"/>
          <a:stretch/>
        </p:blipFill>
        <p:spPr>
          <a:xfrm>
            <a:off x="4788000" y="393372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74214s006.edusite.ru</dc:description>
  <dc:language>en-US</dc:language>
  <cp:lastModifiedBy>LEGION</cp:lastModifiedBy>
  <dcterms:modified xsi:type="dcterms:W3CDTF">2015-05-06T08:04:20Z</dcterms:modified>
  <cp:revision>16</cp:revision>
  <dc:subject/>
  <dc:title>Глобальные проблемы соврем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</Properties>
</file>