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080E-EDB4-4AEC-827E-5A4A07E44A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2565-0D4D-4436-B253-96E730FA9D0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распространена в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овсемес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развитой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мышлен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высокой плотностью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FB43-A35F-4407-AAE0-8AEF024AF74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A4BB-CE45-40A8-BC4B-7BD2C7BD48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ваш прогноз развития экологической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0F26B-211B-4A79-B854-E67D6E44D81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ЗНАКИ ПОНЯТИЯ «ГЛОБАЛЬНЫЕ ПРОБЛЕМЫ ЧЕЛОВЕЧЕСТВ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ГЛОБАЛЬНЫЕ ПРОБЛЕМЫ, ИХ СУЩ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МЕРЫ ПРОЯВЛЕНИЯ ЭКОЛОГИЧЕСКОЙ  ПРОБЛЕМЫ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РАСПРОСТРАНЁННОСТЬ ЭКОЛОГИЧЕСКОЙ ПРОБЛЕМЫ ПО СТРАНАМ И РЕГИОН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АГАТЬ ПУТИ РЕШЕНИЯ ЭКОЛОГИЧЕСКОЙ  ПРОБЛ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 ОБОСТРЕНИЕ ИЛИ ОСЛАБЛЕНИЕ ЭКОЛОГИЧЕСКОЙ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D5491-22BE-4E6E-A08A-B60BAFFE3F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9E4-3489-45FA-AAD4-08FE22D3D9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глобальные проблемы называются глоб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облемы затрагивают интересы не отдельных стран, 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о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шить эти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3798-DE2B-4AFD-91E5-80B6D49F8E6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ырьев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727AA-BA47-4D7E-8920-E6B3A1EB63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облема взаимоотношений общества и природы, сохра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резко возросла нагрузка на окружающую среду во второй половине 20 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а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человек отравляются и погибают от пестицидов и других химик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0 человек умирают от отравленной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т кислотных дождей выпадает в северном полуша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6BD57-3D73-4C46-8D0E-B38B8212DD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новные причины обострения экологической проблемы в последние десятиле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интенсивной индустриализации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ост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3FCA-EA97-49D9-BFD3-E654FAE5A0D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основные причины загрязнения окружающей среды в порядке убы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3A9B-D325-4DE1-B69F-D0ED5164DD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проявляется в повседневной жизн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E43F-81A6-4B5D-90A9-802325461F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414B-1172-4B8F-8142-7C787247A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DA9A-F0CF-4601-92CB-7D600164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3ED-C68E-4E5A-AA91-8E7B4E467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011-8148-4E6B-BDD8-9F4844DC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1503-46DF-4B39-A28B-4814166B3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A5C2E-31F2-4185-A378-E1AC985F0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1AEB8-2485-4BF9-8C8D-48BF4235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59EE-8A5A-40B6-B331-B95ED167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2409-97A9-4536-BB6E-3A16FC83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6DA8-BA27-413F-8E9E-7AA58C6C0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C650-0E1F-4C57-B56B-BCB04CFD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694B-94AA-4558-82D9-CB93185C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4B7C3-8740-42CC-AA9A-5E427FE2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46E62-C728-4918-A0EB-F79A5AED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C80C1-85E5-434D-A19C-068B2BE4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8A58-949C-4CB5-9A0A-DB2EBD0E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56A6-D1CB-4671-83E1-39218B077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46D4-C52F-44E2-AE14-205B803D7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41D-1499-4379-9832-6755B146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343E-9452-4967-8FB2-C441607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E66C-B382-4262-B0C7-F22832BE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E82-E7CD-4EA2-A633-486F10C0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3778-673A-458F-8419-F2AFB32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ECFC-7885-4477-B4F7-044B2BE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5BF9-1BCD-4214-BA5A-27DB44002D7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6C69-67D0-48B4-A3D0-29BC4D9C35A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проблемы человече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 пробл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1"/>
          <p:cNvPicPr/>
          <p:nvPr/>
        </p:nvPicPr>
        <p:blipFill>
          <a:blip r:embed="rId1"/>
          <a:srcRect l="0" t="0" r="-8" b="13"/>
          <a:stretch/>
        </p:blipFill>
        <p:spPr>
          <a:xfrm>
            <a:off x="250920" y="1268280"/>
            <a:ext cx="8567640" cy="5110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экологическая проблема распространена в мир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ктически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овсемест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развитой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ромышленность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высокой плотностью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2916360" y="2060640"/>
            <a:ext cx="1920600" cy="1042920"/>
          </a:xfrm>
          <a:custGeom>
            <a:avLst/>
            <a:gdLst/>
            <a:ahLst/>
            <a:rect l="l" t="t" r="r" b="b"/>
            <a:pathLst>
              <a:path w="1210" h="657">
                <a:moveTo>
                  <a:pt x="477" y="15"/>
                </a:moveTo>
                <a:cubicBezTo>
                  <a:pt x="659" y="0"/>
                  <a:pt x="1104" y="98"/>
                  <a:pt x="1157" y="196"/>
                </a:cubicBezTo>
                <a:cubicBezTo>
                  <a:pt x="1210" y="294"/>
                  <a:pt x="922" y="551"/>
                  <a:pt x="794" y="604"/>
                </a:cubicBezTo>
                <a:cubicBezTo>
                  <a:pt x="666" y="657"/>
                  <a:pt x="499" y="529"/>
                  <a:pt x="386" y="514"/>
                </a:cubicBezTo>
                <a:cubicBezTo>
                  <a:pt x="273" y="499"/>
                  <a:pt x="167" y="552"/>
                  <a:pt x="114" y="514"/>
                </a:cubicBezTo>
                <a:cubicBezTo>
                  <a:pt x="61" y="476"/>
                  <a:pt x="0" y="370"/>
                  <a:pt x="68" y="287"/>
                </a:cubicBezTo>
                <a:cubicBezTo>
                  <a:pt x="136" y="204"/>
                  <a:pt x="295" y="30"/>
                  <a:pt x="477" y="15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356000" y="2708280"/>
            <a:ext cx="1440000" cy="1081080"/>
          </a:xfrm>
          <a:custGeom>
            <a:avLst/>
            <a:gdLst/>
            <a:ahLst/>
            <a:rect l="l" t="t" r="r" b="b"/>
            <a:pathLst>
              <a:path w="1058" h="1036">
                <a:moveTo>
                  <a:pt x="604" y="83"/>
                </a:moveTo>
                <a:cubicBezTo>
                  <a:pt x="664" y="53"/>
                  <a:pt x="847" y="0"/>
                  <a:pt x="922" y="38"/>
                </a:cubicBezTo>
                <a:cubicBezTo>
                  <a:pt x="997" y="76"/>
                  <a:pt x="1058" y="219"/>
                  <a:pt x="1058" y="310"/>
                </a:cubicBezTo>
                <a:cubicBezTo>
                  <a:pt x="1058" y="401"/>
                  <a:pt x="990" y="484"/>
                  <a:pt x="922" y="582"/>
                </a:cubicBezTo>
                <a:cubicBezTo>
                  <a:pt x="854" y="680"/>
                  <a:pt x="771" y="840"/>
                  <a:pt x="650" y="900"/>
                </a:cubicBezTo>
                <a:cubicBezTo>
                  <a:pt x="529" y="960"/>
                  <a:pt x="294" y="1036"/>
                  <a:pt x="196" y="945"/>
                </a:cubicBezTo>
                <a:cubicBezTo>
                  <a:pt x="98" y="854"/>
                  <a:pt x="0" y="476"/>
                  <a:pt x="60" y="355"/>
                </a:cubicBezTo>
                <a:cubicBezTo>
                  <a:pt x="120" y="234"/>
                  <a:pt x="468" y="272"/>
                  <a:pt x="559" y="219"/>
                </a:cubicBezTo>
                <a:cubicBezTo>
                  <a:pt x="650" y="166"/>
                  <a:pt x="544" y="113"/>
                  <a:pt x="604" y="8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971640" y="2781000"/>
            <a:ext cx="266364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900000" y="3573360"/>
            <a:ext cx="3816360" cy="216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дложите пути решения экологической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10" descr="Малоотходные процессы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Автомобили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Семьи африканских народов многодетны"/>
          <p:cNvPicPr/>
          <p:nvPr/>
        </p:nvPicPr>
        <p:blipFill>
          <a:blip r:embed="rId3"/>
          <a:stretch/>
        </p:blipFill>
        <p:spPr>
          <a:xfrm>
            <a:off x="4788000" y="3887640"/>
            <a:ext cx="3816360" cy="2565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losinmyself"/>
          <p:cNvPicPr/>
          <p:nvPr/>
        </p:nvPicPr>
        <p:blipFill>
          <a:blip r:embed="rId4"/>
          <a:stretch/>
        </p:blipFill>
        <p:spPr>
          <a:xfrm>
            <a:off x="4788000" y="1600200"/>
            <a:ext cx="3744720" cy="21891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ваш прогноз развития экологической пробл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8" descr="Березовая роща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Последствия взрыва в Хиросиме"/>
          <p:cNvPicPr/>
          <p:nvPr/>
        </p:nvPicPr>
        <p:blipFill>
          <a:blip r:embed="rId2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ЗНАКИ ПОНЯТИЯ «ГЛОБАЛЬНЫЕ ПРОБЛЕМЫ ЧЕЛОВЕЧЕСТВА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ГЛОБАЛЬНЫЕ ПРОБЛЕМЫ, ИХ СУЩ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МЕРЫ ПРОЯВЛЕНИЯ ЭКОЛОГИЧЕСКОЙ  ПРОБЛЕМЫ В ПОВСЕДНЕВНОЙ ЖИЗН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ЯТЬ РАСПРОСТРАНЁННОСТЬ ЭКОЛОГИЧЕСКОЙ ПРОБЛЕМЫ ПО СТРАНАМ И РЕГИОН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АГАТЬ ПУТИ РЕШЕНИЯ ЭКОЛОГИЧЕСКОЙ 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НОЗИРОВАТЬ ОБОСТРЕНИЕ ИЛИ ОСЛАБЛЕНИЕ ЭКОЛОГИЧЕСКОЙ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Земля из космоса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справиться с этими проблем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Земля из космоса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чему глобальные проблемы называются глобальны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проблемы затрагивают интересы не отдельных стран, 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го человеч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стоятельн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ешить эти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обальные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граф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овольстве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ьевая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е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проблема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проблема взаимоотношений общества и природы, сохранения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обенно резко возросла нагрузка на окружающую среду во второй половине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а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5 человек отравляются и погибают от пестицидов и других химик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00 человек умирают от отравленной во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00 т кислотных дождей выпадает в северном полуша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овы основные причины обострения экологической проблемы в последние десятилети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интенсивной индустриализаци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роста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Австралийский город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зовите основные причины загрязнения окружающей среды в порядке убы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Загрязнение атмосферы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 экологическая проблема проявляется в повседневной жизн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9" descr="Определение ветра по дыму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Загрязнение окружающей среды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Загрязнение береговой линии"/>
          <p:cNvPicPr/>
          <p:nvPr/>
        </p:nvPicPr>
        <p:blipFill>
          <a:blip r:embed="rId3"/>
          <a:stretch/>
        </p:blipFill>
        <p:spPr>
          <a:xfrm>
            <a:off x="684360" y="393372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Лес после кислотного дождя"/>
          <p:cNvPicPr/>
          <p:nvPr/>
        </p:nvPicPr>
        <p:blipFill>
          <a:blip r:embed="rId4"/>
          <a:stretch/>
        </p:blipFill>
        <p:spPr>
          <a:xfrm>
            <a:off x="4788000" y="393372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74214s006.edusite.ru</dc:description>
  <dc:language>en-US</dc:language>
  <cp:lastModifiedBy>LEGION</cp:lastModifiedBy>
  <dcterms:modified xsi:type="dcterms:W3CDTF">2015-05-06T08:04:20Z</dcterms:modified>
  <cp:revision>16</cp:revision>
  <dc:subject/>
  <dc:title>Глобальные проблемы соврем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</Properties>
</file>