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B998-9168-48DD-8F05-C9C339FCAA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495A-A659-43A4-A8C2-8D092EAFEA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распространена в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овсемес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развитой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мышлен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высокой плотностью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9CBA-B9F7-4F56-BE4F-A379EA7DF9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D289-AF90-486F-94AF-E5D456F940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ваш прогноз развития экологической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BB9D-F0DD-4C52-B06D-79D709A8D4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ЗНАКИ ПОНЯТИЯ «ГЛОБАЛЬНЫЕ ПРОБЛЕМЫ ЧЕЛОВЕЧЕСТВ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ГЛОБАЛЬНЫЕ ПРОБЛЕМЫ, ИХ СУЩ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МЕРЫ ПРОЯВЛЕНИЯ ЭКОЛОГИЧЕСКОЙ  ПРОБЛЕМЫ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РАСПРОСТРАНЁННОСТЬ ЭКОЛОГИЧЕСКОЙ ПРОБЛЕМЫ ПО СТРАНАМ И РЕГИОН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АГАТЬ ПУТИ РЕШЕНИЯ ЭКОЛОГИЧЕСКОЙ  ПРОБЛ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 ОБОСТРЕНИЕ ИЛИ ОСЛАБЛЕНИЕ ЭКОЛОГИЧЕСКОЙ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C31C-8C48-4FAB-A2C5-2A6055D4F6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56D8-4093-4B27-BC55-B50933D60F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глобальные проблемы называются глоб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проблемы затрагивают интересы не отдельных стран, 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го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шить эти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7C38-2A04-4139-A3B1-9B53424156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ырьева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D52B-F56E-4405-8D1C-E67880B400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облема взаимоотношений общества и природы, сохра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резко возросла нагрузка на окружающую среду во второй половине 20 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а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человек отравляются и погибают от пестицидов и других химик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00 человек умирают от отравленной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т кислотных дождей выпадает в северном полуша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9226-09EE-4563-A7C4-7960A7E737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новные причины обострения экологической проблемы в последние десятиле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интенсивной индустриализации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ост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29D1-BF40-4EAF-A7A5-433B365377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основные причины загрязнения окружающей среды в порядке убы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088B-C3E1-4C09-B7A1-A141A8CA7A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проявляется в повседневной жизн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9ED9-536C-47FD-BDDC-584F807728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CA7-C6FE-4A43-AC4D-D0DA4B10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FF6-8E4D-494D-846C-0E239B3E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419-DC88-4D05-BF10-655E55C5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A5B-0D4F-4825-BD92-26F177CC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C62B-43BD-4314-8F3E-3E5F41D8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6E78-1671-4780-ACE2-770BCD1E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13C9-EDC1-4C30-BE80-CC429C2C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5662-9B9F-4D52-BF8B-67A4F321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8006-A094-46F1-9BBA-5EF29997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7B95-2EDA-4017-8B56-94B18999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0614-86D9-404C-95FA-B5736E04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A4A-E48A-4DE2-9518-D4B3D25A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9866-6C31-4587-9B7E-3AFEA477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D433-0086-46F5-92FE-2669BF1C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9D15-99AE-4B3A-96B7-747988CF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4568-2755-4718-8863-2F45B550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C44-0E13-401E-8734-6F6E5E0E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C47-24BA-4204-80AE-6C3EF55A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8D7-518D-4395-B926-36B20ADB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CAF-FEE9-4F79-BC1D-21E7665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D37-662C-4BCA-AAA5-DF8D9353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2B6-F0A8-4EEC-8436-0FA186CB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E92-3498-4146-9F56-3309053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182-F21C-4ECC-AE71-DFCD01D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4ECB-F52D-4817-8A0A-35C7BA64FD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44CC-ADEA-40F9-837E-1702E2166F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проблемы человече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 пробл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1"/>
          <p:cNvPicPr/>
          <p:nvPr/>
        </p:nvPicPr>
        <p:blipFill>
          <a:blip r:embed="rId1"/>
          <a:srcRect l="0" t="0" r="-8" b="13"/>
          <a:stretch/>
        </p:blipFill>
        <p:spPr>
          <a:xfrm>
            <a:off x="250920" y="1268280"/>
            <a:ext cx="8567640" cy="5110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экологическая проблема распространена в мир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ктически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овсемест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развитой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ромышленность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высокой плотностью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2916360" y="2060640"/>
            <a:ext cx="1920600" cy="1042920"/>
          </a:xfrm>
          <a:custGeom>
            <a:avLst/>
            <a:gdLst/>
            <a:ahLst/>
            <a:rect l="l" t="t" r="r" b="b"/>
            <a:pathLst>
              <a:path w="1210" h="657">
                <a:moveTo>
                  <a:pt x="477" y="15"/>
                </a:moveTo>
                <a:cubicBezTo>
                  <a:pt x="659" y="0"/>
                  <a:pt x="1104" y="98"/>
                  <a:pt x="1157" y="196"/>
                </a:cubicBezTo>
                <a:cubicBezTo>
                  <a:pt x="1210" y="294"/>
                  <a:pt x="922" y="551"/>
                  <a:pt x="794" y="604"/>
                </a:cubicBezTo>
                <a:cubicBezTo>
                  <a:pt x="666" y="657"/>
                  <a:pt x="499" y="529"/>
                  <a:pt x="386" y="514"/>
                </a:cubicBezTo>
                <a:cubicBezTo>
                  <a:pt x="273" y="499"/>
                  <a:pt x="167" y="552"/>
                  <a:pt x="114" y="514"/>
                </a:cubicBezTo>
                <a:cubicBezTo>
                  <a:pt x="61" y="476"/>
                  <a:pt x="0" y="370"/>
                  <a:pt x="68" y="287"/>
                </a:cubicBezTo>
                <a:cubicBezTo>
                  <a:pt x="136" y="204"/>
                  <a:pt x="295" y="30"/>
                  <a:pt x="477" y="15"/>
                </a:cubicBez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356000" y="2708280"/>
            <a:ext cx="1440000" cy="1081080"/>
          </a:xfrm>
          <a:custGeom>
            <a:avLst/>
            <a:gdLst/>
            <a:ahLst/>
            <a:rect l="l" t="t" r="r" b="b"/>
            <a:pathLst>
              <a:path w="1058" h="1036">
                <a:moveTo>
                  <a:pt x="604" y="83"/>
                </a:moveTo>
                <a:cubicBezTo>
                  <a:pt x="664" y="53"/>
                  <a:pt x="847" y="0"/>
                  <a:pt x="922" y="38"/>
                </a:cubicBezTo>
                <a:cubicBezTo>
                  <a:pt x="997" y="76"/>
                  <a:pt x="1058" y="219"/>
                  <a:pt x="1058" y="310"/>
                </a:cubicBezTo>
                <a:cubicBezTo>
                  <a:pt x="1058" y="401"/>
                  <a:pt x="990" y="484"/>
                  <a:pt x="922" y="582"/>
                </a:cubicBezTo>
                <a:cubicBezTo>
                  <a:pt x="854" y="680"/>
                  <a:pt x="771" y="840"/>
                  <a:pt x="650" y="900"/>
                </a:cubicBezTo>
                <a:cubicBezTo>
                  <a:pt x="529" y="960"/>
                  <a:pt x="294" y="1036"/>
                  <a:pt x="196" y="945"/>
                </a:cubicBezTo>
                <a:cubicBezTo>
                  <a:pt x="98" y="854"/>
                  <a:pt x="0" y="476"/>
                  <a:pt x="60" y="355"/>
                </a:cubicBezTo>
                <a:cubicBezTo>
                  <a:pt x="120" y="234"/>
                  <a:pt x="468" y="272"/>
                  <a:pt x="559" y="219"/>
                </a:cubicBezTo>
                <a:cubicBezTo>
                  <a:pt x="650" y="166"/>
                  <a:pt x="544" y="113"/>
                  <a:pt x="604" y="8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971640" y="2781000"/>
            <a:ext cx="266364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900000" y="3573360"/>
            <a:ext cx="3816360" cy="216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дложите пути решения экологической пробл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10" descr="Малоотходные процессы"/>
          <p:cNvPicPr/>
          <p:nvPr/>
        </p:nvPicPr>
        <p:blipFill>
          <a:blip r:embed="rId1"/>
          <a:stretch/>
        </p:blipFill>
        <p:spPr>
          <a:xfrm>
            <a:off x="611280" y="1600200"/>
            <a:ext cx="38894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Автомобили"/>
          <p:cNvPicPr/>
          <p:nvPr/>
        </p:nvPicPr>
        <p:blipFill>
          <a:blip r:embed="rId2"/>
          <a:stretch/>
        </p:blipFill>
        <p:spPr>
          <a:xfrm>
            <a:off x="539640" y="3933720"/>
            <a:ext cx="3961080" cy="251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Семьи африканских народов многодетны"/>
          <p:cNvPicPr/>
          <p:nvPr/>
        </p:nvPicPr>
        <p:blipFill>
          <a:blip r:embed="rId3"/>
          <a:stretch/>
        </p:blipFill>
        <p:spPr>
          <a:xfrm>
            <a:off x="4788000" y="3887640"/>
            <a:ext cx="3816360" cy="2565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losinmyself"/>
          <p:cNvPicPr/>
          <p:nvPr/>
        </p:nvPicPr>
        <p:blipFill>
          <a:blip r:embed="rId4"/>
          <a:stretch/>
        </p:blipFill>
        <p:spPr>
          <a:xfrm>
            <a:off x="4788000" y="1600200"/>
            <a:ext cx="3744720" cy="21891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ваш прогноз развития экологической пробл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8" descr="Березовая роща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Последствия взрыва в Хиросиме"/>
          <p:cNvPicPr/>
          <p:nvPr/>
        </p:nvPicPr>
        <p:blipFill>
          <a:blip r:embed="rId2"/>
          <a:stretch/>
        </p:blipFill>
        <p:spPr>
          <a:xfrm>
            <a:off x="468360" y="184464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ЗНАКИ ПОНЯТИЯ «ГЛОБАЛЬНЫЕ ПРОБЛЕМЫ ЧЕЛОВЕЧЕСТВА»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ГЛОБАЛЬНЫЕ ПРОБЛЕМЫ, ИХ СУЩНОСТ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МЕРЫ ПРОЯВЛЕНИЯ ЭКОЛОГИЧЕСКОЙ  ПРОБЛЕМЫ В ПОВСЕДНЕВНОЙ ЖИЗН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ЯТЬ РАСПРОСТРАНЁННОСТЬ ЭКОЛОГИЧЕСКОЙ ПРОБЛЕМЫ ПО СТРАНАМ И РЕГИОНА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ЛАГАТЬ ПУТИ РЕШЕНИЯ ЭКОЛОГИЧЕСКОЙ 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ГНОЗИРОВАТЬ ОБОСТРЕНИЕ ИЛИ ОСЛАБЛЕНИЕ ЭКОЛОГИЧЕСКОЙ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Земля из космоса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справиться с этими проблем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Земля из космоса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97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чему глобальные проблемы называются глобальны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проблемы затрагивают интересы не отдельных стран, 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го человеч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стоятельн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ешить эти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обальные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граф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овольстве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ьевая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е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проблема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проблема взаимоотношений общества и природы, сохранения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обенно резко возросла нагрузка на окружающую среду во второй половине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а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5 человек отравляются и погибают от пестицидов и других химик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00 человек умирают от отравленной во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00 т кислотных дождей выпадает в северном полуша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овы основные причины обострения экологической проблемы в последние десятилети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интенсивной индустриализаци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роста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Австралийский город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зовите основные причины загрязнения окружающей среды в порядке убы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Загрязнение атмосферы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 экологическая проблема проявляется в повседневной жизн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9" descr="Определение ветра по дыму"/>
          <p:cNvPicPr/>
          <p:nvPr/>
        </p:nvPicPr>
        <p:blipFill>
          <a:blip r:embed="rId1"/>
          <a:stretch/>
        </p:blipFill>
        <p:spPr>
          <a:xfrm>
            <a:off x="755640" y="1557360"/>
            <a:ext cx="36720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Загрязнение окружающей среды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Загрязнение береговой линии"/>
          <p:cNvPicPr/>
          <p:nvPr/>
        </p:nvPicPr>
        <p:blipFill>
          <a:blip r:embed="rId3"/>
          <a:stretch/>
        </p:blipFill>
        <p:spPr>
          <a:xfrm>
            <a:off x="684360" y="393372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Лес после кислотного дождя"/>
          <p:cNvPicPr/>
          <p:nvPr/>
        </p:nvPicPr>
        <p:blipFill>
          <a:blip r:embed="rId4"/>
          <a:stretch/>
        </p:blipFill>
        <p:spPr>
          <a:xfrm>
            <a:off x="4788000" y="393372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74214s006.edusite.ru</dc:description>
  <dc:language>en-US</dc:language>
  <cp:lastModifiedBy>LEGION</cp:lastModifiedBy>
  <dcterms:modified xsi:type="dcterms:W3CDTF">2015-05-06T08:04:20Z</dcterms:modified>
  <cp:revision>16</cp:revision>
  <dc:subject/>
  <dc:title>Глобальные проблемы соврем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</Properties>
</file>