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B1D0-F9E9-40D9-9E9D-F426613C0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C400-1EE7-4584-912D-B2A5EED16C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2375-7886-4C94-9B36-FAC7CA818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6419-6B8F-45FC-BEDE-49E2D2AD85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EF67-7529-438D-9501-F2B6D0983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5170-856B-4924-A50A-16CAE7217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ECD8-E1F6-4FCA-9CA5-ADD7E3811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7BF6-4B9E-4C02-9B32-305AD015A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440D-8ABE-4DFA-8DA0-2682F8A70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5312-3381-47A3-BA03-76D50A52C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D049-601C-4D42-BB26-946FC4108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B8C1-9C02-41C7-809C-B79BE1BC72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31C-EF5E-4ACC-B4D5-9A0A9810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523-1485-4E1C-99B8-3703799B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12A-1DF1-4763-9A5B-C84815AC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987-5AEC-4C62-89EF-DB2B7190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1D7-4A23-4E45-AF7D-18CD5885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141-164A-493D-A9BC-85D1FD07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9BE-2D42-47A1-B4E3-614E872F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4A3-948C-49A7-95A4-D68D65E3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6AB-4397-45E6-8DE9-EB6171EA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218-B260-452D-9A41-D0EE8FD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991-D8F2-473A-B0D1-D350D495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FCA-F5F2-4020-9152-ACB8C637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8D15-0512-4363-BB86-5CA198E91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" Target="slide7.xml"/><Relationship Id="rId7" Type="http://schemas.openxmlformats.org/officeDocument/2006/relationships/image" Target="../media/image10.jpeg"/><Relationship Id="rId8" Type="http://schemas.openxmlformats.org/officeDocument/2006/relationships/slide" Target="slide8.xml"/><Relationship Id="rId9" Type="http://schemas.openxmlformats.org/officeDocument/2006/relationships/image" Target="../media/image11.jpeg"/><Relationship Id="rId10" Type="http://schemas.openxmlformats.org/officeDocument/2006/relationships/slide" Target="slide9.xml"/><Relationship Id="rId11" Type="http://schemas.openxmlformats.org/officeDocument/2006/relationships/image" Target="../media/image12.jpeg"/><Relationship Id="rId12" Type="http://schemas.openxmlformats.org/officeDocument/2006/relationships/slide" Target="slide10.xml"/><Relationship Id="rId13" Type="http://schemas.openxmlformats.org/officeDocument/2006/relationships/image" Target="../media/image13.jpeg"/><Relationship Id="rId14" Type="http://schemas.openxmlformats.org/officeDocument/2006/relationships/slide" Target="slide11.xml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ic #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ic #1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4952880"/>
            <a:ext cx="888984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427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172360" y="6237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rirod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ic #2-1"/>
          <p:cNvPicPr/>
          <p:nvPr/>
        </p:nvPicPr>
        <p:blipFill>
          <a:blip r:embed="rId1"/>
          <a:stretch/>
        </p:blipFill>
        <p:spPr>
          <a:xfrm>
            <a:off x="-47520" y="-47520"/>
            <a:ext cx="9191520" cy="691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ic #2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3789360"/>
            <a:ext cx="105408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01 Ошибка Windows .mp3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2ab4_832b760a_XL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59280" y="4581360"/>
            <a:ext cx="338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1" descr="0829ed3b2973b7db572c0102bff7e9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2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393372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03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5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3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6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003640" y="386064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7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771640" y="5157720"/>
            <a:ext cx="3606840" cy="698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" action="ppaction://hlinkshowjump?jump=previousslide"/>
          </p:cNvPr>
          <p:cNvSpPr/>
          <p:nvPr/>
        </p:nvSpPr>
        <p:spPr>
          <a:xfrm>
            <a:off x="8028000" y="602136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aa47_bd65805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72007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Organization Chart 9"/>
          <p:cNvGrpSpPr/>
          <p:nvPr/>
        </p:nvGrpSpPr>
        <p:grpSpPr>
          <a:xfrm>
            <a:off x="179280" y="2421000"/>
            <a:ext cx="8820720" cy="3815280"/>
            <a:chOff x="179280" y="2421000"/>
            <a:chExt cx="8820720" cy="38152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>
              <a:off x="696420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82" idx="2"/>
            </p:cNvCxnSpPr>
            <p:nvPr/>
          </p:nvCxnSpPr>
          <p:spPr>
            <a:xfrm flipV="1">
              <a:off x="221436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79" idx="0"/>
              <a:endCxn id="84" idx="2"/>
            </p:cNvCxnSpPr>
            <p:nvPr/>
          </p:nvCxnSpPr>
          <p:spPr>
            <a:xfrm flipV="1" rot="16200000">
              <a:off x="5538240" y="2424600"/>
              <a:ext cx="477360" cy="237600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1"/>
            <p:cNvCxnSpPr>
              <a:stCxn id="82" idx="0"/>
              <a:endCxn id="84" idx="2"/>
            </p:cNvCxnSpPr>
            <p:nvPr/>
          </p:nvCxnSpPr>
          <p:spPr>
            <a:xfrm flipH="1" flipV="1" rot="5400000">
              <a:off x="3162600" y="2425680"/>
              <a:ext cx="477360" cy="237456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32"/>
            <p:cNvSpPr/>
            <p:nvPr/>
          </p:nvSpPr>
          <p:spPr>
            <a:xfrm>
              <a:off x="2553480" y="242100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Виды катастроф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17928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Лок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492876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Глоб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5"/>
            <p:cNvSpPr/>
            <p:nvPr/>
          </p:nvSpPr>
          <p:spPr>
            <a:xfrm>
              <a:off x="179280" y="5282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рушение одной или боле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окальных экологических систе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4928760" y="5282640"/>
              <a:ext cx="4071240" cy="95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евышения предела внешни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ли внутренни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оздействием на экологическую систем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AutoShape 23"/>
          <p:cNvSpPr/>
          <p:nvPr/>
        </p:nvSpPr>
        <p:spPr>
          <a:xfrm>
            <a:off x="8317080" y="6381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_33b5c_463e3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75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rganization Chart 6"/>
          <p:cNvGrpSpPr/>
          <p:nvPr/>
        </p:nvGrpSpPr>
        <p:grpSpPr>
          <a:xfrm>
            <a:off x="395280" y="3429000"/>
            <a:ext cx="8353080" cy="2447280"/>
            <a:chOff x="395280" y="3429000"/>
            <a:chExt cx="8353080" cy="2447280"/>
          </a:xfrm>
        </p:grpSpPr>
        <p:cxnSp>
          <p:nvCxnSpPr>
            <p:cNvPr id="92" name="_s2052"/>
            <p:cNvCxnSpPr>
              <a:stCxn id="93" idx="0"/>
              <a:endCxn id="94" idx="2"/>
            </p:cNvCxnSpPr>
            <p:nvPr/>
          </p:nvCxnSpPr>
          <p:spPr>
            <a:xfrm flipH="1" flipV="1" rot="5400000">
              <a:off x="3108600" y="3432960"/>
              <a:ext cx="489600" cy="243828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053"/>
            <p:cNvCxnSpPr>
              <a:stCxn id="96" idx="0"/>
              <a:endCxn id="94" idx="2"/>
            </p:cNvCxnSpPr>
            <p:nvPr/>
          </p:nvCxnSpPr>
          <p:spPr>
            <a:xfrm flipV="1" rot="16200000">
              <a:off x="49366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54"/>
            <p:cNvCxnSpPr>
              <a:stCxn id="98" idx="0"/>
              <a:endCxn id="94" idx="2"/>
            </p:cNvCxnSpPr>
            <p:nvPr/>
          </p:nvCxnSpPr>
          <p:spPr>
            <a:xfrm flipV="1" rot="16200000">
              <a:off x="5545440" y="3433680"/>
              <a:ext cx="489600" cy="24368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55"/>
            <p:cNvCxnSpPr>
              <a:stCxn id="100" idx="0"/>
              <a:endCxn id="94" idx="2"/>
            </p:cNvCxnSpPr>
            <p:nvPr/>
          </p:nvCxnSpPr>
          <p:spPr>
            <a:xfrm flipV="1" rot="16200000">
              <a:off x="6154200" y="2824920"/>
              <a:ext cx="489600" cy="365436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056"/>
            <p:cNvCxnSpPr>
              <a:stCxn id="102" idx="0"/>
              <a:endCxn id="94" idx="2"/>
            </p:cNvCxnSpPr>
            <p:nvPr/>
          </p:nvCxnSpPr>
          <p:spPr>
            <a:xfrm flipV="1">
              <a:off x="4572000" y="4407480"/>
              <a:ext cx="180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57"/>
            <p:cNvCxnSpPr>
              <a:stCxn id="104" idx="0"/>
              <a:endCxn id="94" idx="2"/>
            </p:cNvCxnSpPr>
            <p:nvPr/>
          </p:nvCxnSpPr>
          <p:spPr>
            <a:xfrm flipH="1" flipV="1" rot="5400000">
              <a:off x="37180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58"/>
            <p:cNvCxnSpPr>
              <a:stCxn id="106" idx="0"/>
              <a:endCxn id="94" idx="2"/>
            </p:cNvCxnSpPr>
            <p:nvPr/>
          </p:nvCxnSpPr>
          <p:spPr>
            <a:xfrm flipH="1" flipV="1" rot="5400000">
              <a:off x="2499840" y="2824560"/>
              <a:ext cx="489600" cy="36554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2059"/>
            <p:cNvSpPr/>
            <p:nvPr/>
          </p:nvSpPr>
          <p:spPr>
            <a:xfrm>
              <a:off x="4048920" y="342900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загрязните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0"/>
            <p:cNvSpPr/>
            <p:nvPr/>
          </p:nvSpPr>
          <p:spPr>
            <a:xfrm>
              <a:off x="39528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 углеро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1"/>
            <p:cNvSpPr/>
            <p:nvPr/>
          </p:nvSpPr>
          <p:spPr>
            <a:xfrm>
              <a:off x="28314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ы азо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2"/>
            <p:cNvSpPr/>
            <p:nvPr/>
          </p:nvSpPr>
          <p:spPr>
            <a:xfrm>
              <a:off x="4050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Диоксид с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3"/>
            <p:cNvSpPr/>
            <p:nvPr/>
          </p:nvSpPr>
          <p:spPr>
            <a:xfrm>
              <a:off x="7704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Тяжёлые металл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4"/>
            <p:cNvSpPr/>
            <p:nvPr/>
          </p:nvSpPr>
          <p:spPr>
            <a:xfrm>
              <a:off x="64864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льдеги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5"/>
            <p:cNvSpPr/>
            <p:nvPr/>
          </p:nvSpPr>
          <p:spPr>
            <a:xfrm>
              <a:off x="526896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Углеводоро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6"/>
            <p:cNvSpPr/>
            <p:nvPr/>
          </p:nvSpPr>
          <p:spPr>
            <a:xfrm>
              <a:off x="16138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тмосферная пы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23"/>
          <p:cNvSpPr/>
          <p:nvPr/>
        </p:nvSpPr>
        <p:spPr>
          <a:xfrm>
            <a:off x="7885080" y="616572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815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Diagram 39"/>
          <p:cNvGrpSpPr/>
          <p:nvPr/>
        </p:nvGrpSpPr>
        <p:grpSpPr>
          <a:xfrm>
            <a:off x="2977560" y="3755160"/>
            <a:ext cx="3548160" cy="2363760"/>
            <a:chOff x="2977560" y="3755160"/>
            <a:chExt cx="3548160" cy="2363760"/>
          </a:xfrm>
        </p:grpSpPr>
        <p:sp>
          <p:nvSpPr>
            <p:cNvPr id="113" name="_s3076"/>
            <p:cNvSpPr/>
            <p:nvPr/>
          </p:nvSpPr>
          <p:spPr>
            <a:xfrm flipV="1">
              <a:off x="4159800" y="3755160"/>
              <a:ext cx="1184040" cy="788400"/>
            </a:xfrm>
            <a:custGeom>
              <a:avLst/>
              <a:gdLst>
                <a:gd name="textAreaLeft" fmla="*/ 424800 w 1184040"/>
                <a:gd name="textAreaRight" fmla="*/ 759240 w 1184040"/>
                <a:gd name="textAreaTop" fmla="*/ 282960 h 788400"/>
                <a:gd name="textAreaBottom" fmla="*/ 5054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ожд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7"/>
            <p:cNvSpPr/>
            <p:nvPr/>
          </p:nvSpPr>
          <p:spPr>
            <a:xfrm flipV="1">
              <a:off x="3569760" y="4543920"/>
              <a:ext cx="2363760" cy="788400"/>
            </a:xfrm>
            <a:custGeom>
              <a:avLst/>
              <a:gdLst>
                <a:gd name="textAreaLeft" fmla="*/ 519840 w 2363760"/>
                <a:gd name="textAreaRight" fmla="*/ 1843920 w 2363760"/>
                <a:gd name="textAreaTop" fmla="*/ 173160 h 788400"/>
                <a:gd name="textAreaBottom" fmla="*/ 6152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падание в возду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78"/>
            <p:cNvSpPr/>
            <p:nvPr/>
          </p:nvSpPr>
          <p:spPr>
            <a:xfrm flipV="1">
              <a:off x="2977560" y="5331960"/>
              <a:ext cx="3548160" cy="786600"/>
            </a:xfrm>
            <a:custGeom>
              <a:avLst/>
              <a:gdLst>
                <a:gd name="textAreaLeft" fmla="*/ 615960 w 3548160"/>
                <a:gd name="textAreaRight" fmla="*/ 2932200 w 3548160"/>
                <a:gd name="textAreaTop" fmla="*/ 136440 h 786600"/>
                <a:gd name="textAreaBottom" fmla="*/ 650160 h 7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ислотный окс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45"/>
          <p:cNvSpPr/>
          <p:nvPr/>
        </p:nvSpPr>
        <p:spPr>
          <a:xfrm>
            <a:off x="7956720" y="580536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3" h="21600">
                <a:moveTo>
                  <a:pt x="10535" y="10800"/>
                </a:moveTo>
                <a:lnTo>
                  <a:pt x="24548" y="3794"/>
                </a:lnTo>
                <a:lnTo>
                  <a:pt x="245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811237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831708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2:16:38Z</dcterms:created>
  <dc:creator>МОУ СОШ № 31</dc:creator>
  <dc:description>www.school31novochek.narod.ru
</dc:description>
  <dc:language>en-US</dc:language>
  <cp:lastModifiedBy>LEGION</cp:lastModifiedBy>
  <dcterms:modified xsi:type="dcterms:W3CDTF">2015-05-06T08:04:50Z</dcterms:modified>
  <cp:revision>9</cp:revision>
  <dc:subject/>
  <dc:title>Экологические пробл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b000000000001024140</vt:lpwstr>
  </property>
</Properties>
</file>