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31B6-0A78-4CA2-8CF7-6B72D93B33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EB5A-9127-462C-B538-13BF248469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B1D3-2D61-448C-8B5C-DA481D6C9B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anco"/>
              </a:rPr>
              <a:t>Генофонд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valon Medium"/>
              </a:rPr>
              <a:t>Генофонд — понятие из популяционной генетики, описывающее совокупность всех генных вариаций (аллелей) определённой популяции.</a:t>
            </a: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 Популяция располагает всеми своими аллелями для оптимального приспособления к окружающей сре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Более крупный генофонд с множеством разных вариантом отдельных генов ведёт к лучшему приспособлению потомства к меняющейся окружающей среде. Разнообразие аллелей позволяет приспособиться к изменениям значительно быстрее, если соотвествующие аллели уже имеются в наличии, чем если они должны появиться вследствие мутации. Тем не менее, в неменяющейся окружающей среде, меньшее число аллелей может быть более выгодным, чтобы по совпадению не возникало слишком много неблагоприятных комбинаций алл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091F-3B71-4C3D-ADA1-F96C390232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anco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Бьорн Ломборг "Охладите! Глобальное потеп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Википедиа </a:t>
            </a:r>
            <a:r>
              <a:rPr b="1" lang="ru-RU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47FC-5879-44F8-B72F-916530424A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7CB7-7EC0-4C6B-BFD3-027B87E79E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anco"/>
              </a:rPr>
              <a:t>Презентация по экологии на тему:</a:t>
            </a: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Banco"/>
              </a:rPr>
              <a:t>Экология в жизни человека</a:t>
            </a: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Выполни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ученица 11-б кла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МОУ СОШ №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г. Новочеркас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Богатова Ал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8553-BC5F-4C34-B014-7A8D170D69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anco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EEB1-66B8-4AEF-99F5-C9048D6E89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anco"/>
              </a:rPr>
              <a:t>Экология. Что это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valon Medium"/>
              </a:rPr>
              <a:t>Экология - биологическая наука, которая исследует структуру и функционирование систем надорганизменного уровня (популяции, сообщества, экосистемы) в пространстве и времени в естественных и измененных человеком условиях. Это определение дано </a:t>
            </a:r>
            <a:r>
              <a:rPr b="0" lang="ru-RU" sz="1200" spc="-1" strike="noStrike">
                <a:solidFill>
                  <a:srgbClr val="00ffff"/>
                </a:solidFill>
                <a:latin typeface="Avalon Medium"/>
              </a:rPr>
              <a:t>на 5-м Международном экологическом конгрессе (1990)  с целью противодействия размыванию понятия экологии, наблюдаемому в настояще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Avalon Medium"/>
              </a:rPr>
              <a:t>Экология — это познание экономики природы, одновременное исследование всех взаимоотношений живого с органическими и неорганическими компонентами среды… Одним словом, экология — это наука, изучающая все сложные взаимосвязи в природе, рассматриваемые Дарвином как условия борьбы за существо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D6B2-11A9-430B-A200-05EE0A1C32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valon Medium"/>
              </a:rPr>
              <a:t>Экологи́ческая катастро́фа                        — необратимое изменение природных комплексов, связанное с массовой гибелью живых организ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081C-4145-49ED-9C9A-ABC3B39B0E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Banco"/>
              </a:rPr>
              <a:t>Загрязнение атмо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Загрязнение атмосферы — привнесение в атмосферный воздух новых не характерных для него физических, химических и биологических веществ или изменение естественной среднемноголетней концентрации этих агентов в нё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CBF4-EC36-44FB-A4D0-E9C7DB138E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anco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valon Medium"/>
              </a:rPr>
              <a:t>Кисло́тный дождь — все виды метеорологических осадков — дождь, снег, град, туман, дождь со снегом, при котором наблюдается понижение pH дождевых осадков из-за загрязнений воздуха кислотными оксидами (обычно — оксидами серы, оксидами азо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95F3-F3EA-452A-AA2C-4F0B2C40D1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nco"/>
              </a:rPr>
              <a:t>Экологическая напряж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Экологическая ситуация — это пространственно-временное сочетание различных, в том числе позитивных и негативных с точки зрения проживания и состояния человека условий и факторов, создающих определённую экологическую обстановку на территории разной степени благополучия или неблагополуч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Напряжённая ситуация характеризуется негативными изменениями в отдельных компонентах ландшафтов, что ведёт к нарушению или деградации отдельных природных ресурсов и, в ряде случаев, к ухудшению условий проживания населения; при соблюдении природоохранных мер напряжённость экологической ситуации, как правило, спад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8B3-BFAD-4A79-9BD2-EAB80028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61A-6176-4131-8D79-A05197DE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8F1-4EA2-457F-A2D2-36E4A9DE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5BC-6A1A-41F3-92AC-E7C2A5F5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0C7-DEFB-42E4-973E-E894004C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0CF-AFE0-40FA-92AB-8E9BBBEE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DCFE-8F38-412E-82D8-BA7B3E42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BC6A-61BC-4446-B007-EF0A8369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A0C-85BB-4D5D-B63D-2EE38B29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DC5-8A4F-4F75-8144-53D37705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233-CFC6-45B1-9937-BB1D5F0D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56C-4A53-4909-872D-3E5BE754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4422-EE14-4065-ACE0-2C632A1C80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image" Target="../media/image9.jpeg"/><Relationship Id="rId6" Type="http://schemas.openxmlformats.org/officeDocument/2006/relationships/slide" Target="slide7.xml"/><Relationship Id="rId7" Type="http://schemas.openxmlformats.org/officeDocument/2006/relationships/image" Target="../media/image10.jpeg"/><Relationship Id="rId8" Type="http://schemas.openxmlformats.org/officeDocument/2006/relationships/slide" Target="slide8.xml"/><Relationship Id="rId9" Type="http://schemas.openxmlformats.org/officeDocument/2006/relationships/image" Target="../media/image11.jpeg"/><Relationship Id="rId10" Type="http://schemas.openxmlformats.org/officeDocument/2006/relationships/slide" Target="slide9.xml"/><Relationship Id="rId11" Type="http://schemas.openxmlformats.org/officeDocument/2006/relationships/image" Target="../media/image12.jpeg"/><Relationship Id="rId12" Type="http://schemas.openxmlformats.org/officeDocument/2006/relationships/slide" Target="slide10.xml"/><Relationship Id="rId13" Type="http://schemas.openxmlformats.org/officeDocument/2006/relationships/image" Target="../media/image13.jpeg"/><Relationship Id="rId14" Type="http://schemas.openxmlformats.org/officeDocument/2006/relationships/slide" Target="slide11.xml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Pic #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Pic #1-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4952880"/>
            <a:ext cx="888984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4274_2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anco"/>
              </a:rPr>
              <a:t>Генофонд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valon Medium"/>
              </a:rPr>
              <a:t>Генофонд — понятие из популяционной генетики, описывающее совокупность всех генных вариаций (аллелей) определённой популяции.</a:t>
            </a:r>
            <a:r>
              <a:rPr b="1" lang="ru-RU" sz="2000" spc="-1" strike="noStrike">
                <a:solidFill>
                  <a:srgbClr val="ffffff"/>
                </a:solidFill>
                <a:latin typeface="Avalon Medium"/>
              </a:rPr>
              <a:t> Популяция располагает всеми своими аллелями для оптимального приспособления к окружающей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valon Medium"/>
              </a:rPr>
              <a:t>Более крупный генофонд с множеством разных вариантом отдельных генов ведёт к лучшему приспособлению потомства к меняющейся окружающей среде. Разнообразие аллелей позволяет приспособиться к изменениям значительно быстрее, если соотвествующие аллели уже имеются в наличии, чем если они должны появиться вследствие мутации. Тем не менее, в неменяющейся окружающей среде, меньшее число аллелей может быть более выгодным, чтобы по совпадению не возникало слишком много неблагоприятных комбинаций алл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8172360" y="6237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prirod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Banco"/>
              </a:rPr>
              <a:t>Литерату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50130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Бьорн Ломборг "Охладите! Глобальное потепл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Википедиа </a:t>
            </a:r>
            <a:r>
              <a:rPr b="1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ic #2-1"/>
          <p:cNvPicPr/>
          <p:nvPr/>
        </p:nvPicPr>
        <p:blipFill>
          <a:blip r:embed="rId1"/>
          <a:stretch/>
        </p:blipFill>
        <p:spPr>
          <a:xfrm>
            <a:off x="-47520" y="-47520"/>
            <a:ext cx="9191520" cy="691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Pic #2-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67280" y="3789360"/>
            <a:ext cx="1054080" cy="380880"/>
          </a:xfrm>
          <a:prstGeom prst="rect">
            <a:avLst/>
          </a:prstGeom>
          <a:ln w="0">
            <a:noFill/>
          </a:ln>
        </p:spPr>
      </p:pic>
      <p:pic>
        <p:nvPicPr>
          <p:cNvPr id="53" name="01 Ошибка Windows .mp3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_2ab4_832b760a_XL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nco"/>
              </a:rPr>
              <a:t>Презентация по экологии на тему:</a:t>
            </a: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Banco"/>
              </a:rPr>
              <a:t>Экология в жизни человека</a:t>
            </a: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”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59280" y="4581360"/>
            <a:ext cx="3384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Выполн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ученица 11-б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МОУ СОШ №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г. Новочеркас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Богатова А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1" descr="0829ed3b2973b7db572c0102bff7e91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anco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2" descr="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1413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2637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3933720"/>
            <a:ext cx="3606840" cy="698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4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003640" y="1413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5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003640" y="2637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7" descr="6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003640" y="3860640"/>
            <a:ext cx="3606840" cy="698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7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771640" y="5157720"/>
            <a:ext cx="3606840" cy="6984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46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co"/>
              </a:rPr>
              <a:t>Экология. Что это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valon Medium"/>
              </a:rPr>
              <a:t>Экология - биологическая наука, которая исследует структуру и функционирование систем надорганизменного уровня (популяции, сообщества, экосистемы) в пространстве и времени в естественных и измененных человеком условиях. Это определение дано </a:t>
            </a:r>
            <a:r>
              <a:rPr b="0" lang="ru-RU" sz="2400" spc="-1" strike="noStrike">
                <a:solidFill>
                  <a:srgbClr val="00ffff"/>
                </a:solidFill>
                <a:latin typeface="Avalon Medium"/>
              </a:rPr>
              <a:t>на 5-м Международном экологическом конгрессе (1990)  с целью противодействия размыванию понятия экологии, наблюдаемому в настояще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valon Medium"/>
              </a:rPr>
              <a:t>Экология — это познание экономики природы, одновременное исследование всех взаимоотношений живого с органическими и неорганическими компонентами среды… Одним словом, экология — это наука, изучающая все сложные взаимосвязи в природе, рассматриваемые Дарвином как условия борьбы за существ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>
            <a:hlinkClick r:id="" action="ppaction://hlinkshowjump?jump=previousslide"/>
          </p:cNvPr>
          <p:cNvSpPr/>
          <p:nvPr/>
        </p:nvSpPr>
        <p:spPr>
          <a:xfrm>
            <a:off x="8028000" y="602136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_aa47_bd65805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58920" y="333000"/>
            <a:ext cx="72007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valon Medium"/>
              </a:rPr>
              <a:t>Экологи́ческая катастро́фа                        — необратимое изменение природных комплексов, связанное с массовой гибелью живых 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Organization Chart 9"/>
          <p:cNvGrpSpPr/>
          <p:nvPr/>
        </p:nvGrpSpPr>
        <p:grpSpPr>
          <a:xfrm>
            <a:off x="179280" y="2421000"/>
            <a:ext cx="8820720" cy="3815280"/>
            <a:chOff x="179280" y="2421000"/>
            <a:chExt cx="8820720" cy="3815280"/>
          </a:xfrm>
        </p:grpSpPr>
        <p:cxnSp>
          <p:nvCxnSpPr>
            <p:cNvPr id="77" name="_s1028"/>
            <p:cNvCxnSpPr>
              <a:stCxn id="78" idx="0"/>
              <a:endCxn id="79" idx="2"/>
            </p:cNvCxnSpPr>
            <p:nvPr/>
          </p:nvCxnSpPr>
          <p:spPr>
            <a:xfrm flipV="1">
              <a:off x="6964200" y="4805280"/>
              <a:ext cx="468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1029"/>
            <p:cNvCxnSpPr>
              <a:stCxn id="81" idx="0"/>
              <a:endCxn id="82" idx="2"/>
            </p:cNvCxnSpPr>
            <p:nvPr/>
          </p:nvCxnSpPr>
          <p:spPr>
            <a:xfrm flipV="1">
              <a:off x="2214360" y="4805280"/>
              <a:ext cx="468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0"/>
            <p:cNvCxnSpPr>
              <a:stCxn id="79" idx="0"/>
              <a:endCxn id="84" idx="2"/>
            </p:cNvCxnSpPr>
            <p:nvPr/>
          </p:nvCxnSpPr>
          <p:spPr>
            <a:xfrm flipV="1" rot="16200000">
              <a:off x="5538240" y="2424600"/>
              <a:ext cx="477360" cy="2376000"/>
            </a:xfrm>
            <a:prstGeom prst="bentConnector3">
              <a:avLst>
                <a:gd name="adj1" fmla="val 44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31"/>
            <p:cNvCxnSpPr>
              <a:stCxn id="82" idx="0"/>
              <a:endCxn id="84" idx="2"/>
            </p:cNvCxnSpPr>
            <p:nvPr/>
          </p:nvCxnSpPr>
          <p:spPr>
            <a:xfrm flipH="1" flipV="1" rot="5400000">
              <a:off x="3162600" y="2425680"/>
              <a:ext cx="477360" cy="2374560"/>
            </a:xfrm>
            <a:prstGeom prst="bentConnector3">
              <a:avLst>
                <a:gd name="adj1" fmla="val 44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32"/>
            <p:cNvSpPr/>
            <p:nvPr/>
          </p:nvSpPr>
          <p:spPr>
            <a:xfrm>
              <a:off x="2553480" y="242100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Виды катастроф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33"/>
            <p:cNvSpPr/>
            <p:nvPr/>
          </p:nvSpPr>
          <p:spPr>
            <a:xfrm>
              <a:off x="179280" y="3851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Локальна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4"/>
            <p:cNvSpPr/>
            <p:nvPr/>
          </p:nvSpPr>
          <p:spPr>
            <a:xfrm>
              <a:off x="4928760" y="3851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Глобальна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5"/>
            <p:cNvSpPr/>
            <p:nvPr/>
          </p:nvSpPr>
          <p:spPr>
            <a:xfrm>
              <a:off x="179280" y="5282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арушение одной или боле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локальных экологических систе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6"/>
            <p:cNvSpPr/>
            <p:nvPr/>
          </p:nvSpPr>
          <p:spPr>
            <a:xfrm>
              <a:off x="4928760" y="5282640"/>
              <a:ext cx="4071240" cy="95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евышения предела внешним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ли внутренни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оздействием на экологическую систему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AutoShape 23"/>
          <p:cNvSpPr/>
          <p:nvPr/>
        </p:nvSpPr>
        <p:spPr>
          <a:xfrm>
            <a:off x="8317080" y="638172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0_33b5c_463e3efa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anco"/>
              </a:rPr>
              <a:t>Загрязнение атм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7756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Загрязнение атмосферы — привнесение в атмосферный воздух новых не характерных для него физических, химических и биологических веществ или изменение естественной среднемноголетней концентрации этих агентов в 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Organization Chart 6"/>
          <p:cNvGrpSpPr/>
          <p:nvPr/>
        </p:nvGrpSpPr>
        <p:grpSpPr>
          <a:xfrm>
            <a:off x="395280" y="3429000"/>
            <a:ext cx="8353080" cy="2447280"/>
            <a:chOff x="395280" y="3429000"/>
            <a:chExt cx="8353080" cy="2447280"/>
          </a:xfrm>
        </p:grpSpPr>
        <p:cxnSp>
          <p:nvCxnSpPr>
            <p:cNvPr id="92" name="_s2052"/>
            <p:cNvCxnSpPr>
              <a:stCxn id="93" idx="0"/>
              <a:endCxn id="94" idx="2"/>
            </p:cNvCxnSpPr>
            <p:nvPr/>
          </p:nvCxnSpPr>
          <p:spPr>
            <a:xfrm flipH="1" flipV="1" rot="5400000">
              <a:off x="3108600" y="3432960"/>
              <a:ext cx="489600" cy="243828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2053"/>
            <p:cNvCxnSpPr>
              <a:stCxn id="96" idx="0"/>
              <a:endCxn id="94" idx="2"/>
            </p:cNvCxnSpPr>
            <p:nvPr/>
          </p:nvCxnSpPr>
          <p:spPr>
            <a:xfrm flipV="1" rot="16200000">
              <a:off x="4936680" y="4042440"/>
              <a:ext cx="489600" cy="121932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54"/>
            <p:cNvCxnSpPr>
              <a:stCxn id="98" idx="0"/>
              <a:endCxn id="94" idx="2"/>
            </p:cNvCxnSpPr>
            <p:nvPr/>
          </p:nvCxnSpPr>
          <p:spPr>
            <a:xfrm flipV="1" rot="16200000">
              <a:off x="5545440" y="3433680"/>
              <a:ext cx="489600" cy="243684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55"/>
            <p:cNvCxnSpPr>
              <a:stCxn id="100" idx="0"/>
              <a:endCxn id="94" idx="2"/>
            </p:cNvCxnSpPr>
            <p:nvPr/>
          </p:nvCxnSpPr>
          <p:spPr>
            <a:xfrm flipV="1" rot="16200000">
              <a:off x="6154200" y="2824920"/>
              <a:ext cx="489600" cy="365436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056"/>
            <p:cNvCxnSpPr>
              <a:stCxn id="102" idx="0"/>
              <a:endCxn id="94" idx="2"/>
            </p:cNvCxnSpPr>
            <p:nvPr/>
          </p:nvCxnSpPr>
          <p:spPr>
            <a:xfrm flipV="1">
              <a:off x="4572000" y="4407480"/>
              <a:ext cx="1800" cy="489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057"/>
            <p:cNvCxnSpPr>
              <a:stCxn id="104" idx="0"/>
              <a:endCxn id="94" idx="2"/>
            </p:cNvCxnSpPr>
            <p:nvPr/>
          </p:nvCxnSpPr>
          <p:spPr>
            <a:xfrm flipH="1" flipV="1" rot="5400000">
              <a:off x="3718080" y="4042440"/>
              <a:ext cx="489600" cy="121932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058"/>
            <p:cNvCxnSpPr>
              <a:stCxn id="106" idx="0"/>
              <a:endCxn id="94" idx="2"/>
            </p:cNvCxnSpPr>
            <p:nvPr/>
          </p:nvCxnSpPr>
          <p:spPr>
            <a:xfrm flipH="1" flipV="1" rot="5400000">
              <a:off x="2499840" y="2824560"/>
              <a:ext cx="489600" cy="365544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4" name="_s2059"/>
            <p:cNvSpPr/>
            <p:nvPr/>
          </p:nvSpPr>
          <p:spPr>
            <a:xfrm>
              <a:off x="4048920" y="342900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сновны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загрязнител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60"/>
            <p:cNvSpPr/>
            <p:nvPr/>
          </p:nvSpPr>
          <p:spPr>
            <a:xfrm>
              <a:off x="39528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ксид углерод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061"/>
            <p:cNvSpPr/>
            <p:nvPr/>
          </p:nvSpPr>
          <p:spPr>
            <a:xfrm>
              <a:off x="28314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ксиды азот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2"/>
            <p:cNvSpPr/>
            <p:nvPr/>
          </p:nvSpPr>
          <p:spPr>
            <a:xfrm>
              <a:off x="40500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Диоксид сер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63"/>
            <p:cNvSpPr/>
            <p:nvPr/>
          </p:nvSpPr>
          <p:spPr>
            <a:xfrm>
              <a:off x="77040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Тяжёлые металл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64"/>
            <p:cNvSpPr/>
            <p:nvPr/>
          </p:nvSpPr>
          <p:spPr>
            <a:xfrm>
              <a:off x="648648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Альдегид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65"/>
            <p:cNvSpPr/>
            <p:nvPr/>
          </p:nvSpPr>
          <p:spPr>
            <a:xfrm>
              <a:off x="526896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Углеводород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6"/>
            <p:cNvSpPr/>
            <p:nvPr/>
          </p:nvSpPr>
          <p:spPr>
            <a:xfrm>
              <a:off x="161388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Атмосферная пы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utoShape 23"/>
          <p:cNvSpPr/>
          <p:nvPr/>
        </p:nvSpPr>
        <p:spPr>
          <a:xfrm>
            <a:off x="7885080" y="616572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2815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anco"/>
              </a:rPr>
              <a:t>Кислотные дож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valon Medium"/>
              </a:rPr>
              <a:t>Кисло́тный дождь — все виды метеорологических осадков — дождь, снег, град, туман, дождь со снегом, при котором наблюдается понижение pH дождевых осадков из-за загрязнений воздуха кислотными оксидами (обычно — оксидами серы, оксидами азо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Diagram 39"/>
          <p:cNvGrpSpPr/>
          <p:nvPr/>
        </p:nvGrpSpPr>
        <p:grpSpPr>
          <a:xfrm>
            <a:off x="2977560" y="3755160"/>
            <a:ext cx="3548160" cy="2363760"/>
            <a:chOff x="2977560" y="3755160"/>
            <a:chExt cx="3548160" cy="2363760"/>
          </a:xfrm>
        </p:grpSpPr>
        <p:sp>
          <p:nvSpPr>
            <p:cNvPr id="113" name="_s3076"/>
            <p:cNvSpPr/>
            <p:nvPr/>
          </p:nvSpPr>
          <p:spPr>
            <a:xfrm flipV="1">
              <a:off x="4159800" y="3755160"/>
              <a:ext cx="1184040" cy="788400"/>
            </a:xfrm>
            <a:custGeom>
              <a:avLst/>
              <a:gdLst>
                <a:gd name="textAreaLeft" fmla="*/ 424800 w 1184040"/>
                <a:gd name="textAreaRight" fmla="*/ 759240 w 1184040"/>
                <a:gd name="textAreaTop" fmla="*/ 282960 h 788400"/>
                <a:gd name="textAreaBottom" fmla="*/ 5054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ожд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077"/>
            <p:cNvSpPr/>
            <p:nvPr/>
          </p:nvSpPr>
          <p:spPr>
            <a:xfrm flipV="1">
              <a:off x="3569760" y="4543920"/>
              <a:ext cx="2363760" cy="788400"/>
            </a:xfrm>
            <a:custGeom>
              <a:avLst/>
              <a:gdLst>
                <a:gd name="textAreaLeft" fmla="*/ 519840 w 2363760"/>
                <a:gd name="textAreaRight" fmla="*/ 1843920 w 2363760"/>
                <a:gd name="textAreaTop" fmla="*/ 173160 h 788400"/>
                <a:gd name="textAreaBottom" fmla="*/ 6152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опадание в возду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3078"/>
            <p:cNvSpPr/>
            <p:nvPr/>
          </p:nvSpPr>
          <p:spPr>
            <a:xfrm flipV="1">
              <a:off x="2977560" y="5331960"/>
              <a:ext cx="3548160" cy="786600"/>
            </a:xfrm>
            <a:custGeom>
              <a:avLst/>
              <a:gdLst>
                <a:gd name="textAreaLeft" fmla="*/ 615960 w 3548160"/>
                <a:gd name="textAreaRight" fmla="*/ 2932200 w 3548160"/>
                <a:gd name="textAreaTop" fmla="*/ 136440 h 786600"/>
                <a:gd name="textAreaBottom" fmla="*/ 650160 h 78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ислотный окс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AutoShape 45"/>
          <p:cNvSpPr/>
          <p:nvPr/>
        </p:nvSpPr>
        <p:spPr>
          <a:xfrm>
            <a:off x="7956720" y="5805360"/>
            <a:ext cx="936360" cy="576360"/>
          </a:xfrm>
          <a:custGeom>
            <a:avLst/>
            <a:gdLst>
              <a:gd name="textAreaLeft" fmla="*/ 37080 w 936360"/>
              <a:gd name="textAreaRight" fmla="*/ 899280 w 93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83" h="21600">
                <a:moveTo>
                  <a:pt x="0" y="0"/>
                </a:moveTo>
                <a:lnTo>
                  <a:pt x="35083" y="0"/>
                </a:lnTo>
                <a:lnTo>
                  <a:pt x="35083" y="21600"/>
                </a:lnTo>
                <a:lnTo>
                  <a:pt x="0" y="21600"/>
                </a:lnTo>
                <a:close/>
              </a:path>
              <a:path fill="lightenLess" w="35083" h="21600">
                <a:moveTo>
                  <a:pt x="0" y="0"/>
                </a:moveTo>
                <a:lnTo>
                  <a:pt x="35083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3" h="21600">
                <a:moveTo>
                  <a:pt x="35083" y="0"/>
                </a:moveTo>
                <a:lnTo>
                  <a:pt x="35083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3" h="21600">
                <a:moveTo>
                  <a:pt x="35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83" h="21600">
                <a:moveTo>
                  <a:pt x="10535" y="10800"/>
                </a:moveTo>
                <a:lnTo>
                  <a:pt x="24548" y="3794"/>
                </a:lnTo>
                <a:lnTo>
                  <a:pt x="2454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811237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nco"/>
              </a:rPr>
              <a:t>Экологическая напряж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Экологическая ситуация — это пространственно-временное сочетание различных, в том числе позитивных и негативных с точки зрения проживания и состояния человека условий и факторов, создающих определённую экологическую обстановку на территории разной степени благополучия или неблагополуч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Напряжённая ситуация характеризуется негативными изменениями в отдельных компонентах ландшафтов, что ведёт к нарушению или деградации отдельных природных ресурсов и, в ряде случаев, к ухудшению условий проживания населения; при соблюдении природоохранных мер напряжённость экологической ситуации, как правило, спа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8317080" y="6021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2:16:38Z</dcterms:created>
  <dc:creator>МОУ СОШ № 31</dc:creator>
  <dc:description>www.school31novochek.narod.ru
</dc:description>
  <dc:language>en-US</dc:language>
  <cp:lastModifiedBy>LEGION</cp:lastModifiedBy>
  <dcterms:modified xsi:type="dcterms:W3CDTF">2015-05-06T08:04:50Z</dcterms:modified>
  <cp:revision>9</cp:revision>
  <dc:subject/>
  <dc:title>Экологические проблем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0b000000000001024140</vt:lpwstr>
  </property>
</Properties>
</file>