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87F3-3728-4F16-B961-6488C3EC2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37F-9978-492C-A124-0FB929DC2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C044-CCE1-4908-AA86-17EEC2619C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264F-3C4A-4D6C-8E48-D705BB4ED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9756-A389-45B7-82FE-18E785C05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BC9-1FAF-4327-AF65-07AF5F501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6601-71C3-43F9-AE79-EEEAA77EE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FB15-9025-4E56-838E-9464CCA51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1975-535F-4174-A1EB-5C73B6844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21F0-CC96-43B8-9463-FD97493FE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7208-EA10-4C0B-85DF-53D994DE2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2CD7-9596-4700-96CB-B4512F992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58D-BD17-4FCE-A076-2A046A0D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CAC-6ACC-4788-96B7-7E5D2A10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36C-D034-4C33-98AC-BA9D4A86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DB1-5DD9-4238-A510-A2B66BDE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A1B-09F1-4B9A-AEFB-C1D7B4BD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25E-4E1B-4A3C-9CEE-363E48C8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CB2-3E48-42CC-83F0-FBC9CB53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83F-1694-43D8-B52A-A529FFE5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AD7-4F1C-419F-89BD-98785E2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0DF-5B4D-4753-B2A6-3C37BBD7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827-5056-4D5C-8F98-FC775556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C3B-7505-4FCC-92DE-5D98138E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648D-67A9-4BA9-AFEF-EBA448EBC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slide" Target="slide8.xml"/><Relationship Id="rId9" Type="http://schemas.openxmlformats.org/officeDocument/2006/relationships/image" Target="../media/image11.jpeg"/><Relationship Id="rId10" Type="http://schemas.openxmlformats.org/officeDocument/2006/relationships/slide" Target="slide9.xml"/><Relationship Id="rId11" Type="http://schemas.openxmlformats.org/officeDocument/2006/relationships/image" Target="../media/image12.jpeg"/><Relationship Id="rId12" Type="http://schemas.openxmlformats.org/officeDocument/2006/relationships/slide" Target="slide10.xml"/><Relationship Id="rId13" Type="http://schemas.openxmlformats.org/officeDocument/2006/relationships/image" Target="../media/image13.jpeg"/><Relationship Id="rId14" Type="http://schemas.openxmlformats.org/officeDocument/2006/relationships/slide" Target="slide11.xml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 #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 #1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952880"/>
            <a:ext cx="88898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42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17236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rirod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 #2-1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1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 #2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10540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01 Ошибка Windows 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b4_832b760a_XL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59280" y="4581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0829ed3b2973b7db572c0102bff7e9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393372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3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03640" y="386064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7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771640" y="5157720"/>
            <a:ext cx="3606840" cy="698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aa47_bd65805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200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9"/>
          <p:cNvGrpSpPr/>
          <p:nvPr/>
        </p:nvGrpSpPr>
        <p:grpSpPr>
          <a:xfrm>
            <a:off x="179280" y="2421000"/>
            <a:ext cx="8820720" cy="3815280"/>
            <a:chOff x="179280" y="2421000"/>
            <a:chExt cx="8820720" cy="38152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>
              <a:off x="696420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82" idx="2"/>
            </p:cNvCxnSpPr>
            <p:nvPr/>
          </p:nvCxnSpPr>
          <p:spPr>
            <a:xfrm flipV="1">
              <a:off x="221436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79" idx="0"/>
              <a:endCxn id="84" idx="2"/>
            </p:cNvCxnSpPr>
            <p:nvPr/>
          </p:nvCxnSpPr>
          <p:spPr>
            <a:xfrm flipV="1" rot="16200000">
              <a:off x="5538240" y="2424600"/>
              <a:ext cx="477360" cy="237600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1"/>
            <p:cNvCxnSpPr>
              <a:stCxn id="82" idx="0"/>
              <a:endCxn id="84" idx="2"/>
            </p:cNvCxnSpPr>
            <p:nvPr/>
          </p:nvCxnSpPr>
          <p:spPr>
            <a:xfrm flipH="1" flipV="1" rot="5400000">
              <a:off x="3162600" y="2425680"/>
              <a:ext cx="477360" cy="237456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32"/>
            <p:cNvSpPr/>
            <p:nvPr/>
          </p:nvSpPr>
          <p:spPr>
            <a:xfrm>
              <a:off x="2553480" y="242100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Виды катастро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17928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Лок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492876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лоб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179280" y="5282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рушение одной или боле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окальных экологических сист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928760" y="5282640"/>
              <a:ext cx="4071240" cy="95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евышения предела внешни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ли внутренни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здействием на экологическую сис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23"/>
          <p:cNvSpPr/>
          <p:nvPr/>
        </p:nvSpPr>
        <p:spPr>
          <a:xfrm>
            <a:off x="831708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_33b5c_463e3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6"/>
          <p:cNvGrpSpPr/>
          <p:nvPr/>
        </p:nvGrpSpPr>
        <p:grpSpPr>
          <a:xfrm>
            <a:off x="395280" y="3429000"/>
            <a:ext cx="8353080" cy="2447280"/>
            <a:chOff x="395280" y="3429000"/>
            <a:chExt cx="8353080" cy="244728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H="1" flipV="1" rot="5400000">
              <a:off x="3108600" y="3432960"/>
              <a:ext cx="489600" cy="243828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 rot="16200000">
              <a:off x="49366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V="1" rot="16200000">
              <a:off x="5545440" y="3433680"/>
              <a:ext cx="489600" cy="24368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4" idx="2"/>
            </p:cNvCxnSpPr>
            <p:nvPr/>
          </p:nvCxnSpPr>
          <p:spPr>
            <a:xfrm flipV="1" rot="16200000">
              <a:off x="6154200" y="2824920"/>
              <a:ext cx="489600" cy="365436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102" idx="0"/>
              <a:endCxn id="94" idx="2"/>
            </p:cNvCxnSpPr>
            <p:nvPr/>
          </p:nvCxnSpPr>
          <p:spPr>
            <a:xfrm flipV="1">
              <a:off x="4572000" y="4407480"/>
              <a:ext cx="180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94" idx="2"/>
            </p:cNvCxnSpPr>
            <p:nvPr/>
          </p:nvCxnSpPr>
          <p:spPr>
            <a:xfrm flipH="1" flipV="1" rot="5400000">
              <a:off x="37180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106" idx="0"/>
              <a:endCxn id="94" idx="2"/>
            </p:cNvCxnSpPr>
            <p:nvPr/>
          </p:nvCxnSpPr>
          <p:spPr>
            <a:xfrm flipH="1" flipV="1" rot="5400000">
              <a:off x="2499840" y="2824560"/>
              <a:ext cx="489600" cy="36554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2059"/>
            <p:cNvSpPr/>
            <p:nvPr/>
          </p:nvSpPr>
          <p:spPr>
            <a:xfrm>
              <a:off x="4048920" y="342900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загряз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0"/>
            <p:cNvSpPr/>
            <p:nvPr/>
          </p:nvSpPr>
          <p:spPr>
            <a:xfrm>
              <a:off x="39528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 углеро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28314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ы аз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>
              <a:off x="4050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оксид с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7704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Тяжёлые металл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4"/>
            <p:cNvSpPr/>
            <p:nvPr/>
          </p:nvSpPr>
          <p:spPr>
            <a:xfrm>
              <a:off x="64864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льдеги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5"/>
            <p:cNvSpPr/>
            <p:nvPr/>
          </p:nvSpPr>
          <p:spPr>
            <a:xfrm>
              <a:off x="526896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глеводоро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6"/>
            <p:cNvSpPr/>
            <p:nvPr/>
          </p:nvSpPr>
          <p:spPr>
            <a:xfrm>
              <a:off x="16138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тмосферная пы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7885080" y="616572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Diagram 39"/>
          <p:cNvGrpSpPr/>
          <p:nvPr/>
        </p:nvGrpSpPr>
        <p:grpSpPr>
          <a:xfrm>
            <a:off x="2977560" y="3755160"/>
            <a:ext cx="3548160" cy="2363760"/>
            <a:chOff x="2977560" y="3755160"/>
            <a:chExt cx="3548160" cy="2363760"/>
          </a:xfrm>
        </p:grpSpPr>
        <p:sp>
          <p:nvSpPr>
            <p:cNvPr id="113" name="_s3076"/>
            <p:cNvSpPr/>
            <p:nvPr/>
          </p:nvSpPr>
          <p:spPr>
            <a:xfrm flipV="1">
              <a:off x="4159800" y="3755160"/>
              <a:ext cx="1184040" cy="788400"/>
            </a:xfrm>
            <a:custGeom>
              <a:avLst/>
              <a:gdLst>
                <a:gd name="textAreaLeft" fmla="*/ 424800 w 1184040"/>
                <a:gd name="textAreaRight" fmla="*/ 759240 w 1184040"/>
                <a:gd name="textAreaTop" fmla="*/ 282960 h 788400"/>
                <a:gd name="textAreaBottom" fmla="*/ 505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ж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7"/>
            <p:cNvSpPr/>
            <p:nvPr/>
          </p:nvSpPr>
          <p:spPr>
            <a:xfrm flipV="1">
              <a:off x="3569760" y="4543920"/>
              <a:ext cx="2363760" cy="788400"/>
            </a:xfrm>
            <a:custGeom>
              <a:avLst/>
              <a:gdLst>
                <a:gd name="textAreaLeft" fmla="*/ 519840 w 2363760"/>
                <a:gd name="textAreaRight" fmla="*/ 1843920 w 2363760"/>
                <a:gd name="textAreaTop" fmla="*/ 173160 h 788400"/>
                <a:gd name="textAreaBottom" fmla="*/ 6152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падание в возду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8"/>
            <p:cNvSpPr/>
            <p:nvPr/>
          </p:nvSpPr>
          <p:spPr>
            <a:xfrm flipV="1">
              <a:off x="2977560" y="5331960"/>
              <a:ext cx="3548160" cy="786600"/>
            </a:xfrm>
            <a:custGeom>
              <a:avLst/>
              <a:gdLst>
                <a:gd name="textAreaLeft" fmla="*/ 615960 w 3548160"/>
                <a:gd name="textAreaRight" fmla="*/ 2932200 w 3548160"/>
                <a:gd name="textAreaTop" fmla="*/ 136440 h 786600"/>
                <a:gd name="textAreaBottom" fmla="*/ 650160 h 7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ислотный окс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45"/>
          <p:cNvSpPr/>
          <p:nvPr/>
        </p:nvSpPr>
        <p:spPr>
          <a:xfrm>
            <a:off x="7956720" y="5805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81123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317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16:38Z</dcterms:created>
  <dc:creator>МОУ СОШ № 31</dc:creator>
  <dc:description>www.school31novochek.narod.ru
</dc:description>
  <dc:language>en-US</dc:language>
  <cp:lastModifiedBy>LEGION</cp:lastModifiedBy>
  <dcterms:modified xsi:type="dcterms:W3CDTF">2015-05-06T08:04:50Z</dcterms:modified>
  <cp:revision>9</cp:revision>
  <dc:subject/>
  <dc:title>Экологические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b000000000001024140</vt:lpwstr>
  </property>
</Properties>
</file>