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0A3-5338-47E2-97BE-F64933873D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экологически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E304-FB3C-4BAB-AA9F-8DC9290A6C2F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клад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ене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DC27-6D72-4832-9E44-0EF3AB2FA622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пос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условия существования людей в населенных пунктах различных типов и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б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E1EC-E7AE-4B5C-BB95-3518BC0B2C30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жизнь человека в социально-культурн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A435-CA92-413F-8FA3-AB9B8F730974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.Геккель,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7648-2D14-483A-A18F-DC08D685C78F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щая своей целью сохранение  жизни на Земл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BF1D-267B-4718-BA1A-6BCB063AC5C3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истематическ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амфи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38A7-9981-4818-BE9C-4F0E239677DD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иерархии жи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нд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я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леток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рганов и 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з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с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08CB-88A5-48BC-99BE-58F265D7EB7C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актори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лияние на организмы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65A-06E3-4CC6-8694-74BABFC7854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ред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9627-9228-4EE9-BD7F-390ABAF7FED7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общие экологически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эколог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D71F-2896-4152-B866-434D6331110D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но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экологические процессы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он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е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2B90-2C4B-4125-8C87-9DC753E9F716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B58-4A3A-4DD2-9CFC-FDAE830E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806-3DE6-45E0-BD86-DDF6AD78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40C-507C-4765-BF88-47261977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81A-16BF-4D04-B93E-1C70D92B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36AC-14B2-4FA1-8D43-578C2B9A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37A7-F17D-4970-967B-F0B3312C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B784-912C-40D2-AB97-612FFE8D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7EE9-3D73-4716-B38B-F0B54839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E121-872E-4324-8BD7-6E8CD8AE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F0E4-6B91-465B-BDEA-955A5230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FA1E-E3A9-45CA-9D58-E53AF46A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797-5124-4461-95CE-6DBA15D1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55BD-212F-4363-9259-4FEB3793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13D8-CB6F-4079-ABEF-C2FF216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9634-EFC6-42E8-B7BE-15A33C2D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68E6-88AE-4013-B44F-234DE57D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336D-617E-422B-A088-EA7EB356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9E2-9B44-409B-8A00-62747B76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1A8-053C-4375-8873-D40C9442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2C0-4A31-4AE3-A5FE-933C6AFC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2DB-4DF4-4BBB-8A2B-1D272315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A61-8FDF-42BC-9A0E-4BBDA92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60E-1B0A-402D-AD2F-6D7F7943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2F4-3646-4C51-8101-287CF9D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8066-6D44-4AAD-8E42-1E9E31CD22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635A-2D1B-4457-979B-F3EFD1C303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Структура экологических зна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13" descr="GBI_1C37_006Nf"/>
          <p:cNvPicPr/>
          <p:nvPr/>
        </p:nvPicPr>
        <p:blipFill>
          <a:blip r:embed="rId1"/>
          <a:stretch/>
        </p:blipFill>
        <p:spPr>
          <a:xfrm>
            <a:off x="250920" y="3068640"/>
            <a:ext cx="273672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j0185197"/>
          <p:cNvPicPr/>
          <p:nvPr/>
        </p:nvPicPr>
        <p:blipFill>
          <a:blip r:embed="rId2"/>
          <a:stretch/>
        </p:blipFill>
        <p:spPr>
          <a:xfrm>
            <a:off x="2124000" y="4149720"/>
            <a:ext cx="287964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_genome"/>
          <p:cNvPicPr/>
          <p:nvPr/>
        </p:nvPicPr>
        <p:blipFill>
          <a:blip r:embed="rId1"/>
          <a:stretch/>
        </p:blipFill>
        <p:spPr>
          <a:xfrm>
            <a:off x="1187280" y="4394160"/>
            <a:ext cx="648036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>ppt.3dn.ru</dc:description>
  <dc:language>en-US</dc:language>
  <cp:lastModifiedBy>LEGION</cp:lastModifiedBy>
  <dcterms:modified xsi:type="dcterms:W3CDTF">2015-05-06T08:51:51Z</dcterms:modified>
  <cp:revision>10</cp:revision>
  <dc:subject/>
  <dc:title>Проблемы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5000000000001024140</vt:lpwstr>
  </property>
</Properties>
</file>