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7D70-A2C9-4803-94ED-503B3F6AF5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экологически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0257-5338-4E79-A21E-3F5D8FD2FD69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иклад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ене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C2AA-FA69-480C-90AA-A9049E94432C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пос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условия существования людей в населенных пунктах различных типов и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б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3142-9985-47F8-87EF-0573B55A7CF3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жизнь человека в социально-культурно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д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81AB-C388-4A6F-9251-2E15174DC272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.Геккель, 186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17AC-3DB5-4C31-BF7D-8390EFE1BFEE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вящая своей целью сохранение  жизни на Земл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2894-0E11-4134-8560-3FE91B105306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истематическ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амфи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1CB8-25B1-44EA-B437-448FFA522512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иерархии жи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нд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я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леток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рганов и 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кз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со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оп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9AC1-56E2-430F-B8B8-65EA36F7930C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актори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 влияние на организмы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AC3F-02D9-453E-BFFF-E5FC7101CDB6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ред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B6B5-580B-4DB0-BFBD-951396797AFF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общие экологические закономер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ая эколог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8C75-B7AC-4A9E-9C6F-F1E5E63D9359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оно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экологические процессы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он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е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е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69DC-2C60-4748-B6B1-770A708C8A2C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05C-A1B7-49F8-9F55-79B0C4DC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641-6B70-4492-82FD-1125D652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5B7-BDBF-4806-92E4-C1F96D3F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F1C-7F32-44A1-93C7-996F5461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04F5-5CFF-4D76-99E1-709EFAA5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4B67-F3AC-4595-B843-F3EE1678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7CE0-0F16-41AA-AF0F-A6947226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67A4-6197-49CB-85D0-7C208845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6969-894F-4143-8C3B-4CF5C9B5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1C76-CF27-4ED6-8789-21AA57D4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721C-D5AF-4329-B9A8-464A6736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E2A-A912-47CD-8892-9B301937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3822-A009-4519-89F8-2FB2241E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D353-3A34-491A-8595-CC8EEF00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D3B9-C399-4C59-9207-7202945C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1E55-A934-4F95-B487-27B1B50C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07D7-C0FE-426F-BC99-2A669427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EDF-D32F-4C62-A5B9-B4ED0CF3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B8A-1AA5-4C41-A4D4-7B32ABDE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773-A905-439B-AB95-6D2FBC59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F5D-3FFB-49C8-AAFD-6C4D7B56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94A-5AD0-4B6A-B11D-E6034704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BC5-EC62-4250-9436-D51DB9DB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087-9EC1-4D85-8FCA-75FFBA09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CC22-BD6B-41C1-994F-C4E251CCBD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2701-05F2-4474-B727-E182DBD8AA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Структура экологических зна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6" name="Picture 23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553080" cy="33145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человека и соци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6372360" y="2421000"/>
            <a:ext cx="1326960" cy="2022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574560" y="1989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заимоотношения человека с окружающей средо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24000" y="2625840"/>
            <a:ext cx="4535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индивид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репродуктив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пуляционная экология человек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111640" y="4508640"/>
            <a:ext cx="40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личност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емь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циаль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1898640" cy="2376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Приклад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39640" y="205092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95280" y="3417840"/>
            <a:ext cx="590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мическ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жене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дицин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льскохозяйственн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02"/>
          <p:cNvPicPr/>
          <p:nvPr/>
        </p:nvPicPr>
        <p:blipFill>
          <a:blip r:embed="rId1"/>
          <a:stretch/>
        </p:blipFill>
        <p:spPr>
          <a:xfrm>
            <a:off x="4788000" y="3141720"/>
            <a:ext cx="3671640" cy="2547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поселе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87280" y="1916280"/>
            <a:ext cx="650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191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условия существования людей в населенных пунктах различных типов и размеров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500720" y="3645000"/>
            <a:ext cx="439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рб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строительств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итекту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культур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01480" y="21337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жизнь человека в социально-культурной сред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4005360"/>
            <a:ext cx="40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культу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дух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1"/>
          <a:stretch/>
        </p:blipFill>
        <p:spPr>
          <a:xfrm>
            <a:off x="3924360" y="2997360"/>
            <a:ext cx="4754520" cy="31683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24000" y="2205000"/>
            <a:ext cx="84978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.Геккель, 1866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66"/>
                </a:solidFill>
                <a:latin typeface="Arial Black"/>
              </a:rPr>
              <a:t>Что такое экология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24000" y="260280"/>
            <a:ext cx="475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076720" y="260280"/>
            <a:ext cx="374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4221000"/>
            <a:ext cx="856908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вящая своей целью сохранение  жизни на Земле.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истематических групп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6" name="Picture 13" descr="GBI_1C37_006Nf"/>
          <p:cNvPicPr/>
          <p:nvPr/>
        </p:nvPicPr>
        <p:blipFill>
          <a:blip r:embed="rId1"/>
          <a:stretch/>
        </p:blipFill>
        <p:spPr>
          <a:xfrm>
            <a:off x="250920" y="3068640"/>
            <a:ext cx="2736720" cy="2239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611280" y="18446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219640" y="3417840"/>
            <a:ext cx="34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амфиби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тиц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насекомых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j0185197"/>
          <p:cNvPicPr/>
          <p:nvPr/>
        </p:nvPicPr>
        <p:blipFill>
          <a:blip r:embed="rId2"/>
          <a:stretch/>
        </p:blipFill>
        <p:spPr>
          <a:xfrm>
            <a:off x="2124000" y="4149720"/>
            <a:ext cx="2879640" cy="21636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иерархии живого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Line 5"/>
          <p:cNvSpPr/>
          <p:nvPr/>
        </p:nvSpPr>
        <p:spPr>
          <a:xfrm flipH="1">
            <a:off x="1618920" y="1700280"/>
            <a:ext cx="1368360" cy="79200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6084720" y="1700280"/>
            <a:ext cx="1656000" cy="72072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4000" y="2625840"/>
            <a:ext cx="273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0920" y="2565360"/>
            <a:ext cx="42498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лекулярная экология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клеток и ткане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рганов и их систе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003640" y="2492280"/>
            <a:ext cx="39610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з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соб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популя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общест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_genome"/>
          <p:cNvPicPr/>
          <p:nvPr/>
        </p:nvPicPr>
        <p:blipFill>
          <a:blip r:embed="rId1"/>
          <a:stretch/>
        </p:blipFill>
        <p:spPr>
          <a:xfrm>
            <a:off x="1187280" y="4394160"/>
            <a:ext cx="6480360" cy="18986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Факториаль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5640" y="21938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ует влияние на организмы факторов сред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3573360"/>
            <a:ext cx="39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з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и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13080" cy="367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ред жизни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95280" y="1916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508720" y="3213000"/>
            <a:ext cx="3311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э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ид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т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тунд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устын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5040000" cy="2924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66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68360" y="20509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общие экологические закономерност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4000" y="3573360"/>
            <a:ext cx="4105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алит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оретическая экология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392360" cy="29401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Хроно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26920" y="20509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экологические процессы во времен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716360" y="350028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волюцион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е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ле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9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4465440" cy="2620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9:04:01Z</dcterms:created>
  <dc:creator>Greek</dc:creator>
  <dc:description>ppt.3dn.ru</dc:description>
  <dc:language>en-US</dc:language>
  <cp:lastModifiedBy>LEGION</cp:lastModifiedBy>
  <dcterms:modified xsi:type="dcterms:W3CDTF">2015-05-06T08:51:51Z</dcterms:modified>
  <cp:revision>10</cp:revision>
  <dc:subject/>
  <dc:title>Проблемы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5000000000001024140</vt:lpwstr>
  </property>
</Properties>
</file>