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02BA-5DCB-47B8-9EF4-4F7A240287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Эк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932E-620E-462F-B275-09085A44D6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наука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озможно, само существование человека будет зависеть от прогресса этой нау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B59A-A85A-4752-8F2B-BF0BC9C1ED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изучает эколог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бразован от двух греческих 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йокос – дом, жилище, родина, и логос – наук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ющих дословно «наука о местообит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общем смысле экология – это нау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взаимоотношения организмов и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 с окружающей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экологии как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–настоящему стали понимать лишь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му есть объяснение, которое связано с тем, ч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численности населения Земли и усилива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человека на природную среду постав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еред необходимостью решать ряд н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 важ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7FB1-E30C-44D2-A9F9-2F9521F864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D503-EAA0-4277-BC2B-7776F400E2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зучении процессов, которые происходя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C2E0-E979-48FF-BBAE-A3AEE31AD6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5E04-31D5-4305-9C24-D18B22E273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A001-04A7-4DCF-85B0-015D9A1CAE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DB0A-7818-40FD-AE59-252A1AA9EE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22AF-4B00-4E70-8C09-501D8C7F40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EDC-2EC4-453A-A8F7-6680FE9F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4B5-61B0-40B9-84E2-55F1AD74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B4A-B28D-452A-949F-13C7FD84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34F-291E-40AE-8AA1-ACED3A74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E5A2F-52E1-42EC-9FC5-C2F2325E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8DC97-30D4-472D-835D-14B90F93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42C9E-182F-4AF4-B1F0-5944B400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96D7D-658E-4B0C-9775-745869A0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25195-7EAF-4362-B18D-6B794F62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9E8E0-748C-48C0-B4A2-DF34C435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DA380-D5FD-4DEE-B902-11DB7178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43F-B8EC-47EE-9DBA-C0108D14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45E22-B44B-403E-B186-09AA3BEA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86FEA-E0E2-4238-8E34-C1F010DA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30BD6-2363-4E21-BE4D-C949B4F8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55132-1635-411A-B1B3-D49725D2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C8CB7-BDCB-4D3B-8D45-3AE38715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D39-3293-482D-A1A8-0E033E4A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EBC-DCD3-444F-9905-F12FD723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031-5631-4AB6-B571-37BCD847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8DE-7D1A-4908-903D-46120052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D58-73F2-4C1A-B304-2381D681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48F-B5D2-4456-A050-1B1EEEED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851-B450-46D7-A666-77DC5071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0423-081B-4EB6-B4EC-23263C5F3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D92A-7A36-4FBB-8C36-8659A216BE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24000" y="5157720"/>
            <a:ext cx="50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340000" y="2565360"/>
            <a:ext cx="460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Экология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2" name="Бетховен3.mp3" descr=""/>
          <p:cNvPicPr/>
          <p:nvPr/>
        </p:nvPicPr>
        <p:blipFill>
          <a:blip r:embed="rId3"/>
          <a:stretch/>
        </p:blipFill>
        <p:spPr>
          <a:xfrm>
            <a:off x="8847000" y="656100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я – наука будуще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и возможно, само существование человека будет зависеть от прогресса этой наук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Бетховен3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306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27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изучает эколог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эколог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образован от двух гречески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йокос – дом, жилище, родина, и логос – наук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чающих дословно «наука о местообитани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олее общем смысле экология – это нау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ая взаимоотношения организмов и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бществ с окружающей их средой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е значение экологии как нау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–настоящему стали понимать лишь недав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му есть объяснение, которое связано с тем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численности населения Земли и усиливающее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действие человека на природную среду постав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го перед необходимостью решать ряд нов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зненно важных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1"/>
          <p:cNvSpPr/>
          <p:nvPr/>
        </p:nvSpPr>
        <p:spPr>
          <a:xfrm rot="17613000">
            <a:off x="2447640" y="367920"/>
            <a:ext cx="1800360" cy="2016000"/>
          </a:xfrm>
          <a:prstGeom prst="cloudCallout">
            <a:avLst>
              <a:gd name="adj1" fmla="val -82421"/>
              <a:gd name="adj2" fmla="val 30833"/>
            </a:avLst>
          </a:prstGeom>
          <a:solidFill>
            <a:srgbClr val="ffb9d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Эколог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22"/>
          <p:cNvSpPr/>
          <p:nvPr/>
        </p:nvSpPr>
        <p:spPr>
          <a:xfrm rot="483000">
            <a:off x="4995360" y="1568160"/>
            <a:ext cx="1951200" cy="1936800"/>
          </a:xfrm>
          <a:prstGeom prst="cloudCallout">
            <a:avLst>
              <a:gd name="adj1" fmla="val -70532"/>
              <a:gd name="adj2" fmla="val 77365"/>
            </a:avLst>
          </a:prstGeom>
          <a:solidFill>
            <a:srgbClr val="8dff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5"/>
          <p:cNvSpPr/>
          <p:nvPr/>
        </p:nvSpPr>
        <p:spPr>
          <a:xfrm rot="1111200">
            <a:off x="5928840" y="3831840"/>
            <a:ext cx="1952640" cy="1744560"/>
          </a:xfrm>
          <a:prstGeom prst="cloudCallout">
            <a:avLst>
              <a:gd name="adj1" fmla="val -93754"/>
              <a:gd name="adj2" fmla="val 55162"/>
            </a:avLst>
          </a:prstGeom>
          <a:solidFill>
            <a:srgbClr val="ffff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Эколог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ооб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1908000" y="3645000"/>
            <a:ext cx="2016360" cy="19447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Экология живот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888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учении процессов, которые происходят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сообще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Замок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обще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885080" y="6381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spring_plant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1134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08000" y="33336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42:14Z</dcterms:created>
  <dc:creator>Катя</dc:creator>
  <dc:description>emc.spb.ru</dc:description>
  <dc:language>en-US</dc:language>
  <cp:lastModifiedBy>LEGION</cp:lastModifiedBy>
  <dcterms:modified xsi:type="dcterms:W3CDTF">2015-05-06T08:06:27Z</dcterms:modified>
  <cp:revision>33</cp:revision>
  <dc:subject/>
  <dc:title>Со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</Properties>
</file>