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9D94-D1AC-41DE-B108-BAD9E2C101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Эк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AF49-4E87-4A22-B4CF-E7516E49401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наука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озможно, само существование человека будет зависеть от прогресса этой наук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63FB-4F7B-4E66-AA25-F00B2DB062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изучает эколог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бразован от двух греческих 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йокос – дом, жилище, родина, и логос – наук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ющих дословно «наука о местообитан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общем смысле экология – это нау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ая взаимоотношения организмов и 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ств с окружающей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экологии как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–настоящему стали понимать лишь недав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му есть объяснение, которое связано с тем, ч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численности населения Земли и усилива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человека на природную среду постав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еред необходимостью решать ряд н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 важ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3974-1D7A-4C51-A967-F7B97C7A46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AFC0-3A4F-481B-8DE8-8D532BA0B8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зучении процессов, которые происходя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C705-4BD2-42F5-B605-66D8B77F2B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A471-188F-4881-8C60-AF44867B96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б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D50E-367F-4BEE-9504-57C7C0075D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7D63-D38E-4F76-8428-64820C04B6D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6484-FAE5-4F7F-BD27-E5572D21FF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1B3-4892-4E8F-9B69-4D19EF7F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6C4-D58A-4D2A-B219-C98688E4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E1D-BF29-4AEC-A8C6-6B816C8D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40E-64F0-492A-ABEC-A91C4F1B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8718F-1FF1-4991-8324-074BE884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35633-1400-448D-A21A-25BCD240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C20BA-33A8-4CF5-A6AE-03D48A96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D0A8C-5CFA-4131-913E-07CC6234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F64D7-7C72-4552-B7F7-42FCF5D2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2490F-BAA3-454C-9BEE-ADC1FD9C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D9D48-2D2F-40CD-ABBB-83A9AA9B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238-983E-453C-A308-7CAA5BCA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B1173-56AA-42CB-8DB7-A80DC2EC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CFE58-6A83-4E2A-B52C-49EE3FAF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C0351-7BC8-4748-B245-A52C1721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7A688-DEB7-401D-A614-6B86EB0A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BC2CB-118E-4047-AA83-6B2D3219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A19-5A21-44BD-993E-C365D737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66C-9B62-47DF-A038-6CCEAB90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7F58-375C-4AB1-9E68-554D814C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D71-8DD5-4463-9614-36BBC4AE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AFE-ED8E-489F-B978-546146C0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A35-07FE-4299-B9E0-FE471A1B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103-447A-47D6-BA7B-18DBA334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64D3-528D-4C75-BCD3-C6A10AEC2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B6DD-F495-44EA-8629-996DFA6692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924000" y="5157720"/>
            <a:ext cx="504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340000" y="2565360"/>
            <a:ext cx="460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eorgia"/>
              </a:rPr>
              <a:t>Экология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92" name="Бетховен3.mp3" descr=""/>
          <p:cNvPicPr/>
          <p:nvPr/>
        </p:nvPicPr>
        <p:blipFill>
          <a:blip r:embed="rId3"/>
          <a:stretch/>
        </p:blipFill>
        <p:spPr>
          <a:xfrm>
            <a:off x="8847000" y="656100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я – наука будущег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и возможно, само существование человека будет зависеть от прогресса этой науки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Бетховен3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306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6275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изучает эколог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эколог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образован от двух греческих с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йокос – дом, жилище, родина, и логос – наука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начающих дословно «наука о местообитани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более общем смысле экология – это нау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щая взаимоотношения организмов и 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обществ с окружающей их средой об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ое значение экологии как нау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–настоящему стали понимать лишь недав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му есть объяснение, которое связано с тем, 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 численности населения Земли и усиливающее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действие человека на природную среду постав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го перед необходимостью решать ряд нов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зненно важных зада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36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1"/>
          <p:cNvSpPr/>
          <p:nvPr/>
        </p:nvSpPr>
        <p:spPr>
          <a:xfrm rot="17613000">
            <a:off x="2447640" y="367920"/>
            <a:ext cx="1800360" cy="2016000"/>
          </a:xfrm>
          <a:prstGeom prst="cloudCallout">
            <a:avLst>
              <a:gd name="adj1" fmla="val -82421"/>
              <a:gd name="adj2" fmla="val 30833"/>
            </a:avLst>
          </a:prstGeom>
          <a:solidFill>
            <a:srgbClr val="ffb9d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Эколог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22"/>
          <p:cNvSpPr/>
          <p:nvPr/>
        </p:nvSpPr>
        <p:spPr>
          <a:xfrm rot="483000">
            <a:off x="4995360" y="1568160"/>
            <a:ext cx="1951200" cy="1936800"/>
          </a:xfrm>
          <a:prstGeom prst="cloudCallout">
            <a:avLst>
              <a:gd name="adj1" fmla="val -70532"/>
              <a:gd name="adj2" fmla="val 77365"/>
            </a:avLst>
          </a:prstGeom>
          <a:solidFill>
            <a:srgbClr val="8dff8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живот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25"/>
          <p:cNvSpPr/>
          <p:nvPr/>
        </p:nvSpPr>
        <p:spPr>
          <a:xfrm rot="1111200">
            <a:off x="5928840" y="3831840"/>
            <a:ext cx="1952640" cy="1744560"/>
          </a:xfrm>
          <a:prstGeom prst="cloudCallout">
            <a:avLst>
              <a:gd name="adj1" fmla="val -93754"/>
              <a:gd name="adj2" fmla="val 55162"/>
            </a:avLst>
          </a:prstGeom>
          <a:solidFill>
            <a:srgbClr val="ffff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Эколог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сооб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26"/>
          <p:cNvSpPr/>
          <p:nvPr/>
        </p:nvSpPr>
        <p:spPr>
          <a:xfrm>
            <a:off x="1908000" y="3645000"/>
            <a:ext cx="2016360" cy="1944720"/>
          </a:xfrm>
          <a:custGeom>
            <a:avLst/>
            <a:gdLst>
              <a:gd name="textAreaLeft" fmla="*/ 460080 w 2016360"/>
              <a:gd name="textAreaRight" fmla="*/ 1556280 w 2016360"/>
              <a:gd name="textAreaTop" fmla="*/ 443880 h 1944720"/>
              <a:gd name="textAreaBottom" fmla="*/ 15008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Экология живот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888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учении процессов, которые происходят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сообщест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Замок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animClr clrSpc="rgb">
                                      <p:cBhvr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обще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885080" y="6381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челове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6" descr="spring_plant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51134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108000" y="33336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42:14Z</dcterms:created>
  <dc:creator>Катя</dc:creator>
  <dc:description>emc.spb.ru</dc:description>
  <dc:language>en-US</dc:language>
  <cp:lastModifiedBy>LEGION</cp:lastModifiedBy>
  <dcterms:modified xsi:type="dcterms:W3CDTF">2015-05-06T08:06:27Z</dcterms:modified>
  <cp:revision>33</cp:revision>
  <dc:subject/>
  <dc:title>Со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4000000000001024140</vt:lpwstr>
  </property>
</Properties>
</file>