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41C3-C3EA-4F1C-B4AE-118EB319DC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Эк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F882-0EDC-487A-8FCB-96DFE89AC9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наука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озможно, само существование человека будет зависеть от прогресса этой нау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720E-B434-47E3-855C-029CA3D3F6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изучает эколог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бразован от двух греческих 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йокос – дом, жилище, родина, и логос – наук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ющих дословно «наука о местообит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общем смысле экология – это нау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взаимоотношения организмов и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 с окружающей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экологии как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–настоящему стали понимать лишь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му есть объяснение, которое связано с тем, ч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численности населения Земли и усилива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человека на природную среду постав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еред необходимостью решать ряд н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 важ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9BCF-93A5-4A25-BB54-AE4556A094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D877-F0D3-4014-A445-CAEDD61B82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зучении процессов, которые происходя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F03A-B442-4727-BB46-E66868C8D6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F189-AEDB-4F02-9C0D-A59E4044CC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74DE-F31E-4AE8-8A92-D6F53B068D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09E9-E61F-4356-91A2-E76188CAB6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B00A-B3BE-43BC-9662-D2EF181EE5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A69-7C86-4D11-AB4A-4125688E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574-81CA-4B7E-93C2-BCE3A0D5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021-CD03-4A69-BC9F-FAF0D3C6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D823-0D61-47F0-80C0-B6B10D6A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5C07B-735A-49B0-9DB6-01B537E2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3642A-72B9-462E-BB14-F1850C2A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8153C-B773-4F38-A8F0-7D72E39C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C00AC-C84A-4BAF-B106-F882E929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10F8F-0BC1-46E4-908C-2C817F26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E79D8-19C9-4D11-B425-920204C4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F03E4-3AA3-451E-92B3-5B4803E3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0AD-632A-430F-8095-42552A64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C9518-CE0A-4A94-A0BE-DB9089F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B87EB-B1B9-4B9F-8B5A-08EBA142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33D47-16CE-40A8-9A2E-334C6EC4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1E0A6-5AB3-4D7E-9264-7533FC53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C61EB-C6ED-4B67-B20F-6CE56838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F92-E7BC-4C7E-9F4B-FB6E4100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4DC-E381-48FB-8335-723FCFD0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C6F-ECC7-4A2C-A051-7E8DE50D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B99-D95B-4A99-82E7-CC5FA7BE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C17-9F85-4610-A7B7-C55CE8B7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9AE-4C36-43FA-A82D-4A7DDA3B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EA6-661B-4662-96C9-C6BED8B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60CB-0542-4815-8BB4-02CE3DECB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3518-611E-4A50-B960-D504B750BC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24000" y="5157720"/>
            <a:ext cx="50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340000" y="2565360"/>
            <a:ext cx="460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Экология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2" name="Бетховен3.mp3" descr=""/>
          <p:cNvPicPr/>
          <p:nvPr/>
        </p:nvPicPr>
        <p:blipFill>
          <a:blip r:embed="rId3"/>
          <a:stretch/>
        </p:blipFill>
        <p:spPr>
          <a:xfrm>
            <a:off x="8847000" y="656100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я – наука будуще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и возможно, само существование человека будет зависеть от прогресса этой наук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Бетховен3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306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27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изучает эколог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эколог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образован от двух гречески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йокос – дом, жилище, родина, и логос – наук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чающих дословно «наука о местообитани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олее общем смысле экология – это нау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ая взаимоотношения организмов и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бществ с окружающей их средой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е значение экологии как нау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–настоящему стали понимать лишь недав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му есть объяснение, которое связано с тем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численности населения Земли и усиливающее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действие человека на природную среду постав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го перед необходимостью решать ряд нов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зненно важных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1"/>
          <p:cNvSpPr/>
          <p:nvPr/>
        </p:nvSpPr>
        <p:spPr>
          <a:xfrm rot="17613000">
            <a:off x="2447640" y="367920"/>
            <a:ext cx="1800360" cy="2016000"/>
          </a:xfrm>
          <a:prstGeom prst="cloudCallout">
            <a:avLst>
              <a:gd name="adj1" fmla="val -82421"/>
              <a:gd name="adj2" fmla="val 30833"/>
            </a:avLst>
          </a:prstGeom>
          <a:solidFill>
            <a:srgbClr val="ffb9d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Эколог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22"/>
          <p:cNvSpPr/>
          <p:nvPr/>
        </p:nvSpPr>
        <p:spPr>
          <a:xfrm rot="483000">
            <a:off x="4995360" y="1568160"/>
            <a:ext cx="1951200" cy="1936800"/>
          </a:xfrm>
          <a:prstGeom prst="cloudCallout">
            <a:avLst>
              <a:gd name="adj1" fmla="val -70532"/>
              <a:gd name="adj2" fmla="val 77365"/>
            </a:avLst>
          </a:prstGeom>
          <a:solidFill>
            <a:srgbClr val="8dff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5"/>
          <p:cNvSpPr/>
          <p:nvPr/>
        </p:nvSpPr>
        <p:spPr>
          <a:xfrm rot="1111200">
            <a:off x="5928840" y="3831840"/>
            <a:ext cx="1952640" cy="1744560"/>
          </a:xfrm>
          <a:prstGeom prst="cloudCallout">
            <a:avLst>
              <a:gd name="adj1" fmla="val -93754"/>
              <a:gd name="adj2" fmla="val 55162"/>
            </a:avLst>
          </a:prstGeom>
          <a:solidFill>
            <a:srgbClr val="ffff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Эколог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ооб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1908000" y="3645000"/>
            <a:ext cx="2016360" cy="19447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Экология живот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888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учении процессов, которые происходят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сообще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Замок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обще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885080" y="6381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spring_plant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1134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08000" y="33336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42:14Z</dcterms:created>
  <dc:creator>Катя</dc:creator>
  <dc:description>emc.spb.ru</dc:description>
  <dc:language>en-US</dc:language>
  <cp:lastModifiedBy>LEGION</cp:lastModifiedBy>
  <dcterms:modified xsi:type="dcterms:W3CDTF">2015-05-06T08:06:27Z</dcterms:modified>
  <cp:revision>33</cp:revision>
  <dc:subject/>
  <dc:title>Со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</Properties>
</file>