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AA97-1E45-403B-B360-678BDC00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B808-6040-4051-806C-D6FFFEB0D0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оследствия парникового эффекта для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BFB4-7314-46E6-8F85-725190E0DA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795F-3EC6-4E97-963E-301C38C49F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5438-4DA4-4455-8FF2-1EA49265E1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увствительными к потеплению климата являются лед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дник Упсала в Патагонии (Аргентина) был одним из самых больших ледников Южной Америки, но теперь исчезает на 200 метров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2461-FA49-4884-BF45-41A25925E5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862E-1900-4292-9882-DC6163B2C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A68B-7D84-403B-907C-4AB45EAD40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4616-8B8A-46B3-9F8C-53BBD95B27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международный документ, принятый в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о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в декабре 1997 года в дополнение к Рамочной конвенции ООН об изменении климата . Период подписания протокола открылся 16 марта 1998 года и завершился 15 марта 1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746B-7A56-4A6F-8FF6-75B0BA6C3D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етали согла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идрофторуглеводороды, </a:t>
            </a: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перфторуглеводоро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2O, SF6) на 5,2 % по сравнению с уровнем 1990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AC31-1963-488E-B116-97D51E082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я Киотского прот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4 февраля 2006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C6A-7C00-4EA4-B11E-CB02C94A9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он действ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е г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 мифов о глобальном потеп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6CA0-A99D-4A17-8BD9-955434862D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глобальным потеплением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. Вот распространенные заблуждения, связанные с ним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. Глобального потепления вообще не происход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. Глобальное потепление - естественный процес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. В любом случае последствия будут постепенны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BEA6-3F24-4EEA-8D7B-3F906EB31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. Глобальное потепление приведет к всемирному пото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67E9-FE15-4114-8D22-20A1D196D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. От глобального потепления мы получим только вы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0B27-9579-4BDD-A11D-1A409395A9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. Сельскому хозяйству это будет только на ру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. Правительство о нас позабот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. Проблема не так серьезна, как национальная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). Причины глобального потепления известн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A4FF-07B5-4B37-9B25-E7A505BFE0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. Мы знаем, как бороться с глобальным потеплением, у нас есть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). Мы не можем ничего с этим подел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D125-CBDC-46D2-8C34-FAF9BA3C9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DE3B-60A9-48EE-A6E0-53C4D8C009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нико́вый эффе́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A209-4191-485E-9757-BF06DBEA8E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э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пление углекислого газа в атмосфере - одна из осно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D98B-9190-4EB7-9A89-BAAA51E0BD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иковые 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Углекислый газ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O2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и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Метан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H4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сновными антропогенными источниками метана являются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щеварительная ферментация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у скота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оводств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горение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иомассы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в т. ч. сведение ле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зон (О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сид углерода (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фре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D161-E398-4265-9059-A639AE9183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лнечное теп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градусов холо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ем сейчас, и жизнь бы на ней практически замер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A335-8B91-4516-B8B0-4AEA1AB71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последние 100 л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активной деятельность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мли повысилась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7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A87F-A7E9-4E0B-8E72-84073CC804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E76D-1493-4AD3-B129-9739B0668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E03-2492-4336-BD1A-09ADB6A7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958-D13F-452D-AFB8-85401D8D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681D59-6407-418E-9BAF-AE9849E1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F1F792-B6E5-4D5B-87FA-7361ED3B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6E85D6-2DD7-4166-90FC-ACAF7542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6939C0-4BA7-4F34-9408-7054A3F7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E082C5-E22F-4D6A-ACF7-284D3F65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D752B8-BCA3-4EB4-A921-A73CD3E2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7B032-10C6-4B27-8D03-4F3DC5C1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CBDBD2-05C8-40C3-9407-2B7A6190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FA68DA-514F-40E4-B7B5-564B11CF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581E7-6343-4FBA-B547-07F4CAB1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F22-77EC-4372-97BC-C655025A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ADD73-EC8F-4B4C-8060-AE356F81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D5559-1860-418B-B479-2CF549DA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EC374-F6A5-4642-A5C2-8BF688FD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0A70E-AE83-4719-8247-B8E69000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96FD0-F79A-4691-9A8C-2E26C47D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DBB32-E7D3-4038-815A-F81C213C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B27A2-FFA2-4121-99BC-C687A112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F38C0-9CB5-4BC8-A076-EDF4AF7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DEB39-507A-4AC8-B678-F9D0628B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B57BD-E2E2-47D5-AB52-03A6F0F6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C89-961E-436A-A329-7CAEE767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33BB5-E1F6-47B3-9AEB-B69DF804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FAD81-FEEE-41F6-B2A8-4BB669CA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75FBC-250B-45D4-9644-3D3642C0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545C1-5A68-473F-BE21-056DC283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37A80-BC5F-4936-BB6B-0BA604BD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F6498-91E5-42A0-82B6-CCA2DA6D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5FAAB-9B4A-4CFF-8942-6B4162BA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7C141-C669-43E9-A244-AC7724E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F73AC-F7EB-433C-B61F-8CF044B8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117C0-2729-49BF-8DAE-A13F70A2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8470-6613-4AAE-8E70-374583D1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E1957-52E7-4F95-9499-E9802AD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E231F-2EF4-4C4C-98CB-34622679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78197-7364-4B28-9AF6-D1893281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F4BE9-741E-44AA-8831-8E51E473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5DB61-51DA-4C44-8C8A-069B807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F1BC1-C313-4D93-8406-58A52855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DC57D-D37E-4C8C-AD50-0F5B85D5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03D2F-A5AE-4002-BD08-CAA17DEA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BF39B-F09D-4DF3-8DBC-1C20A76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F29D6-EE97-4DD7-913A-9DE6FA5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920-31C7-431D-A18B-62265858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1BEA8-8D40-4594-A349-75A24084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A5388-E821-4913-B2C3-6A87CBE6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6EF20-5AFB-4070-A7EA-8A5B5794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5070D-D6D1-4CB1-97B2-9FC96EA8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B9BE7-F322-4818-BEA7-85C617DA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35E93-487C-43D4-8264-14C1BEEF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8C54B-C334-4AC0-959E-4677357B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11152-7F3A-4B70-AA23-B1B5531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47B24-611A-4B07-B38F-497B3785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2BA95-052C-4050-88B1-8A188B22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901A-06DC-4CD1-8227-B5205567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95D6A-85E0-41B3-902A-557F3871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96407-9A37-4FA8-9842-0FD8E2D2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66666-E2FA-43AA-A750-DBDACFE5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0D403-EE7C-4CE0-B4BD-18F8387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17D65-D27B-4786-8BFA-D754E059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975EC-3AFD-4502-88AF-37A70BE1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4AF40-DA59-4B44-923D-B2F27308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37497-DBB6-4FB1-823B-C89037BA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8C961-4DA2-4B46-8B2C-391FE39C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12A49-7D64-4AD6-BB57-B295A457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6CC8-1D8F-4924-825D-ABACF31D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0F80F-4CE5-42B1-906B-313D3DD5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D4BAD-AF06-4CAA-8136-4D9ED804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99737-0C58-4BCB-B478-E4771C5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35B93-2FFF-457B-8E95-20343A34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68741-5767-499C-8F79-AB8ADCC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B7BB7-5B5D-41A9-B525-DA760F6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C7E19-97BF-4B6A-A4BB-6F15E83D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8F802-6AA8-455E-9E2D-50455C24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ED6E1-6422-46AE-ABDE-AE06A3FD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E4A3-F41B-4277-8066-8724F00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6BBD-0B37-4263-96DF-639CC352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D98C-70B2-4262-BD13-24E789A6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D1B-5D07-4EEF-AD3D-17A54188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C630-6DFC-4C02-B7F4-8B32C8CE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0983-2191-41BD-B212-40C28526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5F5D-474F-44A9-96E4-AA0ECA19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55A9-1A8D-49D5-BFEB-46629C7F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0202-7533-4207-B43A-E6478F9B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C090-CAD6-4863-A148-3869052C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8E7C-609B-4E3B-A29E-0393970E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8E7B-1503-4010-A9E5-CB7A1040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5365-B4E8-4461-8618-207D6A4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5B18-184C-4B6B-91C3-CA767D4C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9D4-7C47-4DE4-90C2-1CBEEA10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BDB5-188F-4D33-A667-5F9C68CE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A813-F562-40CA-AFFE-91D2624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1FD9-7D88-4944-9E52-6979230D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01B6-B0BB-4CC1-9AE9-FD575B93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8570-03A0-4C9E-A7DE-041A8DBC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3480-5571-469E-B185-C46CD99B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96EC-C09F-4C8A-981A-41D6446F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717F5-75F0-4B6E-9F13-FA5A4330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7A99A-D772-4B80-8DB8-8A712ED2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FA672-1C7E-4A22-AD9B-81B9C0D0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25B-E574-4FEF-AE0A-E347E4E9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E4630-EC49-4FBE-873F-1F555640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EA6F0-1601-455A-8685-09C80E9F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F0076-629D-40A3-A232-B0EEBBC2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38CEA-C84B-4A70-9697-D419AE23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0103D-C841-4EEB-A3EF-7909E6CA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05498-CF29-485E-A439-0029775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F3100-339F-4E5F-A0BF-0A8FFD0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8273B-78FF-4319-BFB3-AB738AFA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4E33A-173E-4A19-ABD6-841A03F1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14EE-A308-4D78-934F-D765367C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034-4785-4F23-871D-93A7A40A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6B82-9E10-4C59-8761-A0084034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29BCA-3725-414B-ACB1-B87524D6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74D61-545C-4756-B8AD-BEBFC88C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3BED-5777-48DA-9071-577D974F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4FB8-A488-4369-833B-4B051236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68E8-A2BE-4958-B7DE-A2588C7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4AE9A-1658-4D2F-B1C6-C382F9EB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5BBC6-0B6C-4910-BC0D-0A7EB591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7942-1DBC-4329-9149-A6D9A8F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D0C87-4440-4E91-969B-55648A25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E2A-9EB4-4666-B500-AB6F022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A9067-61C4-4014-AA39-54E08DD0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2267F-8E3D-4F8B-85D8-ADF40A2A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01F3-6677-4615-91D5-EA380B86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E3ED-12F4-45FE-B282-CB28D2E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17623-5633-4944-971E-7CC336A5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93360-1E06-435C-9BE3-336ABF07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7DA3-ABA1-47D5-BC37-96B56955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13CF-22CD-4E11-A202-6B9E825B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32A6B-B877-4E5A-8306-132BDB1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BA2EA-6A23-48D5-8DDF-6D462FE3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699-1E48-4E89-AE84-3FAED28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A175-BA61-4258-AAF3-A2F66C87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B343-73CA-4BF1-90D9-71113D80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E321D-BB1E-4C94-847D-358DED92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57145-B13D-4638-9C4C-6FFD6E95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8D6EC-1EFA-41CA-8BD4-3D62247A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2010-4E37-4FFB-8C8A-928754CF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148F6-3A53-4902-8ACB-B3CACBF0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E5643-F2A6-4471-84D5-37F6C8BD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39F65-E3CF-4CDD-AD3C-8B2E21A5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47AA8-234E-4931-BE3A-964303EA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4DB-B857-44E1-AD8B-3188390D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9B74-FF75-48AE-90A4-BDD2260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1E6A2-9B4C-481A-BD0B-A6FCCAD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FEB65-0130-411E-A916-2F9E5C29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0229-4F57-4A3A-A86E-F9B5052A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9B5AC-CC10-4706-8F05-7F55768B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7B039-691C-4EDA-944C-5CB27A08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CF41B-3F3E-487E-B3E3-0AA6613A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56D92-5907-48D2-88E6-B2931474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702F9-AA03-4DD2-BC64-90902748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8FC4F-CC6A-456E-9EAA-B396DBE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F19-716C-4894-9C2E-B45A1C9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612C-B498-42F2-B776-765893B5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D8AEF-F147-4DF0-9D5F-669C2A5E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27503-13B7-4467-982D-4EB685E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5FD45-CBBF-4222-9B14-95A81988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2C38F-7CCC-401E-A188-867B8448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DC1E4-C0EE-49F8-9DAD-CA6F1F76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85212-9370-46D4-ADCD-8DE2321B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33311-3B5C-46EB-A14F-AE127013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9D86EC-825D-4D56-8420-B7574648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CE6A0-D374-43A2-A702-37074452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C81D-CBD0-4A71-B0A7-E802532CE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5A9E-73AA-45AF-ADF3-13A40CCE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2B03-3411-4430-A828-961897A3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9CE3-42DA-4AFE-B69E-28C9F1C764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D51E-81C2-4A5A-B6C5-9B0BE678D3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9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1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1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F83C-1FE4-428B-808D-D5DDA3BD39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BBA8-3BD6-4A1D-8C35-6DBCA9F34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EB5A-2B4B-42F2-8043-EF9AECE3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C38-E15A-47DC-A7B4-AEE14D2D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C852-8B3C-42AC-B3CC-9313471775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98CE-C338-4FE1-A7D4-66052D7B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E925-4ED9-491F-BA67-31532B2FEC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9B8B-6A8B-4B80-98BC-7D4BB9E75F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A26C-7E3A-4152-80DF-B4679578E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hyperlink" Target="http://ru.wikipedia.org/wiki/1997" TargetMode="External"/><Relationship Id="rId4" Type="http://schemas.openxmlformats.org/officeDocument/2006/relationships/hyperlink" Target="http://ru.wikipedia.org/wiki/&#1056;&#1072;&#1084;&#1086;&#1095;&#1085;&#1072;&#1103;_&#1082;&#1086;&#1085;&#1074;&#1077;&#1085;&#1094;&#1080;&#1103;_&#1054;&#1054;&#1053;_&#1086;&#1073;_&#1080;&#1079;&#1084;&#1077;&#1085;&#1077;&#1085;&#1080;&#1080;_&#1082;&#1083;&#1080;&#1084;&#1072;&#1090;&#1072;" TargetMode="External"/><Relationship Id="rId5" Type="http://schemas.openxmlformats.org/officeDocument/2006/relationships/hyperlink" Target="http://ru.wikipedia.org/wiki/16_&#1084;&#1072;&#1088;&#1090;&#1072;" TargetMode="External"/><Relationship Id="rId6" Type="http://schemas.openxmlformats.org/officeDocument/2006/relationships/hyperlink" Target="http://ru.wikipedia.org/wiki/1998" TargetMode="External"/><Relationship Id="rId7" Type="http://schemas.openxmlformats.org/officeDocument/2006/relationships/hyperlink" Target="http://ru.wikipedia.org/wiki/15_&#1084;&#1072;&#1088;&#1090;&#1072;" TargetMode="External"/><Relationship Id="rId8" Type="http://schemas.openxmlformats.org/officeDocument/2006/relationships/hyperlink" Target="http://ru.wikipedia.org/wiki/1999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6" TargetMode="External"/><Relationship Id="rId2" Type="http://schemas.openxmlformats.org/officeDocument/2006/relationships/hyperlink" Target="http://ru.wikipedia.org/wiki/&#1057;&#1064;&#1040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WordArt 5"/>
          <p:cNvSpPr txBox="1"/>
          <p:nvPr/>
        </p:nvSpPr>
        <p:spPr>
          <a:xfrm>
            <a:off x="395280" y="2421000"/>
            <a:ext cx="856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парникового эффекта для Зем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8" name="MSj01187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"/>
          <p:cNvSpPr/>
          <p:nvPr/>
        </p:nvSpPr>
        <p:spPr>
          <a:xfrm>
            <a:off x="6084720" y="479736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я по географ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1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углевской Ан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235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2" name="Picture 4" descr="images3"/>
          <p:cNvPicPr/>
          <p:nvPr/>
        </p:nvPicPr>
        <p:blipFill>
          <a:blip r:embed="rId1"/>
          <a:stretch/>
        </p:blipFill>
        <p:spPr>
          <a:xfrm>
            <a:off x="39528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untitled1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335400"/>
          </a:xfrm>
          <a:prstGeom prst="rect">
            <a:avLst/>
          </a:prstGeom>
          <a:ln w="0">
            <a:noFill/>
          </a:ln>
        </p:spPr>
      </p:pic>
      <p:sp>
        <p:nvSpPr>
          <p:cNvPr id="8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чувствительными к потеплению климата являются ледн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Упсала в Патагонии (Аргентина) был одним из самых больших ледников Южной Америки, но теперь исчезает на 200 метров в год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43520" cy="283680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1332000" y="17067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Роун, Валаис, Швейцария поднялся вверх на 450 метр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620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434200" y="56602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портадж в Аляск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7" name="MSj01250.wav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590" fill="hold"/>
                                        <p:tgtEl>
                                          <p:spTgt spid="8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отский проток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отский проток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иотский прото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— международный документ, принятый в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ио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Яп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в декабр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99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в дополнение к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амочной конвенции ООН об изменении клима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Период подписания протокола откры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6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и заверши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5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Picture2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800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5"/>
          <p:cNvSpPr/>
          <p:nvPr/>
        </p:nvSpPr>
        <p:spPr>
          <a:xfrm>
            <a:off x="1476360" y="2421000"/>
            <a:ext cx="698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аны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астниц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гидрофторуглеводороды, </a:t>
            </a:r>
            <a:r>
              <a:rPr b="0" lang="en-US" sz="1800" spc="-1" strike="noStrike">
                <a:solidFill>
                  <a:srgbClr val="a50021"/>
                </a:solidFill>
                <a:latin typeface="Garamond"/>
              </a:rPr>
              <a:t>перфторуглеводород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2O, SF6) на 5,2 % по сравнению с уровнем 1990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2556000" y="620640"/>
            <a:ext cx="40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али соглаш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я Киотского протоко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состоянию на 14 февра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ША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1" name="Picture 4" descr="Kyoto"/>
          <p:cNvPicPr/>
          <p:nvPr/>
        </p:nvPicPr>
        <p:blipFill>
          <a:blip r:embed="rId3"/>
          <a:stretch/>
        </p:blipFill>
        <p:spPr>
          <a:xfrm>
            <a:off x="900000" y="2852640"/>
            <a:ext cx="7620120" cy="3524400"/>
          </a:xfrm>
          <a:prstGeom prst="rect">
            <a:avLst/>
          </a:prstGeom>
          <a:ln w="0">
            <a:noFill/>
          </a:ln>
        </p:spPr>
      </p:pic>
      <p:sp>
        <p:nvSpPr>
          <p:cNvPr id="8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такое парниковый эффек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й эффект. Как он действу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е газ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парникового эффекта на климат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янье ледников- индикатор потепления клим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иотский проток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4  мифов о глобальном потепле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1835280" y="549360"/>
            <a:ext cx="532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 презентац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600" spc="-1" strike="noStrike">
                <a:solidFill>
                  <a:srgbClr val="3399ff"/>
                </a:solidFill>
                <a:latin typeface="Tahoma"/>
              </a:rPr>
              <a:t>глобальным потеплением</a:t>
            </a: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. Вот распространенные заблуждения, связанные с ним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). Глобального потепления вообще не происход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). Глобальное потепление - естественный процес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). В любом случае последствия будут постепенны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Picture 4" descr="eart-on-fire"/>
          <p:cNvPicPr/>
          <p:nvPr/>
        </p:nvPicPr>
        <p:blipFill>
          <a:blip r:embed="rId1"/>
          <a:stretch/>
        </p:blipFill>
        <p:spPr>
          <a:xfrm>
            <a:off x="6300720" y="4869000"/>
            <a:ext cx="2266920" cy="1989000"/>
          </a:xfrm>
          <a:prstGeom prst="rect">
            <a:avLst/>
          </a:prstGeom>
          <a:ln w="0">
            <a:noFill/>
          </a:ln>
        </p:spPr>
      </p:pic>
      <p:sp>
        <p:nvSpPr>
          <p:cNvPr id="8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). Глобальное потепление приведет к всемирному пото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Picture 5" descr="small-gletscher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). От глобального потепления мы получим только вы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3" name="Picture 4" descr="sity-on-smoge"/>
          <p:cNvPicPr/>
          <p:nvPr/>
        </p:nvPicPr>
        <p:blipFill>
          <a:blip r:embed="rId1"/>
          <a:stretch/>
        </p:blipFill>
        <p:spPr>
          <a:xfrm>
            <a:off x="5003640" y="495288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). Сельскому хозяйству это будет только на ру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). Правительство о нас позабот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1). Проблема не так серьезна, как национальная безопас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). Причины глобального потепления известны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3). Мы знаем, как бороться с глобальным потеплением, у нас есть технолог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). Мы не можем ничего с этим подел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арниковый эффек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нико́вый эффе́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повыш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рниковый эффект. Как это происходит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9" name="Picture 4" descr="CLIMATE_CHANGE"/>
          <p:cNvPicPr/>
          <p:nvPr/>
        </p:nvPicPr>
        <p:blipFill>
          <a:blip r:embed="rId1"/>
          <a:stretch/>
        </p:blipFill>
        <p:spPr>
          <a:xfrm>
            <a:off x="684360" y="3213000"/>
            <a:ext cx="7775280" cy="3456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Picture2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2016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7"/>
          <p:cNvSpPr/>
          <p:nvPr/>
        </p:nvSpPr>
        <p:spPr>
          <a:xfrm>
            <a:off x="1619280" y="155736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копление углекислого газа в атмосфере - одна из основных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3" descr="Air_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арниковые газ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Углекислый газ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O2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Метан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H4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сновными антропогенными источниками метана являются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ищеварительная ферментация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у скота,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исоводств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, горение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иомассы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(в т. ч. сведение ле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зон (О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ксид углерода (С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фре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8" name="Picture 4" descr="140px-Carbon-dioxide-3D-vdW"/>
          <p:cNvPicPr/>
          <p:nvPr/>
        </p:nvPicPr>
        <p:blipFill>
          <a:blip r:embed="rId4"/>
          <a:stretch/>
        </p:blipFill>
        <p:spPr>
          <a:xfrm>
            <a:off x="539640" y="5013360"/>
            <a:ext cx="1333440" cy="8762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100px-Methane-3D-space-filling"/>
          <p:cNvPicPr/>
          <p:nvPr/>
        </p:nvPicPr>
        <p:blipFill>
          <a:blip r:embed="rId5"/>
          <a:stretch/>
        </p:blipFill>
        <p:spPr>
          <a:xfrm>
            <a:off x="3995640" y="5157720"/>
            <a:ext cx="952560" cy="792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" descr="200px-Ozone_molecule_ball_and_stick"/>
          <p:cNvPicPr/>
          <p:nvPr/>
        </p:nvPicPr>
        <p:blipFill>
          <a:blip r:embed="rId6"/>
          <a:stretch/>
        </p:blipFill>
        <p:spPr>
          <a:xfrm>
            <a:off x="7164360" y="5229360"/>
            <a:ext cx="1368360" cy="792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140px-Carbon-dioxide-2D-dimensions"/>
          <p:cNvPicPr/>
          <p:nvPr/>
        </p:nvPicPr>
        <p:blipFill>
          <a:blip r:embed="rId7"/>
          <a:stretch/>
        </p:blipFill>
        <p:spPr>
          <a:xfrm>
            <a:off x="539640" y="5950080"/>
            <a:ext cx="1333440" cy="685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100px-Methane-2D"/>
          <p:cNvPicPr/>
          <p:nvPr/>
        </p:nvPicPr>
        <p:blipFill>
          <a:blip r:embed="rId8"/>
          <a:stretch/>
        </p:blipFill>
        <p:spPr>
          <a:xfrm>
            <a:off x="4932360" y="5589720"/>
            <a:ext cx="952560" cy="1000080"/>
          </a:xfrm>
          <a:prstGeom prst="rect">
            <a:avLst/>
          </a:prstGeom>
          <a:ln w="0">
            <a:noFill/>
          </a:ln>
        </p:spPr>
      </p:pic>
      <p:sp>
        <p:nvSpPr>
          <p:cNvPr id="7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парникового эффекта на климат Зем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5" name="Picture 4" descr="Picture3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116000" y="249228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щё в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827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солнечное тепло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0 градусов холоднее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чем сейчас, и жизнь бы на ней практически замер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, 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последние 100 л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вязи с активной деятельностью челов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емли повысилась 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7º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48:18Z</dcterms:created>
  <dc:creator> juri</dc:creator>
  <dc:description>ppt.3dn.ru</dc:description>
  <dc:language>en-US</dc:language>
  <cp:lastModifiedBy>LEGION</cp:lastModifiedBy>
  <dcterms:modified xsi:type="dcterms:W3CDTF">2015-05-06T08:07:56Z</dcterms:modified>
  <cp:revision>29</cp:revision>
  <dc:subject/>
  <dc:title>Потепление клима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a000000000001024140</vt:lpwstr>
  </property>
  <property fmtid="{D5CDD505-2E9C-101B-9397-08002B2CF9AE}" pid="3" name="Version">
    <vt:r8>6</vt:r8>
  </property>
</Properties>
</file>