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9DBF-983A-4C6C-B4DA-F96F57FDE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6;&#1090;&#1086;" TargetMode="External"/><Relationship Id="rId2" Type="http://schemas.openxmlformats.org/officeDocument/2006/relationships/hyperlink" Target="http://ru.wikipedia.org/wiki/&#1071;&#1087;&#1086;&#1085;&#1080;&#1103;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0;&#1097;&#1077;&#1074;&#1072;&#1088;&#1080;&#1090;&#1077;&#1083;&#1100;&#1085;&#1072;&#1103;_&#1092;&#1077;&#1088;&#1084;&#1077;&#1085;&#1090;&#1072;&#1094;&#1080;&#1103;&amp;action=edit" TargetMode="External"/><Relationship Id="rId2" Type="http://schemas.openxmlformats.org/officeDocument/2006/relationships/hyperlink" Target="http://ru.wikipedia.org/w/index.php?title=&#1056;&#1080;&#1089;&#1086;&#1074;&#1086;&#1076;&#1089;&#1090;&#1074;&#1086;&amp;action=edit" TargetMode="External"/><Relationship Id="rId3" Type="http://schemas.openxmlformats.org/officeDocument/2006/relationships/hyperlink" Target="http://ru.wikipedia.org/wiki/&#1041;&#1080;&#1086;&#1084;&#1072;&#1089;&#1089;&#1072;" TargetMode="External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60CF-AA00-4C42-B1BC-8BC79FC981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Последствия парникового эффекта для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климат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не можем точно сказать к каким изменениям климата может привести глобальное потепление. Однако, 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 мнению многих ученых, если сохранится тенденция глобального потепления, это приведет к изменению погоды и увеличению количества осадков, что, в свою очередь, приведет к подъему уровня Mирового оке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ША и бывшем СССР последние 30-40 лет выпадает осадков на 10 процентов больше, чем в прош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то же время, количество осадков над экватором сократилась на те же десять проц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7040-D4C3-4E7A-9B08-38110717FC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Наиболее благоприятные условия для выращивания культур сложатся в сельскохозяйственных регионах России и обильные осадки будут выпадать в Северной Африке, где засуха продолжается с 1970-го года. Кроме того, повышение температуры увеличит испарение влаги с поверхности океана. Это приведет к увеличению выпадения осадков на 11 проц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ствия потепления климата будут ощущаться на Северном и Южном полюсах, где увеличившаяся температура приведет к подтаиванию ледников. По расчетам ученых увеличение температуры на 10 градусов по Цельсию, вызовет повышение уровн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рового океана на 5-6 метров, что приведет к затоплению многих прибрежных территорий во всем ми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7B57-8B2F-4988-A310-151DFD9F63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Уже сегодня мы сталкиваемся с участившимися климатическими  аномалиями. Это и всё более сильные ураганы и штормы, наводнения, засуха, выпадание снега там, где его никогда не ждали, необычайно тёплые зимы в северных широт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829F-A8FC-48A9-A114-17CA0C49BD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чувствительными к потеплению климата являются ледн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едник Упсала в Патагонии (Аргентина) был одним из самых больших ледников Южной Америки, но теперь исчезает на 200 метров в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A4C5-7B97-4CA6-987B-537002E813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47EB-BB18-4873-BB5F-98688FE04C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2381-E788-46C2-9DAE-D3C1D7F67D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влияния парникового эффекта на климат земли является одной из важнейших задач, требующих скорейшего решения. Начальным этапом решения проблемы стали международные договорённости по сокращению выбросов парниковых газов в атмосф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5DCD-0EA6-48AD-83F7-10FE7D5587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международный документ, принятый в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иот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Япо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в декабре 1997 года в дополнение к Рамочной конвенции ООН об изменении климата . Период подписания протокола открылся 16 марта 1998 года и завершился 15 марта 199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DFE6-07D0-40A9-AA59-DA03D0A7B6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етали согла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иотский протокол стал первым глобальным соглашением об охране окружающей среды, основанным на рыночных механизмах регулирования — механизме международной торговли квотами на выбросы парниковых газ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н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ц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Протокола определили для себя количественные обязательства по ограничению либо сокращению выбросов на период с 1 января 2008 до 31 декабря 2012 года. Цель ограничений — снизить в этот период совокупный средний уровень выбросов 6 типов газов (CO2, CH4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гидрофторуглеводороды, </a:t>
            </a: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перфторуглеводород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N2O, SF6) на 5,2 % по сравнению с уровнем 1990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0DF4-9713-4715-9DE9-71879E2329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я Киотского прото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состоянию на 14 февраля 2006 года Протокол был ратифицирован 161 страной мира (совокупно ответственными за более чем 61 % общемировых выбросов). Заметным исключением из этого списка являются СШ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65F5-EA6E-4464-AEE7-52CE78A951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арниковый эффек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й эффект. Как он действу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е га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парникового эффекта на климат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  мифов о глобальном потеп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5E54-22FD-4795-9EF0-5A05ED899E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Человек с древних времен склонен верить мифам. Часть из них не лишена логики, но все таки большая половина оказывается полным бредом. То же самое и с </a:t>
            </a:r>
            <a:r>
              <a:rPr b="1" lang="en-US" sz="1200" spc="-1" strike="noStrike">
                <a:solidFill>
                  <a:srgbClr val="3399ff"/>
                </a:solidFill>
                <a:latin typeface="Arial"/>
              </a:rPr>
              <a:t>глобальным потеплением</a:t>
            </a: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. Вот распространенные заблуждения, связанные с ним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). Глобального потепления вообще не происходи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К сожалению происходит. Наукой не раз доказано, а фактами подтверждено, что температура быстро раст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). Глобальное потепление - естественный процес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корее всего нет (повышение температуры, особенно с 70-х годов, намного превышают естественные изменения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). В любом случае последствия будут постепенным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ильные штормы становятся все чаще, а историей доказано, резкое изменение климатических условий может наступить внезапно, буквально за несколько л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AB49-2A3C-4B66-AC37-6352E6A35E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). Глобальное потепление приведет к всемирному пото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потепление будет идти теми же темпами, то уровень мирового океана поднимется на 1 метр. Если же допустить, что все ледники растают, что конечно же невозможно, то вода поднимется на 10 метров. И если учесть, что средняя высота суши над уровнем океана - 840 метров, то переживать так сильно по поводу затопления не сто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). Глобальное потепление - единственная причина резких, непредсказуемых изменений пог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леко не единственная. Существует ряд естественных, циклических процессов, к которым глобальное потепление не имеет никакого отношения. И именно они являются тем, что может вызвать резкое потепление или похолодание. Такими факторами могут послужить океанские течения, циклоны, изменение магнитного поля Земли и просто совпа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9F1A-EB61-48CA-BF25-771E513078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). Выбросы углекислого газа слишком незначительны, чтобы спровоцировать глобальное потепление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отелось бы верить, но пока факты это отрицают. По статистическим данным, которым можно доверять были построены графики концентрации углекислого газа в атмосфере и температуры в это время. Они совпад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). Из-за глобального потепления температура скоро вырастет настолько, что мы все погибнем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 настолько и не скоро. За последние 100 лет температура выросла на 0,7°С, - 1° С. И по самым смелым прогнозам в ближайшие 100 лет может вырасти еще на 4,6° С, но скорее всего это увеличение не превысит 2°С. С меньшей вероятностью, но есть модели, предсказывающие да же похолод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). От глобального потепления мы получим только вы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некоторых районах можно будет порадоваться необычно теплой погодой, но цена негативных последствий превысит любые выгоды. Число болезней и смертей из-за жары выраст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29FA-8223-468B-AFC2-F1E3BA93FD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). Сельскому хозяйству это будет только на ру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глекислый газ может повысить урожайность ряда культур, но так же возрастет и количество сорняков и вредителей. Растения не смогут хорошо расти на том же месте из-за климатического сдви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). Правительство о нас позабот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мимо прянятия Киотского протокола (который только ограничивает выбросы) несколькими странами, исключая США (крупнейший источник вредным выбросов) больше ничего сделано не было. Правительства боятся экономических последствий борьбы с глобальным потеп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). Проблема не так серьезна, как национальная безопас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у как посмотреть. Если учесть, что потепление затронет каждого жителя планеты (при чем больно ударив по нему), то думаю будет посерьез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). Причины глобального потепления известны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ногие верят, что в глобальном потеплении полностью виновен человек и что только остановив промышленную деятельность, можно избежать катастрофы. В действительности же проблема изменения климата настолько нова, что сейчас невозможно с точностью сказать о ее причинах. То, что оно происходит - это факт, но то что это результат антропогенной деятельности человека далеко не единственная версия. Так, например, существует версия, что это результат естественных процессов, происходящих в системе Солнце - Земля - Космо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2AFB-AF4E-4F3F-AC70-2D1452F09E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). Мы знаем, как бороться с глобальным потеплением, у нас есть техноло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тегический план находится в разработке. Существует несколько масштабных вариантов борьбы с глобальным потеплением, но все они из области фантастики, да и требуют колоссальных вложений, сравнимых с бюджетом США, но лучше много мелких изменений, чем одно больш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). Мы не можем ничего с этим подел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ждый уже сейчас может внести свой вклад в борьбу с глобальным потеплением хотя бы просто соблюдая рационализм в своей потребительск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DD03-23BB-441E-93F5-A97C439CD4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лючении хочется отметить, что существует версия, о том, что влияние парникового эффекта на глобальное  потепление климата не так значительно, а нынешнее потепление – это лишь очередной этап в циклическом изменении климата нашей планеты. Ведь не стоит забывать, что по геологическим меркам последний ледниковый период на Земле был не так уж и дав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6F6F-30D0-4896-8F46-2069C065F8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арниковый эффек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рнико́вый эффе́к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повышение температуры нижних слоёв атмосферы планеты по сравнению с эффективной температурой, т. е. температурой теплового излучения планеты, наблюдаемого из косм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6384-296E-4467-B5C2-7819C81136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й эффект. Как э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копление углекислого газа в атмосфере - одна из основ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ин парникового эффекта. Углекислый газ действует в атмосфере, как стекло в оранжерее: он пропускает солнечную радиацию и не пропускает обратно в космос инфракрасное (тепловое) излучение Зем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53A7-A21E-4C0F-8D46-EA2E769540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никовые г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Водяной пар — основной естественный парниковый газ, ответственный более, чем за 60 % эффе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Углекислый газ (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CO2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и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сточниками углекислого газа в атмосфере Земли являются вулканические выбросы, жизнедеятельность организмов, деятельность челове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Метан (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CH4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- о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сновными антропогенными источниками метана являются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ищеварительная ферментация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у скота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исоводство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, горение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иомассы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(в т. ч. сведение ле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зон (О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сид углерода (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фре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6AB0-0384-49F8-8E60-A85886B2ED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лияние парникового эффекта на климат Зем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2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ду французский физик Жозеф Фурье предположил, что атмосфера земли выполняет функцию своего рода стекла в теплице: воздух пропуска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лнечное тепл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не давая ему при этом испариться обратно в космос. Этот эффект достигается благодаря некоторым атмосферным газам второстепенного значения, каковыми являются, например, водяные испарения и углекислый газ. Они пропускают видимый и «ближний» инфракрасный свет, излучаемый солнцем, но поглощают «далекое» инфракрасное излучение, имеющее более низкую частоту и образующееся при нагревании земной поверхности солнечными лучами. Если бы этого не происходило, Земля была бы примерно 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 градусов холодне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чем сейчас, и жизнь бы на ней практически замер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8CDA-A1D1-4B64-9753-3867A5FA4F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последние 100 л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язи с активной деятельностью челове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доля двуокиси углерода имеет тенденцию роста приблизительно на 25% и средняя температур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емли повысилась 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,7º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Земля нагревается однако неравномерно, температуры на полюсах увеличиваются более экстремально, чем в других областях земли. Если эта тенденция не остановится, то наступят климатические изменения – более долгие периоды засухи, интенсивное выпадение осадков и более мощные ураганы – уровень моря может подняться. Плодородные регионы побережья станут жертвой моря и будут затоплены. Может возникнуть угроза голода и миграции народов с губительными социальными последствиями.  Климат Земли грозит нам еще большими неприятностями, нежели те, что он преподнес в последние годы - катастрофические ураганы, бурные наводнения и жестокие засухи. Они, вероятно, будут повторяться все чаще и станут разрушительнее. Продолжаться это будет до тех пор, пока человечество не найдет способ значительно уменьшить содержание парниковых газов разогревающих атмосфе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258E-2B30-4EB1-8284-0A7D084B50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: основным следствием парникового эффекта является 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3207-A5A0-4B55-A404-1600DFD05B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291-7900-4390-89BE-000EBD4E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AC8-525F-4EBB-B49A-AE027307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CB8D7A-EB40-4BB8-94E7-0DF82964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09EAE1-6923-465E-BD86-C5360398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FB902A-7F64-417E-9F96-D524B97D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1DBCBB-CF05-44BD-A60F-0FA343BA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DB30F1-C4E4-4220-BE79-8B441C85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8BA283-9452-4DB4-B217-DD8F459D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602A20-DCB8-4BA2-A931-6D9AFA88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D390BD-C246-4912-96FF-E890F3C8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D2BE51-EB79-45E4-A5C9-AFC58771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0EAAC-F857-4C15-9E53-6AF01716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90F-B376-42B1-AE2C-384BAAC4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AE6BB-5DE0-4883-8011-2FB937D9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7AED4-3DB2-41EA-B470-8AD24A8C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20218-567A-4C8E-9BAC-E822F0A3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502D8-15C4-411C-8797-2AD8353D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CABF6-4FA6-436E-8895-78D301CF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CD1D5-88EB-44F0-B747-F6449E6E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7B08A-9F33-44BD-A9D4-18569789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A0789-7DA9-4BEC-85D3-0EE5509D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5DE49-6ADD-4FFE-A68D-1F14EA2C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669A1-1A1A-40F6-A9C8-E482D335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18B-8DB9-4036-AB97-81100C5E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2CCEB-D024-410D-8C0B-CF02D9B9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159E3-277E-443C-AB04-1ECE95C1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ECF95-38EB-468D-B390-3A9CA8D2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126F7-BE45-4319-B21A-0301F76A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E8D73-ADCE-4A1E-BA2B-72A0060B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FFC0D-599B-4645-8091-B0D9017C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6B560-E251-45D3-93B7-4D2D8F5F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2F66F-FF30-44A4-8D6E-F86C8F37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40F27-D6EE-46C9-8163-2F7D9D34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4CC68-60FF-4873-A587-98313839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C458-1655-4658-BF92-0BE7FA3F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914E2-DE4B-4518-9B9C-62080521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48A96-5F2A-427E-A552-D47FBD47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8F1E5-BEF4-4F6E-A8FA-5093F540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2B9AD-5FC0-4639-9234-83C25B16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FF306-7A57-4EFC-AC4A-2B71B601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DA879-9965-4EC4-A205-A7134971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DAB49-BAE9-4ECC-95D7-C8245110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80D10-C6EE-4A95-A6A7-1C3FC3CA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D58F1-C005-4BF5-8708-878B2D51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E8996-ACC7-43CC-A621-5E9C6046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2677-201A-4B8A-B11F-D45B26E9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DB2DF-CBB4-4BA7-8E87-C4A4174E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34FCA-8959-4CA7-B42B-0F5DD695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17E1E-9982-44E9-94F4-5BF54207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BD190-D473-4954-8813-5FCDF2F3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C48AA-7900-41B4-9DDD-3628F050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554789-6BA6-4A62-9D1D-1938EB84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CDC7AA-3AD4-43B1-A5AE-213E57C9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2E5E3-9469-437C-A89F-E37973F8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86A30-4CC6-4B20-B4CC-D3E60B5F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29C2A4-F271-4134-9667-6D618013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1675-F39B-4326-934B-24DC4CDF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3C4E3-3FED-4F19-8126-BC1A7DD1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BDC8C-C87A-4D0D-883A-2FC44669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34E7A-1D52-4054-9C76-6F65E9C1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9EBE7-DF04-4733-AC0D-AF59EA3B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16BE4-AE90-4526-AF37-274F686D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55366-44C8-4F37-B9DF-48F840EE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CE79F-7EE7-4042-8F02-EF9CD42D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12C053-AE50-4CBC-A45D-3752E06C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AD32C8-1367-4E66-B0D7-456CE168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076D1-F1BC-458B-8285-FE634599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E034-AF93-4096-94D6-8FB813EA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E0408A-D3D5-4F6A-B891-D4EF387E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FE858-E5BB-4555-ACE6-1F6BA903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B0F459-7299-4DD9-B037-834F8F9E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391FFF-1FED-43D3-90E7-3E65F2CA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36245B-BAA2-489C-B089-9405BE86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73F85-FE52-4C75-82F0-59F97BD2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0613D0-1A78-4510-9536-65567FFE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C8FF59-BAA8-4667-88FE-5096D466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28E566-F08F-4C62-A8BE-8CFCEE75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8ADE-32A6-4149-9A84-BEB09693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331C-4CCB-45BC-B136-FF71A2F2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9057-0BBE-4CF1-9A63-D177E041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AA98-2CF4-4150-AB5B-E60AB433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D75A-6E4C-49D5-BEA4-CB85F2E5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E4A1-51AE-4CE7-994B-0B842F92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D3FC-1D47-408F-ABAE-920D168D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1125-8C23-4662-8221-D958263A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A5C4-B6DC-480A-9394-7B9B02A0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69844-F291-4A72-84FF-10C9A474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AF655-AA95-4F7B-9E91-9EE9290F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76132-281B-4D06-92C1-E00BBCFE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13E7F-5ED8-4BC0-908E-D255D6F4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0068-D89C-4A55-B053-7C09EF99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41A-A766-4A9E-8468-BEA64CC1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567A7-1A43-4DD1-AFE4-C8CD7569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EF43-20D3-486C-9F52-2E330446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84930-6A4B-49C8-928A-0FCE0212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E6EE5-DA02-40A4-AA7F-4BAFF0E0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6BDCA-93F6-41F4-BAF1-661E0E8D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E97FD-0708-49F7-BF57-6FB5CD39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B649F-F979-42B3-946B-D8DB3F25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8CE35-C963-4D79-89EB-372CEF38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B55B85-45D8-4C3E-871C-3009877C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0C29AE-2565-4F04-B024-0511948C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5130-413B-465E-A7BB-2F0C21E1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EDE26-2C2B-48A3-BA67-E9B4FD48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9A03EA-BE58-4DBD-B1E0-4966FF75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0E6883-48B8-4CF6-929C-1AA736B1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24E57C-0D99-4DC9-AE5D-0D8D81F1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8FDA55-E7A9-4469-B049-03F7F10B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0E3031-F92E-4A65-835A-5760D719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47F123-9975-46E7-AA16-3F875D05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F1ABC1-7573-4355-84A6-A11ADFC2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A63CF-4A61-4177-98B4-2F1DD28B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D136F-1AD0-4E92-A6DD-FFD34B53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9795-7629-4C82-9D63-C91BD300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A7834-8D20-4C01-B297-4C55A783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BC836-1D7F-4325-8CA8-F5464869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7C90F-7D7F-4F4A-A2C4-DE20095E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0BAF0-992B-4840-90B6-66021053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AAD1C-F7D3-4E80-B8BF-414E8235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8D5AA-F098-40B1-B7C7-BBC075FB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1F434-C280-4292-BDD6-71C2813C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3A22C-442A-43DB-B871-2ED2F2C0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79BA2-9C10-4C9A-ABE9-C08574A9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57AD6-2C30-441C-88E1-C92AA092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F86-5636-4E58-AADC-4E5E53B5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D6E44-E60F-4DE8-9447-6DF3655C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41A3B-F3B9-4272-A7B3-CA36CAEC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E8A44-2F92-4C37-AF6D-578E3F9B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ACD04-20FF-41C4-AC02-A36BC6FD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43BCC-0C99-465D-8265-6679BCB5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C2A5D-0220-4CBA-8837-E6828AFD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822D0-5DA6-4DC1-AA75-AE9874E0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3FECD-D553-4CAD-AB20-2777C67D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7A98E-2E10-421B-A602-C8AA02C0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9269D-E4D7-4B38-BF18-1EBA4728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675-C865-4CD7-817E-0E99B5B1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ADB42-DB5E-4434-933A-CC2D5388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9C02D-9181-4A85-B6FF-9249385D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36951-172D-4171-BAAD-BA5CBD0C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85229-CA37-4AD8-A087-0C245B8E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3A191-510A-4C7A-BDF3-B50B595A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1234C-B003-4387-A644-0B5C0CEB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98B89-735E-4CC3-BBC2-C37B483B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422D7-8942-429C-B0CB-5ECC058F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2A20A-C383-4869-8C8E-EABFDA5B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A1CC3-931A-4E7B-91F4-91E3407F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FBD7-5511-4E50-9A02-31400134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98608-0116-4D0A-875E-89DD2A7B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ADAFF-47D8-47AE-837E-0947BDBB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6362D-CE59-4806-BFAC-E6D646D4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FF915-61EE-480E-A420-FBB1C0A4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1E2CA-47F4-4DFF-A10E-5974E883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34309-CA90-4674-9294-027EFD21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E1A01-5B64-425E-9E3D-03520677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58973-B253-48F1-820B-5D733B6A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4CBBE-4687-4C88-ABE7-241B9C13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36FA1-4E2B-4CBF-99CC-9555E5E9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40A-26D7-4E30-BBF9-201A5E25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D0157-0AD7-4A2E-8942-8D86E109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BE67B-A2EF-491E-997C-ABE7F23C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2FDD3-028D-42CF-85E6-511751FA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9A14A-35D3-4A2F-B935-332D702C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E12C9-5F55-4E4E-AABD-73DFA77E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E4AC5-2F2A-45AD-93B8-3A3DDC0C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1B312-7443-4FE6-B1A2-DB1431C7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33D5D5-E4AB-4744-A6CC-A3B078A1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BA2FD3-F8EB-4F60-8576-8C49FD40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AFCB14-6998-43E8-B416-13E270B9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153D-3DC5-4A89-9FA4-30F31677A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5503-78A4-4D06-BEB0-9F675A5BC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1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EE0E-1742-43E4-9998-AFCA4DADE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6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C9B8-EBB1-44EB-A343-123956F2CD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3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AC45-392D-49B0-9322-7785DDB658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8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8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8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69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1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1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D506-8809-4FA8-99F7-3516A5C5131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341A-2A80-4FA0-BA28-DD59863AB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E369-9623-4D89-AA2D-D112A5629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92A4-C217-4B57-974F-B00C41CB1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4D6A-9C78-4497-93A1-0AAF013707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7712-B29E-44B2-9258-37772A7B3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8759-8357-46F3-A68D-A1261AA10C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B8D1-EDF1-431A-8E90-A6FF255F80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1AD8-1B1C-44CC-925B-F8AA46FB4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6;&#1090;&#1086;" TargetMode="External"/><Relationship Id="rId2" Type="http://schemas.openxmlformats.org/officeDocument/2006/relationships/hyperlink" Target="http://ru.wikipedia.org/wiki/&#1071;&#1087;&#1086;&#1085;&#1080;&#1103;" TargetMode="External"/><Relationship Id="rId3" Type="http://schemas.openxmlformats.org/officeDocument/2006/relationships/hyperlink" Target="http://ru.wikipedia.org/wiki/1997" TargetMode="External"/><Relationship Id="rId4" Type="http://schemas.openxmlformats.org/officeDocument/2006/relationships/hyperlink" Target="http://ru.wikipedia.org/wiki/&#1056;&#1072;&#1084;&#1086;&#1095;&#1085;&#1072;&#1103;_&#1082;&#1086;&#1085;&#1074;&#1077;&#1085;&#1094;&#1080;&#1103;_&#1054;&#1054;&#1053;_&#1086;&#1073;_&#1080;&#1079;&#1084;&#1077;&#1085;&#1077;&#1085;&#1080;&#1080;_&#1082;&#1083;&#1080;&#1084;&#1072;&#1090;&#1072;" TargetMode="External"/><Relationship Id="rId5" Type="http://schemas.openxmlformats.org/officeDocument/2006/relationships/hyperlink" Target="http://ru.wikipedia.org/wiki/16_&#1084;&#1072;&#1088;&#1090;&#1072;" TargetMode="External"/><Relationship Id="rId6" Type="http://schemas.openxmlformats.org/officeDocument/2006/relationships/hyperlink" Target="http://ru.wikipedia.org/wiki/1998" TargetMode="External"/><Relationship Id="rId7" Type="http://schemas.openxmlformats.org/officeDocument/2006/relationships/hyperlink" Target="http://ru.wikipedia.org/wiki/15_&#1084;&#1072;&#1088;&#1090;&#1072;" TargetMode="External"/><Relationship Id="rId8" Type="http://schemas.openxmlformats.org/officeDocument/2006/relationships/hyperlink" Target="http://ru.wikipedia.org/wiki/1999" TargetMode="External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6" TargetMode="External"/><Relationship Id="rId2" Type="http://schemas.openxmlformats.org/officeDocument/2006/relationships/hyperlink" Target="http://ru.wikipedia.org/wiki/&#1057;&#1064;&#1040;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0;&#1097;&#1077;&#1074;&#1072;&#1088;&#1080;&#1090;&#1077;&#1083;&#1100;&#1085;&#1072;&#1103;_&#1092;&#1077;&#1088;&#1084;&#1077;&#1085;&#1090;&#1072;&#1094;&#1080;&#1103;&amp;action=edit" TargetMode="External"/><Relationship Id="rId2" Type="http://schemas.openxmlformats.org/officeDocument/2006/relationships/hyperlink" Target="http://ru.wikipedia.org/w/index.php?title=&#1056;&#1080;&#1089;&#1086;&#1074;&#1086;&#1076;&#1089;&#1090;&#1074;&#1086;&amp;action=edit" TargetMode="External"/><Relationship Id="rId3" Type="http://schemas.openxmlformats.org/officeDocument/2006/relationships/hyperlink" Target="http://ru.wikipedia.org/wiki/&#1041;&#1080;&#1086;&#1084;&#1072;&#1089;&#1089;&#1072;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WordArt 5"/>
          <p:cNvSpPr txBox="1"/>
          <p:nvPr/>
        </p:nvSpPr>
        <p:spPr>
          <a:xfrm>
            <a:off x="395280" y="2421000"/>
            <a:ext cx="8569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едствия парникового эффекта для Земл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8" name="MSj01187.wav" descr=""/>
          <p:cNvPicPr/>
          <p:nvPr/>
        </p:nvPicPr>
        <p:blipFill>
          <a:blip r:embed="rId1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17"/>
          <p:cNvSpPr/>
          <p:nvPr/>
        </p:nvSpPr>
        <p:spPr>
          <a:xfrm>
            <a:off x="6084720" y="4797360"/>
            <a:ext cx="288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зентация по географ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ченицы 11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”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лас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Буглевской Анн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6235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климата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не можем точно сказать к каким изменениям климата может привести глобальное потепление. Однако, 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мнению многих ученых, если сохранится тенденция глобального потепления, это приведет к изменению погоды и увеличению количества осадков, что, в свою очередь, приведет к подъему уровня Mирового океан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ША и бывшем СССР последние 30-40 лет выпадает осадков на 10 процентов больше, чем в прош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 же время, количество осадков над экватором сократилась на те же десять процент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лим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Наиболее благоприятные условия для выращивания культур сложатся в сельскохозяйственных регионах России и обильные осадки будут выпадать в Северной Африке, где засуха продолжается с 1970-го года. Кроме того, повышение температуры увеличит испарение влаги с поверхности океана. Это приведет к увеличению выпадения осадков на 11 проц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дствия потепления климата будут ощущаться на Северном и Южном полюсах, где увеличившаяся температура приведет к подтаиванию ледников. По расчетам ученых увеличение температуры на 10 градусов по Цельсию, вызовет повышение уровн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рового океана на 5-6 метров, что приведет к затоплению многих прибрежных территорий во все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Уже сегодня мы сталкиваемся с участившимися климатическими  аномалиями. Это и всё более сильные ураганы и штормы, наводнения, засуха, выпадание снега там, где его никогда не ждали, необычайно тёплые зимы в северных широта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2" name="Picture 4" descr="images3"/>
          <p:cNvPicPr/>
          <p:nvPr/>
        </p:nvPicPr>
        <p:blipFill>
          <a:blip r:embed="rId1"/>
          <a:stretch/>
        </p:blipFill>
        <p:spPr>
          <a:xfrm>
            <a:off x="395280" y="4221000"/>
            <a:ext cx="1944720" cy="223236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5" descr="untitled1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335400"/>
          </a:xfrm>
          <a:prstGeom prst="rect">
            <a:avLst/>
          </a:prstGeom>
          <a:ln w="0">
            <a:noFill/>
          </a:ln>
        </p:spPr>
      </p:pic>
      <p:sp>
        <p:nvSpPr>
          <p:cNvPr id="8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иболее чувствительными к потеплению климата являются ледни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Упсала в Патагонии (Аргентина) был одним из самых больших ледников Южной Америки, но теперь исчезает на 200 метров в год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7" name="Picture 4" descr=""/>
          <p:cNvPicPr/>
          <p:nvPr/>
        </p:nvPicPr>
        <p:blipFill>
          <a:blip r:embed="rId1"/>
          <a:stretch/>
        </p:blipFill>
        <p:spPr>
          <a:xfrm>
            <a:off x="2771640" y="342900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81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043520" cy="283680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4"/>
          <p:cNvSpPr/>
          <p:nvPr/>
        </p:nvSpPr>
        <p:spPr>
          <a:xfrm>
            <a:off x="1332000" y="1706760"/>
            <a:ext cx="63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Роун, Валаис, Швейцария поднялся вверх на 450 метро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4" name="Picture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475160" cy="26208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4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2114640" cy="190512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5"/>
          <p:cNvSpPr/>
          <p:nvPr/>
        </p:nvSpPr>
        <p:spPr>
          <a:xfrm>
            <a:off x="5434200" y="566028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портадж в Аляск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27" name="MSj01250.wav" descr=""/>
          <p:cNvPicPr/>
          <p:nvPr/>
        </p:nvPicPr>
        <p:blipFill>
          <a:blip r:embed="rId3"/>
          <a:stretch/>
        </p:blipFill>
        <p:spPr>
          <a:xfrm>
            <a:off x="716436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2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7590" fill="hold"/>
                                        <p:tgtEl>
                                          <p:spTgt spid="8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иотский протоко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блема влияния парникового эффекта на климат земли является одной из важнейших задач, требующих скорейшего решения. Начальным этапом решения проблемы стали международные договорённости по сокращению выбросов парниковых газов в атмосфер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иотский протоко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иотский протоко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— международный документ, принятый в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иот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Япо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в декабре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199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ода в дополнение к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Рамочной конвенции ООН об изменении клима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 Период подписания протокола открылся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6 мар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199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ода и завершился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15 мар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199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4" descr="Picture2"/>
          <p:cNvPicPr/>
          <p:nvPr/>
        </p:nvPicPr>
        <p:blipFill>
          <a:blip r:embed="rId1"/>
          <a:stretch/>
        </p:blipFill>
        <p:spPr>
          <a:xfrm>
            <a:off x="539640" y="1628640"/>
            <a:ext cx="8207640" cy="468000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5"/>
          <p:cNvSpPr/>
          <p:nvPr/>
        </p:nvSpPr>
        <p:spPr>
          <a:xfrm>
            <a:off x="1476360" y="2421000"/>
            <a:ext cx="6983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Киотский протокол стал первым глобальным соглашением об охране окружающей среды, основанным на рыночных механизмах регулирования — механизме международной торговли квотами на выбросы парниковых газ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траны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участницы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Протокола определили для себя количественные обязательства по ограничению либо сокращению выбросов на период с 1 января 2008 до 31 декабря 2012 года. Цель ограничений — снизить в этот период совокупный средний уровень выбросов 6 типов газов (CO2, CH4,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гидрофторуглеводороды, </a:t>
            </a:r>
            <a:r>
              <a:rPr b="0" lang="en-US" sz="1800" spc="-1" strike="noStrike">
                <a:solidFill>
                  <a:srgbClr val="a50021"/>
                </a:solidFill>
                <a:latin typeface="Garamond"/>
              </a:rPr>
              <a:t>перфторуглеводороды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N2O, SF6) на 5,2 % по сравнению с уровнем 1990 го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WordArt 6"/>
          <p:cNvSpPr txBox="1"/>
          <p:nvPr/>
        </p:nvSpPr>
        <p:spPr>
          <a:xfrm>
            <a:off x="2556000" y="620640"/>
            <a:ext cx="40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тали соглашения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еография Киотского протокол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 состоянию на 14 феврал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2006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года Протокол был ратифицирован 161 страной мира (совокупно ответственными за более чем 61 % общемировых выбросов). Заметным исключением из этого списка являютс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США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1" name="Picture 4" descr="Kyoto"/>
          <p:cNvPicPr/>
          <p:nvPr/>
        </p:nvPicPr>
        <p:blipFill>
          <a:blip r:embed="rId3"/>
          <a:stretch/>
        </p:blipFill>
        <p:spPr>
          <a:xfrm>
            <a:off x="900000" y="2852640"/>
            <a:ext cx="7620120" cy="3524400"/>
          </a:xfrm>
          <a:prstGeom prst="rect">
            <a:avLst/>
          </a:prstGeom>
          <a:ln w="0">
            <a:noFill/>
          </a:ln>
        </p:spPr>
      </p:pic>
      <p:sp>
        <p:nvSpPr>
          <p:cNvPr id="8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такое парниковый эффек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арниковый эффект. Как он действуе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арниковые газ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лияние парникового эффекта на климат Земл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янье ледников- индикатор потепления клима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иотский протоко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4  мифов о глобальном потеплен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2" name="WordArt 4"/>
          <p:cNvSpPr txBox="1"/>
          <p:nvPr/>
        </p:nvSpPr>
        <p:spPr>
          <a:xfrm>
            <a:off x="1835280" y="549360"/>
            <a:ext cx="5329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держание презентаци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Tahoma"/>
              </a:rPr>
              <a:t>Человек с древних времен склонен верить мифам. Часть из них не лишена логики, но все таки большая половина оказывается полным бредом. То же самое и с </a:t>
            </a:r>
            <a:r>
              <a:rPr b="1" lang="en-US" sz="1600" spc="-1" strike="noStrike">
                <a:solidFill>
                  <a:srgbClr val="3399ff"/>
                </a:solidFill>
                <a:latin typeface="Tahoma"/>
              </a:rPr>
              <a:t>глобальным потеплением</a:t>
            </a:r>
            <a:r>
              <a:rPr b="0" lang="en-US" sz="1600" spc="-1" strike="noStrike">
                <a:solidFill>
                  <a:srgbClr val="3399ff"/>
                </a:solidFill>
                <a:latin typeface="Tahoma"/>
              </a:rPr>
              <a:t>. Вот распространенные заблуждения, связанные с ним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). Глобального потепления вообще не происходи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К сожалению происходит. Наукой не раз доказано, а фактами подтверждено, что температура быстро раст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). Глобальное потепление - естественный процес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корее всего нет (повышение температуры, особенно с 70-х годов, намного превышают естественные изменения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). В любом случае последствия будут постепенны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ильные штормы становятся все чаще, а историей доказано, резкое изменение климатических условий может наступить внезапно, буквально за несколько л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5" name="Picture 4" descr="eart-on-fire"/>
          <p:cNvPicPr/>
          <p:nvPr/>
        </p:nvPicPr>
        <p:blipFill>
          <a:blip r:embed="rId1"/>
          <a:stretch/>
        </p:blipFill>
        <p:spPr>
          <a:xfrm>
            <a:off x="6300720" y="4869000"/>
            <a:ext cx="2266920" cy="1989000"/>
          </a:xfrm>
          <a:prstGeom prst="rect">
            <a:avLst/>
          </a:prstGeom>
          <a:ln w="0">
            <a:noFill/>
          </a:ln>
        </p:spPr>
      </p:pic>
      <p:sp>
        <p:nvSpPr>
          <p:cNvPr id="8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). Глобальное потепление приведет к всемирному потоп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Если потепление будет идти теми же темпами, то уровень мирового океана поднимется на 1 метр. Если же допустить, что все ледники растают, что конечно же невозможно, то вода поднимется на 10 метров. И если учесть, что средняя высота суши над уровнем океана - 840 метров, то переживать так сильно по поводу затопления не стои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). Глобальное потепление - единственная причина резких, непредсказуемых изменений пого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алеко не единственная. Существует ряд естественных, циклических процессов, к которым глобальное потепление не имеет никакого отношения. И именно они являются тем, что может вызвать резкое потепление или похолодание. Такими факторами могут послужить океанские течения, циклоны, изменение магнитного поля Земли и просто совпад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9" name="Picture 5" descr="small-gletscher"/>
          <p:cNvPicPr/>
          <p:nvPr/>
        </p:nvPicPr>
        <p:blipFill>
          <a:blip r:embed="rId1"/>
          <a:stretch/>
        </p:blipFill>
        <p:spPr>
          <a:xfrm>
            <a:off x="6248520" y="4952880"/>
            <a:ext cx="2895480" cy="1905120"/>
          </a:xfrm>
          <a:prstGeom prst="rect">
            <a:avLst/>
          </a:prstGeom>
          <a:ln w="0">
            <a:noFill/>
          </a:ln>
        </p:spPr>
      </p:pic>
      <p:sp>
        <p:nvSpPr>
          <p:cNvPr id="8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). Выбросы углекислого газа слишком незначительны, чтобы спровоцировать глобальное потепление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Хотелось бы верить, но пока факты это отрицают. По статистическим данным, которым можно доверять были построены графики концентрации углекислого газа в атмосфере и температуры в это время. Они совпадаю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). Из-за глобального потепления температура скоро вырастет настолько, что мы все погибнем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е настолько и не скоро. За последние 100 лет температура выросла на 0,7°С, - 1° С. И по самым смелым прогнозам в ближайшие 100 лет может вырасти еще на 4,6° С, но скорее всего это увеличение не превысит 2°С. С меньшей вероятностью, но есть модели, предсказывающие да же похолодани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). От глобального потепления мы получим только выгод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некоторых районах можно будет порадоваться необычно теплой погодой, но цена негативных последствий превысит любые выгоды. Число болезней и смертей из-за жары выраст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3" name="Picture 4" descr="sity-on-smoge"/>
          <p:cNvPicPr/>
          <p:nvPr/>
        </p:nvPicPr>
        <p:blipFill>
          <a:blip r:embed="rId1"/>
          <a:stretch/>
        </p:blipFill>
        <p:spPr>
          <a:xfrm>
            <a:off x="5003640" y="4952880"/>
            <a:ext cx="3009960" cy="1905120"/>
          </a:xfrm>
          <a:prstGeom prst="rect">
            <a:avLst/>
          </a:prstGeom>
          <a:ln w="0">
            <a:noFill/>
          </a:ln>
        </p:spPr>
      </p:pic>
      <p:sp>
        <p:nvSpPr>
          <p:cNvPr id="8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). Сельскому хозяйству это будет только на рук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глекислый газ может повысить урожайность ряда культур, но так же возрастет и количество сорняков и вредителей. Растения не смогут хорошо расти на том же месте из-за климатического сдвиг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). Правительство о нас позаботитс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омимо прянятия Киотского протокола (который только ограничивает выбросы) несколькими странами, исключая США (крупнейший источник вредным выбросов) больше ничего сделано не было. Правительства боятся экономических последствий борьбы с глобальным потеплени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1). Проблема не так серьезна, как национальная безопасност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у как посмотреть. Если учесть, что потепление затронет каждого жителя планеты (при чем больно ударив по нему), то думаю будет посерьезн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2). Причины глобального потепления известны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Многие верят, что в глобальном потеплении полностью виновен человек и что только остановив промышленную деятельность, можно избежать катастрофы. В действительности же проблема изменения климата настолько нова, что сейчас невозможно с точностью сказать о ее причинах. То, что оно происходит - это факт, но то что это результат антропогенной деятельности человека далеко не единственная версия. Так, например, существует версия, что это результат естественных процессов, происходящих в системе Солнце - Земля - Космо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3). Мы знаем, как бороться с глобальным потеплением, у нас есть технолог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тратегический план находится в разработке. Существует несколько масштабных вариантов борьбы с глобальным потеплением, но все они из области фантастики, да и требуют колоссальных вложений, сравнимых с бюджетом США, но лучше много мелких изменений, чем одно больш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4). Мы не можем ничего с этим подела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аждый уже сейчас может внести свой вклад в борьбу с глобальным потеплением хотя бы просто соблюдая рационализм в своей потребительской деятельност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заключении хочется отметить, что существует версия, о том, что влияние парникового эффекта на глобальное  потепление климата не так значительно, а нынешнее потепление – это лишь очередной этап в циклическом изменении климата нашей планеты. Ведь не стоит забывать, что по геологическим меркам последний ледниковый период на Земле был не так уж и дав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парниковый эффект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арнико́вый эффе́к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— повыш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ператур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нижних слоёв атмосферы планеты по сравнению с эффективной температурой, т. е. температурой теплового излучения планеты, наблюдаемого из космос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арниковый эффект. Как это происходит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9" name="Picture 4" descr="CLIMATE_CHANGE"/>
          <p:cNvPicPr/>
          <p:nvPr/>
        </p:nvPicPr>
        <p:blipFill>
          <a:blip r:embed="rId1"/>
          <a:stretch/>
        </p:blipFill>
        <p:spPr>
          <a:xfrm>
            <a:off x="684360" y="3213000"/>
            <a:ext cx="7775280" cy="3456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6" descr="Picture2"/>
          <p:cNvPicPr/>
          <p:nvPr/>
        </p:nvPicPr>
        <p:blipFill>
          <a:blip r:embed="rId2"/>
          <a:stretch/>
        </p:blipFill>
        <p:spPr>
          <a:xfrm>
            <a:off x="684360" y="1197000"/>
            <a:ext cx="7775280" cy="2016000"/>
          </a:xfrm>
          <a:prstGeom prst="rect">
            <a:avLst/>
          </a:prstGeom>
          <a:ln w="0">
            <a:noFill/>
          </a:ln>
        </p:spPr>
      </p:pic>
      <p:sp>
        <p:nvSpPr>
          <p:cNvPr id="781" name="Text Box 7"/>
          <p:cNvSpPr/>
          <p:nvPr/>
        </p:nvSpPr>
        <p:spPr>
          <a:xfrm>
            <a:off x="1619280" y="1557360"/>
            <a:ext cx="6553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Накопление углекислого газа в атмосфере - одна из основных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ричин парникового эффекта. Углекислый газ действует в атмосфере, как стекло в оранжерее: он пропускает солнечную радиацию и не пропускает обратно в космос инфракрасное (тепловое) излучение Земл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4" name="Picture 3" descr="Air_4"/>
          <p:cNvPicPr/>
          <p:nvPr/>
        </p:nvPicPr>
        <p:blipFill>
          <a:blip r:embed="rId1"/>
          <a:stretch/>
        </p:blipFill>
        <p:spPr>
          <a:xfrm>
            <a:off x="468360" y="33336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7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арниковые газы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Водяной пар — основной естественный парниковый газ, ответственный более, чем за 60 % эффек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Углекислый газ (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CO2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сточниками углекислого газа в атмосфере Земли являются вулканические выбросы, жизнедеятельность организмов, деятельность чело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Метан (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CH4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- о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сновными антропогенными источниками метана являются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ищеварительная ферментация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у скота,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рисоводство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, горение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биомассы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(в т. ч. сведение лесов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зон (О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ксид углерода (С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фрео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8" name="Picture 4" descr="140px-Carbon-dioxide-3D-vdW"/>
          <p:cNvPicPr/>
          <p:nvPr/>
        </p:nvPicPr>
        <p:blipFill>
          <a:blip r:embed="rId4"/>
          <a:stretch/>
        </p:blipFill>
        <p:spPr>
          <a:xfrm>
            <a:off x="539640" y="5013360"/>
            <a:ext cx="1333440" cy="87624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5" descr="100px-Methane-3D-space-filling"/>
          <p:cNvPicPr/>
          <p:nvPr/>
        </p:nvPicPr>
        <p:blipFill>
          <a:blip r:embed="rId5"/>
          <a:stretch/>
        </p:blipFill>
        <p:spPr>
          <a:xfrm>
            <a:off x="3995640" y="5157720"/>
            <a:ext cx="952560" cy="7923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6" descr="200px-Ozone_molecule_ball_and_stick"/>
          <p:cNvPicPr/>
          <p:nvPr/>
        </p:nvPicPr>
        <p:blipFill>
          <a:blip r:embed="rId6"/>
          <a:stretch/>
        </p:blipFill>
        <p:spPr>
          <a:xfrm>
            <a:off x="7164360" y="5229360"/>
            <a:ext cx="1368360" cy="79200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7" descr="140px-Carbon-dioxide-2D-dimensions"/>
          <p:cNvPicPr/>
          <p:nvPr/>
        </p:nvPicPr>
        <p:blipFill>
          <a:blip r:embed="rId7"/>
          <a:stretch/>
        </p:blipFill>
        <p:spPr>
          <a:xfrm>
            <a:off x="539640" y="5950080"/>
            <a:ext cx="1333440" cy="68580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8" descr="100px-Methane-2D"/>
          <p:cNvPicPr/>
          <p:nvPr/>
        </p:nvPicPr>
        <p:blipFill>
          <a:blip r:embed="rId8"/>
          <a:stretch/>
        </p:blipFill>
        <p:spPr>
          <a:xfrm>
            <a:off x="4932360" y="5589720"/>
            <a:ext cx="952560" cy="1000080"/>
          </a:xfrm>
          <a:prstGeom prst="rect">
            <a:avLst/>
          </a:prstGeom>
          <a:ln w="0">
            <a:noFill/>
          </a:ln>
        </p:spPr>
      </p:pic>
      <p:sp>
        <p:nvSpPr>
          <p:cNvPr id="7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лияние парникового эффекта на климат Земл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95" name="Picture 4" descr="Picture3"/>
          <p:cNvPicPr/>
          <p:nvPr/>
        </p:nvPicPr>
        <p:blipFill>
          <a:blip r:embed="rId1"/>
          <a:stretch/>
        </p:blipFill>
        <p:spPr>
          <a:xfrm>
            <a:off x="250920" y="1628640"/>
            <a:ext cx="8569080" cy="504036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5"/>
          <p:cNvSpPr/>
          <p:nvPr/>
        </p:nvSpPr>
        <p:spPr>
          <a:xfrm>
            <a:off x="1187280" y="242100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Text Box 7"/>
          <p:cNvSpPr/>
          <p:nvPr/>
        </p:nvSpPr>
        <p:spPr>
          <a:xfrm>
            <a:off x="1116000" y="2492280"/>
            <a:ext cx="712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Ещё в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827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году французский физик Жозеф Фурье предположил, что атмосфера земли выполняет функцию своего рода стекла в теплице: воздух пропускает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солнечное тепло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не давая ему при этом испариться обратно в космос. Этот эффект достигается благодаря некоторым атмосферным газам второстепенного значения, каковыми являются, например, водяные испарения и углекислый газ. Они пропускают видимый и «ближний» инфракрасный свет, излучаемый солнцем, но поглощают «далекое» инфракрасное излучение, имеющее более низкую частоту и образующееся при нагревании земной поверхности солнечными лучами. Если бы этого не происходило, Земля была бы примерно на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30 градусов холоднее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чем сейчас, и жизнь бы на ней практически замерл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6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нако, з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 последние 100 ле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вязи с активной деятельностью человек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доля двуокиси углерода имеет тенденцию роста приблизительно на 25% и средняя температура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емли повысилась н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,7º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Земля нагревается однако неравномерно, температуры на полюсах увеличиваются более экстремально, чем в других областях земли. Если эта тенденция не остановится, то наступят климатические изменения – более долгие периоды засухи, интенсивное выпадение осадков и более мощные ураганы – уровень моря может подняться. Плодородные регионы побережья станут жертвой моря и будут затоплены. Может возникнуть угроза голода и миграции народов с губительными социальными последствиями.  Климат Земли грозит нам еще большими неприятностями, нежели те, что он преподнес в последние годы - катастрофические ураганы, бурные наводнения и жестокие засухи. Они, вероятно, будут повторяться все чаще и станут разрушительнее. Продолжаться это будет до тех пор, пока человечество не найдет способ значительно уменьшить содержание парниковых газов разогревающих атмосфер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: основным следствием парникового эффекта является глобальное поте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7:48:18Z</dcterms:created>
  <dc:creator> juri</dc:creator>
  <dc:description>ppt.3dn.ru</dc:description>
  <dc:language>en-US</dc:language>
  <cp:lastModifiedBy>LEGION</cp:lastModifiedBy>
  <dcterms:modified xsi:type="dcterms:W3CDTF">2015-05-06T08:07:56Z</dcterms:modified>
  <cp:revision>29</cp:revision>
  <dc:subject/>
  <dc:title>Потепление клима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a000000000001024140</vt:lpwstr>
  </property>
  <property fmtid="{D5CDD505-2E9C-101B-9397-08002B2CF9AE}" pid="3" name="Version">
    <vt:r8>6</vt:r8>
  </property>
</Properties>
</file>