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jpeg" ContentType="image/jpeg"/>
  <Override PartName="/ppt/media/image8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2.wmf" ContentType="image/x-wmf"/>
  <Override PartName="/ppt/media/image6.jpeg" ContentType="image/jpeg"/>
  <Override PartName="/ppt/media/image5.wmf" ContentType="image/x-wmf"/>
  <Override PartName="/ppt/media/image10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png" ContentType="image/png"/>
  <Override PartName="/ppt/media/image18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11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  <p:sldId id="274" r:id="rId35"/>
    <p:sldId id="275" r:id="rId36"/>
    <p:sldId id="276" r:id="rId37"/>
    <p:sldId id="277" r:id="rId38"/>
    <p:sldId id="278" r:id="rId39"/>
    <p:sldId id="279" r:id="rId40"/>
    <p:sldId id="280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slide" Target="slides/slide19.xml"/><Relationship Id="rId36" Type="http://schemas.openxmlformats.org/officeDocument/2006/relationships/slide" Target="slides/slide20.xml"/><Relationship Id="rId37" Type="http://schemas.openxmlformats.org/officeDocument/2006/relationships/slide" Target="slides/slide21.xml"/><Relationship Id="rId38" Type="http://schemas.openxmlformats.org/officeDocument/2006/relationships/slide" Target="slides/slide22.xml"/><Relationship Id="rId39" Type="http://schemas.openxmlformats.org/officeDocument/2006/relationships/slide" Target="slides/slide23.xml"/><Relationship Id="rId40" Type="http://schemas.openxmlformats.org/officeDocument/2006/relationships/slide" Target="slides/slide24.xml"/><Relationship Id="rId41" Type="http://schemas.openxmlformats.org/officeDocument/2006/relationships/slide" Target="slides/slide25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 type="dt" idx="4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5"/>
          <p:cNvSpPr>
            <a:spLocks noGrp="1"/>
          </p:cNvSpPr>
          <p:nvPr>
            <p:ph type="ftr" idx="4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5" name="PlaceHolder 6"/>
          <p:cNvSpPr>
            <a:spLocks noGrp="1"/>
          </p:cNvSpPr>
          <p:nvPr>
            <p:ph type="sldNum" idx="4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20144-7D9A-4678-8B35-A2438271DA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0;&#1080;&#1086;&#1090;&#1086;" TargetMode="External"/><Relationship Id="rId2" Type="http://schemas.openxmlformats.org/officeDocument/2006/relationships/hyperlink" Target="http://ru.wikipedia.org/wiki/&#1071;&#1087;&#1086;&#1085;&#1080;&#1103;" TargetMode="External"/><Relationship Id="rId3" Type="http://schemas.openxmlformats.org/officeDocument/2006/relationships/slide" Target="../slides/slide17.xml"/><Relationship Id="rId4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hyperlink" Target="http://ru.wikipedia.org/w/index.php?title=&#1055;&#1080;&#1097;&#1077;&#1074;&#1072;&#1088;&#1080;&#1090;&#1077;&#1083;&#1100;&#1085;&#1072;&#1103;_&#1092;&#1077;&#1088;&#1084;&#1077;&#1085;&#1090;&#1072;&#1094;&#1080;&#1103;&amp;action=edit" TargetMode="External"/><Relationship Id="rId2" Type="http://schemas.openxmlformats.org/officeDocument/2006/relationships/hyperlink" Target="http://ru.wikipedia.org/w/index.php?title=&#1056;&#1080;&#1089;&#1086;&#1074;&#1086;&#1076;&#1089;&#1090;&#1074;&#1086;&amp;action=edit" TargetMode="External"/><Relationship Id="rId3" Type="http://schemas.openxmlformats.org/officeDocument/2006/relationships/hyperlink" Target="http://ru.wikipedia.org/wiki/&#1041;&#1080;&#1086;&#1084;&#1072;&#1089;&#1089;&#1072;" TargetMode="External"/><Relationship Id="rId4" Type="http://schemas.openxmlformats.org/officeDocument/2006/relationships/slide" Target="../slides/slide6.xml"/><Relationship Id="rId5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33F5C-82EA-423E-96EB-F92707B571C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Impact"/>
              </a:rPr>
              <a:t>Последствия парникового эффекта для Земл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Возможные последствия глобального потепления климата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ы не можем точно сказать к каким изменениям климата может привести глобальное потепление. Однако, п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о мнению многих ученых, если сохранится тенденция глобального потепления, это приведет к изменению погоды и увеличению количества осадков, что, в свою очередь, приведет к подъему уровня Mирового океан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Фак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в США и бывшем СССР последние 30-40 лет выпадает осадков на 10 процентов больше, чем в прошлом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В то же время, количество осадков над экватором сократилась на те же десять проценто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FD39B-4159-474D-8DD3-4B402786214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Возможные последствия глобального потепления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клима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Дальнейшее изменение в системе выпадения осадков окажет огромное воздействие на сельское хозяйство, смещая зоны возделывания культур в северные районы Северной Америки и Евразии. Наиболее благоприятные условия для выращивания культур сложатся в сельскохозяйственных регионах России и обильные осадки будут выпадать в Северной Африке, где засуха продолжается с 1970-го года. Кроме того, повышение температуры увеличит испарение влаги с поверхности океана. Это приведет к увеличению выпадения осадков на 11 проценто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оследствия потепления климата будут ощущаться на Северном и Южном полюсах, где увеличившаяся температура приведет к подтаиванию ледников. По расчетам ученых увеличение температуры на 10 градусов по Цельсию, вызовет повышение уровня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ирового океана на 5-6 метров, что приведет к затоплению многих прибрежных территорий во всем мир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467DE-4939-4CBB-9351-671F1C70A4E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ffff00"/>
                </a:solidFill>
                <a:latin typeface="Arial"/>
              </a:rPr>
              <a:t>Уже сегодня мы сталкиваемся с участившимися климатическими  аномалиями. Это и всё более сильные ураганы и штормы, наводнения, засуха, выпадание снега там, где его никогда не ждали, необычайно тёплые зимы в северных широтах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4E498-8434-4FB2-8116-5A61CDAF335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аянье ледников- индикатор потепления клима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иболее чувствительными к потеплению климата являются ледник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Ледник Упсала в Патагонии (Аргентина) был одним из самых больших ледников Южной Америки, но теперь исчезает на 200 метров в год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31E31-B414-40BC-AD7C-E554529516C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янье ледников- индикатор потепления клима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A32D0-739B-445F-A52C-4D3A9D69C96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янье ледников- индикатор потепления клима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13C66-967E-4968-942E-7B907653381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иотский протоко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блема влияния парникового эффекта на климат земли является одной из важнейших задач, требующих скорейшего решения. Начальным этапом решения проблемы стали международные договорённости по сокращению выбросов парниковых газов в атмосфер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DC42B-C884-47D1-9DDE-CE08DFD4E43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иотский протоко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Киотский протокол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— международный документ, принятый в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Киото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Япония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 в декабре 1997 года в дополнение к Рамочной конвенции ООН об изменении климата . Период подписания протокола открылся 16 марта 1998 года и завершился 15 марта 1999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8B0C6-A084-4E3A-99BE-E2152AADFC6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Детали соглашен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Киотский протокол стал первым глобальным соглашением об охране окружающей среды, основанным на рыночных механизмах регулирования — механизме международной торговли квотами на выбросы парниковых газ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Страны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астницы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Протокола определили для себя количественные обязательства по ограничению либо сокращению выбросов на период с 1 января 2008 до 31 декабря 2012 года. Цель ограничений — снизить в этот период совокупный средний уровень выбросов 6 типов газов (CO2, CH4,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гидрофторуглеводороды, </a:t>
            </a: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перфторуглеводороды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N2O, SF6) на 5,2 % по сравнению с уровнем 1990 год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08359-D2DB-413B-B634-3A07F7E7AE1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еография Киотского протоко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о состоянию на 14 февраля 2006 года Протокол был ратифицирован 161 страной мира (совокупно ответственными за более чем 61 % общемировых выбросов). Заметным исключением из этого списка являются СШ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76651-0CAE-4E37-87E1-F9FB7A50245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держание презент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такое парниковый эффект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арниковый эффект. Как он действует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арниковые газ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лияние парникового эффекта на климат Земл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янье ледников- индикатор потепления клима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иотский протоко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4  мифов о глобальном потеплен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77D47-20F1-47F1-AF16-A0022380E94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4 мифов о глобальном потеплени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99ff"/>
                </a:solidFill>
                <a:latin typeface="Arial"/>
              </a:rPr>
              <a:t>Человек с древних времен склонен верить мифам. Часть из них не лишена логики, но все таки большая половина оказывается полным бредом. То же самое и с </a:t>
            </a:r>
            <a:r>
              <a:rPr b="1" lang="en-US" sz="1200" spc="-1" strike="noStrike">
                <a:solidFill>
                  <a:srgbClr val="3399ff"/>
                </a:solidFill>
                <a:latin typeface="Arial"/>
              </a:rPr>
              <a:t>глобальным потеплением</a:t>
            </a:r>
            <a:r>
              <a:rPr b="0" lang="en-US" sz="1200" spc="-1" strike="noStrike">
                <a:solidFill>
                  <a:srgbClr val="3399ff"/>
                </a:solidFill>
                <a:latin typeface="Arial"/>
              </a:rPr>
              <a:t>. Вот распространенные заблуждения, связанные с ним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1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). Глобального потепления вообще не происходит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К сожалению происходит. Наукой не раз доказано, а фактами подтверждено, что температура быстро растет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1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). Глобальное потепление - естественный процесс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Скорее всего нет (повышение температуры, особенно с 70-х годов, намного превышают естественные изменения)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1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3). В любом случае последствия будут постепенными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Сильные штормы становятся все чаще, а историей доказано, резкое изменение климатических условий может наступить внезапно, буквально за несколько лет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2DD3E-25FE-4F2C-AA78-AEBA2DE6F4C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4 мифов о глобальном потеплен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). Глобальное потепление приведет к всемирному потоп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Если потепление будет идти теми же темпами, то уровень мирового океана поднимется на 1 метр. Если же допустить, что все ледники растают, что конечно же невозможно, то вода поднимется на 10 метров. И если учесть, что средняя высота суши над уровнем океана - 840 метров, то переживать так сильно по поводу затопления не стои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). Глобальное потепление - единственная причина резких, непредсказуемых изменений погод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Далеко не единственная. Существует ряд естественных, циклических процессов, к которым глобальное потепление не имеет никакого отношения. И именно они являются тем, что может вызвать резкое потепление или похолодание. Такими факторами могут послужить океанские течения, циклоны, изменение магнитного поля Земли и просто совпад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D04B1-4E8E-4545-A0EA-1F7969454EE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4 мифов о глобальном потеплен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). Выбросы углекислого газа слишком незначительны, чтобы спровоцировать глобальное потепление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Хотелось бы верить, но пока факты это отрицают. По статистическим данным, которым можно доверять были построены графики концентрации углекислого газа в атмосфере и температуры в это время. Они совпадаю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7). Из-за глобального потепления температура скоро вырастет настолько, что мы все погибнем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Не настолько и не скоро. За последние 100 лет температура выросла на 0,7°С, - 1° С. И по самым смелым прогнозам в ближайшие 100 лет может вырасти еще на 4,6° С, но скорее всего это увеличение не превысит 2°С. С меньшей вероятностью, но есть модели, предсказывающие да же похолодани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8). От глобального потепления мы получим только выгод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В некоторых районах можно будет порадоваться необычно теплой погодой, но цена негативных последствий превысит любые выгоды. Число болезней и смертей из-за жары вырасте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DE21E-5E93-4617-B726-CDD893784D4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4 мифов о глобальном потеплен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). Сельскому хозяйству это будет только на рук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Углекислый газ может повысить урожайность ряда культур, но так же возрастет и количество сорняков и вредителей. Растения не смогут хорошо расти на том же месте из-за климатического сдвиг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). Правительство о нас позаботитс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омимо прянятия Киотского протокола (который только ограничивает выбросы) несколькими странами, исключая США (крупнейший источник вредным выбросов) больше ничего сделано не было. Правительства боятся экономических последствий борьбы с глобальным потепление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1). Проблема не так серьезна, как национальная безопаснос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Ну как посмотреть. Если учесть, что потепление затронет каждого жителя планеты (при чем больно ударив по нему), то думаю будет посерьезне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). Причины глобального потепления известны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Многие верят, что в глобальном потеплении полностью виновен человек и что только остановив промышленную деятельность, можно избежать катастрофы. В действительности же проблема изменения климата настолько нова, что сейчас невозможно с точностью сказать о ее причинах. То, что оно происходит - это факт, но то что это результат антропогенной деятельности человека далеко не единственная версия. Так, например, существует версия, что это результат естественных процессов, происходящих в системе Солнце - Земля - Космос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9F497-45C7-41A2-B52E-37610379C36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4 мифов о глобальном потеплен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3). Мы знаем, как бороться с глобальным потеплением, у нас есть технолог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Стратегический план находится в разработке. Существует несколько масштабных вариантов борьбы с глобальным потеплением, но все они из области фантастики, да и требуют колоссальных вложений, сравнимых с бюджетом США, но лучше много мелких изменений, чем одно большо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4). Мы не можем ничего с этим подела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Каждый уже сейчас может внести свой вклад в борьбу с глобальным потеплением хотя бы просто соблюдая рационализм в своей потребительской деятельност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20E23-DC58-4998-A0BE-208939CEAD9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заключении хочется отметить, что существует версия, о том, что влияние парникового эффекта на глобальное  потепление климата не так значительно, а нынешнее потепление – это лишь очередной этап в циклическом изменении климата нашей планеты. Ведь не стоит забывать, что по геологическим меркам последний ледниковый период на Земле был не так уж и давн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D236B-7830-4343-B739-598D96508B4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такое парниковый эффект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Парнико́вый эффе́кт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— повышение температуры нижних слоёв атмосферы планеты по сравнению с эффективной температурой, т. е. температурой теплового излучения планеты, наблюдаемого из космос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96D2B-F81E-426F-9009-C24863AB447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арниковый эффект. Как это происходит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Накопление углекислого газа в атмосфере - одна из основных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ричин парникового эффекта. Углекислый газ действует в атмосфере, как стекло в оранжерее: он пропускает солнечную радиацию и не пропускает обратно в космос инфракрасное (тепловое) излучение Земл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20E80-7078-4AA6-945B-4D0DAE0CD67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арниковые газ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9999"/>
                </a:solidFill>
                <a:latin typeface="Arial"/>
              </a:rPr>
              <a:t>Водяной пар — основной естественный парниковый газ, ответственный более, чем за 60 % эффект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99"/>
                </a:solidFill>
                <a:latin typeface="Arial"/>
              </a:rPr>
              <a:t>Углекислый газ (</a:t>
            </a:r>
            <a:r>
              <a:rPr b="0" lang="en-US" sz="1100" spc="-1" strike="noStrike">
                <a:solidFill>
                  <a:srgbClr val="009999"/>
                </a:solidFill>
                <a:latin typeface="Arial"/>
              </a:rPr>
              <a:t>CO2</a:t>
            </a:r>
            <a:r>
              <a:rPr b="0" lang="ru-RU" sz="1100" spc="-1" strike="noStrike">
                <a:solidFill>
                  <a:srgbClr val="009999"/>
                </a:solidFill>
                <a:latin typeface="Arial"/>
              </a:rPr>
              <a:t>)</a:t>
            </a:r>
            <a:r>
              <a:rPr b="0" lang="ru-RU" sz="1200" spc="-1" strike="noStrike">
                <a:solidFill>
                  <a:srgbClr val="009999"/>
                </a:solidFill>
                <a:latin typeface="Arial"/>
              </a:rPr>
              <a:t>- </a:t>
            </a:r>
            <a:r>
              <a:rPr b="0" lang="ru-RU" sz="1100" spc="-1" strike="noStrike">
                <a:solidFill>
                  <a:srgbClr val="009999"/>
                </a:solidFill>
                <a:latin typeface="Arial"/>
              </a:rPr>
              <a:t>и</a:t>
            </a:r>
            <a:r>
              <a:rPr b="0" lang="en-US" sz="1100" spc="-1" strike="noStrike">
                <a:solidFill>
                  <a:srgbClr val="009999"/>
                </a:solidFill>
                <a:latin typeface="Arial"/>
              </a:rPr>
              <a:t>сточниками углекислого газа в атмосфере Земли являются вулканические выбросы, жизнедеятельность организмов, деятельность человека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99"/>
                </a:solidFill>
                <a:latin typeface="Arial"/>
              </a:rPr>
              <a:t>Метан (</a:t>
            </a:r>
            <a:r>
              <a:rPr b="0" lang="en-US" sz="1100" spc="-1" strike="noStrike">
                <a:solidFill>
                  <a:srgbClr val="009999"/>
                </a:solidFill>
                <a:latin typeface="Arial"/>
              </a:rPr>
              <a:t>CH4</a:t>
            </a:r>
            <a:r>
              <a:rPr b="0" lang="ru-RU" sz="1100" spc="-1" strike="noStrike">
                <a:solidFill>
                  <a:srgbClr val="009999"/>
                </a:solidFill>
                <a:latin typeface="Arial"/>
              </a:rPr>
              <a:t>)</a:t>
            </a:r>
            <a:r>
              <a:rPr b="0" lang="ru-RU" sz="1200" spc="-1" strike="noStrike">
                <a:solidFill>
                  <a:srgbClr val="009999"/>
                </a:solidFill>
                <a:latin typeface="Arial"/>
              </a:rPr>
              <a:t>- о</a:t>
            </a:r>
            <a:r>
              <a:rPr b="0" lang="en-US" sz="1200" spc="-1" strike="noStrike">
                <a:solidFill>
                  <a:srgbClr val="009999"/>
                </a:solidFill>
                <a:latin typeface="Arial"/>
              </a:rPr>
              <a:t>сновными антропогенными источниками метана являются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пищеварительная ферментация</a:t>
            </a:r>
            <a:r>
              <a:rPr b="0" lang="en-US" sz="1200" spc="-1" strike="noStrike">
                <a:solidFill>
                  <a:srgbClr val="009999"/>
                </a:solidFill>
                <a:latin typeface="Arial"/>
              </a:rPr>
              <a:t> у скота,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рисоводство</a:t>
            </a:r>
            <a:r>
              <a:rPr b="0" lang="en-US" sz="1200" spc="-1" strike="noStrike">
                <a:solidFill>
                  <a:srgbClr val="009999"/>
                </a:solidFill>
                <a:latin typeface="Arial"/>
              </a:rPr>
              <a:t>, горение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биомассы</a:t>
            </a:r>
            <a:r>
              <a:rPr b="0" lang="en-US" sz="1200" spc="-1" strike="noStrike">
                <a:solidFill>
                  <a:srgbClr val="009999"/>
                </a:solidFill>
                <a:latin typeface="Arial"/>
              </a:rPr>
              <a:t> (в т. ч. сведение лесов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99"/>
                </a:solidFill>
                <a:latin typeface="Arial"/>
              </a:rPr>
              <a:t>Озон (О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99"/>
                </a:solidFill>
                <a:latin typeface="Arial"/>
              </a:rPr>
              <a:t>Оксид углерода (СО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99"/>
                </a:solidFill>
                <a:latin typeface="Arial"/>
              </a:rPr>
              <a:t>фреон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F6D25-1586-4029-AC20-C52666EB098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Влияние парникового эффекта на климат Земл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Ещё в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827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году французский физик Жозеф Фурье предположил, что атмосфера земли выполняет функцию своего рода стекла в теплице: воздух пропускает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солнечное тепло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не давая ему при этом испариться обратно в космос. Этот эффект достигается благодаря некоторым атмосферным газам второстепенного значения, каковыми являются, например, водяные испарения и углекислый газ. Они пропускают видимый и «ближний» инфракрасный свет, излучаемый солнцем, но поглощают «далекое» инфракрасное излучение, имеющее более низкую частоту и образующееся при нагревании земной поверхности солнечными лучами. Если бы этого не происходило, Земля была бы примерно на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0 градусов холоднее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чем сейчас, и жизнь бы на ней практически замерл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9BAD6-4417-44A9-B024-88CFE3FC6B2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Влияние парникового эффекта на климат Зем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днако, з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а последние 100 лет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связи с активной деятельностью человека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доля двуокиси углерода имеет тенденцию роста приблизительно на 25% и средняя температура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земли повысилась на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,7ºС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Земля нагревается однако неравномерно, температуры на полюсах увеличиваются более экстремально, чем в других областях земли. Если эта тенденция не остановится, то наступят климатические изменения – более долгие периоды засухи, интенсивное выпадение осадков и более мощные ураганы – уровень моря может подняться. Плодородные регионы побережья станут жертвой моря и будут затоплены. Может возникнуть угроза голода и миграции народов с губительными социальными последствиями.  Климат Земли грозит нам еще большими неприятностями, нежели те, что он преподнес в последние годы - катастрофические ураганы, бурные наводнения и жестокие засухи. Они, вероятно, будут повторяться все чаще и станут разрушительнее. Продолжаться это будет до тех пор, пока человечество не найдет способ значительно уменьшить содержание парниковых газов разогревающих атмосфер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B0522-45ED-4365-B057-34890400244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Влияние парникового эффекта на климат Земл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так: основным следствием парникового эффекта является глобальное потепл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E4722-A1D5-4B95-A215-7E76B62A612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7C1FC-A26D-41FC-B6F9-43A4C2FC8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712BA-29AD-4FCC-824F-48B969829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F1691A2-544F-4BCD-B051-970FC8554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AA3E4BA-4390-4BC1-A576-3B96C6514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948D26B-5C23-45A1-A4CB-11013C625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A3142F5-2D72-4D3E-9B70-2C4A236A3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50A3892-69B7-4E0E-9F88-AED2BE8DA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3CD00C3-FCA6-46D9-B7AE-3CC8DD3E3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1D642CB-02FD-4BD8-8888-C7D2E2213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1D1160A-F76B-482E-BFAD-800778017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BD8F8AA-EF62-4F6A-8C70-87D9FEBF6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9E7E5D-6DF5-4C19-8CCC-3603DB5CE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122AE-50C3-4F75-BB0C-33592A724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42073E-F1F7-4114-B868-2E0ECEFB6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8A383A-44E2-49EA-AD1D-2E07777D7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BBC389-2501-45F1-B9E2-55AE4DE40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909A12-8C47-4CCA-B975-DC01AC461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60A2F8-7362-4E6F-88BC-92F426F89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CE29E5-ABC4-4DAC-98BA-68D34DB04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3709FC-7988-46C0-B3BD-BE89EE731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4AEC22-EB2C-4976-A119-0D483FBCA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E13637-9A2C-4B0E-B76F-4951B80BD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AEEDE5-5E55-4E74-B78E-44BD6DA20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4E91A-7CE5-4893-A67B-17EF0BC31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3D9F9B-3480-4F6A-9445-26FAA15D2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2F0B78-D17C-45B9-9FB5-7E909D3CB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9FEA71-BE47-44C8-AC70-1403553F8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A91308-85C0-4947-926E-C0A4C2D7B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955E7B-B86F-4D2D-992F-37A5A3963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8CF5BC-1CA4-417B-9016-D52443DDE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EE9FAA-D104-468C-BFD6-BFF5997BB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309211-1C1D-4326-9072-4AC60283B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781308-95D7-4FC8-BE13-5EEE7ADBA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EA7082-189C-4982-8AE2-65B1E3C20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7A9CD-1828-4511-9E1A-8CF2981D4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B40D2C-16F0-40A1-8982-D5CF6063C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5265E1-D63C-4435-B1A9-6B06FFE65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685AEF-AF8E-4A0A-95F6-8ACD47B26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345544-A58C-44FC-A126-A3DDFF267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1B8BA0-90AE-42F8-A5C4-80AFE86C0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697B0C-DB22-422A-8B3D-58B73F7C6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77E854-A151-4270-8B1D-40421B982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EF128B-9ED7-4F40-B0A0-09695D9EC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757D8D-F625-4049-AB29-ABCF5F90D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DBEF8E-A9DB-4E74-867B-7054F5571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80830-74DC-4701-AD0C-EC59C5C09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39903A-3274-49A3-855F-3E72021BF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1C8688-63CF-4F56-BA2A-49B4FB1D6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AADF76-ABCA-4D9E-9F44-F2FD2CA1E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FE51E9-E06D-46EF-A67C-435B64A49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EE269F-B466-4F94-BA4C-76EB6395F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0834D62-3E45-45F8-8A72-CA59F26B0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7C0817B-4522-4EE0-AD7E-D69F90F91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3AF8E9A-CAFE-40AB-B853-F30D3CC7D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D676F09-E55E-41A6-B035-7C98F651D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AD1346C-6006-449C-AB39-66C178BDC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B94B6-E007-4914-913F-D0C1D6406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DDE6A10-2D61-4D3E-B8D2-40A8FC9BD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0ED7962-8D0B-49EF-9138-1A410E507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821CE6D-8F35-4B74-82BD-3529FD94B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5D84E1D-86DF-44EE-B512-E03F0E216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8192A6B-86A1-4A02-BE94-A0ED8A310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1CFC025-7BB6-48BB-8F55-ECE2A440F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4FA7565-AEDC-4D31-A93A-49BCD9216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CD3FF49-66E5-447B-83F6-69BA9FCCB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8615ED1-9001-4C9A-A0C9-B1D43C393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37106BB-7719-468E-B9C5-597556A33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5FF3A-4FEB-48D2-8280-30E04B476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D2DF536-6A19-4B70-BB0A-F6465EEB0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E59FD61-AA27-4B46-8B5D-C6A85BAF3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7A71FE4-BE90-4C32-B39F-1E2B02E37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07BD858-0074-4628-86D8-61F4118B4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21B5741-0EF8-46F1-88DD-7E020F1E7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4DB85BF-FE1C-457B-9B07-53FF826FB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78533E0-41CC-4971-BF5C-96DA9CAFF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0B39500-73A1-438E-A2F4-0E001B5E9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8CD696C-7AAE-44EF-9A3B-EFAC378A9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B8BD8-9953-44D4-84A1-F4495837D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58004-B5C7-43D3-8F98-369B58DEA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58D60-E994-47C7-AC07-5CA6806DB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6BE9C-604E-4F47-90FF-F7791C705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4ED1D-57C2-43FC-9B3E-230EDE181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B51C5-6571-4109-8B7B-5141D5B29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719DD-E6E0-43BA-A31A-5153E57DE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6094C-26C9-4D56-B0FB-030BDE175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47937-D392-41E7-87B1-DB9FB8EA1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78EBC8-6DB0-4D26-A123-E7FAB54E0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030162-A7BB-45EC-8684-31D118BE6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7431C5-8FA5-4B69-B34E-BB8915C5A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2F086B-8BAA-4B08-B2AC-294947343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9BE91F-B9C6-4469-AC19-B78856D59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869CD-924C-4BC1-AB32-4C637ECA6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C98335-32DD-4A52-9DE8-CB14F3780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355DBF-2F81-41F2-83DE-A46A40E33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3C3453-3DBD-4EC7-A62E-3892D17C0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63F497-1B17-4F55-BB99-478563E72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539BEC-7BCC-41CC-BE6A-91D7F4272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6FB5FF-F616-423B-99A0-A8053848A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4BE2A3-883B-42C3-BDF7-AB313F34D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2A2E8CD-F155-4DDC-B658-8E1362BB9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87E0976-F16C-428F-B909-4387DDDF5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D8B988A-8C05-4D97-BCDC-507847771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F5A5D-2733-466B-9DCF-FC1517C1D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3F1CBFB-5E48-44B1-9F2F-746763501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B1DF475-9571-45B9-B722-8943A3162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6A8FA00-545C-4784-B4DF-B2CA0AEA4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929C7C9-0164-4513-9EB5-0451D020F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31533FF-B75A-4BC6-B479-99CC471E9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4E40C3F-F43C-4185-9E1C-793C3594E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135E865-D675-4253-859C-EEADB88E3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4013B0E-F3E7-4688-83DA-4F19D6A9E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E6F338A-4240-4642-915F-E6EACA291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F0F1B4-1E10-4D28-B88C-82516736A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EFD7C-FC5F-4D97-8926-A7C510C79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D62299-9EF6-40DB-A48C-B09B1A381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BD4FE9-DE2D-49AA-8FBC-79E9B31BE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16B748-587A-47EA-BCA6-0045FA795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EB90F3-34C1-46A1-BB3F-C3FEC3FDE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CCA74A-8725-4E89-A13E-097E67FFB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0FE455-DE70-4558-A109-45481BC75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433FFC-BD20-4EB0-8146-A4FF227E5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8E3A79-1408-4B07-A162-6D76DCED0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6147F3-8B41-4F5E-9C23-03DC83A7A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850E7A-8084-4514-B210-427A247D5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F3215-D67C-4ADA-A20D-D0F64FE13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981526-FB8B-4FAB-A8EF-F3EE0B60C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F5CBD8-2C9E-4B5A-8C6D-5D4A3BF4E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593645-3252-4403-A13C-98AEFD06E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AFCB6E-A1EB-4DC5-B2A8-72E35C9D2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D49AAB-A53E-4A5C-86F1-7EC10AA4F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AA1225-6EA9-48BF-84FA-452998D9B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45FBB9-CF21-45DD-B924-6C1E38278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530040-09F3-4DC9-8897-F77D0F521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3B72F4-0BBA-4B2D-BA9F-3FADD5EA7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21C020-DDC3-4465-9BF8-443094084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147D1-ADD1-408B-B2FF-D5D4105A4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BDE6EC-5EEE-4B39-A7D4-1C6A1DBB7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9A2F9A-6959-4CD0-9C30-3C54B2CBC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99230C-AB21-499A-AE3F-9EDAECED7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CF8D9A-6C79-4FA7-B55B-F0766B6FE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471F83-3A01-402D-9E87-8D84EA8D2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ED723A-6875-479B-A6B1-50A542D63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F69B83-712A-43C1-9BD2-DB2A99CA1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0AD884-26C9-40D8-AAD9-C8E9EAA52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FB456F-ACEE-4A34-BBEA-73BCCCA50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FCD107-FC5F-46E8-9DEF-5C14851D1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AD1F2-7008-492B-AAF5-AA41DDFE1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C475B1-B84C-4E08-AD9F-C7DEB8989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681BE7-2D10-4833-96BF-474245EBE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2FF9E2-E2ED-4B71-A240-D5BD27C0D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548A76-9905-42F5-80F6-11A6FA326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691711-0BD9-44DD-8693-B27C9B62C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A2C241-2450-4334-8041-DD751CB5D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DCA812-5297-4329-B8E8-62D22BD95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0EE03A-CEB2-424B-A36A-242A11F2E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09B390-9BC6-4E1C-999B-D221D8303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33D27C-CD05-4428-9DA4-60699C587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C01AE-2B37-407F-8B90-28A8E0EF7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475FC2-0DFA-4381-BB14-90354A401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600562-976D-430E-8964-FED8FB376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C1F720-61A2-4105-9D8C-2FF4354A6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09622B-E1E3-4D09-BB4F-4DC370C9F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2B14FB-4D54-4497-BCE8-57FC6F9D4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859E67-C28A-4BCB-8111-DA608C5F9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6EC029-E18D-4752-8880-01E824174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F2D38A7-E79D-41E4-845D-979E10885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8F959C9-74BE-4C93-8B35-1329FA8B6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FC8F6E7-DD3D-4189-9C6A-54E5CA20C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7B98E-5A35-4C50-A147-7C21E3EA3F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3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464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65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66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67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69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dt" idx="28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 type="ftr" idx="29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 type="sldNum" idx="30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5095A-EFFE-42FC-AA56-8703535195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1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2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13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14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15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16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17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18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19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 type="dt" idx="31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 type="ftr" idx="32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E6397-C764-4CAE-AF67-07CC454D39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1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562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63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64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65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66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67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68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69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70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71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72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73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74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75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76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77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78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79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0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1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2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3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4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5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6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7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8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9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90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91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92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93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94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95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 type="dt" idx="3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 type="ftr" idx="3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 type="sldNum" idx="3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30A1E-4C56-4633-AF0B-03EAC8A87FC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7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638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39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5A757-CF84-47A5-B31F-5D3059E1F94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1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682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83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84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grpSp>
          <p:nvGrpSpPr>
            <p:cNvPr id="685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686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87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88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89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90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91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92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93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94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95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96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97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98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699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00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01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02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03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04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05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06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07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08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09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grpSp>
          <p:nvGrpSpPr>
            <p:cNvPr id="710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711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12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13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14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15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716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17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 type="dt" idx="4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22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9DB1C-AFBF-423C-9754-0AD76D9BAB67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DAF33-AD64-41A2-BFCE-6F5C9AABD2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83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4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5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6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7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8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9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91" name="PlaceHolder 1"/>
          <p:cNvSpPr>
            <a:spLocks noGrp="1"/>
          </p:cNvSpPr>
          <p:nvPr>
            <p:ph type="dt" idx="7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ftr" idx="8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Num" idx="9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94BB9-5221-418A-BDB1-141E006265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dt" idx="10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ldNum" idx="11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20805-F114-4229-B7EA-B455419065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134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35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36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37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38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39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40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141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2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43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2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2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83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84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85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86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87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88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89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90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91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92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93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94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95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96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97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98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99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00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01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02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03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04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05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06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07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08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09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10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11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12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13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14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15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16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3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4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5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56307-BB0A-4ADC-B2ED-1BE3CFA59B3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24257-06E4-4B1B-8E99-E91E8C73F4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9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300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01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C07E3-59C1-4C3F-9DDE-0368787D6BC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3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344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45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46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grpSp>
          <p:nvGrpSpPr>
            <p:cNvPr id="347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348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49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50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51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52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53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54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55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56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57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58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59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60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361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62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63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64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65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66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67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68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69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70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71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grpSp>
          <p:nvGrpSpPr>
            <p:cNvPr id="372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73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74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75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76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77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378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79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dt" idx="2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17DEB-B580-475E-88E4-3EEBDD8271B0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 type="ftr" idx="2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 type="sldNum" idx="2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C5185-BF75-4842-9336-46C58495E4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 type="dt" idx="2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0;&#1080;&#1086;&#1090;&#1086;" TargetMode="External"/><Relationship Id="rId2" Type="http://schemas.openxmlformats.org/officeDocument/2006/relationships/hyperlink" Target="http://ru.wikipedia.org/wiki/&#1071;&#1087;&#1086;&#1085;&#1080;&#1103;" TargetMode="External"/><Relationship Id="rId3" Type="http://schemas.openxmlformats.org/officeDocument/2006/relationships/hyperlink" Target="http://ru.wikipedia.org/wiki/1997" TargetMode="External"/><Relationship Id="rId4" Type="http://schemas.openxmlformats.org/officeDocument/2006/relationships/hyperlink" Target="http://ru.wikipedia.org/wiki/&#1056;&#1072;&#1084;&#1086;&#1095;&#1085;&#1072;&#1103;_&#1082;&#1086;&#1085;&#1074;&#1077;&#1085;&#1094;&#1080;&#1103;_&#1054;&#1054;&#1053;_&#1086;&#1073;_&#1080;&#1079;&#1084;&#1077;&#1085;&#1077;&#1085;&#1080;&#1080;_&#1082;&#1083;&#1080;&#1084;&#1072;&#1090;&#1072;" TargetMode="External"/><Relationship Id="rId5" Type="http://schemas.openxmlformats.org/officeDocument/2006/relationships/hyperlink" Target="http://ru.wikipedia.org/wiki/16_&#1084;&#1072;&#1088;&#1090;&#1072;" TargetMode="External"/><Relationship Id="rId6" Type="http://schemas.openxmlformats.org/officeDocument/2006/relationships/hyperlink" Target="http://ru.wikipedia.org/wiki/1998" TargetMode="External"/><Relationship Id="rId7" Type="http://schemas.openxmlformats.org/officeDocument/2006/relationships/hyperlink" Target="http://ru.wikipedia.org/wiki/15_&#1084;&#1072;&#1088;&#1090;&#1072;" TargetMode="External"/><Relationship Id="rId8" Type="http://schemas.openxmlformats.org/officeDocument/2006/relationships/hyperlink" Target="http://ru.wikipedia.org/wiki/1999" TargetMode="External"/><Relationship Id="rId9" Type="http://schemas.openxmlformats.org/officeDocument/2006/relationships/slideLayout" Target="../slideLayouts/slideLayout73.xml"/><Relationship Id="rId10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ru.wikipedia.org/wiki/2006" TargetMode="External"/><Relationship Id="rId2" Type="http://schemas.openxmlformats.org/officeDocument/2006/relationships/hyperlink" Target="http://ru.wikipedia.org/wiki/&#1057;&#1064;&#1040;" TargetMode="External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ru.wikipedia.org/w/index.php?title=&#1055;&#1080;&#1097;&#1077;&#1074;&#1072;&#1088;&#1080;&#1090;&#1077;&#1083;&#1100;&#1085;&#1072;&#1103;_&#1092;&#1077;&#1088;&#1084;&#1077;&#1085;&#1090;&#1072;&#1094;&#1080;&#1103;&amp;action=edit" TargetMode="External"/><Relationship Id="rId2" Type="http://schemas.openxmlformats.org/officeDocument/2006/relationships/hyperlink" Target="http://ru.wikipedia.org/w/index.php?title=&#1056;&#1080;&#1089;&#1086;&#1074;&#1086;&#1076;&#1089;&#1090;&#1074;&#1086;&amp;action=edit" TargetMode="External"/><Relationship Id="rId3" Type="http://schemas.openxmlformats.org/officeDocument/2006/relationships/hyperlink" Target="http://ru.wikipedia.org/wiki/&#1041;&#1080;&#1086;&#1084;&#1072;&#1089;&#1089;&#1072;" TargetMode="External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49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7" name="WordArt 5"/>
          <p:cNvSpPr txBox="1"/>
          <p:nvPr/>
        </p:nvSpPr>
        <p:spPr>
          <a:xfrm>
            <a:off x="395280" y="2421000"/>
            <a:ext cx="85694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оследствия парникового эффекта для Земли.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768" name="MSj01187.wav" descr=""/>
          <p:cNvPicPr/>
          <p:nvPr/>
        </p:nvPicPr>
        <p:blipFill>
          <a:blip r:embed="rId1"/>
          <a:stretch/>
        </p:blipFill>
        <p:spPr>
          <a:xfrm>
            <a:off x="8839080" y="638172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769" name="Text Box 17"/>
          <p:cNvSpPr/>
          <p:nvPr/>
        </p:nvSpPr>
        <p:spPr>
          <a:xfrm>
            <a:off x="6084720" y="4797360"/>
            <a:ext cx="28800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Презентация по географии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ученицы 11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 ”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Б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”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класса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Garamond"/>
              </a:rPr>
              <a:t>Буглевской Анны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" restart="whenNotActive" nodeType="interactiveSeq" fill="hold">
                <p:stCondLst>
                  <p:cond evt="onClick">
                    <p:tgtEl>
                      <p:spTgt spid="768"/>
                    </p:tgtEl>
                  </p:cond>
                </p:stCondLst>
                <p:childTnLst>
                  <p:par>
                    <p:cTn id="12" nodeType="clickEffect" fill="hold">
                      <p:stCondLst>
                        <p:cond evt="onClick">
                          <p:tgtEl>
                            <p:spTgt spid="768"/>
                          </p:tgtEl>
                        </p:cond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" dur="6235" fill="hold"/>
                                        <p:tgtEl>
                                          <p:spTgt spid="7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Возможные последствия глобального потепления климата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ы не можем точно сказать к каким изменениям климата может привести глобальное потепление. Однако, 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 мнению многих ученых, если сохранится тенденция глобального потепления, это приведет к изменению погоды и увеличению количества осадков, что, в свою очередь, приведет к подъему уровня Mирового океана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ак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 США и бывшем СССР последние 30-40 лет выпадает осадков на 10 процентов больше, чем в прошло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 то же время, количество осадков над экватором сократилась на те же десять проценто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Возможные последствия глобального потепления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клима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альнейшее изменение в системе выпадения осадков окажет огромное воздействие на сельское хозяйство, смещая зоны возделывания культур в северные районы Северной Америки и Евразии. Наиболее благоприятные условия для выращивания культур сложатся в сельскохозяйственных регионах России и обильные осадки будут выпадать в Северной Африке, где засуха продолжается с 1970-го года. Кроме того, повышение температуры увеличит испарение влаги с поверхности океана. Это приведет к увеличению выпадения осадков на 11 процент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следствия потепления климата будут ощущаться на Северном и Южном полюсах, где увеличившаяся температура приведет к подтаиванию ледников. По расчетам ученых увеличение температуры на 10 градусов по Цельсию, вызовет повышение уровня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рового океана на 5-6 метров, что приведет к затоплению многих прибрежных территорий во всем мир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ru-RU" sz="2000" spc="-1" strike="noStrike">
                <a:solidFill>
                  <a:srgbClr val="ffff00"/>
                </a:solidFill>
                <a:latin typeface="Garamond"/>
              </a:rPr>
              <a:t>Уже сегодня мы сталкиваемся с участившимися климатическими  аномалиями. Это и всё более сильные ураганы и штормы, наводнения, засуха, выпадание снега там, где его никогда не ждали, необычайно тёплые зимы в северных широтах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812" name="Picture 4" descr="images3"/>
          <p:cNvPicPr/>
          <p:nvPr/>
        </p:nvPicPr>
        <p:blipFill>
          <a:blip r:embed="rId1"/>
          <a:stretch/>
        </p:blipFill>
        <p:spPr>
          <a:xfrm>
            <a:off x="395280" y="4221000"/>
            <a:ext cx="1944720" cy="2232360"/>
          </a:xfrm>
          <a:prstGeom prst="rect">
            <a:avLst/>
          </a:prstGeom>
          <a:ln w="0">
            <a:noFill/>
          </a:ln>
        </p:spPr>
      </p:pic>
      <p:pic>
        <p:nvPicPr>
          <p:cNvPr id="813" name="Picture 5" descr="untitled1"/>
          <p:cNvPicPr/>
          <p:nvPr/>
        </p:nvPicPr>
        <p:blipFill>
          <a:blip r:embed="rId2"/>
          <a:stretch/>
        </p:blipFill>
        <p:spPr>
          <a:xfrm>
            <a:off x="4284720" y="3213000"/>
            <a:ext cx="4572000" cy="3335400"/>
          </a:xfrm>
          <a:prstGeom prst="rect">
            <a:avLst/>
          </a:prstGeom>
          <a:ln w="0">
            <a:noFill/>
          </a:ln>
        </p:spPr>
      </p:pic>
      <p:sp>
        <p:nvSpPr>
          <p:cNvPr id="814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0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7" dur="2000"/>
                                        <p:tgtEl>
                                          <p:spTgt spid="8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Таянье ледников- индикатор потепления климата.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Наиболее чувствительными к потеплению климата являются ледники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Ледник Упсала в Патагонии (Аргентина) был одним из самых больших ледников Южной Америки, но теперь исчезает на 200 метров в год.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817" name="Picture 4" descr=""/>
          <p:cNvPicPr/>
          <p:nvPr/>
        </p:nvPicPr>
        <p:blipFill>
          <a:blip r:embed="rId1"/>
          <a:stretch/>
        </p:blipFill>
        <p:spPr>
          <a:xfrm>
            <a:off x="2771640" y="3429000"/>
            <a:ext cx="3529080" cy="2376360"/>
          </a:xfrm>
          <a:prstGeom prst="rect">
            <a:avLst/>
          </a:prstGeom>
          <a:ln w="0">
            <a:noFill/>
          </a:ln>
        </p:spPr>
      </p:pic>
      <p:sp>
        <p:nvSpPr>
          <p:cNvPr id="818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Таянье ледников- индикатор потепления климата.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820" name="Picture 3" descr=""/>
          <p:cNvPicPr/>
          <p:nvPr/>
        </p:nvPicPr>
        <p:blipFill>
          <a:blip r:embed="rId1"/>
          <a:stretch/>
        </p:blipFill>
        <p:spPr>
          <a:xfrm>
            <a:off x="2627280" y="2421000"/>
            <a:ext cx="4043520" cy="2836800"/>
          </a:xfrm>
          <a:prstGeom prst="rect">
            <a:avLst/>
          </a:prstGeom>
          <a:ln w="0">
            <a:noFill/>
          </a:ln>
        </p:spPr>
      </p:pic>
      <p:sp>
        <p:nvSpPr>
          <p:cNvPr id="821" name="Rectangle 4"/>
          <p:cNvSpPr/>
          <p:nvPr/>
        </p:nvSpPr>
        <p:spPr>
          <a:xfrm>
            <a:off x="1332000" y="1706760"/>
            <a:ext cx="636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Ледник Роун, Валаис, Швейцария поднялся вверх на 450 метров.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2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Таянье ледников- индикатор потепления климата.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824" name="Picture 3" descr=""/>
          <p:cNvPicPr/>
          <p:nvPr/>
        </p:nvPicPr>
        <p:blipFill>
          <a:blip r:embed="rId1"/>
          <a:stretch/>
        </p:blipFill>
        <p:spPr>
          <a:xfrm>
            <a:off x="2340000" y="1557360"/>
            <a:ext cx="4475160" cy="2620800"/>
          </a:xfrm>
          <a:prstGeom prst="rect">
            <a:avLst/>
          </a:prstGeom>
          <a:ln w="0">
            <a:noFill/>
          </a:ln>
        </p:spPr>
      </p:pic>
      <p:pic>
        <p:nvPicPr>
          <p:cNvPr id="825" name="Picture 4" descr=""/>
          <p:cNvPicPr/>
          <p:nvPr/>
        </p:nvPicPr>
        <p:blipFill>
          <a:blip r:embed="rId2"/>
          <a:stretch/>
        </p:blipFill>
        <p:spPr>
          <a:xfrm>
            <a:off x="3492360" y="4149720"/>
            <a:ext cx="2114640" cy="1905120"/>
          </a:xfrm>
          <a:prstGeom prst="rect">
            <a:avLst/>
          </a:prstGeom>
          <a:ln w="0">
            <a:noFill/>
          </a:ln>
        </p:spPr>
      </p:pic>
      <p:sp>
        <p:nvSpPr>
          <p:cNvPr id="826" name="Rectangle 5"/>
          <p:cNvSpPr/>
          <p:nvPr/>
        </p:nvSpPr>
        <p:spPr>
          <a:xfrm>
            <a:off x="5434200" y="5660280"/>
            <a:ext cx="324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Ледник портадж в Аляске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827" name="MSj01250.wav" descr=""/>
          <p:cNvPicPr/>
          <p:nvPr/>
        </p:nvPicPr>
        <p:blipFill>
          <a:blip r:embed="rId3"/>
          <a:stretch/>
        </p:blipFill>
        <p:spPr>
          <a:xfrm>
            <a:off x="7164360" y="623736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828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0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3" dur="7590" fill="hold"/>
                                        <p:tgtEl>
                                          <p:spTgt spid="8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Киотский протокол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роблема влияния парникового эффекта на климат земли является одной из важнейших задач, требующих скорейшего решения. Начальным этапом решения проблемы стали международные договорённости по сокращению выбросов парниковых газов в атмосферу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1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0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8" dur="2000"/>
                                        <p:tgtEl>
                                          <p:spTgt spid="8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Киотский протокол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Киотский протокол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— международный документ, принятый в </a:t>
            </a:r>
            <a:r>
              <a:rPr b="0" lang="en-US" sz="3200" spc="-1" strike="noStrike" u="sng">
                <a:solidFill>
                  <a:srgbClr val="ffcc66"/>
                </a:solidFill>
                <a:uFillTx/>
                <a:latin typeface="Tahoma"/>
                <a:hlinkClick r:id="rId1"/>
              </a:rPr>
              <a:t>Киото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(</a:t>
            </a:r>
            <a:r>
              <a:rPr b="0" lang="en-US" sz="3200" spc="-1" strike="noStrike" u="sng">
                <a:solidFill>
                  <a:srgbClr val="ffcc66"/>
                </a:solidFill>
                <a:uFillTx/>
                <a:latin typeface="Tahoma"/>
                <a:hlinkClick r:id="rId2"/>
              </a:rPr>
              <a:t>Япония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) в декабре </a:t>
            </a:r>
            <a:r>
              <a:rPr b="0" lang="en-US" sz="3200" spc="-1" strike="noStrike" u="sng">
                <a:solidFill>
                  <a:srgbClr val="ffcc66"/>
                </a:solidFill>
                <a:uFillTx/>
                <a:latin typeface="Tahoma"/>
                <a:hlinkClick r:id="rId3"/>
              </a:rPr>
              <a:t>1997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года в дополнение к </a:t>
            </a:r>
            <a:r>
              <a:rPr b="0" lang="en-US" sz="3200" spc="-1" strike="noStrike" u="sng">
                <a:solidFill>
                  <a:srgbClr val="ffcc66"/>
                </a:solidFill>
                <a:uFillTx/>
                <a:latin typeface="Tahoma"/>
                <a:hlinkClick r:id="rId4"/>
              </a:rPr>
              <a:t>Рамочной конвенции ООН об изменении климата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. Период подписания протокола открылся </a:t>
            </a:r>
            <a:r>
              <a:rPr b="0" lang="en-US" sz="3200" spc="-1" strike="noStrike" u="sng">
                <a:solidFill>
                  <a:srgbClr val="ffcc66"/>
                </a:solidFill>
                <a:uFillTx/>
                <a:latin typeface="Tahoma"/>
                <a:hlinkClick r:id="rId5"/>
              </a:rPr>
              <a:t>16 марта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 u="sng">
                <a:solidFill>
                  <a:srgbClr val="ffcc66"/>
                </a:solidFill>
                <a:uFillTx/>
                <a:latin typeface="Tahoma"/>
                <a:hlinkClick r:id="rId6"/>
              </a:rPr>
              <a:t>1998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года и завершился </a:t>
            </a:r>
            <a:r>
              <a:rPr b="0" lang="en-US" sz="3200" spc="-1" strike="noStrike" u="sng">
                <a:solidFill>
                  <a:srgbClr val="ffcc66"/>
                </a:solidFill>
                <a:uFillTx/>
                <a:latin typeface="Tahoma"/>
                <a:hlinkClick r:id="rId7"/>
              </a:rPr>
              <a:t>15 марта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 u="sng">
                <a:solidFill>
                  <a:srgbClr val="ffcc66"/>
                </a:solidFill>
                <a:uFillTx/>
                <a:latin typeface="Tahoma"/>
                <a:hlinkClick r:id="rId8"/>
              </a:rPr>
              <a:t>1999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5" name="Picture 4" descr="Picture2"/>
          <p:cNvPicPr/>
          <p:nvPr/>
        </p:nvPicPr>
        <p:blipFill>
          <a:blip r:embed="rId1"/>
          <a:stretch/>
        </p:blipFill>
        <p:spPr>
          <a:xfrm>
            <a:off x="539640" y="1628640"/>
            <a:ext cx="8207640" cy="4680000"/>
          </a:xfrm>
          <a:prstGeom prst="rect">
            <a:avLst/>
          </a:prstGeom>
          <a:ln w="0">
            <a:noFill/>
          </a:ln>
        </p:spPr>
      </p:pic>
      <p:sp>
        <p:nvSpPr>
          <p:cNvPr id="836" name="Text Box 5"/>
          <p:cNvSpPr/>
          <p:nvPr/>
        </p:nvSpPr>
        <p:spPr>
          <a:xfrm>
            <a:off x="1476360" y="2421000"/>
            <a:ext cx="6983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Киотский протокол стал первым глобальным соглашением об охране окружающей среды, основанным на рыночных механизмах регулирования — механизме международной торговли квотами на выбросы парниковых газов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Страны </a:t>
            </a: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участницы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 Протокола определили для себя количественные обязательства по ограничению либо сокращению выбросов на период с 1 января 2008 до 31 декабря 2012 года. Цель ограничений — снизить в этот период совокупный средний уровень выбросов 6 типов газов (CO2, CH4, </a:t>
            </a:r>
            <a:r>
              <a:rPr b="0" lang="en-US" sz="1800" spc="-1" strike="noStrike">
                <a:solidFill>
                  <a:srgbClr val="ff0000"/>
                </a:solidFill>
                <a:latin typeface="Garamond"/>
              </a:rPr>
              <a:t>гидрофторуглеводороды, </a:t>
            </a:r>
            <a:r>
              <a:rPr b="0" lang="en-US" sz="1800" spc="-1" strike="noStrike">
                <a:solidFill>
                  <a:srgbClr val="a50021"/>
                </a:solidFill>
                <a:latin typeface="Garamond"/>
              </a:rPr>
              <a:t>перфторуглеводороды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, N2O, SF6) на 5,2 % по сравнению с уровнем 1990 года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7" name="WordArt 6"/>
          <p:cNvSpPr txBox="1"/>
          <p:nvPr/>
        </p:nvSpPr>
        <p:spPr>
          <a:xfrm>
            <a:off x="2556000" y="620640"/>
            <a:ext cx="40860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Детали соглашения 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0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4" dur="20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География Киотского протокола.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По состоянию на 14 февраля 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Garamond"/>
                <a:hlinkClick r:id="rId1"/>
              </a:rPr>
              <a:t>2006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 года Протокол был ратифицирован 161 страной мира (совокупно ответственными за более чем 61 % общемировых выбросов). Заметным исключением из этого списка являются 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Garamond"/>
                <a:hlinkClick r:id="rId2"/>
              </a:rPr>
              <a:t>США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841" name="Picture 4" descr="Kyoto"/>
          <p:cNvPicPr/>
          <p:nvPr/>
        </p:nvPicPr>
        <p:blipFill>
          <a:blip r:embed="rId3"/>
          <a:stretch/>
        </p:blipFill>
        <p:spPr>
          <a:xfrm>
            <a:off x="900000" y="2852640"/>
            <a:ext cx="7620120" cy="3524400"/>
          </a:xfrm>
          <a:prstGeom prst="rect">
            <a:avLst/>
          </a:prstGeom>
          <a:ln w="0">
            <a:noFill/>
          </a:ln>
        </p:spPr>
      </p:pic>
      <p:sp>
        <p:nvSpPr>
          <p:cNvPr id="842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Что такое парниковый эффект?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Парниковый эффект. Как он действует?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Парниковые газы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Влияние парникового эффекта на климат Земли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Таянье ледников- индикатор потепления климата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Киотский протокол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14  мифов о глобальном потеплении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2" name="WordArt 4"/>
          <p:cNvSpPr txBox="1"/>
          <p:nvPr/>
        </p:nvSpPr>
        <p:spPr>
          <a:xfrm>
            <a:off x="1835280" y="549360"/>
            <a:ext cx="532908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Содержание презентации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773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7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7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7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7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7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500"/>
                                        <p:tgtEl>
                                          <p:spTgt spid="7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7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7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14 мифов о глобальном потеплении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99ff"/>
                </a:solidFill>
                <a:latin typeface="Tahoma"/>
              </a:rPr>
              <a:t>Человек с древних времен склонен верить мифам. Часть из них не лишена логики, но все таки большая половина оказывается полным бредом. То же самое и с </a:t>
            </a:r>
            <a:r>
              <a:rPr b="1" lang="en-US" sz="1600" spc="-1" strike="noStrike">
                <a:solidFill>
                  <a:srgbClr val="3399ff"/>
                </a:solidFill>
                <a:latin typeface="Tahoma"/>
              </a:rPr>
              <a:t>глобальным потеплением</a:t>
            </a:r>
            <a:r>
              <a:rPr b="0" lang="en-US" sz="1600" spc="-1" strike="noStrike">
                <a:solidFill>
                  <a:srgbClr val="3399ff"/>
                </a:solidFill>
                <a:latin typeface="Tahoma"/>
              </a:rPr>
              <a:t>. Вот распространенные заблуждения, связанные с ним: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1). Глобального потепления вообще не происходит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К сожалению происходит. Наукой не раз доказано, а фактами подтверждено, что температура быстро растет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2). Глобальное потепление - естественный процесс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Скорее всего нет (повышение температуры, особенно с 70-х годов, намного превышают естественные изменения)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3). В любом случае последствия будут постепенными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Сильные штормы становятся все чаще, а историей доказано, резкое изменение климатических условий может наступить внезапно, буквально за несколько лет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45" name="Picture 4" descr="eart-on-fire"/>
          <p:cNvPicPr/>
          <p:nvPr/>
        </p:nvPicPr>
        <p:blipFill>
          <a:blip r:embed="rId1"/>
          <a:stretch/>
        </p:blipFill>
        <p:spPr>
          <a:xfrm>
            <a:off x="6300720" y="4869000"/>
            <a:ext cx="2266920" cy="1989000"/>
          </a:xfrm>
          <a:prstGeom prst="rect">
            <a:avLst/>
          </a:prstGeom>
          <a:ln w="0">
            <a:noFill/>
          </a:ln>
        </p:spPr>
      </p:pic>
      <p:sp>
        <p:nvSpPr>
          <p:cNvPr id="84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14 мифов о глобальном потеплении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4). Глобальное потепление приведет к всемирному потопу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Если потепление будет идти теми же темпами, то уровень мирового океана поднимется на 1 метр. Если же допустить, что все ледники растают, что конечно же невозможно, то вода поднимется на 10 метров. И если учесть, что средняя высота суши над уровнем океана - 840 метров, то переживать так сильно по поводу затопления не стоит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5). Глобальное потепление - единственная причина резких, непредсказуемых изменений погоды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Далеко не единственная. Существует ряд естественных, циклических процессов, к которым глобальное потепление не имеет никакого отношения. И именно они являются тем, что может вызвать резкое потепление или похолодание. Такими факторами могут послужить океанские течения, циклоны, изменение магнитного поля Земли и просто совпадения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49" name="Picture 5" descr="small-gletscher"/>
          <p:cNvPicPr/>
          <p:nvPr/>
        </p:nvPicPr>
        <p:blipFill>
          <a:blip r:embed="rId1"/>
          <a:stretch/>
        </p:blipFill>
        <p:spPr>
          <a:xfrm>
            <a:off x="6248520" y="4952880"/>
            <a:ext cx="2895480" cy="1905120"/>
          </a:xfrm>
          <a:prstGeom prst="rect">
            <a:avLst/>
          </a:prstGeom>
          <a:ln w="0">
            <a:noFill/>
          </a:ln>
        </p:spPr>
      </p:pic>
      <p:sp>
        <p:nvSpPr>
          <p:cNvPr id="8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14 мифов о глобальном потеплении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6). Выбросы углекислого газа слишком незначительны, чтобы спровоцировать глобальное потепление.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Хотелось бы верить, но пока факты это отрицают. По статистическим данным, которым можно доверять были построены графики концентрации углекислого газа в атмосфере и температуры в это время. Они совпадают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7). Из-за глобального потепления температура скоро вырастет настолько, что мы все погибнем.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Не настолько и не скоро. За последние 100 лет температура выросла на 0,7°С, - 1° С. И по самым смелым прогнозам в ближайшие 100 лет может вырасти еще на 4,6° С, но скорее всего это увеличение не превысит 2°С. С меньшей вероятностью, но есть модели, предсказывающие да же похолодание.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8). От глобального потепления мы получим только выгоду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В некоторых районах можно будет порадоваться необычно теплой погодой, но цена негативных последствий превысит любые выгоды. Число болезней и смертей из-за жары вырастет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53" name="Picture 4" descr="sity-on-smoge"/>
          <p:cNvPicPr/>
          <p:nvPr/>
        </p:nvPicPr>
        <p:blipFill>
          <a:blip r:embed="rId1"/>
          <a:stretch/>
        </p:blipFill>
        <p:spPr>
          <a:xfrm>
            <a:off x="5003640" y="4952880"/>
            <a:ext cx="3009960" cy="1905120"/>
          </a:xfrm>
          <a:prstGeom prst="rect">
            <a:avLst/>
          </a:prstGeom>
          <a:ln w="0">
            <a:noFill/>
          </a:ln>
        </p:spPr>
      </p:pic>
      <p:sp>
        <p:nvSpPr>
          <p:cNvPr id="8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14 мифов о глобальном потеплении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349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9). Сельскому хозяйству это будет только на руку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Углекислый газ может повысить урожайность ряда культур, но так же возрастет и количество сорняков и вредителей. Растения не смогут хорошо расти на том же месте из-за климатического сдвига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349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10). Правительство о нас позаботится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Помимо прянятия Киотского протокола (который только ограничивает выбросы) несколькими странами, исключая США (крупнейший источник вредным выбросов) больше ничего сделано не было. Правительства боятся экономических последствий борьбы с глобальным потеплением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349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11). Проблема не так серьезна, как национальная безопасность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Ну как посмотреть. Если учесть, что потепление затронет каждого жителя планеты (при чем больно ударив по нему), то думаю будет посерьезнее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12). Причины глобального потепления известны.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Многие верят, что в глобальном потеплении полностью виновен человек и что только остановив промышленную деятельность, можно избежать катастрофы. В действительности же проблема изменения климата настолько нова, что сейчас невозможно с точностью сказать о ее причинах. То, что оно происходит - это факт, но то что это результат антропогенной деятельности человека далеко не единственная версия. Так, например, существует версия, что это результат естественных процессов, происходящих в системе Солнце - Земля - Космос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14 мифов о глобальном потеплении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13). Мы знаем, как бороться с глобальным потеплением, у нас есть технологии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Стратегический план находится в разработке. Существует несколько масштабных вариантов борьбы с глобальным потеплением, но все они из области фантастики, да и требуют колоссальных вложений, сравнимых с бюджетом США, но лучше много мелких изменений, чем одно большое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14). Мы не можем ничего с этим поделать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Каждый уже сейчас может внести свой вклад в борьбу с глобальным потеплением хотя бы просто соблюдая рационализм в своей потребительской деятельности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 заключении хочется отметить, что существует версия, о том, что влияние парникового эффекта на глобальное  потепление климата не так значительно, а нынешнее потепление – это лишь очередной этап в циклическом изменении климата нашей планеты. Ведь не стоит забывать, что по геологическим меркам последний ледниковый период на Земле был не так уж и давно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2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Что такое парниковый эффект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Парнико́вый эффе́к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— повышение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температуры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нижних слоёв атмосферы планеты по сравнению с эффективной температурой, т. е. температурой теплового излучения планеты, наблюдаемого из космоса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6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0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7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5ffff"/>
                </a:solidFill>
                <a:latin typeface="Tahoma"/>
              </a:rPr>
              <a:t>Парниковый эффект. Как это происходит?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5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79" name="Picture 4" descr="CLIMATE_CHANGE"/>
          <p:cNvPicPr/>
          <p:nvPr/>
        </p:nvPicPr>
        <p:blipFill>
          <a:blip r:embed="rId1"/>
          <a:stretch/>
        </p:blipFill>
        <p:spPr>
          <a:xfrm>
            <a:off x="684360" y="3213000"/>
            <a:ext cx="7775280" cy="3456000"/>
          </a:xfrm>
          <a:prstGeom prst="rect">
            <a:avLst/>
          </a:prstGeom>
          <a:ln w="0">
            <a:noFill/>
          </a:ln>
        </p:spPr>
      </p:pic>
      <p:pic>
        <p:nvPicPr>
          <p:cNvPr id="780" name="Picture 6" descr="Picture2"/>
          <p:cNvPicPr/>
          <p:nvPr/>
        </p:nvPicPr>
        <p:blipFill>
          <a:blip r:embed="rId2"/>
          <a:stretch/>
        </p:blipFill>
        <p:spPr>
          <a:xfrm>
            <a:off x="684360" y="1197000"/>
            <a:ext cx="7775280" cy="2016000"/>
          </a:xfrm>
          <a:prstGeom prst="rect">
            <a:avLst/>
          </a:prstGeom>
          <a:ln w="0">
            <a:noFill/>
          </a:ln>
        </p:spPr>
      </p:pic>
      <p:sp>
        <p:nvSpPr>
          <p:cNvPr id="781" name="Text Box 7"/>
          <p:cNvSpPr/>
          <p:nvPr/>
        </p:nvSpPr>
        <p:spPr>
          <a:xfrm>
            <a:off x="1619280" y="1557360"/>
            <a:ext cx="6553080" cy="21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Накопление углекислого газа в атмосфере - одна из основных</a:t>
            </a: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причин парникового эффекта. Углекислый газ действует в атмосфере, как стекло в оранжерее: он пропускает солнечную радиацию и не пропускает обратно в космос инфракрасное (тепловое) излучение Земли.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"/>
          <p:cNvSpPr txBox="1"/>
          <p:nvPr/>
        </p:nvSpPr>
        <p:spPr>
          <a:xfrm>
            <a:off x="457200" y="277920"/>
            <a:ext cx="8229600" cy="58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84" name="Picture 3" descr="Air_4"/>
          <p:cNvPicPr/>
          <p:nvPr/>
        </p:nvPicPr>
        <p:blipFill>
          <a:blip r:embed="rId1"/>
          <a:stretch/>
        </p:blipFill>
        <p:spPr>
          <a:xfrm>
            <a:off x="468360" y="333360"/>
            <a:ext cx="8136000" cy="5688000"/>
          </a:xfrm>
          <a:prstGeom prst="rect">
            <a:avLst/>
          </a:prstGeom>
          <a:ln w="0">
            <a:noFill/>
          </a:ln>
        </p:spPr>
      </p:pic>
      <p:sp>
        <p:nvSpPr>
          <p:cNvPr id="785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bbd71"/>
                </a:solidFill>
                <a:latin typeface="Arial"/>
              </a:rPr>
              <a:t>Парниковые газы</a:t>
            </a: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66"/>
                </a:solidFill>
                <a:latin typeface="Tahoma"/>
              </a:rPr>
              <a:t>Водяной пар — основной естественный парниковый газ, ответственный более, чем за 60 % эффекта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66"/>
                </a:solidFill>
                <a:latin typeface="Tahoma"/>
              </a:rPr>
              <a:t>Углекислый газ (</a:t>
            </a:r>
            <a:r>
              <a:rPr b="0" lang="en-US" sz="1800" spc="-1" strike="noStrike">
                <a:solidFill>
                  <a:srgbClr val="ffcc66"/>
                </a:solidFill>
                <a:latin typeface="Tahoma"/>
              </a:rPr>
              <a:t>CO2</a:t>
            </a:r>
            <a:r>
              <a:rPr b="0" lang="ru-RU" sz="1800" spc="-1" strike="noStrike">
                <a:solidFill>
                  <a:srgbClr val="ffcc66"/>
                </a:solidFill>
                <a:latin typeface="Tahoma"/>
              </a:rPr>
              <a:t>)</a:t>
            </a:r>
            <a:r>
              <a:rPr b="0" lang="ru-RU" sz="2000" spc="-1" strike="noStrike">
                <a:solidFill>
                  <a:srgbClr val="ffcc66"/>
                </a:solidFill>
                <a:latin typeface="Tahoma"/>
              </a:rPr>
              <a:t>- </a:t>
            </a:r>
            <a:r>
              <a:rPr b="0" lang="ru-RU" sz="1800" spc="-1" strike="noStrike">
                <a:solidFill>
                  <a:srgbClr val="ffcc66"/>
                </a:solidFill>
                <a:latin typeface="Tahoma"/>
              </a:rPr>
              <a:t>и</a:t>
            </a:r>
            <a:r>
              <a:rPr b="0" lang="en-US" sz="1800" spc="-1" strike="noStrike">
                <a:solidFill>
                  <a:srgbClr val="ffcc66"/>
                </a:solidFill>
                <a:latin typeface="Tahoma"/>
              </a:rPr>
              <a:t>сточниками углекислого газа в атмосфере Земли являются вулканические выбросы, жизнедеятельность организмов, деятельность человек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66"/>
                </a:solidFill>
                <a:latin typeface="Tahoma"/>
              </a:rPr>
              <a:t>Метан (</a:t>
            </a:r>
            <a:r>
              <a:rPr b="0" lang="en-US" sz="1800" spc="-1" strike="noStrike">
                <a:solidFill>
                  <a:srgbClr val="ffcc66"/>
                </a:solidFill>
                <a:latin typeface="Tahoma"/>
              </a:rPr>
              <a:t>CH4</a:t>
            </a:r>
            <a:r>
              <a:rPr b="0" lang="ru-RU" sz="1800" spc="-1" strike="noStrike">
                <a:solidFill>
                  <a:srgbClr val="ffcc66"/>
                </a:solidFill>
                <a:latin typeface="Tahoma"/>
              </a:rPr>
              <a:t>)</a:t>
            </a:r>
            <a:r>
              <a:rPr b="0" lang="ru-RU" sz="2000" spc="-1" strike="noStrike">
                <a:solidFill>
                  <a:srgbClr val="ffcc66"/>
                </a:solidFill>
                <a:latin typeface="Tahoma"/>
              </a:rPr>
              <a:t>- о</a:t>
            </a:r>
            <a:r>
              <a:rPr b="0" lang="en-US" sz="2000" spc="-1" strike="noStrike">
                <a:solidFill>
                  <a:srgbClr val="ffcc66"/>
                </a:solidFill>
                <a:latin typeface="Tahoma"/>
              </a:rPr>
              <a:t>сновными антропогенными источниками метана являются </a:t>
            </a:r>
            <a:r>
              <a:rPr b="0" lang="en-US" sz="2000" spc="-1" strike="noStrike" u="sng">
                <a:solidFill>
                  <a:srgbClr val="ffcc66"/>
                </a:solidFill>
                <a:uFillTx/>
                <a:latin typeface="Tahoma"/>
                <a:hlinkClick r:id="rId1"/>
              </a:rPr>
              <a:t>пищеварительная ферментация</a:t>
            </a:r>
            <a:r>
              <a:rPr b="0" lang="en-US" sz="2000" spc="-1" strike="noStrike">
                <a:solidFill>
                  <a:srgbClr val="ffcc66"/>
                </a:solidFill>
                <a:latin typeface="Tahoma"/>
              </a:rPr>
              <a:t> у скота, </a:t>
            </a:r>
            <a:r>
              <a:rPr b="0" lang="en-US" sz="2000" spc="-1" strike="noStrike" u="sng">
                <a:solidFill>
                  <a:srgbClr val="ffcc66"/>
                </a:solidFill>
                <a:uFillTx/>
                <a:latin typeface="Tahoma"/>
                <a:hlinkClick r:id="rId2"/>
              </a:rPr>
              <a:t>рисоводство</a:t>
            </a:r>
            <a:r>
              <a:rPr b="0" lang="en-US" sz="2000" spc="-1" strike="noStrike">
                <a:solidFill>
                  <a:srgbClr val="ffcc66"/>
                </a:solidFill>
                <a:latin typeface="Tahoma"/>
              </a:rPr>
              <a:t>, горение </a:t>
            </a:r>
            <a:r>
              <a:rPr b="0" lang="en-US" sz="2000" spc="-1" strike="noStrike" u="sng">
                <a:solidFill>
                  <a:srgbClr val="ffcc66"/>
                </a:solidFill>
                <a:uFillTx/>
                <a:latin typeface="Tahoma"/>
                <a:hlinkClick r:id="rId3"/>
              </a:rPr>
              <a:t>биомассы</a:t>
            </a:r>
            <a:r>
              <a:rPr b="0" lang="en-US" sz="2000" spc="-1" strike="noStrike">
                <a:solidFill>
                  <a:srgbClr val="ffcc66"/>
                </a:solidFill>
                <a:latin typeface="Tahoma"/>
              </a:rPr>
              <a:t> (в т. ч. сведение лесов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66"/>
                </a:solidFill>
                <a:latin typeface="Tahoma"/>
              </a:rPr>
              <a:t>Озон (О3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66"/>
                </a:solidFill>
                <a:latin typeface="Tahoma"/>
              </a:rPr>
              <a:t>Оксид углерода (СО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66"/>
                </a:solidFill>
                <a:latin typeface="Tahoma"/>
              </a:rPr>
              <a:t>фреоны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88" name="Picture 4" descr="140px-Carbon-dioxide-3D-vdW"/>
          <p:cNvPicPr/>
          <p:nvPr/>
        </p:nvPicPr>
        <p:blipFill>
          <a:blip r:embed="rId4"/>
          <a:stretch/>
        </p:blipFill>
        <p:spPr>
          <a:xfrm>
            <a:off x="539640" y="5013360"/>
            <a:ext cx="1333440" cy="87624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5" descr="100px-Methane-3D-space-filling"/>
          <p:cNvPicPr/>
          <p:nvPr/>
        </p:nvPicPr>
        <p:blipFill>
          <a:blip r:embed="rId5"/>
          <a:stretch/>
        </p:blipFill>
        <p:spPr>
          <a:xfrm>
            <a:off x="3995640" y="5157720"/>
            <a:ext cx="952560" cy="792360"/>
          </a:xfrm>
          <a:prstGeom prst="rect">
            <a:avLst/>
          </a:prstGeom>
          <a:ln w="0">
            <a:noFill/>
          </a:ln>
        </p:spPr>
      </p:pic>
      <p:pic>
        <p:nvPicPr>
          <p:cNvPr id="790" name="Picture 6" descr="200px-Ozone_molecule_ball_and_stick"/>
          <p:cNvPicPr/>
          <p:nvPr/>
        </p:nvPicPr>
        <p:blipFill>
          <a:blip r:embed="rId6"/>
          <a:stretch/>
        </p:blipFill>
        <p:spPr>
          <a:xfrm>
            <a:off x="7164360" y="5229360"/>
            <a:ext cx="1368360" cy="792000"/>
          </a:xfrm>
          <a:prstGeom prst="rect">
            <a:avLst/>
          </a:prstGeom>
          <a:ln w="0">
            <a:noFill/>
          </a:ln>
        </p:spPr>
      </p:pic>
      <p:pic>
        <p:nvPicPr>
          <p:cNvPr id="791" name="Picture 7" descr="140px-Carbon-dioxide-2D-dimensions"/>
          <p:cNvPicPr/>
          <p:nvPr/>
        </p:nvPicPr>
        <p:blipFill>
          <a:blip r:embed="rId7"/>
          <a:stretch/>
        </p:blipFill>
        <p:spPr>
          <a:xfrm>
            <a:off x="539640" y="5950080"/>
            <a:ext cx="1333440" cy="685800"/>
          </a:xfrm>
          <a:prstGeom prst="rect">
            <a:avLst/>
          </a:prstGeom>
          <a:ln w="0">
            <a:noFill/>
          </a:ln>
        </p:spPr>
      </p:pic>
      <p:pic>
        <p:nvPicPr>
          <p:cNvPr id="792" name="Picture 8" descr="100px-Methane-2D"/>
          <p:cNvPicPr/>
          <p:nvPr/>
        </p:nvPicPr>
        <p:blipFill>
          <a:blip r:embed="rId8"/>
          <a:stretch/>
        </p:blipFill>
        <p:spPr>
          <a:xfrm>
            <a:off x="4932360" y="5589720"/>
            <a:ext cx="952560" cy="1000080"/>
          </a:xfrm>
          <a:prstGeom prst="rect">
            <a:avLst/>
          </a:prstGeom>
          <a:ln w="0">
            <a:noFill/>
          </a:ln>
        </p:spPr>
      </p:pic>
      <p:sp>
        <p:nvSpPr>
          <p:cNvPr id="793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0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7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7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7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1" dur="20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3" dur="20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Влияние парникового эффекта на климат Земли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795" name="Picture 4" descr="Picture3"/>
          <p:cNvPicPr/>
          <p:nvPr/>
        </p:nvPicPr>
        <p:blipFill>
          <a:blip r:embed="rId1"/>
          <a:stretch/>
        </p:blipFill>
        <p:spPr>
          <a:xfrm>
            <a:off x="250920" y="1628640"/>
            <a:ext cx="8569080" cy="5040360"/>
          </a:xfrm>
          <a:prstGeom prst="rect">
            <a:avLst/>
          </a:prstGeom>
          <a:ln w="0">
            <a:noFill/>
          </a:ln>
        </p:spPr>
      </p:pic>
      <p:sp>
        <p:nvSpPr>
          <p:cNvPr id="796" name="Text Box 5"/>
          <p:cNvSpPr/>
          <p:nvPr/>
        </p:nvSpPr>
        <p:spPr>
          <a:xfrm>
            <a:off x="1187280" y="2421000"/>
            <a:ext cx="7201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7" name="Text Box 7"/>
          <p:cNvSpPr/>
          <p:nvPr/>
        </p:nvSpPr>
        <p:spPr>
          <a:xfrm>
            <a:off x="1116000" y="2492280"/>
            <a:ext cx="712944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Ещё в </a:t>
            </a: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1827 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году французский физик Жозеф Фурье предположил, что атмосфера земли выполняет функцию своего рода стекла в теплице: воздух пропускает</a:t>
            </a: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 солнечное тепло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, не давая ему при этом испариться обратно в космос. Этот эффект достигается благодаря некоторым атмосферным газам второстепенного значения, каковыми являются, например, водяные испарения и углекислый газ. Они пропускают видимый и «ближний» инфракрасный свет, излучаемый солнцем, но поглощают «далекое» инфракрасное излучение, имеющее более низкую частоту и образующееся при нагревании земной поверхности солнечными лучами. Если бы этого не происходило, Земля была бы примерно на 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30 градусов холоднее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, чем сейчас, и жизнь бы на ней практически замерла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Влияние парникового эффекта на климат Земли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29600" cy="47466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Verdana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днако, з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а последние 100 лет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 связи с активной деятельностью человека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доля двуокиси углерода имеет тенденцию роста приблизительно на 25% и средняя температура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земли повысилась на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0,7ºС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. Земля нагревается однако неравномерно, температуры на полюсах увеличиваются более экстремально, чем в других областях земли. Если эта тенденция не остановится, то наступят климатические изменения – более долгие периоды засухи, интенсивное выпадение осадков и более мощные ураганы – уровень моря может подняться. Плодородные регионы побережья станут жертвой моря и будут затоплены. Может возникнуть угроза голода и миграции народов с губительными социальными последствиями.  Климат Земли грозит нам еще большими неприятностями, нежели те, что он преподнес в последние годы - катастрофические ураганы, бурные наводнения и жестокие засухи. Они, вероятно, будут повторяться все чаще и станут разрушительнее. Продолжаться это будет до тех пор, пока человечество не найдет способ значительно уменьшить содержание парниковых газов разогревающих атмосферу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Влияние парникового эффекта на климат Земл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так: основным следствием парникового эффекта является глобальное потепл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0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0" dur="2000"/>
                                        <p:tgtEl>
                                          <p:spTgt spid="8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7T17:48:18Z</dcterms:created>
  <dc:creator> juri</dc:creator>
  <dc:description>ppt.3dn.ru</dc:description>
  <dc:language>en-US</dc:language>
  <cp:lastModifiedBy>LEGION</cp:lastModifiedBy>
  <dcterms:modified xsi:type="dcterms:W3CDTF">2015-05-06T08:07:56Z</dcterms:modified>
  <cp:revision>29</cp:revision>
  <dc:subject/>
  <dc:title>Потепление климат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9e0a000000000001024140</vt:lpwstr>
  </property>
  <property fmtid="{D5CDD505-2E9C-101B-9397-08002B2CF9AE}" pid="3" name="Version">
    <vt:r8>6</vt:r8>
  </property>
</Properties>
</file>