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2140-F20D-42D6-87AF-BF4E9EAE082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Как действует принцип бумеранг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: Сорока Лидия Александровна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учитель географ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« СОШ с. Большая Сакма Краснопартизанского райо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ратовской обла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046E-B553-4BBA-80D8-AA0F5F77393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урс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ческая энциклопе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нет рес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02E4-C72B-46EB-A916-7E9BAB992D7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очему изменяется мир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Как мы меняем климат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8CF7-7472-4EEE-89DC-8B151BADA96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и задачи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с основными факторами влияющими на климат Росс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с  закономерностями распределения климата в 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рмировать знания о причинах изменения клим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с неблагоприятными климатическими явлениями, причинами их возникновения и показать  причины экологически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ть учащихся искать, выбирать нужную информацию и анализировать результ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D441-8E4F-4A7F-BAED-C97AC369D8E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ообразующ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фактор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386B-B203-4049-8CB4-A9685F1CAAE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мерности распредел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а на территории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ели характеризующие клим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может повлиять на изменение клим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климатической диа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мы составляем прогноз по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940F-6D01-414D-8C6A-D80201F3257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идаемые измен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12A1-D2C3-4732-95EC-86D35282701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 и человек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D4B3-CBAF-43EC-9C17-A2D0A89260E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ог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ить особенности климата на любой территории нашей стра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ть роль климатообразующий факторов, закономерности их влияние на эко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тать и объяснять климатограм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ировать экологические  проблемы климата  и предлагать аргументированные 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спользовать Интернет и различное программное обеспечение для создания презентаций, объясняющих результаты географического и экологического исследо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221E-374F-44B4-8228-E7DCE5D0B09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6359-70B0-4149-96AD-902108E24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AC6E-5AFD-417E-A929-A4ADD116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B321-8B16-4972-8FE5-4D23F6E05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3A65-041D-41D5-B80F-E1C90313F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84ED0-3F18-45F1-8BBF-AAD9BEF67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E773F-7E84-4FBF-8BED-85CB2AF7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7A16B8-0AC3-48A8-899F-FF7E7DB9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24757D-A888-4E51-8300-14899703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D644C4-F1FF-4FE9-B0E2-C6EBE1E0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8664ED-C0DD-46EA-9C98-2D3DBA4E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7D9B1-E62C-4331-8381-B58B48D1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9C4D-767E-4141-A22B-C0FD6A41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0A5F8-82D8-4216-9692-62EF1EED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1386B-5FD5-418B-85AE-2F0C7007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3041D0-21A7-465E-A2AA-78B20ADC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945AA-D32E-4837-B098-12DA49948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DE53CD-65D4-46DA-A2A4-B8EAF9A51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CDD8-46CC-453F-AA94-5724D160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904F-1C17-486D-A7C7-5019B71B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63E5-F71F-4D0A-9F1A-F777CC82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5A42-5A9E-47A5-ACD1-9897F3C1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2CC9-0FE9-4A23-98A2-64E739E5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F988-6E19-459C-BB9D-9E83AD66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8398-D727-46E2-AFDF-6E33EB2D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E2DB-A131-442A-A645-C97A55DF0A8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7EA1-368A-45CA-AFE0-98281D30A8A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Как действует принцип бумеранга 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48436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полнила: Сорока Лидия Александровна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учитель географ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У « СОШ с. Большая Сакма Краснопартизанского райо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ратовской област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Ресурсы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еографическая энциклопед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бник эколог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тернет рессур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очему изменяется мир?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Как мы меняем климат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Цели и задачи проект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комить с основными факторами влияющими на климат Росс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комить с  закономерностями распределения климата в  Росс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формировать знания о причинах изменения клим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комить с неблагоприятными климатическими явлениями, причинами их возникновения и показать  причины экологических пробл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учить учащихся искать, выбирать нужную информацию и анализировать результ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Oval 7"/>
          <p:cNvSpPr/>
          <p:nvPr/>
        </p:nvSpPr>
        <p:spPr>
          <a:xfrm>
            <a:off x="684360" y="765000"/>
            <a:ext cx="3097080" cy="1584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иматообразующ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акто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8"/>
          <p:cNvSpPr/>
          <p:nvPr/>
        </p:nvSpPr>
        <p:spPr>
          <a:xfrm>
            <a:off x="468360" y="3500280"/>
            <a:ext cx="3097080" cy="1584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жидаемые измен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им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9"/>
          <p:cNvSpPr/>
          <p:nvPr/>
        </p:nvSpPr>
        <p:spPr>
          <a:xfrm>
            <a:off x="5219640" y="692280"/>
            <a:ext cx="3097440" cy="1584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кономер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предел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имата 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рритории Рос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4932360" y="3573360"/>
            <a:ext cx="3097080" cy="1584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имат и челове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лиматообразующие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факторы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684360" y="1628640"/>
            <a:ext cx="244764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еографическ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ир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708360" y="1628640"/>
            <a:ext cx="24480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стилающ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верх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2843280" y="2852640"/>
            <a:ext cx="24480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лье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6516720" y="1700280"/>
            <a:ext cx="24480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иркуляц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душных м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539640" y="4292640"/>
            <a:ext cx="24480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лнечная ради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4284720" y="3933720"/>
            <a:ext cx="24480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арактер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стилающ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верх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6300720" y="5229360"/>
            <a:ext cx="2735280" cy="8636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душные масс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тмосферные фронт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иклоны, антицикло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15"/>
          <p:cNvSpPr/>
          <p:nvPr/>
        </p:nvSpPr>
        <p:spPr>
          <a:xfrm flipH="1">
            <a:off x="971640" y="2565360"/>
            <a:ext cx="504720" cy="172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6"/>
          <p:cNvSpPr/>
          <p:nvPr/>
        </p:nvSpPr>
        <p:spPr>
          <a:xfrm flipH="1">
            <a:off x="4356000" y="2565360"/>
            <a:ext cx="14472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7"/>
          <p:cNvSpPr/>
          <p:nvPr/>
        </p:nvSpPr>
        <p:spPr>
          <a:xfrm flipH="1">
            <a:off x="7451280" y="2637000"/>
            <a:ext cx="289080" cy="25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19"/>
          <p:cNvSpPr/>
          <p:nvPr/>
        </p:nvSpPr>
        <p:spPr>
          <a:xfrm>
            <a:off x="5435640" y="2492280"/>
            <a:ext cx="288720" cy="144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кономерности распределения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лимата на территории России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казатели характеризующие клима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может повлиять на изменение клима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тавление климатической диаграм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чем мы составляем прогноз пог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жидаемые изменения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лимат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250920" y="1844640"/>
            <a:ext cx="2448000" cy="3240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бзор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Раннее глобаль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отеп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Люди поддержива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более тёплый клим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 возможн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редотврати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новый ледников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ери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3348000" y="1844640"/>
            <a:ext cx="2448000" cy="3168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заимодейств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факто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звержения вулканов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леденение, дрей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континентов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мещение полюс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Земли- мощ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роцессы влияющ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на клим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443640" y="1844640"/>
            <a:ext cx="2448000" cy="3168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овремен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гипотез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 послед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тысячелет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оявились нов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факторы, чужд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естественным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зменяющие климат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антропоге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лимат и человек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24000" y="2133720"/>
            <a:ext cx="2160360" cy="1726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635280" y="1197000"/>
            <a:ext cx="2160720" cy="1727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има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2124000" y="4076640"/>
            <a:ext cx="2160720" cy="1727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льск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озяй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5219640" y="4076640"/>
            <a:ext cx="2160720" cy="1727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ничтож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6732720" y="2060640"/>
            <a:ext cx="2160360" cy="1727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мышленно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0"/>
          <p:cNvSpPr/>
          <p:nvPr/>
        </p:nvSpPr>
        <p:spPr>
          <a:xfrm flipH="1">
            <a:off x="2484360" y="2060640"/>
            <a:ext cx="12240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11"/>
          <p:cNvSpPr/>
          <p:nvPr/>
        </p:nvSpPr>
        <p:spPr>
          <a:xfrm flipH="1">
            <a:off x="3347640" y="2924280"/>
            <a:ext cx="79236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12"/>
          <p:cNvSpPr/>
          <p:nvPr/>
        </p:nvSpPr>
        <p:spPr>
          <a:xfrm>
            <a:off x="5219640" y="2924280"/>
            <a:ext cx="93672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13"/>
          <p:cNvSpPr/>
          <p:nvPr/>
        </p:nvSpPr>
        <p:spPr>
          <a:xfrm>
            <a:off x="5796000" y="2060640"/>
            <a:ext cx="936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Итоги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ъяснить особенности климата на любой территории нашей стран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нимать роль климатообразующий факторов, закономерности их влияние на экосист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итать и объяснять климатограмм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ализировать экологические  проблемы климата  и предлагать аргументированные  реш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спользовать Интернет и различное программное обеспечение для создания презентаций, объясняющих результаты географического и экологического исследова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6:08:01Z</dcterms:created>
  <dc:creator>Ирина</dc:creator>
  <dc:description>ppt.3dn.ru</dc:description>
  <dc:language>en-US</dc:language>
  <cp:lastModifiedBy>LEGION</cp:lastModifiedBy>
  <dcterms:modified xsi:type="dcterms:W3CDTF">2015-05-06T08:08:20Z</dcterms:modified>
  <cp:revision>13</cp:revision>
  <dc:subject/>
  <dc:title>Климат Росс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802000000000001024140</vt:lpwstr>
  </property>
</Properties>
</file>