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5E52-0D2E-475D-B85C-247E0B9714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ак действует принцип бумеран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Сорока Лидия Александровна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 СОШ с. Большая Сакма Краснопартизанского рай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т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AE48-42A3-49FE-8902-A4E099B6DF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энциклоп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 рес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A7DC-6470-4746-BD1E-C0C9661BA1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чему изменяется ми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ак мы меняем климат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1F41-EED1-48BB-8B15-1C8C5E36D4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основными факторами влияющими на климат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 закономерностями распределения климата в 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знания о причинах изменения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искать, выбирать нужную информацию и анализировать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FF82-CD2B-4041-97E6-B975C8D947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ообразу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о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C206-7154-4EB7-A456-4B532C683B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спредел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 на территори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характеризующие кли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ет повлиять на изменение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климатической ди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мы составляем прогноз по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18F5-95A8-41B5-9033-86740EA025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измен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96C4-00A2-4A58-8504-2EA8AFF20D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и челове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C4F6-0CDB-4C9C-8FA0-073C31D3D1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особенности климата на любой территории нашей стр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оль климатообразующий факторов, закономерности их влияние на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ть и объяснять климатогра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2D17-ACC6-426F-833A-BECDD79E49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F24B-805E-4E90-A0FE-A9F1A9E6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DDC-8048-4D9A-A51F-8D693202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77A5-D1CA-4F67-80C2-54AF82A1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673D-E6FE-4E0A-9BDD-0BFDB8AA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25F18-B7D9-4523-A0F5-F833FD47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F5B67-BE9B-45B4-967D-5A02C1FC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1A497-AB06-4386-91A3-F8C8BAC1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47BC9-A066-4213-B55F-CED81E7F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BAE62-EC78-4A84-AFE8-6E67DD85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DF698-B747-4655-92E9-71C01394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C0EBB-1304-4E9C-B6DB-854C4334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723-F6CA-4553-9D31-1D2B8EBB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0976C-7053-4873-8267-3719EBFE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E167A-900D-44ED-A877-E27F55D3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6D7F0-3BA4-4464-8B6A-42551AF4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E7E70-2C84-4DC0-8950-19CD86D3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5BA40-E441-48ED-8A84-8E71F428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26E-A11D-41BD-BEB2-96C46C16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FA5-F3A8-44BD-9DF7-A2DFC4A7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78B-B140-47CE-8A47-0643EFB5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294-27C7-4B74-ABE6-88029F2D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871-F9A7-4ABD-9FC8-E6DEA89E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FF0-B295-4E11-9C99-21288499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AA3-7A99-4DC4-892C-F355759D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81A2-0551-48B8-801A-497D4DB804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01F5-9366-4500-802E-74071226F5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Как действует принцип бумеранга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484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а: Сорока Лидия Александровн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учитель географ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 СОШ с. Большая Сакма Краснопартизанского рай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ратовской обла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ографическая энциклопе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эк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 рессур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чему изменяется мир?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Как мы меняем клима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и и задачи проек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основными факторами влияющими на климат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 закономерностями распределения климата в  Ро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ировать знания о причинах изменения клим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учить учащихся искать, выбирать нужную информацию и анализировать результ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7"/>
          <p:cNvSpPr/>
          <p:nvPr/>
        </p:nvSpPr>
        <p:spPr>
          <a:xfrm>
            <a:off x="684360" y="76500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468360" y="350028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5219640" y="692280"/>
            <a:ext cx="309744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омер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ритории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57336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факторы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84360" y="1628640"/>
            <a:ext cx="244764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708360" y="1628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843280" y="285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6516720" y="170028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ркуля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х м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39640" y="429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ечная ради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284720" y="393372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300720" y="5229360"/>
            <a:ext cx="2735280" cy="863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е масс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мосферные фро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клоны, антицикл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 flipH="1">
            <a:off x="971640" y="2565360"/>
            <a:ext cx="50472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 flipH="1">
            <a:off x="4356000" y="2565360"/>
            <a:ext cx="14472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 flipH="1">
            <a:off x="7451280" y="2637000"/>
            <a:ext cx="289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5435640" y="2492280"/>
            <a:ext cx="28872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ономерности распределени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имата на территории Росси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ели характеризующие клим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повлиять на изменение клим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ие климатической диа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мы составляем прогноз по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50920" y="1844640"/>
            <a:ext cx="2448000" cy="3240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зо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ннее глоб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теп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юди поддержив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олее тёплый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 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дотврати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овый ледников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34800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заимодейств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вержения вулкан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леденение, дрей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нтинентов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мещение полю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емли- мощ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оцессы влия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а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44364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времен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ипоте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 послед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ысячеле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явились н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ы, чужд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естественны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меняющие климат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нтропог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24000" y="2133720"/>
            <a:ext cx="2160360" cy="1726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35280" y="119700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12400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ь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21964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чтож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6732720" y="2060640"/>
            <a:ext cx="216036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мышлен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H="1">
            <a:off x="2484360" y="2060640"/>
            <a:ext cx="1224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3347640" y="2924280"/>
            <a:ext cx="792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5219640" y="2924280"/>
            <a:ext cx="93672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5796000" y="2060640"/>
            <a:ext cx="936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тоги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ь особенности климата на любой территории нашей стр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ть роль климатообразующий факторов, закономерности их влияние на эко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тать и объяснять климатограм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6:08:01Z</dcterms:created>
  <dc:creator>Ирина</dc:creator>
  <dc:description>ppt.3dn.ru</dc:description>
  <dc:language>en-US</dc:language>
  <cp:lastModifiedBy>LEGION</cp:lastModifiedBy>
  <dcterms:modified xsi:type="dcterms:W3CDTF">2015-05-06T08:08:20Z</dcterms:modified>
  <cp:revision>13</cp:revision>
  <dc:subject/>
  <dc:title>Климат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2000000000001024140</vt:lpwstr>
  </property>
</Properties>
</file>