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3ACA7-7003-4D67-92AC-1EB68EF4548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Как действует принцип бумеранг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олнила: Сорока Лидия Александровна,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учитель географ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У « СОШ с. Большая Сакма Краснопартизанского райо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ратовской област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91019-6D43-4854-BFB0-D18ACB28EDB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сурс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ографическая энциклопед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бник эк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рнет рессур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E2941-767F-4E19-A51E-6F8C5F13019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Почему изменяется мир?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Как мы меняем климат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B1360-3AB5-4001-907E-D6C8134A651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 и задачи проек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накомить с основными факторами влияющими на климат Росс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накомить с  закономерностями распределения климата в 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формировать знания о причинах изменения клима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накомить с неблагоприятными климатическими явлениями, причинами их возникновения и показать  причины экологических пробл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чить учащихся искать, выбирать нужную информацию и анализировать результа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1BC6E-D9D5-4E93-BEBB-317FF4C5CFB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иматообразующи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факторы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8D83C-C75F-4B13-990D-00B54EAFDE7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омерности распределен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имата на территории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азатели характеризующие клима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может повлиять на изменение клима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ление климатической диаграм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чем мы составляем прогноз пог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7C57A-C482-4788-A462-954A88CE264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жидаемые изменен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има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C4772-42A5-4651-B010-079BA1CE9D9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имат и человек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1528E-EA24-49B8-9490-F86781BAB3B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тог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яснить особенности климата на любой территории нашей стран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имать роль климатообразующий факторов, закономерности их влияние на эко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тать и объяснять климатограмм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ировать экологические  проблемы климата  и предлагать аргументированные  ре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Использовать Интернет и различное программное обеспечение для создания презентаций, объясняющих результаты географического и экологического исследова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7183D-DB08-410B-81BE-C76DF6EA048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6F44-5E14-440A-ACC2-C7FB88AF8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26FB-1E30-4594-AAD6-E83306755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1682-7F40-4F91-BD52-886F71A94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F3A8-B7D9-48EA-8B94-BD3E03357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2912F2-C81C-4FBE-BE5C-EFF43E5FA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924A2B-FB9B-4752-8889-29FB99C12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CFE71A-82BB-41AF-BD3E-ABC68BC9F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442CB7-9AA4-49FE-B5B2-DAF9E95F7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0FCAE0-8D79-4DAB-9DB3-4ED1C1243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DA7293-F5D9-421D-BC27-5E248917F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81C4E7-DB6E-42D3-BBF7-858D45519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4A5A-A005-4D67-839D-004D2A8C6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62DE16-83E9-4C53-AA1D-11D7FC83C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FEA116-B932-4E9F-A4F5-D8DCCA8BC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EE241C-8BE4-43E6-BEFC-3E9EAB058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7584B5-F142-4568-A961-A84821330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837B55-5E96-444E-B966-189E0D04E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E829-8654-4103-887D-072A6DF27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1A70-43F7-4B72-B173-B8DD875C3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25B5-FD29-45E0-8C1E-5A4536107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5043-A83D-41A3-9D80-AFF7B9972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3040-C110-4117-A773-4BAFEE323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2F4E-6842-4FFC-8799-BF25C4F96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1928-91A8-40D2-982E-775F41157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89A05-E4C4-4450-932D-7BC4BC454A05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B8444-5959-4388-B58D-F63237EA17E3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Как действует принцип бумеранга 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248436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ыполнила: Сорока Лидия Александровна,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учитель географи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ОУ « СОШ с. Большая Сакма Краснопартизанского район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аратовской области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Ресурсы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еографическая энциклопед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чебник эколог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нтернет рессурс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Почему изменяется мир?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Arial"/>
              </a:rPr>
              <a:t>Как мы меняем климат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Цели и задачи проект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4360" y="134100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знакомить с основными факторами влияющими на климат Росси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знакомить с  закономерностями распределения климата в  Росс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формировать знания о причинах изменения клима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знакомить с неблагоприятными климатическими явлениями, причинами их возникновения и показать  причины экологических пробле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учить учащихся искать, выбирать нужную информацию и анализировать результа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Oval 7"/>
          <p:cNvSpPr/>
          <p:nvPr/>
        </p:nvSpPr>
        <p:spPr>
          <a:xfrm>
            <a:off x="684360" y="765000"/>
            <a:ext cx="3097080" cy="158436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лиматообразующ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фактор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8"/>
          <p:cNvSpPr/>
          <p:nvPr/>
        </p:nvSpPr>
        <p:spPr>
          <a:xfrm>
            <a:off x="468360" y="3500280"/>
            <a:ext cx="3097080" cy="158436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жидаемые измен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лима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Oval 9"/>
          <p:cNvSpPr/>
          <p:nvPr/>
        </p:nvSpPr>
        <p:spPr>
          <a:xfrm>
            <a:off x="5219640" y="692280"/>
            <a:ext cx="3097440" cy="158436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акономерно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спределени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лимата н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ерритории Росс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Oval 10"/>
          <p:cNvSpPr/>
          <p:nvPr/>
        </p:nvSpPr>
        <p:spPr>
          <a:xfrm>
            <a:off x="4932360" y="3573360"/>
            <a:ext cx="3097080" cy="158436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лимат и челове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лиматообразующие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факторы</a:t>
            </a:r>
            <a:br>
              <a:rPr sz="4000"/>
            </a:b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684360" y="1628640"/>
            <a:ext cx="2447640" cy="91440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еографическа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широ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7"/>
          <p:cNvSpPr/>
          <p:nvPr/>
        </p:nvSpPr>
        <p:spPr>
          <a:xfrm>
            <a:off x="3708360" y="1628640"/>
            <a:ext cx="2448000" cy="91440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дстилающ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верхно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Rectangle 8"/>
          <p:cNvSpPr/>
          <p:nvPr/>
        </p:nvSpPr>
        <p:spPr>
          <a:xfrm>
            <a:off x="2843280" y="2852640"/>
            <a:ext cx="2448000" cy="91440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ельеф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Rectangle 9"/>
          <p:cNvSpPr/>
          <p:nvPr/>
        </p:nvSpPr>
        <p:spPr>
          <a:xfrm>
            <a:off x="6516720" y="1700280"/>
            <a:ext cx="2448000" cy="91440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Циркуляци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здушных мас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Rectangle 10"/>
          <p:cNvSpPr/>
          <p:nvPr/>
        </p:nvSpPr>
        <p:spPr>
          <a:xfrm>
            <a:off x="539640" y="4292640"/>
            <a:ext cx="2448000" cy="91440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лнечная радиац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Rectangle 11"/>
          <p:cNvSpPr/>
          <p:nvPr/>
        </p:nvSpPr>
        <p:spPr>
          <a:xfrm>
            <a:off x="4284720" y="3933720"/>
            <a:ext cx="2448000" cy="91440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Характер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дстилающе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верхно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Rectangle 12"/>
          <p:cNvSpPr/>
          <p:nvPr/>
        </p:nvSpPr>
        <p:spPr>
          <a:xfrm>
            <a:off x="6300720" y="5229360"/>
            <a:ext cx="2735280" cy="86364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здушные массы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тмосферные фронты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циклоны, антициклон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Line 15"/>
          <p:cNvSpPr/>
          <p:nvPr/>
        </p:nvSpPr>
        <p:spPr>
          <a:xfrm flipH="1">
            <a:off x="971640" y="2565360"/>
            <a:ext cx="504720" cy="172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Line 16"/>
          <p:cNvSpPr/>
          <p:nvPr/>
        </p:nvSpPr>
        <p:spPr>
          <a:xfrm flipH="1">
            <a:off x="4356000" y="2565360"/>
            <a:ext cx="144720" cy="28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Line 17"/>
          <p:cNvSpPr/>
          <p:nvPr/>
        </p:nvSpPr>
        <p:spPr>
          <a:xfrm flipH="1">
            <a:off x="7451280" y="2637000"/>
            <a:ext cx="289080" cy="2592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Line 19"/>
          <p:cNvSpPr/>
          <p:nvPr/>
        </p:nvSpPr>
        <p:spPr>
          <a:xfrm>
            <a:off x="5435640" y="2492280"/>
            <a:ext cx="288720" cy="144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кономерности распределения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лимата на территории России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казатели характеризующие клима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то может повлиять на изменение клима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ставление климатической диаграмм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чем мы составляем прогноз погод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Ожидаемые изменения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лимат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250920" y="1844640"/>
            <a:ext cx="2448000" cy="324000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Обзор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Раннее глобально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потепл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Люди поддерживал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более тёплый клима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и возможно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предотвратил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новый ледниковы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перио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Rectangle 6"/>
          <p:cNvSpPr/>
          <p:nvPr/>
        </p:nvSpPr>
        <p:spPr>
          <a:xfrm>
            <a:off x="3348000" y="1844640"/>
            <a:ext cx="2448000" cy="31687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Взаимодейств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фактор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Извержения вулканов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оледенение, дрей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континентов 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смещение полюсов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Земли- мощны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процессы влияющ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на клима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6443640" y="1844640"/>
            <a:ext cx="2448000" cy="31687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Современны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гипотез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В последн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тысячелет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появились нов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факторы, чужд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естественным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изменяющие климат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антропоген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3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лимат и человек</a:t>
            </a:r>
            <a:br>
              <a:rPr sz="4000"/>
            </a:b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324000" y="2133720"/>
            <a:ext cx="2160360" cy="17269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доровье челове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3635280" y="1197000"/>
            <a:ext cx="2160720" cy="17272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лима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Rectangle 7"/>
          <p:cNvSpPr/>
          <p:nvPr/>
        </p:nvSpPr>
        <p:spPr>
          <a:xfrm>
            <a:off x="2124000" y="4076640"/>
            <a:ext cx="2160720" cy="17272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ельско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хозяйств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Rectangle 8"/>
          <p:cNvSpPr/>
          <p:nvPr/>
        </p:nvSpPr>
        <p:spPr>
          <a:xfrm>
            <a:off x="5219640" y="4076640"/>
            <a:ext cx="2160720" cy="17272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ничтожен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ес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Rectangle 9"/>
          <p:cNvSpPr/>
          <p:nvPr/>
        </p:nvSpPr>
        <p:spPr>
          <a:xfrm>
            <a:off x="6732720" y="2060640"/>
            <a:ext cx="2160360" cy="17272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мышленность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Line 10"/>
          <p:cNvSpPr/>
          <p:nvPr/>
        </p:nvSpPr>
        <p:spPr>
          <a:xfrm flipH="1">
            <a:off x="2484360" y="2060640"/>
            <a:ext cx="122400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Line 11"/>
          <p:cNvSpPr/>
          <p:nvPr/>
        </p:nvSpPr>
        <p:spPr>
          <a:xfrm flipH="1">
            <a:off x="3347640" y="2924280"/>
            <a:ext cx="792360" cy="1152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Line 12"/>
          <p:cNvSpPr/>
          <p:nvPr/>
        </p:nvSpPr>
        <p:spPr>
          <a:xfrm>
            <a:off x="5219640" y="2924280"/>
            <a:ext cx="936720" cy="1152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Line 13"/>
          <p:cNvSpPr/>
          <p:nvPr/>
        </p:nvSpPr>
        <p:spPr>
          <a:xfrm>
            <a:off x="5796000" y="2060640"/>
            <a:ext cx="936720" cy="79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3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3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3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3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3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3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3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3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3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3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3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3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3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3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3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3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Итоги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ъяснить особенности климата на любой территории нашей стран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нимать роль климатообразующий факторов, закономерности их влияние на экосистем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итать и объяснять климатограмм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нализировать экологические  проблемы климата  и предлагать аргументированные  реш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спользовать Интернет и различное программное обеспечение для создания презентаций, объясняющих результаты географического и экологического исследования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7T16:08:01Z</dcterms:created>
  <dc:creator>Ирина</dc:creator>
  <dc:description>ppt.3dn.ru</dc:description>
  <dc:language>en-US</dc:language>
  <cp:lastModifiedBy>LEGION</cp:lastModifiedBy>
  <dcterms:modified xsi:type="dcterms:W3CDTF">2015-05-06T08:08:20Z</dcterms:modified>
  <cp:revision>13</cp:revision>
  <dc:subject/>
  <dc:title>Климат Росси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802000000000001024140</vt:lpwstr>
  </property>
</Properties>
</file>