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F43E-0C03-492C-B580-2A2E22D811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я 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ядо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DDB6-6703-4E96-B845-9BCC9226CD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черпывание запасов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FDCA-1559-4C91-8EE1-3A5C18B76A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черпывание запасов полезных ископа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9AD8-C004-4147-98F8-285DF9AEF2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худшение состояния почвы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а и многие другие проблемы, связанные с халатностью человека по отношению к природным ресур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1AE7-C992-4544-A000-817F0F9CE1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Решение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ля решения этих глобальных проблем и прежде всего проблемы интенсификации и рационального использования, сохранения и воспроизводства ресурсов биосферы, экология объединяет в научном поиске усилия ботаников, зоологов и микробиологов, придает эволюционному учению, генетике, биохимии и биофизике их истинную универса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и не только их! И мы можем внести свой вклад в отношении спасения Земли от неминуемой гибел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D91B-28F6-49B3-8155-11DF9A449A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траница гиперссы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сточники информации во всемирной паути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E39A-7884-4A14-89AA-9A1EAE3708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Всту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́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от греч. οικος — дом, жилище, родина и λόγος — учение, наука) — наука, изучающая взаимоотношения живой и неживой прир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порой мы с вами и сами не задумываемся о самом факте значения существования этой науки, не замечая или просто забывая продолжаем с каждым днём всё больше и больше загрязнять атмосферу Нашей планеты, губить её флору и фауну, совершать непоправимые оши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анная презентация как раз поможет Вам ещё раз вспомнить, что же значит для нас это простая, с виду, наука «Экология» и что живой и неживой миры взаимосвязаны друг с другом намного больше, чем мы предполаг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E0C8-C0BA-42A9-B64B-419537303A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002F-30AF-4191-B812-F01C8245E0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овременное значение слова экология имеет более широкое значение, чем в первые десятилетия развития этой науки. Предлагаю рассмотреть 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1,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— познание экономики природы, одновременное исследование всех взаимоотношений живого с органическими и неорганическими компонентами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2,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— это наука, изучающая все сложные взаимосвязи в природе, рассматриваемые Дарвином как условия борьбы за суще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3,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- биологическая наука, которая исследует структуру и функционирование систем надорганизменного уровня в пространстве и времени в естественных и измененных человеком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25D1-369F-4826-B164-8121BF290B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вязи экологии с другими на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логия обычно рассматривается как подотрасль биологии, общей науки о живых организм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о экология также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вязана со многими другими науками именно потому, что она изучает организацию живых организмов на очень высоком уровне, исследует связи между организмами и их средой об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F67F-CB25-4EA5-A925-D6AF2D8F6E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Эколог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Экологические фактор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– это элементы окружающей среды, которые вызывают у живых организмов и их сообществ приспособительные реакции (адапта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, температу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, влаж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, вет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, наличие пищ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, хищн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6, парази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7, конкуренты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1289-142D-415B-9267-11DBA2855E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ая задача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ная же теоретическая и практическая задача экологии —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раскрыть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общие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закономерности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организации жизни и на этой основе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разработать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принцип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рационального использования природных ресурсов в условиях все возрастающего влияния человека на биосфер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DCA9-8AEC-4080-9E6A-8A11CBC6AE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заимодействие человеческого общества и природы стало одной из важнейших проблем современности, поскольку положение, которое складывается в отношениях человека с природой, часто становится критиче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C427-D066-480F-9D55-BBFE1CD0CB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Главные проблемы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худшение состояния водного и воздушного бассей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6232-EEA4-41D1-8EB2-A0BD49DEFD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45A2-9C1E-47EC-8D73-1BB66795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C5B-32B0-44C9-A6C4-31B232EA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307-D42D-45CD-BF9C-C5E8B27E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A6F-5562-4AC9-A68B-F9DBF563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1782-B9DC-43BA-9A99-40B59517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6818-BF40-4F18-A790-80DBEEBE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0E2B-044B-4E96-9315-AA788030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0FDC-7D49-4DA7-A427-1D8E8A4A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22B9-E622-497C-B192-8B55D64C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B6E-0CD2-4FA5-8E6D-C256E60F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F09-E391-447A-A32F-AC53B627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4B31-6849-4C5A-957A-A73DA9EC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0FB0-F181-4C33-B59D-053D3C846E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547640" y="952560"/>
            <a:ext cx="719964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9999"/>
                </a:solidFill>
                <a:latin typeface="Comic Sans MS"/>
              </a:rPr>
              <a:t>Экология </a:t>
            </a:r>
            <a:r>
              <a:rPr b="0" lang="en-US" sz="6600" spc="-1" strike="noStrike">
                <a:solidFill>
                  <a:srgbClr val="009999"/>
                </a:solidFill>
                <a:latin typeface="Comic Sans MS"/>
              </a:rPr>
              <a:t>P</a:t>
            </a:r>
            <a:r>
              <a:rPr b="0" lang="ru-RU" sz="6600" spc="-1" strike="noStrike">
                <a:solidFill>
                  <a:srgbClr val="009999"/>
                </a:solidFill>
                <a:latin typeface="Comic Sans MS"/>
              </a:rPr>
              <a:t>ядом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403280" y="5775480"/>
            <a:ext cx="47847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зентация составлена ученицей ГОУ СОШ № 186 Косяченко О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0"/>
            <a:ext cx="1332000" cy="665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Копия ecology"/>
          <p:cNvPicPr/>
          <p:nvPr/>
        </p:nvPicPr>
        <p:blipFill>
          <a:blip r:embed="rId1"/>
          <a:stretch/>
        </p:blipFill>
        <p:spPr>
          <a:xfrm>
            <a:off x="5580000" y="2908440"/>
            <a:ext cx="2025720" cy="16524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8"/>
          <p:cNvSpPr/>
          <p:nvPr/>
        </p:nvSpPr>
        <p:spPr>
          <a:xfrm rot="1091400">
            <a:off x="5157360" y="2770200"/>
            <a:ext cx="2735280" cy="1957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Вперёд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8000" y="6194520"/>
            <a:ext cx="942840" cy="3556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1476360" y="270828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ресной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857680" cy="2800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1619280" y="47628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1692360" y="285264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олезных ископае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427560" cy="25686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"/>
          <p:cNvSpPr/>
          <p:nvPr/>
        </p:nvSpPr>
        <p:spPr>
          <a:xfrm>
            <a:off x="1619280" y="54936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лес_240"/>
          <p:cNvPicPr/>
          <p:nvPr/>
        </p:nvPicPr>
        <p:blipFill>
          <a:blip r:embed="rId1"/>
          <a:stretch/>
        </p:blipFill>
        <p:spPr>
          <a:xfrm>
            <a:off x="2195640" y="2852640"/>
            <a:ext cx="2808000" cy="1943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0"/>
          <p:cNvSpPr/>
          <p:nvPr/>
        </p:nvSpPr>
        <p:spPr>
          <a:xfrm>
            <a:off x="2843280" y="5084640"/>
            <a:ext cx="51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 и многие другие проблемы, связанные с халатностью человека по отношению к природным ресур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"/>
          <p:cNvPicPr/>
          <p:nvPr/>
        </p:nvPicPr>
        <p:blipFill>
          <a:blip r:embed="rId2"/>
          <a:stretch/>
        </p:blipFill>
        <p:spPr>
          <a:xfrm>
            <a:off x="6084720" y="981000"/>
            <a:ext cx="2762280" cy="20764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2"/>
          <p:cNvSpPr/>
          <p:nvPr/>
        </p:nvSpPr>
        <p:spPr>
          <a:xfrm>
            <a:off x="1619280" y="155736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удшение состояния почв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1619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4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Домой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Вперёд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2124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Решение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692360" y="1989000"/>
            <a:ext cx="69832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решения этих глобальных проблем и прежде всего проблемы интенсификации и рационального использования, сохранения и воспроизводства ресурсов биосферы, экология объединяет в научном поиске усилия ботаников, зоологов и микробиологов, придает эволюционному учению, генетике, биохимии и биофизике их истинную универс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и не только их! И мы можем внести свой вклад в отношении спасения Земли от неминуемой гибе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0" descr="20050514_4"/>
          <p:cNvPicPr/>
          <p:nvPr/>
        </p:nvPicPr>
        <p:blipFill>
          <a:blip r:embed="rId1"/>
          <a:stretch/>
        </p:blipFill>
        <p:spPr>
          <a:xfrm>
            <a:off x="250920" y="33336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01"/>
          <p:cNvPicPr/>
          <p:nvPr/>
        </p:nvPicPr>
        <p:blipFill>
          <a:blip r:embed="rId2"/>
          <a:stretch/>
        </p:blipFill>
        <p:spPr>
          <a:xfrm>
            <a:off x="3708360" y="242100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12"/>
          <p:cNvSpPr/>
          <p:nvPr/>
        </p:nvSpPr>
        <p:spPr>
          <a:xfrm>
            <a:off x="179280" y="189000"/>
            <a:ext cx="540000" cy="3960720"/>
          </a:xfrm>
          <a:custGeom>
            <a:avLst/>
            <a:gdLst>
              <a:gd name="textAreaLeft" fmla="*/ 158760 w 540000"/>
              <a:gd name="textAreaRight" fmla="*/ 540360 w 540000"/>
              <a:gd name="textAreaTop" fmla="*/ 164880 h 3960720"/>
              <a:gd name="textAreaBottom" fmla="*/ 379584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8388360" y="2205000"/>
            <a:ext cx="576360" cy="4176720"/>
          </a:xfrm>
          <a:custGeom>
            <a:avLst/>
            <a:gdLst>
              <a:gd name="textAreaLeft" fmla="*/ 0 w 576360"/>
              <a:gd name="textAreaRight" fmla="*/ 404280 w 576360"/>
              <a:gd name="textAreaTop" fmla="*/ 173880 h 4176720"/>
              <a:gd name="textAreaBottom" fmla="*/ 400284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4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Домой"/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6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1835280" y="98100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траница гиперссы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1692360" y="220500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точники информации во всемирной паути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Домой"/>
          <p:cNvPicPr/>
          <p:nvPr/>
        </p:nvPicPr>
        <p:blipFill>
          <a:blip r:embed="rId2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1"/>
          <p:cNvSpPr/>
          <p:nvPr/>
        </p:nvSpPr>
        <p:spPr>
          <a:xfrm>
            <a:off x="1835280" y="4508640"/>
            <a:ext cx="66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Comic Sans MS"/>
              </a:rPr>
              <a:t>Спасибо за просмотр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547640" y="2925720"/>
            <a:ext cx="64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ru.wikipedia.org/wiki/Эк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http://www.sbio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0"/>
          <p:cNvSpPr/>
          <p:nvPr/>
        </p:nvSpPr>
        <p:spPr>
          <a:xfrm>
            <a:off x="2340000" y="1989000"/>
            <a:ext cx="63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Эколо́г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от греч. οικος — дом, жилище, родина и λόγος — учение, наука) — наука, изучающая взаимоотношения живой и неживой прир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124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В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1547640" y="3716280"/>
            <a:ext cx="63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порой мы с вами и сами не задумываемся о самом факте значения существования этой науки, не замечая или просто забывая продолжаем с каждым днём всё больше и больше загрязнять атмосферу Нашей планеты, губить её флору и фауну, совершать непоправимы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1979640" y="2637000"/>
            <a:ext cx="633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нная презентация как раз поможет Вам ещё раз вспомнить, что же значит для нас это простая, с виду, наука «Экология» и что живой и неживой миры взаимосвязаны друг с другом намного больше, чем мы предполаг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0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3"/>
          <p:cNvSpPr/>
          <p:nvPr/>
        </p:nvSpPr>
        <p:spPr>
          <a:xfrm>
            <a:off x="7164360" y="5516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Дальше </a:t>
            </a:r>
            <a:r>
              <a:rPr b="0" lang="ru-RU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124000" y="47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1619280" y="1484280"/>
            <a:ext cx="28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763640" y="2062080"/>
            <a:ext cx="640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Связи экологии с другими нау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619280" y="263700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Экологические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763640" y="3213000"/>
            <a:ext cx="619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Главная задача эк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1619280" y="3789360"/>
            <a:ext cx="604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9" action="ppaction://hlinksldjump"/>
              </a:rPr>
              <a:t>Главные проблемы челове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763640" y="4365720"/>
            <a:ext cx="662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0" action="ppaction://hlinksldjump"/>
              </a:rPr>
              <a:t>Реш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1619280" y="494172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7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1" action="ppaction://hlinksldjump"/>
              </a:rPr>
              <a:t>Страница гиперссы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2124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692360" y="105264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временное значение слова экология имеет более широкое значение, чем в первые десятилетия развития этой науки. Предлагаю рассмотреть 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476360" y="2421000"/>
            <a:ext cx="374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1, 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— познание экономики природы, одновременное исследование всех взаимоотношений живого с органическими и неорганическими компонентами ср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435640" y="2708280"/>
            <a:ext cx="352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2,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— это наука, изучающая все сложные взаимосвязи в природе, рассматриваемые Дарвином как условия борьбы за существ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771640" y="4581360"/>
            <a:ext cx="388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99"/>
                </a:solidFill>
                <a:latin typeface="Comic Sans MS"/>
              </a:rPr>
              <a:t>3, Экология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- биологическая наука, которая исследует структуру и функционирование систем надорганизменного уровня в пространстве и времени в естественных и измененных человеком услов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3"/>
          <p:cNvSpPr/>
          <p:nvPr/>
        </p:nvSpPr>
        <p:spPr>
          <a:xfrm>
            <a:off x="5364000" y="2637000"/>
            <a:ext cx="3384720" cy="172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"/>
          <p:cNvSpPr/>
          <p:nvPr/>
        </p:nvSpPr>
        <p:spPr>
          <a:xfrm>
            <a:off x="1403280" y="2276640"/>
            <a:ext cx="3816360" cy="1871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>
            <a:off x="2700360" y="4508640"/>
            <a:ext cx="3743280" cy="18730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6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1403280" y="33336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Связи экологии с другими на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763640" y="3860640"/>
            <a:ext cx="6840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кология обычно рассматривается как подотрасль биологии, общей науки о живых организм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экология такж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вязана со многими другими науками именно потому, что она изучает организацию живых организмов на очень высоком уровне, исследует связи между организмами и их средой об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2625840" y="2924280"/>
            <a:ext cx="151128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2770200" y="29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478620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6"/>
          <p:cNvSpPr/>
          <p:nvPr/>
        </p:nvSpPr>
        <p:spPr>
          <a:xfrm>
            <a:off x="665784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4930920" y="2997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6802560" y="299736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4788000" y="134136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4"/>
          <p:cNvSpPr/>
          <p:nvPr/>
        </p:nvSpPr>
        <p:spPr>
          <a:xfrm flipH="1">
            <a:off x="3708360" y="170172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5"/>
          <p:cNvSpPr/>
          <p:nvPr/>
        </p:nvSpPr>
        <p:spPr>
          <a:xfrm>
            <a:off x="5940360" y="1701720"/>
            <a:ext cx="936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6"/>
          <p:cNvSpPr/>
          <p:nvPr/>
        </p:nvSpPr>
        <p:spPr>
          <a:xfrm flipH="1">
            <a:off x="3851280" y="1701720"/>
            <a:ext cx="14414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5435640" y="1701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8"/>
          <p:cNvSpPr/>
          <p:nvPr/>
        </p:nvSpPr>
        <p:spPr>
          <a:xfrm>
            <a:off x="5580000" y="1701720"/>
            <a:ext cx="1440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9"/>
          <p:cNvSpPr/>
          <p:nvPr/>
        </p:nvSpPr>
        <p:spPr>
          <a:xfrm>
            <a:off x="6946920" y="1846440"/>
            <a:ext cx="172872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0"/>
          <p:cNvSpPr/>
          <p:nvPr/>
        </p:nvSpPr>
        <p:spPr>
          <a:xfrm>
            <a:off x="7020000" y="191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1"/>
          <p:cNvSpPr/>
          <p:nvPr/>
        </p:nvSpPr>
        <p:spPr>
          <a:xfrm>
            <a:off x="1763640" y="1917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2"/>
          <p:cNvSpPr/>
          <p:nvPr/>
        </p:nvSpPr>
        <p:spPr>
          <a:xfrm>
            <a:off x="1908000" y="1989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е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3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5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2124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Экологические фа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692360" y="141300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Экологические фактор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это элементы окружающей среды, которые вызывают у живых организмов и их сообществ приспособительные реакции (адапт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835280" y="3141720"/>
            <a:ext cx="540072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, температу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, влажност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, ветер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, наличие пищ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, хищни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6, парази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7, конкуренты и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2124000" y="47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ая задача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692360" y="2565360"/>
            <a:ext cx="633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вная же теоретическая и практическая задача экологии —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раскры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бщие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закономерност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рганизации жизни и на этой основе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разработа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9999"/>
                </a:solidFill>
                <a:latin typeface="Comic Sans MS"/>
              </a:rPr>
              <a:t>принципы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рационального использования природных ресурсов в условиях все возрастающего влияния человека на биосфер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Копия (2) Экология 1"/>
          <p:cNvPicPr/>
          <p:nvPr/>
        </p:nvPicPr>
        <p:blipFill>
          <a:blip r:embed="rId1"/>
          <a:stretch/>
        </p:blipFill>
        <p:spPr>
          <a:xfrm>
            <a:off x="7596360" y="62064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1619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763640" y="1341360"/>
            <a:ext cx="67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заимодействие человеческого общества и природы стало одной из важнейших проблем современности, поскольку положение, которое складывается в отношениях человека с природой, часто становится критиче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2" descr="carbon01"/>
          <p:cNvPicPr/>
          <p:nvPr/>
        </p:nvPicPr>
        <p:blipFill>
          <a:blip r:embed="rId1"/>
          <a:stretch/>
        </p:blipFill>
        <p:spPr>
          <a:xfrm>
            <a:off x="3924360" y="3213000"/>
            <a:ext cx="2340000" cy="2952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3"/>
          <p:cNvSpPr/>
          <p:nvPr/>
        </p:nvSpPr>
        <p:spPr>
          <a:xfrm>
            <a:off x="3635280" y="5877000"/>
            <a:ext cx="2665440" cy="6476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4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5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6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5"/>
          <p:cNvSpPr/>
          <p:nvPr/>
        </p:nvSpPr>
        <p:spPr>
          <a:xfrm>
            <a:off x="1258920" y="278136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удшение состояния водного и воздушного бассей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2319120" cy="221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e560688110e3"/>
          <p:cNvPicPr/>
          <p:nvPr/>
        </p:nvPicPr>
        <p:blipFill>
          <a:blip r:embed="rId2"/>
          <a:stretch/>
        </p:blipFill>
        <p:spPr>
          <a:xfrm>
            <a:off x="6732720" y="1700280"/>
            <a:ext cx="1895400" cy="1422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0"/>
          <p:cNvSpPr/>
          <p:nvPr/>
        </p:nvSpPr>
        <p:spPr>
          <a:xfrm>
            <a:off x="1619280" y="54936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1" descr="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Домой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Вперёд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20:45:26Z</dcterms:created>
  <dc:creator>CoYoko</dc:creator>
  <dc:description/>
  <dc:language>en-US</dc:language>
  <cp:lastModifiedBy>LEGION</cp:lastModifiedBy>
  <dcterms:modified xsi:type="dcterms:W3CDTF">2015-05-06T08:09:41Z</dcterms:modified>
  <cp:revision>9</cp:revision>
  <dc:subject/>
  <dc:title>Экология Рядом!</dc:title>
</cp:coreProperties>
</file>