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E67C-356B-4245-88B8-FC4E74932B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2FA0-1C3E-4FFC-BE53-5588DCB970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9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няти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 Аристотелю, – это т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то присуще всем предметам данного вида или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им у предметов одного вида (рода) я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ор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огда ка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тер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а выступает как принцип индивид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я ес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змож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ещи; форма выражает её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щность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.е. то, что в вещи предста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бходим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в аристотелевской концепции понятия прочно увяз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B40F-C8E3-454B-9CC8-812441ACED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 применяется, таким образом, 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ножеств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языке логики это множество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классом;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щность множества характеризует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бъё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о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ъё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нятие относится к совокупности предметов (предицируется им), то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держания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его можно охарактеризовать как совокупность признаков (предицируемых данному понятию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больше признако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ыслится в понятии, т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ньше его объё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.е. тем меньше предметов в классе, обозначаемым данным понятием, и наоборо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влекаясь от каких-то признаков, мы получаем более общее понятие; эта операция назыв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бобщение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ратная операция, заключающаяся в добавлении признаков к общему понятию,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граничением понят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ерация предицирования лежит в основе формы мышления, именуем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ж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1CBA-EDF7-43D5-A73C-F350EB620C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ужд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это такая форма мысли, в которой утверждается или отрицается что-либо относительно предметов и явлений, их свойств, связей и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лементарное суждение можно представить в виде формулы: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ждение выражает либо истину, либо лож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6901-97C6-4CBA-A3E4-63327D58E5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ждения делятся, таким образом,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стин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ож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ы уже видели, что их можно разделить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твердитель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трицатель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200" spc="-1" strike="noStrike">
                <a:solidFill>
                  <a:srgbClr val="00ffff"/>
                </a:solidFill>
                <a:latin typeface="Arial"/>
              </a:rPr>
              <a:t>по качеству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ристотель подразделяет суждения также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ие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част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определён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200" spc="-1" strike="noStrike">
                <a:solidFill>
                  <a:srgbClr val="00ffff"/>
                </a:solidFill>
                <a:latin typeface="Arial"/>
              </a:rPr>
              <a:t>по количеству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67BB-FDD3-427B-A77F-27A3342D86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 эти подразделения необходимы для понимания следующей формы мышления – умозаклю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Умозаключ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это такое логическое действие, в результате которого из одного или нескольких – определённым образом связанных – суждений (именуемых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сылкам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 получается новое суждени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(вывод)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 котором содержится новое зн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лементарное умозаключение исходит из одной посылки (такое умозаключение н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посредственны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1360-A286-4D44-9534-2444B9B5F2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стоверным может считаться лишь необходимый вывод, 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обходимо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язано с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щественны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щее знание выражается в общих суждениях, т.е. в суждениях в которых утверждается присущность признака всем предметам данного класса (вида, рода) или их неприсущность ни од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в общем суждении во всём объёме берётся (на языке логики это н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аспределённостью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 субъект суждения. А что можно сказать о предикате? Количественная характеристика предиката остаётся неопределён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то предикаты распределен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 отрицательных суждениях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 равно – общих или частных: отрицая наличие признака у предмета (субъекта высказывания), мы кое-что утверждаем об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се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редметах, обладающих этим признаком, а именно: в их число наш субъект не вход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2BD9-51A9-4897-AB0E-86F3FFEF4F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перь мы можем сформулироват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вое правил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логического выв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4F35-1AD4-4C77-B612-D9569A7C1B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лавной своей заслугой в логике Аристотель считал разработку учения о силлогиз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E76E-B5F8-4A26-9ABE-8465FD0C67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03B3-74BD-4A32-8FF6-B4F44CADF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D58C-2D71-4308-AC41-7BDDEDC2D0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651F-8AF5-4E45-A63C-ACC93F9FA5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чувственного опыта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мышления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посредственные умозаклю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о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тожд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D447-CC49-40D9-AABE-6F0E8A7B91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ая фиг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три термин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ак относя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ежду собой, что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следний термин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среднем, а средний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первом или вовс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содержится в нём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о для этих крайни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ерминов необходим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меется совершенный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иллогиз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терминов и правила посы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тер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иллогизме имеется три термина – не больше и не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ы, не распределённые в посылках, не могут быть распределены в выв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ний термин должен быть распределён хотя бы в одной из посы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посы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част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частное суждение, то и вывод (если он вообще возможен) может быть только час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отрицатель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отрицательное суждение, то и вывод должен быть отрица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6B94-47D3-46F8-A6B1-056FD2886A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4D0E-00CF-4C33-BBE7-AD1DD4DF88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а первой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ньшая посылка должна быть суждением утвердите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B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дусы первой фиг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E964-DB34-4F05-9B6A-A2BF552114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C81D-BACD-4A51-B4CF-BFB57A9888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торая фиг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же одно и то ж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ному всему присущ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другому вовсе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присуще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и тому и другом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ему присущ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вовсе не присущ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я называю второ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A7AD-C5FA-45A8-BD79-798871072D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втор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а из посылок должна быть отрицате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едовательно, отрицательным будет и вы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дусы второй фиг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369D-2D6B-4A5A-983B-686EC39D19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C169-24E9-43BF-AE6E-CA76593BD5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етья фиг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ж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ному и тому ж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но присуще всему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другое вовс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присущ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и то и друго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исущи ему всем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вовсе не присущ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я называю треть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CC35-076D-46DF-B1D9-1B1AD8B0DE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а третьей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ньшая посылка должна быть утвердительным сужд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вод – частное суждение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дусы третьей фиг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2B45-B01A-47F9-9372-9727BD3A50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5B77-9ADB-44B1-944F-2E46C8462E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Орган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столко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п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фистических опроверж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1873-7FE1-41AD-AA3A-D9B29DD99F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самое достоверное из всех начал –</a:t>
            </a:r>
            <a:br>
              <a:rPr sz="1200"/>
            </a:b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то, относительно которого невозможно ошибить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бо такое начало должно быть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наиболее очевидны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(ведь все обманываются в том, что не очевид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вободным от всякое предполож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ействительно, начало, которое необходимо зна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якому постигающему что-либо из существующего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есть предположение; а то, что необходим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же знать тому, кто познаёт хоть что-нибудь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н должен иметь, уже приступая к рассмотр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аким образом, ясно, что именно такое начало ес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аиболее достоверное из всех; а что это за начало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кажем теперь. А именно: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возможно, чтобы одно и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о же в одно и то же время было и не было присущ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ому и тому же в одном и том же отношении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(и всё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ругое, что мы могли бы ещё уточнить, пусть будет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точнено во избежание словесных затруднений) –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это, конечно,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амое достоверное из всех начал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 нему подходит данное выше определени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самое достоверное из всех начал –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о, относительно которого невозможно ошиб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бо такое начало должно бы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иболее очевидным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едь все обманываются в том, что не очевидн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ым от всякое предположи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йствительно, начало, которое необходимо знать всякому постигающему что-либо из существующего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е есть предположен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то, что необходимо уже знать тому, кто познаёт хоть что-нибудь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н должен иметь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уже приступая к рассмотре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ясно, что именно такое начало есть наиболее достоверное из всех; а что это за начало, укажем теперь. А имен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возможно, чтобы одно и то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 и то ж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было и не было прису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дному и тому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м и том же отношени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и всё другое, что мы могли бы ещё уточнить, пусть будет уточнено во избежание словесных затруднений)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, конечно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ое достоверное из всех начал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 нему подходит данное выше определ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28B9-ECEC-4A58-8471-D69B4BDC9D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возможно, чтобы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о и то ж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одно и то же время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ыло и не было присущ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ому и тому ж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одном и том же отнош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985F-2D9E-4AA5-BD75-D3CE8775B0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96C9-3ABF-4B41-A1B1-3B1643BDEF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Равным образом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 может быть ничего промежуточного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ежду двумя членами противоречия,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а относительно чего-то одного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необходимо что бы то ни было одно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ибо утверждать, либо отриц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Если же ложное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есть не что иное,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как отрицание истины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т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сё не может быть ложным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ин из двух членов 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отиворечия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должен быть исти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42B4-294D-452A-BBC3-25CFFAF2FD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654A-65D7-409C-96EF-578CFCA6D3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A225-4E79-4CA7-A24E-79733FAB1C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рия познания Аристотел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ль чувственного опыта и мышления в позн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диничное «первично для нас», хотя «вторично по природ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щее (причины и начала) «первично по природе», но «вторично для на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ющая мысль восходит от частного к общ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начинается с чувственного восприятия единичных ве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дача мышления – выявить общее и объяснить через его посредство единич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ACE5-32E7-424A-AA9B-CBC9454437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E5C6-2D8E-4537-86F5-337E6ABDCD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оворить 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сущем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что ег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т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-сущем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что он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есть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ожное;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говорить, чт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сущее ес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-сущее не есть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стинно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A541-D507-4546-8263-BD3D00AF82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... Истина определяе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 согласованнос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ежду интеллекто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вещь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1D6E-EBE7-4152-BFA1-153FC3FAD6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1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λογική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ука о мышлении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ука о законах, формах и приёмах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ыслительной познавательной деятельности.</a:t>
            </a:r>
            <a:br>
              <a:rPr sz="1200"/>
            </a:br>
            <a:br>
              <a:rPr sz="1200"/>
            </a:b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(Термин «логика» ввели, по-видимому, стоики.</a:t>
            </a:r>
            <a:br>
              <a:rPr sz="1100"/>
            </a:b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Сам Аристотель своё логическое учение</a:t>
            </a:r>
            <a:br>
              <a:rPr sz="1100"/>
            </a:b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называл «аналитикой»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19A5-29A0-4D66-93A4-B6D0572C4D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гика – наука о формах мышления Содержание и формы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CCE4-A213-4CD0-8F4B-8CAA4D762D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0964-EDE9-41D7-A036-9674B5CC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673-6A67-4403-BCDB-003CABBD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6F1-FA6B-432A-A16D-5FC48E95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CD2-B6D9-4B56-BEB3-39A9C814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4618-FBB7-4D2A-A941-203A3389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6A5D-3B3C-4D70-8E4E-9A5CDC21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B9C-02E9-4050-B8B4-2663FFFA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BE8F-CFD0-4A5C-9482-3AEFF49D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36CC-0296-41B7-894C-76E09877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8DA1-50B5-40E0-B53D-649A94DE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9044-09F0-4AA6-9B2E-826BA167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E2AA-2F24-44F6-B1A0-9B3F37EC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B991-AD72-4ED1-87E3-86F6B6460A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4200" y="207144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няти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 Аристотелю, – это т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то присуще всем предметам данного вида или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им у предметов одного вида (рода) я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ор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огда ка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тер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а выступает как принцип индивид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я ес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змож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ещи; форма выражает её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щность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.е. то, что в вещи предста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бходим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в аристотелевской концепции понятия прочно увяз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 rot="10800000">
            <a:off x="3238200" y="4030200"/>
            <a:ext cx="3598920" cy="251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азы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у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а обще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е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413480" y="3994200"/>
            <a:ext cx="806760" cy="1971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6804720" y="6081840"/>
            <a:ext cx="228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Вторая аналити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 применяется, таким образом, 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ножеств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языке логики это множество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классом;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щность множества характеризует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бъё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о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ъё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нятие относится к совокупности предметов (предицируется им), то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держания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его можно охарактеризовать как совокупность признаков (предицируемых данному понятию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больше признако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ыслится в понятии, т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ньше его объё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.е. тем меньше предметов в классе, обозначаемым данным понятием, и наоборо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влекаясь от каких-то признаков, мы получаем более общее понятие; эта операция назыв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бобщение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ратная операция, заключающаяся в добавлении признаков к общему понятию,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граничением понят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ерация предицирования лежит в основе формы мышления, именуем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ж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жд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это такая форма мысли, в которой утверждается или отрицается что-либо относительно предметов и явлений, их свойств, связей и 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ментарное суждение можно представить в виде формулы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 выражает либо истину, либо лож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065480" y="3094200"/>
            <a:ext cx="1079640" cy="323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(не) 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3489480" y="2949480"/>
            <a:ext cx="610920" cy="611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5110200" y="2949480"/>
            <a:ext cx="611280" cy="611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 rot="10800000">
            <a:off x="325080" y="4258800"/>
            <a:ext cx="8637480" cy="2340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на же и глаголы сами по себе подобны мысли без связы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разъединения, например «человек» или «белое»;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 прибавляется, нет ни ложного, ни истинного, хот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и обозначают что-то: ведь и «козлоолень» что-то обознача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щё не истинно и не ложно, когда не прибавлен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лагол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быть» или «не быть» – либо вообще, либо касательно врем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я делятся, таким образом,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тин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ож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уже видели, что их можно разделить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твердитель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рицатель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по качеству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 подразделяет суждения также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и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аст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пределён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по количеству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 rot="10800000">
            <a:off x="539640" y="3381120"/>
            <a:ext cx="6478560" cy="32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й я называю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посылку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присуще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 или не присущем ни одному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астной – о присущем или не присуще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торым или присущем не все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пределённой – о присущем ил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сущем без указания того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ая ли она или частная, как, например, </a:t>
            </a:r>
            <a:br>
              <a:rPr sz="1800"/>
            </a:b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удовольствие не есть благо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413480" y="3381480"/>
            <a:ext cx="968400" cy="2367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0"/>
          <p:cNvSpPr/>
          <p:nvPr/>
        </p:nvSpPr>
        <p:spPr>
          <a:xfrm>
            <a:off x="6798240" y="6081840"/>
            <a:ext cx="229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Первая аналити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5"/>
          <p:cNvSpPr/>
          <p:nvPr/>
        </p:nvSpPr>
        <p:spPr>
          <a:xfrm>
            <a:off x="4138560" y="5829480"/>
            <a:ext cx="71928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7"/>
          <p:cNvSpPr/>
          <p:nvPr/>
        </p:nvSpPr>
        <p:spPr>
          <a:xfrm>
            <a:off x="478620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6"/>
          <p:cNvSpPr/>
          <p:nvPr/>
        </p:nvSpPr>
        <p:spPr>
          <a:xfrm>
            <a:off x="313056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140360" y="4570560"/>
            <a:ext cx="71892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478620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313056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эти подразделения необходимы для понимания следующей формы мышления – умозаклю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Умозаключ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это такое логическое действие, в результате которого из одного или нескольких – определённым образом связанных – суждений (именуемых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сылкам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получается новое суждени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(вывод)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котором содержится новое 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ментарное умозаключение исходит из одной посылки (такое умозаключение называ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посредственны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478620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313056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313056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478620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стоверным может считаться лишь необходимый вывод, 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бходим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язано с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щественны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знание выражается в общих суждениях, т.е. в суждениях в которых утверждается присущность признака всем предметам данного класса (вида, рода) или их неприсущность ни од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в общем суждении во всём объёме берётся (на языке логики это называ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спределённостью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субъект суждения. А что можно сказать о предикате? Количественная характеристика предиката остаётся неопределё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о предикаты распределены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отрицательных суждениях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сё равно – общих или частных: отрицая наличие признака у предмета (субъекта высказывания), мы кое-что утверждаем об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сех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ах, обладающих этим признаком, а именно: в их число наш субъект не вход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перь мы можем сформулирова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ервое правил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логического вы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2050920" y="2698920"/>
            <a:ext cx="503892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ли термин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 распределён в посылк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н не может быть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спределён в вы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авной своей заслугой в логике Аристотель считал разработку учения о силлогиз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305080" y="2698920"/>
            <a:ext cx="449892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иллогиз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συλλογισμό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овидность умозаключения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редством котор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авли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ческое отнош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жду двумя понятия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основании их отнош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екоему третьему понят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3201840" y="3346560"/>
            <a:ext cx="2735280" cy="718920"/>
          </a:xfrm>
          <a:prstGeom prst="rightArrow">
            <a:avLst>
              <a:gd name="adj1" fmla="val 50000"/>
              <a:gd name="adj2" fmla="val 95118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3201840" y="1835280"/>
            <a:ext cx="2735280" cy="718920"/>
          </a:xfrm>
          <a:prstGeom prst="rightArrow">
            <a:avLst>
              <a:gd name="adj1" fmla="val 50000"/>
              <a:gd name="adj2" fmla="val 95118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3201840" y="5433840"/>
            <a:ext cx="2735280" cy="719280"/>
          </a:xfrm>
          <a:prstGeom prst="rightArrow">
            <a:avLst>
              <a:gd name="adj1" fmla="val 50000"/>
              <a:gd name="adj2" fmla="val 9507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 rot="1080000">
            <a:off x="3057480" y="2806560"/>
            <a:ext cx="3095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1798560" y="5073480"/>
            <a:ext cx="144000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593712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1870200" y="4570560"/>
            <a:ext cx="54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 rot="1080000">
            <a:off x="3057480" y="2806560"/>
            <a:ext cx="3095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3"/>
          <p:cNvSpPr/>
          <p:nvPr/>
        </p:nvSpPr>
        <p:spPr>
          <a:xfrm>
            <a:off x="593712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4"/>
          <p:cNvSpPr/>
          <p:nvPr/>
        </p:nvSpPr>
        <p:spPr>
          <a:xfrm>
            <a:off x="1798560" y="2986200"/>
            <a:ext cx="144000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1798560" y="147492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5"/>
          <p:cNvSpPr/>
          <p:nvPr/>
        </p:nvSpPr>
        <p:spPr>
          <a:xfrm>
            <a:off x="593712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00000">
                                      <p:cBhvr>
                                        <p:cTn id="89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7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1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ри терм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относя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собой, ч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й терми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реднем, а 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ервом или вовс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ится в нё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для этих край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ов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ется соверше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ллогиз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3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5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97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чувственного опыта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мышления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посредственные умозаклю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о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тожд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ри терм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относя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собой, ч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й терми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реднем, а 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ервом или вовс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ится в нё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для этих край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ов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ется соверше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ллогиз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105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терминов и правила посы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тер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иллогизме имеется три термина – не больше и не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ы, не распределённые в посылках, не могут быть распределены в выв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ний термин должен быть распределён хотя бы в одной из посы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посы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част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частное суждение, то и вывод (если он вообще возможен) может быть только час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отрицатель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отрицательное суждение, то и вывод должен быть отрица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перв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ьшая посылка должна быть суждением утверди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8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2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3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4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5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11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сы перв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2338560" y="240984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1222200" y="266220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53964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9"/>
          <p:cNvSpPr/>
          <p:nvPr/>
        </p:nvSpPr>
        <p:spPr>
          <a:xfrm>
            <a:off x="7197840" y="240984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2340000" y="492912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7197840" y="492912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6081840" y="266220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1222200" y="5181480"/>
            <a:ext cx="93528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4"/>
          <p:cNvSpPr/>
          <p:nvPr/>
        </p:nvSpPr>
        <p:spPr>
          <a:xfrm>
            <a:off x="6081840" y="5181480"/>
            <a:ext cx="93492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5"/>
          <p:cNvSpPr/>
          <p:nvPr/>
        </p:nvSpPr>
        <p:spPr>
          <a:xfrm>
            <a:off x="539748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6"/>
          <p:cNvSpPr/>
          <p:nvPr/>
        </p:nvSpPr>
        <p:spPr>
          <a:xfrm>
            <a:off x="53964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7"/>
          <p:cNvSpPr/>
          <p:nvPr/>
        </p:nvSpPr>
        <p:spPr>
          <a:xfrm>
            <a:off x="539748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53964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539748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53964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539748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48 0 E">
                                      <p:cBhvr>
                                        <p:cTn id="1269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441 0 E">
                                      <p:cBhvr>
                                        <p:cTn id="1273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65 0 E">
                                      <p:cBhvr>
                                        <p:cTn id="1294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445 0 E">
                                      <p:cBhvr>
                                        <p:cTn id="1298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11111E-006 L 0.12622 0.00185 E">
                                      <p:cBhvr>
                                        <p:cTn id="1319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L 0.17726 0.00185 E">
                                      <p:cBhvr>
                                        <p:cTn id="1323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11111E-006 L 0.14618 0.00185 E">
                                      <p:cBhvr>
                                        <p:cTn id="1344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63 0 E">
                                      <p:cBhvr>
                                        <p:cTn id="1348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тор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 одно и то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му всему присущ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другому вовс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сущ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и тому и друг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у присущ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овсе не присущ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называю второ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1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2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3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 rot="5400000">
            <a:off x="7628400" y="269928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5"/>
          <p:cNvSpPr/>
          <p:nvPr/>
        </p:nvSpPr>
        <p:spPr>
          <a:xfrm rot="16200000">
            <a:off x="438840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3872 0 E">
                                      <p:cBhvr>
                                        <p:cTn id="1402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втор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 rot="5400000">
            <a:off x="7628400" y="269928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а из посылок должна быть отрицате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едовательно, отрицательным будет и вы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сы втор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"/>
          <p:cNvSpPr/>
          <p:nvPr/>
        </p:nvSpPr>
        <p:spPr>
          <a:xfrm>
            <a:off x="1222200" y="240984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"/>
          <p:cNvSpPr/>
          <p:nvPr/>
        </p:nvSpPr>
        <p:spPr>
          <a:xfrm>
            <a:off x="2841480" y="266220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"/>
          <p:cNvSpPr/>
          <p:nvPr/>
        </p:nvSpPr>
        <p:spPr>
          <a:xfrm>
            <a:off x="53964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6"/>
          <p:cNvSpPr/>
          <p:nvPr/>
        </p:nvSpPr>
        <p:spPr>
          <a:xfrm>
            <a:off x="6081840" y="240984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7"/>
          <p:cNvSpPr/>
          <p:nvPr/>
        </p:nvSpPr>
        <p:spPr>
          <a:xfrm>
            <a:off x="1222200" y="492912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8"/>
          <p:cNvSpPr/>
          <p:nvPr/>
        </p:nvSpPr>
        <p:spPr>
          <a:xfrm>
            <a:off x="6081840" y="492912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9"/>
          <p:cNvSpPr/>
          <p:nvPr/>
        </p:nvSpPr>
        <p:spPr>
          <a:xfrm>
            <a:off x="7701120" y="266220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0"/>
          <p:cNvSpPr/>
          <p:nvPr/>
        </p:nvSpPr>
        <p:spPr>
          <a:xfrm>
            <a:off x="2841480" y="5181480"/>
            <a:ext cx="93528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7701120" y="5181480"/>
            <a:ext cx="93492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2"/>
          <p:cNvSpPr/>
          <p:nvPr/>
        </p:nvSpPr>
        <p:spPr>
          <a:xfrm>
            <a:off x="539748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3"/>
          <p:cNvSpPr/>
          <p:nvPr/>
        </p:nvSpPr>
        <p:spPr>
          <a:xfrm>
            <a:off x="53964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4"/>
          <p:cNvSpPr/>
          <p:nvPr/>
        </p:nvSpPr>
        <p:spPr>
          <a:xfrm>
            <a:off x="539748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53964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539748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53964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539748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184 0 E">
                                      <p:cBhvr>
                                        <p:cTn id="1504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1508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965 0 E">
                                      <p:cBhvr>
                                        <p:cTn id="1529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822 0 E">
                                      <p:cBhvr>
                                        <p:cTn id="1533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966 0 E">
                                      <p:cBhvr>
                                        <p:cTn id="1554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1267 0 E">
                                      <p:cBhvr>
                                        <p:cTn id="1558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604 0 E">
                                      <p:cBhvr>
                                        <p:cTn id="1579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86 0 E">
                                      <p:cBhvr>
                                        <p:cTn id="1583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ть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торые</a:t>
            </a:r>
            <a:br>
              <a:rPr sz="18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9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му и тому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 присуще вс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другое вовс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сущ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и то и друг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сущи ему все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овсе не присущ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называю треть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2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3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4"/>
          <p:cNvSpPr/>
          <p:nvPr/>
        </p:nvSpPr>
        <p:spPr>
          <a:xfrm rot="16200000">
            <a:off x="438840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5"/>
          <p:cNvSpPr/>
          <p:nvPr/>
        </p:nvSpPr>
        <p:spPr>
          <a:xfrm rot="16200000">
            <a:off x="759204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53 0 E">
                                      <p:cBhvr>
                                        <p:cTn id="1637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третье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торые</a:t>
            </a:r>
            <a:br>
              <a:rPr sz="1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0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1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2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3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 rot="16200000">
            <a:off x="438840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ьшая посылка должна быть утвердительным суж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од – частное суждение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6" dur="indefinite" restart="never" nodeType="tmRoot">
          <p:childTnLst>
            <p:seq>
              <p:cTn id="1667" dur="indefinite" nodeType="mainSeq">
                <p:childTnLst>
                  <p:par>
                    <p:cTn id="1668" nodeType="clickEffect" fill="hold">
                      <p:stCondLst>
                        <p:cond delay="indefinite"/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nodeType="clickEffect" fill="hold">
                      <p:stCondLst>
                        <p:cond delay="indefinite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nodeType="clickEffect" fill="hold">
                      <p:stCondLst>
                        <p:cond delay="indefinite"/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nodeType="clickEffect" fill="hold">
                      <p:stCondLst>
                        <p:cond delay="indefinite"/>
                      </p:stCondLst>
                      <p:childTnLst>
                        <p:par>
                          <p:cTn id="1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nodeType="clickEffect" fill="hold">
                      <p:stCondLst>
                        <p:cond delay="indefinite"/>
                      </p:stCondLst>
                      <p:childTnLst>
                        <p:par>
                          <p:cTn id="1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Oval 25"/>
          <p:cNvSpPr/>
          <p:nvPr/>
        </p:nvSpPr>
        <p:spPr>
          <a:xfrm>
            <a:off x="7197840" y="511020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сы третье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3"/>
          <p:cNvSpPr/>
          <p:nvPr/>
        </p:nvSpPr>
        <p:spPr>
          <a:xfrm>
            <a:off x="2338560" y="187020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4"/>
          <p:cNvSpPr/>
          <p:nvPr/>
        </p:nvSpPr>
        <p:spPr>
          <a:xfrm>
            <a:off x="539640" y="212256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5"/>
          <p:cNvSpPr/>
          <p:nvPr/>
        </p:nvSpPr>
        <p:spPr>
          <a:xfrm>
            <a:off x="1654200" y="2338560"/>
            <a:ext cx="503280" cy="5029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6"/>
          <p:cNvSpPr/>
          <p:nvPr/>
        </p:nvSpPr>
        <p:spPr>
          <a:xfrm>
            <a:off x="7197840" y="187020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7"/>
          <p:cNvSpPr/>
          <p:nvPr/>
        </p:nvSpPr>
        <p:spPr>
          <a:xfrm>
            <a:off x="2340000" y="348948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8"/>
          <p:cNvSpPr/>
          <p:nvPr/>
        </p:nvSpPr>
        <p:spPr>
          <a:xfrm>
            <a:off x="7197840" y="348948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9"/>
          <p:cNvSpPr/>
          <p:nvPr/>
        </p:nvSpPr>
        <p:spPr>
          <a:xfrm>
            <a:off x="5397480" y="212256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539640" y="374184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1"/>
          <p:cNvSpPr/>
          <p:nvPr/>
        </p:nvSpPr>
        <p:spPr>
          <a:xfrm>
            <a:off x="5397480" y="374184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2"/>
          <p:cNvSpPr/>
          <p:nvPr/>
        </p:nvSpPr>
        <p:spPr>
          <a:xfrm>
            <a:off x="6513480" y="2338560"/>
            <a:ext cx="503280" cy="5029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3"/>
          <p:cNvSpPr/>
          <p:nvPr/>
        </p:nvSpPr>
        <p:spPr>
          <a:xfrm>
            <a:off x="1654200" y="395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4"/>
          <p:cNvSpPr/>
          <p:nvPr/>
        </p:nvSpPr>
        <p:spPr>
          <a:xfrm>
            <a:off x="6513480" y="395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539640" y="169056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5397480" y="169056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539640" y="330984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8"/>
          <p:cNvSpPr/>
          <p:nvPr/>
        </p:nvSpPr>
        <p:spPr>
          <a:xfrm>
            <a:off x="5397480" y="330984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9"/>
          <p:cNvSpPr/>
          <p:nvPr/>
        </p:nvSpPr>
        <p:spPr>
          <a:xfrm>
            <a:off x="2374920" y="511020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20"/>
          <p:cNvSpPr/>
          <p:nvPr/>
        </p:nvSpPr>
        <p:spPr>
          <a:xfrm>
            <a:off x="539640" y="536112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22"/>
          <p:cNvSpPr/>
          <p:nvPr/>
        </p:nvSpPr>
        <p:spPr>
          <a:xfrm>
            <a:off x="5397480" y="536112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23"/>
          <p:cNvSpPr/>
          <p:nvPr/>
        </p:nvSpPr>
        <p:spPr>
          <a:xfrm>
            <a:off x="1654200" y="557676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24"/>
          <p:cNvSpPr/>
          <p:nvPr/>
        </p:nvSpPr>
        <p:spPr>
          <a:xfrm>
            <a:off x="6513480" y="557676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6"/>
          <p:cNvSpPr/>
          <p:nvPr/>
        </p:nvSpPr>
        <p:spPr>
          <a:xfrm>
            <a:off x="539640" y="492912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7"/>
          <p:cNvSpPr/>
          <p:nvPr/>
        </p:nvSpPr>
        <p:spPr>
          <a:xfrm>
            <a:off x="5397480" y="492912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6" dur="indefinite" restart="never" nodeType="tmRoot">
          <p:childTnLst>
            <p:seq>
              <p:cTn id="1717" dur="indefinite" nodeType="mainSeq">
                <p:childTnLst>
                  <p:par>
                    <p:cTn id="1718" nodeType="clickEffect" fill="hold">
                      <p:stCondLst>
                        <p:cond delay="indefinite"/>
                      </p:stCondLst>
                      <p:childTnLst>
                        <p:par>
                          <p:cTn id="1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865 0 E">
                                      <p:cBhvr>
                                        <p:cTn id="1738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882 0 E">
                                      <p:cBhvr>
                                        <p:cTn id="1742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nodeType="clickEffect" fill="hold">
                      <p:stCondLst>
                        <p:cond delay="indefinite"/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nodeType="clickEffect" fill="hold">
                      <p:stCondLst>
                        <p:cond delay="indefinite"/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nodeType="clickEffect" fill="hold">
                      <p:stCondLst>
                        <p:cond delay="indefinite"/>
                      </p:stCondLst>
                      <p:childTnLst>
                        <p:par>
                          <p:cTn id="1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504 0 E">
                                      <p:cBhvr>
                                        <p:cTn id="1763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663 0 E">
                                      <p:cBhvr>
                                        <p:cTn id="1767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646 0 E">
                                      <p:cBhvr>
                                        <p:cTn id="1788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521 0 E">
                                      <p:cBhvr>
                                        <p:cTn id="1792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605 0 E">
                                      <p:cBhvr>
                                        <p:cTn id="1813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0243 0 E">
                                      <p:cBhvr>
                                        <p:cTn id="1817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nodeType="clickEffect" fill="hold">
                      <p:stCondLst>
                        <p:cond delay="indefinite"/>
                      </p:stCondLst>
                      <p:childTnLst>
                        <p:par>
                          <p:cTn id="1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664 0 E">
                                      <p:cBhvr>
                                        <p:cTn id="1838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941 0 E">
                                      <p:cBhvr>
                                        <p:cTn id="1841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302 0 E">
                                      <p:cBhvr>
                                        <p:cTn id="1845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604 0 E">
                                      <p:cBhvr>
                                        <p:cTn id="1866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nodeType="clickEffect" fill="hold">
                      <p:stCondLst>
                        <p:cond delay="indefinite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65 0 E">
                                      <p:cBhvr>
                                        <p:cTn id="1870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63640" y="2878200"/>
            <a:ext cx="403848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Орган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столко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п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фистических опроверж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445800" y="5576760"/>
            <a:ext cx="1684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384-3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Aristoteles (Kopenhagen, Ny Carlsberg Glyptothek 1 - red-ed)"/>
          <p:cNvPicPr/>
          <p:nvPr/>
        </p:nvPicPr>
        <p:blipFill>
          <a:blip r:embed="rId1"/>
          <a:stretch/>
        </p:blipFill>
        <p:spPr>
          <a:xfrm>
            <a:off x="5937120" y="1619280"/>
            <a:ext cx="2629080" cy="3600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3"/>
          <p:cNvSpPr/>
          <p:nvPr/>
        </p:nvSpPr>
        <p:spPr>
          <a:xfrm rot="10800000">
            <a:off x="69480" y="1294920"/>
            <a:ext cx="7916760" cy="547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амое достоверное из всех начал –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то, относительно которого невозможно ошиби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такое начало должно быть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аиболее очевид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едь все обманываются в том, что не очевид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вободным от всякое предполож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, начало, которое необходимо зн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ому постигающему что-либо из существую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есть предположение; а то, что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знать тому, кто познаёт хоть что-нибуд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должен иметь, уже приступая к рассмотр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ясно, что именно такое начало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иболее достоверное из всех; а что это за начал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кажем теперь. А именно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, чтобы одно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 же в одно и то же время было и не было присущ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му и тому же в одном и том же отношени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и вс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е, что мы могли бы ещё уточнить, пусть буд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точнено во избежание словесных затруднений)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, конечно,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амое достоверное из всех нач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ему подходит данное выше определен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727380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521480" y="2014560"/>
            <a:ext cx="1454400" cy="355104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1" dur="indefinite" restart="never" nodeType="tmRoot">
          <p:childTnLst>
            <p:seq>
              <p:cTn id="1872" dur="indefinite" nodeType="mainSeq">
                <p:childTnLst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5760" y="1349280"/>
            <a:ext cx="85899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самое достоверное из всех начал –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о, относительно которого невозможно ошиб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бо такое начало должно бы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иболее очевидным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едь все обманываются в том, что не очевидн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ым от всякое предположи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йствительно, начало, которое необходимо знать всякому постигающему что-либо из существующего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е есть предположен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то, что необходимо уже знать тому, кто познаёт хоть что-нибудь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н должен иметь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уже приступая к рассмотре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ясно, что именно такое начало есть наиболее достоверное из всех; а что это за начало, укажем теперь. А имен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возможно, чтобы одно и то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 и то ж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было и не было прису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дному и тому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м и том же отношени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и всё другое, что мы могли бы ещё уточнить, пусть будет уточнено во избежание словесных затруднений)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, конечно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ое достоверное из всех начал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 нему подходит данное выше определ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7" dur="indefinite" restart="never" nodeType="tmRoot">
          <p:childTnLst>
            <p:seq>
              <p:cTn id="1888" dur="indefinite" nodeType="mainSeq">
                <p:childTnLst>
                  <p:par>
                    <p:cTn id="1889" nodeType="clickEffect" fill="hold">
                      <p:stCondLst>
                        <p:cond delay="indefinite"/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nodeType="clickEffect" fill="hold">
                      <p:stCondLst>
                        <p:cond delay="indefinite"/>
                      </p:stCondLst>
                      <p:childTnLst>
                        <p:par>
                          <p:cTn id="1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nodeType="clickEffect" fill="hold">
                      <p:stCondLst>
                        <p:cond delay="indefinite"/>
                      </p:stCondLst>
                      <p:childTnLst>
                        <p:par>
                          <p:cTn id="1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nodeType="clickEffect" fill="hold">
                      <p:stCondLst>
                        <p:cond delay="indefinite"/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nodeType="clickEffect" fill="hold">
                      <p:stCondLst>
                        <p:cond delay="indefinite"/>
                      </p:stCondLst>
                      <p:childTnLst>
                        <p:par>
                          <p:cTn id="1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nodeType="clickEffect" fill="hold">
                      <p:stCondLst>
                        <p:cond delay="indefinite"/>
                      </p:stCondLst>
                      <p:childTnLst>
                        <p:par>
                          <p:cTn id="1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nodeType="clickEffect" fill="hold">
                      <p:stCondLst>
                        <p:cond delay="indefinite"/>
                      </p:stCondLst>
                      <p:childTnLst>
                        <p:par>
                          <p:cTn id="1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nodeType="clickEffect" fill="hold">
                      <p:stCondLst>
                        <p:cond delay="indefinite"/>
                      </p:stCondLst>
                      <p:childTnLst>
                        <p:par>
                          <p:cTn id="1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863640" y="1978200"/>
            <a:ext cx="5038560" cy="32382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возможно, чтобы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 и то ж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одно и то же врем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ыло и не было присущ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му и тому ж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одном и том же отнош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692760" y="1546200"/>
            <a:ext cx="1695600" cy="41418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8"/>
          <p:cNvSpPr/>
          <p:nvPr/>
        </p:nvSpPr>
        <p:spPr>
          <a:xfrm>
            <a:off x="684216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nodeType="clickEffect" fill="hold">
                      <p:stCondLst>
                        <p:cond delay="indefinite"/>
                      </p:stCondLst>
                      <p:childTnLst>
                        <p:par>
                          <p:cTn id="1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19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AutoShape 3"/>
          <p:cNvSpPr/>
          <p:nvPr/>
        </p:nvSpPr>
        <p:spPr>
          <a:xfrm rot="10800000">
            <a:off x="250920" y="172656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вным образ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быть ничего промежуточ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ду двумя членами противореч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 относительно чего-то одн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обходимо что бы то ни было од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бо утверждать, либо отриц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695304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5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872400" y="1654200"/>
            <a:ext cx="1695240" cy="41418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6" dur="indefinite" restart="never" nodeType="tmRoot">
          <p:childTnLst>
            <p:seq>
              <p:cTn id="1987" dur="indefinite" nodeType="mainSeq">
                <p:childTnLst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863640" y="1978200"/>
            <a:ext cx="5038560" cy="32382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ли же ложное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ть не что ино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ак отрицание истины,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т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ё не может быть ложным,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ин из двух членов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тивореч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лжен быть исти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4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692760" y="1546200"/>
            <a:ext cx="1695600" cy="41418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/>
          <p:cNvSpPr/>
          <p:nvPr/>
        </p:nvSpPr>
        <p:spPr>
          <a:xfrm>
            <a:off x="684216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nodeType="clickEffect" fill="hold">
                      <p:stCondLst>
                        <p:cond delay="indefinite"/>
                      </p:stCondLst>
                      <p:childTnLst>
                        <p:par>
                          <p:cTn id="2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20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3057480" y="1619280"/>
            <a:ext cx="305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кон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179280" y="3057480"/>
            <a:ext cx="288000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жд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6"/>
          <p:cNvSpPr/>
          <p:nvPr/>
        </p:nvSpPr>
        <p:spPr>
          <a:xfrm>
            <a:off x="1619280" y="2878200"/>
            <a:ext cx="296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AutoShape 7"/>
          <p:cNvCxnSpPr/>
          <p:nvPr/>
        </p:nvCxnSpPr>
        <p:spPr>
          <a:xfrm>
            <a:off x="458748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05" name="AutoShape 8"/>
          <p:cNvCxnSpPr/>
          <p:nvPr/>
        </p:nvCxnSpPr>
        <p:spPr>
          <a:xfrm>
            <a:off x="161928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06" name="AutoShape 9"/>
          <p:cNvCxnSpPr/>
          <p:nvPr/>
        </p:nvCxnSpPr>
        <p:spPr>
          <a:xfrm>
            <a:off x="755604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07" name="AutoShape 10"/>
          <p:cNvSpPr/>
          <p:nvPr/>
        </p:nvSpPr>
        <p:spPr>
          <a:xfrm>
            <a:off x="3147840" y="3057480"/>
            <a:ext cx="288000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1"/>
          <p:cNvSpPr/>
          <p:nvPr/>
        </p:nvSpPr>
        <p:spPr>
          <a:xfrm>
            <a:off x="6116760" y="305748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 исключё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ет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AutoShape 12"/>
          <p:cNvCxnSpPr/>
          <p:nvPr/>
        </p:nvCxnSpPr>
        <p:spPr>
          <a:xfrm>
            <a:off x="458748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0" name="Line 13"/>
          <p:cNvSpPr/>
          <p:nvPr/>
        </p:nvSpPr>
        <p:spPr>
          <a:xfrm>
            <a:off x="4587840" y="2878200"/>
            <a:ext cx="296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8"/>
          <p:cNvSpPr/>
          <p:nvPr/>
        </p:nvSpPr>
        <p:spPr>
          <a:xfrm>
            <a:off x="647640" y="4497480"/>
            <a:ext cx="194328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9"/>
          <p:cNvSpPr/>
          <p:nvPr/>
        </p:nvSpPr>
        <p:spPr>
          <a:xfrm>
            <a:off x="3616200" y="4497480"/>
            <a:ext cx="194328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~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A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Λ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1"/>
          <p:cNvSpPr/>
          <p:nvPr/>
        </p:nvSpPr>
        <p:spPr>
          <a:xfrm>
            <a:off x="3184200" y="5218200"/>
            <a:ext cx="2878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 могут быт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временно истинным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ва  противополож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сказывания об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м и том же предме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2"/>
          <p:cNvSpPr/>
          <p:nvPr/>
        </p:nvSpPr>
        <p:spPr>
          <a:xfrm>
            <a:off x="6585120" y="4497480"/>
            <a:ext cx="194292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~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4" descr="or"/>
          <p:cNvPicPr/>
          <p:nvPr/>
        </p:nvPicPr>
        <p:blipFill>
          <a:blip r:embed="rId1"/>
          <a:stretch/>
        </p:blipFill>
        <p:spPr>
          <a:xfrm>
            <a:off x="155520" y="46080"/>
            <a:ext cx="95400" cy="1047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5"/>
          <p:cNvSpPr/>
          <p:nvPr/>
        </p:nvSpPr>
        <p:spPr>
          <a:xfrm>
            <a:off x="6131160" y="5218200"/>
            <a:ext cx="289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 дву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тивополож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сказываний об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м и том же предмет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 непременно исти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6"/>
          <p:cNvSpPr/>
          <p:nvPr/>
        </p:nvSpPr>
        <p:spPr>
          <a:xfrm>
            <a:off x="78120" y="5218200"/>
            <a:ext cx="3089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гические вывод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дёжны лишь при условии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то все понятия (термины)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пределах рассужд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еют один и тот же смыс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nodeType="clickEffect" fill="hold">
                      <p:stCondLst>
                        <p:cond delay="indefinite"/>
                      </p:stCondLst>
                      <p:childTnLst>
                        <p:par>
                          <p:cTn id="2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5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nodeType="clickEffect" fill="hold">
                      <p:stCondLst>
                        <p:cond delay="indefinite"/>
                      </p:stCondLst>
                      <p:childTnLst>
                        <p:par>
                          <p:cTn id="2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7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8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9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nodeType="clickEffect" fill="hold">
                      <p:stCondLst>
                        <p:cond delay="indefinite"/>
                      </p:stCondLst>
                      <p:childTnLst>
                        <p:par>
                          <p:cTn id="2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nodeType="clickEffect" fill="hold">
                      <p:stCondLst>
                        <p:cond delay="indefinite"/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0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1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nodeType="clickEffect" fill="hold">
                      <p:stCondLst>
                        <p:cond delay="indefinite"/>
                      </p:stCondLst>
                      <p:childTnLst>
                        <p:par>
                          <p:cTn id="2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7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8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9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0" dur="indefinite" restart="never" nodeType="tmRoot">
          <p:childTnLst>
            <p:seq>
              <p:cTn id="2111" dur="indefinite" nodeType="mainSeq">
                <p:childTnLst>
                  <p:par>
                    <p:cTn id="2112" nodeType="clickEffect" fill="hold">
                      <p:stCondLst>
                        <p:cond delay="0"/>
                      </p:stCondLst>
                      <p:childTnLst>
                        <p:par>
                          <p:cTn id="2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1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nodeType="clickEffect" fill="hold">
                      <p:stCondLst>
                        <p:cond delay="indefinite"/>
                      </p:stCondLst>
                      <p:childTnLst>
                        <p:par>
                          <p:cTn id="2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2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8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еория познания Аристотеля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Роль чувственного опыта и мышления в познан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ичное «первично для нас», хотя «вторично по природ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(причины и начала) «первично по природе», но «вторично для нас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ющая мысль восходит от частного к общ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е начинается с чувственного восприятия единичных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а мышления – выявить общее и объяснить через его посредство единич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 rot="10800000">
            <a:off x="539640" y="1726560"/>
            <a:ext cx="575784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ворить 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ущ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то ег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-сущ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то он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есть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жное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говорить, чт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уще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-сущее не есть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инно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695304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872400" y="1654200"/>
            <a:ext cx="1695240" cy="41418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 rot="10800000">
            <a:off x="3127320" y="1726560"/>
            <a:ext cx="575784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Истина опреде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огласова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интеллек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щью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05000" y="5973840"/>
            <a:ext cx="23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ма Акв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умма теолог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Фома Аквинский (Гоццоли - red)"/>
          <p:cNvPicPr/>
          <p:nvPr/>
        </p:nvPicPr>
        <p:blipFill>
          <a:blip r:embed="rId1"/>
          <a:stretch/>
        </p:blipFill>
        <p:spPr>
          <a:xfrm>
            <a:off x="216000" y="1727280"/>
            <a:ext cx="2657520" cy="39337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619280" y="1978200"/>
            <a:ext cx="5938920" cy="3130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Лог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λογική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аука о мышлен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ука о законах, формах и приём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слительной познавательной деятельности.</a:t>
            </a:r>
            <a:br>
              <a:rPr sz="1800"/>
            </a:br>
            <a:br>
              <a:rPr sz="18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Термин «логика» ввели, по-видимому, стоики.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ам Аристотель своё логическое учение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называл «аналитикой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гика – наука о формах мышления Содержание и формы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287280" y="194328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5"/>
          <p:cNvCxnSpPr/>
          <p:nvPr/>
        </p:nvCxnSpPr>
        <p:spPr>
          <a:xfrm>
            <a:off x="1437840" y="2517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81" name="Oval 6"/>
          <p:cNvSpPr/>
          <p:nvPr/>
        </p:nvSpPr>
        <p:spPr>
          <a:xfrm>
            <a:off x="1619280" y="194328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7"/>
          <p:cNvSpPr/>
          <p:nvPr/>
        </p:nvSpPr>
        <p:spPr>
          <a:xfrm>
            <a:off x="287280" y="345456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8"/>
          <p:cNvSpPr/>
          <p:nvPr/>
        </p:nvSpPr>
        <p:spPr>
          <a:xfrm>
            <a:off x="1619280" y="345456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AutoShape 9"/>
          <p:cNvCxnSpPr/>
          <p:nvPr/>
        </p:nvCxnSpPr>
        <p:spPr>
          <a:xfrm>
            <a:off x="1437840" y="403020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85" name="Oval 10"/>
          <p:cNvSpPr/>
          <p:nvPr/>
        </p:nvSpPr>
        <p:spPr>
          <a:xfrm>
            <a:off x="287280" y="496584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авр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11"/>
          <p:cNvCxnSpPr/>
          <p:nvPr/>
        </p:nvCxnSpPr>
        <p:spPr>
          <a:xfrm>
            <a:off x="1437840" y="5541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87" name="Oval 12"/>
          <p:cNvSpPr/>
          <p:nvPr/>
        </p:nvSpPr>
        <p:spPr>
          <a:xfrm>
            <a:off x="1619280" y="496584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лебопё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AutoShape 14"/>
          <p:cNvCxnSpPr/>
          <p:nvPr/>
        </p:nvCxnSpPr>
        <p:spPr>
          <a:xfrm>
            <a:off x="4462200" y="2517480"/>
            <a:ext cx="25308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cxnSp>
        <p:nvCxnSpPr>
          <p:cNvPr id="89" name="AutoShape 17"/>
          <p:cNvCxnSpPr/>
          <p:nvPr/>
        </p:nvCxnSpPr>
        <p:spPr>
          <a:xfrm>
            <a:off x="4462200" y="4030200"/>
            <a:ext cx="25308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0" name="Rectangle 19"/>
          <p:cNvSpPr/>
          <p:nvPr/>
        </p:nvSpPr>
        <p:spPr>
          <a:xfrm>
            <a:off x="6405480" y="194328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20"/>
          <p:cNvCxnSpPr/>
          <p:nvPr/>
        </p:nvCxnSpPr>
        <p:spPr>
          <a:xfrm>
            <a:off x="7556040" y="2517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2" name="Rectangle 21"/>
          <p:cNvSpPr/>
          <p:nvPr/>
        </p:nvSpPr>
        <p:spPr>
          <a:xfrm>
            <a:off x="7737480" y="194328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путник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6405480" y="345456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AutoShape 23"/>
          <p:cNvCxnSpPr/>
          <p:nvPr/>
        </p:nvCxnSpPr>
        <p:spPr>
          <a:xfrm>
            <a:off x="7556040" y="403020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5" name="Rectangle 24"/>
          <p:cNvSpPr/>
          <p:nvPr/>
        </p:nvSpPr>
        <p:spPr>
          <a:xfrm>
            <a:off x="7737480" y="345456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толица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кра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6405480" y="496584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Шексп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AutoShape 26"/>
          <p:cNvCxnSpPr/>
          <p:nvPr/>
        </p:nvCxnSpPr>
        <p:spPr>
          <a:xfrm>
            <a:off x="7556040" y="5541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8" name="Rectangle 27"/>
          <p:cNvSpPr/>
          <p:nvPr/>
        </p:nvSpPr>
        <p:spPr>
          <a:xfrm>
            <a:off x="7737480" y="496584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втор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«Отелл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29"/>
          <p:cNvCxnSpPr/>
          <p:nvPr/>
        </p:nvCxnSpPr>
        <p:spPr>
          <a:xfrm>
            <a:off x="4462200" y="5541480"/>
            <a:ext cx="25308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100" name="AutoShape 13"/>
          <p:cNvSpPr/>
          <p:nvPr/>
        </p:nvSpPr>
        <p:spPr>
          <a:xfrm>
            <a:off x="2986200" y="1762200"/>
            <a:ext cx="151128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го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4678200" y="1762200"/>
            <a:ext cx="151164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6"/>
          <p:cNvSpPr/>
          <p:nvPr/>
        </p:nvSpPr>
        <p:spPr>
          <a:xfrm>
            <a:off x="2986200" y="3273480"/>
            <a:ext cx="151128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Кие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4678200" y="3273480"/>
            <a:ext cx="151164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яд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8"/>
          <p:cNvSpPr/>
          <p:nvPr/>
        </p:nvSpPr>
        <p:spPr>
          <a:xfrm>
            <a:off x="2986200" y="4786200"/>
            <a:ext cx="151128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0"/>
          <p:cNvSpPr/>
          <p:nvPr/>
        </p:nvSpPr>
        <p:spPr>
          <a:xfrm>
            <a:off x="4678200" y="4786200"/>
            <a:ext cx="151164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ж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36"/>
          <p:cNvSpPr/>
          <p:nvPr/>
        </p:nvSpPr>
        <p:spPr>
          <a:xfrm>
            <a:off x="6116760" y="4317840"/>
            <a:ext cx="2519280" cy="2448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8"/>
          <p:cNvSpPr/>
          <p:nvPr/>
        </p:nvSpPr>
        <p:spPr>
          <a:xfrm>
            <a:off x="6189840" y="5218200"/>
            <a:ext cx="237456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7"/>
          <p:cNvSpPr/>
          <p:nvPr/>
        </p:nvSpPr>
        <p:spPr>
          <a:xfrm>
            <a:off x="6189840" y="4497480"/>
            <a:ext cx="237456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9"/>
          <p:cNvSpPr/>
          <p:nvPr/>
        </p:nvSpPr>
        <p:spPr>
          <a:xfrm rot="2700000">
            <a:off x="7016760" y="5145120"/>
            <a:ext cx="719280" cy="71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3327480" y="4317840"/>
            <a:ext cx="2519280" cy="118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3057480" y="1619280"/>
            <a:ext cx="3059280" cy="107964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Форм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539640" y="3057480"/>
            <a:ext cx="251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н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179856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9"/>
          <p:cNvCxnSpPr/>
          <p:nvPr/>
        </p:nvCxnSpPr>
        <p:spPr>
          <a:xfrm>
            <a:off x="458748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17" name="AutoShape 10"/>
          <p:cNvCxnSpPr/>
          <p:nvPr/>
        </p:nvCxnSpPr>
        <p:spPr>
          <a:xfrm>
            <a:off x="179820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18" name="AutoShape 11"/>
          <p:cNvCxnSpPr/>
          <p:nvPr/>
        </p:nvCxnSpPr>
        <p:spPr>
          <a:xfrm>
            <a:off x="737712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19" name="AutoShape 15"/>
          <p:cNvSpPr/>
          <p:nvPr/>
        </p:nvSpPr>
        <p:spPr>
          <a:xfrm>
            <a:off x="332748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7"/>
          <p:cNvSpPr/>
          <p:nvPr/>
        </p:nvSpPr>
        <p:spPr>
          <a:xfrm>
            <a:off x="611676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мо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18"/>
          <p:cNvCxnSpPr/>
          <p:nvPr/>
        </p:nvCxnSpPr>
        <p:spPr>
          <a:xfrm>
            <a:off x="458748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22" name="Line 19"/>
          <p:cNvSpPr/>
          <p:nvPr/>
        </p:nvSpPr>
        <p:spPr>
          <a:xfrm>
            <a:off x="458784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2"/>
          <p:cNvSpPr/>
          <p:nvPr/>
        </p:nvSpPr>
        <p:spPr>
          <a:xfrm>
            <a:off x="539640" y="4317840"/>
            <a:ext cx="1224000" cy="12240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3"/>
          <p:cNvSpPr/>
          <p:nvPr/>
        </p:nvSpPr>
        <p:spPr>
          <a:xfrm>
            <a:off x="1870200" y="4317840"/>
            <a:ext cx="1187280" cy="1187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4"/>
          <p:cNvSpPr/>
          <p:nvPr/>
        </p:nvSpPr>
        <p:spPr>
          <a:xfrm>
            <a:off x="3381480" y="4371840"/>
            <a:ext cx="107928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7"/>
          <p:cNvSpPr/>
          <p:nvPr/>
        </p:nvSpPr>
        <p:spPr>
          <a:xfrm>
            <a:off x="4713120" y="437184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9"/>
          <p:cNvSpPr/>
          <p:nvPr/>
        </p:nvSpPr>
        <p:spPr>
          <a:xfrm>
            <a:off x="3327480" y="5576760"/>
            <a:ext cx="2519280" cy="118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0"/>
          <p:cNvSpPr/>
          <p:nvPr/>
        </p:nvSpPr>
        <p:spPr>
          <a:xfrm>
            <a:off x="539640" y="5576760"/>
            <a:ext cx="1187640" cy="1187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Лу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1"/>
          <p:cNvSpPr/>
          <p:nvPr/>
        </p:nvSpPr>
        <p:spPr>
          <a:xfrm>
            <a:off x="1870200" y="5576760"/>
            <a:ext cx="1187280" cy="1187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Спутни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462560" y="4875120"/>
            <a:ext cx="252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3"/>
          <p:cNvSpPr/>
          <p:nvPr/>
        </p:nvSpPr>
        <p:spPr>
          <a:xfrm>
            <a:off x="3381480" y="5630760"/>
            <a:ext cx="107928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у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4462560" y="6135840"/>
            <a:ext cx="252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5"/>
          <p:cNvSpPr/>
          <p:nvPr/>
        </p:nvSpPr>
        <p:spPr>
          <a:xfrm>
            <a:off x="4713120" y="5630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путник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/>
          <p:cNvSpPr/>
          <p:nvPr/>
        </p:nvSpPr>
        <p:spPr>
          <a:xfrm>
            <a:off x="6189840" y="5937120"/>
            <a:ext cx="2374560" cy="648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0"/>
          <p:cNvSpPr/>
          <p:nvPr/>
        </p:nvSpPr>
        <p:spPr>
          <a:xfrm>
            <a:off x="6224760" y="4533840"/>
            <a:ext cx="1008000" cy="5763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живо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1"/>
          <p:cNvSpPr/>
          <p:nvPr/>
        </p:nvSpPr>
        <p:spPr>
          <a:xfrm>
            <a:off x="7232760" y="4786200"/>
            <a:ext cx="287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2"/>
          <p:cNvSpPr/>
          <p:nvPr/>
        </p:nvSpPr>
        <p:spPr>
          <a:xfrm>
            <a:off x="7521480" y="4533840"/>
            <a:ext cx="1008000" cy="57636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уждаю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пи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3"/>
          <p:cNvSpPr/>
          <p:nvPr/>
        </p:nvSpPr>
        <p:spPr>
          <a:xfrm>
            <a:off x="6224760" y="5253120"/>
            <a:ext cx="1008000" cy="57636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ош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4"/>
          <p:cNvSpPr/>
          <p:nvPr/>
        </p:nvSpPr>
        <p:spPr>
          <a:xfrm>
            <a:off x="7232760" y="5505480"/>
            <a:ext cx="287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5"/>
          <p:cNvSpPr/>
          <p:nvPr/>
        </p:nvSpPr>
        <p:spPr>
          <a:xfrm>
            <a:off x="7521480" y="5253120"/>
            <a:ext cx="1008000" cy="5763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живо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6"/>
          <p:cNvSpPr/>
          <p:nvPr/>
        </p:nvSpPr>
        <p:spPr>
          <a:xfrm>
            <a:off x="6224760" y="5973840"/>
            <a:ext cx="1008000" cy="57636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лед.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ош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7"/>
          <p:cNvSpPr/>
          <p:nvPr/>
        </p:nvSpPr>
        <p:spPr>
          <a:xfrm>
            <a:off x="7232760" y="6224760"/>
            <a:ext cx="287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8"/>
          <p:cNvSpPr/>
          <p:nvPr/>
        </p:nvSpPr>
        <p:spPr>
          <a:xfrm>
            <a:off x="7521480" y="5973840"/>
            <a:ext cx="1008000" cy="57636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уждаю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пи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100000">
                                      <p:cBhvr>
                                        <p:cTn id="4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2:15:44Z</dcterms:created>
  <dc:creator>Николай Бирюков / Nikolai Biryukov</dc:creator>
  <dc:description>Редакция декабря 2009 г.</dc:description>
  <dc:language>en-US</dc:language>
  <cp:lastModifiedBy>LEGION</cp:lastModifiedBy>
  <dcterms:modified xsi:type="dcterms:W3CDTF">2014-11-11T09:36:04Z</dcterms:modified>
  <cp:revision>455</cp:revision>
  <dc:subject>Основы философии - Тема 5, часть 2</dc:subject>
  <dc:title>Философия Аристотеля: теория познания и логика</dc:title>
</cp:coreProperties>
</file>